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3455640" y="97200"/>
            <a:ext cx="282564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92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4120" y="97200"/>
            <a:ext cx="30780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166920" y="8984880"/>
            <a:ext cx="31147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0B1C17F-12F6-44E4-A836-E37F0A0288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92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52FEF6C-7863-424D-9728-60D7BF5F3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285ECCF-8BF7-4D70-B2F5-CA00A1AD4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9DE5030-E589-4DEE-B950-5D51A7A8F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99B81F4-8C25-4695-9AB3-495BC5C5D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D40F027-D495-4198-B956-88A4C56D6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C8365FD-B469-4F52-8A43-2A9D891D6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4B1DFC2-4503-45B9-BD56-167EC2900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8CD57CD-7A7D-4A11-A67B-4550BEBAE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B97A70A-D199-4C85-A232-E9835634C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7013DF6-B53F-4CC4-ACCA-6D600FE41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D52AF32-C60A-4097-9A63-B227DA5BC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C6A1D11-20B0-4CF8-9487-71E0E5A5A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4C814F9-492B-4735-B0F3-F8FF134B3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7554EB6-F0FF-4B8F-A788-BBAAA49AA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4BFE8AA-FCB6-483B-96FB-2A0B468D4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3523B67-6141-4381-9BC1-4089C8A7F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7D82CB5-875D-42C6-AF42-D5D692C20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9C37A21-BFB2-40C3-AC2E-31EE24E34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1B80D88-D156-44B2-8FC7-B7EACD8E2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6C24494-ADDD-4E8C-A22D-FE7B50E35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97064B9-07DF-4AFF-BE5B-733F42192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92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BA38E16-12B9-4115-BC16-E4FFA6B9C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F376A14-426D-4CB2-B3FD-D2C37556E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137E418-894D-496B-805D-9D7B0DB95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E1012C9-5051-4478-8358-7EC5DDD84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7763EAA-CD2C-4F41-B672-0459B5891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92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0C1CAC7-1B8C-4E3A-82E5-2DDC6171B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59649DA-B928-47E7-9DD0-58501412B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A88B0C4-CD40-4B3F-AF4B-4567D7235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4681F74-7F07-419E-A293-36A89E5E3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C60034A-F599-415F-A8EB-609B4EDFD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2367A8E-EF04-443B-948F-C3BBC1D3F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35495A5-132B-4F36-829F-4987CB7DC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2892B43-EC38-401F-867A-A3D0D5AC8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5FB082F-1153-4B02-9F8A-4FB9C59AE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F72BC30-235B-41AC-BFB7-CBF132F3C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0E88686-762E-42DF-B952-29FC4CD2B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31EF92B-0C4F-4E0F-883F-CF735A7C7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C411986-CAAF-478C-8CF3-90EC98771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42BC5F9-4AC9-4794-8F62-4008BA230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AB33BD8-8377-46FD-A916-1762A3D7D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C180D4B-2260-4D17-BBE0-15749B6D7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8E4C-9E61-44DE-BF74-452E67CF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095F-E50F-479F-A7A6-DD92C87F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AA0F8-308F-4252-B6DF-C5FF5305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AAC56-63AD-4551-A1AB-7E2363FF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7FE08-DA0A-497D-A770-9D96C5E1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CA42C-1DE8-47A5-B621-6AB969BE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82901-A713-4716-8E64-D6C2BFAC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7E2D0-85D8-45BB-9C08-3C340391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966CB-D9A2-416D-98C7-CF2EF681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5073B-532F-4565-9D50-776C1366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D1A42-B65F-4A8E-941D-503596D4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DDF67-EE72-4BEC-89BF-1551410F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5ACD-30C8-4B87-9B01-353974F4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68A84-B962-4D19-B928-BC86AA3B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FDFED-94B4-483D-A3D1-2A0F8239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CC574-A4ED-43ED-8C65-9693D8DE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43D2C-D100-417F-B3DF-3869E32E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52F66-DEE5-420F-A695-9D1E0B32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AD4CD-5955-488A-8871-E98C6E17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6BC7D-4DA5-42D0-AD30-22F102C1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BDB98-5211-41DA-90DD-95AB4909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DAEA1-3052-4223-890B-B6B62298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8A07B-8204-40A0-A12C-E8C5E8C4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1C7A-FB79-460F-941D-E07E002D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D408D-F894-4F2D-9F26-75C54BE7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404CE-A810-4A75-B6E5-E25C3D13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6F52E-3F43-4DD1-8A18-AF1F6FE0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127BD-3B37-4230-9104-147212F3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A44C0-026D-40FC-B231-F52856E8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0E280-DEE8-45B8-A17C-764514C6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AB95C-E2AC-4D72-BACF-930A628E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AD6C7-F5FF-4679-A574-3C8CA1DA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AD5FA-F0DF-41CF-AA71-D5B7B6EA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323A3-61D3-4550-9C0D-AE191526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5BBA-9332-424C-94C6-26B181AC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6FAD4-E0F1-4552-9333-CAAEBA93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011CC-E6AF-4BEF-9254-E237E1B5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AF6AF-AA51-4E03-80B6-A5194AF0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48E36-0A15-4C4D-9293-9B5B38C6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6FAFA-2F0D-4A09-8169-71471A1C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299B8-5D1F-48A7-87CE-FF4ED551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81561-3CCB-413F-9901-1770A580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6C853-CDCD-4585-9228-2D96CD54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A86A9-5E7D-4BBF-8F3E-0E34FD01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09461-A099-44F7-B160-91F1BD75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B954-5A9E-4536-9406-C7431708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77F84-11E3-4503-87CA-723610B5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494595-72F1-4B7B-AC9B-3D7EFD6F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8B7B1-C55A-405D-B967-793577FD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91CED-6CC9-48DF-8534-F8B098A3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099E3-B878-4F76-835E-D3D24B5F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169B-57E7-4086-A4ED-4A04284A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F6E0-B3BB-4EDB-A645-91A9EB8C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59E8-D36A-46EA-9EDA-89F54686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A9B9-C2C3-4608-ABEF-672EB02C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E8ED-10CD-4D6E-9895-CFE634FB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7BCE-1026-478B-AC66-9C3A6099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053A-625F-47F6-91BD-820CBBBE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2FF0-BF17-441D-8F8F-16C80C82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3FA4-638C-4231-97FF-F0C905AE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4301-B8E4-4EE0-8A0A-81903372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C8FE-CC65-446F-9E32-D005FF4D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B7EF3-536C-4FF7-A9D1-1DEBBE09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4C8F5-8246-4DF4-A85A-4475B3A4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47698-BF6F-46B2-9FAB-68A30E9C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EF862-8A48-4EFE-B7C5-ED84DED3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DBC3C-621D-4C65-B4F0-D5B2F72C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9B99-A653-4F07-ABC1-0714C117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82BFA-230D-4DBD-9E9B-72142345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FB318-9C6E-4190-B265-D0F366C4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3D056-69C9-4222-B23B-9EF3E0E6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734F5-30F4-418A-AB0C-D802663A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1CA5F-9B9D-4B0D-8E96-01749D0A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6D56E-BC9A-42EA-81A8-9EC7FA00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B9D66-3B5D-4180-BCFF-7B2060D5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432FD-DFF2-4118-94A5-4C3CCB5F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B652F-1A67-4F68-B087-33A82661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7D192-3F07-4761-867C-CE8CCFD8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969B-7268-4F26-89AE-7A885DD8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2212B-3DEC-4785-B6E9-D0D4C0B7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4F85D-124C-4F96-8801-099AB7BA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95671-080A-465E-8F4F-B33C783C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6775D-FB97-4131-AFCF-79DD011F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3C73E-F603-445A-810B-774E6485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67A83-BD53-4907-8722-201188BE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428F2-024A-465A-8E61-6481E883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0D64D-9A20-4BA0-8607-635B8602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8F42B-777C-4C0A-BCE8-80E58D17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3E3AE-0FA8-4823-8139-F164FEE0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C302-B9DA-41AC-A309-438EA925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3F5A7-2B47-42F1-8522-38C7AD9B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2D736-E3F2-44D7-9E9C-37DC4C31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14543-E974-499A-B1C6-72EB0231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917F0-4E18-4E1B-BE8C-AB9AB89D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522C2-A0D0-4464-8E2D-790BE117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955E2-C418-4DCA-8C54-31F5CA41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18866-4EF9-4D7F-B868-EBF59384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3BFEE-CA44-4427-9935-A9DD0784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D4A7A-2638-4B23-A427-3F4D5407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162C8-4266-4A1B-A851-450277CA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7119-DBBD-4F97-884B-5E0E7310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4D5EF-67B1-4B13-A5AD-102FC202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0C631-40E2-410A-978C-E776D001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993DA-04A4-40F4-B357-B0BCE24E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FD543-E92F-4693-A4DD-E2222D27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B5612-B2DC-42BB-A983-D83995F4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243DB-E7FE-4A02-BFC9-43A5E20A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F3A30-ACA3-4047-B1CE-0838C67E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C8265-1FFB-4B51-9A32-C6807864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1FD01-380C-45F9-9E5A-842C26CD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1A574-925A-4628-8F8C-3EB8529A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036E-73DB-40A2-BC18-C5497356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06177-BE4D-4B5C-BE34-1F8424A1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D0444-0315-4374-B842-3D8B12CA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69250-069B-426B-BE6E-35EC2422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BF978-DC04-4245-9E71-27014B4B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C24E2-F391-4F0D-B9F2-6578C5F8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8D909-ADD6-4001-95D5-A16ACD70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EDB23-D944-4638-9963-76D89DF3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0C049-1E13-4537-987A-A4C69DEE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7A1FF-8735-429E-A5A7-A0B975FF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78C95-11EA-4A7B-A680-D8FDAAA0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E205-CD13-4DF3-81D4-3F61C7FA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CAC47-3FCB-4DA0-AE0D-0DEDE869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16FFF-899D-41D8-A625-548A0ECB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2D11E-98B8-457C-BA2F-F7173A37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EE25F-219D-4E4E-8A70-54D75E43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64BBB-A494-477F-8CEC-DCF51081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A425F-C7FB-4736-83A0-12D839DD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C4B79-2AB9-4E9B-AAF0-C87A1515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D48BE-A8B8-4C23-9B4B-95DE9077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932CD-C440-447B-B5A6-E60E763D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EFE8D-7AA3-4FE2-B743-DE62DCF7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4DBC-D1F4-4086-99C8-CA4BE048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C10DE-024B-4A2B-B5A9-10196A39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05785-750F-4DB7-8606-79A39896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BBB3E-AA96-477C-ABEC-76460844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2C16D-3C62-4EE4-B8D5-6394D78D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88DF0-2888-4477-984F-AA63CF33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2CF73-E4D6-4F46-A821-3A1F475D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E45E7-71CD-4797-A2B1-54300D71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B59F9-5C64-41E2-888D-C7C76A6C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7C298-666E-40E7-B0EB-CCFA5A85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62336-425F-498A-A30A-FF3E5729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047000" y="6475320"/>
            <a:ext cx="14968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Imag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00570AB-7BEF-4A4C-9E8C-184ECE3681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7047000" y="6475320"/>
            <a:ext cx="1496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A2D526C-11EE-423A-8574-0B429B353B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7047000" y="6475320"/>
            <a:ext cx="1496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0B8771A-E388-46E9-ABCC-0F84A03B4E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7047000" y="6475320"/>
            <a:ext cx="1496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E6C0FDF-91AA-45D7-9E80-72D04E1210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7047000" y="6475320"/>
            <a:ext cx="1496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08DD05C-91E4-4CBA-8F69-6A538743B4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7047000" y="6475320"/>
            <a:ext cx="1496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EBCA710-CA0E-450A-B8A5-1EE04D4EA4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7047000" y="6475320"/>
            <a:ext cx="1496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3210ECC-78F3-45C0-919A-D92FFE355E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7047000" y="6475320"/>
            <a:ext cx="1496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91FFBEE-80B2-4937-9AAC-27C77C2D15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7047000" y="6475320"/>
            <a:ext cx="1496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2C67E5D-EC8B-460D-9D3C-BD187C71C6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7047000" y="6475320"/>
            <a:ext cx="1496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6CABF94-2901-457B-AA0D-501F315A85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7047000" y="6475320"/>
            <a:ext cx="1496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AB73840-11BB-40BE-A5FD-EB177A1ED4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7047000" y="6475320"/>
            <a:ext cx="1496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B69315E-D4E5-4FFB-8A11-887A9701FA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mentor.ieee.org/802.15/dcn/17/15-17-0421-00-0013-ad-hoc-meeting-slides.ppt" TargetMode="External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mentor.ieee.org/802.15/dcn/17/15-17-0383-00-lpwa-research-project-bats.pptx" TargetMode="External"/><Relationship Id="rId2" Type="http://schemas.openxmlformats.org/officeDocument/2006/relationships/hyperlink" Target="https://mentor.ieee.org/802.15/dcn/17/15-17-0373-00-lpwa-update-on-etsi-ltn.pptx" TargetMode="External"/><Relationship Id="rId3" Type="http://schemas.openxmlformats.org/officeDocument/2006/relationships/hyperlink" Target="https://mentor.ieee.org/802.15/dcn/17/15-17-0249-00-lpwa-lpwan-slides-ieee-802-15-ig-lpwa.pptx" TargetMode="External"/><Relationship Id="rId4" Type="http://schemas.openxmlformats.org/officeDocument/2006/relationships/hyperlink" Target="https://mentor.ieee.org/802.15/dcn/17/15-17-0248-00-lpwa-summary-of-ieee-std-802-15-4-lecim.docx" TargetMode="External"/><Relationship Id="rId5" Type="http://schemas.openxmlformats.org/officeDocument/2006/relationships/hyperlink" Target="https://mentor.ieee.org/802.15/dcn/17/15-17-0346-00-lpwa-suitability-of-ieee-802-15-4k.pptx" TargetMode="External"/><Relationship Id="rId6" Type="http://schemas.openxmlformats.org/officeDocument/2006/relationships/hyperlink" Target="https://mentor.ieee.org/802.15/dcn/17/15-17-0344-00-lpwa-packet-splitting-for-improved-robustness.pptx" TargetMode="External"/><Relationship Id="rId7" Type="http://schemas.openxmlformats.org/officeDocument/2006/relationships/hyperlink" Target="https://mentor.ieee.org/802.15/dcn/17/15-17-0417-01-lpwa-on-ietf-lpwan.pptx" TargetMode="External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4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7056000" y="6477120"/>
            <a:ext cx="147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Imag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03AEDDE-136B-4289-BB7A-9DFE93B66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ort on 802.1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7-07-1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530280" y="2290680"/>
          <a:ext cx="7807320" cy="283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2290680"/>
                    <a:ext cx="7807320" cy="28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36EB7F7-7BC9-4CE3-A3F4-569F59BE9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3CD5B61-97C6-4FBF-9CCD-2AACC906E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88596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802.15.8 Peer Aware Communic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 sponsor ballot closed May 10, 2017.  Results: 60 yes, 6 no, 5 abstai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eived 708 comments, 594 Must Be Satisfied.  In addition, 240+ rogue comments were receiv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lved all comments, in the process of resolving rogue comm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ping to recirculate in Augu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8E4EB15-45B8-4711-8D5A-A896380E1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362FC60-FFFD-4E48-8DED-E3C5B413A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DB8A8C3-44F1-4792-9CA7-7326780F8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8859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5.10 Layer 2/Mesh Under Routing (L2R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ublished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8B651AB-9A62-4D10-AFC0-5DC8F3C1F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26C348A-E215-483E-A30B-40152AA31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1455B52-15B8-4E0E-9CCB-713959EEA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5.12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LI (Upper Layer Interfa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ptional elements of 802.15.1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2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  issues - Disp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ere should L2R IE be inser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  issues - Disco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is it done with L2R discovery? Answer: they are in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hitecture – Where is L2R management situ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Application Layer, and in 802.15.12 Management functional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st of management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 plane operation using 802.15.12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ample of 6lo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vice driver presents packet to 802.15.12 with EPD=0xA0ED, and layer-2 addr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ermine the MAC and PHY layer using source and destination layer-2 addre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 check configuration for MAC &amp; PHY for out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on reception, ULI-6lo ID allows routing to the proper higher-layer device dr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ust fully consider forwarding and date concatenation data-plan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ment plane operation using 802.15.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cussion about enabling configuration from higher-layer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con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octl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ed for remote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cussion about how to identify pro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uld associate some with device drivers in the way that Unix does (e.g., “eth0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multiple profiles be associated with a single device driver?  For instance, SUN FSK with or without L2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7116FD1-9C14-4E57-87D0-30E51BE70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E10DAA6-609E-4B66-BAA6-04BAD9FBB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E9BB57B-09E1-49E8-9578-6C222F6C3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5.13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ulti Gigabit/sec Optical Wireless Commun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WC Tutorial Monday 7:30-8:50 p.m.: Well done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view Status of D0 of TG1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0 needs more interactive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rdly doable by individual comments an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ard contribution, resolved all comments uploaded so 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cussed further open issues f2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ew contribution on unified frame structur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bate was partly finished, will be revised and continued in Ko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 technical motions that considerably simplify the dra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-hoc meeting July 17 and 19 at Fraunhofer HH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genda: </a:t>
            </a:r>
            <a:r>
              <a:rPr b="0" lang="en-GB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5/dcn/17/15-17-0421-01-0013-ad-hoc-meeting-slides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quest to provide further comments until August 2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087EDEA-7259-4691-9219-FDAC61B4E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B1D2BCC-F33F-409C-9D80-39E5DE3E2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817888F-B58A-4829-A9B1-0BDA73627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88596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igh Rate Rail Communications I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  <p:sp>
        <p:nvSpPr>
          <p:cNvPr id="620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9BE17C0-9833-4710-A9B2-D5D45C315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3C0A505-B4BD-422B-BA60-C86C17F97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5D3F1F9-162B-405F-B87D-7A46A0B4D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88596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z I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Times New Roman"/>
              </a:rPr>
              <a:t>2 joint meetings with TG3d on Tue PM1+ PM2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13 participants (incl. 7 students particpating in the Outreach Program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Times New Roman"/>
              </a:rPr>
              <a:t>5 contributions: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ribution #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f Kraemer, “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100 Gb/s and beyond: Actual research approaches within a DFG special priority program (SPP1655),” (15-17-0341r02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ribution # 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ert Müller, “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ast-Spot - Channel Analysis and Demonstration at 200 GHz for Extremely High Data Rates in Ultra Dense Environments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” (15-17-0342r00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ribution # 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bastian Rey, “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 Ultra Wide Band MIMO Channel Sounder operating at 60 and 300 GHz”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5-17-0397r01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ribution # 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wao Hosako, “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tenna characteristics for design and evaluation of 300GHz wireless communication systems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” (15-17-0356r00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ribution # 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bastian Rey, “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 first Phased Array Antenna at 300GHz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” (15-17-0396r00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2CB1ED2-8D80-4801-8A66-4CB0A837D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A6FAD4F-2084-4138-AE83-902F7BD03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85DAE60-7385-4696-A5CB-F4DDB57EA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88596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pendable I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8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Discussion in Previous Meetings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for Agenda in this week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IG-DEP activities for these years since 201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Call for Interest(CFI):                                  doc.#15-14-0449-06-0de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Scope and Focused Applications with Different QoS Level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#15-16-0111-00-0d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Overview of ID-DEP activities including responses for CFI and seeking sponsors and supporting parties                                                         doc.#15-17-0176-01-0d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Study 6TiSCH in IETF to start collaborating for dependability in common use cas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Reviewing FFPJ presentation at IEEE802.11&amp;15 joint tutorial session of March meeting in Vancouver                                                          doc.#15-17-0394-00-0d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and revise technical requirement, PAR, and CSD for IEEE 802.15.TG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doc.#15-16-0557-03-0dep       doc.#15-16-0290-02-0d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ion on Necessity of a New Standard for Enhanced Dependability in Wireless Networks for  focused applications                                 doc.#15-17-0420-00-0d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 of two invited speeches in WNG session of Mid Plenar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Presentation of car manufacturer NISSAN from Japan  doc.#15-17-0398-00-0dep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Presentation of car component manufacturer MAHLE from Germany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doc.#15-17-0399-01-0dep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sary Process and Possible Timeline to SG and next step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ion on timeline for September in Big Island and la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A0B34D2-61D8-4F38-8D66-82580D35F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973D014-18B2-4293-AB65-82F852189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BFB3887-384C-40A2-9212-D3285C35F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88596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w Power Wide Area Network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8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search Project “BATS”, Joerg Robert (University Erlangen-Nuernberg) 17/383 : </a:t>
            </a:r>
            <a:r>
              <a:rPr b="1" lang="en-US" sz="11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5/dcn/17/15-17-0383-00-lpwa-research-project-bats.pptx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Update on ETSI LTN, Joerg Robert (University Erlangen-Nuernberg) 17/373: </a:t>
            </a:r>
            <a:r>
              <a:rPr b="1" lang="en-US" sz="11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5/dcn/17/15-17-0373-00-lpwa-update-on-etsi-ltn.pptx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LPWAN_SLIDES-IEEE_802-15-IG_LPWA, Charlie Perkins (Futurewei) 17/249: </a:t>
            </a:r>
            <a:r>
              <a:rPr b="1" lang="de-DE" sz="11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5/dcn/17/15-17-0249-00-lpwa-lpwan-slides-ieee-802-15-ig-lpwa.pptx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ummary of IEEE Std 802.15.4 LECIM, Pat Kinney, 17/248: </a:t>
            </a:r>
            <a:r>
              <a:rPr b="1" lang="de-DE" sz="11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s://mentor.ieee.org/802.15/dcn/17/15-17-0248-00-lpwa-summary-of-ieee-std-802-15-4-lecim.docx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uitability of IEEE 802.15.4k, Joerg Robert (University Erlangen-Nuernberg), 17/346: </a:t>
            </a:r>
            <a:r>
              <a:rPr b="1" lang="de-DE" sz="11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https://mentor.ieee.org/802.15/dcn/17/15-17-0346-00-lpwa-suitability-of-ieee-802-15-4k.pptx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Packet Splitting for Improved Robustness, Joerg Robert (University Erlangen-Nuernberg), 17/344: </a:t>
            </a:r>
            <a:r>
              <a:rPr b="1" lang="de-DE" sz="11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https://mentor.ieee.org/802.15/dcn/17/15-17-0344-00-lpwa-packet-splitting-for-improved-robustness.pptx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On IETF LPWAN , Pascal Thubert (Cisco Systems), 17/417r1: </a:t>
            </a:r>
            <a:br>
              <a:rPr sz="1100"/>
            </a:br>
            <a:r>
              <a:rPr b="1" lang="en-US" sz="1100" spc="-1" strike="noStrike" u="sng">
                <a:solidFill>
                  <a:srgbClr val="0066ff"/>
                </a:solidFill>
                <a:uFillTx/>
                <a:latin typeface="Times New Roman"/>
                <a:hlinkClick r:id="rId7"/>
              </a:rPr>
              <a:t>https://mentor.ieee.org/802.15/dcn/17/15-17-0417-01-lpwa-on-ietf-lpwan.pptx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uitability Evaluation of Modulation Schemes 17/347r0: https://mentor.ieee.org/802.15/dcn/17/15-17-0374-00-lpwa-suitability-evaluation-of-modulation-schemes.pptx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uitability Evaluation of FEC Schemes 17/375r0: https://mentor.ieee.org/802.15/dcn/17/15-17-0375-00-lpwa-suitability-evaluation-of-fec-schemes.pptx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uitability Evaluation of Connectivity 17/376r1: https://mentor.ieee.org/802.15/dcn/17/15-17-0376-01-lpwa-suitability-evaluation-of-connectivity.pptx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uitability Evaluation of Network Topologies 17/379, https://mentor.ieee.org/802.15/dcn/17/15-17-0379-00-lpwa-suitability-evaluation-of-network-topologies.pptx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uitability Evaluation of MAC Schemes 17/378, https://mentor.ieee.org/802.15/dcn/17/15-17-0378-00-lpwa-suitability-evaluation-of-mac-schemes.pptx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uitability Evaluation of Encryption Schemes 17/377, https://mentor.ieee.org/802.15/dcn/17/15-17-0377-00-lpwa-suitability-evaluation-of-encryption-schemes.pptx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ext Steps: Indicate use-cases (defined in 16/770r5) that are currently not supported and are highly suitable for LPWAN, Finalize IG report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gree on recommendations to IEEE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8CB6D0C-E9F7-4C67-BBD6-383052E10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5B87F24-B020-4C52-8B15-D7D81F75E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E7F2987-A67A-43C8-AEC9-0E05DCB40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88596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hicular Assistive Technology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8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8200" indent="-268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ribution presentation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+ 13 contributions from Kookmin University and SN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iscussions and complet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ublicizing VAT IG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06A71C1-042C-4976-A97B-08DD07681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555395B-5981-4C0E-B4AD-CA0D11ABB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5CAECA4-46B5-4451-BF7B-35D0FA354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88596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intenance S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rrigendum comment resolu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pdate 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cussion on next revision chang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view roll-up document consisting of approved amendment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cussion of other changes to 802.15.4 standa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3A9DA05-DCFC-4EDF-91B8-DB98CF987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821B262-138A-4A42-A9C7-F86D4AB07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 on 802.15 as presented to 802.11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5B7E128-0A68-4088-9855-9D155E8A2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9480401-D8B9-480F-BAB3-BA6E814BA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88596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ETF S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us Updat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tisch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lo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ol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tne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p-wan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2trg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EEE 802.15 and IETF liaison communic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F6BAD8B-EB2E-4C33-AEA1-58FC45AFF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09C28EB-8B5E-468C-86BE-F8163151C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74307BF-17FB-479E-8616-AE1EFE513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88596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NG S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577800" indent="-29052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atio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9052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 presentations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892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the way to Industry 4.0 (15-16-0399-00) by Johannes Diem o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hle International GmbH,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892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mand of Highly Reliable Wireless Network and Future Vision for Car Manufacturing Line in Factory (15-17-0398-00) b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roshi Kobayashi o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ssan Mo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A4A3F10-7DFB-46A1-8E20-66776D550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C1617BC-E6AB-4E3D-BE69-FD704BCDD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92ADC7B-8471-4541-9A1F-906FD44B5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docu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Docu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5/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rrent draft is in the members-only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ieee802.org/15 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Members_Only_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2.11 members log in using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802.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username and pass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964EAB6-0834-4EC2-80B2-E6A2B22B1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5BAB07B-ED93-4717-B1C9-0BA5E6F9D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5.3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 Gb/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572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nitial and two recirculation Sponsor Ballots on the draft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572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sking for unconditional approval to submit to RevCom for publication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572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orking on PAR and CSD for 802.1AC amendment; PAR circulated and was reviewed this week; going to EC for approval to submit PAR to NesCo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2AB2595-3FB7-484C-8546-11CB79732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208CD78-3891-4C00-AC44-7E55065E4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406B121-80A9-4BEA-A70C-3959F4326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5.3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Rate Close Proximity (HRC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572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ublished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C91ECDD-8A32-4AD5-8FE0-99CB52F15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5056848-FFB2-4FDE-92AF-73DBD8D72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6D6E7A4-1F21-4747-87C2-1167F441D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5.3f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GHz Band Extension for 15.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572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irst WG ballot closed June 9, 2017.  Results: 35 yes, 0 no, 5 abstain.  Passed!  2 comments received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572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s resolved, recirculation started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572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sking EC for conditional approval to start Sponsor Ballo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22E7E13-9029-4D5D-BCE2-EC4F15247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71B9410-4C77-4C45-8D18-7EB33E8DD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08F3FB1-C30F-4712-A5B1-A4A22F878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88596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5.4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trum Resources Usag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circulation WG ballot LB141 closed May 26.  Results: 61 yes, 4 no, 5 abstai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circulation WG ballot LB142 closed July 5.  Results: 63 yes, 3 no, 5 abstai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oing out for another recircul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king EC for conditional approval to go out for Sponsor Ballo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med BRC to resolve comments and to handle recirculations and comment resolution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1582452-6D07-4148-BB6A-35C50F6F2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119F1CF-7110-42AA-995C-CA9A9131D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53F71BA-C8C4-4D3F-9B03-7A41431DD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88596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5.4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er Rat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ublished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68816E5-C1C2-42D0-BFC4-07F1FF622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33FE3B4-70C3-42C9-B3C9-26AC03A4B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915EBDB-8BC2-490A-8F4C-0361386CD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5.4v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gional SUB 1GHz Band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lish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C38079F-E00D-4919-AB07-8D12EE5AB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5B81050-30C3-4CD0-A607-6404FA455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8EA9153-BD45-4EC9-A97A-F03D37A80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88596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5.7r1 Optical Wireless Communic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wo WG ballots since last repor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solved most of the comments; still a few left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ed updated diagrams and text for next draft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oping to have recirculation in late Augus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lanning on an ad-hoc meeting the middle of August in Korea for product dem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742274D-5704-4A65-96A8-54DBDC676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21:00:37Z</dcterms:created>
  <dc:creator>Clint Chaplin</dc:creator>
  <dc:description/>
  <dc:language>en-US</dc:language>
  <cp:lastModifiedBy>Clint Chaplin - SRA</cp:lastModifiedBy>
  <cp:lastPrinted>1998-02-10T13:28:06Z</cp:lastPrinted>
  <dcterms:modified xsi:type="dcterms:W3CDTF">2017-07-14T06:26:08Z</dcterms:modified>
  <cp:revision>358</cp:revision>
  <dc:subject/>
  <dc:title>802.15 Liaison Report for May 2013</dc:title>
</cp:coreProperties>
</file>