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3455640" y="97200"/>
            <a:ext cx="28256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4120" y="97200"/>
            <a:ext cx="3078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166920" y="8984880"/>
            <a:ext cx="3114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866E6E-8B18-4F09-B910-46FB556D0A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D2F553-9808-484F-9416-5DC1E58AD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7B52F5-AD53-4526-9D3F-705B06BD2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549550-FE70-425E-9A88-8FA48E7F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097FEB-5079-4FC8-A61F-0CC65A4F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F893C2-7BBB-4F0B-9589-C2E6BE90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EF7E3E-B02F-4FA9-B890-F9470039F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1879D0-9A35-4B89-ACA5-7CF5552F8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38792D-5269-42E0-92D9-FEC943CBF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35D4AD-DD3C-4C8A-9028-3B3AA44D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8278FB-16A3-4662-94EF-FD745BAF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A781CD-7B1A-4940-8161-ABA62DDD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6D6B22-829C-4F62-A0FA-A0BA1DB56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B2E73C-5612-4D04-A5A8-98D38C4A9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3618F9-027D-422D-984B-8C80D11B0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3CB58D-35C0-4BB5-A80C-5100F0E33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CF7BFD-81F2-48E9-BD28-5642B15E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F6547F-EF8F-483D-B29B-FE67D531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E28901-F551-4E77-B3F0-E70F0466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0D8C12-238E-4C2B-831D-A6F3C5A1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7B81CC-3A8C-4130-9BAF-C4118906D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751E79-E63E-4043-B8E8-7CF4499D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A8E078-013E-4308-9048-A28D3586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88823D-5A11-489F-8DF0-C0B85050C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92D58D-068D-4B6F-B7A3-DB128A7A0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24CF1E-0585-4E1D-9DFF-477D0C356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7F7A29-783E-414E-89B5-9BD80C10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95192F-59E0-4F22-A30D-CFA4C123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D1ED5B-5F61-4BAF-9DCE-11B3DA00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8AF87D-99DE-425A-A89A-E681C9F7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60F158-A095-48AB-AD17-0A530C9C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88C543-E187-412E-A2A9-681D4F58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00928B-34F1-469C-84A5-25B420B2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DEC344-B253-48C8-9EFA-A34C7450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3384C3-CD88-4FB1-868A-B050E38C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0FBD2C-77D0-439E-A478-BD7F71DE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345C45-0A4B-41EC-B6E7-D0A26F7F2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FB2BC1-62C7-432B-96CB-E8F0B69A9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097E8E-9ACD-4596-AA37-7CE7DE2A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21CDAE-CBEB-4107-AC68-FC5FA5F9C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217323-46C4-4EFB-843A-9B29FFB11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8F6286-2794-4541-AF0D-2E792917C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6B85D8-2527-4DE0-A997-7C9C6FC38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EBC-38EF-4409-A9C3-7104677B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889-A77A-469E-8CA9-B5559C8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79AE-F0D7-424F-84EA-6409589C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10533-FE23-41BB-96C6-2E9F2FC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E3D9E-9977-47C3-8B41-6A9F9B34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FB5D5-A937-4B2B-B35F-628967A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D3F98-87FA-4A6E-A029-1C9AEBC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B2775-6122-493B-9298-D08BE41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2C25C-FFBE-42CF-9275-33686526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D6C75-5675-4DEE-AB6A-15357DBD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F2C12-7E3B-4B67-B726-8CB53215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5566B-E6FB-4BDA-B52A-8F5C0BD4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9B0-103A-4E5F-83EC-0AAEAD14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87020-AD7D-40EB-947A-2177EEE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26615-A1F9-4CF0-922B-1380C7C7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AE055-7AB7-4E9D-8860-FA030A4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5C8C4-AC0F-4730-A347-3B35C35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5B981-1E98-4D56-9F30-22A394C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2A83B-B29C-49AC-9CD9-611ADFF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A351F-A872-4915-968E-0B32B5A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E3107-606C-427A-8B9F-4CDEEF7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5D358-881D-4FA2-BCBC-3CD221EE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1B0FF-AC4C-4FE1-86E7-93CE6E54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7E9-EF5A-4FB1-9B1C-948E8BC9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DD8FD-4953-4CA9-AFA5-DC9B0A27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845D3-00D0-46FE-91D2-BF2BC337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0A975-C48E-40A2-B56B-9EF7D01E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92A60-E6BF-489B-B41A-D85169D1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CA3A-793F-4BCD-8762-E6D8B86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D3683-929F-4892-A9B6-7DEA4B0A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A9DF-6B3E-4A30-8E9C-BD86823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82D2-4B32-4529-A5C2-CB1895EE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B327E-6738-479C-8915-579D48B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A5EF0-D07D-4402-9273-7D8EA392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59B-18A3-43D1-804F-95A1772E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970C5-7143-433B-9744-D214276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6EC37-EB1F-4109-B87B-8820BEA6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3F245-AE70-4270-937F-DFD475ED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47A94-9225-4868-B13C-5FF78359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8F72D-101A-4690-9992-57E52DD9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318A4-2102-4D7A-A07F-282669B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A6C90-6FC6-43AD-BAA3-8107EB08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B2D43-3B4D-4BE1-AB6D-30D93D7F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80C85-F129-482C-8469-7F1CD79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2B12F-CE71-42E4-B1FD-D83BADD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B023-4EBF-4E87-8FAB-3AC0E88B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00CEC-8A70-4F14-B85D-9F2AE72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85D65-97C3-4C52-B262-A3F4B76A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E598C-6F8E-47D5-843E-F45218C5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9E7C0-25C0-44D6-A94F-96769FBF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A0F17-4A42-4A67-B39E-89725126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A7BC-3E43-4670-B15C-ABA9D70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51E2-3CEE-47D4-8B51-6FEFB487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C900-6AEA-42B4-B624-A822DEDB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900F-FBAA-4363-8331-47BD2E21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526-EE53-4167-A7CC-34F29D3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E0D-F31E-417D-A29E-E3BA09F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35B-8D76-43D9-87E2-668AAD3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4F3C-A2A3-43CC-8BDC-CE4F325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43FF-B3F3-4932-9E55-D009D382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7894-73DD-4BEE-B3DD-08CE94A0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7366-B966-475C-B0C8-8A0FD701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58EA-42FA-4BFA-A970-214B936D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4954-EDEA-4F2E-AC6D-D993C66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EAFF-C22E-4998-888F-BBDAAFA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D8EB-A9A4-4713-8664-F2986511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F492-5465-48AF-93C8-6F4962A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FF2-CB80-4604-B91B-A1BB96E3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522C-2A3D-40CC-80D4-841DF6D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C73C-A2CA-4B3B-B9B3-62453BC5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8ABD-6468-479F-AEBC-018AE481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A064-E0A5-48C2-8FC2-1745EEE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E5EE-4052-4DB0-B351-2CA617C1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E86F-6CAB-4323-B957-92380C64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669F-4C62-4FF9-99D2-7829240C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8D78-7A27-40B3-93C5-1D87F05B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25CC-B02A-40B8-B10E-BF1E43C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D1B42-BE7A-4B95-8D88-6943F8F2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FB3-1931-4F9B-BFBD-30D63BE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0311-4871-47CA-B963-6DE4CB10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1D2C-945F-4DBC-BFF2-5FD43AB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729C-B6A1-436F-ABE5-F93E79D9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101D-6633-4F33-8DCE-5AFE9AA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3516-96E6-444D-BCF2-3F8D8FA9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1F60-FC29-479A-BFD6-A0C09C3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8770-F0B5-4D7E-9A31-A87A1B2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D12F0-41EA-43E7-8A18-2952127A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2765-3417-4B89-A820-1A44F228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2895-53AA-4C1D-A01D-BDF3253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2B9-E94D-48B2-8CC3-F7E7E33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123F-9471-4975-BCD7-A48758BD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DFC1-29DA-49DD-846C-30B13E36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2985-3A98-46C0-959F-A8B0126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180F-E423-4A79-9985-19051C55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444A-D3FD-49E7-A5C5-793ACC77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27A83-3BB1-403F-81CD-ADE832C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91636-9FA7-4C57-A05C-0A3799C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4329-387F-496E-8260-6E8CE28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4BC6-C93C-4E55-8903-8B48DED8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0841-9435-486B-823C-A9BCFB6D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5A2-7AB1-4117-9555-262F26A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E199-D251-4FD2-BA5B-002650E3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E098-B7CB-4A7A-B546-46C44C19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20E76-1FF4-48B7-AD64-E32FEC54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7A05-7352-4436-86C5-8FE8074C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4F73-34D9-40DC-8348-769B53DF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9B64-E2DE-4F44-AA8A-A94C5E94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D5E0-DF65-47D7-B836-45743C61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BE57-ADC5-49C7-A8A9-064DC78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74E5-0A59-45A0-8BD2-A87F162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5D9B-C3E4-4C23-B420-3376DAE9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A55-5CB8-47CE-9A2F-73AB30D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F76D-68B1-41B0-A29C-0DA5151B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C5ED-79B0-4386-97A2-C43DC820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54BD-4BD1-41B0-B8D2-5561D5CC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D02F-580A-4651-934E-5CF11ACC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30709-249A-4D63-A805-BA86320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A909-F55A-47CF-8243-743B5059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3384-3A6A-4573-AAB3-0902F10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56CA-D576-483B-A2CF-3FF1C38B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8042-85DF-47B0-9154-03F4618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3888-345E-48D9-A2E5-9C08901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676-4A09-4CB5-8A90-30685E3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9C43-2EE4-48FE-B560-252EE32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3F95-F9C9-4B76-BACB-926E503A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56C49-B210-4CDE-8386-489C92C3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46DA5-C6F5-4C5C-B8C5-551E67AB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56B78-72A1-4B42-BD19-BB8F8D12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6DC7-5FE8-449F-8EF8-DB03D000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2C5DB-4C29-4E94-A5A9-A8BEC18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FB6B-1861-4E31-BDC9-CAC8658D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2B154-DF6A-4258-BA62-804341F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ED5D2-FFF5-402B-BC7E-105778EC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8D9-6467-421B-9298-C207E99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7B68F-A4D8-4410-B244-BBEB51A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2BE76-FB6B-4341-B79D-8CD8108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5AA6-91B8-4860-98CD-4133CD4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E3E1-49EF-4315-983C-F8692A7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7AA55-8F85-4966-AD34-46BF10F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7257F-E00F-48F1-93A0-42A96878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CC31-422B-4B0E-9436-04CCD805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69E15-E3A8-4FA6-9B9A-547D885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C4AA0-4A81-481F-95F0-F5DA0708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39121-6FE0-4699-A1C4-05B2C1C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47000" y="6475320"/>
            <a:ext cx="14968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2E6678-F7B3-4907-B48C-145789063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22A2C1-E599-41B9-A389-AEF1F2245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68BA8E-FCB0-4169-A205-5608ABF91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B83EA5-80D1-4691-BF12-9910A1CDF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AAE901-8A7A-487A-88DA-28AC3619FD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1B5214-D0EE-49FC-962D-1F94D72A9F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3A7275-20F2-4782-9852-5F81189011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59E9F8-E1B9-4685-8E7B-6EA5EB5612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374AF0-69DE-4F32-AE7D-BF4D112230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343826-0866-490C-B9BF-FF7C0F75CD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7FCF54-C6E5-4A9E-B6D0-C94000D9CC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7047000" y="6475320"/>
            <a:ext cx="1496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D37A63-DB3F-4F54-9257-C79543374D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7/15-17-0421-00-0013-ad-hoc-meeting-slides.ppt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7/15-17-0383-00-lpwa-research-project-bats.pptx" TargetMode="External"/><Relationship Id="rId2" Type="http://schemas.openxmlformats.org/officeDocument/2006/relationships/hyperlink" Target="https://mentor.ieee.org/802.15/dcn/17/15-17-0373-00-lpwa-update-on-etsi-ltn.pptx" TargetMode="External"/><Relationship Id="rId3" Type="http://schemas.openxmlformats.org/officeDocument/2006/relationships/hyperlink" Target="https://mentor.ieee.org/802.15/dcn/17/15-17-0249-00-lpwa-lpwan-slides-ieee-802-15-ig-lpwa.pptx" TargetMode="External"/><Relationship Id="rId4" Type="http://schemas.openxmlformats.org/officeDocument/2006/relationships/hyperlink" Target="https://mentor.ieee.org/802.15/dcn/17/15-17-0248-00-lpwa-summary-of-ieee-std-802-15-4-lecim.docx" TargetMode="External"/><Relationship Id="rId5" Type="http://schemas.openxmlformats.org/officeDocument/2006/relationships/hyperlink" Target="https://mentor.ieee.org/802.15/dcn/17/15-17-0346-00-lpwa-suitability-of-ieee-802-15-4k.pptx" TargetMode="External"/><Relationship Id="rId6" Type="http://schemas.openxmlformats.org/officeDocument/2006/relationships/hyperlink" Target="https://mentor.ieee.org/802.15/dcn/17/15-17-0344-00-lpwa-packet-splitting-for-improved-robustness.pptx" TargetMode="External"/><Relationship Id="rId7" Type="http://schemas.openxmlformats.org/officeDocument/2006/relationships/hyperlink" Target="https://mentor.ieee.org/802.15/dcn/17/15-17-0417-01-lpwa-on-ietf-lpwan.pptx" TargetMode="External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056000" y="647712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74B50F-10D6-4CBA-8D42-F3FE0DD7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802.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7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30280" y="2290680"/>
          <a:ext cx="7807320" cy="28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2290680"/>
                    <a:ext cx="78073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A80458-399E-483B-829F-80E02D7B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659B9D-91C3-4A0A-9FCE-A394EF7CC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02.15.8 Peer Aware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sponsor ballot closed May 10, 2017.  Results: 60 yes, 6 no, 5 absta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ived 708 comments, 594 Must Be Satisfied.  In addition, 240+ rogue comments were recei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ved all comments, in the process of resolving rogue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ping to recirculate in Aug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28C7BF-5BB4-42D2-8F70-2584481B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3DD5DB-DCC6-4308-9B16-4F1F39C9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55B574-B996-4AC8-99FA-F7F93C1A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8859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10 Layer 2/Mesh Under Routing (L2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ublished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E9E32A-8CB2-4788-B211-1DF9C67E6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B1724B-CB98-4FC4-8C14-92252488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F02FE1-92C6-42AD-831A-DF1856C5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12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LI (Upper Layer Interfa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tional elements of 802.15.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2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  issues - 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re should L2R IE be inse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  issues - Dis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is it done with L2R discovery? Answer: they are in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hitecture – Where is L2R management situ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pplication Layer, and in 802.15.12 Management functional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 of management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plane operation using 802.15.12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ample of 6l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ice driver presents packet to 802.15.12 with EPD=0xA0ED, and layer-2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termine the MAC and PHY layer using source and destination layer-2 addr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check configuration for MAC &amp; PHY for out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 reception, ULI-6lo ID allows routing to the proper higher-layer device d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 fully consider forwarding and date concatenation data-plan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 plane operation using 802.15.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cussion about enabling configuration from higher-layer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co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octl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ed for remote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cussion about how to identify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uld associate some with device drivers in the way that Unix does (e.g., “eth0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multiple profiles be associated with a single device driver?  For instance, SUN FSK with or without L2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FB116B-CB9A-46AE-A500-83169407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AD60C5-DDC5-45AC-B6C8-46594ABA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893649-D297-4009-8E4A-C46A2FB1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13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 Gigabit/sec Optical Wireless Commun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C Tutorial Monday 7:30-8:50 p.m.: Well don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iew Status of D0 of TG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0 needs more interactiv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ly doable by individual comments an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rd contribution, resolved all comments upload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ussed further open issues f2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 contribution on unified frame structu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bate was partly finished, will be revised and continued in Ko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 technical motions that considerably simplify the dra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-hoc meeting July 17 and 19 at Fraunhofer HH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da: </a:t>
            </a: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5/dcn/17/15-17-0421-01-0013-ad-hoc-meeting-slide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o provide further comments until August 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84AE2E-EB2E-4A0A-9107-9CF1998F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A9FEFB-9190-45C2-8147-D51EBFF44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D2B3B2-C1C5-43DB-B5FC-809FCC594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gh Rate Rail Communications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174AEB-8B6C-4700-B36E-C47AC5EA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DE083A-D012-4FC9-B3D1-CF644F796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9046A4-8241-4C93-9C68-769CA611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z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2 joint meetings with TG3d on Tue PM1+ PM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13 participants (incl. 7 students particpating in the Outreach Progra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5 contributions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f Kraemer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100 Gb/s and beyond: Actual research approaches within a DFG special priority program (SPP1655),” (15-17-0341r02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Müller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st-Spot - Channel Analysis and Demonstration at 200 GHz for Extremely High Data Rates in Ultra Dense Environ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 (15-17-0342r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bastian Rey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 Ultra Wide Band MIMO Channel Sounder operating at 60 and 300 GHz”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-17-0397r0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wao Hosako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tenna characteristics for design and evaluation of 300GHz wireless communication system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 (15-17-0356r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ibution #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bastian Rey,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first Phased Array Antenna at 300GHz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 (15-17-0396r00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3B3124-642C-4092-8975-ECE4B31BA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A11B3E-5B82-4F00-A8FE-2C92C46D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B1A31A-8721-43B3-BEE9-561A746E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pendable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Discussion in Previous Meetings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for Agenda in this week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IG-DEP activities for these years since 20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all for Interest(CFI):                                  doc.#15-14-0449-06-0d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Scope and Focused Applications with Different QoS Level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#15-16-0111-00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Overview of ID-DEP activities including responses for CFI and seeking sponsors and supporting parties                                                         doc.#15-17-0176-01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Study 6TiSCH in IETF to start collaborating for dependability in common use c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Reviewing FFPJ presentation at IEEE802.11&amp;15 joint tutorial session of March meeting in Vancouver                                                          doc.#15-17-0394-00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d revise technical requirement, PAR, and CSD for IEEE 802.15.TG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oc.#15-16-0557-03-0dep       doc.#15-16-0290-02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n Necessity of a New Standard for Enhanced Dependability in Wireless Networks for  focused applications                                 doc.#15-17-0420-00-0d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two invited speeches in WNG session of Mid Plenar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Presentation of car manufacturer NISSAN from Japan  doc.#15-17-0398-00-0dep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resentation of car component manufacturer MAHLE from Germany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oc.#15-17-0399-01-0dep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Process and Possible Timeline to SG and next step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n timeline for September in Big Island and l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AE07F5-3266-4B78-8C2C-A3F0D611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020243-6613-4753-99D4-733E7BE91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3A1447-4B16-4FDC-8CDD-F553203B7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 Power Wide Area Network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search Project “BATS”, Joerg Robert (University Erlangen-Nuernberg) 17/383 : </a:t>
            </a:r>
            <a:r>
              <a:rPr b="1" lang="en-US" sz="11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5/dcn/17/15-17-0383-00-lpwa-research-project-bat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pdate on ETSI LTN, Joerg Robert (University Erlangen-Nuernberg) 17/373: </a:t>
            </a:r>
            <a:r>
              <a:rPr b="1" lang="en-US" sz="11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5/dcn/17/15-17-0373-00-lpwa-update-on-etsi-ltn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LPWAN_SLIDES-IEEE_802-15-IG_LPWA, Charlie Perkins (Futurewei) 17/249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5/dcn/17/15-17-0249-00-lpwa-lpwan-slides-ieee-802-15-ig-lpwa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ummary of IEEE Std 802.15.4 LECIM, Pat Kinney, 17/248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5/dcn/17/15-17-0248-00-lpwa-summary-of-ieee-std-802-15-4-lecim.doc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uitability of IEEE 802.15.4k, Joerg Robert (University Erlangen-Nuernberg), 17/346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5/dcn/17/15-17-0346-00-lpwa-suitability-of-ieee-802-15-4k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Packet Splitting for Improved Robustness, Joerg Robert (University Erlangen-Nuernberg), 17/344: </a:t>
            </a:r>
            <a:r>
              <a:rPr b="1" lang="de-DE" sz="11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s://mentor.ieee.org/802.15/dcn/17/15-17-0344-00-lpwa-packet-splitting-for-improved-robustnes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 IETF LPWAN , Pascal Thubert (Cisco Systems), 17/417r1: </a:t>
            </a:r>
            <a:br>
              <a:rPr sz="1100"/>
            </a:br>
            <a:r>
              <a:rPr b="1" lang="en-US" sz="11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5/dcn/17/15-17-0417-01-lpwa-on-ietf-lpwan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Modulation Schemes 17/347r0: https://mentor.ieee.org/802.15/dcn/17/15-17-0374-00-lpwa-suitability-evaluation-of-modulation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FEC Schemes 17/375r0: https://mentor.ieee.org/802.15/dcn/17/15-17-0375-00-lpwa-suitability-evaluation-of-fec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Connectivity 17/376r1: https://mentor.ieee.org/802.15/dcn/17/15-17-0376-01-lpwa-suitability-evaluation-of-connectivity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Network Topologies 17/379, https://mentor.ieee.org/802.15/dcn/17/15-17-0379-00-lpwa-suitability-evaluation-of-network-topologi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MAC Schemes 17/378, https://mentor.ieee.org/802.15/dcn/17/15-17-0378-00-lpwa-suitability-evaluation-of-mac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itability Evaluation of Encryption Schemes 17/377, https://mentor.ieee.org/802.15/dcn/17/15-17-0377-00-lpwa-suitability-evaluation-of-encryption-schemes.pptx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ext Steps: Indicate use-cases (defined in 16/770r5) that are currently not supported and are highly suitable for LPWAN, Finalize IG report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gree on recommendations to IEE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A3A89F-F941-4E27-AF63-4E0CB2DC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95C084-1D1D-4E51-B491-6E512FDA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620F99-9C62-45BC-B05A-C3607CBE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hicular Assistive Technolog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ibution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+ 13 contributions from Kookmin University and SN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cussions and comple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cizing VAT I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134BE9-2DD5-487E-9689-CF2CBEEC2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F311EB-DF34-4D97-8C23-93D78FD3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7B7B0D-90D5-4FF0-B483-FE772305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tenance S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igendum comment resol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date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ussion on next revision cha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 roll-up document consisting of approved amendmen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ussion of other changes to 802.15.4 stand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3F4CCE-DA16-4374-96AF-4C0DF631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1EE709-C615-4B56-8114-04257FD4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n 802.15 as presented to 802.1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045397-5FE0-4894-B5AB-DE565EBCB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AB7A5A-50D5-4021-8171-F363F674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TF S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s Upd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tisc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lo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l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tne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p-wa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2trg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5 and IETF liaison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ACEA60-D919-490A-AB0E-CA4BA5F92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BD667F-7BBC-4CD5-8534-F8FB6B80A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1CADCA-8822-40B3-B9A9-47600A6B0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NG S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77800" indent="-29052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9052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presentation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way to Industry 4.0 (15-16-0399-00) by Johannes Diem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hle International GmbH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 of Highly Reliable Wireless Network and Future Vision for Car Manufacturing Line in Factory (15-17-0398-00) b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roshi Kobayashi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ssan Mo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57CE39-4303-4385-9CFF-84E26DC4F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0F0CE0-B863-4CC2-B258-8A95B363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74F0C9-C2F8-4DF6-A232-15906C08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ocu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5/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draft is in the members-onl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ieee802.org/15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ers_Only_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 members log in using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02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ername and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933CFE-3512-416B-AEFE-2614786D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F71190-E176-4ED0-B391-E47486AEB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3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Gb/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l and two recirculation Sponsor Ballots on the d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king for unconditional approval to submit to RevCom for publicati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orking on PAR and CSD for 802.1AC amendment; PAR circulated and was reviewed this week; going to EC for approval to submit PAR to Nes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837A91-DF89-4EA5-8BB4-4D5BD1AA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E2E4C6-E72C-4C60-915A-D92CDF1A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62F0C9-DBF3-4C34-8529-F18E379E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3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Rate Close Proximity (HRC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ublished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C1102F-AFCF-48A3-BD85-2C995FF2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92E008-A66F-4CB0-97B8-F95FBCB9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F71E2C-6FB8-4AC8-A34E-28E4D9907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3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GHz Band Extension for 15.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WG ballot closed June 9, 2017.  Results: 35 yes, 0 no, 5 abstain.  Passed!  2 comments receiv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s resolved, recirculation star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57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king EC for conditional approval to start Sponsor Ballo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833F11-9058-402C-95E4-3FEB613A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65DFA1-E73D-4806-AE54-5DEC078B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E2D1A4-47F3-4534-AECA-9D404D26C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trum Resources U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irculation WG ballot LB141 closed May 26.  Results: 61 yes, 4 no, 5 abstai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irculation WG ballot LB142 closed July 5.  Results: 63 yes, 3 no, 5 abstai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ing out for another recirc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king EC for conditional approval to go out for Sponsor Bal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med BRC to resolve comments and to handle recirculations and comment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F17CF6-8D33-4434-BEAD-C13EE4F01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688B92-BF9D-4B4C-BB7B-43A72825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7B1909-3D8C-434A-995E-5BA7E9BA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R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shed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A91E8D-3E72-46FC-801A-903D4A2C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B18E0D-F465-41FF-93CB-81C12552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D6A863-7C4A-4915-938F-61367CFC7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4v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gional SUB 1GHz Ban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sh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77D80D-1086-4B7A-A5CA-694113E4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DDE503-CA88-4415-8CB5-6A496122C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862D5D-945B-48C4-9EC0-A884AA10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5.7r1 Optical Wireless Commun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WG ballots since last repor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lved most of the comments; still a few le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ed updated diagrams and text for next d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ping to have recirculation in late Augu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nning on an ad-hoc meeting the middle of August in Korea for product dem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2081C7-DB98-421E-A287-4E9CC6002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0:37Z</dcterms:created>
  <dc:creator>Clint Chaplin</dc:creator>
  <dc:description/>
  <dc:language>en-US</dc:language>
  <cp:lastModifiedBy>Clint Chaplin - SRA</cp:lastModifiedBy>
  <cp:lastPrinted>1998-02-10T13:28:06Z</cp:lastPrinted>
  <dcterms:modified xsi:type="dcterms:W3CDTF">2017-07-14T06:26:08Z</dcterms:modified>
  <cp:revision>358</cp:revision>
  <dc:subject/>
  <dc:title>802.15 Liaison Report for May 2013</dc:title>
</cp:coreProperties>
</file>