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9956D-7AEC-429D-AAF4-035F9DEC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5640" cy="346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23760" y="4408560"/>
            <a:ext cx="508608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4086000" y="95760"/>
            <a:ext cx="2195640" cy="214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doc.: IEEE 802.11-16/05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10"/>
          </p:nvPr>
        </p:nvSpPr>
        <p:spPr>
          <a:xfrm>
            <a:off x="654120" y="95760"/>
            <a:ext cx="753120" cy="214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Ma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11"/>
          </p:nvPr>
        </p:nvSpPr>
        <p:spPr>
          <a:xfrm>
            <a:off x="3801240" y="8985240"/>
            <a:ext cx="248004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marL="457200"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Dorothy Stanley (HP Enterpri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12"/>
          </p:nvPr>
        </p:nvSpPr>
        <p:spPr>
          <a:xfrm>
            <a:off x="3243240" y="8985240"/>
            <a:ext cx="49176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3BCF40C8-FB7D-4ABD-86A9-2D20C5C688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7E46-E42F-403E-8CF8-3C2E6721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E5AA-DC77-4746-A8F8-93A341CA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0914-A8AD-452A-868A-798D639A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CB03-3DDD-458A-AFDF-A1DBD16E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1EAE-9AF3-4602-A456-004310FB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8949-A6E7-4FBF-9DA3-C85ED21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1B5C-1CEA-4015-8833-BEC3076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1B08-6918-4017-8435-9AAA988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8DB6-6CCF-4AB6-A124-B068306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F503-7CD1-412F-9A38-8218A5F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F274-80FC-43AB-9FC8-C607ADC9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D0B2-46D5-4DE7-953C-BA38B42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175360" y="334440"/>
            <a:ext cx="32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457200"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17/0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685800" y="609480"/>
            <a:ext cx="7772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685080" y="6475320"/>
            <a:ext cx="71280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685800" y="6476760"/>
            <a:ext cx="78483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6960" y="333360"/>
            <a:ext cx="1339920" cy="2764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840" y="6475320"/>
            <a:ext cx="52992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D30D3EAE-FFC5-42F6-A314-3EEA1A00F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934320" y="6477120"/>
            <a:ext cx="1599840" cy="397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EEE 802.11aj – September 2017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ina Millimeter Wav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ir: Jiamin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7"/>
          </p:nvPr>
        </p:nvSpPr>
        <p:spPr>
          <a:xfrm>
            <a:off x="696960" y="332640"/>
            <a:ext cx="1579320" cy="2764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pt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8"/>
          </p:nvPr>
        </p:nvSpPr>
        <p:spPr>
          <a:xfrm>
            <a:off x="4344840" y="6475320"/>
            <a:ext cx="52992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F363F2C0-747A-444C-BE32-EA13D0CF0A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2590920"/>
            <a:ext cx="8229240" cy="3862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urrent status: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Sponsor Recirculation Ballot on TGaj D8.0 passed (100% approval and 0 comment receiv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ptember meeting goals (1 timeslot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prove meeting minutes of July and August tele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cuss and approve the report to 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view and approve press rele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meline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btain 802.11 WG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t conference cal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for Novemb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9"/>
          </p:nvPr>
        </p:nvSpPr>
        <p:spPr>
          <a:xfrm>
            <a:off x="6934320" y="6477120"/>
            <a:ext cx="159984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amin Chen (Huaw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802-11-Submission">
  <a:themeElements>
    <a:clrScheme name="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0066ff"/>
      </a:hlink>
      <a:folHlink>
        <a:srgbClr val="0000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0066ff"/>
      </a:hlink>
      <a:folHlink>
        <a:srgbClr val="0000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802-11-Submission</Template>
  <TotalTime>126621</TotalTime>
  <Application>LibreOffice/7.4.7.2$Linux_X86_64 LibreOffice_project/40$Build-2</Application>
  <AppVersion>15.0000</AppVersion>
  <Words>89</Words>
  <Paragraphs>17</Paragraphs>
  <Company>Huawei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Jiamin CHEN</dc:creator>
  <dc:description/>
  <dc:language>en-US</dc:language>
  <cp:lastModifiedBy>sks</cp:lastModifiedBy>
  <cp:lastPrinted>1998-02-10T13:28:06Z</cp:lastPrinted>
  <dcterms:modified xsi:type="dcterms:W3CDTF">2017-08-31T06:58:19Z</dcterms:modified>
  <cp:revision>36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</vt:r8>
  </property>
  <property fmtid="{D5CDD505-2E9C-101B-9397-08002B2CF9AE}" pid="5" name="_2015_ms_pID_725343">
    <vt:lpwstr>(2)6wiIZjgRWMOwPN5UmdLdcW6G8lSyiNuDdLAP7lEIZnCjVCwxzT/Urjrmhvb7reRaXEb0PS2s
PPvA8G5gyE/4MVksHh85Rm2OzZ/aIiuEQadcR8j7UUW1DoiFEueg/OAhDMd41TxBHXd7irKD
Cc2/nP872bpBrOJvaK5nU/V2n1MsSfc4s7N7ID7U0dLcz2JTTrRCP1LE5NEx84P2xbrndTyx
UuXjsCdU/G/HbarqhZ</vt:lpwstr>
  </property>
  <property fmtid="{D5CDD505-2E9C-101B-9397-08002B2CF9AE}" pid="6" name="_2015_ms_pID_7253431">
    <vt:lpwstr>WJHJPW7QtoowYjMSTpKpIAxPF5bjEYB7QftCb3x6+whGC5zOEIVNOy
HeGf8PM7Pe7qT08PzRh/YRMVtg9xyn3dnz5a9BnGO1iUqDuGjWTiPcqHQBspbmIfJI/INOk1
tDP0mSYlAGTwrrUO9Aq0JE3/uuxXuSSfh1V0/ZjVsQB1gw==</vt:lpwstr>
  </property>
  <property fmtid="{D5CDD505-2E9C-101B-9397-08002B2CF9AE}" pid="7" name="_change">
    <vt:lpwstr/>
  </property>
  <property fmtid="{D5CDD505-2E9C-101B-9397-08002B2CF9AE}" pid="8" name="_full-control">
    <vt:lpwstr/>
  </property>
  <property fmtid="{D5CDD505-2E9C-101B-9397-08002B2CF9AE}" pid="9" name="_readonly">
    <vt:lpwstr/>
  </property>
  <property fmtid="{D5CDD505-2E9C-101B-9397-08002B2CF9AE}" pid="10" name="sflag">
    <vt:lpwstr>1477552512</vt:lpwstr>
  </property>
</Properties>
</file>