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833EB8-C5DE-48DE-8665-86BB7602E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5640" cy="346824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23760" y="4408560"/>
            <a:ext cx="5086080" cy="41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600" rIns="9360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hdr"/>
          </p:nvPr>
        </p:nvSpPr>
        <p:spPr>
          <a:xfrm>
            <a:off x="4086000" y="95760"/>
            <a:ext cx="2195640" cy="214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+mn-ea"/>
              </a:rPr>
              <a:t>doc.: IEEE 802.11-16/052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dt" idx="10"/>
          </p:nvPr>
        </p:nvSpPr>
        <p:spPr>
          <a:xfrm>
            <a:off x="654120" y="95760"/>
            <a:ext cx="753120" cy="214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+mn-ea"/>
              </a:rPr>
              <a:t>Ma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11"/>
          </p:nvPr>
        </p:nvSpPr>
        <p:spPr>
          <a:xfrm>
            <a:off x="3801240" y="8985240"/>
            <a:ext cx="2480040" cy="184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marL="457200"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Dorothy Stanley (HP Enterpri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12"/>
          </p:nvPr>
        </p:nvSpPr>
        <p:spPr>
          <a:xfrm>
            <a:off x="3243240" y="8985240"/>
            <a:ext cx="491760" cy="184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DA5C7A65-CAB7-4427-AA88-405B1A92A9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755C-77CE-4BC3-B2BA-A8D0FABA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C252-1299-466B-BBAD-F37D9DDD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ABBFB-F452-4427-8B85-88D8FB15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EF7C-8F68-47E5-A042-39BD5A9D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3CDF-19AC-4542-B754-1C987330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D306-98DF-481E-A422-AEABB0E7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63A6C-6785-43A7-BA8E-DF57B3EA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8153-98A3-43E4-B3C5-BBFBB887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46DBA-D577-493A-962F-9C11D2F6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C3BF-C34A-4AE9-B81B-BD383856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0E037-D429-453C-B9C6-68E57541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54B6-D7A3-42D3-B9B2-16632F2B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175360" y="334440"/>
            <a:ext cx="325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457200"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17/0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685800" y="609480"/>
            <a:ext cx="77724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685080" y="6475320"/>
            <a:ext cx="71280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685800" y="6476760"/>
            <a:ext cx="78483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ick to edit Master text sty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6960" y="333360"/>
            <a:ext cx="1339920" cy="2764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4344840" y="6475320"/>
            <a:ext cx="529920" cy="1821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D7E88246-0D9D-47B3-B4C5-2BF2018056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934320" y="6477120"/>
            <a:ext cx="1599840" cy="3977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0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EEE 802.11aj – September 2017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ina Millimeter Wave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air: Jiamin 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7"/>
          </p:nvPr>
        </p:nvSpPr>
        <p:spPr>
          <a:xfrm>
            <a:off x="696960" y="332640"/>
            <a:ext cx="1579320" cy="2764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ptember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8"/>
          </p:nvPr>
        </p:nvSpPr>
        <p:spPr>
          <a:xfrm>
            <a:off x="4344840" y="6475320"/>
            <a:ext cx="529920" cy="1821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de </a:t>
            </a:r>
            <a:fld id="{C52E0561-69C9-48E2-95C5-E255CA207C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2590920"/>
            <a:ext cx="8229240" cy="3862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urrent status: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Sponsor Recirculation Ballot on TGaj D8.0 passed (100% approval and 0 comment receiv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eptember meeting goals (1 timeslot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pprove meeting minutes of July and August tele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scuss and approve the report to 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view and approve press rele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imeline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btain 802.11 WG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et conference call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an for November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9"/>
          </p:nvPr>
        </p:nvSpPr>
        <p:spPr>
          <a:xfrm>
            <a:off x="6934320" y="6477120"/>
            <a:ext cx="1599840" cy="184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amin Chen (Huaw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802-11-Submission">
  <a:themeElements>
    <a:clrScheme name="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0066ff"/>
      </a:hlink>
      <a:folHlink>
        <a:srgbClr val="0000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969696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0066ff"/>
      </a:hlink>
      <a:folHlink>
        <a:srgbClr val="0000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802-11-Submission</Template>
  <TotalTime>126621</TotalTime>
  <Application>LibreOffice/7.4.7.2$Linux_X86_64 LibreOffice_project/40$Build-2</Application>
  <AppVersion>15.0000</AppVersion>
  <Words>89</Words>
  <Paragraphs>17</Paragraphs>
  <Company>Huawei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Jiamin CHEN</dc:creator>
  <dc:description/>
  <dc:language>en-US</dc:language>
  <cp:lastModifiedBy>sks</cp:lastModifiedBy>
  <cp:lastPrinted>1998-02-10T13:28:06Z</cp:lastPrinted>
  <dcterms:modified xsi:type="dcterms:W3CDTF">2017-08-31T06:58:19Z</dcterms:modified>
  <cp:revision>36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</vt:r8>
  </property>
  <property fmtid="{D5CDD505-2E9C-101B-9397-08002B2CF9AE}" pid="5" name="_2015_ms_pID_725343">
    <vt:lpwstr>(2)6wiIZjgRWMOwPN5UmdLdcW6G8lSyiNuDdLAP7lEIZnCjVCwxzT/Urjrmhvb7reRaXEb0PS2s
PPvA8G5gyE/4MVksHh85Rm2OzZ/aIiuEQadcR8j7UUW1DoiFEueg/OAhDMd41TxBHXd7irKD
Cc2/nP872bpBrOJvaK5nU/V2n1MsSfc4s7N7ID7U0dLcz2JTTrRCP1LE5NEx84P2xbrndTyx
UuXjsCdU/G/HbarqhZ</vt:lpwstr>
  </property>
  <property fmtid="{D5CDD505-2E9C-101B-9397-08002B2CF9AE}" pid="6" name="_2015_ms_pID_7253431">
    <vt:lpwstr>WJHJPW7QtoowYjMSTpKpIAxPF5bjEYB7QftCb3x6+whGC5zOEIVNOy
HeGf8PM7Pe7qT08PzRh/YRMVtg9xyn3dnz5a9BnGO1iUqDuGjWTiPcqHQBspbmIfJI/INOk1
tDP0mSYlAGTwrrUO9Aq0JE3/uuxXuSSfh1V0/ZjVsQB1gw==</vt:lpwstr>
  </property>
  <property fmtid="{D5CDD505-2E9C-101B-9397-08002B2CF9AE}" pid="7" name="_change">
    <vt:lpwstr/>
  </property>
  <property fmtid="{D5CDD505-2E9C-101B-9397-08002B2CF9AE}" pid="8" name="_full-control">
    <vt:lpwstr/>
  </property>
  <property fmtid="{D5CDD505-2E9C-101B-9397-08002B2CF9AE}" pid="9" name="_readonly">
    <vt:lpwstr/>
  </property>
  <property fmtid="{D5CDD505-2E9C-101B-9397-08002B2CF9AE}" pid="10" name="sflag">
    <vt:lpwstr>1477552512</vt:lpwstr>
  </property>
</Properties>
</file>