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8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49141E-D21B-47C6-848D-8E147A8675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5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725760" y="97560"/>
            <a:ext cx="68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4451760" y="8985240"/>
            <a:ext cx="27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Bagby, Calypso Ventur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8EBD31-D5F9-4BFE-A188-00E209ED3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4160" y="70020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B51-13FC-4B77-B710-98BB6682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080-B788-4F09-9A05-DFEC2FD5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8CD0D-600E-4B4B-802F-92B4CF7F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F5CB3-CBC7-4852-9FC5-D41ED612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32DBB-AA52-4288-80D1-A78215EA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A677F-A6CA-4D5D-AA24-B2D35C85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3E154-BC49-47AC-84CB-7518092B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06F21-1D1A-405A-A889-3F4435D0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759B3-AD01-4076-B4FC-F1F61FF9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49EB5-E942-47E0-805C-00600118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C1C1A-CC3E-4DD8-9700-2A1687FF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65C05-9E55-467D-BCCB-D9FDCBEB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9A7-6C46-49D2-85E9-06369889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E0CA5-53C9-4421-9E39-2FECFEC3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0CB8B-CDAC-4E83-A3D6-3C016480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AD41B-C13E-469D-B8CC-F78BD60F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1C48E-BF55-4AF3-8AE1-E0018C58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F937E-0097-40A5-8297-1771C578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D2B18-7F59-42D0-99A4-8FE2F612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13B52-A59E-4733-98CA-2B429E98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E153E-8A34-4082-A52E-E6B5411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16841-D1A2-4232-84D1-6989E028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D6B70-3BCB-49BA-9DDD-A99FA28C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E57-E3D8-4B0A-B485-E0AF9311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5A1C2-20B1-4A1A-89DB-D8D4A38A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121C2-7E0D-41C0-B1A7-636EFE4D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5A0A3-60CA-4676-B825-F5C88F99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5AE05-FB71-42CD-839E-13B1C56A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42E99-855C-40DB-9C0D-D42DADF8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F34A7-2A3E-4348-BE56-BC34621B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29313-C805-4828-8C9D-61AA0DC2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0F15B-C971-45E0-B564-D27F989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BB3BF-4693-4450-987C-D3202A7A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2C7D0-159E-46C8-A597-2585AFDB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4A96-CF2E-4981-8D38-F8C044A1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DC407-90E1-46AF-B2E2-7BBF0551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5AF6D-5169-4FA4-9345-C8610327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62009-4C5F-4F73-9996-0372F52E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A02DD-2F62-4A33-9D86-89631D70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88443-7237-4BC2-9F1D-26F50B8B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D8E6C-3A7E-4C6C-A958-B90CFDD5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472D8-3C47-4C9B-A80A-0A1126FE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C9E92-E91D-405A-ABD2-1602D885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B0B72-27F6-4677-A2C5-5332B4C9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B7847-7575-4D49-814B-7774CDF8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6BD1-FDE0-44D8-BC58-92E9DE78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28EBD-A111-410D-8A28-BAED52E5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6DC92-8C60-40A2-9772-FE9D561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8B4BA-BE07-43AB-9648-75815D6D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71695-4F9C-4445-85B6-F08F14D1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D253C-40DC-47BC-8237-6A7926B0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9FF5-04A2-4C2D-96F7-CC9E0BB4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C92B-4F4E-4229-96A1-B7D419B1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DA33-248F-4DFA-8109-6F69B587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6B83-09AD-44DF-A863-AC435C4D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F1A8-2835-4288-BC4B-2078CBD4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12F-A9C4-4982-87B4-2A148D03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C9A3-90D9-4959-9B2D-6129000F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14D-D527-4618-9710-F387475C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AC89-D575-4AB3-9F2F-909B3094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D3C3-8FC4-4558-A699-AB909876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0F3B-3FEF-4DBF-8153-60715D57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72DF-6D36-43A1-A6A2-CB08F16D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4828-893D-4198-8F1F-B07727C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128B-DD89-4DA6-B58A-69E48EE2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C686-655E-4231-9E40-9B2F77D6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E8D02-BF33-474D-A51A-5ED7939B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405-AD05-4B5B-A84F-8D197FC2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0FCE-0F38-4573-AD2B-8CB49F81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E0E8-8A0B-4197-8791-8067783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4E19B-DF91-4B49-B776-4F682BC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A764-4FC2-49F8-8198-847FC03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7211-E55E-4AA4-8088-92676E13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6F6E-4401-4F25-91CE-9F5AE327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49A7-EDF1-4292-9240-FA6FA0B9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CB30-26EF-490C-908B-8E65FC7D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5EF5-291B-462C-ABC1-FD9D941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4D1F-038E-474E-9C80-C4EB5FA0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33E-02A0-4461-8933-34AB501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C2A3-E505-4D17-B84B-9B909450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65701-525F-47FF-8C93-73E41A2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B4CF-C037-48FF-8A37-4C8B220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4260-E45C-4AE0-A07C-AA9268AD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8C5A5-690E-4851-857D-5756261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72D1-CAFE-4288-A4EE-C4300D0A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EA2E-CE4B-4D58-AF85-26973BA9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5037E-F669-421D-91B6-74036370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6448-5CFB-40F1-941A-FBB5E21A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DE03F-727F-4627-95DA-40F16CBC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611-10D3-4248-9D3E-C2739B84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2E034-E52E-4307-BEFD-92057534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E1A8D-FCD1-466E-9D5C-8B581108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226B-45B0-4D0E-A0E1-2EFE36F1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C6820-4A00-4556-8D11-A3C31C35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A718-603A-4D38-B288-F979EBF0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7C06-8103-4D66-9B06-11DC40DC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17A4-5AB9-46E0-8D87-BB6D3DC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66115-DC84-43F4-A724-E82DA134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0A60A-5E2A-49D6-8823-9A73538C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197F-0AF6-4510-813D-CF2218DE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2AF-A06D-43D1-85A6-AB229B87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A48E-03E8-40FF-ABE5-6FFD6A2F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ABA3A-F436-4BCF-981E-5631784E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83F1-6940-49CC-A7F2-A82C5FF7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B7DB6-F0E3-4FE5-9B7B-4EFCD297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DC234-5628-413D-9238-637D39A7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3EA2-E20A-4E29-A5EF-0E189F65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D0245-4588-487C-A1E3-96B3E0C4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AB9D1-2F90-4658-8AC6-0F64E48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C84B9-ADF6-48F6-A400-C76E042A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E70E-7FE3-4BA2-BDF4-C7A59789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AC5-1CC5-47DA-A63A-2445368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66D6F-E4A5-45F4-A4B3-29286AA9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DB3F-62CC-47F0-9B74-B91B40C4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5476A-2A8F-487C-8E69-FA66E654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F83FA-CB73-49DF-A952-9AD82FEC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FCC02-8C9E-442A-AB5E-D90F79BB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46DA-5408-4139-A30A-69CF1A85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06C94-A75A-449F-9469-17A6A95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FC81-EB77-41B9-ACFE-F0ECE255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36607-71DD-43D1-B405-5ADD369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F3AEE-4708-45FB-9B5A-B0524A7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0E3-BCA8-49BB-AF23-39896773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B89E7-09B2-4329-B672-4BD9DAC0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5F5EA-0106-4A49-BED5-27DB01E1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C1848-7F62-4C0A-8FB9-28B7FEA3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C16EA-049F-4844-9296-B5396BFB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F8AEC-DD1A-4DC5-AFB7-D92B8178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FAAD4-C8D6-4F99-9E0E-8ABACE8E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AF73A-B314-49C9-ADE9-F68A14F2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424F5-F71D-40C7-B1F9-0A881F11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DA8BA-45FB-460D-8538-FAA8018F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B266-011D-448A-B584-A4F06BB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98F-F907-482B-8D6A-45ACB1E7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44727-DDF2-45E0-BDA8-556CBEEC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57A97-7629-4367-8BF1-7727530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07AD0-102B-491A-92FC-6AEEA0C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A2B52-60F1-4A2E-87B3-951E089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1B8E8-DC0E-42C2-AC6F-BEBA5092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88276-EC57-4DCD-9B4F-AB88A8A2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E44A5-2FD0-431A-8B9D-40E9806B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51F8-B56F-4127-8F98-8D324752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8B76B-7BC1-4A08-80E1-E7A5FF39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81708-7C04-464D-9298-B491E25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SpectraLink, Cor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0E6834-5861-401D-AB45-E277701415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4180D2-C593-440A-A843-8104864E5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1464CF-85CC-4A19-9AD1-28DBD4BDD0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3B6AB8-3179-4D26-B88C-93049B8E5D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2C0F8D-5785-4C60-AB14-4CE763EB07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64880D-84CA-4DBA-A693-1267EB4ED0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E2E657-4067-4856-BA44-85238183D9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34D07A-4283-4C5D-9F3B-4C6A587315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A0F626-DAB4-4BB3-9D77-30334BCE0C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029DBB-20B5-4BA7-BCE2-DC434A4744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71BC97-FD1F-40D4-8B70-8234A6A607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685800" y="334800"/>
            <a:ext cx="775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9/x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6294600" y="6475320"/>
            <a:ext cx="22492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Hamilton, Polycom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283309-F59E-4EA5-9813-EE576A875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8/11-18-1017-00-0arc-wur-multi-ap-reference-model.vsd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ARC – January 201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eting slots: Tuesday PM2, Wednesday AM1, Thursday A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esda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78600" indent="-33912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 activities relevant to 802.11: 802.1CQ, LAAP, Proxy IPv6 Neighbor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678600" indent="-339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588, 802.1AS (802.1ASrev) and use of 802.11 F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678600" indent="-339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BA liaison on MAC Address randomization follow-ups for 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Gba (WUR) continued discussion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11-18/1017r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1-18/1020r5, 11-18/1494r2, 11-18/1641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7716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MAC Addresses (and IPv6), “Multiple radios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7716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 architecture views for common use scenari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 IETF DetNet/time-sensitive networking input (potential relationship to RTA TIG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is an ESS?”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-18/1051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es TGba discussion lead into other “split” PHYs (LC, 28 GHz (Phazr)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LME-RESET, versus MLME-JOIN and MLME-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/DS/Portal architecture and 802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691560" y="30636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6543000" y="6475320"/>
            <a:ext cx="196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 Hamilton, Ruckus/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3A9C9E-4F4E-4627-A6C4-01E81BAB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38:20Z</dcterms:created>
  <dc:creator>Mark Hamilton</dc:creator>
  <dc:description/>
  <dc:language>en-US</dc:language>
  <cp:lastModifiedBy>Mark</cp:lastModifiedBy>
  <cp:lastPrinted>1998-02-10T13:28:06Z</cp:lastPrinted>
  <dcterms:modified xsi:type="dcterms:W3CDTF">2019-01-06T00:39:25Z</dcterms:modified>
  <cp:revision>144</cp:revision>
  <dc:subject/>
  <dc:title>ARC-snapshot</dc:title>
</cp:coreProperties>
</file>