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8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A8D24E-826B-41E4-9E0E-F65A15834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25760" y="9756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4451760" y="898524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C38F8C-3F4A-458B-B902-4E10578F6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D8A-DBF0-4A29-9E47-B56A76E7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AF1-D126-43B7-8C7F-9751E3B1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24D5-A517-4F7A-8B88-86992963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91D66-C480-4A36-8016-39865342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CA98F-2E62-4041-AE3E-692662E1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2BF7D-ECFA-431F-9E2E-FAEBC73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1126B-236D-4818-9CFB-0821768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613E3-CBCC-40EA-8B13-8D518C6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74FF-E23A-4278-A92C-023B4131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BD591-AA9C-4908-B5AB-348477CE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7EFAA-333C-4299-865A-044611D2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09459-A670-4F0B-8813-341B0307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26C-0137-47C6-AD97-05A3C6F5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89F9-9DDB-4305-A037-A537612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6DC21-E36D-4AA0-A822-B76AE273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E861F-F22B-4127-A7CB-EA8FF79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6F0FD-A39E-4588-9F00-BD4E24D7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A10E9-30D7-450D-BAE7-E581881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3214A-9322-4082-B625-99AF0A7D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04B79-E2AE-44A6-AFD7-BF702BE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0B597-3793-4C07-9128-ADB1B30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7CB8F-9AC0-4709-8BB3-BA045DB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C7E8E-0832-4AB2-A5BF-7614FB2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0B5-5A43-43BA-BD9B-36026820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4D674-D0A1-462B-B6C8-7A0E1023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508DD-884F-41F3-9FBB-39A1CE69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4C489-0D74-4C1F-8192-03DEE9D5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3260-3449-4731-97D9-9EF6BA06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1B8C9-4B86-414A-8D1C-FA290DCB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CA291-B1EF-4384-AB5E-241A2A6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F12CA-C8E5-463F-A8C6-043E256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646CA-4AB5-4FC6-866D-8BD8086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96C2A-CA02-4EA9-8AE8-7DB3CAC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2D39-1A85-4313-AD14-15A5484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1DA-CD40-401A-8835-B559E084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3E39E-A06C-42A8-BB36-EFBB38F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82CD-4BD1-49D2-BD63-8D1F11E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9273A-776E-4AF1-9DAA-63689458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B2A7-6D6D-4958-AA43-81787D8B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20EE3-358A-4BE1-95DC-FBCFF156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95628-D3BE-4720-B43A-8592717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A364D-F83C-433A-9E79-FF74753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BF598-0060-4174-9C87-DF61046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88951-7162-4B19-ABBE-2D07AA7E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BA406-654E-4F12-8CFB-F48DC2F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7824-DFB2-4D81-82BF-F698B1E0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3B7CD-A18D-46B1-87C3-FC1689E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78BC9-6F60-4029-9100-8CD8C94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CDF13-CE6A-45F6-B4A9-52E058C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85710-F7CA-49CF-988B-AA400C1E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C629A-00F1-44EE-9AA3-2E895D3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28D4-62F5-4486-8E87-321130D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B55B-4A4D-492F-B6EB-44FB82A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F947-D981-47AA-B1D7-4DC2316A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1B6F-55A9-4613-9FCB-1388C94E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9A98-3F0A-4AB3-9CEA-32DC086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177-1370-4265-98E8-98065E5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6652-F139-4811-B8F3-A1461EB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5BD-CC7F-4B2C-BC63-0D3B0C6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C16A-257C-413F-A909-279823B1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9E12-0E3A-4EA8-856F-161BF8E6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4008-D573-48A2-A9E0-07DD6B2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8E92-94D2-4D5E-9735-373BE9C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98A3-31E2-40F8-B623-71824B8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810C-EAD4-4293-86B9-498AF2B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EC41-338F-496B-BFF2-A5730081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B95B-D956-445D-B490-128143F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998-0DAB-4795-A287-E4CF0DD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DB15-5B83-40E2-9D66-0D347E37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34FD-DB69-48C7-BA64-AEFAC0E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AD24-49A8-4D00-A141-7D9719C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C8DD-6EC9-4936-8FF0-FD224E97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70FD-B248-4886-80B3-E0CF14B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ACCE-85FA-411C-84F4-A2F071F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5A45-2E37-4119-8513-7BB1926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9394-BCE4-4D0D-8D16-5E290AC7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6CC4-A89A-40D5-A96E-42079A89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D315-1887-4EA8-B1C0-67D021E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EAC-6202-480B-A6E4-3A459A0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B804-F358-4083-BD3F-0444003A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58A5-DF31-4A0A-8ED9-435D044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BFFA-5223-4304-B38B-A281E22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A70E-80FC-4905-9297-102FE5A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DF70-6BFB-403F-B648-A2F886C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72D6-063C-4B15-91B8-8E4797C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5DDE-DA0D-4263-BCE0-A9D7811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229B-7033-48D9-92C2-BAE83AD0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70ED-477F-4C70-9FCF-6E605940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3C04-9C6E-436E-90D1-A6084F12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B1B-828D-4754-9742-DA99DB7A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A29D-9BC0-4DFF-B5D1-31177F97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1867-19D9-4BFE-B07B-5CF5F227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01BE-47F0-4A03-9518-1DB2EF07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2780-3D0E-4A6A-93D6-C7762F1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D0C5-007D-4E0B-AE0A-6AE0B7A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AE76-A62A-4DEF-AE5A-A98C5B76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5800-260D-404F-9CB2-7973EA2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7EA3-239A-4FCD-92C8-1F8349F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F079-8858-42EE-8D65-F88D51C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61C3-18B9-42AB-B8A9-4860DFE1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1DC-B03A-4EF2-BAF9-17106CB9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E032-6CF9-44BD-B2CF-92A3218B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F0C7-130C-4386-83EB-E2EDFE35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90622-99B5-489F-81EF-6E40BE43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2E35-5E98-465E-B293-3EDBC3F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61F2-4950-4CCE-9D7B-059DBAA8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38996-0655-4042-B9E3-7621A6E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D3BD-7F11-4686-8610-4972B46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F470-2E50-48E3-935D-3CAB300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AC58D-BFF9-428A-9D81-C64C4DC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37F4-D2D7-4197-9507-A98635E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CDB-DDF1-451A-A73C-54F04728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2175-8D9B-43AF-A2FC-17B2865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6077-C026-4F75-B1BD-51458B88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CBD26-158C-4A81-B2C0-8523F89E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7269-6BFE-4A84-9CFB-944CE87C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43C9-C005-4D17-A5D8-FC693661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2B19F-E0F4-47A3-B7BC-D13781D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76C0-FA0E-4003-9215-8E011E3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7918A-1CB9-433F-81A6-A106B3F7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EFAD-EC68-4737-8ED3-111DA2E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38F80-CD60-4778-96E1-44FBFAC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891-EE05-4CD2-9A3F-EF121CB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8A68A-A729-4B7D-B733-DEB44107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3D57-916D-438F-936C-C686CF8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7A1C-F73F-4848-ACCD-49C45AF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9219-EBB4-408E-9E8F-9AB406A3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6A663-6303-4E30-BCD8-7122655E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DA20B-41C5-4CA2-BA87-93084C15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EE371-B294-4CCA-8818-BF39DF1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26A5-7362-4557-9364-87CCEE69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9231-485F-4CC5-80E4-D7DA9C54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3B95-02EC-4571-BE81-9DE1E06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CBD-5F53-4833-830D-D6F45EA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728A-7BA2-4FE1-B3EE-5B515EF0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31B5-E441-496E-A377-88EB41D4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09898-61B7-42C3-9893-AFB1F53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73F5F-DAC7-4454-BE99-4639F87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3E3C-0642-4941-8664-0D0CB350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3EE2D-CC1D-4E6C-8F96-ACC2A812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85FC6-7888-4457-A3F0-88657C37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BEDD5-C153-40A4-BECB-23C06EB8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D7B20-6420-49A5-90EE-75B762B6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76BC0-B74F-4D56-9653-6DE4AFC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SpectraLink, Cor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4AB6B9-F594-4125-A1D6-3E00149DDF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8098B3-15C4-47FE-90A8-67A1EBAB5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77DEA2-F285-4905-9B6E-8094B5F2DB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E72702-E5C7-43E8-8CEC-EAC5CD1C6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FA9E78-FD7C-4BF3-9EDC-1FC1141271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9E831A-27D4-4BAB-9C42-828BA35D2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AE1B06-D20C-49C0-AAB1-C06C494943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2F46C9-8577-4C8E-8FCA-01DA11642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F82EF8-F816-4945-B769-88246AC85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43423A-1CC4-48B9-8D37-8B81B1CBD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D7F431-B48D-426F-8F1A-187C912B6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642684-97FA-48CE-924B-5E24B2587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8/11-18-1017-00-0arc-wur-multi-ap-reference-model.vsd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ARC – January 201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eting slots: Tuesday PM2, Wednesday AM1, Thursday A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esd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78600" indent="-33912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activities relevant to 802.11: 802.1CQ, LAAP, Proxy IPv6 Neighbor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678600" indent="-339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588, 802.1AS (802.1ASrev) and use of 802.11 F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678600" indent="-339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BA liaison on MAC Address randomization follow-ups for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Gba (WUR) continued discussion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11-18/1017r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1-18/1020r5, 11-18/1494r2, 11-18/1641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MAC Addresses (and IPv6), “Multiple radios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 architecture views for common use scenari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 IETF DetNet/time-sensitive networking input (potential relationship to RTA TIG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is an ESS?”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-18/1051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es TGba discussion lead into other “split” PHYs (LC, 28 GHz (Phazr)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LME-RESET, versus MLME-JOIN and MLME-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/DS/Portal architecture and 802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91560" y="30636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543000" y="6475320"/>
            <a:ext cx="196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Hamilton, Ruckus/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07710C-9A8D-4A80-9D96-775A91CDA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8:20Z</dcterms:created>
  <dc:creator>Mark Hamilton</dc:creator>
  <dc:description/>
  <dc:language>en-US</dc:language>
  <cp:lastModifiedBy>Mark</cp:lastModifiedBy>
  <cp:lastPrinted>1998-02-10T13:28:06Z</cp:lastPrinted>
  <dcterms:modified xsi:type="dcterms:W3CDTF">2019-01-06T00:39:25Z</dcterms:modified>
  <cp:revision>144</cp:revision>
  <dc:subject/>
  <dc:title>ARC-snapshot</dc:title>
</cp:coreProperties>
</file>