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5721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2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662040" y="-115920"/>
            <a:ext cx="8287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6360" y="4422600"/>
            <a:ext cx="5149800" cy="4189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5435280" y="9013680"/>
            <a:ext cx="92700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270240" y="90136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1F3A37B-960D-4709-881F-3CF61B3FF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736560" y="90136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>
            <a:off x="733320" y="9012240"/>
            <a:ext cx="555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655560" y="297000"/>
            <a:ext cx="571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942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2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7808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893840" y="9013680"/>
            <a:ext cx="201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041640" y="90136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9A7CC59-0F11-4C3B-B9F6-17C106EAD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CB9-E28D-4889-8941-69246536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C4EA-B886-4E19-9741-347D3BA7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D76C-7070-41EB-A35D-F9AB1961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B631-F07F-4A0B-91E0-E7C47665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3EE8-4E59-404D-BF47-52C1C6D4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1A6F-AEC4-4FD3-A9A8-D98175DA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5D62-31B9-4C6F-A763-90FA42D0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4ED1-3F6A-4353-976B-85F0E343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19C7-89A1-4D29-B9DE-9452FD25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33B4-F0E8-4134-8825-F0D71842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D59E-E560-4F23-84AD-30931240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EBE-407F-4078-8B9C-94A2A0EE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5D3C-A11D-4B88-B6F7-1B2241F9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9B73-9410-48B6-BD33-AB1842FD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CB08-5530-46FF-A469-A7D5AF77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AFEB-2AFE-481B-A1C7-6C92C384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9A46-9517-464F-B343-AB49F011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2B8-C5BF-4E43-ACED-0A7C42C0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B87-4B5A-43D0-B39E-F640733B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379-D3EF-4FAE-9C3D-BD23B7FC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30E-BEB0-441D-8EFC-2168B852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A73E-7F7B-42A0-8E66-6CE0CB5F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6035-44C2-46CD-B9C2-A3994856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72F-DFB0-458D-9BE9-7DDED451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 (Int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95112B0-5509-4103-9778-6788E5B10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08040" y="3189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08040" y="3189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4800"/>
            <a:ext cx="11700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8077320" y="6474960"/>
            <a:ext cx="46656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 (Int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7D4DDC7-9EB5-4913-8173-9EFC5D5DD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1"/>
          <p:cNvSpPr/>
          <p:nvPr/>
        </p:nvSpPr>
        <p:spPr>
          <a:xfrm>
            <a:off x="700560" y="3366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2"/>
          <p:cNvSpPr/>
          <p:nvPr/>
        </p:nvSpPr>
        <p:spPr>
          <a:xfrm>
            <a:off x="7596360" y="6475320"/>
            <a:ext cx="1428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 (Int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DDC2FAB-C4E3-4781-A923-50BCB40B5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ax – May 201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520" y="15238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Approval of meeting and telecon minutes since March 2014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TGax election of TG Chair and TG Secretary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TG Timeline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Structure of the TG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TG document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Submission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da for this meeting is available  in document 11-14/0478r0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ruce Kraemer;Darwin Engwer</dc:creator>
  <dc:description/>
  <dc:language>en-US</dc:language>
  <cp:lastModifiedBy>o00903653</cp:lastModifiedBy>
  <cp:lastPrinted>1998-02-10T13:28:06Z</cp:lastPrinted>
  <dcterms:modified xsi:type="dcterms:W3CDTF">2014-04-28T18:17:49Z</dcterms:modified>
  <cp:revision>1846</cp:revision>
  <dc:subject/>
  <dc:title>IMT-AHC March 2008 Orlando Plen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10)O48q+nWDiKNAVXoAwq58w3RNJooHz1/JtoOwz4N1w0+ZL3X2+UduHozM/B+orrfRnAK3iVBu
M1qVfEUOs+2NzanCbkc4kPeGEjUIKcfwSkZ2VTEIW0+jsnReksVzZYcgKivcAK8Enx8RDsZy
sDu4EopBBm+9ZPHjLAXl4j+qa8dN+uCgHMfEL6AyPtJyug/KmihJ9QhfDm+OBx+Fr9Q7wewN
kwoKrAYbnscxcdaMRy</vt:lpwstr>
  </property>
  <property fmtid="{D5CDD505-2E9C-101B-9397-08002B2CF9AE}" pid="3" name="_ms_pID_7253431">
    <vt:lpwstr>pDynwwYeVAfuJm07l5BBB1gJOSyblYnNfLT4wKASKNV6C6kgoMoDQu
fVBvZ8QZJBuvlrTTE8AMdobU8rl35z4ZJoflddYRDx4XB6vI+iar2JQCA7qDSuq4AT7FS5Y5
sx308cVif8H/NFBi2qcNgcLVQ2If46LKttqLC1acDLCU6E1GUWjJt7TRE/C7c7r9QW9wp3X2
3Fe/c36f+sG8/+AxmbMs1bxl9oGuqb2xGtJ7</vt:lpwstr>
  </property>
  <property fmtid="{D5CDD505-2E9C-101B-9397-08002B2CF9AE}" pid="4" name="_ms_pID_7253431_00">
    <vt:lpwstr>_ms_pID_7253431</vt:lpwstr>
  </property>
  <property fmtid="{D5CDD505-2E9C-101B-9397-08002B2CF9AE}" pid="5" name="_ms_pID_7253432">
    <vt:lpwstr>orDeDww4ZerS6xb33d/pDRf4+uOdZOceGbqu
OSDaq0ijuTRYXtbktQMRWA5g8vSQIMTqlQGoHqGbN8sXNc0lygsy/1M7k/zm/92UAEMfy2IX
muS9o6c7+UWC3rgkevWHh2jAw444VCQqw9ibFkoEaLpUm2+6kqhfqYQh70A6bW+NWL73XQ+f
d9L2NducdUmDkJi/mOLRxmilqJq7bPMKW5skiUdDS+gidQ1z0Qg599</vt:lpwstr>
  </property>
  <property fmtid="{D5CDD505-2E9C-101B-9397-08002B2CF9AE}" pid="6" name="_ms_pID_7253432_00">
    <vt:lpwstr>_ms_pID_7253432</vt:lpwstr>
  </property>
  <property fmtid="{D5CDD505-2E9C-101B-9397-08002B2CF9AE}" pid="7" name="_ms_pID_7253433">
    <vt:lpwstr>iMd3r552CUfzuZmdZY
yqlZHfAuDu9iqhV56yDU4vSGBnG7aANuEd5EkKqorEdhk7hmVJesSjmp9AHFmbW35nbGiYzz
mYtQ0dxcolljPgOJp/Yee3daTWLdVbVQHN/H4jcblNNwJG41g+R6P7LKU90wBFkzHmYMgfSv
MuxektEi0aD45k4SYG/6206g4gs9FjuBtBtD40WvlHIxdeaS3IBAZqMpcOewPvG0KvnFF96G</vt:lpwstr>
  </property>
  <property fmtid="{D5CDD505-2E9C-101B-9397-08002B2CF9AE}" pid="8" name="_ms_pID_7253433_00">
    <vt:lpwstr>_ms_pID_7253433</vt:lpwstr>
  </property>
  <property fmtid="{D5CDD505-2E9C-101B-9397-08002B2CF9AE}" pid="9" name="_ms_pID_7253434">
    <vt:lpwstr>
Kog7mDVMvfETB2/2tFa2KXSO7jiock/ScK4B1tKRdd9aR9ZWfqnfiB3bjr9lNAEZB6fruK5n
VVYH9xC3W7wrH2d0nDQGHmDeNu6RQgq5gygN4A/loV+ZZPlU66cvtTmvxhM/7ZTikMn12FK4
zwEUaKAe7bdGXoEv+xWZRnid9Hd1kx4RyxyyoyDrXpWhnfq6KDJJ1Bweaj//MEIAkeajbfKj
YhFS2jZaCNNzEJRF</vt:lpwstr>
  </property>
  <property fmtid="{D5CDD505-2E9C-101B-9397-08002B2CF9AE}" pid="10" name="_ms_pID_7253434_00">
    <vt:lpwstr>_ms_pID_7253434</vt:lpwstr>
  </property>
  <property fmtid="{D5CDD505-2E9C-101B-9397-08002B2CF9AE}" pid="11" name="_ms_pID_7253435">
    <vt:lpwstr>nx3PZ2kJf2SxsokLmsywXgEms1JXejqWJw0y1rfrSf5xFj6l9fzXVoZ7
2MaR8YbgVZBnJVdJ3b3BPX4vks36C6EGIP1vJrxsR4Qq7uqxHh+ZdVBG9ACbPSqM3JqglCuw
9kMqcg2SyQ0+59kZ2oWniGmk9Suzr4ap9i6BKvKtK6EiYQEiwDSBdrlQAh02wWdpW9VGJVth
JM3ZsCXfv8bXkbnrgHUZFTS3j3yAhhyou5</vt:lpwstr>
  </property>
  <property fmtid="{D5CDD505-2E9C-101B-9397-08002B2CF9AE}" pid="12" name="_ms_pID_7253435_00">
    <vt:lpwstr>_ms_pID_7253435</vt:lpwstr>
  </property>
  <property fmtid="{D5CDD505-2E9C-101B-9397-08002B2CF9AE}" pid="13" name="_ms_pID_7253436">
    <vt:lpwstr>yEVayiVt4AMPrXWbam46ZLtgo76nfnEc0vQURr
fb/qzgFbqSMX3GRFTi1qJBS6XzXFrcgXu8x49zQI2h5RZTQNBeQ9j7cPaRmlXM3hHnnufDri
cePxX+ztnpb0iElUFU3EkzWtazvFNt4lo1L5Afp7JhkFX/EKoYbZf3cTRXzFCpKUIgLKGA7v
ln//eaJL1DlvXQThilkAvdj4U+zaPSkw1FRBprZ+T2Eutv6+4Dlv</vt:lpwstr>
  </property>
  <property fmtid="{D5CDD505-2E9C-101B-9397-08002B2CF9AE}" pid="14" name="_ms_pID_7253436_00">
    <vt:lpwstr>_ms_pID_7253436</vt:lpwstr>
  </property>
  <property fmtid="{D5CDD505-2E9C-101B-9397-08002B2CF9AE}" pid="15" name="_ms_pID_7253437">
    <vt:lpwstr>TZpRW+tnLAeX4kKAuEkZ
tM1Ot/irYvphCa3nnh9lC/2rN5bLufReJx6hVJH8Xh5eIDWlatZ/fW0u+P5y2Qm3sRJlg/qX
x3epkZ8A3FIY/vSBmHHirfHKaNkR3V6Fq7ANjSKynLt1m/ofaECB/1AccgC5mGu1xcT1Sa3b
AQgxm7bCkxyDf0PIOKV/RY5YnT9lrUsOtvIdmXZBqTQiJxT9Odjf4DRoVyBLk8tAD5mxSP</vt:lpwstr>
  </property>
  <property fmtid="{D5CDD505-2E9C-101B-9397-08002B2CF9AE}" pid="16" name="_ms_pID_7253437_00">
    <vt:lpwstr>_ms_pID_7253437</vt:lpwstr>
  </property>
  <property fmtid="{D5CDD505-2E9C-101B-9397-08002B2CF9AE}" pid="17" name="_ms_pID_7253438">
    <vt:lpwstr>vU
+9IOLjb0mMqTwg/CWkzxdeqoCRW4ROilHXg2fHA92SrPlzabsJXDzrjNhLOsl7GBh9Ke6cw8
j35GQ8L0sg5bV65M9FfZQ8k5+Oeq4aXRm8edLxQL7t8XiT6MyT73yn252CaMEFvneOsAFz+x
t79NnFRdxUyh/FFipKyCVRi+Z3yViSIGGHK3rkk7k5eRu8Duhwuga//h/v1APPDETIvHJ5Ia
Jm0ePw+s3cIX8+</vt:lpwstr>
  </property>
  <property fmtid="{D5CDD505-2E9C-101B-9397-08002B2CF9AE}" pid="18" name="_ms_pID_7253438_00">
    <vt:lpwstr>_ms_pID_7253438</vt:lpwstr>
  </property>
  <property fmtid="{D5CDD505-2E9C-101B-9397-08002B2CF9AE}" pid="19" name="_ms_pID_7253439">
    <vt:lpwstr>S2T8R00zoFpA5P4caP7uIIUbhZcEX09y7S1mSHUdsqKSyDpjI5gtY=</vt:lpwstr>
  </property>
  <property fmtid="{D5CDD505-2E9C-101B-9397-08002B2CF9AE}" pid="20" name="_ms_pID_7253439_00">
    <vt:lpwstr>_ms_pID_7253439</vt:lpwstr>
  </property>
  <property fmtid="{D5CDD505-2E9C-101B-9397-08002B2CF9AE}" pid="21" name="_ms_pID_725343_00">
    <vt:lpwstr>_ms_pID_725343</vt:lpwstr>
  </property>
  <property fmtid="{D5CDD505-2E9C-101B-9397-08002B2CF9AE}" pid="22" name="_new_ms_pID_72543">
    <vt:lpwstr>(3)JQnM7Exvi0rxdKjwk61TSmz37Kjc0SdvtgadtOIVJQX1BsPFnfuH5aL/ECxUGkHfejXpVvTT
dLrBd3CImhSNtLbn+AmeR9xn8bzJwuG3P7HuevAiKv/B6dljIzgPZsWlIm6qUv6xUBPrcfmt
q85QasCDNKze+H/EW0sCMTAt9BjR9YByqIkd7DdhiOwFtptaNIrDS8QJQWP6T4tpgexIDawi
8NjMtgphsMsbSi3KVo</vt:lpwstr>
  </property>
  <property fmtid="{D5CDD505-2E9C-101B-9397-08002B2CF9AE}" pid="23" name="_new_ms_pID_725431">
    <vt:lpwstr>UBtQ6UYDn2y+r+A12xeOCX+nQsAU3HwYLKb6gntzK+ZsyfwWevLwCv
goaGp5jRZVJf+zPU70FIR6FMjMU4ajSLHHQGXp1L/meF6VEi84PM/wkGgydEoa4XZG4msD+3
jlwL4Svc1i2WUXm4MV5roZ2UGn89PVxPbpXrBPIqG/b0ZJWfcgsu7gqx6JGh42dlavngv8E2
JutnC53rS9mqiT59EkDRqP2Zpc8KpmPh1ZfM</vt:lpwstr>
  </property>
  <property fmtid="{D5CDD505-2E9C-101B-9397-08002B2CF9AE}" pid="24" name="_new_ms_pID_725431_00">
    <vt:lpwstr>_new_ms_pID_725431</vt:lpwstr>
  </property>
  <property fmtid="{D5CDD505-2E9C-101B-9397-08002B2CF9AE}" pid="25" name="_new_ms_pID_725432">
    <vt:lpwstr>LCWl7jxjKlJaW6QziR9TkFyIDajmWEKQJmSi
RcbNGuctK1Di0Iq9s1sdu9wXZSGVoezZPukfJQaik6Cm10/seD4=</vt:lpwstr>
  </property>
  <property fmtid="{D5CDD505-2E9C-101B-9397-08002B2CF9AE}" pid="26" name="_new_ms_pID_725432_00">
    <vt:lpwstr>_new_ms_pID_725432</vt:lpwstr>
  </property>
  <property fmtid="{D5CDD505-2E9C-101B-9397-08002B2CF9AE}" pid="27" name="_new_ms_pID_72543_00">
    <vt:lpwstr>_new_ms_pID_72543</vt:lpwstr>
  </property>
  <property fmtid="{D5CDD505-2E9C-101B-9397-08002B2CF9AE}" pid="28" name="sflag">
    <vt:lpwstr>1398708940</vt:lpwstr>
  </property>
</Properties>
</file>