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15BF5E-008F-4E89-8ED3-14CD2357A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35F45E-FC27-4738-90E6-F02C9066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FF2-D7A7-47D6-86AD-391D81F1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36F-77E9-4862-B287-6D9F876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1E353-F867-415C-B7E8-803CF70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7910A-1F15-4B98-AA2C-C250CED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3A1E8-C80D-4778-A399-3F3F8EA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C04E-735E-460F-9FCB-D8990D2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A2C55-7218-431D-A735-B5DE84F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9CA2-223A-4DE6-BAD1-B360C3A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2716F-924B-411F-A92C-A624AE66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23AD-50D5-4E47-ACD2-9C7DAB2E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F53FD-C6A9-4DB0-B3A5-DCB586BB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C652-0D67-42B3-BF5C-181EA4E6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6F4-EA6C-4F63-BA2B-E1BCF7DC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9A7F0-9768-4773-BF64-03F06B4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9D09B-7456-45CB-A9D6-1614714D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0D087-FB38-4A62-B790-0561D6D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CD6A-492B-4045-8300-302588C4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BA1DA-E924-44AA-88A6-B49F7C5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87109-37E2-4BC1-AF4A-FB7607A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5B970-0BC0-4C84-AE0E-F2CFF7C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B4FD0-80BD-4BBF-87DE-611DD7A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8C8A7-2D90-42A2-B7C3-F88DB3C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4C0AD-E106-43AC-A942-14896AAD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AD6-9C73-4252-9B5A-CB8A9D57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095D-A3AE-4059-9D91-BD3FC277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E0D2A-A16A-4BF5-A37F-5F208739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262C-96D6-4DD2-AB02-C44704B3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627D-9FE2-4830-8761-C7A2286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0469D-09D0-45A3-977D-6936142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612AE-81D7-4860-821F-0ED2119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F6B71-8E6C-4EC6-8CB9-7A61917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9AA2-0A25-4FAE-841A-F406ABA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C2038-9116-4A54-B813-0A39184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BABD-FDE0-4983-AEBD-A8EF7C5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19B5E-5E58-4940-B150-71FE67FA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A1654-EF33-48BC-94A3-FD36B47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3BC0-28C8-487D-B07F-B21923C4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2D29-D8C8-4FAC-B51A-08508EA3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0AEF4-67B1-4657-A83B-3C8EF6D8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5922B-3231-4A63-8E3B-A243262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CED1C-21FF-4B72-B078-73CC64E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AD0BF-53DA-4B41-A9F5-21B471B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25F71-61DC-4066-A18F-B6B32BE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0E8F-D7B0-4AB3-86C4-6A4EC20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F698-57C7-422A-93CF-C0CD554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263AA-5F9B-4960-B84A-AE8A37C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33C24-EEAE-4553-9428-AE26A21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62140-5C5E-419D-B713-4C234A0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998FC-DA17-4FF9-8F55-D5E44895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84E19-7F67-486E-B4BE-168754B2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0572-B785-4495-98C2-06FEB762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796FE-0181-4A1C-AB49-2452DFC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079DD-407C-4864-9A11-E19E499A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B354-4DA7-45AF-9831-1A01B32E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9D4D-4609-4CF2-BC1B-4911E3C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EE16-74F8-4646-A396-0C7F773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006-1387-48EB-AB34-FD18686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1501-4347-4B61-95B2-158A19E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D51FE-8A8E-4DCB-9ACC-6B16BA6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8A26A-BFD6-41A2-BDA0-BA57A1D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79AAC-71FD-42FB-A195-392B1E95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139BC-E7A5-4FCB-BD3F-F262294B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4B33-D74A-449B-BB22-4C80FE34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E88C-26C0-4F1D-88F5-FB2BA7A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37EC-147F-4376-8581-23F819E6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5FE5-91BA-4D1C-9B0F-EC01E7CB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1B70-ECEC-4724-AF0E-8A3C10A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F6A-59E9-42DA-B024-445B359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FAE0-BA96-437C-8927-08E0D41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44DC-C185-4D7A-8C04-A2A1EE8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5314-62F4-488A-B6E6-BBCA044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494D-9DD8-41C9-8F0D-6E280F9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093C-1A05-4A13-A812-7463EDCC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0763-E78A-4F45-BD34-A76B4215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0E7B-8432-4E6D-ADCD-D55841D5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AB26-F1B2-4803-B8DC-A8E623B3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3861-BEC2-48A3-B7C1-024DA68A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715A-83E4-4D17-B49C-6907BA5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D1A-AE37-4EDA-9E86-BCF14DD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14E3-28D9-4EE0-9A43-4EE81175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7964-1C3A-4E3E-930C-87C7F20D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B00A-D3D3-43F4-953C-F2E9166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93F5-06FE-4CCF-9EC8-BF4565B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41AE-8F7A-4B43-8BBB-FC26686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0FA6-E200-4314-917D-F75607B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A789-3C25-4499-9061-F98517A6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737A-6C32-4F0B-91AD-7FC01E1A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9B0D-3EAC-40E2-9EDA-4BC275F7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B460-5BFC-42F4-A33B-2F2A9676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6E3-4B59-4C94-A5BC-C4CA997F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8498-EB35-4D64-AC80-31AD235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9E28-B8E7-4B2C-A195-E269F129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5118-B3AD-4327-A719-BB34BE1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D0CF5-7A90-453D-8601-AC23A60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0B40-8B3D-4BB5-B477-1BE42222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4AE0-3B8F-4F9F-9062-473A47B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D681-548F-44D4-891A-AF60671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3EF4-0520-4C55-BA0D-4D310FA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C5E2-0F6C-4E2D-AB24-64096AFA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CA5C-D979-46A9-96AE-B6C8446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358-3CE5-41A1-B52C-E6589F26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B7C5-1E70-42FC-9A3B-99CA4F01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C3999-0545-44E4-A254-C946E9F0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78D0-3478-49AC-AC6E-7DAAED88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627E-8574-4C1B-AF5B-3D868E3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2598-457E-4010-B147-949B3E36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6312-FE38-4E47-BDFA-C2D756C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57913-6A1E-4645-9566-09E873A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699D-5AEA-400A-AEB0-DA697EA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8310-733C-45BF-A3BC-7F5715F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0CA4-FF76-4941-8DC3-C76CEC3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3EC-5598-485D-B93A-2817675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B7FF-0D7A-445F-82F6-9A823210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C2C8-F443-45D6-8CDB-E0C97773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F712-5EE7-4AC7-818A-AEC76D2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2B66-E6B4-497B-9022-23548E11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0B1D1-52D5-451F-AF0E-B7043A8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DC72-1ACC-4D4C-87E4-D51FE91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C193-EF55-45E9-B9DF-5E187483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D73C-6740-4D35-8FD7-C776237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F780D-7363-44C5-932B-CA4D6EE5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A1BE-2996-48A8-8AF9-0681B33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BDF-9BD2-423C-9896-8234369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2BCF-221B-4A70-82A6-5B0A34A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8181-9A11-4F8A-896B-A4E6111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9B3F-F2C6-406E-976D-A42F5BA5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A8FB-7253-4CD1-961D-CA473D3D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D33B-D450-4016-9131-8C3357CD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A035D-4018-4B5D-85B0-90325E8B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8A6F6-2EF4-4CD7-B3A3-E88173C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26D2-17A7-4CEB-8BDA-A2A5A798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DFDF-A8E9-446E-BB87-D509279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BBDE-A954-48C3-AD84-EF42073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A5C-1A22-41DB-80FA-B6EC627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C34EF-1F70-4ACE-8330-7CBA8E7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2567-DC79-498F-847A-BF8FD20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1DF5-23D1-4F4E-8895-A9E7E7F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FD19-1470-4E6F-9CB4-F3B6AC1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06B6-CA02-4E66-A113-FE0FA3E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0495-9756-42F1-A406-0C8122B0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3E82-3E05-435A-B44E-4F7EA99E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94053-F63C-4A9C-B566-B6E6D3A0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E1750-4AD6-47C7-B7C5-25FA35FA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CF03-A1F8-4DB6-9735-2C88DED7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7E0A39-E97B-469E-AB98-A779F6412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D5ACB9-B202-4613-8171-49BD6B205F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DFE60E-D2E8-4A8F-928A-7C00659832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D3EC53-A45D-44BA-AEDE-E4CC0696A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B6C71A-A022-47F7-9B94-CFBEF19F8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22C1FC-6A1C-4FD8-9FE5-AF5EE09CF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CFA5E6-FD89-49BF-93D1-2EAD97A0AA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07B507-8E8D-41D2-871E-CAE2E2D3F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D488E1-4D1A-4EF2-A968-3FA008EB9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62C854-3ED5-4F2C-B1D4-CC076DA0D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9DF4B2-DABA-4EF9-9920-17ABB888A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699335-4E67-4C03-91E5-B9F27F633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FCB8F7-47E9-4AB3-99FB-4C71B6FB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TG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771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Gbb will discu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rove minutes from the telecon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ion Framework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r PHY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erence call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x (6) meeting slots for the May 2019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n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2, 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ue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d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1, 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ur 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M1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osed Agenda in doc. 11-19/0614r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Nikola Serafimovski</dc:creator>
  <dc:description/>
  <cp:keywords>Aug. 2018</cp:keywords>
  <dc:language>en-US</dc:language>
  <cp:lastModifiedBy>Serafimovski, Nikola</cp:lastModifiedBy>
  <cp:lastPrinted>2014-11-04T15:04:57Z</cp:lastPrinted>
  <dcterms:modified xsi:type="dcterms:W3CDTF">2019-05-06T13:02:28Z</dcterms:modified>
  <cp:revision>3794</cp:revision>
  <dc:subject>Task Group AY November 2015 Meeting Agenda</dc:subject>
  <dc:title>11-16/1584r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3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4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5" name="_ms_pID_72534310_00">
    <vt:lpwstr>_ms_pID_72534310</vt:lpwstr>
  </property>
  <property fmtid="{D5CDD505-2E9C-101B-9397-08002B2CF9AE}" pid="6" name="_ms_pID_72534311">
    <vt:lpwstr>w8PjNg==</vt:lpwstr>
  </property>
  <property fmtid="{D5CDD505-2E9C-101B-9397-08002B2CF9AE}" pid="7" name="_ms_pID_72534311_00">
    <vt:lpwstr>_ms_pID_72534311</vt:lpwstr>
  </property>
  <property fmtid="{D5CDD505-2E9C-101B-9397-08002B2CF9AE}" pid="8" name="_ms_pID_7253431_00">
    <vt:lpwstr>_ms_pID_7253431</vt:lpwstr>
  </property>
  <property fmtid="{D5CDD505-2E9C-101B-9397-08002B2CF9AE}" pid="9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0" name="_ms_pID_7253432_00">
    <vt:lpwstr>_ms_pID_7253432</vt:lpwstr>
  </property>
  <property fmtid="{D5CDD505-2E9C-101B-9397-08002B2CF9AE}" pid="11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2" name="_ms_pID_7253433_00">
    <vt:lpwstr>_ms_pID_7253433</vt:lpwstr>
  </property>
  <property fmtid="{D5CDD505-2E9C-101B-9397-08002B2CF9AE}" pid="13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4" name="_ms_pID_7253434_00">
    <vt:lpwstr>_ms_pID_7253434</vt:lpwstr>
  </property>
  <property fmtid="{D5CDD505-2E9C-101B-9397-08002B2CF9AE}" pid="15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6" name="_ms_pID_7253435_00">
    <vt:lpwstr>_ms_pID_7253435</vt:lpwstr>
  </property>
  <property fmtid="{D5CDD505-2E9C-101B-9397-08002B2CF9AE}" pid="17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18" name="_ms_pID_7253436_00">
    <vt:lpwstr>_ms_pID_7253436</vt:lpwstr>
  </property>
  <property fmtid="{D5CDD505-2E9C-101B-9397-08002B2CF9AE}" pid="19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0" name="_ms_pID_7253437_00">
    <vt:lpwstr>_ms_pID_7253437</vt:lpwstr>
  </property>
  <property fmtid="{D5CDD505-2E9C-101B-9397-08002B2CF9AE}" pid="21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2" name="_ms_pID_7253438_00">
    <vt:lpwstr>_ms_pID_7253438</vt:lpwstr>
  </property>
  <property fmtid="{D5CDD505-2E9C-101B-9397-08002B2CF9AE}" pid="23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4" name="_ms_pID_7253439_00">
    <vt:lpwstr>_ms_pID_7253439</vt:lpwstr>
  </property>
  <property fmtid="{D5CDD505-2E9C-101B-9397-08002B2CF9AE}" pid="25" name="_ms_pID_725343_00">
    <vt:lpwstr>_ms_pID_725343</vt:lpwstr>
  </property>
  <property fmtid="{D5CDD505-2E9C-101B-9397-08002B2CF9AE}" pid="26" name="sflag">
    <vt:lpwstr>1431634268</vt:lpwstr>
  </property>
</Properties>
</file>