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B9507E-06D5-452F-B687-BDEFF7D17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7ABCAC-CDD2-4742-A933-158ECCA0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A44-9360-4B0A-A44B-B00C30E5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B35-A19A-470A-9541-E9B1D3C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C6DA2-BF50-4DB1-9363-F5F5A919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D5BB-496E-4200-B384-004921A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2CB89-FAB8-4693-8138-62D0C61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1576D-E6B5-4F6B-8D8D-BBC053C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3B6C5-190B-407E-AF3B-CA169D4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833CC-202A-4773-AF87-C06E084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DDFE-D58D-42C2-AF2C-AAF38E0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6725-C9D9-49AD-8C3D-29501FC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568B5-7A1C-4B85-88C2-E61C470D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3FB7-F5FD-4E96-89BF-EC31DD83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2CF-26CF-4C13-8DC0-771FEE41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A1282-9D8F-4AEB-A655-D0C2DCA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ECACC-E680-4153-8ADF-DCB12D4D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8623-9926-481B-A79A-7BA80A3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788A4-B959-467E-93F1-FF460C2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35E9-2DB2-4641-A5AC-BBAC0C1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227D-9394-4D4F-9122-B4483BE2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64B1E-3FB5-4608-B152-7C37512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34ED5-AF00-4BF3-A166-B0058FB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47FD-46F0-447B-91FE-7CAE552A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4453E-A051-4F32-9576-4885610F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A95-C14D-4328-9DEA-14E4226A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5EDE-509F-44E3-8052-F5B64831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D8D91-16B7-4483-9B1A-DD0524C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E1696-1853-4313-A8DF-85C10B6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A17A1-63D2-4EB2-9367-59AB5EC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690F-BE94-468D-89D8-A52F9DA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61978-E089-4639-87E9-7AD6FF74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7BDDE-B1ED-428B-AF51-9727EFB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22D05-2FBF-4219-B991-D942B8F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972A-5553-456A-BBDB-28C24D3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E0D3-3A44-4629-A092-008AEF1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77C20-3275-4512-8CAD-D88ACFFB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73DB-D721-4276-B0D0-1AD2C12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49A44-F4C6-456C-BDEF-1615C137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114BF-E74A-4215-A649-683105DC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74802-32C2-4352-94F7-E18FDD46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1AE13-B172-460A-B06E-49A7F5C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C824D-9372-4BC3-AA08-FEF85714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C746-B61F-44C6-A635-608B1F21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18149-4390-497B-9571-55A755EB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629E0-8F11-4340-B42B-2A672D7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915D1-B08B-4588-A0A5-41E3DF8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D557E-996E-40D9-988C-81A30F8D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621CF-0D35-4F2F-AC15-EDD4B88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72FBD-F580-4D38-A527-36F28C5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E6FC3-0B31-4C1A-9F11-CDF0F67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BB66A-D7EE-4F2D-8FAB-7A575DF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677D9-C2E0-4648-AB8E-263A6C2C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5B08A-1705-4C5E-A26D-7357F13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29E2F-E8BE-4267-8D4E-0B1F2BDC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0F2A4-4125-429A-9709-D8AF4B9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56533-AD39-419B-89D2-C725B0B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9A1B6-C8CA-43DA-8436-BDDEE56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069-A006-486A-800B-6CB854D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906DD-A006-4B18-91DA-E6160DF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8C60-C42B-4284-A615-C66E62E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B6153-7831-4D9B-ADF0-62E8E019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7068F-D9E8-45E6-9E49-E3E8D2E8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85E4C-D482-40F1-8B97-82F69C0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0377-56D3-415B-B824-B56389FE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443A-0A7B-4C7C-B228-1105B7D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96AE-9DA6-48A5-98B8-52AF08B8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DDD4-4B7B-4844-9819-6CADF51F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65DC-D967-4DFA-BBD6-0AA9BF7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A8E-3794-45D1-9260-4155F18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6875-A3E3-4E81-8CF6-722B2EE5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0351-5E66-46C4-A4D1-6202531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5619-D326-40D2-A060-E43BD2F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F1EF-07FD-4214-B5DE-6E02D5D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0A52-05BB-42D9-94B2-D36FFA6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C971-E23F-43B9-A4E6-A5A202C2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8224-D407-4452-8B1D-56A9F92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0724-CB8F-4FE7-A8AF-13145186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4837-8D78-47EF-B456-3873275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F3F5-2BC8-4672-B5D4-15F19B4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286-85CD-4CC6-B8EF-5E97C8B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9508-4D43-47D1-941E-905BE4D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094A-B9F9-4767-9FCB-3316D36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636C-D0DF-4C02-B959-0495DF6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58E0-C9B0-4704-A6E2-39CA2A6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6A0A-A307-400A-AF53-486B108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A95B-1827-4BD3-9510-AA23F03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09A5-42CC-44F5-BABB-13264FD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605F-E629-40D6-AF50-A5E89947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5F87-A3AB-4EEB-90EA-C549C272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C7C01-92A2-4EAD-B916-9575B62A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D5A-974C-4FA3-A237-AD87647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F6B8-776A-4D5D-BDC7-3FDF49A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C5C6-0754-4034-8F04-A25D829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8550-9DD0-4F0F-83E4-5840AD5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AC35-C009-4A6E-A326-E65FCB8D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A8F5-F6C9-4557-B94D-C0F940D9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2F79-6A6D-4AF6-949C-DE67633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2CBD-E8E5-4F5A-82A4-FA4C44D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6D9A-41E1-40F3-8ABD-C475B7A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5280-225A-418D-95EC-B0972E83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BA88-5F5F-46CE-849A-F1C408DF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9AF-6842-4863-BF20-05AE76D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792A-B938-45FC-A9F0-CD0E48CB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4648-41E2-416A-8732-B5080DDE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1A3D-32E6-4F48-9BB3-A0E5CAC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16AF-7B5D-41C4-AF2D-0BBE69F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CF62-9500-422B-B66E-B4E41C1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B5AE-1394-429E-B37B-59E6DD3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E2406-33B3-4447-B2DE-756257EA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C3E2-4B34-4EE0-9D0F-0B601DD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F7883-7B1A-4BA8-88BA-67CD152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49A32-7478-4569-A2CA-9D2B51E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831-01D2-4661-A66A-0A213088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F35F-F848-4571-B1C0-8D1CDC78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6F9B-1E79-4AC7-B395-DD25A3DD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A24AA-8305-45A7-B171-E236B7CD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3AF9E-80B8-4484-984B-4A79D6CF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E7A7C-8063-4DD6-9414-EB092372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BFD8-0792-4F00-BCDC-CDA264BB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839A-E8C7-4103-B97C-73420D7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08D7-51A8-40BE-8AA2-83A490A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7161-FF11-49B4-A681-F470654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6DAE8-5EF9-46A9-99D4-7420A23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F50-C7A0-41C2-A3DC-FEA5143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C607E-8CAC-4DAA-81BB-0DF58D4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B1781-2CB1-4148-AB1D-0BD4460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DC8B-73F5-41C1-BDCA-C01B8350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E2AC-56B7-4BEA-A738-62FF3B4B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4A42-699A-4724-999F-76B9DC6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DC1E-4F00-453F-8736-7708FAED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285C-7AA9-4EA1-B675-849EA14C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4034-0869-4B0C-BB98-7EEBD7B6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4453-4F55-49CF-AA9D-864E687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3136-6C24-4549-9FF6-04941D5B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749-4AFF-4794-9F3A-5791CDC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AF13C-0B42-445F-8F4C-C3D7AD0A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6F798-2DBD-448C-80CB-6186F19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85F4-7ED5-4CA3-9410-E533F14B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70D9-FE2B-4567-B7B9-2B2D3B4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457A2-0142-4FC3-9864-58E3265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34C8-8C7A-47F1-9A2F-2BC27F85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3E11-75E1-4EF8-BF4A-D0C7DA51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4031-D366-4EC6-8F91-F835529C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31BB-67BA-4DEA-A5F3-9F5E0C05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5A75C-DDD3-49EC-ABC4-F1B2DB93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BE5263-3A57-4D7F-9191-9DDE99CE8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55CFD7-D7E1-4DED-9979-BD80D1CFFE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92929C-21E4-4F65-9D7B-A1081F5F00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04B493-D088-48A7-B8BF-2C677590F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166E38-58B9-4624-BC0E-3789AD23B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01553F-3DBE-4CCC-8920-D36C59D5A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EF9C5A-22C7-4D17-9C5B-34CD54343E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E73270-E56D-441D-82A8-38E013642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52FA46-8A43-451A-A304-7D64C31452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4F9330-0660-4C52-9952-19D5511F6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B20D61-258E-4999-892E-BCE318EA91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09680" y="306360"/>
            <a:ext cx="34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D616A1-5F64-4636-A15B-0D36B1B603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32E891-FEA3-48C2-B6FD-AD4D117D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TG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771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Gbb will discu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rove minutes from the telecon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ion Framework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r PHY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erence call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x (6) meeting slots for the May 2019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n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2, 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ue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d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1, PM2;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ur 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M1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osed Agenda in doc. 11-19/0614r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ola Serafimovski (pureLiF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Nikola Serafimovski</dc:creator>
  <dc:description/>
  <cp:keywords>Aug. 2018</cp:keywords>
  <dc:language>en-US</dc:language>
  <cp:lastModifiedBy>Serafimovski, Nikola</cp:lastModifiedBy>
  <cp:lastPrinted>2014-11-04T15:04:57Z</cp:lastPrinted>
  <dcterms:modified xsi:type="dcterms:W3CDTF">2019-05-06T13:02:28Z</dcterms:modified>
  <cp:revision>3794</cp:revision>
  <dc:subject>Task Group AY November 2015 Meeting Agenda</dc:subject>
  <dc:title>11-16/1584r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3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4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5" name="_ms_pID_72534310_00">
    <vt:lpwstr>_ms_pID_72534310</vt:lpwstr>
  </property>
  <property fmtid="{D5CDD505-2E9C-101B-9397-08002B2CF9AE}" pid="6" name="_ms_pID_72534311">
    <vt:lpwstr>w8PjNg==</vt:lpwstr>
  </property>
  <property fmtid="{D5CDD505-2E9C-101B-9397-08002B2CF9AE}" pid="7" name="_ms_pID_72534311_00">
    <vt:lpwstr>_ms_pID_72534311</vt:lpwstr>
  </property>
  <property fmtid="{D5CDD505-2E9C-101B-9397-08002B2CF9AE}" pid="8" name="_ms_pID_7253431_00">
    <vt:lpwstr>_ms_pID_7253431</vt:lpwstr>
  </property>
  <property fmtid="{D5CDD505-2E9C-101B-9397-08002B2CF9AE}" pid="9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0" name="_ms_pID_7253432_00">
    <vt:lpwstr>_ms_pID_7253432</vt:lpwstr>
  </property>
  <property fmtid="{D5CDD505-2E9C-101B-9397-08002B2CF9AE}" pid="11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2" name="_ms_pID_7253433_00">
    <vt:lpwstr>_ms_pID_7253433</vt:lpwstr>
  </property>
  <property fmtid="{D5CDD505-2E9C-101B-9397-08002B2CF9AE}" pid="13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4" name="_ms_pID_7253434_00">
    <vt:lpwstr>_ms_pID_7253434</vt:lpwstr>
  </property>
  <property fmtid="{D5CDD505-2E9C-101B-9397-08002B2CF9AE}" pid="15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6" name="_ms_pID_7253435_00">
    <vt:lpwstr>_ms_pID_7253435</vt:lpwstr>
  </property>
  <property fmtid="{D5CDD505-2E9C-101B-9397-08002B2CF9AE}" pid="17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18" name="_ms_pID_7253436_00">
    <vt:lpwstr>_ms_pID_7253436</vt:lpwstr>
  </property>
  <property fmtid="{D5CDD505-2E9C-101B-9397-08002B2CF9AE}" pid="19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0" name="_ms_pID_7253437_00">
    <vt:lpwstr>_ms_pID_7253437</vt:lpwstr>
  </property>
  <property fmtid="{D5CDD505-2E9C-101B-9397-08002B2CF9AE}" pid="21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2" name="_ms_pID_7253438_00">
    <vt:lpwstr>_ms_pID_7253438</vt:lpwstr>
  </property>
  <property fmtid="{D5CDD505-2E9C-101B-9397-08002B2CF9AE}" pid="23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4" name="_ms_pID_7253439_00">
    <vt:lpwstr>_ms_pID_7253439</vt:lpwstr>
  </property>
  <property fmtid="{D5CDD505-2E9C-101B-9397-08002B2CF9AE}" pid="25" name="_ms_pID_725343_00">
    <vt:lpwstr>_ms_pID_725343</vt:lpwstr>
  </property>
  <property fmtid="{D5CDD505-2E9C-101B-9397-08002B2CF9AE}" pid="26" name="sflag">
    <vt:lpwstr>1431634268</vt:lpwstr>
  </property>
</Properties>
</file>