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3455640" y="97200"/>
            <a:ext cx="282564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92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4120" y="97200"/>
            <a:ext cx="30780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166920" y="8984880"/>
            <a:ext cx="31147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0F41F26-006E-42BD-9354-300FB5FCD2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92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278B92E-664C-49FF-917C-A37B7B075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92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9363C62-3C08-418E-9BE7-AF3E4005C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F94F864-CB7F-4E3F-8531-014AB6041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E076BB5-6683-4FFE-8F5A-50D7066AB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300320" y="806400"/>
            <a:ext cx="4333680" cy="32511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23400" y="4422600"/>
            <a:ext cx="5086440" cy="41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18262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"/>
          <p:cNvSpPr/>
          <p:nvPr/>
        </p:nvSpPr>
        <p:spPr>
          <a:xfrm>
            <a:off x="543960" y="97560"/>
            <a:ext cx="22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9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92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45468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4498200" y="8985240"/>
            <a:ext cx="26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D4721A9-D244-4769-B822-AA004B7FA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069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4859280" y="8985240"/>
            <a:ext cx="19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322DAB8-F290-4976-B0FB-24C9CDDC5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DFDC-4E15-4B42-BD06-112E9353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445A-254F-4A10-91A8-91E61578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95142-956C-4B86-A36B-6C941161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56B2C-73FC-4B74-AA34-8906BB36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06204-2274-432B-A5F4-FEFCBC80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70868-D19B-4A67-B950-A69498D3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83CC9-C658-4F7A-BB6E-6A9934B1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3F355-35CB-4727-82D2-67E7240D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381AC-70A3-4E67-9833-CAAFF5BF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0739C-DD6D-41C9-9E36-3F55494E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99AB1-13E9-4D5C-891B-794B866F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633AE-F11A-4F83-A763-A3A1E216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10F4-3BDD-4129-9E7B-D775D07A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A8619-0068-465A-9A74-DAF6F3A9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A7F4C-3C92-4B1F-9E19-C4F506EE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A6322-BC9E-4483-9B82-058F3FE8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005CB-CBDF-4D89-9024-FAAF6262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22A77-E34C-4427-80CE-538FDD77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FFEBF-3A0A-4611-904A-7A05E915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A970F-7768-4BD3-93B2-79B0CE17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F61EC-C1E2-43C8-A49E-3028AD99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4A784-4490-41C3-A6F3-2A14D644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75DDB-843A-40E5-91E6-F9B00362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6A81-64FC-4598-951B-47570E47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3CA08-CFAD-4570-B975-F51439D2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9E346-5CF3-42EE-9948-B51238A9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472CE-91B1-436B-960D-D2599B53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A7150-6B0D-451E-916D-E41C5B02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29FA2-F9C6-4F95-ADF2-D0E91B6A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97C9A-4A16-4EF2-9331-B09EE2E2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177F4-09E0-4BE0-A8BF-DAE3069A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0CC02-EEB0-4ECC-A7DA-00FAEBC2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7E68B-77F4-4BD8-BADE-D1C7A9CF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4BDD5-954A-473E-AF9F-2F246D87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622E-76B9-46C9-94ED-A6D91F27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C8D21-1FB6-4BE4-89B4-8C97E224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E05F3-6B3A-42E2-ABAC-36B0D61E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A20A1-BC0A-4FC4-91A4-FAA8CA22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2D387-55AB-420E-9C77-5EA4A3E9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171EF-A881-457C-B557-AA8D3431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524C8-7E2F-405E-8D04-688B5786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E85B2-F017-4A15-A1B0-25ACB139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8F214-29B6-4C80-A8C6-737C0C67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1480B-3AA1-45EB-969D-25C96892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51F47C-8601-4CF3-B4A5-FCF9E8EF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28AD-DC6A-4D22-BA9F-878FA066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32839-6936-4BE3-A9D5-9130ED3C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D42F3-F036-4364-9779-D1E6E9F8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62A00-EBCF-4CE2-B16F-C55D4765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9D009-D5C5-486B-AC5E-D420AF9D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7093F-481E-4786-9993-4F084CE8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1A70-7136-43C2-AEF5-E189EB20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9300-B5B6-4FFB-B59D-FFF23886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2564-AC74-45A3-A912-F4AF38D9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39E1-3B21-48D5-82F8-04C12278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8574-E806-422B-9DCB-F2B96857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780F-CA6D-42F4-A454-4C8C153F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9C2C-E512-4442-A329-78C4E65A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8239-4F58-4382-8874-894B0386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DDB3-0DC2-4A10-80EA-E39AB8B6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9AB4-8896-47B8-92BF-B6E9B0A5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AB61-F89D-4225-9CCC-81E034DA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F5478-1535-4288-96DD-E6CB4C0C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5712A-C3C6-4AD0-86D2-8FFE6EE9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60A37-FE33-4FEA-AEAE-CF8458AD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BCB52-BAED-442D-93EA-C99150C9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29ED6-2E09-4690-A99F-999C180B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25D7-6056-4E33-9906-6462A3A4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69BA1-A89A-4D1B-BEBC-7A323BDA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DEDF5-3D1F-4829-8EB4-8470A681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8B4AB-EFA5-4971-A6F2-90CB9F99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B2475-117C-484F-AC9F-401327AD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DF0C6-7130-4B2E-B09C-2D6EB757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8C1C3-047F-438C-A753-F4245712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781BC-19BE-4C91-950D-780540A6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45D00-9A28-49EC-88A5-2D55D0CE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8A45E-9810-4F4F-880B-BFD78B58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5D6CC-071E-41C9-BA7F-C92B2D23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27A5-36D2-46BF-9C6A-9332C3DE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CD820-38BD-41A7-9FBC-7768F5CE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7B75E-F766-4F37-AD56-786FFD0B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C3458-E9A0-4513-B52C-1AEF4FD0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18D9A-DDB2-4E8E-8925-D9DB9D84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0536E-4ED0-4EE7-BE20-2E03B81C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68865-AE0E-43C9-9ED7-CA224D58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3B575-0834-47BA-AC40-65159567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92152-EB01-462C-9DE2-52DBE473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0FAAC-7C9F-418B-A828-0D33808B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25289-A9DF-4800-BEC5-337BA09A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DA86-0E15-4AFA-B288-D97D7E95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D9195-993F-4D9C-BCF2-4C1336D1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BA1F3-C493-4386-B570-B2D5A798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7CECD-81CA-4CF4-96DB-DB7272CC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68B35-7BDA-49DF-82A1-03C4916B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36656-C1B6-4B57-ADD6-07FAE661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82B87-DD63-4E9A-BB60-D7E927E3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FB34C-1FBB-425E-8341-85BAAEA1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4E08F-1997-4AD6-B56F-D35D3788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9968F-FA92-432D-9858-AD626408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FF818-7941-47EA-8DA8-39B8F5F4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4490-19AC-4662-968E-1CCF4671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187F4-A738-4EA9-BE40-358C5C93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FA974-929B-4203-82EB-265D1FD8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FC639-8163-4010-9B87-354151D3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3A4D6-DBEF-4A1C-BE9A-B73F0DDC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9D765-1C0D-47A7-84FE-42373E63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4966E-30BD-4474-8696-77F2360A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2D919-DCF4-4346-9538-E9E301D8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24ABB-E867-4A3A-B7B4-1BAC83F2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917C0-940B-4DB6-AB5E-76ED06EF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C1665-B765-4C8C-89C0-3325ED42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3A59-EEBB-4376-BC0C-73D88B7E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849E9-A670-4BB9-ABC9-6CCBC0CC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4DE12-2B64-4B99-9280-18C7523E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7E549-BD90-47A6-890F-F6FF0816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3FA5D-85FE-4CF1-817F-44B843CB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C10FE-1052-4439-ACB2-EB8B90A8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31CA8-1AEE-4183-B4B1-5A0F5CD6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AC32F-6BE4-41E0-ABFB-98A50994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E0DF1-1B01-4407-B5E0-4C0E935F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C2256-C010-42A0-934A-C02F04A3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0CEE1-A833-4D18-932A-1C93F6E3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F4DE-A7AF-4F38-8DB7-EC742DDE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C33D5-5881-4DCA-9D00-9CE20A4F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06728-990E-4DA4-9C69-7A50D162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41931-8A5A-40E3-B300-B303F1CF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3467D-D557-43A6-9639-4F20764E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B63F8-E232-4475-8BB6-ACD256C14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1C8CB-5DFC-4D88-B1E8-FEF1F59C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33330-80C2-4DA1-8114-8DF73E58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0C1AD-CF45-4B2D-A3EA-AA670050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09171-D876-4DD8-8EBB-1043CA3D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346C1-E1C2-4CEF-B3FB-E0EF15E2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D15B-B638-488E-8B73-C45B8047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B6453-6FD4-4AA6-AE76-C19E4A5D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36217-620F-46EF-AA19-2ABA5977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08A82-3427-417D-9805-2731ED1B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65E5B-39F1-47EE-ABE7-F4CC7B63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0F9CF-E081-4F08-A08F-AACA0FF1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728AB-5480-438E-9B5F-E408E98A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7F8BB-511A-4242-A353-0EB0CE3E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29547-428A-4685-BADE-E0FFB8A0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F4682-BC13-4672-B225-6C2B7117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1A9C8-BD76-4169-9818-06B2BEA5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86360" y="6474960"/>
            <a:ext cx="26575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7B776EE-B142-4136-95CB-1962134DFD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886360" y="6474960"/>
            <a:ext cx="26575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EC8ABE1-86DC-48F0-8905-D576FEB550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886360" y="6474960"/>
            <a:ext cx="26575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3541DF7-79AA-491D-A5A7-1BD318CE1C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886360" y="6474960"/>
            <a:ext cx="26575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13BEB29-FDB7-445C-BEB4-CB966C8C11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886360" y="6474960"/>
            <a:ext cx="26575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6EAE7EA-04A9-431F-92E4-209FDFE9D5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886360" y="6474960"/>
            <a:ext cx="26575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61DCA8E-A2FA-4B9C-912C-D44BF7CB02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886360" y="6474960"/>
            <a:ext cx="26575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A340663-EC20-4887-A31C-5EC04BF42E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886360" y="6474960"/>
            <a:ext cx="26575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994BF7C-8EC8-4604-809B-E0F8FEC81B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886360" y="6474960"/>
            <a:ext cx="26575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2617B6F-FE46-4BFB-A817-7566ADECA1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886360" y="6474960"/>
            <a:ext cx="26575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FF4BB14-C1C4-47F6-922A-91D11A2B64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886360" y="6474960"/>
            <a:ext cx="26575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1A9484C-9E47-4F2B-9D0F-923A199A19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116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886360" y="6474960"/>
            <a:ext cx="26575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t Chaplin, Samsung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3F5C826-4D04-48D8-B79F-2316E1C57D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mentor.ieee.org/802.21/documents" TargetMode="External"/><Relationship Id="rId2" Type="http://schemas.openxmlformats.org/officeDocument/2006/relationships/hyperlink" Target="http://www.ieee802.org/21" TargetMode="Externa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4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7056000" y="6475320"/>
            <a:ext cx="147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Imag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238D291-95B6-4E2B-A501-F28EA9EB2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ort on 802.2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7-07-1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534960" y="2286000"/>
          <a:ext cx="7800840" cy="266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2286000"/>
                    <a:ext cx="78008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4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7056000" y="6475320"/>
            <a:ext cx="147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 Chaplin, Imag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147A16B-6439-48A4-BED8-1A0B93CE9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 on 802.21 as presented to 802.11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F4C4ADD-F815-43E6-83DE-940A68B72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AC88DE3-007E-4CD4-98E3-D7AE02827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88596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2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R for Corrigenda to clarify the binary length of derived keying material in Group Session Key derivation approved in June 201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G ballot on Corrigenda draft closes June 14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ll be asking for conditional to open Sponsor Ballot on the Corrigenda draf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ublished specifications contributed to ISO-IEC/JTC1 under the PSDO agreement, and initial ballot closed.  802.21 developed and approved responses to comments submitted by the Chinese national bod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1BF20D9-2A8A-433F-BF83-8153B46C0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EFB3054-8FBD-4FD2-9676-E929C37D6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F53568D-CB59-4EF3-B8F2-648C6C1FE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docu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anks to Subir Das, Chair of 802.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Docu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21/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rrent draft is in the members-only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www.ieee802.org/2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Members_Only_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2.11 members log in using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802.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username and pass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21:00:37Z</dcterms:created>
  <dc:creator>Clint Chaplin</dc:creator>
  <dc:description/>
  <dc:language>en-US</dc:language>
  <cp:lastModifiedBy>Clint Chaplin - SRA</cp:lastModifiedBy>
  <cp:lastPrinted>1998-02-10T13:28:06Z</cp:lastPrinted>
  <dcterms:modified xsi:type="dcterms:W3CDTF">2017-07-14T06:27:35Z</dcterms:modified>
  <cp:revision>153</cp:revision>
  <dc:subject/>
  <dc:title>802.21 Liaison Report for May 2013</dc:title>
</cp:coreProperties>
</file>