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3455640" y="97200"/>
            <a:ext cx="282564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92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4120" y="97200"/>
            <a:ext cx="30780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166920" y="8984880"/>
            <a:ext cx="31147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79DE071-EC21-4ED5-9BAF-05A65FB36D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92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E690BD6-BBB7-45D5-876C-EBAA171B1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92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BA3E1C3-948F-4810-877E-A45C342A4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9355CD8-C94D-4826-B1D9-150819BB6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8053E72-42BC-4C4E-AE7F-C3F908B55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92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21FB1F5-2BB1-4683-A280-EC05E0BF6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451F9F8-4D5F-4909-9739-EC41BCB97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589F-1ACD-4252-AED9-0AB51796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26BB-8879-4814-8BA9-7F07197E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4FD44-8F8F-4D4A-BE18-CBA0D694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C287D-6A96-4F50-9A16-5BF6ADEA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9D00C-2CD8-4AE0-9331-F1CFF3A4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D386B-6DF2-4EE3-8453-8EB2B6C9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3C01C-5705-4F2D-BADC-24302648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1F01F-0F0E-471E-8AAA-78D186A4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217AE-9669-4B0D-91DD-F2EC9CCD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C17D2-BB44-4352-AC4C-ED2FE4C4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A59B3-970B-46CE-9DD2-05DD45B6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3EFBC-A534-41BF-AD54-C9AFB946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C90A-C27E-4013-BE0D-18007B39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5F02B-41EA-4A1F-BED2-D15B858A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A04F8-39B6-411C-9B27-DA700B42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AFA0D-332E-4BA7-8BE2-27D6B648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345F3-0565-4576-A918-CEE72645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9C343-D853-438E-9C51-A9CF8C4D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6EA96-ADA4-4773-8B29-D448AC79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61106-D433-4D17-B262-DD888C28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B10C5-DC4D-4F0E-8A4D-98BB5C00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59182-AEA8-430A-84BF-689E5455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8817E-0B97-4ABC-960C-C4E1A348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AEAF-32A7-4B01-BA2D-C37BE756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AE41D-9695-494B-8470-D85879E1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6B90A-16A0-4967-AA3C-073A9FCA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7CC0F-19D4-48DF-A4A0-4AF086D1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BE725-2B65-4A73-A649-C0C3EF5A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79457-3F21-47E9-84FD-9BA5966B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46A43-9AAD-465F-BF17-93CEE6C5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B52CC-33C4-425C-8D89-96CF7D22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BF6C0-42D3-4FEF-9ABD-3A409749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648E5-EBF3-4B11-AA27-ADDB4AB2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1DE5A-26D7-482B-B8A9-21DC1910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AF77-5DB1-4BD8-A211-51DECB04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BC8F7-DC60-4AFB-8ACC-55501087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B2A5D-ED39-464D-80BC-C8B05E85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5FEBE-F92D-4D46-8FAC-3F5AD0A1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9CBB6-5D02-4CE7-B8A5-954BBC79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2A98A-5FB9-430C-BC65-2BA8A8E1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A45F0-9FA8-48C3-B152-90967D2C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81CE4-D8C3-4E81-8FD0-EC4AA338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3DD92-0E81-4A6C-B40F-D13756EE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9619D-5C2C-43A2-9D4D-C8027C3B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05803-4218-4FF9-B9C9-90D6B0EF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12B0-7682-46A0-9E9E-0C2D7158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2F79C-EEA8-4F06-ABB1-299EC1B7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6407D-2543-4664-9FD9-6051EECF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63AEA-867A-43A8-A65E-C057CE64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38472-7791-4D68-B0E0-06654DE3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6FEF4-A0BF-4589-8787-2FCBE1FE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5C18-DCCD-40BB-B95A-150364A7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D86F-006F-4091-87C6-7F166FB8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8D20-EBDC-47C5-89C2-E475B44E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A2C0-4BA0-478C-9265-F47F553C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BC3C-96F9-4EC6-8A7F-F0BABCED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836C-23A3-4F83-9E05-0C1EFDC9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A1C5-68B8-4EF9-8007-A23408CF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387D-2F69-4F35-8563-FB7660CC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6A9C-BA10-488C-B056-E1FAA6E3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F210-D3E5-47CB-92B4-E867F4EF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C486-11CB-4EC8-AB99-27E7E610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69A63-0FB0-42D8-9244-66A1FE81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C36E6-7DEE-444A-A56E-682093FE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7C206-C445-4953-ACD4-65DCA13D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4C8C5-5315-4E97-B52F-E5914AEE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1EC37-0A0A-458B-9EEE-55E3A329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E3CA-3EA5-4AF8-827F-516D0EED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E1E59-C586-4A7D-AB36-D490503D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97BEF-CC68-41D4-9446-2138C93B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B572B-C480-4D15-9175-2FE6BAB4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90C4E-58B7-4B07-99DB-26B9F359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CEDD2-75D4-40AB-AE40-75F7C81B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C2D15-D8C3-4314-B5C7-58F4E00E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58122-B2BF-4F76-BDA9-22B29381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22C10-9D44-4AD9-B6C0-D53CDA3E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6013B-B0A9-49E6-BD68-DBEC1246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B268F-A4F1-4C0E-89CE-0EABD7F5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AD0-1A0C-44F5-9C43-9F68A01E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B05E0-66FF-45FD-AFBD-A246F31D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96646-A8FA-482F-895B-0341B5D8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A0A86-EA9F-4F60-8D75-3421F1F0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C1312-8C8B-4D87-B107-BBD157E7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EB928-EB76-4F62-8A96-F1A3422F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9F40A-5BD7-4B43-8F31-C109B561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4C009-F1A6-474D-B6E4-06A869DB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75109-4469-4914-885C-B47ED83C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43876-FDD0-4E69-84CF-2B7907A8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70107-1C0B-4D57-8797-328BAFF8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F6C-DACD-4358-AA4D-8B25F24C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FEE3B-36C8-476C-961B-23B3076F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8A250-BF30-4C0B-B2D2-FA0681A8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79C87-7DDF-4F50-8EE4-338752D0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449B6-FD6A-4A72-8324-F74F3A7E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A3115-9D13-44E0-AA61-3773D784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8AF59-597F-45C8-8493-28F19DF0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04A85-939D-4578-8A06-CE650E93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FAA7D-E8D0-4AB1-A4E1-014484D0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022D8-C601-4FD3-94E5-42C6A31D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75D54-CBAE-435E-9DC6-C44F579F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26D-467A-463E-8791-6130ED5B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E4633-41D2-45D2-8665-76CFEE9F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EE27B-CD79-452C-9669-B7B73B2B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E160C-7294-4AA3-9955-45D5CA54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C3357-8225-467B-B20A-CA160BA8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FD88E-F671-4BEE-86C0-B3C055F5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D039C-8022-4F03-A182-274E2D49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F327B-B35F-472C-82B6-60D940A5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7456C-14BA-4F90-A618-BAD64DFA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AE4DE-FF86-4206-A336-E050DFE2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68232-CEEC-4160-9724-03D66095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BD3-337F-4958-825C-E23EFAC5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6C0B5-66BF-43C7-B266-08A6FE89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1CC2F-AE53-4327-A5A3-EC910EFE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8AE63-B233-48CC-B9E2-510D7813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5C1DE-1230-4DBF-B9FC-1A56F75B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97B09-1270-4BB5-85FF-59BC1BF8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649BF-D40F-4B70-825A-67FF7732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0A40A-80E7-4DA5-9BA0-62B4C79C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A74F0-736A-4D0F-A1D3-EB0BBE18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278DA-56F1-4AE4-85EB-4A758957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4F774-5DEB-45A3-A274-9C0A5667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D925-C145-4BC5-BB49-F217DEFB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313F9-ED0B-4351-8C7C-EB128D44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5CAFA-B3DB-4844-A5EE-A9599A40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12D61-D962-450E-A2C1-76BF468C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387D5-9391-41BF-9645-51073E11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C63D7-5D28-42D4-80BB-5B730E36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4B920-4A09-42F6-9003-F1BC571B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83F41-7308-4431-8A64-DC344A4E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B034A-BD84-4546-A94C-75DAD5F3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206F2-0BA6-4325-BBF0-8234D901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C8DE4-EE59-4664-81E8-0EE8BC3A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D13B-7346-4855-ABC0-801727C6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780F1-C472-430B-BEE7-2A2FA7B0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034E4-1F44-4CA6-89CC-1A240A4E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D8AE9-9DF1-48E0-9BA7-913FE045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A579C-E218-4FE0-B9B6-BB7F9B36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BE704-E1AF-48D6-8B92-66E528D1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1C2F8-35A0-4658-8413-876FEA82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9AE6A-FB75-401A-966E-8C9495F6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50ADD-C57C-46BB-85EC-D4681049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32F49-E48A-4E3A-BA4E-44BFCE10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BF76A-FE0D-4C00-B7F4-21030AFB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86360" y="6474960"/>
            <a:ext cx="2657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84AD986-FB6C-4201-BDCB-3DB10922C2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886360" y="6474960"/>
            <a:ext cx="2657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6E66420-F794-471D-A523-8C168252F9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886360" y="6474960"/>
            <a:ext cx="2657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8BC0154-7A50-45BD-AB3E-22918A4351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886360" y="6474960"/>
            <a:ext cx="2657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77863EE-A02A-451A-8051-DF93AF86A5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886360" y="6474960"/>
            <a:ext cx="2657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3DBE9BC-9B9F-40BB-9C9D-3D82DCDDF4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886360" y="6474960"/>
            <a:ext cx="2657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D39909F-2AE1-4DF1-909E-AB014B573E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886360" y="6474960"/>
            <a:ext cx="2657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0ED0499-5917-4C95-ACE9-AFA042746E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886360" y="6474960"/>
            <a:ext cx="2657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D22809B-7AF3-45C9-8A4D-C1140A8525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886360" y="6474960"/>
            <a:ext cx="2657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94BA33E-04B4-40A8-B166-877D582E5F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886360" y="6474960"/>
            <a:ext cx="2657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BAB9846-1EA5-4CE2-B67E-90A8055671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886360" y="6474960"/>
            <a:ext cx="2657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849084F-89AD-42E2-A2B2-F069FEB314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886360" y="6474960"/>
            <a:ext cx="2657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EDEA3F7-9260-427B-AAC1-84C0CBF913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mentor.ieee.org/802.21/documents" TargetMode="External"/><Relationship Id="rId2" Type="http://schemas.openxmlformats.org/officeDocument/2006/relationships/hyperlink" Target="http://www.ieee802.org/21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4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7056000" y="6475320"/>
            <a:ext cx="147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Imag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D6B0E98-4EAE-4823-A17A-9A4C56786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ort on 802.2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7-07-1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534960" y="2286000"/>
          <a:ext cx="7800840" cy="266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2286000"/>
                    <a:ext cx="78008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4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7056000" y="6475320"/>
            <a:ext cx="147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Imag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9F8B946-E6FE-4B0D-8ED7-13B317B09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 on 802.21 as presented to 802.11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931672A-373E-430A-80BD-95EEAF75B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D8AF493-2973-4DAA-8D4C-D436F7225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8859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2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R for Corrigenda to clarify the binary length of derived keying material in Group Session Key derivation approved in June 201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G ballot on Corrigenda draft closes June 14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ll be asking for conditional to open Sponsor Ballot on the Corrigenda dra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ublished specifications contributed to ISO-IEC/JTC1 under the PSDO agreement, and initial ballot closed.  802.21 developed and approved responses to comments submitted by the Chinese national bod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E6B1876-CF2C-4D41-B44E-060102048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CC5079A-8E3C-42C4-A519-D8EA8C856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9816A26-6D8B-40C3-845F-D9583C639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docu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anks to Subir Das, Chair of 802.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Docu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21/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rrent draft is in the members-only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www.ieee802.org/2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embers_Only_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11 members log in using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802.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username and pass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1:00:37Z</dcterms:created>
  <dc:creator>Clint Chaplin</dc:creator>
  <dc:description/>
  <dc:language>en-US</dc:language>
  <cp:lastModifiedBy>Clint Chaplin - SRA</cp:lastModifiedBy>
  <cp:lastPrinted>1998-02-10T13:28:06Z</cp:lastPrinted>
  <dcterms:modified xsi:type="dcterms:W3CDTF">2017-07-14T06:27:35Z</dcterms:modified>
  <cp:revision>153</cp:revision>
  <dc:subject/>
  <dc:title>802.21 Liaison Report for May 2013</dc:title>
</cp:coreProperties>
</file>