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D85AD72-7433-46E1-B9AA-B9AB1A61A4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5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A48560A-514D-409B-9727-30D40AE2E0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22320" y="750960"/>
            <a:ext cx="4950000" cy="3711600"/>
          </a:xfrm>
          <a:prstGeom prst="rect">
            <a:avLst/>
          </a:prstGeom>
          <a:ln w="0">
            <a:noFill/>
          </a:ln>
        </p:spPr>
      </p:sp>
      <p:sp>
        <p:nvSpPr>
          <p:cNvPr id="16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1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1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89D3513-C8F5-4F3C-B31B-1981080145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914400" y="744480"/>
            <a:ext cx="4967280" cy="3726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1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1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B748C13-4C4B-4B8C-98B9-9076D7DF93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22320" y="749160"/>
            <a:ext cx="4952880" cy="3714840"/>
          </a:xfrm>
          <a:prstGeom prst="rect">
            <a:avLst/>
          </a:prstGeom>
          <a:ln w="0">
            <a:noFill/>
          </a:ln>
        </p:spPr>
      </p:sp>
      <p:sp>
        <p:nvSpPr>
          <p:cNvPr id="222"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2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25"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54E5567-33CC-42B5-A9F4-18B1085089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22320" y="749160"/>
            <a:ext cx="4952880" cy="3714840"/>
          </a:xfrm>
          <a:prstGeom prst="rect">
            <a:avLst/>
          </a:prstGeom>
          <a:ln w="0">
            <a:noFill/>
          </a:ln>
        </p:spPr>
      </p:sp>
      <p:sp>
        <p:nvSpPr>
          <p:cNvPr id="228"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3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3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75A9B5F-6C26-4853-9288-47748645DA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22320" y="749160"/>
            <a:ext cx="4952880" cy="3714840"/>
          </a:xfrm>
          <a:prstGeom prst="rect">
            <a:avLst/>
          </a:prstGeom>
          <a:ln w="0">
            <a:noFill/>
          </a:ln>
        </p:spPr>
      </p:sp>
      <p:sp>
        <p:nvSpPr>
          <p:cNvPr id="234"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3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3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7FAC8C2-04A9-41E8-B36C-2D174F8A03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22320" y="749160"/>
            <a:ext cx="4952880" cy="3714840"/>
          </a:xfrm>
          <a:prstGeom prst="rect">
            <a:avLst/>
          </a:prstGeom>
          <a:ln w="0">
            <a:noFill/>
          </a:ln>
        </p:spPr>
      </p:sp>
      <p:sp>
        <p:nvSpPr>
          <p:cNvPr id="240"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4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4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4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0F07953-CA23-4209-AFD4-EDD4A4D472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22320" y="749160"/>
            <a:ext cx="4952880" cy="3714840"/>
          </a:xfrm>
          <a:prstGeom prst="rect">
            <a:avLst/>
          </a:prstGeom>
          <a:ln w="0">
            <a:noFill/>
          </a:ln>
        </p:spPr>
      </p:sp>
      <p:sp>
        <p:nvSpPr>
          <p:cNvPr id="246"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4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4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592F075-98C9-47A3-8A6A-4D4603974B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922320" y="750960"/>
            <a:ext cx="4950000" cy="3711600"/>
          </a:xfrm>
          <a:prstGeom prst="rect">
            <a:avLst/>
          </a:prstGeom>
          <a:ln w="0">
            <a:noFill/>
          </a:ln>
        </p:spPr>
      </p:sp>
      <p:sp>
        <p:nvSpPr>
          <p:cNvPr id="25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5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55"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6"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109993-644F-4FFD-9FD8-BB5AC23FC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923760" y="750960"/>
            <a:ext cx="4948560" cy="3711600"/>
          </a:xfrm>
          <a:prstGeom prst="rect">
            <a:avLst/>
          </a:prstGeom>
          <a:ln w="0">
            <a:noFill/>
          </a:ln>
        </p:spPr>
      </p:sp>
      <p:sp>
        <p:nvSpPr>
          <p:cNvPr id="25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6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61"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62"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B1CAAE-E7C7-4EC0-BAA4-96F753B76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923760" y="750960"/>
            <a:ext cx="4948560" cy="3711600"/>
          </a:xfrm>
          <a:prstGeom prst="rect">
            <a:avLst/>
          </a:prstGeom>
          <a:ln w="0">
            <a:noFill/>
          </a:ln>
        </p:spPr>
      </p:sp>
      <p:sp>
        <p:nvSpPr>
          <p:cNvPr id="26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6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65"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25D22CA-29B5-4674-9ABD-1E9D7CCB1C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922320" y="750960"/>
            <a:ext cx="4950000" cy="3711600"/>
          </a:xfrm>
          <a:prstGeom prst="rect">
            <a:avLst/>
          </a:prstGeom>
          <a:ln w="0">
            <a:noFill/>
          </a:ln>
        </p:spPr>
      </p:sp>
      <p:sp>
        <p:nvSpPr>
          <p:cNvPr id="16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7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7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34BD635-DB67-487F-BFF7-0F8CB78C72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7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7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45EB029-C1DB-4D05-AB03-9F076AF59E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915840" y="746280"/>
            <a:ext cx="4964400" cy="3722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8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8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8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D4558A7-B80E-4AEF-9A9B-2827A21975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915840" y="746280"/>
            <a:ext cx="4964400" cy="3722400"/>
          </a:xfrm>
          <a:prstGeom prst="rect">
            <a:avLst/>
          </a:prstGeom>
          <a:ln w="0">
            <a:noFill/>
          </a:ln>
        </p:spPr>
      </p:sp>
      <p:sp>
        <p:nvSpPr>
          <p:cNvPr id="186"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8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8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9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E446AA4-FC1B-488F-875C-E2D2BDA460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23760" y="750960"/>
            <a:ext cx="4948560" cy="3711600"/>
          </a:xfrm>
          <a:prstGeom prst="rect">
            <a:avLst/>
          </a:prstGeom>
          <a:ln w="0">
            <a:noFill/>
          </a:ln>
        </p:spPr>
      </p:sp>
      <p:sp>
        <p:nvSpPr>
          <p:cNvPr id="19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1-14/0480r0</a:t>
            </a:r>
            <a:endParaRPr b="0" lang="en-US" sz="1400" spc="-1" strike="noStrike">
              <a:solidFill>
                <a:srgbClr val="000000"/>
              </a:solidFill>
              <a:latin typeface="Times New Roman"/>
            </a:endParaRPr>
          </a:p>
        </p:txBody>
      </p:sp>
      <p:sp>
        <p:nvSpPr>
          <p:cNvPr id="19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May 2014</a:t>
            </a:r>
            <a:endParaRPr b="0" lang="en-US" sz="1400" spc="-1" strike="noStrike">
              <a:solidFill>
                <a:srgbClr val="000000"/>
              </a:solidFill>
              <a:latin typeface="Times New Roman"/>
            </a:endParaRPr>
          </a:p>
        </p:txBody>
      </p:sp>
      <p:sp>
        <p:nvSpPr>
          <p:cNvPr id="195" name="Rectangle 6"/>
          <p:cNvSpPr/>
          <p:nvPr/>
        </p:nvSpPr>
        <p:spPr>
          <a:xfrm>
            <a:off x="3427200" y="9615600"/>
            <a:ext cx="226224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196" name="Rectangle 7"/>
          <p:cNvSpPr/>
          <p:nvPr/>
        </p:nvSpPr>
        <p:spPr>
          <a:xfrm>
            <a:off x="292824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Page </a:t>
            </a:r>
            <a:fld id="{7D3DD28B-799F-4AEA-832D-E3FC38B6143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23760" y="750960"/>
            <a:ext cx="4946760" cy="3711600"/>
          </a:xfrm>
          <a:prstGeom prst="rect">
            <a:avLst/>
          </a:prstGeom>
          <a:ln w="0">
            <a:noFill/>
          </a:ln>
        </p:spPr>
      </p:sp>
      <p:sp>
        <p:nvSpPr>
          <p:cNvPr id="19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0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0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DAC70AA-0F7A-4AE7-8A0E-E8DE4FBFC1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15840" y="746280"/>
            <a:ext cx="4964400" cy="3722400"/>
          </a:xfrm>
          <a:prstGeom prst="rect">
            <a:avLst/>
          </a:prstGeom>
          <a:ln w="0">
            <a:noFill/>
          </a:ln>
        </p:spPr>
      </p:sp>
      <p:sp>
        <p:nvSpPr>
          <p:cNvPr id="20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0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0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7BF88FF-DB06-4F14-8EB3-43D4100113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4400" y="744480"/>
            <a:ext cx="4967280" cy="3726000"/>
          </a:xfrm>
          <a:prstGeom prst="rect">
            <a:avLst/>
          </a:prstGeom>
          <a:ln w="0">
            <a:noFill/>
          </a:ln>
        </p:spPr>
      </p:sp>
      <p:sp>
        <p:nvSpPr>
          <p:cNvPr id="2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7A4D6-3900-4E31-99BA-FA7CFB054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D4A8E-9ADE-46A5-8D48-E1075F2FE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CE731-56BC-416B-AFAA-C1C6A4D6A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B4AF0-6B61-485A-AD69-EF1B77F5F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62E1E-E212-47C1-A818-48712615A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2AB67-D454-4108-987E-186055B3A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01B46-0D8E-482B-958E-6EC899783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DDE29-01B4-4526-8354-82F637341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8BA79-0ED6-4066-A2EC-6709C3FC4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A616-B0FC-4F21-BA86-1342E81D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3F642-3748-4D28-BFE5-431BAF0C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FC084-D3B5-4ED2-A707-E5D241EAE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5C5EFC1-5B6C-4042-8830-06565E7CB9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4/048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hyperlink" Target="http://standards.ieee.org/board/pat/pat-slideset.pp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56"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79439AE-C738-4879-B083-0FCB2B895A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Gaq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4-05-12</a:t>
            </a:r>
            <a:endParaRPr b="1" lang="en-US" sz="2000" spc="-1" strike="noStrike">
              <a:solidFill>
                <a:srgbClr val="000000"/>
              </a:solidFill>
              <a:latin typeface="Times New Roman"/>
            </a:endParaRPr>
          </a:p>
        </p:txBody>
      </p:sp>
      <p:graphicFrame>
        <p:nvGraphicFramePr>
          <p:cNvPr id="60" name="Object 5"/>
          <p:cNvGraphicFramePr/>
          <p:nvPr/>
        </p:nvGraphicFramePr>
        <p:xfrm>
          <a:off x="533520" y="2349360"/>
          <a:ext cx="7995960" cy="2254320"/>
        </p:xfrm>
        <a:graphic>
          <a:graphicData uri="http://schemas.openxmlformats.org/presentationml/2006/ole">
            <p:oleObj progId="Word.Document.12" r:id="rId1" spid="">
              <p:embed/>
              <p:pic>
                <p:nvPicPr>
                  <p:cNvPr id="61" name="Object 5" descr=""/>
                  <p:cNvPicPr/>
                  <p:nvPr/>
                </p:nvPicPr>
                <p:blipFill>
                  <a:blip r:embed="rId2"/>
                  <a:stretch/>
                </p:blipFill>
                <p:spPr>
                  <a:xfrm>
                    <a:off x="533520" y="2349360"/>
                    <a:ext cx="7995960" cy="2254320"/>
                  </a:xfrm>
                  <a:prstGeom prst="rect">
                    <a:avLst/>
                  </a:prstGeom>
                  <a:ln w="0">
                    <a:noFill/>
                  </a:ln>
                </p:spPr>
              </p:pic>
            </p:oleObj>
          </a:graphicData>
        </a:graphic>
      </p:graphicFrame>
      <p:sp>
        <p:nvSpPr>
          <p:cNvPr id="62"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1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3A74069-7CCB-4876-9ED1-DD480765D6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115"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1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0B3ED6B-2FF9-4BC0-9F0E-799A9D2CAF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4-0480r1 (this documen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rch 2014 Interim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4/11-14-0481-00-00aq-march-2014-beijing-meeting-minutes.docx</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t;tbd&gt;</a:t>
            </a:r>
            <a:endParaRPr b="0" lang="en-US" sz="20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2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A4B8A89-42ED-45F6-9A91-9BDA8848EB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present closing report from January 2014</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4/11-14-0447-00-00aq-closing-report.pptx</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ficer Election Nomination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ation Re-cap</a:t>
            </a:r>
            <a:endParaRPr b="1"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s [11-13-0125-06-00aq-use-case-analysi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d terminology document [11-13-0299r3]</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eleton framework document [11-13-0300r1]</a:t>
            </a: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2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4393E6F-3B2C-456F-BF8D-99979E1320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p:txBody>
      </p:sp>
      <p:sp>
        <p:nvSpPr>
          <p:cNvPr id="13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3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3F0DA80-80D1-47E8-A019-63034190D4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ficer Elec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ce-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ret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dito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3-1384r4 [Montemurro] Service Transaction Protocol text</a:t>
            </a:r>
            <a:endParaRPr b="0" lang="en-US" sz="1800" spc="-1" strike="noStrike">
              <a:solidFill>
                <a:srgbClr val="000000"/>
              </a:solidFill>
              <a:latin typeface="Times New Roman"/>
            </a:endParaRPr>
          </a:p>
          <a:p>
            <a:pPr lvl="2"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 13 May 2014, 10:30 – 12: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3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1C8C64B-421C-4CFE-B8D6-EF3A34AA7E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p:txBody>
      </p:sp>
      <p:sp>
        <p:nvSpPr>
          <p:cNvPr id="14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dnesday</a:t>
            </a:r>
            <a:br>
              <a:rPr sz="2800"/>
            </a:br>
            <a:r>
              <a:rPr b="1" lang="en-US" sz="1800" spc="-1" strike="noStrike">
                <a:solidFill>
                  <a:srgbClr val="000000"/>
                </a:solidFill>
                <a:latin typeface="Times New Roman"/>
              </a:rPr>
              <a:t>14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4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8B3DFE3-0258-4F95-BCA9-127BFDAF3B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4, 10:30 – 12:30</a:t>
            </a:r>
            <a:endParaRPr b="1" lang="en-US" sz="1800" spc="-1" strike="noStrike">
              <a:solidFill>
                <a:srgbClr val="000000"/>
              </a:solidFill>
              <a:latin typeface="Times New Roman"/>
            </a:endParaRPr>
          </a:p>
        </p:txBody>
      </p:sp>
      <p:sp>
        <p:nvSpPr>
          <p:cNvPr id="145"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line Updat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June 2014: 10am E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4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4 slots, room for 3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ll for proposals / Presentatio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4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002EB7-7CF1-4616-87B1-34009E075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 January 2014 (update)</a:t>
            </a:r>
            <a:endParaRPr b="1" lang="en-US" sz="3200" spc="-1" strike="noStrike">
              <a:solidFill>
                <a:srgbClr val="000000"/>
              </a:solidFill>
              <a:latin typeface="Times New Roman"/>
            </a:endParaRPr>
          </a:p>
        </p:txBody>
      </p:sp>
      <p:sp>
        <p:nvSpPr>
          <p:cNvPr id="150" name="PlaceHolder 2"/>
          <p:cNvSpPr>
            <a:spLocks noGrp="1"/>
          </p:cNvSpPr>
          <p:nvPr>
            <p:ph/>
          </p:nvPr>
        </p:nvSpPr>
        <p:spPr>
          <a:xfrm>
            <a:off x="684360" y="1628280"/>
            <a:ext cx="7772400" cy="47055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al of PAR &amp; 5C: November 201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TG meeting: January 2013</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Working Group Letter Ballot: </a:t>
            </a:r>
            <a:r>
              <a:rPr b="1" lang="en-GB" sz="2400" spc="-1" strike="noStrike">
                <a:solidFill>
                  <a:srgbClr val="ff0000"/>
                </a:solidFill>
                <a:latin typeface="Times New Roman"/>
              </a:rPr>
              <a:t>November 2014</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irculation Working Group Letter Ballot: </a:t>
            </a:r>
            <a:r>
              <a:rPr b="1" lang="en-GB" sz="2400" spc="-1" strike="noStrike">
                <a:solidFill>
                  <a:srgbClr val="ff0000"/>
                </a:solidFill>
                <a:latin typeface="Times New Roman"/>
              </a:rPr>
              <a:t>Ma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m Sponsor Ballot Pool: </a:t>
            </a:r>
            <a:r>
              <a:rPr b="1" lang="en-GB" sz="2400" spc="-1" strike="noStrike">
                <a:solidFill>
                  <a:srgbClr val="ff0000"/>
                </a:solidFill>
                <a:latin typeface="Times New Roman"/>
              </a:rPr>
              <a:t>Jul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ndatory Editorial Check: </a:t>
            </a:r>
            <a:r>
              <a:rPr b="1" lang="en-GB" sz="2400" spc="-1" strike="noStrike">
                <a:solidFill>
                  <a:srgbClr val="ff0000"/>
                </a:solidFill>
                <a:latin typeface="Times New Roman"/>
              </a:rPr>
              <a:t> Jul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Sponsor Ballot: </a:t>
            </a:r>
            <a:r>
              <a:rPr b="1" lang="en-GB" sz="2400" spc="-1" strike="noStrike">
                <a:solidFill>
                  <a:srgbClr val="ff0000"/>
                </a:solidFill>
                <a:latin typeface="Times New Roman"/>
              </a:rPr>
              <a:t>November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onsor Ballot Recirculation: </a:t>
            </a:r>
            <a:r>
              <a:rPr b="1" lang="en-GB" sz="2400" spc="-1" strike="noStrike">
                <a:solidFill>
                  <a:srgbClr val="ff0000"/>
                </a:solidFill>
                <a:latin typeface="Times New Roman"/>
              </a:rPr>
              <a:t>May 2016</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nal WG/EC Approval: </a:t>
            </a:r>
            <a:r>
              <a:rPr b="1" lang="en-GB" sz="2400" spc="-1" strike="noStrike">
                <a:solidFill>
                  <a:srgbClr val="ff0000"/>
                </a:solidFill>
                <a:latin typeface="Times New Roman"/>
              </a:rPr>
              <a:t>July 2016</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vCom/Standards Board Approval: </a:t>
            </a:r>
            <a:r>
              <a:rPr b="1" lang="en-GB" sz="2400" spc="-1" strike="noStrike">
                <a:solidFill>
                  <a:srgbClr val="ff0000"/>
                </a:solidFill>
                <a:latin typeface="Times New Roman"/>
              </a:rPr>
              <a:t>July 2016</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E88F40-2D60-4800-B998-B66357948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equest the IEEE 802.11 WG chair to do something to someone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oved: xxx</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Second: xxx</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esult: 0/0/0</a:t>
            </a:r>
            <a:endParaRPr b="1" lang="en-US" sz="2400" spc="-1" strike="noStrike">
              <a:solidFill>
                <a:srgbClr val="000000"/>
              </a:solidFill>
              <a:latin typeface="Times New Roman"/>
            </a:endParaRPr>
          </a:p>
        </p:txBody>
      </p:sp>
      <p:sp>
        <p:nvSpPr>
          <p:cNvPr id="155"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56" name="Date Placeholder 1"/>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4"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192F571-D62F-45F2-9113-8FCAD98B0A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TGaq Pre-Association Discovery meeting for May 2014, Waikoloa, Hawaii, US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9"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3A33095-AC93-4EC7-B947-3BDFE1E88C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
        <p:nvSpPr>
          <p:cNvPr id="74"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ir’s welcome</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76"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7080BD1-05C8-4A5D-8A70-A389178F2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179280" y="112536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November be essential for the use of standards under development is strongly encourage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November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lnSpc>
                <a:spcPct val="2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November be essential for the use of that standar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8576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684360" y="54900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ructions for the WG Chair</a:t>
            </a:r>
            <a:endParaRPr b="1" lang="en-US" sz="2800" spc="-1" strike="noStrike">
              <a:solidFill>
                <a:srgbClr val="000000"/>
              </a:solidFill>
              <a:latin typeface="Times New Roman"/>
            </a:endParaRPr>
          </a:p>
        </p:txBody>
      </p:sp>
      <p:sp>
        <p:nvSpPr>
          <p:cNvPr id="80" name="Rectangle 4"/>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5"/>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3"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0B3A530-F1B7-4A34-9BB1-9643F47202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8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fontScale="97000"/>
          </a:bodyPr>
          <a:p>
            <a:pPr marL="222840" indent="-2228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November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9"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797CE40-EE60-4AD6-A16E-4ABFFF5D15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92"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1"/>
              </a:rPr>
              <a:t>http://standards.ieee.org/develop/policies/bylaws/index.html</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2"/>
              </a:rPr>
              <a:t>http://standards.ieee.org/develop/policies/opman/index.html</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3"/>
              </a:rPr>
              <a:t>http://standards.ieee.org/board/pat/pat-material.html</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3"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2"/>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ay 2014</a:t>
            </a:r>
            <a:endParaRPr b="0" lang="en-US" sz="1800" spc="-1" strike="noStrike">
              <a:solidFill>
                <a:srgbClr val="000000"/>
              </a:solidFill>
              <a:latin typeface="Times New Roman"/>
            </a:endParaRPr>
          </a:p>
        </p:txBody>
      </p:sp>
      <p:sp>
        <p:nvSpPr>
          <p:cNvPr id="95" name="Footer Placeholder 3"/>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9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4B2BED48-0663-4365-A4AE-EA73289F0B7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98"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9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1"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A910ADB-6F46-404F-8D01-BAB4F88840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0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7520" indent="-2275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2" marL="113148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ve costs, including licensing costs of essential patent claims, of different technical approaches November be discussed in standards development meetings. </a:t>
            </a:r>
            <a:endParaRPr b="0" lang="en-US" sz="1400" spc="-1" strike="noStrike">
              <a:solidFill>
                <a:srgbClr val="000000"/>
              </a:solidFill>
              <a:latin typeface="Times New Roman"/>
            </a:endParaRPr>
          </a:p>
          <a:p>
            <a:pPr lvl="3" marL="158400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chnical considerations remain primary focus</a:t>
            </a:r>
            <a:endParaRPr b="0" lang="en-US" sz="14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073A071-C699-47DD-8C52-66F9DE13E7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110"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tandards.ieee.org/faqs/affiliationFAQ.html</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standards.ieee.org/resources/antitrust-guidelines.pdf</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www.ieee.org/web/membership/ethics/code_ethics.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4"/>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4-04-02T10:55:02Z</dcterms:modified>
  <cp:revision>1179</cp:revision>
  <dc:subject/>
  <dc:title>ISD Agenda</dc:title>
</cp:coreProperties>
</file>