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8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A50526-A34F-4D13-B16C-66EA3B7E29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5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725760" y="97560"/>
            <a:ext cx="68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4451760" y="8985240"/>
            <a:ext cx="27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8C97B7-0E8D-417E-A077-832CDC762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54160" y="70020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962-BC84-4A1A-B513-7C7F1095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E22-B65E-40AA-8269-49A8A61F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3B95C-7B82-4C75-A373-D27857AE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8812B-5AA8-4D1E-BCC2-577D6119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46235-9B75-4380-B96A-5C10AD03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707B6-2474-4611-8184-E965B5D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0E7E2-F3DC-479D-BE77-92246633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97DBE-DFAD-4CD4-ABC7-9BC69772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4AE52-F294-4EB7-B49F-0B6F6DD5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82961-81F0-4F93-89AA-73E9922A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0D3E3-3672-4915-A79D-FBB3812B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F1710-84AF-432A-A2CA-F1185334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CCB-ACF1-49F0-9FD1-9EAEE918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3C41F-BD6A-4D6E-BAE8-91638D1A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26FF2-49EA-4AD8-B61E-795C4096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BB1C6-9445-440A-AFE1-8CB195B5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C013A-F2B1-4020-9A7C-71B720D7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96903-4286-427B-A2C4-E2E8526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AE97E-0627-4B78-80DC-F5DF90A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226E7-45F6-4F0A-B38E-3C4A2EC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7F2CA-34A0-44A0-8B64-BFD0514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FAC0E-FE4B-4E1E-B658-FC5D1AF7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1B40A-1379-42EE-84C7-E6CFA816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E26-7BF5-422A-9CA3-A014FAC3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9CB69-E49B-4133-878A-C9C0CE9E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D20DA-6483-41F2-A192-B3CF551C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D1B9B-6EDC-4C00-978D-06B3BCE5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DEFFC-CF9D-464D-9FCC-6AAF8DF2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D2181-285D-44B6-A154-E1D3910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2725E-02AA-459D-872C-19D8B4F2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990D1-0B35-4D92-A410-441245EA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DC436-942D-446F-8A3C-D7AAA9C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8BA9C-BB4F-40F4-82F7-44F47793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1FD2D-B648-4CE0-BD83-C70666AD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880B-1E09-406D-BC90-F5C78FFD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78859-24C9-4B8E-AA93-4F40F7D2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7554E-BA41-478E-B26A-796A6926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877F8-EF3C-4088-9591-4A113EC1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95DCD-67C2-4A6A-A633-0AAB2324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BF3E4-69C7-4DCB-A769-C44B7C1B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CC0B1-C00E-4DF5-BE57-DBA08EA4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6F9F0-B74F-4E28-8B52-D7EC3AD5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50090-49F4-4B71-9D10-0A7B12F1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AA9F5-E348-433A-AF50-D2ED29DE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3A825-7487-4F00-885D-B872B172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361-0DEE-408B-AA0E-CE245E77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E3A31-28F2-4953-B0CA-8E3B2A2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D949C-2A44-4813-955D-94186006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CF6C4-0426-4DD8-B70E-FF4D9776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F3A88-243C-4C00-951B-7C0B8503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17ED1-DD0E-42BD-8B07-0FDA5E06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FA22-FBFF-4285-BF30-87D13E47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B970-91CD-43CF-91DA-FC6AA76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0867-E2F0-4337-9ED9-4516152B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4392-83DC-454D-AFC2-3DE5976B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5DAB-7B09-4BEF-A352-AAAC069B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96E-AA78-4CF9-951F-456919CB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EE63-DDBE-43D4-9CC1-E220BC19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0832-3AAA-4E6F-9D3A-5B329A25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28ED-1661-49FF-9B0C-0709614E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56E0-A31A-4346-B79A-FBF4A2C4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724F-4C31-4DD3-A673-0F71E6E7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95F6A-E334-4F5A-98C8-BC16FB5C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4E37-90EC-4D8E-841B-000E04F0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AB9D-218C-4985-A3E6-9BFF434D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F006-FF6C-4AA6-9E3F-239E2041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63B7-08D8-42EE-B73E-42A6F7D5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B5D-5FCA-40AA-8642-125ED49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1A57-CD0E-4CBC-89E8-790058E0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B458-0E36-48F3-B19D-490C5C8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5FB9-825B-4879-A036-0BBFB814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D0F7-647A-4A86-B97E-0DB0D928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FF92E-4C73-4D1C-9E4E-175D63E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1650-CDEF-4367-8968-A7197C36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F729-4A4E-40CD-B41C-F55D3666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BBE1A-6EE3-4F6A-BC8E-96B33F73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2EA3-A8AA-4676-92C2-554E40D4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FDAF-48A2-4A24-9E43-24F98DFB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1C4-D846-42CF-AFC3-22C7237C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CD28-443F-42FE-9603-223CA363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956E-F660-4D60-BF2D-47806CDE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0D40-6DB0-4A63-A81E-7F4339EF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AE5F5-0AFC-407A-81AC-D87F79CC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F7C9-D73A-4103-945F-54CCA045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0DA50-CB38-4630-8D50-CF2608DA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7F2B-A0D7-4A07-801F-C1B84A4D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6119-34D9-4727-8E06-3E5A7D11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76BA-5A58-4264-A779-F6B2E039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0F79C-D42F-4545-81D0-A726DBCC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795-9BAF-4C0C-826B-2E2E96E6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C2DB0-4199-4A69-8563-95F22E5C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CBDA5-B33F-4351-82A9-B4A1D8A1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960B3-7D0B-4558-9217-503B8072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151A-4289-4FF5-B816-7B615FE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933CB-DF4E-460A-A599-340C1C49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A269E-D600-4AC6-8584-60124F25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A228-B144-4AC2-A52E-566B47A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E855C-D3EB-4FD6-87B3-7C481E6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838CE-8B59-4B47-81D2-8CF10315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F3D30-523F-438E-980A-E48E33D8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BB0-F6E7-48EA-BE45-A8B89085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4CB8-47ED-4607-9E98-EC73118D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A00E-8B84-43BF-B83E-6C4FC27A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54DE-27AD-4531-84D7-3A7C02E0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1EEB8-FB83-4A47-9537-77FED177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92A4A-A3D5-42DE-8FF8-CCF80902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9B9D-36AB-45D0-9725-94FBF4A3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37746-729E-4E8A-A750-0717E171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23E8-7EB5-41A7-83FE-61E4689E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D0E04-CB28-402B-8AAE-CA9E2A63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E8A53-5E61-4E65-8C6C-779E377C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FD6-7194-47FB-A97A-561B8CE8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F76F4-3D57-4B8C-8AF3-B79E846D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807F9-8114-4ED3-9E22-93E6FE1A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C04D-2C94-4AF4-A0A2-068BECC2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3E72F-0476-4A2D-9131-25587A52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3BCE5-8C19-4ED9-A373-82BAC50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8F71-E563-4D8E-9B42-04930A5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471C8-F397-4CE0-B2F6-657E8883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01D90-7AFF-43FA-8753-FBC542A2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D2D8E-6F86-4867-8338-F6D18CD7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EDAB7-B313-4B4B-B20C-F663023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B93-04E5-4418-BCEC-D0FCA5C0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5A926-C353-41BE-9078-0B7AAB33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D4F9C-74F0-4790-96C4-C4005368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44FB-DD0D-4F9D-AF2D-9FE6CB98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50DE0-3B4C-47B3-9EAF-0387A9D4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FC46B-8B86-4D91-B275-2E2D40E3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3224E-A8E3-4566-B27D-575006F0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1B694-27AA-43D4-A901-0F3A27E9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8A86-7FB6-4279-B480-0EC790C8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3F04A-EB2A-4D9D-9B1F-60848E0B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14576-51DA-40A1-BBB5-183B5151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7C6-BB61-4563-B30F-EE27EC99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BCADC-019A-4692-BBE4-26B6E02E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49B67-6FCE-4874-B32E-0ED8E125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93974-EED2-477B-95CF-4194EC3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9E67-618E-419D-9092-DF8A3506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133E-A476-4FC8-A2E7-51A22E0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4DD49-F5C5-46AC-80D9-DC53D986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5CE18-78F6-4A20-BEEE-27389EA9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28C10-E5C3-41DD-938E-EF4291C8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236AF-D2FF-46CE-8CE3-40A43659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62D01-4590-49D0-A355-A3F4E714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SpectraLink, Cor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C120FF-221D-4338-B301-F494270F3B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F32AF7-B05A-448B-B230-D7BA9F7285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9CFA44-0D2F-411B-AF33-53A9F69E5A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6B73F3-540D-49E1-B269-913DD9364E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AFB4B9-23A8-4C59-AC50-20F758878C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6EFEF0-BC79-4BEB-86EE-903D42DF9F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5C0CF5-B88F-4D15-9D55-A3CE21044B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9B5376-F7D9-4735-B9E4-E174BFBC71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428261-F854-4531-BD23-08C5626DC1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88975F-2D36-499E-B0FC-D9D78E78C4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E98D866-16E2-434F-9D77-7E92F09F9D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7C8A0B-5FE4-4206-865E-1093FF39F9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WNG – January 201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3160" y="1630440"/>
            <a:ext cx="8381880" cy="41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Network Enablers for Seamless HMD-based VR (Virtual Reality) SG” – Subir Das (Perspecta L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s for March 201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ir will make a call for presentations in adv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agenda is document 11-18/2113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691560" y="30636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972480" y="6475320"/>
            <a:ext cx="15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Qual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325A5B-C10D-4CE0-809F-1D5524907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0" y="1174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esday 15 January AM1 (08:00-10: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38:20Z</dcterms:created>
  <dc:creator>Mark Hamilton</dc:creator>
  <dc:description/>
  <dc:language>en-US</dc:language>
  <cp:lastModifiedBy>Jim Lansford</cp:lastModifiedBy>
  <cp:lastPrinted>1998-02-10T13:28:06Z</cp:lastPrinted>
  <dcterms:modified xsi:type="dcterms:W3CDTF">2019-01-05T00:00:53Z</dcterms:modified>
  <cp:revision>151</cp:revision>
  <dc:subject/>
  <dc:title>ARC-snapshot</dc:title>
</cp:coreProperties>
</file>