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CE66DD-98DB-451D-88D4-8DD9C554F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FDCBE2-BA1E-473A-845A-067D40D9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61F-C70C-45F9-ACC9-71A2F6A9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378-3511-4BBB-8D4D-7D8AEB6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91E01-6D59-4603-A556-F693740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AC8A-F1F5-4866-A3B0-1E58A6F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E8761-7663-4F51-999C-7A2C962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849A8-7074-442A-BA90-CF2DA7F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F90CC-BD7D-46E5-96DE-5CBF3F9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B115B-0C6D-4FA9-A0C7-9A0218A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04E6-E323-499C-8206-ED4CAC6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159E-32AE-4BDF-8D06-79415A06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298BB-8480-4F3F-BFEE-06737D8E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25ACF-E191-4E2D-97D9-EC7468B0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F58-FE40-4324-8359-0AE52DF6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BC7B6-E4E6-4532-A4E5-4A5DBC6F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D7453-FCC3-4A30-9DA6-923E396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BD920-3556-439F-AE01-7A1A448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314CD-1341-4388-B34E-B5CDE20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843B8-22B3-4B23-A0E7-2556CB6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F3D8-7B20-465C-85AC-E5475A1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69FC0-DF82-46FD-86A9-C4E871B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3183A-BF4A-4736-B127-D4645695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6ADBF-4182-4ECD-BAB2-E826D9CF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2007A-B630-40AB-9534-94B32640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7FD-C460-4934-A3A2-34FD6E61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F8017-934E-4C09-A9C2-4DE9C4E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4BEE0-FCF5-4688-B677-91013628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87738-730D-41A2-8450-0DC07A48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CF33-C576-49B3-9E61-B5DDE4F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3D8CA-0BB8-4ECF-BFC9-BD76EBC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B3240-6728-4131-AA89-85B10A2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19105-DF72-4B81-808C-F764FC00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C9E7-BE52-42E4-9413-004219C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B45B-7104-426B-A7D1-487C37C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22B5C-DD31-4CB2-AD46-764E389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1D0-DD9F-4614-90AF-358F6D3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5904-27A0-40EC-AC3C-826EBB3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1EE1-6A07-426E-8603-800EAF86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48BC-D1BD-44F8-AFEC-4BB0F7F0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E694D-792A-4F77-9DD1-88D63457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6CB3E-8BBF-4799-AAB2-67C5CC0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037B5-A99B-4440-8E3C-62C3C53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1762F-F33D-4D5D-8ED7-0E4BC50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8203A-8774-4675-A2D7-C392337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E184C-A373-4963-A454-DBD2526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EA55D-B578-436E-B7DF-F28F3EB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E1D-635E-4757-9930-761B75A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44152-7EF0-45BA-BFC7-94D2996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B738B-5002-4F75-ACC2-CE518A4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4086B-7B3C-4337-974B-456E02B2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D1486-B563-48FB-A99A-BFC74668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F1780-6790-4969-819D-3C54DFB7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319C-39A3-4F97-8FAF-9F6FCC42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1114-CC8A-4E0C-8AD5-3EAEAFDF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5EC-6CE0-4AE9-8299-AF0F5100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75D6-11DA-4F60-A4D9-6A4CE5E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1F7-483C-4FFF-B80C-E69F80A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9E6-032C-406B-B048-21C797CD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BDC3-49CE-416D-9104-0ED0FE5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E7FE-A28C-45DF-BF4E-338A086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D77-17A6-42C3-8A37-18D4CAAE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B67D-41AA-408E-ACDD-002C858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A1E0-2839-40BE-8B23-73A2FD7F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76FA-C792-444C-9341-0A2095DF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99BF-8E32-47A1-BE01-7943A10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9C78-71F3-4D7A-8616-F43FD7E5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2E7A-0E11-402D-8DF0-3B165C23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51E1-893A-4034-8BBA-518E6E4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120-7A7D-4B69-83E1-1EDBC2A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6773-6BBC-4BEA-8B11-213B5AA9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27A5-8A79-4009-A4A7-0F0980E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7C43-00D3-4152-9320-BC94B49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AC23-8CA3-4065-80A4-E5BD631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23FF-492B-46BF-82ED-74518418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69BE-FAB3-46EF-B053-ABC00870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B0E7-2211-40E9-ABD2-1E442E95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6A08-EB9F-4365-ABFD-ED2B3748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8A1C-84FE-4769-8B4E-DD5026D6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0803-4C1D-473C-BFD6-7EEEEE3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F68-9D37-4164-8E9B-D9594EE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D329-9FBD-4EC3-A064-8213735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8490-2003-49FB-BE4E-FDB9D512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3691-2C99-48C6-B788-B6D8C55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133B-91EA-4E2A-A550-13C13F6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4C0FA-739B-4ED8-B526-E7D31DC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AF9EE-A20E-4163-BFBE-3B7185C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F260-4691-4C99-9B24-4F2D898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ACD5-FBA3-4681-A6F4-08499D00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9BED-FF5C-4B6B-953F-796D3BA4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0AA0-2FF4-4E2F-89DA-2E225E01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12D-A75A-4D4D-A362-37BC340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9CB9-A818-44F0-8A45-382AC70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6A4B-0FB3-4B44-BF35-09503DB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B6F0-8B9C-447F-AF35-4451B988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64E0-A5CF-44F5-9914-1DD7FF2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2561-A1E7-49F4-B18B-0AC2000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1904-A9DE-4A93-9FB9-620B2BA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6CE9-0AA5-4A67-A8D1-B92D488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455F-0EC2-4BD9-B4B6-ECD4DE2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4CF0-2F4C-4D82-9FE7-49428C3E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3039-6771-4197-A231-051E7E12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220-0855-4B38-8012-7320D8E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3D67-9A9F-4E3B-BCD2-DA8084CB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CE4F5-A5DC-4880-B539-F474165C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D0D7-B921-4792-AFE0-6A4232E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DC4A-27F4-4705-83CB-5E95C81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B5A8-17A3-4D4C-A734-53541BB1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92EB-17CF-44DE-BFCC-D5114774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5B6B-4112-451C-B351-18DDF5B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30A9-9CC3-445A-AB24-F5DF57D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3EC0-69E4-45DB-80D5-EDE0BC6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2A74-A450-4C08-94FB-8792CE1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D4D-391B-4AF3-8277-9C36F3B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6691-7965-4098-8265-209745F6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CC5D-9113-4EB8-8A5B-4A4C77DB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71C5F-E2C8-474C-BB58-361A35B7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DB0A-078B-43D7-A602-8C8D4B4C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A1CC-4F45-40BA-A764-3702EFA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529DA-3169-405A-B574-78435CB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0E64-30E7-4162-A798-D9BA8C1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807E7-6626-4CCA-BCCC-B34E7189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3498-733E-4351-BBD4-DA76B59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2EEC-DD5E-47BB-BB0D-AA44FAE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54E-53B1-4C5E-9F94-A917B82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553A-58AB-4436-8170-24627B1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8DEC-9841-4CE9-B59F-21AF4676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4670-29DA-43D9-A4C9-FC3C0DD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0EDF-424C-44C2-8102-9761EF6C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2BEF-B35A-4A60-804A-D7E5A327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DF0C-4F12-4555-940B-5C495D2B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84C5-AE1E-475B-871C-2A9D812F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1D521-D6A9-4C4D-878D-54F4795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8A5F8-101A-4796-874A-CAEB660B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C26B-398E-488D-A5B1-C499054A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BFF-59B7-446F-8D09-C0DA294A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D7DA-542D-43DF-A6BE-D3A77E8A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ABEA1-E5C5-42AE-B7FD-957C426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236F-9EBF-4C7A-A025-5DE1381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B34B-A410-4CA6-A4BF-DF5197C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4ABB-2746-47CF-9268-F9A0E00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0E56-953B-4619-8557-52C7458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C875-8721-45BF-B2EF-94D58637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E58EF-7196-4F89-A86D-45C7FBD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268C-1A09-4011-9023-BF90DB1C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482A-9506-48D0-AE4E-6D68451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195EBE-FBFD-4D78-9FDA-E31F39D47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A09A90-9E69-48E1-80E2-03028AFD4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9A5ED8-2A86-444F-8427-7BF5721B5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C048B7-04C0-439E-A679-5F718EA7B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5F8B2D-4025-419D-8245-322D70435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5204AE-0640-48F6-B81E-444F12544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633ADF-4746-43D4-821F-C81691428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92AE37-EC70-4BB1-8A40-5A1BAB18C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27B0E7-90C4-445E-AD8F-C2F60209C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8F453B-6878-4AE6-ABF7-D89AE2D147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CA2D69-A5AD-4216-86B2-F422A6914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8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1182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837DEA-E656-4678-B720-D004EB966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WNG – January 201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3160" y="1630440"/>
            <a:ext cx="8381880" cy="41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Network Enablers for Seamless HMD-based VR (Virtual Reality) SG” – Subir Das (Perspecta L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s for March 20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r will make a call for presentations in adv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agenda is document 11-18/2113r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91560" y="30636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972480" y="6475320"/>
            <a:ext cx="15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Qual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65DEAE-5F0D-480E-AC56-3284E69D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0" y="1174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esday 15 January AM1 (08:00-10: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Jim Lansford</cp:lastModifiedBy>
  <cp:lastPrinted>1998-02-10T13:28:06Z</cp:lastPrinted>
  <dcterms:modified xsi:type="dcterms:W3CDTF">2019-01-05T00:00:53Z</dcterms:modified>
  <cp:revision>151</cp:revision>
  <dc:subject/>
  <dc:title>ARC-snapshot</dc:title>
</cp:coreProperties>
</file>