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291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120"/>
            <a:ext cx="5029200" cy="418284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9120" y="9000720"/>
            <a:ext cx="92412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0AB298-091D-4C7C-9962-AE68E165A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1520" y="29700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6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6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9046183-1DF9-479A-8409-F1D6FBC8302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14560" y="703440"/>
            <a:ext cx="4630680" cy="3473280"/>
          </a:xfrm>
          <a:prstGeom prst="rect">
            <a:avLst/>
          </a:prstGeom>
          <a:ln w="0">
            <a:noFill/>
          </a:ln>
        </p:spPr>
      </p:sp>
      <p:sp>
        <p:nvSpPr>
          <p:cNvPr id="17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28F1E13C-13DF-4DC9-9D74-D6F341643C5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5"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6" name="PlaceHolder 2"/>
          <p:cNvSpPr>
            <a:spLocks noGrp="1"/>
          </p:cNvSpPr>
          <p:nvPr>
            <p:ph type="sldImg"/>
          </p:nvPr>
        </p:nvSpPr>
        <p:spPr>
          <a:xfrm>
            <a:off x="1108080" y="698400"/>
            <a:ext cx="4643280" cy="3483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4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AE033C5-95AE-4638-89FF-C27732CC316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42"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43"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44"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ACD200F3-6546-48AC-B1E3-CC13CDE71F3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14560" y="703440"/>
            <a:ext cx="4630680" cy="3473280"/>
          </a:xfrm>
          <a:prstGeom prst="rect">
            <a:avLst/>
          </a:prstGeom>
          <a:ln w="0">
            <a:noFill/>
          </a:ln>
        </p:spPr>
      </p:sp>
      <p:sp>
        <p:nvSpPr>
          <p:cNvPr id="2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4/0415r0</a:t>
            </a:r>
            <a:endParaRPr b="0" lang="en-US" sz="1400" spc="-1" strike="noStrike">
              <a:solidFill>
                <a:srgbClr val="000000"/>
              </a:solidFill>
              <a:latin typeface="Times New Roman"/>
            </a:endParaRPr>
          </a:p>
        </p:txBody>
      </p:sp>
      <p:sp>
        <p:nvSpPr>
          <p:cNvPr id="24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49" name="Rectangle 6"/>
          <p:cNvSpPr/>
          <p:nvPr/>
        </p:nvSpPr>
        <p:spPr>
          <a:xfrm>
            <a:off x="4874040" y="9001080"/>
            <a:ext cx="17550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Sean Coffey, Realtek</a:t>
            </a:r>
            <a:endParaRPr b="0" lang="en-US" sz="1200" spc="-1" strike="noStrike">
              <a:solidFill>
                <a:srgbClr val="000000"/>
              </a:solidFill>
              <a:latin typeface="Times New Roman"/>
            </a:endParaRPr>
          </a:p>
        </p:txBody>
      </p:sp>
      <p:sp>
        <p:nvSpPr>
          <p:cNvPr id="25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8F2442A-C082-4FBE-83C8-FDBFB8F95D0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52"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53"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54"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22895466-E2E6-43FD-A20D-523C4D0C7CA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14560" y="703440"/>
            <a:ext cx="4630680" cy="3473280"/>
          </a:xfrm>
          <a:prstGeom prst="rect">
            <a:avLst/>
          </a:prstGeom>
          <a:ln w="0">
            <a:noFill/>
          </a:ln>
        </p:spPr>
      </p:sp>
      <p:sp>
        <p:nvSpPr>
          <p:cNvPr id="25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5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5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C9D299EE-DD17-46A7-845E-6D2122533D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14560" y="703440"/>
            <a:ext cx="4630680" cy="3473280"/>
          </a:xfrm>
          <a:prstGeom prst="rect">
            <a:avLst/>
          </a:prstGeom>
          <a:ln w="0">
            <a:noFill/>
          </a:ln>
        </p:spPr>
      </p:sp>
      <p:sp>
        <p:nvSpPr>
          <p:cNvPr id="26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4"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65"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C72BB0D6-038E-4834-8911-E189F8D4752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14560" y="703440"/>
            <a:ext cx="4630680" cy="3473280"/>
          </a:xfrm>
          <a:prstGeom prst="rect">
            <a:avLst/>
          </a:prstGeom>
          <a:ln w="0">
            <a:noFill/>
          </a:ln>
        </p:spPr>
      </p:sp>
      <p:sp>
        <p:nvSpPr>
          <p:cNvPr id="26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0"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1"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BD07EBA-69A3-43C4-B2CC-ED904AB972E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14560" y="703440"/>
            <a:ext cx="4630680" cy="3473280"/>
          </a:xfrm>
          <a:prstGeom prst="rect">
            <a:avLst/>
          </a:prstGeom>
          <a:ln w="0">
            <a:noFill/>
          </a:ln>
        </p:spPr>
      </p:sp>
      <p:sp>
        <p:nvSpPr>
          <p:cNvPr id="27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5F12B23-9B8D-4A10-9B44-DD20BADFA0B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14560" y="703440"/>
            <a:ext cx="4630680" cy="3473280"/>
          </a:xfrm>
          <a:prstGeom prst="rect">
            <a:avLst/>
          </a:prstGeom>
          <a:ln w="0">
            <a:noFill/>
          </a:ln>
        </p:spPr>
      </p:sp>
      <p:sp>
        <p:nvSpPr>
          <p:cNvPr id="28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E7AA597-EB4F-455C-967D-C7B430F1990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14560" y="703440"/>
            <a:ext cx="4630680" cy="3473280"/>
          </a:xfrm>
          <a:prstGeom prst="rect">
            <a:avLst/>
          </a:prstGeom>
          <a:ln w="0">
            <a:noFill/>
          </a:ln>
        </p:spPr>
      </p:sp>
      <p:sp>
        <p:nvSpPr>
          <p:cNvPr id="28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D9A1FA5-CE74-4DFA-8AE1-80E7FEB0A2B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14560" y="703440"/>
            <a:ext cx="4630680" cy="347328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F671279-639B-4300-9ED4-9FB67B4B06C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14560" y="703440"/>
            <a:ext cx="4630680" cy="3473280"/>
          </a:xfrm>
          <a:prstGeom prst="rect">
            <a:avLst/>
          </a:prstGeom>
          <a:ln w="0">
            <a:noFill/>
          </a:ln>
        </p:spPr>
      </p:sp>
      <p:sp>
        <p:nvSpPr>
          <p:cNvPr id="18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4"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5"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95717539-BFC8-483F-84C8-1D07817642F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7"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8" name="PlaceHolder 2"/>
          <p:cNvSpPr>
            <a:spLocks noGrp="1"/>
          </p:cNvSpPr>
          <p:nvPr>
            <p:ph type="sldImg"/>
          </p:nvPr>
        </p:nvSpPr>
        <p:spPr>
          <a:xfrm>
            <a:off x="1108080" y="698400"/>
            <a:ext cx="4643280" cy="3483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0"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1"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34C79AF3-C081-4789-88AB-586A2C49866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14560" y="703440"/>
            <a:ext cx="4630680" cy="3473280"/>
          </a:xfrm>
          <a:prstGeom prst="rect">
            <a:avLst/>
          </a:prstGeom>
          <a:ln w="0">
            <a:noFill/>
          </a:ln>
        </p:spPr>
      </p:sp>
      <p:sp>
        <p:nvSpPr>
          <p:cNvPr id="19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5AAA3D9-24B1-42A3-9911-3C34DB9AE18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9"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00"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01"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02"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D00DD2EF-F9D5-4DA8-8731-6952194DB5F4}"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14560" y="703440"/>
            <a:ext cx="4630680" cy="3473280"/>
          </a:xfrm>
          <a:prstGeom prst="rect">
            <a:avLst/>
          </a:prstGeom>
          <a:ln w="0">
            <a:noFill/>
          </a:ln>
        </p:spPr>
      </p:sp>
      <p:sp>
        <p:nvSpPr>
          <p:cNvPr id="2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0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0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0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91F4D468-5705-40AE-B07B-3C254DB3499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9"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10"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11"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12"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51D38C90-A322-4A14-8161-E627003C26E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14560" y="703440"/>
            <a:ext cx="4630680" cy="3473280"/>
          </a:xfrm>
          <a:prstGeom prst="rect">
            <a:avLst/>
          </a:prstGeom>
          <a:ln w="0">
            <a:noFill/>
          </a:ln>
        </p:spPr>
      </p:sp>
      <p:sp>
        <p:nvSpPr>
          <p:cNvPr id="21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0204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16" name="Rectangle 3"/>
          <p:cNvSpPr/>
          <p:nvPr/>
        </p:nvSpPr>
        <p:spPr>
          <a:xfrm>
            <a:off x="6462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17" name="Rectangle 6"/>
          <p:cNvSpPr/>
          <p:nvPr/>
        </p:nvSpPr>
        <p:spPr>
          <a:xfrm>
            <a:off x="366192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18" name="Rectangle 7"/>
          <p:cNvSpPr/>
          <p:nvPr/>
        </p:nvSpPr>
        <p:spPr>
          <a:xfrm>
            <a:off x="300204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57877F43-71C7-436B-B9AD-3288888E4AE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9" name="Rectangle 2"/>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20" name="Rectangle 3"/>
          <p:cNvSpPr/>
          <p:nvPr/>
        </p:nvSpPr>
        <p:spPr>
          <a:xfrm>
            <a:off x="6469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21" name="Rectangle 6"/>
          <p:cNvSpPr/>
          <p:nvPr/>
        </p:nvSpPr>
        <p:spPr>
          <a:xfrm>
            <a:off x="315288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22" name="Rectangle 7"/>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580249EE-E6F9-49DB-A10F-D27BEAD9A6D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04840" y="696960"/>
            <a:ext cx="4649760" cy="348768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2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2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2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9B786DE8-7D51-4065-BAD0-86228C004C7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0" name="PlaceHolder 2"/>
          <p:cNvSpPr>
            <a:spLocks noGrp="1"/>
          </p:cNvSpPr>
          <p:nvPr>
            <p:ph type="sldImg"/>
          </p:nvPr>
        </p:nvSpPr>
        <p:spPr>
          <a:xfrm>
            <a:off x="1108080" y="698400"/>
            <a:ext cx="4643280" cy="3483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B9071-2926-4F92-B4A2-719C7BD66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97B21-BA99-450D-81F8-9A1F86190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19014-56C4-4CD5-9948-0AC27715C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1DD98-9EA9-422F-BAB3-27F66D5AA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E5F76-77AD-4C89-BB96-99AB5B1FB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F9845-735D-4824-ADDB-473D85A1C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EB885-B815-4E4F-9590-87DEB9F01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AE9F5-8F03-45A0-AA50-E245B9811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3733F-E4C2-449A-8A96-5AEE15FE7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3F950-FBD7-4B0C-B425-DD56EC05A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99C1-229E-43DA-BFE5-7D7BFC235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3CE5C-2100-412B-A2B3-A817D948E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89396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68BCE6-E4AA-44D1-A978-76CD4077C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4/0475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mentor.ieee.org/802.11/dcn/14/11-14-0182-02-000m-liaison-to-wfa-on-reducing-use-of-cck-and-dsss.docx" TargetMode="External"/><Relationship Id="rId2" Type="http://schemas.openxmlformats.org/officeDocument/2006/relationships/hyperlink" Target="https://mentor.ieee.org/802.11/dcn/14/11-14-0415-01-000m-phy-recommended-practice.pptx" TargetMode="External"/><Relationship Id="rId3" Type="http://schemas.openxmlformats.org/officeDocument/2006/relationships/hyperlink" Target="https://mentor.ieee.org/802.11/dcn/13/11-13-1533-03-000m-clause-16-and-17-deprecation.docx"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mentor.ieee.org/802.11/dcn/13/11-13-0361-26-000m-revmc-mac-comments.xls" TargetMode="External"/><Relationship Id="rId2" Type="http://schemas.openxmlformats.org/officeDocument/2006/relationships/hyperlink" Target="https://mentor.ieee.org/802.11/dcn/13/11-13-0361-26-000m-revmc-mac-comments.xls"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urphy.events.ieee.org/imat/" TargetMode="External"/><Relationship Id="rId2" Type="http://schemas.openxmlformats.org/officeDocument/2006/relationships/hyperlink" Target="https://mentor.ieee.org/802.11/document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hyperlink" Target="http://standards.ieee.org/board/pat/pat-slideset.ppt" TargetMode="External"/><Relationship Id="rId3" Type="http://schemas.openxmlformats.org/officeDocument/2006/relationships/hyperlink" Target="http://standards.ieee.org/board/pat/faq.pdf" TargetMode="External"/><Relationship Id="rId4" Type="http://schemas.openxmlformats.org/officeDocument/2006/relationships/hyperlink" Target="http://standards.ieee.org/board/pat/loa.pdf" TargetMode="External"/><Relationship Id="rId5" Type="http://schemas.openxmlformats.org/officeDocument/2006/relationships/hyperlink" Target="http://standards.ieee.org/faqs/affiliationFAQ.html" TargetMode="External"/><Relationship Id="rId6" Type="http://schemas.openxmlformats.org/officeDocument/2006/relationships/hyperlink" Target="http://standards.ieee.org/resources/antitrust-guidelines.pdf" TargetMode="External"/><Relationship Id="rId7" Type="http://schemas.openxmlformats.org/officeDocument/2006/relationships/hyperlink" Target="http://www.ieee.org/portal/cms_docs/about/CoE_poster.pdf" TargetMode="External"/><Relationship Id="rId8" Type="http://schemas.openxmlformats.org/officeDocument/2006/relationships/hyperlink" Target="http://standards.ieee.org/board/aud/LMSC.pdf" TargetMode="External"/><Relationship Id="rId9" Type="http://schemas.openxmlformats.org/officeDocument/2006/relationships/hyperlink" Target="http://grouper.ieee.org/groups/802/PNP/approved/IEEE_802_OM_v13.pdf" TargetMode="External"/><Relationship Id="rId10" Type="http://schemas.openxmlformats.org/officeDocument/2006/relationships/hyperlink" Target="http://grouper.ieee.org/groups/802/PNP/approved/IEEE_802_WG_PandP_v15.pdf" TargetMode="External"/><Relationship Id="rId11" Type="http://schemas.openxmlformats.org/officeDocument/2006/relationships/hyperlink" Target="https://mentor.ieee.org/802.11/dcn/13/11-13-0001-03-0000-802-11-operations-manual.docx" TargetMode="External"/><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6FA256F-6300-4BC5-975F-1D8B2DAC684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TGmc May 2014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4-01</a:t>
            </a:r>
            <a:endParaRPr b="1" lang="en-US" sz="2000" spc="-1" strike="noStrike">
              <a:solidFill>
                <a:srgbClr val="000000"/>
              </a:solidFill>
              <a:latin typeface="Times New Roman"/>
            </a:endParaRPr>
          </a:p>
        </p:txBody>
      </p:sp>
      <p:graphicFrame>
        <p:nvGraphicFramePr>
          <p:cNvPr id="60" name="Object 11"/>
          <p:cNvGraphicFramePr/>
          <p:nvPr/>
        </p:nvGraphicFramePr>
        <p:xfrm>
          <a:off x="519120" y="2273400"/>
          <a:ext cx="8229600" cy="2520720"/>
        </p:xfrm>
        <a:graphic>
          <a:graphicData uri="http://schemas.openxmlformats.org/presentationml/2006/ole">
            <p:oleObj progId="Word.Document.12" r:id="rId1" spid="">
              <p:embed/>
              <p:pic>
                <p:nvPicPr>
                  <p:cNvPr id="61" name="Object 11" descr=""/>
                  <p:cNvPicPr/>
                  <p:nvPr/>
                </p:nvPicPr>
                <p:blipFill>
                  <a:blip r:embed="rId2"/>
                  <a:stretch/>
                </p:blipFill>
                <p:spPr>
                  <a:xfrm>
                    <a:off x="519120" y="2273400"/>
                    <a:ext cx="8229600" cy="252072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2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3103715-16F7-439F-989F-69CF1971A44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25"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26" name=""/>
          <p:cNvGraphicFramePr/>
          <p:nvPr/>
        </p:nvGraphicFramePr>
        <p:xfrm>
          <a:off x="609480" y="1371600"/>
          <a:ext cx="8229600" cy="4745160"/>
        </p:xfrm>
        <a:graphic>
          <a:graphicData uri="http://schemas.openxmlformats.org/drawingml/2006/table">
            <a:tbl>
              <a:tblPr/>
              <a:tblGrid>
                <a:gridCol w="557280"/>
                <a:gridCol w="357120"/>
                <a:gridCol w="527040"/>
                <a:gridCol w="158760"/>
                <a:gridCol w="381240"/>
                <a:gridCol w="3963960"/>
                <a:gridCol w="2284200"/>
              </a:tblGrid>
              <a:tr h="2355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3</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25</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2</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all 11b modes. Given the enormous disparity in efficiency between 11b and the OFDM modes, this no longer makes sense as a universal requirement for all products, and any such requirements should be removed, if not necessary to support coexistence. A straightforward way of accomplishing at least some of this is to remove the requirement that ERP PHYs support the 5.5 and 11 Mbps CCK data rates. Since Clause 20 (HT) references Clause 19 (ERP), this would remove 5.5 and 11 Mbps as requirements for HT also. This would not affect the requirment to be able to detect the long or short preamble (1 Mbps and 2 Mbps) and to take appropriate action based on such a detection, thus preserving the current level of coexistenc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ete 5.5 and 11 from list of mandatory data rates for ERP PHY. Also make corresponding changes throughout, including section 9.1.3 (P2048 LL30-37) (add 5.5 and 11 to list of exceptions); section 19.3.5 (P2054 LL39-40) (delete 5.5 and 11 from list); and Annex B.4.9 (P2307 LL33-37) (remove 5.5 and 11; add new entry ERP1a for 5.5 and 11, optional)</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932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4</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37</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3</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the 11b Short Preamble. This is optional for 11b. This requirement no longer makes sense (if it ever did), as there are legacy deployed devices that do not recognize the short preamble or defer for it, and it seems that most deployed devices do not transmit th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ove the sentence beginning "In addition, it is mandatory ...". Also make corresponding changes throughout, including section 19.3.2.1 (P2052 LL32-41) (change "three" to "two" and delete short preamble from list; add extra line saying that an ERP STA may support the short preamble); section 19.3.2.3 (P2053 L16) (delete sentence begiining "For the ERP..."); section 19.3.5 (P2054 L40) (delete "or short"), and (P2054 L46) (delet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pic>
        <p:nvPicPr>
          <p:cNvPr id="127" name="Rectangle 1" descr=""/>
          <p:cNvPicPr/>
          <p:nvPr/>
        </p:nvPicPr>
        <p:blipFill>
          <a:blip r:embed="rId1"/>
          <a:stretch/>
        </p:blipFill>
        <p:spPr>
          <a:xfrm>
            <a:off x="304920" y="3687840"/>
            <a:ext cx="8869320" cy="1523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29"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5F7C7DC-CBE8-45BA-9421-40209F4ACB2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201D9046-8119-4CFA-893D-1FC3C32D1FE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items from Jan, March 2014</a:t>
            </a:r>
            <a:br>
              <a:rPr sz="3200"/>
            </a:br>
            <a:endParaRPr b="1" lang="en-US" sz="32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aison letter to WFA – Brian Hart, Andrew Myles</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4/11-14-0182-02-000m-liaison-to-wfa-on-reducing-use-of-cck-and-dss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 expected in July</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Should not” behavior text – Sean </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4/11-14-0415-01-000m-phy-recommended-practice.pptx</a:t>
            </a:r>
            <a:r>
              <a:rPr b="0" lang="en-US" sz="1800" spc="-1" strike="noStrike">
                <a:solidFill>
                  <a:srgbClr val="000000"/>
                </a:solidFill>
                <a:latin typeface="Times New Roman"/>
              </a:rPr>
              <a:t> March presentation, straw polls held</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age related text, rather than excision – Menzo, Carlos C</a:t>
            </a:r>
            <a:endParaRPr b="1"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rch presentation - Graham</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3/11-13-1533-03-000m-clause-16-and-17-deprecation.docx</a:t>
            </a:r>
            <a:endParaRPr b="0" lang="en-US" sz="18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35" name="Footer Placeholder 2"/>
          <p:cNvSpPr/>
          <p:nvPr/>
        </p:nvSpPr>
        <p:spPr>
          <a:xfrm>
            <a:off x="749988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8014B5D-6F54-487C-B896-71122BE53D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C7CFC1EA-4974-465F-B4C0-DBAAAB1CDF60}"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s</a:t>
            </a:r>
            <a:br>
              <a:rPr sz="3200"/>
            </a:br>
            <a:endParaRPr b="1" lang="en-US" sz="3200" spc="-1" strike="noStrike">
              <a:solidFill>
                <a:srgbClr val="000000"/>
              </a:solidFill>
              <a:latin typeface="Times New Roman"/>
            </a:endParaRPr>
          </a:p>
        </p:txBody>
      </p:sp>
      <p:sp>
        <p:nvSpPr>
          <p:cNvPr id="139" name="PlaceHolder 2"/>
          <p:cNvSpPr>
            <a:spLocks noGrp="1"/>
          </p:cNvSpPr>
          <p:nvPr>
            <p:ph/>
          </p:nvPr>
        </p:nvSpPr>
        <p:spPr>
          <a:xfrm>
            <a:off x="709560" y="1371240"/>
            <a:ext cx="8229600" cy="4724280"/>
          </a:xfrm>
          <a:prstGeom prst="rect">
            <a:avLst/>
          </a:prstGeom>
          <a:noFill/>
          <a:ln w="0">
            <a:noFill/>
          </a:ln>
        </p:spPr>
        <p:txBody>
          <a:bodyPr lIns="92160" rIns="92160" tIns="46080" bIns="4608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needed</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4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BBFF877-71FC-42D3-B0E5-2B2FD936DA7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eleconferences</a:t>
            </a:r>
            <a:endParaRPr b="1" lang="en-US" sz="3200" spc="-1" strike="noStrike">
              <a:solidFill>
                <a:srgbClr val="000000"/>
              </a:solidFill>
              <a:latin typeface="Times New Roman"/>
            </a:endParaRPr>
          </a:p>
        </p:txBody>
      </p:sp>
      <p:sp>
        <p:nvSpPr>
          <p:cNvPr id="144"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3/11-13-0361-26-000m-revmc-mac-comments.xls</a:t>
            </a:r>
            <a:r>
              <a:rPr b="0" lang="en-US" sz="1800" spc="-1" strike="noStrike">
                <a:solidFill>
                  <a:srgbClr val="000000"/>
                </a:solidFill>
                <a:latin typeface="Times New Roman"/>
              </a:rPr>
              <a:t>  Tab “Motion MAC-W”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8-000m-lb199-gen-adhoc-comments.xls Tabs  “Gen Motion Telecon April ”,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4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1C7AFE1-7195-48F7-AF9D-223159F3032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uesday, Wednesday, Thursday Comments</a:t>
            </a: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0361-27-000m-revmc-mac-comments.xls Tab “Motion MAC-X”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9-000m-lb199-gen-adhoc-comments.xls Tab “Gen Motion  Waikoloa A ”</a:t>
            </a:r>
            <a:endParaRPr b="0" lang="en-US" sz="1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5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11AC9ED-BC63-4E73-AE78-E769E484159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199 on P802.11mc D2.0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 the editor to prepare P802.11mc D3.0 incorporating these resolutions an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 20 day Working Group Recirculation Ballot asking the question “Should P802.11mc D3.0 be forwarded to Sponsor Ballot?”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6CBBD8F-E8E4-482C-8328-97FE8560DE3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 July Meeting Planning</a:t>
            </a:r>
            <a:endParaRPr b="1" lang="en-US" sz="3200" spc="-1" strike="noStrike">
              <a:solidFill>
                <a:srgbClr val="000000"/>
              </a:solidFill>
              <a:latin typeface="Times New Roman"/>
            </a:endParaRPr>
          </a:p>
        </p:txBody>
      </p:sp>
      <p:sp>
        <p:nvSpPr>
          <p:cNvPr id="159" name="PlaceHolder 2"/>
          <p:cNvSpPr>
            <a:spLocks noGrp="1"/>
          </p:cNvSpPr>
          <p:nvPr>
            <p:ph/>
          </p:nvPr>
        </p:nvSpPr>
        <p:spPr>
          <a:xfrm>
            <a:off x="685800" y="1523520"/>
            <a:ext cx="7772400" cy="4953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 WG ballot on D3.0, comment resolu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alls 10am Eastern  2 hou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 20, July 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Hoc meeting – non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ility of 11mc in the IEEE sto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0 is available; D3.0 after successful ball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6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890A023-F48B-4BB0-BF1A-ED9D9A1FA91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64" name="PlaceHolder 2"/>
          <p:cNvSpPr>
            <a:spLocks noGrp="1"/>
          </p:cNvSpPr>
          <p:nvPr>
            <p:ph/>
          </p:nvPr>
        </p:nvSpPr>
        <p:spPr>
          <a:xfrm>
            <a:off x="685800" y="1523520"/>
            <a:ext cx="8229600" cy="5334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0594-02-0000-revision-par-proposal-for-802-11-2012.doc</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3/11-13-0233-27-000m-revmc-wg-ballot-comments.xls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A8F3EAE-335C-40DD-8AA6-A4E8BAF4F67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presentation contains the IEEE 802.11 TGmc agenda for the May 2014 sess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4"/>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69" name="Footer Placeholder 5"/>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A8EDDD7-92B0-4DFB-A6BC-50D5BA907DC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mc Agenda</a:t>
            </a:r>
            <a:endParaRPr b="1" lang="en-US" sz="2400" spc="-1" strike="noStrike">
              <a:solidFill>
                <a:srgbClr val="000000"/>
              </a:solidFill>
              <a:latin typeface="Times New Roman"/>
            </a:endParaRPr>
          </a:p>
        </p:txBody>
      </p:sp>
      <p:sp>
        <p:nvSpPr>
          <p:cNvPr id="72" name="Text Box 6"/>
          <p:cNvSpPr/>
          <p:nvPr/>
        </p:nvSpPr>
        <p:spPr>
          <a:xfrm>
            <a:off x="380880" y="6019920"/>
            <a:ext cx="830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tendance reminder: </a:t>
            </a:r>
            <a:r>
              <a:rPr b="1" lang="en-US" sz="1200" spc="-1" strike="noStrike" u="sng">
                <a:solidFill>
                  <a:srgbClr val="0066ff"/>
                </a:solidFill>
                <a:uFillTx/>
                <a:latin typeface="Times New Roman"/>
                <a:ea typeface="Arial"/>
                <a:hlinkClick r:id="rId1"/>
              </a:rPr>
              <a:t>https://murphy.events.ieee.org/i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Documents: </a:t>
            </a:r>
            <a:r>
              <a:rPr b="1" lang="en-US" sz="1200" spc="-1" strike="noStrike" u="sng">
                <a:solidFill>
                  <a:srgbClr val="0066ff"/>
                </a:solidFill>
                <a:uFillTx/>
                <a:latin typeface="Times New Roman"/>
                <a:ea typeface="Arial"/>
                <a:hlinkClick r:id="rId2"/>
              </a:rPr>
              <a:t>https://mentor.ieee.org/802.11/documents</a:t>
            </a:r>
            <a:r>
              <a:rPr b="1"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73" name="Rectangle 19"/>
          <p:cNvSpPr/>
          <p:nvPr/>
        </p:nvSpPr>
        <p:spPr>
          <a:xfrm>
            <a:off x="333360" y="1295280"/>
            <a:ext cx="4543560" cy="2013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ir’s Welcome, Status, Review of Objectives, Approve agenda, minut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Editor’s Repor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imeline and Schedul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4" name="Rectangle 35"/>
          <p:cNvSpPr/>
          <p:nvPr/>
        </p:nvSpPr>
        <p:spPr>
          <a:xfrm>
            <a:off x="324000" y="4991040"/>
            <a:ext cx="4343400" cy="1047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2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5" name="Rectangle 36"/>
          <p:cNvSpPr/>
          <p:nvPr/>
        </p:nvSpPr>
        <p:spPr>
          <a:xfrm>
            <a:off x="4714920" y="4243320"/>
            <a:ext cx="4200480" cy="1257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2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Mot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ans for July, Schedule, AOB</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journ</a:t>
            </a:r>
            <a:endParaRPr b="0" lang="en-US" sz="1600" spc="-1" strike="noStrike">
              <a:solidFill>
                <a:srgbClr val="000000"/>
              </a:solidFill>
              <a:latin typeface="Times New Roman"/>
            </a:endParaRPr>
          </a:p>
        </p:txBody>
      </p:sp>
      <p:sp>
        <p:nvSpPr>
          <p:cNvPr id="76" name="Rectangle 35"/>
          <p:cNvSpPr/>
          <p:nvPr/>
        </p:nvSpPr>
        <p:spPr>
          <a:xfrm>
            <a:off x="4724280" y="3429000"/>
            <a:ext cx="3962520" cy="106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AM2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motions</a:t>
            </a:r>
            <a:endParaRPr b="0" lang="en-US" sz="1600" spc="-1" strike="noStrike">
              <a:solidFill>
                <a:srgbClr val="000000"/>
              </a:solidFill>
              <a:latin typeface="Times New Roman"/>
            </a:endParaRPr>
          </a:p>
        </p:txBody>
      </p:sp>
      <p:sp>
        <p:nvSpPr>
          <p:cNvPr id="77" name="Rectangle 1"/>
          <p:cNvSpPr/>
          <p:nvPr/>
        </p:nvSpPr>
        <p:spPr>
          <a:xfrm>
            <a:off x="295200" y="3862440"/>
            <a:ext cx="4238640" cy="90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 – Teleconference comment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p:txBody>
      </p:sp>
      <p:sp>
        <p:nvSpPr>
          <p:cNvPr id="78" name="Rectangle 35"/>
          <p:cNvSpPr/>
          <p:nvPr/>
        </p:nvSpPr>
        <p:spPr>
          <a:xfrm>
            <a:off x="4667400" y="1295280"/>
            <a:ext cx="4200480" cy="609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9" name="Rectangle 1"/>
          <p:cNvSpPr/>
          <p:nvPr/>
        </p:nvSpPr>
        <p:spPr>
          <a:xfrm>
            <a:off x="401760" y="3106800"/>
            <a:ext cx="4238640" cy="60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2</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p:txBody>
      </p:sp>
      <p:sp>
        <p:nvSpPr>
          <p:cNvPr id="80" name="Rectangle 35"/>
          <p:cNvSpPr/>
          <p:nvPr/>
        </p:nvSpPr>
        <p:spPr>
          <a:xfrm>
            <a:off x="4724280" y="2274840"/>
            <a:ext cx="4200480" cy="60948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2</a:t>
            </a:r>
            <a:endParaRPr b="0" lang="en-US" sz="1800" spc="-1" strike="noStrike">
              <a:solidFill>
                <a:srgbClr val="000000"/>
              </a:solidFill>
              <a:latin typeface="Times New Roman"/>
            </a:endParaRPr>
          </a:p>
          <a:p>
            <a:pPr lvl="1" marL="609120" indent="-234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deprecation CIDs, Mo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82"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61963F8-C631-4323-BBF6-5F4071FA3AC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Gmc – </a:t>
            </a:r>
            <a:r>
              <a:rPr b="1" lang="en-US" sz="3200" spc="-1" strike="noStrike">
                <a:solidFill>
                  <a:srgbClr val="000000"/>
                </a:solidFill>
                <a:latin typeface="Times New Roman"/>
              </a:rPr>
              <a:t>Monday PM1</a:t>
            </a:r>
            <a:br>
              <a:rPr sz="3200"/>
            </a:br>
            <a:endParaRPr b="1" lang="en-US" sz="3200" spc="-1" strike="noStrike">
              <a:solidFill>
                <a:srgbClr val="000000"/>
              </a:solidFill>
              <a:latin typeface="Times New Roman"/>
            </a:endParaRPr>
          </a:p>
        </p:txBody>
      </p:sp>
      <p:sp>
        <p:nvSpPr>
          <p:cNvPr id="87" name="Rectangle 5"/>
          <p:cNvSpPr/>
          <p:nvPr/>
        </p:nvSpPr>
        <p:spPr>
          <a:xfrm>
            <a:off x="380880" y="1852560"/>
            <a:ext cx="8077320" cy="174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all Meeting to Order </a:t>
            </a:r>
            <a:endParaRPr b="0" lang="en-US" sz="1800" spc="-1" strike="noStrike">
              <a:solidFill>
                <a:srgbClr val="000000"/>
              </a:solidFill>
              <a:latin typeface="Times New Roman"/>
            </a:endParaRPr>
          </a:p>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icies and Procedures, Attendance reminder</a:t>
            </a:r>
            <a:endParaRPr b="0" lang="en-US" sz="1800" spc="-1" strike="noStrike">
              <a:solidFill>
                <a:srgbClr val="000000"/>
              </a:solidFill>
              <a:latin typeface="Times New Roman"/>
            </a:endParaRPr>
          </a:p>
          <a:p>
            <a:pPr lvl="1" marL="457200">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IEEE Patent Policy </a:t>
            </a:r>
            <a:r>
              <a:rPr b="0" lang="en-US" sz="1800" spc="-1" strike="noStrike" u="sng">
                <a:solidFill>
                  <a:srgbClr val="0066ff"/>
                </a:solidFill>
                <a:uFillTx/>
                <a:latin typeface="Times New Roman"/>
                <a:ea typeface="Arial"/>
                <a:hlinkClick r:id="rId1"/>
              </a:rPr>
              <a:t>http://standards.ieee.org/board/pat/pat-slideset.ppt</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2" marL="914400">
              <a:lnSpc>
                <a:spcPct val="80000"/>
              </a:lnSpc>
              <a:spcBef>
                <a:spcPts val="300"/>
              </a:spcBef>
              <a:spcAft>
                <a:spcPts val="45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e there any patent claim(s)/patent application claim(s) and/or the holder of patent claim(s)/patent application claim(s) that the participant believes may be essential for the use of that standard? Minute any responses that were given, specifically the patent claim(s)/patent application claim(s) and/or the holder of the patent claim(s)/patent application claim(s) that were identified (if any) and by whom.</a:t>
            </a:r>
            <a:endParaRPr b="0" lang="en-US" sz="1200" spc="-1" strike="noStrike">
              <a:solidFill>
                <a:srgbClr val="000000"/>
              </a:solidFill>
              <a:latin typeface="Times New Roman"/>
            </a:endParaRPr>
          </a:p>
        </p:txBody>
      </p:sp>
      <p:sp>
        <p:nvSpPr>
          <p:cNvPr id="88" name="Text Box 6"/>
          <p:cNvSpPr/>
          <p:nvPr/>
        </p:nvSpPr>
        <p:spPr>
          <a:xfrm>
            <a:off x="522720" y="5989680"/>
            <a:ext cx="2372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Read slide d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Note especially items #7 &amp;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9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1DDC9D9-66E8-48E3-A1D3-1D328FD8454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2" name="PlaceHolder 1"/>
          <p:cNvSpPr>
            <a:spLocks noGrp="1"/>
          </p:cNvSpPr>
          <p:nvPr>
            <p:ph/>
          </p:nvPr>
        </p:nvSpPr>
        <p:spPr>
          <a:xfrm>
            <a:off x="4572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review the documents at the following links:</a:t>
            </a:r>
            <a:endParaRPr b="1" lang="en-US" sz="24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atent Policy: </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http://</a:t>
            </a:r>
            <a:r>
              <a:rPr b="0" lang="en-US" sz="1600" spc="-1" strike="noStrike" u="sng">
                <a:solidFill>
                  <a:srgbClr val="0066ff"/>
                </a:solidFill>
                <a:uFillTx/>
                <a:latin typeface="Times New Roman"/>
                <a:hlinkClick r:id="rId2"/>
              </a:rPr>
              <a:t>standards.ieee.org/board/pat/pat-slideset.pp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ent FAQ: </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3"/>
              </a:rPr>
              <a:t>http://standards.ieee.org/board/pat/faq.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ter of Assurance Form:</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4"/>
              </a:rPr>
              <a:t>http://standards.ieee.org/board/pat/loa.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filiation FAQ: </a:t>
            </a:r>
            <a:r>
              <a:rPr b="0" lang="en-US" sz="1600" spc="-1" strike="noStrike" u="sng">
                <a:solidFill>
                  <a:srgbClr val="0066ff"/>
                </a:solidFill>
                <a:uFillTx/>
                <a:latin typeface="Times New Roman"/>
                <a:hlinkClick r:id="rId5"/>
              </a:rPr>
              <a:t>http://standards.ieee.org/faqs/affiliationFAQ.html</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FAQ: </a:t>
            </a:r>
            <a:r>
              <a:rPr b="0" lang="en-US" sz="1600" spc="-1" strike="noStrike" u="sng">
                <a:solidFill>
                  <a:srgbClr val="0066ff"/>
                </a:solidFill>
                <a:uFillTx/>
                <a:latin typeface="Times New Roman"/>
                <a:hlinkClick r:id="rId6"/>
              </a:rPr>
              <a:t>http://standards.ieee.org/resources/antitrust-guidelines.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hics:</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7"/>
              </a:rPr>
              <a:t>http://www.ieee.org/portal/cms_docs/about/CoE_poster.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LMSC P&amp;P: </a:t>
            </a:r>
            <a:r>
              <a:rPr b="0" lang="en-US" sz="1600" spc="-1" strike="noStrike" u="sng">
                <a:solidFill>
                  <a:srgbClr val="0066ff"/>
                </a:solidFill>
                <a:uFillTx/>
                <a:latin typeface="Times New Roman"/>
                <a:hlinkClick r:id="rId8"/>
              </a:rPr>
              <a:t>http://standards.ieee.org/board/aud/LMSC.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LMSC OM: </a:t>
            </a:r>
            <a:r>
              <a:rPr b="0" lang="en-US" sz="1600" spc="-1" strike="noStrike" u="sng">
                <a:solidFill>
                  <a:srgbClr val="0066ff"/>
                </a:solidFill>
                <a:uFillTx/>
                <a:latin typeface="Times New Roman"/>
                <a:hlinkClick r:id="rId9"/>
              </a:rPr>
              <a:t>http://grouper.ieee.org/groups/802/PNP/approved/IEEE_802_OM_v13.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WG P&amp;P: </a:t>
            </a:r>
            <a:r>
              <a:rPr b="0" lang="en-US" sz="1600" spc="-1" strike="noStrike" u="sng">
                <a:solidFill>
                  <a:srgbClr val="0066ff"/>
                </a:solidFill>
                <a:uFillTx/>
                <a:latin typeface="Times New Roman"/>
                <a:hlinkClick r:id="rId10"/>
              </a:rPr>
              <a:t>http://grouper.ieee.org/groups/802/PNP/approved/IEEE_802_WG_PandP_v15.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1 WG OM: </a:t>
            </a:r>
            <a:r>
              <a:rPr b="0" lang="en-US" sz="1600" spc="-1" strike="noStrike" u="sng">
                <a:solidFill>
                  <a:srgbClr val="0066ff"/>
                </a:solidFill>
                <a:uFillTx/>
                <a:latin typeface="Times New Roman"/>
                <a:hlinkClick r:id="rId11"/>
              </a:rPr>
              <a:t>https://mentor.ieee.org/802.11/dcn/13/11-13-0001-03-0000-802-11-operations-manual.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94"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C7B2B21-21E0-4D07-B142-4F1198A0A91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A59C497D-880D-43B4-961B-64C3EC9B3F8D}"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br>
              <a:rPr sz="3200"/>
            </a:br>
            <a:endParaRPr b="1"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 hou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m” for documents relating to the Revision P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00"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5B8F7EE-45D6-4C3A-9E4A-87FD8B452CE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B020A379-7D55-475F-BE7A-11A20AE7F6C1}"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day PM1 (continued)</a:t>
            </a:r>
            <a:br>
              <a:rPr sz="3200"/>
            </a:b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ijing minutes: 11-14-0316</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ference minutes: TB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Report (Adrian Stephens)</a:t>
            </a:r>
            <a:endParaRPr b="1"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06" name="Footer Placeholder 2"/>
          <p:cNvSpPr/>
          <p:nvPr/>
        </p:nvSpPr>
        <p:spPr>
          <a:xfrm>
            <a:off x="7235280" y="6475320"/>
            <a:ext cx="2151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47DB5A6-5DEC-44E7-B4D8-98BF603F7BE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82033D5-778D-4010-8A16-7E937C94F54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Plan of Record</a:t>
            </a:r>
            <a:endParaRPr b="1" lang="en-US" sz="3200" spc="-1" strike="noStrike">
              <a:solidFill>
                <a:srgbClr val="000000"/>
              </a:solidFill>
              <a:latin typeface="Times New Roman"/>
            </a:endParaRPr>
          </a:p>
        </p:txBody>
      </p:sp>
      <p:sp>
        <p:nvSpPr>
          <p:cNvPr id="110"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 July 2012 – 12 Sept 2012 – Call for Comment/Inpu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30 Aug 2012 – NesCom, SASB PAR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Begin to process inpu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11aa, 11ae integra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 – First WG Letter ballot  - without 11a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2 – March/May 2013  – 11ad integration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3 – Letter ballot on D2.0</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3 – May 2014 – 11ac, 11af integration – </a:t>
            </a:r>
            <a:r>
              <a:rPr b="1" lang="en-US" sz="2000" spc="-1" strike="noStrike">
                <a:solidFill>
                  <a:srgbClr val="3333cc"/>
                </a:solidFill>
                <a:latin typeface="Times New Roman"/>
              </a:rPr>
              <a:t>D3.0 in May 2014</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4 – Mandatory Draft Review</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 - Aug 2014 – Form Sponsor Pool (45 days)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v 14 – Initial Sponsor Ballo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5– WG/EC Final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5 – RevCom/SASB Approval – </a:t>
            </a:r>
            <a:r>
              <a:rPr b="1" lang="en-US" sz="2000" spc="-1" strike="noStrike">
                <a:solidFill>
                  <a:srgbClr val="3333cc"/>
                </a:solidFill>
                <a:latin typeface="Times New Roman"/>
              </a:rPr>
              <a:t>Was Sept 2015</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12"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612CC36-4DBA-4952-9C0C-914DD556073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17"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18" name=""/>
          <p:cNvGraphicFramePr/>
          <p:nvPr/>
        </p:nvGraphicFramePr>
        <p:xfrm>
          <a:off x="657360" y="1371600"/>
          <a:ext cx="7772400" cy="4495680"/>
        </p:xfrm>
        <a:graphic>
          <a:graphicData uri="http://schemas.openxmlformats.org/drawingml/2006/table">
            <a:tbl>
              <a:tblPr/>
              <a:tblGrid>
                <a:gridCol w="482400"/>
                <a:gridCol w="739800"/>
                <a:gridCol w="100080"/>
                <a:gridCol w="882720"/>
                <a:gridCol w="177840"/>
                <a:gridCol w="3219480"/>
                <a:gridCol w="2170080"/>
              </a:tblGrid>
              <a:tr h="210672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1</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49.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6 devices have the capability of bringing 2.4GHz networks to their knees.  13/0416 (latest is r5 at time of writing comment) shows that there is no technical reason to maintain Clause 16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896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2</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74.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7 devices are coupled to Clause 16 DSSS and as such have the capability of bringing 2.4GHz networks to their knees.  13/0416 (latest is r5 at time of writing comment) shows that there is no technical reason to maintain Clause 16 or 17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high rate extention to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21:26:55Z</dcterms:created>
  <dc:creator>Dorothy Stanley</dc:creator>
  <dc:description/>
  <dc:language>en-US</dc:language>
  <cp:lastModifiedBy>Dorothy Stanley</cp:lastModifiedBy>
  <cp:lastPrinted>1998-02-10T13:28:06Z</cp:lastPrinted>
  <dcterms:modified xsi:type="dcterms:W3CDTF">2014-04-01T18:48:05Z</dcterms:modified>
  <cp:revision>1592</cp:revision>
  <dc:subject/>
  <dc:title>TGm Agenda</dc:title>
</cp:coreProperties>
</file>