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1DAF33-86C5-4FB2-B785-00EACEDBD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6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71DFA12-32C5-4297-99BC-DB6E041B23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14560" y="703440"/>
            <a:ext cx="4630680" cy="347328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166BF2A-A452-4E4D-BF0E-2977C44818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3CA53EC-62A2-426E-9A6E-576E5F7CE3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B15D163A-95A2-4592-853E-0C524333E01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4560" y="703440"/>
            <a:ext cx="4630680" cy="347328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4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9"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92C7D1C-F1B8-49DD-BA80-9E70E85D07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1A8F9984-835B-4BBE-91EC-7DA3BCDD4B6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14560" y="703440"/>
            <a:ext cx="4630680" cy="347328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25D18A7-FC55-4E8A-BD9F-106926662C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14560" y="703440"/>
            <a:ext cx="4630680" cy="347328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D926E0A-45C7-42E3-B1A7-D81403F5A6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14560" y="703440"/>
            <a:ext cx="4630680" cy="347328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86E24C0-C27D-4F90-A141-4949D7AB185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14560" y="703440"/>
            <a:ext cx="4630680" cy="347328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8A49A65-8AB5-41D9-B823-6757F16496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14560" y="703440"/>
            <a:ext cx="4630680" cy="347328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5106AC5-E5AF-4109-9149-15FB717E0F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14560" y="703440"/>
            <a:ext cx="4630680" cy="347328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18EF360-AF36-4958-A6C3-4BD7A0F189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14560" y="703440"/>
            <a:ext cx="4630680" cy="347328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B648C29-17DE-492F-9417-711810A6E73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14560" y="703440"/>
            <a:ext cx="4630680" cy="347328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5E46D6C-9327-4E1C-AB3C-C73DECA06FC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3E3A596-1AC8-429C-886C-9C0A16AE8F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14560" y="703440"/>
            <a:ext cx="4630680" cy="347328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E8A201C-F53A-4B89-9CFC-8C714C8BA1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D73F8B20-7C2B-4B0C-8E1F-A2A65726E3A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4560" y="703440"/>
            <a:ext cx="4630680" cy="347328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7D6172B-7A99-4E6E-B9CD-70D1B3274B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287F7638-D5E3-49C7-A107-22CA411EF3E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14560" y="703440"/>
            <a:ext cx="4630680" cy="347328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6"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7"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8"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DB9D0A2-19CD-4D06-AAA7-DB56925C3D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9"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0"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1"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2"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061A66F-A177-4C6A-BD5D-1101D6809B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04840" y="696960"/>
            <a:ext cx="4649760" cy="348768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1B3A9E6-70D1-49B5-9511-3F83AA070C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0E94D-954D-493C-BD02-886A7FA17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C211C-05C7-4860-9FF4-DF3618325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6F99E-B326-49A1-ADB6-133012CC6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53BA8-19AB-48C5-B0B8-FA9B6D07F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66391-1619-4C5A-A3C6-96FAFB19C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931E9-F641-409A-B987-8814E8D0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DB4FD-8DDA-4F80-A38A-754E2DD40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5817E-5F01-414B-BA28-4BB2C63F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E564F-C616-4B9B-A715-13E565E65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D74A-7FD7-4405-B668-4AD6F575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8F5E-900D-4137-A3C2-BE793D996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6266-C0B0-4653-A219-B56D1A807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AC3355-5369-446D-A8F9-EF6F939AD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hyperlink" Target="https://mentor.ieee.org/802.11/dcn/13/11-13-0361-26-000m-revmc-ma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pat-slideset.ppt"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loa.pdf" TargetMode="External"/><Relationship Id="rId5" Type="http://schemas.openxmlformats.org/officeDocument/2006/relationships/hyperlink" Target="http://standards.ieee.org/faqs/affiliationFAQ.html" TargetMode="External"/><Relationship Id="rId6" Type="http://schemas.openxmlformats.org/officeDocument/2006/relationships/hyperlink" Target="http://standards.ieee.org/resources/antitrust-guidelines.pdf" TargetMode="External"/><Relationship Id="rId7" Type="http://schemas.openxmlformats.org/officeDocument/2006/relationships/hyperlink" Target="http://www.ieee.org/portal/cms_docs/about/CoE_poster.pdf" TargetMode="External"/><Relationship Id="rId8" Type="http://schemas.openxmlformats.org/officeDocument/2006/relationships/hyperlink" Target="http://standards.ieee.org/board/aud/LMSC.pdf" TargetMode="External"/><Relationship Id="rId9" Type="http://schemas.openxmlformats.org/officeDocument/2006/relationships/hyperlink" Target="http://grouper.ieee.org/groups/802/PNP/approved/IEEE_802_OM_v13.pdf" TargetMode="External"/><Relationship Id="rId10" Type="http://schemas.openxmlformats.org/officeDocument/2006/relationships/hyperlink" Target="http://grouper.ieee.org/groups/802/PNP/approved/IEEE_802_WG_PandP_v15.pdf" TargetMode="External"/><Relationship Id="rId11" Type="http://schemas.openxmlformats.org/officeDocument/2006/relationships/hyperlink" Target="https://mentor.ieee.org/802.11/dcn/13/11-13-0001-03-0000-802-11-operations-manual.docx" TargetMode="External"/><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554838B-D0E4-4F14-812B-B549005C1D1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4-01</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2405E8E-23E9-49DE-B2C1-B2B87C747C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AD8D280-EE44-47AB-8FBC-CC0DF902F88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9B872715-00C1-4636-A3E8-E482BF86140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E65D169-E48F-443C-AA2B-C10E303A3F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387124B7-5225-43EF-92EC-C3307EC73AE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4CA0842-81A2-438B-B90C-793F0DEE98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361-26-000m-revmc-mac-comments.xls</a:t>
            </a:r>
            <a:r>
              <a:rPr b="0" lang="en-US" sz="1800" spc="-1" strike="noStrike">
                <a:solidFill>
                  <a:srgbClr val="000000"/>
                </a:solidFill>
                <a:latin typeface="Times New Roman"/>
              </a:rPr>
              <a:t>  Tab “Motion MAC-W”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8-000m-lb199-gen-adhoc-comments.xls Tabs  “Gen Motion Telecon April ”,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30CC6C5-3C6A-4679-B57D-086594BA4C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0ADFF07-0BF4-4E1B-A992-16D3782098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72DF966-6B65-4BD5-BCFC-734A15238A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92BCD3E-7B88-40F9-BE06-43CE02FC7C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D152C76-5216-4B4A-B9E1-A5ED36B20B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C3556DA-EB99-4A16-88C9-C7D7F717033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4" name="Rectangle 35"/>
          <p:cNvSpPr/>
          <p:nvPr/>
        </p:nvSpPr>
        <p:spPr>
          <a:xfrm>
            <a:off x="324000" y="499104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5" name="Rectangle 36"/>
          <p:cNvSpPr/>
          <p:nvPr/>
        </p:nvSpPr>
        <p:spPr>
          <a:xfrm>
            <a:off x="4714920" y="4243320"/>
            <a:ext cx="4200480" cy="1257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2900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862440"/>
            <a:ext cx="4238640" cy="90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9" name="Rectangle 1"/>
          <p:cNvSpPr/>
          <p:nvPr/>
        </p:nvSpPr>
        <p:spPr>
          <a:xfrm>
            <a:off x="401760" y="3106800"/>
            <a:ext cx="4238640" cy="60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80" name="Rectangle 35"/>
          <p:cNvSpPr/>
          <p:nvPr/>
        </p:nvSpPr>
        <p:spPr>
          <a:xfrm>
            <a:off x="4724280" y="2274840"/>
            <a:ext cx="4200480" cy="60948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609120" indent="-234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4388CAA-4994-4C12-AD0F-96A4DF43052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0F5274A-661F-4099-A173-2283E1FEDB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a:t>
            </a:r>
            <a:r>
              <a:rPr b="0" lang="en-US" sz="1600" spc="-1" strike="noStrike" u="sng">
                <a:solidFill>
                  <a:srgbClr val="0066ff"/>
                </a:solidFill>
                <a:uFillTx/>
                <a:latin typeface="Times New Roman"/>
                <a:hlinkClick r:id="rId2"/>
              </a:rPr>
              <a:t>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4"/>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5"/>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6"/>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7"/>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8"/>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9"/>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10"/>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1"/>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FB9D2E2-7F2B-4AB7-BD98-E408E30621D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B02B436F-BC08-4360-A46E-30012479B4C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E61487B-ED2F-4C70-8691-BAD32EB050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B8F04C66-F508-4160-BF84-AF6A1DAABFC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11-14-03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TB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1B6D1CD-329E-49CF-8B8D-FBD7D808CB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DB397B4-D98D-43B9-8432-889CE15A2D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D5CAFD5-DF71-4AAD-9946-63C09D5590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4-01T18:48:05Z</dcterms:modified>
  <cp:revision>1592</cp:revision>
  <dc:subject/>
  <dc:title>TGm Agenda</dc:title>
</cp:coreProperties>
</file>