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5640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84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5357880" y="8984880"/>
            <a:ext cx="923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Bagby, Calypso Ventur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69E176F-5226-4190-A557-85C5E83E92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5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725760" y="97560"/>
            <a:ext cx="68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4451760" y="8985240"/>
            <a:ext cx="273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Bagby, Calypso Ventur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4E710F-BF44-42C5-843A-53F21D1DA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54160" y="70020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648E-8FAE-43EA-A6EF-E2828612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50D9-04DE-4A5B-9D16-B42E2BA3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2BDDA-8C1B-4BAE-81C2-789C4814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55BD4-7F0E-473A-ADE8-96D125F2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90C81-CC8B-4F6D-A8C2-85B8CBFD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F4200-FACA-4D54-8DC9-0A9AD762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64FC3-EA36-4344-9D08-2C357E30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F4E07-39A3-498A-BA70-DD912D44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BB164-4347-4184-B5F0-9209BECC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C733E-86FB-4160-8E04-2B357446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598DE-A652-4207-B7B1-8AD008BE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B8E9F-7F54-4BB3-A383-280931B0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BCC-3275-4605-8E3C-FDCA3D17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FEFBB-0A43-4F95-97D4-86DBA476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99C52-4E3D-46E6-8228-F9DD277A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72D5C-7B02-4D0C-BAEB-EACDC0F1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BDC9B-D7F3-4E64-B904-D53B94EF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E5F7D-0119-451C-B92A-49D4690C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AC8DD-048F-4B67-B673-CD96B16F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303EB-F9A4-47D4-B3C2-2081570D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FD0C9-1192-4729-A053-89B716DB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FB94F-CEE0-4DD9-AEE5-B2EEB90F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9D919-441D-4F6C-8B57-0BDB0FD9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136-0168-482A-8F85-EF197475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B0B78-2534-4FE3-A909-4C357B59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6CD7E-EB5E-4FF5-90F7-EECCA43F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2CF52-E895-49A8-A250-BF125BB0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67445-8942-4F50-8538-5763772F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7073F-71AE-4FAE-B8EC-20562E73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19556-B000-44E2-9876-10DD0D9D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B2AC5-D910-4F6F-941A-22CA1F89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71409-FFF0-4B60-A90C-50B43568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9ABF0-B05C-4951-ADE9-0E7AE64A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D9D5C-4AD1-4E74-9B76-F0484E30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84E1-5FF3-4DBF-B24D-C30AD468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696FE-7829-4C34-84A2-8B2AAB3D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BBBEA-B4B6-4025-8481-CA63C07C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2D936-CC8D-4F7C-A4E7-77FEF703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7D872-916D-4A1C-85D8-D4C716BD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DD59A-8DE8-4E41-A01C-2B9C1D9E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0298E-8D6B-4B8A-91A7-B2DD9FB9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439FB-4FE1-4462-AE9B-1D9A7623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E413A-8503-4A81-BC54-D5FC1BB8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94D88-F0DB-4E62-82B2-143536D1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08266-12F5-40BA-8A41-B5C0E9BD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CC59-8BC4-47E8-8041-3371A07B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DECBF-5083-4928-B788-250B5EE9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73697-972C-44AD-8F56-BFB53492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22F39-F6EE-4C44-8960-6FE77AC5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F7EA0-B942-4687-A7B0-9AD7E0D5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400EE-E36A-4FEC-80AE-AC3F6B44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CA11-0296-4976-9574-72E812D3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401C-731A-42E4-9E48-5981A1E8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80D5-E2D2-4986-8F6F-3303124D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955F-63B3-40A6-8CFA-E63F77D7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B6A6-740F-4480-8652-45D8D04C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D2F-E9C0-46B9-8B6F-9AF1EC68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8A89-BD5D-4EA7-A9A8-3F9DD1C4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5043-2493-4139-BEC6-DE141F85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60BC-0104-48BB-85A9-A497212A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36B2-69BA-4E42-96E4-32CB647A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3384-893F-4C09-8C61-306A68BC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EEDDF-450C-479B-83F6-8110F1E1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FB7B8-E4DA-435B-B9E7-9C7D1D0D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B49ED-018B-4457-9E5E-76E1B68C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B0F1F-9AB7-46F0-A703-FD9E5609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10CDD-8DDD-44EA-B277-4F814222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DC3-3B0A-4CDF-9DBE-DBE32699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57CA7-A641-4B0D-B484-EE2265CC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81D60-8E1F-492A-8B79-9BC817D4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008A3-AD71-4A57-AF8D-0EB4560C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E610E-701F-4E04-B465-0C6F78CF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101CD-926E-4D8F-B1DE-8BE9B8D4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81A31-8D31-4B12-9F9A-DAFFC0FF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E5E71-115A-4598-ABE4-BAB0B66F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ED96C-C4E3-4C78-80C9-37600D24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7DA76-CC8D-42A9-A4EE-15FBBD53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09802-AE0B-4B39-9B59-6D38DDFC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EF9-5C8C-402B-B2FF-BE661ADD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66985-A669-46B3-80C6-3250A366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DB362-3861-43AD-AC0C-0E008AF4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23514-9056-4871-86D4-DD827AC8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71A8A-6E62-498E-85A2-695ABBF5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0D90D-064E-4135-A85C-125CED77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CA2C2-3A13-4A0B-ACBD-9CC90D70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D956E-3CF8-40AE-9DBB-2D089E15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5F3DD-CBDD-4DB1-AF5D-2C5E9C41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71629-736E-4D3A-8652-C4E61AF0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9A4DB-9194-463B-BE1F-3F501420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B7F-12FC-49F9-A59B-0928A3DA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5E538-9D11-40F2-864B-124A33FC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3EA5F-6F59-4DBC-85CF-A2EF5E3C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346F9-F03F-43FC-AAE9-FDF274A0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B7ECA-FFE0-48B3-9A2C-7B459AD0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5BD46-E114-463F-81B6-4969D58F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F92F3-54F1-4D23-BE0D-B7D84E3C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E7846-9021-4C77-A6A6-77CB54B3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C396F-C415-48AC-A2B1-8C594F13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11298-A3E1-4AE9-B588-6F8CB2B0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EBBB0-4F4C-45F1-8F42-DFB93FC1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235-2AD3-452F-A59F-200782B8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4D1AB-63E2-4CFC-A218-2BE7D323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05E38-7A6B-46B2-B158-67B7EF9D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10DFD-BD7C-4BEA-A243-962E7E83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66768-6EFF-4E60-A1B2-4C2D3F9C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0B723-B696-43C4-B48C-C6DA8EAE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3C1ED-5663-4AEE-9996-1E7E683B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2570A-CE19-4E45-A2E1-5155AF25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CDA9F-8DA5-4FD2-8AE9-E0EC95CC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B9686-0B21-4DF2-8239-602B5B7B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60390-ECB7-430E-A98E-14E34064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8F2-8B57-491D-814A-F322F800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CA499-0456-47DD-97D2-6511FCC1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1EEDC-7CC0-48E7-A47C-15538304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1A0D8-CAF5-4DCC-9942-4956641D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D4465-8226-43CB-B2E3-907EA7E6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D038F-7084-4DA1-9B5C-1A48FA74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6FE4E-E050-4854-A8A0-A40CCAD0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AA92C-86F3-4319-9F6D-685A2506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4C662-C819-47C0-88D5-B0976398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A6C19-1D18-4FB3-A229-0C6EDD01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EA06F-DF2D-44DE-BA18-DFD02DD5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655-E9AC-43F8-825F-3459375E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B0FA5-E4FA-453B-8495-B427E0DA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EF59B-88D5-4EF3-8BAE-D418787A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4D881-423B-4E43-8ACF-C91BF470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E933A-6C38-468C-87DC-AF1FF790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06A70-47B1-4001-97EE-6E909657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0A0F4-2F54-46BD-836F-33C826C4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31410-029F-4FB3-92AE-8952FE34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A955D-21FD-47BE-9653-B649E598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7AD0D-0CFF-4CD2-A584-2D27AC6A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B7126-9988-4327-AAE5-719BD5B3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CAE-C6B5-4DCF-ABA9-E7F4E834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E0CC3-ACCF-4723-9C7F-F3631022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EA827-96D7-4FEF-B913-499F35E9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A6A40-1B6F-4321-9774-CB3CA61B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50BC7-1BD4-42EB-8E76-3081460B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E639B-6AC3-419E-A21F-ABEB00F7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722CF-BA36-4C88-85B4-113AE33B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C1302-AEE6-4942-921F-6E753DE8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52C74-75CC-4A16-B201-21F5CCDA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66F92-E785-4D88-9B32-9C8E1211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2F95A-5A19-4516-89FA-8776A123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93816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SpectraLink, Corp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604F26-DBC3-452F-AEF8-643CF42138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9381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66815BB-ADB2-4185-B642-A9B7C994C1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9381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A4DA176-4BD7-4D12-B572-5350CD72E9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9381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113D385-AD46-4CD6-AFE8-D1BF830820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3000"/>
            <a:ext cx="9381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7C22904-CBA8-455A-95FE-A6EC3E829A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9381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05B37E9-6095-4C8F-93C5-C99FE71D4C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9381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AD6E1D7-223C-4944-87EA-8F4646B868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9381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A4200A3-35D8-400E-A6A5-33F88EB520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9381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0BCE50D-6C76-4617-AFFA-59CBC4C416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9381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748B657-5A09-465E-86AA-CDE32C92A3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9381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994A814-C979-458B-A124-C7889A4325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9381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6B4F726-10AA-4B5B-991D-5389ABA657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1 ARC – May, 201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/DS architecture and 802 concep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al for architecture of Portal, in “802.1Q/802.1AC terminolog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oint session Thursday with TGa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rchitecture discussions in TGak/802.1Qbz/802.1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rchitecture of 11ak concepts, building upon new Portal model (abo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ETF/802 coordinatio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FC 4441, CAPWAP, PAW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 new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O&amp;A Draft 2.0 Sponsor Ballo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(“procedural”) comment, no 802.11 comments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588 mapping to IEEE 802.1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58080" indent="-328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new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6799680" y="6475320"/>
            <a:ext cx="171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 Hamilton, Spectra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C91E27D-3D8E-4133-B2B9-597266BD2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6:38:20Z</dcterms:created>
  <dc:creator>Mark Hamilton</dc:creator>
  <dc:description/>
  <dc:language>en-US</dc:language>
  <cp:lastModifiedBy>Mark Hamilton</cp:lastModifiedBy>
  <cp:lastPrinted>1998-02-10T13:28:06Z</cp:lastPrinted>
  <dcterms:modified xsi:type="dcterms:W3CDTF">2014-05-02T22:02:11Z</dcterms:modified>
  <cp:revision>73</cp:revision>
  <dc:subject/>
  <dc:title>ARC-snapshot</dc:title>
</cp:coreProperties>
</file>