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558FA2-6C74-46E2-8A20-0B86CDDB4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33B11B-74F2-414F-BA54-504F90634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55C-C66F-43BD-8607-74348F97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689-6AC6-4459-8594-DCBDF1F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CCFD-A659-4C4D-AE0E-DB24F3B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BB8A7-EEB9-448C-83F5-317F9A8F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65A1F-DE59-4E37-BB40-C4242845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E2467-7F29-4AE6-B06F-D078E34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80161-2C6C-4E18-9AE1-5AE45085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F088-001E-4E5C-B342-1C674C53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26437-7538-4557-886D-2FACA9F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4ED5F-DBD8-4863-B2C4-47A229A2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E8A89-B17C-4EA9-917A-1E3E4C62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512B4-C10C-4E17-8C10-0B88FB9A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10C-D2EA-4CB3-A14C-6A2073B8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1505C-E8F7-4CB2-A68A-D4E0889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AC28-D26C-48A4-9BB2-E4BF736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D8C91-0AFA-468F-8DAB-1F3D017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01D5F-DDBC-4696-ADAC-0406828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B78D6-BB7C-44EC-9EFE-D214378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ABD27-DB44-4B5A-8348-7F8C2F2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94504-F567-4C49-AB5E-1B7F395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4A6ED-E163-4A42-B546-4F70E66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886B-5CD1-4523-B14D-3290303D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A3F48-BAAC-4CBF-9CF0-A8113392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6A1-5B64-4AAF-A7D7-14F56C7D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3C08-D8F5-43E8-9398-51E3475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FCC55-52FC-4D55-ACFC-026B5FED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03C51-3D33-4F8A-8DC1-7324578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0D6F-C2DF-4668-A8CF-08873CC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A6804-9835-4913-9355-7596684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EFE83-7001-4C61-B837-465C0F14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3BAF3-8424-4364-9D8E-E01CF2AA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E98B-81DA-4C5F-818C-D5131D0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7F3BA-A114-4872-95C1-6D07B16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408E-6BD0-4694-88FF-996B9DB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99D-B993-4BFE-B826-2BFAAD0D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B7D3C-A794-4E99-B8F2-B1FBCFA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D1BA-D0C8-4A46-AA82-13CC6757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41A29-5957-4A85-9BA2-180A6E31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8E6BE-85C5-4AC1-B9EF-5D64EAE2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D6706-71B0-49E9-A689-4B631BB1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91FBC-265E-48E8-8CE0-C09FD27A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96FCF-C3AC-4083-801D-56D903CB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7EA67-1BFE-4AAD-A582-60B3023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7AFBE-76FE-463C-823A-E067964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95956-4262-44FB-ABBD-77A2141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A04-D342-4231-8CC9-C5FE4D0A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DD888-D9A2-42C8-8D12-43A2807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58C37-49F3-4050-AF55-7D0447E6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8708B-C6CC-4DF0-9F7B-5FB67513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8F836-B055-45A2-8906-56003913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1C8C8-3984-46D4-972C-A8D6AEE3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A3AD-5E35-4E3C-8DC1-24635F24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EBD1-9AAD-4510-AF12-88ADC57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720-08E3-4F2C-981B-FC22812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4C6-7F10-47B0-A759-F7FF4965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BE93-A055-4EFB-A53A-A730CCE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B8D-9ED1-45DC-AB5A-009E436E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E193-06BB-44BC-8ED6-A1A732E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E04A-75BF-4279-B9EC-C4FD879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280F-BBF0-4A77-A888-58381A2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ABFE-045B-4FB9-B82F-BE651E3E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76C0-6968-43E9-B2C8-D4FF8EB6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DE5B-D15C-4996-A50C-81FE8C3C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A2E3-8D1F-40AF-9AB0-1B117294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6CBB-27E7-4F8E-9C0E-4CDEC1F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48D6-6387-4836-BBA2-A1A59A45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0F6B-9754-4914-A6FD-07FBAAA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707-A7E9-4EC7-9265-FA56845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8A52-2718-40A2-9FEB-818DD7C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6999-A0B9-4255-96E1-A2EF720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6EB4-050B-440B-A5D5-7145D4D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47E9-83D8-4FA2-A0C4-AD33C2D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2931-D2EA-4C9F-B4DC-5F67AB3D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4F47-79F5-433F-911A-C0D4064D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15C5-A03C-4019-A42F-2632B9EA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D5A3-959D-4C9C-A154-6B39E236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C613-0BFF-431C-8DA1-798449E8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7A61-6F2A-4CA0-942A-FD83C98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2A9-EE94-4158-95E4-CCEE596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02360-50AA-403D-8B46-7267D110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B844-DBC7-413A-86CE-8B89976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2601-47D5-47E9-B949-B99B507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22D2-54B4-406E-915B-831A865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B169-39EC-40ED-B1F1-5C73C7D3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72D2-FB23-43C2-B413-577AF07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3C23-5798-4304-A232-90FE0ECF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A257-3C7C-4479-A481-EEF1C4B1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5845-9B6D-4E26-9ED2-710EDE9D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8436-6288-4708-9422-0A72CD86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57D-C323-43DA-B10E-E56C7F74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AE63-EFE0-449B-BD42-A3915AC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1FBA7-37DE-4906-BCC6-19C3CDC4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6AA9-C8F0-4EBE-A56D-DFF06A9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CD7F-EBB9-496D-B578-8B27A10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933E-0020-4FE5-9B86-324AFC5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2792-A68B-49BF-BBFA-3CFF48B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C5A5-FD8B-4F6B-B9EB-1116B9D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E56F-B400-4BF6-87A8-B55A3FF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F131-9844-4E4C-A2D2-92D7F77F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5EF5-5209-4CEC-922B-E9D9FE79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D5A-71B1-4627-A827-E63D7FB4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5050-C7EE-40ED-9E11-930E9A05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8718-D258-48CE-A37A-26A03FEE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BB97-7898-4A73-9602-FA562BA5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B7C7-DE84-4C2D-AA4D-2CD4B1D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9191-B73A-49EF-B207-725CDB3D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B489-9C93-4B36-A425-9825B7D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2C570-4980-4023-87A2-DBD3BC8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06D3B-7D3E-44A5-9A01-87F34BE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D21F-6A60-4302-8A6F-CBE19F8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C708-A6F8-482B-AAAB-017C908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32E-EF6C-40CD-A88C-035BDEC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D3EF-C613-44CB-86B6-A7C4A53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52846-0150-49A8-8793-0A50B1A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7755-1AFA-4E86-85A0-BE443EC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5847-CF44-4B8F-943C-71E6F738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6FCA-FD26-49A2-B099-C5375A92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BFE38-387C-45EA-BE3A-8BF79D9C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06737-8CA3-4312-B01D-957D183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FCA4-BFB0-4023-BD3E-0A3313B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D533-11A6-4885-B361-865F85B3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9DD92-1F57-42B5-A5CC-A2892F2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4A4-37C6-492F-909B-BDD88E9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476D-ECB1-4DA3-81FC-7ACFD4C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E4D3-2974-48C1-A2F3-1F38175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5EE5-46DA-47B7-952F-D88E3C9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FA57-96E2-4AA6-A3CF-23F1DB78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71D7-AEC8-4BC2-96E8-160F59C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B1334-3A0F-4A7D-A036-BD1C7B97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AB43-9F6E-4DEB-8A40-0877118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7C39-8281-4432-A6A5-AE7B7252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D1996-851A-43A9-B750-01E902A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486D-0B7E-41E1-A110-ABCACB2A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195-4BE7-453F-BF48-D71A27D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6BDF0-F71E-474F-BC8A-77F19DB3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AE75-554E-454E-860D-49E439B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0E0A-9888-402C-9222-1933E90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EF97-CE87-4C38-B7A5-5432329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606A-F0C0-44C6-8B6B-02496AB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8C6AA-5F3D-4C9A-8789-3919DF05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88902-6AFF-4068-9DB8-8882AC41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73F3-687F-4C23-A3DE-BBDB3A72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F7A74-5E52-472F-80CF-194FF8D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C47B-E253-4B7F-A219-F79A8C81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81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372D22-983D-419B-8C9B-80B9AA97E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8DD24A-279B-40F0-9F9C-523D4C0FD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AFF050-95AE-47A2-B014-FBDD719AA2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63B92B-0A74-4E62-9E62-ABB873F303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131FFB-DB6E-423C-B799-CE7686E1B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F82C0A-0C04-4CF2-A8DE-012B0062B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C27D9E-851F-4340-8D6E-5B678BDDF1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08D14B-6D91-4D4C-B068-75CA114A6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326508-A114-4999-9271-633E596A2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830EFB-1FF5-499F-A2A8-8EFEB9465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1B5F6A-351C-4EBE-A402-0D2BDFC95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904AB6-6289-4D4B-9C66-5AD6456B5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ARC – May,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DS architecture and 802 concep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 for architecture of Portal, in “802.1Q/802.1AC terminolog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session Thursday with TGa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tecture discussions in TGak/802.1Qbz/802.1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tecture of 11ak concepts, building upon new Portal model (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ETF/802 coordin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FC 4441, CAPWAP, PAW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 new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O&amp;A Draft 2.0 Sponsor Ballo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(“procedural”) comment, no 802.11 comments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588 mapping to IEEE 802.1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8080" indent="-32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w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799680" y="6475320"/>
            <a:ext cx="171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Hamilton, Spectra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CF6D73-0525-40EE-90FC-F449694C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Mark Hamilton</cp:lastModifiedBy>
  <cp:lastPrinted>1998-02-10T13:28:06Z</cp:lastPrinted>
  <dcterms:modified xsi:type="dcterms:W3CDTF">2014-05-02T22:02:11Z</dcterms:modified>
  <cp:revision>73</cp:revision>
  <dc:subject/>
  <dc:title>ARC-snapshot</dc:title>
</cp:coreProperties>
</file>