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5357880" y="8984880"/>
            <a:ext cx="9237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869CC94-C625-4F98-BC5F-ACE05D571E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992840" y="8985240"/>
            <a:ext cx="165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040319-8A95-45F6-8C72-D072C07FF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992840" y="8985240"/>
            <a:ext cx="165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6DFD3D-38F5-4906-B4D5-442953B86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490-6912-466C-906E-7618E1F1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BEB-CEF5-4106-BD9B-B97E9967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2A9-A219-4890-8AD3-AA1BB811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49B-251A-4A7A-BE29-8298C544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5AA7-D775-4939-8CB0-63503BDA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C740-03AC-4741-98C9-E021A028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14F4-195F-4904-9C51-C5020D22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8032-94F6-4023-A43D-EFB5132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D9DC-AC71-475B-B1B5-394FC52B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CDE6-2EFA-451C-BFCF-D47C848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8E10-99B0-4047-8483-4DD49AB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C56-4042-4C5A-B787-A7C0D370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E7B4-F0F7-47B8-9303-95A7305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52F8-34E1-4C72-A3EA-CDC71917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F6E-4305-4BEE-9013-1FACE125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8059-425F-4E40-96F8-F03ADD15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4293-002C-4916-9E32-90E73FA6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FF7-98D5-41A6-B10D-155D9FA9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6FE-8FBB-4D28-A066-603CFE61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5E5-92BC-4A29-A20D-5CCA1723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03D-ED9B-4D63-A5FF-7C5EB973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A3F-3DAD-4BF5-AD8E-F250743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06C-E7EC-45BE-8151-AB7652E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2BF-B134-4359-B7FE-37FC85B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1224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06CC7FF-28E8-4960-84C6-135D5ABC12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4010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2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ovember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54C3-9563-4788-A0D4-395FC578160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EB61B9-D4B0-4A34-8D77-C9D9600F2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1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1"/>
          <p:cNvGraphicFramePr/>
          <p:nvPr/>
        </p:nvGraphicFramePr>
        <p:xfrm>
          <a:off x="533520" y="3208320"/>
          <a:ext cx="8181720" cy="25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8320"/>
                    <a:ext cx="81817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aring with DSR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 will develop a sharing approa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maximizing spectrum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eets all applicable regulator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pproval of the DSRC stakeholde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cognizes that primary allocation protection is par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stakeholder community will particip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06A13D-2E69-4435-8BC1-AB1911D75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ct to Develop Sharing in 5.9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EEE 802.11 WLAN is to utilize the 5.9 GHz band, a suitable sharing mechanism must be added to the stand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udy Group should be formed to develop a  PAR and 5 Criteria to start this pro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4763D1-EF49-45E6-AFD0-E3F5A4F1C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NPRM 13-2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ful Interference to DSRC Systems: 11-13/1309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SRC PER versus RSS Profiles: 11-13/1360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797A4C-D5CC-4E5E-95BB-9DAB890CE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describ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based US DSRC technolog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regulatory requirements for sharing the 5.9 GHz spectrum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e propose to move forward with a plan to develop technical means for sharing that would enable regulators to open this spectrum for use by other IEEE 802.11 technolo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ate Placeholder 6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7C63F6-9315-4FF0-BB47-092D71501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CC Part 15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802.11 sharing mechanis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ing with DSR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 to incorporate sharing in 802.11a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ate Placeholder 6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64DDC7-8C96-4AB1-9571-AD641569F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Bas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icated Short Range Communications at 5.9 GHz (US DSRC) is essential for V2V and V2I crash-imminent safety applications, and must be protected from U-NII-3 and U-NII-4 devic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V/V2I safety has stringent communications requirements, and future pre-crash and automation requirements may be even more stringen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current DSRC channels are needed for current and future applications making re-channelization and channel use rule changes moot issu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orough testing is needed to determine whether sharing with U-NII devices is possible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ly in final stages of US DoT NHTSA mandate decis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2F6F741-4883-45E1-BC46-EB9F04F62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95400" y="3068640"/>
            <a:ext cx="3790800" cy="3384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dicated Short Range Communications (DSR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8166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B00FC8-82B2-4C64-B642-F5B2CC99CC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dsrc_new"/>
          <p:cNvPicPr/>
          <p:nvPr/>
        </p:nvPicPr>
        <p:blipFill>
          <a:blip r:embed="rId2"/>
          <a:stretch/>
        </p:blipFill>
        <p:spPr>
          <a:xfrm>
            <a:off x="5483160" y="1244520"/>
            <a:ext cx="363708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Content Placeholder 6"/>
          <p:cNvSpPr/>
          <p:nvPr/>
        </p:nvSpPr>
        <p:spPr>
          <a:xfrm>
            <a:off x="4427640" y="3645000"/>
            <a:ext cx="471636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EEE: 802.11p, 1609.0, 1609.2 – 1609.4, 1609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AE: J2735, J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2V Basic Safety Message (B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message size: ~320 to 350 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efaul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ximum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mit rate: 1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sophisticated protocols in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efault transmit power: 2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nables multiple V2V Safety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ntent Placeholder 6"/>
          <p:cNvSpPr/>
          <p:nvPr/>
        </p:nvSpPr>
        <p:spPr>
          <a:xfrm>
            <a:off x="28440" y="1268280"/>
            <a:ext cx="5454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5 MHz of spectrum @ 5.9 GHz for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Key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802.11p technology similar to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ow latency communication (&lt;&lt; 50 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igh data transfer rates (3 – 27 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ine-of-sight, up to 1500 m and 360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r sensitivities &lt; -9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8166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7FF0AA-D342-43FC-9398-BE1BEA2566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0" y="685440"/>
            <a:ext cx="6496200" cy="3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2V Safety Communications –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1"/>
          <a:stretch/>
        </p:blipFill>
        <p:spPr>
          <a:xfrm>
            <a:off x="733320" y="2455920"/>
            <a:ext cx="2438640" cy="217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MCj04417360000[1]"/>
          <p:cNvPicPr/>
          <p:nvPr/>
        </p:nvPicPr>
        <p:blipFill>
          <a:blip r:embed="rId2"/>
          <a:stretch/>
        </p:blipFill>
        <p:spPr>
          <a:xfrm>
            <a:off x="2527200" y="5316480"/>
            <a:ext cx="1419480" cy="1419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8" descr="MCj04403540000[1]"/>
          <p:cNvPicPr/>
          <p:nvPr/>
        </p:nvPicPr>
        <p:blipFill>
          <a:blip r:embed="rId3"/>
          <a:stretch/>
        </p:blipFill>
        <p:spPr>
          <a:xfrm>
            <a:off x="277920" y="973080"/>
            <a:ext cx="167148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7"/>
          <p:cNvGrpSpPr/>
          <p:nvPr/>
        </p:nvGrpSpPr>
        <p:grpSpPr>
          <a:xfrm>
            <a:off x="120600" y="2185920"/>
            <a:ext cx="3657600" cy="3952800"/>
            <a:chOff x="120600" y="2185920"/>
            <a:chExt cx="3657600" cy="3952800"/>
          </a:xfrm>
        </p:grpSpPr>
        <p:grpSp>
          <p:nvGrpSpPr>
            <p:cNvPr id="133" name="Group 16"/>
            <p:cNvGrpSpPr/>
            <p:nvPr/>
          </p:nvGrpSpPr>
          <p:grpSpPr>
            <a:xfrm>
              <a:off x="120600" y="2185920"/>
              <a:ext cx="3657600" cy="3952800"/>
              <a:chOff x="120600" y="2185920"/>
              <a:chExt cx="3657600" cy="3952800"/>
            </a:xfrm>
          </p:grpSpPr>
          <p:sp>
            <p:nvSpPr>
              <p:cNvPr id="134" name="Left-Up Arrow 11"/>
              <p:cNvSpPr/>
              <p:nvPr/>
            </p:nvSpPr>
            <p:spPr>
              <a:xfrm flipH="1">
                <a:off x="580680" y="2185920"/>
                <a:ext cx="1695600" cy="3952800"/>
              </a:xfrm>
              <a:custGeom>
                <a:avLst/>
                <a:gdLst/>
                <a:ahLst/>
                <a:rect l="l" t="t" r="r" b="b"/>
                <a:pathLst>
                  <a:path w="1695450" h="3952875">
                    <a:moveTo>
                      <a:pt x="0" y="3865492"/>
                    </a:moveTo>
                    <a:lnTo>
                      <a:pt x="252419" y="3778108"/>
                    </a:lnTo>
                    <a:lnTo>
                      <a:pt x="252419" y="3828064"/>
                    </a:lnTo>
                    <a:lnTo>
                      <a:pt x="1570639" y="3828064"/>
                    </a:lnTo>
                    <a:lnTo>
                      <a:pt x="1570639" y="252419"/>
                    </a:lnTo>
                    <a:lnTo>
                      <a:pt x="1520683" y="252419"/>
                    </a:lnTo>
                    <a:lnTo>
                      <a:pt x="1608067" y="0"/>
                    </a:lnTo>
                    <a:lnTo>
                      <a:pt x="1695450" y="252419"/>
                    </a:lnTo>
                    <a:lnTo>
                      <a:pt x="1645494" y="252419"/>
                    </a:lnTo>
                    <a:lnTo>
                      <a:pt x="1645494" y="3902919"/>
                    </a:lnTo>
                    <a:lnTo>
                      <a:pt x="252419" y="3902919"/>
                    </a:lnTo>
                    <a:lnTo>
                      <a:pt x="252419" y="3952875"/>
                    </a:lnTo>
                    <a:lnTo>
                      <a:pt x="0" y="386549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00" y="4542480"/>
                <a:ext cx="3657600" cy="89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Rectangle 109"/>
            <p:cNvSpPr/>
            <p:nvPr/>
          </p:nvSpPr>
          <p:spPr>
            <a:xfrm>
              <a:off x="628560" y="4551120"/>
              <a:ext cx="75960" cy="879480"/>
            </a:xfrm>
            <a:prstGeom prst="rect">
              <a:avLst/>
            </a:prstGeom>
            <a:solidFill>
              <a:srgbClr val="3333cc">
                <a:alpha val="25000"/>
              </a:srgbClr>
            </a:solidFill>
            <a:ln w="93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113"/>
          <p:cNvSpPr/>
          <p:nvPr/>
        </p:nvSpPr>
        <p:spPr>
          <a:xfrm>
            <a:off x="2050920" y="1138320"/>
            <a:ext cx="409284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manufactur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ng on the sam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hanging the same BSM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multiple V2V safety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5877000" y="1862280"/>
            <a:ext cx="3181320" cy="5810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6298920" y="239544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 Collision Warning (F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5527800" y="511164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 Spot / Lane Change Warning (BSW / L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6338520" y="613872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ass Warning (DNP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6498720" y="4205160"/>
            <a:ext cx="259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section Movement Assist (I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6"/>
          <a:stretch/>
        </p:blipFill>
        <p:spPr>
          <a:xfrm>
            <a:off x="5527800" y="5442120"/>
            <a:ext cx="3471840" cy="668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1" descr=""/>
          <p:cNvPicPr/>
          <p:nvPr/>
        </p:nvPicPr>
        <p:blipFill>
          <a:blip r:embed="rId7"/>
          <a:stretch/>
        </p:blipFill>
        <p:spPr>
          <a:xfrm>
            <a:off x="5700600" y="4546440"/>
            <a:ext cx="3382920" cy="725760"/>
          </a:xfrm>
          <a:prstGeom prst="rect">
            <a:avLst/>
          </a:prstGeom>
          <a:ln w="0">
            <a:noFill/>
          </a:ln>
        </p:spPr>
      </p:pic>
      <p:sp>
        <p:nvSpPr>
          <p:cNvPr id="145" name="Freeform 22"/>
          <p:cNvSpPr/>
          <p:nvPr/>
        </p:nvSpPr>
        <p:spPr>
          <a:xfrm rot="21141000">
            <a:off x="6797160" y="4545000"/>
            <a:ext cx="412920" cy="609480"/>
          </a:xfrm>
          <a:custGeom>
            <a:avLst/>
            <a:gdLst>
              <a:gd name="textAreaLeft" fmla="*/ 0 w 412920"/>
              <a:gd name="textAreaRight" fmla="*/ 413280 w 412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04800" h="581025">
                <a:moveTo>
                  <a:pt x="304800" y="0"/>
                </a:moveTo>
                <a:cubicBezTo>
                  <a:pt x="196056" y="100806"/>
                  <a:pt x="87312" y="201613"/>
                  <a:pt x="76200" y="247650"/>
                </a:cubicBezTo>
                <a:cubicBezTo>
                  <a:pt x="65088" y="293687"/>
                  <a:pt x="250825" y="220662"/>
                  <a:pt x="238125" y="276225"/>
                </a:cubicBezTo>
                <a:cubicBezTo>
                  <a:pt x="225425" y="331788"/>
                  <a:pt x="0" y="581025"/>
                  <a:pt x="0" y="58102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3" descr=""/>
          <p:cNvPicPr/>
          <p:nvPr/>
        </p:nvPicPr>
        <p:blipFill>
          <a:blip r:embed="rId8"/>
          <a:stretch/>
        </p:blipFill>
        <p:spPr>
          <a:xfrm>
            <a:off x="6637320" y="2533680"/>
            <a:ext cx="2449440" cy="184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4" descr=""/>
          <p:cNvPicPr/>
          <p:nvPr/>
        </p:nvPicPr>
        <p:blipFill>
          <a:blip r:embed="rId9"/>
          <a:stretch/>
        </p:blipFill>
        <p:spPr>
          <a:xfrm>
            <a:off x="4033800" y="2716200"/>
            <a:ext cx="2603520" cy="12700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5"/>
          <p:cNvSpPr/>
          <p:nvPr/>
        </p:nvSpPr>
        <p:spPr>
          <a:xfrm>
            <a:off x="4575960" y="391320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Turn Assist (L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7"/>
          <p:cNvSpPr/>
          <p:nvPr/>
        </p:nvSpPr>
        <p:spPr>
          <a:xfrm rot="19326000">
            <a:off x="3933720" y="5046840"/>
            <a:ext cx="1295640" cy="609480"/>
          </a:xfrm>
          <a:prstGeom prst="rightArrow">
            <a:avLst>
              <a:gd name="adj1" fmla="val 50000"/>
              <a:gd name="adj2" fmla="val 5314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8"/>
          <p:cNvGrpSpPr/>
          <p:nvPr/>
        </p:nvGrpSpPr>
        <p:grpSpPr>
          <a:xfrm>
            <a:off x="5982840" y="593640"/>
            <a:ext cx="3094560" cy="1213200"/>
            <a:chOff x="5982840" y="593640"/>
            <a:chExt cx="3094560" cy="1213200"/>
          </a:xfrm>
        </p:grpSpPr>
        <p:sp>
          <p:nvSpPr>
            <p:cNvPr id="151" name="TextBox 15"/>
            <p:cNvSpPr/>
            <p:nvPr/>
          </p:nvSpPr>
          <p:spPr>
            <a:xfrm>
              <a:off x="5982840" y="1530360"/>
              <a:ext cx="309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ergency Electronic Brake Lights (EEB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Picture 5" descr=""/>
            <p:cNvPicPr/>
            <p:nvPr/>
          </p:nvPicPr>
          <p:blipFill>
            <a:blip r:embed="rId10"/>
            <a:stretch/>
          </p:blipFill>
          <p:spPr>
            <a:xfrm>
              <a:off x="5987880" y="593640"/>
              <a:ext cx="3057480" cy="92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hould be the outcome from the group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coexistence requirements for 802.11 in the 5 GHz band that would allow sharing with ITS safety of life and property communications in the 5.9 G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a group to provide a formal interface to other organizations in the automotive industry including NHTSA, DOT and other ITS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d milestone timeline depends 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ess on the rollout of the standards, technologies and laws by the various ITS stakeholders (e.g. FCC, US DoT, NHTSA, Auto O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of experiments prior to rulemaking (“proof of concep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/DOT testing and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7D2B49-263C-4B0D-9E5F-A2CC5D6E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Part 15 Bas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1 “…an intentional, unintentional, or incidental radiator may be operated without an individual licens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5(b) Operation of an intentional, unintentional, or incidental radiator is subject to the conditions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harmful interference is caused and that interference must be accepted that may be caused by the operation of an authorized radio s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by another intentional or unintentional radiator, by industrial, scientific and medical (ISM) equipment, or by an incidental radi- ato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0FD3FD-F9BD-4CBC-A0B5-3C6BF7996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sting 802.11 Sharing Mechanis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ccess of 802.11 devices relies on their ability to share with other 802.11 de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chanisms have also been devised for sharing with non-802.11 devices includ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 Frequency Selection (DFS) in the 5 GHz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ion and avoidance of interference with rada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 in 5250 to 5350 MHz and 5470 to 5725 MHz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-location database to protect broadcast equipment in the TV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ransmit, devices access a database to determine available, unused channels, based on geographic location and time, and the device transmit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d for unlicensed operation in TV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D52FAB-4E38-466F-8BD6-FD8B8A489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Rich Kennedy</dc:creator>
  <dc:description/>
  <dc:language>en-US</dc:language>
  <cp:lastModifiedBy>dick</cp:lastModifiedBy>
  <cp:lastPrinted>1998-02-10T13:28:06Z</cp:lastPrinted>
  <dcterms:modified xsi:type="dcterms:W3CDTF">2013-11-12T23:35:36Z</dcterms:modified>
  <cp:revision>1487</cp:revision>
  <dc:subject/>
  <dc:title>Waikoloa Meeting Plan</dc:title>
</cp:coreProperties>
</file>