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4DF2EA7-AF18-45AE-833C-54AC74FA2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B1E31E-F9A9-458E-8CB3-E42B28E47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57F6F4-B1D0-4676-AFD4-8FA4A1C8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A97-EB17-45D5-A023-A1407773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E0F-CC30-4DD1-B2DB-92BBE326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1BC-C42E-498C-93D2-0774681C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C7B-0BBB-4646-9AAF-71D00CDE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B034-D00A-430C-A357-5FA0E2D7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5FB9-F045-4294-9E6F-7C984B3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195-4225-49E2-9A73-F3FBE89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C9F-FF4B-49D3-84E2-D9D20FD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DACB-9D03-49F6-A09E-0953D51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E2A1-1ED9-4179-9A21-4BC98B3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7838-2E6C-4920-9675-415E0BC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649-BF55-4A1C-B616-013FD9C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8C6-A94A-4F2C-A32D-9AF829B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AFA-7A84-4661-8DE9-8CAF275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59D-EC35-4D72-9F23-D6E5600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971D-9F76-40BC-AFEC-930641A7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00DE-C620-49AB-B7D9-8038AE67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785-812B-4023-853D-FA01E39A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131-D3CD-4CAE-B4EE-A9DBED6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669-1E08-425D-AB0F-260CFA20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E7D-574A-4B99-B38F-F405666F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FFB-C659-4122-8C50-5250A4F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554-B768-4219-A25B-2CCCBB5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A6A-F923-429A-BE38-26E8602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B437C4B-664E-4692-8D13-79FEE342E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2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A01-C606-4833-B091-C21819EFA0B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B51A8E-6F63-4946-8CCB-14681F37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08320"/>
          <a:ext cx="8181720" cy="25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8320"/>
                    <a:ext cx="81817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will develop a sharing approa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aximizing spectrum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eets all applicable regulator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pproval of the DSRC stakehold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cognizes that primary allocation protection is par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stakeholder community will particip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CB2DBD-81EE-4E3C-BCFE-1370B755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to Develop Sharing in 5.9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EEE 802.11 WLAN is to utilize the 5.9 GHz band, a suitable sharing mechanism must be added to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udy Group should be formed to develop a  PAR and 5 Criteria to start this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22EC82-7ADB-4901-8B47-8D8BCD5DC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NPRM 13-2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 Interference to DSRC Systems: 11-13/1309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RC PER versus RSS Profiles: 11-13/1360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A99F1D-21AA-4B11-9CFC-323CF46AF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describ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based US DSRC technolog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regulatory requirements for sharing the 5.9 GHz spectrum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e propose to move forward with a plan to develop technical means for sharing that would enable regulators to open this spectrum for use by other IEEE 802.11 techn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BAF22A-4CA5-4EBB-A4ED-CBDBBA8F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C Part 15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 to incorporate sharing in 802.11a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9CC627-157F-409F-BD68-03279984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Short Range Communications at 5.9 GHz (US DSRC) is essential for V2V and V2I crash-imminent safety applications, and must be protected from U-NII-3 and U-NII-4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V/V2I safety has stringent communications requirements, and future pre-crash and automation requirements may be even more string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urrent DSRC channels are needed for current and future applications making re-channelization and channel use rule changes moot issu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orough testing is needed to determine whether sharing with U-NII devices is possibl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ly in final stages of US DoT NHTSA mandate deci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0E09B9-DE92-4F9F-A4DA-2AA04B18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95400" y="3068640"/>
            <a:ext cx="3790800" cy="338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dicated Short Range Communications (DSR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4C26B4-043F-459A-8599-C9DF66FE8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dsrc_new"/>
          <p:cNvPicPr/>
          <p:nvPr/>
        </p:nvPicPr>
        <p:blipFill>
          <a:blip r:embed="rId2"/>
          <a:stretch/>
        </p:blipFill>
        <p:spPr>
          <a:xfrm>
            <a:off x="5483160" y="1244520"/>
            <a:ext cx="363708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6"/>
          <p:cNvSpPr/>
          <p:nvPr/>
        </p:nvSpPr>
        <p:spPr>
          <a:xfrm>
            <a:off x="4427640" y="3645000"/>
            <a:ext cx="471636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EEE: 802.11p, 1609.0, 1609.2 – 1609.4, 1609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E: J2735, J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2V Basic Safety Message (B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message size: ~320 to 350 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ximum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mit rate: 1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sophisticated protocols i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power: 2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ntent Placeholder 6"/>
          <p:cNvSpPr/>
          <p:nvPr/>
        </p:nvSpPr>
        <p:spPr>
          <a:xfrm>
            <a:off x="28440" y="1268280"/>
            <a:ext cx="5454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5 MHz of spectrum @ 5.9 GHz for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ey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02.11p technology similar to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latency communication (&lt;&lt; 50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data transfer rates (3 – 27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ne-of-sight, up to 1500 m and 360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r sensitivities &lt; -9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D3F644-AA4B-461B-8E7E-E3B90764BA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0" y="685440"/>
            <a:ext cx="649620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V Safety Communications –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733320" y="2455920"/>
            <a:ext cx="2438640" cy="217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MCj04417360000[1]"/>
          <p:cNvPicPr/>
          <p:nvPr/>
        </p:nvPicPr>
        <p:blipFill>
          <a:blip r:embed="rId2"/>
          <a:stretch/>
        </p:blipFill>
        <p:spPr>
          <a:xfrm>
            <a:off x="2527200" y="5316480"/>
            <a:ext cx="1419480" cy="1419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MCj04403540000[1]"/>
          <p:cNvPicPr/>
          <p:nvPr/>
        </p:nvPicPr>
        <p:blipFill>
          <a:blip r:embed="rId3"/>
          <a:stretch/>
        </p:blipFill>
        <p:spPr>
          <a:xfrm>
            <a:off x="277920" y="973080"/>
            <a:ext cx="16714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7"/>
          <p:cNvGrpSpPr/>
          <p:nvPr/>
        </p:nvGrpSpPr>
        <p:grpSpPr>
          <a:xfrm>
            <a:off x="120600" y="2185920"/>
            <a:ext cx="3657600" cy="3952800"/>
            <a:chOff x="120600" y="2185920"/>
            <a:chExt cx="3657600" cy="3952800"/>
          </a:xfrm>
        </p:grpSpPr>
        <p:grpSp>
          <p:nvGrpSpPr>
            <p:cNvPr id="133" name="Group 16"/>
            <p:cNvGrpSpPr/>
            <p:nvPr/>
          </p:nvGrpSpPr>
          <p:grpSpPr>
            <a:xfrm>
              <a:off x="120600" y="2185920"/>
              <a:ext cx="3657600" cy="3952800"/>
              <a:chOff x="120600" y="2185920"/>
              <a:chExt cx="3657600" cy="3952800"/>
            </a:xfrm>
          </p:grpSpPr>
          <p:sp>
            <p:nvSpPr>
              <p:cNvPr id="134" name="Left-Up Arrow 11"/>
              <p:cNvSpPr/>
              <p:nvPr/>
            </p:nvSpPr>
            <p:spPr>
              <a:xfrm flipH="1">
                <a:off x="580680" y="2185920"/>
                <a:ext cx="1695600" cy="3952800"/>
              </a:xfrm>
              <a:custGeom>
                <a:avLst/>
                <a:gdLst/>
                <a:ahLst/>
                <a:rect l="l" t="t" r="r" b="b"/>
                <a:pathLst>
                  <a:path w="1695450" h="3952875">
                    <a:moveTo>
                      <a:pt x="0" y="3865492"/>
                    </a:moveTo>
                    <a:lnTo>
                      <a:pt x="252419" y="3778108"/>
                    </a:lnTo>
                    <a:lnTo>
                      <a:pt x="252419" y="3828064"/>
                    </a:lnTo>
                    <a:lnTo>
                      <a:pt x="1570639" y="3828064"/>
                    </a:lnTo>
                    <a:lnTo>
                      <a:pt x="1570639" y="252419"/>
                    </a:lnTo>
                    <a:lnTo>
                      <a:pt x="1520683" y="252419"/>
                    </a:lnTo>
                    <a:lnTo>
                      <a:pt x="1608067" y="0"/>
                    </a:lnTo>
                    <a:lnTo>
                      <a:pt x="1695450" y="252419"/>
                    </a:lnTo>
                    <a:lnTo>
                      <a:pt x="1645494" y="252419"/>
                    </a:lnTo>
                    <a:lnTo>
                      <a:pt x="1645494" y="3902919"/>
                    </a:lnTo>
                    <a:lnTo>
                      <a:pt x="252419" y="3902919"/>
                    </a:lnTo>
                    <a:lnTo>
                      <a:pt x="252419" y="3952875"/>
                    </a:lnTo>
                    <a:lnTo>
                      <a:pt x="0" y="386549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00" y="4542480"/>
                <a:ext cx="3657600" cy="89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109"/>
            <p:cNvSpPr/>
            <p:nvPr/>
          </p:nvSpPr>
          <p:spPr>
            <a:xfrm>
              <a:off x="628560" y="4551120"/>
              <a:ext cx="75960" cy="879480"/>
            </a:xfrm>
            <a:prstGeom prst="rect">
              <a:avLst/>
            </a:prstGeom>
            <a:solidFill>
              <a:srgbClr val="3333cc">
                <a:alpha val="25000"/>
              </a:srgbClr>
            </a:solidFill>
            <a:ln w="93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13"/>
          <p:cNvSpPr/>
          <p:nvPr/>
        </p:nvSpPr>
        <p:spPr>
          <a:xfrm>
            <a:off x="2050920" y="1138320"/>
            <a:ext cx="40928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ng on the sam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ing the same BSM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5877000" y="1862280"/>
            <a:ext cx="3181320" cy="581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6298920" y="239544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Collision Warning (F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527800" y="511164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 Spot / Lane Change Warning (BSW / L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338520" y="613872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ass Warning (DNP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6498720" y="4205160"/>
            <a:ext cx="259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section Movement Assist (I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5527800" y="5442120"/>
            <a:ext cx="347184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"/>
          <p:cNvPicPr/>
          <p:nvPr/>
        </p:nvPicPr>
        <p:blipFill>
          <a:blip r:embed="rId7"/>
          <a:stretch/>
        </p:blipFill>
        <p:spPr>
          <a:xfrm>
            <a:off x="5700600" y="4546440"/>
            <a:ext cx="3382920" cy="72576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22"/>
          <p:cNvSpPr/>
          <p:nvPr/>
        </p:nvSpPr>
        <p:spPr>
          <a:xfrm rot="21141000">
            <a:off x="6797160" y="4545000"/>
            <a:ext cx="412920" cy="609480"/>
          </a:xfrm>
          <a:custGeom>
            <a:avLst/>
            <a:gdLst>
              <a:gd name="textAreaLeft" fmla="*/ 0 w 412920"/>
              <a:gd name="textAreaRight" fmla="*/ 413280 w 412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04800" h="581025">
                <a:moveTo>
                  <a:pt x="304800" y="0"/>
                </a:moveTo>
                <a:cubicBezTo>
                  <a:pt x="196056" y="100806"/>
                  <a:pt x="87312" y="201613"/>
                  <a:pt x="76200" y="247650"/>
                </a:cubicBezTo>
                <a:cubicBezTo>
                  <a:pt x="65088" y="293687"/>
                  <a:pt x="250825" y="220662"/>
                  <a:pt x="238125" y="276225"/>
                </a:cubicBezTo>
                <a:cubicBezTo>
                  <a:pt x="225425" y="331788"/>
                  <a:pt x="0" y="581025"/>
                  <a:pt x="0" y="58102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3" descr=""/>
          <p:cNvPicPr/>
          <p:nvPr/>
        </p:nvPicPr>
        <p:blipFill>
          <a:blip r:embed="rId8"/>
          <a:stretch/>
        </p:blipFill>
        <p:spPr>
          <a:xfrm>
            <a:off x="6637320" y="2533680"/>
            <a:ext cx="2449440" cy="18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"/>
          <p:cNvPicPr/>
          <p:nvPr/>
        </p:nvPicPr>
        <p:blipFill>
          <a:blip r:embed="rId9"/>
          <a:stretch/>
        </p:blipFill>
        <p:spPr>
          <a:xfrm>
            <a:off x="4033800" y="2716200"/>
            <a:ext cx="2603520" cy="1270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5"/>
          <p:cNvSpPr/>
          <p:nvPr/>
        </p:nvSpPr>
        <p:spPr>
          <a:xfrm>
            <a:off x="4575960" y="39132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Turn Assist (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7"/>
          <p:cNvSpPr/>
          <p:nvPr/>
        </p:nvSpPr>
        <p:spPr>
          <a:xfrm rot="19326000">
            <a:off x="3933720" y="5046840"/>
            <a:ext cx="1295640" cy="609480"/>
          </a:xfrm>
          <a:prstGeom prst="rightArrow">
            <a:avLst>
              <a:gd name="adj1" fmla="val 50000"/>
              <a:gd name="adj2" fmla="val 5314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82840" y="593640"/>
            <a:ext cx="3094560" cy="1213200"/>
            <a:chOff x="5982840" y="593640"/>
            <a:chExt cx="3094560" cy="1213200"/>
          </a:xfrm>
        </p:grpSpPr>
        <p:sp>
          <p:nvSpPr>
            <p:cNvPr id="151" name="TextBox 15"/>
            <p:cNvSpPr/>
            <p:nvPr/>
          </p:nvSpPr>
          <p:spPr>
            <a:xfrm>
              <a:off x="5982840" y="1530360"/>
              <a:ext cx="309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ergency Electronic Brake Lights (EEB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5" descr=""/>
            <p:cNvPicPr/>
            <p:nvPr/>
          </p:nvPicPr>
          <p:blipFill>
            <a:blip r:embed="rId10"/>
            <a:stretch/>
          </p:blipFill>
          <p:spPr>
            <a:xfrm>
              <a:off x="5987880" y="593640"/>
              <a:ext cx="3057480" cy="92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that would allow sharing with ITS safety of life and property communications in the 5.9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 including NHTSA, DOT and other ITS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d milestone timeline depends 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 on the rollout of the standards, technologies and laws by the various ITS stakeholders (e.g. FCC, US DoT, NHTSA, Auto O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of experiments prior to rulemaking (“proof of concep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/DOT testing an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6664C7-044C-4465-951E-06B03B6F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art 15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1 “…an intentional, unintentional, or incidental radiator may be operated without an individual licens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5(b) Operation of an intentional, unintentional, or incidental radiator is subject to the condit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harmful interference is caused and that interference must be accepted that may be caused by the operation of an authorized radio s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another intentional or unintentional radiator, by industrial, scientific and medical (ISM) equipment, or by an incidental radi- a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E3817E-A08D-4001-930F-666CA4C0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ccess of 802.11 devices relies on their ability to share with other 802.11 de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chanisms have also been devised for sharing with non-802.11 devices includ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Frequency Selection (DFS) in the 5 GHz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ion and avoidance of interference with rad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in 5250 to 5350 MHz and 5470 to 5725 MHz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-location database to protect broadcast equipment in the TV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, devices access a database to determine available, unused channels, based on geographic location and time, and the device transmi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d for unlicensed operation in TV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C832E7-4921-4005-89E4-63A95F86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dick</cp:lastModifiedBy>
  <cp:lastPrinted>1998-02-10T13:28:06Z</cp:lastPrinted>
  <dcterms:modified xsi:type="dcterms:W3CDTF">2013-11-12T23:35:36Z</dcterms:modified>
  <cp:revision>1487</cp:revision>
  <dc:subject/>
  <dc:title>Waikoloa Meeting Plan</dc:title>
</cp:coreProperties>
</file>