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DCFA2BD-7760-4676-84D2-FBE4211B4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9C9B68-6D61-4F9E-9609-B2713C999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304076-02D8-4C4C-85BE-F1A5EA3F0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06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54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870720" y="8985240"/>
            <a:ext cx="23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int Chaplin, Chair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0427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B6F40D-E362-4546-979A-CC179EF767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379320" y="8985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4F84A-F210-425F-80B6-85544CF0B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38B-C77F-46F1-B5E1-DC6BFE03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ED5-2E76-4019-BD53-22ECF787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691-571C-4C1B-9E63-53FC3E92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5DA-A475-4240-9C6C-6491D36C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1DCD-6ACE-4195-B848-52CEA2FE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662D-B216-4373-9FA2-E360D8FF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357D-DD57-47E0-B459-973BB929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8912-D813-407F-A77B-1984F0B6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F8C9-38FE-4752-9832-60F0AE7D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9D75-519A-42CA-8774-4CC02636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6E8D-1F8D-4CC1-B416-D0DC425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949-7BB8-43D7-9908-77654E9E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983D-C066-45A8-9A5B-A0FF23BF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41EF-3C26-4CCE-94A0-A952AA3D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633C-EED6-4185-B11F-FA8BD319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0B2A-FBAC-4B05-B2C2-86758367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9BF7-C9C5-4978-AEFF-4E62A9EC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B13-9A82-4C62-AB52-71EC7F9E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F41-798A-49D9-945F-7A510DC7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50A-1AFF-4DAC-8AD3-9717BD15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1AD-FD63-4173-9049-CDB3246E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736-AF93-47DB-8200-EA908AA2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B34-E53B-46CF-8B81-5B70016D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2CF-3473-4C42-ACD1-3D8C80CA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12240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7CD5345A-D5E7-400C-8E8E-ECAD903394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4010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0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anuary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5F3C-A2BD-434E-9418-0997742A301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BE2C3D-7CED-47E4-BCD2-987615840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conference Plan and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2-0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11"/>
          <p:cNvGraphicFramePr/>
          <p:nvPr/>
        </p:nvGraphicFramePr>
        <p:xfrm>
          <a:off x="533520" y="3292560"/>
          <a:ext cx="8181720" cy="238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92560"/>
                    <a:ext cx="818172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SI ERM TG11 and ETSI BR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additional measures to ensure DFS cannot be by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est methodology to simplify that in EN 300 328v1.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d a proposal from the Industrial Automation industry to add a “Central Control Point” to the 2.4 GHz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 not complete (802.11b-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bring completed version in Febru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-Fi and Bluetooth industries responded with questions and concerns with the IA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B5514DB-69AB-4265-9C3B-402B0CB03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obalstar NPR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eding IB Docket 13-2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RM FCC 13-14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ased November 1, 20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not published in the Federal Regis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 days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5A77915-2F81-4C5B-AE6E-22F9F9F81B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 Other Actual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 going forw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DSRC Coexistence TT; IEEE 802.18 and ExCom approval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o Globalstar NP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 ETSI ERM and B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band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 bands a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Geo-location database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dynamic spectrum allocatio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80E400-7776-478C-88E1-5C5E1ECD7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is the plan for the January 30, 2014 IEEE 802.11 Regulatory Standing Committee telecon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ate Placeholder 6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8BD0B3A-5323-4C29-BF01-FE2DC9972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 a recording secret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nistrative item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S / DSRC coexistence Tiger Team upd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star NP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regulatory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ate Placeholder 6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0B186A-AA79-4AAE-9683-EAD80F19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ministrative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d not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iliation FAQ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standards.ieee.org/faqs/affiliationFAQ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standards.ieee.org/resources/antitrust-guidelines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ieee.org/portal/cms_docs/about/CoE_post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Working Group Policies and Procedures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s://mentor.ieee.org/802.11/public-file/07/11-07-0360-04-0000-802-11-policies-and-procedures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and Secret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r is Rich Kennedy (sel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 will act as Recording 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send an email to the addresses below to have your attendance recor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kennedy1000@gmai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cclesi@cisco.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Date Placeholder 6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E5E534-2D81-437D-8995-65DA12C7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6E10E04-6702-4BA3-A63F-4583E876C2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Operating Ru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body can vote, present, and make mo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articipation in SC during 802.11 WG Plenary or Interim counts towards 802.11 voting right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ll motions must pass by a 75% majority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468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Guidelines for IEEE WG Meet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1905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176"/>
              </a:spcBef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IEEE-SA standards meetings shall be conducted in compliance with all applicable laws, including antitrust and competition law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n’t discuss the interpretation, validity, or essentiality of patents/patent clai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n’t discuss specific license rates, terms, o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Relative costs, including licensing costs of essential patent claims, of different technical approaches may be discussed in standards development meeting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Technical considerations remain primar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n’t discuss or engage in the fixing of product prices, allocation of customers, or division of sales mar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n’t discuss the status or substance of ongoing or threatened litig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n’t be silent if inappropriate topics are discussed … do formally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---------------------------------------------------------------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e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IEEE-SA Standards Board Operations Manu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, clause 5.3.10 and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“Promoting Competition and Innovation: What You Need to Know about the IEEE Standards Association's Antitrust and Competition Policy”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for more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6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Date Placeholder 7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8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8C4329-68C1-4199-9753-78EB830A1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 the working relationship between the technical experts and the regulatory specialists, especially when it comes to critical technical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oup will review new regulatory changes or impending changes affecting 802.11 standar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meeting will focus on the most critical issue at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itical Issue Focu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impact on IEEE 802.11 current and future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/Input dead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ion with IEEE 802.18 (RR-T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ion with the Wi-Fi Al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utputs from this group must go through 802.18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Date Placeholder 6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13E50F-673F-4DB8-9468-AEE5E59EA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should be the outcome from the group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of coexistence requirements for 802.11 in the 5 GHz band with ITS safety of life and property communications in the 5.9 GHz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 a group to provide a formal interface to other organizations in the automotive industry, NHTSA, DOT and other ITS p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required milestone timelin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endent upon the FCC et al, progress on the rollout of the standards, technologies and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 of experiments prior to rulemaking; proof of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P/DOT testing and vali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date from Los Angel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ut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mber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1:00pm 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DD8DDA-9DFC-46F2-8107-52C324058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Regulatory Updat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R&amp;O in 5 GHz bands changes expected 1Q1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open 5600 to 5650 MHz with firmware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 U-NII-3 to 5850 MHz (was 58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y U-NII-1 band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 GHz onboard aircraft to be consid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SI ERM TG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300 328 v1.9.1 to be ready to start approval process in Febru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to have it ready for voluntary use by January 1, 20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0E2E770-F1EB-4FA4-BAD3-977B3C9E8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Rich Kennedy</dc:creator>
  <dc:description/>
  <dc:language>en-US</dc:language>
  <cp:lastModifiedBy>Rich Kennedy</cp:lastModifiedBy>
  <cp:lastPrinted>1998-02-10T13:28:06Z</cp:lastPrinted>
  <dcterms:modified xsi:type="dcterms:W3CDTF">2014-01-28T13:49:33Z</dcterms:modified>
  <cp:revision>1492</cp:revision>
  <dc:subject/>
  <dc:title>Waikoloa Meeting Plan</dc:title>
</cp:coreProperties>
</file>