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BD31CE6-9ECF-4D68-B10E-D9A331A726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92652D-9E1D-4986-A121-37F1F5FD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C65F06-C493-4452-AA98-FE9BC67D0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0CB0F1-5E30-46D0-9692-40B429F35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C34B0-45EC-4F08-B688-8479F2BE8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30C-7A77-4373-84BA-2853B695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80B-F13E-4551-BB6C-4F446A0C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77A-D786-427D-87E6-B6E91784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E35-0DD7-44C1-8508-19DB7682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2716-933C-4F8A-9B05-94B65183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BD58-F80D-4D99-A9F8-607ACF8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F320-1230-4270-A01D-AA6BA3CA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8EB1-91CB-41F3-AC42-93962D3C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37C4-803C-4528-AB89-B0D6EFF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CE94-3BCE-491F-9549-0B790E37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5A1F-E733-4223-8B7C-22FDFF7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817-BA1F-438B-8791-12280E85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B0E6-F32C-4FC0-94F5-92288A71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82AA-549C-416E-B42D-78CCF1F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9CC4-603D-4043-BFED-19F6094E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E192-CB9F-4617-96D9-73797BAE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13D8-D68D-40BF-84C4-B1D23241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21F-52A8-4E98-A107-772B5833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9B6-B2BC-44AD-836A-64E7446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8C6-50B6-4727-896C-CC872C8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711-66AB-46E5-A6FA-B0856D21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42D-97A2-45B9-BC96-045B788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6F6-0928-4173-B12B-71EA91C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C14-CB62-43D5-A906-D336CD4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224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A3F4700-E1B9-48D1-9F85-B38F099D8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4010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0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723-7669-4FA7-85CA-3785E4356B5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D8DAC2-43C6-4829-A3DA-AD773A93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nference Plan and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2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1"/>
          <p:cNvGraphicFramePr/>
          <p:nvPr/>
        </p:nvGraphicFramePr>
        <p:xfrm>
          <a:off x="533520" y="3292560"/>
          <a:ext cx="8181720" cy="23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92560"/>
                    <a:ext cx="818172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SI ERM TG11 and ETSI BR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additional measures to ensure DFS cannot be by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est methodology to simplify that in EN 300 328v1.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d a proposal from the Industrial Automation industry to add a “Central Control Point” to the 2.4 G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not complete (802.11b-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bring completed version in Febr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-Fi and Bluetooth industries responded with questions and concerns with the IA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E4C2AD-8105-4168-99AE-BCA9F29C8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obalstar NPR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eding IB Docket 13-2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RM FCC 13-14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d November 1, 20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not published in the Federal Regis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days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541C7F6-3286-4BAB-AC01-C0D04370E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Other Actual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 going for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DSRC Coexistence TT; IEEE 802.18 and ExCom approval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to Globalstar NP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ETSI ERM and B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band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 bands a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Geo-location database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ynamic spectrum allocatio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E66241-6E0B-4C38-8298-184CBD75E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January 30, 2014 IEEE 802.11 Regulatory Standing Committee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543119-0CA7-4A36-AB2F-4F7731D60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 a recording secre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nistrative item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/ DSRC coexistence Tiger Team upd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star NP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regulatory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30E36C-5D5D-4CB4-8248-3D83DFAF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is Rich Kennedy (sel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 will act as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kennedy1000@g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cclesi@cisco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B33EEC-148F-457B-B16F-8E10B9B7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34D801-850E-4CC5-A81B-2E5C922F1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articipation in SC during 802.11 WG Plenary or Interim counts towards 802.11 voting right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ll motions must pass by a 75% majority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6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Date Placeholder 7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AB197A-5A7E-4577-9497-49E5D669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 the working relationship between the technical experts and the regulatory specialists, especially when it comes to critical technical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oup will review new regulatory changes or impending changes affecting 802.11 standar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meeting will focus on the most critical issue at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tical Issue Focu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impact on IEEE 802.11 current and future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/Input dead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ion with IEEE 802.18 (RR-T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ion with the Wi-Fi Al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utputs from this group must go through 802.1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Date Placeholder 6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CDFD29-F2A4-4113-AFB2-EEF89D33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should be the outcome from the group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coexistence requirements for 802.11 in the 5 GHz band with ITS safety of life and property communications in the 5.9 GHz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 a group to provide a formal interface to other organizations in the automotive industry, NHTSA, DOT and other ITS 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required milestone timelin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endent upon the FCC et al, progress on the rollout of the standards, technologies and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 of experiments prior to rulemaking; proof of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P/DOT testing and vali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 from Los Ange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ut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mber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1:00pm 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305C85-6085-49B9-AF58-151B95E5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Regulatory Upda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R&amp;O in 5 GHz bands changes expected 1Q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open 5600 to 5650 MHz with firmware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 U-NII-3 to 5850 MHz (was 58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y U-NII-1 band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GHz onboard aircraft to be consid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SI ERM TG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300 328 v1.9.1 to be ready to start approval process in Febru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to have it ready for voluntary use by January 1, 2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451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725240" y="6475320"/>
            <a:ext cx="117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 Kennedy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755054-F056-4A46-BE59-380768889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Rich Kennedy</dc:creator>
  <dc:description/>
  <dc:language>en-US</dc:language>
  <cp:lastModifiedBy>Rich Kennedy</cp:lastModifiedBy>
  <cp:lastPrinted>1998-02-10T13:28:06Z</cp:lastPrinted>
  <dcterms:modified xsi:type="dcterms:W3CDTF">2014-01-28T13:49:33Z</dcterms:modified>
  <cp:revision>1492</cp:revision>
  <dc:subject/>
  <dc:title>Waikoloa Meeting Plan</dc:title>
</cp:coreProperties>
</file>