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3/132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5357880" y="8984880"/>
            <a:ext cx="92376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A3E30C96-6DB2-445C-9745-64DF7BE21F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3/132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4992840" y="8985240"/>
            <a:ext cx="165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FA3574D-3EF9-4BD3-82FA-D7045C48E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3/132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992840" y="8985240"/>
            <a:ext cx="165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F658E2-10B3-4CFC-9A60-1E58AB213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339-D2E4-4580-AC93-08604B0D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230-004B-4B01-981C-4DFDA2CE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938-4447-4C19-A9A8-3D046DCB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FA47-7112-4CC1-ACC2-4D2EA987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70EB-442F-464A-A76B-2C2DC085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D603-DC34-4131-A18D-0C1017A0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CAF2-D408-443F-A7F7-F7F5331D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3BCF-C2C5-4422-8880-3B6AAEAE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3331-1E0F-4E0F-980C-3CAC3925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3807-31A3-4580-A9FC-8181A993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DC12-D47C-4673-A5E0-85C66B1F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D23F-61AB-4A0D-8CC9-EFFE9F26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0CFA-BE79-4815-94D7-EB17511B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B2C7-2A18-4D55-BB0E-89D2B54A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8704-A876-4FF7-AB53-9768D7A2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5A42-654A-4FAE-91C7-3A384588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DDDD-D560-4063-8C24-519C692E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4DB-C205-402E-A876-55F0862D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1C2-2EA4-4BB8-9BAC-8BB308AB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391E-0430-41B1-B381-9BDED168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942-D290-4A9D-B458-4A03D8E0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AA7-C700-4BC2-A167-42FC58BE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366C-872D-43A1-9ED2-36B1BB63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1C96-A8A5-4C38-BCF7-184F0D90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12240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133B9545-3C41-4AD2-966B-EE4AC135D9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4010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2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ovember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7719-309F-48A9-8750-103447C9B1B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FB69575-D0A7-40D0-ADE1-0D51A736B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RC Coexist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11-1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11"/>
          <p:cNvGraphicFramePr/>
          <p:nvPr/>
        </p:nvGraphicFramePr>
        <p:xfrm>
          <a:off x="533520" y="3208320"/>
          <a:ext cx="8181720" cy="255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8320"/>
                    <a:ext cx="818172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2"/>
          <p:cNvSpPr/>
          <p:nvPr/>
        </p:nvSpPr>
        <p:spPr>
          <a:xfrm>
            <a:off x="533520" y="2666880"/>
            <a:ext cx="1447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aring with DSR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group will determine the best sharing approa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maximizing spectrum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meet requirements determined by regulation and approval of the DSRC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allocation protection is par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community will participa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16A1F6D-E070-41DB-9196-4B17D76AE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ject to Develop Sharing in 5.9 GH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IEEE 802.11 is to utilize the 5.9 GHz band, the sharing mechanism must be added to the stand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udy Group should be formed to develop a  PAR and 5 Criteria to start this proj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3C5B89D-B85D-499C-9D98-E6C49F35A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mful Interference to DSRC Systems: 11-13/1309r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SRC PER versus RSS Profiles: 11-13/1360r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6C08C5E-D380-4360-B89F-1451EEA95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describes the DSRC technology, the regulatory requirements for sharing the 5.9 GHz spectrum, and how we propose to move forward with a plan to enable regulators to open this spectrum to allow IEEE 802.11 technologies to operate in this ba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Date Placeholder 6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5AD077E-D718-4489-B383-35DA28B8D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bas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CC Part 15 bas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isting 802.11 sharing mechanis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ring with DSR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ject to incorporate sharing in 802.11a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Date Placeholder 6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9ACDC47-85DD-431F-89B3-8E3255F74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RC Bas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dicated Short Range Communic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9 GHz DSRC is essential for V2V crash-imminent safety applications, and must be protected from U-NII-3 and U-NII-4 devic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2V safety has stringent communications requirements, but future pre-crash and automation requirements may be even more stringen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current DSRC channels are needed for future applications and re-channelization and channel use rule changes are not feasibl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ly in final stages of U.S. DOT NHTSA mandate decisi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orough testing is needed to determine whether sharing with U-NII devices is possibl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2686896-DF72-408C-AD8B-3234C8B9B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"/>
          <p:cNvPicPr/>
          <p:nvPr/>
        </p:nvPicPr>
        <p:blipFill>
          <a:blip r:embed="rId1"/>
          <a:stretch/>
        </p:blipFill>
        <p:spPr>
          <a:xfrm>
            <a:off x="95400" y="3068640"/>
            <a:ext cx="3790800" cy="3384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85800"/>
            <a:ext cx="7772400" cy="58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dicated Short Range Communications (DSRC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78166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DB2A227-E934-45FA-85C6-5DF9CC4DA4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dsrc_new"/>
          <p:cNvPicPr/>
          <p:nvPr/>
        </p:nvPicPr>
        <p:blipFill>
          <a:blip r:embed="rId2"/>
          <a:stretch/>
        </p:blipFill>
        <p:spPr>
          <a:xfrm>
            <a:off x="5483160" y="1244520"/>
            <a:ext cx="3637080" cy="1979640"/>
          </a:xfrm>
          <a:prstGeom prst="rect">
            <a:avLst/>
          </a:prstGeom>
          <a:ln w="0">
            <a:noFill/>
          </a:ln>
        </p:spPr>
      </p:pic>
      <p:sp>
        <p:nvSpPr>
          <p:cNvPr id="124" name="Content Placeholder 6"/>
          <p:cNvSpPr/>
          <p:nvPr/>
        </p:nvSpPr>
        <p:spPr>
          <a:xfrm>
            <a:off x="4427640" y="3645000"/>
            <a:ext cx="471636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EEE: 802.11p, 1609.2 – 1609.4, 1609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AE: J2735, J29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V2V Basic Safety Message (BS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message size: ~320 to 350 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efault transmit rate: 1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sophisticated protocols in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efault transmit power: 2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nables multiple V2V Safety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ntent Placeholder 6"/>
          <p:cNvSpPr/>
          <p:nvPr/>
        </p:nvSpPr>
        <p:spPr>
          <a:xfrm>
            <a:off x="28440" y="1268280"/>
            <a:ext cx="5454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75 MHz of spectrum @ 5.9 GHz for 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Key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802.11p technology similar to 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ow latency communication (&lt;&lt; 50 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igh data transfer rates (3 – 27 M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ine-of-sight, up to 1000 m and 360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ow power message reception (&lt; -90 dB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2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8166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1BBE70E-21EA-4120-8E2E-0D43391F5E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0" y="685440"/>
            <a:ext cx="6496200" cy="3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2V Safety Communications – Summ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4" descr=""/>
          <p:cNvPicPr/>
          <p:nvPr/>
        </p:nvPicPr>
        <p:blipFill>
          <a:blip r:embed="rId1"/>
          <a:stretch/>
        </p:blipFill>
        <p:spPr>
          <a:xfrm>
            <a:off x="733320" y="2455920"/>
            <a:ext cx="2438640" cy="2174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9" descr="MCj04417360000[1]"/>
          <p:cNvPicPr/>
          <p:nvPr/>
        </p:nvPicPr>
        <p:blipFill>
          <a:blip r:embed="rId2"/>
          <a:stretch/>
        </p:blipFill>
        <p:spPr>
          <a:xfrm>
            <a:off x="2527200" y="5316480"/>
            <a:ext cx="1419480" cy="1419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8" descr="MCj04403540000[1]"/>
          <p:cNvPicPr/>
          <p:nvPr/>
        </p:nvPicPr>
        <p:blipFill>
          <a:blip r:embed="rId3"/>
          <a:stretch/>
        </p:blipFill>
        <p:spPr>
          <a:xfrm>
            <a:off x="277920" y="973080"/>
            <a:ext cx="1671480" cy="111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7"/>
          <p:cNvGrpSpPr/>
          <p:nvPr/>
        </p:nvGrpSpPr>
        <p:grpSpPr>
          <a:xfrm>
            <a:off x="120600" y="2185920"/>
            <a:ext cx="3657600" cy="3952800"/>
            <a:chOff x="120600" y="2185920"/>
            <a:chExt cx="3657600" cy="3952800"/>
          </a:xfrm>
        </p:grpSpPr>
        <p:grpSp>
          <p:nvGrpSpPr>
            <p:cNvPr id="133" name="Group 16"/>
            <p:cNvGrpSpPr/>
            <p:nvPr/>
          </p:nvGrpSpPr>
          <p:grpSpPr>
            <a:xfrm>
              <a:off x="120600" y="2185920"/>
              <a:ext cx="3657600" cy="3952800"/>
              <a:chOff x="120600" y="2185920"/>
              <a:chExt cx="3657600" cy="3952800"/>
            </a:xfrm>
          </p:grpSpPr>
          <p:sp>
            <p:nvSpPr>
              <p:cNvPr id="134" name="Left-Up Arrow 11"/>
              <p:cNvSpPr/>
              <p:nvPr/>
            </p:nvSpPr>
            <p:spPr>
              <a:xfrm flipH="1">
                <a:off x="580680" y="2185920"/>
                <a:ext cx="1695600" cy="3952800"/>
              </a:xfrm>
              <a:custGeom>
                <a:avLst/>
                <a:gdLst/>
                <a:ahLst/>
                <a:rect l="l" t="t" r="r" b="b"/>
                <a:pathLst>
                  <a:path w="1695450" h="3952875">
                    <a:moveTo>
                      <a:pt x="0" y="3865492"/>
                    </a:moveTo>
                    <a:lnTo>
                      <a:pt x="252419" y="3778108"/>
                    </a:lnTo>
                    <a:lnTo>
                      <a:pt x="252419" y="3828064"/>
                    </a:lnTo>
                    <a:lnTo>
                      <a:pt x="1570639" y="3828064"/>
                    </a:lnTo>
                    <a:lnTo>
                      <a:pt x="1570639" y="252419"/>
                    </a:lnTo>
                    <a:lnTo>
                      <a:pt x="1520683" y="252419"/>
                    </a:lnTo>
                    <a:lnTo>
                      <a:pt x="1608067" y="0"/>
                    </a:lnTo>
                    <a:lnTo>
                      <a:pt x="1695450" y="252419"/>
                    </a:lnTo>
                    <a:lnTo>
                      <a:pt x="1645494" y="252419"/>
                    </a:lnTo>
                    <a:lnTo>
                      <a:pt x="1645494" y="3902919"/>
                    </a:lnTo>
                    <a:lnTo>
                      <a:pt x="252419" y="3902919"/>
                    </a:lnTo>
                    <a:lnTo>
                      <a:pt x="252419" y="3952875"/>
                    </a:lnTo>
                    <a:lnTo>
                      <a:pt x="0" y="3865492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120600" y="4542480"/>
                <a:ext cx="3657600" cy="89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Rectangle 109"/>
            <p:cNvSpPr/>
            <p:nvPr/>
          </p:nvSpPr>
          <p:spPr>
            <a:xfrm>
              <a:off x="628560" y="4551120"/>
              <a:ext cx="75960" cy="879480"/>
            </a:xfrm>
            <a:prstGeom prst="rect">
              <a:avLst/>
            </a:prstGeom>
            <a:solidFill>
              <a:srgbClr val="3333cc">
                <a:alpha val="25000"/>
              </a:srgbClr>
            </a:solidFill>
            <a:ln w="93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Rectangle 113"/>
          <p:cNvSpPr/>
          <p:nvPr/>
        </p:nvSpPr>
        <p:spPr>
          <a:xfrm>
            <a:off x="2050920" y="1138320"/>
            <a:ext cx="409284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1713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manufactur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ing on the same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hanging the same BSM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multiple V2V safety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5"/>
          <a:stretch/>
        </p:blipFill>
        <p:spPr>
          <a:xfrm>
            <a:off x="5877000" y="1862280"/>
            <a:ext cx="3181320" cy="5810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6"/>
          <p:cNvSpPr/>
          <p:nvPr/>
        </p:nvSpPr>
        <p:spPr>
          <a:xfrm>
            <a:off x="6298920" y="2395440"/>
            <a:ext cx="24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ward Collision Warning (F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5527800" y="511164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d Spot / Lane Change Warning (BSW / L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8"/>
          <p:cNvSpPr/>
          <p:nvPr/>
        </p:nvSpPr>
        <p:spPr>
          <a:xfrm>
            <a:off x="6338520" y="6138720"/>
            <a:ext cx="22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Pass Warning (DNP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9"/>
          <p:cNvSpPr/>
          <p:nvPr/>
        </p:nvSpPr>
        <p:spPr>
          <a:xfrm>
            <a:off x="6498720" y="4205160"/>
            <a:ext cx="259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section Movement Assist (I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3" descr=""/>
          <p:cNvPicPr/>
          <p:nvPr/>
        </p:nvPicPr>
        <p:blipFill>
          <a:blip r:embed="rId6"/>
          <a:stretch/>
        </p:blipFill>
        <p:spPr>
          <a:xfrm>
            <a:off x="5527800" y="5442120"/>
            <a:ext cx="3471840" cy="668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1" descr=""/>
          <p:cNvPicPr/>
          <p:nvPr/>
        </p:nvPicPr>
        <p:blipFill>
          <a:blip r:embed="rId7"/>
          <a:stretch/>
        </p:blipFill>
        <p:spPr>
          <a:xfrm>
            <a:off x="5700600" y="4546440"/>
            <a:ext cx="3382920" cy="725760"/>
          </a:xfrm>
          <a:prstGeom prst="rect">
            <a:avLst/>
          </a:prstGeom>
          <a:ln w="0">
            <a:noFill/>
          </a:ln>
        </p:spPr>
      </p:pic>
      <p:sp>
        <p:nvSpPr>
          <p:cNvPr id="145" name="Freeform 22"/>
          <p:cNvSpPr/>
          <p:nvPr/>
        </p:nvSpPr>
        <p:spPr>
          <a:xfrm rot="21141000">
            <a:off x="6797160" y="4545000"/>
            <a:ext cx="412920" cy="609480"/>
          </a:xfrm>
          <a:custGeom>
            <a:avLst/>
            <a:gdLst>
              <a:gd name="textAreaLeft" fmla="*/ 0 w 412920"/>
              <a:gd name="textAreaRight" fmla="*/ 413280 w 4129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04800" h="581025">
                <a:moveTo>
                  <a:pt x="304800" y="0"/>
                </a:moveTo>
                <a:cubicBezTo>
                  <a:pt x="196056" y="100806"/>
                  <a:pt x="87312" y="201613"/>
                  <a:pt x="76200" y="247650"/>
                </a:cubicBezTo>
                <a:cubicBezTo>
                  <a:pt x="65088" y="293687"/>
                  <a:pt x="250825" y="220662"/>
                  <a:pt x="238125" y="276225"/>
                </a:cubicBezTo>
                <a:cubicBezTo>
                  <a:pt x="225425" y="331788"/>
                  <a:pt x="0" y="581025"/>
                  <a:pt x="0" y="58102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3" descr=""/>
          <p:cNvPicPr/>
          <p:nvPr/>
        </p:nvPicPr>
        <p:blipFill>
          <a:blip r:embed="rId8"/>
          <a:stretch/>
        </p:blipFill>
        <p:spPr>
          <a:xfrm>
            <a:off x="6637320" y="2533680"/>
            <a:ext cx="2449440" cy="1846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4" descr=""/>
          <p:cNvPicPr/>
          <p:nvPr/>
        </p:nvPicPr>
        <p:blipFill>
          <a:blip r:embed="rId9"/>
          <a:stretch/>
        </p:blipFill>
        <p:spPr>
          <a:xfrm>
            <a:off x="4033800" y="2716200"/>
            <a:ext cx="2603520" cy="12700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5"/>
          <p:cNvSpPr/>
          <p:nvPr/>
        </p:nvSpPr>
        <p:spPr>
          <a:xfrm>
            <a:off x="4575960" y="391320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Turn Assist (L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7"/>
          <p:cNvSpPr/>
          <p:nvPr/>
        </p:nvSpPr>
        <p:spPr>
          <a:xfrm rot="19326000">
            <a:off x="3933720" y="5046840"/>
            <a:ext cx="1295640" cy="609480"/>
          </a:xfrm>
          <a:prstGeom prst="rightArrow">
            <a:avLst>
              <a:gd name="adj1" fmla="val 50000"/>
              <a:gd name="adj2" fmla="val 53145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28"/>
          <p:cNvGrpSpPr/>
          <p:nvPr/>
        </p:nvGrpSpPr>
        <p:grpSpPr>
          <a:xfrm>
            <a:off x="5982840" y="593640"/>
            <a:ext cx="3094560" cy="1213200"/>
            <a:chOff x="5982840" y="593640"/>
            <a:chExt cx="3094560" cy="1213200"/>
          </a:xfrm>
        </p:grpSpPr>
        <p:sp>
          <p:nvSpPr>
            <p:cNvPr id="151" name="TextBox 15"/>
            <p:cNvSpPr/>
            <p:nvPr/>
          </p:nvSpPr>
          <p:spPr>
            <a:xfrm>
              <a:off x="5982840" y="1530360"/>
              <a:ext cx="309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ergency Electronic Brake Lights (EEB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Picture 5" descr=""/>
            <p:cNvPicPr/>
            <p:nvPr/>
          </p:nvPicPr>
          <p:blipFill>
            <a:blip r:embed="rId10"/>
            <a:stretch/>
          </p:blipFill>
          <p:spPr>
            <a:xfrm>
              <a:off x="5987880" y="593640"/>
              <a:ext cx="3057480" cy="92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RC Coexistence Tiger Te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should be the outcome from the group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coexistence requirements for 802.11 in the 5 GHz band with ITS safety of life and property communications in the 5.9 GHz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 a group to provide a formal interface to other organizations in the automotive industry, NHTSA, DOT and other ITS p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required milestone timelin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upon the FCC et al, progress on the rollout of the standards, technologies and la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of experiments prior to rulemaking; proof of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P/DOT testing and vali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0AF4294-9633-4D69-8ABE-5467618A2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Part 15 Bas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1 “…an intentional, unintentional, or incidental radiator may be operated without an individual licens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5(b) Operation of an intentional, unintentional, or incidental radiator is subject to the conditions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harmful interference is caused and that interference must be accepted that may be caused by the operation of an authorized radio st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by another intentional or unintentional radiator, by industrial, scientific and medical (ISM) equipment, or by an incidental radi- ator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11FED44-6FFC-4C71-A214-EF608C0A2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isting 802.11 Sharing Mechanis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ccess of 802.11 devices relies on its ability to share with other 802.11 WLAN dev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 mechanisms have been devised for sharing with non-802.11 devices for special cas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FS to protect radars in the 5 GHz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d in 5250 to 5350 MHz and 5470 to 5725 MHz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ction and avoidance of interference with rad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o-location Database to protect broadcast equipment in the TV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ed for unlicensed operation in TV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ransmit, devices access a database to determine available, unused channels, based on geographic location and time, and the device transmit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5428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7712280" y="647532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56EF397-DE99-41AD-BB87-571126862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8:19Z</dcterms:created>
  <dc:creator>Rich Kennedy</dc:creator>
  <dc:description/>
  <dc:language>en-US</dc:language>
  <cp:lastModifiedBy>Rich Kennedy</cp:lastModifiedBy>
  <cp:lastPrinted>1998-02-10T13:28:06Z</cp:lastPrinted>
  <dcterms:modified xsi:type="dcterms:W3CDTF">2013-11-12T17:33:31Z</dcterms:modified>
  <cp:revision>1485</cp:revision>
  <dc:subject/>
  <dc:title>Waikoloa Meeting Plan</dc:title>
</cp:coreProperties>
</file>