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5357880" y="8984880"/>
            <a:ext cx="9237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BD8653C-9158-43D7-882A-D1150AA3FB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992840" y="8985240"/>
            <a:ext cx="165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7DDABD-3079-4DE3-8EBF-01862E0E7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992840" y="8985240"/>
            <a:ext cx="165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36D04F-A491-48A5-9698-3D28A1065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A5F-B6DD-4228-A0BB-9015E180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459-EDDF-45C0-9AD0-E2D6FD8C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763-D5CF-455E-B773-99F16036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F5E-40DD-469D-8E7C-6AC15374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9694-6AEB-4509-99D1-7BC8945D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4FD8-1B5C-4492-A5CA-C194D658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5A9E-479A-478C-88BA-44EF59FF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57D2-0769-4CA5-BEDD-8B7EF82F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8320-C491-4BD4-A176-EB689ACE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81C7-5A12-4B92-956D-0CCC5B61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AA27-B64F-45C5-B1BD-76B004F7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288-BDE6-417A-A4D3-E42670B1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8FDE-3BB9-4330-AD35-4FBEE620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C250-4E3D-45B1-9076-7EFB1D9F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212B-92F5-449D-A772-A3D6A32B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BEE0-4980-48BB-A5C5-402B076E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F5BA-40A1-4914-9454-BD77C6C3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68B-6FD7-4FC3-A7D3-A8C26C41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646-2C8D-4CA5-B5F2-8892A937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E85-D550-4131-A2FF-F34AA033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C2C-E529-4D05-A123-8B573BC6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C5C-05AC-4D3B-BA4E-A22953F3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AC2-5C6A-438E-993C-28F7B104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7F5-8718-41D0-B872-599EFBC4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12240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895B4772-88BD-484D-9459-9C91F22DB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4010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2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ovember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0E89-E67B-42B6-A8B3-3BF74D359AC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4CE18C-17F6-4E7C-BA65-0245FACE4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Coexist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1-1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11"/>
          <p:cNvGraphicFramePr/>
          <p:nvPr/>
        </p:nvGraphicFramePr>
        <p:xfrm>
          <a:off x="533520" y="3208320"/>
          <a:ext cx="8181720" cy="255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8320"/>
                    <a:ext cx="81817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aring with DSR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group will determine the best sharing approa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maximizing spectrum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eet requirements determined by regulation and approval of the DSRC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allocation protection is par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mmunity will particip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480B0C-D201-43D2-9FFA-6E86311CF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ct to Develop Sharing in 5.9 GH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IEEE 802.11 is to utilize the 5.9 GHz band, the sharing mechanism must be added to the stand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udy Group should be formed to develop a  PAR and 5 Criteria to start this pro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C178B4-F161-4ABD-B60F-D403E9584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mful Interference to DSRC Systems: 11-13/1309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SRC PER versus RSS Profiles: 11-13/1360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EAB552A-7BBD-43EE-A209-D748CD155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describes the DSRC technology, the regulatory requirements for sharing the 5.9 GHz spectrum, and how we propose to move forward with a plan to enable regulators to open this spectrum to allow IEEE 802.11 technologies to operate in this ba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ate Placeholder 6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7B6087-0A8E-4744-AD03-24F90DF84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bas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CC Part 15 bas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isting 802.11 sharing mechanis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ing with DSR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 to incorporate sharing in 802.11a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ate Placeholder 6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47F089-4BF1-4F54-99B1-211E17EAE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Bas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dicated Short Range Communic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9 GHz DSRC is essential for V2V crash-imminent safety applications, and must be protected from U-NII-3 and U-NII-4 devic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V safety has stringent communications requirements, but future pre-crash and automation requirements may be even more stringen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current DSRC channels are needed for future applications and re-channelization and channel use rule changes are not feasib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ly in final stages of U.S. DOT NHTSA mandate decis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orough testing is needed to determine whether sharing with U-NII devices is possib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D62520-91EF-4868-B1CC-DD330094A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95400" y="3068640"/>
            <a:ext cx="3790800" cy="3384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dicated Short Range Communications (DSRC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8166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8AAEE6-7881-452E-AD48-E9433D6413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dsrc_new"/>
          <p:cNvPicPr/>
          <p:nvPr/>
        </p:nvPicPr>
        <p:blipFill>
          <a:blip r:embed="rId2"/>
          <a:stretch/>
        </p:blipFill>
        <p:spPr>
          <a:xfrm>
            <a:off x="5483160" y="1244520"/>
            <a:ext cx="3637080" cy="1979640"/>
          </a:xfrm>
          <a:prstGeom prst="rect">
            <a:avLst/>
          </a:prstGeom>
          <a:ln w="0">
            <a:noFill/>
          </a:ln>
        </p:spPr>
      </p:pic>
      <p:sp>
        <p:nvSpPr>
          <p:cNvPr id="124" name="Content Placeholder 6"/>
          <p:cNvSpPr/>
          <p:nvPr/>
        </p:nvSpPr>
        <p:spPr>
          <a:xfrm>
            <a:off x="4427640" y="3645000"/>
            <a:ext cx="471636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EEE: 802.11p, 1609.2 – 1609.4, 1609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AE: J2735, J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2V Basic Safety Message (B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message size: ~320 to 350 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efault transmit rate: 1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sophisticated protocols in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efault transmit power: 2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nables multiple V2V Safety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ntent Placeholder 6"/>
          <p:cNvSpPr/>
          <p:nvPr/>
        </p:nvSpPr>
        <p:spPr>
          <a:xfrm>
            <a:off x="28440" y="1268280"/>
            <a:ext cx="5454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5 MHz of spectrum @ 5.9 GHz for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Key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802.11p technology similar to 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ow latency communication (&lt;&lt; 50 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igh data transfer rates (3 – 27 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ine-of-sight, up to 1000 m and 360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ow power message reception (&lt; -90 dB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2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8166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8EF7BDB-48C7-45D0-A3D7-BACBF58F12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0" y="685440"/>
            <a:ext cx="6496200" cy="3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2V Safety Communications – Summ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1"/>
          <a:stretch/>
        </p:blipFill>
        <p:spPr>
          <a:xfrm>
            <a:off x="733320" y="2455920"/>
            <a:ext cx="2438640" cy="217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9" descr="MCj04417360000[1]"/>
          <p:cNvPicPr/>
          <p:nvPr/>
        </p:nvPicPr>
        <p:blipFill>
          <a:blip r:embed="rId2"/>
          <a:stretch/>
        </p:blipFill>
        <p:spPr>
          <a:xfrm>
            <a:off x="2527200" y="5316480"/>
            <a:ext cx="1419480" cy="1419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8" descr="MCj04403540000[1]"/>
          <p:cNvPicPr/>
          <p:nvPr/>
        </p:nvPicPr>
        <p:blipFill>
          <a:blip r:embed="rId3"/>
          <a:stretch/>
        </p:blipFill>
        <p:spPr>
          <a:xfrm>
            <a:off x="277920" y="973080"/>
            <a:ext cx="1671480" cy="111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7"/>
          <p:cNvGrpSpPr/>
          <p:nvPr/>
        </p:nvGrpSpPr>
        <p:grpSpPr>
          <a:xfrm>
            <a:off x="120600" y="2185920"/>
            <a:ext cx="3657600" cy="3952800"/>
            <a:chOff x="120600" y="2185920"/>
            <a:chExt cx="3657600" cy="3952800"/>
          </a:xfrm>
        </p:grpSpPr>
        <p:grpSp>
          <p:nvGrpSpPr>
            <p:cNvPr id="133" name="Group 16"/>
            <p:cNvGrpSpPr/>
            <p:nvPr/>
          </p:nvGrpSpPr>
          <p:grpSpPr>
            <a:xfrm>
              <a:off x="120600" y="2185920"/>
              <a:ext cx="3657600" cy="3952800"/>
              <a:chOff x="120600" y="2185920"/>
              <a:chExt cx="3657600" cy="3952800"/>
            </a:xfrm>
          </p:grpSpPr>
          <p:sp>
            <p:nvSpPr>
              <p:cNvPr id="134" name="Left-Up Arrow 11"/>
              <p:cNvSpPr/>
              <p:nvPr/>
            </p:nvSpPr>
            <p:spPr>
              <a:xfrm flipH="1">
                <a:off x="580680" y="2185920"/>
                <a:ext cx="1695600" cy="3952800"/>
              </a:xfrm>
              <a:custGeom>
                <a:avLst/>
                <a:gdLst/>
                <a:ahLst/>
                <a:rect l="l" t="t" r="r" b="b"/>
                <a:pathLst>
                  <a:path w="1695450" h="3952875">
                    <a:moveTo>
                      <a:pt x="0" y="3865492"/>
                    </a:moveTo>
                    <a:lnTo>
                      <a:pt x="252419" y="3778108"/>
                    </a:lnTo>
                    <a:lnTo>
                      <a:pt x="252419" y="3828064"/>
                    </a:lnTo>
                    <a:lnTo>
                      <a:pt x="1570639" y="3828064"/>
                    </a:lnTo>
                    <a:lnTo>
                      <a:pt x="1570639" y="252419"/>
                    </a:lnTo>
                    <a:lnTo>
                      <a:pt x="1520683" y="252419"/>
                    </a:lnTo>
                    <a:lnTo>
                      <a:pt x="1608067" y="0"/>
                    </a:lnTo>
                    <a:lnTo>
                      <a:pt x="1695450" y="252419"/>
                    </a:lnTo>
                    <a:lnTo>
                      <a:pt x="1645494" y="252419"/>
                    </a:lnTo>
                    <a:lnTo>
                      <a:pt x="1645494" y="3902919"/>
                    </a:lnTo>
                    <a:lnTo>
                      <a:pt x="252419" y="3902919"/>
                    </a:lnTo>
                    <a:lnTo>
                      <a:pt x="252419" y="3952875"/>
                    </a:lnTo>
                    <a:lnTo>
                      <a:pt x="0" y="3865492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600" y="4542480"/>
                <a:ext cx="3657600" cy="89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Rectangle 109"/>
            <p:cNvSpPr/>
            <p:nvPr/>
          </p:nvSpPr>
          <p:spPr>
            <a:xfrm>
              <a:off x="628560" y="4551120"/>
              <a:ext cx="75960" cy="879480"/>
            </a:xfrm>
            <a:prstGeom prst="rect">
              <a:avLst/>
            </a:prstGeom>
            <a:solidFill>
              <a:srgbClr val="3333cc">
                <a:alpha val="25000"/>
              </a:srgbClr>
            </a:solidFill>
            <a:ln w="93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113"/>
          <p:cNvSpPr/>
          <p:nvPr/>
        </p:nvSpPr>
        <p:spPr>
          <a:xfrm>
            <a:off x="2050920" y="1138320"/>
            <a:ext cx="409284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manufactur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ng on the same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hanging the same BSM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multiple V2V safety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5877000" y="1862280"/>
            <a:ext cx="3181320" cy="5810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6298920" y="2395440"/>
            <a:ext cx="24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 Collision Warning (F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5527800" y="511164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 Spot / Lane Change Warning (BSW / L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6338520" y="613872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ass Warning (DNP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9"/>
          <p:cNvSpPr/>
          <p:nvPr/>
        </p:nvSpPr>
        <p:spPr>
          <a:xfrm>
            <a:off x="6498720" y="4205160"/>
            <a:ext cx="259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section Movement Assist (I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3" descr=""/>
          <p:cNvPicPr/>
          <p:nvPr/>
        </p:nvPicPr>
        <p:blipFill>
          <a:blip r:embed="rId6"/>
          <a:stretch/>
        </p:blipFill>
        <p:spPr>
          <a:xfrm>
            <a:off x="5527800" y="5442120"/>
            <a:ext cx="3471840" cy="668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1" descr=""/>
          <p:cNvPicPr/>
          <p:nvPr/>
        </p:nvPicPr>
        <p:blipFill>
          <a:blip r:embed="rId7"/>
          <a:stretch/>
        </p:blipFill>
        <p:spPr>
          <a:xfrm>
            <a:off x="5700600" y="4546440"/>
            <a:ext cx="3382920" cy="725760"/>
          </a:xfrm>
          <a:prstGeom prst="rect">
            <a:avLst/>
          </a:prstGeom>
          <a:ln w="0">
            <a:noFill/>
          </a:ln>
        </p:spPr>
      </p:pic>
      <p:sp>
        <p:nvSpPr>
          <p:cNvPr id="145" name="Freeform 22"/>
          <p:cNvSpPr/>
          <p:nvPr/>
        </p:nvSpPr>
        <p:spPr>
          <a:xfrm rot="21141000">
            <a:off x="6797160" y="4545000"/>
            <a:ext cx="412920" cy="609480"/>
          </a:xfrm>
          <a:custGeom>
            <a:avLst/>
            <a:gdLst>
              <a:gd name="textAreaLeft" fmla="*/ 0 w 412920"/>
              <a:gd name="textAreaRight" fmla="*/ 413280 w 412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04800" h="581025">
                <a:moveTo>
                  <a:pt x="304800" y="0"/>
                </a:moveTo>
                <a:cubicBezTo>
                  <a:pt x="196056" y="100806"/>
                  <a:pt x="87312" y="201613"/>
                  <a:pt x="76200" y="247650"/>
                </a:cubicBezTo>
                <a:cubicBezTo>
                  <a:pt x="65088" y="293687"/>
                  <a:pt x="250825" y="220662"/>
                  <a:pt x="238125" y="276225"/>
                </a:cubicBezTo>
                <a:cubicBezTo>
                  <a:pt x="225425" y="331788"/>
                  <a:pt x="0" y="581025"/>
                  <a:pt x="0" y="58102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3" descr=""/>
          <p:cNvPicPr/>
          <p:nvPr/>
        </p:nvPicPr>
        <p:blipFill>
          <a:blip r:embed="rId8"/>
          <a:stretch/>
        </p:blipFill>
        <p:spPr>
          <a:xfrm>
            <a:off x="6637320" y="2533680"/>
            <a:ext cx="2449440" cy="184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4" descr=""/>
          <p:cNvPicPr/>
          <p:nvPr/>
        </p:nvPicPr>
        <p:blipFill>
          <a:blip r:embed="rId9"/>
          <a:stretch/>
        </p:blipFill>
        <p:spPr>
          <a:xfrm>
            <a:off x="4033800" y="2716200"/>
            <a:ext cx="2603520" cy="12700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5"/>
          <p:cNvSpPr/>
          <p:nvPr/>
        </p:nvSpPr>
        <p:spPr>
          <a:xfrm>
            <a:off x="4575960" y="391320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Turn Assist (L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7"/>
          <p:cNvSpPr/>
          <p:nvPr/>
        </p:nvSpPr>
        <p:spPr>
          <a:xfrm rot="19326000">
            <a:off x="3933720" y="5046840"/>
            <a:ext cx="1295640" cy="609480"/>
          </a:xfrm>
          <a:prstGeom prst="rightArrow">
            <a:avLst>
              <a:gd name="adj1" fmla="val 50000"/>
              <a:gd name="adj2" fmla="val 5314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8"/>
          <p:cNvGrpSpPr/>
          <p:nvPr/>
        </p:nvGrpSpPr>
        <p:grpSpPr>
          <a:xfrm>
            <a:off x="5982840" y="593640"/>
            <a:ext cx="3094560" cy="1213200"/>
            <a:chOff x="5982840" y="593640"/>
            <a:chExt cx="3094560" cy="1213200"/>
          </a:xfrm>
        </p:grpSpPr>
        <p:sp>
          <p:nvSpPr>
            <p:cNvPr id="151" name="TextBox 15"/>
            <p:cNvSpPr/>
            <p:nvPr/>
          </p:nvSpPr>
          <p:spPr>
            <a:xfrm>
              <a:off x="5982840" y="1530360"/>
              <a:ext cx="309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ergency Electronic Brake Lights (EEB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Picture 5" descr=""/>
            <p:cNvPicPr/>
            <p:nvPr/>
          </p:nvPicPr>
          <p:blipFill>
            <a:blip r:embed="rId10"/>
            <a:stretch/>
          </p:blipFill>
          <p:spPr>
            <a:xfrm>
              <a:off x="5987880" y="593640"/>
              <a:ext cx="3057480" cy="92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hould be the outcome from the group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coexistence requirements for 802.11 in the 5 GHz band with ITS safety of life and property communications in the 5.9 GHz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a group to provide a formal interface to other organizations in the automotive industry, NHTSA, DOT and other ITS p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required milestone timelin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upon the FCC et al, progress on the rollout of the standards, technologies and la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of experiments prior to rulemaking; proof of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/DOT testing and vali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85A181D-FB64-48D1-873F-8E17FDD08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Part 15 Bas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1 “…an intentional, unintentional, or incidental radiator may be operated without an individual licens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5(b) Operation of an intentional, unintentional, or incidental radiator is subject to the conditions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harmful interference is caused and that interference must be accepted that may be caused by the operation of an authorized radio st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by another intentional or unintentional radiator, by industrial, scientific and medical (ISM) equipment, or by an incidental radi- ato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C798C9-23FA-4D68-B7AD-79252EF1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sting 802.11 Sharing Mechanis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ccess of 802.11 devices relies on its ability to share with other 802.11 WLAN dev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mechanisms have been devised for sharing with non-802.11 devices for special cas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FS to protect radars in the 5 GHz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d in 5250 to 5350 MHz and 5470 to 5725 MHz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tion and avoidance of interference with rad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o-location Database to protect broadcast equipment in the TV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d for unlicensed operation in TV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ransmit, devices access a database to determine available, unused channels, based on geographic location and time, and the device transmit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1173C9-56C4-4D7F-9CA3-3EC149D5E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Rich Kennedy</dc:creator>
  <dc:description/>
  <dc:language>en-US</dc:language>
  <cp:lastModifiedBy>Rich Kennedy</cp:lastModifiedBy>
  <cp:lastPrinted>1998-02-10T13:28:06Z</cp:lastPrinted>
  <dcterms:modified xsi:type="dcterms:W3CDTF">2013-11-12T17:33:31Z</dcterms:modified>
  <cp:revision>1485</cp:revision>
  <dc:subject/>
  <dc:title>Waikoloa Meeting Plan</dc:title>
</cp:coreProperties>
</file>