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330BC-3DD7-49EC-B4C5-3428F9F7EB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12DE7-147E-48EF-B39B-BC843BB14E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675000" y="9288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6"/>
          <p:cNvSpPr/>
          <p:nvPr/>
        </p:nvSpPr>
        <p:spPr>
          <a:xfrm>
            <a:off x="5308560" y="8853480"/>
            <a:ext cx="90504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0720"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7"/>
          <p:cNvSpPr/>
          <p:nvPr/>
        </p:nvSpPr>
        <p:spPr>
          <a:xfrm>
            <a:off x="2959200" y="885348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67EA3891-0585-4868-AC64-B57D194285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AC129-9F9D-4289-894D-D07692BFA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B6B39-7C25-487A-967C-620C7400C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3AFBB-02EE-4CBF-AE11-8BB2FEF8F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90949-3EF4-483B-91FF-A4F5ED468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8BA45-510C-4D6A-A541-096F46BD1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915E1-58C2-4DDD-A361-55843230F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AA87D-6A6F-4FB5-86CF-C2FF180E9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210BF-4442-41BA-9E29-D6488176B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E8F83-7716-49DE-83AB-84AE60860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400B7-93CC-4A63-BA88-B408306B9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90D48-7A45-4DF1-8DBA-D1A6A92A6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88D43-0771-433D-88FB-CE22C78AB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5F12E-1305-4EB0-9FC1-7FD1250370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Date Placeholder 1"/>
          <p:cNvSpPr/>
          <p:nvPr/>
        </p:nvSpPr>
        <p:spPr>
          <a:xfrm>
            <a:off x="696960" y="334800"/>
            <a:ext cx="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NG SC – May 201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view of objec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esday AM1 (08:00-10:00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view of NGMN 5G” by Jeorge Hurtarte (Teradyn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s://mentor.ieee.org/802.11/dcn/15/11-15-0547-00-0wng-ngmn-5g-white-paper-overview.pptx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grated Long Range Mode” by Tim Godfr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s://mentor.ieee.org/802.11/dcn/15/11-15-0545-00-0wng-integrated-long-range-mode.pptx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3T22:05:01Z</dcterms:created>
  <dc:creator>c.chaplin</dc:creator>
  <dc:description/>
  <dc:language>en-US</dc:language>
  <cp:lastModifiedBy>Jim Lansford</cp:lastModifiedBy>
  <dcterms:modified xsi:type="dcterms:W3CDTF">2015-05-11T01:43:19Z</dcterms:modified>
  <cp:revision>141</cp:revision>
  <dc:subject/>
  <dc:title>WNG SC – November 2009</dc:title>
</cp:coreProperties>
</file>