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4C0-DD31-4DB3-A458-BFF90F8B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1A74-D15B-415F-8F9B-841EAC5C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75000" y="928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08560" y="8853480"/>
            <a:ext cx="905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959200" y="88534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87BFF3-13F6-479B-819D-8871A0C9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3A5-7661-43C1-BF58-9877A907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2B5-D6FE-45AB-A499-09C2FAF4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6CB-7D73-447D-ACDA-AC92A6C3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301-C67F-475C-92CE-E3EA3CBE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CE4-35E1-495C-8512-1747BDA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DE8-706C-4E91-A0F4-37D79A51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6B5-0232-402F-B0F5-1D4D210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2AD-3BD3-4485-B813-7AF481AD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646-F204-4500-BCFA-EFFECFFD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78C-727E-46BC-9CCC-B9FF383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51C-B7F1-4B64-884D-1A4E2F5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DCD-C794-4F8C-A0E9-1C57ACC5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A65B-6A31-4B8D-BBFE-2E3BA7AF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1"/>
          <p:cNvSpPr/>
          <p:nvPr/>
        </p:nvSpPr>
        <p:spPr>
          <a:xfrm>
            <a:off x="696960" y="334800"/>
            <a:ext cx="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G SC – Ma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 AM1 (08:00-10: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NGMN 5G” by Jeorge Hurtarte (Terady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mentor.ieee.org/802.11/dcn/15/11-15-0547-00-0wng-ngmn-5g-white-paper-overview.ppt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Long Range Mode” by Tim Godf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mentor.ieee.org/802.11/dcn/15/11-15-0545-00-0wng-integrated-long-range-mode.ppt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5:01Z</dcterms:created>
  <dc:creator>c.chaplin</dc:creator>
  <dc:description/>
  <dc:language>en-US</dc:language>
  <cp:lastModifiedBy>Jim Lansford</cp:lastModifiedBy>
  <dcterms:modified xsi:type="dcterms:W3CDTF">2015-05-11T01:43:19Z</dcterms:modified>
  <cp:revision>141</cp:revision>
  <dc:subject/>
  <dc:title>WNG SC – November 2009</dc:title>
</cp:coreProperties>
</file>