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D3B0E826-3677-4412-B7BD-DF11798A54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89683F-6124-4D82-A82C-27FF17EE7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54160" y="701640"/>
            <a:ext cx="4626000" cy="3468600"/>
          </a:xfrm>
          <a:prstGeom prst="rect">
            <a:avLst/>
          </a:prstGeom>
          <a:ln w="0">
            <a:noFill/>
          </a:ln>
        </p:spPr>
      </p:sp>
      <p:sp>
        <p:nvSpPr>
          <p:cNvPr id="6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0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08"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40B569-B154-47E3-A30E-A35AFFA68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54160" y="701640"/>
            <a:ext cx="4626000" cy="3468600"/>
          </a:xfrm>
          <a:prstGeom prst="rect">
            <a:avLst/>
          </a:prstGeom>
          <a:ln w="0">
            <a:noFill/>
          </a:ln>
        </p:spPr>
      </p:sp>
      <p:sp>
        <p:nvSpPr>
          <p:cNvPr id="711"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80BB30-E8BE-45C1-ABBE-62BAB6F57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54160" y="701640"/>
            <a:ext cx="4626000" cy="3468600"/>
          </a:xfrm>
          <a:prstGeom prst="rect">
            <a:avLst/>
          </a:prstGeom>
          <a:ln w="0">
            <a:noFill/>
          </a:ln>
        </p:spPr>
      </p:sp>
      <p:sp>
        <p:nvSpPr>
          <p:cNvPr id="7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00CF74D-DA4A-4B19-8593-10AF66D0BA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7680" y="696960"/>
            <a:ext cx="4640400" cy="3479760"/>
          </a:xfrm>
          <a:prstGeom prst="rect">
            <a:avLst/>
          </a:prstGeom>
          <a:ln w="0">
            <a:noFill/>
          </a:ln>
        </p:spPr>
      </p:sp>
      <p:sp>
        <p:nvSpPr>
          <p:cNvPr id="72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9A7367-161C-4E4F-9828-6886FC0E8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72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73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7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BB5B30-11B9-4204-9BCB-A09E0CF61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54160" y="701640"/>
            <a:ext cx="4626000" cy="3468600"/>
          </a:xfrm>
          <a:prstGeom prst="rect">
            <a:avLst/>
          </a:prstGeom>
          <a:ln w="0">
            <a:noFill/>
          </a:ln>
        </p:spPr>
      </p:sp>
      <p:sp>
        <p:nvSpPr>
          <p:cNvPr id="7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4160" y="701640"/>
            <a:ext cx="4626000" cy="3468600"/>
          </a:xfrm>
          <a:prstGeom prst="rect">
            <a:avLst/>
          </a:prstGeom>
          <a:ln w="0">
            <a:noFill/>
          </a:ln>
        </p:spPr>
      </p:sp>
      <p:sp>
        <p:nvSpPr>
          <p:cNvPr id="7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0B386E-168B-4CE7-94D4-C8FA3DF84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4160" y="701640"/>
            <a:ext cx="4626000" cy="3468600"/>
          </a:xfrm>
          <a:prstGeom prst="rect">
            <a:avLst/>
          </a:prstGeom>
          <a:ln w="0">
            <a:noFill/>
          </a:ln>
        </p:spPr>
      </p:sp>
      <p:sp>
        <p:nvSpPr>
          <p:cNvPr id="7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96691F-FAF5-4484-BCF5-29EE26DAB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4160" y="701640"/>
            <a:ext cx="4626000" cy="3468600"/>
          </a:xfrm>
          <a:prstGeom prst="rect">
            <a:avLst/>
          </a:prstGeom>
          <a:ln w="0">
            <a:noFill/>
          </a:ln>
        </p:spPr>
      </p:sp>
      <p:sp>
        <p:nvSpPr>
          <p:cNvPr id="7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62D577-150B-4E74-B5B8-5CEEE09DD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4160" y="701640"/>
            <a:ext cx="4626000" cy="3468600"/>
          </a:xfrm>
          <a:prstGeom prst="rect">
            <a:avLst/>
          </a:prstGeom>
          <a:ln w="0">
            <a:noFill/>
          </a:ln>
        </p:spPr>
      </p:sp>
      <p:sp>
        <p:nvSpPr>
          <p:cNvPr id="7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524CAA-F003-4124-96E5-9C2DDCED6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4160" y="701640"/>
            <a:ext cx="4626000" cy="3468600"/>
          </a:xfrm>
          <a:prstGeom prst="rect">
            <a:avLst/>
          </a:prstGeom>
          <a:ln w="0">
            <a:noFill/>
          </a:ln>
        </p:spPr>
      </p:sp>
      <p:sp>
        <p:nvSpPr>
          <p:cNvPr id="7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82576A-F5C6-46B3-ADFC-68F92D829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4160" y="701640"/>
            <a:ext cx="4626000" cy="3468600"/>
          </a:xfrm>
          <a:prstGeom prst="rect">
            <a:avLst/>
          </a:prstGeom>
          <a:ln w="0">
            <a:noFill/>
          </a:ln>
        </p:spPr>
      </p:sp>
      <p:sp>
        <p:nvSpPr>
          <p:cNvPr id="7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038106-DBA1-41C7-92A5-65A40D2FD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4160" y="701640"/>
            <a:ext cx="4626000" cy="3468600"/>
          </a:xfrm>
          <a:prstGeom prst="rect">
            <a:avLst/>
          </a:prstGeom>
          <a:ln w="0">
            <a:noFill/>
          </a:ln>
        </p:spPr>
      </p:sp>
      <p:sp>
        <p:nvSpPr>
          <p:cNvPr id="6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D64D64-13F2-43B9-B6BE-78B6F4DE7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54160" y="701640"/>
            <a:ext cx="4626000" cy="3468600"/>
          </a:xfrm>
          <a:prstGeom prst="rect">
            <a:avLst/>
          </a:prstGeom>
          <a:ln w="0">
            <a:noFill/>
          </a:ln>
        </p:spPr>
      </p:sp>
      <p:sp>
        <p:nvSpPr>
          <p:cNvPr id="7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C58047-8109-4085-9BDA-8AF6B2B4D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322DA7-5DCF-4924-8B83-D53FEA7A0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CBF55BC-AA93-4FB1-841B-6A181B180A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47680" y="696960"/>
            <a:ext cx="4640400" cy="3479760"/>
          </a:xfrm>
          <a:prstGeom prst="rect">
            <a:avLst/>
          </a:prstGeom>
          <a:ln w="0">
            <a:noFill/>
          </a:ln>
        </p:spPr>
      </p:sp>
      <p:sp>
        <p:nvSpPr>
          <p:cNvPr id="68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DC5DB6B-23F2-476E-860F-7086B1821B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7680" y="696960"/>
            <a:ext cx="4640400" cy="3479760"/>
          </a:xfrm>
          <a:prstGeom prst="rect">
            <a:avLst/>
          </a:prstGeom>
          <a:ln w="0">
            <a:noFill/>
          </a:ln>
        </p:spPr>
      </p:sp>
      <p:sp>
        <p:nvSpPr>
          <p:cNvPr id="68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DD1BF4D-F88F-43C2-B55B-26BA10E0D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F3BF637-F7B0-4BC9-84C0-C8E6CFE8F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95"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96"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9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0A061F-8599-4066-AE7E-3B3806EE5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54160" y="701640"/>
            <a:ext cx="4626000" cy="3468600"/>
          </a:xfrm>
          <a:prstGeom prst="rect">
            <a:avLst/>
          </a:prstGeom>
          <a:ln w="0">
            <a:noFill/>
          </a:ln>
        </p:spPr>
      </p:sp>
      <p:sp>
        <p:nvSpPr>
          <p:cNvPr id="699"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01"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02"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800EF6-D887-41A7-A515-F037ED80F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54160" y="701640"/>
            <a:ext cx="4626000" cy="3468600"/>
          </a:xfrm>
          <a:prstGeom prst="rect">
            <a:avLst/>
          </a:prstGeom>
          <a:ln w="0">
            <a:noFill/>
          </a:ln>
        </p:spPr>
      </p:sp>
      <p:sp>
        <p:nvSpPr>
          <p:cNvPr id="70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3999D-6603-4FB7-AC59-C26913F1B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08725-F72A-4763-B555-A751734DA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4573C1-917C-406A-961B-3294DC6B37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BE5562-0164-404A-86A3-CFA7C8A6A8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ACA2C8-0774-49CE-8BE9-4BFD3FBECB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C10D15-EF16-4115-8EE4-C4C792DD57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A79DE6-AFA3-4194-B8C5-596DE78B82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87CD55-F5E8-47E9-9878-B48A39D0FC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8DCCCB-C5EC-4C04-BCEC-9556E64DA8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3038ED-C909-4EC2-A989-9648F802F8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4C9734-84DC-49C9-AE1E-E329A088C2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EA9038-2635-4DE7-B97D-69537EFFE2A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D015B-56AA-4321-B8BB-E4C77A5CB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2CDF20-3F8B-48E3-B957-D5D9D3598C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F6CF40-93A9-4FFF-85ED-8770D4476E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EC0796-8234-42B3-B6CF-F96A0935FA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0DA167-6976-4A06-8F2A-DE96CB9D8F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E7E3C3-D8A8-4B22-A381-9E08AFF9A5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270DA9-A162-4DEE-BCDA-CFD2C3C621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E3656F-8929-4805-A056-0A7BDFC941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A8114E-B6AE-4533-BCFF-F496003664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22B964-CDA2-42C8-97D9-E34E5CB0A5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943AE2A-326C-4A62-91DC-4D441F6204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86658-C4D9-40BC-AAA9-CB6F33401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E17B3F-0529-41F5-AF6C-E8C5ADE3C0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A901235-2A15-46FB-B02E-D15F4D8CB4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EA881F-F128-40CA-89E9-2D540759E5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6240AD-990A-487F-9074-10137B0A71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B73217-0EEE-43ED-93D7-60C7E6A234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1DA4BE-2074-4EEA-97FE-4CEBE8A51B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ED9C0F-A9A1-498B-B518-4A68FAB726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6189F9-E851-480F-B5BF-58DF2A1FCF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E05173-12F8-4B7D-9426-D125FAED1D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640DA0-6449-48B0-83C3-A87F414AA3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1585E-C7CD-44F5-AA9A-1E010541A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DFC27F-C9F8-4244-8AB8-83FB693EAF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6A0D9F2-0E8D-40D7-9ED9-0FD18FC2B8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F1540A-94F9-4845-AE0A-27C9F5CB80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0B49A3-2C07-4835-90BD-FE7FE698757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E47A1B-B00F-4D93-BBEC-10201DE74C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681AAF-6980-47D2-B242-C8CBA8EA16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CCCEBE-BB27-43C8-8B38-9A4B94A433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BC3614-0D0F-4FEE-B45A-CAF3208358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4FA7E23-E347-4B8C-8BF8-D4474F3C37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769E7B-D2AF-48D9-A367-41D2E87D1A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5A023-97FD-4D4A-92EC-87B83FFAF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CE28B0-24E4-49DD-85EC-84C6E6FDC6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620002-6392-40B0-A90D-41FEA2238F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A62511-2964-41F6-B241-7492375BBB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32A3D5E-AB39-45DB-B86D-958B35084C3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E26FE27-5679-47C6-BBE8-5747176ABD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3B216-0D08-4BDE-9D5E-720340F02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95735-4506-43A2-A526-6B8008D47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47271-203B-4F86-9A9F-5268ABD93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A2902-D3DC-4959-8C08-666C28502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E253D-32BF-4200-AEB4-64603E1EB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A3FC2-862A-47B5-BD5A-4D3BF423C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D819C-CB0C-4151-8FB5-5AF232B0D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7DDB1-559B-4716-AB90-D8F3049CE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485AC-1B18-4F79-9FE7-B875A4E4C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02AA3-3D14-4E8E-A495-E44FF3A70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9B9F6-FDF2-4CF6-B4CA-0C2EC4E99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483A91-852B-4A68-9916-DEA70B184A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1A3848-EE88-43BC-B97B-AF610ACBE2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613B05-B775-4C9E-A361-0EF8E9CEED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2D534-8BF3-4DCF-A676-60857CDD7A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1DE00-4874-41C4-8852-396C30D29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8F34B-E32E-4E38-9179-6CA46DD78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D35F1-FDEC-4A70-85E5-052A820F7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ED726-01EF-492D-989A-BE3BBAFDA9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EC980F-E1B4-4A0E-A5BC-10F42D708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E3440-0747-4C4F-8564-025565633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E3CC7E-2E77-4E2C-8F12-3A6992A9F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B3BCEA-E3F1-42FF-9787-BD8DCB6165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EFFAA1-30D0-4A0B-BBF1-ACCAF8A303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B94890-E7A0-47C9-B6DF-ACD12C1A4E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9D9CF2-6790-4830-AE3B-64A93A8D42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52BEFC-F42E-4CF2-B60A-DAB95498F0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39070-D81C-450E-AD2F-690A022E3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1EA2F7-4723-490B-BF80-0790B9C2F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F87A94-E21F-44A9-ABC4-C6D514382D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8AC89B-3B67-4613-BDC0-493C1E736F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9C1C6-048E-48E3-82F2-E8483E7D6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F1AC0-1BAE-417C-980C-3B66FA52B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101801-9840-4707-A62A-62E300EFC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7964AF-E266-4A2C-9625-8F138FCD3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416A21-EEC6-4412-8E98-92E4EAC4D7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446F2E-0456-4B86-9097-B9F7A49C5D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BACB1E-A769-4654-8DAD-F323E2E784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3EF7D-B489-41DF-B96D-F7F76DF08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B21E6F-4858-487B-A1CA-857358551B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45F1FE-E127-4698-A7C8-50EC2E2250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96B0D0-9B88-4213-B619-DB8B26ABCF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077F30-DE2B-4DA8-8604-2CE193BCF4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B3837A-45F1-4783-AC89-288A770800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CFAE4A-CC01-496D-95C0-7C7C55B90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D8CF9-627E-47AB-BF5C-FE6284276A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E7FE6-A1C1-40EA-A086-3DF5C7A179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2055C4-30D8-4CD7-9409-25741AA862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3B9E81-BF8A-40E8-B68E-EF3474F097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12FE4-71D4-480F-9CA1-0723583D8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360096-3693-4E14-9A17-552CE7DEC1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2226C4-89DF-4250-AAED-078E5BD474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40B500-B5CB-47D2-9E50-5CCF4C2810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AB0930-AA5B-434A-AC4D-B7275549A2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0BF352-5D53-4AB5-A776-206F440D44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8726CB-27E4-4D48-9071-89C831F179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52308A-EEFA-4487-B45A-F6F6E622BB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E71FBF-DAEB-40B4-B05B-162DD8D326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FE50C-A9EA-48F5-AB75-8F0643A227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B5B98-EF36-4ECD-AFCF-D175275AE7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151CF-2133-4282-AD1F-F51D51D06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A82D83-49EC-467F-AF70-FC7287BA2B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B0375B-B3AF-4360-94BD-8D1D87454C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535EFF-383B-4798-882C-26FA3BF398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CF2182-9DC0-4E88-B36B-4C912AD34E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F58016-B662-4432-9C67-2140785A17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7529C9-88FC-4175-B686-F151CC356F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CBFC18-9A20-429F-8B39-03A99DB145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BF9C81-19FF-47F8-8106-2762C068F8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F5EFF5-A371-4A5C-B986-2760C24735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FCE59-9630-44A5-8CE5-112A8BD95D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E4448-FD1A-4E82-AB83-38E4C3D87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571E52-7B92-4A34-9A0E-CF0B51E66E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8333AF-92D1-4BDE-99F3-665B2D892D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4AA49E-008A-4AF7-9A15-9C79ED8DC1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774496-7F9B-46AC-9776-D916110687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793D5F-3942-42CD-97BE-7655E3BA31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BDFB96-304B-4368-B114-35DB716E52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2E83DD-EC40-47AB-87F8-643A0E017C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BB6C39-2E1A-4613-A5B4-FC339ABB90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4DC051-3078-4FEA-B50A-F619D1B2F3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D3C493-12A1-49E6-B0A8-D6858B0EF9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A7BA2-CD41-45CB-B5F7-1965FA4EE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E0462D-0095-4F4A-8546-4EC05C8D0D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4260B7-3DD0-45EA-BB51-CB7941768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C1F37E-6316-42FE-A562-AE1700DC6A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5AAB28-1C38-4CA5-A4D4-4CF856503B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31AC35-B9BA-47B7-8B76-86AAF5E4B1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3E2973-BE22-40BC-8E2E-6782B0EB03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84B2A4-3108-41E4-A448-6ECA948166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6E33F0-D8FA-429D-869D-3D806D48D5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A24A49-ECDE-430C-B378-1EE8F647FA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4176CE-7738-43D2-B04B-AD556A48A1B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E726F86-8B47-490D-8533-E7941BC0FF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68A2944-D329-440D-A36A-2A5098A4C6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65E5948-71C3-4D1F-90A7-56A038DDBF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C738221-6749-4FC3-B625-7AF5FB0944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CC50BDE-829B-474B-887A-96D62A9727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4DFC6C7-7805-4969-9D92-FFD4290EE4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02A7DB9-2384-4051-8F8E-5F7E0463AF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3BD2DFA-F729-49A3-9E21-D73CB671E7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D433E02-EBCD-4EDC-AD9D-4521E4437C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C9CD0A8-B058-4494-92EB-E987AEDC97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0D7580E-8E0F-4EF5-B410-79FD711203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EECF234-99E7-4DC3-9C2A-C3392FD532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development.standards.ieee.org/myproject/Public//mytools/mob/loa.pdf"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25.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Teradyne.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682808-F1F5-4857-909C-F5DC447250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April, and May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01-29</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CA8DACC-B267-45EC-8461-AF4365DE46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EEE-SA standards activities shall allow the fair &amp;</a:t>
            </a:r>
            <a:br>
              <a:rPr sz="2600"/>
            </a:br>
            <a:r>
              <a:rPr b="1" lang="en-US" sz="2600" spc="-1" strike="noStrike">
                <a:solidFill>
                  <a:srgbClr val="000000"/>
                </a:solidFill>
                <a:latin typeface="Times New Roman"/>
              </a:rPr>
              <a:t>equitable consideration of all viewpoints</a:t>
            </a:r>
            <a:endParaRPr b="0" lang="en-US" sz="2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B27FE3-C364-40FB-93C1-E483C19BA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SA Policy Documents</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www.ieee.org/about/corporate/governance/p7-8.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tter of Assurance Form</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standards.ieee.org/develop/policies/bylaws/sect6-7.html#loa</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https://development.standards.ieee.org/myproject/Public//mytools/mob/loa.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SA Patent Committee FAQ &amp; Patent slides</a:t>
            </a:r>
            <a:endParaRPr b="0" lang="en-US" sz="20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http://standards.ieee.org/board/pat/faq.pdf</a:t>
            </a:r>
            <a:r>
              <a:rPr b="1" lang="en-US" sz="1600" spc="-1" strike="noStrike">
                <a:solidFill>
                  <a:srgbClr val="000000"/>
                </a:solidFill>
                <a:latin typeface="Times New Roman"/>
              </a:rPr>
              <a:t> and </a:t>
            </a:r>
            <a:r>
              <a:rPr b="1" lang="en-US" sz="1600" spc="-1" strike="noStrike" u="sng">
                <a:solidFill>
                  <a:srgbClr val="0066ff"/>
                </a:solidFill>
                <a:uFillTx/>
                <a:latin typeface="Times New Roman"/>
                <a:hlinkClick r:id="rId7"/>
              </a:rPr>
              <a:t>http://standards.ieee.org/board/pat/pat-slideset.ppt</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34D1FE7-6B71-429E-8096-E7DD3E2D71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6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29C25D-819A-4654-ACED-A7A837CD7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teradyne.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0421B1-EE3B-42C0-814D-DC80F7C83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January 29</a:t>
            </a:r>
            <a:endParaRPr b="0" lang="en-US" sz="3200" spc="-1" strike="noStrike">
              <a:solidFill>
                <a:srgbClr val="000000"/>
              </a:solidFill>
              <a:latin typeface="Times New Roman"/>
            </a:endParaRPr>
          </a:p>
        </p:txBody>
      </p:sp>
      <p:sp>
        <p:nvSpPr>
          <p:cNvPr id="62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nder on the CRC operation</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of the outstanding comment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157r1, </a:t>
            </a:r>
            <a:r>
              <a:rPr b="0" lang="en-GB" sz="1600" spc="-1" strike="noStrike">
                <a:solidFill>
                  <a:srgbClr val="000000"/>
                </a:solidFill>
                <a:latin typeface="Times New Roman"/>
              </a:rPr>
              <a:t>SA ballot comment resolution, Solomon 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comment resolution/presentation for the teleconference calls on February 5, February 12, February 19, February 26, and March 11.</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5C256A-8C75-416C-A5F0-304AA1E86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1)</a:t>
            </a:r>
            <a:endParaRPr b="0" lang="en-US" sz="3200" spc="-1" strike="noStrike">
              <a:solidFill>
                <a:srgbClr val="000000"/>
              </a:solidFill>
              <a:latin typeface="Times New Roman"/>
            </a:endParaRPr>
          </a:p>
        </p:txBody>
      </p:sp>
      <p:sp>
        <p:nvSpPr>
          <p:cNvPr id="63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9.4,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chair delegates resolution of any comments received in subsequent WG letter ballots on the project’s draft to a comment resolution committee (CRC).  </a:t>
            </a:r>
            <a:endParaRPr b="0" lang="en-US" sz="20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ject’s TG chair is also chair of this CRC.</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is subject to IEEE-SA anti-trust and patent policie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will publish minutes of its meetings as 802.11 submission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eets together (either in person, or in teleconferences, subject to the LMSC WG P&amp;P rules about notification of such meetings) in order to resolve comment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ay vote to approve comment resolutions (75% approval required).</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802.11 voting member may vote at any CRC meeting.</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voting members of 802.11 may vote in the CRC.</a:t>
            </a:r>
            <a:endParaRPr b="0" lang="en-US" sz="16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comment resolution is complete (as determined by the CRC chair) and any modified draft is available, the WG chair will start any necessary WG recirculation ballots.</a:t>
            </a:r>
            <a:endParaRPr b="0" lang="en-US" sz="2000" spc="-1" strike="noStrike">
              <a:solidFill>
                <a:srgbClr val="000000"/>
              </a:solidFill>
              <a:latin typeface="Times New Roman"/>
            </a:endParaRPr>
          </a:p>
          <a:p>
            <a:pPr lvl="1" marL="727920" indent="-2800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68160" indent="-2239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3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F63B4B-8587-4021-8E46-8D34C6372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2)</a:t>
            </a:r>
            <a:endParaRPr b="0" lang="en-US" sz="3200" spc="-1" strike="noStrike">
              <a:solidFill>
                <a:srgbClr val="000000"/>
              </a:solidFill>
              <a:latin typeface="Times New Roman"/>
            </a:endParaRPr>
          </a:p>
        </p:txBody>
      </p:sp>
      <p:sp>
        <p:nvSpPr>
          <p:cNvPr id="63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8,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CRC is following the “Accelerated process” for completion of a WG letter ballot, and is not meeting during an 802.11 WG session, any submission containing changes to the draft shall be on the server and announced to the appropriate TG reflector no less than 72 hours before any motion is made related to that submission.  </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 when a CRC is meeting coincident with an 802.11 session, it is subject to the four hour rule described in the previous paragraph.</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85262E-C1F2-4DB3-91DA-9CFB04BA7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3)</a:t>
            </a:r>
            <a:endParaRPr b="0" lang="en-US" sz="3200" spc="-1" strike="noStrike">
              <a:solidFill>
                <a:srgbClr val="000000"/>
              </a:solidFill>
              <a:latin typeface="Times New Roman"/>
            </a:endParaRPr>
          </a:p>
        </p:txBody>
      </p:sp>
      <p:sp>
        <p:nvSpPr>
          <p:cNvPr id="64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8.2,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and subgroup) teleconferences are not permitted to make formal motions, with the exception of when a TG is operating under the accelerated process and when it is a sponsor ballot comment resolution committee (CRC).</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G operating under the accelerated process follows the rules in section 3.9.4 of this document which permit voting on formal motions on teleconference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 ballot CRC teleconferences, albeit announced in the WG and consisting of WG participants, operate under the authority of the sponsor, and are therefore permitted to vote on formal motion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1E5210-47DD-4105-BE01-3FD6B2357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us of the outstanding comments (1)</a:t>
            </a:r>
            <a:endParaRPr b="0" lang="en-US" sz="3200" spc="-1" strike="noStrike">
              <a:solidFill>
                <a:srgbClr val="000000"/>
              </a:solidFill>
              <a:latin typeface="Times New Roman"/>
            </a:endParaRPr>
          </a:p>
        </p:txBody>
      </p:sp>
      <p:sp>
        <p:nvSpPr>
          <p:cNvPr id="64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Initial Standards Association (SA) ballot on Draft 5.0</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eriod:  December 2, 2019 to January 9, 2020.</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35 comments received;  79 must be satisfied </a:t>
            </a:r>
            <a:endParaRPr b="0" lang="en-US" sz="2000" spc="-1" strike="noStrike">
              <a:solidFill>
                <a:srgbClr val="000000"/>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2 general comments</a:t>
            </a:r>
            <a:endParaRPr b="0" lang="en-US" sz="1800" spc="-1" strike="noStrike">
              <a:solidFill>
                <a:srgbClr val="000000"/>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69 editorial comments</a:t>
            </a:r>
            <a:endParaRPr b="0" lang="en-US" sz="1800" spc="-1" strike="noStrike">
              <a:solidFill>
                <a:srgbClr val="000000"/>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64 technical comments</a:t>
            </a:r>
            <a:endParaRPr b="0" lang="en-US" sz="1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mment spreadsheet:  20/0112r1</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50167C-07FC-4392-B093-F45E3A883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us of the outstanding comments (2)</a:t>
            </a:r>
            <a:endParaRPr b="0" lang="en-US" sz="3200" spc="-1" strike="noStrike">
              <a:solidFill>
                <a:srgbClr val="000000"/>
              </a:solidFill>
              <a:latin typeface="Times New Roman"/>
            </a:endParaRPr>
          </a:p>
        </p:txBody>
      </p:sp>
      <p:sp>
        <p:nvSpPr>
          <p:cNvPr id="65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s of the end of the January interim,</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 editorial CIDs are 1 general CID are resolved and ready for motion:  CIDs 6120, 6124, 6125, 6126, 6145, 6151, 6152, 6153, 6222, 6223, 6225, and 6226</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posed resolution for 5 technical CIDs, </a:t>
            </a:r>
            <a:r>
              <a:rPr b="0" lang="en-US" sz="2000" spc="-1" strike="noStrike">
                <a:solidFill>
                  <a:srgbClr val="000000"/>
                </a:solidFill>
                <a:latin typeface="Times New Roman"/>
              </a:rPr>
              <a:t>6110, 6111, 6112, 6113, 6114, are presented.  Revised resolution for CID 6112 is required and will be revisited when available.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29,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4803DF-5615-4498-AECF-0F09A3CE8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AD8FAA-0AE8-4300-AB0F-BF2BBE9CB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Motion #642:  Comment Resolution</a:t>
            </a:r>
            <a:endParaRPr b="0" lang="en-US" sz="3200" spc="-1" strike="noStrike">
              <a:solidFill>
                <a:srgbClr val="000000"/>
              </a:solidFill>
              <a:latin typeface="Times New Roman"/>
            </a:endParaRPr>
          </a:p>
        </p:txBody>
      </p:sp>
      <p:sp>
        <p:nvSpPr>
          <p:cNvPr id="655"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6120, 6124, 6125, 6126, 6145, 6151, 6152, 6153, 6222, 6223, 6225, and 6226 as proposed in 20/0112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91CC3C-F3E8-4175-887A-1E68A5A28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s between January 29 and March 11, 202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ay is operating as the Comment Resolution Committee (CRC) for P802.11ay.</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FAB3522-8BDF-4D30-B126-0491CF634C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CD94C42-E323-4664-8262-51A9F2A34F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4BEC42-F24C-496C-9A3E-4E4D10456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05961B-D739-4CCD-B390-E85FC0C24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67BAE6E-5997-4216-B8F2-1ECCFD0A1A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IEEE Code of Ethics</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IEEE Code of Conduc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phold the highest standards of integrity, responsible behavior, and ethical and professional conduct</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eat people fairly and with respect, to not engage in harassment, discrimination, or retaliation, and to protect people's privacy.</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void injuring others, their property, reputation, or employment by false or malicious action</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org/about/corporate/governance</a:t>
            </a:r>
            <a:endParaRPr b="0" lang="en-US" sz="1800" spc="-1" strike="noStrike">
              <a:solidFill>
                <a:srgbClr val="000000"/>
              </a:solidFill>
              <a:latin typeface="Times New Roman"/>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 behavior in IEEE-SA activities is guided by the IEEE Codes of Ethics &amp; Conduct</a:t>
            </a:r>
            <a:endParaRPr b="0" lang="en-US" sz="2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A26B513-E6D0-4830-9884-7205B7A3A8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s in the IEEE-SA “individual process” shall act independently of others, including employers</a:t>
            </a:r>
            <a:endParaRPr b="0" lang="en-US" sz="2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February and March 2020</cp:keywords>
  <dc:language>en-US</dc:language>
  <cp:lastModifiedBy>Edward Au</cp:lastModifiedBy>
  <cp:lastPrinted>2014-11-04T15:04:57Z</cp:lastPrinted>
  <dcterms:modified xsi:type="dcterms:W3CDTF">2020-01-26T08:55:06Z</dcterms:modified>
  <cp:revision>4169</cp:revision>
  <dc:subject>Task Group AY November 2015 Meeting Agenda</dc:subject>
  <dc:title>20/0239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