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3EC65E-1941-42EB-A90B-5C5FE0C24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206-BE63-4940-AE0D-3D730159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90A-D505-4D19-8AB1-5720A05F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7D6-DAE4-474D-AA76-63A4F662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4D6-CD5C-4CC7-A40C-65C3E87C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E24-68E3-41E3-9005-66D4D930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891A-5BA3-4F97-B1E5-7F3850B1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116-8E6B-45AD-8176-36BFD868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D710-E9C5-4775-8F61-A37B41A4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C1E-AB78-4045-AD9D-898BF960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424-CAFB-4352-84A1-3EE9EB0E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32B-3970-4FF5-89E0-E8E81EA3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3D9-A55B-4783-8FDE-BC0537B5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7BDE801-9724-43DE-B241-173CC6F89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D84-33D7-4A16-AB55-ABEF5B6F594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-four (24)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(6) Bluetooth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an Interim Conference Tutorial on Tuesday 14Sep99 from 6:30 to 9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detailed overview of the “Mapping the Bluetooth Specification to IEEE 802.15.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860-D0AF-4A6F-8722-692555F318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7184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1968480"/>
            <a:ext cx="2463840" cy="1219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34080" y="2514600"/>
            <a:ext cx="1574640" cy="214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8880" y="3200400"/>
            <a:ext cx="7113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456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7120" y="131436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TG1   ! SG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 !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!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 !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TG1 ! SG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!     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!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832-8DD1-4A41-BD55-22000970901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740560" y="2514600"/>
            <a:ext cx="157464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1981080"/>
            <a:ext cx="1676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104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40160" y="1981080"/>
            <a:ext cx="1498320" cy="1752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120" y="132732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    TG1   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SG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   TG1    | Joint.11/.15| SDL Model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...........|.............|   Class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SG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928-6D2A-4475-9D86-F6070B70F5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1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B #1 Comment Resolution (W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4160" y="247644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9C6-BE77-43CA-BD80-A741151199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TG1 Tasks (Moni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4160" y="175248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CB0-15E9-4628-B158-18D91E9B261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13Sep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14Sep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for Santa Ro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46E-E1EE-4087-BAE0-EFABF53BCD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asks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429264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DFC-3F37-43B2-9D85-6A892DF49C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imeline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5Ka" descr=""/>
          <p:cNvPicPr/>
          <p:nvPr/>
        </p:nvPicPr>
        <p:blipFill>
          <a:blip r:embed="rId1"/>
          <a:stretch/>
        </p:blipFill>
        <p:spPr>
          <a:xfrm>
            <a:off x="63360" y="1819440"/>
            <a:ext cx="9004320" cy="283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64240" y="3314880"/>
            <a:ext cx="7621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7960" y="5043600"/>
            <a:ext cx="65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G1 had an offline discussion with Vic Hayes Tuesday, 14Sep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help us understand the WG LB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DB9-0741-40C6-9A50-3DC0E33975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13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4:15pm and processed all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WG &amp; SPONSOR BALLOT RUL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AB7-50F5-4EF4-A2B6-8F10633F9D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8:32am and processed most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BLUETOOTH SYSTEM (Morning &amp; Ev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BLUETOOTH LIA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1 MILESTONE/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FOR WG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590-A1E4-4383-80EE-0BA3F37662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Wedn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8:33am and processed most of our Agenda Items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FUNCTION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RESOURCE RECR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NING FOR SPONSOR BALLOT -99/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802 COORDINATION -99/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BLUETOOTH COORDINATION -99/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ETSI COORDINATION -99/[8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FOR INITIAL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NEXT STEP WITH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AND APPROVED WEDNESDAY DRAFT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257800"/>
            <a:ext cx="22100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3120" y="2611440"/>
            <a:ext cx="31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} siep@ti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9A7-275D-4FED-9EF9-10F86D1067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 Draft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04C-CDB7-4928-8EF2-FABA1A27FE6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5F3-9A76-4D71-B9B8-52CBD426D6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081r0</dc:description>
  <dc:language>en-US</dc:language>
  <cp:lastModifiedBy>Bridget Labrode</cp:lastModifiedBy>
  <cp:lastPrinted>1998-02-10T13:28:06Z</cp:lastPrinted>
  <dcterms:modified xsi:type="dcterms:W3CDTF">1999-09-15T23:04:25Z</dcterms:modified>
  <cp:revision>20</cp:revision>
  <dc:subject>IEEE 802.15 TG1 Report #2</dc:subject>
  <dc:title>IEEE P802.15 Working Group for Wireless Personal Area Networks</dc:title>
</cp:coreProperties>
</file>