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74B-8119-4F72-BECB-803EEE2B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CE7-AC2D-4B81-9126-3B360EFF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56B8-F716-4904-B15D-ED8A3A0C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D63-2B66-4DCF-81E2-FA18E4B5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290-AC8B-4438-B10C-0D45CD91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56F-64C3-4126-BCF3-A4F968F5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A45-969A-4D4A-BEBB-43378432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9EE-1C73-416D-AB22-79B7E86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78A-4672-4147-89EB-2CC3F3CA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49B-E75B-4E60-AD59-10BB43F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545-09D8-4EF0-99BA-506787D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06F-CFB8-4C51-8AB6-4A5B001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D0333F-F022-4936-8E63-DD4AFC91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gs to Vot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 Slate of Officers-Term is through 802 Plenary Meeting, March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802.11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Study Group to develop recommended Marketing Activities for the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ze a position relative to NPRM on WB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778-C097-41B2-9D53-3F38F68B72E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9960" y="238140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9920" y="41148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697-DD55-4969-8583-1D1AC631921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D11-FDF6-4329-9317-968C8F4849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5920" y="61326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99/031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499-2A55-452F-804E-AF47B11078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ing Study Group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man: Bruce Krae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man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or: T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CC6-D538-4278-B026-E4581970AE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Marketing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Marketing Committee to implement recommendations in Doc #99/031r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f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C95-4C9E-4E28-8AF0-BF31E6A855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47000" y="1843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5AF-8C6B-4D09-9AB0-3A098C3CB2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222-BF7D-4CCB-98FF-BE9126E6D7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279-FFF7-4E5F-A437-F5628490AF7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C1A-C94D-474A-9D30-1EE649AA30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he Regulatory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6240" y="39625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69D-D31A-4C68-ADC3-8B42BE122A0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1480" y="3643200"/>
            <a:ext cx="149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1AE-FA1E-4670-890B-CAB4BB4A60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0400" y="364320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800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2CE-6869-4874-8D18-5CF2C99BFE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1337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s of Grou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existence/Interoperabil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PAR defining work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B63-0392-4246-B76B-5301C84860B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981080"/>
            <a:ext cx="763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800" y="4038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600" y="4648320"/>
            <a:ext cx="1433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498-EAF2-48A6-B089-86513441267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idget Labrode</cp:lastModifiedBy>
  <cp:lastPrinted>1998-02-10T13:28:06Z</cp:lastPrinted>
  <dcterms:modified xsi:type="dcterms:W3CDTF">1999-07-13T13:00:44Z</dcterms:modified>
  <cp:revision>54</cp:revision>
  <dc:subject>IEEE 802.15 Marketing</dc:subject>
  <dc:title>IEEE P802.15 Working Group for Wireless Personal Area Networks</dc:title>
</cp:coreProperties>
</file>