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7BF1AE-E556-48A0-A732-951C79666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069-3503-473D-A4B6-D8BA722C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ADF-7954-426B-A908-88434170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B9D-A636-4E2F-9E09-8A31AD28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D24-B390-4C2A-B639-85F74B88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3C0-1F10-45A1-BCFA-7351BAFB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122-881D-4468-A657-17C796AE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A2C-4778-499A-9114-48F36B1D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7DF-4F12-4FA2-972F-65EC1EF2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EB6-F7AC-4133-B948-4357B615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3AB-61CF-472A-BB24-575D6190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B17-A93C-43B2-9EC1-335EED6A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235-0B37-4651-9A4B-4DD18071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F092D1-70AE-4F48-97CE-9C1386BCB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ednesday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C8F-C14F-43F7-8870-FA40BFA444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1BB-EDA0-4179-93F7-027B572A3E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8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9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11Nov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E0E-63E0-4890-8486-D082DD5112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1A2-4683-4B6C-99B9-95FF5E57D7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AEB-AD62-40D5-9255-2C658C2E87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2D8-FD77-484D-A918-6A8F3CCAEC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3:15pm and processed all of our Agenda Items and adjourned at 3:55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KERMANI TO BISDIKIAN VC REPLACEMENT -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TG1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DRAFT SUBMIS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389-BAEB-42B3-9B95-BB3010C724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9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10:00am and processed all of our Agenda Items and adjourned at 11:55am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2 TO SUBMIT DRAFT TO WG LB 10NOV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WG MOTION #3 TO EMPOWER INTERIM 10-14JAN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WG LETTER BALLOT #1 DISTRIBUTIO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P802.15.1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WEDNESDAY DRAFT TG1 REPORT TO 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1E8-2B70-4206-8869-CE430A2A71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1:00pm and processed all of our Agenda Items and adjourned at xx:yypm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URSDAY DRAFT TG1 REPORT TO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DCF-8854-4B8C-ABD4-01FCFE13B3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B #1 Distribution Package [LB1.zip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WG Letter Ballots of P802.15 in Adobe PDF, -99/112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tandard IEEE v0.6, P802-15/D0.6 in Adobe PDFs, Zip arch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in MS Word, -99/113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 Ballot #1 of P802.15 Comment Form in MS Word, -99/116r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TG1 Editors, -99/060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me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5562720"/>
            <a:ext cx="86104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you can point your Browser and download your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5/private/LB1/LB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96C-CCC0-4862-A18B-4F53D4E2EA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47r0</dc:description>
  <dc:language>en-US</dc:language>
  <cp:lastModifiedBy>Ian C. Gifford</cp:lastModifiedBy>
  <cp:lastPrinted>1998-02-10T13:28:06Z</cp:lastPrinted>
  <dcterms:modified xsi:type="dcterms:W3CDTF">1999-11-11T23:06:12Z</dcterms:modified>
  <cp:revision>54</cp:revision>
  <dc:subject>IEEE 802.15 TG1 Report #3</dc:subject>
  <dc:title>IEEE P802.15 Working Group for Wireless Personal Area Networks</dc:title>
</cp:coreProperties>
</file>