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CFF-F77D-4F25-BE38-0912B8B0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65F-4625-4DC6-99CA-12DFCC0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ED75-E6FA-432B-BAA1-F479F7AA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A150-96E2-4A10-81A0-20B7C1BB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DEF-BA79-43C2-B9D3-C8B65F7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791-A527-4EC1-BE45-18CB8654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E37-FEE9-4405-B949-3699D584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964-C5D2-4D39-A8F9-E9B6277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8F-5AB0-48EA-86C2-F19ED3A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1A8-EEC0-4445-BC27-F8E5B092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F6C4-7973-424A-ACD1-5C59979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64E-0F48-464E-9DA8-C51E442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B21F9B-70C4-4A7D-B2AE-2117F143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0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tudy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9AF-148B-4A97-A170-C9B2C57F9A7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Authorization 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ri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eing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OM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i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97A-83A5-4289-A065-4D991DCDED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has voted to submit the PAR to th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ove that the Working Group vote to submit  the Coexistence Study Group PAR and Five Criteria to the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99/08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06A-43C9-4351-9DCA-D260654109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100r1</dc:description>
  <dc:language>en-US</dc:language>
  <cp:lastModifiedBy>Bridget Labrode</cp:lastModifiedBy>
  <cp:lastPrinted>1998-02-10T13:28:06Z</cp:lastPrinted>
  <dcterms:modified xsi:type="dcterms:W3CDTF">1999-09-16T17:54:55Z</dcterms:modified>
  <cp:revision>12</cp:revision>
  <dc:subject>IEEE 802.15 &lt;subject&gt;</dc:subject>
  <dc:title>IEEE P802.15 Working Group for Wireless Personal Area Networks</dc:title>
</cp:coreProperties>
</file>