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582-3448-4206-80CF-C17CFFBD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E29E-BD4D-421A-85FA-9917D4C1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B3E-BF7D-439A-ADB0-38CE6371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CBC-6332-4FEF-A583-DA7B38CE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6E0-B40A-44C1-A1CC-48FF72ED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E5A-55FD-4E76-891C-33544A64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8E0-75F8-47D7-BD25-C007DD71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47D-1D36-4583-ADED-B7C74A6D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2F3-A312-4424-88D2-911A605C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A547-B75B-4299-880F-6C411AF2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E01-BD5A-4E9D-8357-FE469371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79C1-ADE4-4A42-BF88-D240644A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17B5F6A-A3F3-490B-87AC-2284E70D4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031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the IEEE P802.15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40D-42A3-4595-B382-74CF72AFFD6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Communication Systems by Network Class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 (Wide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s interconnect facilities in different parts of a country or of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 (Metropolitan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s shall be capable of operating over an area up to 50 Km in 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 (Local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 shall be capable of supporting segments at least 100 meters in leng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 composed of segments connected by physical layer inter-networking devices, shall be capable of operating over a physical medium that is at least 2 Km in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 (Personal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s shall be capable of supporting segments at least 10 meters in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24B-99D6-4E8E-8EF4-60227A5831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Vision Stat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1 Bas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Frequency Hopping Spread Spectrum (1Mbit/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Direct Sequence Spread Spectrum (2Mbit/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red (1Mbit/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1a 5GHz Extension (&gt;20Mbit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1b 2.4GHz Extension (&gt;8Mbit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5 Wireless Personal Area Networks (WPANs) -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uetoot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RF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6 Broadband Wireless LANs (LMDS) -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828800"/>
            <a:ext cx="8610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EEE 802 is the focal point for Wireless LAN standards.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im Car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456-F8EC-49F0-BD88-BA72A37399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WPAN Marketing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and maintain the application and usage scenarios generated by the CF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he formulation of documentation that clearly &amp; distinctly differentiates the purposes and services of the various IEEE WPA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dissemination of information about IEEE 802.15 Working Group activities internally (among 802 working groups) and externally (among the electronics indust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802.15 task groups in reaching convergence and consensus on technical requir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how best to promote the public demonstration of interoperability between products built using 802.15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maintain liaisons with other selected industry marketing groups (e.g. Bluetooth, HomeRF) and standards bodies (e.g ETS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ter two-way communications between suppliers and consumers of WPAN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and foster creation of value-added industry marketing groups as appropriate (e.g. Gigabit Ethernet Alliance, http://www.gigabit-Ethernet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182B-AEB6-462D-8C33-AA02D53862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2425680"/>
            <a:ext cx="5359680" cy="3060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W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Network Positio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96960" y="5482800"/>
            <a:ext cx="5830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8400" y="2470320"/>
            <a:ext cx="870120" cy="21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do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8400" y="4502160"/>
            <a:ext cx="870120" cy="9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do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494080" y="2282760"/>
            <a:ext cx="0" cy="318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93720" y="4998960"/>
            <a:ext cx="70488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93720" y="4076640"/>
            <a:ext cx="70488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93720" y="3537000"/>
            <a:ext cx="70488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93720" y="2470320"/>
            <a:ext cx="704880" cy="104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718080" y="242532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95720" y="240624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59480" y="242532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867800" y="2441520"/>
            <a:ext cx="0" cy="3043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93720" y="4502160"/>
            <a:ext cx="70488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m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4760" y="193356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29240" y="55008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5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9960" y="55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2040" y="550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6400" y="55008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4038480"/>
            <a:ext cx="350532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89040" y="4038480"/>
            <a:ext cx="184176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4495680"/>
            <a:ext cx="25146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5DA-FA77-4D96-AD72-D5478B85A51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89040" y="2425680"/>
            <a:ext cx="5359680" cy="1600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 Wireless Family Positio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96960" y="5482800"/>
            <a:ext cx="5830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8400" y="2470320"/>
            <a:ext cx="870120" cy="21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do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8400" y="4502160"/>
            <a:ext cx="870120" cy="9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do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494080" y="2282760"/>
            <a:ext cx="0" cy="318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93720" y="4998960"/>
            <a:ext cx="70488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93720" y="4076640"/>
            <a:ext cx="70488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93720" y="3537000"/>
            <a:ext cx="70488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93720" y="2470320"/>
            <a:ext cx="704880" cy="104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718080" y="242532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995720" y="240624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459480" y="2425320"/>
            <a:ext cx="0" cy="304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867800" y="2441520"/>
            <a:ext cx="0" cy="3043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93720" y="4502160"/>
            <a:ext cx="70488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m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4760" y="193356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29240" y="55008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5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9960" y="5500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2040" y="550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6400" y="55008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4025880"/>
            <a:ext cx="3505320" cy="1447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2.16 B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89040" y="4025880"/>
            <a:ext cx="184176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2.15 WP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1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483080"/>
            <a:ext cx="2514600" cy="990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2.11, 11a &amp; 11b W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-54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845-F7D8-4846-9F56-2B3278148AA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ntreal, determine interest level in the WG to form a limited duration Marketing Study Group [Jul99 to Nov9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G agrees to formation, Marketing Study Group to be tasked to study actionable “Objectives”  and provide an initial report with clearly identified deliverables by Sept 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224-B881-48AD-A264-8DFD01AC58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5 Functional Organization 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19200" y="1676520"/>
          <a:ext cx="610236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676520"/>
                    <a:ext cx="610236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80880" y="5791320"/>
            <a:ext cx="8305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y Group can help provide focus on overall WG iss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465-9868-46C0-B27B-B986CF135AD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make the following mo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802.15 WG will form a Study Group to investigate how to successfully market WPAN standar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rketing study group will initially be commissioned between July ‘99 and Nov ‘99 and report findings and recommendations  at each 802.15 mee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areas to be studied 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and Value of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of requirements as embodied in CF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able “Objectives”, priorities, deliverables, assignments and 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8BF-4226-4AF1-B07C-B997FE70DC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ing Study Group Offi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man: Bruce Kra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Chairma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857A-6E9C-42DB-8690-979C709B1D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Bridget Labrode</cp:lastModifiedBy>
  <cp:lastPrinted>1998-02-10T13:28:06Z</cp:lastPrinted>
  <dcterms:modified xsi:type="dcterms:W3CDTF">1999-07-08T12:22:56Z</dcterms:modified>
  <cp:revision>39</cp:revision>
  <dc:subject>IEEE 802.15 Marketing</dc:subject>
  <dc:title>IEEE P802.15 Working Group for Wireless Personal Area Networks</dc:title>
</cp:coreProperties>
</file>