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28640" y="943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43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39760" y="694800"/>
            <a:ext cx="457848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30320" y="889776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2520"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2520"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01960" y="889776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8F2DA16-94B7-48D7-B7C1-C021B626E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040" y="8897760"/>
            <a:ext cx="70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040" y="889632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1520" y="29376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901960" y="889776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F85E795-6547-43B2-8881-1DEAD373D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30320" y="889776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2520"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428640" y="943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45840" y="943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4320" cy="344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8476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4760" y="8729640"/>
            <a:ext cx="2973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8729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2960" y="4363920"/>
            <a:ext cx="50306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ldImg"/>
          </p:nvPr>
        </p:nvSpPr>
        <p:spPr>
          <a:xfrm>
            <a:off x="1141560" y="696960"/>
            <a:ext cx="4576680" cy="3432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52F2-040D-4195-A306-F0601C5F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040F-EF96-4EC2-93FF-B2947D5E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BD40-64C6-4DF5-98CE-06EF7B37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2B44-2EA3-44BF-BBDA-2B41FD9E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9FCC-2BFA-46A5-B313-6660684B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2BF7-7AC5-4579-8D2D-FE6DED94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DA67-CB04-4ABD-92FD-8F740945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8298-710A-4F9C-9CAD-D43B6478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D42C-27BD-431F-AD1C-8CA3549F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EC1E-0F36-4335-85CB-2C3FAD69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3CC4-6004-411B-A248-0A62E74F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E312-6931-439E-8621-54372065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0FFF23A-52A3-4B96-85EA-581A28438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Working Group Report to Ex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rsday, March 11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Personal Area Networks Study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mllieee" descr=""/>
          <p:cNvPicPr/>
          <p:nvPr/>
        </p:nvPicPr>
        <p:blipFill>
          <a:blip r:embed="rId1"/>
          <a:stretch/>
        </p:blipFill>
        <p:spPr>
          <a:xfrm>
            <a:off x="4257720" y="1143000"/>
            <a:ext cx="628560" cy="71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DD2C-FB8C-4DE7-9418-77308EFEAE1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Cover 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coexistence and effective use of a shared medium is so critical to success, the WPAN Study Group suggests that the new WPAN Working Group keep very close ties with 802.11 including joint interactive meetings whenever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ision to recommend the formation of a Working Group rather than a Task Group under 802.11 required the Study Group to modify Rev8 of the WPAN PAR in the following w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C652-5DA8-45B9-B76B-13B323F72B3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9/55P16) Motion made to approve the WPAN PAR “Rev 9” -98/162r9   Bob Heile/Tom Si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9/55P17) Motion made to amend the WPAN PAR to replace all occurrences indicating the formation of a Working Group with those forming a Task Group of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O’Hara/Naftali Chay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l Call Vote on the amendmen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- 8 - 5  --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te on Amended Motion:  31/9/4 --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72F8-A137-4DCF-B7CD-AEF402DE8F0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-Rev 7 to Rev 10(9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Name of WG (Rev 9):  Change from ‘WPAN Study Group’ to ‘Sponsor:  IEEE 802.11 WG for WLAN, Proposed Task Group:   Wireless Personal Area Networks”  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greater clarity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5c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hange from Trial Use to Full Use. (Rev 8)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clerical erro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6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Delete from Scope (Rev 9) : “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erivative versions of the 802.11” Reason: Flexibili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6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Add to Scope (Rev 8): “A goal of the WPAN group will be to achieve a level of interoperability (see -99/5) which could allow the transfer of data between a WPAN device and an 802.11 device”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clarification of intent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AEF7-0E7F-4380-ABFD-4E746C8A12D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6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dd to Scope (Rev 9): “standard” and repair grammar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Clari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9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dd following footnote (Rev 9) “These groups are not standards organizations, but they have similar charters and the Task Group intends to establish liaisons with these groups as appropriate.”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clarification and inten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12b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dd (Rev 9) “[ISO/IEC JTC1/SC6] by [DR]”. 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clerical erro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6 under Additional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hange as follows (Rev 9): A Personal Operating Space (POS) is the space about a person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</a:rPr>
              <a:t>or objec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that typically extends up to 10 meters in all directions and envelops the person whether stationary or in motion.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Clarification of inten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-Rev 7 to Rev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6638-B7A1-41BD-8E7E-9878286CB4F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9/55P19) Motion made to request for the ExCom to interpret rules that allow for significantly different multiple MACs in the Working Group. Dean/Tom Si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9/55P21) Motion made To amend the Motion to request from ExCom a ruling that allows for multiple MACs within a Working Group if required.  Tom Siep/P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-10-14 on the amendment--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-13-14 on the amended motion--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2E25-111A-4507-B241-D6E55343192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99/55P23)  move that the 802.11 WLAN Working Group recommends that The Executive Committee of 802 submit the WPAN PAR, “Rev 9” -98/162r9 amended, to NesCOM for approv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H./Greg 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G: 36/0/7, P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194B-DEED-47B3-AFBC-EB7A09CD8A5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 on the PAR Ven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the  802.11 W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ob O’H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the 802.11 WGSG Wireless Personal Area Networks (WPAN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ob He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D613-6321-45F5-96D8-77BA98BF233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of Letter Ballots 16 and 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PAR rev7 and 5 Criteria Rev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G Actions this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edits to P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WG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A17C-3C82-44AE-8984-11020772DA2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PAN Timeline vis a vis a Specification(s) or a Stand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5720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18680" y="388620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08000" y="388620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62480" y="4224240"/>
            <a:ext cx="0" cy="67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520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576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100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6252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149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198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722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531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0560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580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524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48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732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385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906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30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715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4716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804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3296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1384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95800" y="4213080"/>
            <a:ext cx="34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7632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5720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3772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43000" y="4213080"/>
            <a:ext cx="308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4240" y="4213080"/>
            <a:ext cx="3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0476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10040" y="4213080"/>
            <a:ext cx="3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9056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9512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77080" y="4191120"/>
            <a:ext cx="27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8092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63240" y="4213080"/>
            <a:ext cx="34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4340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9880" y="4213080"/>
            <a:ext cx="3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5120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732800" y="4199040"/>
            <a:ext cx="0" cy="67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404040" y="2090880"/>
            <a:ext cx="1444680" cy="1170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96080" y="313200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32720" y="320832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23000" y="3962520"/>
            <a:ext cx="53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/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5240" y="3184560"/>
            <a:ext cx="1189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20184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875120" y="1905120"/>
            <a:ext cx="1320840" cy="1417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523560" y="3184560"/>
            <a:ext cx="1173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RF-L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0400" y="3184560"/>
            <a:ext cx="1858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-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1.0 Provi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54640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27160" y="5867280"/>
            <a:ext cx="4116240" cy="2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037040" y="5866920"/>
            <a:ext cx="5106960" cy="9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4520" y="5876640"/>
            <a:ext cx="304920" cy="126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smllieee" descr=""/>
          <p:cNvPicPr/>
          <p:nvPr/>
        </p:nvPicPr>
        <p:blipFill>
          <a:blip r:embed="rId3"/>
          <a:stretch/>
        </p:blipFill>
        <p:spPr>
          <a:xfrm>
            <a:off x="8001000" y="2079720"/>
            <a:ext cx="95076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720" y="4822920"/>
            <a:ext cx="86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12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PAN 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16692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545796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9240" y="4822920"/>
            <a:ext cx="144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4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d PAR to Ex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 WG LB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45796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8080" y="4822920"/>
            <a:ext cx="85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/4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PA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962480" y="44197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8115120" y="44197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5950080"/>
            <a:ext cx="45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449568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2136600" y="2133720"/>
            <a:ext cx="1444680" cy="1170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1360" y="594360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914400" y="586656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733920" y="586656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8381880" y="5866560"/>
            <a:ext cx="38124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57FB-119A-49B5-AE75-997A8B6E797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ter Ballots 16 and 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G Letter Ballot 16, ending Jan 7,1999, Approved PAR rev 7 and Five Criteria Rev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0-14-4 or 81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G Letter Ballot 17, ending Mar 3, 1999, Approved PAR rev 8 and Five Criteria rev 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8-5-2 or 92% on  recircul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2-8-3 or 90% over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0AE5-66BC-4C63-A0CC-2BD1675C1A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PAR and Five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on 7 of the WPAN PAR and Revision 4 of the Five Criteria submitted to ExCom on Feb 4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513-DD24-4E95-81BE-9659AF3213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G Objectives for this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 resolution of WPAN PAR -98/162r8 &amp; Five Criteria -98/161r5 and submission to ExCom and Nes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AN Leadership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Upd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mmend Future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92D5-0635-4C5A-AC6D-C6C8566E9E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PAN SG 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revised recommended  direction regarding the Wireless PAN initiative for approval by 802.11 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ed Rev 9 of the P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ed supporting cover 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ught 3 motions to the 802.11 WG for 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B6B2-42E3-4268-90DD-ADE17A7FB9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ed Direc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uary 99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The WPAN Study Group recommends that it become a Task Group of 802.11 with the understanding that this will likely require a change in the 802.11 charter and a rule change within 802 to allow multiple MAC Layers within a Working Group.  The motivation for becoming a Task Group within 802.11 is to ensure the best use of a shared medium.  If this is not feasible the SG recommends the formation of a separate Working Group under 802 which would include all PAN-related activity including Bluetooth, HomeRF, etc. should they also submit PAR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 99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 SG recommends the formation of a separate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EFA0-25DF-4912-86B7-AD115D2B709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Cover 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PAN Study Group respectfully submits, for approval, Rev 9 of the PAR and Rev 5 of the 5 Criteria for Wireless Personal Area Networks and recommends the formation of a separate Working Group under 802 that would include all PAN-related standards activ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tivation to create a Working Group is to independently consider technologically acceptable approaches that have broad market appeal.  We believe this is more efficiently and effectively done as a peer of 802.11 rather than as a Task Gro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7614-8256-458C-8F53-A06029D8992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Bob Heile</dc:creator>
  <dc:description>Bob Heile, GTE</dc:description>
  <dc:language>en-US</dc:language>
  <cp:lastModifiedBy>Ian C. Gifford</cp:lastModifiedBy>
  <cp:lastPrinted>1999-03-08T22:00:07Z</cp:lastPrinted>
  <dcterms:modified xsi:type="dcterms:W3CDTF">1999-03-11T22:49:08Z</dcterms:modified>
  <cp:revision>67</cp:revision>
  <dc:subject>doc.: IEEE 802.11-99/057</dc:subject>
  <dc:title>WPAN WG ExCom Report</dc:title>
</cp:coreProperties>
</file>