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70040" y="91080"/>
            <a:ext cx="2817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1080"/>
            <a:ext cx="27399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5200" y="4314960"/>
            <a:ext cx="5089320" cy="4086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4600" y="8791200"/>
            <a:ext cx="2513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6520" y="879120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0535D6-8162-4C87-AAD4-BF4E7E873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791560"/>
            <a:ext cx="712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790120"/>
            <a:ext cx="549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290520"/>
            <a:ext cx="564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936520" y="879120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9BED57-D9EC-46CB-9F8C-6444605E7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774600" y="8791200"/>
            <a:ext cx="2513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70040" y="91080"/>
            <a:ext cx="2817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53760" y="91080"/>
            <a:ext cx="27399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00240" y="679320"/>
            <a:ext cx="4541760" cy="3407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5200" y="4314960"/>
            <a:ext cx="508932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9292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ence of Bluetooth to the ISO Open Standards Interface (OSI) model and how the IEEE standards map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IEEE has only two layers of the ISO-OSI while Bluetooth (as you well know) covers all of them.  What is not indicated by this graph is that the normal place for the LLC layer is in a separate committee, 802.2.  This standard is common to 802 stacks, but each MAC may have some medium-specific clauses in the 802.2 standard.  Due to the unique nature of the wireless medium, we will need to evaluate if there is sufficient flexibility for a Bluetooth-based standard to follow this model.  Other options can be conside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9292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to be a fairly good correspondence, except for A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scuss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08160" y="68580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25560" y="3993840"/>
            <a:ext cx="5092560" cy="4087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are performed via Service Access Points (SA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Logical Link Control -- Three types of operation: connectionless with no ACK; connection-oriented; and connectionless with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s with upper layers via a set of primi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In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Con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es with MAC via 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Media Access Control -- Performs access control functions for the shared medium in support of the LL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ddressing and recognition of fr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rame check sequence generation and che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LLC protocol data unit (PDU) delim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MAC Management -- managed objects and controls for MAC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Physical Layer Convergence Procedure -- Medium-independent physical layer: receives Messages, hands over bits to P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Physical Medium Dependent layer takes bits and (in our case) turns them into radio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PHY Management  -- managed objects and controls for PHY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Station Management -- Set of tools that allow performance 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Configuration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aul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Performan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Security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Accounting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5E6-EA0B-4B88-8BA5-C42DBC2C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1AE-04E7-41FF-AD2D-020203E9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2B3-90C0-4D72-A444-AB098F40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75C-7B9F-4386-83F9-0E50452A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A06-5B8E-4A66-AECE-207CC192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EAF-028A-4363-8666-9A0DDC50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D2B-C4FE-4B15-8765-DCB3EDC4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076-4C1F-4B4F-863B-7B81F2EA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F1A-7213-44BF-9598-BBC3E546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232-02DC-4C1D-AC2D-CFF6E0BC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C9E-C6A0-40FC-B481-C9552EA9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751-5E07-42D5-B1B0-F2711E61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4C8166-1D8A-4288-B18F-20F48CD10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4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Proposed Struc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 MAC and PHY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Personal Area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5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A34-49D7-4E47-8CDC-4DBDDD81568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breviations and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132C-7F2C-4D2A-A956-41E3E16E29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B0D-DC2B-4E80-9B15-98A42816E1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um Access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4495680"/>
            <a:ext cx="1828800" cy="685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2F7-E6A2-4265-A5B9-5BB5E7AFBC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Service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4419720"/>
            <a:ext cx="1905120" cy="304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C9E-1BCF-459C-AC24-ED78A20F30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Fram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General Fram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Format of Individual Fram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648320"/>
            <a:ext cx="1828800" cy="5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65C-F4D8-4583-9C2C-F09E4C8AE5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6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C Layer Function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/De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Exchange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4648320"/>
            <a:ext cx="1828800" cy="5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F37-6375-4D59-A853-322004FE63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Physical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5105520"/>
            <a:ext cx="1752480" cy="685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B9BC-0D90-4EEC-A205-DE8613B6F52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000000"/>
                </a:solidFill>
                <a:latin typeface="Arial"/>
              </a:rPr>
              <a:t>PHY Servic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ervic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5105520"/>
            <a:ext cx="1752480" cy="228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EEA-ED8B-4154-A6ED-728A901BB5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Y Fram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ram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of Individual Frame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16002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5DB-C03B-435D-9948-ACA80E1892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7.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Y Layer Function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5257800"/>
            <a:ext cx="1600200" cy="533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914-E0DA-4487-A217-8191CA4798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828800"/>
            <a:ext cx="74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371600" y="1600200"/>
          <a:ext cx="65530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553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8C2-54AB-41A4-8FE8-BA35680B8C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C Layer Management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hysical Layer Management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3886200"/>
            <a:ext cx="2514600" cy="2362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3AF-0CE0-420E-A75D-A591F4F236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endi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Protocol Implementation Conformance Statement (PICS) pro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.</a:t>
            </a:r>
            <a:r>
              <a:rPr b="1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9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521-052E-4755-976E-3B8D06B9F76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rotocol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mplementation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nformace </a:t>
            </a:r>
            <a:r>
              <a:rPr b="0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atement pro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S is a description of an implementation claim.  It specif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capabilities were 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ptions were cho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FC4-1960-4FE4-A419-75075D5435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al Defini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finitions are represented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ificatio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p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uage (SD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-T Recommendation Z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: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sberger, J., </a:t>
            </a:r>
            <a:r>
              <a:rPr b="1" i="1" lang="en-US" sz="2800" spc="-1" strike="noStrike">
                <a:solidFill>
                  <a:srgbClr val="000000"/>
                </a:solidFill>
                <a:latin typeface="AmericanTypewriter Cn"/>
              </a:rPr>
              <a:t>SDL Formal Object-Oriented Language for Communicating System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tfordshire, Prentice Hall Europe, 199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SBN 0-13-621384-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45C-3AD5-4872-9AE2-EF9DC5D18E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gemen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ormati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Bs are abstract representation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represented in ANS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Syntax Notatio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U-T Recommend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.680-68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.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: </a:t>
            </a:r>
            <a:r>
              <a:rPr b="1" i="1" lang="en-US" sz="3200" spc="-1" strike="noStrike">
                <a:solidFill>
                  <a:srgbClr val="000000"/>
                </a:solidFill>
                <a:latin typeface="AmericanTypewriter Cn"/>
              </a:rPr>
              <a:t>SDL Formal Object-Oriented Language for Communic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254-E100-410E-B7EF-3D966359A8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ed Work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1752480"/>
          <a:ext cx="7848720" cy="45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84872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FF3-6B0D-4A00-ABC3-ED7F9CFCBD5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ackup slides fol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83F-489C-434A-BBB4-61EB5F84EC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and IEE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1828800"/>
            <a:ext cx="74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Bluetooth%20OSI%20802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581960" cy="45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AC4-1D6E-4E47-9EB4-387176867CE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52280" y="1905120"/>
          <a:ext cx="872496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72496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to IEEE 802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124080" y="4267080"/>
          <a:ext cx="2538360" cy="11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267080"/>
                    <a:ext cx="2538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743200" y="2895480"/>
          <a:ext cx="3224160" cy="15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322416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00400" y="1371600"/>
          <a:ext cx="4952880" cy="138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1371600"/>
                    <a:ext cx="49528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80880" y="685800"/>
          <a:ext cx="5513400" cy="289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685800"/>
                    <a:ext cx="55134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438280" y="2057400"/>
          <a:ext cx="3224160" cy="204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38280" y="2057400"/>
                    <a:ext cx="322416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EBA-EFF3-4CAF-B564-7146A5A60D3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luetoot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asses of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960" y="-344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14560" y="1179360"/>
            <a:ext cx="6933960" cy="947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8124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y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972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Brid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180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8028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H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0212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till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0760" y="1484280"/>
            <a:ext cx="47448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omm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Port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31040" y="1484280"/>
            <a:ext cx="473040" cy="493920"/>
          </a:xfrm>
          <a:prstGeom prst="rect">
            <a:avLst/>
          </a:prstGeom>
          <a:solidFill>
            <a:srgbClr val="00f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W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05160" y="6200640"/>
            <a:ext cx="2147760" cy="2095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05160" y="5486400"/>
            <a:ext cx="371520" cy="671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948280"/>
            <a:ext cx="1719000" cy="2095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5695920"/>
            <a:ext cx="1719000" cy="2113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L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5486400"/>
            <a:ext cx="1719000" cy="168120"/>
          </a:xfrm>
          <a:prstGeom prst="rect">
            <a:avLst/>
          </a:prstGeom>
          <a:solidFill>
            <a:srgbClr val="ff5b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L</a:t>
            </a:r>
            <a:r>
              <a:rPr b="1" lang="en-GB" sz="1000" spc="-1" strike="noStrike" baseline="30000">
                <a:solidFill>
                  <a:srgbClr val="ffffff"/>
                </a:solidFill>
                <a:latin typeface="News Gothic MT"/>
              </a:rPr>
              <a:t>2</a:t>
            </a: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38440" y="4608360"/>
            <a:ext cx="6764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Ct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7760" y="4532400"/>
            <a:ext cx="676080" cy="49356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TS07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60880" y="4532400"/>
            <a:ext cx="676440" cy="493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TCP/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81760" y="4532400"/>
            <a:ext cx="674640" cy="49356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H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33520" y="3541680"/>
            <a:ext cx="4748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rOB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7760" y="354168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7056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W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164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Still</a:t>
            </a:r>
            <a:br>
              <a:rPr sz="1000"/>
            </a:b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I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66880" y="2550960"/>
            <a:ext cx="4730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v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33520" y="2550960"/>
            <a:ext cx="474840" cy="493920"/>
          </a:xfrm>
          <a:prstGeom prst="rect">
            <a:avLst/>
          </a:prstGeom>
          <a:solidFill>
            <a:srgbClr val="fd4bd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v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7760" y="2550960"/>
            <a:ext cx="473040" cy="4939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News Gothic MT"/>
              </a:rPr>
              <a:t>U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82" idx="2"/>
            <a:endCxn id="194" idx="3"/>
          </p:cNvCxnSpPr>
          <p:nvPr/>
        </p:nvCxnSpPr>
        <p:spPr>
          <a:xfrm rot="5400000">
            <a:off x="5685120" y="2948760"/>
            <a:ext cx="2802600" cy="8611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3" name=""/>
          <p:cNvCxnSpPr>
            <a:stCxn id="197" idx="2"/>
          </p:cNvCxnSpPr>
          <p:nvPr/>
        </p:nvCxnSpPr>
        <p:spPr>
          <a:xfrm rot="5400000">
            <a:off x="5568480" y="2847960"/>
            <a:ext cx="842040" cy="1235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4" name=""/>
          <p:cNvCxnSpPr>
            <a:stCxn id="181" idx="2"/>
            <a:endCxn id="193" idx="0"/>
          </p:cNvCxnSpPr>
          <p:nvPr/>
        </p:nvCxnSpPr>
        <p:spPr>
          <a:xfrm rot="5400000">
            <a:off x="4330800" y="3045240"/>
            <a:ext cx="2554920" cy="420120"/>
          </a:xfrm>
          <a:prstGeom prst="bentConnector3">
            <a:avLst>
              <a:gd name="adj1" fmla="val 49957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5" name=""/>
          <p:cNvCxnSpPr>
            <a:stCxn id="178" idx="2"/>
            <a:endCxn id="191" idx="1"/>
          </p:cNvCxnSpPr>
          <p:nvPr/>
        </p:nvCxnSpPr>
        <p:spPr>
          <a:xfrm flipH="1" rot="16200000">
            <a:off x="664560" y="2881800"/>
            <a:ext cx="2878560" cy="107064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6" name=""/>
          <p:cNvCxnSpPr>
            <a:stCxn id="179" idx="2"/>
            <a:endCxn id="199" idx="0"/>
          </p:cNvCxnSpPr>
          <p:nvPr/>
        </p:nvCxnSpPr>
        <p:spPr>
          <a:xfrm rot="5400000">
            <a:off x="1923480" y="2057040"/>
            <a:ext cx="573480" cy="41508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7" name=""/>
          <p:cNvCxnSpPr>
            <a:stCxn id="179" idx="2"/>
            <a:endCxn id="200" idx="0"/>
          </p:cNvCxnSpPr>
          <p:nvPr/>
        </p:nvCxnSpPr>
        <p:spPr>
          <a:xfrm flipH="1" rot="16200000">
            <a:off x="2208240" y="2187000"/>
            <a:ext cx="573480" cy="1548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8" name=""/>
          <p:cNvCxnSpPr>
            <a:stCxn id="199" idx="2"/>
            <a:endCxn id="195" idx="0"/>
          </p:cNvCxnSpPr>
          <p:nvPr/>
        </p:nvCxnSpPr>
        <p:spPr>
          <a:xfrm flipH="1" rot="16200000">
            <a:off x="2037960" y="3008880"/>
            <a:ext cx="497520" cy="56880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09" name=""/>
          <p:cNvCxnSpPr>
            <a:stCxn id="200" idx="2"/>
            <a:endCxn id="195" idx="0"/>
          </p:cNvCxnSpPr>
          <p:nvPr/>
        </p:nvCxnSpPr>
        <p:spPr>
          <a:xfrm flipV="1" rot="10800000">
            <a:off x="2571120" y="3044520"/>
            <a:ext cx="1080" cy="497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0" name=""/>
          <p:cNvCxnSpPr>
            <a:stCxn id="195" idx="2"/>
            <a:endCxn id="192" idx="0"/>
          </p:cNvCxnSpPr>
          <p:nvPr/>
        </p:nvCxnSpPr>
        <p:spPr>
          <a:xfrm flipH="1" rot="16200000">
            <a:off x="3134520" y="3471840"/>
            <a:ext cx="497520" cy="162468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1" name=""/>
          <p:cNvCxnSpPr>
            <a:stCxn id="198" idx="2"/>
          </p:cNvCxnSpPr>
          <p:nvPr/>
        </p:nvCxnSpPr>
        <p:spPr>
          <a:xfrm rot="5400000">
            <a:off x="2800800" y="2799720"/>
            <a:ext cx="232560" cy="722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2" name=""/>
          <p:cNvCxnSpPr>
            <a:stCxn id="183" idx="2"/>
            <a:endCxn id="198" idx="0"/>
          </p:cNvCxnSpPr>
          <p:nvPr/>
        </p:nvCxnSpPr>
        <p:spPr>
          <a:xfrm rot="5400000">
            <a:off x="3021480" y="2234160"/>
            <a:ext cx="573480" cy="612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3" name=""/>
          <p:cNvCxnSpPr>
            <a:stCxn id="180" idx="2"/>
            <a:endCxn id="201" idx="0"/>
          </p:cNvCxnSpPr>
          <p:nvPr/>
        </p:nvCxnSpPr>
        <p:spPr>
          <a:xfrm rot="5400000">
            <a:off x="3818160" y="2253240"/>
            <a:ext cx="573480" cy="2268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4" name=""/>
          <p:cNvCxnSpPr>
            <a:stCxn id="201" idx="2"/>
            <a:endCxn id="196" idx="0"/>
          </p:cNvCxnSpPr>
          <p:nvPr/>
        </p:nvCxnSpPr>
        <p:spPr>
          <a:xfrm flipV="1" rot="10800000">
            <a:off x="4093560" y="3044520"/>
            <a:ext cx="1080" cy="49752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5" name=""/>
          <p:cNvCxnSpPr>
            <a:stCxn id="196" idx="2"/>
            <a:endCxn id="192" idx="0"/>
          </p:cNvCxnSpPr>
          <p:nvPr/>
        </p:nvCxnSpPr>
        <p:spPr>
          <a:xfrm flipH="1" rot="16200000">
            <a:off x="3896640" y="4232880"/>
            <a:ext cx="497520" cy="102240"/>
          </a:xfrm>
          <a:prstGeom prst="bentConnector3">
            <a:avLst>
              <a:gd name="adj1" fmla="val 498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6" name=""/>
          <p:cNvCxnSpPr>
            <a:stCxn id="184" idx="2"/>
            <a:endCxn id="192" idx="3"/>
          </p:cNvCxnSpPr>
          <p:nvPr/>
        </p:nvCxnSpPr>
        <p:spPr>
          <a:xfrm rot="5400000">
            <a:off x="3349800" y="3161520"/>
            <a:ext cx="2802600" cy="43560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7" name=""/>
          <p:cNvCxnSpPr>
            <a:stCxn id="185" idx="2"/>
            <a:endCxn id="197" idx="0"/>
          </p:cNvCxnSpPr>
          <p:nvPr/>
        </p:nvCxnSpPr>
        <p:spPr>
          <a:xfrm rot="5400000">
            <a:off x="6350400" y="2234160"/>
            <a:ext cx="573480" cy="61200"/>
          </a:xfrm>
          <a:prstGeom prst="bentConnector3">
            <a:avLst>
              <a:gd name="adj1" fmla="val 49811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8" name=""/>
          <p:cNvCxnSpPr>
            <a:stCxn id="191" idx="2"/>
            <a:endCxn id="190" idx="0"/>
          </p:cNvCxnSpPr>
          <p:nvPr/>
        </p:nvCxnSpPr>
        <p:spPr>
          <a:xfrm flipH="1" rot="16200000">
            <a:off x="3593160" y="4484880"/>
            <a:ext cx="384840" cy="16185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19" name=""/>
          <p:cNvCxnSpPr>
            <a:stCxn id="192" idx="2"/>
            <a:endCxn id="190" idx="0"/>
          </p:cNvCxnSpPr>
          <p:nvPr/>
        </p:nvCxnSpPr>
        <p:spPr>
          <a:xfrm flipH="1" rot="16200000">
            <a:off x="4163760" y="5056560"/>
            <a:ext cx="461160" cy="3992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20" name=""/>
          <p:cNvCxnSpPr>
            <a:stCxn id="193" idx="2"/>
            <a:endCxn id="190" idx="0"/>
          </p:cNvCxnSpPr>
          <p:nvPr/>
        </p:nvCxnSpPr>
        <p:spPr>
          <a:xfrm rot="5400000">
            <a:off x="4765680" y="4853520"/>
            <a:ext cx="461160" cy="8053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cxnSp>
        <p:nvCxnSpPr>
          <p:cNvPr id="221" name=""/>
          <p:cNvCxnSpPr>
            <a:stCxn id="194" idx="2"/>
            <a:endCxn id="190" idx="0"/>
          </p:cNvCxnSpPr>
          <p:nvPr/>
        </p:nvCxnSpPr>
        <p:spPr>
          <a:xfrm rot="5400000">
            <a:off x="5226120" y="4393080"/>
            <a:ext cx="461160" cy="1726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7F9-731D-4CCB-97EE-04EDB5C504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unication Path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9320" y="1447920"/>
          <a:ext cx="6784920" cy="47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784920" cy="47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057-22BA-49C3-A895-7532F421B2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xonomy of an 802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2133720"/>
          <a:ext cx="6743880" cy="42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33720"/>
                    <a:ext cx="674388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81680" y="1828800"/>
          <a:ext cx="160020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1828800"/>
                    <a:ext cx="16002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9A7-E862-4A51-ABD4-487C96EAA5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Standard Main 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verview</a:t>
            </a:r>
            <a:r>
              <a:rPr b="0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ormativ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bbreviations and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5)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um Access Control (M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Physical Layer (PH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57B-9DCA-4A44-AB7C-F7ABE6113D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Standard Appendi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tocol Implementation Conformance       Statement (PICS) pro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.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A4A-F1E1-4CCA-8F31-B715CB6C44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038480" y="3505320"/>
            <a:ext cx="4648320" cy="2895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C37-B623-41B7-A8F2-483596102F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tiv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ocuments (IEEE, ISO, ITU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505320"/>
            <a:ext cx="4648320" cy="2895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9E6-3DE3-4ECC-83B6-630F7CB39A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use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specific to this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4495680"/>
            <a:ext cx="4648320" cy="190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495680" y="3886200"/>
          <a:ext cx="405792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886200"/>
                    <a:ext cx="405792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B91-E11B-41DD-8402-79D613D8E1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Tom Siep</dc:creator>
  <dc:description>Tom Siep, Texas Instruments</dc:description>
  <dc:language>en-US</dc:language>
  <cp:lastModifiedBy>Tom Siep</cp:lastModifiedBy>
  <cp:lastPrinted>1999-04-23T19:19:31Z</cp:lastPrinted>
  <dcterms:modified xsi:type="dcterms:W3CDTF">1999-07-07T18:47:54Z</dcterms:modified>
  <cp:revision>72</cp:revision>
  <dc:subject>doc.: IEEE 802.11-99/055r1</dc:subject>
  <dc:title>WPAN SG Tutorial</dc:title>
</cp:coreProperties>
</file>