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B6663-58EA-46E1-ABEF-A66FD697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4778-E80A-4B2F-A507-8AA4F640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29D80-3477-4873-9C9B-4EA8B3DE9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CD1EC-587F-4E16-BF0E-25D1D2D3E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EB3A1-CEE7-4298-9E5E-21D592CA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A0030-FA57-4286-8658-620BA7E76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2BA87-3651-4A5A-AD7B-C63686266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4B11E-E580-46C8-A4F1-3CCF45D5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441B-A16E-42DB-8141-2E1682DC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ADFF-3CE2-4DEE-8921-06E6C5FD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E2DF-FE2B-4BCA-9993-A4B21006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0933-EFE9-4440-A012-7B085D253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k Alfvin, Kod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0758E-A1E8-4901-9F95-4C07B6290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4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609480"/>
            <a:ext cx="8991720" cy="54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a:t>
            </a:r>
            <a:r>
              <a:rPr b="1" lang="en-US" sz="1800" spc="-1" strike="noStrike" u="sng">
                <a:solidFill>
                  <a:srgbClr val="000000"/>
                </a:solidFill>
                <a:uFillTx/>
                <a:latin typeface="Times New Roman"/>
              </a:rPr>
              <a:t>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ed 802.15 WPAN High Rate Study Group ad hoc marketing meeting summ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11 November, 1999]</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Rick Alfvin] Company [Eastman Kodak Comp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700 Dewey Avenue, M.C. 01829, Rochester, New York 14650-182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6166], FAX: [(716) 588-6322], E-Mail:[alfvi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If this is a proposed revision, cite the original document.]</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Proposed 802.15 WPAN High Rate Study Group ad hoc marketing meeting summary]</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his document is intended to provide a summary of the ad hoc marketing committee meeting which took place November, 11, 1999 coincident with the morning session of the 802.15 MC meeting.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524C8E6-C813-4DE9-94C4-732CF317D74D}"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rketing audience targets</a:t>
            </a:r>
            <a:endParaRPr b="0" lang="en-US" sz="32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IG</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RF</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applications</a:t>
            </a:r>
            <a:endParaRPr b="0" lang="en-US" sz="2800" spc="-1" strike="noStrike">
              <a:solidFill>
                <a:srgbClr val="000000"/>
              </a:solidFill>
              <a:latin typeface="Arial"/>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and academic institu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13F57CD-7C20-4B33-900F-43C22E6C5C16}"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arketing strategy/message for each target audien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message</a:t>
            </a:r>
            <a:endParaRPr b="0" lang="en-US" sz="24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of IEEE</a:t>
            </a:r>
            <a:endParaRPr b="0" lang="en-US" sz="24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aisons into marketing audience targets</a:t>
            </a:r>
            <a:endParaRPr b="0" lang="en-US" sz="2800" spc="-1" strike="noStrike">
              <a:solidFill>
                <a:srgbClr val="000000"/>
              </a:solidFill>
              <a:latin typeface="Arial"/>
            </a:endParaRPr>
          </a:p>
          <a:p>
            <a:pPr marL="339480" indent="-3394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differential value-added application space</a:t>
            </a:r>
            <a:endParaRPr b="0" lang="en-US" sz="2800" spc="-1" strike="noStrike">
              <a:solidFill>
                <a:srgbClr val="000000"/>
              </a:solidFill>
              <a:latin typeface="Arial"/>
            </a:endParaRPr>
          </a:p>
          <a:p>
            <a:pPr lvl="1" marL="735480" indent="-28296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for applications from marketing targets</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F731966-ED24-46C8-BFE7-9706CBECAFD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marketing requirement specification document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velop press releases with 802.15</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brand identity for High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Times New Roman"/>
              </a:rPr>
              <a:t>Proposed IEEE High Rate Study Group</a:t>
            </a:r>
            <a:br>
              <a:rPr sz="2400"/>
            </a:br>
            <a:r>
              <a:rPr b="0" lang="en-US" sz="2400" spc="-1" strike="noStrike">
                <a:solidFill>
                  <a:srgbClr val="000000"/>
                </a:solidFill>
                <a:latin typeface="Times New Roman"/>
              </a:rPr>
              <a:t>Ad Hoc Marketing Meeting</a:t>
            </a:r>
            <a:br>
              <a:rPr sz="2400"/>
            </a:br>
            <a:r>
              <a:rPr b="0" lang="en-US" sz="2000" spc="-1" strike="noStrike">
                <a:solidFill>
                  <a:srgbClr val="000000"/>
                </a:solidFill>
                <a:latin typeface="Times New Roman"/>
              </a:rPr>
              <a:t>Jim Allen - Acting Chair</a:t>
            </a:r>
            <a:br>
              <a:rPr sz="24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235215-1FD8-4845-A359-6DF228D65B88}"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2T00:30:20Z</dcterms:created>
  <dc:creator>Rick Alfvin</dc:creator>
  <dc:description>&lt;doc#&gt;</dc:description>
  <dc:language>en-US</dc:language>
  <cp:lastModifiedBy>Rick Alfvin</cp:lastModifiedBy>
  <cp:lastPrinted>1998-02-10T13:28:06Z</cp:lastPrinted>
  <dcterms:modified xsi:type="dcterms:W3CDTF">1999-11-12T00:55:32Z</dcterms:modified>
  <cp:revision>2</cp:revision>
  <dc:subject>IEEE 802.15 &lt;subject&gt;</dc:subject>
  <dc:title>No Slide Title</dc:title>
</cp:coreProperties>
</file>