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215-B721-48C0-91BE-383DD68F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FBA-6C66-4D2B-9355-E904B4D9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168-1A54-40A6-96DC-6E1F6420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286-C231-4939-AE22-B0285876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7A6-EEDB-45CF-B7BA-B42CF69C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195-77DF-4B33-9324-58F10761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326-80B2-40A9-9B1E-19A5049F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CFC-29FF-48FE-A18C-15CE3DE0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F93-F666-4468-B2F6-FC17B1EF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7DC-EC20-4291-85B0-D780A3B1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15F-AFCA-4F19-9F7D-D6E74B7A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64A-8564-4EAF-8752-1C4C31DF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133D25-D2B6-4CC1-BA34-6D586D76C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1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Task Group 1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3 - 17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ton Hotel, Sonoma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55 Round Barn Bl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a Rosa, CA  95403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597-9C54-48E6-944C-A15603542D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Schedule -99/56r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320" y="1600200"/>
            <a:ext cx="89632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  Wednesday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! SG1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! 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MC  ! SG1  |           |      !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!      |           |      ! 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Joint.11/.15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DL Mode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.............|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...........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SG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luetoo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utoria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 |      &amp;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6:30-9: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          |Doc.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1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BEC-AFD7-4846-9B0B-61EE58CE2B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10552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94360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486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63244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5B0-8E29-4681-A060-9348C36E96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 was Liaison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8D4C-6D7D-45C7-896D-0544A37EA6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ed to Consider Draft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g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36080" cy="49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F79-3B2C-4B6C-9C2B-850C3C8E7F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 be add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E7C-45DF-4B95-B253-8BD14A5146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 3.11 Review Bluetooth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044A-6ACB-41A4-B9E7-20554927C9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con &amp;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Aug99 Örjan Johansson, Chatschik Bisdikian, ETSI &amp; IEEE-SA Liaison Meeting in Washington DC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Jim Kardach &amp; Ian Gifford discussed Bluetooth and the FCC NP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Ian Gifford forwarded Jim Kardach the IEEE Letter to F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from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5, 1999 Letter of Intent #2, Copyright License Agreement, CD-ROM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31, 1999 Bluetooth Proposal to IEEE and ETSI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3, 1999 CD-ROM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1999 Signed &amp; Initialed Copyright License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to submit the approved Draft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going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4D8-CF64-400C-BD20-C59DBA03902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been reviewing the Bluetooth Specification, via Liaison &amp; Public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Special Interest Group Formed May 20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 07Jul98 -98/2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2 15Sep98 -98/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3 26Oct98 -98/350 (Minut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4 14Dec98 J. Carlo 802 Overview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5 09Mar99 -99/053 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6 01Jul99 -99/028 Letter Of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7 15Jul99 -99/028r1 LOI #2, License, CD-ROM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8 26Jul99 Bluetooth v1.0A Foundation Specification Available vi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9 31Aug99 -99/085 IEEE/ETSI/Bluetooth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0 31Aug99 -99/085 Proposal to IEEE &amp; ET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1 3Sep99 CD-ROM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2 9Sep99 Signed &amp; Initialed Copyright License Agre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3 13Sep99 -99/068 BT-IEEE Editorial WG Report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4 14Sep99 -99/069 to 073 Overview of the Bluetoot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FBEE-7519-4FE0-B53F-A297153BDB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7:33:09Z</dcterms:created>
  <dc:creator>Ian C. Gifford</dc:creator>
  <dc:description>061r1</dc:description>
  <dc:language>en-US</dc:language>
  <cp:lastModifiedBy>Ian C. Gifford</cp:lastModifiedBy>
  <cp:lastPrinted>1998-02-10T13:28:06Z</cp:lastPrinted>
  <dcterms:modified xsi:type="dcterms:W3CDTF">1999-09-14T22:04:16Z</dcterms:modified>
  <cp:revision>21</cp:revision>
  <dc:subject>IEEE 802.15 &lt;subject&gt;</dc:subject>
  <dc:title>1st Session of meetings of the IEEE P802.15 Task Group 1 for Wireless Personal Area Networks</dc:title>
</cp:coreProperties>
</file>