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F10EC4-EA8D-46D1-A23C-2FC5549B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CADE55-2954-4502-8E81-6E83CEC72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5CFF06-2D3D-48C9-A189-1960F52A9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4D2A08-5045-42D9-91C2-B669BD402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0ADD1B-5574-4246-88D3-96AC0419F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88ADFE-9E4C-4884-B4F6-52E60082A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539-972C-43BB-9DB8-B15C31EC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366-EF35-4134-96A0-49047C2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660-4B6D-4391-91CF-CEC680AA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CE6-F945-4308-97CC-776C6B45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212-B1D4-4AED-B31B-BC1D091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231-3D66-44F5-A178-D545F74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6AE-0A20-40DD-B06D-5A21EE1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8E9-A181-483D-8DB4-73538B10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7D0-EE6D-4910-8A58-889AC8D8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637-753C-4168-8BA7-47F7A12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F87-33DF-419B-917D-AECA8CD5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1B9-39CA-48FF-A12C-343A1E6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E8AB92-ED9D-49D0-8E45-66600510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-IEEE Editorial Working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A2B-FDBC-403C-A489-1F20291FAE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3434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80988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g4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523880" cy="493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53040" y="37339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40086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F99-51DA-477F-806B-76F203D095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4440" y="55926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34C-C161-4E00-B8EC-D2C73617BC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life for BT Editorial W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T Editorial Group plans to finish its IEEE Editorial lower layer  (OSI 1&amp;2) work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is interested in the upper layer (OSI 3-7) this work may require this same or another WG inside of B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4120" y="2513160"/>
          <a:ext cx="33638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3160"/>
                    <a:ext cx="33638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12D-7F4F-4251-9C31-299202AC99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pr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of pre Draft Standard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pre Draft Standard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ed approved Standard, available as early as Apr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FB2-C0EA-42B0-814B-4B1B38ECC4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20720" y="1995480"/>
          <a:ext cx="5923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5480"/>
                    <a:ext cx="5923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F7E-D2F7-49D4-B3C7-0CAF130307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74720" y="1503360"/>
          <a:ext cx="7650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03360"/>
                    <a:ext cx="7650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0D5-A2B6-475E-8EBA-905359339F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124080" y="198108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AD7-F4DE-4BFA-AB2C-B732DF79A7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80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BAF-F251-4ED4-A0FA-176F7A1D1F1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32200" y="2514600"/>
          <a:ext cx="4259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2200" y="2514600"/>
                    <a:ext cx="4259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9720" y="2513160"/>
          <a:ext cx="336420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2513160"/>
                    <a:ext cx="3364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E60-B372-4185-90C7-9E42B848AF2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1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690-9DAB-42A8-878D-35C2B7AD1F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8620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200664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53040" y="14018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3280" y="1676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783-DC7F-4788-B68B-9E8B4975C3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6:10:17Z</dcterms:created>
  <dc:creator>Ian C. Gifford</dc:creator>
  <dc:description>068r0</dc:description>
  <dc:language>en-US</dc:language>
  <cp:lastModifiedBy>Ian C. Gifford</cp:lastModifiedBy>
  <cp:lastPrinted>1998-02-10T13:28:06Z</cp:lastPrinted>
  <dcterms:modified xsi:type="dcterms:W3CDTF">1999-09-13T05:49:26Z</dcterms:modified>
  <cp:revision>24</cp:revision>
  <dc:subject>IEEE 802.15 Liaison</dc:subject>
  <dc:title>Bluetooth-IEEE Editorial Working Group Report #1</dc:title>
</cp:coreProperties>
</file>