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F9B2-07BB-4592-8D18-214C23BD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6019-F33B-4485-9717-773ADDF2A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9560-DBDA-48B7-A765-D0EB48E08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4D78-6064-4E67-AAA0-54C4028E0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61B7-080B-45EE-9745-BCC56B6BEC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67D6-D990-47DE-8E97-C78CE2FC6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239F-A23F-41FF-A57D-B20946D15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6B3E-3A17-4652-A054-D4AEB977F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7E39-756B-472B-8D2A-BBB0D723F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5A05-F3F9-43E7-B4BA-42FD9DA53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0E66-5DF8-44CE-AEE0-3B086501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74E4-7CD8-49F7-8E12-9A65A3678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657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BB3-C2D8-42EA-8FA1-6A76D161F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90360"/>
            <a:ext cx="6019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luetooth / IEEE 802.11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98600" y="655200"/>
            <a:ext cx="6291000" cy="18000"/>
            <a:chOff x="498600" y="655200"/>
            <a:chExt cx="6291000" cy="18000"/>
          </a:xfrm>
        </p:grpSpPr>
        <p:sp>
          <p:nvSpPr>
            <p:cNvPr id="5" name=""/>
            <p:cNvSpPr/>
            <p:nvPr/>
          </p:nvSpPr>
          <p:spPr>
            <a:xfrm flipV="1">
              <a:off x="498600" y="655200"/>
              <a:ext cx="6291000" cy="324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0040" y="673200"/>
              <a:ext cx="625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457200" y="6362640"/>
            <a:ext cx="8229600" cy="38160"/>
            <a:chOff x="457200" y="6362640"/>
            <a:chExt cx="8229600" cy="38160"/>
          </a:xfrm>
        </p:grpSpPr>
        <p:sp>
          <p:nvSpPr>
            <p:cNvPr id="8" name=""/>
            <p:cNvSpPr/>
            <p:nvPr/>
          </p:nvSpPr>
          <p:spPr>
            <a:xfrm flipV="1">
              <a:off x="457200" y="6362640"/>
              <a:ext cx="8229600" cy="7920"/>
            </a:xfrm>
            <a:prstGeom prst="line">
              <a:avLst/>
            </a:prstGeom>
            <a:ln w="25560">
              <a:solidFill>
                <a:srgbClr val="f028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640" y="6400800"/>
              <a:ext cx="818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200664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zyren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174204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4132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BT interference depends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propagation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ity of BT pico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susceptibility to BT interference increases as a function of range from DSSS node to DSSS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Hi Rate systems retain high throughput and have graceful degradation in the presence of 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se user models, DSSS Hi Rate WLANs are very reliable in the presence of significant B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are preliminary.  Must be verified by lab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89040" y="15238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5238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71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80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7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6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8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5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2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using a narrower occupied channel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collision is reduced by minimizing transmit time (ie transmit at higher data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fficient Interference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energy can be redu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s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hter fil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3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7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2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6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2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81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4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study of impact of Bluetooth on IEEE 802.11 DSS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SSS WLAN @ 11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environment of BT pic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DSSS WLAN node per 2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ffic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 piconet co-located with each DSSS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dBm BT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20 dBm DSSS tx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90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91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7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4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5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4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5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2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0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9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82640" y="4976640"/>
              <a:ext cx="1016280" cy="244800"/>
              <a:chOff x="1682640" y="4976640"/>
              <a:chExt cx="1016280" cy="2448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89648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450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03240" y="4470480"/>
          <a:ext cx="731520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470480"/>
                    <a:ext cx="731520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5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4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8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7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91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568840" y="3376440"/>
              <a:ext cx="1016280" cy="244800"/>
              <a:chOff x="5568840" y="3376440"/>
              <a:chExt cx="1016280" cy="244800"/>
            </a:xfrm>
          </p:grpSpPr>
          <p:sp>
            <p:nvSpPr>
              <p:cNvPr id="294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8268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0968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5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1816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ames Zyren</dc:creator>
  <dc:description/>
  <dc:language>en-US</dc:language>
  <cp:lastModifiedBy>Ian C. Gifford</cp:lastModifiedBy>
  <cp:lastPrinted>1999-08-02T20:34:40Z</cp:lastPrinted>
  <dcterms:modified xsi:type="dcterms:W3CDTF">1999-09-13T05:16:38Z</dcterms:modified>
  <cp:revision>25</cp:revision>
  <dc:subject/>
  <dc:title>No Slide Title</dc:title>
</cp:coreProperties>
</file>