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1A9FEA-EC36-43CC-AAC3-68BEAA537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9F65A3-BFC6-4FE5-A924-ED240B9C3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C274-7988-4135-9A50-B0639430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AEA-8D41-4DB4-B1A3-91CA0BA8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B87-DF28-47B8-BE91-DD1E4A06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A17-67E7-4B4E-8E7D-42C076FB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E28-DCA4-4349-A5B5-A6C5369E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0BF-B56A-4FA0-A9B9-E7FE9873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FA1-8CA5-4262-AC52-FF31D43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9A4-3D42-4260-B599-DBF1E28B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90F-B9E3-4661-BB25-11B2329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8128-7EAC-488B-8057-383AED9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267-ACD4-42A5-9CEF-8DA971AE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D87-2465-4BAC-BF60-DAF29444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7F48FB-8FB2-4948-8A80-249E3964F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181160"/>
            <a:ext cx="7772400" cy="307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63504" dir="2216091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15520" y="4259160"/>
            <a:ext cx="5254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Robert F. He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TE Technolog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man, IEEE 802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091-1C0E-4609-B569-7D2F13DD401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 Projec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3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ed in 1997 as ‘ad hoc’ group within IEEE Portable Applications Standards Committee (PAS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t the time, no other Groups or Standards Bodies dealing with the probl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8 a Study Group was formed within 802.11 to develop a Project Authorization Request (PA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March 1999, IEEE 802.15 Working Group for WPANs establish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784C-F9E9-44FE-A7B0-8FE1C6F29E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PAN:  Other Groups Developing Similar Specific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934320" y="36576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673280" cy="2501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013160" y="457200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4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40680" y="57150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7640" y="53341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120" y="6289560"/>
            <a:ext cx="28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doc.: IEEE 802.11-98/58 (Bob Heile, G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mllieee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98" name=""/>
          <p:cNvGraphicFramePr/>
          <p:nvPr/>
        </p:nvGraphicFramePr>
        <p:xfrm>
          <a:off x="6858000" y="5334120"/>
          <a:ext cx="1447920" cy="3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334120"/>
                    <a:ext cx="14479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-formed March 4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-formed May 20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3E8-8C08-4EF9-A23D-6E8578C7A2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luetooth Mission/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lobal specification for wireless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answers the need for short-range wireless connectivity within three are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is a system solution comprising hardware, software and interoperability requirements. The Bluetooth specifications specify the complet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81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luetooth operates in a globally available 2.4 Ghz ISM band, ensuring communication compatibility worldw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5720" y="6240600"/>
            <a:ext cx="161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Bluetooth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F1D-B9BA-4DCC-BBD8-F0A55B451D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meRF 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ssion of the HomeRF Working Group is 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93320" y="6210360"/>
            <a:ext cx="157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omeRF Web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B51-AAD3-4604-9E02-56D24626F2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4920" y="506160"/>
            <a:ext cx="8072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ny Participation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 of March 1999 in WPAN Relate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96920" y="463392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70040" y="3657600"/>
            <a:ext cx="28382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4 Bluetooth Adopt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7640" y="2057400"/>
            <a:ext cx="1660320" cy="3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50 Attend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440" y="373392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82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mllieee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9511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6" name=""/>
          <p:cNvGraphicFramePr/>
          <p:nvPr/>
        </p:nvGraphicFramePr>
        <p:xfrm>
          <a:off x="5943600" y="480060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800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C2B-D133-4DF6-9C05-D6A2F5AF46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65440" y="5486400"/>
            <a:ext cx="6540480" cy="30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um Access Control Sub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791320"/>
            <a:ext cx="6553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focuses only on the Lower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400" y="57913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0" y="52578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0" y="47242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0" y="41911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365760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0" y="3124080"/>
            <a:ext cx="10670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400" y="2590920"/>
            <a:ext cx="10670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1360080" y="41680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/OSI Reference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2900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1432080" cy="115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5562720" y="2590560"/>
            <a:ext cx="0" cy="373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543800" y="5486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802" descr=""/>
          <p:cNvPicPr/>
          <p:nvPr/>
        </p:nvPicPr>
        <p:blipFill>
          <a:blip r:embed="rId2"/>
          <a:stretch/>
        </p:blipFill>
        <p:spPr>
          <a:xfrm>
            <a:off x="6858000" y="3962520"/>
            <a:ext cx="1417680" cy="14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8504280" y="5570640"/>
            <a:ext cx="56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15200" y="5318280"/>
            <a:ext cx="54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343400" y="3809880"/>
          <a:ext cx="23623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22B-6F00-480D-A1FD-9CA7BF6E62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64960" y="1603440"/>
            <a:ext cx="887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WPAN functional 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 open forum to debate and critique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MAC and PHY standards for short range embedded wireless networking of PCs, PDAs, peripherals, cell phones, pagers, consumer electronic devices, sensors, actuators, and the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64600" y="603000"/>
            <a:ext cx="879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053-A4A1-4748-9C6A-CC6D95AFCD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42720" y="190512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closely with and build consensus among groups having an interest in WPANs like Bluetooth, HomeRF, and 802.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Standards that meet the requirements of WPANs and have broad market appe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effectively with coexistence and interoperability in a shared med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094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Working  Group 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3EA-EC08-40D1-A226-C28901185E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4040" y="88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2600" y="2174760"/>
            <a:ext cx="927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orldwide spectrum allocations for unlicensed bands such as 2.4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w Cost: i.e., relative to target dev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mall Size e.g., ~.5 cubic inches( excludes antenna &amp; batter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wer Management: Very Low current consumption (Average 20mw or less @ 10% Tx/Rx loa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00C-E946-4B85-86A7-C8253896D6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3040" y="799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A” List (cont.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22876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ynchronous or connection-less data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PAN’s in the same area (20 within 400 square fe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oexistence of multiple Wireless Systems such as  P802.11 in the sam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Network Access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13E-EC71-472A-8A66-44B52637B7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Wireless Vision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Market Need/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Project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07F-96D3-49B6-937A-1E9091A601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4784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0-10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ing support for a minimum of 16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h: within one (1) second, once within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dge or Gateway connectivity to other dat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E98-741E-4EE9-BACC-43D6684B5F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ivered Data Throughput at the MAC SAP: (19.2 - 100) kbit/s (actual 1 device to 1 dev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within a WPAN must be able to communicate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to support a variety of traff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ous or connection-oriented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5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B” List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7B5-C0C3-43CF-99C3-5E3F61231E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rrent 802.15 WPAN Functional Requirements- “C”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81200" y="2343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element of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: hand-off to another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120" y="6289560"/>
            <a:ext cx="33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doc.: IEEE 802.11-98/160r2 (Ian Gifford, M/A-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81F-0DB1-4224-BFF3-0C8E55EC51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39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DDC-2DE4-4424-AC71-092CA691917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existence/Interoperability Continuu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6320" y="1733400"/>
            <a:ext cx="8684640" cy="4743720"/>
            <a:chOff x="76320" y="1733400"/>
            <a:chExt cx="8684640" cy="4743720"/>
          </a:xfrm>
        </p:grpSpPr>
        <p:sp>
          <p:nvSpPr>
            <p:cNvPr id="161" name=""/>
            <p:cNvSpPr/>
            <p:nvPr/>
          </p:nvSpPr>
          <p:spPr>
            <a:xfrm>
              <a:off x="3352680" y="1905120"/>
              <a:ext cx="17640" cy="4410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3000" y="5367240"/>
              <a:ext cx="453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427560" y="1733400"/>
              <a:ext cx="3187440" cy="458280"/>
              <a:chOff x="3427560" y="1733400"/>
              <a:chExt cx="3187440" cy="4582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53200" y="173340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27560" y="1998720"/>
                <a:ext cx="9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4395960" y="5649840"/>
              <a:ext cx="31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79560" y="1947960"/>
              <a:ext cx="0" cy="315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6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48240" y="2833560"/>
              <a:ext cx="30128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180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3120" y="396864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43320" y="3713040"/>
              <a:ext cx="284328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 proposal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54440" y="3241800"/>
              <a:ext cx="0" cy="145548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09800" y="5265720"/>
              <a:ext cx="0" cy="121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2040" y="5565600"/>
              <a:ext cx="176256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74560" y="518148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0160" y="1947960"/>
              <a:ext cx="0" cy="17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1523160" y="3809880"/>
              <a:ext cx="1456200" cy="1371600"/>
              <a:chOff x="1523160" y="3809880"/>
              <a:chExt cx="1456200" cy="1371600"/>
            </a:xfrm>
          </p:grpSpPr>
          <p:sp>
            <p:nvSpPr>
              <p:cNvPr id="182" name=""/>
              <p:cNvSpPr/>
              <p:nvPr/>
            </p:nvSpPr>
            <p:spPr>
              <a:xfrm>
                <a:off x="2270160" y="3809880"/>
                <a:ext cx="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185" name=""/>
              <p:cNvSpPr/>
              <p:nvPr/>
            </p:nvSpPr>
            <p:spPr>
              <a:xfrm>
                <a:off x="3867120" y="3349800"/>
                <a:ext cx="273996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19320" y="175248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33360" y="2241720"/>
              <a:ext cx="1227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31200" y="5257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84440" y="5889600"/>
              <a:ext cx="454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2057400"/>
              <a:ext cx="0" cy="1455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A17-7A8E-47F2-81F6-75AE632226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02.15 WPAN -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oposed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Liai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393920"/>
            <a:ext cx="891540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Radio Frequency Working Group (HRFW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Data Association (Ir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/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oadband Radio Access Networks (BRAN)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Engineering Task Force (IETF), Mobile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M Forum Wireless ATM (WATM)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 Alliance (WL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DF5-2C56-4B13-9860-13C98B7828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72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802.15 WPAN Requirement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3920" y="3782880"/>
            <a:ext cx="157788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9400" y="3728880"/>
            <a:ext cx="1725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78120" y="3782880"/>
            <a:ext cx="163656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8160" y="3728880"/>
            <a:ext cx="17132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7080" y="3782880"/>
            <a:ext cx="738000" cy="13986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57520" y="4137120"/>
            <a:ext cx="8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77840" y="3497400"/>
            <a:ext cx="50594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428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6800" y="3352680"/>
            <a:ext cx="0" cy="14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3524400"/>
            <a:ext cx="0" cy="23940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19440" y="3532320"/>
            <a:ext cx="0" cy="23976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1120" y="5259240"/>
            <a:ext cx="7984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092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5259240"/>
            <a:ext cx="80028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52240" y="5257800"/>
            <a:ext cx="753480" cy="4575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37080" y="5259240"/>
            <a:ext cx="738000" cy="5000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28800" y="5256360"/>
            <a:ext cx="753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883120"/>
            <a:ext cx="2630520" cy="27504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532320"/>
            <a:ext cx="0" cy="24768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32600" y="3532320"/>
            <a:ext cx="0" cy="20952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8920" y="3782880"/>
            <a:ext cx="103680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27520" y="3782880"/>
            <a:ext cx="1098720" cy="139860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02240" y="5259240"/>
            <a:ext cx="852480" cy="533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2760" y="5259240"/>
            <a:ext cx="798480" cy="776520"/>
          </a:xfrm>
          <a:prstGeom prst="rect">
            <a:avLst/>
          </a:prstGeom>
          <a:noFill/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378000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3780000"/>
            <a:ext cx="1138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38880" y="5245200"/>
            <a:ext cx="86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19760" y="5262480"/>
            <a:ext cx="792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1440" y="2435400"/>
            <a:ext cx="6483240" cy="9205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596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708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70840" y="3733920"/>
            <a:ext cx="11379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data rate extension in 2.4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468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616120"/>
            <a:ext cx="1676520" cy="536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6932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2E51-33A6-43E4-B89C-6959B727CD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854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WPAN Timeline Compared to Other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60080" y="463716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001000" y="2133720"/>
            <a:ext cx="947520" cy="1018440"/>
            <a:chOff x="8001000" y="2133720"/>
            <a:chExt cx="947520" cy="1018440"/>
          </a:xfrm>
        </p:grpSpPr>
        <p:pic>
          <p:nvPicPr>
            <p:cNvPr id="305" name="802" descr=""/>
            <p:cNvPicPr/>
            <p:nvPr/>
          </p:nvPicPr>
          <p:blipFill>
            <a:blip r:embed="rId3"/>
            <a:stretch/>
          </p:blipFill>
          <p:spPr>
            <a:xfrm>
              <a:off x="8001000" y="2133720"/>
              <a:ext cx="94752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148960" y="284508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2.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3886200" y="2514600"/>
          <a:ext cx="236232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514600"/>
                    <a:ext cx="23623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55008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677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0640" y="5183280"/>
            <a:ext cx="12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73880" y="500688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Draft of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03920" y="518940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5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86364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120-C2F1-4A53-A364-AD5579A9D6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should be written between the two eleph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22096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10800">
            <a:off x="-55800" y="417024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571500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3505320"/>
            <a:ext cx="6553080" cy="2209680"/>
          </a:xfrm>
          <a:custGeom>
            <a:avLst/>
            <a:gdLst/>
            <a:ahLst/>
            <a:rect l="l" t="t" r="r" b="b"/>
            <a:pathLst>
              <a:path w="4128" h="1392">
                <a:moveTo>
                  <a:pt x="0" y="1392"/>
                </a:moveTo>
                <a:cubicBezTo>
                  <a:pt x="516" y="816"/>
                  <a:pt x="1032" y="240"/>
                  <a:pt x="1392" y="144"/>
                </a:cubicBezTo>
                <a:cubicBezTo>
                  <a:pt x="1752" y="48"/>
                  <a:pt x="1904" y="824"/>
                  <a:pt x="2160" y="816"/>
                </a:cubicBezTo>
                <a:cubicBezTo>
                  <a:pt x="2416" y="808"/>
                  <a:pt x="2600" y="0"/>
                  <a:pt x="2928" y="96"/>
                </a:cubicBezTo>
                <a:cubicBezTo>
                  <a:pt x="3256" y="192"/>
                  <a:pt x="3928" y="1176"/>
                  <a:pt x="4128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7600" y="396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3600" y="396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9040" y="3314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75120" y="57913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0200" y="6289560"/>
            <a:ext cx="337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“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pocalypse of the two Elephants”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David Clark, 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36702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97040" y="4389480"/>
            <a:ext cx="1060560" cy="12492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959360" y="4389480"/>
            <a:ext cx="10605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3364560" y="2362320"/>
            <a:ext cx="596880" cy="3517920"/>
            <a:chOff x="3364560" y="2362320"/>
            <a:chExt cx="596880" cy="3517920"/>
          </a:xfrm>
        </p:grpSpPr>
        <p:sp>
          <p:nvSpPr>
            <p:cNvPr id="330" name=""/>
            <p:cNvSpPr/>
            <p:nvPr/>
          </p:nvSpPr>
          <p:spPr>
            <a:xfrm>
              <a:off x="368316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456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964760" y="2362320"/>
            <a:ext cx="596880" cy="3517920"/>
            <a:chOff x="4964760" y="2362320"/>
            <a:chExt cx="596880" cy="3517920"/>
          </a:xfrm>
        </p:grpSpPr>
        <p:sp>
          <p:nvSpPr>
            <p:cNvPr id="333" name=""/>
            <p:cNvSpPr/>
            <p:nvPr/>
          </p:nvSpPr>
          <p:spPr>
            <a:xfrm>
              <a:off x="528336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476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39200" y="2362320"/>
            <a:ext cx="596880" cy="3517920"/>
            <a:chOff x="4039200" y="2362320"/>
            <a:chExt cx="596880" cy="3517920"/>
          </a:xfrm>
        </p:grpSpPr>
        <p:sp>
          <p:nvSpPr>
            <p:cNvPr id="336" name=""/>
            <p:cNvSpPr/>
            <p:nvPr/>
          </p:nvSpPr>
          <p:spPr>
            <a:xfrm>
              <a:off x="4357800" y="2679840"/>
              <a:ext cx="0" cy="3200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9200" y="236232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96F-4BD1-4B23-A793-005E5B5F8F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802.15 Working Group for WPANs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82240" y="1752480"/>
            <a:ext cx="88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ed to develop PAN standards for short distance wireless net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zant of emerging industry specifications and the importance of building on the work of these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ole in providing an open forum to debate these proposals, identify issues, and build consen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create standards having broad market appeal and deal effectively with coexistence and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frame for first standard is November, 2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DD8-BA06-4DB7-AF8D-F45C737DFF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220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EEE 802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ireless Vision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73000" y="171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Bas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Frequency Hopping Spread Spectrum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Direct Sequence Spread Spectrum (2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(1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a 5GHz Extension (&gt;20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2.4GHz Extension (&gt;8Mbit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Wireless Personal Area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6 Broadband Wireless LANs (L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5562720"/>
            <a:ext cx="8610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EEE 802 is the focal point for Wireless LAN standards.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im C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6960" y="6289560"/>
            <a:ext cx="755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Jim Carlo, 802 Chair [JC-802-Consortium.PDF] can be downloaded from the following URL: ftp://ftp.flexipc.com/wearablesgroup/80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10D-2D46-481F-98C4-9D9A82D1AA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5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72E-9278-4D0F-A36A-66466406C9D9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-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060-9267-43FF-8BC7-6923D4F26A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interconnect portable computers and/or devices like peripherals and se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evices may be carried or worn by a person and/or may be located near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/Office computers, printers,  phones, LANs, GPS or other car resources can be connected a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: The N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10CB-B198-4481-A140-4A8EA61FD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res are a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in th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misconn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26E-D846-4775-8074-DD9ECB72EC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9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who carry a watch, pager, cell phone, PDA, and personal stereo have at le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npu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micro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long range communications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972-DBEE-46B7-AD6B-01D32E655A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Probl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necessary Duplication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I/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690-3A2E-4F85-8A5A-A3ABA5C1D4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83808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effective and efficient embedded wireless connectivity for devices within an area of about 10 meters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ea is defined as a Personal Area Network (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N is the next domain in the WAN-MAN-LAN hierarc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ONAL AREA NETWORK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Th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FFA-2336-441B-B796-5BFB16D87E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369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PAN 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79916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um of needs for wireless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ne product which can fill all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of complementar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49200" y="2666880"/>
            <a:ext cx="65739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237348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78960" y="1930320"/>
            <a:ext cx="804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080" y="191628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26920" y="1930320"/>
            <a:ext cx="1073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2362320"/>
            <a:ext cx="0" cy="82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77840" y="1219320"/>
          <a:ext cx="674532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9320"/>
                    <a:ext cx="67453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222960" y="1674720"/>
            <a:ext cx="224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er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267080"/>
            <a:ext cx="24638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performanc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Robert F.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65A-64A5-4C1A-B010-127F366FEC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8:44:56Z</dcterms:created>
  <dc:creator>GTE Internetworking</dc:creator>
  <dc:description>Ian Gifford, M/A-COM</dc:description>
  <dc:language>en-US</dc:language>
  <cp:lastModifiedBy>GTE Internetworking</cp:lastModifiedBy>
  <cp:lastPrinted>1999-04-26T19:47:02Z</cp:lastPrinted>
  <dcterms:modified xsi:type="dcterms:W3CDTF">1999-05-25T18:16:10Z</dcterms:modified>
  <cp:revision>6</cp:revision>
  <dc:subject>doc.: IEEE 802.11-99/055r1</dc:subject>
  <dc:title>802.15 Working Group for  Wireless Personal Area Networks </dc:title>
</cp:coreProperties>
</file>