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C96-33C1-47C2-A174-62F0C90D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A69-49A4-4F02-B41C-5EB202CC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9DF-2206-4BD0-932D-C37C7E94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18F-B2E4-49CF-BC05-03F885FE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324-4934-4358-A9AF-E9C7B7AC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1BC-57A4-45BB-ACFE-99EA5CBC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011-ABDB-4791-9537-BED5FC9C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D19-8C1E-4CF5-ADAE-9AE13B15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973-7BF6-4B83-8E09-9AAF160B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C93-8BC2-43D3-953D-6CAD0C5B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8CD-2679-4569-A7FE-CAF2348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673-2828-43FE-8586-6DF1094D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07FF50-9087-40C7-8764-CD4C0991D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Performance Evaluation Process in a Coexistenc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E07-A74C-4BEA-861F-0C40827A5A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Gener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 that describe the distribution of the message size and interarrival time are derived from the application set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ffic models exist in the literature for voice, data (FTP, HTTP), video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67080" y="3581280"/>
          <a:ext cx="48769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48769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4343400"/>
          <a:ext cx="43434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4343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62485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s from IEEE 802.14/96-083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E576-427B-4C99-8C83-35A540C796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mong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ico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F2F-815A-4C76-A61D-7C9E54F71A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Parameters and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81E6-09E2-403E-8C7E-812C4722C9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Parame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n slo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t schedul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: Flush,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size/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window size (max,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C91-4988-4C44-B540-0F74F56734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elay (mean, variance, P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ransmit a mes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per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collisions per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traffic presented to the network for transmission in 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 bits/s of the successful traffic transmitted excluding MAC and PHY overh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9603-22D7-4195-82C8-DFEB96B5AA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ethodology for MAC coexistence model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major components and provide examples for parameters, user situations, and performance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within each components are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FD7-9B6F-4161-96E9-1D31ACEC10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tart the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on this evalu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3640" y="48769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032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42900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91320" y="4389480"/>
            <a:ext cx="129528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06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017880"/>
            <a:ext cx="1981440" cy="1219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4313160"/>
            <a:ext cx="1981440" cy="1067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685-BF4A-4E98-AFF4-387C8FA83B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erformance levels will lead to different levels of coexis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could mean an “acceptable” performance level to be quantif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C layer coexistence translates into a performance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interfering devices all sharing the 2.45 GHz ISM band on the MAC performa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to evaluate and quantify WPAN MAC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A75-4FFB-432B-ABF1-83E364ACF7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goal of this contribution is to propose a methodology for conducting a performance evaluation of the WPAN MAC in presence of other wireless devices sharing the same ai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ation is to agree on an evaluation process so that simulation/ experimental/ analysis results can be conducted independently by different parties and presented to the IEEE 802.15 S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5FD-CAAB-4816-8709-4CD7CD2A23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erformance Evaluation S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144756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81480"/>
            <a:ext cx="14475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191120"/>
            <a:ext cx="1447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286000"/>
            <a:ext cx="3352680" cy="2362320"/>
          </a:xfrm>
          <a:prstGeom prst="cloudCallout">
            <a:avLst>
              <a:gd name="adj1" fmla="val 23199"/>
              <a:gd name="adj2" fmla="val 320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00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93560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392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4020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4478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0115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46876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92240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379600"/>
            <a:ext cx="14479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389240"/>
            <a:ext cx="14479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465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1998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0512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6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44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a Coexistenc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09680"/>
            <a:ext cx="3581280" cy="3030480"/>
          </a:xfrm>
          <a:custGeom>
            <a:avLst/>
            <a:gdLst/>
            <a:ahLst/>
            <a:rect l="l" t="t" r="r" b="b"/>
            <a:pathLst>
              <a:path w="2496" h="1888">
                <a:moveTo>
                  <a:pt x="0" y="0"/>
                </a:moveTo>
                <a:cubicBezTo>
                  <a:pt x="276" y="172"/>
                  <a:pt x="552" y="344"/>
                  <a:pt x="816" y="624"/>
                </a:cubicBezTo>
                <a:cubicBezTo>
                  <a:pt x="1080" y="904"/>
                  <a:pt x="1304" y="1472"/>
                  <a:pt x="1584" y="1680"/>
                </a:cubicBezTo>
                <a:cubicBezTo>
                  <a:pt x="1864" y="1888"/>
                  <a:pt x="2180" y="1880"/>
                  <a:pt x="2496" y="18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676520"/>
            <a:ext cx="3962520" cy="367020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 performance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1523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dentify  MAC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251460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ke assumptions on the PHY layer (interference/ propagation models) and traff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67E-D51A-417B-BD7A-CF1AE10C6F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Evalu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proces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C layer protocol in a shared environment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g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gener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 lay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860-2E9D-42A6-8063-14AD01120F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er Situations 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less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set/Portabl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case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Synchro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ww.bluetoot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nteract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automati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002-97F7-4DDD-A2FA-FC8DA899D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Service Set (BSS) consists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(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Stations (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sider 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 density p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nsity per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s per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efer to IEEE 802.15-99/073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1F3-5627-46DF-932F-D0DFE7854B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spac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, interactive conf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synchronizer, hea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ituations (anywhere e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22C-5411-4FA9-A076-BDE4E00988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104-B3E2-4465-A43F-3B08E7E7E4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Nada Golmie</cp:lastModifiedBy>
  <cp:lastPrinted>1999-11-04T14:50:30Z</cp:lastPrinted>
  <dcterms:modified xsi:type="dcterms:W3CDTF">1999-11-04T15:04:05Z</dcterms:modified>
  <cp:revision>15</cp:revision>
  <dc:subject>IEEE 802.15 &lt;subject&gt;</dc:subject>
  <dc:title>IEEE P802.15 Working Group for Wireless Personal Area Networks</dc:title>
</cp:coreProperties>
</file>