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257-31E4-45CF-A422-EE1C59A3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262-57FA-413C-B1C7-53F11FA7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9F6-2083-4546-B764-FD0C7D7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D67-8A51-4836-BF81-9105F481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014-5CB5-48A0-9CDC-0F765E95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5C4-FA74-4C65-A068-C926620C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509-BC07-4C35-A202-1C9B4EB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3E0-43B6-455C-8E33-4DDB58F5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DD9-63EC-4BBE-B5B3-EFF240D3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965-7943-4BBA-B456-6DF3096D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E61-8066-4078-B8BE-CDED83D0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B22-D268-47CD-9FE3-579423E5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Cypher, N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E7FA33-5045-4B9C-BB3B-68AEF53BA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reference 802.15-99/114.do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, Interoperability and 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clarifications of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6EA-514E-4803-B5B4-03A28FDFED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rmal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9625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365760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3048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3657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495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895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2514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0"/>
            <a:ext cx="2362320" cy="30481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286000"/>
            <a:ext cx="2362320" cy="3048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2286000"/>
            <a:ext cx="2361960" cy="30481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062-6F9D-4EDE-85DB-981F814061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existence enviro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8128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441972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90512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352680"/>
            <a:ext cx="457200" cy="457200"/>
          </a:xfrm>
          <a:prstGeom prst="ellipse">
            <a:avLst/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51814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809880"/>
            <a:ext cx="53316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220968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3657600"/>
            <a:ext cx="53352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286000"/>
            <a:ext cx="6858000" cy="3505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1600200"/>
            <a:ext cx="3962520" cy="3733920"/>
          </a:xfrm>
          <a:prstGeom prst="ellipse">
            <a:avLst/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981080"/>
            <a:ext cx="5791320" cy="41911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2B37-557E-4BED-BA8B-52A5413A905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ree to finer definitions on coexistence and interoper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erformance criteria to evaluate the protocols/ap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“level of performance” where systems are defined to coex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027-707B-4E30-B16D-BBBDB23738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ireless devices are said to “coexist” if they can be collocated without significantly impacting the performance of any of thes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C1F-CDC3-4295-A1F3-6C5190FC4F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xistence and Interoper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- The ability for two or more systems to exchange information and to mutually use the information that has been ex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- The ability for two systems to perform a given task using a single set of r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F66-1FA2-4475-9ABC-18EA7038F0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rmance/Conformance Testing/Conf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/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Performance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UT, SUT, repeatability,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CE2-C09F-4CA8-AF96-9521041F4E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2743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743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274320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2438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280" y="4495680"/>
            <a:ext cx="4493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onformance Testing (User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nformance Testing (Network side of 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Conformance Testing of NNI (symmetri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a 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b Interworking (UNI to N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Interoperability of TE and Switch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Interoperability of Switch 1 and Switch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24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7432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3136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7480" y="213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09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474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7180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324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4290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72744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36576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516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95680" y="34290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7120" y="3581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1960" y="19051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19051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4120" y="14479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09880" y="1905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1680" y="14479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97180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96252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95680" y="396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191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184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9920" y="4114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F82-30B3-43B6-8D90-920F34A2BA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362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362320"/>
            <a:ext cx="3808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3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7432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3136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748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97180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200400"/>
            <a:ext cx="556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315200" y="297180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0440" y="32004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4724280"/>
            <a:ext cx="106704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724280"/>
            <a:ext cx="106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4724280"/>
            <a:ext cx="3808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4197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562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943600" y="53341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1600" y="5562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0CD-2B7E-407A-9DA6-9FE559F418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ogy (Speech via a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11560" y="276228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124080" y="3581280"/>
            <a:ext cx="381240" cy="3812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362320"/>
            <a:ext cx="2895480" cy="28191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3276720"/>
            <a:ext cx="990360" cy="9903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752480"/>
            <a:ext cx="4114800" cy="4038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1447920"/>
            <a:ext cx="4724280" cy="464796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05740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97180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2286000" cy="22100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19320"/>
            <a:ext cx="5410440" cy="5181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D1E-1E4E-4808-ACEB-77EC299E04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presence of 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1828800"/>
            <a:ext cx="4114800" cy="4038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523880"/>
            <a:ext cx="4724280" cy="46483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295280"/>
            <a:ext cx="5410440" cy="51818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66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CAE-97AE-45AA-B828-27E7CDB237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311560" y="2838600"/>
            <a:ext cx="4519440" cy="346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2438280"/>
            <a:ext cx="2895480" cy="28195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352680"/>
            <a:ext cx="990360" cy="99072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133720"/>
            <a:ext cx="3505320" cy="34290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048120"/>
            <a:ext cx="1676520" cy="160020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743200"/>
            <a:ext cx="2286000" cy="22096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33920" y="2362320"/>
            <a:ext cx="2286000" cy="2209680"/>
            <a:chOff x="3733920" y="2362320"/>
            <a:chExt cx="2286000" cy="2209680"/>
          </a:xfrm>
        </p:grpSpPr>
        <p:sp>
          <p:nvSpPr>
            <p:cNvPr id="179" name=""/>
            <p:cNvSpPr/>
            <p:nvPr/>
          </p:nvSpPr>
          <p:spPr>
            <a:xfrm>
              <a:off x="4724640" y="3276360"/>
              <a:ext cx="380880" cy="3808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2971800"/>
              <a:ext cx="990720" cy="99000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840" y="266688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236232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724280" y="2743200"/>
            <a:ext cx="2286000" cy="2209680"/>
            <a:chOff x="4724280" y="2743200"/>
            <a:chExt cx="2286000" cy="2209680"/>
          </a:xfrm>
        </p:grpSpPr>
        <p:sp>
          <p:nvSpPr>
            <p:cNvPr id="184" name=""/>
            <p:cNvSpPr/>
            <p:nvPr/>
          </p:nvSpPr>
          <p:spPr>
            <a:xfrm>
              <a:off x="5715000" y="3657240"/>
              <a:ext cx="380880" cy="3808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3352680"/>
              <a:ext cx="990720" cy="99000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047760"/>
              <a:ext cx="1676160" cy="159984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24280" y="2743200"/>
              <a:ext cx="2286000" cy="220968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671-EA51-425D-A8D9-C39CC558AB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David Cypher</cp:lastModifiedBy>
  <cp:lastPrinted>1999-11-03T18:52:39Z</cp:lastPrinted>
  <dcterms:modified xsi:type="dcterms:W3CDTF">1999-11-09T20:56:45Z</dcterms:modified>
  <cp:revision>10</cp:revision>
  <dc:subject/>
  <dc:title>No Slide Title</dc:title>
</cp:coreProperties>
</file>