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1.docx" ContentType="application/vnd.openxmlformats-officedocument.wordprocessingml.documen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54.wmf" ContentType="image/x-wmf"/>
  <Override PartName="/ppt/media/image1.wmf" ContentType="image/x-wmf"/>
  <Override PartName="/ppt/media/image31.wmf" ContentType="image/x-wmf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29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13.png" ContentType="image/png"/>
  <Override PartName="/ppt/media/image53.wmf" ContentType="image/x-wmf"/>
  <Override PartName="/ppt/media/image36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4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4.wmf" ContentType="image/x-wmf"/>
  <Override PartName="/ppt/media/image46.wmf" ContentType="image/x-wmf"/>
  <Override PartName="/ppt/media/image47.wmf" ContentType="image/x-wmf"/>
  <Override PartName="/ppt/media/image50.png" ContentType="image/png"/>
  <Override PartName="/ppt/media/image33.wmf" ContentType="image/x-wmf"/>
  <Override PartName="/ppt/media/image52.png" ContentType="image/png"/>
  <Override PartName="/ppt/media/image5.wmf" ContentType="image/x-wmf"/>
  <Override PartName="/ppt/media/image35.wmf" ContentType="image/x-wmf"/>
  <Override PartName="/ppt/media/image43.wmf" ContentType="image/x-wmf"/>
  <Override PartName="/ppt/media/image44.png" ContentType="image/png"/>
  <Override PartName="/ppt/media/image55.wmf" ContentType="image/x-wmf"/>
  <Override PartName="/ppt/media/image32.wmf" ContentType="image/x-wmf"/>
  <Override PartName="/ppt/media/image49.png" ContentType="image/png"/>
  <Override PartName="/ppt/media/image12.png" ContentType="image/png"/>
  <Override PartName="/ppt/media/image7.wmf" ContentType="image/x-wmf"/>
  <Override PartName="/ppt/media/image37.wmf" ContentType="image/x-wmf"/>
  <Override PartName="/ppt/media/image42.wmf" ContentType="image/x-wmf"/>
  <Override PartName="/ppt/media/image9.png" ContentType="image/png"/>
  <Override PartName="/ppt/media/image56.png" ContentType="image/png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0767-4356-46A2-839C-2001B653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EBB0-CDAA-4F8D-B7A1-F7FD7740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025F-9C60-4FF8-AC82-51EF9833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6899-0023-4DCF-AB34-97D91A9F1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0270-EB7E-404A-9DEC-67E4E7EB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D58A-705A-4EEC-B923-7998FA93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AA7C-87B5-4EB4-B073-7030433F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CA1A-A32D-4DA1-A08D-617609C4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FCAA-7833-4155-87BF-91CDB9EB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A11E-9D88-47B6-BAF7-A6AD7E50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76FD-EF98-4DCD-A097-72733587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9AB7-B292-4C93-9AD8-2FA8E53F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Bisdikian-</a:t>
            </a:r>
            <a:fld id="{EC6B8BC1-CCBC-4D68-AAC1-8F19ED1D9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858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485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4.png"/><Relationship Id="rId6" Type="http://schemas.openxmlformats.org/officeDocument/2006/relationships/image" Target="../media/image20.png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2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8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8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9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4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9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43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9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40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41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7.wmf"/><Relationship Id="rId6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image" Target="../media/image51.wmf"/><Relationship Id="rId6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5.wmf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png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9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0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9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1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2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13.png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14.png"/><Relationship Id="rId3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Bluetooth Architecture Overview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r. Chatschik Bisdikian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BM Research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.J. Watson Research Center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Hawthorne, NY 10532, USA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bisdik@us.ibm.com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5092560" y="1270080"/>
            <a:ext cx="2629080" cy="2070000"/>
            <a:chOff x="5092560" y="1270080"/>
            <a:chExt cx="2629080" cy="2070000"/>
          </a:xfrm>
        </p:grpSpPr>
        <p:graphicFrame>
          <p:nvGraphicFramePr>
            <p:cNvPr id="460" name=""/>
            <p:cNvGraphicFramePr/>
            <p:nvPr/>
          </p:nvGraphicFramePr>
          <p:xfrm>
            <a:off x="5952960" y="1728720"/>
            <a:ext cx="1538280" cy="84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52960" y="17287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2" name=""/>
            <p:cNvGraphicFramePr/>
            <p:nvPr/>
          </p:nvGraphicFramePr>
          <p:xfrm>
            <a:off x="5900760" y="236232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00760" y="23623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4" name=""/>
            <p:cNvSpPr/>
            <p:nvPr/>
          </p:nvSpPr>
          <p:spPr>
            <a:xfrm>
              <a:off x="5092560" y="127008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5" name=""/>
            <p:cNvGraphicFramePr/>
            <p:nvPr/>
          </p:nvGraphicFramePr>
          <p:xfrm>
            <a:off x="6183360" y="2490840"/>
            <a:ext cx="1538280" cy="849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83360" y="249084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7" name=""/>
            <p:cNvGraphicFramePr/>
            <p:nvPr/>
          </p:nvGraphicFramePr>
          <p:xfrm>
            <a:off x="6157800" y="160020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6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57800" y="16002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69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1" name="" descr=""/>
          <p:cNvPicPr/>
          <p:nvPr/>
        </p:nvPicPr>
        <p:blipFill>
          <a:blip r:embed="rId11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12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3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ynchronization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imity synchroniz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ily maintained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information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EA59-33EE-43C4-97DD-1E996067022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6637320" y="263520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2324160" y="5745240"/>
            <a:ext cx="44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ireless Freedo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591240" y="1143000"/>
            <a:ext cx="1524240" cy="1365120"/>
          </a:xfrm>
          <a:prstGeom prst="rect">
            <a:avLst/>
          </a:prstGeom>
          <a:ln w="0">
            <a:noFill/>
          </a:ln>
        </p:spPr>
      </p:pic>
      <p:grpSp>
        <p:nvGrpSpPr>
          <p:cNvPr id="480" name=""/>
          <p:cNvGrpSpPr/>
          <p:nvPr/>
        </p:nvGrpSpPr>
        <p:grpSpPr>
          <a:xfrm>
            <a:off x="4280040" y="1397160"/>
            <a:ext cx="2628720" cy="2070000"/>
            <a:chOff x="4280040" y="1397160"/>
            <a:chExt cx="2628720" cy="2070000"/>
          </a:xfrm>
        </p:grpSpPr>
        <p:graphicFrame>
          <p:nvGraphicFramePr>
            <p:cNvPr id="481" name=""/>
            <p:cNvGraphicFramePr/>
            <p:nvPr/>
          </p:nvGraphicFramePr>
          <p:xfrm>
            <a:off x="5140440" y="185580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40440" y="18558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3" name=""/>
            <p:cNvGraphicFramePr/>
            <p:nvPr/>
          </p:nvGraphicFramePr>
          <p:xfrm>
            <a:off x="5087880" y="2489040"/>
            <a:ext cx="1538280" cy="849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87880" y="2489040"/>
                      <a:ext cx="1538280" cy="84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5" name=""/>
            <p:cNvSpPr/>
            <p:nvPr/>
          </p:nvSpPr>
          <p:spPr>
            <a:xfrm>
              <a:off x="4280040" y="139716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6" name=""/>
            <p:cNvGraphicFramePr/>
            <p:nvPr/>
          </p:nvGraphicFramePr>
          <p:xfrm>
            <a:off x="5370480" y="261792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8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70480" y="26179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8" name=""/>
            <p:cNvGraphicFramePr/>
            <p:nvPr/>
          </p:nvGraphicFramePr>
          <p:xfrm>
            <a:off x="5345280" y="1727280"/>
            <a:ext cx="1538280" cy="849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45280" y="172728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90" name="photo16" descr=""/>
          <p:cNvPicPr/>
          <p:nvPr/>
        </p:nvPicPr>
        <p:blipFill>
          <a:blip r:embed="rId11"/>
          <a:stretch/>
        </p:blipFill>
        <p:spPr>
          <a:xfrm>
            <a:off x="838080" y="1346040"/>
            <a:ext cx="1828800" cy="1828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491" name=""/>
          <p:cNvGrpSpPr/>
          <p:nvPr/>
        </p:nvGrpSpPr>
        <p:grpSpPr>
          <a:xfrm>
            <a:off x="3886200" y="1879560"/>
            <a:ext cx="1552680" cy="1488960"/>
            <a:chOff x="3886200" y="1879560"/>
            <a:chExt cx="1552680" cy="1488960"/>
          </a:xfrm>
        </p:grpSpPr>
        <p:pic>
          <p:nvPicPr>
            <p:cNvPr id="492" name="Headset" descr=""/>
            <p:cNvPicPr/>
            <p:nvPr/>
          </p:nvPicPr>
          <p:blipFill>
            <a:blip r:embed="rId12"/>
            <a:stretch/>
          </p:blipFill>
          <p:spPr>
            <a:xfrm>
              <a:off x="3886200" y="1879560"/>
              <a:ext cx="14670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981680" y="3139920"/>
              <a:ext cx="457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Headse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ple device access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rdless phone benefi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nd’s free oper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D157-7965-4946-8062-B34FA60E9E3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838080" y="1104840"/>
            <a:ext cx="1828800" cy="177804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497" name="globe3" descr=""/>
          <p:cNvPicPr/>
          <p:nvPr/>
        </p:nvPicPr>
        <p:blipFill>
          <a:blip r:embed="rId2"/>
          <a:srcRect l="13639" t="0" r="12661" b="0"/>
          <a:stretch/>
        </p:blipFill>
        <p:spPr>
          <a:xfrm>
            <a:off x="6959520" y="914400"/>
            <a:ext cx="1406520" cy="1521000"/>
          </a:xfrm>
          <a:prstGeom prst="rect">
            <a:avLst/>
          </a:prstGeom>
          <a:ln w="0">
            <a:noFill/>
          </a:ln>
        </p:spPr>
      </p:pic>
      <p:grpSp>
        <p:nvGrpSpPr>
          <p:cNvPr id="498" name=""/>
          <p:cNvGrpSpPr/>
          <p:nvPr/>
        </p:nvGrpSpPr>
        <p:grpSpPr>
          <a:xfrm>
            <a:off x="3940200" y="2441520"/>
            <a:ext cx="4460760" cy="1521000"/>
            <a:chOff x="3940200" y="2441520"/>
            <a:chExt cx="4460760" cy="1521000"/>
          </a:xfrm>
        </p:grpSpPr>
        <p:pic>
          <p:nvPicPr>
            <p:cNvPr id="499" name="" descr=""/>
            <p:cNvPicPr/>
            <p:nvPr/>
          </p:nvPicPr>
          <p:blipFill>
            <a:blip r:embed="rId3"/>
            <a:stretch/>
          </p:blipFill>
          <p:spPr>
            <a:xfrm>
              <a:off x="5327640" y="2532240"/>
              <a:ext cx="957240" cy="120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0" name=""/>
            <p:cNvGrpSpPr/>
            <p:nvPr/>
          </p:nvGrpSpPr>
          <p:grpSpPr>
            <a:xfrm>
              <a:off x="6117480" y="2944800"/>
              <a:ext cx="919080" cy="477360"/>
              <a:chOff x="6117480" y="2944800"/>
              <a:chExt cx="919080" cy="477360"/>
            </a:xfrm>
          </p:grpSpPr>
          <p:sp>
            <p:nvSpPr>
              <p:cNvPr id="501" name=""/>
              <p:cNvSpPr/>
              <p:nvPr/>
            </p:nvSpPr>
            <p:spPr>
              <a:xfrm>
                <a:off x="6117480" y="304884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269040" y="3021480"/>
                <a:ext cx="302400" cy="323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421680" y="2982960"/>
                <a:ext cx="376560" cy="40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588720" y="2944800"/>
                <a:ext cx="447840" cy="47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4407840" y="2952720"/>
              <a:ext cx="919080" cy="479160"/>
              <a:chOff x="4407840" y="2952720"/>
              <a:chExt cx="919080" cy="479160"/>
            </a:xfrm>
          </p:grpSpPr>
          <p:sp>
            <p:nvSpPr>
              <p:cNvPr id="506" name=""/>
              <p:cNvSpPr/>
              <p:nvPr/>
            </p:nvSpPr>
            <p:spPr>
              <a:xfrm>
                <a:off x="4407840" y="3057120"/>
                <a:ext cx="252000" cy="27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59400" y="3029760"/>
                <a:ext cx="30240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712040" y="2991240"/>
                <a:ext cx="376560" cy="40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879080" y="2952720"/>
                <a:ext cx="44784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3940200" y="2671920"/>
              <a:ext cx="860400" cy="1054080"/>
              <a:chOff x="3940200" y="2671920"/>
              <a:chExt cx="860400" cy="1054080"/>
            </a:xfrm>
          </p:grpSpPr>
          <p:sp>
            <p:nvSpPr>
              <p:cNvPr id="511" name=""/>
              <p:cNvSpPr/>
              <p:nvPr/>
            </p:nvSpPr>
            <p:spPr>
              <a:xfrm rot="20846400">
                <a:off x="4006080" y="2741760"/>
                <a:ext cx="529200" cy="491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2" name="tosh500" descr=""/>
              <p:cNvPicPr/>
              <p:nvPr/>
            </p:nvPicPr>
            <p:blipFill>
              <a:blip r:embed="rId4"/>
              <a:stretch/>
            </p:blipFill>
            <p:spPr>
              <a:xfrm>
                <a:off x="3940200" y="2671920"/>
                <a:ext cx="860400" cy="1054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13" name="globe3" descr=""/>
            <p:cNvPicPr/>
            <p:nvPr/>
          </p:nvPicPr>
          <p:blipFill>
            <a:blip r:embed="rId5"/>
            <a:srcRect l="13639" t="0" r="12661" b="0"/>
            <a:stretch/>
          </p:blipFill>
          <p:spPr>
            <a:xfrm>
              <a:off x="6994440" y="2441520"/>
              <a:ext cx="1406520" cy="15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4" name="" descr=""/>
          <p:cNvPicPr/>
          <p:nvPr/>
        </p:nvPicPr>
        <p:blipFill>
          <a:blip r:embed="rId6"/>
          <a:stretch/>
        </p:blipFill>
        <p:spPr>
          <a:xfrm>
            <a:off x="3481560" y="1195560"/>
            <a:ext cx="1152360" cy="1096920"/>
          </a:xfrm>
          <a:prstGeom prst="rect">
            <a:avLst/>
          </a:prstGeom>
          <a:ln w="0">
            <a:noFill/>
          </a:ln>
        </p:spPr>
      </p:pic>
      <p:grpSp>
        <p:nvGrpSpPr>
          <p:cNvPr id="515" name=""/>
          <p:cNvGrpSpPr/>
          <p:nvPr/>
        </p:nvGrpSpPr>
        <p:grpSpPr>
          <a:xfrm>
            <a:off x="4338000" y="1036800"/>
            <a:ext cx="2643120" cy="988560"/>
            <a:chOff x="4338000" y="1036800"/>
            <a:chExt cx="2643120" cy="988560"/>
          </a:xfrm>
        </p:grpSpPr>
        <p:pic>
          <p:nvPicPr>
            <p:cNvPr id="516" name="" descr=""/>
            <p:cNvPicPr/>
            <p:nvPr/>
          </p:nvPicPr>
          <p:blipFill>
            <a:blip r:embed="rId7"/>
            <a:stretch/>
          </p:blipFill>
          <p:spPr>
            <a:xfrm>
              <a:off x="5351400" y="1547640"/>
              <a:ext cx="973080" cy="41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"/>
            <p:cNvGrpSpPr/>
            <p:nvPr/>
          </p:nvGrpSpPr>
          <p:grpSpPr>
            <a:xfrm>
              <a:off x="4338000" y="1547640"/>
              <a:ext cx="919080" cy="477720"/>
              <a:chOff x="4338000" y="1547640"/>
              <a:chExt cx="919080" cy="477720"/>
            </a:xfrm>
          </p:grpSpPr>
          <p:sp>
            <p:nvSpPr>
              <p:cNvPr id="518" name=""/>
              <p:cNvSpPr/>
              <p:nvPr/>
            </p:nvSpPr>
            <p:spPr>
              <a:xfrm>
                <a:off x="4338000" y="165168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489560" y="1624680"/>
                <a:ext cx="302400" cy="32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642200" y="1586160"/>
                <a:ext cx="376560" cy="40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809240" y="1547640"/>
                <a:ext cx="447840" cy="47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4964040" y="1036800"/>
              <a:ext cx="16336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PSTN, ISDN,</a:t>
              </a:r>
              <a:br>
                <a:rPr sz="1200"/>
              </a:b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LAN, WAN, x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6062040" y="1547640"/>
              <a:ext cx="919080" cy="477720"/>
              <a:chOff x="6062040" y="1547640"/>
              <a:chExt cx="919080" cy="477720"/>
            </a:xfrm>
          </p:grpSpPr>
          <p:sp>
            <p:nvSpPr>
              <p:cNvPr id="524" name=""/>
              <p:cNvSpPr/>
              <p:nvPr/>
            </p:nvSpPr>
            <p:spPr>
              <a:xfrm>
                <a:off x="6062040" y="165168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13600" y="1624680"/>
                <a:ext cx="302400" cy="32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366240" y="1586160"/>
                <a:ext cx="376560" cy="40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533280" y="1547640"/>
                <a:ext cx="447840" cy="47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8" name=""/>
          <p:cNvSpPr/>
          <p:nvPr/>
        </p:nvSpPr>
        <p:spPr>
          <a:xfrm>
            <a:off x="990720" y="56689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mote Connection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Data access poi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35049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 more connectors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y internet acces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connection experien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9E9D-217E-45A9-8AA7-8F828583583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2133720" y="5367240"/>
            <a:ext cx="2898720" cy="4240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133720" y="4846680"/>
            <a:ext cx="2898720" cy="4554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133720" y="3868560"/>
            <a:ext cx="709560" cy="91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01960" y="4357800"/>
            <a:ext cx="2130480" cy="42372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901960" y="3868560"/>
            <a:ext cx="1360440" cy="42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133720" y="256716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133720" y="204480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06720" y="204480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613320" y="204480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440240" y="204480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1523880"/>
            <a:ext cx="3786120" cy="4240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318840" y="29574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17809800">
            <a:off x="4582440" y="29772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rchitectural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5486400" y="3733920"/>
            <a:ext cx="426960" cy="1828800"/>
          </a:xfrm>
          <a:custGeom>
            <a:avLst/>
            <a:gdLst>
              <a:gd name="textAreaLeft" fmla="*/ 0 w 426960"/>
              <a:gd name="textAreaRight" fmla="*/ 154080 w 4269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19920" y="429732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ver mostly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CC86-7488-49CB-A85D-21ED6FA6563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Radio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equency synthesis: frequency hopping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.402 + k MHz, k=0, …, 78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,600 hops per secon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version bits into symbols: modul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FSK (BT = 0.5; 0.28 &lt; h &lt; 0.35);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MSymbols/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nsmit pow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 dbm (up to 20dbm with power control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ceiver sensitivit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70dBm @ 0.1% BE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8880-A451-45A8-92DD-532E1BFAAD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"/>
          <p:cNvGrpSpPr/>
          <p:nvPr/>
        </p:nvGrpSpPr>
        <p:grpSpPr>
          <a:xfrm>
            <a:off x="6095520" y="1447920"/>
            <a:ext cx="2586240" cy="4267080"/>
            <a:chOff x="6095520" y="1447920"/>
            <a:chExt cx="2586240" cy="4267080"/>
          </a:xfrm>
        </p:grpSpPr>
        <p:sp>
          <p:nvSpPr>
            <p:cNvPr id="550" name=""/>
            <p:cNvSpPr/>
            <p:nvPr/>
          </p:nvSpPr>
          <p:spPr>
            <a:xfrm rot="5400000">
              <a:off x="6009480" y="3042720"/>
              <a:ext cx="2776680" cy="2567520"/>
            </a:xfrm>
            <a:prstGeom prst="ellipse">
              <a:avLst/>
            </a:prstGeom>
            <a:solidFill>
              <a:srgbClr val="f02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5400000">
              <a:off x="6149520" y="1393560"/>
              <a:ext cx="2458800" cy="25671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7207560" y="2104920"/>
              <a:ext cx="537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6935760" y="4922640"/>
              <a:ext cx="822960" cy="2876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05800" y="3240000"/>
              <a:ext cx="986760" cy="1542960"/>
            </a:xfrm>
            <a:prstGeom prst="line">
              <a:avLst/>
            </a:prstGeom>
            <a:ln w="270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6893280" y="2181240"/>
              <a:ext cx="874080" cy="831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900560" y="2231280"/>
              <a:ext cx="214200" cy="762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5400000">
              <a:off x="7754040" y="4744080"/>
              <a:ext cx="252360" cy="266400"/>
            </a:xfrm>
            <a:custGeom>
              <a:avLst/>
              <a:gdLst/>
              <a:ahLst/>
              <a:rect l="l" t="t" r="r" b="b"/>
              <a:pathLst>
                <a:path w="319" h="317">
                  <a:moveTo>
                    <a:pt x="0" y="158"/>
                  </a:moveTo>
                  <a:lnTo>
                    <a:pt x="3" y="131"/>
                  </a:lnTo>
                  <a:lnTo>
                    <a:pt x="11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8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60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9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7" y="79"/>
                  </a:lnTo>
                  <a:lnTo>
                    <a:pt x="309" y="104"/>
                  </a:lnTo>
                  <a:lnTo>
                    <a:pt x="316" y="131"/>
                  </a:lnTo>
                  <a:lnTo>
                    <a:pt x="319" y="158"/>
                  </a:lnTo>
                  <a:lnTo>
                    <a:pt x="316" y="186"/>
                  </a:lnTo>
                  <a:lnTo>
                    <a:pt x="309" y="213"/>
                  </a:lnTo>
                  <a:lnTo>
                    <a:pt x="297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9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60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8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1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13440" y="47862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5400000">
              <a:off x="775404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8"/>
                  </a:moveTo>
                  <a:lnTo>
                    <a:pt x="3" y="131"/>
                  </a:lnTo>
                  <a:lnTo>
                    <a:pt x="10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7" y="37"/>
                  </a:lnTo>
                  <a:lnTo>
                    <a:pt x="79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6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7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11640" y="20145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5400000">
              <a:off x="801972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8"/>
                  </a:lnTo>
                  <a:lnTo>
                    <a:pt x="280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5"/>
                  </a:lnTo>
                  <a:lnTo>
                    <a:pt x="159" y="318"/>
                  </a:lnTo>
                  <a:lnTo>
                    <a:pt x="131" y="315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092080" y="3022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5400000">
              <a:off x="668016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22280" y="3036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5400000">
              <a:off x="6680880" y="5122080"/>
              <a:ext cx="25092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7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4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6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6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4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7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51080" y="5165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5400000">
              <a:off x="694908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9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1"/>
                  </a:lnTo>
                  <a:lnTo>
                    <a:pt x="317" y="159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1"/>
                  </a:lnTo>
                  <a:lnTo>
                    <a:pt x="261" y="280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9" y="317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7" y="280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019280" y="2014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5400000">
              <a:off x="7819920" y="4037400"/>
              <a:ext cx="250920" cy="26856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59"/>
                  </a:moveTo>
                  <a:lnTo>
                    <a:pt x="2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0" y="3"/>
                  </a:lnTo>
                  <a:lnTo>
                    <a:pt x="158" y="0"/>
                  </a:lnTo>
                  <a:lnTo>
                    <a:pt x="185" y="3"/>
                  </a:lnTo>
                  <a:lnTo>
                    <a:pt x="212" y="10"/>
                  </a:lnTo>
                  <a:lnTo>
                    <a:pt x="238" y="22"/>
                  </a:lnTo>
                  <a:lnTo>
                    <a:pt x="260" y="38"/>
                  </a:lnTo>
                  <a:lnTo>
                    <a:pt x="279" y="58"/>
                  </a:lnTo>
                  <a:lnTo>
                    <a:pt x="295" y="80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59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5" y="240"/>
                  </a:lnTo>
                  <a:lnTo>
                    <a:pt x="279" y="261"/>
                  </a:lnTo>
                  <a:lnTo>
                    <a:pt x="260" y="281"/>
                  </a:lnTo>
                  <a:lnTo>
                    <a:pt x="238" y="297"/>
                  </a:lnTo>
                  <a:lnTo>
                    <a:pt x="212" y="308"/>
                  </a:lnTo>
                  <a:lnTo>
                    <a:pt x="185" y="316"/>
                  </a:lnTo>
                  <a:lnTo>
                    <a:pt x="158" y="319"/>
                  </a:lnTo>
                  <a:lnTo>
                    <a:pt x="130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6" y="281"/>
                  </a:lnTo>
                  <a:lnTo>
                    <a:pt x="36" y="261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2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90840" y="4081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5400000">
              <a:off x="7404480" y="2902680"/>
              <a:ext cx="252720" cy="269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60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1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1"/>
                  </a:lnTo>
                  <a:lnTo>
                    <a:pt x="130" y="3"/>
                  </a:lnTo>
                  <a:lnTo>
                    <a:pt x="159" y="0"/>
                  </a:lnTo>
                  <a:lnTo>
                    <a:pt x="185" y="3"/>
                  </a:lnTo>
                  <a:lnTo>
                    <a:pt x="212" y="11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79" y="58"/>
                  </a:lnTo>
                  <a:lnTo>
                    <a:pt x="296" y="81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60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6" y="240"/>
                  </a:lnTo>
                  <a:lnTo>
                    <a:pt x="279" y="263"/>
                  </a:lnTo>
                  <a:lnTo>
                    <a:pt x="261" y="282"/>
                  </a:lnTo>
                  <a:lnTo>
                    <a:pt x="238" y="298"/>
                  </a:lnTo>
                  <a:lnTo>
                    <a:pt x="212" y="310"/>
                  </a:lnTo>
                  <a:lnTo>
                    <a:pt x="185" y="316"/>
                  </a:lnTo>
                  <a:lnTo>
                    <a:pt x="159" y="319"/>
                  </a:lnTo>
                  <a:lnTo>
                    <a:pt x="130" y="316"/>
                  </a:lnTo>
                  <a:lnTo>
                    <a:pt x="105" y="310"/>
                  </a:lnTo>
                  <a:lnTo>
                    <a:pt x="79" y="298"/>
                  </a:lnTo>
                  <a:lnTo>
                    <a:pt x="56" y="282"/>
                  </a:lnTo>
                  <a:lnTo>
                    <a:pt x="36" y="263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442280" y="29462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5400000">
              <a:off x="6827040" y="4352760"/>
              <a:ext cx="252720" cy="26856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6" y="131"/>
                  </a:lnTo>
                  <a:lnTo>
                    <a:pt x="317" y="158"/>
                  </a:lnTo>
                  <a:lnTo>
                    <a:pt x="316" y="187"/>
                  </a:lnTo>
                  <a:lnTo>
                    <a:pt x="308" y="213"/>
                  </a:lnTo>
                  <a:lnTo>
                    <a:pt x="296" y="239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8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67000" y="439560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5400000">
              <a:off x="7391880" y="3722400"/>
              <a:ext cx="250920" cy="27000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2" y="131"/>
                  </a:lnTo>
                  <a:lnTo>
                    <a:pt x="10" y="104"/>
                  </a:lnTo>
                  <a:lnTo>
                    <a:pt x="20" y="79"/>
                  </a:lnTo>
                  <a:lnTo>
                    <a:pt x="36" y="56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4" y="9"/>
                  </a:lnTo>
                  <a:lnTo>
                    <a:pt x="131" y="2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3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0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0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3" y="308"/>
                  </a:lnTo>
                  <a:lnTo>
                    <a:pt x="186" y="316"/>
                  </a:lnTo>
                  <a:lnTo>
                    <a:pt x="159" y="318"/>
                  </a:lnTo>
                  <a:lnTo>
                    <a:pt x="131" y="316"/>
                  </a:lnTo>
                  <a:lnTo>
                    <a:pt x="104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6" y="260"/>
                  </a:lnTo>
                  <a:lnTo>
                    <a:pt x="20" y="238"/>
                  </a:lnTo>
                  <a:lnTo>
                    <a:pt x="10" y="213"/>
                  </a:lnTo>
                  <a:lnTo>
                    <a:pt x="2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463160" y="3767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5400000">
              <a:off x="6734880" y="2337480"/>
              <a:ext cx="252360" cy="26640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7" y="57"/>
                  </a:lnTo>
                  <a:lnTo>
                    <a:pt x="58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8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7" y="80"/>
                  </a:lnTo>
                  <a:lnTo>
                    <a:pt x="308" y="105"/>
                  </a:lnTo>
                  <a:lnTo>
                    <a:pt x="316" y="132"/>
                  </a:lnTo>
                  <a:lnTo>
                    <a:pt x="318" y="159"/>
                  </a:lnTo>
                  <a:lnTo>
                    <a:pt x="316" y="187"/>
                  </a:lnTo>
                  <a:lnTo>
                    <a:pt x="308" y="214"/>
                  </a:lnTo>
                  <a:lnTo>
                    <a:pt x="297" y="238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8" y="318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8" y="281"/>
                  </a:lnTo>
                  <a:lnTo>
                    <a:pt x="37" y="261"/>
                  </a:lnTo>
                  <a:lnTo>
                    <a:pt x="21" y="238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805080" y="23940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network topolog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5410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dio design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ed radios can be master or  slav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dios are symmetric (same radio can be master or slav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cone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ster can connect to 7 simultaneous or 200+ active slaves per pico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ach piconet has maximum capacity (1 MSp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que hopping pattern/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tterne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gh capacity syste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nimal impact with up to 10 piconets within rang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dios can share piconets!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1499-E200-485E-8B81-A9CF80A3E54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picone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7640640" y="4191120"/>
          <a:ext cx="436680" cy="2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40640" y="41911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7658280" y="4457880"/>
          <a:ext cx="399960" cy="37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58280" y="4457880"/>
                    <a:ext cx="399960" cy="37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7661160" y="5791320"/>
          <a:ext cx="39528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61160" y="579132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7300800" y="5486400"/>
            <a:ext cx="1157400" cy="395280"/>
            <a:chOff x="7300800" y="5486400"/>
            <a:chExt cx="1157400" cy="395280"/>
          </a:xfrm>
        </p:grpSpPr>
        <p:graphicFrame>
          <p:nvGraphicFramePr>
            <p:cNvPr id="589" name=""/>
            <p:cNvGraphicFramePr/>
            <p:nvPr/>
          </p:nvGraphicFramePr>
          <p:xfrm>
            <a:off x="7300800" y="5486400"/>
            <a:ext cx="395280" cy="395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00800" y="54864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1" name=""/>
            <p:cNvGraphicFramePr/>
            <p:nvPr/>
          </p:nvGraphicFramePr>
          <p:xfrm>
            <a:off x="8062920" y="5486400"/>
            <a:ext cx="395280" cy="395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9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062920" y="54864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3" name=""/>
            <p:cNvSpPr/>
            <p:nvPr/>
          </p:nvSpPr>
          <p:spPr>
            <a:xfrm>
              <a:off x="7682040" y="5486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94" name=""/>
          <p:cNvGraphicFramePr/>
          <p:nvPr/>
        </p:nvGraphicFramePr>
        <p:xfrm>
          <a:off x="7661160" y="4822920"/>
          <a:ext cx="395280" cy="395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61160" y="482292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"/>
          <p:cNvSpPr/>
          <p:nvPr/>
        </p:nvSpPr>
        <p:spPr>
          <a:xfrm>
            <a:off x="457200" y="457200"/>
            <a:ext cx="2913120" cy="286056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087560" y="1352520"/>
            <a:ext cx="320400" cy="298440"/>
          </a:xfrm>
          <a:custGeom>
            <a:avLst/>
            <a:gdLst/>
            <a:ahLst/>
            <a:rect l="l" t="t" r="r" b="b"/>
            <a:pathLst>
              <a:path w="403" h="376">
                <a:moveTo>
                  <a:pt x="0" y="188"/>
                </a:moveTo>
                <a:lnTo>
                  <a:pt x="3" y="156"/>
                </a:lnTo>
                <a:lnTo>
                  <a:pt x="11" y="124"/>
                </a:lnTo>
                <a:lnTo>
                  <a:pt x="27" y="94"/>
                </a:lnTo>
                <a:lnTo>
                  <a:pt x="47" y="67"/>
                </a:lnTo>
                <a:lnTo>
                  <a:pt x="71" y="44"/>
                </a:lnTo>
                <a:lnTo>
                  <a:pt x="100" y="25"/>
                </a:lnTo>
                <a:lnTo>
                  <a:pt x="133" y="11"/>
                </a:lnTo>
                <a:lnTo>
                  <a:pt x="167" y="3"/>
                </a:lnTo>
                <a:lnTo>
                  <a:pt x="201" y="0"/>
                </a:lnTo>
                <a:lnTo>
                  <a:pt x="237" y="3"/>
                </a:lnTo>
                <a:lnTo>
                  <a:pt x="271" y="11"/>
                </a:lnTo>
                <a:lnTo>
                  <a:pt x="302" y="25"/>
                </a:lnTo>
                <a:lnTo>
                  <a:pt x="331" y="44"/>
                </a:lnTo>
                <a:lnTo>
                  <a:pt x="357" y="67"/>
                </a:lnTo>
                <a:lnTo>
                  <a:pt x="376" y="94"/>
                </a:lnTo>
                <a:lnTo>
                  <a:pt x="391" y="124"/>
                </a:lnTo>
                <a:lnTo>
                  <a:pt x="400" y="156"/>
                </a:lnTo>
                <a:lnTo>
                  <a:pt x="403" y="188"/>
                </a:lnTo>
                <a:lnTo>
                  <a:pt x="400" y="221"/>
                </a:lnTo>
                <a:lnTo>
                  <a:pt x="391" y="253"/>
                </a:lnTo>
                <a:lnTo>
                  <a:pt x="376" y="282"/>
                </a:lnTo>
                <a:lnTo>
                  <a:pt x="357" y="309"/>
                </a:lnTo>
                <a:lnTo>
                  <a:pt x="331" y="333"/>
                </a:lnTo>
                <a:lnTo>
                  <a:pt x="302" y="352"/>
                </a:lnTo>
                <a:lnTo>
                  <a:pt x="271" y="365"/>
                </a:lnTo>
                <a:lnTo>
                  <a:pt x="237" y="375"/>
                </a:lnTo>
                <a:lnTo>
                  <a:pt x="201" y="376"/>
                </a:lnTo>
                <a:lnTo>
                  <a:pt x="167" y="375"/>
                </a:lnTo>
                <a:lnTo>
                  <a:pt x="133" y="365"/>
                </a:lnTo>
                <a:lnTo>
                  <a:pt x="100" y="352"/>
                </a:lnTo>
                <a:lnTo>
                  <a:pt x="71" y="333"/>
                </a:lnTo>
                <a:lnTo>
                  <a:pt x="47" y="309"/>
                </a:lnTo>
                <a:lnTo>
                  <a:pt x="27" y="282"/>
                </a:lnTo>
                <a:lnTo>
                  <a:pt x="11" y="253"/>
                </a:lnTo>
                <a:lnTo>
                  <a:pt x="3" y="221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234800" y="1425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370240" y="1054080"/>
            <a:ext cx="320400" cy="298440"/>
          </a:xfrm>
          <a:custGeom>
            <a:avLst/>
            <a:gdLst/>
            <a:ahLst/>
            <a:rect l="l" t="t" r="r" b="b"/>
            <a:pathLst>
              <a:path w="403" h="377">
                <a:moveTo>
                  <a:pt x="0" y="188"/>
                </a:moveTo>
                <a:lnTo>
                  <a:pt x="3" y="156"/>
                </a:lnTo>
                <a:lnTo>
                  <a:pt x="12" y="125"/>
                </a:lnTo>
                <a:lnTo>
                  <a:pt x="27" y="94"/>
                </a:lnTo>
                <a:lnTo>
                  <a:pt x="48" y="67"/>
                </a:lnTo>
                <a:lnTo>
                  <a:pt x="72" y="45"/>
                </a:lnTo>
                <a:lnTo>
                  <a:pt x="101" y="26"/>
                </a:lnTo>
                <a:lnTo>
                  <a:pt x="133" y="11"/>
                </a:lnTo>
                <a:lnTo>
                  <a:pt x="166" y="3"/>
                </a:lnTo>
                <a:lnTo>
                  <a:pt x="202" y="0"/>
                </a:lnTo>
                <a:lnTo>
                  <a:pt x="237" y="3"/>
                </a:lnTo>
                <a:lnTo>
                  <a:pt x="270" y="11"/>
                </a:lnTo>
                <a:lnTo>
                  <a:pt x="302" y="26"/>
                </a:lnTo>
                <a:lnTo>
                  <a:pt x="332" y="45"/>
                </a:lnTo>
                <a:lnTo>
                  <a:pt x="355" y="67"/>
                </a:lnTo>
                <a:lnTo>
                  <a:pt x="376" y="94"/>
                </a:lnTo>
                <a:lnTo>
                  <a:pt x="391" y="125"/>
                </a:lnTo>
                <a:lnTo>
                  <a:pt x="400" y="156"/>
                </a:lnTo>
                <a:lnTo>
                  <a:pt x="403" y="188"/>
                </a:lnTo>
                <a:lnTo>
                  <a:pt x="400" y="222"/>
                </a:lnTo>
                <a:lnTo>
                  <a:pt x="391" y="254"/>
                </a:lnTo>
                <a:lnTo>
                  <a:pt x="376" y="283"/>
                </a:lnTo>
                <a:lnTo>
                  <a:pt x="355" y="310"/>
                </a:lnTo>
                <a:lnTo>
                  <a:pt x="332" y="334"/>
                </a:lnTo>
                <a:lnTo>
                  <a:pt x="302" y="351"/>
                </a:lnTo>
                <a:lnTo>
                  <a:pt x="270" y="365"/>
                </a:lnTo>
                <a:lnTo>
                  <a:pt x="237" y="373"/>
                </a:lnTo>
                <a:lnTo>
                  <a:pt x="202" y="377"/>
                </a:lnTo>
                <a:lnTo>
                  <a:pt x="166" y="373"/>
                </a:lnTo>
                <a:lnTo>
                  <a:pt x="133" y="365"/>
                </a:lnTo>
                <a:lnTo>
                  <a:pt x="101" y="351"/>
                </a:lnTo>
                <a:lnTo>
                  <a:pt x="72" y="334"/>
                </a:lnTo>
                <a:lnTo>
                  <a:pt x="48" y="310"/>
                </a:lnTo>
                <a:lnTo>
                  <a:pt x="27" y="283"/>
                </a:lnTo>
                <a:lnTo>
                  <a:pt x="12" y="254"/>
                </a:lnTo>
                <a:lnTo>
                  <a:pt x="3" y="222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14240" y="11271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370240" y="2549520"/>
            <a:ext cx="320400" cy="298440"/>
          </a:xfrm>
          <a:custGeom>
            <a:avLst/>
            <a:gdLst/>
            <a:ahLst/>
            <a:rect l="l" t="t" r="r" b="b"/>
            <a:pathLst>
              <a:path w="403" h="377">
                <a:moveTo>
                  <a:pt x="0" y="188"/>
                </a:moveTo>
                <a:lnTo>
                  <a:pt x="3" y="156"/>
                </a:lnTo>
                <a:lnTo>
                  <a:pt x="12" y="125"/>
                </a:lnTo>
                <a:lnTo>
                  <a:pt x="27" y="94"/>
                </a:lnTo>
                <a:lnTo>
                  <a:pt x="48" y="67"/>
                </a:lnTo>
                <a:lnTo>
                  <a:pt x="72" y="45"/>
                </a:lnTo>
                <a:lnTo>
                  <a:pt x="101" y="26"/>
                </a:lnTo>
                <a:lnTo>
                  <a:pt x="133" y="11"/>
                </a:lnTo>
                <a:lnTo>
                  <a:pt x="166" y="3"/>
                </a:lnTo>
                <a:lnTo>
                  <a:pt x="202" y="0"/>
                </a:lnTo>
                <a:lnTo>
                  <a:pt x="237" y="3"/>
                </a:lnTo>
                <a:lnTo>
                  <a:pt x="270" y="11"/>
                </a:lnTo>
                <a:lnTo>
                  <a:pt x="302" y="26"/>
                </a:lnTo>
                <a:lnTo>
                  <a:pt x="332" y="45"/>
                </a:lnTo>
                <a:lnTo>
                  <a:pt x="355" y="67"/>
                </a:lnTo>
                <a:lnTo>
                  <a:pt x="376" y="94"/>
                </a:lnTo>
                <a:lnTo>
                  <a:pt x="391" y="125"/>
                </a:lnTo>
                <a:lnTo>
                  <a:pt x="400" y="156"/>
                </a:lnTo>
                <a:lnTo>
                  <a:pt x="403" y="188"/>
                </a:lnTo>
                <a:lnTo>
                  <a:pt x="400" y="222"/>
                </a:lnTo>
                <a:lnTo>
                  <a:pt x="391" y="254"/>
                </a:lnTo>
                <a:lnTo>
                  <a:pt x="376" y="283"/>
                </a:lnTo>
                <a:lnTo>
                  <a:pt x="355" y="310"/>
                </a:lnTo>
                <a:lnTo>
                  <a:pt x="332" y="334"/>
                </a:lnTo>
                <a:lnTo>
                  <a:pt x="302" y="351"/>
                </a:lnTo>
                <a:lnTo>
                  <a:pt x="270" y="365"/>
                </a:lnTo>
                <a:lnTo>
                  <a:pt x="237" y="375"/>
                </a:lnTo>
                <a:lnTo>
                  <a:pt x="202" y="377"/>
                </a:lnTo>
                <a:lnTo>
                  <a:pt x="166" y="375"/>
                </a:lnTo>
                <a:lnTo>
                  <a:pt x="133" y="365"/>
                </a:lnTo>
                <a:lnTo>
                  <a:pt x="101" y="351"/>
                </a:lnTo>
                <a:lnTo>
                  <a:pt x="72" y="334"/>
                </a:lnTo>
                <a:lnTo>
                  <a:pt x="48" y="310"/>
                </a:lnTo>
                <a:lnTo>
                  <a:pt x="27" y="283"/>
                </a:lnTo>
                <a:lnTo>
                  <a:pt x="12" y="254"/>
                </a:lnTo>
                <a:lnTo>
                  <a:pt x="3" y="222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14240" y="26226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087560" y="2249640"/>
            <a:ext cx="320400" cy="299880"/>
          </a:xfrm>
          <a:custGeom>
            <a:avLst/>
            <a:gdLst/>
            <a:ahLst/>
            <a:rect l="l" t="t" r="r" b="b"/>
            <a:pathLst>
              <a:path w="403" h="376">
                <a:moveTo>
                  <a:pt x="0" y="188"/>
                </a:moveTo>
                <a:lnTo>
                  <a:pt x="3" y="154"/>
                </a:lnTo>
                <a:lnTo>
                  <a:pt x="11" y="124"/>
                </a:lnTo>
                <a:lnTo>
                  <a:pt x="27" y="94"/>
                </a:lnTo>
                <a:lnTo>
                  <a:pt x="47" y="67"/>
                </a:lnTo>
                <a:lnTo>
                  <a:pt x="71" y="44"/>
                </a:lnTo>
                <a:lnTo>
                  <a:pt x="100" y="25"/>
                </a:lnTo>
                <a:lnTo>
                  <a:pt x="133" y="11"/>
                </a:lnTo>
                <a:lnTo>
                  <a:pt x="167" y="3"/>
                </a:lnTo>
                <a:lnTo>
                  <a:pt x="201" y="0"/>
                </a:lnTo>
                <a:lnTo>
                  <a:pt x="237" y="3"/>
                </a:lnTo>
                <a:lnTo>
                  <a:pt x="271" y="11"/>
                </a:lnTo>
                <a:lnTo>
                  <a:pt x="302" y="25"/>
                </a:lnTo>
                <a:lnTo>
                  <a:pt x="331" y="44"/>
                </a:lnTo>
                <a:lnTo>
                  <a:pt x="357" y="67"/>
                </a:lnTo>
                <a:lnTo>
                  <a:pt x="376" y="94"/>
                </a:lnTo>
                <a:lnTo>
                  <a:pt x="391" y="124"/>
                </a:lnTo>
                <a:lnTo>
                  <a:pt x="400" y="154"/>
                </a:lnTo>
                <a:lnTo>
                  <a:pt x="403" y="188"/>
                </a:lnTo>
                <a:lnTo>
                  <a:pt x="400" y="221"/>
                </a:lnTo>
                <a:lnTo>
                  <a:pt x="391" y="252"/>
                </a:lnTo>
                <a:lnTo>
                  <a:pt x="376" y="282"/>
                </a:lnTo>
                <a:lnTo>
                  <a:pt x="357" y="309"/>
                </a:lnTo>
                <a:lnTo>
                  <a:pt x="331" y="331"/>
                </a:lnTo>
                <a:lnTo>
                  <a:pt x="302" y="351"/>
                </a:lnTo>
                <a:lnTo>
                  <a:pt x="271" y="365"/>
                </a:lnTo>
                <a:lnTo>
                  <a:pt x="237" y="373"/>
                </a:lnTo>
                <a:lnTo>
                  <a:pt x="201" y="376"/>
                </a:lnTo>
                <a:lnTo>
                  <a:pt x="167" y="373"/>
                </a:lnTo>
                <a:lnTo>
                  <a:pt x="133" y="365"/>
                </a:lnTo>
                <a:lnTo>
                  <a:pt x="100" y="351"/>
                </a:lnTo>
                <a:lnTo>
                  <a:pt x="71" y="331"/>
                </a:lnTo>
                <a:lnTo>
                  <a:pt x="47" y="309"/>
                </a:lnTo>
                <a:lnTo>
                  <a:pt x="27" y="282"/>
                </a:lnTo>
                <a:lnTo>
                  <a:pt x="11" y="252"/>
                </a:lnTo>
                <a:lnTo>
                  <a:pt x="3" y="221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34800" y="2322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274840" y="1817640"/>
            <a:ext cx="318960" cy="298440"/>
          </a:xfrm>
          <a:custGeom>
            <a:avLst/>
            <a:gdLst/>
            <a:ahLst/>
            <a:rect l="l" t="t" r="r" b="b"/>
            <a:pathLst>
              <a:path w="404" h="377">
                <a:moveTo>
                  <a:pt x="0" y="188"/>
                </a:moveTo>
                <a:lnTo>
                  <a:pt x="4" y="155"/>
                </a:lnTo>
                <a:lnTo>
                  <a:pt x="12" y="123"/>
                </a:lnTo>
                <a:lnTo>
                  <a:pt x="28" y="94"/>
                </a:lnTo>
                <a:lnTo>
                  <a:pt x="46" y="67"/>
                </a:lnTo>
                <a:lnTo>
                  <a:pt x="72" y="43"/>
                </a:lnTo>
                <a:lnTo>
                  <a:pt x="101" y="24"/>
                </a:lnTo>
                <a:lnTo>
                  <a:pt x="134" y="11"/>
                </a:lnTo>
                <a:lnTo>
                  <a:pt x="166" y="2"/>
                </a:lnTo>
                <a:lnTo>
                  <a:pt x="202" y="0"/>
                </a:lnTo>
                <a:lnTo>
                  <a:pt x="236" y="2"/>
                </a:lnTo>
                <a:lnTo>
                  <a:pt x="271" y="11"/>
                </a:lnTo>
                <a:lnTo>
                  <a:pt x="303" y="24"/>
                </a:lnTo>
                <a:lnTo>
                  <a:pt x="332" y="43"/>
                </a:lnTo>
                <a:lnTo>
                  <a:pt x="356" y="67"/>
                </a:lnTo>
                <a:lnTo>
                  <a:pt x="377" y="94"/>
                </a:lnTo>
                <a:lnTo>
                  <a:pt x="392" y="123"/>
                </a:lnTo>
                <a:lnTo>
                  <a:pt x="400" y="155"/>
                </a:lnTo>
                <a:lnTo>
                  <a:pt x="404" y="188"/>
                </a:lnTo>
                <a:lnTo>
                  <a:pt x="400" y="220"/>
                </a:lnTo>
                <a:lnTo>
                  <a:pt x="392" y="252"/>
                </a:lnTo>
                <a:lnTo>
                  <a:pt x="377" y="282"/>
                </a:lnTo>
                <a:lnTo>
                  <a:pt x="356" y="310"/>
                </a:lnTo>
                <a:lnTo>
                  <a:pt x="332" y="332"/>
                </a:lnTo>
                <a:lnTo>
                  <a:pt x="303" y="351"/>
                </a:lnTo>
                <a:lnTo>
                  <a:pt x="271" y="365"/>
                </a:lnTo>
                <a:lnTo>
                  <a:pt x="236" y="373"/>
                </a:lnTo>
                <a:lnTo>
                  <a:pt x="202" y="377"/>
                </a:lnTo>
                <a:lnTo>
                  <a:pt x="166" y="373"/>
                </a:lnTo>
                <a:lnTo>
                  <a:pt x="134" y="365"/>
                </a:lnTo>
                <a:lnTo>
                  <a:pt x="101" y="351"/>
                </a:lnTo>
                <a:lnTo>
                  <a:pt x="72" y="332"/>
                </a:lnTo>
                <a:lnTo>
                  <a:pt x="46" y="310"/>
                </a:lnTo>
                <a:lnTo>
                  <a:pt x="28" y="282"/>
                </a:lnTo>
                <a:lnTo>
                  <a:pt x="12" y="252"/>
                </a:lnTo>
                <a:lnTo>
                  <a:pt x="4" y="220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420640" y="18907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779560" y="1106640"/>
          <a:ext cx="339840" cy="33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79560" y="1106640"/>
                    <a:ext cx="33984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2779560" y="2471760"/>
          <a:ext cx="339840" cy="345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79560" y="2471760"/>
                    <a:ext cx="33984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1071720" y="2608200"/>
          <a:ext cx="341280" cy="345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71720" y="2608200"/>
                    <a:ext cx="3412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662040" y="1311120"/>
          <a:ext cx="358560" cy="33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2040" y="1311120"/>
                    <a:ext cx="35856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593640" y="2266920"/>
          <a:ext cx="392040" cy="238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3640" y="2266920"/>
                    <a:ext cx="3920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934920" y="1038240"/>
          <a:ext cx="392400" cy="236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34920" y="1038240"/>
                    <a:ext cx="3924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1892160" y="2540160"/>
          <a:ext cx="390600" cy="237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892160" y="2540160"/>
                    <a:ext cx="3906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2301840" y="696960"/>
          <a:ext cx="390600" cy="236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301840" y="69696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2711520" y="1754280"/>
          <a:ext cx="339480" cy="341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711520" y="1754280"/>
                    <a:ext cx="3394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1824120" y="1685880"/>
          <a:ext cx="390600" cy="2383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824120" y="1685880"/>
                    <a:ext cx="39060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"/>
          <p:cNvSpPr/>
          <p:nvPr/>
        </p:nvSpPr>
        <p:spPr>
          <a:xfrm>
            <a:off x="5899320" y="492120"/>
            <a:ext cx="2912760" cy="286056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6513480" y="1071720"/>
          <a:ext cx="1639800" cy="18208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513480" y="1071720"/>
                    <a:ext cx="163980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6103800" y="1344600"/>
          <a:ext cx="358920" cy="341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103800" y="1344600"/>
                    <a:ext cx="3589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6377040" y="1071720"/>
          <a:ext cx="392040" cy="2379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377040" y="107172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7334280" y="2575080"/>
          <a:ext cx="390600" cy="2365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334280" y="257508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7743960" y="730080"/>
          <a:ext cx="390240" cy="2383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7743960" y="730080"/>
                    <a:ext cx="3902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6035760" y="2028960"/>
          <a:ext cx="392040" cy="2379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035760" y="202896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6513480" y="2643120"/>
          <a:ext cx="358920" cy="3398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513480" y="2643120"/>
                    <a:ext cx="358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7334280" y="2301840"/>
          <a:ext cx="390600" cy="2365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7334280" y="230184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8221680" y="2438280"/>
          <a:ext cx="358920" cy="3398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8221680" y="2438280"/>
                    <a:ext cx="358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7743960" y="457200"/>
          <a:ext cx="390240" cy="23796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7743960" y="457200"/>
                    <a:ext cx="3902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8221680" y="1071720"/>
          <a:ext cx="358920" cy="3394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8221680" y="1071720"/>
                    <a:ext cx="35892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8016840" y="1754280"/>
          <a:ext cx="339840" cy="34128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8016840" y="1754280"/>
                    <a:ext cx="3398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7196040" y="1617840"/>
          <a:ext cx="392040" cy="23796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7196040" y="161784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6035760" y="2301840"/>
          <a:ext cx="390600" cy="23652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6035760" y="230184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"/>
          <p:cNvSpPr/>
          <p:nvPr/>
        </p:nvSpPr>
        <p:spPr>
          <a:xfrm>
            <a:off x="3276720" y="1676520"/>
            <a:ext cx="2743200" cy="457200"/>
          </a:xfrm>
          <a:prstGeom prst="rightArrow">
            <a:avLst>
              <a:gd name="adj1" fmla="val 33333"/>
              <a:gd name="adj2" fmla="val 12713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 devices in a piconet hop togeth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 form a piconet: master gives slaves its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cloc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device 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pping pattern determined by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device ID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48-bit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hase in hopping pattern determined by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n-piconet devices are in standb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conet Address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ve Member Address (AMA, 3-bit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rked Member Address (PMA, 8-bit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D86B-F6D4-4529-B785-111B8267AE2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rotocol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505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ndb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ing to join a pico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qui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k about radios to connect t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g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 to a specific radi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necte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vely on a piconet (master or slav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k/Hol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w-power connected stat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0" name=""/>
          <p:cNvSpPr/>
          <p:nvPr/>
        </p:nvSpPr>
        <p:spPr>
          <a:xfrm>
            <a:off x="6327720" y="2981160"/>
            <a:ext cx="86220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174080" y="291456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19760" y="3992400"/>
            <a:ext cx="55404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713560" y="392580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77" y="83"/>
                </a:moveTo>
                <a:lnTo>
                  <a:pt x="0" y="42"/>
                </a:lnTo>
                <a:lnTo>
                  <a:pt x="77" y="0"/>
                </a:lnTo>
                <a:lnTo>
                  <a:pt x="77" y="8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359400" y="3925800"/>
            <a:ext cx="12240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07200" y="1763640"/>
            <a:ext cx="549000" cy="1897200"/>
          </a:xfrm>
          <a:custGeom>
            <a:avLst/>
            <a:gdLst/>
            <a:ahLst/>
            <a:rect l="l" t="t" r="r" b="b"/>
            <a:pathLst>
              <a:path w="346" h="1195">
                <a:moveTo>
                  <a:pt x="0" y="1195"/>
                </a:moveTo>
                <a:lnTo>
                  <a:pt x="0" y="1143"/>
                </a:lnTo>
                <a:lnTo>
                  <a:pt x="1" y="1089"/>
                </a:lnTo>
                <a:lnTo>
                  <a:pt x="5" y="1034"/>
                </a:lnTo>
                <a:lnTo>
                  <a:pt x="10" y="979"/>
                </a:lnTo>
                <a:lnTo>
                  <a:pt x="16" y="923"/>
                </a:lnTo>
                <a:lnTo>
                  <a:pt x="24" y="865"/>
                </a:lnTo>
                <a:lnTo>
                  <a:pt x="34" y="808"/>
                </a:lnTo>
                <a:lnTo>
                  <a:pt x="46" y="750"/>
                </a:lnTo>
                <a:lnTo>
                  <a:pt x="59" y="691"/>
                </a:lnTo>
                <a:lnTo>
                  <a:pt x="73" y="633"/>
                </a:lnTo>
                <a:lnTo>
                  <a:pt x="89" y="576"/>
                </a:lnTo>
                <a:lnTo>
                  <a:pt x="107" y="518"/>
                </a:lnTo>
                <a:lnTo>
                  <a:pt x="126" y="461"/>
                </a:lnTo>
                <a:lnTo>
                  <a:pt x="146" y="404"/>
                </a:lnTo>
                <a:lnTo>
                  <a:pt x="167" y="349"/>
                </a:lnTo>
                <a:lnTo>
                  <a:pt x="190" y="295"/>
                </a:lnTo>
                <a:lnTo>
                  <a:pt x="213" y="242"/>
                </a:lnTo>
                <a:lnTo>
                  <a:pt x="238" y="190"/>
                </a:lnTo>
                <a:lnTo>
                  <a:pt x="264" y="140"/>
                </a:lnTo>
                <a:lnTo>
                  <a:pt x="290" y="91"/>
                </a:lnTo>
                <a:lnTo>
                  <a:pt x="318" y="46"/>
                </a:lnTo>
                <a:lnTo>
                  <a:pt x="346" y="0"/>
                </a:lnTo>
              </a:path>
            </a:pathLst>
          </a:custGeom>
          <a:noFill/>
          <a:ln w="33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899320" y="1671480"/>
            <a:ext cx="12060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0" y="43"/>
                </a:moveTo>
                <a:lnTo>
                  <a:pt x="76" y="0"/>
                </a:lnTo>
                <a:lnTo>
                  <a:pt x="62" y="92"/>
                </a:lnTo>
                <a:lnTo>
                  <a:pt x="0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6052680" y="1936800"/>
            <a:ext cx="182520" cy="620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99040" y="2521080"/>
            <a:ext cx="117720" cy="145800"/>
          </a:xfrm>
          <a:custGeom>
            <a:avLst/>
            <a:gdLst/>
            <a:ahLst/>
            <a:rect l="l" t="t" r="r" b="b"/>
            <a:pathLst>
              <a:path w="74" h="92">
                <a:moveTo>
                  <a:pt x="74" y="25"/>
                </a:moveTo>
                <a:lnTo>
                  <a:pt x="13" y="92"/>
                </a:lnTo>
                <a:lnTo>
                  <a:pt x="0" y="0"/>
                </a:lnTo>
                <a:lnTo>
                  <a:pt x="74" y="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7073640" y="3246480"/>
            <a:ext cx="344520" cy="42552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02360" y="3618000"/>
            <a:ext cx="127080" cy="141120"/>
          </a:xfrm>
          <a:custGeom>
            <a:avLst/>
            <a:gdLst/>
            <a:ahLst/>
            <a:rect l="l" t="t" r="r" b="b"/>
            <a:pathLst>
              <a:path w="80" h="89">
                <a:moveTo>
                  <a:pt x="80" y="54"/>
                </a:moveTo>
                <a:lnTo>
                  <a:pt x="0" y="89"/>
                </a:lnTo>
                <a:lnTo>
                  <a:pt x="23" y="0"/>
                </a:lnTo>
                <a:lnTo>
                  <a:pt x="80" y="5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713560" y="264960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3"/>
                </a:lnTo>
                <a:lnTo>
                  <a:pt x="111" y="19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5"/>
                </a:lnTo>
                <a:lnTo>
                  <a:pt x="70" y="369"/>
                </a:lnTo>
                <a:lnTo>
                  <a:pt x="52" y="352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7" y="261"/>
                </a:lnTo>
                <a:lnTo>
                  <a:pt x="2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873400" y="2911320"/>
            <a:ext cx="34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296120" y="2649600"/>
            <a:ext cx="612720" cy="662040"/>
          </a:xfrm>
          <a:custGeom>
            <a:avLst/>
            <a:gdLst/>
            <a:ahLst/>
            <a:rect l="l" t="t" r="r" b="b"/>
            <a:pathLst>
              <a:path w="386" h="417">
                <a:moveTo>
                  <a:pt x="0" y="209"/>
                </a:moveTo>
                <a:lnTo>
                  <a:pt x="1" y="182"/>
                </a:lnTo>
                <a:lnTo>
                  <a:pt x="5" y="156"/>
                </a:lnTo>
                <a:lnTo>
                  <a:pt x="13" y="132"/>
                </a:lnTo>
                <a:lnTo>
                  <a:pt x="23" y="108"/>
                </a:lnTo>
                <a:lnTo>
                  <a:pt x="37" y="86"/>
                </a:lnTo>
                <a:lnTo>
                  <a:pt x="52" y="65"/>
                </a:lnTo>
                <a:lnTo>
                  <a:pt x="69" y="48"/>
                </a:lnTo>
                <a:lnTo>
                  <a:pt x="89" y="33"/>
                </a:lnTo>
                <a:lnTo>
                  <a:pt x="110" y="19"/>
                </a:lnTo>
                <a:lnTo>
                  <a:pt x="133" y="10"/>
                </a:lnTo>
                <a:lnTo>
                  <a:pt x="157" y="4"/>
                </a:lnTo>
                <a:lnTo>
                  <a:pt x="181" y="0"/>
                </a:lnTo>
                <a:lnTo>
                  <a:pt x="205" y="0"/>
                </a:lnTo>
                <a:lnTo>
                  <a:pt x="229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4" y="65"/>
                </a:lnTo>
                <a:lnTo>
                  <a:pt x="349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6" y="209"/>
                </a:lnTo>
                <a:lnTo>
                  <a:pt x="385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49" y="331"/>
                </a:lnTo>
                <a:lnTo>
                  <a:pt x="334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29" y="414"/>
                </a:lnTo>
                <a:lnTo>
                  <a:pt x="205" y="417"/>
                </a:lnTo>
                <a:lnTo>
                  <a:pt x="181" y="417"/>
                </a:lnTo>
                <a:lnTo>
                  <a:pt x="157" y="414"/>
                </a:lnTo>
                <a:lnTo>
                  <a:pt x="133" y="407"/>
                </a:lnTo>
                <a:lnTo>
                  <a:pt x="110" y="398"/>
                </a:lnTo>
                <a:lnTo>
                  <a:pt x="89" y="385"/>
                </a:lnTo>
                <a:lnTo>
                  <a:pt x="69" y="369"/>
                </a:lnTo>
                <a:lnTo>
                  <a:pt x="52" y="352"/>
                </a:lnTo>
                <a:lnTo>
                  <a:pt x="37" y="331"/>
                </a:lnTo>
                <a:lnTo>
                  <a:pt x="23" y="309"/>
                </a:lnTo>
                <a:lnTo>
                  <a:pt x="13" y="285"/>
                </a:lnTo>
                <a:lnTo>
                  <a:pt x="5" y="261"/>
                </a:lnTo>
                <a:lnTo>
                  <a:pt x="1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492680" y="291132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481800" y="366084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3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89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29" y="4"/>
                </a:lnTo>
                <a:lnTo>
                  <a:pt x="253" y="10"/>
                </a:lnTo>
                <a:lnTo>
                  <a:pt x="275" y="20"/>
                </a:lnTo>
                <a:lnTo>
                  <a:pt x="296" y="32"/>
                </a:lnTo>
                <a:lnTo>
                  <a:pt x="316" y="48"/>
                </a:lnTo>
                <a:lnTo>
                  <a:pt x="334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4" y="351"/>
                </a:lnTo>
                <a:lnTo>
                  <a:pt x="316" y="369"/>
                </a:lnTo>
                <a:lnTo>
                  <a:pt x="296" y="384"/>
                </a:lnTo>
                <a:lnTo>
                  <a:pt x="275" y="398"/>
                </a:lnTo>
                <a:lnTo>
                  <a:pt x="253" y="407"/>
                </a:lnTo>
                <a:lnTo>
                  <a:pt x="229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89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9"/>
                </a:lnTo>
                <a:lnTo>
                  <a:pt x="13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535080" y="3852720"/>
            <a:ext cx="55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688080" y="399240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99040" y="3660840"/>
            <a:ext cx="61452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8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4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4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8"/>
                </a:lnTo>
                <a:lnTo>
                  <a:pt x="254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8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4"/>
                </a:lnTo>
                <a:lnTo>
                  <a:pt x="70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206320" y="378144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17560" y="39225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07120" y="406224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73960" y="1836720"/>
            <a:ext cx="711000" cy="8589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229520" y="2639880"/>
            <a:ext cx="127080" cy="141480"/>
          </a:xfrm>
          <a:custGeom>
            <a:avLst/>
            <a:gdLst/>
            <a:ahLst/>
            <a:rect l="l" t="t" r="r" b="b"/>
            <a:pathLst>
              <a:path w="80" h="89">
                <a:moveTo>
                  <a:pt x="57" y="0"/>
                </a:moveTo>
                <a:lnTo>
                  <a:pt x="80" y="89"/>
                </a:lnTo>
                <a:lnTo>
                  <a:pt x="0" y="55"/>
                </a:lnTo>
                <a:lnTo>
                  <a:pt x="5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248600" y="4986360"/>
            <a:ext cx="615960" cy="660240"/>
          </a:xfrm>
          <a:custGeom>
            <a:avLst/>
            <a:gdLst/>
            <a:ahLst/>
            <a:rect l="l" t="t" r="r" b="b"/>
            <a:pathLst>
              <a:path w="388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1" y="48"/>
                </a:lnTo>
                <a:lnTo>
                  <a:pt x="90" y="32"/>
                </a:lnTo>
                <a:lnTo>
                  <a:pt x="112" y="20"/>
                </a:lnTo>
                <a:lnTo>
                  <a:pt x="134" y="10"/>
                </a:lnTo>
                <a:lnTo>
                  <a:pt x="157" y="4"/>
                </a:lnTo>
                <a:lnTo>
                  <a:pt x="182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8" y="32"/>
                </a:lnTo>
                <a:lnTo>
                  <a:pt x="317" y="48"/>
                </a:lnTo>
                <a:lnTo>
                  <a:pt x="335" y="65"/>
                </a:lnTo>
                <a:lnTo>
                  <a:pt x="351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6" y="182"/>
                </a:lnTo>
                <a:lnTo>
                  <a:pt x="388" y="209"/>
                </a:lnTo>
                <a:lnTo>
                  <a:pt x="386" y="234"/>
                </a:lnTo>
                <a:lnTo>
                  <a:pt x="381" y="260"/>
                </a:lnTo>
                <a:lnTo>
                  <a:pt x="374" y="285"/>
                </a:lnTo>
                <a:lnTo>
                  <a:pt x="363" y="308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2" y="416"/>
                </a:lnTo>
                <a:lnTo>
                  <a:pt x="157" y="414"/>
                </a:lnTo>
                <a:lnTo>
                  <a:pt x="134" y="407"/>
                </a:lnTo>
                <a:lnTo>
                  <a:pt x="112" y="397"/>
                </a:lnTo>
                <a:lnTo>
                  <a:pt x="90" y="384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420320" y="5178600"/>
            <a:ext cx="31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45632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713560" y="4986360"/>
            <a:ext cx="614160" cy="660240"/>
          </a:xfrm>
          <a:custGeom>
            <a:avLst/>
            <a:gdLst/>
            <a:ahLst/>
            <a:rect l="l" t="t" r="r" b="b"/>
            <a:pathLst>
              <a:path w="387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4"/>
                </a:lnTo>
                <a:lnTo>
                  <a:pt x="381" y="260"/>
                </a:lnTo>
                <a:lnTo>
                  <a:pt x="373" y="285"/>
                </a:lnTo>
                <a:lnTo>
                  <a:pt x="363" y="308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1" y="416"/>
                </a:lnTo>
                <a:lnTo>
                  <a:pt x="157" y="414"/>
                </a:lnTo>
                <a:lnTo>
                  <a:pt x="134" y="407"/>
                </a:lnTo>
                <a:lnTo>
                  <a:pt x="111" y="397"/>
                </a:lnTo>
                <a:lnTo>
                  <a:pt x="90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889960" y="5178600"/>
            <a:ext cx="3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91984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00920" y="4354560"/>
            <a:ext cx="342720" cy="566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942240" y="4257720"/>
            <a:ext cx="117360" cy="146160"/>
          </a:xfrm>
          <a:custGeom>
            <a:avLst/>
            <a:gdLst/>
            <a:ahLst/>
            <a:rect l="l" t="t" r="r" b="b"/>
            <a:pathLst>
              <a:path w="74" h="92">
                <a:moveTo>
                  <a:pt x="10" y="92"/>
                </a:moveTo>
                <a:lnTo>
                  <a:pt x="0" y="0"/>
                </a:lnTo>
                <a:lnTo>
                  <a:pt x="74" y="46"/>
                </a:lnTo>
                <a:lnTo>
                  <a:pt x="10" y="9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284960" y="4873680"/>
            <a:ext cx="117720" cy="144360"/>
          </a:xfrm>
          <a:custGeom>
            <a:avLst/>
            <a:gdLst/>
            <a:ahLst/>
            <a:rect l="l" t="t" r="r" b="b"/>
            <a:pathLst>
              <a:path w="74" h="91">
                <a:moveTo>
                  <a:pt x="64" y="0"/>
                </a:moveTo>
                <a:lnTo>
                  <a:pt x="74" y="91"/>
                </a:lnTo>
                <a:lnTo>
                  <a:pt x="0" y="45"/>
                </a:lnTo>
                <a:lnTo>
                  <a:pt x="64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6173640" y="4352760"/>
            <a:ext cx="339840" cy="5367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454800" y="4257720"/>
            <a:ext cx="119160" cy="146160"/>
          </a:xfrm>
          <a:custGeom>
            <a:avLst/>
            <a:gdLst/>
            <a:ahLst/>
            <a:rect l="l" t="t" r="r" b="b"/>
            <a:pathLst>
              <a:path w="75" h="92">
                <a:moveTo>
                  <a:pt x="0" y="45"/>
                </a:moveTo>
                <a:lnTo>
                  <a:pt x="75" y="0"/>
                </a:lnTo>
                <a:lnTo>
                  <a:pt x="63" y="92"/>
                </a:lnTo>
                <a:lnTo>
                  <a:pt x="0" y="4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111720" y="4838760"/>
            <a:ext cx="12096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76" y="47"/>
                </a:moveTo>
                <a:lnTo>
                  <a:pt x="0" y="92"/>
                </a:lnTo>
                <a:lnTo>
                  <a:pt x="12" y="0"/>
                </a:lnTo>
                <a:lnTo>
                  <a:pt x="76" y="4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5514120" y="4565520"/>
            <a:ext cx="732240" cy="235080"/>
            <a:chOff x="5514120" y="4565520"/>
            <a:chExt cx="732240" cy="235080"/>
          </a:xfrm>
        </p:grpSpPr>
        <p:sp>
          <p:nvSpPr>
            <p:cNvPr id="697" name=""/>
            <p:cNvSpPr/>
            <p:nvPr/>
          </p:nvSpPr>
          <p:spPr>
            <a:xfrm>
              <a:off x="5514120" y="456552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592600" y="464796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4324320" y="5205240"/>
            <a:ext cx="78552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w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507560" y="3879720"/>
            <a:ext cx="421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19920" y="1341360"/>
            <a:ext cx="615960" cy="662040"/>
          </a:xfrm>
          <a:custGeom>
            <a:avLst/>
            <a:gdLst/>
            <a:ahLst/>
            <a:rect l="l" t="t" r="r" b="b"/>
            <a:pathLst>
              <a:path w="388" h="417">
                <a:moveTo>
                  <a:pt x="0" y="208"/>
                </a:moveTo>
                <a:lnTo>
                  <a:pt x="2" y="183"/>
                </a:lnTo>
                <a:lnTo>
                  <a:pt x="7" y="156"/>
                </a:lnTo>
                <a:lnTo>
                  <a:pt x="14" y="131"/>
                </a:lnTo>
                <a:lnTo>
                  <a:pt x="25" y="107"/>
                </a:lnTo>
                <a:lnTo>
                  <a:pt x="37" y="85"/>
                </a:lnTo>
                <a:lnTo>
                  <a:pt x="53" y="66"/>
                </a:lnTo>
                <a:lnTo>
                  <a:pt x="71" y="47"/>
                </a:lnTo>
                <a:lnTo>
                  <a:pt x="90" y="32"/>
                </a:lnTo>
                <a:lnTo>
                  <a:pt x="112" y="19"/>
                </a:lnTo>
                <a:lnTo>
                  <a:pt x="135" y="10"/>
                </a:lnTo>
                <a:lnTo>
                  <a:pt x="158" y="3"/>
                </a:lnTo>
                <a:lnTo>
                  <a:pt x="182" y="0"/>
                </a:lnTo>
                <a:lnTo>
                  <a:pt x="206" y="0"/>
                </a:lnTo>
                <a:lnTo>
                  <a:pt x="230" y="3"/>
                </a:lnTo>
                <a:lnTo>
                  <a:pt x="254" y="10"/>
                </a:lnTo>
                <a:lnTo>
                  <a:pt x="276" y="19"/>
                </a:lnTo>
                <a:lnTo>
                  <a:pt x="298" y="32"/>
                </a:lnTo>
                <a:lnTo>
                  <a:pt x="317" y="47"/>
                </a:lnTo>
                <a:lnTo>
                  <a:pt x="335" y="66"/>
                </a:lnTo>
                <a:lnTo>
                  <a:pt x="351" y="85"/>
                </a:lnTo>
                <a:lnTo>
                  <a:pt x="364" y="107"/>
                </a:lnTo>
                <a:lnTo>
                  <a:pt x="374" y="131"/>
                </a:lnTo>
                <a:lnTo>
                  <a:pt x="381" y="156"/>
                </a:lnTo>
                <a:lnTo>
                  <a:pt x="386" y="183"/>
                </a:lnTo>
                <a:lnTo>
                  <a:pt x="388" y="208"/>
                </a:lnTo>
                <a:lnTo>
                  <a:pt x="386" y="235"/>
                </a:lnTo>
                <a:lnTo>
                  <a:pt x="381" y="260"/>
                </a:lnTo>
                <a:lnTo>
                  <a:pt x="374" y="285"/>
                </a:lnTo>
                <a:lnTo>
                  <a:pt x="364" y="309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5"/>
                </a:lnTo>
                <a:lnTo>
                  <a:pt x="276" y="397"/>
                </a:lnTo>
                <a:lnTo>
                  <a:pt x="254" y="407"/>
                </a:lnTo>
                <a:lnTo>
                  <a:pt x="230" y="413"/>
                </a:lnTo>
                <a:lnTo>
                  <a:pt x="206" y="417"/>
                </a:lnTo>
                <a:lnTo>
                  <a:pt x="182" y="417"/>
                </a:lnTo>
                <a:lnTo>
                  <a:pt x="158" y="413"/>
                </a:lnTo>
                <a:lnTo>
                  <a:pt x="135" y="407"/>
                </a:lnTo>
                <a:lnTo>
                  <a:pt x="112" y="397"/>
                </a:lnTo>
                <a:lnTo>
                  <a:pt x="90" y="385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5" y="309"/>
                </a:lnTo>
                <a:lnTo>
                  <a:pt x="14" y="285"/>
                </a:lnTo>
                <a:lnTo>
                  <a:pt x="7" y="260"/>
                </a:lnTo>
                <a:lnTo>
                  <a:pt x="2" y="235"/>
                </a:lnTo>
                <a:lnTo>
                  <a:pt x="0" y="20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42320" y="1601640"/>
            <a:ext cx="42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260600" y="2886120"/>
            <a:ext cx="91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nec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168800" y="1560600"/>
            <a:ext cx="109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connec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rot="17615400">
            <a:off x="5192640" y="23752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etac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7165080" y="4495680"/>
            <a:ext cx="732240" cy="235080"/>
            <a:chOff x="7165080" y="4495680"/>
            <a:chExt cx="732240" cy="235080"/>
          </a:xfrm>
        </p:grpSpPr>
        <p:sp>
          <p:nvSpPr>
            <p:cNvPr id="707" name=""/>
            <p:cNvSpPr/>
            <p:nvPr/>
          </p:nvSpPr>
          <p:spPr>
            <a:xfrm>
              <a:off x="7165080" y="449568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243560" y="457812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7317720" y="3429000"/>
            <a:ext cx="823680" cy="235080"/>
            <a:chOff x="7317720" y="3429000"/>
            <a:chExt cx="823680" cy="235080"/>
          </a:xfrm>
        </p:grpSpPr>
        <p:sp>
          <p:nvSpPr>
            <p:cNvPr id="710" name=""/>
            <p:cNvSpPr/>
            <p:nvPr/>
          </p:nvSpPr>
          <p:spPr>
            <a:xfrm>
              <a:off x="7317720" y="342900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0.6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395840" y="351144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6367680" y="3041640"/>
            <a:ext cx="640800" cy="235080"/>
            <a:chOff x="6367680" y="3041640"/>
            <a:chExt cx="640800" cy="235080"/>
          </a:xfrm>
        </p:grpSpPr>
        <p:sp>
          <p:nvSpPr>
            <p:cNvPr id="713" name=""/>
            <p:cNvSpPr/>
            <p:nvPr/>
          </p:nvSpPr>
          <p:spPr>
            <a:xfrm>
              <a:off x="6367680" y="3041640"/>
              <a:ext cx="64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446520" y="312408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5262840" y="5638680"/>
            <a:ext cx="118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l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MA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0C2-6AFD-4231-857A-43321DC3D13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Power consciousnes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ndby current &lt; 0.3 m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 months(*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ce mode 8-30 m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5 hou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 mode average 5 mA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0.3-30mA, 20 kbps, 25%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20 hou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w-power architectu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grammable data length (else radio sleep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ld and Park modes: 60 µA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vices connected but not participat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ld retains AMA address, Park releases AMA, gets PMA addres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vice can participate within 2 m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stimates calculated with 600 mAh battery and internal amplifier, power will vary with implementation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C60-B90D-466B-8C77-AA41ED7B5C1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link typ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lling-based packet transmission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slot: 0.625msec (max 1600 slots/sec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ster/slave slots (even-/odd-numbered slot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lling: master always “polls” slav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nchronous connection-oriented (SCO) lin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ircuit-switched”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iodic single-slot packet assignment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mmetric 64Kbps full-duplex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ynchronous connection-less (ACL) lin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et switch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ymmetric bandwidt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iable packet size (1-5 slots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x. 721 kbps (57.6 kbps return channel)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8.8 - 432.6 kbps (symmetric)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685800" y="5219640"/>
            <a:ext cx="7772400" cy="1031040"/>
            <a:chOff x="685800" y="5219640"/>
            <a:chExt cx="7772400" cy="1031040"/>
          </a:xfrm>
        </p:grpSpPr>
        <p:sp>
          <p:nvSpPr>
            <p:cNvPr id="721" name=""/>
            <p:cNvSpPr/>
            <p:nvPr/>
          </p:nvSpPr>
          <p:spPr>
            <a:xfrm>
              <a:off x="15238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7432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3526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9625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5720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1814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791320" y="5295960"/>
              <a:ext cx="91440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02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6201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0481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6576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26708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769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864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057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3152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828800" y="5295960"/>
              <a:ext cx="91440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2193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85800" y="5448240"/>
              <a:ext cx="777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13372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4008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2" name=""/>
            <p:cNvGrpSpPr/>
            <p:nvPr/>
          </p:nvGrpSpPr>
          <p:grpSpPr>
            <a:xfrm>
              <a:off x="1523880" y="5295960"/>
              <a:ext cx="6096240" cy="152280"/>
              <a:chOff x="1523880" y="5295960"/>
              <a:chExt cx="6096240" cy="152280"/>
            </a:xfrm>
          </p:grpSpPr>
          <p:sp>
            <p:nvSpPr>
              <p:cNvPr id="743" name=""/>
              <p:cNvSpPr/>
              <p:nvPr/>
            </p:nvSpPr>
            <p:spPr>
              <a:xfrm>
                <a:off x="15238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7432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526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9625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5720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1814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7913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0102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201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82296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43800" y="5372280"/>
              <a:ext cx="69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0   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2  3  4   5 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6  7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8  9  10 11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2  13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14  15 16 17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8  19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20 21 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4382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0958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4952880" y="5676840"/>
              <a:ext cx="1141560" cy="307080"/>
              <a:chOff x="4952880" y="5676840"/>
              <a:chExt cx="1141560" cy="307080"/>
            </a:xfrm>
          </p:grpSpPr>
          <p:sp>
            <p:nvSpPr>
              <p:cNvPr id="757" name=""/>
              <p:cNvSpPr/>
              <p:nvPr/>
            </p:nvSpPr>
            <p:spPr>
              <a:xfrm>
                <a:off x="5257800" y="5753160"/>
                <a:ext cx="304560" cy="15228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952880" y="5753160"/>
                <a:ext cx="30492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593680" y="567684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C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4952880" y="5943600"/>
              <a:ext cx="1141560" cy="307080"/>
              <a:chOff x="4952880" y="5943600"/>
              <a:chExt cx="1141560" cy="307080"/>
            </a:xfrm>
          </p:grpSpPr>
          <p:sp>
            <p:nvSpPr>
              <p:cNvPr id="761" name=""/>
              <p:cNvSpPr/>
              <p:nvPr/>
            </p:nvSpPr>
            <p:spPr>
              <a:xfrm>
                <a:off x="5257800" y="6019920"/>
                <a:ext cx="304560" cy="152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952880" y="601992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593680" y="594360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AC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>
              <a:off x="12193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8288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481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6576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2670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8769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864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7057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3152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9246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2286720" y="5676840"/>
              <a:ext cx="1370880" cy="307080"/>
              <a:chOff x="2286720" y="5676840"/>
              <a:chExt cx="1370880" cy="307080"/>
            </a:xfrm>
          </p:grpSpPr>
          <p:sp>
            <p:nvSpPr>
              <p:cNvPr id="775" name=""/>
              <p:cNvSpPr/>
              <p:nvPr/>
            </p:nvSpPr>
            <p:spPr>
              <a:xfrm>
                <a:off x="3048120" y="5753160"/>
                <a:ext cx="30456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352680" y="575316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286720" y="567684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ma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2392920" y="5943600"/>
              <a:ext cx="1264680" cy="307080"/>
              <a:chOff x="2392920" y="5943600"/>
              <a:chExt cx="1264680" cy="307080"/>
            </a:xfrm>
          </p:grpSpPr>
          <p:sp>
            <p:nvSpPr>
              <p:cNvPr id="779" name=""/>
              <p:cNvSpPr/>
              <p:nvPr/>
            </p:nvSpPr>
            <p:spPr>
              <a:xfrm>
                <a:off x="3048120" y="6019560"/>
                <a:ext cx="304560" cy="15264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52680" y="6019560"/>
                <a:ext cx="304920" cy="152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392920" y="594360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la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4A8F-BEF9-4E3E-A8FF-96A07B627C2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Acknowledgement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I would like to acknowledge J. Haartsen, J. Inouye, J. Kardach, T. Muller and J. Webb for assisting me in the preparation of this presentation.</a:t>
            </a:r>
            <a:endParaRPr b="1" lang="en-US" sz="1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13F2-92AC-4BE9-AD5A-CBDC7C13B90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Error handling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ward-error correction (FEC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aders are protected with 1/3 rate FEC and HEC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yloads may be FEC protected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/3 rate: simple bit repetition (SCO packets only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/3 rate: (10,15) shortened Hamming cod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/3 rate: no FE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Q (ACL packets onl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6-bit CRC (CRC-CCITT) &amp; 1-bit ACK/NACK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-bit sequence number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4" name=""/>
          <p:cNvSpPr/>
          <p:nvPr/>
        </p:nvSpPr>
        <p:spPr>
          <a:xfrm>
            <a:off x="3886200" y="1085760"/>
            <a:ext cx="4483080" cy="577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400040" y="1085760"/>
            <a:ext cx="1009800" cy="577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797200" y="1085760"/>
            <a:ext cx="804960" cy="57780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143000" y="1722600"/>
            <a:ext cx="1522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cess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743920" y="1722600"/>
            <a:ext cx="91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610960" y="1720800"/>
            <a:ext cx="103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612800" y="785880"/>
            <a:ext cx="582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882880" y="785880"/>
            <a:ext cx="63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853960" y="762120"/>
            <a:ext cx="103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-274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EF95-99CA-4592-B6C4-50AF9BA2F4A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security featur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st frequency hopping (79 channels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w transmit power (range &lt;= 10m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uthentication of remote devic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sed on link key (128 Bit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y be performed in both direction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cryption of payload dat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eam cipher algorithm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28 Bit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ffects all traffic on a link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itializ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N entry by use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99C6-293A-4EF2-AE19-CE22D38C488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"/>
          <p:cNvGrpSpPr/>
          <p:nvPr/>
        </p:nvGrpSpPr>
        <p:grpSpPr>
          <a:xfrm>
            <a:off x="4267080" y="1143000"/>
            <a:ext cx="4289400" cy="4419360"/>
            <a:chOff x="4267080" y="1143000"/>
            <a:chExt cx="4289400" cy="4419360"/>
          </a:xfrm>
        </p:grpSpPr>
        <p:sp>
          <p:nvSpPr>
            <p:cNvPr id="796" name=""/>
            <p:cNvSpPr/>
            <p:nvPr/>
          </p:nvSpPr>
          <p:spPr>
            <a:xfrm>
              <a:off x="4267080" y="1143000"/>
              <a:ext cx="4289400" cy="44193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898880" y="1523880"/>
              <a:ext cx="3027240" cy="1212840"/>
            </a:xfrm>
            <a:prstGeom prst="ellipse">
              <a:avLst/>
            </a:prstGeom>
            <a:solidFill>
              <a:srgbClr val="ffffcc"/>
            </a:solidFill>
            <a:ln w="57240">
              <a:solidFill>
                <a:srgbClr val="3399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035400" y="3619440"/>
              <a:ext cx="422280" cy="458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573680" y="4349520"/>
              <a:ext cx="351000" cy="37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146560" y="1900080"/>
              <a:ext cx="351000" cy="37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292880" y="1942920"/>
              <a:ext cx="420480" cy="4618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349600" y="4865400"/>
              <a:ext cx="351000" cy="3891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3" name=""/>
            <p:cNvCxnSpPr>
              <a:stCxn id="800" idx="5"/>
              <a:endCxn id="798" idx="1"/>
            </p:cNvCxnSpPr>
            <p:nvPr/>
          </p:nvCxnSpPr>
          <p:spPr>
            <a:xfrm>
              <a:off x="5446440" y="2218680"/>
              <a:ext cx="651600" cy="14677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4" name=""/>
            <p:cNvCxnSpPr>
              <a:stCxn id="801" idx="3"/>
              <a:endCxn id="798" idx="7"/>
            </p:cNvCxnSpPr>
            <p:nvPr/>
          </p:nvCxnSpPr>
          <p:spPr>
            <a:xfrm flipH="1">
              <a:off x="6395400" y="2336760"/>
              <a:ext cx="959760" cy="13500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5" name=""/>
            <p:cNvCxnSpPr>
              <a:stCxn id="800" idx="6"/>
              <a:endCxn id="801" idx="2"/>
            </p:cNvCxnSpPr>
            <p:nvPr/>
          </p:nvCxnSpPr>
          <p:spPr>
            <a:xfrm>
              <a:off x="5497200" y="2086920"/>
              <a:ext cx="1796040" cy="87840"/>
            </a:xfrm>
            <a:prstGeom prst="straightConnector1">
              <a:avLst/>
            </a:prstGeom>
            <a:ln w="57240">
              <a:solidFill>
                <a:srgbClr val="3399ff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806" name=""/>
            <p:cNvCxnSpPr>
              <a:stCxn id="798" idx="5"/>
              <a:endCxn id="799" idx="2"/>
            </p:cNvCxnSpPr>
            <p:nvPr/>
          </p:nvCxnSpPr>
          <p:spPr>
            <a:xfrm>
              <a:off x="6395760" y="4011480"/>
              <a:ext cx="1178640" cy="526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7" name=""/>
            <p:cNvCxnSpPr>
              <a:stCxn id="802" idx="7"/>
              <a:endCxn id="798" idx="3"/>
            </p:cNvCxnSpPr>
            <p:nvPr/>
          </p:nvCxnSpPr>
          <p:spPr>
            <a:xfrm flipV="1">
              <a:off x="5649480" y="4010760"/>
              <a:ext cx="448200" cy="9118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808" name=""/>
            <p:cNvSpPr/>
            <p:nvPr/>
          </p:nvSpPr>
          <p:spPr>
            <a:xfrm>
              <a:off x="6262200" y="1600200"/>
              <a:ext cx="702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cc99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cc99"/>
                  </a:solidFill>
                  <a:latin typeface="Arial"/>
                </a:rPr>
                <a:t>A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309080" y="19144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574040" y="4267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323320" y="4800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20280" y="1828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026760" y="358776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140800" y="4114800"/>
              <a:ext cx="73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40520" y="2786040"/>
              <a:ext cx="7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212080" y="2974680"/>
              <a:ext cx="73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897960" y="3747960"/>
              <a:ext cx="7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ink keys in a picone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k keys are generated via a PIN entr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different link key for each pair of devices is allowe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uthentication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llenge-Response Schem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manent storage of link key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35EA-B7E4-45DB-9126-71FB184F1D6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Key generation and usag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21" name=""/>
          <p:cNvSpPr/>
          <p:nvPr/>
        </p:nvSpPr>
        <p:spPr>
          <a:xfrm>
            <a:off x="1060560" y="1079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81200" y="2000160"/>
            <a:ext cx="11952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203480" y="1452600"/>
            <a:ext cx="350640" cy="547560"/>
          </a:xfrm>
          <a:prstGeom prst="downArrow">
            <a:avLst>
              <a:gd name="adj1" fmla="val 50000"/>
              <a:gd name="adj2" fmla="val 3904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69880" y="2989440"/>
            <a:ext cx="16192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17440" y="5186520"/>
            <a:ext cx="232272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81200" y="4084560"/>
            <a:ext cx="11952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01680" y="354348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01680" y="248616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201680" y="4570560"/>
            <a:ext cx="352440" cy="625320"/>
          </a:xfrm>
          <a:prstGeom prst="downArrow">
            <a:avLst>
              <a:gd name="adj1" fmla="val 50000"/>
              <a:gd name="adj2" fmla="val 4435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274840" y="3083040"/>
            <a:ext cx="2743200" cy="304560"/>
          </a:xfrm>
          <a:prstGeom prst="leftRightArrow">
            <a:avLst>
              <a:gd name="adj1" fmla="val 50000"/>
              <a:gd name="adj2" fmla="val 179308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679840" y="5362560"/>
            <a:ext cx="1969920" cy="304920"/>
          </a:xfrm>
          <a:prstGeom prst="leftRightArrow">
            <a:avLst>
              <a:gd name="adj1" fmla="val 50000"/>
              <a:gd name="adj2" fmla="val 128611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751480" y="49878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539800" y="27432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560920" y="1066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280120" y="1987560"/>
            <a:ext cx="11970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703840" y="1440000"/>
            <a:ext cx="351000" cy="547560"/>
          </a:xfrm>
          <a:prstGeom prst="downArrow">
            <a:avLst>
              <a:gd name="adj1" fmla="val 50000"/>
              <a:gd name="adj2" fmla="val 390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070600" y="2976480"/>
            <a:ext cx="16174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718160" y="5183280"/>
            <a:ext cx="232236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280120" y="4071960"/>
            <a:ext cx="11970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702400" y="353052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702400" y="247320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702400" y="4557600"/>
            <a:ext cx="352440" cy="625680"/>
          </a:xfrm>
          <a:prstGeom prst="downArrow">
            <a:avLst>
              <a:gd name="adj1" fmla="val 50000"/>
              <a:gd name="adj2" fmla="val 44382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370920" y="11160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itializ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285320" y="282420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ossib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ma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437600" y="5110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o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E32F-881B-4677-A401-4E83BFB4F8D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pplication level securit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ilds on-top of link-level securit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eates trusted device group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curity levels for servic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uthorization require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uthentication require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cryption require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fferent or higher security requirements could be added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sonal authenticatio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igher security level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key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D4D8-4DF2-47DF-81EE-5BF0345BF5B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rchitectural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1676520" y="1219320"/>
            <a:ext cx="6324480" cy="4266720"/>
            <a:chOff x="1676520" y="1219320"/>
            <a:chExt cx="6324480" cy="4266720"/>
          </a:xfrm>
        </p:grpSpPr>
        <p:sp>
          <p:nvSpPr>
            <p:cNvPr id="850" name=""/>
            <p:cNvSpPr/>
            <p:nvPr/>
          </p:nvSpPr>
          <p:spPr>
            <a:xfrm>
              <a:off x="1676520" y="3352680"/>
              <a:ext cx="297180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752840" y="5062320"/>
              <a:ext cx="255420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752840" y="4541760"/>
              <a:ext cx="2554200" cy="4550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752840" y="3563640"/>
              <a:ext cx="62532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430720" y="4052880"/>
              <a:ext cx="1876320" cy="4233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430720" y="3563640"/>
              <a:ext cx="1198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752840" y="2262240"/>
              <a:ext cx="2398680" cy="123624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752840" y="1739880"/>
              <a:ext cx="6998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522520" y="1739880"/>
              <a:ext cx="48132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056040" y="1739880"/>
              <a:ext cx="11192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786480" y="1739880"/>
              <a:ext cx="1303200" cy="225864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752840" y="1219320"/>
              <a:ext cx="333684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798280" y="2652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17809800">
              <a:off x="3866760" y="26834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639040" y="1371600"/>
              <a:ext cx="609480" cy="266652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69480 h 2666520"/>
                <a:gd name="textAreaBottom" fmla="*/ 2597040 h 266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8520" y="25066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4517640" y="3886200"/>
              <a:ext cx="816120" cy="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694400" y="3581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HC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5640-5B20-481D-968D-DCE496B6B0D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oftware architecture goa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port the target usage scenario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port a variety of hardware platform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od out of box user experienc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able legacy application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tilize existing protocols where possib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6560-98F2-458E-979C-E43E51B58FA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"/>
          <p:cNvGrpSpPr/>
          <p:nvPr/>
        </p:nvGrpSpPr>
        <p:grpSpPr>
          <a:xfrm>
            <a:off x="380880" y="1295280"/>
            <a:ext cx="8404200" cy="4495680"/>
            <a:chOff x="380880" y="1295280"/>
            <a:chExt cx="8404200" cy="4495680"/>
          </a:xfrm>
        </p:grpSpPr>
        <p:sp>
          <p:nvSpPr>
            <p:cNvPr id="871" name=""/>
            <p:cNvSpPr/>
            <p:nvPr/>
          </p:nvSpPr>
          <p:spPr>
            <a:xfrm>
              <a:off x="2614680" y="4470480"/>
              <a:ext cx="41148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604960" y="4459320"/>
              <a:ext cx="411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908520" y="1981080"/>
              <a:ext cx="144756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908520" y="198108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155680" y="198108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W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155680" y="198108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765520" y="3352680"/>
              <a:ext cx="360" cy="6858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2765520" y="4037760"/>
              <a:ext cx="60948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661000" y="182880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rin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612880" y="5333760"/>
              <a:ext cx="41148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Host Controll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670280" y="4943520"/>
              <a:ext cx="360" cy="314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08520" y="1295280"/>
              <a:ext cx="144756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vCard/v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5126760" y="243828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94320" y="243828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375000" y="2666880"/>
              <a:ext cx="99072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365720" y="266688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499080" y="5086080"/>
              <a:ext cx="360" cy="17172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70480" y="403848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505560" y="5092560"/>
              <a:ext cx="160020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flipV="1">
              <a:off x="8098560" y="1751760"/>
              <a:ext cx="360" cy="33526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155680" y="129528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WA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375000" y="243828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375000" y="403848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060800" y="3962160"/>
              <a:ext cx="360" cy="4572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813280" y="3340080"/>
              <a:ext cx="360" cy="1079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670280" y="175248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917800" y="175248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908520" y="129528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155680" y="129528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03200" y="182880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ill 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03200" y="182880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661000" y="182880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413480" y="1295280"/>
              <a:ext cx="137160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413480" y="1295280"/>
              <a:ext cx="13716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265560" y="2901960"/>
              <a:ext cx="15811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TCP/UD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255840" y="2895480"/>
              <a:ext cx="15811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076720" y="2873160"/>
              <a:ext cx="16272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78520" y="2857320"/>
              <a:ext cx="16239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64120" y="3574800"/>
              <a:ext cx="163836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TC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954760" y="3557520"/>
              <a:ext cx="16509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612880" y="5333760"/>
              <a:ext cx="411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127480" y="2666880"/>
              <a:ext cx="53352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661000" y="266688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165320" y="4190760"/>
              <a:ext cx="182880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994120" y="419076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165320" y="403848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444680" y="2908080"/>
              <a:ext cx="150480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H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444680" y="2908080"/>
              <a:ext cx="150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28840" y="3524040"/>
              <a:ext cx="1663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228840" y="3524040"/>
              <a:ext cx="1663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80880" y="3557520"/>
              <a:ext cx="220824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ervice Discov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DA34-E702-4769-9F65-8A64F974B13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ost Controller Interface (HCI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vides a common interface between the Bluetooth host and a Bluetooth modu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faces in spec 1.0: USB; UART; RS-23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k Layer Control &amp; Adaptation (L2CAP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simple data link protocol on top of the baseban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nection-oriented &amp; connectionles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tocol multiplex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gmentation &amp; reassembly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oS flow specification per connection (channel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abstrac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ECC3-5720-4B43-A254-A46FDB5CCA5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rvice Discovery Protocol (SDP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ines a service record forma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ation about services provided by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ttributes composed of an ID (name) and a valu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s may be universally unique identifiers (UUID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ines an inquiry/response protocol for discovering servic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arching for and browsing ser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8F9E-7132-4AA6-9457-1F8D8F85E7D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A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o is Bluetooth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at is Bluetooth and what does it do for you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usage scenarios examp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architectu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operability &amp; profi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mar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B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EEE802.15 and Bluetooth spec mapp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E1B5-B02B-478D-B1BC-C9CDF0A556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685800" y="380880"/>
            <a:ext cx="77724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FCOMM (based on GSM TS07.10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ulates a serial-port to support a large base of legacy (serial-port-based) application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ows multiple “ports” over a single physical channel between two de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lephony Control Protocol Spec (TCS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ll control (setup &amp; release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management for gateway serving multiple de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gacy protocol reus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se existing protocols, e.g., IrDA’s OBEX, or WAP for interacting with applications on phon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BDAC-F302-446E-BC0D-EFC48912B63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Interoperability &amp; Profil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4653000" y="1219320"/>
            <a:ext cx="3857760" cy="3672720"/>
            <a:chOff x="4653000" y="1219320"/>
            <a:chExt cx="3857760" cy="3672720"/>
          </a:xfrm>
        </p:grpSpPr>
        <p:sp>
          <p:nvSpPr>
            <p:cNvPr id="932" name=""/>
            <p:cNvSpPr/>
            <p:nvPr/>
          </p:nvSpPr>
          <p:spPr>
            <a:xfrm>
              <a:off x="5072040" y="21528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072040" y="329868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072040" y="272556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072040" y="38718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645160" y="1292400"/>
              <a:ext cx="285840" cy="31525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218280" y="1292400"/>
              <a:ext cx="285840" cy="18619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791400" y="1292400"/>
              <a:ext cx="28584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364520" y="2593800"/>
              <a:ext cx="285480" cy="11350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935840" y="1292400"/>
              <a:ext cx="28728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532560" y="4603680"/>
              <a:ext cx="860400" cy="285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560640" y="4602240"/>
              <a:ext cx="803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fil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53000" y="2440080"/>
              <a:ext cx="287280" cy="114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6200000">
              <a:off x="4325400" y="2872440"/>
              <a:ext cx="95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oc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072040" y="1219320"/>
              <a:ext cx="3438720" cy="64584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024600" y="1371600"/>
              <a:ext cx="1533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791400" y="3728880"/>
              <a:ext cx="28584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791400" y="2583000"/>
              <a:ext cx="285840" cy="5713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935840" y="3728880"/>
              <a:ext cx="28728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962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resents default solution for a usage model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rtical slice through the protocol st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s for interoperability and logo requiremen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ach Bluetooth device supports one or more profi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D1FA-BC82-4B0D-BA9C-2737CF35E84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1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3" name="" descr=""/>
          <p:cNvPicPr/>
          <p:nvPr/>
        </p:nvPicPr>
        <p:blipFill>
          <a:blip r:embed="rId3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4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955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38080" y="3797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7" name=""/>
          <p:cNvGraphicFramePr/>
          <p:nvPr/>
        </p:nvGraphicFramePr>
        <p:xfrm>
          <a:off x="5952960" y="1728720"/>
          <a:ext cx="1538280" cy="84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52960" y="17287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9" name=""/>
          <p:cNvGraphicFramePr/>
          <p:nvPr/>
        </p:nvGraphicFramePr>
        <p:xfrm>
          <a:off x="5900760" y="2362320"/>
          <a:ext cx="153828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00760" y="23623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1" name=""/>
          <p:cNvSpPr/>
          <p:nvPr/>
        </p:nvSpPr>
        <p:spPr>
          <a:xfrm>
            <a:off x="5092560" y="1270080"/>
            <a:ext cx="1828800" cy="2003400"/>
          </a:xfrm>
          <a:custGeom>
            <a:avLst/>
            <a:gdLst>
              <a:gd name="textAreaLeft" fmla="*/ 815040 w 1828800"/>
              <a:gd name="textAreaRight" fmla="*/ 1013760 w 1828800"/>
              <a:gd name="textAreaTop" fmla="*/ 892800 h 2003400"/>
              <a:gd name="textAreaBottom" fmla="*/ 1110600 h 2003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69" y="11117"/>
                </a:lnTo>
                <a:lnTo>
                  <a:pt x="786" y="14846"/>
                </a:lnTo>
                <a:lnTo>
                  <a:pt x="9406" y="11705"/>
                </a:lnTo>
                <a:lnTo>
                  <a:pt x="3163" y="18437"/>
                </a:lnTo>
                <a:lnTo>
                  <a:pt x="9871" y="12178"/>
                </a:lnTo>
                <a:lnTo>
                  <a:pt x="6580" y="20741"/>
                </a:lnTo>
                <a:lnTo>
                  <a:pt x="10454" y="12426"/>
                </a:lnTo>
                <a:lnTo>
                  <a:pt x="10800" y="21600"/>
                </a:lnTo>
                <a:lnTo>
                  <a:pt x="11117" y="12431"/>
                </a:lnTo>
                <a:lnTo>
                  <a:pt x="14846" y="20814"/>
                </a:lnTo>
                <a:lnTo>
                  <a:pt x="11705" y="12194"/>
                </a:lnTo>
                <a:lnTo>
                  <a:pt x="18437" y="18437"/>
                </a:lnTo>
                <a:lnTo>
                  <a:pt x="12178" y="11729"/>
                </a:lnTo>
                <a:lnTo>
                  <a:pt x="20741" y="15020"/>
                </a:lnTo>
                <a:lnTo>
                  <a:pt x="12426" y="11146"/>
                </a:lnTo>
                <a:lnTo>
                  <a:pt x="21600" y="10800"/>
                </a:lnTo>
                <a:lnTo>
                  <a:pt x="12431" y="10483"/>
                </a:lnTo>
                <a:lnTo>
                  <a:pt x="20814" y="6754"/>
                </a:lnTo>
                <a:lnTo>
                  <a:pt x="12194" y="9895"/>
                </a:lnTo>
                <a:lnTo>
                  <a:pt x="18437" y="3163"/>
                </a:lnTo>
                <a:lnTo>
                  <a:pt x="11729" y="9422"/>
                </a:lnTo>
                <a:lnTo>
                  <a:pt x="15020" y="859"/>
                </a:lnTo>
                <a:lnTo>
                  <a:pt x="11146" y="9174"/>
                </a:lnTo>
                <a:lnTo>
                  <a:pt x="10800" y="0"/>
                </a:lnTo>
                <a:lnTo>
                  <a:pt x="10483" y="9169"/>
                </a:lnTo>
                <a:lnTo>
                  <a:pt x="6754" y="786"/>
                </a:lnTo>
                <a:lnTo>
                  <a:pt x="9895" y="9406"/>
                </a:lnTo>
                <a:lnTo>
                  <a:pt x="3163" y="3163"/>
                </a:lnTo>
                <a:lnTo>
                  <a:pt x="9422" y="9871"/>
                </a:lnTo>
                <a:lnTo>
                  <a:pt x="859" y="6580"/>
                </a:lnTo>
                <a:lnTo>
                  <a:pt x="9174" y="1045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9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3" name=""/>
          <p:cNvGraphicFramePr/>
          <p:nvPr/>
        </p:nvGraphicFramePr>
        <p:xfrm>
          <a:off x="6183360" y="2490840"/>
          <a:ext cx="1538280" cy="849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6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83360" y="249084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5" name=""/>
          <p:cNvGraphicFramePr/>
          <p:nvPr/>
        </p:nvGraphicFramePr>
        <p:xfrm>
          <a:off x="6157800" y="1600200"/>
          <a:ext cx="1538280" cy="849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57800" y="160020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ynchronization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imity synchroniz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ily maintained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information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CBC7-7632-4AB4-9C0A-98FD9C42723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"/>
          <p:cNvGrpSpPr/>
          <p:nvPr/>
        </p:nvGrpSpPr>
        <p:grpSpPr>
          <a:xfrm>
            <a:off x="609480" y="1025640"/>
            <a:ext cx="8020080" cy="4612680"/>
            <a:chOff x="609480" y="1025640"/>
            <a:chExt cx="8020080" cy="4612680"/>
          </a:xfrm>
        </p:grpSpPr>
        <p:sp>
          <p:nvSpPr>
            <p:cNvPr id="970" name=""/>
            <p:cNvSpPr/>
            <p:nvPr/>
          </p:nvSpPr>
          <p:spPr>
            <a:xfrm>
              <a:off x="5543280" y="2563560"/>
              <a:ext cx="2979720" cy="42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543280" y="2563560"/>
              <a:ext cx="2979720" cy="42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2" name=""/>
            <p:cNvGraphicFramePr/>
            <p:nvPr/>
          </p:nvGraphicFramePr>
          <p:xfrm>
            <a:off x="3903480" y="1488600"/>
            <a:ext cx="855720" cy="78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03480" y="1488600"/>
                      <a:ext cx="855720" cy="78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4" name=""/>
            <p:cNvGraphicFramePr/>
            <p:nvPr/>
          </p:nvGraphicFramePr>
          <p:xfrm>
            <a:off x="609480" y="2063520"/>
            <a:ext cx="1414440" cy="1352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480" y="2063520"/>
                      <a:ext cx="1414440" cy="13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6" name=""/>
            <p:cNvGraphicFramePr/>
            <p:nvPr/>
          </p:nvGraphicFramePr>
          <p:xfrm>
            <a:off x="2266920" y="1966680"/>
            <a:ext cx="1315800" cy="369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66920" y="1966680"/>
                      <a:ext cx="1315800" cy="36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8" name=""/>
            <p:cNvGraphicFramePr/>
            <p:nvPr/>
          </p:nvGraphicFramePr>
          <p:xfrm>
            <a:off x="2371680" y="3012840"/>
            <a:ext cx="1271520" cy="407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7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371680" y="3012840"/>
                      <a:ext cx="1271520" cy="40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0" name=""/>
            <p:cNvSpPr/>
            <p:nvPr/>
          </p:nvSpPr>
          <p:spPr>
            <a:xfrm>
              <a:off x="5564160" y="5067000"/>
              <a:ext cx="3065400" cy="5713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564160" y="5067000"/>
              <a:ext cx="306540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71320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13200" y="535284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6835680" y="506664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358040" y="535284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35804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48016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5713200" y="4924080"/>
              <a:ext cx="1508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864040" y="492408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6835680" y="4924080"/>
              <a:ext cx="1490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7358040" y="4924080"/>
              <a:ext cx="15048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8480160" y="4924080"/>
              <a:ext cx="14940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508520" y="492408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311880" y="47811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521320" y="4014360"/>
              <a:ext cx="297972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521320" y="4014360"/>
              <a:ext cx="2979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521320" y="3300120"/>
              <a:ext cx="297972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521320" y="3300120"/>
              <a:ext cx="2979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078320" y="372888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078320" y="2998440"/>
              <a:ext cx="0" cy="24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318000" y="4775040"/>
              <a:ext cx="8017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105320" y="445104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518080" y="1777680"/>
              <a:ext cx="297792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518080" y="1777680"/>
              <a:ext cx="29779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092720" y="2204640"/>
              <a:ext cx="0" cy="29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765840" y="1025640"/>
              <a:ext cx="1701720" cy="428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M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765840" y="1025640"/>
              <a:ext cx="1701720" cy="42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7692480" y="1461960"/>
              <a:ext cx="3240" cy="25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9" name="" descr=""/>
            <p:cNvPicPr/>
            <p:nvPr/>
          </p:nvPicPr>
          <p:blipFill>
            <a:blip r:embed="rId9"/>
            <a:stretch/>
          </p:blipFill>
          <p:spPr>
            <a:xfrm>
              <a:off x="4047840" y="3404880"/>
              <a:ext cx="658800" cy="40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ynchronization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2E2-48AB-4FC6-928A-0B601DFE70D3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1" name=""/>
          <p:cNvGrpSpPr/>
          <p:nvPr/>
        </p:nvGrpSpPr>
        <p:grpSpPr>
          <a:xfrm>
            <a:off x="609480" y="1092240"/>
            <a:ext cx="7910280" cy="4013280"/>
            <a:chOff x="609480" y="1092240"/>
            <a:chExt cx="7910280" cy="4013280"/>
          </a:xfrm>
        </p:grpSpPr>
        <p:sp>
          <p:nvSpPr>
            <p:cNvPr id="1012" name=""/>
            <p:cNvSpPr/>
            <p:nvPr/>
          </p:nvSpPr>
          <p:spPr>
            <a:xfrm>
              <a:off x="5445000" y="1847880"/>
              <a:ext cx="149544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445000" y="1847880"/>
              <a:ext cx="149544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14" name=""/>
            <p:cNvGraphicFramePr/>
            <p:nvPr/>
          </p:nvGraphicFramePr>
          <p:xfrm>
            <a:off x="609480" y="4114800"/>
            <a:ext cx="1143000" cy="99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114800"/>
                      <a:ext cx="114300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6" name=""/>
            <p:cNvGraphicFramePr/>
            <p:nvPr/>
          </p:nvGraphicFramePr>
          <p:xfrm>
            <a:off x="2750760" y="1092240"/>
            <a:ext cx="1166760" cy="129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50760" y="1092240"/>
                      <a:ext cx="116676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8" name=""/>
            <p:cNvSpPr/>
            <p:nvPr/>
          </p:nvSpPr>
          <p:spPr>
            <a:xfrm>
              <a:off x="5454360" y="4145040"/>
              <a:ext cx="3065400" cy="5713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454360" y="3430800"/>
              <a:ext cx="149544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454360" y="3430800"/>
              <a:ext cx="149544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454360" y="4145040"/>
              <a:ext cx="306540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60376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603760" y="443088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672588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248240" y="443088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24824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37072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5603760" y="400176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754240" y="400212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6725880" y="4001760"/>
              <a:ext cx="14940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7248240" y="4001760"/>
              <a:ext cx="1508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8370720" y="400176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399080" y="400212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202080" y="3859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454360" y="2716200"/>
              <a:ext cx="149544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454360" y="2716200"/>
              <a:ext cx="149544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202080" y="31449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248240" y="2716200"/>
              <a:ext cx="1271520" cy="11430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248240" y="2716200"/>
              <a:ext cx="127152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846560" y="3859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87680" y="2287800"/>
              <a:ext cx="6480" cy="34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92720" y="1573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70120" y="1287360"/>
              <a:ext cx="164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T Comm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4" name="" descr=""/>
            <p:cNvPicPr/>
            <p:nvPr/>
          </p:nvPicPr>
          <p:blipFill>
            <a:blip r:embed="rId5"/>
            <a:stretch/>
          </p:blipFill>
          <p:spPr>
            <a:xfrm>
              <a:off x="1333080" y="2530440"/>
              <a:ext cx="1744920" cy="15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Headset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3401-46E7-4154-A166-2C5A2A33A89F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"/>
          <p:cNvGrpSpPr/>
          <p:nvPr/>
        </p:nvGrpSpPr>
        <p:grpSpPr>
          <a:xfrm>
            <a:off x="685800" y="1219320"/>
            <a:ext cx="7994160" cy="4284720"/>
            <a:chOff x="685800" y="1219320"/>
            <a:chExt cx="7994160" cy="4284720"/>
          </a:xfrm>
        </p:grpSpPr>
        <p:sp>
          <p:nvSpPr>
            <p:cNvPr id="1047" name=""/>
            <p:cNvSpPr/>
            <p:nvPr/>
          </p:nvSpPr>
          <p:spPr>
            <a:xfrm>
              <a:off x="6403680" y="227808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403680" y="227808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49" name=""/>
            <p:cNvGraphicFramePr/>
            <p:nvPr/>
          </p:nvGraphicFramePr>
          <p:xfrm>
            <a:off x="4343040" y="2387520"/>
            <a:ext cx="1066680" cy="89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040" y="2387520"/>
                      <a:ext cx="1066680" cy="89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1" name=""/>
            <p:cNvGraphicFramePr/>
            <p:nvPr/>
          </p:nvGraphicFramePr>
          <p:xfrm>
            <a:off x="2590560" y="2616120"/>
            <a:ext cx="1372680" cy="44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90560" y="2616120"/>
                      <a:ext cx="137268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3" name=""/>
            <p:cNvGraphicFramePr/>
            <p:nvPr/>
          </p:nvGraphicFramePr>
          <p:xfrm>
            <a:off x="685800" y="2235240"/>
            <a:ext cx="1473120" cy="1276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" y="2235240"/>
                      <a:ext cx="1473120" cy="12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5" name=""/>
            <p:cNvSpPr/>
            <p:nvPr/>
          </p:nvSpPr>
          <p:spPr>
            <a:xfrm>
              <a:off x="5614920" y="4932360"/>
              <a:ext cx="3065040" cy="571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614920" y="4932360"/>
              <a:ext cx="306504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76396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763960" y="521820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688644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408800" y="5218200"/>
              <a:ext cx="112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40880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53092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5763960" y="478908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914800" y="4789440"/>
              <a:ext cx="11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6886440" y="4789080"/>
              <a:ext cx="1486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7408800" y="4789080"/>
              <a:ext cx="15012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8530920" y="478908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559280" y="478944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387840" y="387972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387840" y="387972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387840" y="316548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387840" y="316548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135560" y="359424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129080" y="2716200"/>
              <a:ext cx="0" cy="3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362640" y="464652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368760" y="4640400"/>
              <a:ext cx="801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156080" y="431640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521400" y="4792680"/>
              <a:ext cx="801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397560" y="1219320"/>
              <a:ext cx="156960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397560" y="1219320"/>
              <a:ext cx="156960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6930720" y="1644480"/>
              <a:ext cx="1440" cy="58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AN access point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610E-1CD2-4797-AE4A-2FD048DBCF0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program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685800" y="1066680"/>
            <a:ext cx="7772400" cy="914400"/>
            <a:chOff x="685800" y="1066680"/>
            <a:chExt cx="7772400" cy="914400"/>
          </a:xfrm>
        </p:grpSpPr>
        <p:sp>
          <p:nvSpPr>
            <p:cNvPr id="1085" name=""/>
            <p:cNvSpPr/>
            <p:nvPr/>
          </p:nvSpPr>
          <p:spPr>
            <a:xfrm>
              <a:off x="685800" y="106668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819520" y="10666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685800" y="1981080"/>
            <a:ext cx="7772400" cy="914400"/>
            <a:chOff x="685800" y="1981080"/>
            <a:chExt cx="7772400" cy="914400"/>
          </a:xfrm>
        </p:grpSpPr>
        <p:sp>
          <p:nvSpPr>
            <p:cNvPr id="1088" name=""/>
            <p:cNvSpPr/>
            <p:nvPr/>
          </p:nvSpPr>
          <p:spPr>
            <a:xfrm>
              <a:off x="685800" y="198108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9520" y="19810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685800" y="2895480"/>
            <a:ext cx="7772400" cy="914400"/>
            <a:chOff x="685800" y="2895480"/>
            <a:chExt cx="7772400" cy="914400"/>
          </a:xfrm>
        </p:grpSpPr>
        <p:sp>
          <p:nvSpPr>
            <p:cNvPr id="1091" name=""/>
            <p:cNvSpPr/>
            <p:nvPr/>
          </p:nvSpPr>
          <p:spPr>
            <a:xfrm>
              <a:off x="685800" y="289548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19520" y="28954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685800" y="3809880"/>
            <a:ext cx="7772400" cy="914400"/>
            <a:chOff x="685800" y="3809880"/>
            <a:chExt cx="7772400" cy="914400"/>
          </a:xfrm>
        </p:grpSpPr>
        <p:sp>
          <p:nvSpPr>
            <p:cNvPr id="1094" name=""/>
            <p:cNvSpPr/>
            <p:nvPr/>
          </p:nvSpPr>
          <p:spPr>
            <a:xfrm>
              <a:off x="685800" y="380988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19520" y="38098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685800" y="4724280"/>
            <a:ext cx="7772400" cy="914400"/>
            <a:chOff x="685800" y="4724280"/>
            <a:chExt cx="7772400" cy="914400"/>
          </a:xfrm>
        </p:grpSpPr>
        <p:sp>
          <p:nvSpPr>
            <p:cNvPr id="1097" name=""/>
            <p:cNvSpPr/>
            <p:nvPr/>
          </p:nvSpPr>
          <p:spPr>
            <a:xfrm>
              <a:off x="685800" y="472428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819520" y="47242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4F15-9B8C-4171-BA23-B03C5C03C31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ummar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luetooth is a global, RF-based (ISM band: 2.4GHz), short-range, connectivity technology &amp; solution for portable, personal devic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 is not just a radio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piconets on-the-fly (appr. 1Mbp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conets may overlap in time and space for high aggregate bandwidt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pec compris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HW &amp; SW protocol specifica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age case scenario profiles and interoperability requirement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9 Discover Magazine Awards finalis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 learn more: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http://www.bluetooth.com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3EB-AD62-4B47-BB95-1FA49C79208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spec and IEEE802.15 (1)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is not only a link (connectivity) solution but an end-to-end (e2e)solu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Bluetooth e2e solution is built on-top of a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cor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f low level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rans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rotocol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Bluetooth “brand-name” is highly dependent on the presence of the core protocols in all devices claiming to be Bluetooth devic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Courier New"/>
              </a:rPr>
              <a:t>The draft standard must contain: RF, BB, LM, &amp; L2CAP Bluetooth protocol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gher level services (including LLC) can/shall be built on top of L2CA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GAP (Generic Access Profile) can serve as a guideline for establishing Bluetooth links between host devic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D4A6-ADA1-4B03-8660-18CD2BB01B1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5563440" y="367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rot="10800000">
            <a:off x="5257440" y="3885840"/>
            <a:ext cx="1143000" cy="304920"/>
          </a:xfrm>
          <a:custGeom>
            <a:avLst/>
            <a:gdLst>
              <a:gd name="textAreaLeft" fmla="*/ 178560 w 1143000"/>
              <a:gd name="textAreaRight" fmla="*/ 1087560 w 1143000"/>
              <a:gd name="textAreaTop" fmla="*/ 115920 h 304920"/>
              <a:gd name="textAreaBottom" fmla="*/ 1890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8212"/>
                </a:moveTo>
                <a:lnTo>
                  <a:pt x="17220" y="8212"/>
                </a:lnTo>
                <a:lnTo>
                  <a:pt x="17220" y="0"/>
                </a:lnTo>
                <a:lnTo>
                  <a:pt x="21600" y="10800"/>
                </a:lnTo>
                <a:lnTo>
                  <a:pt x="17220" y="21600"/>
                </a:lnTo>
                <a:lnTo>
                  <a:pt x="17220" y="13388"/>
                </a:lnTo>
                <a:lnTo>
                  <a:pt x="3375" y="13388"/>
                </a:lnTo>
                <a:close/>
              </a:path>
              <a:path w="21600" h="21600">
                <a:moveTo>
                  <a:pt x="0" y="8212"/>
                </a:moveTo>
                <a:lnTo>
                  <a:pt x="675" y="8212"/>
                </a:lnTo>
                <a:lnTo>
                  <a:pt x="675" y="13388"/>
                </a:lnTo>
                <a:lnTo>
                  <a:pt x="0" y="13388"/>
                </a:lnTo>
                <a:close/>
              </a:path>
              <a:path w="21600" h="21600">
                <a:moveTo>
                  <a:pt x="1350" y="8212"/>
                </a:moveTo>
                <a:lnTo>
                  <a:pt x="2700" y="8212"/>
                </a:lnTo>
                <a:lnTo>
                  <a:pt x="2700" y="13388"/>
                </a:lnTo>
                <a:lnTo>
                  <a:pt x="1350" y="13388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440240" y="189216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rot="17809800">
            <a:off x="4582440" y="28249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133720" y="241452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spec and IEEE802.15 (2)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9" name=""/>
          <p:cNvSpPr/>
          <p:nvPr/>
        </p:nvSpPr>
        <p:spPr>
          <a:xfrm>
            <a:off x="3318840" y="28051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1905120" y="3276720"/>
            <a:ext cx="6324480" cy="2590560"/>
            <a:chOff x="1905120" y="3276720"/>
            <a:chExt cx="6324480" cy="2590560"/>
          </a:xfrm>
        </p:grpSpPr>
        <p:sp>
          <p:nvSpPr>
            <p:cNvPr id="1111" name=""/>
            <p:cNvSpPr/>
            <p:nvPr/>
          </p:nvSpPr>
          <p:spPr>
            <a:xfrm>
              <a:off x="1905120" y="3276720"/>
              <a:ext cx="3581280" cy="2590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562720" y="3657600"/>
              <a:ext cx="426960" cy="1828800"/>
            </a:xfrm>
            <a:custGeom>
              <a:avLst/>
              <a:gdLst>
                <a:gd name="textAreaLeft" fmla="*/ 0 w 426960"/>
                <a:gd name="textAreaRight" fmla="*/ 154080 w 42696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095880" y="437364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2133720" y="3716280"/>
            <a:ext cx="709560" cy="91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133720" y="189216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006720" y="189216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613320" y="189216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133720" y="1371600"/>
            <a:ext cx="3786120" cy="423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133720" y="5214960"/>
            <a:ext cx="2898720" cy="4237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133720" y="4694400"/>
            <a:ext cx="2898720" cy="4554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901960" y="4205160"/>
            <a:ext cx="2130480" cy="42408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901960" y="3716280"/>
            <a:ext cx="1360440" cy="42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D164-8A62-4714-B2A9-2285DC2BAB76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797440" y="304920"/>
          <a:ext cx="3422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04920"/>
                    <a:ext cx="3422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o is Bluetooth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rald Blaatand “Bluetooth” II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ing of Denmark 940-981 A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 is one of two Runic stones erected in his capital city of Jell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stone’s inscription (“runes”) says: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christianized the Dan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controlled the Dan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believes that devices shall seamlessly communicate [wirelessly]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727600" y="3048120"/>
            <a:ext cx="2806920" cy="30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FF6B-B35B-4B03-8489-1572006019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Protocol layering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24" name=""/>
          <p:cNvSpPr/>
          <p:nvPr/>
        </p:nvSpPr>
        <p:spPr>
          <a:xfrm>
            <a:off x="2898720" y="1395360"/>
            <a:ext cx="2251080" cy="3319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898720" y="2128680"/>
            <a:ext cx="225108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671920" y="2128680"/>
            <a:ext cx="22068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671920" y="2862360"/>
            <a:ext cx="39024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478400" y="2862360"/>
            <a:ext cx="89676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575160" y="2862360"/>
            <a:ext cx="44604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340320" y="2862360"/>
            <a:ext cx="27648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664000" y="2462040"/>
            <a:ext cx="936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664000" y="253692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664000" y="26114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664000" y="26859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64000" y="276228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664000" y="28368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057480" y="24033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057480" y="24796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057480" y="255600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057480" y="2630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057480" y="27068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057480" y="278136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057480" y="2854440"/>
            <a:ext cx="11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062160" y="2460600"/>
            <a:ext cx="41400" cy="36360"/>
          </a:xfrm>
          <a:custGeom>
            <a:avLst/>
            <a:gdLst/>
            <a:ahLst/>
            <a:rect l="l" t="t" r="r" b="b"/>
            <a:pathLst>
              <a:path w="47" h="42">
                <a:moveTo>
                  <a:pt x="5" y="0"/>
                </a:moveTo>
                <a:lnTo>
                  <a:pt x="0" y="9"/>
                </a:lnTo>
                <a:lnTo>
                  <a:pt x="41" y="42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137040" y="2519280"/>
            <a:ext cx="41040" cy="3672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213000" y="2576520"/>
            <a:ext cx="41400" cy="38160"/>
          </a:xfrm>
          <a:custGeom>
            <a:avLst/>
            <a:gdLst/>
            <a:ahLst/>
            <a:rect l="l" t="t" r="r" b="b"/>
            <a:pathLst>
              <a:path w="47" h="40">
                <a:moveTo>
                  <a:pt x="5" y="0"/>
                </a:moveTo>
                <a:lnTo>
                  <a:pt x="0" y="8"/>
                </a:lnTo>
                <a:lnTo>
                  <a:pt x="42" y="40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286080" y="2635200"/>
            <a:ext cx="42840" cy="36720"/>
          </a:xfrm>
          <a:custGeom>
            <a:avLst/>
            <a:gdLst/>
            <a:ahLst/>
            <a:rect l="l" t="t" r="r" b="b"/>
            <a:pathLst>
              <a:path w="47" h="41">
                <a:moveTo>
                  <a:pt x="5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362400" y="2693880"/>
            <a:ext cx="42840" cy="36720"/>
          </a:xfrm>
          <a:custGeom>
            <a:avLst/>
            <a:gdLst/>
            <a:ahLst/>
            <a:rect l="l" t="t" r="r" b="b"/>
            <a:pathLst>
              <a:path w="47" h="42">
                <a:moveTo>
                  <a:pt x="5" y="0"/>
                </a:moveTo>
                <a:lnTo>
                  <a:pt x="0" y="9"/>
                </a:lnTo>
                <a:lnTo>
                  <a:pt x="41" y="42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436920" y="2752560"/>
            <a:ext cx="42840" cy="36720"/>
          </a:xfrm>
          <a:custGeom>
            <a:avLst/>
            <a:gdLst/>
            <a:ahLst/>
            <a:rect l="l" t="t" r="r" b="b"/>
            <a:pathLst>
              <a:path w="47" h="40">
                <a:moveTo>
                  <a:pt x="6" y="0"/>
                </a:moveTo>
                <a:lnTo>
                  <a:pt x="0" y="9"/>
                </a:lnTo>
                <a:lnTo>
                  <a:pt x="42" y="40"/>
                </a:lnTo>
                <a:lnTo>
                  <a:pt x="47" y="3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513240" y="2811600"/>
            <a:ext cx="42840" cy="36360"/>
          </a:xfrm>
          <a:custGeom>
            <a:avLst/>
            <a:gdLst/>
            <a:ahLst/>
            <a:rect l="l" t="t" r="r" b="b"/>
            <a:pathLst>
              <a:path w="47" h="41">
                <a:moveTo>
                  <a:pt x="5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457440" y="2460600"/>
            <a:ext cx="4140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530520" y="2511360"/>
            <a:ext cx="42840" cy="349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606840" y="2565360"/>
            <a:ext cx="42840" cy="349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8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681360" y="2617920"/>
            <a:ext cx="42840" cy="34920"/>
          </a:xfrm>
          <a:custGeom>
            <a:avLst/>
            <a:gdLst/>
            <a:ahLst/>
            <a:rect l="l" t="t" r="r" b="b"/>
            <a:pathLst>
              <a:path w="48" h="38">
                <a:moveTo>
                  <a:pt x="6" y="0"/>
                </a:moveTo>
                <a:lnTo>
                  <a:pt x="0" y="7"/>
                </a:lnTo>
                <a:lnTo>
                  <a:pt x="42" y="38"/>
                </a:lnTo>
                <a:lnTo>
                  <a:pt x="48" y="2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757680" y="2670120"/>
            <a:ext cx="4284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832200" y="2722680"/>
            <a:ext cx="42840" cy="331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908520" y="2776680"/>
            <a:ext cx="41040" cy="331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83040" y="2828880"/>
            <a:ext cx="41400" cy="33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6" y="0"/>
                </a:moveTo>
                <a:lnTo>
                  <a:pt x="0" y="8"/>
                </a:lnTo>
                <a:lnTo>
                  <a:pt x="42" y="38"/>
                </a:lnTo>
                <a:lnTo>
                  <a:pt x="48" y="2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457440" y="2460600"/>
            <a:ext cx="414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9"/>
                </a:lnTo>
                <a:lnTo>
                  <a:pt x="41" y="26"/>
                </a:lnTo>
                <a:lnTo>
                  <a:pt x="44" y="16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532320" y="248904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608280" y="2519280"/>
            <a:ext cx="39960" cy="20880"/>
          </a:xfrm>
          <a:custGeom>
            <a:avLst/>
            <a:gdLst/>
            <a:ahLst/>
            <a:rect l="l" t="t" r="r" b="b"/>
            <a:pathLst>
              <a:path w="44" h="25">
                <a:moveTo>
                  <a:pt x="3" y="0"/>
                </a:moveTo>
                <a:lnTo>
                  <a:pt x="0" y="10"/>
                </a:lnTo>
                <a:lnTo>
                  <a:pt x="42" y="25"/>
                </a:lnTo>
                <a:lnTo>
                  <a:pt x="44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683160" y="2546280"/>
            <a:ext cx="3960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10"/>
                </a:lnTo>
                <a:lnTo>
                  <a:pt x="42" y="26"/>
                </a:lnTo>
                <a:lnTo>
                  <a:pt x="44" y="17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759120" y="257652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833640" y="2604960"/>
            <a:ext cx="39960" cy="241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1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908520" y="2633760"/>
            <a:ext cx="41040" cy="25200"/>
          </a:xfrm>
          <a:custGeom>
            <a:avLst/>
            <a:gdLst/>
            <a:ahLst/>
            <a:rect l="l" t="t" r="r" b="b"/>
            <a:pathLst>
              <a:path w="44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4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983040" y="2665440"/>
            <a:ext cx="414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9"/>
                </a:lnTo>
                <a:lnTo>
                  <a:pt x="42" y="26"/>
                </a:lnTo>
                <a:lnTo>
                  <a:pt x="44" y="15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059360" y="269388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135320" y="2722680"/>
            <a:ext cx="38160" cy="2520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210200" y="2752560"/>
            <a:ext cx="39600" cy="24120"/>
          </a:xfrm>
          <a:custGeom>
            <a:avLst/>
            <a:gdLst/>
            <a:ahLst/>
            <a:rect l="l" t="t" r="r" b="b"/>
            <a:pathLst>
              <a:path w="44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4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286160" y="2781360"/>
            <a:ext cx="39600" cy="23760"/>
          </a:xfrm>
          <a:custGeom>
            <a:avLst/>
            <a:gdLst/>
            <a:ahLst/>
            <a:rect l="l" t="t" r="r" b="b"/>
            <a:pathLst>
              <a:path w="44" h="25">
                <a:moveTo>
                  <a:pt x="2" y="0"/>
                </a:moveTo>
                <a:lnTo>
                  <a:pt x="0" y="10"/>
                </a:lnTo>
                <a:lnTo>
                  <a:pt x="42" y="25"/>
                </a:lnTo>
                <a:lnTo>
                  <a:pt x="44" y="16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361040" y="280980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437000" y="2838600"/>
            <a:ext cx="39600" cy="23760"/>
          </a:xfrm>
          <a:custGeom>
            <a:avLst/>
            <a:gdLst/>
            <a:ahLst/>
            <a:rect l="l" t="t" r="r" b="b"/>
            <a:pathLst>
              <a:path w="45" h="27">
                <a:moveTo>
                  <a:pt x="3" y="0"/>
                </a:moveTo>
                <a:lnTo>
                  <a:pt x="0" y="11"/>
                </a:lnTo>
                <a:lnTo>
                  <a:pt x="42" y="27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338800" y="2838600"/>
            <a:ext cx="39600" cy="23760"/>
          </a:xfrm>
          <a:custGeom>
            <a:avLst/>
            <a:gdLst/>
            <a:ahLst/>
            <a:rect l="l" t="t" r="r" b="b"/>
            <a:pathLst>
              <a:path w="45" h="27">
                <a:moveTo>
                  <a:pt x="42" y="27"/>
                </a:moveTo>
                <a:lnTo>
                  <a:pt x="45" y="17"/>
                </a:lnTo>
                <a:lnTo>
                  <a:pt x="3" y="0"/>
                </a:lnTo>
                <a:lnTo>
                  <a:pt x="0" y="11"/>
                </a:lnTo>
                <a:lnTo>
                  <a:pt x="42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264280" y="2809800"/>
            <a:ext cx="378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187960" y="2781360"/>
            <a:ext cx="41400" cy="23760"/>
          </a:xfrm>
          <a:custGeom>
            <a:avLst/>
            <a:gdLst/>
            <a:ahLst/>
            <a:rect l="l" t="t" r="r" b="b"/>
            <a:pathLst>
              <a:path w="44" h="25">
                <a:moveTo>
                  <a:pt x="41" y="25"/>
                </a:moveTo>
                <a:lnTo>
                  <a:pt x="44" y="16"/>
                </a:lnTo>
                <a:lnTo>
                  <a:pt x="2" y="0"/>
                </a:lnTo>
                <a:lnTo>
                  <a:pt x="0" y="10"/>
                </a:lnTo>
                <a:lnTo>
                  <a:pt x="41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111640" y="2752560"/>
            <a:ext cx="41400" cy="2412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5"/>
                </a:lnTo>
                <a:lnTo>
                  <a:pt x="2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038560" y="2722680"/>
            <a:ext cx="39960" cy="2520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962600" y="269388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888080" y="2665440"/>
            <a:ext cx="396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41" y="26"/>
                </a:moveTo>
                <a:lnTo>
                  <a:pt x="44" y="15"/>
                </a:lnTo>
                <a:lnTo>
                  <a:pt x="2" y="0"/>
                </a:lnTo>
                <a:lnTo>
                  <a:pt x="0" y="9"/>
                </a:lnTo>
                <a:lnTo>
                  <a:pt x="41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811760" y="2633760"/>
            <a:ext cx="39600" cy="2520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7"/>
                </a:lnTo>
                <a:lnTo>
                  <a:pt x="2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737240" y="2604960"/>
            <a:ext cx="39600" cy="241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1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660920" y="257652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586400" y="2546280"/>
            <a:ext cx="4104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7"/>
                </a:lnTo>
                <a:lnTo>
                  <a:pt x="2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510080" y="2519280"/>
            <a:ext cx="41400" cy="20880"/>
          </a:xfrm>
          <a:custGeom>
            <a:avLst/>
            <a:gdLst/>
            <a:ahLst/>
            <a:rect l="l" t="t" r="r" b="b"/>
            <a:pathLst>
              <a:path w="44" h="25">
                <a:moveTo>
                  <a:pt x="42" y="25"/>
                </a:moveTo>
                <a:lnTo>
                  <a:pt x="44" y="16"/>
                </a:lnTo>
                <a:lnTo>
                  <a:pt x="3" y="0"/>
                </a:lnTo>
                <a:lnTo>
                  <a:pt x="0" y="10"/>
                </a:lnTo>
                <a:lnTo>
                  <a:pt x="42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37000" y="248904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5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361040" y="246060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149800" y="2460600"/>
            <a:ext cx="414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9"/>
                </a:lnTo>
                <a:lnTo>
                  <a:pt x="42" y="21"/>
                </a:lnTo>
                <a:lnTo>
                  <a:pt x="44" y="1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226120" y="2479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300640" y="24987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76960" y="251928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3" y="0"/>
                </a:moveTo>
                <a:lnTo>
                  <a:pt x="0" y="10"/>
                </a:lnTo>
                <a:lnTo>
                  <a:pt x="42" y="22"/>
                </a:lnTo>
                <a:lnTo>
                  <a:pt x="44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451480" y="2540160"/>
            <a:ext cx="39600" cy="2052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9"/>
                </a:lnTo>
                <a:lnTo>
                  <a:pt x="42" y="21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527800" y="2560680"/>
            <a:ext cx="39600" cy="19080"/>
          </a:xfrm>
          <a:custGeom>
            <a:avLst/>
            <a:gdLst/>
            <a:ahLst/>
            <a:rect l="l" t="t" r="r" b="b"/>
            <a:pathLst>
              <a:path w="45" h="20">
                <a:moveTo>
                  <a:pt x="3" y="0"/>
                </a:moveTo>
                <a:lnTo>
                  <a:pt x="0" y="10"/>
                </a:lnTo>
                <a:lnTo>
                  <a:pt x="42" y="20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603760" y="2579760"/>
            <a:ext cx="3816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0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676840" y="260028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3" y="0"/>
                </a:moveTo>
                <a:lnTo>
                  <a:pt x="0" y="10"/>
                </a:lnTo>
                <a:lnTo>
                  <a:pt x="42" y="22"/>
                </a:lnTo>
                <a:lnTo>
                  <a:pt x="44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753160" y="2620800"/>
            <a:ext cx="4104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1"/>
                </a:lnTo>
                <a:lnTo>
                  <a:pt x="42" y="22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827680" y="2641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904000" y="26607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0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978520" y="268272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1"/>
                </a:lnTo>
                <a:lnTo>
                  <a:pt x="42" y="22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54840" y="2701800"/>
            <a:ext cx="39600" cy="20880"/>
          </a:xfrm>
          <a:custGeom>
            <a:avLst/>
            <a:gdLst/>
            <a:ahLst/>
            <a:rect l="l" t="t" r="r" b="b"/>
            <a:pathLst>
              <a:path w="44" h="23">
                <a:moveTo>
                  <a:pt x="2" y="0"/>
                </a:moveTo>
                <a:lnTo>
                  <a:pt x="0" y="11"/>
                </a:lnTo>
                <a:lnTo>
                  <a:pt x="41" y="23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129360" y="2722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205680" y="27432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278400" y="2763720"/>
            <a:ext cx="414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11"/>
                </a:lnTo>
                <a:lnTo>
                  <a:pt x="42" y="21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354720" y="2782800"/>
            <a:ext cx="4140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0"/>
                </a:lnTo>
                <a:lnTo>
                  <a:pt x="41" y="22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429240" y="2805120"/>
            <a:ext cx="39960" cy="172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505560" y="28242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580080" y="2844720"/>
            <a:ext cx="3996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10"/>
                </a:lnTo>
                <a:lnTo>
                  <a:pt x="42" y="21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299280" y="2844720"/>
            <a:ext cx="396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1"/>
                </a:lnTo>
                <a:lnTo>
                  <a:pt x="2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222960" y="28242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148440" y="2805120"/>
            <a:ext cx="38160" cy="172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072120" y="2782800"/>
            <a:ext cx="4140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1" y="22"/>
                </a:moveTo>
                <a:lnTo>
                  <a:pt x="44" y="11"/>
                </a:lnTo>
                <a:lnTo>
                  <a:pt x="2" y="0"/>
                </a:lnTo>
                <a:lnTo>
                  <a:pt x="0" y="10"/>
                </a:lnTo>
                <a:lnTo>
                  <a:pt x="41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996160" y="2763720"/>
            <a:ext cx="4284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923080" y="27432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848200" y="2722680"/>
            <a:ext cx="3816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0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772240" y="2701800"/>
            <a:ext cx="39600" cy="20880"/>
          </a:xfrm>
          <a:custGeom>
            <a:avLst/>
            <a:gdLst/>
            <a:ahLst/>
            <a:rect l="l" t="t" r="r" b="b"/>
            <a:pathLst>
              <a:path w="44" h="23">
                <a:moveTo>
                  <a:pt x="41" y="23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695920" y="268272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621400" y="26607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545080" y="2641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0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470560" y="2620800"/>
            <a:ext cx="4140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1" y="22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1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394240" y="260028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2"/>
                </a:lnTo>
                <a:lnTo>
                  <a:pt x="2" y="0"/>
                </a:lnTo>
                <a:lnTo>
                  <a:pt x="0" y="1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21160" y="2579760"/>
            <a:ext cx="3996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245200" y="2560680"/>
            <a:ext cx="39600" cy="19080"/>
          </a:xfrm>
          <a:custGeom>
            <a:avLst/>
            <a:gdLst/>
            <a:ahLst/>
            <a:rect l="l" t="t" r="r" b="b"/>
            <a:pathLst>
              <a:path w="45" h="20">
                <a:moveTo>
                  <a:pt x="42" y="20"/>
                </a:moveTo>
                <a:lnTo>
                  <a:pt x="45" y="10"/>
                </a:lnTo>
                <a:lnTo>
                  <a:pt x="3" y="0"/>
                </a:lnTo>
                <a:lnTo>
                  <a:pt x="0" y="10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170320" y="2540160"/>
            <a:ext cx="39960" cy="2052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1"/>
                </a:lnTo>
                <a:lnTo>
                  <a:pt x="2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094360" y="251928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1"/>
                </a:lnTo>
                <a:lnTo>
                  <a:pt x="3" y="0"/>
                </a:lnTo>
                <a:lnTo>
                  <a:pt x="0" y="1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019840" y="2498760"/>
            <a:ext cx="378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943520" y="2479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867200" y="2460600"/>
            <a:ext cx="414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0"/>
                </a:lnTo>
                <a:lnTo>
                  <a:pt x="2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889360" y="2089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889360" y="20145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889360" y="19382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889360" y="1863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889360" y="178920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889360" y="172872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46560" y="1728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146560" y="180180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146560" y="18781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146560" y="19526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146560" y="20289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146560" y="2104920"/>
            <a:ext cx="1116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671920" y="3595680"/>
            <a:ext cx="39024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057480" y="3556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057480" y="34797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057480" y="34052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057480" y="33307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057480" y="3255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057480" y="3193920"/>
            <a:ext cx="111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664000" y="3556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664000" y="34797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664000" y="34052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664000" y="333072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664000" y="32558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664000" y="3193920"/>
            <a:ext cx="93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502000" y="3595680"/>
            <a:ext cx="16488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575160" y="3595680"/>
            <a:ext cx="44604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502000" y="4327560"/>
            <a:ext cx="56016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494080" y="42879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494080" y="4213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494080" y="41371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494080" y="40640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494080" y="3987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494080" y="39276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057480" y="42879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057480" y="4213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057480" y="41371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057480" y="40640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057480" y="3987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057480" y="39276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333520" y="43275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478400" y="3595680"/>
            <a:ext cx="89676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340320" y="3595680"/>
            <a:ext cx="27648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567240" y="3556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567240" y="34797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567240" y="3405240"/>
            <a:ext cx="79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567240" y="333072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567240" y="32558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567240" y="3193920"/>
            <a:ext cx="79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017960" y="3556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017960" y="34797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017960" y="34052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017960" y="33307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017960" y="3255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017960" y="3193920"/>
            <a:ext cx="111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470480" y="3556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470480" y="34797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470480" y="34052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70480" y="333072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470480" y="32558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470480" y="3193920"/>
            <a:ext cx="93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373720" y="3556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373720" y="34797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373720" y="3405240"/>
            <a:ext cx="79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373720" y="333072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373720" y="32558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373720" y="3193920"/>
            <a:ext cx="79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332400" y="355608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6332400" y="34797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332400" y="3405240"/>
            <a:ext cx="97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332400" y="333072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332400" y="32558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332400" y="3193920"/>
            <a:ext cx="97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615000" y="355608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615000" y="34797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615000" y="3405240"/>
            <a:ext cx="97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615000" y="333072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615000" y="32558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615000" y="3193920"/>
            <a:ext cx="97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397320" y="428796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397320" y="4213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397320" y="41371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397320" y="40640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397320" y="39877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397320" y="39276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406680" y="4327560"/>
            <a:ext cx="61452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406680" y="3595680"/>
            <a:ext cx="16200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308480" y="3595680"/>
            <a:ext cx="16344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170760" y="3595680"/>
            <a:ext cx="16344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235320" y="43275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017960" y="42879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017960" y="4213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17960" y="41371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017960" y="40640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017960" y="3987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017960" y="39276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300560" y="428796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300560" y="4213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300560" y="41371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300560" y="40640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300560" y="39877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300560" y="39276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373720" y="428796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373720" y="4213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373720" y="41371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373720" y="40640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373720" y="39877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373720" y="392760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164280" y="428796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164280" y="4213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164280" y="41371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164280" y="40640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164280" y="39877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164280" y="392760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615000" y="428796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615000" y="421308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615000" y="413712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615000" y="40640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615000" y="398772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615000" y="3927600"/>
            <a:ext cx="97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308480" y="4327560"/>
            <a:ext cx="106668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140360" y="43275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002280" y="43275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370160" y="2689200"/>
            <a:ext cx="62118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370160" y="4098960"/>
            <a:ext cx="621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990720" y="4876920"/>
            <a:ext cx="6591240" cy="14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1484280" y="2060280"/>
            <a:ext cx="1800" cy="52380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438200" y="254628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0" y="0"/>
                </a:moveTo>
                <a:lnTo>
                  <a:pt x="50" y="20"/>
                </a:lnTo>
                <a:lnTo>
                  <a:pt x="99" y="0"/>
                </a:lnTo>
                <a:lnTo>
                  <a:pt x="50" y="1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438200" y="195588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1484280" y="2793600"/>
            <a:ext cx="1800" cy="119844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438200" y="3954600"/>
            <a:ext cx="90720" cy="144360"/>
          </a:xfrm>
          <a:custGeom>
            <a:avLst/>
            <a:gdLst/>
            <a:ahLst/>
            <a:rect l="l" t="t" r="r" b="b"/>
            <a:pathLst>
              <a:path w="99" h="160">
                <a:moveTo>
                  <a:pt x="0" y="0"/>
                </a:moveTo>
                <a:lnTo>
                  <a:pt x="50" y="20"/>
                </a:lnTo>
                <a:lnTo>
                  <a:pt x="99" y="0"/>
                </a:lnTo>
                <a:lnTo>
                  <a:pt x="50" y="1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438200" y="268920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1484280" y="4203360"/>
            <a:ext cx="1800" cy="57924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438200" y="474516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0" y="0"/>
                </a:moveTo>
                <a:lnTo>
                  <a:pt x="50" y="19"/>
                </a:lnTo>
                <a:lnTo>
                  <a:pt x="99" y="0"/>
                </a:lnTo>
                <a:lnTo>
                  <a:pt x="50" y="1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438200" y="409896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99" y="159"/>
                </a:moveTo>
                <a:lnTo>
                  <a:pt x="50" y="139"/>
                </a:lnTo>
                <a:lnTo>
                  <a:pt x="0" y="159"/>
                </a:lnTo>
                <a:lnTo>
                  <a:pt x="50" y="0"/>
                </a:lnTo>
                <a:lnTo>
                  <a:pt x="99" y="1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1484280" y="1272960"/>
            <a:ext cx="180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38200" y="116676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1484280" y="4887720"/>
            <a:ext cx="1800" cy="401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438200" y="525132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0" y="0"/>
                </a:moveTo>
                <a:lnTo>
                  <a:pt x="50" y="19"/>
                </a:lnTo>
                <a:lnTo>
                  <a:pt x="99" y="0"/>
                </a:lnTo>
                <a:lnTo>
                  <a:pt x="50" y="1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521720" y="1082520"/>
            <a:ext cx="149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pper” lay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641960" y="243828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2C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555560" y="3200400"/>
            <a:ext cx="960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616400" y="46386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B(MA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598040" y="5033880"/>
            <a:ext cx="1387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B(PHY)+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283720" y="1479600"/>
            <a:ext cx="64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L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5246640" y="2211480"/>
            <a:ext cx="96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2CAP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739200" y="29448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M_S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739200" y="367812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M_P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11240" y="1973160"/>
            <a:ext cx="68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2CAP_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361040" y="2033640"/>
            <a:ext cx="7412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081760" y="2003400"/>
            <a:ext cx="6984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0" y="68"/>
                </a:moveTo>
                <a:lnTo>
                  <a:pt x="11" y="34"/>
                </a:lnTo>
                <a:lnTo>
                  <a:pt x="0" y="0"/>
                </a:lnTo>
                <a:lnTo>
                  <a:pt x="78" y="34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2946240" y="2033640"/>
            <a:ext cx="7416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94040" y="2003400"/>
            <a:ext cx="6984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78" y="0"/>
                </a:moveTo>
                <a:lnTo>
                  <a:pt x="67" y="34"/>
                </a:lnTo>
                <a:lnTo>
                  <a:pt x="78" y="68"/>
                </a:lnTo>
                <a:lnTo>
                  <a:pt x="0" y="34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739200" y="44100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B_P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057480" y="24559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057480" y="24192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05748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05748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057480" y="2305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057480" y="22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057480" y="22305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057480" y="21938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057480" y="21556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452760" y="24559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452760" y="24192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45276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5276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452760" y="2305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452760" y="22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452760" y="22305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452760" y="21938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452760" y="21556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357800" y="24559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357800" y="24192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357800" y="23814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357800" y="234324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357800" y="230508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357800" y="226692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357800" y="223056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7800" y="21938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357800" y="2155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863960" y="24559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863960" y="24192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86396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86396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863960" y="2305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863960" y="22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863960" y="22305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863960" y="21938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863960" y="21556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488200" y="296532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221160" y="41720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B_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H="1">
            <a:off x="5998680" y="4232160"/>
            <a:ext cx="11772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097680" y="4202280"/>
            <a:ext cx="69840" cy="61920"/>
          </a:xfrm>
          <a:custGeom>
            <a:avLst/>
            <a:gdLst/>
            <a:ahLst/>
            <a:rect l="l" t="t" r="r" b="b"/>
            <a:pathLst>
              <a:path w="79" h="68">
                <a:moveTo>
                  <a:pt x="0" y="68"/>
                </a:moveTo>
                <a:lnTo>
                  <a:pt x="12" y="34"/>
                </a:lnTo>
                <a:lnTo>
                  <a:pt x="0" y="0"/>
                </a:lnTo>
                <a:lnTo>
                  <a:pt x="79" y="34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6671880" y="4232160"/>
            <a:ext cx="11916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618240" y="4202280"/>
            <a:ext cx="7308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78" y="0"/>
                </a:moveTo>
                <a:lnTo>
                  <a:pt x="67" y="34"/>
                </a:lnTo>
                <a:lnTo>
                  <a:pt x="78" y="68"/>
                </a:lnTo>
                <a:lnTo>
                  <a:pt x="0" y="34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160720" y="1785960"/>
            <a:ext cx="468360" cy="417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595600" y="2168640"/>
            <a:ext cx="73080" cy="68040"/>
          </a:xfrm>
          <a:custGeom>
            <a:avLst/>
            <a:gdLst/>
            <a:ahLst/>
            <a:rect l="l" t="t" r="r" b="b"/>
            <a:pathLst>
              <a:path w="82" h="77">
                <a:moveTo>
                  <a:pt x="0" y="51"/>
                </a:moveTo>
                <a:lnTo>
                  <a:pt x="32" y="32"/>
                </a:lnTo>
                <a:lnTo>
                  <a:pt x="45" y="0"/>
                </a:lnTo>
                <a:lnTo>
                  <a:pt x="82" y="77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160720" y="1785960"/>
            <a:ext cx="436320" cy="1751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565360" y="3514680"/>
            <a:ext cx="58680" cy="76320"/>
          </a:xfrm>
          <a:custGeom>
            <a:avLst/>
            <a:gdLst/>
            <a:ahLst/>
            <a:rect l="l" t="t" r="r" b="b"/>
            <a:pathLst>
              <a:path w="67" h="86">
                <a:moveTo>
                  <a:pt x="0" y="17"/>
                </a:moveTo>
                <a:lnTo>
                  <a:pt x="37" y="21"/>
                </a:lnTo>
                <a:lnTo>
                  <a:pt x="67" y="0"/>
                </a:lnTo>
                <a:lnTo>
                  <a:pt x="53" y="86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160720" y="1785960"/>
            <a:ext cx="276120" cy="2484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403360" y="4251240"/>
            <a:ext cx="61920" cy="7308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8"/>
                </a:moveTo>
                <a:lnTo>
                  <a:pt x="35" y="16"/>
                </a:lnTo>
                <a:lnTo>
                  <a:pt x="68" y="0"/>
                </a:lnTo>
                <a:lnTo>
                  <a:pt x="43" y="83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915120" y="1595520"/>
            <a:ext cx="149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protoco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441800" y="17064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h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269680" y="521352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DU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597640" y="5213520"/>
            <a:ext cx="202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tocol data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256720" y="539280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DU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713560" y="5394240"/>
            <a:ext cx="181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rvice data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170760" y="4327560"/>
            <a:ext cx="44604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430960" y="36972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472720" y="443088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V="1">
            <a:off x="1219320" y="19810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990720" y="1981080"/>
            <a:ext cx="6591240" cy="14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rot="16200000">
            <a:off x="503280" y="3244320"/>
            <a:ext cx="106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802.15 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BA0D-6E47-4089-8162-D23F1E08A3E0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/>
          <p:nvPr/>
        </p:nvSpPr>
        <p:spPr>
          <a:xfrm>
            <a:off x="838080" y="2141640"/>
            <a:ext cx="746784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2CAP PDU compone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43" name=""/>
          <p:cNvSpPr/>
          <p:nvPr/>
        </p:nvSpPr>
        <p:spPr>
          <a:xfrm>
            <a:off x="1735200" y="9907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CA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643760" y="133992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 (or 6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657600" y="99072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CAP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832920" y="133992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64K-1 (or -3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2CAP header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2CAP payloa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channel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‘0x0001’ the L2CAP payload is generated and interpreted by the L2CAP layer itself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, the payload is passed to the appropriate higher lay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448" name=""/>
          <p:cNvGraphicFramePr/>
          <p:nvPr/>
        </p:nvGraphicFramePr>
        <p:xfrm>
          <a:off x="1371600" y="2293920"/>
          <a:ext cx="7162920" cy="162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93920"/>
                    <a:ext cx="716292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0" name=""/>
          <p:cNvSpPr/>
          <p:nvPr/>
        </p:nvSpPr>
        <p:spPr>
          <a:xfrm>
            <a:off x="753120" y="3672000"/>
            <a:ext cx="71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)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ent only for connectionless traffic (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channel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`0x0001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1" name=""/>
          <p:cNvGrpSpPr/>
          <p:nvPr/>
        </p:nvGrpSpPr>
        <p:grpSpPr>
          <a:xfrm>
            <a:off x="1221480" y="685800"/>
            <a:ext cx="6520320" cy="337320"/>
            <a:chOff x="1221480" y="685800"/>
            <a:chExt cx="6520320" cy="337320"/>
          </a:xfrm>
        </p:grpSpPr>
        <p:sp>
          <p:nvSpPr>
            <p:cNvPr id="1452" name=""/>
            <p:cNvSpPr/>
            <p:nvPr/>
          </p:nvSpPr>
          <p:spPr>
            <a:xfrm>
              <a:off x="122148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19532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800360" y="8539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8034-EA89-4DE9-ABDF-EB309862B64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838080" y="2071800"/>
            <a:ext cx="7467840" cy="2286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CL PDU (ACLP) compone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57" name=""/>
          <p:cNvSpPr/>
          <p:nvPr/>
        </p:nvSpPr>
        <p:spPr>
          <a:xfrm>
            <a:off x="1735200" y="9907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1643760" y="133992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 (or 2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657600" y="99072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P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442760" y="133992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339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LP header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LP payloa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n L_CH=‘b11’ the ACLP payload is generated and interpreted by the ACLP layer itself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k Manager (LM) PDUs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, the payload is passed to the appropriate higher layer (L2CAP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462" name=""/>
          <p:cNvGraphicFramePr/>
          <p:nvPr/>
        </p:nvGraphicFramePr>
        <p:xfrm>
          <a:off x="1295280" y="2147760"/>
          <a:ext cx="7162920" cy="19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47760"/>
                    <a:ext cx="71629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4" name=""/>
          <p:cNvSpPr/>
          <p:nvPr/>
        </p:nvSpPr>
        <p:spPr>
          <a:xfrm>
            <a:off x="757080" y="3747960"/>
            <a:ext cx="4493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for multislot baseband packets</a:t>
            </a:r>
            <a:br>
              <a:rPr sz="14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*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ent only when length is 9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5" name=""/>
          <p:cNvGrpSpPr/>
          <p:nvPr/>
        </p:nvGrpSpPr>
        <p:grpSpPr>
          <a:xfrm>
            <a:off x="1221480" y="685800"/>
            <a:ext cx="6520320" cy="337320"/>
            <a:chOff x="1221480" y="685800"/>
            <a:chExt cx="6520320" cy="337320"/>
          </a:xfrm>
        </p:grpSpPr>
        <p:sp>
          <p:nvSpPr>
            <p:cNvPr id="1466" name=""/>
            <p:cNvSpPr/>
            <p:nvPr/>
          </p:nvSpPr>
          <p:spPr>
            <a:xfrm>
              <a:off x="122148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19532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800360" y="8539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F371-FD57-476F-8DB8-4EB3882F7EB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"/>
          <p:cNvSpPr/>
          <p:nvPr/>
        </p:nvSpPr>
        <p:spPr>
          <a:xfrm>
            <a:off x="838080" y="2133720"/>
            <a:ext cx="746784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DU compone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71" name=""/>
          <p:cNvSpPr/>
          <p:nvPr/>
        </p:nvSpPr>
        <p:spPr>
          <a:xfrm>
            <a:off x="1735200" y="9907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131560" y="133992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8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657600" y="99072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42760" y="133992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339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B header (encoded with 1/3-rate FEC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B payloa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+CRC encoded with {1,2,3}/3-rate FEC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PDU_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Dxy, HVx, DV, AUX1 the BB payload is passed to the appropriate higher layer (LM for ACL packets, an application for SCO packets, AUX1?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, header information or in the FHS payload is used to facilitate &amp; manage baseband transmission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C: present only in non-AUX, ACL packe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476" name=""/>
          <p:cNvGraphicFramePr/>
          <p:nvPr/>
        </p:nvGraphicFramePr>
        <p:xfrm>
          <a:off x="1295280" y="2209680"/>
          <a:ext cx="7162920" cy="19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09680"/>
                    <a:ext cx="71629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8" name=""/>
          <p:cNvGrpSpPr/>
          <p:nvPr/>
        </p:nvGrpSpPr>
        <p:grpSpPr>
          <a:xfrm>
            <a:off x="1221480" y="685800"/>
            <a:ext cx="6520320" cy="337320"/>
            <a:chOff x="1221480" y="685800"/>
            <a:chExt cx="6520320" cy="337320"/>
          </a:xfrm>
        </p:grpSpPr>
        <p:sp>
          <p:nvSpPr>
            <p:cNvPr id="1479" name=""/>
            <p:cNvSpPr/>
            <p:nvPr/>
          </p:nvSpPr>
          <p:spPr>
            <a:xfrm>
              <a:off x="122148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19532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800360" y="8539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2" name=""/>
          <p:cNvSpPr/>
          <p:nvPr/>
        </p:nvSpPr>
        <p:spPr>
          <a:xfrm>
            <a:off x="7324560" y="990720"/>
            <a:ext cx="99072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241760" y="13399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15D4-1BC4-46D0-8BE1-CDECE8F23A3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DU type alternativ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85" name=""/>
          <p:cNvSpPr/>
          <p:nvPr/>
        </p:nvSpPr>
        <p:spPr>
          <a:xfrm>
            <a:off x="1724040" y="37339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994120" y="373392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390920" y="3733920"/>
            <a:ext cx="3657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 or SCO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083320" y="4083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942280" y="40831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009400" y="4083120"/>
            <a:ext cx="24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-274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uniform 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738440" y="286380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390920" y="2863800"/>
            <a:ext cx="3657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HS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2083320" y="1568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185440" y="320040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40 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/3 FEC(**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33520" y="15843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bit-cou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752480" y="12193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738440" y="205740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063960" y="205740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097360" y="23749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851560" y="240660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(*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249920" y="1263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395280" y="21016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LL/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097360" y="32004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127520" y="28954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56640" y="37782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L/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752480" y="46483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024360" y="464832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419720" y="4648320"/>
            <a:ext cx="1676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111760" y="4997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972520" y="49975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762120" y="5257800"/>
            <a:ext cx="7619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it-counts with FEC references are for bit-counts after FEC has been appli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**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When 2/3 FEC encoding is used, the original payload may b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ppended (trailed) with 0’s until a multiple of 10-bits is achie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202440" y="4648320"/>
            <a:ext cx="19047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L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045400" y="4997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157440" y="4997520"/>
            <a:ext cx="199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2-15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2/3 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249920" y="4692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6" name=""/>
          <p:cNvGrpSpPr/>
          <p:nvPr/>
        </p:nvGrpSpPr>
        <p:grpSpPr>
          <a:xfrm>
            <a:off x="1221480" y="685800"/>
            <a:ext cx="6520320" cy="337320"/>
            <a:chOff x="1221480" y="685800"/>
            <a:chExt cx="6520320" cy="337320"/>
          </a:xfrm>
        </p:grpSpPr>
        <p:sp>
          <p:nvSpPr>
            <p:cNvPr id="1517" name=""/>
            <p:cNvSpPr/>
            <p:nvPr/>
          </p:nvSpPr>
          <p:spPr>
            <a:xfrm>
              <a:off x="122148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19532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800360" y="8539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0" name=""/>
          <p:cNvSpPr/>
          <p:nvPr/>
        </p:nvSpPr>
        <p:spPr>
          <a:xfrm>
            <a:off x="3024360" y="286380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2972520" y="32004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0C2F-E0D6-48E6-8187-8FF7FC2FA1A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DU compone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23" name=""/>
          <p:cNvSpPr/>
          <p:nvPr/>
        </p:nvSpPr>
        <p:spPr>
          <a:xfrm>
            <a:off x="1066680" y="12193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425960" y="1568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124080" y="12193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4191120" y="1219320"/>
            <a:ext cx="1752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ch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019920" y="1219320"/>
            <a:ext cx="9903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2286000" y="14097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468960" y="15685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863960" y="15685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363000" y="15685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096920" y="1981080"/>
            <a:ext cx="129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991440" y="233028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*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124080" y="19810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_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191120" y="1981080"/>
            <a:ext cx="9903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U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5257800" y="19810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324480" y="19810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3468960" y="2406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534200" y="2406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602680" y="2406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667560" y="2406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438280" y="2171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1092240" y="2871720"/>
            <a:ext cx="15746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149640" y="2871720"/>
            <a:ext cx="15746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743200" y="30621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043080" y="3200400"/>
            <a:ext cx="46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EC ({1,2}/3) applied whenever 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092240" y="3962520"/>
            <a:ext cx="15746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124080" y="39625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191120" y="3962520"/>
            <a:ext cx="1752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019920" y="3962520"/>
            <a:ext cx="99036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043800" y="4343400"/>
            <a:ext cx="42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EC (2/3) applied whenever 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2743200" y="4152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8EB3-77DA-469E-B311-384EA902ABE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DU processing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54" name=""/>
          <p:cNvSpPr/>
          <p:nvPr/>
        </p:nvSpPr>
        <p:spPr>
          <a:xfrm>
            <a:off x="762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905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3048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54380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477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410080" y="2089080"/>
            <a:ext cx="83844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191120" y="216540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1" name=""/>
          <p:cNvCxnSpPr>
            <a:stCxn id="1554" idx="3"/>
            <a:endCxn id="1555" idx="1"/>
          </p:cNvCxnSpPr>
          <p:nvPr/>
        </p:nvCxnSpPr>
        <p:spPr>
          <a:xfrm>
            <a:off x="1599840" y="22824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2" name=""/>
          <p:cNvCxnSpPr>
            <a:stCxn id="1555" idx="3"/>
            <a:endCxn id="1556" idx="1"/>
          </p:cNvCxnSpPr>
          <p:nvPr/>
        </p:nvCxnSpPr>
        <p:spPr>
          <a:xfrm>
            <a:off x="2742840" y="22824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3" name=""/>
          <p:cNvCxnSpPr>
            <a:stCxn id="1559" idx="3"/>
            <a:endCxn id="1558" idx="1"/>
          </p:cNvCxnSpPr>
          <p:nvPr/>
        </p:nvCxnSpPr>
        <p:spPr>
          <a:xfrm>
            <a:off x="6248160" y="228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4" name=""/>
          <p:cNvCxnSpPr>
            <a:stCxn id="1558" idx="3"/>
            <a:endCxn id="1557" idx="1"/>
          </p:cNvCxnSpPr>
          <p:nvPr/>
        </p:nvCxnSpPr>
        <p:spPr>
          <a:xfrm>
            <a:off x="7314840" y="228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5" name=""/>
          <p:cNvSpPr/>
          <p:nvPr/>
        </p:nvSpPr>
        <p:spPr>
          <a:xfrm>
            <a:off x="614520" y="1828800"/>
            <a:ext cx="27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X header (apply/a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5131800" y="182880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RX header (de-apply/remov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62120" y="4114800"/>
            <a:ext cx="838080" cy="38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905120" y="4114800"/>
            <a:ext cx="838080" cy="38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905120" y="320040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0" name=""/>
          <p:cNvCxnSpPr>
            <a:stCxn id="1567" idx="3"/>
            <a:endCxn id="1568" idx="1"/>
          </p:cNvCxnSpPr>
          <p:nvPr/>
        </p:nvCxnSpPr>
        <p:spPr>
          <a:xfrm>
            <a:off x="1599840" y="4308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1" name=""/>
          <p:cNvCxnSpPr>
            <a:stCxn id="1568" idx="0"/>
            <a:endCxn id="1569" idx="2"/>
          </p:cNvCxnSpPr>
          <p:nvPr/>
        </p:nvCxnSpPr>
        <p:spPr>
          <a:xfrm flipV="1">
            <a:off x="2323800" y="3587400"/>
            <a:ext cx="1080" cy="52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2" name=""/>
          <p:cNvSpPr/>
          <p:nvPr/>
        </p:nvSpPr>
        <p:spPr>
          <a:xfrm>
            <a:off x="3048120" y="3193920"/>
            <a:ext cx="838080" cy="387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477120" y="319392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5410080" y="3193920"/>
            <a:ext cx="838440" cy="387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191120" y="327024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6" name=""/>
          <p:cNvCxnSpPr>
            <a:stCxn id="1574" idx="3"/>
            <a:endCxn id="1573" idx="1"/>
          </p:cNvCxnSpPr>
          <p:nvPr/>
        </p:nvCxnSpPr>
        <p:spPr>
          <a:xfrm>
            <a:off x="6248160" y="33872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7" name=""/>
          <p:cNvSpPr/>
          <p:nvPr/>
        </p:nvSpPr>
        <p:spPr>
          <a:xfrm>
            <a:off x="6477120" y="4114800"/>
            <a:ext cx="838080" cy="387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543800" y="4114800"/>
            <a:ext cx="838080" cy="387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9" name=""/>
          <p:cNvCxnSpPr>
            <a:stCxn id="1577" idx="3"/>
            <a:endCxn id="1578" idx="1"/>
          </p:cNvCxnSpPr>
          <p:nvPr/>
        </p:nvCxnSpPr>
        <p:spPr>
          <a:xfrm>
            <a:off x="7314840" y="4308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0" name=""/>
          <p:cNvCxnSpPr>
            <a:stCxn id="1573" idx="2"/>
            <a:endCxn id="1577" idx="0"/>
          </p:cNvCxnSpPr>
          <p:nvPr/>
        </p:nvCxnSpPr>
        <p:spPr>
          <a:xfrm>
            <a:off x="6895800" y="35812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1" name=""/>
          <p:cNvCxnSpPr>
            <a:stCxn id="1569" idx="3"/>
            <a:endCxn id="1572" idx="1"/>
          </p:cNvCxnSpPr>
          <p:nvPr/>
        </p:nvCxnSpPr>
        <p:spPr>
          <a:xfrm flipV="1">
            <a:off x="2742840" y="3387240"/>
            <a:ext cx="305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2" name=""/>
          <p:cNvSpPr/>
          <p:nvPr/>
        </p:nvSpPr>
        <p:spPr>
          <a:xfrm>
            <a:off x="727920" y="446400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X payload (apply/add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*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742360" y="4464000"/>
            <a:ext cx="28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RX payload (apply/a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038480" y="2133720"/>
            <a:ext cx="0" cy="14475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257800" y="2133720"/>
            <a:ext cx="0" cy="14475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813480" y="403848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F-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7" name=""/>
          <p:cNvCxnSpPr>
            <a:stCxn id="1586" idx="0"/>
            <a:endCxn id="1584" idx="0"/>
          </p:cNvCxnSpPr>
          <p:nvPr/>
        </p:nvCxnSpPr>
        <p:spPr>
          <a:xfrm flipH="1" flipV="1">
            <a:off x="4038120" y="3580920"/>
            <a:ext cx="597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8" name=""/>
          <p:cNvCxnSpPr>
            <a:stCxn id="1586" idx="0"/>
            <a:endCxn id="1585" idx="0"/>
          </p:cNvCxnSpPr>
          <p:nvPr/>
        </p:nvCxnSpPr>
        <p:spPr>
          <a:xfrm flipV="1">
            <a:off x="4635000" y="3580920"/>
            <a:ext cx="623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9" name=""/>
          <p:cNvSpPr/>
          <p:nvPr/>
        </p:nvSpPr>
        <p:spPr>
          <a:xfrm>
            <a:off x="762120" y="5562720"/>
            <a:ext cx="76960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mission of the “payload” bits follow immediately behind the transmission of the corresponding header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9625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284920" y="137160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ert acce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758120" y="137160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move acce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905280" y="269244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FFA1-7389-499A-AFF6-969289A7337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at does Bluetooth do for you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751200" y="3255840"/>
            <a:ext cx="3259080" cy="2994480"/>
            <a:chOff x="3751200" y="3255840"/>
            <a:chExt cx="3259080" cy="2994480"/>
          </a:xfrm>
        </p:grpSpPr>
        <p:sp>
          <p:nvSpPr>
            <p:cNvPr id="54" name=""/>
            <p:cNvSpPr/>
            <p:nvPr/>
          </p:nvSpPr>
          <p:spPr>
            <a:xfrm>
              <a:off x="3919680" y="3284640"/>
              <a:ext cx="3039840" cy="23396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4175280" y="3362400"/>
              <a:ext cx="1095120" cy="39024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 rot="14072400">
              <a:off x="5903640" y="3579120"/>
              <a:ext cx="1012680" cy="42192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 rot="14072400">
              <a:off x="4469040" y="4125960"/>
              <a:ext cx="1013040" cy="4212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5608800" y="4218840"/>
              <a:ext cx="1095120" cy="3906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35440" y="5546520"/>
              <a:ext cx="3038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Courier New"/>
                </a:rPr>
                <a:t>Personal Ad-hoc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3751200" y="3784680"/>
            <a:ext cx="766800" cy="85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51200" y="3784680"/>
                      <a:ext cx="766800" cy="8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"/>
            <p:cNvGraphicFramePr/>
            <p:nvPr/>
          </p:nvGraphicFramePr>
          <p:xfrm>
            <a:off x="5064120" y="4701960"/>
            <a:ext cx="765360" cy="85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64120" y="4701960"/>
                      <a:ext cx="765360" cy="85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"/>
            <p:cNvGraphicFramePr/>
            <p:nvPr/>
          </p:nvGraphicFramePr>
          <p:xfrm>
            <a:off x="6245280" y="4111560"/>
            <a:ext cx="765000" cy="853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45280" y="4111560"/>
                      <a:ext cx="765000" cy="85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5261040" y="3324240"/>
            <a:ext cx="547560" cy="619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61040" y="3324240"/>
                      <a:ext cx="547560" cy="61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8" name=""/>
          <p:cNvGrpSpPr/>
          <p:nvPr/>
        </p:nvGrpSpPr>
        <p:grpSpPr>
          <a:xfrm>
            <a:off x="5657760" y="990720"/>
            <a:ext cx="3100320" cy="2761200"/>
            <a:chOff x="5657760" y="990720"/>
            <a:chExt cx="3100320" cy="2761200"/>
          </a:xfrm>
        </p:grpSpPr>
        <p:sp>
          <p:nvSpPr>
            <p:cNvPr id="69" name=""/>
            <p:cNvSpPr/>
            <p:nvPr/>
          </p:nvSpPr>
          <p:spPr>
            <a:xfrm>
              <a:off x="5734080" y="990720"/>
              <a:ext cx="2548080" cy="21668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5657760" y="1135080"/>
              <a:ext cx="3100320" cy="2616840"/>
              <a:chOff x="5657760" y="1135080"/>
              <a:chExt cx="3100320" cy="2616840"/>
            </a:xfrm>
          </p:grpSpPr>
          <p:sp>
            <p:nvSpPr>
              <p:cNvPr id="71" name=""/>
              <p:cNvSpPr/>
              <p:nvPr/>
            </p:nvSpPr>
            <p:spPr>
              <a:xfrm>
                <a:off x="6170760" y="1474920"/>
                <a:ext cx="504720" cy="195120"/>
              </a:xfrm>
              <a:custGeom>
                <a:avLst/>
                <a:gdLst/>
                <a:ahLst/>
                <a:rect l="l" t="t" r="r" b="b"/>
                <a:pathLst>
                  <a:path w="343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2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135920" y="1231920"/>
                <a:ext cx="507960" cy="195120"/>
              </a:xfrm>
              <a:custGeom>
                <a:avLst/>
                <a:gdLst/>
                <a:ahLst/>
                <a:rect l="l" t="t" r="r" b="b"/>
                <a:pathLst>
                  <a:path w="344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3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35920" y="1573200"/>
                <a:ext cx="645840" cy="390600"/>
              </a:xfrm>
              <a:custGeom>
                <a:avLst/>
                <a:gdLst/>
                <a:ahLst/>
                <a:rect l="l" t="t" r="r" b="b"/>
                <a:pathLst>
                  <a:path w="438" h="260">
                    <a:moveTo>
                      <a:pt x="0" y="0"/>
                    </a:moveTo>
                    <a:lnTo>
                      <a:pt x="287" y="112"/>
                    </a:lnTo>
                    <a:lnTo>
                      <a:pt x="121" y="109"/>
                    </a:lnTo>
                    <a:lnTo>
                      <a:pt x="437" y="259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6307200" y="2887560"/>
                <a:ext cx="836280" cy="340920"/>
                <a:chOff x="6307200" y="2887560"/>
                <a:chExt cx="836280" cy="34092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6537240" y="2887560"/>
                  <a:ext cx="606240" cy="192600"/>
                </a:xfrm>
                <a:custGeom>
                  <a:avLst/>
                  <a:gdLst/>
                  <a:ahLst/>
                  <a:rect l="l" t="t" r="r" b="b"/>
                  <a:pathLst>
                    <a:path w="411" h="128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410" y="127"/>
                      </a:lnTo>
                      <a:lnTo>
                        <a:pt x="410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307200" y="2896560"/>
                  <a:ext cx="827640" cy="331920"/>
                </a:xfrm>
                <a:custGeom>
                  <a:avLst/>
                  <a:gdLst/>
                  <a:ahLst/>
                  <a:rect l="l" t="t" r="r" b="b"/>
                  <a:pathLst>
                    <a:path w="561" h="221">
                      <a:moveTo>
                        <a:pt x="0" y="84"/>
                      </a:moveTo>
                      <a:lnTo>
                        <a:pt x="430" y="220"/>
                      </a:lnTo>
                      <a:lnTo>
                        <a:pt x="560" y="123"/>
                      </a:lnTo>
                      <a:lnTo>
                        <a:pt x="560" y="94"/>
                      </a:lnTo>
                      <a:lnTo>
                        <a:pt x="159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307200" y="3025800"/>
                  <a:ext cx="632880" cy="183240"/>
                </a:xfrm>
                <a:custGeom>
                  <a:avLst/>
                  <a:gdLst/>
                  <a:ahLst/>
                  <a:rect l="l" t="t" r="r" b="b"/>
                  <a:pathLst>
                    <a:path w="429" h="122">
                      <a:moveTo>
                        <a:pt x="428" y="112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27" y="121"/>
                      </a:lnTo>
                      <a:lnTo>
                        <a:pt x="428" y="112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V="1">
                  <a:off x="6934320" y="3039480"/>
                  <a:ext cx="197640" cy="15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" name=""/>
                <p:cNvGrpSpPr/>
                <p:nvPr/>
              </p:nvGrpSpPr>
              <p:grpSpPr>
                <a:xfrm>
                  <a:off x="6389640" y="2909880"/>
                  <a:ext cx="708840" cy="277200"/>
                  <a:chOff x="6389640" y="2909880"/>
                  <a:chExt cx="708840" cy="277200"/>
                </a:xfrm>
              </p:grpSpPr>
              <p:grpSp>
                <p:nvGrpSpPr>
                  <p:cNvPr id="80" name=""/>
                  <p:cNvGrpSpPr/>
                  <p:nvPr/>
                </p:nvGrpSpPr>
                <p:grpSpPr>
                  <a:xfrm>
                    <a:off x="6414480" y="2974320"/>
                    <a:ext cx="583560" cy="161640"/>
                    <a:chOff x="6414480" y="2974320"/>
                    <a:chExt cx="583560" cy="161640"/>
                  </a:xfrm>
                </p:grpSpPr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6414480" y="2974320"/>
                      <a:ext cx="61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1">
                          <a:moveTo>
                            <a:pt x="0" y="9"/>
                          </a:moveTo>
                          <a:lnTo>
                            <a:pt x="15" y="0"/>
                          </a:lnTo>
                          <a:lnTo>
                            <a:pt x="41" y="8"/>
                          </a:lnTo>
                          <a:lnTo>
                            <a:pt x="30" y="20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6465960" y="298764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4" y="20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501240" y="299664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12" y="0"/>
                          </a:moveTo>
                          <a:lnTo>
                            <a:pt x="28" y="3"/>
                          </a:lnTo>
                          <a:lnTo>
                            <a:pt x="17" y="19"/>
                          </a:lnTo>
                          <a:lnTo>
                            <a:pt x="0" y="1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6536880" y="300564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9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6573600" y="3017880"/>
                      <a:ext cx="500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9">
                          <a:moveTo>
                            <a:pt x="13" y="0"/>
                          </a:moveTo>
                          <a:lnTo>
                            <a:pt x="0" y="9"/>
                          </a:lnTo>
                          <a:lnTo>
                            <a:pt x="22" y="18"/>
                          </a:lnTo>
                          <a:lnTo>
                            <a:pt x="33" y="4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616440" y="302652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6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6651720" y="3035880"/>
                      <a:ext cx="468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31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6692760" y="3043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6729840" y="305532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7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6769800" y="3064320"/>
                      <a:ext cx="41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7" y="21"/>
                          </a:lnTo>
                          <a:lnTo>
                            <a:pt x="27" y="4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6806520" y="3074760"/>
                      <a:ext cx="4572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1" y="0"/>
                          </a:moveTo>
                          <a:lnTo>
                            <a:pt x="0" y="12"/>
                          </a:lnTo>
                          <a:lnTo>
                            <a:pt x="20" y="20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6846480" y="308376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0" y="0"/>
                          </a:moveTo>
                          <a:lnTo>
                            <a:pt x="0" y="12"/>
                          </a:lnTo>
                          <a:lnTo>
                            <a:pt x="17" y="21"/>
                          </a:lnTo>
                          <a:lnTo>
                            <a:pt x="30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6878880" y="3092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4" y="0"/>
                          </a:moveTo>
                          <a:lnTo>
                            <a:pt x="0" y="12"/>
                          </a:lnTo>
                          <a:lnTo>
                            <a:pt x="21" y="21"/>
                          </a:lnTo>
                          <a:lnTo>
                            <a:pt x="33" y="7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6924600" y="3106080"/>
                      <a:ext cx="734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20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39" y="19"/>
                          </a:lnTo>
                          <a:lnTo>
                            <a:pt x="4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5" name=""/>
                  <p:cNvGrpSpPr/>
                  <p:nvPr/>
                </p:nvGrpSpPr>
                <p:grpSpPr>
                  <a:xfrm>
                    <a:off x="6389640" y="2992320"/>
                    <a:ext cx="564480" cy="194760"/>
                    <a:chOff x="6389640" y="2992320"/>
                    <a:chExt cx="564480" cy="194760"/>
                  </a:xfrm>
                </p:grpSpPr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6389640" y="2992320"/>
                      <a:ext cx="633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2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31" y="21"/>
                          </a:lnTo>
                          <a:lnTo>
                            <a:pt x="42" y="12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423120" y="302076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18" y="21"/>
                          </a:lnTo>
                          <a:lnTo>
                            <a:pt x="28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491160" y="3020760"/>
                      <a:ext cx="529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2">
                          <a:moveTo>
                            <a:pt x="9" y="0"/>
                          </a:moveTo>
                          <a:lnTo>
                            <a:pt x="0" y="7"/>
                          </a:lnTo>
                          <a:lnTo>
                            <a:pt x="25" y="21"/>
                          </a:lnTo>
                          <a:lnTo>
                            <a:pt x="3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6818400" y="3125520"/>
                      <a:ext cx="424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4">
                          <a:moveTo>
                            <a:pt x="6" y="0"/>
                          </a:moveTo>
                          <a:lnTo>
                            <a:pt x="28" y="10"/>
                          </a:lnTo>
                          <a:lnTo>
                            <a:pt x="21" y="23"/>
                          </a:lnTo>
                          <a:lnTo>
                            <a:pt x="0" y="1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6860160" y="314244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7" y="0"/>
                          </a:moveTo>
                          <a:lnTo>
                            <a:pt x="0" y="10"/>
                          </a:lnTo>
                          <a:lnTo>
                            <a:pt x="23" y="19"/>
                          </a:lnTo>
                          <a:lnTo>
                            <a:pt x="30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6905520" y="3157200"/>
                      <a:ext cx="48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8" y="0"/>
                          </a:moveTo>
                          <a:lnTo>
                            <a:pt x="0" y="7"/>
                          </a:lnTo>
                          <a:lnTo>
                            <a:pt x="25" y="19"/>
                          </a:lnTo>
                          <a:lnTo>
                            <a:pt x="32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6879240" y="3121200"/>
                      <a:ext cx="56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21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26" y="20"/>
                          </a:lnTo>
                          <a:lnTo>
                            <a:pt x="37" y="8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6770160" y="3091320"/>
                      <a:ext cx="52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28" y="20"/>
                          </a:lnTo>
                          <a:lnTo>
                            <a:pt x="35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6544440" y="3031200"/>
                      <a:ext cx="22248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46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140" y="45"/>
                          </a:lnTo>
                          <a:lnTo>
                            <a:pt x="150" y="3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6504480" y="2926440"/>
                    <a:ext cx="572040" cy="163440"/>
                    <a:chOff x="6504480" y="2926440"/>
                    <a:chExt cx="572040" cy="16344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6504480" y="292644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6" y="19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6537960" y="293364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6575400" y="2942640"/>
                      <a:ext cx="453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8" y="19"/>
                          </a:lnTo>
                          <a:lnTo>
                            <a:pt x="30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6610320" y="2954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6648840" y="296064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6687360" y="297108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6728400" y="297720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0" y="21"/>
                          </a:lnTo>
                          <a:lnTo>
                            <a:pt x="28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6768360" y="299088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6803640" y="2996640"/>
                      <a:ext cx="38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5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6840360" y="300600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20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6876000" y="3017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9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8" y="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6917400" y="302688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6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6953040" y="30358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6989760" y="3044880"/>
                      <a:ext cx="453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8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030800" y="3055320"/>
                      <a:ext cx="4572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3">
                          <a:moveTo>
                            <a:pt x="10" y="0"/>
                          </a:moveTo>
                          <a:lnTo>
                            <a:pt x="30" y="7"/>
                          </a:lnTo>
                          <a:lnTo>
                            <a:pt x="20" y="22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" name=""/>
                  <p:cNvGrpSpPr/>
                  <p:nvPr/>
                </p:nvGrpSpPr>
                <p:grpSpPr>
                  <a:xfrm>
                    <a:off x="6442560" y="2960640"/>
                    <a:ext cx="582120" cy="157320"/>
                    <a:chOff x="6442560" y="2960640"/>
                    <a:chExt cx="582120" cy="157320"/>
                  </a:xfrm>
                </p:grpSpPr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6503040" y="29710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27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6536520" y="298008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1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6577920" y="2990880"/>
                      <a:ext cx="4248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3">
                          <a:moveTo>
                            <a:pt x="11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8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6616440" y="300096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6654600" y="301140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6" y="22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6442560" y="2960640"/>
                      <a:ext cx="691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20">
                          <a:moveTo>
                            <a:pt x="13" y="0"/>
                          </a:moveTo>
                          <a:lnTo>
                            <a:pt x="0" y="7"/>
                          </a:lnTo>
                          <a:lnTo>
                            <a:pt x="32" y="19"/>
                          </a:lnTo>
                          <a:lnTo>
                            <a:pt x="46" y="10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6692760" y="3025080"/>
                      <a:ext cx="442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0" y="0"/>
                          </a:moveTo>
                          <a:lnTo>
                            <a:pt x="29" y="7"/>
                          </a:lnTo>
                          <a:lnTo>
                            <a:pt x="19" y="20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6731280" y="3031200"/>
                      <a:ext cx="414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5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6769800" y="304020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6812640" y="3055320"/>
                      <a:ext cx="439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9" y="5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6852240" y="3059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6887520" y="3071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20" y="19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6924600" y="3079440"/>
                      <a:ext cx="10008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26">
                          <a:moveTo>
                            <a:pt x="13" y="0"/>
                          </a:moveTo>
                          <a:lnTo>
                            <a:pt x="0" y="8"/>
                          </a:lnTo>
                          <a:lnTo>
                            <a:pt x="57" y="25"/>
                          </a:lnTo>
                          <a:lnTo>
                            <a:pt x="67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5" name=""/>
                  <p:cNvGrpSpPr/>
                  <p:nvPr/>
                </p:nvGrpSpPr>
                <p:grpSpPr>
                  <a:xfrm>
                    <a:off x="6470640" y="2942640"/>
                    <a:ext cx="579240" cy="157680"/>
                    <a:chOff x="6470640" y="2942640"/>
                    <a:chExt cx="579240" cy="157680"/>
                  </a:xfrm>
                </p:grpSpPr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6470640" y="2942640"/>
                      <a:ext cx="615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0">
                          <a:moveTo>
                            <a:pt x="0" y="10"/>
                          </a:moveTo>
                          <a:lnTo>
                            <a:pt x="15" y="0"/>
                          </a:lnTo>
                          <a:lnTo>
                            <a:pt x="41" y="7"/>
                          </a:lnTo>
                          <a:lnTo>
                            <a:pt x="30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6523200" y="2954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12" y="0"/>
                          </a:moveTo>
                          <a:lnTo>
                            <a:pt x="28" y="4"/>
                          </a:lnTo>
                          <a:lnTo>
                            <a:pt x="17" y="18"/>
                          </a:lnTo>
                          <a:lnTo>
                            <a:pt x="0" y="9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555600" y="296208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3" y="0"/>
                          </a:moveTo>
                          <a:lnTo>
                            <a:pt x="30" y="3"/>
                          </a:lnTo>
                          <a:lnTo>
                            <a:pt x="19" y="20"/>
                          </a:lnTo>
                          <a:lnTo>
                            <a:pt x="0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593040" y="2971080"/>
                      <a:ext cx="482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32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6632640" y="2980440"/>
                      <a:ext cx="468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1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1" y="20"/>
                          </a:lnTo>
                          <a:lnTo>
                            <a:pt x="31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6673680" y="2990880"/>
                      <a:ext cx="3960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5" y="22"/>
                          </a:lnTo>
                          <a:lnTo>
                            <a:pt x="26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6712200" y="3000960"/>
                      <a:ext cx="4392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2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6750360" y="3010320"/>
                      <a:ext cx="424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8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6784560" y="302508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6825600" y="3025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6861240" y="3038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21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6899400" y="3055320"/>
                      <a:ext cx="482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7" y="18"/>
                          </a:lnTo>
                          <a:lnTo>
                            <a:pt x="32" y="4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6937560" y="3061440"/>
                      <a:ext cx="50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19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6983640" y="3070080"/>
                      <a:ext cx="6624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34" y="19"/>
                          </a:lnTo>
                          <a:lnTo>
                            <a:pt x="44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" name=""/>
                  <p:cNvGrpSpPr/>
                  <p:nvPr/>
                </p:nvGrpSpPr>
                <p:grpSpPr>
                  <a:xfrm>
                    <a:off x="6534000" y="2909880"/>
                    <a:ext cx="564480" cy="158760"/>
                    <a:chOff x="6534000" y="2909880"/>
                    <a:chExt cx="564480" cy="158760"/>
                  </a:xfrm>
                </p:grpSpPr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6604560" y="2925000"/>
                      <a:ext cx="367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3">
                          <a:moveTo>
                            <a:pt x="8" y="0"/>
                          </a:moveTo>
                          <a:lnTo>
                            <a:pt x="24" y="7"/>
                          </a:lnTo>
                          <a:lnTo>
                            <a:pt x="18" y="22"/>
                          </a:lnTo>
                          <a:lnTo>
                            <a:pt x="0" y="1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6641640" y="2935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7" y="0"/>
                          </a:moveTo>
                          <a:lnTo>
                            <a:pt x="25" y="7"/>
                          </a:lnTo>
                          <a:lnTo>
                            <a:pt x="18" y="21"/>
                          </a:lnTo>
                          <a:lnTo>
                            <a:pt x="0" y="11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6676920" y="2942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27" y="7"/>
                          </a:lnTo>
                          <a:lnTo>
                            <a:pt x="18" y="22"/>
                          </a:lnTo>
                          <a:lnTo>
                            <a:pt x="0" y="1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6712560" y="2953080"/>
                      <a:ext cx="439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8" y="0"/>
                          </a:moveTo>
                          <a:lnTo>
                            <a:pt x="0" y="8"/>
                          </a:lnTo>
                          <a:lnTo>
                            <a:pt x="22" y="19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6753600" y="2962440"/>
                      <a:ext cx="4140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7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27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6790320" y="2971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6" y="0"/>
                          </a:moveTo>
                          <a:lnTo>
                            <a:pt x="0" y="9"/>
                          </a:lnTo>
                          <a:lnTo>
                            <a:pt x="18" y="21"/>
                          </a:lnTo>
                          <a:lnTo>
                            <a:pt x="25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6827400" y="297864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6868440" y="299232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7" y="21"/>
                          </a:lnTo>
                          <a:lnTo>
                            <a:pt x="2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6904080" y="3001320"/>
                      <a:ext cx="396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6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6937920" y="300888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6977520" y="301788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8" y="20"/>
                          </a:lnTo>
                          <a:lnTo>
                            <a:pt x="28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7014600" y="3025440"/>
                      <a:ext cx="4104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20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6534000" y="2909880"/>
                      <a:ext cx="3528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23">
                          <a:moveTo>
                            <a:pt x="0" y="11"/>
                          </a:moveTo>
                          <a:lnTo>
                            <a:pt x="9" y="0"/>
                          </a:lnTo>
                          <a:lnTo>
                            <a:pt x="23" y="8"/>
                          </a:lnTo>
                          <a:lnTo>
                            <a:pt x="16" y="22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6567840" y="2925000"/>
                      <a:ext cx="39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0" y="10"/>
                          </a:moveTo>
                          <a:lnTo>
                            <a:pt x="10" y="0"/>
                          </a:lnTo>
                          <a:lnTo>
                            <a:pt x="26" y="7"/>
                          </a:lnTo>
                          <a:lnTo>
                            <a:pt x="18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7051680" y="3034080"/>
                      <a:ext cx="4680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3">
                          <a:moveTo>
                            <a:pt x="8" y="0"/>
                          </a:moveTo>
                          <a:lnTo>
                            <a:pt x="31" y="8"/>
                          </a:lnTo>
                          <a:lnTo>
                            <a:pt x="24" y="22"/>
                          </a:lnTo>
                          <a:lnTo>
                            <a:pt x="0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6" name=""/>
              <p:cNvGrpSpPr/>
              <p:nvPr/>
            </p:nvGrpSpPr>
            <p:grpSpPr>
              <a:xfrm>
                <a:off x="7323120" y="2782800"/>
                <a:ext cx="298080" cy="249120"/>
                <a:chOff x="7323120" y="2782800"/>
                <a:chExt cx="298080" cy="249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7365600" y="2835000"/>
                  <a:ext cx="18720" cy="108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328880" y="2783880"/>
                  <a:ext cx="252720" cy="226800"/>
                </a:xfrm>
                <a:custGeom>
                  <a:avLst/>
                  <a:gdLst/>
                  <a:ahLst/>
                  <a:rect l="l" t="t" r="r" b="b"/>
                  <a:pathLst>
                    <a:path w="172" h="151">
                      <a:moveTo>
                        <a:pt x="1" y="61"/>
                      </a:moveTo>
                      <a:lnTo>
                        <a:pt x="100" y="148"/>
                      </a:lnTo>
                      <a:lnTo>
                        <a:pt x="101" y="148"/>
                      </a:lnTo>
                      <a:lnTo>
                        <a:pt x="101" y="149"/>
                      </a:lnTo>
                      <a:lnTo>
                        <a:pt x="102" y="150"/>
                      </a:lnTo>
                      <a:lnTo>
                        <a:pt x="103" y="150"/>
                      </a:lnTo>
                      <a:lnTo>
                        <a:pt x="104" y="150"/>
                      </a:lnTo>
                      <a:lnTo>
                        <a:pt x="105" y="150"/>
                      </a:lnTo>
                      <a:lnTo>
                        <a:pt x="106" y="150"/>
                      </a:lnTo>
                      <a:lnTo>
                        <a:pt x="107" y="149"/>
                      </a:lnTo>
                      <a:lnTo>
                        <a:pt x="108" y="149"/>
                      </a:lnTo>
                      <a:lnTo>
                        <a:pt x="168" y="93"/>
                      </a:lnTo>
                      <a:lnTo>
                        <a:pt x="171" y="89"/>
                      </a:lnTo>
                      <a:lnTo>
                        <a:pt x="170" y="61"/>
                      </a:lnTo>
                      <a:lnTo>
                        <a:pt x="163" y="49"/>
                      </a:lnTo>
                      <a:lnTo>
                        <a:pt x="115" y="15"/>
                      </a:lnTo>
                      <a:lnTo>
                        <a:pt x="113" y="14"/>
                      </a:lnTo>
                      <a:lnTo>
                        <a:pt x="112" y="14"/>
                      </a:lnTo>
                      <a:lnTo>
                        <a:pt x="111" y="13"/>
                      </a:lnTo>
                      <a:lnTo>
                        <a:pt x="110" y="13"/>
                      </a:lnTo>
                      <a:lnTo>
                        <a:pt x="108" y="13"/>
                      </a:lnTo>
                      <a:lnTo>
                        <a:pt x="107" y="13"/>
                      </a:lnTo>
                      <a:lnTo>
                        <a:pt x="104" y="13"/>
                      </a:lnTo>
                      <a:lnTo>
                        <a:pt x="104" y="13"/>
                      </a:lnTo>
                      <a:lnTo>
                        <a:pt x="102" y="12"/>
                      </a:lnTo>
                      <a:lnTo>
                        <a:pt x="99" y="12"/>
                      </a:lnTo>
                      <a:lnTo>
                        <a:pt x="99" y="9"/>
                      </a:lnTo>
                      <a:lnTo>
                        <a:pt x="98" y="9"/>
                      </a:lnTo>
                      <a:lnTo>
                        <a:pt x="95" y="9"/>
                      </a:lnTo>
                      <a:lnTo>
                        <a:pt x="95" y="8"/>
                      </a:lnTo>
                      <a:lnTo>
                        <a:pt x="93" y="8"/>
                      </a:lnTo>
                      <a:lnTo>
                        <a:pt x="91" y="8"/>
                      </a:lnTo>
                      <a:lnTo>
                        <a:pt x="90" y="8"/>
                      </a:lnTo>
                      <a:lnTo>
                        <a:pt x="88" y="7"/>
                      </a:lnTo>
                      <a:lnTo>
                        <a:pt x="88" y="6"/>
                      </a:lnTo>
                      <a:lnTo>
                        <a:pt x="86" y="6"/>
                      </a:lnTo>
                      <a:lnTo>
                        <a:pt x="84" y="6"/>
                      </a:lnTo>
                      <a:lnTo>
                        <a:pt x="83" y="4"/>
                      </a:lnTo>
                      <a:lnTo>
                        <a:pt x="81" y="3"/>
                      </a:lnTo>
                      <a:lnTo>
                        <a:pt x="80" y="3"/>
                      </a:lnTo>
                      <a:lnTo>
                        <a:pt x="79" y="3"/>
                      </a:lnTo>
                      <a:lnTo>
                        <a:pt x="77" y="3"/>
                      </a:lnTo>
                      <a:lnTo>
                        <a:pt x="76" y="3"/>
                      </a:lnTo>
                      <a:lnTo>
                        <a:pt x="75" y="3"/>
                      </a:lnTo>
                      <a:lnTo>
                        <a:pt x="73" y="1"/>
                      </a:lnTo>
                      <a:lnTo>
                        <a:pt x="72" y="1"/>
                      </a:lnTo>
                      <a:lnTo>
                        <a:pt x="70" y="0"/>
                      </a:lnTo>
                      <a:lnTo>
                        <a:pt x="69" y="0"/>
                      </a:lnTo>
                      <a:lnTo>
                        <a:pt x="8" y="40"/>
                      </a:lnTo>
                      <a:lnTo>
                        <a:pt x="2" y="47"/>
                      </a:lnTo>
                      <a:lnTo>
                        <a:pt x="0" y="56"/>
                      </a:lnTo>
                      <a:lnTo>
                        <a:pt x="1" y="61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327440" y="2874240"/>
                  <a:ext cx="254160" cy="137880"/>
                </a:xfrm>
                <a:custGeom>
                  <a:avLst/>
                  <a:gdLst/>
                  <a:ahLst/>
                  <a:rect l="l" t="t" r="r" b="b"/>
                  <a:pathLst>
                    <a:path w="173" h="92">
                      <a:moveTo>
                        <a:pt x="172" y="31"/>
                      </a:moveTo>
                      <a:lnTo>
                        <a:pt x="109" y="84"/>
                      </a:lnTo>
                      <a:lnTo>
                        <a:pt x="109" y="85"/>
                      </a:lnTo>
                      <a:lnTo>
                        <a:pt x="107" y="85"/>
                      </a:lnTo>
                      <a:lnTo>
                        <a:pt x="107" y="84"/>
                      </a:lnTo>
                      <a:lnTo>
                        <a:pt x="107" y="85"/>
                      </a:lnTo>
                      <a:lnTo>
                        <a:pt x="106" y="85"/>
                      </a:lnTo>
                      <a:lnTo>
                        <a:pt x="105" y="85"/>
                      </a:lnTo>
                      <a:lnTo>
                        <a:pt x="104" y="85"/>
                      </a:lnTo>
                      <a:lnTo>
                        <a:pt x="104" y="85"/>
                      </a:lnTo>
                      <a:lnTo>
                        <a:pt x="103" y="84"/>
                      </a:lnTo>
                      <a:lnTo>
                        <a:pt x="101" y="84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100" y="89"/>
                      </a:lnTo>
                      <a:lnTo>
                        <a:pt x="102" y="89"/>
                      </a:lnTo>
                      <a:lnTo>
                        <a:pt x="102" y="90"/>
                      </a:lnTo>
                      <a:lnTo>
                        <a:pt x="103" y="90"/>
                      </a:lnTo>
                      <a:lnTo>
                        <a:pt x="104" y="90"/>
                      </a:lnTo>
                      <a:lnTo>
                        <a:pt x="105" y="90"/>
                      </a:lnTo>
                      <a:lnTo>
                        <a:pt x="106" y="91"/>
                      </a:lnTo>
                      <a:lnTo>
                        <a:pt x="108" y="89"/>
                      </a:lnTo>
                      <a:lnTo>
                        <a:pt x="109" y="89"/>
                      </a:lnTo>
                      <a:lnTo>
                        <a:pt x="169" y="36"/>
                      </a:lnTo>
                      <a:lnTo>
                        <a:pt x="172" y="3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494840" y="2925360"/>
                  <a:ext cx="86400" cy="77760"/>
                </a:xfrm>
                <a:custGeom>
                  <a:avLst/>
                  <a:gdLst/>
                  <a:ahLst/>
                  <a:rect l="l" t="t" r="r" b="b"/>
                  <a:pathLst>
                    <a:path w="59" h="52">
                      <a:moveTo>
                        <a:pt x="0" y="51"/>
                      </a:moveTo>
                      <a:lnTo>
                        <a:pt x="58" y="0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478640" y="300492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12" y="14"/>
                      </a:lnTo>
                      <a:lnTo>
                        <a:pt x="9" y="14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2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327440" y="2874240"/>
                  <a:ext cx="149760" cy="124560"/>
                </a:xfrm>
                <a:custGeom>
                  <a:avLst/>
                  <a:gdLst/>
                  <a:ahLst/>
                  <a:rect l="l" t="t" r="r" b="b"/>
                  <a:pathLst>
                    <a:path w="102" h="8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00" y="82"/>
                      </a:lnTo>
                      <a:lnTo>
                        <a:pt x="101" y="8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480440" y="301104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9" y="13"/>
                      </a:move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2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9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494840" y="2928240"/>
                  <a:ext cx="82080" cy="83880"/>
                </a:xfrm>
                <a:custGeom>
                  <a:avLst/>
                  <a:gdLst/>
                  <a:ahLst/>
                  <a:rect l="l" t="t" r="r" b="b"/>
                  <a:pathLst>
                    <a:path w="56" h="56">
                      <a:moveTo>
                        <a:pt x="55" y="0"/>
                      </a:moveTo>
                      <a:lnTo>
                        <a:pt x="0" y="53"/>
                      </a:lnTo>
                      <a:lnTo>
                        <a:pt x="0" y="55"/>
                      </a:lnTo>
                      <a:lnTo>
                        <a:pt x="55" y="1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578720" y="2907360"/>
                  <a:ext cx="20520" cy="403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0" y="0"/>
                      </a:moveTo>
                      <a:lnTo>
                        <a:pt x="13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331760" y="2846880"/>
                  <a:ext cx="248760" cy="114120"/>
                </a:xfrm>
                <a:custGeom>
                  <a:avLst/>
                  <a:gdLst/>
                  <a:ahLst/>
                  <a:rect l="l" t="t" r="r" b="b"/>
                  <a:pathLst>
                    <a:path w="169" h="76">
                      <a:moveTo>
                        <a:pt x="0" y="8"/>
                      </a:moveTo>
                      <a:lnTo>
                        <a:pt x="102" y="73"/>
                      </a:lnTo>
                      <a:lnTo>
                        <a:pt x="102" y="75"/>
                      </a:lnTo>
                      <a:lnTo>
                        <a:pt x="103" y="75"/>
                      </a:lnTo>
                      <a:lnTo>
                        <a:pt x="104" y="75"/>
                      </a:lnTo>
                      <a:lnTo>
                        <a:pt x="105" y="75"/>
                      </a:lnTo>
                      <a:lnTo>
                        <a:pt x="105" y="74"/>
                      </a:lnTo>
                      <a:lnTo>
                        <a:pt x="168" y="20"/>
                      </a:lnTo>
                      <a:lnTo>
                        <a:pt x="161" y="8"/>
                      </a:lnTo>
                      <a:lnTo>
                        <a:pt x="102" y="56"/>
                      </a:lnTo>
                      <a:lnTo>
                        <a:pt x="54" y="19"/>
                      </a:lnTo>
                      <a:lnTo>
                        <a:pt x="52" y="19"/>
                      </a:lnTo>
                      <a:lnTo>
                        <a:pt x="50" y="19"/>
                      </a:lnTo>
                      <a:lnTo>
                        <a:pt x="50" y="18"/>
                      </a:lnTo>
                      <a:lnTo>
                        <a:pt x="47" y="18"/>
                      </a:lnTo>
                      <a:lnTo>
                        <a:pt x="46" y="17"/>
                      </a:lnTo>
                      <a:lnTo>
                        <a:pt x="44" y="15"/>
                      </a:lnTo>
                      <a:lnTo>
                        <a:pt x="43" y="15"/>
                      </a:lnTo>
                      <a:lnTo>
                        <a:pt x="42" y="15"/>
                      </a:lnTo>
                      <a:lnTo>
                        <a:pt x="40" y="15"/>
                      </a:lnTo>
                      <a:lnTo>
                        <a:pt x="39" y="14"/>
                      </a:lnTo>
                      <a:lnTo>
                        <a:pt x="37" y="14"/>
                      </a:lnTo>
                      <a:lnTo>
                        <a:pt x="36" y="14"/>
                      </a:lnTo>
                      <a:lnTo>
                        <a:pt x="35" y="12"/>
                      </a:lnTo>
                      <a:lnTo>
                        <a:pt x="32" y="12"/>
                      </a:lnTo>
                      <a:lnTo>
                        <a:pt x="32" y="11"/>
                      </a:lnTo>
                      <a:lnTo>
                        <a:pt x="30" y="11"/>
                      </a:lnTo>
                      <a:lnTo>
                        <a:pt x="28" y="9"/>
                      </a:lnTo>
                      <a:lnTo>
                        <a:pt x="28" y="9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3" y="8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18" y="5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338960" y="2785320"/>
                  <a:ext cx="232200" cy="145800"/>
                </a:xfrm>
                <a:custGeom>
                  <a:avLst/>
                  <a:gdLst/>
                  <a:ahLst/>
                  <a:rect l="l" t="t" r="r" b="b"/>
                  <a:pathLst>
                    <a:path w="158" h="97">
                      <a:moveTo>
                        <a:pt x="157" y="48"/>
                      </a:moveTo>
                      <a:lnTo>
                        <a:pt x="97" y="96"/>
                      </a:lnTo>
                      <a:lnTo>
                        <a:pt x="47" y="59"/>
                      </a:lnTo>
                      <a:lnTo>
                        <a:pt x="46" y="59"/>
                      </a:lnTo>
                      <a:lnTo>
                        <a:pt x="45" y="59"/>
                      </a:lnTo>
                      <a:lnTo>
                        <a:pt x="43" y="58"/>
                      </a:lnTo>
                      <a:lnTo>
                        <a:pt x="42" y="57"/>
                      </a:lnTo>
                      <a:lnTo>
                        <a:pt x="40" y="57"/>
                      </a:lnTo>
                      <a:lnTo>
                        <a:pt x="38" y="57"/>
                      </a:lnTo>
                      <a:lnTo>
                        <a:pt x="38" y="56"/>
                      </a:lnTo>
                      <a:lnTo>
                        <a:pt x="36" y="55"/>
                      </a:lnTo>
                      <a:lnTo>
                        <a:pt x="34" y="54"/>
                      </a:lnTo>
                      <a:lnTo>
                        <a:pt x="33" y="54"/>
                      </a:lnTo>
                      <a:lnTo>
                        <a:pt x="31" y="54"/>
                      </a:lnTo>
                      <a:lnTo>
                        <a:pt x="29" y="53"/>
                      </a:lnTo>
                      <a:lnTo>
                        <a:pt x="27" y="52"/>
                      </a:lnTo>
                      <a:lnTo>
                        <a:pt x="26" y="52"/>
                      </a:lnTo>
                      <a:lnTo>
                        <a:pt x="24" y="52"/>
                      </a:lnTo>
                      <a:lnTo>
                        <a:pt x="23" y="51"/>
                      </a:lnTo>
                      <a:lnTo>
                        <a:pt x="22" y="50"/>
                      </a:lnTo>
                      <a:lnTo>
                        <a:pt x="20" y="49"/>
                      </a:lnTo>
                      <a:lnTo>
                        <a:pt x="20" y="48"/>
                      </a:lnTo>
                      <a:lnTo>
                        <a:pt x="17" y="48"/>
                      </a:lnTo>
                      <a:lnTo>
                        <a:pt x="16" y="46"/>
                      </a:lnTo>
                      <a:lnTo>
                        <a:pt x="15" y="46"/>
                      </a:lnTo>
                      <a:lnTo>
                        <a:pt x="12" y="46"/>
                      </a:lnTo>
                      <a:lnTo>
                        <a:pt x="11" y="45"/>
                      </a:lnTo>
                      <a:lnTo>
                        <a:pt x="10" y="44"/>
                      </a:lnTo>
                      <a:lnTo>
                        <a:pt x="8" y="43"/>
                      </a:lnTo>
                      <a:lnTo>
                        <a:pt x="7" y="43"/>
                      </a:lnTo>
                      <a:lnTo>
                        <a:pt x="4" y="41"/>
                      </a:lnTo>
                      <a:lnTo>
                        <a:pt x="3" y="40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1"/>
                      </a:lnTo>
                      <a:lnTo>
                        <a:pt x="65" y="2"/>
                      </a:lnTo>
                      <a:lnTo>
                        <a:pt x="66" y="3"/>
                      </a:lnTo>
                      <a:lnTo>
                        <a:pt x="69" y="3"/>
                      </a:lnTo>
                      <a:lnTo>
                        <a:pt x="70" y="3"/>
                      </a:lnTo>
                      <a:lnTo>
                        <a:pt x="71" y="3"/>
                      </a:lnTo>
                      <a:lnTo>
                        <a:pt x="72" y="3"/>
                      </a:lnTo>
                      <a:lnTo>
                        <a:pt x="74" y="4"/>
                      </a:lnTo>
                      <a:lnTo>
                        <a:pt x="75" y="4"/>
                      </a:lnTo>
                      <a:lnTo>
                        <a:pt x="76" y="6"/>
                      </a:lnTo>
                      <a:lnTo>
                        <a:pt x="78" y="6"/>
                      </a:lnTo>
                      <a:lnTo>
                        <a:pt x="79" y="6"/>
                      </a:lnTo>
                      <a:lnTo>
                        <a:pt x="81" y="7"/>
                      </a:lnTo>
                      <a:lnTo>
                        <a:pt x="82" y="8"/>
                      </a:lnTo>
                      <a:lnTo>
                        <a:pt x="84" y="9"/>
                      </a:lnTo>
                      <a:lnTo>
                        <a:pt x="85" y="9"/>
                      </a:lnTo>
                      <a:lnTo>
                        <a:pt x="87" y="9"/>
                      </a:lnTo>
                      <a:lnTo>
                        <a:pt x="88" y="9"/>
                      </a:lnTo>
                      <a:lnTo>
                        <a:pt x="90" y="9"/>
                      </a:lnTo>
                      <a:lnTo>
                        <a:pt x="92" y="9"/>
                      </a:lnTo>
                      <a:lnTo>
                        <a:pt x="93" y="10"/>
                      </a:lnTo>
                      <a:lnTo>
                        <a:pt x="95" y="11"/>
                      </a:lnTo>
                      <a:lnTo>
                        <a:pt x="96" y="11"/>
                      </a:lnTo>
                      <a:lnTo>
                        <a:pt x="97" y="11"/>
                      </a:lnTo>
                      <a:lnTo>
                        <a:pt x="98" y="13"/>
                      </a:lnTo>
                      <a:lnTo>
                        <a:pt x="101" y="13"/>
                      </a:lnTo>
                      <a:lnTo>
                        <a:pt x="102" y="13"/>
                      </a:lnTo>
                      <a:lnTo>
                        <a:pt x="103" y="13"/>
                      </a:lnTo>
                      <a:lnTo>
                        <a:pt x="105" y="14"/>
                      </a:lnTo>
                      <a:lnTo>
                        <a:pt x="106" y="14"/>
                      </a:lnTo>
                      <a:lnTo>
                        <a:pt x="108" y="15"/>
                      </a:lnTo>
                      <a:lnTo>
                        <a:pt x="157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361280" y="2787120"/>
                  <a:ext cx="111600" cy="73440"/>
                </a:xfrm>
                <a:custGeom>
                  <a:avLst/>
                  <a:gdLst/>
                  <a:ahLst/>
                  <a:rect l="l" t="t" r="r" b="b"/>
                  <a:pathLst>
                    <a:path w="76" h="49">
                      <a:moveTo>
                        <a:pt x="0" y="37"/>
                      </a:moveTo>
                      <a:lnTo>
                        <a:pt x="26" y="48"/>
                      </a:lnTo>
                      <a:lnTo>
                        <a:pt x="42" y="37"/>
                      </a:lnTo>
                      <a:lnTo>
                        <a:pt x="40" y="37"/>
                      </a:lnTo>
                      <a:lnTo>
                        <a:pt x="39" y="36"/>
                      </a:lnTo>
                      <a:lnTo>
                        <a:pt x="43" y="37"/>
                      </a:lnTo>
                      <a:lnTo>
                        <a:pt x="58" y="27"/>
                      </a:lnTo>
                      <a:lnTo>
                        <a:pt x="57" y="27"/>
                      </a:lnTo>
                      <a:lnTo>
                        <a:pt x="56" y="24"/>
                      </a:lnTo>
                      <a:lnTo>
                        <a:pt x="60" y="26"/>
                      </a:lnTo>
                      <a:lnTo>
                        <a:pt x="75" y="16"/>
                      </a:lnTo>
                      <a:lnTo>
                        <a:pt x="73" y="14"/>
                      </a:lnTo>
                      <a:lnTo>
                        <a:pt x="73" y="13"/>
                      </a:lnTo>
                      <a:lnTo>
                        <a:pt x="57" y="7"/>
                      </a:lnTo>
                      <a:lnTo>
                        <a:pt x="49" y="0"/>
                      </a:lnTo>
                      <a:lnTo>
                        <a:pt x="36" y="8"/>
                      </a:lnTo>
                      <a:lnTo>
                        <a:pt x="34" y="12"/>
                      </a:lnTo>
                      <a:lnTo>
                        <a:pt x="32" y="12"/>
                      </a:lnTo>
                      <a:lnTo>
                        <a:pt x="18" y="19"/>
                      </a:lnTo>
                      <a:lnTo>
                        <a:pt x="18" y="22"/>
                      </a:lnTo>
                      <a:lnTo>
                        <a:pt x="16" y="22"/>
                      </a:lnTo>
                      <a:lnTo>
                        <a:pt x="2" y="30"/>
                      </a:lnTo>
                      <a:lnTo>
                        <a:pt x="0" y="36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358400" y="2850120"/>
                  <a:ext cx="37800" cy="2556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24" y="15"/>
                      </a:moveTo>
                      <a:lnTo>
                        <a:pt x="25" y="16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5" y="16"/>
                      </a:lnTo>
                      <a:lnTo>
                        <a:pt x="24" y="1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403760" y="2850120"/>
                  <a:ext cx="19080" cy="180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2" y="0"/>
                      </a:moveTo>
                      <a:lnTo>
                        <a:pt x="0" y="11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421400" y="28425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7" y="12"/>
                      </a:lnTo>
                      <a:lnTo>
                        <a:pt x="8" y="0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419960" y="284256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422840" y="2842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28600" y="2828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44516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9" y="13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443720" y="2824560"/>
                  <a:ext cx="2016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44948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55240" y="2810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471440" y="2806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471440" y="280332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12" y="4"/>
                      </a:moveTo>
                      <a:lnTo>
                        <a:pt x="11" y="14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11" y="14"/>
                      </a:lnTo>
                      <a:lnTo>
                        <a:pt x="12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411320" y="280188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2" y="0"/>
                      </a:moveTo>
                      <a:lnTo>
                        <a:pt x="5" y="0"/>
                      </a:lnTo>
                      <a:lnTo>
                        <a:pt x="0" y="12"/>
                      </a:lnTo>
                      <a:lnTo>
                        <a:pt x="3" y="13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409520" y="280188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384680" y="2820240"/>
                  <a:ext cx="18720" cy="190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5" y="0"/>
                      </a:moveTo>
                      <a:lnTo>
                        <a:pt x="0" y="12"/>
                      </a:lnTo>
                      <a:lnTo>
                        <a:pt x="12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381800" y="281844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6" y="6"/>
                      </a:moveTo>
                      <a:lnTo>
                        <a:pt x="12" y="7"/>
                      </a:lnTo>
                      <a:lnTo>
                        <a:pt x="0" y="0"/>
                      </a:lnTo>
                      <a:lnTo>
                        <a:pt x="5" y="13"/>
                      </a:lnTo>
                      <a:lnTo>
                        <a:pt x="11" y="14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58400" y="2839680"/>
                  <a:ext cx="1872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40760" y="284256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6" y="3"/>
                      </a:moveTo>
                      <a:lnTo>
                        <a:pt x="0" y="12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26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365600" y="2787120"/>
                  <a:ext cx="104040" cy="6912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32" y="8"/>
                      </a:moveTo>
                      <a:lnTo>
                        <a:pt x="41" y="17"/>
                      </a:lnTo>
                      <a:lnTo>
                        <a:pt x="56" y="23"/>
                      </a:lnTo>
                      <a:lnTo>
                        <a:pt x="70" y="13"/>
                      </a:lnTo>
                      <a:lnTo>
                        <a:pt x="54" y="8"/>
                      </a:lnTo>
                      <a:lnTo>
                        <a:pt x="47" y="0"/>
                      </a:lnTo>
                      <a:lnTo>
                        <a:pt x="32" y="8"/>
                      </a:lnTo>
                      <a:lnTo>
                        <a:pt x="16" y="18"/>
                      </a:lnTo>
                      <a:lnTo>
                        <a:pt x="24" y="27"/>
                      </a:lnTo>
                      <a:lnTo>
                        <a:pt x="40" y="33"/>
                      </a:lnTo>
                      <a:lnTo>
                        <a:pt x="53" y="23"/>
                      </a:lnTo>
                      <a:lnTo>
                        <a:pt x="38" y="18"/>
                      </a:lnTo>
                      <a:lnTo>
                        <a:pt x="29" y="10"/>
                      </a:lnTo>
                      <a:lnTo>
                        <a:pt x="16" y="18"/>
                      </a:lnTo>
                      <a:lnTo>
                        <a:pt x="0" y="30"/>
                      </a:lnTo>
                      <a:lnTo>
                        <a:pt x="6" y="38"/>
                      </a:lnTo>
                      <a:lnTo>
                        <a:pt x="23" y="45"/>
                      </a:lnTo>
                      <a:lnTo>
                        <a:pt x="36" y="36"/>
                      </a:lnTo>
                      <a:lnTo>
                        <a:pt x="22" y="29"/>
                      </a:lnTo>
                      <a:lnTo>
                        <a:pt x="13" y="22"/>
                      </a:lnTo>
                      <a:lnTo>
                        <a:pt x="0" y="3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413840" y="2803320"/>
                  <a:ext cx="176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428600" y="279756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3" y="27"/>
                      </a:moveTo>
                      <a:lnTo>
                        <a:pt x="0" y="0"/>
                      </a:lnTo>
                      <a:lnTo>
                        <a:pt x="13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453800" y="28094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418520" y="2803320"/>
                  <a:ext cx="115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390800" y="282132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400880" y="2835000"/>
                  <a:ext cx="21960" cy="1080"/>
                </a:xfrm>
                <a:custGeom>
                  <a:avLst/>
                  <a:gdLst/>
                  <a:ahLst/>
                  <a:rect l="l" t="t" r="r" b="b"/>
                  <a:pathLst>
                    <a:path w="15" h="1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428600" y="282744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424280" y="281844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411320" y="2805120"/>
                  <a:ext cx="1728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0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390800" y="2814120"/>
                  <a:ext cx="1080" cy="20880"/>
                </a:xfrm>
                <a:custGeom>
                  <a:avLst/>
                  <a:gdLst/>
                  <a:ahLst/>
                  <a:rect l="l" t="t" r="r" b="b"/>
                  <a:pathLst>
                    <a:path w="1" h="14">
                      <a:moveTo>
                        <a:pt x="0" y="13"/>
                      </a:move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361280" y="283968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377120" y="283392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2" y="27"/>
                      </a:moveTo>
                      <a:lnTo>
                        <a:pt x="0" y="0"/>
                      </a:lnTo>
                      <a:lnTo>
                        <a:pt x="12" y="27"/>
                      </a:lnTo>
                      <a:lnTo>
                        <a:pt x="13" y="27"/>
                      </a:lnTo>
                      <a:lnTo>
                        <a:pt x="12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402320" y="284400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399440" y="283968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384680" y="282456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" y="1"/>
                      </a:moveTo>
                      <a:lnTo>
                        <a:pt x="0" y="0"/>
                      </a:lnTo>
                      <a:lnTo>
                        <a:pt x="10" y="13"/>
                      </a:lnTo>
                      <a:lnTo>
                        <a:pt x="12" y="1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428600" y="279900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403760" y="281700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" y="1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377120" y="283500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1" y="12"/>
                      </a:move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0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252" name=""/>
              <p:cNvGraphicFramePr/>
              <p:nvPr/>
            </p:nvGraphicFramePr>
            <p:xfrm>
              <a:off x="7688160" y="1135080"/>
              <a:ext cx="155520" cy="263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53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688160" y="1135080"/>
                        <a:ext cx="155520" cy="26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54" name=""/>
              <p:cNvGrpSpPr/>
              <p:nvPr/>
            </p:nvGrpSpPr>
            <p:grpSpPr>
              <a:xfrm>
                <a:off x="7827840" y="1427040"/>
                <a:ext cx="171360" cy="361800"/>
                <a:chOff x="7827840" y="1427040"/>
                <a:chExt cx="171360" cy="3618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94160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92252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910640" y="1431720"/>
                  <a:ext cx="39600" cy="3420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7" y="2"/>
                      </a:moveTo>
                      <a:lnTo>
                        <a:pt x="0" y="18"/>
                      </a:lnTo>
                      <a:lnTo>
                        <a:pt x="7" y="22"/>
                      </a:lnTo>
                      <a:lnTo>
                        <a:pt x="19" y="19"/>
                      </a:lnTo>
                      <a:lnTo>
                        <a:pt x="26" y="2"/>
                      </a:lnTo>
                      <a:lnTo>
                        <a:pt x="18" y="0"/>
                      </a:lnTo>
                      <a:lnTo>
                        <a:pt x="7" y="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829280" y="1427040"/>
                  <a:ext cx="127080" cy="96120"/>
                </a:xfrm>
                <a:custGeom>
                  <a:avLst/>
                  <a:gdLst/>
                  <a:ahLst/>
                  <a:rect l="l" t="t" r="r" b="b"/>
                  <a:pathLst>
                    <a:path w="86" h="64">
                      <a:moveTo>
                        <a:pt x="85" y="61"/>
                      </a:moveTo>
                      <a:lnTo>
                        <a:pt x="85" y="24"/>
                      </a:lnTo>
                      <a:lnTo>
                        <a:pt x="54" y="0"/>
                      </a:ln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37" y="63"/>
                      </a:lnTo>
                      <a:lnTo>
                        <a:pt x="85" y="63"/>
                      </a:lnTo>
                      <a:lnTo>
                        <a:pt x="85" y="61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877880" y="1515960"/>
                  <a:ext cx="38520" cy="234360"/>
                </a:xfrm>
                <a:custGeom>
                  <a:avLst/>
                  <a:gdLst/>
                  <a:ahLst/>
                  <a:rect l="l" t="t" r="r" b="b"/>
                  <a:pathLst>
                    <a:path w="26" h="156">
                      <a:moveTo>
                        <a:pt x="0" y="155"/>
                      </a:moveTo>
                      <a:lnTo>
                        <a:pt x="9" y="150"/>
                      </a:lnTo>
                      <a:lnTo>
                        <a:pt x="16" y="143"/>
                      </a:lnTo>
                      <a:lnTo>
                        <a:pt x="17" y="136"/>
                      </a:lnTo>
                      <a:lnTo>
                        <a:pt x="16" y="129"/>
                      </a:lnTo>
                      <a:lnTo>
                        <a:pt x="11" y="121"/>
                      </a:lnTo>
                      <a:lnTo>
                        <a:pt x="4" y="118"/>
                      </a:lnTo>
                      <a:lnTo>
                        <a:pt x="0" y="115"/>
                      </a:lnTo>
                      <a:lnTo>
                        <a:pt x="9" y="111"/>
                      </a:lnTo>
                      <a:lnTo>
                        <a:pt x="15" y="105"/>
                      </a:lnTo>
                      <a:lnTo>
                        <a:pt x="17" y="100"/>
                      </a:lnTo>
                      <a:lnTo>
                        <a:pt x="17" y="93"/>
                      </a:lnTo>
                      <a:lnTo>
                        <a:pt x="15" y="89"/>
                      </a:lnTo>
                      <a:lnTo>
                        <a:pt x="10" y="82"/>
                      </a:lnTo>
                      <a:lnTo>
                        <a:pt x="3" y="78"/>
                      </a:lnTo>
                      <a:lnTo>
                        <a:pt x="0" y="78"/>
                      </a:lnTo>
                      <a:lnTo>
                        <a:pt x="13" y="69"/>
                      </a:lnTo>
                      <a:lnTo>
                        <a:pt x="17" y="64"/>
                      </a:lnTo>
                      <a:lnTo>
                        <a:pt x="17" y="59"/>
                      </a:lnTo>
                      <a:lnTo>
                        <a:pt x="16" y="54"/>
                      </a:lnTo>
                      <a:lnTo>
                        <a:pt x="13" y="48"/>
                      </a:lnTo>
                      <a:lnTo>
                        <a:pt x="9" y="44"/>
                      </a:lnTo>
                      <a:lnTo>
                        <a:pt x="0" y="38"/>
                      </a:lnTo>
                      <a:lnTo>
                        <a:pt x="12" y="32"/>
                      </a:lnTo>
                      <a:lnTo>
                        <a:pt x="17" y="25"/>
                      </a:lnTo>
                      <a:lnTo>
                        <a:pt x="17" y="19"/>
                      </a:lnTo>
                      <a:lnTo>
                        <a:pt x="15" y="11"/>
                      </a:lnTo>
                      <a:lnTo>
                        <a:pt x="13" y="7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25" y="0"/>
                      </a:lnTo>
                      <a:lnTo>
                        <a:pt x="25" y="155"/>
                      </a:lnTo>
                      <a:lnTo>
                        <a:pt x="0" y="15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827840" y="1473480"/>
                  <a:ext cx="66600" cy="54000"/>
                </a:xfrm>
                <a:custGeom>
                  <a:avLst/>
                  <a:gdLst/>
                  <a:ahLst/>
                  <a:rect l="l" t="t" r="r" b="b"/>
                  <a:pathLst>
                    <a:path w="45" h="36">
                      <a:moveTo>
                        <a:pt x="44" y="35"/>
                      </a:moveTo>
                      <a:lnTo>
                        <a:pt x="0" y="0"/>
                      </a:lnTo>
                      <a:lnTo>
                        <a:pt x="34" y="35"/>
                      </a:lnTo>
                      <a:lnTo>
                        <a:pt x="42" y="35"/>
                      </a:lnTo>
                      <a:lnTo>
                        <a:pt x="44" y="3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830720" y="1750320"/>
                  <a:ext cx="168480" cy="38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879680" y="1452240"/>
                  <a:ext cx="20520" cy="22680"/>
                </a:xfrm>
                <a:prstGeom prst="ellipse">
                  <a:avLst/>
                </a:prstGeom>
                <a:solidFill>
                  <a:srgbClr val="ff0033"/>
                </a:solidFill>
                <a:ln w="1260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7183440" y="1474920"/>
                <a:ext cx="598320" cy="147600"/>
              </a:xfrm>
              <a:custGeom>
                <a:avLst/>
                <a:gdLst/>
                <a:ahLst/>
                <a:rect l="l" t="t" r="r" b="b"/>
                <a:pathLst>
                  <a:path w="406" h="98">
                    <a:moveTo>
                      <a:pt x="0" y="22"/>
                    </a:moveTo>
                    <a:lnTo>
                      <a:pt x="217" y="97"/>
                    </a:lnTo>
                    <a:lnTo>
                      <a:pt x="144" y="0"/>
                    </a:lnTo>
                    <a:lnTo>
                      <a:pt x="405" y="6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183440" y="1768320"/>
                <a:ext cx="184320" cy="1019160"/>
              </a:xfrm>
              <a:custGeom>
                <a:avLst/>
                <a:gdLst/>
                <a:ahLst/>
                <a:rect l="l" t="t" r="r" b="b"/>
                <a:pathLst>
                  <a:path w="125" h="678">
                    <a:moveTo>
                      <a:pt x="0" y="0"/>
                    </a:moveTo>
                    <a:lnTo>
                      <a:pt x="81" y="296"/>
                    </a:lnTo>
                    <a:lnTo>
                      <a:pt x="34" y="286"/>
                    </a:lnTo>
                    <a:lnTo>
                      <a:pt x="124" y="677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997680" y="1814400"/>
                <a:ext cx="139680" cy="1069920"/>
              </a:xfrm>
              <a:custGeom>
                <a:avLst/>
                <a:gdLst/>
                <a:ahLst/>
                <a:rect l="l" t="t" r="r" b="b"/>
                <a:pathLst>
                  <a:path w="94" h="712">
                    <a:moveTo>
                      <a:pt x="93" y="0"/>
                    </a:moveTo>
                    <a:lnTo>
                      <a:pt x="32" y="310"/>
                    </a:lnTo>
                    <a:lnTo>
                      <a:pt x="67" y="300"/>
                    </a:lnTo>
                    <a:lnTo>
                      <a:pt x="0" y="711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05720" y="3048120"/>
                <a:ext cx="2052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Courier New"/>
                  </a:rPr>
                  <a:t>Cable Replac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67" name=""/>
              <p:cNvGraphicFramePr/>
              <p:nvPr/>
            </p:nvGraphicFramePr>
            <p:xfrm>
              <a:off x="5657760" y="1581120"/>
              <a:ext cx="547920" cy="619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68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657760" y="1581120"/>
                        <a:ext cx="547920" cy="61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69" name=""/>
              <p:cNvGraphicFramePr/>
              <p:nvPr/>
            </p:nvGraphicFramePr>
            <p:xfrm>
              <a:off x="6378480" y="1319040"/>
              <a:ext cx="766800" cy="8528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70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378480" y="1319040"/>
                        <a:ext cx="766800" cy="85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1" name=""/>
              <p:cNvGraphicFramePr/>
              <p:nvPr/>
            </p:nvGraphicFramePr>
            <p:xfrm>
              <a:off x="7593120" y="1974960"/>
              <a:ext cx="495360" cy="7873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72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593120" y="1974960"/>
                        <a:ext cx="495360" cy="78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73" name=""/>
          <p:cNvGrpSpPr/>
          <p:nvPr/>
        </p:nvGrpSpPr>
        <p:grpSpPr>
          <a:xfrm>
            <a:off x="534600" y="1295280"/>
            <a:ext cx="3686040" cy="3326400"/>
            <a:chOff x="534600" y="1295280"/>
            <a:chExt cx="3686040" cy="3326400"/>
          </a:xfrm>
        </p:grpSpPr>
        <p:sp>
          <p:nvSpPr>
            <p:cNvPr id="274" name=""/>
            <p:cNvSpPr/>
            <p:nvPr/>
          </p:nvSpPr>
          <p:spPr>
            <a:xfrm>
              <a:off x="1481040" y="1724040"/>
              <a:ext cx="2553840" cy="2219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3254040" y="2017800"/>
              <a:ext cx="235800" cy="186840"/>
              <a:chOff x="3254040" y="2017800"/>
              <a:chExt cx="235800" cy="186840"/>
            </a:xfrm>
          </p:grpSpPr>
          <p:sp>
            <p:nvSpPr>
              <p:cNvPr id="276" name=""/>
              <p:cNvSpPr/>
              <p:nvPr/>
            </p:nvSpPr>
            <p:spPr>
              <a:xfrm>
                <a:off x="3255480" y="2025360"/>
                <a:ext cx="223920" cy="171720"/>
              </a:xfrm>
              <a:custGeom>
                <a:avLst/>
                <a:gdLst/>
                <a:ahLst/>
                <a:rect l="l" t="t" r="r" b="b"/>
                <a:pathLst>
                  <a:path w="210" h="154">
                    <a:moveTo>
                      <a:pt x="199" y="0"/>
                    </a:moveTo>
                    <a:lnTo>
                      <a:pt x="119" y="0"/>
                    </a:lnTo>
                    <a:lnTo>
                      <a:pt x="11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10" y="0"/>
                    </a:lnTo>
                    <a:lnTo>
                      <a:pt x="4" y="10"/>
                    </a:lnTo>
                    <a:lnTo>
                      <a:pt x="0" y="4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8"/>
                    </a:lnTo>
                    <a:lnTo>
                      <a:pt x="2" y="123"/>
                    </a:lnTo>
                    <a:lnTo>
                      <a:pt x="4" y="139"/>
                    </a:lnTo>
                    <a:lnTo>
                      <a:pt x="10" y="150"/>
                    </a:lnTo>
                    <a:lnTo>
                      <a:pt x="55" y="153"/>
                    </a:lnTo>
                    <a:lnTo>
                      <a:pt x="86" y="153"/>
                    </a:lnTo>
                    <a:lnTo>
                      <a:pt x="122" y="153"/>
                    </a:lnTo>
                    <a:lnTo>
                      <a:pt x="151" y="153"/>
                    </a:lnTo>
                    <a:lnTo>
                      <a:pt x="179" y="151"/>
                    </a:lnTo>
                    <a:lnTo>
                      <a:pt x="198" y="150"/>
                    </a:lnTo>
                    <a:lnTo>
                      <a:pt x="205" y="139"/>
                    </a:lnTo>
                    <a:lnTo>
                      <a:pt x="209" y="97"/>
                    </a:lnTo>
                    <a:lnTo>
                      <a:pt x="209" y="55"/>
                    </a:lnTo>
                    <a:lnTo>
                      <a:pt x="205" y="10"/>
                    </a:lnTo>
                    <a:lnTo>
                      <a:pt x="199" y="0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05880" y="2048400"/>
                <a:ext cx="123480" cy="11592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115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115" y="103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301200" y="2187720"/>
                <a:ext cx="14400" cy="169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4" y="0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314520" y="2189520"/>
                <a:ext cx="16200" cy="15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7" y="3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7" y="10"/>
                    </a:lnTo>
                    <a:lnTo>
                      <a:pt x="14" y="8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87880" y="2037600"/>
                <a:ext cx="159120" cy="137520"/>
              </a:xfrm>
              <a:custGeom>
                <a:avLst/>
                <a:gdLst/>
                <a:ahLst/>
                <a:rect l="l" t="t" r="r" b="b"/>
                <a:pathLst>
                  <a:path w="150" h="124">
                    <a:moveTo>
                      <a:pt x="149" y="123"/>
                    </a:moveTo>
                    <a:lnTo>
                      <a:pt x="147" y="122"/>
                    </a:lnTo>
                    <a:lnTo>
                      <a:pt x="147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149" y="12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28280" y="2189520"/>
                <a:ext cx="17640" cy="151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40740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16" y="8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16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388320" y="2187720"/>
                <a:ext cx="360" cy="1692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14"/>
                    </a:moveTo>
                    <a:lnTo>
                      <a:pt x="0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366360" y="2187720"/>
                <a:ext cx="1764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34548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472200" y="2037600"/>
                <a:ext cx="1440" cy="14400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128"/>
                    </a:moveTo>
                    <a:lnTo>
                      <a:pt x="0" y="12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475440" y="2039400"/>
                <a:ext cx="14400" cy="140400"/>
              </a:xfrm>
              <a:custGeom>
                <a:avLst/>
                <a:gdLst/>
                <a:ahLst/>
                <a:rect l="l" t="t" r="r" b="b"/>
                <a:pathLst>
                  <a:path w="15" h="126">
                    <a:moveTo>
                      <a:pt x="14" y="125"/>
                    </a:moveTo>
                    <a:lnTo>
                      <a:pt x="14" y="0"/>
                    </a:lnTo>
                    <a:lnTo>
                      <a:pt x="0" y="34"/>
                    </a:lnTo>
                    <a:lnTo>
                      <a:pt x="0" y="89"/>
                    </a:lnTo>
                    <a:lnTo>
                      <a:pt x="14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258720" y="2039400"/>
                <a:ext cx="17640" cy="140400"/>
              </a:xfrm>
              <a:custGeom>
                <a:avLst/>
                <a:gdLst/>
                <a:ahLst/>
                <a:rect l="l" t="t" r="r" b="b"/>
                <a:pathLst>
                  <a:path w="17" h="126">
                    <a:moveTo>
                      <a:pt x="0" y="125"/>
                    </a:moveTo>
                    <a:lnTo>
                      <a:pt x="0" y="0"/>
                    </a:lnTo>
                    <a:lnTo>
                      <a:pt x="16" y="34"/>
                    </a:lnTo>
                    <a:lnTo>
                      <a:pt x="16" y="89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299760" y="21862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14"/>
                    </a:moveTo>
                    <a:lnTo>
                      <a:pt x="14" y="14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14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99760" y="2187720"/>
                <a:ext cx="16200" cy="169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0" y="12"/>
                    </a:moveTo>
                    <a:lnTo>
                      <a:pt x="3" y="8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8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1" y="5"/>
                    </a:lnTo>
                    <a:lnTo>
                      <a:pt x="11" y="14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9" y="12"/>
                    </a:lnTo>
                    <a:lnTo>
                      <a:pt x="6" y="12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1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471120" y="2025360"/>
                <a:ext cx="17640" cy="168480"/>
              </a:xfrm>
              <a:custGeom>
                <a:avLst/>
                <a:gdLst/>
                <a:ahLst/>
                <a:rect l="l" t="t" r="r" b="b"/>
                <a:pathLst>
                  <a:path w="17" h="151">
                    <a:moveTo>
                      <a:pt x="0" y="0"/>
                    </a:moveTo>
                    <a:lnTo>
                      <a:pt x="8" y="10"/>
                    </a:lnTo>
                    <a:lnTo>
                      <a:pt x="9" y="16"/>
                    </a:lnTo>
                    <a:lnTo>
                      <a:pt x="9" y="25"/>
                    </a:lnTo>
                    <a:lnTo>
                      <a:pt x="11" y="34"/>
                    </a:lnTo>
                    <a:lnTo>
                      <a:pt x="11" y="42"/>
                    </a:lnTo>
                    <a:lnTo>
                      <a:pt x="12" y="52"/>
                    </a:lnTo>
                    <a:lnTo>
                      <a:pt x="12" y="60"/>
                    </a:lnTo>
                    <a:lnTo>
                      <a:pt x="12" y="69"/>
                    </a:lnTo>
                    <a:lnTo>
                      <a:pt x="12" y="78"/>
                    </a:lnTo>
                    <a:lnTo>
                      <a:pt x="12" y="87"/>
                    </a:lnTo>
                    <a:lnTo>
                      <a:pt x="12" y="96"/>
                    </a:lnTo>
                    <a:lnTo>
                      <a:pt x="11" y="104"/>
                    </a:lnTo>
                    <a:lnTo>
                      <a:pt x="11" y="113"/>
                    </a:lnTo>
                    <a:lnTo>
                      <a:pt x="9" y="122"/>
                    </a:lnTo>
                    <a:lnTo>
                      <a:pt x="9" y="131"/>
                    </a:lnTo>
                    <a:lnTo>
                      <a:pt x="8" y="139"/>
                    </a:lnTo>
                    <a:lnTo>
                      <a:pt x="0" y="150"/>
                    </a:lnTo>
                    <a:lnTo>
                      <a:pt x="8" y="140"/>
                    </a:lnTo>
                    <a:lnTo>
                      <a:pt x="9" y="133"/>
                    </a:lnTo>
                    <a:lnTo>
                      <a:pt x="11" y="125"/>
                    </a:lnTo>
                    <a:lnTo>
                      <a:pt x="12" y="118"/>
                    </a:lnTo>
                    <a:lnTo>
                      <a:pt x="14" y="112"/>
                    </a:lnTo>
                    <a:lnTo>
                      <a:pt x="14" y="105"/>
                    </a:lnTo>
                    <a:lnTo>
                      <a:pt x="14" y="98"/>
                    </a:lnTo>
                    <a:lnTo>
                      <a:pt x="16" y="91"/>
                    </a:lnTo>
                    <a:lnTo>
                      <a:pt x="16" y="84"/>
                    </a:lnTo>
                    <a:lnTo>
                      <a:pt x="16" y="77"/>
                    </a:lnTo>
                    <a:lnTo>
                      <a:pt x="16" y="70"/>
                    </a:lnTo>
                    <a:lnTo>
                      <a:pt x="16" y="63"/>
                    </a:lnTo>
                    <a:lnTo>
                      <a:pt x="16" y="57"/>
                    </a:lnTo>
                    <a:lnTo>
                      <a:pt x="14" y="50"/>
                    </a:lnTo>
                    <a:lnTo>
                      <a:pt x="14" y="42"/>
                    </a:lnTo>
                    <a:lnTo>
                      <a:pt x="12" y="36"/>
                    </a:lnTo>
                    <a:lnTo>
                      <a:pt x="11" y="29"/>
                    </a:lnTo>
                    <a:lnTo>
                      <a:pt x="11" y="21"/>
                    </a:lnTo>
                    <a:lnTo>
                      <a:pt x="9" y="15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54040" y="2025360"/>
                <a:ext cx="16200" cy="168480"/>
              </a:xfrm>
              <a:custGeom>
                <a:avLst/>
                <a:gdLst/>
                <a:ahLst/>
                <a:rect l="l" t="t" r="r" b="b"/>
                <a:pathLst>
                  <a:path w="15" h="151">
                    <a:moveTo>
                      <a:pt x="14" y="0"/>
                    </a:moveTo>
                    <a:lnTo>
                      <a:pt x="7" y="10"/>
                    </a:lnTo>
                    <a:lnTo>
                      <a:pt x="5" y="16"/>
                    </a:lnTo>
                    <a:lnTo>
                      <a:pt x="5" y="25"/>
                    </a:lnTo>
                    <a:lnTo>
                      <a:pt x="4" y="34"/>
                    </a:lnTo>
                    <a:lnTo>
                      <a:pt x="2" y="42"/>
                    </a:lnTo>
                    <a:lnTo>
                      <a:pt x="2" y="52"/>
                    </a:lnTo>
                    <a:lnTo>
                      <a:pt x="2" y="60"/>
                    </a:lnTo>
                    <a:lnTo>
                      <a:pt x="2" y="69"/>
                    </a:lnTo>
                    <a:lnTo>
                      <a:pt x="2" y="78"/>
                    </a:lnTo>
                    <a:lnTo>
                      <a:pt x="2" y="87"/>
                    </a:lnTo>
                    <a:lnTo>
                      <a:pt x="2" y="96"/>
                    </a:lnTo>
                    <a:lnTo>
                      <a:pt x="2" y="104"/>
                    </a:lnTo>
                    <a:lnTo>
                      <a:pt x="4" y="113"/>
                    </a:lnTo>
                    <a:lnTo>
                      <a:pt x="4" y="122"/>
                    </a:lnTo>
                    <a:lnTo>
                      <a:pt x="5" y="131"/>
                    </a:lnTo>
                    <a:lnTo>
                      <a:pt x="7" y="139"/>
                    </a:lnTo>
                    <a:lnTo>
                      <a:pt x="14" y="150"/>
                    </a:lnTo>
                    <a:lnTo>
                      <a:pt x="7" y="140"/>
                    </a:lnTo>
                    <a:lnTo>
                      <a:pt x="5" y="133"/>
                    </a:lnTo>
                    <a:lnTo>
                      <a:pt x="4" y="125"/>
                    </a:lnTo>
                    <a:lnTo>
                      <a:pt x="2" y="118"/>
                    </a:lnTo>
                    <a:lnTo>
                      <a:pt x="1" y="112"/>
                    </a:lnTo>
                    <a:lnTo>
                      <a:pt x="1" y="105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84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1" y="50"/>
                    </a:lnTo>
                    <a:lnTo>
                      <a:pt x="1" y="42"/>
                    </a:lnTo>
                    <a:lnTo>
                      <a:pt x="1" y="36"/>
                    </a:lnTo>
                    <a:lnTo>
                      <a:pt x="2" y="29"/>
                    </a:lnTo>
                    <a:lnTo>
                      <a:pt x="4" y="21"/>
                    </a:lnTo>
                    <a:lnTo>
                      <a:pt x="5" y="15"/>
                    </a:lnTo>
                    <a:lnTo>
                      <a:pt x="7" y="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67360" y="2025360"/>
                <a:ext cx="200520" cy="168480"/>
              </a:xfrm>
              <a:custGeom>
                <a:avLst/>
                <a:gdLst/>
                <a:ahLst/>
                <a:rect l="l" t="t" r="r" b="b"/>
                <a:pathLst>
                  <a:path w="188" h="151">
                    <a:moveTo>
                      <a:pt x="187" y="150"/>
                    </a:moveTo>
                    <a:lnTo>
                      <a:pt x="187" y="0"/>
                    </a:lnTo>
                    <a:lnTo>
                      <a:pt x="107" y="0"/>
                    </a:lnTo>
                    <a:lnTo>
                      <a:pt x="107" y="2"/>
                    </a:lnTo>
                    <a:lnTo>
                      <a:pt x="79" y="2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0"/>
                    </a:lnTo>
                    <a:lnTo>
                      <a:pt x="1" y="150"/>
                    </a:lnTo>
                    <a:lnTo>
                      <a:pt x="1" y="0"/>
                    </a:lnTo>
                    <a:lnTo>
                      <a:pt x="77" y="0"/>
                    </a:lnTo>
                    <a:lnTo>
                      <a:pt x="77" y="2"/>
                    </a:lnTo>
                    <a:lnTo>
                      <a:pt x="109" y="2"/>
                    </a:lnTo>
                    <a:lnTo>
                      <a:pt x="109" y="0"/>
                    </a:lnTo>
                    <a:lnTo>
                      <a:pt x="186" y="0"/>
                    </a:lnTo>
                    <a:lnTo>
                      <a:pt x="186" y="150"/>
                    </a:lnTo>
                    <a:lnTo>
                      <a:pt x="187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151" y="124"/>
                    </a:moveTo>
                    <a:lnTo>
                      <a:pt x="149" y="124"/>
                    </a:lnTo>
                    <a:lnTo>
                      <a:pt x="149" y="0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0" y="0"/>
                    </a:moveTo>
                    <a:lnTo>
                      <a:pt x="1" y="0"/>
                    </a:lnTo>
                    <a:lnTo>
                      <a:pt x="1" y="123"/>
                    </a:lnTo>
                    <a:lnTo>
                      <a:pt x="150" y="123"/>
                    </a:lnTo>
                    <a:lnTo>
                      <a:pt x="151" y="124"/>
                    </a:lnTo>
                    <a:lnTo>
                      <a:pt x="0" y="1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3" y="1"/>
                    </a:lnTo>
                    <a:lnTo>
                      <a:pt x="114" y="1"/>
                    </a:lnTo>
                    <a:lnTo>
                      <a:pt x="114" y="104"/>
                    </a:lnTo>
                    <a:lnTo>
                      <a:pt x="117" y="105"/>
                    </a:lnTo>
                    <a:lnTo>
                      <a:pt x="1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117" y="105"/>
                    </a:moveTo>
                    <a:lnTo>
                      <a:pt x="114" y="104"/>
                    </a:lnTo>
                    <a:lnTo>
                      <a:pt x="3" y="104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117" y="10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207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207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0020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0020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3811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3811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36168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6168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39360" y="218628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39360" y="218952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10200" y="2017800"/>
                <a:ext cx="11520" cy="122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287880" y="2017800"/>
                <a:ext cx="10080" cy="12240"/>
              </a:xfrm>
              <a:prstGeom prst="ellipse">
                <a:avLst/>
              </a:prstGeom>
              <a:solidFill>
                <a:srgbClr val="ff0033"/>
              </a:solidFill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 flipV="1">
              <a:off x="2685960" y="2462400"/>
              <a:ext cx="567720" cy="296640"/>
            </a:xfrm>
            <a:custGeom>
              <a:avLst/>
              <a:gdLst/>
              <a:ahLst/>
              <a:rect l="l" t="t" r="r" b="b"/>
              <a:pathLst>
                <a:path w="303" h="173">
                  <a:moveTo>
                    <a:pt x="0" y="172"/>
                  </a:moveTo>
                  <a:lnTo>
                    <a:pt x="198" y="96"/>
                  </a:lnTo>
                  <a:lnTo>
                    <a:pt x="83" y="99"/>
                  </a:lnTo>
                  <a:lnTo>
                    <a:pt x="302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254040" y="2241720"/>
              <a:ext cx="142560" cy="59184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0" y="0"/>
                  </a:moveTo>
                  <a:lnTo>
                    <a:pt x="112" y="94"/>
                  </a:lnTo>
                  <a:lnTo>
                    <a:pt x="47" y="91"/>
                  </a:lnTo>
                  <a:lnTo>
                    <a:pt x="173" y="216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76040" y="2759040"/>
              <a:ext cx="1064880" cy="74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539880" y="2017800"/>
              <a:ext cx="353520" cy="74520"/>
            </a:xfrm>
            <a:custGeom>
              <a:avLst/>
              <a:gdLst/>
              <a:ahLst/>
              <a:rect l="l" t="t" r="r" b="b"/>
              <a:pathLst>
                <a:path w="389" h="389">
                  <a:moveTo>
                    <a:pt x="0" y="388"/>
                  </a:moveTo>
                  <a:lnTo>
                    <a:pt x="253" y="218"/>
                  </a:lnTo>
                  <a:lnTo>
                    <a:pt x="108" y="224"/>
                  </a:lnTo>
                  <a:lnTo>
                    <a:pt x="388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09400" y="3351240"/>
              <a:ext cx="709200" cy="37008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34920" y="2906640"/>
              <a:ext cx="425160" cy="2970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674720" y="2684160"/>
              <a:ext cx="269280" cy="154440"/>
              <a:chOff x="1674720" y="2684160"/>
              <a:chExt cx="269280" cy="15444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1674720" y="2765880"/>
                <a:ext cx="269280" cy="72720"/>
                <a:chOff x="1674720" y="2765880"/>
                <a:chExt cx="269280" cy="727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1674720" y="2765880"/>
                  <a:ext cx="269280" cy="72720"/>
                </a:xfrm>
                <a:custGeom>
                  <a:avLst/>
                  <a:gdLst/>
                  <a:ahLst/>
                  <a:rect l="l" t="t" r="r" b="b"/>
                  <a:pathLst>
                    <a:path w="254" h="66">
                      <a:moveTo>
                        <a:pt x="253" y="65"/>
                      </a:moveTo>
                      <a:lnTo>
                        <a:pt x="253" y="30"/>
                      </a:lnTo>
                      <a:lnTo>
                        <a:pt x="228" y="0"/>
                      </a:lnTo>
                      <a:lnTo>
                        <a:pt x="24" y="0"/>
                      </a:lnTo>
                      <a:lnTo>
                        <a:pt x="0" y="30"/>
                      </a:lnTo>
                      <a:lnTo>
                        <a:pt x="0" y="65"/>
                      </a:lnTo>
                      <a:lnTo>
                        <a:pt x="253" y="6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679040" y="2798640"/>
                  <a:ext cx="261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680840" y="2794320"/>
                  <a:ext cx="257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676880" y="2833200"/>
                  <a:ext cx="266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684080" y="2804400"/>
                  <a:ext cx="249840" cy="29520"/>
                </a:xfrm>
                <a:custGeom>
                  <a:avLst/>
                  <a:gdLst/>
                  <a:ahLst/>
                  <a:rect l="l" t="t" r="r" b="b"/>
                  <a:pathLst>
                    <a:path w="236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2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698840" y="2808720"/>
                  <a:ext cx="74160" cy="2088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0" y="0"/>
                      </a:moveTo>
                      <a:lnTo>
                        <a:pt x="69" y="0"/>
                      </a:lnTo>
                      <a:lnTo>
                        <a:pt x="69" y="18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702080" y="2810880"/>
                  <a:ext cx="66600" cy="15480"/>
                </a:xfrm>
                <a:custGeom>
                  <a:avLst/>
                  <a:gdLst/>
                  <a:ahLst/>
                  <a:rect l="l" t="t" r="r" b="b"/>
                  <a:pathLst>
                    <a:path w="63" h="14">
                      <a:moveTo>
                        <a:pt x="0" y="0"/>
                      </a:moveTo>
                      <a:lnTo>
                        <a:pt x="62" y="0"/>
                      </a:lnTo>
                      <a:lnTo>
                        <a:pt x="62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711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710720" y="281664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70856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706400" y="28209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704240" y="28231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71900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71576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74996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7"/>
                      </a:lnTo>
                      <a:lnTo>
                        <a:pt x="6" y="7"/>
                      </a:lnTo>
                      <a:lnTo>
                        <a:pt x="3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7362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7362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738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8"/>
                      </a:lnTo>
                      <a:lnTo>
                        <a:pt x="7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73844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74240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738440" y="281988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74240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738440" y="281556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74348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8" y="0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74348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7488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7434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7434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74348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5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75212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75212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75644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75644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750680" y="281556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75212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9" y="0"/>
                      </a:ln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79028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80720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2304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83996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855080" y="2810160"/>
                  <a:ext cx="8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87164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88748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790280" y="2820960"/>
                  <a:ext cx="12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0720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67680" y="2820960"/>
                  <a:ext cx="1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88352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687320" y="2808720"/>
                  <a:ext cx="10440" cy="1548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689480" y="28101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 flipV="1">
                <a:off x="1908000" y="2684160"/>
                <a:ext cx="0" cy="8676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 flipH="1">
              <a:off x="1103040" y="2776680"/>
              <a:ext cx="60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39560" y="2800440"/>
              <a:ext cx="336240" cy="193680"/>
            </a:xfrm>
            <a:custGeom>
              <a:avLst/>
              <a:gdLst/>
              <a:ahLst/>
              <a:rect l="l" t="t" r="r" b="b"/>
              <a:pathLst>
                <a:path w="316" h="175">
                  <a:moveTo>
                    <a:pt x="0" y="174"/>
                  </a:moveTo>
                  <a:lnTo>
                    <a:pt x="29" y="172"/>
                  </a:lnTo>
                  <a:lnTo>
                    <a:pt x="59" y="168"/>
                  </a:lnTo>
                  <a:lnTo>
                    <a:pt x="85" y="158"/>
                  </a:lnTo>
                  <a:lnTo>
                    <a:pt x="107" y="147"/>
                  </a:lnTo>
                  <a:lnTo>
                    <a:pt x="127" y="134"/>
                  </a:lnTo>
                  <a:lnTo>
                    <a:pt x="143" y="118"/>
                  </a:lnTo>
                  <a:lnTo>
                    <a:pt x="153" y="102"/>
                  </a:lnTo>
                  <a:lnTo>
                    <a:pt x="156" y="86"/>
                  </a:lnTo>
                  <a:lnTo>
                    <a:pt x="159" y="70"/>
                  </a:lnTo>
                  <a:lnTo>
                    <a:pt x="169" y="54"/>
                  </a:lnTo>
                  <a:lnTo>
                    <a:pt x="185" y="41"/>
                  </a:lnTo>
                  <a:lnTo>
                    <a:pt x="208" y="27"/>
                  </a:lnTo>
                  <a:lnTo>
                    <a:pt x="231" y="16"/>
                  </a:lnTo>
                  <a:lnTo>
                    <a:pt x="257" y="7"/>
                  </a:lnTo>
                  <a:lnTo>
                    <a:pt x="286" y="2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371240" y="2637000"/>
              <a:ext cx="330120" cy="129960"/>
            </a:xfrm>
            <a:custGeom>
              <a:avLst/>
              <a:gdLst/>
              <a:ahLst/>
              <a:rect l="l" t="t" r="r" b="b"/>
              <a:pathLst>
                <a:path w="310" h="118">
                  <a:moveTo>
                    <a:pt x="0" y="0"/>
                  </a:moveTo>
                  <a:lnTo>
                    <a:pt x="26" y="2"/>
                  </a:lnTo>
                  <a:lnTo>
                    <a:pt x="53" y="6"/>
                  </a:lnTo>
                  <a:lnTo>
                    <a:pt x="76" y="12"/>
                  </a:lnTo>
                  <a:lnTo>
                    <a:pt x="96" y="18"/>
                  </a:lnTo>
                  <a:lnTo>
                    <a:pt x="115" y="27"/>
                  </a:lnTo>
                  <a:lnTo>
                    <a:pt x="128" y="36"/>
                  </a:lnTo>
                  <a:lnTo>
                    <a:pt x="138" y="46"/>
                  </a:lnTo>
                  <a:lnTo>
                    <a:pt x="141" y="58"/>
                  </a:lnTo>
                  <a:lnTo>
                    <a:pt x="145" y="69"/>
                  </a:lnTo>
                  <a:lnTo>
                    <a:pt x="155" y="79"/>
                  </a:lnTo>
                  <a:lnTo>
                    <a:pt x="171" y="89"/>
                  </a:lnTo>
                  <a:lnTo>
                    <a:pt x="194" y="98"/>
                  </a:lnTo>
                  <a:lnTo>
                    <a:pt x="217" y="106"/>
                  </a:lnTo>
                  <a:lnTo>
                    <a:pt x="247" y="112"/>
                  </a:lnTo>
                  <a:lnTo>
                    <a:pt x="276" y="116"/>
                  </a:lnTo>
                  <a:lnTo>
                    <a:pt x="309" y="11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4720" y="2368440"/>
              <a:ext cx="296640" cy="398520"/>
            </a:xfrm>
            <a:custGeom>
              <a:avLst/>
              <a:gdLst/>
              <a:ahLst/>
              <a:rect l="l" t="t" r="r" b="b"/>
              <a:pathLst>
                <a:path w="280" h="359">
                  <a:moveTo>
                    <a:pt x="0" y="0"/>
                  </a:moveTo>
                  <a:lnTo>
                    <a:pt x="13" y="2"/>
                  </a:lnTo>
                  <a:lnTo>
                    <a:pt x="23" y="4"/>
                  </a:lnTo>
                  <a:lnTo>
                    <a:pt x="46" y="15"/>
                  </a:lnTo>
                  <a:lnTo>
                    <a:pt x="69" y="32"/>
                  </a:lnTo>
                  <a:lnTo>
                    <a:pt x="88" y="56"/>
                  </a:lnTo>
                  <a:lnTo>
                    <a:pt x="105" y="82"/>
                  </a:lnTo>
                  <a:lnTo>
                    <a:pt x="118" y="114"/>
                  </a:lnTo>
                  <a:lnTo>
                    <a:pt x="125" y="147"/>
                  </a:lnTo>
                  <a:lnTo>
                    <a:pt x="128" y="179"/>
                  </a:lnTo>
                  <a:lnTo>
                    <a:pt x="131" y="212"/>
                  </a:lnTo>
                  <a:lnTo>
                    <a:pt x="141" y="245"/>
                  </a:lnTo>
                  <a:lnTo>
                    <a:pt x="158" y="275"/>
                  </a:lnTo>
                  <a:lnTo>
                    <a:pt x="174" y="303"/>
                  </a:lnTo>
                  <a:lnTo>
                    <a:pt x="197" y="325"/>
                  </a:lnTo>
                  <a:lnTo>
                    <a:pt x="223" y="343"/>
                  </a:lnTo>
                  <a:lnTo>
                    <a:pt x="250" y="354"/>
                  </a:lnTo>
                  <a:lnTo>
                    <a:pt x="266" y="357"/>
                  </a:lnTo>
                  <a:lnTo>
                    <a:pt x="279" y="35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1114200" y="2166840"/>
              <a:ext cx="371160" cy="298440"/>
              <a:chOff x="1114200" y="2166840"/>
              <a:chExt cx="371160" cy="298440"/>
            </a:xfrm>
          </p:grpSpPr>
          <p:pic>
            <p:nvPicPr>
              <p:cNvPr id="394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14200" y="2220120"/>
                <a:ext cx="371160" cy="24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1191960" y="2166840"/>
                <a:ext cx="254880" cy="120960"/>
              </a:xfrm>
              <a:custGeom>
                <a:avLst/>
                <a:gdLst/>
                <a:ahLst/>
                <a:rect l="l" t="t" r="r" b="b"/>
                <a:pathLst>
                  <a:path w="239" h="109">
                    <a:moveTo>
                      <a:pt x="64" y="0"/>
                    </a:moveTo>
                    <a:lnTo>
                      <a:pt x="238" y="34"/>
                    </a:lnTo>
                    <a:lnTo>
                      <a:pt x="173" y="108"/>
                    </a:lnTo>
                    <a:lnTo>
                      <a:pt x="0" y="74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6" name="" descr=""/>
            <p:cNvPicPr/>
            <p:nvPr/>
          </p:nvPicPr>
          <p:blipFill>
            <a:blip r:embed="rId18"/>
            <a:stretch/>
          </p:blipFill>
          <p:spPr>
            <a:xfrm>
              <a:off x="1164960" y="2524320"/>
              <a:ext cx="22032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534600" y="2684520"/>
              <a:ext cx="726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and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76040" y="1944720"/>
              <a:ext cx="263160" cy="398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03360" y="2906640"/>
              <a:ext cx="709200" cy="22392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18960" y="3917880"/>
              <a:ext cx="2166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urier New"/>
                </a:rPr>
                <a:t>Data/Voice Access 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1" name=""/>
            <p:cNvGraphicFramePr/>
            <p:nvPr/>
          </p:nvGraphicFramePr>
          <p:xfrm>
            <a:off x="3863880" y="1951200"/>
            <a:ext cx="356760" cy="9190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02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863880" y="1951200"/>
                      <a:ext cx="356760" cy="9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3" name=""/>
            <p:cNvGraphicFramePr/>
            <p:nvPr/>
          </p:nvGraphicFramePr>
          <p:xfrm>
            <a:off x="2617560" y="2805120"/>
            <a:ext cx="926640" cy="1033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617560" y="2805120"/>
                      <a:ext cx="926640" cy="103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"/>
            <p:cNvGraphicFramePr/>
            <p:nvPr/>
          </p:nvGraphicFramePr>
          <p:xfrm>
            <a:off x="1109520" y="3328920"/>
            <a:ext cx="355320" cy="9194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109520" y="3328920"/>
                      <a:ext cx="355320" cy="91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912600" y="2870280"/>
            <a:ext cx="452160" cy="5256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912600" y="2870280"/>
                      <a:ext cx="452160" cy="5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9" name=""/>
            <p:cNvGraphicFramePr/>
            <p:nvPr/>
          </p:nvGraphicFramePr>
          <p:xfrm>
            <a:off x="2091960" y="3264120"/>
            <a:ext cx="393480" cy="285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091960" y="3264120"/>
                      <a:ext cx="3934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1" name=""/>
            <p:cNvGraphicFramePr/>
            <p:nvPr/>
          </p:nvGraphicFramePr>
          <p:xfrm>
            <a:off x="2223720" y="2214720"/>
            <a:ext cx="479160" cy="5238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223720" y="2214720"/>
                      <a:ext cx="47916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3" name=""/>
            <p:cNvGraphicFramePr/>
            <p:nvPr/>
          </p:nvGraphicFramePr>
          <p:xfrm>
            <a:off x="1371240" y="1295280"/>
            <a:ext cx="819000" cy="11242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414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1371240" y="1295280"/>
                      <a:ext cx="819000" cy="112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E137-7932-4E8A-910C-C0A9EDD0357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 little bit of histor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(Special Interest Group) was formed in February 199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ricss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BM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ki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hib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re are over 1036 adopter compani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went “public” in May 199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work (the spec: &gt;1,500 pages) became public on July 26, 1999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B643-D3D9-4B3C-ADED-624CA0AC6B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program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685800" y="1066680"/>
            <a:ext cx="7772400" cy="914400"/>
            <a:chOff x="685800" y="1066680"/>
            <a:chExt cx="7772400" cy="914400"/>
          </a:xfrm>
        </p:grpSpPr>
        <p:sp>
          <p:nvSpPr>
            <p:cNvPr id="419" name=""/>
            <p:cNvSpPr/>
            <p:nvPr/>
          </p:nvSpPr>
          <p:spPr>
            <a:xfrm>
              <a:off x="685800" y="106668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19520" y="10666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85800" y="1981080"/>
            <a:ext cx="7772400" cy="914400"/>
            <a:chOff x="685800" y="1981080"/>
            <a:chExt cx="7772400" cy="914400"/>
          </a:xfrm>
        </p:grpSpPr>
        <p:sp>
          <p:nvSpPr>
            <p:cNvPr id="422" name=""/>
            <p:cNvSpPr/>
            <p:nvPr/>
          </p:nvSpPr>
          <p:spPr>
            <a:xfrm>
              <a:off x="685800" y="198108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19520" y="19810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85800" y="2895480"/>
            <a:ext cx="7772400" cy="914400"/>
            <a:chOff x="685800" y="2895480"/>
            <a:chExt cx="7772400" cy="914400"/>
          </a:xfrm>
        </p:grpSpPr>
        <p:sp>
          <p:nvSpPr>
            <p:cNvPr id="425" name=""/>
            <p:cNvSpPr/>
            <p:nvPr/>
          </p:nvSpPr>
          <p:spPr>
            <a:xfrm>
              <a:off x="685800" y="289548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819520" y="28954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85800" y="3809880"/>
            <a:ext cx="7772400" cy="914400"/>
            <a:chOff x="685800" y="3809880"/>
            <a:chExt cx="7772400" cy="914400"/>
          </a:xfrm>
        </p:grpSpPr>
        <p:sp>
          <p:nvSpPr>
            <p:cNvPr id="428" name=""/>
            <p:cNvSpPr/>
            <p:nvPr/>
          </p:nvSpPr>
          <p:spPr>
            <a:xfrm>
              <a:off x="685800" y="380988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19520" y="38098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85800" y="4724280"/>
            <a:ext cx="7772400" cy="914400"/>
            <a:chOff x="685800" y="4724280"/>
            <a:chExt cx="7772400" cy="914400"/>
          </a:xfrm>
        </p:grpSpPr>
        <p:sp>
          <p:nvSpPr>
            <p:cNvPr id="431" name=""/>
            <p:cNvSpPr/>
            <p:nvPr/>
          </p:nvSpPr>
          <p:spPr>
            <a:xfrm>
              <a:off x="685800" y="472428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19520" y="47242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7713-054E-44C3-A671-6B47569BAEF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484200" y="990720"/>
            <a:ext cx="8278560" cy="4267080"/>
            <a:chOff x="484200" y="990720"/>
            <a:chExt cx="8278560" cy="4267080"/>
          </a:xfrm>
        </p:grpSpPr>
        <p:sp>
          <p:nvSpPr>
            <p:cNvPr id="434" name=""/>
            <p:cNvSpPr/>
            <p:nvPr/>
          </p:nvSpPr>
          <p:spPr>
            <a:xfrm>
              <a:off x="5262480" y="1554840"/>
              <a:ext cx="350028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Application Framework and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22680" y="1066680"/>
              <a:ext cx="457200" cy="1905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524120" y="3383640"/>
              <a:ext cx="334980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Link Manager and L2C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36880" y="33526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24120" y="4479840"/>
              <a:ext cx="3349800" cy="49068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Radio &amp; Baseb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36880" y="42670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75160" y="2543760"/>
              <a:ext cx="290196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ff"/>
                  </a:solidFill>
                  <a:latin typeface="Courier New"/>
                </a:rPr>
                <a:t>Host Controll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3531600" y="2971800"/>
              <a:ext cx="1752840" cy="76212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4200" y="4834080"/>
              <a:ext cx="289872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4200" y="4313160"/>
              <a:ext cx="2898720" cy="4557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4200" y="3335400"/>
              <a:ext cx="70956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52440" y="3824280"/>
              <a:ext cx="2130480" cy="42372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52440" y="3335400"/>
              <a:ext cx="1360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4200" y="2033640"/>
              <a:ext cx="2720880" cy="123660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4200" y="1511280"/>
              <a:ext cx="7938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57200" y="1511280"/>
              <a:ext cx="5461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63800" y="1511280"/>
              <a:ext cx="12697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90720" y="1511280"/>
              <a:ext cx="1479600" cy="225900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4200" y="990720"/>
              <a:ext cx="378612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669320" y="242424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7809800">
              <a:off x="2932920" y="24440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at is Bluetooth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5410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hardware/software descrip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 application framework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1EBD-E31D-40BA-BC65-9D694E4B6A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Usage scenarios exampl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le Transf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a Access Poin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nchroniz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eadse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idden Computing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ference Tabl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rdless Comput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siness Card Exchang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ant Postcar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ee-in-one Phon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uter Speakerphon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B669-09A6-4849-9048-AF47E93923E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2T01:34:02Z</dcterms:created>
  <dc:creator>Chatschik Bisdikian</dc:creator>
  <dc:description/>
  <dc:language>en-US</dc:language>
  <cp:lastModifiedBy>Ian C. Gifford</cp:lastModifiedBy>
  <cp:lastPrinted>1999-07-23T14:05:54Z</cp:lastPrinted>
  <dcterms:modified xsi:type="dcterms:W3CDTF">1999-09-09T17:57:01Z</dcterms:modified>
  <cp:revision>185</cp:revision>
  <dc:subject/>
  <dc:title>No Slide Title</dc:title>
</cp:coreProperties>
</file>