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9760" y="694800"/>
            <a:ext cx="457848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564E8BE-722B-4B32-9C84-EFA4B0588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9776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9632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37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80C492-E622-4F66-9C94-CD327719D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2520"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4320" cy="344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004D-93F3-45EC-8DC1-8ABB0586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9FA-029E-4436-A78A-C51E1609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02D-BE0A-45CD-864C-E626BEB0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79D-CE6F-4298-AFDE-812566CF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4883-F916-43D1-BEC8-A0F9C72D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75D4-C519-4CA9-A06A-4B8FF55E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E507-8AA4-46E2-9707-75F937BB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421-7591-4F54-A90F-DD312DA3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1E7B-41AC-4D6C-9C03-802E5104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253-F4E5-4211-8DCD-B1EF6164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E433-27D6-49EF-AF4D-FCF0E781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628-7F59-4AD4-AB69-16E6C29C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AB0CF55-BCBA-4376-895D-C89A96AA0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1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181160"/>
            <a:ext cx="7772400" cy="307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63504" dir="2216091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br>
              <a:rPr sz="4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ing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Personal Area Network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mllieee" descr=""/>
          <p:cNvPicPr/>
          <p:nvPr/>
        </p:nvPicPr>
        <p:blipFill>
          <a:blip r:embed="rId1"/>
          <a:stretch/>
        </p:blipFill>
        <p:spPr>
          <a:xfrm>
            <a:off x="1039680" y="1409760"/>
            <a:ext cx="736560" cy="838080"/>
          </a:xfrm>
          <a:prstGeom prst="rect">
            <a:avLst/>
          </a:prstGeom>
          <a:ln w="0">
            <a:noFill/>
          </a:ln>
        </p:spPr>
      </p:pic>
      <p:pic>
        <p:nvPicPr>
          <p:cNvPr id="58" name="802" descr=""/>
          <p:cNvPicPr/>
          <p:nvPr/>
        </p:nvPicPr>
        <p:blipFill>
          <a:blip r:embed="rId2"/>
          <a:stretch/>
        </p:blipFill>
        <p:spPr>
          <a:xfrm>
            <a:off x="7242120" y="1360440"/>
            <a:ext cx="947880" cy="97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CC30-F752-4092-9A45-23DFB336CCB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PAN Project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39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rted in 1997 as ‘ad hoc’ group within IEEE Portable Applications Standards Committee (PAS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t the time, no other Groups or Standards Bodies dealing with the probl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March 1998 a Study Group was formed within 802.11 to develop a Project Authorization Request (PA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March 1999, IEEE 802.15 Working Group for WPANs establish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0B5-B869-4625-A45B-53497CF6674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PAN:  Other Groups Developing Similar Specificat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934320" y="3657600"/>
            <a:ext cx="1218960" cy="990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1673280" cy="2501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013160" y="457200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4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40680" y="571500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20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7640" y="53341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120" y="6289560"/>
            <a:ext cx="282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doc.: IEEE 802.11-98/58 (Bob Heile, G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smllieee" descr=""/>
          <p:cNvPicPr/>
          <p:nvPr/>
        </p:nvPicPr>
        <p:blipFill>
          <a:blip r:embed="rId3"/>
          <a:stretch/>
        </p:blipFill>
        <p:spPr>
          <a:xfrm>
            <a:off x="3657600" y="4114800"/>
            <a:ext cx="95076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99" name=""/>
          <p:cNvGraphicFramePr/>
          <p:nvPr/>
        </p:nvGraphicFramePr>
        <p:xfrm>
          <a:off x="6858000" y="5334120"/>
          <a:ext cx="1447920" cy="35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0" y="5334120"/>
                    <a:ext cx="14479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RF -formed March 4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tooth -formed May 20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Data Asso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CB93-91D2-435B-928B-7F97EEDDC5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luetooth Mission/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global specification for wireless technolog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luetooth answers the need for short-range wireless connectivity within three are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and Voice access po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ble replac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 hoc networ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luetooth is a system solution comprising hardware, software and interoperability requirements. The Bluetooth specifications specify the complete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luetooth operates in a globally available 2.4 Ghz ISM band, ensuring communication compatibility worldwi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35720" y="6240600"/>
            <a:ext cx="161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Bluetooth Web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1CCC-6ECD-4863-A56F-40476032966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omeRF 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ssion of the HomeRF Working Group is to enable the existence of a broad range of interoperable consumer devices, by establishing an open industry specification for unlicensed RF digital communications for PCs and consumer devices anywhere, in and around th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93320" y="6210360"/>
            <a:ext cx="157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HomeRF Web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F53-4CD4-4C08-AE95-19BE88BFD1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560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any Participation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 WPAN Related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1905120"/>
            <a:ext cx="274320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3200400"/>
            <a:ext cx="3427560" cy="323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92520" y="1785960"/>
            <a:ext cx="4952880" cy="4614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96920" y="4633920"/>
            <a:ext cx="1432080" cy="1157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70040" y="3657600"/>
            <a:ext cx="283824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504 Bluetooth Adopter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7640" y="2057400"/>
            <a:ext cx="1660320" cy="3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50 Attend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9440" y="3733920"/>
            <a:ext cx="297684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82 HomeRF Adopt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/Cor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smllieee" descr=""/>
          <p:cNvPicPr/>
          <p:nvPr/>
        </p:nvPicPr>
        <p:blipFill>
          <a:blip r:embed="rId2"/>
          <a:stretch/>
        </p:blipFill>
        <p:spPr>
          <a:xfrm>
            <a:off x="4267080" y="2743200"/>
            <a:ext cx="95112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17" name=""/>
          <p:cNvGraphicFramePr/>
          <p:nvPr/>
        </p:nvGraphicFramePr>
        <p:xfrm>
          <a:off x="5943600" y="4800600"/>
          <a:ext cx="236232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800600"/>
                    <a:ext cx="2362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774360" y="211140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March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54F4-EB0B-4254-A58B-6549279E0FF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65440" y="5486400"/>
            <a:ext cx="6540480" cy="30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um Access Control Sub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5791320"/>
            <a:ext cx="655344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 focuses only on the Lower La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8400" y="5791320"/>
            <a:ext cx="10670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8400" y="5257800"/>
            <a:ext cx="10670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8400" y="4724280"/>
            <a:ext cx="10670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8400" y="4191120"/>
            <a:ext cx="10670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8400" y="3657600"/>
            <a:ext cx="10670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8400" y="3124080"/>
            <a:ext cx="10670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8400" y="2590920"/>
            <a:ext cx="10670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-1360080" y="416808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/OSI Reference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429000" y="259056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666880" y="3505320"/>
            <a:ext cx="1432080" cy="1157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 flipV="1">
            <a:off x="5562720" y="259056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543800" y="54864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802" descr=""/>
          <p:cNvPicPr/>
          <p:nvPr/>
        </p:nvPicPr>
        <p:blipFill>
          <a:blip r:embed="rId2"/>
          <a:stretch/>
        </p:blipFill>
        <p:spPr>
          <a:xfrm>
            <a:off x="6858000" y="3962520"/>
            <a:ext cx="1417680" cy="146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8504280" y="5570640"/>
            <a:ext cx="56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15200" y="5318280"/>
            <a:ext cx="54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343400" y="3809880"/>
          <a:ext cx="236232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809880"/>
                    <a:ext cx="2362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09C-D01D-4B2C-8B1A-FBCFE662009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64960" y="1955880"/>
            <a:ext cx="8879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WPAN functional 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n open forum to debate and critique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MAC and PHY standards for short range embedded wireless networking of PCs, PDAs, peripherals, cell phones, pagers, consumer electronic devices, sensors, actuators, and the 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79320" y="7092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802.15 WPAN Working  Group 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29D9-E074-4BF1-8806-97FE3634549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42720" y="1905120"/>
            <a:ext cx="847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closely with and build consensus among groups having an interest in WPANs like Bluetooth, HomeRF, and 802.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Standards that meet the requirements of WPANs and have broad market appe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 effectively with coexistence and interoperability in a shared med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09480" y="6220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802.15 WPAN Working  Group 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6B0-FB7A-4B65-B0A3-BEF893FCF3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88960" y="865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rrent 802.15 WPAN Functional Requirements- “A” Lis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2600" y="2174760"/>
            <a:ext cx="927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orldwide spectrum allocations for unlicensed bands such as 2.4GH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w Cost: i.e., relative to target dev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mall Size e.g., ~.5 cubic inches( excludes antenna &amp; batter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wer Management: Very Low current consumption (Average 20mw or less @ 10% Tx/Rx load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120" y="6289560"/>
            <a:ext cx="33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doc.: IEEE 802.11-98/160r2 (Ian Gifford, M/A-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C90F-13DF-4260-B66A-375BE3C6A20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3040" y="7999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rrent 802.15 WPAN Functional Requirements- “A” List (cont.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22876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ynchronous or connection-less data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coexistence of multiple Wireless PAN’s in the same area (20 within 400 square fe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coexistence of multiple Wireless Systems such as  P802.11 in the sam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AN Network Access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120" y="6289560"/>
            <a:ext cx="33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doc.: IEEE 802.11-98/160r2 (Ian Gifford, M/A-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4DF-51AB-456D-8E6A-BDAA04132C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 Wireless Vision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AN Market Need/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AN Project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AN Function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13A-D11E-4C11-9971-572E904AD1E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224784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: 0-10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ing support for a minimum of 16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h: within one (1) second, once within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dge or Gateway connectivity to other data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rrent 802.15 WPAN Functional Requirements- “B” Lis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120" y="6289560"/>
            <a:ext cx="33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doc.: IEEE 802.11-98/160r2 (Ian Gifford, M/A-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5CC-5C01-42CB-A912-DD8310D04AA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24289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vered Data Throughput at the MAC SAP: (19.2 - 100) kbit/s (actual 1 device to 1 dev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devices within a WPAN must be able to communicate with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QoS to support a variety of traff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ous, and connection-oriented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38360" y="8172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rrent 802.15 WPAN Functional Requirements- “B” List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120" y="6289560"/>
            <a:ext cx="33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doc.: IEEE 802.11-98/160r2 (Ian Gifford, M/A-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8815-0C56-42BD-B87F-C1CFB5F133F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rrent 802.15 WPAN Functional Requirements- “C”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81200" y="2343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ingle element of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aming: hand-off to another 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120" y="6289560"/>
            <a:ext cx="33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doc.: IEEE 802.11-98/160r2 (Ian Gifford, M/A-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E19-705F-4FD7-AEE6-6A819CE474E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800" y="437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PAN Interoperabil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398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4 - Full Compliance to the 802.11 MAC &amp; PHY P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lass 3 - Partial Interoperability: there is a way on the medium to exchange data without an intermediate dev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lass 3a Transmit and Rece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lass 3b Receive On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lass 3c Detect Energ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2 - Bridge-like (1 MAC/2 PHY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1 - Gateway-like (&gt; 1 MA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0 - Non Interop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9AE-A686-4668-BFE2-88DA93F3F99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658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oexistence/Interoperability Continuu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6320" y="1733400"/>
            <a:ext cx="8684640" cy="4743720"/>
            <a:chOff x="76320" y="1733400"/>
            <a:chExt cx="8684640" cy="4743720"/>
          </a:xfrm>
        </p:grpSpPr>
        <p:sp>
          <p:nvSpPr>
            <p:cNvPr id="163" name=""/>
            <p:cNvSpPr/>
            <p:nvPr/>
          </p:nvSpPr>
          <p:spPr>
            <a:xfrm>
              <a:off x="3352680" y="1905120"/>
              <a:ext cx="17640" cy="4410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33000" y="5108400"/>
              <a:ext cx="337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ckground White nois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83000" y="5367240"/>
              <a:ext cx="453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3427560" y="1733400"/>
              <a:ext cx="3187440" cy="458280"/>
              <a:chOff x="3427560" y="1733400"/>
              <a:chExt cx="3187440" cy="458280"/>
            </a:xfrm>
          </p:grpSpPr>
          <p:sp>
            <p:nvSpPr>
              <p:cNvPr id="167" name=""/>
              <p:cNvSpPr/>
              <p:nvPr/>
            </p:nvSpPr>
            <p:spPr>
              <a:xfrm>
                <a:off x="4453200" y="1733400"/>
                <a:ext cx="2161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ull complian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427560" y="1998720"/>
                <a:ext cx="93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395960" y="5649840"/>
              <a:ext cx="31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tructive Inter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gnificant Degrad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79560" y="1947960"/>
              <a:ext cx="0" cy="315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320" y="3657600"/>
              <a:ext cx="16383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5600" y="3703680"/>
              <a:ext cx="164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exist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48240" y="2833560"/>
              <a:ext cx="301284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31800" y="2581200"/>
              <a:ext cx="299844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ptable to 802.11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13120" y="3968640"/>
              <a:ext cx="301464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43320" y="3713040"/>
              <a:ext cx="284328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PAN proposal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54440" y="3241800"/>
              <a:ext cx="0" cy="145548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09800" y="5265720"/>
              <a:ext cx="0" cy="12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2040" y="5565600"/>
              <a:ext cx="176256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r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574560" y="518148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70160" y="1947960"/>
              <a:ext cx="0" cy="17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76040" y="2362320"/>
              <a:ext cx="2202840" cy="71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roper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mun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1523160" y="3809880"/>
              <a:ext cx="1456200" cy="1371600"/>
              <a:chOff x="1523160" y="3809880"/>
              <a:chExt cx="1456200" cy="1371600"/>
            </a:xfrm>
          </p:grpSpPr>
          <p:sp>
            <p:nvSpPr>
              <p:cNvPr id="184" name=""/>
              <p:cNvSpPr/>
              <p:nvPr/>
            </p:nvSpPr>
            <p:spPr>
              <a:xfrm>
                <a:off x="2270160" y="3809880"/>
                <a:ext cx="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23160" y="4091040"/>
                <a:ext cx="1456200" cy="96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ectru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har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tiquet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52440" y="3022560"/>
              <a:ext cx="6254640" cy="652680"/>
              <a:chOff x="352440" y="3022560"/>
              <a:chExt cx="6254640" cy="652680"/>
            </a:xfrm>
          </p:grpSpPr>
          <p:sp>
            <p:nvSpPr>
              <p:cNvPr id="187" name=""/>
              <p:cNvSpPr/>
              <p:nvPr/>
            </p:nvSpPr>
            <p:spPr>
              <a:xfrm>
                <a:off x="3867120" y="3349800"/>
                <a:ext cx="2739960" cy="0"/>
              </a:xfrm>
              <a:prstGeom prst="line">
                <a:avLst/>
              </a:prstGeom>
              <a:ln w="25560">
                <a:solidFill>
                  <a:srgbClr val="ff003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2440" y="3022560"/>
                <a:ext cx="3786120" cy="652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236840" y="3139920"/>
              <a:ext cx="3053160" cy="45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transfer cap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19320" y="1752480"/>
              <a:ext cx="1074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33360" y="2241720"/>
              <a:ext cx="12276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lass 3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lass 3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lass 3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31200" y="5257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84440" y="5889600"/>
              <a:ext cx="454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66320" y="3200400"/>
              <a:ext cx="1137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WPAN GO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05320" y="2057400"/>
              <a:ext cx="0" cy="145584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B7C-C2F3-4FFA-905C-311EC722EA9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33240" y="414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802.15 WPAN - Proposed Liai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1393920"/>
            <a:ext cx="891540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tooth Special Interest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Radio Frequency Working Group (HRFW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Data Association (Ir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P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AC/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SI Broadband Radio Access Networks (BRAN)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Engineering Task Force (IETF), Mobile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 Forum Wireless ATM (WATM)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LAN Alliance (WL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99A-0130-43E3-9487-823D5E67B22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0" y="1828800"/>
            <a:ext cx="1752480" cy="441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6951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of 802.15 WPAN Requirements with IEEE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3920" y="3782880"/>
            <a:ext cx="1577880" cy="139860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9400" y="3728880"/>
            <a:ext cx="1725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4 GHz ra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. Ho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read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78120" y="3782880"/>
            <a:ext cx="1636560" cy="139860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38160" y="3728880"/>
            <a:ext cx="17132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4 GHz ra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 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read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37080" y="3782880"/>
            <a:ext cx="738000" cy="139860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57520" y="4137120"/>
            <a:ext cx="88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-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77840" y="3497400"/>
            <a:ext cx="505944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94280" y="3532320"/>
            <a:ext cx="0" cy="2095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6800" y="3352680"/>
            <a:ext cx="0" cy="1494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3524400"/>
            <a:ext cx="0" cy="2394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19440" y="3532320"/>
            <a:ext cx="0" cy="2397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1120" y="5259240"/>
            <a:ext cx="798480" cy="5000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0920" y="5257800"/>
            <a:ext cx="753480" cy="45756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30280" y="5259240"/>
            <a:ext cx="800280" cy="5000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52240" y="5257800"/>
            <a:ext cx="753480" cy="45756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37080" y="5259240"/>
            <a:ext cx="738000" cy="5000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28800" y="5256360"/>
            <a:ext cx="753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2800" y="5883120"/>
            <a:ext cx="2630520" cy="27504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gend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tal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 = 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76560" y="3532320"/>
            <a:ext cx="0" cy="24768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32600" y="3532320"/>
            <a:ext cx="0" cy="2095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8920" y="3782880"/>
            <a:ext cx="1036800" cy="1398600"/>
          </a:xfrm>
          <a:prstGeom prst="rect">
            <a:avLst/>
          </a:prstGeom>
          <a:noFill/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27520" y="3782880"/>
            <a:ext cx="1098720" cy="1398600"/>
          </a:xfrm>
          <a:prstGeom prst="rect">
            <a:avLst/>
          </a:prstGeom>
          <a:noFill/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02240" y="5259240"/>
            <a:ext cx="852480" cy="533520"/>
          </a:xfrm>
          <a:prstGeom prst="rect">
            <a:avLst/>
          </a:prstGeom>
          <a:noFill/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2760" y="5259240"/>
            <a:ext cx="798480" cy="776520"/>
          </a:xfrm>
          <a:prstGeom prst="rect">
            <a:avLst/>
          </a:prstGeom>
          <a:noFill/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3780000"/>
            <a:ext cx="11379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er data rate extension in 2.4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780000"/>
            <a:ext cx="11383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er data rate extension in 5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38880" y="5245200"/>
            <a:ext cx="860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&amp; 5.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19760" y="5262480"/>
            <a:ext cx="792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-12-18...54 Mbit/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1440" y="2435400"/>
            <a:ext cx="6483240" cy="9205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59680" y="3736800"/>
            <a:ext cx="1098360" cy="139860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70840" y="5213520"/>
            <a:ext cx="1066680" cy="776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70840" y="3733920"/>
            <a:ext cx="11379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er data rate extension in 2.4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46800" y="5216400"/>
            <a:ext cx="99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1Mbit/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2616120"/>
            <a:ext cx="1676520" cy="53676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7693200" y="3124080"/>
            <a:ext cx="2880" cy="606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A05-E55E-4661-8ABF-BCA683B8B38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2440" y="6854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 WPAN Timeline Compared to Other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45720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18680" y="38862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08000" y="38862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62480" y="422424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52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576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100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6252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149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800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198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722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531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056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580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524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048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5732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385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906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30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715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4716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2804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296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1384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95800" y="4213080"/>
            <a:ext cx="34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7632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572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3772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43000" y="4213080"/>
            <a:ext cx="308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2424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0476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1004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9056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9512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77080" y="4191120"/>
            <a:ext cx="27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8092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63240" y="4213080"/>
            <a:ext cx="34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434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988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512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32800" y="419904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404040" y="2090880"/>
            <a:ext cx="1444680" cy="1170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696080" y="313200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532720" y="320832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523000" y="3962520"/>
            <a:ext cx="53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/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5240" y="3184560"/>
            <a:ext cx="1189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86400" y="32018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23560" y="3184560"/>
            <a:ext cx="1173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F-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70400" y="3184560"/>
            <a:ext cx="1858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-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 Provi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5464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27160" y="5867280"/>
            <a:ext cx="4116240" cy="2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037040" y="5866920"/>
            <a:ext cx="5106960" cy="9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4520" y="5876640"/>
            <a:ext cx="304920" cy="126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0" y="4822920"/>
            <a:ext cx="86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12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AN 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29000" y="316692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545796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60080" y="4637160"/>
            <a:ext cx="144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4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d PAR to Ex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 WG LB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545796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8080" y="4822920"/>
            <a:ext cx="85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4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PA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96248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811512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595008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449568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2136600" y="2133720"/>
            <a:ext cx="1444680" cy="1170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521360" y="59436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914400" y="58665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733920" y="58665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381880" y="586656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001000" y="2133720"/>
            <a:ext cx="947520" cy="1018440"/>
            <a:chOff x="8001000" y="2133720"/>
            <a:chExt cx="947520" cy="1018440"/>
          </a:xfrm>
        </p:grpSpPr>
        <p:pic>
          <p:nvPicPr>
            <p:cNvPr id="307" name="802" descr=""/>
            <p:cNvPicPr/>
            <p:nvPr/>
          </p:nvPicPr>
          <p:blipFill>
            <a:blip r:embed="rId3"/>
            <a:stretch/>
          </p:blipFill>
          <p:spPr>
            <a:xfrm>
              <a:off x="8001000" y="2133720"/>
              <a:ext cx="94752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148960" y="2845080"/>
              <a:ext cx="79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02.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9" name=""/>
          <p:cNvGraphicFramePr/>
          <p:nvPr/>
        </p:nvGraphicFramePr>
        <p:xfrm>
          <a:off x="3886200" y="2514600"/>
          <a:ext cx="236232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514600"/>
                    <a:ext cx="2362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5500800" y="5464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67720" y="545796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20640" y="5183280"/>
            <a:ext cx="12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 for Propos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373880" y="5006880"/>
            <a:ext cx="11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Draft of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5464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03920" y="5189400"/>
            <a:ext cx="11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5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63640" y="5867280"/>
            <a:ext cx="4116240" cy="2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5CA4-CAA6-4A46-8F46-9C00ADC7B6B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802.15 Working Group for WPANs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82240" y="1752480"/>
            <a:ext cx="886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ered to develop PAN standards for short distance wireless netw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gnizant of emerging industry specifications and the importance of building on the work of these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role in providing an open forum to debate these proposals, identify issues, and build consens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s to create standards having broad market appeal and deal effectively with coexistence and interoper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frame for first standard is November, 2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A312-397A-4ED5-994F-A0EAB1D78F7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ve, Mailing List, U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Arch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grouper.ieee.org/groups/802/15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stds-802-wpan@majordomo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grouper.ieee.org/groups/802/11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Special Interes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bluetooth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RF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homerf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5562720"/>
            <a:ext cx="762012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d your name to IEEE mailing list please send an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an Gifford giffordi@amp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new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877680" cy="339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C75-60D6-4A3F-9867-1A0675B7044A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728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EEE 802 </a:t>
            </a:r>
            <a:br>
              <a:rPr sz="36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ireless Vision Stat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1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Base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GHz Frequency Hopping Spread Spectrum (1M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GHZ Direct Sequence Spread Spectrum (2M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 (1M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a 5GHz Extension (&gt;20M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b 2.4GHz Extension (&gt;8M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5 Wireless Personal Area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6 Broadband Wireless LANs (L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5680080"/>
            <a:ext cx="8610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EEE 802 is the focal point for Wireless LAN standards.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im Car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6960" y="6289560"/>
            <a:ext cx="755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Jim Carlo, 802 Chair [JC-802-Consortium.PDF] can be downloaded from the following URL: ftp://ftp.flexipc.com/wearablesgroup/802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FA31-1B5D-4567-8C51-13F07DE529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interconnect portable computers and/or devices like peripherals and sen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devices may be carried or worn by a person and/or may be located near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/Office computers, printers,  phones, LANs, GPS or other car resources can be connected a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AL AREA NETWORKING: The N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0FF-F2B4-4941-BE6D-632CB0DE69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AL AREA NETWORK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 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res are a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b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in the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misconn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693-DD7D-4EEA-BFC4-E5C0622D2F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AL AREA NETWORK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 The Problem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93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who carry a watch, pager, cell phone, PDA, and personal stereo have at le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dis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input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spea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micro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long range communications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ECE1-0CDF-4121-8DE7-E838CE44C4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AL AREA NETWORK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 The Problem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necessary Duplica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I/O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963-8A24-4B10-A2A7-DBC800070A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838080" y="215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ffective and efficient embedded wireless connectivity for devices within an area of about 10 meters of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rea is defined as a Personal Area Network (P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N is the next domain in the WAN-MAN-LAN hierarc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AL AREA NETWORK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 Th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9CFC-28A4-43B6-A966-4B49BAEA65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3880" y="431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PAN Vision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479916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um of needs for wireless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ne product which can fill all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of complementary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49200" y="2666880"/>
            <a:ext cx="65739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2373480"/>
            <a:ext cx="0" cy="82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2373480"/>
            <a:ext cx="0" cy="82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2373480"/>
            <a:ext cx="0" cy="82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78960" y="1930320"/>
            <a:ext cx="80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F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080" y="1916280"/>
            <a:ext cx="96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26920" y="1930320"/>
            <a:ext cx="1073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2362320"/>
            <a:ext cx="0" cy="82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77840" y="1219320"/>
          <a:ext cx="6745320" cy="357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219320"/>
                    <a:ext cx="67453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6222960" y="1674720"/>
            <a:ext cx="2247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 perform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er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4267080"/>
            <a:ext cx="24638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 perform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24C-73B5-4F12-AC72-85F17836880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08:44:56Z</dcterms:created>
  <dc:creator>Robert F. Heile</dc:creator>
  <dc:description>Robert F. Heile, GTE </dc:description>
  <dc:language>en-US</dc:language>
  <cp:lastModifiedBy>GTE Internetworking</cp:lastModifiedBy>
  <cp:lastPrinted>1999-04-26T19:47:02Z</cp:lastPrinted>
  <dcterms:modified xsi:type="dcterms:W3CDTF">1999-05-25T18:01:16Z</dcterms:modified>
  <cp:revision>9</cp:revision>
  <dc:subject>doc.: P802.15-99017R0WG PRESENTATION</dc:subject>
  <dc:title>802.15 Working Group for  Wireless Personal Area Networks </dc:title>
</cp:coreProperties>
</file>