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5F9D24-9FD4-45BE-A5FF-AB446269A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ADA47C-F2DB-4D56-B7EA-741723813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62080" y="7048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5560" y="4925880"/>
            <a:ext cx="50832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8BC-6237-4514-8236-CB44A3C3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416-BABA-4DEE-A8B7-A6801B3D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116-E830-4581-AA72-0F36ED9F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038-34A8-473D-A48B-719C5038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100-70C9-41C8-9F4C-605F3CB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29D-54D9-4181-A675-C964AFE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68D-8B41-4F2B-8732-9A01581D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700-FE36-4186-8392-769CD805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95E-1A51-4F5A-9E19-CEB3778F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0C8-CEA1-42DE-A97B-7A0A9757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8B6-AF5B-4977-9F6B-59B539DE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2D3-8DB8-447A-9C7D-D948C18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F799B8-612F-4C62-B9FD-0BE0C1F0C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70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3D2-8AA9-4DA5-AE99-BB7A792B7E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mon Bluetooth Interfaces neede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for comm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BA9-BF98-4FEA-9DAB-654634C093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RF/BB Interface dr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-architectu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pin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roo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0B58-9519-438F-8F3B-2C84FE4F24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3E3-E922-4A5D-9E2A-306756D8A8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Module: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-Chips: RF ASIC, BB ASIC,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&lt; 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. Crys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hiel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: 3.0 .. 5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ing: 1.8 .. 3.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D45-8755-4BC9-A3D5-1E4B01B841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high-IF 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oriented BB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8D4-6EC5-4499-82B3-9539E04183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W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74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105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107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13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15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21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24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BE2-05DC-4B84-BAFC-8CBBCE2D5B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30400" y="16002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12920" y="33163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12920" y="3315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2920" y="43830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4000" y="22334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778200" y="2376360"/>
            <a:ext cx="415440" cy="1381320"/>
            <a:chOff x="3778200" y="2376360"/>
            <a:chExt cx="415440" cy="1381320"/>
          </a:xfrm>
        </p:grpSpPr>
        <p:sp>
          <p:nvSpPr>
            <p:cNvPr id="133" name=""/>
            <p:cNvSpPr/>
            <p:nvPr/>
          </p:nvSpPr>
          <p:spPr>
            <a:xfrm>
              <a:off x="377820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92320" y="23763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2320" y="23763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031280" y="25210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12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78200" y="37558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57680" y="2376360"/>
            <a:ext cx="415440" cy="1381320"/>
            <a:chOff x="4657680" y="2376360"/>
            <a:chExt cx="415440" cy="1381320"/>
          </a:xfrm>
        </p:grpSpPr>
        <p:sp>
          <p:nvSpPr>
            <p:cNvPr id="140" name=""/>
            <p:cNvSpPr/>
            <p:nvPr/>
          </p:nvSpPr>
          <p:spPr>
            <a:xfrm flipH="1">
              <a:off x="495828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8640" y="23763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657680" y="23763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819680" y="25210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6576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19680" y="37558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64200" y="2274840"/>
            <a:ext cx="323280" cy="328680"/>
            <a:chOff x="4264200" y="2274840"/>
            <a:chExt cx="323280" cy="328680"/>
          </a:xfrm>
        </p:grpSpPr>
        <p:sp>
          <p:nvSpPr>
            <p:cNvPr id="147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380480" y="25207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380480" y="22953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621400" y="22334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1440" y="264492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72320" y="24368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75200" y="24811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2160" y="23320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42160" y="24760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686560" y="2311560"/>
            <a:ext cx="144360" cy="271080"/>
            <a:chOff x="5686560" y="2311560"/>
            <a:chExt cx="144360" cy="271080"/>
          </a:xfrm>
        </p:grpSpPr>
        <p:sp>
          <p:nvSpPr>
            <p:cNvPr id="162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916080" y="1832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8240" y="16477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87160" y="56023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84040" y="179244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240" y="567864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65360" y="304020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65360" y="38829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665360" y="3039840"/>
            <a:ext cx="12060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040200"/>
            <a:ext cx="11772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63800" y="3675240"/>
            <a:ext cx="471600" cy="4172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3882960"/>
            <a:ext cx="23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57480" y="3675240"/>
            <a:ext cx="472680" cy="417240"/>
            <a:chOff x="2157480" y="3675240"/>
            <a:chExt cx="472680" cy="417240"/>
          </a:xfrm>
        </p:grpSpPr>
        <p:sp>
          <p:nvSpPr>
            <p:cNvPr id="186" name=""/>
            <p:cNvSpPr/>
            <p:nvPr/>
          </p:nvSpPr>
          <p:spPr>
            <a:xfrm>
              <a:off x="2157480" y="3675240"/>
              <a:ext cx="472680" cy="41724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221200" y="3727440"/>
              <a:ext cx="324720" cy="326160"/>
              <a:chOff x="2221200" y="3727440"/>
              <a:chExt cx="324720" cy="326160"/>
            </a:xfrm>
          </p:grpSpPr>
          <p:sp>
            <p:nvSpPr>
              <p:cNvPr id="188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337120" y="3972960"/>
                <a:ext cx="110160" cy="58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337120" y="3746160"/>
                <a:ext cx="110160" cy="5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2908800" y="38149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17800" y="27068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1160" y="2803680"/>
            <a:ext cx="3578040" cy="226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28098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03960" y="30114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293000" y="5373720"/>
            <a:ext cx="472680" cy="419040"/>
            <a:chOff x="4293000" y="5373720"/>
            <a:chExt cx="472680" cy="419040"/>
          </a:xfrm>
        </p:grpSpPr>
        <p:sp>
          <p:nvSpPr>
            <p:cNvPr id="202" name=""/>
            <p:cNvSpPr/>
            <p:nvPr/>
          </p:nvSpPr>
          <p:spPr>
            <a:xfrm rot="5400000">
              <a:off x="4319640" y="53467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4460040" y="55429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24560" y="54975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440240" y="54975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26000" y="56005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348800" y="56005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37832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28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06960" y="58309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863880" y="506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65680" y="53737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21280" y="558000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21280" y="56214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91120" y="54784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991120" y="56214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35520" y="5454720"/>
            <a:ext cx="145080" cy="271440"/>
            <a:chOff x="5735520" y="5454720"/>
            <a:chExt cx="145080" cy="271440"/>
          </a:xfrm>
        </p:grpSpPr>
        <p:sp>
          <p:nvSpPr>
            <p:cNvPr id="218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751360" y="5068800"/>
            <a:ext cx="180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4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2560" y="58309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20080" y="359424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94520" y="316404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46480" y="28828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46120" y="33163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32440" y="37209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593120" y="3087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574040" y="35179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87640" y="3201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87640" y="36450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64120" y="41781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9600" y="39988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44593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51480" y="24620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2B5-C967-4C4F-8D71-7DAD593C76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/BB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F55-AB20-44DC-961A-EDC1827BC1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Baseband ASIC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Chip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7 @ 1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kHz Sleep clock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(MIPS consuming) protocols in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ffer RAM (no dedicated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3CA-B974-430B-8826-1A7BEA813B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9080" y="15159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ASIC - Block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2320" y="33415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7520" y="518328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16240" y="517860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3640" y="287352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57960" y="1738440"/>
            <a:ext cx="1457280" cy="7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37080" y="30272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78560" y="37368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9280" y="53672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1960" y="38941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4680" y="35575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640" y="57942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60" y="50180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13680" y="5472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5040" y="38894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74800" y="35528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5040" y="58071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74800" y="54705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727440" y="4210200"/>
            <a:ext cx="293400" cy="983880"/>
            <a:chOff x="3727440" y="4210200"/>
            <a:chExt cx="293400" cy="983880"/>
          </a:xfrm>
        </p:grpSpPr>
        <p:sp>
          <p:nvSpPr>
            <p:cNvPr id="270" name=""/>
            <p:cNvSpPr/>
            <p:nvPr/>
          </p:nvSpPr>
          <p:spPr>
            <a:xfrm>
              <a:off x="37274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208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86480" y="320688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86480" y="339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86480" y="37908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6480" y="39816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67400" y="546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67400" y="56577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96160" y="4251240"/>
            <a:ext cx="511200" cy="177840"/>
            <a:chOff x="6896160" y="4251240"/>
            <a:chExt cx="511200" cy="177840"/>
          </a:xfrm>
        </p:grpSpPr>
        <p:sp>
          <p:nvSpPr>
            <p:cNvPr id="279" name=""/>
            <p:cNvSpPr/>
            <p:nvPr/>
          </p:nvSpPr>
          <p:spPr>
            <a:xfrm>
              <a:off x="6896160" y="42512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96160" y="44290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48280" y="2533680"/>
            <a:ext cx="473040" cy="485640"/>
          </a:xfrm>
          <a:prstGeom prst="upDownArrow">
            <a:avLst>
              <a:gd name="adj1" fmla="val 50000"/>
              <a:gd name="adj2" fmla="val 204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00480" y="490824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22480" y="4519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60160" y="306720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1440" y="4933800"/>
            <a:ext cx="276120" cy="24948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47960" y="42814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415360" y="4259160"/>
            <a:ext cx="511200" cy="177840"/>
            <a:chOff x="8415360" y="4259160"/>
            <a:chExt cx="511200" cy="177840"/>
          </a:xfrm>
        </p:grpSpPr>
        <p:sp>
          <p:nvSpPr>
            <p:cNvPr id="288" name=""/>
            <p:cNvSpPr/>
            <p:nvPr/>
          </p:nvSpPr>
          <p:spPr>
            <a:xfrm>
              <a:off x="8415360" y="42591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15360" y="44370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12B-D5EC-400F-836D-A589BEDC38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0:25Z</dcterms:created>
  <dc:creator>Thomas Müller</dc:creator>
  <dc:description>070r0</dc:description>
  <dc:language>en-US</dc:language>
  <cp:lastModifiedBy>Ian C. Gifford</cp:lastModifiedBy>
  <cp:lastPrinted>1998-02-10T13:28:06Z</cp:lastPrinted>
  <dcterms:modified xsi:type="dcterms:W3CDTF">1999-09-13T05:15:18Z</dcterms:modified>
  <cp:revision>1</cp:revision>
  <dc:subject>IEEE 802.15 Tutorial</dc:subject>
  <dc:title>Nokia Hardware Overview</dc:title>
</cp:coreProperties>
</file>