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C01-DCFD-4140-920C-C585FE61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E1C-FD7A-49B9-9B97-25BE52EF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28E-8B27-44B6-90D8-1D482DF8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3044-0312-4173-AD1B-76AFF45C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40A-5B53-4D51-907F-C60EBBAA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19B-CEA8-4963-A7D1-1C97D452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1EF6-3FEC-4B87-8270-47A02A25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C03-9C3A-4E09-8ACF-0B46808B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D9B2-4EE4-4FB8-99F8-D44F7DC1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4DA-A37D-422E-B3CC-8FCFAF80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DFB8-F58A-469A-AD21-87B80F79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F4B-8728-4B3F-8159-DDB432C6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C975E6F-8522-4FC2-9024-E9505A5F5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pping the Bluetooth Specific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Sie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ep@t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mllieee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628560" cy="714240"/>
          </a:xfrm>
          <a:prstGeom prst="rect">
            <a:avLst/>
          </a:prstGeom>
          <a:ln w="0">
            <a:noFill/>
          </a:ln>
        </p:spPr>
      </p:pic>
      <p:pic>
        <p:nvPicPr>
          <p:cNvPr id="48" name="IEEE%20802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73980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A05-A2C9-4C31-B61A-5714309C49A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Layer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752480"/>
          <a:ext cx="632448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632448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E8C5-885F-4AD1-A106-181E9B50859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Anne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76520" y="2666880"/>
          <a:ext cx="579096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579096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876-7C24-48DE-93EA-DCD4774731C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9059r4P802-15_Mapping-Between-Bluetooth-802-15-1.d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mic Sans MS"/>
              </a:rPr>
              <a:t>Will be on Flash after this meeting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mic Sans MS"/>
              </a:rPr>
              <a:t>may be updated this we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B2B-902C-4FB5-85CD-DBE59BE200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Bluetooth Spec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FI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1 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FREQUENCY BANDS AND CHANNEL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TRANSMITTER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4 RECEIVER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BAND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GENERAL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PHYSICAL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 PHYSICAL 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4 P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5 ERROR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6 LOGICAL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7 DATA WHITE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8 TRANSMIT/RECEIVE ROUT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9 TRANSMIT/RECEIVE TI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0 CHANNEL CONTROL B11 HOP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2 VOICE CO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3 BLUETOOTH AD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4 BLUETOOTH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 MANAGER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 FORMAT OF L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 THE PROCEDURE RULES AND PD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 CONNECTION ESTABL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5 SUMMARY OF PD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 TEST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7 ERROR HAND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2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1 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 GENERAL OPE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 STATE MACH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4 DATA PACKE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5 SIGNAL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6 CONFIGURATION PARAMETER O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7 SERVICE PRIMI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8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CAP APPENDIX A: CONFIGURATION M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CAP APPENDIX B: IMPLEMENTATION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EA6-F82B-4377-8051-45188044D094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an 802 MAC/PHY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verview</a:t>
            </a:r>
            <a:r>
              <a:rPr b="0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rmative 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bbreviations and Acrony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eneral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Access Control (M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Physical Layer (PH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P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otocol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plementation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C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nformance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atement pro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Description of MAC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Description of PHY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 Management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 Management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ibl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B193-F729-446F-B026-500FA0A296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71600" y="2057400"/>
          <a:ext cx="64263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4263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733920" y="5029200"/>
          <a:ext cx="2197080" cy="5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5029200"/>
                    <a:ext cx="219708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9880" y="3505320"/>
          <a:ext cx="2370240" cy="14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3505320"/>
                    <a:ext cx="237024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809880" y="3048120"/>
          <a:ext cx="3054600" cy="148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3048120"/>
                    <a:ext cx="30546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048120" y="2743200"/>
          <a:ext cx="4255920" cy="131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2743200"/>
                    <a:ext cx="42559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057400" y="2743200"/>
          <a:ext cx="3970440" cy="1508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2743200"/>
                    <a:ext cx="397044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46FB-4B7A-43DE-8D08-971777DC65C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pping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     and        ML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0720" y="1828800"/>
            <a:ext cx="6629400" cy="4291560"/>
            <a:chOff x="990720" y="1828800"/>
            <a:chExt cx="6629400" cy="4291560"/>
          </a:xfrm>
        </p:grpSpPr>
        <p:sp>
          <p:nvSpPr>
            <p:cNvPr id="69" name=""/>
            <p:cNvSpPr/>
            <p:nvPr/>
          </p:nvSpPr>
          <p:spPr>
            <a:xfrm>
              <a:off x="4359600" y="1828800"/>
              <a:ext cx="0" cy="40132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71" idx="3"/>
              <a:endCxn id="72" idx="0"/>
            </p:cNvCxnSpPr>
            <p:nvPr/>
          </p:nvCxnSpPr>
          <p:spPr>
            <a:xfrm>
              <a:off x="5963040" y="2351880"/>
              <a:ext cx="27360" cy="2559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73" name=""/>
            <p:cNvSpPr/>
            <p:nvPr/>
          </p:nvSpPr>
          <p:spPr>
            <a:xfrm>
              <a:off x="5174640" y="246852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Mgm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74640" y="3224520"/>
              <a:ext cx="1630080" cy="348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-level 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74640" y="3748320"/>
              <a:ext cx="1630080" cy="523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conet &amp; 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74640" y="438804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74640" y="491148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70880" y="5086080"/>
              <a:ext cx="1901520" cy="523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ing /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equency 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70880" y="4717440"/>
              <a:ext cx="1901520" cy="3099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Co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70880" y="4388040"/>
              <a:ext cx="1901520" cy="271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cry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70880" y="4038840"/>
              <a:ext cx="1901520" cy="2905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86280" y="3690000"/>
              <a:ext cx="1086480" cy="2905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99080" y="3282480"/>
              <a:ext cx="2282040" cy="348840"/>
            </a:xfrm>
            <a:custGeom>
              <a:avLst/>
              <a:gdLst>
                <a:gd name="textAreaLeft" fmla="*/ 354240 w 2282040"/>
                <a:gd name="textAreaRight" fmla="*/ 1927800 w 2282040"/>
                <a:gd name="textAreaTop" fmla="*/ 54000 h 348840"/>
                <a:gd name="textAreaBottom" fmla="*/ 294840 h 34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715" y="21600"/>
                  </a:lnTo>
                  <a:lnTo>
                    <a:pt x="2885" y="216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O/ACL De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99080" y="2817360"/>
              <a:ext cx="760680" cy="407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i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d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68840" y="2933640"/>
              <a:ext cx="1412640" cy="29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ag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97040" y="2526480"/>
              <a:ext cx="1738800" cy="348840"/>
            </a:xfrm>
            <a:custGeom>
              <a:avLst/>
              <a:gdLst>
                <a:gd name="textAreaLeft" fmla="*/ 293400 w 1738800"/>
                <a:gd name="textAreaRight" fmla="*/ 1445400 w 1738800"/>
                <a:gd name="textAreaTop" fmla="*/ 58680 h 348840"/>
                <a:gd name="textAreaBottom" fmla="*/ 290160 h 34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83" y="21600"/>
                  </a:lnTo>
                  <a:lnTo>
                    <a:pt x="3417" y="216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X/ DE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62000" y="2410200"/>
              <a:ext cx="1358280" cy="581760"/>
            </a:xfrm>
            <a:prstGeom prst="leftRightArrow">
              <a:avLst>
                <a:gd name="adj1" fmla="val 63750"/>
                <a:gd name="adj2" fmla="val 48641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2CAP Signal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4560" y="3166560"/>
              <a:ext cx="1303920" cy="523440"/>
            </a:xfrm>
            <a:prstGeom prst="leftRightArrow">
              <a:avLst>
                <a:gd name="adj1" fmla="val 69444"/>
                <a:gd name="adj2" fmla="val 51666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MP PD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49000" y="1886760"/>
              <a:ext cx="760680" cy="581760"/>
            </a:xfrm>
            <a:prstGeom prst="upDownArrow">
              <a:avLst>
                <a:gd name="adj1" fmla="val 55657"/>
                <a:gd name="adj2" fmla="val 32815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934560" y="2105280"/>
              <a:ext cx="872280" cy="434520"/>
            </a:xfrm>
            <a:prstGeom prst="leftRightArrow">
              <a:avLst>
                <a:gd name="adj1" fmla="val 71870"/>
                <a:gd name="adj2" fmla="val 40084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90720" y="1886760"/>
              <a:ext cx="28256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77200" y="5609520"/>
              <a:ext cx="380160" cy="290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45080" y="5725800"/>
              <a:ext cx="2934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64360" y="5834880"/>
              <a:ext cx="5464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03200" y="5551200"/>
              <a:ext cx="21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48360" y="5633640"/>
              <a:ext cx="665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81320" y="5318640"/>
              <a:ext cx="0" cy="46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35840" y="2468520"/>
              <a:ext cx="162720" cy="3141000"/>
            </a:xfrm>
            <a:custGeom>
              <a:avLst/>
              <a:gdLst>
                <a:gd name="textAreaLeft" fmla="*/ 0 w 162720"/>
                <a:gd name="textAreaRight" fmla="*/ 58680 w 162720"/>
                <a:gd name="textAreaTop" fmla="*/ 81720 h 3141000"/>
                <a:gd name="textAreaBottom" fmla="*/ 3059280 h 314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1967"/>
                  </a:lnTo>
                  <a:cubicBezTo>
                    <a:pt x="10800" y="12867"/>
                    <a:pt x="16200" y="13767"/>
                    <a:pt x="21600" y="13767"/>
                  </a:cubicBezTo>
                  <a:cubicBezTo>
                    <a:pt x="16200" y="13767"/>
                    <a:pt x="10800" y="14667"/>
                    <a:pt x="10800" y="1556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07640" y="4446360"/>
              <a:ext cx="108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17800" y="4236480"/>
              <a:ext cx="75528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13800" y="2410200"/>
              <a:ext cx="271440" cy="3024720"/>
            </a:xfrm>
            <a:custGeom>
              <a:avLst/>
              <a:gdLst>
                <a:gd name="textAreaLeft" fmla="*/ 0 w 271440"/>
                <a:gd name="textAreaRight" fmla="*/ 97920 w 271440"/>
                <a:gd name="textAreaTop" fmla="*/ 78840 h 3024720"/>
                <a:gd name="textAreaBottom" fmla="*/ 2945880 h 302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39960" y="3922560"/>
              <a:ext cx="38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7560" y="3166560"/>
              <a:ext cx="108360" cy="2210040"/>
            </a:xfrm>
            <a:custGeom>
              <a:avLst/>
              <a:gdLst>
                <a:gd name="textAreaLeft" fmla="*/ 31680 w 108360"/>
                <a:gd name="textAreaRight" fmla="*/ 108720 w 108360"/>
                <a:gd name="textAreaTop" fmla="*/ 91800 h 2210040"/>
                <a:gd name="textAreaBottom" fmla="*/ 21182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97040" y="3690000"/>
              <a:ext cx="325800" cy="290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55160" y="1944720"/>
              <a:ext cx="815040" cy="4071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02680" y="2642760"/>
              <a:ext cx="0" cy="26175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4020840" y="5165640"/>
              <a:ext cx="5846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ccccff"/>
                  </a:solidFill>
                  <a:latin typeface="Arial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4237560" y="5104080"/>
              <a:ext cx="703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ccccff"/>
                  </a:solidFill>
                  <a:latin typeface="Arial"/>
                </a:rPr>
                <a:t>ML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FB9-6415-484C-976C-E15C69B520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roductory Mate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743200"/>
          <a:ext cx="564192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564192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0B8-A419-499D-BF3A-7FAE8DB268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MAC</a:t>
            </a:r>
            <a:br>
              <a:rPr sz="3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 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71600" y="1523880"/>
          <a:ext cx="655308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55308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F72-9B96-4528-90A1-41F6F919D76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MAC</a:t>
            </a:r>
            <a:br>
              <a:rPr sz="3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7920" y="1523880"/>
          <a:ext cx="64767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4767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E83-638D-4DCC-B915-4CECB14ED76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00200" y="2209680"/>
          <a:ext cx="5734080" cy="41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09680"/>
                    <a:ext cx="5734080" cy="41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E08-339A-4D05-AAA3-45AC78AA52D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7T21:17:05Z</dcterms:created>
  <dc:creator>Tom Siep</dc:creator>
  <dc:description>&lt;doc#&gt;</dc:description>
  <dc:language>en-US</dc:language>
  <cp:lastModifiedBy>Tom Siep</cp:lastModifiedBy>
  <cp:lastPrinted>1998-02-10T13:28:06Z</cp:lastPrinted>
  <dcterms:modified xsi:type="dcterms:W3CDTF">1999-09-13T22:36:14Z</dcterms:modified>
  <cp:revision>4</cp:revision>
  <dc:subject>IEEE 802.15 &lt;subject&gt;</dc:subject>
  <dc:title>Mapping the Bluetooth Specification to IEEE 802.15.1</dc:title>
</cp:coreProperties>
</file>