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6E2E-9AE8-419D-8225-6F8EEF29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689-EC63-4737-B14E-CBB53AAF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658-1F66-4A12-B267-AF972E31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727-810D-4ABE-A496-2DB0B0B5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093-7A98-44D4-87A6-BBFE432E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AD3-5FAA-439A-98FE-6A019CD8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05A-532B-48EA-A723-EAA7CDDC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540-AB29-4B24-9292-39AF2B77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B53-9A79-417D-9EB9-5A12E677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411-B836-4F23-BCDC-143A6893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995-EFF1-4DF6-B685-9FFE4E90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A2D-2154-4500-8B1B-58E7F21B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0E833CD-D2FA-42DF-B180-3D42CA601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5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Making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Personal Area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181-C29C-4C9F-BDFD-6926EB2295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5880" y="5867280"/>
            <a:ext cx="60984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ical Chang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lasses of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ial: does not effect the implementation of the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: effect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echn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may ha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n made in revie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du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F2B-A50D-4190-94E0-27DB7F6D96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48320" y="5867280"/>
            <a:ext cx="53316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Group Confirmation Bal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s that any changes made do not invalidate previous “Approve” votes of those not a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657-D9AC-4A96-8B0A-8D5313C2E3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705720" y="5867280"/>
            <a:ext cx="53316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nsor Bal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rs qualified from a Sponsor Ballot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IEEE-SA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is room should be Sponsor Ballo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A1C-2FD6-405C-84BF-510B9630CE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38880" y="5867280"/>
            <a:ext cx="60984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Negative Vo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s entered into Resolu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“Do Not Approve” votes must be 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specific reasons for disapproval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t would tak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vote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AAB-1221-4459-A28E-B53DB7A7B9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772400" y="5867280"/>
            <a:ext cx="8380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ed to Standards Board Appro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tion made if possible to change draft to satisfy comment and not get new “Do Not Approve”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70% approval to pro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Boar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follow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sor Ballo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EBD-0D8B-43C2-97B7-1837B9B6E8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09480" y="16765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124080" y="2286000"/>
            <a:ext cx="2362320" cy="1066680"/>
          </a:xfrm>
          <a:prstGeom prst="leftArrow">
            <a:avLst>
              <a:gd name="adj1" fmla="val 50000"/>
              <a:gd name="adj2" fmla="val 5536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2F1-771E-4CDF-BE4B-7F8FA0FB8F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76920" y="4267080"/>
            <a:ext cx="53316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rou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roup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to ExC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EEE 802 Exec Committ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riteria (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om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Auth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0EC-D626-4901-9472-FC8AAEB3BB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10080" y="4267080"/>
            <a:ext cx="533520" cy="3812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ablish Criteria for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fo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proposa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or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3B5-BEBD-4093-84BC-30AA378347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4120" y="4648320"/>
            <a:ext cx="6858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 Draft for Circul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or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outline (next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to Wor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48CE-6B26-45F6-82AB-7F7C9D93A9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410080" y="502920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Group Letter Bal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Ball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not outstand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available only to voting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o 4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s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E95-88EF-4463-AF1D-139F1720B7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541008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Group Review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urned Ball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s entered into Resolu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“Do Not Approve” votes must be 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specific reasons for disapproval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t would tak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vote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D7D-68FA-4413-8BC6-F61D836258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410080" y="586728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vable Negativ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tion made if possible to change draft to satisfy comment and not get new “Do Not Approve”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70% approval to pro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1AB-132E-4ED9-BC93-CE7AC8E0AE9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952880" y="502920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ke Changes to Obtain WG Appro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only items that are effected by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 to avoid creating new “Do Not Approve”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C11-2942-4270-B35F-984FDD683E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18:09:33Z</dcterms:created>
  <dc:creator>Tom Siep</dc:creator>
  <dc:description>99/0xxr0</dc:description>
  <dc:language>en-US</dc:language>
  <cp:lastModifiedBy>Tom Siep</cp:lastModifiedBy>
  <cp:lastPrinted>1999-07-21T21:36:07Z</cp:lastPrinted>
  <dcterms:modified xsi:type="dcterms:W3CDTF">1999-07-27T22:28:58Z</dcterms:modified>
  <cp:revision>5</cp:revision>
  <dc:subject>IEEE 802.15 Steps to Making an IEEE 802 Standard</dc:subject>
  <dc:title>No Slide Title</dc:title>
</cp:coreProperties>
</file>