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87F-BC15-4715-8AD3-DDFB9DCB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020-2DA6-454F-9BBD-9BA89798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66E-3448-4059-9138-B5560BAF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55F-C730-4BEB-A3E4-6B79710F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F15-A208-4EAC-B041-E9E3B3FC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80E-E8DA-44A8-9CEC-C866BE3D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DBB-EAFF-4504-8583-0FF6C1E8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0B6-E01B-4AC0-8DD7-08138358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385-BED8-466C-9CD8-6E1A74C0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ACD-447B-4193-B984-3CCB7E5B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832-568F-4D4A-ACE3-295C5316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2527-AE78-461F-8F12-294D67F5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52C68F-11B9-4555-B38B-3AD4B1260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3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--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Feb 2000 with rewritten arit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Briefing: Global Wireless 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article in Dr. Dobb’s Jou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article in Mobile Computing and Communications Review (M2CR) Feb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172-FE2B-4779-B00B-53D7625CFC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 Standard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ID News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A32-E9E2-49E7-8A4D-7FA37E271F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3:16:34Z</dcterms:created>
  <dc:creator>Bob Heile</dc:creator>
  <dc:description/>
  <dc:language>en-US</dc:language>
  <cp:lastModifiedBy>Rober F. Heile</cp:lastModifiedBy>
  <dcterms:modified xsi:type="dcterms:W3CDTF">1999-11-08T18:50:20Z</dcterms:modified>
  <cp:revision>4</cp:revision>
  <dc:subject/>
  <dc:title>Nov Marcom update</dc:title>
</cp:coreProperties>
</file>