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E787-E712-44BC-98AC-2E964FDC4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D35A-E1CF-4B43-892D-A5A356505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92400" y="79380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F689-A7FA-40CC-BE7B-72DBACA2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8F16-1219-4665-B9D9-C3138E4B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C8B-4ED8-4C42-A7AE-573CB9A9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4F1A-ABED-406D-8D37-559FEEE7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8E77-7F9A-4298-84F6-7901D80C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2696-B9C0-4A87-89F1-B0B44766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6EE6-AA74-48ED-9A2A-88EEB0D1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36EA-E66D-4336-87B6-80797C76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FF87-EF1E-4187-8130-8927C938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A699-C756-4F3F-93A6-890CAA8B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04CF-AB38-4421-BABC-4A8BA37A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0923-B6A0-4ED8-8D70-B34C42B4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C52E9D4-858C-4F5E-BD64-EE7668038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48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53920" y="219240"/>
            <a:ext cx="773748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Expression for Probability of Error for Binary-FS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0440" indent="-190440" algn="ctr">
              <a:spcBef>
                <a:spcPts val="799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ven D. G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spcBef>
                <a:spcPts val="799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spcBef>
                <a:spcPts val="799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kia Research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spcBef>
                <a:spcPts val="799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ving, T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D. Gray, Nokia Research Cen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314D-5D9F-4B9C-BBFA-3B242A8CFAA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of Error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09480" y="1447920"/>
                <a:ext cx="792504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collision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bit</m:t>
                        </m:r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collisio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collision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bit</m:t>
                        </m:r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llision</m:t>
                        </m:r>
                        <m:r>
                          <m:t xml:space="preserve">]</m:t>
                        </m:r>
                      </m:e>
                      <m:e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</m:t>
                              </m:r>
                              <m:r>
                                <m:t xml:space="preserve">[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llision</m:t>
                              </m:r>
                              <m:r>
                                <m:t xml:space="preserve">]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xp</m:t>
                              </m:r>
                            </m:e>
                          </m:mr>
                        </m: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JR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593640" y="3570120"/>
            <a:ext cx="755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38240" y="3951360"/>
            <a:ext cx="359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MHz Interfering hopper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429000" y="4381560"/>
                <a:ext cx="2124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130400" y="5181480"/>
            <a:ext cx="359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MHz Interfering hopper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429000" y="5638680"/>
                <a:ext cx="2122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09480" y="2438280"/>
                <a:ext cx="2462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882000" y="2465280"/>
            <a:ext cx="4367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portion of interferring energy in desired signal 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8600" y="3075120"/>
            <a:ext cx="2416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ume Brick Wall Fil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D. Gray, Nokia Research Cen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3E09-ABDD-4DE6-A3BD-FBB229DF90B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of Error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9320" y="2313000"/>
            <a:ext cx="755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23920" y="2693880"/>
            <a:ext cx="359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MHz Interfering hopper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514680" y="3124080"/>
                <a:ext cx="2124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1216080" y="3924360"/>
            <a:ext cx="359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MHz Interfering hopper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828800" y="4419720"/>
                <a:ext cx="5683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747360" y="1893960"/>
            <a:ext cx="4075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ume 3 MHz Wide Impact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D. Gray, Nokia Research Cen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790D-B91A-4597-AC09-1A4AA1B0642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of Error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6280" y="1550880"/>
            <a:ext cx="755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s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90520" y="1932120"/>
            <a:ext cx="359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MHz Interfering hopper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581280" y="2362320"/>
                <a:ext cx="2122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282680" y="3162240"/>
            <a:ext cx="359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MHz Interfering hopper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343160" y="3733920"/>
                <a:ext cx="6602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D. Gray, Nokia Research Cen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8762-D6C2-45D7-93AE-EAEA409C74A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33720" y="3505320"/>
            <a:ext cx="4622760" cy="2844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3800520" cy="236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09480" y="1066680"/>
            <a:ext cx="3726000" cy="2295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19320" y="1371600"/>
            <a:ext cx="128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Hz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209680"/>
            <a:ext cx="128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Hz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2895480"/>
            <a:ext cx="128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Hz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4952880"/>
            <a:ext cx="128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Hz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5715000"/>
            <a:ext cx="128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Hz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4280" y="762120"/>
            <a:ext cx="834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8920" y="762120"/>
            <a:ext cx="834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6600" y="3429000"/>
            <a:ext cx="834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1066680"/>
            <a:ext cx="128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Hz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D. Gray, Nokia Research Cen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F7C1-45AF-4687-B4BB-87CCC48EC13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8T15:53:13Z</dcterms:created>
  <dc:creator>Bridget Labrode</dc:creator>
  <dc:description/>
  <dc:language>en-US</dc:language>
  <cp:lastModifiedBy>Bridget Labrode</cp:lastModifiedBy>
  <dcterms:modified xsi:type="dcterms:W3CDTF">1999-07-18T16:12:34Z</dcterms:modified>
  <cp:revision>1</cp:revision>
  <dc:subject/>
  <dc:title>No Slide Title</dc:title>
</cp:coreProperties>
</file>