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6.png" ContentType="image/png"/>
  <Override PartName="/ppt/media/image15.wmf" ContentType="image/x-wmf"/>
  <Override PartName="/ppt/media/image14.wmf" ContentType="image/x-wmf"/>
  <Override PartName="/ppt/media/image9.wmf" ContentType="image/x-wmf"/>
  <Override PartName="/ppt/media/image1.png" ContentType="image/png"/>
  <Override PartName="/ppt/media/image4.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media/image10.wmf" ContentType="image/x-wmf"/>
  <Override PartName="/ppt/media/image2.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29366909-DE03-47A0-8B62-1179F8BC7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C26FFDF0-F0ED-43C1-A324-A725B5088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8" name="PlaceHolder 1"/>
          <p:cNvSpPr>
            <a:spLocks noGrp="1"/>
          </p:cNvSpPr>
          <p:nvPr>
            <p:ph type="sldImg"/>
          </p:nvPr>
        </p:nvSpPr>
        <p:spPr>
          <a:xfrm>
            <a:off x="1131840" y="689040"/>
            <a:ext cx="4594320" cy="3446280"/>
          </a:xfrm>
          <a:prstGeom prst="rect">
            <a:avLst/>
          </a:prstGeom>
          <a:ln w="0">
            <a:noFill/>
          </a:ln>
        </p:spPr>
      </p:sp>
      <p:sp>
        <p:nvSpPr>
          <p:cNvPr id="44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39760" y="695160"/>
            <a:ext cx="4578480" cy="3434040"/>
          </a:xfrm>
          <a:prstGeom prst="rect">
            <a:avLst/>
          </a:prstGeom>
          <a:ln w="0">
            <a:noFill/>
          </a:ln>
        </p:spPr>
      </p:sp>
      <p:sp>
        <p:nvSpPr>
          <p:cNvPr id="451" name="PlaceHolder 2"/>
          <p:cNvSpPr>
            <a:spLocks noGrp="1"/>
          </p:cNvSpPr>
          <p:nvPr>
            <p:ph type="body"/>
          </p:nvPr>
        </p:nvSpPr>
        <p:spPr>
          <a:xfrm>
            <a:off x="914400" y="4365360"/>
            <a:ext cx="5029200" cy="4135320"/>
          </a:xfrm>
          <a:prstGeom prst="rect">
            <a:avLst/>
          </a:prstGeom>
          <a:noFill/>
          <a:ln w="0">
            <a:noFill/>
          </a:ln>
        </p:spPr>
        <p:txBody>
          <a:bodyPr lIns="90360" rIns="9036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67E30-E100-458A-B753-A23D5FAFE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1553-80A7-4DA2-9336-ACBAD6AA5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78378-360E-4764-9F25-2BE470D47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28A9C-8AC6-47A4-9FD7-CFF55069F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58D2-048D-4743-A3F9-15A1127A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083BA-F165-43E7-86C6-6D80D7EAB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DD3C9-1EC1-4CBE-AE37-F68FABB2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35D9-4C8F-4E00-8B89-34485DAF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FDCF2-A9D7-4D39-B986-76BA7880D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854E-149D-46F7-AE34-EC37FBE30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A60E-F843-462B-AD23-23C93DD8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9943-1ADD-40E9-999F-6277994FC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995FFD-221B-453A-8DC5-CD645232E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179720" y="4800600"/>
            <a:ext cx="692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MobileIP Work Group at IETF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6,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74C1ACC-4C7F-4FFA-829D-33F69E8B29F0}"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5"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AE4C17F-701C-4126-A830-E2DCEB287808}"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8"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9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354BDD0-5639-4F16-AB82-3D9A2B9FE433}"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1"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C653605-6026-4948-8FF9-927A1D6A21BF}"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05"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7"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09"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11"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18"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20"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22"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23"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30"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31"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32"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33"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34"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37"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38"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39"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D58CD23-AD6A-4C31-9532-5247A830F3D5}" type="slidenum">
              <a:t>1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41"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143"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44"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45"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46"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47"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48"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49"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50"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5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666880" y="3505320"/>
            <a:ext cx="1432080" cy="1157040"/>
          </a:xfrm>
          <a:prstGeom prst="rect">
            <a:avLst/>
          </a:prstGeom>
          <a:ln w="0">
            <a:noFill/>
          </a:ln>
        </p:spPr>
      </p:pic>
      <p:sp>
        <p:nvSpPr>
          <p:cNvPr id="15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5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5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58" name=""/>
          <p:cNvGraphicFramePr/>
          <p:nvPr/>
        </p:nvGraphicFramePr>
        <p:xfrm>
          <a:off x="4343400" y="3809880"/>
          <a:ext cx="2362320" cy="584280"/>
        </p:xfrm>
        <a:graphic>
          <a:graphicData uri="http://schemas.openxmlformats.org/presentationml/2006/ole">
            <p:oleObj r:id="rId3" spid="">
              <p:embed/>
              <p:pic>
                <p:nvPicPr>
                  <p:cNvPr id="159"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0A238E7-780A-4403-8C8B-60CD83798FFC}" type="slidenum">
              <a:t>1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pic>
        <p:nvPicPr>
          <p:cNvPr id="161"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3FC3EC1-C46D-4341-8B37-DB07436F69EE}"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163" name=""/>
          <p:cNvGraphicFramePr/>
          <p:nvPr/>
        </p:nvGraphicFramePr>
        <p:xfrm>
          <a:off x="152280" y="1905120"/>
          <a:ext cx="8724960" cy="4659120"/>
        </p:xfrm>
        <a:graphic>
          <a:graphicData uri="http://schemas.openxmlformats.org/presentationml/2006/ole">
            <p:oleObj r:id="rId1" spid="">
              <p:embed/>
              <p:pic>
                <p:nvPicPr>
                  <p:cNvPr id="164"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165" name=""/>
          <p:cNvGraphicFramePr/>
          <p:nvPr/>
        </p:nvGraphicFramePr>
        <p:xfrm>
          <a:off x="3124080" y="4267080"/>
          <a:ext cx="2538360" cy="1152720"/>
        </p:xfrm>
        <a:graphic>
          <a:graphicData uri="http://schemas.openxmlformats.org/presentationml/2006/ole">
            <p:oleObj r:id="rId3" spid="">
              <p:embed/>
              <p:pic>
                <p:nvPicPr>
                  <p:cNvPr id="166"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67" name=""/>
          <p:cNvGraphicFramePr/>
          <p:nvPr/>
        </p:nvGraphicFramePr>
        <p:xfrm>
          <a:off x="2743200" y="2895480"/>
          <a:ext cx="3224160" cy="1592280"/>
        </p:xfrm>
        <a:graphic>
          <a:graphicData uri="http://schemas.openxmlformats.org/presentationml/2006/ole">
            <p:oleObj r:id="rId5" spid="">
              <p:embed/>
              <p:pic>
                <p:nvPicPr>
                  <p:cNvPr id="168"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69" name=""/>
          <p:cNvGraphicFramePr/>
          <p:nvPr/>
        </p:nvGraphicFramePr>
        <p:xfrm>
          <a:off x="3200400" y="1371600"/>
          <a:ext cx="4952880" cy="1380960"/>
        </p:xfrm>
        <a:graphic>
          <a:graphicData uri="http://schemas.openxmlformats.org/presentationml/2006/ole">
            <p:oleObj r:id="rId7" spid="">
              <p:embed/>
              <p:pic>
                <p:nvPicPr>
                  <p:cNvPr id="170"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71" name=""/>
          <p:cNvGraphicFramePr/>
          <p:nvPr/>
        </p:nvGraphicFramePr>
        <p:xfrm>
          <a:off x="380880" y="685800"/>
          <a:ext cx="5513400" cy="2895480"/>
        </p:xfrm>
        <a:graphic>
          <a:graphicData uri="http://schemas.openxmlformats.org/presentationml/2006/ole">
            <p:oleObj r:id="rId9" spid="">
              <p:embed/>
              <p:pic>
                <p:nvPicPr>
                  <p:cNvPr id="172"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73" name=""/>
          <p:cNvGraphicFramePr/>
          <p:nvPr/>
        </p:nvGraphicFramePr>
        <p:xfrm>
          <a:off x="2514600" y="1981080"/>
          <a:ext cx="5738760" cy="2163960"/>
        </p:xfrm>
        <a:graphic>
          <a:graphicData uri="http://schemas.openxmlformats.org/presentationml/2006/ole">
            <p:oleObj r:id="rId11" spid="">
              <p:embed/>
              <p:pic>
                <p:nvPicPr>
                  <p:cNvPr id="174"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D01F923-4836-4AA3-9D99-B0BA2A7DA328}"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17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83EDC5F-034C-4F82-B52E-A31B76379361}" type="slidenum">
              <a:t>1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17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18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18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0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0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0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21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1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21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1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21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2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6404040" y="2090880"/>
            <a:ext cx="1444680" cy="1170000"/>
          </a:xfrm>
          <a:prstGeom prst="rect">
            <a:avLst/>
          </a:prstGeom>
          <a:ln w="0">
            <a:noFill/>
          </a:ln>
        </p:spPr>
      </p:pic>
      <p:sp>
        <p:nvSpPr>
          <p:cNvPr id="22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22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6"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228"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229"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1"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32"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234"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237"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239"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42"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3" name="" descr=""/>
          <p:cNvPicPr/>
          <p:nvPr/>
        </p:nvPicPr>
        <p:blipFill>
          <a:blip r:embed="rId2"/>
          <a:stretch/>
        </p:blipFill>
        <p:spPr>
          <a:xfrm>
            <a:off x="2136600" y="2133720"/>
            <a:ext cx="1444680" cy="1170000"/>
          </a:xfrm>
          <a:prstGeom prst="rect">
            <a:avLst/>
          </a:prstGeom>
          <a:ln w="0">
            <a:noFill/>
          </a:ln>
        </p:spPr>
      </p:pic>
      <p:sp>
        <p:nvSpPr>
          <p:cNvPr id="244"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245"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 name=""/>
          <p:cNvGrpSpPr/>
          <p:nvPr/>
        </p:nvGrpSpPr>
        <p:grpSpPr>
          <a:xfrm>
            <a:off x="8001000" y="2133720"/>
            <a:ext cx="947520" cy="1018440"/>
            <a:chOff x="8001000" y="2133720"/>
            <a:chExt cx="947520" cy="1018440"/>
          </a:xfrm>
        </p:grpSpPr>
        <p:pic>
          <p:nvPicPr>
            <p:cNvPr id="249" name="802" descr=""/>
            <p:cNvPicPr/>
            <p:nvPr/>
          </p:nvPicPr>
          <p:blipFill>
            <a:blip r:embed="rId3"/>
            <a:stretch/>
          </p:blipFill>
          <p:spPr>
            <a:xfrm>
              <a:off x="8001000" y="2133720"/>
              <a:ext cx="947520" cy="978120"/>
            </a:xfrm>
            <a:prstGeom prst="rect">
              <a:avLst/>
            </a:prstGeom>
            <a:ln w="0">
              <a:noFill/>
            </a:ln>
          </p:spPr>
        </p:pic>
        <p:sp>
          <p:nvSpPr>
            <p:cNvPr id="250"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251" name=""/>
          <p:cNvGraphicFramePr/>
          <p:nvPr/>
        </p:nvGraphicFramePr>
        <p:xfrm>
          <a:off x="3886200" y="2514600"/>
          <a:ext cx="2362320" cy="584280"/>
        </p:xfrm>
        <a:graphic>
          <a:graphicData uri="http://schemas.openxmlformats.org/presentationml/2006/ole">
            <p:oleObj r:id="rId4" spid="">
              <p:embed/>
              <p:pic>
                <p:nvPicPr>
                  <p:cNvPr id="252" name="" descr=""/>
                  <p:cNvPicPr/>
                  <p:nvPr/>
                </p:nvPicPr>
                <p:blipFill>
                  <a:blip r:embed="rId5"/>
                  <a:stretch/>
                </p:blipFill>
                <p:spPr>
                  <a:xfrm>
                    <a:off x="3886200" y="2514600"/>
                    <a:ext cx="2362320" cy="584280"/>
                  </a:xfrm>
                  <a:prstGeom prst="rect">
                    <a:avLst/>
                  </a:prstGeom>
                  <a:ln w="0">
                    <a:noFill/>
                  </a:ln>
                </p:spPr>
              </p:pic>
            </p:oleObj>
          </a:graphicData>
        </a:graphic>
      </p:graphicFrame>
      <p:sp>
        <p:nvSpPr>
          <p:cNvPr id="253"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256"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257"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259"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DC648EA-2F93-484A-ABC1-9AC2ADA6CD6C}"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26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0C66329-48CB-4139-9C83-9B387640E933}"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9546528-37D8-461C-A095-CE39AD70181F}"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26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332CC3C-8406-4A2A-8D23-010BEF87178B}"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266" name=""/>
          <p:cNvGraphicFramePr/>
          <p:nvPr/>
        </p:nvGraphicFramePr>
        <p:xfrm>
          <a:off x="1530360" y="1944720"/>
          <a:ext cx="6089760" cy="3768840"/>
        </p:xfrm>
        <a:graphic>
          <a:graphicData uri="http://schemas.openxmlformats.org/presentationml/2006/ole">
            <p:oleObj r:id="rId1" spid="">
              <p:embed/>
              <p:pic>
                <p:nvPicPr>
                  <p:cNvPr id="267" name="" descr=""/>
                  <p:cNvPicPr/>
                  <p:nvPr/>
                </p:nvPicPr>
                <p:blipFill>
                  <a:blip r:embed="rId2"/>
                  <a:stretch/>
                </p:blipFill>
                <p:spPr>
                  <a:xfrm>
                    <a:off x="1530360" y="1944720"/>
                    <a:ext cx="6089760" cy="37688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712741A-8071-4484-B953-000C8F8367BA}" type="slidenum">
              <a:t>2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802.15 WPAN - Proposed Liaisons</a:t>
            </a:r>
            <a:endParaRPr b="0" lang="en-US" sz="4000" spc="-1" strike="noStrike">
              <a:solidFill>
                <a:srgbClr val="000000"/>
              </a:solidFill>
              <a:latin typeface="Times New Roman"/>
            </a:endParaRPr>
          </a:p>
        </p:txBody>
      </p:sp>
      <p:sp>
        <p:nvSpPr>
          <p:cNvPr id="269"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160692D-AD31-46A8-B929-7A65A2698114}"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27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E190BA5-7ED0-4C43-BF7F-0AE196E383A3}"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273"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74"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78"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79"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81"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82"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84"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85"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87"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89"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91"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93"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95"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97"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99"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300"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301"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302"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3"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4"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05"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06"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307"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308"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309"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310"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311"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312"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317"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318"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319"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2"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18D7321-056A-4E56-9CC2-5E37BBBF237F}" type="slidenum">
              <a:t>2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326"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7D60417-00AE-4843-8E47-1671108EBC43}"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2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29"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30"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31"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79BA21F3-120E-4F95-8DB4-3F309D26A20B}" type="slidenum">
              <a:t>2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333"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A5F154E-9997-453D-8D00-475D562893AA}" type="slidenum">
              <a:t>2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D6CD647-32EC-443A-B7DC-FB901DC71858}"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33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5E145C1-A010-4DED-BAE4-567D6C695D0B}"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7282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IEEE 802 </a:t>
            </a:r>
            <a:br>
              <a:rPr sz="3600"/>
            </a:br>
            <a:r>
              <a:rPr b="1" lang="en-US" sz="3600" spc="-1" strike="noStrike" u="sng">
                <a:solidFill>
                  <a:srgbClr val="000000"/>
                </a:solidFill>
                <a:uFillTx/>
                <a:latin typeface="Times New Roman"/>
              </a:rPr>
              <a:t>Wireless Vision Statement</a:t>
            </a:r>
            <a:endParaRPr b="0" lang="en-US" sz="3600" spc="-1" strike="noStrike">
              <a:solidFill>
                <a:srgbClr val="000000"/>
              </a:solidFill>
              <a:latin typeface="Times New Roman"/>
            </a:endParaRPr>
          </a:p>
        </p:txBody>
      </p:sp>
      <p:sp>
        <p:nvSpPr>
          <p:cNvPr id="64" name="PlaceHolder 2"/>
          <p:cNvSpPr>
            <a:spLocks noGrp="1"/>
          </p:cNvSpPr>
          <p:nvPr>
            <p:ph/>
          </p:nvPr>
        </p:nvSpPr>
        <p:spPr>
          <a:xfrm>
            <a:off x="838080" y="181296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65" name=""/>
          <p:cNvSpPr/>
          <p:nvPr/>
        </p:nvSpPr>
        <p:spPr>
          <a:xfrm>
            <a:off x="228600" y="568008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6"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27D9994-029B-4F8D-8B0E-A05E98708FA3}"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3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717203B-4B8E-43BA-B863-ADC135D5E711}"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34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68473BC-AF53-42B1-9FEE-F1417AC53CDF}"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WPAN Interoperability Classes</a:t>
            </a:r>
            <a:endParaRPr b="0" lang="en-US" sz="4400" spc="-1" strike="noStrike">
              <a:solidFill>
                <a:srgbClr val="000000"/>
              </a:solidFill>
              <a:latin typeface="Times New Roman"/>
            </a:endParaRPr>
          </a:p>
        </p:txBody>
      </p:sp>
      <p:sp>
        <p:nvSpPr>
          <p:cNvPr id="342"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73BE958-EB32-425F-BD15-91CA16117995}" type="slidenum">
              <a:t>3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Coexistence/Interoperability Continuum</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44" name=""/>
          <p:cNvGrpSpPr/>
          <p:nvPr/>
        </p:nvGrpSpPr>
        <p:grpSpPr>
          <a:xfrm>
            <a:off x="76320" y="1733400"/>
            <a:ext cx="8684640" cy="4743720"/>
            <a:chOff x="76320" y="1733400"/>
            <a:chExt cx="8684640" cy="4743720"/>
          </a:xfrm>
        </p:grpSpPr>
        <p:sp>
          <p:nvSpPr>
            <p:cNvPr id="345"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347"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348" name=""/>
            <p:cNvGrpSpPr/>
            <p:nvPr/>
          </p:nvGrpSpPr>
          <p:grpSpPr>
            <a:xfrm>
              <a:off x="3427560" y="1733400"/>
              <a:ext cx="3187440" cy="458280"/>
              <a:chOff x="3427560" y="1733400"/>
              <a:chExt cx="3187440" cy="458280"/>
            </a:xfrm>
          </p:grpSpPr>
          <p:sp>
            <p:nvSpPr>
              <p:cNvPr id="349"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350"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352"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355"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357"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359"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362"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365" name=""/>
            <p:cNvGrpSpPr/>
            <p:nvPr/>
          </p:nvGrpSpPr>
          <p:grpSpPr>
            <a:xfrm>
              <a:off x="1523160" y="3809880"/>
              <a:ext cx="1456200" cy="1371600"/>
              <a:chOff x="1523160" y="3809880"/>
              <a:chExt cx="1456200" cy="1371600"/>
            </a:xfrm>
          </p:grpSpPr>
          <p:sp>
            <p:nvSpPr>
              <p:cNvPr id="366"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368" name=""/>
            <p:cNvGrpSpPr/>
            <p:nvPr/>
          </p:nvGrpSpPr>
          <p:grpSpPr>
            <a:xfrm>
              <a:off x="352440" y="3022560"/>
              <a:ext cx="6254640" cy="652680"/>
              <a:chOff x="352440" y="3022560"/>
              <a:chExt cx="6254640" cy="652680"/>
            </a:xfrm>
          </p:grpSpPr>
          <p:sp>
            <p:nvSpPr>
              <p:cNvPr id="369"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1"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372"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373"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374"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75"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6"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377"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96573BF-1D11-488F-A8EA-F4F23D086E7C}" type="slidenum">
              <a:t>3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380"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55A4EE3-BA6A-4708-AE6F-7976782853EB}"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383"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0CC60AC-DCAF-4F20-9F31-2D9EBE68666F}"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385" name=""/>
          <p:cNvGrpSpPr/>
          <p:nvPr/>
        </p:nvGrpSpPr>
        <p:grpSpPr>
          <a:xfrm>
            <a:off x="339840" y="4075200"/>
            <a:ext cx="8559000" cy="801720"/>
            <a:chOff x="339840" y="4075200"/>
            <a:chExt cx="8559000" cy="801720"/>
          </a:xfrm>
        </p:grpSpPr>
        <p:sp>
          <p:nvSpPr>
            <p:cNvPr id="386"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387"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388"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389"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390"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392"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3" name=""/>
          <p:cNvGrpSpPr/>
          <p:nvPr/>
        </p:nvGrpSpPr>
        <p:grpSpPr>
          <a:xfrm>
            <a:off x="339840" y="5651640"/>
            <a:ext cx="8229600" cy="801720"/>
            <a:chOff x="339840" y="5651640"/>
            <a:chExt cx="8229600" cy="801720"/>
          </a:xfrm>
        </p:grpSpPr>
        <p:sp>
          <p:nvSpPr>
            <p:cNvPr id="394"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395"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396"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7"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8"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399"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401"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402" name=""/>
          <p:cNvGrpSpPr/>
          <p:nvPr/>
        </p:nvGrpSpPr>
        <p:grpSpPr>
          <a:xfrm>
            <a:off x="339840" y="3262320"/>
            <a:ext cx="8424360" cy="801720"/>
            <a:chOff x="339840" y="3262320"/>
            <a:chExt cx="8424360" cy="801720"/>
          </a:xfrm>
        </p:grpSpPr>
        <p:sp>
          <p:nvSpPr>
            <p:cNvPr id="403"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04"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05"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06"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07"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409"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410" name=""/>
          <p:cNvGrpSpPr/>
          <p:nvPr/>
        </p:nvGrpSpPr>
        <p:grpSpPr>
          <a:xfrm>
            <a:off x="339840" y="4813200"/>
            <a:ext cx="8229600" cy="801720"/>
            <a:chOff x="339840" y="4813200"/>
            <a:chExt cx="8229600" cy="801720"/>
          </a:xfrm>
        </p:grpSpPr>
        <p:sp>
          <p:nvSpPr>
            <p:cNvPr id="411"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12"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13"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14"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415"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16"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417"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419"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420"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39840" y="2463840"/>
            <a:ext cx="8246160" cy="801720"/>
            <a:chOff x="339840" y="2463840"/>
            <a:chExt cx="8246160" cy="801720"/>
          </a:xfrm>
        </p:grpSpPr>
        <p:sp>
          <p:nvSpPr>
            <p:cNvPr id="424"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425"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426"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27"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428"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430"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431"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432"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433"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434"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436"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437"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439"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43080" y="1662120"/>
            <a:ext cx="8229600" cy="801720"/>
            <a:chOff x="343080" y="1662120"/>
            <a:chExt cx="8229600" cy="801720"/>
          </a:xfrm>
        </p:grpSpPr>
        <p:sp>
          <p:nvSpPr>
            <p:cNvPr id="441"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442"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760B5FE-1831-4F28-A665-204690A9480E}"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WPAN Project History</a:t>
            </a:r>
            <a:endParaRPr b="0" lang="en-US" sz="3600" spc="-1" strike="noStrike">
              <a:solidFill>
                <a:srgbClr val="000000"/>
              </a:solidFill>
              <a:latin typeface="Times New Roman"/>
            </a:endParaRPr>
          </a:p>
        </p:txBody>
      </p:sp>
      <p:sp>
        <p:nvSpPr>
          <p:cNvPr id="68"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C1D210C-77E6-4D60-A123-757A4F1654AE}"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70"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1"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6"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7"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8"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077840" y="1219320"/>
          <a:ext cx="6745320" cy="3579840"/>
        </p:xfrm>
        <a:graphic>
          <a:graphicData uri="http://schemas.openxmlformats.org/presentationml/2006/ole">
            <p:oleObj progId="Word.Document.12" r:id="rId1" spid="">
              <p:embed/>
              <p:pic>
                <p:nvPicPr>
                  <p:cNvPr id="80"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1"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2"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E69D467-C844-4977-BEB0-DC74AEE47901}"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48E0F4B-4BF2-48C5-B044-566D6EADAFFD}"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86"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58EAC34-181C-4A46-BCF8-8F211ED7D795}" type="slidenum">
              <a:t>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89"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F192F87-EBC3-40EE-BC8E-16FB47B8CFE8}"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2"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450F1C9-8444-4E3A-A849-60F1B4DE5C05}"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6T08:30:38Z</dcterms:modified>
  <cp:revision>78</cp:revision>
  <dc:subject>doc.: IEEE 802.15-99/027r0</dc:subject>
  <dc:title>WPAN Background</dc:title>
</cp:coreProperties>
</file>