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5DB7-1B0C-4DDB-8C6D-D8BE9B8E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41CB-B0E4-49B0-8C9B-5835ACB4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83EA-A548-4C0E-97E7-3C2BDA5C7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2D32-59CD-4CFB-B2B5-FF468501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874D-5380-4CE5-828F-53E543FD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00D6-0744-47DC-A029-948277B2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9878-5D0E-4CD9-B388-1B8AB329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6D59-DEF2-4C53-A829-12C39423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9D43-7457-40BB-B237-4AA2DBF5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0E6B-B85D-4955-8A95-FA405649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859B-DDB9-4B3D-9FAF-2F2D4CA3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7922-F1D6-4B07-ADB6-7798E076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8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7024245-3929-458D-87D9-C6830A9C9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xistence and Interoperability Stud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132F-1367-4942-8076-5AFFA420A44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udy Group Sche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think about what to include in PAR over the next two mon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send out material via em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PAR at Santa Ro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anta Rosa we will decide if we should include Interoper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Group work starts in Hawa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C00-8E10-487C-9117-6106DE3FA05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Importance of Coexis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of 802.15 WPAN and 802.11 WLAN was mandated by the 802 Executive Committ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likely that WPAN and WLAN devices will operate in the same ISM b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PAN devices are likely to operate in locations where WLANs are insta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FD27-ABFB-447E-93D8-E5AEAD01616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Importance of 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rtant that two devices that conform to the 802.15 standard interoperate with one another at the Physical L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y also be desirable to have WPAN and WLAN devices interoperate at some higher l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F699-CF2A-421F-A150-84DD99F05A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pose the formation of a Coexistence and Interoperability Study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Group would write a Project Authorization Request (PAR) defining the objectives and scope of the Coexistence and Interoperability Task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Group would exist from July 1999 to November 199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B530-DCAE-4BB8-BD99-129C110F91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devices with which a WPAN must coexist.  The following is a partial l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  1 &amp; 2 Mbps FH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  1 &amp; 2 Mbps DS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  5.5 &amp; 11 Mbps DS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802.15 WPAN devices, of potentially a different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A0EF-2393-471B-96DE-812F6310EF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tential deliverables of the Task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ries of reports describing the impact of a WPAN on a WLAN in the same vicinity, and visa ver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t of recommended practices for both the WPAN and WLAN to maximize co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, some recommended modifications or extensions to the WPAN and/or WLAN standards to improve coexis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FD84-EE7F-4F4C-80F7-100759897D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levels of interope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5 to 802.15 devices (PHY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5 to 802.11 devices (higher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Group will define what type of interoperability to address as a Task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 from the W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8D46-777E-44DC-A406-3133748A82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aison with 802.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eems likely that the Task Group would likely set up a liaison with 802.11 to facilitate communication on the topics of coexistence and interoper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7DFF-DCE4-4AE1-8512-DD5869D7DDD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ested 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Shellhamm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rlos 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viz Kerma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urt Fis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a Golmi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tthias F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man Alborz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mon Baa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l Batliwa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ke Paczon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an Ree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ldwell Crossw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FD81-64FA-4DE0-8D2F-8F3354D936D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19:46:37Z</dcterms:created>
  <dc:creator>Stephen J. Shellhammer</dc:creator>
  <dc:description>&lt;doc#&gt;</dc:description>
  <dc:language>en-US</dc:language>
  <cp:lastModifiedBy>Bridget Labrode</cp:lastModifiedBy>
  <cp:lastPrinted>1998-02-10T13:28:06Z</cp:lastPrinted>
  <dcterms:modified xsi:type="dcterms:W3CDTF">1999-07-08T17:21:14Z</dcterms:modified>
  <cp:revision>26</cp:revision>
  <dc:subject>IEEE 802.15 &lt;subject&gt;</dc:subject>
  <dc:title>IEEE P802.15 Working Group for Wireless Personal Area Networks</dc:title>
</cp:coreProperties>
</file>