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ED2-70FE-4014-92B7-5DFEEF66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EE7-F838-4677-A74D-CCA781F2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056-CA05-4DF8-AE5D-5B205C58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81D-3437-4E56-8EC5-71DE8BBA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A63-4A02-4971-902F-9EE2B40E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356-CF80-4B8F-B35C-589AA7BB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A85-1EE0-4307-BAE8-24FD50A5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D99-4202-4393-BFF4-985FD0A1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364-201B-4D11-BA4E-5A4B1303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423-B79D-4B2C-A700-F19491C0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228-4B33-46EF-9E1B-DE8C5F54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650-BCAC-4B93-81CC-EEF97096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832D8C-C8BF-442C-BB9A-0654964E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1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st Session of meetings of the IEEE P802.15 Task Group 1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3 - 17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ton Hotel, Sonoma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55 Round Barn Blv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a Rosa, CA  95403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040-EA04-4DF8-9DCE-3F3B7E8EEF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Schedule -99/56r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320" y="1600200"/>
            <a:ext cx="896328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  Wednesday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! SG1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! 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MC  ! SG1  |           |      !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!      |           |      !     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Joint.11/.15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DL Mode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.............|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...........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SG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G1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luetoot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utoria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|             |      &amp;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6:30-9:0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|             |Doc.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1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80A-8D6D-4FDA-A35D-08E3F4DAA1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10552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943600"/>
            <a:ext cx="6781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486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63244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CAF-5300-4A48-B281-89B8D0FDDA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 was Liaison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869-28AD-4481-84BE-7174073D2D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Need to Consider Draft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fig5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236080" cy="490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DB3-8375-40C2-AE44-D257D87187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 be add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9C0-3DF5-4D77-96A0-EAD6DE92FB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 3.11 Review Bluetooth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2BB-9109-41E5-A7B8-E56003A58E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con &amp; Mee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Aug99 Örjan Johansson, Chatschik Bisdikian, ETSI &amp; IEEE-SA Liaison Meeting in Washington DC -99/0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Sep99 Jim Kardach &amp; Ian Gifford discussed Bluetooth and the FCC NP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’s to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Sep99 Ian Gifford forwarded Jim Kardach the IEEE Letter to F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Mail’s from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5, 1999 Letter of Intent #2, Copyright License Agreement, CD-ROM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31, 1999 Bluetooth Proposal to IEEE and ETSI -99/0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3, 1999 CD-ROM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9, 1999 Signed &amp; Initialed Copyright License 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to submit the approved Draft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going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0C4-AADD-4396-857D-8B3ABE6F67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been reviewing the Bluetooth Specification, via Liaison &amp; Public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Special Interest Group Formed May 20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 07Jul98 -98/2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2 15Sep98 -98/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3 26Oct98 -98/350 (Minute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4 14Dec98 J. Carlo 802 Overview to Bluetooth S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5 09Mar99 -99/053 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6 01Jul99 -99/028 Letter Of I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7 15Jul99 -99/028r1 LOI #2, License, CD-ROM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8 26Jul99 Bluetooth v1.0A Foundation Specification Available via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9 31Aug99 -99/085 IEEE/ETSI/Bluetooth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0 31Aug99 -99/085 Proposal to IEEE &amp; ET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1 3Sep99 CD-ROM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2 9Sep99 Signed &amp; Initialed Copyright License Agre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3 13Sep99 -99/068 BT-IEEE Editorial WG Report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aison #14 14Sep99 -99/069 to 073 Overview of the Bluetoot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43F-2BD5-41FE-BA2A-D85576FB3D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7:33:09Z</dcterms:created>
  <dc:creator>Ian C. Gifford</dc:creator>
  <dc:description>061r1</dc:description>
  <dc:language>en-US</dc:language>
  <cp:lastModifiedBy>Ian C. Gifford</cp:lastModifiedBy>
  <cp:lastPrinted>1998-02-10T13:28:06Z</cp:lastPrinted>
  <dcterms:modified xsi:type="dcterms:W3CDTF">1999-09-14T22:04:16Z</dcterms:modified>
  <cp:revision>21</cp:revision>
  <dc:subject>IEEE 802.15 &lt;subject&gt;</dc:subject>
  <dc:title>1st Session of meetings of the IEEE P802.15 Task Group 1 for Wireless Personal Area Networks</dc:title>
</cp:coreProperties>
</file>