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4BD-7298-47B5-B655-00221FE5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110-A83C-4F1B-BE8D-4386FC5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3A4-D059-4219-B9B3-677EFF2B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E18-8E3D-4DB1-BCBD-EE8A546F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A81-5472-47AE-B628-FD6FC69D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983-987C-4834-BC74-D3A08618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361-E846-47FD-9F88-ABB181B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FC4-C59B-4CD6-888B-9ACCDCF1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CFA-1B08-47F0-80BD-5A8B0F7F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73E-C7BB-4B85-B547-C087922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D8C-3110-488E-8F58-9794338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FB4-7ADC-41B5-8E71-EAEFF233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92AC76-6660-4FB8-9A13-510E6849A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5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 Plenar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9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B43-4770-4849-90D4-C9B524E181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3643200"/>
            <a:ext cx="207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EBC-F56B-42FF-84B7-8D4CEAAEF8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81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120" y="3643200"/>
            <a:ext cx="212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7520" y="28195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B69-012A-4C21-8B1B-9B5BEE4382E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24A-84BA-4650-87A2-8B70C7AEAD6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6CB-4A8C-4FF5-80E3-75EA0E55AF8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DDC-342D-4B66-B605-1283F92D1B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35BB-2D4D-4574-90E0-D8AC4D4E081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1B05-EAD4-499F-B05B-AF5D5D1B86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C97-FBF4-4680-BACB-F6144BDF572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, rules, etc.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674-548F-4DEC-B868-EAF81AC5FC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Voter Coun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FE2-D0B9-46DC-B931-8BC049559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We Vot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Slate of Officers-Term is through 802 Plenary Meeting, March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1 Inter-meeting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e a position relative to NPRM on WBFH and RF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918-09C0-4681-8E14-459270B676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E9A-1B59-49BA-BB6F-CA295D8EA2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AA5-A0AA-4470-98B9-0E130F3145F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26B-7956-4440-87C0-D1EAAD071E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962520"/>
            <a:ext cx="185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ACDC-34EF-4AD8-89CF-CD70881C17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Intermeeting Regulatory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8760" y="3962520"/>
            <a:ext cx="205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603-6FC0-4A88-B801-FEF91077BA8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/>
  <dc:language>en-US</dc:language>
  <cp:lastModifiedBy>Bridget Labrode</cp:lastModifiedBy>
  <cp:lastPrinted>1998-02-10T13:28:06Z</cp:lastPrinted>
  <dcterms:modified xsi:type="dcterms:W3CDTF">1999-07-13T12:35:29Z</dcterms:modified>
  <cp:revision>24</cp:revision>
  <dc:subject/>
  <dc:title>No Slide Title</dc:title>
</cp:coreProperties>
</file>