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7E33FED-DD04-44FC-98DF-DA8AF71E2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E536-94D9-4A09-BC2E-9F122D66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DB55-9422-4068-8A7E-F2F38F6C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2A2-A078-41EB-8464-44EAD25B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8223-54A4-47B6-9C84-D6934B40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D3F-4BFF-4592-BD92-2B2B7BBC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014E-F387-42F4-AF00-FABD718C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305-3E2C-476F-820E-5C6311F8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F9B-9516-41F0-826C-A62DEE4D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98D-7B03-45D1-8075-BC6945B3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40A-CAB5-4786-AA5E-5CD23CAC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106-EDA1-4188-82C3-AE65B87E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1620-9024-4150-9FCF-FF81C47B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31565CA-10D7-4388-9E69-ACF395B6E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2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att Regency Kaua'i, 1571 Poipu Road Koloa, HI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CFD-CF28-499A-8529-FD7B1F61A21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11Nov99 - 10Dec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11Nov99 - 10Dec99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, Consolidate, and Distribute Draft Comments 13-16Dec99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Electronic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57200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623-A942-4804-974E-8C533A800B5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35800" y="5043600"/>
            <a:ext cx="73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plan is to have TG1 make a motion to the P802.15 Full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the November Plenary on Wednesday, 10Nov99 to authorize the LB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tart on Thursday, 11Nov99 with the Bluetooth Draft 0.6 Stand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8Nov99" descr=""/>
          <p:cNvPicPr/>
          <p:nvPr/>
        </p:nvPicPr>
        <p:blipFill>
          <a:blip r:embed="rId1"/>
          <a:stretch/>
        </p:blipFill>
        <p:spPr>
          <a:xfrm>
            <a:off x="282600" y="1528920"/>
            <a:ext cx="8556480" cy="3232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781680" y="32004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4852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1440" y="6208560"/>
            <a:ext cx="18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Project6.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478E-2EDE-43FB-ADEB-08A917ACD31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’i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VIDE A MOTION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ROVIDE A MOTION TO REVIEW THE COMMENTS FROM WG LB #1 ON OR BEFORE 10-14JAN00 INTE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ROVIDE AN OVERVIEW OF THE IEEE DRAFT DERIVED FROM THE BLUETOOTH SPECIFICATION(S) &lt;TUTORIAL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PROVIDE A MOTION TO WG TO INVOKE "OR" STATUS FOR BSIG, IF APPROVED FWD TO SEC AS A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. DRAFT TG1 OPERATING RULES AND PROVIDE A MOTION RESULT TO WG, WG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. PROVIDE A MOTION TO REPLACE PARVIZ KERMANI WITH CHATSCHIK BISDIK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853-6332-4D6A-A9E5-60DAF45B22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Sub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Draft Submission v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802-15/D0.6 [...P802-15-1_D0-6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“how to” review the P802.15.1 Draft v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ing Plenary Conference Tutorial #3 on Tuesday 9Nov99 from 6:30 to 8:00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THE P802.15 v0.6 DRAFT STANDARD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ARCHITECTURE OVERVIEW -99/069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THE BLUETOOTH SPEC. TO IEEE 802.15.1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802.15.1 V0.6 DRAFT STANDARD OVERVIEW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187-7C36-4301-B7D1-BBA0E7B9AB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740560" y="3200400"/>
            <a:ext cx="149832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1040" y="3962520"/>
            <a:ext cx="17017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40160" y="2514600"/>
            <a:ext cx="14983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WG vs.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20" y="129528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ExCom    |    HR     |     MC      |    MC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             |...........|.............|............|    802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            |            |  Closing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802     |    TG1    |     SG      |    SG      |  Plenar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SG   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.............|           |.............|. . . . . .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      | Full 802.15 |Full 802.15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 BT-IEEE  |   Social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   ExCom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CAA-7168-405D-B701-87FB8612D3F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Motion Schedu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G1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1 - Vice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G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2 - LB #1 Comme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3 - Electronic or empower Tel-Aviv for Comment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4 - OR Status for Blue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6BA5-F4ED-42E7-805F-5B8876F1D5A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: Posted P802.15.1 Draft 4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743200" y="27432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her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d to the P802.15 Private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B28D-285F-43CB-91AC-7FFE9792B23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: Our plan is to start the Letter Ballot #1 Process on 11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29718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make a motion 10Nov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ing to  release LB#1 on 11Nov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27B1-AAA0-401B-B008-1929B8C7B26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: Our plan is to stop the Letter Ballot #1 Process on 10Dec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78468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10Dec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LB Comments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49D1-4B89-4C0B-81E9-8D704B9D4BD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Nov99 the P802.15 Working Group will be comprised of 42 voting memb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ouman Alborz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imitri Alexandro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imon Baatz (Simo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dul Batliwala (Edu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an Bien (Al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Chatschik Bisdiki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ve Carlson (Da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shal Chhaya (Harsha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m. Caldwell Crossw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illiam Cruz (Bil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Ditch (Rich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Eckard (D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urt Fischer (Ku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atthias Frank (Matthi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an Gifford (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. Nada Golmie (Nad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len Heberling (Alle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obert Heile (Bob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John Paul Jones (Joh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rinivas Kanda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Parviz Kermani (Parviz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uart Kerry (Stua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atrick Kinney (Pa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uce P. Kraemer (Bruc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Yunxin Li (Yunx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niel R. McGly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chael D. McInnis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kira Miura (Akir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Thomas Müller (Thom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eter Murry (Peter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rwin R. Noble (Erw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ke Paczonay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rto Palin (Art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Davis Pan (Davi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van Reede (Iv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Carlos A. Rios (Carlo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ian E. Roan (Br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arlheinz Schwar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tephen J. Shellhamm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Thomas Siep (Tom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Nick Stapleton (N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eve Torp (Ste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Fujio Watanabe (Fuji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3784680"/>
            <a:ext cx="4038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228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9080" y="112680"/>
            <a:ext cx="24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Resignation prior to the LB #1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AC2-E5FC-4BE7-A47F-8F8FE097D264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Santa 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Kaua’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#1 Motion Detail &amp; WG Ballot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-IEEE Editorial Working Group Drafting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37B-0387-4BC0-907C-5CB68AF4CC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T-IEEE Editorial Working Group Drafting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0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1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2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3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3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4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5 - BT-IEEE Editorial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1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Chief Editor/6 Technical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Bluetooth Promoter Company Reviewers w/ internal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00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6 - BT-IEEE Editorial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8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5D53-DDBF-4052-8D13-B5B4E74E593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AN OVERVIEW OF THE BLUETOOTH SPECIFICATION(S), VIA TUTO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A PLAN FOR AN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OTE TO EMPOWER THE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2F0E-BBC8-4479-8294-1D0025F466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4880" y="1619280"/>
            <a:ext cx="795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To empower the TG1 Chair and Vice Chair to release the Bluetooth submission on behalf of TG1 to the 802.15 WG and to make a motion to the 802.15 WG to submit the Draft to Lette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30040" y="3643200"/>
            <a:ext cx="2480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Chatschik Bisdik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a Rosa - Vote on TG1 Draft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9B3-6987-4A79-8E3E-C06FFA0F3B9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a Rosa - Mapping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71600" y="2057400"/>
            <a:ext cx="6426360" cy="3809880"/>
            <a:chOff x="1371600" y="2057400"/>
            <a:chExt cx="6426360" cy="3809880"/>
          </a:xfrm>
        </p:grpSpPr>
        <p:graphicFrame>
          <p:nvGraphicFramePr>
            <p:cNvPr id="68" name=""/>
            <p:cNvGraphicFramePr/>
            <p:nvPr/>
          </p:nvGraphicFramePr>
          <p:xfrm>
            <a:off x="1371600" y="2057400"/>
            <a:ext cx="6426360" cy="380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1600" y="2057400"/>
                      <a:ext cx="6426360" cy="380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3733920" y="5029200"/>
            <a:ext cx="2197080" cy="54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5029200"/>
                      <a:ext cx="219708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3809880" y="3505320"/>
            <a:ext cx="2370240" cy="1469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9880" y="3505320"/>
                      <a:ext cx="237024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3809880" y="3048120"/>
            <a:ext cx="3054600" cy="1481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9880" y="3048120"/>
                      <a:ext cx="3054600" cy="14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3048120" y="2743200"/>
            <a:ext cx="4255920" cy="1317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48120" y="2743200"/>
                      <a:ext cx="4255920" cy="13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2057400" y="2743200"/>
            <a:ext cx="3970440" cy="1508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57400" y="2743200"/>
                      <a:ext cx="3970440" cy="15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" name=""/>
          <p:cNvSpPr/>
          <p:nvPr/>
        </p:nvSpPr>
        <p:spPr>
          <a:xfrm>
            <a:off x="639720" y="6208560"/>
            <a:ext cx="685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802.15-99/071r0, "Mapping the Bluetooth Specification to IEEE 802.15.1", Tom Siep,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3"/>
          <a:stretch/>
        </p:blipFill>
        <p:spPr>
          <a:xfrm>
            <a:off x="3827520" y="2685960"/>
            <a:ext cx="1488960" cy="148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98520" y="350532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44080" y="1828800"/>
            <a:ext cx="26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2.15.1 Abstract Networ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9BB-8808-416D-BD85-E32BB98258E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G1 Issues 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think that our efforts would really be wasted if we develop an 802.15.1 standard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oo late to be relevant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s (but not leveraged by) the original Bluetooth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onfusing to the people that are already familiar with the Bluetooth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ntentionally deviates from the original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the v0.6 standard is 1:1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E99B-1040-4FCF-9258-7456103F1D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Main Outline Overview (D0.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s 1 through 4: IEEE-required reference mate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5: Ov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6: PHY (Direct copy of Part A, Radio Specification [1.0a]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7: MAC Short introduction, followed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1 (Direct copy of Part B, Baseband Specification [1.0a]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2 (Direct copy of Part C, Link Manager Protocol [1.0a]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3 (Direct copy of Part D, Logical Link Control and Adaptation Protocol [1.0a]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8: Service Access Points (General Material and one example of how SAPs will be documente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A: Placeholder for Protocol Implementation Conformance Statement (PIC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B: Placeholder for MAC Formal Defin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C: Placeholder for PHY Formal Defin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Annex D: Generic Access Profile (Direct copy [1.0a]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E: Bibliography (incomple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E76-F1F5-4BA3-94FE-6F9C7DB068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SI RF to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06560" y="1981080"/>
            <a:ext cx="7121160" cy="4149360"/>
            <a:chOff x="1006560" y="1981080"/>
            <a:chExt cx="7121160" cy="4149360"/>
          </a:xfrm>
        </p:grpSpPr>
        <p:sp>
          <p:nvSpPr>
            <p:cNvPr id="91" name=""/>
            <p:cNvSpPr/>
            <p:nvPr/>
          </p:nvSpPr>
          <p:spPr>
            <a:xfrm>
              <a:off x="1200600" y="4574520"/>
              <a:ext cx="2201040" cy="25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L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00600" y="4834080"/>
              <a:ext cx="2201040" cy="258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00600" y="5093280"/>
              <a:ext cx="1488960" cy="518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00600" y="4574520"/>
              <a:ext cx="1488960" cy="51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00600" y="405612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00600" y="3537000"/>
              <a:ext cx="1488960" cy="51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00600" y="301860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00600" y="249984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s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00600" y="1981080"/>
              <a:ext cx="1488960" cy="51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06560" y="5612040"/>
              <a:ext cx="187740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d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401640" y="3990600"/>
              <a:ext cx="1424160" cy="84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89560" y="5612040"/>
              <a:ext cx="213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911120" y="1981080"/>
              <a:ext cx="3216600" cy="3630600"/>
              <a:chOff x="4911120" y="1981080"/>
              <a:chExt cx="3216600" cy="3630600"/>
            </a:xfrm>
          </p:grpSpPr>
          <p:sp>
            <p:nvSpPr>
              <p:cNvPr id="104" name=""/>
              <p:cNvSpPr/>
              <p:nvPr/>
            </p:nvSpPr>
            <p:spPr>
              <a:xfrm>
                <a:off x="4911120" y="5250960"/>
                <a:ext cx="2462400" cy="3607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R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11120" y="4808160"/>
                <a:ext cx="2462400" cy="38736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Baseb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11120" y="3975840"/>
                <a:ext cx="602640" cy="776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Aud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63800" y="4392360"/>
                <a:ext cx="1809720" cy="36036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Link Manag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63800" y="3975840"/>
                <a:ext cx="1155600" cy="360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L2CA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11120" y="2868480"/>
                <a:ext cx="2311560" cy="1051920"/>
              </a:xfrm>
              <a:custGeom>
                <a:avLst/>
                <a:gdLst/>
                <a:ahLst/>
                <a:rect l="l" t="t" r="r" b="b"/>
                <a:pathLst>
                  <a:path w="2208" h="912">
                    <a:moveTo>
                      <a:pt x="624" y="912"/>
                    </a:moveTo>
                    <a:lnTo>
                      <a:pt x="0" y="0"/>
                    </a:lnTo>
                    <a:lnTo>
                      <a:pt x="2208" y="0"/>
                    </a:lnTo>
                    <a:lnTo>
                      <a:pt x="1728" y="912"/>
                    </a:lnTo>
                    <a:lnTo>
                      <a:pt x="624" y="91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911120" y="2424240"/>
                <a:ext cx="67428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TCP/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652720" y="2424240"/>
                <a:ext cx="46368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HI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167880" y="2424240"/>
                <a:ext cx="107856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RFCOM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70600" y="2424240"/>
                <a:ext cx="1256760" cy="1922040"/>
              </a:xfrm>
              <a:custGeom>
                <a:avLst/>
                <a:gdLst/>
                <a:ahLst/>
                <a:rect l="l" t="t" r="r" b="b"/>
                <a:pathLst>
                  <a:path w="1296" h="1632">
                    <a:moveTo>
                      <a:pt x="0" y="1632"/>
                    </a:moveTo>
                    <a:lnTo>
                      <a:pt x="0" y="1296"/>
                    </a:lnTo>
                    <a:lnTo>
                      <a:pt x="528" y="336"/>
                    </a:lnTo>
                    <a:lnTo>
                      <a:pt x="528" y="0"/>
                    </a:lnTo>
                    <a:lnTo>
                      <a:pt x="1296" y="0"/>
                    </a:lnTo>
                    <a:lnTo>
                      <a:pt x="1296" y="288"/>
                    </a:lnTo>
                    <a:lnTo>
                      <a:pt x="576" y="1632"/>
                    </a:lnTo>
                    <a:lnTo>
                      <a:pt x="0" y="163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911120" y="1981080"/>
                <a:ext cx="3216600" cy="360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00"/>
                    </a:solidFill>
                    <a:latin typeface="Arial"/>
                  </a:rPr>
                  <a:t>Applic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916960" y="324828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7809800">
                <a:off x="7033680" y="3229200"/>
                <a:ext cx="100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6120" y="160020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7320" y="175248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/OSI Referenc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3CB-690E-433E-A37D-2AD9994B0CB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Bluetooth to IEEE P802.15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62120" y="1905120"/>
            <a:ext cx="7520040" cy="4266720"/>
            <a:chOff x="762120" y="1905120"/>
            <a:chExt cx="7520040" cy="4266720"/>
          </a:xfrm>
        </p:grpSpPr>
        <p:grpSp>
          <p:nvGrpSpPr>
            <p:cNvPr id="122" name=""/>
            <p:cNvGrpSpPr/>
            <p:nvPr/>
          </p:nvGrpSpPr>
          <p:grpSpPr>
            <a:xfrm>
              <a:off x="762120" y="1905120"/>
              <a:ext cx="3786120" cy="4266720"/>
              <a:chOff x="762120" y="1905120"/>
              <a:chExt cx="3786120" cy="4266720"/>
            </a:xfrm>
          </p:grpSpPr>
          <p:sp>
            <p:nvSpPr>
              <p:cNvPr id="123" name=""/>
              <p:cNvSpPr/>
              <p:nvPr/>
            </p:nvSpPr>
            <p:spPr>
              <a:xfrm>
                <a:off x="762120" y="5748120"/>
                <a:ext cx="2898720" cy="4237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R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62120" y="5227560"/>
                <a:ext cx="2898720" cy="4550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Baseba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120" y="4249440"/>
                <a:ext cx="709560" cy="9126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Au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30360" y="4738680"/>
                <a:ext cx="2130480" cy="42336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Link 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530360" y="4249440"/>
                <a:ext cx="1360440" cy="42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Arial"/>
                  </a:rPr>
                  <a:t>L2C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2120" y="2948040"/>
                <a:ext cx="2720880" cy="1236240"/>
              </a:xfrm>
              <a:custGeom>
                <a:avLst/>
                <a:gdLst/>
                <a:ahLst/>
                <a:rect l="l" t="t" r="r" b="b"/>
                <a:pathLst>
                  <a:path w="2208" h="912">
                    <a:moveTo>
                      <a:pt x="624" y="912"/>
                    </a:moveTo>
                    <a:lnTo>
                      <a:pt x="0" y="0"/>
                    </a:lnTo>
                    <a:lnTo>
                      <a:pt x="2208" y="0"/>
                    </a:lnTo>
                    <a:lnTo>
                      <a:pt x="1728" y="912"/>
                    </a:lnTo>
                    <a:lnTo>
                      <a:pt x="624" y="91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2120" y="2425680"/>
                <a:ext cx="79380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TCP/I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35120" y="2425680"/>
                <a:ext cx="54612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HI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41720" y="2425680"/>
                <a:ext cx="126972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RFCO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68640" y="2425680"/>
                <a:ext cx="1479600" cy="2258640"/>
              </a:xfrm>
              <a:custGeom>
                <a:avLst/>
                <a:gdLst/>
                <a:ahLst/>
                <a:rect l="l" t="t" r="r" b="b"/>
                <a:pathLst>
                  <a:path w="1296" h="1632">
                    <a:moveTo>
                      <a:pt x="0" y="1632"/>
                    </a:moveTo>
                    <a:lnTo>
                      <a:pt x="0" y="1296"/>
                    </a:lnTo>
                    <a:lnTo>
                      <a:pt x="528" y="336"/>
                    </a:lnTo>
                    <a:lnTo>
                      <a:pt x="528" y="0"/>
                    </a:lnTo>
                    <a:lnTo>
                      <a:pt x="1296" y="0"/>
                    </a:lnTo>
                    <a:lnTo>
                      <a:pt x="1296" y="288"/>
                    </a:lnTo>
                    <a:lnTo>
                      <a:pt x="576" y="1632"/>
                    </a:lnTo>
                    <a:lnTo>
                      <a:pt x="0" y="163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62120" y="1905120"/>
                <a:ext cx="3786120" cy="423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00"/>
                    </a:solidFill>
                    <a:latin typeface="Arial"/>
                  </a:rPr>
                  <a:t>Applic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45440" y="3462120"/>
                <a:ext cx="55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7809800">
                <a:off x="3363480" y="363744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462640" y="2361960"/>
              <a:ext cx="281952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6 (R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62640" y="2819160"/>
              <a:ext cx="2819520" cy="1523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Baseband, Link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nager, L2CA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62640" y="1905120"/>
              <a:ext cx="281952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1-5 (Intr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62640" y="4343400"/>
              <a:ext cx="281952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8 (SA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62640" y="4800600"/>
              <a:ext cx="2819520" cy="12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A: Placeholder for PI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B: Placeholder for MAC Def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C: Placeholder for PHY Def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D: Generic Access Pro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E: Bibliography (incomplete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807080" y="2438280"/>
              <a:ext cx="426960" cy="182844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440"/>
                <a:gd name="textAreaBottom" fmla="*/ 1780920 h 18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1320" y="152388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5480" y="1676520"/>
            <a:ext cx="25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2.15.1 Draft 0.6 Abstract T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80BE-9C4D-4449-B673-1469B014CFD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-99/123</dc:description>
  <dc:language>en-US</dc:language>
  <cp:lastModifiedBy>Ian C. Gifford</cp:lastModifiedBy>
  <cp:lastPrinted>1998-02-10T13:28:06Z</cp:lastPrinted>
  <dcterms:modified xsi:type="dcterms:W3CDTF">1999-11-08T23:08:38Z</dcterms:modified>
  <cp:revision>44</cp:revision>
  <dc:subject>IEEE 802.15 TG1 Report #2</dc:subject>
  <dc:title>IEEE P802.15 Working Group for Wireless Personal Area Networks</dc:title>
</cp:coreProperties>
</file>