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C797-522E-4CF4-9D86-ADDB6887B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61A1-BAC5-4CF7-AECE-BD5171380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26B9-96BB-4C69-B2E4-538F25AEA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7635-9CC5-4288-B336-941189641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EFC4-D5A4-459D-B635-2396FE2F5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2075-08DB-4142-BF64-362660D58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0057-F8AA-4FFB-886D-407640027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B7AC-6BA3-446A-B6C6-5C49921CF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1CE6-7395-479E-BF52-817914940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65A2-1314-4516-9E92-B273E04CC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8C23-5823-4FB2-A6A9-B3560CD2B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1486-3CA0-4957-9A13-CD51EE911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66C11A4F-BEC5-4A8B-B6B2-4D80F476DA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99142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EEE P802.15 Working Group for Wireless Personal Area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rketing Committee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ua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v 11, 19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uce Kraemer, Intersil and 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A247-7592-4886-BDC9-270C79949166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87880" y="563400"/>
            <a:ext cx="76759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genda-Thursday, November 11, 1999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8:30 - 10:00 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l Meeting to Or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ree upon action items for Ad-hoc Membership assi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vide membership into sub-committ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ntify discussion leader/secret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to main room for reports from sub-committ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 Busines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jou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uce Kraemer, Intersil and Ian Gifford, M/A-COM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436B-E206-44EC-8748-0512333D913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ursday Marketing Work Pl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1123920"/>
            <a:ext cx="86104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 Topics will be discussed in Grand 5 meeting room from 8:45 to 9:4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) Provide a Position Paper to the IEEE on the TG1 perceived Publishing Procedure for a Joint Standard,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draft by Janu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) List of suggested “Marketing Material” to support the IEEE Draft e.g., Handbook, Companion, Pocket Guides, etc. ,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Definitions, audience, content, format, commercial pubs; draft by Janu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) Determine if there are other SDO’s that might also be interested in paralleling the TG1 work, if ETSI remains undecided.;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brainst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) Trademark “WPAN” , protect URL;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generate li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)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ain website;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Suggest website ed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topic will be discussed in Garden Isle Lounge from 8:45 to 9:4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) Support High Rate effort ;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brainstor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ups reconvene in Grand 5 from 9:45 to 10:00 to consolidate resul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uce Kraemer, Intersil and Ian Gifford, M/A-COM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1F65-F269-4EAB-BD47-767AA85E7B00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838080"/>
            <a:ext cx="8686800" cy="56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) Provide a Position Paper to the IEEE on the TG1 perceived Publishing Procedure for a Joint Standard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an Gifford will prepare the initial draft and distribute via the reflector. Further discussion will be scheduled for the January interim mee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) List of suggested “Marketing Material” to support the IEEE Draft e.g., Handbook, Companion, Pocket Guides, etc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Via liaison letter through WG to BT SIG, request starting material from BT SIG that could be used in an introductory document to complement the standar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esearch commercial companion publications that might be availab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egin preparing tutorial material for the Exco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) Determine if there are other SDO’s that might also be interested in paralleling the TG1 work, if ETSI remains undecid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1. Pursue resoution within ETSI as best alterna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2. Explore completion of standard within IEE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3. As a back up, consider using IETF but don’t pursue immediately, wait to see how previous two options evolv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) Trademark “WPAN” 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dd other key terms and  UR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)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intain webs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Use website more extensively to post status and solicit feedb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topic will be discussed in Garden Isle Lounge from 8:45 to 9: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) Support High Rate effor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dd to reflector; Generate press release; Details Contained in doc:IEEE802.15-99145r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482560" y="533520"/>
            <a:ext cx="32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mmary of Discus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uce Kraemer, Intersil and Ian Gifford, M/A-COM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62D9-5E5D-4C99-A5D5-3F4FEA841C05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18T16:56:24Z</dcterms:created>
  <dc:creator>Ian Gifford, M/A-COM &amp; Bruce Kraemer, Harris</dc:creator>
  <dc:description>031r1</dc:description>
  <dc:language>en-US</dc:language>
  <cp:lastModifiedBy>Bruce Kraemer</cp:lastModifiedBy>
  <cp:lastPrinted>1998-02-10T13:28:06Z</cp:lastPrinted>
  <dcterms:modified xsi:type="dcterms:W3CDTF">1999-11-11T23:08:33Z</dcterms:modified>
  <cp:revision>81</cp:revision>
  <dc:subject>IEEE 802.15 Marketing</dc:subject>
  <dc:title>IEEE P802.15 Working Group for Wireless Personal Area Networks</dc:title>
</cp:coreProperties>
</file>