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934200" cy="9078913"/>
  <p:custShowLst>
    <p:custShow name="ieee802.11" id="0">
      <p:sldLst>
        <p:sld r:id="rId3"/>
        <p:sld r:id="rId5"/>
        <p:sld r:id="rId6"/>
        <p:sld r:id="rId7"/>
        <p:sld r:id="rId9"/>
        <p:sld r:id="rId10"/>
        <p:sld r:id="rId11"/>
        <p:sld r:id="rId13"/>
        <p:sld r:id="rId14"/>
        <p:sld r:id="rId15"/>
        <p:sld r:id="rId16"/>
        <p:sld r:id="rId18"/>
        <p:sld r:id="rId22"/>
        <p:sld r:id="rId24"/>
        <p:sld r:id="rId28"/>
        <p:sld r:id="rId29"/>
        <p:sld r:id="rId30"/>
        <p:sld r:id="rId31"/>
        <p:sld r:id="rId32"/>
        <p:sld r:id="rId33"/>
        <p:sld r:id="rId34"/>
        <p:sld r:id="rId37"/>
        <p:sld r:id="rId3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A9E-81E5-4EC7-8C45-B0CD3815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1F6-ACF0-431E-9EAE-6AD02329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B11-75A1-455D-9F8A-BAD7F616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4DA-81D1-4B3E-8990-DBBA52FC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8F7-170A-40C5-A65E-EBD6135B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1C8-5EF9-4888-B831-F95C8A5B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7C8-9858-467F-A520-1B95250E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F99-6B4A-4F5A-9227-F1518A9C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355-3078-4D5C-9FE6-E89AD0BD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8FB-46C1-4415-992D-8506171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7CF-30C5-4CBF-8768-1B668B3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F63-4B70-4F36-9340-CBCF0C91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33ED8A30-8377-4829-B8AC-F8EDE6530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0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79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1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3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4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88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89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0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314-1BEE-4787-8B03-CABCD28455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5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3940200" y="2671920"/>
            <a:ext cx="860400" cy="1054080"/>
            <a:chOff x="3940200" y="2671920"/>
            <a:chExt cx="860400" cy="1054080"/>
          </a:xfrm>
        </p:grpSpPr>
        <p:sp>
          <p:nvSpPr>
            <p:cNvPr id="497" name=""/>
            <p:cNvSpPr/>
            <p:nvPr/>
          </p:nvSpPr>
          <p:spPr>
            <a:xfrm rot="20846400">
              <a:off x="4006080" y="2741760"/>
              <a:ext cx="529200" cy="491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8" name="tosh500" descr=""/>
            <p:cNvPicPr/>
            <p:nvPr/>
          </p:nvPicPr>
          <p:blipFill>
            <a:blip r:embed="rId3"/>
            <a:stretch/>
          </p:blipFill>
          <p:spPr>
            <a:xfrm>
              <a:off x="3940200" y="2671920"/>
              <a:ext cx="860400" cy="105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9" name="globe3" descr=""/>
          <p:cNvPicPr/>
          <p:nvPr/>
        </p:nvPicPr>
        <p:blipFill>
          <a:blip r:embed="rId4"/>
          <a:srcRect l="13639" t="0" r="12661" b="0"/>
          <a:stretch/>
        </p:blipFill>
        <p:spPr>
          <a:xfrm>
            <a:off x="6994440" y="2441520"/>
            <a:ext cx="1406520" cy="1521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4338000" y="1036800"/>
            <a:ext cx="2698560" cy="2705040"/>
            <a:chOff x="4338000" y="1036800"/>
            <a:chExt cx="2698560" cy="2705040"/>
          </a:xfrm>
        </p:grpSpPr>
        <p:pic>
          <p:nvPicPr>
            <p:cNvPr id="502" name="" descr=""/>
            <p:cNvPicPr/>
            <p:nvPr/>
          </p:nvPicPr>
          <p:blipFill>
            <a:blip r:embed="rId6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4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9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338000" y="1036800"/>
              <a:ext cx="2643120" cy="988560"/>
              <a:chOff x="4338000" y="1036800"/>
              <a:chExt cx="2643120" cy="988560"/>
            </a:xfrm>
          </p:grpSpPr>
          <p:pic>
            <p:nvPicPr>
              <p:cNvPr id="51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51400" y="1547640"/>
                <a:ext cx="97308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"/>
              <p:cNvGrpSpPr/>
              <p:nvPr/>
            </p:nvGrpSpPr>
            <p:grpSpPr>
              <a:xfrm>
                <a:off x="4338000" y="1547640"/>
                <a:ext cx="919080" cy="477720"/>
                <a:chOff x="4338000" y="1547640"/>
                <a:chExt cx="919080" cy="4777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33800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8956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64220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480924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4964040" y="1036800"/>
                <a:ext cx="1633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STN, ISDN,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LAN, WAN, xD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6062040" y="1547640"/>
                <a:ext cx="919080" cy="477720"/>
                <a:chOff x="6062040" y="1547640"/>
                <a:chExt cx="919080" cy="477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062040" y="1651680"/>
                  <a:ext cx="252000" cy="270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213600" y="1624680"/>
                  <a:ext cx="302400" cy="32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366240" y="1586160"/>
                  <a:ext cx="376560" cy="401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533280" y="1547640"/>
                  <a:ext cx="447840" cy="47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7929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792997"/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6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32D-FC55-4DAB-98A5-5B168778BC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E93-DEDB-45D5-B9C1-B043BE0AFC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944-5A5D-45D4-81E4-FBE4C2DD0A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48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DBC-8814-4251-83AA-5B57839799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6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7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9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1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2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0D6-FB1F-40C4-AB54-713D25A095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8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5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5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08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1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44B-289A-46C7-A8C1-77CE965BD8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13F-C23D-455D-B644-35389B9DBC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19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1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5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3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493-78D1-46D8-98FD-DDAC1074D7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2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965-CECB-4F0D-8169-E703EF1272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097-1CA0-470E-BB75-A07F696442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C4D-3C08-4930-8FB5-BAB06EE2333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4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1" name=""/>
            <p:cNvCxnSpPr>
              <a:stCxn id="798" idx="5"/>
              <a:endCxn id="796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2" name=""/>
            <p:cNvCxnSpPr>
              <a:stCxn id="799" idx="3"/>
              <a:endCxn id="796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3" name=""/>
            <p:cNvCxnSpPr>
              <a:stCxn id="798" idx="6"/>
              <a:endCxn id="799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796" idx="5"/>
              <a:endCxn id="797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7"/>
              <a:endCxn id="796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6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690-3947-4D35-A12E-9396D164CE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AD7-2E37-4610-9240-1ACAA21AC0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F2A-B435-48D8-8D02-B57418D5FF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48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651-3FEA-42DC-94EE-7F45699F17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7FA-73D2-4183-A81D-CCA177409D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614680" y="447048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604960" y="4459320"/>
            <a:ext cx="4114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08520" y="1981080"/>
            <a:ext cx="144756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B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08520" y="1981080"/>
            <a:ext cx="14475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55680" y="1981080"/>
            <a:ext cx="1447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155680" y="19810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661000" y="1447920"/>
            <a:ext cx="1447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612880" y="5334120"/>
            <a:ext cx="411480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ost Controll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670280" y="4943520"/>
            <a:ext cx="360" cy="31428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08520" y="1295280"/>
            <a:ext cx="144756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vCard/v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126760" y="2438280"/>
            <a:ext cx="360" cy="22860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594320" y="2438280"/>
            <a:ext cx="360" cy="3812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75000" y="2666880"/>
            <a:ext cx="99072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65720" y="26668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499080" y="5086440"/>
            <a:ext cx="360" cy="171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70480" y="4038480"/>
            <a:ext cx="360" cy="3812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05560" y="5092560"/>
            <a:ext cx="160020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8098560" y="1752480"/>
            <a:ext cx="360" cy="33530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155680" y="1295280"/>
            <a:ext cx="144792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375000" y="2438280"/>
            <a:ext cx="360" cy="22860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813280" y="3340080"/>
            <a:ext cx="360" cy="1079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670280" y="17524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917800" y="17524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08520" y="1295280"/>
            <a:ext cx="14475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155680" y="129528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200" y="1828800"/>
            <a:ext cx="1447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il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3200" y="18288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661000" y="144792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413480" y="1295280"/>
            <a:ext cx="1371600" cy="45720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413480" y="1295280"/>
            <a:ext cx="13716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65560" y="2901960"/>
            <a:ext cx="15811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55840" y="2895480"/>
            <a:ext cx="1581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6720" y="2873520"/>
            <a:ext cx="162720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F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078520" y="2857680"/>
            <a:ext cx="16239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64120" y="3575160"/>
            <a:ext cx="163836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54760" y="3581280"/>
            <a:ext cx="16509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612880" y="5334120"/>
            <a:ext cx="4114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27480" y="2666880"/>
            <a:ext cx="53352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65320" y="4191120"/>
            <a:ext cx="1828800" cy="3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94120" y="4191120"/>
            <a:ext cx="360" cy="30456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65320" y="40384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44680" y="2908440"/>
            <a:ext cx="150480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444680" y="2908440"/>
            <a:ext cx="1504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228840" y="3524400"/>
            <a:ext cx="1663920" cy="457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28840" y="3524400"/>
            <a:ext cx="1663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880" y="3581280"/>
            <a:ext cx="2208240" cy="457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5661000" y="2666880"/>
            <a:ext cx="360" cy="15264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5562720" y="2133720"/>
            <a:ext cx="1447560" cy="685800"/>
            <a:chOff x="5562720" y="2133720"/>
            <a:chExt cx="1447560" cy="685800"/>
          </a:xfrm>
        </p:grpSpPr>
        <p:sp>
          <p:nvSpPr>
            <p:cNvPr id="917" name=""/>
            <p:cNvSpPr/>
            <p:nvPr/>
          </p:nvSpPr>
          <p:spPr>
            <a:xfrm>
              <a:off x="6302160" y="259092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213372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562720" y="213372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114800" y="3352680"/>
            <a:ext cx="360" cy="76320"/>
          </a:xfrm>
          <a:prstGeom prst="line">
            <a:avLst/>
          </a:prstGeom>
          <a:noFill/>
          <a:ln w="1908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80880" y="358128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808-514E-4A73-AABC-9D676747D22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82B-F57D-436E-A5C3-000F9505B6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E6B-DE9F-4C11-A7FA-3F5AD042FC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AF0-C2AA-4F3F-8E02-793BB557FB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status (modules, certification, etc.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4GHz coexistence studi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033-1FDF-42D4-B6B6-C54E007495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1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764-37F3-4B9B-A5EE-1AA402B6F9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eneric Access Profi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ice Discovery Application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ial Port Profi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al-up Networking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x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set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N Access Profile (using PPP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neric Object Exchange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 Transfer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Push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ation Profil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CS_BIN-based profil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Telephony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com Profil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58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99A-0912-49D4-99DB-629D6AD243C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4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2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4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761-F133-44C1-A76B-DEA6D51CBC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3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5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7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9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0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E5F-8429-4373-8FF6-8B4381CDC69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5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7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9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5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09B-41E4-4D47-A98A-9BB24C38F67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0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2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4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B71-BEAF-40B7-B6F6-22CF4B93EB8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6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9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2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5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8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225-824D-49D6-ADB8-422A9D715C0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CCC-5A91-46EA-BB7B-12FE89E1371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modu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sentation on Bluetooth Modules (Thomas Mueller) is made 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DBB-7E46-4B70-A187-0CB0765A86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D2C-8C08-4FD4-B668-5B920C843F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B33-67FA-4F8B-B62D-23CC6ACD81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4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EA0-89EF-44E5-9B58-8D260FCE147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EEE802.15 &amp; Bluetooth Mapp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sentation on the Bluetooth/IEEE802.15 mapping (Tom Siep) is made 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855-A83E-4171-BE74-6C7FDD17A9A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existence studi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presentation on 2.4GHz radio coexistence (Jim Zyren) is made her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594-98B4-41AC-91C4-923F40C215B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77F-D628-4E65-B155-5AC5C05E3F9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55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7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D20-0F1A-4FAA-BB9D-648C97B2AA6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9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1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2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3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944-2D77-4B36-84AD-EA6D36B742D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8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B32-51E4-4484-8033-B8944917F89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24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E4E-2661-4EBF-B594-26E080E903A1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AE0-B6DD-43D1-BEFF-E97EE79BAE04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8" name=""/>
          <p:cNvCxnSpPr>
            <a:stCxn id="1561" idx="3"/>
            <a:endCxn id="1562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9" name=""/>
          <p:cNvCxnSpPr>
            <a:stCxn id="1562" idx="3"/>
            <a:endCxn id="1563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0" name=""/>
          <p:cNvCxnSpPr>
            <a:stCxn id="1566" idx="3"/>
            <a:endCxn id="1565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5" idx="3"/>
            <a:endCxn id="1564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7" name=""/>
          <p:cNvCxnSpPr>
            <a:stCxn id="1574" idx="3"/>
            <a:endCxn id="1575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575" idx="0"/>
            <a:endCxn id="1576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3" name=""/>
          <p:cNvCxnSpPr>
            <a:stCxn id="1581" idx="3"/>
            <a:endCxn id="1580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6" name=""/>
          <p:cNvCxnSpPr>
            <a:stCxn id="1584" idx="3"/>
            <a:endCxn id="1585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7" name=""/>
          <p:cNvCxnSpPr>
            <a:stCxn id="1580" idx="2"/>
            <a:endCxn id="1584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76" idx="3"/>
            <a:endCxn id="1579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4" name=""/>
          <p:cNvCxnSpPr>
            <a:stCxn id="1593" idx="0"/>
            <a:endCxn id="1591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5" name=""/>
          <p:cNvCxnSpPr>
            <a:stCxn id="1593" idx="0"/>
            <a:endCxn id="1592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6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546-DA67-433F-B485-3C8987A0F3D6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FFA-2942-489D-B2E7-7C21A3418F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350-69CA-4305-87B4-C00249AE6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7D1-624B-48D9-9A09-9F6F718C43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0D7-6CEC-4074-89F0-4A7D793141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58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0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3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5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7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: 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A89-3894-4312-8217-A9C9AF7FA6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Chatschik Bisdikian</cp:lastModifiedBy>
  <cp:lastPrinted>1999-07-23T14:05:54Z</cp:lastPrinted>
  <dcterms:modified xsi:type="dcterms:W3CDTF">1999-09-14T19:53:14Z</dcterms:modified>
  <cp:revision>194</cp:revision>
  <dc:subject/>
  <dc:title>No Slide Title</dc:title>
</cp:coreProperties>
</file>