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12E4B5-F8FB-4D5C-9BAB-AD13BE76F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026A8-F3F5-42DA-BA14-4032EAF8D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340C8-1A6B-49DC-ABCC-493ED755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7845E-6B7B-4D2E-B71D-EF3852CB5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67959-CC66-4F19-9DFD-8BA8E4E92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EB7FA-B2D2-4DD4-B940-50292B0F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E4210-0951-4BA9-9FB1-F2D1E3C7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EF4AE-33AC-40D6-BD09-DB37497F2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2D535-9096-4C93-8B42-D824D9AF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3152D-7E3E-4B89-B762-76C05189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DD291-D09D-489B-A93C-72E39208B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B282-7E5F-4824-A70A-326A27372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9C26-C815-4568-84FB-1ECCCE75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27320-9D64-41F4-9386-D4E981F65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909E12D-03F8-463F-88F1-0055B9235DDA}"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B838295-7B05-4E09-8740-CEE32962F57E}"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48F3D5-75F5-4365-9AD8-11FFC9ABE107}"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86B1B41-2782-4FFB-8075-2C891FADF21C}"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FCFE55B-CE90-46D1-86BA-DDB95CF4CFC9}"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6086F01-71FC-4808-A36D-CBDFF84371F2}"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784B716-CEB6-4ED9-8A28-9A9BE08FF619}"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A618BE2-DC3C-49E5-BC60-EB3A5578B7F5}"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066680" y="1752480"/>
            <a:ext cx="754380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ExCom          |          MC         |           MC      |           MC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8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Clos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802               |          TG1        |           SG        |           SG         |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   Full 802.15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BT-IEEE    |     Social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Tutor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p-8:00p  |                         |       ExC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D25BC08-F556-42B9-B656-8EAAB69F4346}"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F469BAE-6F39-473D-8C0B-731B33CC769A}"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208541C-E5F0-4C68-BB94-9988A4C79055}"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B5468E0-9080-4CD2-81E2-9E434847A71C}"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76E1461-6D9D-4EF9-B8E1-0A0749309EE8}"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889BFD-A0AA-408F-B4E2-3B03E42FFEA0}"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DEE8F70-6314-4DC3-9DAE-9618CA339D80}"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183CF2C-DC4E-4C10-A9A7-636D10063D4C}"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038F385-4750-45F0-BD7C-EE07D4B874C2}"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D5FF74F-EC15-4F64-ADBF-25B51BD823B1}"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2799ED0-C6E9-4A2B-AA98-78469A944FA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E9C4C24-67A8-4E7F-811A-81BE9020954E}"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November 8-12,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931618E-FEFF-4BC1-8F4C-BF4F8E36EEBE}"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5B87B02-469A-46E7-9EC2-3B22EEC7DA8F}"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C87A2A0-F004-4F14-908E-94CFA95DE391}"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2DD8556-ED69-4499-B2B7-15B8CE5C932F}"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DB2FECA-4547-43F9-98AB-BF9DB8167FE4}"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18</dc:description>
  <dc:language>en-US</dc:language>
  <cp:lastModifiedBy>Rober F. Heile</cp:lastModifiedBy>
  <cp:lastPrinted>1998-02-10T13:28:06Z</cp:lastPrinted>
  <dcterms:modified xsi:type="dcterms:W3CDTF">1999-11-04T20:13:39Z</dcterms:modified>
  <cp:revision>53</cp:revision>
  <dc:subject>IEEE 802.15 &lt;subject&gt;</dc:subject>
  <dc:title>Novt99 meeting into and basic policies</dc:title>
</cp:coreProperties>
</file>