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CAA9-641B-4554-9C92-0AA3751B4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9203-15B0-4011-98A0-3B7CA5F7C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252B-B85E-4CAF-A352-8D1D4AC8C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AC05-3EDC-4D71-9F22-84F57084B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7D33-DA2A-4DE8-9015-023EFC434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786C-7ED5-4018-A07D-7BABE075C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DBCE-0062-48CD-848E-DB35BB45D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C86C-CB7F-4C70-83C5-E74204399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063F8-D74D-43B0-B694-92B751E16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C38B-A7ED-48F8-A099-23351323E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31B9-33E4-49C7-8B6B-2B67D334A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E4B9-DD77-49B5-95F6-0D00CA172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57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720-7EF1-4C47-BB8D-C82DB1AC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90360"/>
            <a:ext cx="6019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uetooth / IEEE 802.11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98600" y="655200"/>
            <a:ext cx="6291000" cy="18000"/>
            <a:chOff x="498600" y="655200"/>
            <a:chExt cx="6291000" cy="18000"/>
          </a:xfrm>
        </p:grpSpPr>
        <p:sp>
          <p:nvSpPr>
            <p:cNvPr id="5" name=""/>
            <p:cNvSpPr/>
            <p:nvPr/>
          </p:nvSpPr>
          <p:spPr>
            <a:xfrm flipV="1">
              <a:off x="498600" y="655200"/>
              <a:ext cx="6291000" cy="324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0040" y="673200"/>
              <a:ext cx="625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57200" y="6362640"/>
            <a:ext cx="8229600" cy="38160"/>
            <a:chOff x="457200" y="6362640"/>
            <a:chExt cx="8229600" cy="38160"/>
          </a:xfrm>
        </p:grpSpPr>
        <p:sp>
          <p:nvSpPr>
            <p:cNvPr id="8" name=""/>
            <p:cNvSpPr/>
            <p:nvPr/>
          </p:nvSpPr>
          <p:spPr>
            <a:xfrm flipV="1">
              <a:off x="457200" y="6362640"/>
              <a:ext cx="8229600" cy="792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640" y="6400800"/>
              <a:ext cx="81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00664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zyren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74204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4132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BT interference depends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ropag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BT pico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susceptibility to BT interference increases as a function of range from DSSS node to DSSS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Hi Rate systems retain high throughput and have graceful degradation in the presence of 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se user models, DSSS Hi Rate WLANs are very reliable in the presence of significant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re preliminary.  Must be verified by lab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9040" y="1523880"/>
          <a:ext cx="7745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23880"/>
                    <a:ext cx="7745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71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80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6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2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using a narrower occupied channel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minimizing transmit time (ie transmit at higher data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 Interferenc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energy can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3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7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2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6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2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81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4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udy of impact of Bluetooth on IEEE 802.11 DSS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SSS WLAN @ 1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environment of BT pic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SSS WLAN node per 2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co-located with each DSS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dBm BT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 dBm DSSS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90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91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7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5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4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3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2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0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9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682640" y="4976640"/>
              <a:ext cx="1016280" cy="244800"/>
              <a:chOff x="1682640" y="4976640"/>
              <a:chExt cx="1016280" cy="244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9648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50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3240" y="4470480"/>
          <a:ext cx="731520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470480"/>
                    <a:ext cx="73152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5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8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7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91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568840" y="3376440"/>
              <a:ext cx="1016280" cy="244800"/>
              <a:chOff x="5568840" y="3376440"/>
              <a:chExt cx="1016280" cy="244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8268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0968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5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1816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mes Zyren</dc:creator>
  <dc:description/>
  <dc:language>en-US</dc:language>
  <cp:lastModifiedBy>Ian C. Gifford</cp:lastModifiedBy>
  <cp:lastPrinted>1999-08-02T20:34:40Z</cp:lastPrinted>
  <dcterms:modified xsi:type="dcterms:W3CDTF">1999-09-13T05:16:38Z</dcterms:modified>
  <cp:revision>25</cp:revision>
  <dc:subject/>
  <dc:title>No Slide Title</dc:title>
</cp:coreProperties>
</file>