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7C63-22D0-4876-98B4-144F3466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F749-B6FA-469B-9C3A-3C28F638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DF2-D8E9-452F-ADFA-8413145F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F11-BE81-4E7A-A12C-5F4779DB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FE0-A42B-4215-BA75-42B6E13E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702E-1A06-4723-86E7-27F3B542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C5A0-903A-49B9-A0B2-F4164E3F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34EC-F948-4D57-BED0-73ED6E7D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5750-0871-426D-93C7-0ECC462E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D24-6746-43C2-A8B2-D5621115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AC83-2A03-4D32-AC69-DB77E62B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6B04-4649-4873-A075-1DCA862B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9FA0-415C-4573-AEC4-613589183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371520"/>
            <a:ext cx="7696080" cy="61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2948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585720"/>
            <a:ext cx="82296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617400"/>
            <a:ext cx="82296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512640"/>
            <a:ext cx="853416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9:14:15Z</dcterms:created>
  <dc:creator>Ivan Reede</dc:creator>
  <dc:description/>
  <dc:language>en-US</dc:language>
  <cp:lastModifiedBy>Ivan Reede</cp:lastModifiedBy>
  <dcterms:modified xsi:type="dcterms:W3CDTF">1999-07-07T19:47:33Z</dcterms:modified>
  <cp:revision>1</cp:revision>
  <dc:subject/>
  <dc:title>No Slide Title</dc:title>
</cp:coreProperties>
</file>