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D790765-9CB7-4717-B12C-F9815C0DF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9/7r1</a:t>
            </a:r>
            <a:endParaRPr b="0" lang="en-US" sz="1400" spc="-1" strike="noStrike">
              <a:solidFill>
                <a:srgbClr val="000000"/>
              </a:solidFill>
              <a:latin typeface="Arial"/>
            </a:endParaRPr>
          </a:p>
        </p:txBody>
      </p:sp>
      <p:sp>
        <p:nvSpPr>
          <p:cNvPr id="2" name=""/>
          <p:cNvSpPr/>
          <p:nvPr/>
        </p:nvSpPr>
        <p:spPr>
          <a:xfrm>
            <a:off x="693720" y="609480"/>
            <a:ext cx="776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3720" y="6477120"/>
            <a:ext cx="784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475640"/>
          </a:xfrm>
          <a:prstGeom prst="rect">
            <a:avLst/>
          </a:prstGeom>
          <a:noFill/>
          <a:ln w="0">
            <a:noFill/>
          </a:ln>
        </p:spPr>
        <p:txBody>
          <a:bodyPr lIns="0" rIns="0" tIns="0" bIns="0" anchor="t">
            <a:noAutofit/>
          </a:bodyPr>
          <a:p>
            <a:pPr algn="ctr">
              <a:lnSpc>
                <a:spcPct val="100000"/>
              </a:lnSpc>
            </a:pPr>
            <a:br>
              <a:rPr sz="2000"/>
            </a:br>
            <a:r>
              <a:rPr b="1" lang="en-US" sz="4000" spc="-1" strike="noStrike">
                <a:solidFill>
                  <a:srgbClr val="b2b2b2"/>
                </a:solidFill>
                <a:latin typeface="Arial"/>
                <a:ea typeface="Arial"/>
              </a:rPr>
              <a:t>54th</a:t>
            </a:r>
            <a:r>
              <a:rPr b="1" lang="en-US" sz="4000" spc="-1" strike="noStrike">
                <a:solidFill>
                  <a:srgbClr val="000000"/>
                </a:solidFill>
                <a:latin typeface="Arial"/>
                <a:ea typeface="Arial"/>
              </a:rPr>
              <a:t> 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2" name=""/>
          <p:cNvSpPr txBox="1"/>
          <p:nvPr/>
        </p:nvSpPr>
        <p:spPr>
          <a:xfrm>
            <a:off x="762120" y="1981080"/>
            <a:ext cx="7772400" cy="3505320"/>
          </a:xfrm>
          <a:prstGeom prst="rect">
            <a:avLst/>
          </a:prstGeom>
          <a:noFill/>
          <a:ln w="0">
            <a:noFill/>
          </a:ln>
        </p:spPr>
        <p:txBody>
          <a:bodyPr lIns="0" rIns="0" tIns="0" bIns="0" anchor="t">
            <a:noAutofit/>
          </a:bodyPr>
          <a:p>
            <a:pPr marL="343080" indent="-343080" algn="ctr">
              <a:lnSpc>
                <a:spcPct val="90000"/>
              </a:lnSpc>
              <a:spcBef>
                <a:spcPts val="720"/>
              </a:spcBef>
            </a:pPr>
            <a:r>
              <a:rPr b="1" lang="en-US" sz="3600" spc="-1" strike="noStrike">
                <a:solidFill>
                  <a:srgbClr val="000000"/>
                </a:solidFill>
                <a:latin typeface="Arial"/>
                <a:ea typeface="Arial"/>
              </a:rPr>
              <a:t>Wireless P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January 11-13, 1999</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Lake Buena Vista, Florida USA</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The session starts on Monday, Jan 11, 8:30</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WPAN SG Meets after WG Plenary or 10:45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1</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0 Continued: Liaison Update</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1 Kodak Presentation</a:t>
            </a:r>
            <a:endParaRPr b="0" lang="en-US" sz="2800" spc="-1" strike="noStrike">
              <a:solidFill>
                <a:srgbClr val="000000"/>
              </a:solidFill>
              <a:latin typeface="Arial"/>
            </a:endParaRPr>
          </a:p>
          <a:p>
            <a:pPr lvl="2" marL="1085760" indent="-22860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bmission, Call For Proposal (CFP) -99/6</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0 Prepare Working Group Report</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 Prepare for 802 Plenary, Austin, TX March 7-12, 1999</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Summarize WG Repor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2 PAR &amp; 5C Review/Approva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3 SG Disposition, Scenarios, and Roadmap</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4 SG Member Poll, attendance 1/13-15/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anuary TBD - Israel?, Interim (Breezec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March 6-10 - Hyatt Regency, Albuquerque, NM,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uly 10-14 - Hyatt Regency La Jolla, San Diego, C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November 6-10 - Hyatt Regency, Tampa, F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7"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8"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roduction &amp; Backgroun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98/162r7 &amp; Five Criteria -98/161r4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eadership Discu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aison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txBox="1"/>
          <p:nvPr/>
        </p:nvSpPr>
        <p:spPr>
          <a:xfrm>
            <a:off x="150840" y="159876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TGb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a/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BRAN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Text Outlin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n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uesday (4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dnes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5:45-17:3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1</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Introductions -98/365r1</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1 Approval of Agenda -99/7r1</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2 Approval of the minutes</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1Albuquerque, NM Minutes -98/356r3</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2 Matters arising from the minutes</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Letter Ballot 16 Motion 3</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 “To submit the contents of documents IEEE 802.11 -98/161-r4 [5C] and -98/162-r7 [PAR] to Executive Committe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 “Motion 3 passed with 60/14/4 or 81 %. WPAN's PAR and 5 Criteria” Vic Hayes 1/8/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2</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Clarification of WG Direction vis a vis the Motion/LB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ntinued: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2</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0 WPAN Leadership Discu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 Working Group Study Group (WGSG) is initiated by vote of the Working Group or TAG and approved by the Executive Committee. The WGSG Chair is appointed and approved by the Working Group or TA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4.1 Discussion of relationship of WPAN SG to Bluetooth &amp; Home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3</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Liaison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1</a:t>
            </a:r>
            <a:r>
              <a:rPr b="0" lang="en-US" sz="2800" spc="-1" strike="noStrike">
                <a:solidFill>
                  <a:srgbClr val="000000"/>
                </a:solidFill>
                <a:latin typeface="Times New Roman"/>
                <a:ea typeface="Times New Roman"/>
              </a:rPr>
              <a:t> WPAN Presentation</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lbuquerque doc.: IEEE 802.11-98/359r1, w/ 30 day revi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2</a:t>
            </a:r>
            <a:r>
              <a:rPr b="0" lang="en-US" sz="2800" spc="-1" strike="noStrike">
                <a:solidFill>
                  <a:srgbClr val="000000"/>
                </a:solidFill>
                <a:latin typeface="Times New Roman"/>
                <a:ea typeface="Times New Roman"/>
              </a:rPr>
              <a:t> HomeRF &amp; Bluetooth</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11/98 Jim Lansford Pitch -98/360; send thank you from Vic Hayes</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SIG</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2/14/98 Jim Carlo Meeting [BT-Final.DOC &amp; .PDF] on</a:t>
            </a:r>
            <a:r>
              <a:rPr b="0" lang="en-US" sz="2000" spc="-1" strike="noStrike">
                <a:solidFill>
                  <a:srgbClr val="000000"/>
                </a:solidFill>
                <a:latin typeface="Times New Roman"/>
                <a:ea typeface="Times New Roman"/>
              </a:rPr>
              <a:t> ftp</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8/99 Bluetooth Tu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C. Gifford</cp:lastModifiedBy>
  <cp:revision>0</cp:revision>
  <dc:subject>Tentative Agenda</dc:subject>
  <dc:title>doc.: IEEE 802.11-98/xxx</dc:title>
</cp:coreProperties>
</file>