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670F88-3BDB-446C-BC39-9414C1193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490DEE-7919-49F2-B975-36B59321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62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192-49DE-4F30-8C92-678FCE86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177-B27B-4DC9-8D0A-37FC4C90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4B4-17AE-4B84-9BA1-DA3C557E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459-607F-4005-9EF8-55D9550E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925-4924-4D6E-9CF7-1185B466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05F-32DC-48A4-A24F-E24C2A75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814-6707-46F4-A84C-D03FCFCD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207-6DAC-4715-B35C-9CB58168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DA9-40B4-4FCF-9550-E74E1C8C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AE13-959E-47DF-A660-C8472EE5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AAD-5817-4229-BBD8-1D7D62AF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B9B-99A9-4A1B-A02A-C0CCC71F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5EB718-5863-45D7-8EA6-08802621F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279-171D-4DD1-B29C-DD04062CF6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WG and the WPAN S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need for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that there is a strong market demand for a consumer-cost, low powe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a PAR to accomplish that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importance of Coexistence and the need for etiquette  in the use of a shared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g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venue to best create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16D-AF24-45E9-B60E-C08B438500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 Relat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4 Companies Participa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-Jun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RF/Firefly--  ~84 Compani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 Dec 98/Dec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SG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 Companies Particip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tandard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c, Motorola, Butterfly, Koda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2BA8-1F72-47EE-9652-01DFDC8EBA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PAN Standard that does not involve Bluetooth as a participant will have a tough time gaining market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dependent efforts will aggravate coexistence and interference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31D-2087-4752-8AA8-4BCF54E56C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atives for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that can attract members who feel they have equal 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get active participation from Members of Bluetooth, HomeRF/Firefly, 802.11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which can take a fresh look, evaluate different proposals and find compromise solutions that address broad market applicability as well as technical mer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is of the essence--1-2years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0FB-DD22-485D-A5BC-E0FAC8DDF3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 as a 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 of one MAC per WG eliminates a large class of potential solutions for developing a WPAN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perception that 802.11 has invested interests and will block non .11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G it is harder for non .11 participants to feel that they have equal standing, assuming they can be attract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bility to pursue direct liaison with important outside interests/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9DF9-0001-4428-A6F5-2EC7EE85E4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tages of a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stature required to work more effectively with significant extern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act as the agent of com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freedom of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purpose promotes speed and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342-9618-4ECB-B516-DCD4CA7817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ly urge the SEC to pass a motion to form a WPAN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effective compromise solutions is imperative to shared use, interoperability, success and accep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ception of balance needs to be as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ssue is not whether a lite version of .11 can do the job, more important is market acceptance of a standard that does the j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28F-AE3A-4A01-B963-87D7DB4ABB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cp:keywords>March 1999</cp:keywords>
  <dc:language>en-US</dc:language>
  <cp:lastModifiedBy>Ian C. Gifford</cp:lastModifiedBy>
  <cp:lastPrinted>1998-02-10T13:28:06Z</cp:lastPrinted>
  <dcterms:modified xsi:type="dcterms:W3CDTF">1999-03-11T23:01:47Z</dcterms:modified>
  <cp:revision>7</cp:revision>
  <dc:subject>WPAN SG ExCom Report</dc:subject>
  <dc:title>doc.: IEEE 802.11-98/58</dc:title>
</cp:coreProperties>
</file>