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7DC-6E07-4A6E-938C-FDEC98E5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93E5-1E53-4FEB-84C4-D5320039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736-2B6A-4F94-9925-9225950B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00B-30C1-45DE-A3B8-A935CC7F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08C-D0E7-4477-A5FB-723F171A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09F-4767-40B5-BCB3-A50E1ADB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448-99F2-4CAF-9936-05B2BDA7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99E-5A91-471E-AD56-C222E876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09E-62C9-4228-8CB8-0669BEFB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B65-554A-4149-9532-7C74A0A7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D49-8B3C-40C9-9FF2-B0420086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A9C-DC11-4EDB-ADA8-4188B59C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A1BC83-AF7D-460C-80DD-F78770FB5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and IEEE 8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905120"/>
          <a:ext cx="87249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7249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124080" y="4267080"/>
          <a:ext cx="25383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267080"/>
                    <a:ext cx="2538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743200" y="2895480"/>
          <a:ext cx="3224160" cy="15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322416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200400" y="1371600"/>
          <a:ext cx="4952880" cy="13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1371600"/>
                    <a:ext cx="49528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80880" y="685800"/>
          <a:ext cx="5513400" cy="289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685800"/>
                    <a:ext cx="5513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514600" y="1981080"/>
          <a:ext cx="5738760" cy="216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1981080"/>
                    <a:ext cx="5738760" cy="21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C9DC-3FDE-46FA-9C86-C3D23200CEC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unctional Organization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447920" y="1676520"/>
          <a:ext cx="58798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58798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D08-A1ED-4667-8A37-A0651006AA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279-92C3-4D30-A2DB-A6E221876E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42:20Z</dcterms:modified>
  <cp:revision>5</cp:revision>
  <dc:subject>IEEE 802.15 &lt;subject&gt;</dc:subject>
  <dc:title>IEEE P802.15 Operating Rules</dc:title>
</cp:coreProperties>
</file>