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360" y="4200840"/>
            <a:ext cx="89154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040" y="129528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360" y="420084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68040" y="420084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287064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14280" y="1295280"/>
            <a:ext cx="287064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8920" y="1295280"/>
            <a:ext cx="287064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360" y="4200840"/>
            <a:ext cx="287064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14280" y="4200840"/>
            <a:ext cx="287064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8920" y="4200840"/>
            <a:ext cx="287064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43506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68040" y="1295280"/>
            <a:ext cx="43506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22860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68040" y="1295280"/>
            <a:ext cx="43506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360" y="420084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43506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68040" y="129528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040" y="420084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8040" y="129528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360" y="4200840"/>
            <a:ext cx="89154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-195840" y="6524640"/>
            <a:ext cx="1452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ETF - </a:t>
            </a:r>
            <a:fld id="{5E91479D-E69D-4CFD-AE82-A4E1EDA411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320" y="1143000"/>
            <a:ext cx="89154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94040" y="6545160"/>
            <a:ext cx="175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1999 Scott Bradn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IETF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andards and non-Stand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ott Bradn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rvard Univer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b@harvard.ed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tocol Defini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infrastructure protocols since 198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P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SP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NM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 1.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frastructure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uting and addres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P6 addres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twork address trans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GP policy rou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PSEC authent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PSEC encry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AKMP key exch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frastructure Issues, contd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xt generation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P/AT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bel switc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ality of service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ser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SV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ser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9880" y="380520"/>
            <a:ext cx="91011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Relationship Between the IETF and Other Standards Bod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903132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U-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M for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E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3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V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of Stand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 jure stand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 facto stand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porate consort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vidual effor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 Jure Bod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U-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E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osed Industry Consort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3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V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M For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me Relay For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cLuhan’s global vill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marL="287280" indent="0">
              <a:spcBef>
                <a:spcPts val="1001"/>
              </a:spcBef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ETF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ETF “Standards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ndards only because people use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formal recogni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submitting to “traditional” bod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lationships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aisons / representativ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U-T, ISO study groups, ATM Forum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are people with other organiz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effective than formal liais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 confuse other standards organiz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wing area but culture cla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ETF is mostly bottoms u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-work mailing lis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pre announce new working groups and BOF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representatives of other standards gro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ETF over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ETF IP QoS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rt wi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IETF Standards Proc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op Level View of Organiz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81240" y="3586320"/>
            <a:ext cx="3209760" cy="473040"/>
          </a:xfrm>
          <a:custGeom>
            <a:avLst/>
            <a:gdLst/>
            <a:ahLst/>
            <a:rect l="l" t="t" r="r" b="b"/>
            <a:pathLst>
              <a:path w="2022" h="298">
                <a:moveTo>
                  <a:pt x="2022" y="0"/>
                </a:moveTo>
                <a:lnTo>
                  <a:pt x="2022" y="227"/>
                </a:lnTo>
                <a:lnTo>
                  <a:pt x="0" y="227"/>
                </a:lnTo>
                <a:lnTo>
                  <a:pt x="0" y="298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12840" y="4035600"/>
            <a:ext cx="136440" cy="315720"/>
          </a:xfrm>
          <a:custGeom>
            <a:avLst/>
            <a:gdLst/>
            <a:ahLst/>
            <a:rect l="l" t="t" r="r" b="b"/>
            <a:pathLst>
              <a:path w="86" h="199">
                <a:moveTo>
                  <a:pt x="43" y="199"/>
                </a:moveTo>
                <a:lnTo>
                  <a:pt x="0" y="0"/>
                </a:lnTo>
                <a:lnTo>
                  <a:pt x="43" y="0"/>
                </a:lnTo>
                <a:lnTo>
                  <a:pt x="86" y="0"/>
                </a:lnTo>
                <a:lnTo>
                  <a:pt x="43" y="199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51320" y="3586320"/>
            <a:ext cx="1039680" cy="473040"/>
          </a:xfrm>
          <a:custGeom>
            <a:avLst/>
            <a:gdLst/>
            <a:ahLst/>
            <a:rect l="l" t="t" r="r" b="b"/>
            <a:pathLst>
              <a:path w="655" h="298">
                <a:moveTo>
                  <a:pt x="655" y="0"/>
                </a:moveTo>
                <a:lnTo>
                  <a:pt x="655" y="227"/>
                </a:lnTo>
                <a:lnTo>
                  <a:pt x="0" y="227"/>
                </a:lnTo>
                <a:lnTo>
                  <a:pt x="0" y="298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82920" y="4035600"/>
            <a:ext cx="136440" cy="315720"/>
          </a:xfrm>
          <a:custGeom>
            <a:avLst/>
            <a:gdLst/>
            <a:ahLst/>
            <a:rect l="l" t="t" r="r" b="b"/>
            <a:pathLst>
              <a:path w="86" h="199">
                <a:moveTo>
                  <a:pt x="43" y="199"/>
                </a:moveTo>
                <a:lnTo>
                  <a:pt x="0" y="0"/>
                </a:lnTo>
                <a:lnTo>
                  <a:pt x="43" y="0"/>
                </a:lnTo>
                <a:lnTo>
                  <a:pt x="86" y="0"/>
                </a:lnTo>
                <a:lnTo>
                  <a:pt x="43" y="199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91000" y="3586320"/>
            <a:ext cx="1106640" cy="473040"/>
          </a:xfrm>
          <a:custGeom>
            <a:avLst/>
            <a:gdLst/>
            <a:ahLst/>
            <a:rect l="l" t="t" r="r" b="b"/>
            <a:pathLst>
              <a:path w="697" h="298">
                <a:moveTo>
                  <a:pt x="0" y="0"/>
                </a:moveTo>
                <a:lnTo>
                  <a:pt x="0" y="227"/>
                </a:lnTo>
                <a:lnTo>
                  <a:pt x="697" y="227"/>
                </a:lnTo>
                <a:lnTo>
                  <a:pt x="697" y="298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30680" y="4035600"/>
            <a:ext cx="135000" cy="315720"/>
          </a:xfrm>
          <a:custGeom>
            <a:avLst/>
            <a:gdLst/>
            <a:ahLst/>
            <a:rect l="l" t="t" r="r" b="b"/>
            <a:pathLst>
              <a:path w="85" h="199">
                <a:moveTo>
                  <a:pt x="42" y="199"/>
                </a:moveTo>
                <a:lnTo>
                  <a:pt x="0" y="0"/>
                </a:lnTo>
                <a:lnTo>
                  <a:pt x="42" y="0"/>
                </a:lnTo>
                <a:lnTo>
                  <a:pt x="85" y="0"/>
                </a:lnTo>
                <a:lnTo>
                  <a:pt x="42" y="199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95680" y="3581280"/>
            <a:ext cx="3300480" cy="473040"/>
          </a:xfrm>
          <a:custGeom>
            <a:avLst/>
            <a:gdLst/>
            <a:ahLst/>
            <a:rect l="l" t="t" r="r" b="b"/>
            <a:pathLst>
              <a:path w="2079" h="298">
                <a:moveTo>
                  <a:pt x="0" y="0"/>
                </a:moveTo>
                <a:lnTo>
                  <a:pt x="0" y="227"/>
                </a:lnTo>
                <a:lnTo>
                  <a:pt x="2079" y="227"/>
                </a:lnTo>
                <a:lnTo>
                  <a:pt x="2079" y="298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23080" y="4035600"/>
            <a:ext cx="135000" cy="315720"/>
          </a:xfrm>
          <a:custGeom>
            <a:avLst/>
            <a:gdLst/>
            <a:ahLst/>
            <a:rect l="l" t="t" r="r" b="b"/>
            <a:pathLst>
              <a:path w="85" h="199">
                <a:moveTo>
                  <a:pt x="43" y="199"/>
                </a:moveTo>
                <a:lnTo>
                  <a:pt x="0" y="0"/>
                </a:lnTo>
                <a:lnTo>
                  <a:pt x="43" y="0"/>
                </a:lnTo>
                <a:lnTo>
                  <a:pt x="85" y="0"/>
                </a:lnTo>
                <a:lnTo>
                  <a:pt x="43" y="199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33800" y="1919160"/>
            <a:ext cx="2894040" cy="1689120"/>
          </a:xfrm>
          <a:prstGeom prst="ellipse">
            <a:avLst/>
          </a:prstGeom>
          <a:solidFill>
            <a:srgbClr val="f57b49"/>
          </a:solidFill>
          <a:ln w="22320">
            <a:solidFill>
              <a:srgbClr val="0000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67200" y="1851120"/>
            <a:ext cx="2892240" cy="1689120"/>
          </a:xfrm>
          <a:prstGeom prst="ellipse">
            <a:avLst/>
          </a:prstGeom>
          <a:solidFill>
            <a:srgbClr val="ffff00"/>
          </a:solidFill>
          <a:ln w="22320">
            <a:solidFill>
              <a:srgbClr val="0000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28160" y="2178000"/>
            <a:ext cx="19987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Internet </a:t>
            </a:r>
            <a:endParaRPr b="0" lang="en-US" sz="4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0" y="2741760"/>
            <a:ext cx="17899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ociety</a:t>
            </a:r>
            <a:endParaRPr b="0" lang="en-US" sz="4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1920" y="4419720"/>
            <a:ext cx="2057400" cy="968400"/>
          </a:xfrm>
          <a:prstGeom prst="ellipse">
            <a:avLst/>
          </a:prstGeom>
          <a:solidFill>
            <a:srgbClr val="f57b49"/>
          </a:solidFill>
          <a:ln w="22320">
            <a:solidFill>
              <a:srgbClr val="0000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3520" y="4351320"/>
            <a:ext cx="2057400" cy="968400"/>
          </a:xfrm>
          <a:prstGeom prst="ellipse">
            <a:avLst/>
          </a:prstGeom>
          <a:solidFill>
            <a:srgbClr val="ffff00"/>
          </a:solidFill>
          <a:ln w="22320">
            <a:solidFill>
              <a:srgbClr val="0000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46000" y="4610160"/>
            <a:ext cx="12747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IANA</a:t>
            </a:r>
            <a:endParaRPr b="0" lang="en-US" sz="4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92360" y="4419720"/>
            <a:ext cx="1876320" cy="968400"/>
          </a:xfrm>
          <a:prstGeom prst="ellipse">
            <a:avLst/>
          </a:prstGeom>
          <a:solidFill>
            <a:srgbClr val="f57b49"/>
          </a:solidFill>
          <a:ln w="22320">
            <a:solidFill>
              <a:srgbClr val="0000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23960" y="4351320"/>
            <a:ext cx="1876680" cy="968400"/>
          </a:xfrm>
          <a:prstGeom prst="ellipse">
            <a:avLst/>
          </a:prstGeom>
          <a:solidFill>
            <a:srgbClr val="ffff00"/>
          </a:solidFill>
          <a:ln w="22320">
            <a:solidFill>
              <a:srgbClr val="0000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91400" y="4610160"/>
            <a:ext cx="8802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IAB</a:t>
            </a:r>
            <a:endParaRPr b="0" lang="en-US" sz="4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72080" y="4419720"/>
            <a:ext cx="1989000" cy="968400"/>
          </a:xfrm>
          <a:prstGeom prst="ellipse">
            <a:avLst/>
          </a:prstGeom>
          <a:solidFill>
            <a:srgbClr val="f57b49"/>
          </a:solidFill>
          <a:ln w="22320">
            <a:solidFill>
              <a:srgbClr val="0000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03680" y="4351320"/>
            <a:ext cx="1989360" cy="968400"/>
          </a:xfrm>
          <a:prstGeom prst="ellipse">
            <a:avLst/>
          </a:prstGeom>
          <a:solidFill>
            <a:srgbClr val="ffff00"/>
          </a:solidFill>
          <a:ln w="22320">
            <a:solidFill>
              <a:srgbClr val="0000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37920" y="4610160"/>
            <a:ext cx="12139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IRTF</a:t>
            </a:r>
            <a:endParaRPr b="0" lang="en-US" sz="4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86440" y="4419720"/>
            <a:ext cx="1967040" cy="968400"/>
          </a:xfrm>
          <a:prstGeom prst="ellipse">
            <a:avLst/>
          </a:prstGeom>
          <a:solidFill>
            <a:srgbClr val="f57b49"/>
          </a:solidFill>
          <a:ln w="22320">
            <a:solidFill>
              <a:srgbClr val="0000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18400" y="4351320"/>
            <a:ext cx="1966680" cy="968400"/>
          </a:xfrm>
          <a:prstGeom prst="ellipse">
            <a:avLst/>
          </a:prstGeom>
          <a:solidFill>
            <a:srgbClr val="ffff00"/>
          </a:solidFill>
          <a:ln w="22320">
            <a:solidFill>
              <a:srgbClr val="0000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356240" y="4610160"/>
            <a:ext cx="11833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IETF</a:t>
            </a:r>
            <a:endParaRPr b="0" lang="en-US" sz="4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9880" y="228240"/>
            <a:ext cx="91011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rnet Research Task Force (IRTF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903132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used on long term problems in Int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iable multica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lticast rou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gestion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d to end protoc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880" y="380520"/>
            <a:ext cx="91011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rnet Assigned Number Authority (IANA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960" y="1218960"/>
            <a:ext cx="903132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igns numbers and keeps them from colli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ocol numb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P addre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ly delegated to IP Address registri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m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ly delegated to DNS name regist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king out relationship between ICANN &amp; IETF over IANA protocol related fun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tocol numb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P protocol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ll known TCP/UDP po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P protocol 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ME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FC Edito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s Jon Postel et 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w et 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fc-ed@isi.ed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ed by the Internet Soci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ETF Chai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ir of IES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ed by nom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rector of General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 officio member of IA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ef Talking (and traveling) Offic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90720" y="1371600"/>
            <a:ext cx="6629400" cy="533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ETF Are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12760" y="1460520"/>
            <a:ext cx="6386760" cy="51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rea Directo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ed by nom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year te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Areas have 2 A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ponsible for setting direction in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ponsible for managing process in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rove BOFs &amp; working gro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OF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ually precede formation of a Working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up of people interested in a top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ince an AD that they have a good idea - one worth explo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 description and agenda before a BOF can be schedu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Fs generally only meet o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lead to a W_x0008_G or can be a one time t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the IETF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engineering organ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group of people who solve Internet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rking Group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where the IETF primarily get its work d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used by charter agreed between chair and area dire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fic delivera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cuments and time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roved by IESG with IAB guid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 with IESG has final say on char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ETF Are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lications Are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 Are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net Are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rations and Management Are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uting Are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urity Are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port Are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r Services Are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Are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a director(s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ed Baker &lt;fred@cisco.com&gt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ing group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thentication, Authorization and Accounting (aaa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licy Framework (policy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s for Organization of Internet Standards ONgoing (poisson)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pplications Are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510552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a director(s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eith Moore &lt;moore@cs.utk.edu&g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trik Faltstrom &lt;paf@swip.net&gt;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ing group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plication Configuration Access Protocol (acap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pplication MIB (applmib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lendaring and Scheduling (calsch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mmon Indexing Protocol (find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ntent Negotiation (conneg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AV Searching and Locating (dasl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etailed Revision/Update of Message Standards (drums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lectronic Data Interchange-Internet Integration (ediint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xtensions to FTP (ftpext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yperText Transfer Protocol (http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stant Messaging and Presence Protocol (impp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ternet Fax (fax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43400" y="1294920"/>
            <a:ext cx="464832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4572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ternet Open Trading Protocol (trade)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ternet Printing Protocol (ipp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DAP Duplication/Replication/Update Protocols (ldup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DAP Extension (ldapext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arge Scale Multicast Applications (lsma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IME Encapsulation of Aggregate HTML Documents (mhtml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ail and Directory Management (madman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essage Tracking Protocol (msgtrk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NTP Extensions (nntpext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inter MIB (printmib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chema Registration (schema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elnet TN3270 Enhancements (tn3270e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iform Resource Locator Registration Procedures (urlreg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iform Resource Names (urn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net Article Standard Update (usefor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WW Distributed Authoring and Versioning (webdav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Replication and Caching (wrec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rnet Are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51055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a director(s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Jeffrey Burgan &lt;burgan@corp.home.net&g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omas Narten &lt;narten@raleigh.ibm.com&gt;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ing group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ToM MIB (atommib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NS IXFR, Notification, and Dynamic Update (dnsind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ynamic Host Configuration (dhc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rame Relay Service MIB (frnetmib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P Over Fibre Channel (ipfc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P Over IEEE 1394 (ip1394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P over Cable Data Network (ipcdn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P over VBI (ipvbi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03760" y="2895480"/>
            <a:ext cx="4440240" cy="334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PNG (ipngwg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terfaces MIB (ifmib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ternetworking Over NBMA (ion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cketWay (pktway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oint-to-Point Protocol Extensions (pppext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rvice Location Protocol (svrloc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perations and Management Are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438156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a director(s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andy Bush &lt; randy@psg.com&g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ert Wijnen &lt;wijnen@vnet.ibm.com&gt;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ing group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DSL MIB (adslmib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enchmarking Methodology (bmwg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ridge MIB (bridge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stributed Management (disman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tity MIB (entmib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thernet Interfaces and Hub MIB (hubmib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 and R for Security Incident Processing (grip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BONE Deployment (mboned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etwork Access Server Requirements (nasreq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ext Generation Transition (ngtrans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13080" y="2719080"/>
            <a:ext cx="4662720" cy="383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hysical Topology MIB (ptopomib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mote Authentication Dial-In User Service (radius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mote Network Monitoring (rmonmib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oaming Operations (roamops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outing Policy System (rps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NMP Agent Extensibility (agentx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NMP Version 3 (snmpv3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Internet and the Millennium Problem (2000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interruptible Power Supply (upsmib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uting Are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466416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a director(s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ob Coltun &lt;rcoltun@lightera.com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B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ing group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ata Link Switching MIB (dlswmib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eneral Switch Management Protocol (gsmp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P Routing for Wireless/Mobile Hosts (mobileip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S-IS for IP Internets (isis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ter-Domain Multicast Routing (idmr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ter-Domain Routing (idr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obile Ad-hoc Networks (manet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ulticast Extensions to OSPF (mospf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362120" y="2800080"/>
            <a:ext cx="4383000" cy="360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ulticast Source Discovery Protocol (msdp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ultiprotocol Label Switching (mpl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pen Shortest Path First IGP (ospf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tocol Independent Multicast (pim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oS Routing (qosr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outing Information Protocol (rip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NA DLC Services MIB (snadlc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NA NAU Services MIB (snanau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iDirectional Link Routing (udlr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curity Are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0" y="1226880"/>
            <a:ext cx="4800600" cy="471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a director(s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Jeffrey Schiller &lt;jis@mit.edu&g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rcus Leech &lt;mleech@nortel.ca&gt;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ing group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n Open Specification for Pretty Good Privacy (openpgp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uthenticated Firewall Traversal (aft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mmon Authentication Technology (cat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omain Name System Security (dnssec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P Security Protocol (ipsec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trusion Detection Exchange Format (idwg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ne Time Password Authentication (otp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19360" y="2895480"/>
            <a:ext cx="48006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ublic-Key Infrastructure (X.509) (pkix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ne Time Password Authentication (otp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ublic-Key Infrastructure (X.509) (pkix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/MIME Mail Security (smime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cure Shell (secsh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mple Public Key Infrastructure (spki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ransport Layer Security (tls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eb Transaction Security (wts)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ansport Are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43815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a director(s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2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cott Bradner &lt;sob@harvard.edu&g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ern Paxson &lt;vern@ee.lbl.gov&gt;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ing group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2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udio/Video Transport (avt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2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fferentiated Services (diffserv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2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P Performance Metrics (ippm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2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P Telephony (iptel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2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tegrated Services (intserv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2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tegrated Services over Specific Link Layers (issll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2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dia Gateway Control (megaco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2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ulticast-Address Allocation (malloc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ultiparty Multimedia Session Control (mmusic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962160" y="2819520"/>
            <a:ext cx="518148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etwork Address Translators (nat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etwork File System Version 4 (nfsv4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NC Remote Procedure Call (oncrpc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STN and Internet Internetworking (pint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SVP Admission Policy (rap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altime Traffic Flow Measurement (rtfm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source Reservation Setup Protocol (rsvp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gnaling Transport (sigtran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CP Implementation (tcpimpl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CP Over Satellite (tcpsat)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ser Services Are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a director(s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ril Marine &lt;amarine@globe.arc.nasa.gov&gt;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king group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ponsible Use of the Network (run)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Services (usw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 Engineering Organiz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nd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twork oper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adem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earch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as individu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memb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ETF Secretari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ated physicall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poration for National Research Initiatives (CNR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ton Virginia (Washington D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enary meet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net draft direct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ordin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y to day work of IESG and working gro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880" y="380520"/>
            <a:ext cx="91011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a “Request For Comments” (RFC)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5960" y="1142640"/>
            <a:ext cx="903132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all RFCs are standard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ough some vendors imply otherw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types of RF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FC Repository Contains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473868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SP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solete 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Pv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st Requir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li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less InterDomain Rou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ril fool’s day jok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P on Avian Carri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419360" y="1379160"/>
            <a:ext cx="4800600" cy="479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e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as the night before start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te pap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 packet switches with infinite stor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porat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cend multilink protocol (mp+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erimental hist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b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rking Pap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net-Dra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ndom or non-random though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put to the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apped after 6 mon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RFCs must pre-exist as 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ETF Approval Proc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ugh consens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animous agreement not requi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king Group “last-call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week comment period in working gro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ETF “last-call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week IETF-wide comment peri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ESG re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andards Track Levels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st Current Practices (BC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lly policies or proced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posed Standard (P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idea, no known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ft Standard (D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ltiple interoperable implemen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ndard (ST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de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y before bu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rchiv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ormational (FY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riment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tor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880" y="304920"/>
            <a:ext cx="910116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ansport Area QoS Working Group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ated Services (intserv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anteed and controlled load servic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ated Services over Specific Link Layers (issl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serv for various link types, including AT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ource Reservation Setup Protocol (rsv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gnaling protocol for Integrated Services networ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become general IETF signaling protoc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9880" y="228240"/>
            <a:ext cx="92660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SV Area QoS Working Groups, contd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5960" y="1218960"/>
            <a:ext cx="903132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SVP Admission Policy (ra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uter &lt;-&gt; policy server protocol for RSV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erentiated Services (diffserv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-flow based QoS protoc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P Performance Metrics (ipp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sure performance of networks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EEE Related IETF Wor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P over foo” - started in 198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FC 948 - Two methods for the transmission of IP datagrams over IEEE 802.3 networks (OB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FC 1042 - Standard for the transmission of IP datagrams over IEEE 802 networks (ST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FC 1390 - Transmission of IP and ARP over FDDI Networ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FC 2464 - Transmission of IPv6 Packets over Ethernet Networ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FC 2470 - Transmission of IPv6 Packets over Token Ring Networ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FC 2467 - Transmission of IPv6 Packets over FDDI Networks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Short History of the IET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 DARPA research in 1970's using NC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l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le transf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onic m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tion net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tion of Internet Activities Board (IAB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P4 and TCP deployed 1981-198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LNET/ARPANET division 198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EEE Related IETF Work, contd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B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FC 1230 - IEEE 802.4 Token Bus MI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FC 1231 - IEEE 802.5 Token Ring MI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FC 1368 - Definition of Managed Objects for IEEE 802.3 Repeater De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FC 1512 - FDDI Management Information B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FC 1515 - Definitions of Managed Objects for IEEE 802.3 Medium Attachment Units (MAU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FC 1516 - Definitions of Managed Objects for IEEE 802.3 Repeater De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FC 1743 - IEEE 802.5 MIB using SMIv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EEE Related IETF Work, contd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MIB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FC 1749 - IEEE 802.5 Station Source Routing MIB using SMIv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FC 2108 - Definitions of Managed Objects for IEEE 802.3 Repeater Devices using SMIv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FC 2239 - Definitions of Managed Objects for IEEE 802.3 Medium Attachment Units (MAUs) using SMIv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FC 2266 - Definitions of Managed Objects for IEEE 802.12 Repeater De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ETF QoS IEEE-Related Wor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sll working group is prime focus of QoS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e Internet-Draf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Framework for Providing Integrated Services Over Shared and Switched IEEE 802 LAN Technolog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BM (Subnet Bandwidth Manager): A Protocol for RSVP-based Admission Control over IEEE 802-style networ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d Service Mappings on IEEE 802 Networ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se of IEEE MAC Addresses in IPv6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FC 2374 - An IPv6 Aggregatable Global Unicast Address Forma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P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mat pref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L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p-level aggregation identifi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erved for future 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L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xt-level aggregation identifi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L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te-level aggregation identifi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erface 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erface identifi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2971800"/>
            <a:ext cx="8381880" cy="533520"/>
          </a:xfrm>
          <a:prstGeom prst="rect">
            <a:avLst/>
          </a:prstGeom>
          <a:solidFill>
            <a:srgbClr val="ff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971800"/>
            <a:ext cx="0" cy="5335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95680" y="2971800"/>
            <a:ext cx="0" cy="5335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76720" y="2971800"/>
            <a:ext cx="0" cy="5335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2971800"/>
            <a:ext cx="0" cy="5335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3880" y="2971800"/>
            <a:ext cx="0" cy="5335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9160" y="258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6560" y="2585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40440" y="2585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2000" y="258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659760" y="2585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50680" y="2585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64120" y="3043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59400" y="30430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6400" y="304308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3560" y="3043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8200" y="30430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82400" y="304308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 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Pv6 Interface I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4 b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-byte (or expanded 6-byte) MAC address  of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also use DHCPv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st 3 bytes of interface 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50840" y="4267080"/>
            <a:ext cx="1096920" cy="533520"/>
          </a:xfrm>
          <a:prstGeom prst="rect">
            <a:avLst/>
          </a:prstGeom>
          <a:solidFill>
            <a:srgbClr val="ff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c c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47760" y="4267080"/>
            <a:ext cx="1096920" cy="533520"/>
          </a:xfrm>
          <a:prstGeom prst="rect">
            <a:avLst/>
          </a:prstGeom>
          <a:solidFill>
            <a:srgbClr val="ff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c u 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44680" y="4267080"/>
            <a:ext cx="1098720" cy="533520"/>
          </a:xfrm>
          <a:prstGeom prst="rect">
            <a:avLst/>
          </a:prstGeom>
          <a:solidFill>
            <a:srgbClr val="ff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c c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4267080"/>
            <a:ext cx="1096920" cy="533520"/>
          </a:xfrm>
          <a:prstGeom prst="rect">
            <a:avLst/>
          </a:prstGeom>
          <a:solidFill>
            <a:srgbClr val="ff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c c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40320" y="4267080"/>
            <a:ext cx="1096920" cy="533520"/>
          </a:xfrm>
          <a:prstGeom prst="rect">
            <a:avLst/>
          </a:prstGeom>
          <a:solidFill>
            <a:srgbClr val="ff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c c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37240" y="4267080"/>
            <a:ext cx="1096920" cy="533520"/>
          </a:xfrm>
          <a:prstGeom prst="rect">
            <a:avLst/>
          </a:prstGeom>
          <a:solidFill>
            <a:srgbClr val="ff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c c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47120" y="5013360"/>
            <a:ext cx="508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= bit of company 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 = universal / local bit (complement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 = individual / group b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9880" y="380520"/>
            <a:ext cx="91011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operation with Other Standards Group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903132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al - multiple groups work on one protoc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shed by one group to prevent out of sync ver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.g. Internet FAX, RT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l - does not always happ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o many groups working in telephony ar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 groups finding IETF’s area import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ces in architectural vi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ETF has a “stupid network” bi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mart Wi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an end to end world, smart link-layers are a conce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os” has different meanings in link-lay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oritization - e.g. 802.1Q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ow control - e.g. ATM AB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oritization can be very helpful if packet mapping can cooperate with end-to-end signa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.g. RSVP &amp; intser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sll is802 work an ex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mart Wires Which Know Bet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k-level flow control can be an iss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s layered control systems with different characteristics at the different lay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effect on end-to-end flow management of random (to the  ends) changes in apparent link latenc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answer offered is 1 RTT worth of buffering per session at entry p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deal with loss but far from clear effect on flow 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nd-to-End is TC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ch of current data traffic is TCP/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owing, but still small, amount of UDP (e.g. RT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other protocols being worked 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CP flow control developed over many y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ple phas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 sta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gestion avoid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ss respo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ect of a link-layer flow-control has to be understood for each ph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di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cal control system theory recommends against layered control sys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ect on TCP not well kn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for other end-to-end rate control protoc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ems to be more of a research rather than  a standards item to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diction - data systems will make little use of link-level flow control systems when end-to-end is longer than a lin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less interconnection devices are part of end to end signaling mechanis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AB Oversight Peri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8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net Assigned Number Authority (IAN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net Research Task Force (IRT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net Engineering Task Force (IET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other task fo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8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ing gro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8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net Engineering Steering Group (IES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stio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AB Oversight Period, contd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8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solution of other task fo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9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dership redef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AB =&gt; "Internet Architecture Board"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ESG: manages the IETF &amp; approve 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992: Internet Society Oversigh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cess evolution (poised/poiss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ndards track detailed - RFC 20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llectual property rights (IP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ndling of appe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net Society: interface to outside 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porate / legal umbrel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ngelism - INET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licy are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91011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Role of IETF in the Development of the Interne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2320" y="1218960"/>
            <a:ext cx="9031320" cy="556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ocol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Zapf Dingba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rastructure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1T19:16:05Z</dcterms:created>
  <dc:creator>Scott Bradner</dc:creator>
  <dc:description/>
  <dc:language>en-US</dc:language>
  <cp:lastModifiedBy>Scott Bradner</cp:lastModifiedBy>
  <dcterms:modified xsi:type="dcterms:W3CDTF">1999-03-08T20:10:02Z</dcterms:modified>
  <cp:revision>32</cp:revision>
  <dc:subject/>
  <dc:title>Outline</dc:title>
</cp:coreProperties>
</file>