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115-3FC2-4039-9693-0467AD8C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2C2-9D46-4BCE-B35A-B167DA3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FCD-3DD0-44FB-9DA0-75C0BE4D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992-9E43-4E65-BD8D-0F0D798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BE2-959B-4281-A548-114E58E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D7B-0310-4D2E-8DB0-3CD2EB09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ECC-DB65-49D7-99AE-84EC1E19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6D4-9A04-4FC5-814E-64ED1F69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8E0-CAF9-446E-9C10-B382694C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896-CC42-47A1-A9DD-2BF7CA6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BDD-7D7C-491E-9AA2-A409DBA6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2A7-B203-4A06-BD21-384F2059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5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E0D8DB-EE77-40D1-B23A-3FD9050B5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00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 Study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691-6575-4253-94A9-13575DF835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Char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Authorization Requ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Cri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eing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OM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i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9/0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36A-2F19-4FC9-96B8-B2DA237625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 to the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Group has voted to submit the PAR to the Working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ove that the Working Group vote to submit  the Coexistence Study Group PAR and Five Criteria to the Executive Committ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5-99/08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2DB-CD7F-4238-B0F7-BDE920053E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100r1</dc:description>
  <dc:language>en-US</dc:language>
  <cp:lastModifiedBy>Bridget Labrode</cp:lastModifiedBy>
  <cp:lastPrinted>1998-02-10T13:28:06Z</cp:lastPrinted>
  <dcterms:modified xsi:type="dcterms:W3CDTF">1999-09-16T17:54:55Z</dcterms:modified>
  <cp:revision>12</cp:revision>
  <dc:subject>IEEE 802.15 &lt;subject&gt;</dc:subject>
  <dc:title>IEEE P802.15 Working Group for Wireless Personal Area Networks</dc:title>
</cp:coreProperties>
</file>