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6F5C79F-692E-49C3-B37D-B895E6E2F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80DB-E65F-41BC-9DA2-5CA5DEDB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B7A-67B7-46F7-A5C2-89AF0F1B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2E6-2555-41CA-83CE-93D35CBD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AF6-01E0-4C02-BFDC-958DD6C6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C96-82F5-4A55-8C1E-EC27A423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AB8-A137-45D2-B730-6AA7490D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3CA-9F59-4727-A62E-7F39C25D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10A-F82B-44C4-978B-5CFE4B1A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9FC-92CA-437D-991D-A7234825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72A4-4B58-47F0-8753-8E0CA74F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73A-971F-443D-BB52-8977C62B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F51-FFEF-4F48-85CE-E29D9EB7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8B63EC1-77D9-4A34-99F4-FCC7BC903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2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att Regency Kaua'i, 1571 Poipu Road Koloa, HI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1BAA-3473-4828-A8DE-F258581DFAE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11Nov99 - 10Dec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11Nov99 - 10Dec99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, Consolidate, and Distribute Draft Comments 13-16Dec99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Electronic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57200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1FEE-B1D6-4F35-AA9B-2F1E210A99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35800" y="504360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plan is to have TG1 make a motion to the P802.15 Full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e November Plenary on Wednesday, 10Nov99 to authorize the LB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tart on Thursday, 11Nov99 with the Bluetooth Draft 0.6 Stand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8Nov99" descr=""/>
          <p:cNvPicPr/>
          <p:nvPr/>
        </p:nvPicPr>
        <p:blipFill>
          <a:blip r:embed="rId1"/>
          <a:stretch/>
        </p:blipFill>
        <p:spPr>
          <a:xfrm>
            <a:off x="282600" y="1528920"/>
            <a:ext cx="8556480" cy="3232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781680" y="32004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4852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1440" y="620856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Project6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4FE-C859-4B00-B431-17A52B903BA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’i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VIDE A MOTION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ROVIDE A MOTION TO REVIEW THE COMMENTS FROM WG LB #1 ON OR BEFORE 10-14JAN00 INTE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OVIDE AN OVERVIEW OF THE IEEE DRAFT DERIVED FROM THE BLUETOOTH SPECIFICATION(S) &lt;TUTORIAL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VIDE A MOTION TO WG TO INVOKE "OR" STATUS FOR BSIG, IF APPROVED FWD TO SEC AS A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DRAFT TG1 OPERATING RULES AND PROVIDE A MOTION RESULT TO WG, WG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PROVIDE A MOTION TO REPLACE PARVIZ KERMANI WITH CHATSCHIK BISDIK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83F-A1C5-4EB6-B95A-DA82C21C8E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Draft Submission v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802-15/D0.6 [...P802-15-1_D0-6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“how to” review the P802.15.1 Draft v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ing Plenary Conference Tutorial #3 on Tuesday 9Nov99 from 6:30 to 8:00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THE P802.15 v0.6 DRAFT STANDARD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ARCHITECTURE OVERVIEW -99/069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THE BLUETOOTH SPEC. TO IEEE 802.15.1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802.15.1 V0.6 DRAFT STANDARD OVERVIEW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5133-F64E-4CE6-97DF-6957B97B32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740560" y="3200400"/>
            <a:ext cx="149832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1040" y="3962520"/>
            <a:ext cx="17017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40160" y="2514600"/>
            <a:ext cx="1498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WG vs.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20" y="129528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ExCom    |    HR     |     MC      |    MC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             |...........|.............|............|    802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            |            |  Clos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802     |    TG1    |     SG      |    SG      |  Plenar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SG   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           |.............|. . . . . .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      | Full 802.15 |Full 802.15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 BT-IEEE  |   Social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   ExCom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F10-4489-48D5-A93D-2DAEA9E7433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Motion Schedu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G1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1 - 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G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2 - LB #1 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3 - Electronic or empower Tel-Aviv for Comment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4 - OR Status for 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537-9E5A-48C0-A12B-996B929001F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: Posted P802.15.1 Draft 4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743200" y="27432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her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d to the P802.15 Private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1FE-FB27-40C5-B25A-70366EAA5DA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Our plan is to start the Letter Ballot #1 Process on 11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29718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make a motion 10Nov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ing to  release LB#1 on 11Nov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48C3-8EAE-4746-9B62-15BF3F6CE03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: Our plan is to stop the Letter Ballot #1 Process on 10Dec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78468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10Dec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LB Comments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024-AC8E-4D1C-9FB6-C77762868F4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Nov99 the P802.15 Working Group will be comprised of 42 voting memb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ouman Alborz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imitri Alexandr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imon Baatz (Simo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dul Batliwala (Edu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an Bien (Al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Chatschik Bisdiki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ve Carlson (Da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shal Chhaya (Harsha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m. Caldwell Crossw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illiam Cruz (Bil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Ditch (Rich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Eckard (D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urt Fischer (Ku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atthias Frank (Matthi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an Gifford (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. Nada Golmie (Nad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len Heberling (Alle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obert Heile (Bob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John Paul Jones (Joh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rinivas Kanda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Parviz Kermani (Parviz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uart Kerry (Stua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atrick Kinney (Pa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uce P. Kraemer (Bruc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Yunxin Li (Yunx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niel R. McGly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chael D. McInnis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kira Miura (Akir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Thomas Müller (Thom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eter Murray (Pete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rwin R. Noble (Erw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ke Paczonay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rto Palin (Art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Davis Pan (Davi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van Reede (Iv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Carlos A. Rios (Carlo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ian E. Roan (Br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arlheinz Schwar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tephen J. Shellhamm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Thomas Siep (Tom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Nick Stapleton (N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eve Torp (Ste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Fujio Watanabe (Fuji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3784680"/>
            <a:ext cx="4038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228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9080" y="11268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Resignation prior to the LB #1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CF9-A557-4259-A472-2F6DE889217C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Santa 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Kaua’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#1 Motion Detail &amp; WG Ballot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-IEEE Editorial Working Group Drafting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9B9-2861-4019-9369-D1483EC6CA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T-IEEE Editorial Working Group Drafting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0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1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2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3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3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4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5 - BT-IEEE Editorial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1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hief Editor/6 Technical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Bluetooth Promoter Company Reviewers w/ internal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0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6 - BT-IEEE Editorial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8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6D7-29C0-430B-BF23-462B2EDA87B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AN OVERVIEW OF THE BLUETOOTH SPECIFICATION(S), VIA TUTO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A PLAN FOR AN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OTE TO EMPOWER THE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777-1EAD-459E-961A-E38F0D24F8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4880" y="1619280"/>
            <a:ext cx="79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To empower the TG1 Chair and Vice Chair to release the Bluetooth submission on behalf of TG1 to the 802.15 WG and to make a motion to the 802.15 WG to submit the Draft to Lette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30040" y="3643200"/>
            <a:ext cx="2480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Chatschik Bisdik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 - Vote on TG1 Draft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3E9-A396-452A-B884-9C5726C39C1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 - Mapping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2057400"/>
            <a:ext cx="6426360" cy="3809880"/>
            <a:chOff x="1371600" y="2057400"/>
            <a:chExt cx="6426360" cy="3809880"/>
          </a:xfrm>
        </p:grpSpPr>
        <p:graphicFrame>
          <p:nvGraphicFramePr>
            <p:cNvPr id="68" name=""/>
            <p:cNvGraphicFramePr/>
            <p:nvPr/>
          </p:nvGraphicFramePr>
          <p:xfrm>
            <a:off x="1371600" y="2057400"/>
            <a:ext cx="6426360" cy="380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1600" y="2057400"/>
                      <a:ext cx="6426360" cy="380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3733920" y="5029200"/>
            <a:ext cx="2197080" cy="54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5029200"/>
                      <a:ext cx="219708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809880" y="3505320"/>
            <a:ext cx="2370240" cy="1469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9880" y="3505320"/>
                      <a:ext cx="237024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809880" y="3048120"/>
            <a:ext cx="3054600" cy="1481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9880" y="3048120"/>
                      <a:ext cx="3054600" cy="14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3048120" y="2743200"/>
            <a:ext cx="4255920" cy="1317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48120" y="2743200"/>
                      <a:ext cx="4255920" cy="13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2057400" y="2743200"/>
            <a:ext cx="3970440" cy="1508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57400" y="2743200"/>
                      <a:ext cx="3970440" cy="15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" name=""/>
          <p:cNvSpPr/>
          <p:nvPr/>
        </p:nvSpPr>
        <p:spPr>
          <a:xfrm>
            <a:off x="639720" y="6208560"/>
            <a:ext cx="685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802.15-99/071r0, "Mapping the Bluetooth Specification to IEEE 802.15.1", Tom Siep,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3"/>
          <a:stretch/>
        </p:blipFill>
        <p:spPr>
          <a:xfrm>
            <a:off x="3827520" y="2685960"/>
            <a:ext cx="1488960" cy="148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98520" y="350532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44080" y="1828800"/>
            <a:ext cx="26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5.1 Abstract Networ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FE0-7EDB-4128-A660-A93244847B2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G1 Issues 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think that our efforts would really be wasted if we develop an 802.15.1 standard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oo late to be relevant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s (but not leveraged by) the original Bluetooth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onfusing to the people that are already familiar with the Bluetooth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ntentionally deviates from the original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the v0.6 standard is 1:1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BC19-F1B4-4D96-810B-CF8ED001DF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Main Outline Overview (D0.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s 1 through 4: IEEE-required reference mate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5: Ov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6: PHY (Direct copy of Part A, Radio Specification [1.0a]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7: MAC Short introduction, followed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1 (Direct copy of Part B, Baseband Specification [1.0a]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2 (Direct copy of Part C, Link Manager Protocol [1.0a]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3 (Direct copy of Part D, Logical Link Control and Adaptation Protocol [1.0a]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8: Service Access Points (General Material and one example of how SAPs will be documente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A: Placeholder for Protocol Implementation Conformance Statement (PIC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B: Placeholder for MAC Formal Defin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C: Placeholder for PHY Formal Defin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Annex D: Generic Access Profile (Direct copy [1.0a]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E: Bibliography (incomple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39B7-91F9-424C-8836-1D47C5B413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SI RF to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06560" y="1981080"/>
            <a:ext cx="7121160" cy="4149360"/>
            <a:chOff x="1006560" y="1981080"/>
            <a:chExt cx="7121160" cy="4149360"/>
          </a:xfrm>
        </p:grpSpPr>
        <p:sp>
          <p:nvSpPr>
            <p:cNvPr id="91" name=""/>
            <p:cNvSpPr/>
            <p:nvPr/>
          </p:nvSpPr>
          <p:spPr>
            <a:xfrm>
              <a:off x="1200600" y="4574520"/>
              <a:ext cx="2201040" cy="25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L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00600" y="4834080"/>
              <a:ext cx="2201040" cy="258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00600" y="5093280"/>
              <a:ext cx="1488960" cy="518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00600" y="4574520"/>
              <a:ext cx="1488960" cy="51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00600" y="405612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00600" y="3537000"/>
              <a:ext cx="1488960" cy="51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00600" y="301860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00600" y="249984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00600" y="1981080"/>
              <a:ext cx="1488960" cy="51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06560" y="5612040"/>
              <a:ext cx="187740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d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401640" y="3990600"/>
              <a:ext cx="1424160" cy="84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89560" y="5612040"/>
              <a:ext cx="213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911120" y="1981080"/>
              <a:ext cx="3216600" cy="3630600"/>
              <a:chOff x="4911120" y="1981080"/>
              <a:chExt cx="3216600" cy="3630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911120" y="5250960"/>
                <a:ext cx="2462400" cy="3607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R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11120" y="4808160"/>
                <a:ext cx="2462400" cy="38736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Baseb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11120" y="3975840"/>
                <a:ext cx="602640" cy="776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Aud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63800" y="4392360"/>
                <a:ext cx="1809720" cy="36036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Link Manag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63800" y="3975840"/>
                <a:ext cx="1155600" cy="360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L2CA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11120" y="2868480"/>
                <a:ext cx="2311560" cy="1051920"/>
              </a:xfrm>
              <a:custGeom>
                <a:avLst/>
                <a:gdLst/>
                <a:ahLst/>
                <a:rect l="l" t="t" r="r" b="b"/>
                <a:pathLst>
                  <a:path w="2208" h="912">
                    <a:moveTo>
                      <a:pt x="624" y="912"/>
                    </a:moveTo>
                    <a:lnTo>
                      <a:pt x="0" y="0"/>
                    </a:lnTo>
                    <a:lnTo>
                      <a:pt x="2208" y="0"/>
                    </a:lnTo>
                    <a:lnTo>
                      <a:pt x="1728" y="912"/>
                    </a:lnTo>
                    <a:lnTo>
                      <a:pt x="624" y="91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11120" y="2424240"/>
                <a:ext cx="67428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TCP/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652720" y="2424240"/>
                <a:ext cx="46368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HI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167880" y="2424240"/>
                <a:ext cx="107856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RFCOM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70600" y="2424240"/>
                <a:ext cx="1256760" cy="1922040"/>
              </a:xfrm>
              <a:custGeom>
                <a:avLst/>
                <a:gdLst/>
                <a:ahLst/>
                <a:rect l="l" t="t" r="r" b="b"/>
                <a:pathLst>
                  <a:path w="1296" h="1632">
                    <a:moveTo>
                      <a:pt x="0" y="1632"/>
                    </a:moveTo>
                    <a:lnTo>
                      <a:pt x="0" y="1296"/>
                    </a:lnTo>
                    <a:lnTo>
                      <a:pt x="528" y="336"/>
                    </a:lnTo>
                    <a:lnTo>
                      <a:pt x="528" y="0"/>
                    </a:lnTo>
                    <a:lnTo>
                      <a:pt x="1296" y="0"/>
                    </a:lnTo>
                    <a:lnTo>
                      <a:pt x="1296" y="288"/>
                    </a:lnTo>
                    <a:lnTo>
                      <a:pt x="576" y="1632"/>
                    </a:lnTo>
                    <a:lnTo>
                      <a:pt x="0" y="163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911120" y="1981080"/>
                <a:ext cx="3216600" cy="360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00"/>
                    </a:solidFill>
                    <a:latin typeface="Arial"/>
                  </a:rPr>
                  <a:t>Applic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916960" y="324828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7809800">
                <a:off x="7033680" y="3229200"/>
                <a:ext cx="100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6120" y="160020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7320" y="175248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/OSI Referenc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634-8581-4BBD-B187-83E81AD7EAF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Bluetooth to IEEE P802.15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62120" y="1905120"/>
            <a:ext cx="7520040" cy="4266720"/>
            <a:chOff x="762120" y="1905120"/>
            <a:chExt cx="7520040" cy="4266720"/>
          </a:xfrm>
        </p:grpSpPr>
        <p:grpSp>
          <p:nvGrpSpPr>
            <p:cNvPr id="122" name=""/>
            <p:cNvGrpSpPr/>
            <p:nvPr/>
          </p:nvGrpSpPr>
          <p:grpSpPr>
            <a:xfrm>
              <a:off x="762120" y="1905120"/>
              <a:ext cx="3786120" cy="4266720"/>
              <a:chOff x="762120" y="1905120"/>
              <a:chExt cx="3786120" cy="4266720"/>
            </a:xfrm>
          </p:grpSpPr>
          <p:sp>
            <p:nvSpPr>
              <p:cNvPr id="123" name=""/>
              <p:cNvSpPr/>
              <p:nvPr/>
            </p:nvSpPr>
            <p:spPr>
              <a:xfrm>
                <a:off x="762120" y="5748120"/>
                <a:ext cx="2898720" cy="4237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R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2120" y="5227560"/>
                <a:ext cx="2898720" cy="4550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Baseb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120" y="4249440"/>
                <a:ext cx="709560" cy="9126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Au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30360" y="4738680"/>
                <a:ext cx="2130480" cy="42336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Link 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30360" y="4249440"/>
                <a:ext cx="1360440" cy="42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Arial"/>
                  </a:rPr>
                  <a:t>L2C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2120" y="2948040"/>
                <a:ext cx="2720880" cy="1236240"/>
              </a:xfrm>
              <a:custGeom>
                <a:avLst/>
                <a:gdLst/>
                <a:ahLst/>
                <a:rect l="l" t="t" r="r" b="b"/>
                <a:pathLst>
                  <a:path w="2208" h="912">
                    <a:moveTo>
                      <a:pt x="624" y="912"/>
                    </a:moveTo>
                    <a:lnTo>
                      <a:pt x="0" y="0"/>
                    </a:lnTo>
                    <a:lnTo>
                      <a:pt x="2208" y="0"/>
                    </a:lnTo>
                    <a:lnTo>
                      <a:pt x="1728" y="912"/>
                    </a:lnTo>
                    <a:lnTo>
                      <a:pt x="624" y="91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2120" y="2425680"/>
                <a:ext cx="79380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TCP/I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35120" y="2425680"/>
                <a:ext cx="54612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HI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41720" y="2425680"/>
                <a:ext cx="126972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RFCO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68640" y="2425680"/>
                <a:ext cx="1479600" cy="2258640"/>
              </a:xfrm>
              <a:custGeom>
                <a:avLst/>
                <a:gdLst/>
                <a:ahLst/>
                <a:rect l="l" t="t" r="r" b="b"/>
                <a:pathLst>
                  <a:path w="1296" h="1632">
                    <a:moveTo>
                      <a:pt x="0" y="1632"/>
                    </a:moveTo>
                    <a:lnTo>
                      <a:pt x="0" y="1296"/>
                    </a:lnTo>
                    <a:lnTo>
                      <a:pt x="528" y="336"/>
                    </a:lnTo>
                    <a:lnTo>
                      <a:pt x="528" y="0"/>
                    </a:lnTo>
                    <a:lnTo>
                      <a:pt x="1296" y="0"/>
                    </a:lnTo>
                    <a:lnTo>
                      <a:pt x="1296" y="288"/>
                    </a:lnTo>
                    <a:lnTo>
                      <a:pt x="576" y="1632"/>
                    </a:lnTo>
                    <a:lnTo>
                      <a:pt x="0" y="163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2120" y="1905120"/>
                <a:ext cx="3786120" cy="423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00"/>
                    </a:solidFill>
                    <a:latin typeface="Arial"/>
                  </a:rPr>
                  <a:t>Applic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45440" y="3462120"/>
                <a:ext cx="55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7809800">
                <a:off x="3363480" y="363744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462640" y="2361960"/>
              <a:ext cx="281952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6 (R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2640" y="2819160"/>
              <a:ext cx="2819520" cy="1523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Baseband, Link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nager, L2CA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62640" y="1905120"/>
              <a:ext cx="28195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1-5 (Intr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62640" y="4343400"/>
              <a:ext cx="28195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8 (SA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62640" y="4800600"/>
              <a:ext cx="2819520" cy="12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A: Placeholder for P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B: Placeholder for MAC Def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C: Placeholder for PHY Def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D: Generic Access Pro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E: Bibliography (incomplete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807080" y="2438280"/>
              <a:ext cx="426960" cy="182844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440"/>
                <a:gd name="textAreaBottom" fmla="*/ 1780920 h 18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1320" y="152388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5480" y="1676520"/>
            <a:ext cx="25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5.1 Draft 0.6 Abstract T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875-67A8-412B-8CA9-1D558DACB16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23</dc:description>
  <dc:language>en-US</dc:language>
  <cp:lastModifiedBy>Ian C. Gifford</cp:lastModifiedBy>
  <cp:lastPrinted>1998-02-10T13:28:06Z</cp:lastPrinted>
  <dcterms:modified xsi:type="dcterms:W3CDTF">1999-11-10T23:22:45Z</dcterms:modified>
  <cp:revision>46</cp:revision>
  <dc:subject>IEEE 802.15 TG1 Report #2</dc:subject>
  <dc:title>IEEE P802.15 Working Group for Wireless Personal Area Networks</dc:title>
</cp:coreProperties>
</file>