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70040" y="91080"/>
            <a:ext cx="2817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3760" y="91080"/>
            <a:ext cx="27399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25920" cy="339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5200" y="4314960"/>
            <a:ext cx="5089320" cy="4086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4600" y="8791200"/>
            <a:ext cx="2513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6520" y="879120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647659-84A4-4B54-956D-087BC5AF8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791560"/>
            <a:ext cx="712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790120"/>
            <a:ext cx="549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290520"/>
            <a:ext cx="564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936520" y="879120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D45B0A-D41A-4D34-B44F-4B642496D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774600" y="8791200"/>
            <a:ext cx="2513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0720"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470040" y="91080"/>
            <a:ext cx="2817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53760" y="91080"/>
            <a:ext cx="27399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00240" y="679320"/>
            <a:ext cx="4541760" cy="3407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5200" y="4314960"/>
            <a:ext cx="508932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92920" cy="4087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ence of Bluetooth to the ISO Open Standards Interface (OSI) model and how the IEEE standards map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IEEE has only two layers of the ISO-OSI while Bluetooth (as you well know) covers all of them.  What is not indicated by this graph is that the normal place for the LLC layer is in a separate committee, 802.2.  This standard is common to 802 stacks, but each MAC may have some medium-specific clauses in the 802.2 standard.  Due to the unique nature of the wireless medium, we will need to evaluate if there is sufficient flexibility for a Bluetooth-based standard to follow this model.  Other options can be consi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92920" cy="4087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s to be a fairly good correspondence, except for Au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scuss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25560" y="3993840"/>
            <a:ext cx="5092560" cy="4087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s are performed via Service Access Points (SA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Logical Link Control -- Three types of operation: connectionless with no ACK; connection-oriented; and connectionless with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es with upper layers via a set of primi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In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Con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es with MAC via fr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Media Access Control -- Performs access control functions for the shared medium in support of the LL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Addressing and recognition of fr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frame check sequence generation and che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LLC protocol data unit (PDU) deli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MAC Management -- managed objects and controls for MAC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Physical Layer Convergence Procedure -- Medium-independent physical layer: receives Messages, hands over bits to P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Physical Medium Dependent layer takes bits and (in our case) turns them into radio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PHY Management  -- managed objects and controls for PHY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Station Management -- Set of tools that allow performance 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Configuration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Faul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Performanc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Security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Accounting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24E-1A90-4FB4-90C0-E21F4510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16C-16D4-4C56-8B3A-6D1A8342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371-1D75-453F-BC3B-BDF72A24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AE6-0606-4710-9FD9-52C61D2C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E38-1CAC-4AAF-9E35-32A0E974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431-4BFC-48AD-928C-478BC20F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409-3A97-4913-B2F0-85638199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A54-DE9C-4780-8CC5-31C08966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22D-F949-4B64-AE2A-DE818851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A45-049A-418F-8B12-652C15C7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3DF-76E2-45D4-AD61-A6CA1EF7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BD9-6491-42DE-9FAB-7B0FFFD1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E107F63-D136-4A54-ADBC-15292CBF6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2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Proposed Struct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MAC and PHY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Personal Area Net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628560" cy="714240"/>
          </a:xfrm>
          <a:prstGeom prst="rect">
            <a:avLst/>
          </a:prstGeom>
          <a:ln w="0">
            <a:noFill/>
          </a:ln>
        </p:spPr>
      </p:pic>
      <p:pic>
        <p:nvPicPr>
          <p:cNvPr id="58" name="IEEE%20802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73980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994-3DEB-486D-8A8F-7A3C3DE66F8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breviations and Acr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4495680"/>
            <a:ext cx="4648320" cy="190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A7A-25E3-4A3F-B618-5A58C582170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4495680"/>
            <a:ext cx="4648320" cy="190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578-C232-43B2-9BD8-BAD67F0D6C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um Access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4495680"/>
            <a:ext cx="1828800" cy="685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258-ACA0-4E02-836F-5BE78CE500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6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C Service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4419720"/>
            <a:ext cx="1905120" cy="304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C0C-2C4C-4604-AA80-8403BFD8BB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6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C Fram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General Fram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Format of Individual Fram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4648320"/>
            <a:ext cx="1828800" cy="53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DF5-078F-42DB-8772-5EE77377B3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6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C Layer Function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 and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/De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 Exchange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4648320"/>
            <a:ext cx="1828800" cy="53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C3A3-2B54-4D57-9FCE-E15E3258C7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Physical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5105520"/>
            <a:ext cx="1752480" cy="685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AD1B-7493-4FC8-B763-5B0AB8820F6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7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000000"/>
                </a:solidFill>
                <a:latin typeface="Arial"/>
              </a:rPr>
              <a:t>PHY Servic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ervice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5105520"/>
            <a:ext cx="1752480" cy="228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A95-4BCC-4E0A-ADA2-89964BFD923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7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Y Fram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Fram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of Individual Fram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5257800"/>
            <a:ext cx="1600200" cy="533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3AE-0A81-401C-B9E1-5B4662F894A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7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Y Layer Function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5257800"/>
            <a:ext cx="1600200" cy="533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E055-BB72-4AF7-91F2-9BABDD9BE6B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828800"/>
            <a:ext cx="746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371600" y="1600200"/>
          <a:ext cx="65530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5530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238D-1C97-4A9F-8559-26584430B2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C Layer Management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hysical Layer Management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3886200"/>
            <a:ext cx="2514600" cy="2362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028A-17F4-4010-A427-88832A4BDA5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endic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Protocol Implementation Conformance Statement (PICS) pro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Formal Description of MAC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Formal Description of PHY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MAC Management Information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PHY Management Information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7CC-A96B-48FB-8208-D7BAE1B8EC9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rotocol </a:t>
            </a:r>
            <a:r>
              <a:rPr b="0" sz="3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mplementation </a:t>
            </a:r>
            <a:r>
              <a:rPr b="0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nformace </a:t>
            </a:r>
            <a:r>
              <a:rPr b="0" sz="32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tatement pro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CS is a description of an implementation claim.  It specif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capabilities were satis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ptions were cho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B45-D08D-474A-909B-9C0746B2A30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mal Defini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definitions are represented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ificatio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ript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uage (SD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U-T Recommendation Z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sberger, J., </a:t>
            </a:r>
            <a:r>
              <a:rPr b="1" i="1" lang="en-US" sz="2800" spc="-1" strike="noStrike">
                <a:solidFill>
                  <a:srgbClr val="000000"/>
                </a:solidFill>
                <a:latin typeface="AmericanTypewriter Cn"/>
              </a:rPr>
              <a:t>SDL Formal Object-Oriented Language for Communicating System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tfordshire, Prentice Hall Europe, 199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SBN 0-13-621384-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7F6-40F8-4C3E-822D-7F8BF6FDC06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gemen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formati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Bs are abstract representation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represented in ANS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Syntax Notatio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U-T Recommend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2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680-68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.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: </a:t>
            </a:r>
            <a:r>
              <a:rPr b="1" i="1" lang="en-US" sz="3200" spc="-1" strike="noStrike">
                <a:solidFill>
                  <a:srgbClr val="000000"/>
                </a:solidFill>
                <a:latin typeface="AmericanTypewriter Cn"/>
              </a:rPr>
              <a:t>SDL Formal Object-Oriented Language for Communica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05BD-B2CA-45F4-B50C-853233E8893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ed Work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5800" y="1752480"/>
          <a:ext cx="7848720" cy="453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84872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565-E320-4E44-95D2-F62E0FB8F33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OF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ackup slides foll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DEA1-48F6-4CF6-AA94-ECBF12D3A22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and IEE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1828800"/>
            <a:ext cx="746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Bluetooth%20OSI%20802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581960" cy="45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4EEC-E648-461F-AF84-A84BE2D5E70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52280" y="1905120"/>
          <a:ext cx="872496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872496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to IEEE 802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124080" y="4267080"/>
          <a:ext cx="253836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267080"/>
                    <a:ext cx="25383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743200" y="2895480"/>
          <a:ext cx="3224160" cy="15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322416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200400" y="1371600"/>
          <a:ext cx="4952880" cy="138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1371600"/>
                    <a:ext cx="49528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80880" y="685800"/>
          <a:ext cx="5513400" cy="289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685800"/>
                    <a:ext cx="55134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438280" y="2057400"/>
          <a:ext cx="3224160" cy="204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8280" y="2057400"/>
                    <a:ext cx="322416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62A-018E-4937-9DA7-ADA55D8903C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luetoot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asses of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960" y="-344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14560" y="1179360"/>
            <a:ext cx="6933960" cy="947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8124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Sy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7972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Brid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8180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8028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H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0212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Still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Im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0760" y="1484280"/>
            <a:ext cx="47448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Comm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Port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3104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W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05160" y="6200640"/>
            <a:ext cx="2147760" cy="20952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05160" y="5486400"/>
            <a:ext cx="371520" cy="671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5948280"/>
            <a:ext cx="1719000" cy="20952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5695920"/>
            <a:ext cx="1719000" cy="21132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L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5486400"/>
            <a:ext cx="1719000" cy="16812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L</a:t>
            </a:r>
            <a:r>
              <a:rPr b="1" lang="en-GB" sz="1000" spc="-1" strike="noStrike" baseline="30000">
                <a:solidFill>
                  <a:srgbClr val="ffffff"/>
                </a:solidFill>
                <a:latin typeface="News Gothic MT"/>
              </a:rPr>
              <a:t>2</a:t>
            </a: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C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38440" y="4608360"/>
            <a:ext cx="676440" cy="49392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Ct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7760" y="4532400"/>
            <a:ext cx="676080" cy="49356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TS07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60880" y="4532400"/>
            <a:ext cx="676440" cy="493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TCP/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81760" y="4532400"/>
            <a:ext cx="674640" cy="493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H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33520" y="3541680"/>
            <a:ext cx="474840" cy="49392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IrOB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7760" y="3541680"/>
            <a:ext cx="473040" cy="4939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70560" y="2550960"/>
            <a:ext cx="473040" cy="4939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W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1640" y="2550960"/>
            <a:ext cx="473040" cy="4939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Still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Im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66880" y="2550960"/>
            <a:ext cx="473040" cy="49392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v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33520" y="2550960"/>
            <a:ext cx="474840" cy="49392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v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7760" y="2550960"/>
            <a:ext cx="473040" cy="4939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U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82" idx="2"/>
            <a:endCxn id="194" idx="3"/>
          </p:cNvCxnSpPr>
          <p:nvPr/>
        </p:nvCxnSpPr>
        <p:spPr>
          <a:xfrm rot="5400000">
            <a:off x="5685120" y="2948760"/>
            <a:ext cx="2802600" cy="8611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3" name=""/>
          <p:cNvCxnSpPr>
            <a:stCxn id="197" idx="2"/>
          </p:cNvCxnSpPr>
          <p:nvPr/>
        </p:nvCxnSpPr>
        <p:spPr>
          <a:xfrm rot="5400000">
            <a:off x="5568480" y="2847960"/>
            <a:ext cx="842040" cy="1235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4" name=""/>
          <p:cNvCxnSpPr>
            <a:stCxn id="181" idx="2"/>
            <a:endCxn id="193" idx="0"/>
          </p:cNvCxnSpPr>
          <p:nvPr/>
        </p:nvCxnSpPr>
        <p:spPr>
          <a:xfrm rot="5400000">
            <a:off x="4330800" y="3045240"/>
            <a:ext cx="2554920" cy="420120"/>
          </a:xfrm>
          <a:prstGeom prst="bentConnector3">
            <a:avLst>
              <a:gd name="adj1" fmla="val 49957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5" name=""/>
          <p:cNvCxnSpPr>
            <a:stCxn id="178" idx="2"/>
            <a:endCxn id="191" idx="1"/>
          </p:cNvCxnSpPr>
          <p:nvPr/>
        </p:nvCxnSpPr>
        <p:spPr>
          <a:xfrm flipH="1" rot="16200000">
            <a:off x="664560" y="2881800"/>
            <a:ext cx="2878560" cy="107064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6" name=""/>
          <p:cNvCxnSpPr>
            <a:stCxn id="179" idx="2"/>
            <a:endCxn id="199" idx="0"/>
          </p:cNvCxnSpPr>
          <p:nvPr/>
        </p:nvCxnSpPr>
        <p:spPr>
          <a:xfrm rot="5400000">
            <a:off x="1923480" y="2057040"/>
            <a:ext cx="573480" cy="41508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7" name=""/>
          <p:cNvCxnSpPr>
            <a:stCxn id="179" idx="2"/>
            <a:endCxn id="200" idx="0"/>
          </p:cNvCxnSpPr>
          <p:nvPr/>
        </p:nvCxnSpPr>
        <p:spPr>
          <a:xfrm flipH="1" rot="16200000">
            <a:off x="2208240" y="2187000"/>
            <a:ext cx="573480" cy="15480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8" name=""/>
          <p:cNvCxnSpPr>
            <a:stCxn id="199" idx="2"/>
            <a:endCxn id="195" idx="0"/>
          </p:cNvCxnSpPr>
          <p:nvPr/>
        </p:nvCxnSpPr>
        <p:spPr>
          <a:xfrm flipH="1" rot="16200000">
            <a:off x="2037960" y="3008880"/>
            <a:ext cx="497520" cy="568800"/>
          </a:xfrm>
          <a:prstGeom prst="bentConnector3">
            <a:avLst>
              <a:gd name="adj1" fmla="val 49818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9" name=""/>
          <p:cNvCxnSpPr>
            <a:stCxn id="200" idx="2"/>
            <a:endCxn id="195" idx="0"/>
          </p:cNvCxnSpPr>
          <p:nvPr/>
        </p:nvCxnSpPr>
        <p:spPr>
          <a:xfrm flipV="1" rot="10800000">
            <a:off x="2571120" y="3044520"/>
            <a:ext cx="1080" cy="497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0" name=""/>
          <p:cNvCxnSpPr>
            <a:stCxn id="195" idx="2"/>
            <a:endCxn id="192" idx="0"/>
          </p:cNvCxnSpPr>
          <p:nvPr/>
        </p:nvCxnSpPr>
        <p:spPr>
          <a:xfrm flipH="1" rot="16200000">
            <a:off x="3134520" y="3471840"/>
            <a:ext cx="497520" cy="1624680"/>
          </a:xfrm>
          <a:prstGeom prst="bentConnector3">
            <a:avLst>
              <a:gd name="adj1" fmla="val 49818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1" name=""/>
          <p:cNvCxnSpPr>
            <a:stCxn id="198" idx="2"/>
          </p:cNvCxnSpPr>
          <p:nvPr/>
        </p:nvCxnSpPr>
        <p:spPr>
          <a:xfrm rot="5400000">
            <a:off x="2800800" y="2799720"/>
            <a:ext cx="232560" cy="722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2" name=""/>
          <p:cNvCxnSpPr>
            <a:stCxn id="183" idx="2"/>
            <a:endCxn id="198" idx="0"/>
          </p:cNvCxnSpPr>
          <p:nvPr/>
        </p:nvCxnSpPr>
        <p:spPr>
          <a:xfrm rot="5400000">
            <a:off x="3021480" y="2234160"/>
            <a:ext cx="573480" cy="6120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3" name=""/>
          <p:cNvCxnSpPr>
            <a:stCxn id="180" idx="2"/>
            <a:endCxn id="201" idx="0"/>
          </p:cNvCxnSpPr>
          <p:nvPr/>
        </p:nvCxnSpPr>
        <p:spPr>
          <a:xfrm rot="5400000">
            <a:off x="3818160" y="2253240"/>
            <a:ext cx="573480" cy="2268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4" name=""/>
          <p:cNvCxnSpPr>
            <a:stCxn id="201" idx="2"/>
            <a:endCxn id="196" idx="0"/>
          </p:cNvCxnSpPr>
          <p:nvPr/>
        </p:nvCxnSpPr>
        <p:spPr>
          <a:xfrm flipV="1" rot="10800000">
            <a:off x="4093560" y="3044520"/>
            <a:ext cx="1080" cy="497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5" name=""/>
          <p:cNvCxnSpPr>
            <a:stCxn id="196" idx="2"/>
            <a:endCxn id="192" idx="0"/>
          </p:cNvCxnSpPr>
          <p:nvPr/>
        </p:nvCxnSpPr>
        <p:spPr>
          <a:xfrm flipH="1" rot="16200000">
            <a:off x="3896640" y="4232880"/>
            <a:ext cx="497520" cy="102240"/>
          </a:xfrm>
          <a:prstGeom prst="bentConnector3">
            <a:avLst>
              <a:gd name="adj1" fmla="val 49818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6" name=""/>
          <p:cNvCxnSpPr>
            <a:stCxn id="184" idx="2"/>
            <a:endCxn id="192" idx="3"/>
          </p:cNvCxnSpPr>
          <p:nvPr/>
        </p:nvCxnSpPr>
        <p:spPr>
          <a:xfrm rot="5400000">
            <a:off x="3349800" y="3161520"/>
            <a:ext cx="2802600" cy="43560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7" name=""/>
          <p:cNvCxnSpPr>
            <a:stCxn id="185" idx="2"/>
            <a:endCxn id="197" idx="0"/>
          </p:cNvCxnSpPr>
          <p:nvPr/>
        </p:nvCxnSpPr>
        <p:spPr>
          <a:xfrm rot="5400000">
            <a:off x="6350400" y="2234160"/>
            <a:ext cx="573480" cy="6120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8" name=""/>
          <p:cNvCxnSpPr>
            <a:stCxn id="191" idx="2"/>
            <a:endCxn id="190" idx="0"/>
          </p:cNvCxnSpPr>
          <p:nvPr/>
        </p:nvCxnSpPr>
        <p:spPr>
          <a:xfrm flipH="1" rot="16200000">
            <a:off x="3593160" y="4484880"/>
            <a:ext cx="384840" cy="16185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9" name=""/>
          <p:cNvCxnSpPr>
            <a:stCxn id="192" idx="2"/>
            <a:endCxn id="190" idx="0"/>
          </p:cNvCxnSpPr>
          <p:nvPr/>
        </p:nvCxnSpPr>
        <p:spPr>
          <a:xfrm flipH="1" rot="16200000">
            <a:off x="4163760" y="5056560"/>
            <a:ext cx="461160" cy="3992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20" name=""/>
          <p:cNvCxnSpPr>
            <a:stCxn id="193" idx="2"/>
            <a:endCxn id="190" idx="0"/>
          </p:cNvCxnSpPr>
          <p:nvPr/>
        </p:nvCxnSpPr>
        <p:spPr>
          <a:xfrm rot="5400000">
            <a:off x="4765680" y="4853520"/>
            <a:ext cx="461160" cy="8053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21" name=""/>
          <p:cNvCxnSpPr>
            <a:stCxn id="194" idx="2"/>
            <a:endCxn id="190" idx="0"/>
          </p:cNvCxnSpPr>
          <p:nvPr/>
        </p:nvCxnSpPr>
        <p:spPr>
          <a:xfrm rot="5400000">
            <a:off x="5226120" y="4393080"/>
            <a:ext cx="461160" cy="1726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F95-195C-4EE2-AB54-E7F47BF67EA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unication Pat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19320" y="1447920"/>
          <a:ext cx="6784920" cy="47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6784920" cy="47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8B4-FDFD-4E0E-B02A-194ED6F280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xonomy of an 802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2133720"/>
          <a:ext cx="6743880" cy="42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33720"/>
                    <a:ext cx="674388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781680" y="1828800"/>
          <a:ext cx="160020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1828800"/>
                    <a:ext cx="160020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C01-94FC-40E3-986B-4E61D896907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Standard Main T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verview</a:t>
            </a:r>
            <a:r>
              <a:rPr b="0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ormative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4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bbreviations and Acr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5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ener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um Access Control (M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Physical Layer (PH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85BC-18C3-4FCD-AF23-34066B12E6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Standard Appendi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tocol Implementation Conformance       Statement (PICS) pro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Description of MAC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Description of PHY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Management Information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 Management Information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.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42D6-5DF2-423D-88FC-89727217EE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038480" y="3505320"/>
            <a:ext cx="4648320" cy="2895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D02-0CA7-4FD8-9AE3-814DE676A1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tive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ocuments (IEEE, ISO, ITU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3505320"/>
            <a:ext cx="4648320" cy="2895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D64-A25F-4733-ABC3-65E98EB6D9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specific to this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4495680"/>
            <a:ext cx="4648320" cy="190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665D-774D-469B-9EFA-CE0D37C6CE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Tom Siep</dc:creator>
  <dc:description>Tom Siep, Texas Instruments</dc:description>
  <dc:language>en-US</dc:language>
  <cp:lastModifiedBy>Tom Siep</cp:lastModifiedBy>
  <cp:lastPrinted>1999-04-23T19:19:31Z</cp:lastPrinted>
  <dcterms:modified xsi:type="dcterms:W3CDTF">1999-07-07T18:47:54Z</dcterms:modified>
  <cp:revision>72</cp:revision>
  <dc:subject>doc.: IEEE 802.11-99/055r1</dc:subject>
  <dc:title>WPAN SG Tutorial</dc:title>
</cp:coreProperties>
</file>