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65328-65F4-4CD3-BBEE-B6CFAA227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E17FB-5F38-4902-B6BA-D736561B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3BDEF-68FB-406B-B45A-F71D125DF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6C80-C057-4949-94C5-8484C1CFD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B0C2-1E9B-4F1E-AF0A-1EC1DEBE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C326D-89C6-4027-BB88-0A5843A4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F445-ECAD-4D2D-9F29-DC28E8877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9DBF-EE4E-4047-9109-6CA03856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9FB04-446F-4724-A1A2-77191737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104E3-9FFF-490A-AD57-C1ABFB32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9D79E-BABB-450D-933A-B716F550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14254-0E5E-4236-A74C-388CA1FCA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E3DFC2-EF76-4BBE-A98A-9584D3EDE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Report to the Excom on Coexistence S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F. Heile] Company [GTE Technology Orga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G on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G Status and Proposal for Opera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olicit  Excom approval on the formation of a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5EDE4542-D4A7-471F-A57F-FDF5CD07C969}"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existence Study Group would become a Task Group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aisons from 802.11 would be able to vote in the Task Group since they have voting rights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the group would be reported at the regularly scheduled 802.11/802.15 joint session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CBEA7DD-AB0C-4A80-803A-6D21A027CDD8}"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draft Recommended Practice was ready for letter ballot it would be submitted to both the 802.15 and the 802.11 Working Groups for separate letter ballo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the Recommended Practice to be forwarded to the Executive Committee for Sponsor ballot, the letter ballot must pass in both Working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129C5DB-4E66-4782-AA63-BC3E7E6DE65E}"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A994E9D8-C83C-49C3-8C81-D5C05A7172B5}"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AE214B77-3B0D-4845-9A6C-ACA4FB51B27E}"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existence</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wireless devices are said to “coexist” if they can be collocated without significantly impacting the performance of any of these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B329270-B9D9-4155-A6BB-B91937FCDD5D}"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currently defines three levels of interoperabil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ly exchanging two interoperable devices causes no damage to the devi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our definition of coexist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evices can exchange dat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llow but not require interoperability as a coexistence mechanism.</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099421F-98B4-497B-A296-7AF8BFB31566}"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D41E220E-E8E3-46F0-A154-758E996648D1}"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ff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data traffic flow based upon different application scenarios for both the WLAN and WPAN network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traffic</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transfe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ata collect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mp; Other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3082184-4FF7-4CFD-941D-DE93684686B5}"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WLAN and WPAN MAC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that with the Data Traffic models to determine when each of the networks are transmitting da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768D311-230E-4C9B-9FD3-63808E8BED58}"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Propagation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RF signal power levels at the different WPAN and WLAN nodes based on an RF propagation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ifferent application scenarios and physical distribution of devic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DE51604-B02E-44BB-B0A5-D5E0D22E0A58}"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73506F01-DB68-490A-BE0B-8E7B67BF8B44}"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71E9630-2F14-456A-8733-5A0627962651}"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existence Model for the 2.4 band, that we can all agree to, which will help us assess the issues of Coexistence in a more quantitative way</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option selections from the existing 2.4 band standards that would further coexistence (much like writing a profile)</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DE99AF43-A372-427D-843B-F1717DEAD9CC}"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guidebook on band etiquette so that as new standards are developed or existing standards are enhanced, there is an organized way to improve the coexistence environmen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 how multi-mode radios in the 2.4 band should go about the task of deciding what mode to be in and how to exchange information and data between environm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FCC6ED01-4C67-42D3-BB62-D7EEF4319E72}"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proposed Task Group would be a set of Recommended Practic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D070B68-4C23-43E3-8123-A3108F681E1E}"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CABE2F0A-F0D7-4781-AD5B-3FDE0C006952}"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9"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1"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2"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3"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4"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A0FA4DD7-3BFA-4829-8E3E-C6BE2CB5F1D4}" type="slidenum">
              <a:t>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ogether the four parts of the model to predict the impact on the WPAN and WLAN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t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DE8D931-4B35-43D1-A098-D6BF4A92950F}"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3:23:06Z</dcterms:created>
  <dc:creator>Rober F. Heile</dc:creator>
  <dc:description>&lt;doc#&gt;</dc:description>
  <dc:language>en-US</dc:language>
  <cp:lastModifiedBy>Rober F. Heile</cp:lastModifiedBy>
  <cp:lastPrinted>1999-09-14T16:44:21Z</cp:lastPrinted>
  <dcterms:modified xsi:type="dcterms:W3CDTF">1999-11-08T19:13:17Z</dcterms:modified>
  <cp:revision>6</cp:revision>
  <dc:subject>IEEE 802.15 &lt;subject&gt;</dc:subject>
  <dc:title>No Slide Title</dc:title>
</cp:coreProperties>
</file>