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D26-4274-4F4C-8343-19795E06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905-A7BA-4362-82B4-6ADCD513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E99-5045-4648-AD09-84F04AEF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B18-94C2-416B-98A7-42BE6B39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DEA-AEBC-4224-A7F7-889EE667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8A6-4408-4953-AD35-D5AB52A2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0AB-2E81-41DC-9075-46548D1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A23-A249-46D0-8FE4-64AFEC6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C9C-48FE-4B5E-821C-E9B31417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B6A-4CE8-474B-9C90-0529B57B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2A9-6647-4297-A786-CBC35DD7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E34-15A4-4FA9-949E-8BEE48D4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Bisdikian-</a:t>
            </a:r>
            <a:fld id="{58993CE1-8629-4EC6-9039-651A65F7D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Bluetooth Architecture Overview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r. Chatschik Bisdikian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M Research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.J. Watson Research Center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Hawthorne, NY 10532, USA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bisdik@us.ibm.com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0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5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7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9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F78-64D8-4BC1-B39C-62F61F7FF2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0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1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3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5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6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8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0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491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2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ltiple device acces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rdless phone benefi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nd’s free oper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EAD-DFDE-46AB-B098-6F866654195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97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0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1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6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1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2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6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18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4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ata access poi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 more connectors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y internet acces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connection experienc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0B7-3159-4975-B9D7-EF16115728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133720" y="5367240"/>
            <a:ext cx="2898720" cy="424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133720" y="484668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133720" y="386856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01960" y="435780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01960" y="386856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33720" y="256716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33720" y="204480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6720" y="204480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13320" y="204480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40240" y="204480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1523880"/>
            <a:ext cx="3786120" cy="42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18840" y="2957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7809800">
            <a:off x="4582440" y="2977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486400" y="373392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29732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9BC-E031-464E-8AF6-7A2F0FB311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ad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y synthesis: frequency hopp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version bits into symbols: modul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mit pow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ceiver sensitiv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D84-7B7E-4AD2-8753-ADFC3CA078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0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network topolog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5410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dio design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ed radios can be master or  slav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are symmetric (same radio can be 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o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que hopping pattern/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ttern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imal impact with up to 10 piconets within rang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94FF-9C5F-426F-8267-B8CA494D7B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89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1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3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4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devices in a piconet hop together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 form a piconet: master gives slaves it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device ID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48-bit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in hopping pattern determined by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n-piconet devices are in 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conet Address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 Member Address (AMA, 3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ked Member Address (PMA, 8-bi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16F-A7F0-4929-B648-D5A570E2F2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rotocol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ing to join a picone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qui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 about radios to connect t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to a specific radio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e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vely on a piconet (master or slave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k/Hold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w-power connected stat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0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7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7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0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3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90A-91E2-4B1B-A88F-4352774C38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ower consciousnes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ndby current &lt; 0.3 m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months(*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ce mode 8-30 mA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75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mode average 5 mA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.3-30mA, 20 kbps, 25%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0 hour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-power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mable data length (else radio slee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90840" indent="-26568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and Park modes: 60 µ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s connected but not participat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ld retains AMA address, Park releases AMA, gets PMA addres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62720" indent="-2124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vice can participate within 2 m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timates calculated with 600 mAh battery and internal amplifier, power will vary with implementation</a:t>
            </a:r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5D34-0A84-4448-B654-801654DD42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link typ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lling-based packet transmission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slot: 0.625msec (max 1600 slots/sec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ster/slave slots (even-/odd-numbered slots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lling: master always “polls” slav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nchronous connection-oriented (SCO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rcuit-switched”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iodic single-slot packet assignment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mmetric 64Kbps full-duplex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ynchronous connection-less (ACL) lin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mmetric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iable packet size (1-5 slots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x. 721 kbps (57.6 kbps return channel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8.8 - 432.6 kbps (symmetric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1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3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7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1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5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79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B6A-A25E-461C-9307-1B57DCBFDE9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Acknowledgement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1" lang="en-US" sz="1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DC0-4F46-4B29-984B-69C9957D3E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rror handl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ward-error correction (FEC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ers are protected with 1/3 rate FEC and HEC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yloads may be FEC protected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/3 rate: simple bit repetition (SCO packets only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/3 rate: (10,15) shortened Hamming cod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/3 rate: no FE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Q (ACL packets onl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-bit CRC (CRC-CCITT) &amp; 1-bit ACK/NAC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-bit sequence numb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4" name=""/>
          <p:cNvSpPr/>
          <p:nvPr/>
        </p:nvSpPr>
        <p:spPr>
          <a:xfrm>
            <a:off x="3886200" y="108576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400040" y="108576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97200" y="108576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3000" y="172260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43920" y="172260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0960" y="172080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2800" y="78588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882880" y="78588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53960" y="76212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20F-A832-4F42-B18E-9055408A72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security featur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st frequency hopping (79 channel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w transmit power (range &lt;= 10m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 of remote devi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sed on link key (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 be performed in both direc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cryption of payload data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eam cipher algorithm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28 Bit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ffects all traffic on a link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itial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 entry by us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646-8936-4FCE-BF94-F4492D4A5E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6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3" name=""/>
            <p:cNvCxnSpPr>
              <a:stCxn id="800" idx="5"/>
              <a:endCxn id="798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4" name=""/>
            <p:cNvCxnSpPr>
              <a:stCxn id="801" idx="3"/>
              <a:endCxn id="798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5" name=""/>
            <p:cNvCxnSpPr>
              <a:stCxn id="800" idx="6"/>
              <a:endCxn id="801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798" idx="5"/>
              <a:endCxn id="799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7"/>
              <a:endCxn id="798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ink keys in a picone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keys are generated via a PIN entr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different link key for each pair of devices is allowe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uthentication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manent storage of link key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0E6-742C-4E16-B915-D4B640E20F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Key generation and usag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1060560" y="1079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81200" y="20001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03480" y="1452600"/>
            <a:ext cx="350640" cy="547560"/>
          </a:xfrm>
          <a:prstGeom prst="downArrow">
            <a:avLst>
              <a:gd name="adj1" fmla="val 50000"/>
              <a:gd name="adj2" fmla="val 3904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9880" y="29894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440" y="51865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1200" y="4084560"/>
            <a:ext cx="11952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01680" y="35434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01680" y="24861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45705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74840" y="3083040"/>
            <a:ext cx="2743200" cy="304560"/>
          </a:xfrm>
          <a:prstGeom prst="leftRightArrow">
            <a:avLst>
              <a:gd name="adj1" fmla="val 50000"/>
              <a:gd name="adj2" fmla="val 179308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79840" y="53625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480" y="498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539800" y="27432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1066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280120" y="19875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03840" y="14400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70600" y="297648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18160" y="51832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280120" y="4071960"/>
            <a:ext cx="11970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2400" y="353052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702400" y="247320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4557600"/>
            <a:ext cx="352440" cy="625680"/>
          </a:xfrm>
          <a:prstGeom prst="downArrow">
            <a:avLst>
              <a:gd name="adj1" fmla="val 50000"/>
              <a:gd name="adj2" fmla="val 44382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70920" y="1116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285320" y="28242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437600" y="511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B5E-D6C7-4D80-B165-280094196A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pplication level securit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ilds on-top of link-level security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s trusted device group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rity levels for ser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oriz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thentica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cryption require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fferent or higher security requirements could be added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sonal authent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igher security level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ke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2FD-A2B1-4808-A312-EC709CCD01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rchitectural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676520" y="1219320"/>
            <a:ext cx="6324480" cy="4266720"/>
            <a:chOff x="1676520" y="1219320"/>
            <a:chExt cx="6324480" cy="4266720"/>
          </a:xfrm>
        </p:grpSpPr>
        <p:sp>
          <p:nvSpPr>
            <p:cNvPr id="850" name=""/>
            <p:cNvSpPr/>
            <p:nvPr/>
          </p:nvSpPr>
          <p:spPr>
            <a:xfrm>
              <a:off x="1676520" y="335268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52840" y="506232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52840" y="454176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356364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0720" y="405288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30720" y="356364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52840" y="226224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52840" y="173988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522520" y="173988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056040" y="173988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86480" y="173988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52840" y="121932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98280" y="2652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809800">
              <a:off x="3866760" y="26834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39040" y="137160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8520" y="25066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517640" y="388620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94400" y="3581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575-3904-4DC3-8824-14ADB8EF9F1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ftware architecture goa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the target usage scenario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pport a variety of hardware platform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ood out of box user experienc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able legacy application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tilize existing protocols where possib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3DE-FAAA-46D9-B02E-245D04B941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"/>
          <p:cNvGrpSpPr/>
          <p:nvPr/>
        </p:nvGrpSpPr>
        <p:grpSpPr>
          <a:xfrm>
            <a:off x="380880" y="1295280"/>
            <a:ext cx="8404200" cy="4495680"/>
            <a:chOff x="380880" y="1295280"/>
            <a:chExt cx="8404200" cy="4495680"/>
          </a:xfrm>
        </p:grpSpPr>
        <p:sp>
          <p:nvSpPr>
            <p:cNvPr id="871" name=""/>
            <p:cNvSpPr/>
            <p:nvPr/>
          </p:nvSpPr>
          <p:spPr>
            <a:xfrm>
              <a:off x="2614680" y="44704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04960" y="445932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08520" y="19810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55680" y="19810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765520" y="335268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765520" y="403776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70280" y="494352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512676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94320" y="24382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75000" y="266688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36572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499080" y="508608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7048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05560" y="509256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8098560" y="175176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75000" y="2438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75000" y="403848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60800" y="396216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13280" y="334008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7028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17800" y="1752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08520" y="129528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55680" y="129528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032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6100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13480" y="129528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65560" y="290196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55840" y="289548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6720" y="287316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78520" y="285732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64120" y="357480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54760" y="355752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12880" y="533376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127480" y="266688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61000" y="26668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65320" y="419076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994120" y="419076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03848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4680" y="290808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8840" y="352404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0880" y="355752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E30-338F-4A36-894B-7AD854ED830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ost Controller Interface (HCI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nk Layer Control &amp; Adaptation (L2CA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0BF-AB96-438F-9AED-4B5AE78C1E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rvice Discovery Protocol (SDP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BF2-C10C-4EAD-9137-BC2E58D0160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A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Bluetooth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at is Bluetooth and what does it do for you?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usage scenarios examp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architectur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eroperability &amp;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 B: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EEE802.15 and Bluetooth spec mapp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FBE-1936-4BC6-B8C3-315A4F87B4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luetooth protocol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FCOMM (based on GSM TS07.10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ephony Control Protocol Spec (TCS)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gacy protocol reus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A7C-A03C-44C3-9B3C-03BD7F5BFE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teroperability &amp; Profi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4653000" y="1219320"/>
            <a:ext cx="3857760" cy="3672720"/>
            <a:chOff x="4653000" y="1219320"/>
            <a:chExt cx="3857760" cy="3672720"/>
          </a:xfrm>
        </p:grpSpPr>
        <p:sp>
          <p:nvSpPr>
            <p:cNvPr id="932" name=""/>
            <p:cNvSpPr/>
            <p:nvPr/>
          </p:nvSpPr>
          <p:spPr>
            <a:xfrm>
              <a:off x="5072040" y="2152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72040" y="32986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72040" y="27255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8718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45160" y="12924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218280" y="12924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91400" y="12924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364520" y="25938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935840" y="12924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532560" y="46036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60640" y="46022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53000" y="24400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4325400" y="287244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2040" y="12193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24600" y="13716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791400" y="37288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791400" y="25830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35840" y="37288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resents default solution for a usage model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ertical slice through the protocol stack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s for interoperability and logo requiremen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ch Bluetooth device supports one or more profil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B88-48BD-4CE2-AAE5-66F6E094EB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3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1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3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r benefi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ximity synchroniza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asily maintained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mon information database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B9B1-FF21-4F28-B8D1-224467F423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609480" y="1025640"/>
            <a:ext cx="8020080" cy="4612680"/>
            <a:chOff x="609480" y="1025640"/>
            <a:chExt cx="8020080" cy="4612680"/>
          </a:xfrm>
        </p:grpSpPr>
        <p:sp>
          <p:nvSpPr>
            <p:cNvPr id="970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543280" y="2563560"/>
              <a:ext cx="2979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2" name=""/>
            <p:cNvGraphicFramePr/>
            <p:nvPr/>
          </p:nvGraphicFramePr>
          <p:xfrm>
            <a:off x="3903480" y="1488600"/>
            <a:ext cx="855720" cy="78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1488600"/>
                      <a:ext cx="855720" cy="78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4" name=""/>
            <p:cNvGraphicFramePr/>
            <p:nvPr/>
          </p:nvGraphicFramePr>
          <p:xfrm>
            <a:off x="609480" y="2063520"/>
            <a:ext cx="1414440" cy="135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063520"/>
                      <a:ext cx="1414440" cy="13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2266920" y="1966680"/>
            <a:ext cx="1315800" cy="36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1966680"/>
                      <a:ext cx="1315800" cy="36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371680" y="3012840"/>
            <a:ext cx="1271520" cy="40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012840"/>
                      <a:ext cx="1271520" cy="40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64160" y="506700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71320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13200" y="53528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835680" y="50666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358040" y="53528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5804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480160" y="50670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713200" y="49240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864040" y="49240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6835680" y="49240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7358040" y="49240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480160" y="49240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508520" y="49240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1880" y="47811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521320" y="401436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330012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78320" y="372888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78320" y="2998440"/>
              <a:ext cx="0" cy="24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318000" y="4775040"/>
              <a:ext cx="80172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105320" y="4451040"/>
              <a:ext cx="0" cy="32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18080" y="1777680"/>
              <a:ext cx="29779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92720" y="2204640"/>
              <a:ext cx="0" cy="29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65840" y="1025640"/>
              <a:ext cx="170172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692480" y="1461960"/>
              <a:ext cx="3240" cy="25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9"/>
            <a:stretch/>
          </p:blipFill>
          <p:spPr>
            <a:xfrm>
              <a:off x="4047840" y="3404880"/>
              <a:ext cx="658800" cy="40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ynchronization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BA7-7293-46CC-A08D-A9ED5A7A608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"/>
          <p:cNvGrpSpPr/>
          <p:nvPr/>
        </p:nvGrpSpPr>
        <p:grpSpPr>
          <a:xfrm>
            <a:off x="609480" y="1092240"/>
            <a:ext cx="7910280" cy="4013280"/>
            <a:chOff x="609480" y="1092240"/>
            <a:chExt cx="7910280" cy="4013280"/>
          </a:xfrm>
        </p:grpSpPr>
        <p:sp>
          <p:nvSpPr>
            <p:cNvPr id="1012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445000" y="184788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4" name=""/>
            <p:cNvGraphicFramePr/>
            <p:nvPr/>
          </p:nvGraphicFramePr>
          <p:xfrm>
            <a:off x="609480" y="4114800"/>
            <a:ext cx="114300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114800"/>
                      <a:ext cx="11430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6" name=""/>
            <p:cNvGraphicFramePr/>
            <p:nvPr/>
          </p:nvGraphicFramePr>
          <p:xfrm>
            <a:off x="2750760" y="1092240"/>
            <a:ext cx="1166760" cy="129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092240"/>
                      <a:ext cx="11667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8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54360" y="343080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4145040"/>
              <a:ext cx="3065400" cy="571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0376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603760" y="44308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72588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48240" y="44308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4824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370720" y="41450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603760" y="40017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754240" y="40021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725880" y="40017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7248240" y="40017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370720" y="40017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399080" y="40021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0208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54360" y="2716200"/>
              <a:ext cx="149544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202080" y="314496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248240" y="2716200"/>
              <a:ext cx="1271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46560" y="3859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7680" y="2287800"/>
              <a:ext cx="6480" cy="34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92720" y="15732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0120" y="128736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5"/>
            <a:stretch/>
          </p:blipFill>
          <p:spPr>
            <a:xfrm>
              <a:off x="1333080" y="2530440"/>
              <a:ext cx="1744920" cy="15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Headse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106-CAFA-4368-AF14-E502A6BB25D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685800" y="1219320"/>
            <a:ext cx="7994160" cy="4284720"/>
            <a:chOff x="685800" y="1219320"/>
            <a:chExt cx="7994160" cy="4284720"/>
          </a:xfrm>
        </p:grpSpPr>
        <p:sp>
          <p:nvSpPr>
            <p:cNvPr id="1047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03680" y="22780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9" name=""/>
            <p:cNvGraphicFramePr/>
            <p:nvPr/>
          </p:nvGraphicFramePr>
          <p:xfrm>
            <a:off x="4343040" y="238752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8752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1" name=""/>
            <p:cNvGraphicFramePr/>
            <p:nvPr/>
          </p:nvGraphicFramePr>
          <p:xfrm>
            <a:off x="2590560" y="261612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261612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685800" y="223524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23524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5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614920" y="493236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6396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63960" y="521820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688644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408800" y="521820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0880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530920" y="49323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763960" y="478908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914800" y="478944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86440" y="478908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408800" y="478908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8530920" y="478908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559280" y="478944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7840" y="387972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31654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135560" y="359424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129080" y="271620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62640" y="46465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68760" y="464040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56080" y="431640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21400" y="479268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97560" y="121932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930720" y="164448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AN access point profil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06A-26BF-4B2B-9B68-A1769FC0C94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1085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1088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1091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1094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1097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B78-59C6-4E4E-A6B2-FC61012E8EA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luetooth is a global, RF-based (ISM band: 2.4GHz), short-range, connectivity technology &amp; solution for portable, personal devic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pec compris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Discover Magazine Awards finalis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 learn more: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http://www.bluetooth.com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B6EE-DC17-4742-B041-3DEC126DFB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1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tooth is not only a link (connectivity) solution but an end-to-end (e2e)solution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e2e solution is built on-top of a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cor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f low level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transpor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e Bluetooth “brand-name” is highly dependent on the presence of the core protocols in all devices claiming to be Bluetooth device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Courier New"/>
              </a:rPr>
              <a:t>The draft standard must contain: RF, BB, LM, &amp; L2CAP Bluetooth protocol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er level services (including LLC) can/shall be built on top of L2CAP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GAP (Generic Access Profile) can serve as a guideline for establishing Bluetooth links between host devic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11F-7C94-449D-9074-7CD31FBCFA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5563440" y="36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rot="10800000">
            <a:off x="5257440" y="38858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40240" y="18921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7809800">
            <a:off x="4582440" y="28249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24145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spec and IEEE802.15 (2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3318840" y="28051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905120" y="3276720"/>
            <a:ext cx="6324480" cy="2590560"/>
            <a:chOff x="1905120" y="3276720"/>
            <a:chExt cx="6324480" cy="2590560"/>
          </a:xfrm>
        </p:grpSpPr>
        <p:sp>
          <p:nvSpPr>
            <p:cNvPr id="1111" name=""/>
            <p:cNvSpPr/>
            <p:nvPr/>
          </p:nvSpPr>
          <p:spPr>
            <a:xfrm>
              <a:off x="1905120" y="32767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562720" y="36576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095880" y="43736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2133720" y="37162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33720" y="18921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06720" y="18921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613320" y="18921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13716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33720" y="52149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46944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901960" y="42051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1960" y="37162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11A-B47E-4C04-ADB3-9AEC6E5795F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o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rald Blaatand “Bluetooth” II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ng of Denmark 940-981 AC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 is one of two Runic stones erected in his capital city of Jelling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stone’s inscription (“runes”) says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controlled the Dane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rald believes that devices shall seamlessly communicate [wirelessly]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6AE-8E11-46A7-9DF3-C5B43C6CCB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Protocol layer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2898720" y="13953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98720" y="21286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71920" y="21286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671920" y="28623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78400" y="28623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575160" y="28623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0320" y="28623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664000" y="24620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664000" y="25369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26114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26859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27622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28368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57480" y="2403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57480" y="24796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25560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2630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27068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27813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62160" y="24606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137040" y="25192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13000" y="25765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286080" y="263520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362400" y="26938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436920" y="27525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13240" y="28116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57440" y="24606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30520" y="2511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606840" y="25653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681360" y="2617920"/>
            <a:ext cx="42840" cy="3492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57680" y="26701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32200" y="27226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08520" y="2776680"/>
            <a:ext cx="410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83040" y="28288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57440" y="24606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53232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608280" y="2519280"/>
            <a:ext cx="3996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683160" y="25462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7591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33640" y="2604960"/>
            <a:ext cx="3996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8520" y="26337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983040" y="26654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05936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135320" y="27226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210200" y="2752560"/>
            <a:ext cx="396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86160" y="27813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361040" y="28098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4370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2838600"/>
            <a:ext cx="39600" cy="2376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264280" y="28098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87960" y="27813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11640" y="2752560"/>
            <a:ext cx="41400" cy="241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038560" y="27226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62600" y="26938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88080" y="26654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11760" y="26337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37240" y="2604960"/>
            <a:ext cx="39600" cy="241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60920" y="25765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586400" y="25462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510080" y="2519280"/>
            <a:ext cx="41400" cy="2088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37000" y="24890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361040" y="24606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498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2261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300640" y="2498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769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451480" y="2540160"/>
            <a:ext cx="3960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5278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603760" y="25797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768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53160" y="26208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8276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9040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785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48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29360" y="2722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056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78400" y="27637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547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29240" y="28051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055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580080" y="28447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299280" y="28447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222960" y="2824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48440" y="28051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72120" y="2782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996160" y="27637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23080" y="27432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848200" y="2722680"/>
            <a:ext cx="3816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772240" y="27018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695920" y="26827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621400" y="26607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545080" y="2641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0560" y="26208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394240" y="26002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21160" y="25797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245200" y="25606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70320" y="2540160"/>
            <a:ext cx="39960" cy="2052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094360" y="25192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019840" y="24987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943520" y="24796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867200" y="246060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89360" y="2089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889360" y="2014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19382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1863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17892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1728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46560" y="1728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46560" y="18018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1878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1952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028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1049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71920" y="35956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05748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5748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66400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502000" y="35956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575160" y="35956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275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4940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940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05748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05748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3335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78400" y="35956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340320" y="35956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56724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6724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017960" y="3556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017960" y="34797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34052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33307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3255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3193920"/>
            <a:ext cx="111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3324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3324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615000" y="3556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5000" y="34797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34052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33307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3255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3193920"/>
            <a:ext cx="97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9732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9732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06680" y="43275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406680" y="35956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30848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0760" y="35956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3532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017960" y="42879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017960" y="42130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41371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4064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39877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39276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6428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16428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15000" y="42879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15000" y="42130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41371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40640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39877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39276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08480" y="43275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4036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002280" y="43275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370160" y="26892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370160" y="40989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990720" y="48769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1484280" y="20602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438200" y="25462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38200" y="19558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1484280" y="27936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3954600"/>
            <a:ext cx="90720" cy="14436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438200" y="26892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1484280" y="42033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47451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38200" y="40989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484280" y="127296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11667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4887720"/>
            <a:ext cx="1800" cy="401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52513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521720" y="10825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41960" y="24382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55560" y="32004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16400" y="46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98040" y="50338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283720" y="14796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246640" y="22114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39200" y="2944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39200" y="3678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1240" y="19731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361040" y="20336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8176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946240" y="20336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94040" y="20034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39200" y="4410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5748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05748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57800" y="2455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57800" y="24192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050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2669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223056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21938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2155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639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639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488200" y="29653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221160" y="41720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5998680" y="42321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097680" y="420228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671880" y="42321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618240" y="420228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160720" y="17859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595600" y="21686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17859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65360" y="35146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17859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03360" y="42512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15120" y="15955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441800" y="1706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69680" y="52135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597640" y="521352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56720" y="53928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713560" y="53942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0760" y="43275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30960" y="3697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472720" y="44308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1219320" y="19810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90720" y="19810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16200000">
            <a:off x="503280" y="32443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D3E-9061-4EEB-8303-2F7DBD38C8A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838080" y="214164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L2CAP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832920" y="133992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2CA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1371600" y="229392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9392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753120" y="367200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52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F99-0333-45EE-8159-48EFF2803F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838080" y="207180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L PDU (ACLP)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643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LP payloa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L_CH=‘b11’ the ACLP payload is generated and interpreted by the ACLP layer itself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k Manager (LM) PDUs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the payload is passed to the appropriate higher layer (L2CAP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1295280" y="214776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776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4" name=""/>
          <p:cNvSpPr/>
          <p:nvPr/>
        </p:nvSpPr>
        <p:spPr>
          <a:xfrm>
            <a:off x="757080" y="374796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66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E11-6F98-49C8-9C47-F5C59149B8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838080" y="2133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735200" y="9907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131560" y="13399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657600" y="99072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42760" y="133992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header (encoded with 1/3-rate FEC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 payloa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+CRC encoded with {1,2,3}/3-rate FEC)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DU_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Dxy, HVx, DV, AUX1 the BB payload is passed to the appropriate higher layer (LM for ACL packets, an application for SCO packets, AUX1?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, header information or in the FHS payload is used to facilitate &amp; manage baseband transmission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C: present only in non-AUX, ACL packets</a:t>
            </a:r>
            <a:endParaRPr b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1295280" y="220968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8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479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7324560" y="990720"/>
            <a:ext cx="99072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241760" y="13399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704-549A-4D09-946D-F7AA570751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type alternativ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724040" y="3733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994120" y="3733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390920" y="37339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083320" y="4083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942280" y="40831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009400" y="408312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738440" y="28638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390920" y="286380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08332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85440" y="320040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33520" y="1584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7524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3844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63960" y="20574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097360" y="2374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851560" y="240660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249920" y="1263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95280" y="2101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97360" y="3200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27520" y="28954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56640" y="37782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52480" y="4648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024360" y="4648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419720" y="46483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11176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972520" y="49975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762120" y="5257800"/>
            <a:ext cx="7619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202440" y="4648320"/>
            <a:ext cx="1904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045400" y="4997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57440" y="499752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249920" y="469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221480" y="685800"/>
            <a:ext cx="6520320" cy="337320"/>
            <a:chOff x="1221480" y="685800"/>
            <a:chExt cx="6520320" cy="337320"/>
          </a:xfrm>
        </p:grpSpPr>
        <p:sp>
          <p:nvSpPr>
            <p:cNvPr id="1517" name=""/>
            <p:cNvSpPr/>
            <p:nvPr/>
          </p:nvSpPr>
          <p:spPr>
            <a:xfrm>
              <a:off x="122148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195320" y="685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800360" y="8539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3024360" y="286380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972520" y="3200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2F9-244F-4593-8383-EED89DCB02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component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1066680" y="1219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25960" y="1568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124080" y="1219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91120" y="1219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12193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286000" y="1409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46896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63960" y="156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363000" y="15685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96920" y="1981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991440" y="2330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240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191120" y="19810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25780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324480" y="19810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4689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53420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60268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667560" y="24066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438280" y="2171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0922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149640" y="28717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743200" y="30621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043080" y="32004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39625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124080" y="39625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191120" y="39625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19920" y="39625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043800" y="43434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743200" y="4152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E0C-7AEB-465A-B7AA-0012614AFC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eband PDU processing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1" name=""/>
          <p:cNvCxnSpPr>
            <a:stCxn id="1554" idx="3"/>
            <a:endCxn id="1555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2" name=""/>
          <p:cNvCxnSpPr>
            <a:stCxn id="1555" idx="3"/>
            <a:endCxn id="1556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3" name=""/>
          <p:cNvCxnSpPr>
            <a:stCxn id="1559" idx="3"/>
            <a:endCxn id="1558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8" idx="3"/>
            <a:endCxn id="1557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5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0" name=""/>
          <p:cNvCxnSpPr>
            <a:stCxn id="1567" idx="3"/>
            <a:endCxn id="1568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1" name=""/>
          <p:cNvCxnSpPr>
            <a:stCxn id="1568" idx="0"/>
            <a:endCxn id="1569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2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6" name=""/>
          <p:cNvCxnSpPr>
            <a:stCxn id="1574" idx="3"/>
            <a:endCxn id="1573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7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7" idx="3"/>
            <a:endCxn id="1578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73" idx="2"/>
            <a:endCxn id="1577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69" idx="3"/>
            <a:endCxn id="1572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7" name=""/>
          <p:cNvCxnSpPr>
            <a:stCxn id="1586" idx="0"/>
            <a:endCxn id="1584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8" name=""/>
          <p:cNvCxnSpPr>
            <a:stCxn id="1586" idx="0"/>
            <a:endCxn id="1585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9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F39-8994-4D55-8B2B-F861ABE4D9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does Bluetooth do for you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4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69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1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0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2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4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7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6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69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3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4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6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6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1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3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BC5-1F7F-4061-9CD8-7FCDB87322C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little bit of history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(Special Interest Group) was formed in Februar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ki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hiba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re are over 1036 adopter companie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ent “public” in May 1998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e Bluetooth SIG work (the spec: &gt;1,500 pages) became public on July 26, 1999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4B0-809F-4476-B965-CEF587A326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e Bluetooth program overview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685800" y="1066680"/>
            <a:ext cx="7772400" cy="914400"/>
            <a:chOff x="685800" y="1066680"/>
            <a:chExt cx="7772400" cy="914400"/>
          </a:xfrm>
        </p:grpSpPr>
        <p:sp>
          <p:nvSpPr>
            <p:cNvPr id="419" name=""/>
            <p:cNvSpPr/>
            <p:nvPr/>
          </p:nvSpPr>
          <p:spPr>
            <a:xfrm>
              <a:off x="685800" y="106668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19520" y="10666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85800" y="1981080"/>
            <a:ext cx="7772400" cy="914400"/>
            <a:chOff x="685800" y="1981080"/>
            <a:chExt cx="7772400" cy="914400"/>
          </a:xfrm>
        </p:grpSpPr>
        <p:sp>
          <p:nvSpPr>
            <p:cNvPr id="422" name=""/>
            <p:cNvSpPr/>
            <p:nvPr/>
          </p:nvSpPr>
          <p:spPr>
            <a:xfrm>
              <a:off x="685800" y="198108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19520" y="19810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85800" y="2895480"/>
            <a:ext cx="7772400" cy="914400"/>
            <a:chOff x="685800" y="2895480"/>
            <a:chExt cx="7772400" cy="914400"/>
          </a:xfrm>
        </p:grpSpPr>
        <p:sp>
          <p:nvSpPr>
            <p:cNvPr id="425" name=""/>
            <p:cNvSpPr/>
            <p:nvPr/>
          </p:nvSpPr>
          <p:spPr>
            <a:xfrm>
              <a:off x="685800" y="289548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19520" y="28954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7772400" cy="914400"/>
            <a:chOff x="685800" y="3809880"/>
            <a:chExt cx="7772400" cy="914400"/>
          </a:xfrm>
        </p:grpSpPr>
        <p:sp>
          <p:nvSpPr>
            <p:cNvPr id="428" name=""/>
            <p:cNvSpPr/>
            <p:nvPr/>
          </p:nvSpPr>
          <p:spPr>
            <a:xfrm>
              <a:off x="685800" y="380988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38098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5800" y="4724280"/>
            <a:ext cx="7772400" cy="914400"/>
            <a:chOff x="685800" y="4724280"/>
            <a:chExt cx="7772400" cy="914400"/>
          </a:xfrm>
        </p:grpSpPr>
        <p:sp>
          <p:nvSpPr>
            <p:cNvPr id="431" name=""/>
            <p:cNvSpPr/>
            <p:nvPr/>
          </p:nvSpPr>
          <p:spPr>
            <a:xfrm>
              <a:off x="685800" y="472428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19520" y="472428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47E-A6C4-4B89-A3E6-0957CF6151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484200" y="990720"/>
            <a:ext cx="8278560" cy="4267080"/>
            <a:chOff x="484200" y="990720"/>
            <a:chExt cx="8278560" cy="4267080"/>
          </a:xfrm>
        </p:grpSpPr>
        <p:sp>
          <p:nvSpPr>
            <p:cNvPr id="434" name=""/>
            <p:cNvSpPr/>
            <p:nvPr/>
          </p:nvSpPr>
          <p:spPr>
            <a:xfrm>
              <a:off x="5262480" y="15548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22680" y="10666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24120" y="33836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6880" y="33526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44798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42670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5160" y="25437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3531600" y="29718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4200" y="48340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4200" y="43131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33354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52440" y="38242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52440" y="33354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4200" y="20336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4200" y="15112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57200" y="15112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63800" y="15112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0720" y="15112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200" y="9907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69320" y="24242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7809800">
              <a:off x="2932920" y="24440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What is Bluetooth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hardware/software descrip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 application framework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C76-D1A1-42E4-A72C-11B847C653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Usage scenarios example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 Transf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ata Access Points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nchronization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adset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idden Computing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ference Tabl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rdless Computer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iness Card Exchang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ant Postcard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ee-in-one 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uter Speakerphone</a:t>
            </a: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EE802.15: Bluetooth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9E1-7048-4B14-A698-57CA2ADF04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14/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2T01:34:02Z</dcterms:created>
  <dc:creator>Chatschik Bisdikian</dc:creator>
  <dc:description/>
  <dc:language>en-US</dc:language>
  <cp:lastModifiedBy>Ian C. Gifford</cp:lastModifiedBy>
  <cp:lastPrinted>1999-07-23T14:05:54Z</cp:lastPrinted>
  <dcterms:modified xsi:type="dcterms:W3CDTF">1999-09-09T17:57:01Z</dcterms:modified>
  <cp:revision>185</cp:revision>
  <dc:subject/>
  <dc:title>No Slide Title</dc:title>
</cp:coreProperties>
</file>