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435-A69D-4669-BCF6-5C1AA0F1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01A-6A82-414F-BBA3-EC4E3C64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CBC-50A5-4717-87AA-39D9F6AC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5FC-40F8-4C51-A1E3-6057906B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BE3-44D2-4752-8E9D-1B179B31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FB1-BBA2-46BE-A500-14B7D572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20D-C5C3-4A89-9D43-E191F349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3BA4-A300-475B-BF4A-2C110C27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40E-1051-4A38-92A9-AA008CD8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D84-80EF-4554-A738-892C89AF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B79-FD1C-41F7-A7FE-4B317F2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082-0E1E-43B9-BC97-B1634ABD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00460A-66BB-4B0B-897E-43044CD95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and IEEE 8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14600" y="1981080"/>
          <a:ext cx="5738760" cy="216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981080"/>
                    <a:ext cx="5738760" cy="21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899-27F7-4EE5-B714-8F6C5088BC5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unctional Organization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47920" y="1676520"/>
          <a:ext cx="58798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58798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94A-D695-4BDE-94B2-D5C05BBF4D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E61-9B8B-4F75-8ED4-936F088D0E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42:20Z</dcterms:modified>
  <cp:revision>5</cp:revision>
  <dc:subject>IEEE 802.15 &lt;subject&gt;</dc:subject>
  <dc:title>IEEE P802.15 Operating Rules</dc:title>
</cp:coreProperties>
</file>