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CF3F9BE-C31F-4F10-8F05-98A8FB850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5A0-3650-4F97-933D-6C06AF85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E33-10CF-4216-80BA-C776B189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995-C407-495C-ACF4-0D45477B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338-FD1F-4F39-951F-517BAA92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A84-0ECC-4C34-B933-CC182132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178-887D-4C3D-BD46-77D3B786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6DF-BD04-44E1-BEF4-913CE862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48D-54A5-4F85-9E5D-985CB73E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F1A-5828-4DFD-AA68-1192B6F7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764-52FF-4B5E-8174-EC89EE8B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8BB-6097-4C70-A1EB-FBF29FA4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2F3-093F-4C9C-BDF3-B06712AE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BA049D2-513F-48F5-8920-84E437AAE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8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0A2-99B2-42C9-AF76-C8CBB77E083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nty-four (24)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(6) Bluetooth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an Interim Conference Tutorial on Tuesday 14Sep99 from 6:30 to 9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 detailed overview of the “Mapping the Bluetooth Specification to IEEE 802.15.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9053-E5DB-40A8-A016-B0CE4B5F04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7184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33680" y="1968480"/>
            <a:ext cx="2463840" cy="1219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34080" y="2514600"/>
            <a:ext cx="1574640" cy="214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8880" y="3200400"/>
            <a:ext cx="71136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456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7120" y="131436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TG1   ! SG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 !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!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 !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TG1 ! SG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!     |.............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!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C50-7CF3-487E-A730-C39DDA7217B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740560" y="2514600"/>
            <a:ext cx="157464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1981080"/>
            <a:ext cx="1676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51040" y="4216320"/>
            <a:ext cx="170172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40160" y="1981080"/>
            <a:ext cx="1498320" cy="1752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 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120" y="132732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    TG1   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SG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   TG1    | Joint.11/.15| SDL Model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...........|.............|   Class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SG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668-EDDE-4EF1-8F83-020122351DE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G1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02.15 WG LB #1 Comment Resolution (WG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4160" y="247644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B7A-2AB9-4377-9259-EABA5AAADD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xt Steps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TG1 Tasks (Monit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4160" y="1752480"/>
            <a:ext cx="830556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480" y="762120"/>
            <a:ext cx="76176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4360" y="73008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TG1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74B-4491-47A4-86A3-B5C909CC0EB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ay, 13Sep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esday, 14Sep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for Santa Ro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542-A7D0-431D-8337-65AE4AE440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asks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429264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150-4273-413D-B49E-63A7DC4758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G1 Timeline -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15Ka" descr=""/>
          <p:cNvPicPr/>
          <p:nvPr/>
        </p:nvPicPr>
        <p:blipFill>
          <a:blip r:embed="rId1"/>
          <a:stretch/>
        </p:blipFill>
        <p:spPr>
          <a:xfrm>
            <a:off x="63360" y="1819440"/>
            <a:ext cx="9004320" cy="283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64240" y="3314880"/>
            <a:ext cx="7621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7960" y="5043600"/>
            <a:ext cx="65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G1 had an offline discussion with Vic Hayes Tuesday, 14Sep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help us understand the WG LB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C0F-85D2-4808-ADD2-6563F2BBFDA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day, 13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4:15pm and processed all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FROM BT-IEEE EDITORIA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WG &amp; SPONSOR BALLOT RUL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883-6D76-412F-89E6-2F7F43722E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u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opened our meeting at 8:32am and processed most of our Agenda Items.  The key items w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THE BLUETOOTH SYSTEM (Morning &amp; Ev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BLUETOOTH LIA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G1 MILESTONE/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FOR WG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653-FC1C-49DD-841F-18C0A5D495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Wednesday, 14Sep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pened our meeting at 8:33am and processed most of our Agenda Items.  The key items w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FUNCTION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RESOURCE RECRU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NNING FOR SPONSOR BALLOT -99/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802 COORDINATION -99/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BLUETOOTH COORDINATION -99/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ETSI COORDINATION -99/[8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FOR INITIAL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NEXT STEP WITH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AND APPROVED WEDNESDAY DRAFT TG1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257800"/>
            <a:ext cx="221004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3120" y="2611440"/>
            <a:ext cx="312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} siep@ti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050-28F3-473B-A4AD-3AF2F556B5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te on TG1 Draft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FD0-F3E8-4353-8778-DE8B093C566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4CA-CC4A-478D-A1E3-9EC3E181626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081r0</dc:description>
  <dc:language>en-US</dc:language>
  <cp:lastModifiedBy>Bridget Labrode</cp:lastModifiedBy>
  <cp:lastPrinted>1998-02-10T13:28:06Z</cp:lastPrinted>
  <dcterms:modified xsi:type="dcterms:W3CDTF">1999-09-15T23:04:25Z</dcterms:modified>
  <cp:revision>20</cp:revision>
  <dc:subject>IEEE 802.15 TG1 Report #2</dc:subject>
  <dc:title>IEEE P802.15 Working Group for Wireless Personal Area Networks</dc:title>
</cp:coreProperties>
</file>