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6C1A-D02B-457B-8226-2488A67B6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2DA1-978A-43AC-8AE1-24D4D638A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808B-4D04-4A1B-871B-3F90EC4D3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AD9D-1599-46B5-A563-2EEFDBF8A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9E97-4B06-4202-A5DA-5D8755B9C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56B8-3A1E-442A-8538-831DB27A1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3A91-11E0-45D8-A376-9BFA46C79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1869-91F7-4046-9721-9D52ACD99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B202-8272-4168-A4BE-3CB75041D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2A21-1C87-412D-A380-2E089CE5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39ED-70FB-4669-80DE-5DEFAFE75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CDBD-6778-4A02-83ED-A74E1F1B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6A70D76-322E-405A-BF86-F9CAC22D8F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108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eting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uai 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v 8-11, 1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, Harris and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A640-4557-4772-A8CE-DB01EFB07EB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74560" y="685800"/>
            <a:ext cx="576324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Agenda –Tuesday, November 9, 1999       Defer to new High Rate Grou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Agenda-Wednesday, November 10, 1999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8:30 - 10:30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Meeting to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ttendance check- introductio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view of Marketing committee charter/objectiv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vents and progress since July/September meet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posed tasks for the week in Kaua’i, Hawa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Discuss Submission -99/13xr0, An update on the  “ TG1 requests to MC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Discuss Submission -99/13xr0, An update on “P802.15.1 MARCOM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.g., SIG, Collateral, "Handbook to P802.15.1 Project", Un-plugfest, et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greement on tasks and individual/group assignments for Thurs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sub-committee meeting arrangements as need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djo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Agenda-Thursday, November 11, 1999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8:30 - 10:30 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Meeting to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w Busi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tinuation of above i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port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ommendation on MC char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view preparations for Thursday .15 ful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djo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, Harris and Ian Gifford, M/A-C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BA0E-7A49-49F2-8544-DDE52DB5242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s of the WPAN Marketing Ent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ect and maintain the application and usage scenarios generated by the CF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ide the formulation of documentation that clearly &amp; distinctly differentiates the purposes and services of the various IEEE WPAN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the dissemination of information about IEEE 802.15 Working Group activities internally (among 802 working groups) and externally (among the electronics industry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ilitate 802.15 task groups in reaching convergence and consensus on technical requiremen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how best to promote the public demonstration of interoperability between products built using 802.15 standard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nd maintain liaisons with other selected industry marketing groups (e.g. Bluetooth, HomeRF) and standards bodies (e.g ETSI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ster two-way communications between suppliers and consumers of WPAN produc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ourage and foster creation of value-added industry marketing groups as appropriate (e.g. Gigabit Ethernet Alliance, http://www.gigabit-Ethernet.org/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, Harris and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D1FA-D4B8-4F7E-AA60-24C96003B20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8T16:56:24Z</dcterms:created>
  <dc:creator>Ian Gifford, M/A-COM &amp; Bruce Kraemer, Harris</dc:creator>
  <dc:description>031r1</dc:description>
  <dc:language>en-US</dc:language>
  <cp:lastModifiedBy>Ian C. Gifford</cp:lastModifiedBy>
  <cp:lastPrinted>1998-02-10T13:28:06Z</cp:lastPrinted>
  <dcterms:modified xsi:type="dcterms:W3CDTF">1999-11-08T23:08:28Z</dcterms:modified>
  <cp:revision>46</cp:revision>
  <dc:subject>IEEE 802.15 Marketing</dc:subject>
  <dc:title>IEEE P802.15 Working Group for Wireless Personal Area Networks</dc:title>
</cp:coreProperties>
</file>