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CD5-37AC-4B4E-AECC-3B6E0532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612-7483-417C-8970-E572C056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A2D-3D25-44AA-9357-E720C12D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6DD-6B10-4089-8829-F424E1EB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5A5-5133-4D0F-BB62-92D89BD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006-4C6F-4C63-9F1B-FDB74A3B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C7A-FA29-4B85-8AF6-01787147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655-D862-47DE-A5E3-FF0B3EFF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131-7C76-4E45-A68E-3F0AF4BB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FFF-1785-4790-9D5F-371F02A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72F-F3E1-412E-B239-D36E2B3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671-5B7A-4DFF-8646-D7652A2D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Cypher,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FC2401-FC43-4AAB-937E-16F81FA1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ference 802.15-99/114.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, Interoperability and 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larifications of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3E05-CB00-404F-91DE-6C2CF87D879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mal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65760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048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514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0"/>
            <a:ext cx="2362320" cy="3048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2362320" cy="3048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286000"/>
            <a:ext cx="2361960" cy="30481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6BD-E214-421D-8284-1769AACD60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existence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905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5181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0988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209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657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0"/>
            <a:ext cx="6858000" cy="3505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3962520" cy="37339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981080"/>
            <a:ext cx="5791320" cy="4191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B4E-9D44-4429-9B7A-6886312747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o finer definitions on coexistence and interoper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erformance criteria to evaluate the protocols/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“level of performance” where systems are defined to co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436A-8E97-4658-998D-A0740643C8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ireless devices are said to “coexist” if they can be collocated without significantly impacting the performance of any of thes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4286-7D92-4626-9A52-5FAA928918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- The ability for two or more systems to exchange information and to mutually use the information that has been ex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- The ability for two systems to perform a given task using a single set of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B02-6671-4235-96BC-6142ED5C94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ance/Conformance Testing/Co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/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T, SUT, repeatability,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A90-01B8-4644-AFDB-3E74B32E06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743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280" y="4495680"/>
            <a:ext cx="449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nformance Testing (User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nformance Testing (Network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onformance Testing of NNI (symmet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a 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b Interworking (UNI to N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Interoperability of TE and Switc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nteroperability of Switch 1 and Switc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24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32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36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74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718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32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2744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6576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516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712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1905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412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98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1680" y="144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184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92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602-9C01-4C78-8758-9FD99231A1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3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432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136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48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9718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00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15200" y="29718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0440" y="3200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724280"/>
            <a:ext cx="1067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562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1600" y="5562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10C-589F-4FC6-90DA-5125A2AD76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(Speech via a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11560" y="276228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3581280"/>
            <a:ext cx="381240" cy="3812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362320"/>
            <a:ext cx="2895480" cy="28191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76720"/>
            <a:ext cx="990360" cy="99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4114800" cy="4038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447920"/>
            <a:ext cx="4724280" cy="46479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05740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97180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2286000" cy="2210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5410440" cy="5181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689-50B5-4EE6-B5AA-8B9C24B804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esence of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828800"/>
            <a:ext cx="4114800" cy="4038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23880"/>
            <a:ext cx="4724280" cy="4648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295280"/>
            <a:ext cx="5410440" cy="5181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66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309-CCB8-4744-8876-44825C117B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79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2743200"/>
            <a:ext cx="2286000" cy="2209680"/>
            <a:chOff x="4724280" y="2743200"/>
            <a:chExt cx="2286000" cy="2209680"/>
          </a:xfrm>
        </p:grpSpPr>
        <p:sp>
          <p:nvSpPr>
            <p:cNvPr id="184" name=""/>
            <p:cNvSpPr/>
            <p:nvPr/>
          </p:nvSpPr>
          <p:spPr>
            <a:xfrm>
              <a:off x="5715000" y="3657240"/>
              <a:ext cx="380880" cy="3808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3352680"/>
              <a:ext cx="990720" cy="99000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04776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274320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39A-F221-455D-8FC9-743B283E9E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David Cypher</cp:lastModifiedBy>
  <cp:lastPrinted>1999-11-03T18:52:39Z</cp:lastPrinted>
  <dcterms:modified xsi:type="dcterms:W3CDTF">1999-11-09T20:56:45Z</dcterms:modified>
  <cp:revision>10</cp:revision>
  <dc:subject/>
  <dc:title>No Slide Title</dc:title>
</cp:coreProperties>
</file>