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EA62D6-45F7-4602-94EE-1324B932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F0C-18FC-415E-B77E-21D47567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8B6-041D-45E7-A358-4E0E8B9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A38-6126-4BC0-AA27-2230A353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93B-4CA6-4DF0-AA7B-F03AC328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1B3-7B81-4EB3-AAD1-10857AD0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170-9857-48A9-88FC-FCB385E3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F85-310A-46D2-9C82-D388B9C0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FE5-339E-4D37-81BD-565F6874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378-E0F1-4401-8073-CBBD2A51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AE5-D8B6-46DC-9DD5-183531CA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140-3F6A-4BF6-8C09-017CF0D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360-E494-4961-A3D8-D5D25BC4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758CEA-13DB-4A87-BB0F-EEF8E27BE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64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308-DC53-4304-A19C-02D6A4C1AEA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1 Timeline - Plan A &amp;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TG1 activities from 9Jul99 to 13Sep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Santa 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922-28FA-4F48-B826-720BC55F1A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60Ka" descr=""/>
          <p:cNvPicPr/>
          <p:nvPr/>
        </p:nvPicPr>
        <p:blipFill>
          <a:blip r:embed="rId1"/>
          <a:stretch/>
        </p:blipFill>
        <p:spPr>
          <a:xfrm>
            <a:off x="77760" y="2076480"/>
            <a:ext cx="897732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411480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52480" y="41911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320" y="5133960"/>
            <a:ext cx="828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1.4.2.2 Voting by Letter Ballots... The [WG] letter ballot response time must be at least forty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the time of “sending” postmark to the postmark of the returned bal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332-D580-4A56-A83F-1E5818D5F2B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Timeline - Plan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30Kb" descr=""/>
          <p:cNvPicPr/>
          <p:nvPr/>
        </p:nvPicPr>
        <p:blipFill>
          <a:blip r:embed="rId1"/>
          <a:stretch/>
        </p:blipFill>
        <p:spPr>
          <a:xfrm>
            <a:off x="101520" y="2076480"/>
            <a:ext cx="8931240" cy="270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48040" y="4165560"/>
            <a:ext cx="6858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895480" y="426708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2360" y="5130720"/>
            <a:ext cx="72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ould like to consider a rapid turn around on the Letter Ballot e.g., 14 vs. 40 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4793-9AE6-4EDB-AC01-7ECB89285E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Montre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anks to your spirited involvement, it was quite a successful kick-off meeting. Over 60 people attended the meeting.  39 achieved voting status...and we formed a Task Group, headed by Ian Gifford, to begin the work of rapidly developing our first draft standard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b H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A4E-CC48-4F01-B350-2C15F98C8A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G1 activities from 9Jul99 to 13Sep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effort driven work in TG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d contact w/ Bluetooth-IEEE Editorial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d in IEEE/ETSI/Bluetooth Liaison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d submissions for Santa 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AC during weekly tele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F6C-3BD0-4F49-84EB-12F99002B0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KICK OFF WORK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OTE ON REMAINING TG1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OVIDE AN OVERVIEW OF THE BLUETOOTH SPECIFIC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LAN FOR or OVERVIEW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34340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E7A-F7FA-41B1-BEED-31374ECCAC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-four (24)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(6) Bluetooth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ing an Interim Conference Tutorial on Tuesday 14Sep99 from 6:30 to 9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a detailed overview of the “Mapping the Bluetooth Specification to IEEE 802.15.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B9B-86E9-48F9-A321-ACB7B99F33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5428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1968480"/>
            <a:ext cx="2463840" cy="1219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6520" y="2514600"/>
            <a:ext cx="1575000" cy="214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41680" y="3200400"/>
            <a:ext cx="711000" cy="1447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4216320"/>
            <a:ext cx="1702080" cy="432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560" y="131436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TG1    | TG1   ! SG  |    MC      |Full 802.15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.............|           |       !     |............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C  ! SG  |           |       !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!     |           |       !     |    TG1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SG     | TG1 ! SG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!     |.............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        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!     | Full 802.15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!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Bluetooth |   Social    | Pizza Party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     &amp;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I &amp; 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5E3-60F8-4830-8DAB-52806F02EB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064r1</dc:description>
  <dc:language>en-US</dc:language>
  <cp:lastModifiedBy>Ian C. Gifford</cp:lastModifiedBy>
  <cp:lastPrinted>1998-02-10T13:28:06Z</cp:lastPrinted>
  <dcterms:modified xsi:type="dcterms:W3CDTF">1999-09-13T02:40:44Z</dcterms:modified>
  <cp:revision>12</cp:revision>
  <dc:subject>IEEE 802.15 TG1 Report #1</dc:subject>
  <dc:title>IEEE P802.15 Working Group for Wireless Personal Area Networks</dc:title>
</cp:coreProperties>
</file>