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BE0-28F8-4788-8A8E-0C1C3CE1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93A-8CA3-414B-8DA3-16EB07EE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9E1-C752-42B0-98BA-A20EA95C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136-1809-4235-81A2-9B914ED0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841A-CF8F-402A-AC52-76822C0B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E00-047A-48DE-9CB1-1F01D7A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12D-E98D-40E4-99DE-C6BCF6E7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4E1-0FE9-46F6-9D4E-1B76494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EC2B-D1FD-410E-947D-7BFF73B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93B-25B2-4B0B-B776-896C4D1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B22-F521-4BD5-90E6-6A38A2BD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901-0DF4-44B5-823F-DCCC94CD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76ADB6-6092-4569-A2D0-064B76BD8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9C39-812A-4DAF-A8CB-79791E7343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82A-0A8F-4600-80F5-9B259A77C9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2BA-B3A3-42D9-875D-A4242C3355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E7E-9EF3-431F-8F77-42FA823768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8CE-B12E-4BD6-B0AE-EDBE59B8DB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EA4-27B3-486C-B3CD-7FDD370EA7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31A-4F5A-4459-AFFE-5E7742457C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BF8-C59B-40CC-90A9-16758169CE4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34C-154E-4C1D-82BD-372275F648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E00-8975-4A4A-A6DA-2E00F0F995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D9A-A499-4F17-B779-DC34F90557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3B3-7955-4B6C-B2FD-C3BB0C5A7A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A48E-B530-4DAD-B81E-801E040B7C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08F-E002-4BB5-BF38-7C8E8E2D6BE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A1A-B9B5-44CB-A9E2-081CEC80D0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85A-74D2-4CC8-8C4E-F2012B12CF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040-856B-4B85-A811-DE392043BD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1E4-3792-40BC-8DD5-ED61DD6739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2DD-091A-46A5-AE58-954A01B371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22A-A28A-443C-BC02-D46B0CA6A5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6D7-F5FD-4906-9832-0D9E25E66E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846-EB85-4480-8F20-612E9FB5C8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3B6-EF1A-4AAC-8CCD-1BC2F98058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398-8201-4138-A38F-A7ED1FF633E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31C1-A381-4EC2-92BD-ED443BC728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8DA-EE0E-47B6-B977-9674C11A79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009-8CA0-46CB-B3A2-0C6F22FC832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F8A-F8E1-422A-837E-E117CE84BA4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2A4-7117-4D59-B93E-94E04271FB6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D34-89CD-4EB7-BE4F-5687BC2A81D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024-AAB8-46C6-BC88-5A8B5FEF3A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E6A-7DA2-45D1-9D93-44635D0A4F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04D-7E40-43EC-B12E-46DA5372B5BD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431E-4BED-47D9-A88A-A3AB05C526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DA2-1D29-4CB9-AEB9-06FD9C418B5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6B4-339B-4986-9CAD-50A296F28A9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4AD-DA75-47E0-BFC7-6B7CC85817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06A-C430-4C2E-A370-BA33CE2AACA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750-DBB1-4F4C-A512-629579A3B5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B13-7141-405B-9A2F-446B7DB8B4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E7A-304B-410C-8EE2-47151AFFA2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23F-F210-4746-87F7-2BA31778FBA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E41-AC15-409F-836F-62411F4645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951-FABB-4DB9-B7ED-BE9FF31D835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083-C587-4417-9095-FFB42EB134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2AC-4019-45EF-A6B0-836242AA2F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Ian C. Gifford</cp:lastModifiedBy>
  <cp:lastPrinted>1998-02-10T13:28:06Z</cp:lastPrinted>
  <dcterms:modified xsi:type="dcterms:W3CDTF">1999-09-09T18:35:42Z</dcterms:modified>
  <cp:revision>2</cp:revision>
  <dc:subject>Bluetooth Architecture Overview</dc:subject>
  <dc:title>Overview of the Bluetooth System</dc:title>
</cp:coreProperties>
</file>