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B6B26EC-A4F6-49B9-8186-469B7C557B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4495680" y="396720"/>
            <a:ext cx="3962520" cy="21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828800" algn="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c.: IEEE 802.11-99/4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696960" y="609480"/>
            <a:ext cx="7761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 txBox="1"/>
          <p:nvPr/>
        </p:nvSpPr>
        <p:spPr>
          <a:xfrm>
            <a:off x="685800" y="6475320"/>
            <a:ext cx="711360" cy="3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696960" y="6477120"/>
            <a:ext cx="78375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685800" y="685800"/>
            <a:ext cx="7772400" cy="14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2000"/>
            </a:br>
            <a:r>
              <a:rPr b="1" lang="en-US" sz="4000" spc="-1" strike="noStrike">
                <a:solidFill>
                  <a:srgbClr val="b2b2b2"/>
                </a:solidFill>
                <a:latin typeface="Arial"/>
                <a:ea typeface="Arial"/>
              </a:rPr>
              <a:t>55th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 Session of meetings of</a:t>
            </a:r>
            <a:br>
              <a:rPr sz="40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EEE P802.1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762120" y="198108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20"/>
              </a:spcBef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Wireless Personal Area Network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ntative Agend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ubject to changes by committ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ch 8-11, 19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ustin, Texas U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PAN Study Group session starts on Monday, March 8, 8:30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chive, Mailing List, UR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ch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ftp://ftp.flexipc.com/wearablesgroup/Index.h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</a:rPr>
              <a:t>ftp://ftp.flexipc.com/wearablesgroup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</a:rPr>
              <a:t>http://grouper.ieee.org/groups/802/11/index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ling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</a:rPr>
              <a:t>stds-802-wpan@majordomo.ieee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luetooth Special Interest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</a:rPr>
              <a:t>http://www.bluetooth.com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me RF Working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</a:rPr>
              <a:t>http://www.homerf.org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831960" y="5556240"/>
            <a:ext cx="7632720" cy="7747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add your name to IEEE mailing list please send an e-ma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Ian Gifford giffordi@amp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ives for this Se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oduction &amp; Backgroun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ent resolution of WPAN PAR -98/162r8 &amp; Five Criteria -98/161r5 and submission to ExCom and Nes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PAN Leadership Discu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aison Updates and Future Dir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ugh Graphic 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158760" y="1676520"/>
            <a:ext cx="8985240" cy="450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----|-------------|-----------|-------------|------------|------------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   Monday    |  Tuesday  |  Wednesday  |  Thursday  |   Friday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----|-------------|-----------|-------------|------------|------------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Exec !TGb!SG |     !     |      !      |      !     |     802 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AM |Comm.!   !   | TGb !  SG |  TGa !  SG  |  TGb ! SG  |   Plenary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     !   !   |     !     |      !      |      !     |............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     !   !   |     !     |      !      | rev  !     |         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----|-------------|-----------|-------------|------------|------------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802Pl!TGb!SG |           | Full 802.11 |  Tga ! SG  |         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.............|    SG     |.............|............|         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PM |IETF Tutorial|           |      !      | Full 802.11|         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.............| . . . . . | TGb  !  SG  |Reports/Outp|         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 Full 802.11 | TGa  ! SG |      !      | Next mtng  |         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----|-------------|-----------|-------------|------------|------------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Eve-|    Tga      |Tut. BTSIG |. . . . . . .|Exec. |Mlng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ning| . . . . . . | . . . . . |Social       | Comm.|Prep.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Tut.Elctr.blt|Tut. HomeRF|      Event  |      |  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----|-------------|-----------|-------------|------------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Legend:   ......... = flexible adjournment/Sta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475400" y="2905200"/>
            <a:ext cx="1371600" cy="182880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nday,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0 Opening of Se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1 Roll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1 Log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3 Other Announc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0 Approval of the minutes of previous meet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1 Orlando, Florida Minutes -99/xy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2 Matters arising from the minu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0 Review Objectives of Mee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0 Review of Contrib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0 Approval of Agenda -99/x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nday,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0 Old Bus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0 New Bus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0 Review Action Plan and Strategy for 802.11,ExCom and Nes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0 Liaison Conference Tutor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1 Review game 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2 Review/Approve WPAN Tutorial/Pit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0 Review results of Letter Ballot 17 and begin comment reso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uesday,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0 Continued: “Comments received on WPAN's PAR and 5 Criteria in Letter Ballot 17” -99/--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.0 Develop Recommendation for on-going Leadership of the WPAN Gro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.0 Prepare Report to Working Gro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dnesday,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.0 Open Session for WPAN, Bluetooth &amp; HomeRF memb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.1 Discuss feedback from Tutor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.2 Discussion of Relationship/Affiliation to IEEE WPAN Activ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.3 Develop Recommendation for On-Going Liais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.0 Finalize Working Group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.1 Draft motions, as appropriate, for WG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ursday,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7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.0 Review and Approve Final SG Report to 802.11 Working Gro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.0 Review Recommended Report to Ex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.0 Prepare for Interim Meeting in Japan May 3-7, 19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.1 Summarize WG Re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.2 PAR &amp; 5C Review/Approv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.3 WPAN Disposition, Scenarios, and Road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.4 WPAN Attendance Po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ture Meeting Schedu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9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3-7 - Shinagawa? Prince Hotel, Tokyo, Japan, Interim (NTT, Clarion, NE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ly 5-9 - Queen Elizabeth, Montreal, P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pt 13-17 - Hilton, Santa Rosa, CA, Interim (Alantr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vember 8-12 - Hyatt Regency, Kauai, Koloa, HI, Plen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nuary TBD - Israel?, Interim (Breezeco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6-10 - Hyatt Regency, Albuquerque, NM, Plen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ly 10-14 - Hyatt Regency La Jolla, San Diego, CA, Plen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vember 6-10 - Hyatt Regency, Tampa, F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Robert F. Heile</dc:creator>
  <dc:description>Robert F. Heile, GTE</dc:description>
  <dc:language>en-US</dc:language>
  <cp:lastModifiedBy>Ian C. Gifford</cp:lastModifiedBy>
  <cp:revision>0</cp:revision>
  <dc:subject>Tentative Agenda</dc:subject>
  <dc:title>doc.: IEEE 802.11-99/xxx</dc:title>
</cp:coreProperties>
</file>