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4A7-098C-4099-B815-8CA0034D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9F8-B38F-44D5-94F4-D2CE53F1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FB5-1C81-4194-88AB-69E08103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D36-3C25-4688-B03F-84CB2CAC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996-D922-4BBC-BEE1-B9380399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AAF-9327-42E2-A589-1686E850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1C3-5666-435E-A5E4-8F5E4377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B465-F229-4D65-B4E5-33F29B3F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6FF-491B-4ED8-B2EB-57231A34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2DB-0A4E-4364-8FD0-AAF37D4C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54C-091B-4990-AEBA-57E1AF20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FD8-414D-4457-937C-D580A6EB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670B2C-DF9F-499C-B5A7-F57AB095F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26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81280"/>
            <a:ext cx="6993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b Heile, 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7621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802.15 Working Group Statu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5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5EB-2ECE-4779-961E-3B5257D657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47F-BAFC-4BE5-9B63-C29253499ED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5 Proposed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is common with revised 802.11, which is based on 80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lined a few procedures to make meetings go more smoo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recommended procedures as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FE6C-26AD-45F9-A372-5B012CAED8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F69-DE40-4C82-8E73-3D069952B71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Working Group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 Since March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/Missions/Tim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BDB-79DD-4E86-AAF1-62FC350332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0E9-6C69-43D4-AB23-CB4516342A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C7C-B717-4BD0-97D2-D4BE02980F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P802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FDA-8A13-4036-9A09-6F5E796693B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aison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Bluetooth Special Intere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Home Radio Frequency Working Group (HRF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ternet Engineering Task Force (IE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Access Protocol (WAP)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Data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ATM Forum Wireless ATM (WATM) 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ETSI Broadband Radio Access Networks (BRAN)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frared Data Association (Ir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LAN Alliance (WL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partment of Transportation, Federal Highway Agency and Intelligent Transport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dicated Short Range Communications Task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were s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7F7-89B6-4020-ABA3-9AADF12404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 IPR and Copy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 mutual timeline, circulate to SIG for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plan to recast version1.0 L2CAP and below into a draft standar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 HRF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eeting Date July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D70-F418-4138-B4F1-85C02A2CBAE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120" y="23623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048120"/>
            <a:ext cx="70261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recognized by companies as the place to go for WPAN functionality in their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have users demand P802.15 compliance as a minimum requirement of product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AE8-15B6-4287-8E60-E9529731EB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sponsor ballot approved standard sooner than later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hould be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be recognized by Bluetooth, HomeRF and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nough(meets market need for functionality) vs perfect is an acceptable trade-off for speed in delivery of a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ly need coex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more flexibility on interoperability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ARs are likel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/Kod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 low power/low cost/low data rat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D56-9517-4C09-A2A5-B9F8712A120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Robert F. Heile, GTE</dc:description>
  <dc:language>en-US</dc:language>
  <cp:lastModifiedBy>Bridget Labrode</cp:lastModifiedBy>
  <cp:lastPrinted>1998-11-06T19:39:09Z</cp:lastPrinted>
  <dcterms:modified xsi:type="dcterms:W3CDTF">1999-07-05T01:16:31Z</dcterms:modified>
  <cp:revision>34</cp:revision>
  <dc:subject>doc.: IEEE 802.11-99/026r0</dc:subject>
  <dc:title>P802.15-ExCom Report</dc:title>
</cp:coreProperties>
</file>