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681-98AF-423E-9A62-86951951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1A7-E74B-4675-A70E-A994D01B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AF2-F4DA-4D3D-A8C1-99EFE960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2C6-81DF-4173-9DE8-0644B752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A63-5672-4358-BFA0-C7D09531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2B2-2AF3-4173-A0A3-A5649A11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B59-11D3-4926-A2B3-D11EF5AF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807-FE3F-4693-988B-6F491CCA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BC6-D105-440B-AFB6-62FA4AE6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ECA-D516-4F90-94FC-46740EF6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39A-D66D-4770-B36D-EDACA74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AB4-5195-48B1-BC15-1DDA897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CA45425-B295-4F5F-AD9E-5DEB77082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0 Seattle Hot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Joint 802.11 and 802.15 Interim Meeting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y 8-12, 2000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8080" y="2362320"/>
            <a:ext cx="78616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dison Renaissance Hotel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48.00 per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500.00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he room rate is firm and they will work w/me on cost reduction of the meeting sp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vanaughs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29.00 per nigh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        $3000.00 per d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he room rate is firm and they will work w/me on cost reduction of the meeting sp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 Seattle Hotel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85.00 per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        $1175.00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A75-5808-4F5D-832C-905C0DC8308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dison Renaissance Hotel - 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240" y="2590920"/>
            <a:ext cx="91389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ison Renaissance Ho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5 Madison 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ttle, WA 98104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renaissancehotels.com/seasm/fastfac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heart of downtown, The Madison Hotel is ideally located minutes from Seattle's major financial, medical, retail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business districts, just three blocks from the Washington State Convention and Trade Center and 20 minutes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Sea - Tac International Airport. A recipient of the AAA 4 Diamond award, The Madison treats guests to delux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accommodations and exquisite personal serv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a-Tac International Airport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7 miles/25 minutes South Taxi @ $3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irport Expres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Airport Shuttle Service $7.50 one way of $13 roundtrip runs every 20 minutes 5am - 11:30 p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70512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160956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BF16-8698-4C6C-AA6D-A85C96E790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vanaughs - Seatt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9880"/>
            <a:ext cx="914400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anaughs on Fifth Aven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15 Fifth 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ttle, WA 981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avanaugh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vanaughs on the corner of Fifth and Pike Avenues is located in the heart of downtown Seattle and offers 297 delu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est accommodations with spectacular views of Puget Sound  and convention facilities in the city's most vib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wntown neighborhood. Cavanaughs 12,000 square feet of meeting space has state-of-the-art presentation system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ansive views  that complement rich decor. Our professional catering staff ensures a rewarding experience for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special events from 10 person board meetings to banquets for 600 in our Emerald Ball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2400480" cy="293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37720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88A8-4B61-47DD-A46B-E7BCA1D199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 Seattle Hotel - Seatt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438280"/>
            <a:ext cx="7980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12 Fourth 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ttle, WA 98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hotels.com/cities/seattl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hotel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as a beacon in the thriving heart of Seattle, W SEATTLE will rise as a premier destination for the savvy traveler. Reminiscent of some of Seattle's classic towers, W SEATTLE combines elements of the city's architectural history in a modern interpretation of the Northwestern Regional Style. Crowned with a steel and mesh pyramid, its magical glow 26 stories above the street will make you feel the energy of this city on the cutting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was conceived by Starwood Hotels and Resorts Worldwide with one purpose in mind. To inspire the business traveler and provide solace and refuge in a hectic world. Throughout our 419 large, modern rooms and 16 suites, pillow top beds and luxurious linens, down-cushioned banquettes, a great desk, and custom furnishings await yo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is all about service and amenities. Whatever you want, whenever you want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el is located in the center of Seattle's burgeoning downtown, close to all the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out the famous Space Needle. Savor a cup of coffee or catch a fresh fish at the 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Market. Lose yourself in a sublime performance at the new Benaroya Symphony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142884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860-3951-487B-B78C-93C69F88DE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5:32:38Z</dcterms:created>
  <dc:creator>Mike McInnis</dc:creator>
  <dc:description/>
  <dc:language>en-US</dc:language>
  <cp:lastModifiedBy>Standard Software Service</cp:lastModifiedBy>
  <dcterms:modified xsi:type="dcterms:W3CDTF">1999-09-15T15:22:11Z</dcterms:modified>
  <cp:revision>10</cp:revision>
  <dc:subject/>
  <dc:title>May 2000  Seattle Hotels</dc:title>
</cp:coreProperties>
</file>