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137-E0DF-4FF2-9E48-5AE3AA35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FDA6-FF2F-4025-B839-E2DF3097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507-D218-4243-8251-DE2EF786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F58-4746-47E4-B956-A3BF30EC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48FC-49A3-49FA-AB4F-9AC0568E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FE0A-A3E3-4E0C-B677-0456F1CD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62A5-8213-4E24-B8A7-95D6CB08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19F2-60D5-40F7-BB37-D7A98A68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462E-F3EF-47D7-B781-32730916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58F4-5C93-441D-8E42-EA7F1922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C761-9694-444A-AC12-7DE204E5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A087-39DD-441E-97B7-3B7ED2F0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FA3176D-21D2-413D-9104-8C220EEAF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26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3720" y="609480"/>
            <a:ext cx="776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93720" y="6477120"/>
            <a:ext cx="784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581280"/>
            <a:ext cx="6993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b Heile,  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1680" y="762120"/>
            <a:ext cx="8542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802.15 Working Group Status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esentation to IEEE 802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ndards Executive Committee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July 5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CE6-27CC-4767-A591-A21E6E9EF13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for July Ple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- set the stage, review the gameplan for the week, point attendees to the web or flash card for copies of draft rules and other documents for review ahea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- detailed presentations on WG objectives, proposed operating rules and liaiso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- Review project action plan and call for proposals, joint meeting with .11, review draft standard outline, organize committees for first draft, review BT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rsday-  Begin formal voting on Officers and rules, hear submissions, if any, in response to the CF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C05F-98D6-4064-9BF4-7E8F44B4B84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802.15 Proposed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is common with revised 802.11, which is based on 802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lined a few procedures to make meetings go more smooth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recommended procedures as 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874-B174-4757-A34B-A8EDCF3C82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ck-off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btain voting rights at the Thursday morning session of this meeting, you must attend at least 5 of the six sessions Monday, Tuesday, and Wednesday and the session on Thursday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are planning on attending at least 75% of the sessions and becoming a voting member, please declare it during sign-in on Monday or Tuesday morning. You will be eligible to receive the Standards CD on Wednesday after 2p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voting will begin on Thursday morning. At sign-in you will receive a voting to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3FDE-5591-4F96-9178-89D16A1E9C6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802.15 Working Group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ty Since March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ting the wor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/Missions/Tim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for July Ple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5361-28F6-4328-B6CE-217485A9BD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-March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 Perspectives Column-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Edition of Personal Communications Magazine-Dec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ison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ing Enga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AC/PC   ---Chiba, Japan Ma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99 Developers Conference  ---London, June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45, MobileIP WG ---Oslo, Norway, 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WCON  ---Denver,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WC  ---San Francisco, October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Ref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7C98-DEA1-49D2-A817-C093B1748F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WG Mee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0000"/>
          </a:bodyPr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ly Telecons for the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 WGAC Meeting in Chiba, Japan ( with 802.11), May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ized draft of 802.15 rules and document structure, reviewed Marcom activities, set liaison agenda,  established meeting schedule and proposed project time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 WGAC Meeting in London,UK,  Jun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ed gameplan for July plenary, established meeting objectives for joint session with Bluetooth, finalized Call for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Meeting with Bluetooth in London, UK, Jun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standards process and agree on a proposed working relationship/tim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1C4-970B-4B33-A75C-EAF057B38A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P802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as a Valu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3B2B-5251-4F63-ADD8-A3ADE60AECB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aison St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Bluetooth Special Interes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Home Radio Frequency Working Group (HRFW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Internet Engineering Task Force (IET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Wireless Access Protocol (WAP) 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Wireless Data 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ATM Forum Wireless ATM (WATM) Working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ETSI Broadband Radio Access Networks (BRAN)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Infrared Data Association (Ir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Wireless LAN Alliance (WL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Department of Transportation, Federal Highway Agency and Intelligent Transport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NewRoman"/>
              </a:rPr>
              <a:t>Dedicated Short Range Communications Task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00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s were sent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C528-5C0F-4D2C-B6EE-D9C8E7A190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Negot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ongoing 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 IPR and Copy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a mutual timeline, circulate to SIG for appr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plan to recast version1.0 L2CAP and below into a draft standard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RF HRF-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ongoing 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Meeting Date July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6C1-0CE6-4636-A3DB-13A856F6E3A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ghts on Objectives/Missions/Tim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120" y="236232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3048120"/>
            <a:ext cx="7026120" cy="28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 recognized by companies as the place to go for WPAN functionality in their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have users demand P802.15 compliance as a minimum requirement of product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B52-B884-4656-B63E-8A0FF89E156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762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ghts on Objectives/Missions/Tim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9051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 sponsor ballot approved standard sooner than later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should be Nov 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to be recognized by Bluetooth, HomeRF and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enough(meets market need for functionality) vs perfect is an acceptable trade-off for speed in delivery of a stand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ely need coex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more flexibility on interoperability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PARs are likel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RF/Kod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ra low power/low cost/low data rat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DD3E-CEDA-401A-8E76-103EDD34241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ob Heile</dc:creator>
  <dc:description>Robert F. Heile, GTE</dc:description>
  <dc:language>en-US</dc:language>
  <cp:lastModifiedBy>Bridget Labrode</cp:lastModifiedBy>
  <cp:lastPrinted>1998-11-06T19:39:09Z</cp:lastPrinted>
  <dcterms:modified xsi:type="dcterms:W3CDTF">1999-07-05T01:16:31Z</dcterms:modified>
  <cp:revision>34</cp:revision>
  <dc:subject>doc.: IEEE 802.11-99/026r0</dc:subject>
  <dc:title>P802.15-ExCom Report</dc:title>
</cp:coreProperties>
</file>