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244A1-52A7-4AAF-B4C3-CE3D320E2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AFCCA-ED55-49F2-AEC5-A4473B161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AD1F4-FCA9-428A-AEA2-F082B341C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64F53-1018-4D50-985E-62D3B4543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84E07-66A9-409D-9B60-9054359D8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8C519-A74D-4536-A1EE-C9555DC12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40B3A-1DB7-4660-AC5E-4650200EB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1A6F2-2FE5-4DAF-A81C-7FCAB6318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39060-4151-44D9-97EF-7CCFDCBC0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1C0EF-E62D-493F-A0DB-9CE68107E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98262-EF44-410A-A737-DC5E5ABDD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050CD-E008-443B-8898-7F9907CA5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29C9B2-143E-4572-AF75-51B69F267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99072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Report to the Excom on Coexistence S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8,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obert F. Heile] Company [GTE Technology Organiz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40 Sylvan Road, Waltham, MA  0245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81-466-2057], FAX: [781-466-2575], E-Mail:[bheile@bbn.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SG on Coexistence</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SG Status and Proposal for Operatio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solicit  Excom approval on the formation of a Task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 Technology Organization</a:t>
            </a:r>
          </a:p>
        </p:txBody>
      </p:sp>
      <p:sp>
        <p:nvSpPr>
          <p:cNvPr id="3" name="PlaceHolder 2"/>
          <p:cNvSpPr>
            <a:spLocks noGrp="1"/>
          </p:cNvSpPr>
          <p:nvPr>
            <p:ph type="sldNum" idx="3"/>
          </p:nvPr>
        </p:nvSpPr>
        <p:spPr/>
        <p:txBody>
          <a:bodyPr/>
          <a:p>
            <a:fld id="{7377352A-9626-4386-96DD-95A17DA7DE10}"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existence Study Group would become a Task Group in 802.15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aisons from 802.11 would be able to vote in the Task Group since they have voting rights in 802.15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 of the group would be reported at the regularly scheduled 802.11/802.15 joint session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608D504F-3075-4E66-A881-60407189563A}"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a draft Recommended Practice was ready for letter ballot it would be submitted to both the 802.15 and the 802.11 Working Groups for separate letter ballot.   </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for the Recommended Practice to be forwarded to the Executive Committee for Sponsor ballot, the letter ballot must pass in both Working Group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84C56F11-DAA6-4605-91AB-A4258DDCD5C7}"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Robert F. Heile, GTE Technology Organization</a:t>
            </a:r>
          </a:p>
        </p:txBody>
      </p:sp>
      <p:sp>
        <p:nvSpPr>
          <p:cNvPr id="3" name="PlaceHolder 2"/>
          <p:cNvSpPr>
            <a:spLocks noGrp="1"/>
          </p:cNvSpPr>
          <p:nvPr>
            <p:ph type="sldNum" idx="3"/>
          </p:nvPr>
        </p:nvSpPr>
        <p:spPr/>
        <p:txBody>
          <a:bodyPr/>
          <a:p>
            <a:fld id="{20DBD337-014E-424E-B3FE-E64014052EC9}"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up slid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 Technology Organization</a:t>
            </a:r>
          </a:p>
        </p:txBody>
      </p:sp>
      <p:sp>
        <p:nvSpPr>
          <p:cNvPr id="4" name="PlaceHolder 3"/>
          <p:cNvSpPr>
            <a:spLocks noGrp="1"/>
          </p:cNvSpPr>
          <p:nvPr>
            <p:ph type="sldNum" idx="3"/>
          </p:nvPr>
        </p:nvSpPr>
        <p:spPr/>
        <p:txBody>
          <a:bodyPr/>
          <a:p>
            <a:fld id="{6B66DBEC-0D8A-46E2-B2D7-122BB98DF8C0}" type="slidenum">
              <a:t>1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 of Coexistence</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wireless devices are said to “coexist” if they can be collocated without significantly impacting the performance of any of these de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8641F89D-7F96-4D26-95FB-59D796CDC7EC}"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operability</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676520"/>
            <a:ext cx="8001000" cy="45720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EEE currently defines three levels of interoperability</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ly exchanging two interoperable devices causes no damage to the device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our definition of coexistenc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le devices can exchange data</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allow but not require interoperability as a coexistence mechanism.</a:t>
            </a:r>
            <a:endParaRPr b="0" lang="en-US" sz="32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DC6BD527-B6A3-47EB-A724-3A21C7DA166C}"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 Mod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of the 802.11 and 802.15 PHY layers which will predict the impact of mutual interference when multiple devices are operating simultaneously, based upon given signal power level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EE3FA4D9-63FA-4250-BC26-45061BC6E812}"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ffic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he data traffic flow based upon different application scenarios for both the WLAN and WPAN networks</a:t>
            </a:r>
            <a:endParaRPr b="0" lang="en-US" sz="28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 traffic</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transfer</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ehouse data collection</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amp; Others</a:t>
            </a:r>
            <a:endParaRPr b="0" lang="en-US" sz="2400" spc="-1" strike="noStrike">
              <a:solidFill>
                <a:srgbClr val="000000"/>
              </a:solidFill>
              <a:latin typeface="Arial"/>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65C717E2-3131-4535-80AB-A4EA9A7DEA1F}" type="slidenum">
              <a:t>1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 Layer Mod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he WLAN and WPAN MAC 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 that with the Data Traffic models to determine when each of the networks are transmitting da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4F6D9CC8-4D11-45A1-BABA-DEF8EB0432C7}" type="slidenum">
              <a:t>1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 Propagation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RF signal power levels at the different WPAN and WLAN nodes based on an RF propagation mod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different application scenarios and physical distribution of devices.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1AFBBC41-3C32-4111-BE0D-6B8A5064D20C}" type="slidenum">
              <a:t>1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85440"/>
            <a:ext cx="81788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ed for Coexistence Task Group</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hat IEEE 802.15 WPAN devices coexist with other wireless devices in the unlicensed frequency b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icular it is very important that 802.15 WPAN devices coexist with IEEE 802.11 WLAN dev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A5CB4DF0-3392-4EA7-AE68-CD5DA50DC8E5}"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91600" y="672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Coexistence Task Group</a:t>
            </a:r>
            <a:endParaRPr b="0" lang="en-US" sz="3600" spc="-1" strike="noStrike">
              <a:solidFill>
                <a:srgbClr val="000000"/>
              </a:solidFill>
              <a:latin typeface="Times New Roman"/>
            </a:endParaRPr>
          </a:p>
        </p:txBody>
      </p:sp>
      <p:sp>
        <p:nvSpPr>
          <p:cNvPr id="49"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will be to address coexistence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802.11 W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other 802.15 WPAN (assuming there will be more than 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selected other devices in the same band (e.g. HomeRF).</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1883A3AC-5B66-4168-86F2-7DA74F4A2B4E}"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Coexistence Model for the 2.4 band, that we can all agree to, which will help us assess the issues of Coexistence in a more quantitative way</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 option selections from the existing 2.4 band standards that would further coexistence (much like writing a profile)</a:t>
            </a:r>
            <a:endParaRPr b="0" lang="en-US" sz="2800" spc="-1" strike="noStrike">
              <a:solidFill>
                <a:srgbClr val="000000"/>
              </a:solidFill>
              <a:latin typeface="Arial"/>
            </a:endParaRPr>
          </a:p>
        </p:txBody>
      </p:sp>
      <p:sp>
        <p:nvSpPr>
          <p:cNvPr id="5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970B4DE1-7C07-41D1-966A-3C5CD72E51A7}"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guidebook on band etiquette so that as new standards are developed or existing standards are enhanced, there is an organized way to improve the coexistence environment.</a:t>
            </a:r>
            <a:endParaRPr b="0" lang="en-US" sz="28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 how multi-mode radios in the 2.4 band should go about the task of deciding what mode to be in and how to exchange information and data between environments</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AB270DF0-8E76-4881-9634-FA345A99986F}"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981080"/>
            <a:ext cx="83059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utput of the proposed Task Group would be a set of Recommended Practices</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903B6B39-7747-4D76-B8B5-7E00508C4548}"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this model 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under what circumstance there is a coexistence problem and under what circumstances there is not a prob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velop </a:t>
            </a:r>
            <a:r>
              <a:rPr b="0" i="1" lang="en-US" sz="2800" spc="-1" strike="noStrike">
                <a:solidFill>
                  <a:srgbClr val="000000"/>
                </a:solidFill>
                <a:latin typeface="Arial"/>
              </a:rPr>
              <a:t>supporting evidence</a:t>
            </a:r>
            <a:r>
              <a:rPr b="0" lang="en-US" sz="2800" spc="-1" strike="noStrike">
                <a:solidFill>
                  <a:srgbClr val="000000"/>
                </a:solidFill>
                <a:latin typeface="Arial"/>
              </a:rPr>
              <a:t> to justify the recommended suggested practic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392BA821-C3F9-4871-9928-D611CD2A1FBB}"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59" name=""/>
          <p:cNvSpPr/>
          <p:nvPr/>
        </p:nvSpPr>
        <p:spPr>
          <a:xfrm rot="2613000">
            <a:off x="3428640" y="2868480"/>
            <a:ext cx="2133720" cy="2133720"/>
          </a:xfrm>
          <a:prstGeom prst="rect">
            <a:avLst/>
          </a:prstGeom>
          <a:solidFill>
            <a:srgbClr val="ff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201840" y="19540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Layer Models</a:t>
            </a:r>
            <a:endParaRPr b="0" lang="en-US" sz="2400" spc="-1" strike="noStrike">
              <a:solidFill>
                <a:srgbClr val="000000"/>
              </a:solidFill>
              <a:latin typeface="Times New Roman"/>
            </a:endParaRPr>
          </a:p>
        </p:txBody>
      </p:sp>
      <p:sp>
        <p:nvSpPr>
          <p:cNvPr id="61" name=""/>
          <p:cNvSpPr/>
          <p:nvPr/>
        </p:nvSpPr>
        <p:spPr>
          <a:xfrm>
            <a:off x="305640" y="3706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Layer Models</a:t>
            </a:r>
            <a:endParaRPr b="0" lang="en-US" sz="2400" spc="-1" strike="noStrike">
              <a:solidFill>
                <a:srgbClr val="000000"/>
              </a:solidFill>
              <a:latin typeface="Times New Roman"/>
            </a:endParaRPr>
          </a:p>
        </p:txBody>
      </p:sp>
      <p:sp>
        <p:nvSpPr>
          <p:cNvPr id="62" name=""/>
          <p:cNvSpPr/>
          <p:nvPr/>
        </p:nvSpPr>
        <p:spPr>
          <a:xfrm>
            <a:off x="6094080" y="365760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ffic Models</a:t>
            </a:r>
            <a:endParaRPr b="0" lang="en-US" sz="2400" spc="-1" strike="noStrike">
              <a:solidFill>
                <a:srgbClr val="000000"/>
              </a:solidFill>
              <a:latin typeface="Times New Roman"/>
            </a:endParaRPr>
          </a:p>
        </p:txBody>
      </p:sp>
      <p:sp>
        <p:nvSpPr>
          <p:cNvPr id="63" name=""/>
          <p:cNvSpPr/>
          <p:nvPr/>
        </p:nvSpPr>
        <p:spPr>
          <a:xfrm>
            <a:off x="2971800" y="54594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Propagation Models</a:t>
            </a:r>
            <a:endParaRPr b="0" lang="en-US" sz="2400" spc="-1" strike="noStrike">
              <a:solidFill>
                <a:srgbClr val="000000"/>
              </a:solidFill>
              <a:latin typeface="Times New Roman"/>
            </a:endParaRPr>
          </a:p>
        </p:txBody>
      </p:sp>
      <p:sp>
        <p:nvSpPr>
          <p:cNvPr id="64" name=""/>
          <p:cNvSpPr/>
          <p:nvPr/>
        </p:nvSpPr>
        <p:spPr>
          <a:xfrm>
            <a:off x="3200040" y="373392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 Technology Organization</a:t>
            </a:r>
          </a:p>
        </p:txBody>
      </p:sp>
      <p:sp>
        <p:nvSpPr>
          <p:cNvPr id="4" name="PlaceHolder 3"/>
          <p:cNvSpPr>
            <a:spLocks noGrp="1"/>
          </p:cNvSpPr>
          <p:nvPr>
            <p:ph type="sldNum" idx="3"/>
          </p:nvPr>
        </p:nvSpPr>
        <p:spPr/>
        <p:txBody>
          <a:bodyPr/>
          <a:p>
            <a:fld id="{F81A7A44-E28D-4780-9E6C-1A69D480B031}" type="slidenum">
              <a:t>8</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together the four parts of the model to predict the impact on the WPAN and WLAN networ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hroughp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latenc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 Technology Organization</a:t>
            </a:r>
          </a:p>
        </p:txBody>
      </p:sp>
      <p:sp>
        <p:nvSpPr>
          <p:cNvPr id="5" name="PlaceHolder 4"/>
          <p:cNvSpPr>
            <a:spLocks noGrp="1"/>
          </p:cNvSpPr>
          <p:nvPr>
            <p:ph type="sldNum" idx="3"/>
          </p:nvPr>
        </p:nvSpPr>
        <p:spPr/>
        <p:txBody>
          <a:bodyPr/>
          <a:p>
            <a:fld id="{32F2610E-8CEA-4D39-9C4B-06F228925092}"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4T13:23:06Z</dcterms:created>
  <dc:creator>Rober F. Heile</dc:creator>
  <dc:description>&lt;doc#&gt;</dc:description>
  <dc:language>en-US</dc:language>
  <cp:lastModifiedBy>Rober F. Heile</cp:lastModifiedBy>
  <cp:lastPrinted>1999-09-14T16:44:21Z</cp:lastPrinted>
  <dcterms:modified xsi:type="dcterms:W3CDTF">1999-11-08T19:13:17Z</dcterms:modified>
  <cp:revision>6</cp:revision>
  <dc:subject>IEEE 802.15 &lt;subject&gt;</dc:subject>
  <dc:title>No Slide Title</dc:title>
</cp:coreProperties>
</file>