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1E3F4-FF31-4B4C-838C-8FF1F73E2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5702B-19A2-4E17-BA1C-E3FF88318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8D8A8-822C-4B86-BFD5-653A0BDAD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8ED87-00DD-4B5B-BA9A-9A39A6DEE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F346C-6DE3-4EED-91B3-8DCCC754E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5D2E-BBCB-42E5-93CD-C137D98DC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67641-0B30-4550-81AE-A1DF4741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78AB8-9D51-4492-9A0A-AE78AA741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F0EB-F1FA-4326-829A-E1BA312E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528C-7836-4559-9D42-E629AE8B1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734CE-0ECD-44D4-BB0D-98F2083C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F02B8-5D70-4A7E-893D-A346979EC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A157BC-7293-4679-BCE9-5CFDB3045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existence Study Group Report #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att Regenc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HI</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215957B-13FE-4F04-AB52-8CD413B1C27D}"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Study Group would become a Task Group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isons from 802.11 would be able to vote in the Task Group since they have voting rights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the group would be reported at the regularly scheduled 802.11/802.15 joint sess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0746ECB2-9CC5-41E1-B932-4C131834A763}"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raft Recommended Practice is ready for letter ballot it would be submitted to both the 802.15 and the 802.11 Working Groups for separate letter ballots.   </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Recommended Practice to be forwarded to the Executive Committee for Sponsor ballot, the letter ballot must pass in both Working Group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25473A05-9FDC-46CA-ACFB-BC3149B09904}"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1905120"/>
            <a:ext cx="7772400" cy="3276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attending a Coexistence Task group session would be given attendance credit, for that time, in either 802.11 or 802.15.</a:t>
            </a:r>
            <a:endParaRPr b="0" lang="en-US" sz="3200" spc="-1" strike="noStrike">
              <a:solidFill>
                <a:srgbClr val="000000"/>
              </a:solidFill>
              <a:latin typeface="Times New Roman"/>
            </a:endParaRPr>
          </a:p>
        </p:txBody>
      </p:sp>
      <p:sp>
        <p:nvSpPr>
          <p:cNvPr id="7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A1F75EBB-A3FA-4A10-BD90-65548C16FB07}"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mp; 802.11 Votes</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o ExCom that the SG become a Task Group in 802.15 and recommend the proposed voting scheme</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1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SG become a TAG</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11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1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he attendance credit procedure to 802.11 &amp; 802.15</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6 (dot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2914702-7727-4640-A7F0-0660BD976276}"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f Proposed Voting Rul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approve the separation of the subsequent letter ballot output from the 802.15 coexistence Task Group to both 802.11 and 802.15 voting members and for both groups to agree before sending to Exc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21</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4</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70BEF7C0-395E-4199-BBD0-B01F93905282}"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 for the week</a:t>
            </a:r>
            <a:endParaRPr b="0" lang="en-US" sz="3600" spc="-1" strike="noStrike">
              <a:solidFill>
                <a:srgbClr val="000000"/>
              </a:solidFill>
              <a:latin typeface="Times New Roman"/>
            </a:endParaRPr>
          </a:p>
        </p:txBody>
      </p:sp>
      <p:sp>
        <p:nvSpPr>
          <p:cNvPr id="48" name="PlaceHolder 2"/>
          <p:cNvSpPr>
            <a:spLocks noGrp="1"/>
          </p:cNvSpPr>
          <p:nvPr>
            <p:ph/>
          </p:nvPr>
        </p:nvSpPr>
        <p:spPr>
          <a:xfrm>
            <a:off x="456840" y="1676520"/>
            <a:ext cx="84582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SG update to Ex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oexistence SG web sit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Submissions on Coexistence Model</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ypher &amp; Nada Golmi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Interoperability, &amp; Other term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erformance Evalua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vin Marques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Model Open Ques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om vote on PAR, Thursday nigh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81A0460-DBB3-4D05-9D91-B73846C15C41}"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81080"/>
            <a:ext cx="830556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Charter</a:t>
            </a:r>
            <a:r>
              <a:rPr b="0" lang="en-US" sz="3200" spc="-1" strike="noStrike">
                <a:solidFill>
                  <a:srgbClr val="000000"/>
                </a:solidFill>
                <a:latin typeface="Arial"/>
              </a:rPr>
              <a:t>	</a:t>
            </a:r>
            <a:r>
              <a:rPr b="0" lang="en-US" sz="3200" spc="-1" strike="noStrike">
                <a:solidFill>
                  <a:srgbClr val="000000"/>
                </a:solidFill>
                <a:latin typeface="Arial"/>
              </a:rPr>
              <a:t>802.15-99/088r2</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PAR</a:t>
            </a:r>
            <a:r>
              <a:rPr b="0" lang="en-US" sz="3200" spc="-1" strike="noStrike">
                <a:solidFill>
                  <a:srgbClr val="000000"/>
                </a:solidFill>
                <a:latin typeface="Arial"/>
              </a:rPr>
              <a:t>	</a:t>
            </a:r>
            <a:r>
              <a:rPr b="0" lang="en-US" sz="3200" spc="-1" strike="noStrike">
                <a:solidFill>
                  <a:srgbClr val="000000"/>
                </a:solidFill>
                <a:latin typeface="Arial"/>
              </a:rPr>
              <a:t>802.15-99/086r3</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Five Criteria</a:t>
            </a:r>
            <a:r>
              <a:rPr b="0" lang="en-US" sz="3200" spc="-1" strike="noStrike">
                <a:solidFill>
                  <a:srgbClr val="000000"/>
                </a:solidFill>
                <a:latin typeface="Arial"/>
              </a:rPr>
              <a:t>	</a:t>
            </a:r>
            <a:r>
              <a:rPr b="0" lang="en-US" sz="3200" spc="-1" strike="noStrike">
                <a:solidFill>
                  <a:srgbClr val="000000"/>
                </a:solidFill>
                <a:latin typeface="Arial"/>
              </a:rPr>
              <a:t>802.15-99/096r1</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Study Group Web Sit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15/SG</a:t>
            </a:r>
            <a:endParaRPr b="0" lang="en-US" sz="2800" spc="-1" strike="noStrike">
              <a:solidFill>
                <a:srgbClr val="000000"/>
              </a:solidFill>
              <a:latin typeface="Arial"/>
            </a:endParaRPr>
          </a:p>
          <a:p>
            <a:pPr marL="332640" indent="0">
              <a:spcBef>
                <a:spcPts val="799"/>
              </a:spcBef>
              <a:buNone/>
              <a:tabLst>
                <a:tab algn="l" pos="5029200"/>
                <a:tab algn="l" pos="514368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36C0181-A94B-463B-A485-E6D75C0994B9}"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889DA3D-307B-49BB-A4E6-74FD24354EA2}"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82880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12794CB1-032A-4A72-9C38-7FCE14A449F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existence Model for the 2.4 GHz ISM band, that we can all agree to, which will help us assess the issues of Coexistence in a more quantitative way</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a </a:t>
            </a:r>
            <a:r>
              <a:rPr b="0" i="1" lang="en-US" sz="3200" spc="-1" strike="noStrike">
                <a:solidFill>
                  <a:srgbClr val="000000"/>
                </a:solidFill>
                <a:latin typeface="Arial"/>
              </a:rPr>
              <a:t>Recommended Practice</a:t>
            </a:r>
            <a:r>
              <a:rPr b="0" lang="en-US" sz="3200" spc="-1" strike="noStrike">
                <a:solidFill>
                  <a:srgbClr val="000000"/>
                </a:solidFill>
                <a:latin typeface="Arial"/>
              </a:rPr>
              <a:t> for WPAN and WLAN devices intended to coexist in a common environment.</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29A52F7-A906-479F-8761-8656C65D406E}"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0103AF9-37E2-43BC-812A-644B683E49EB}"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0"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2"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3"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4"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5"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BB1FE5C4-4796-4C74-9A55-AFC2D09E8160}"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802.11 &amp; 802.15 Collaborate on the issue of Coexistenc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ut together a proposal by talking to personnel within 802.11 and 80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proposal Tuesday within the Study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voted on the proposal in the Study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F29C56A1-E3F6-40B3-B51D-6E28765AC847}"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ve Shellhammer</cp:lastModifiedBy>
  <cp:lastPrinted>1998-02-10T13:28:06Z</cp:lastPrinted>
  <dcterms:modified xsi:type="dcterms:W3CDTF">1999-11-11T18:10:40Z</dcterms:modified>
  <cp:revision>48</cp:revision>
  <dc:subject>IEEE 802.15 &lt;subject&gt;</dc:subject>
  <dc:title>IEEE P802.15 Working Group for Wireless Personal Area Networks</dc:title>
</cp:coreProperties>
</file>