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392905-25C5-4961-A994-872F028E1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2678-A9DA-4B78-95E3-3618AA14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045-042A-4225-8DCD-A994EFD0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814-F3F7-4E67-A3C5-CF0CBD17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868-A576-419E-8C7D-0CA684A7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0C5-4B06-4114-AF24-3C1A6204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4E36-0876-4534-9C95-5F79950C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531-F7C3-4E12-80F4-D7AEF7F9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A3E-1F86-4F21-A38B-DF538392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D09-C689-40B0-8D91-5381B797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409-3AB4-480A-B5B0-1BF49F59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BC1-214F-44F1-9930-7914FEFF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797-AA59-46D1-8769-DABBB693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7C55DF-271B-4144-A909-3EC8301C2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3B7-7FE2-4EC1-8B06-8FFEB02D878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298-53E8-4C47-B479-548D0BA666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8B9-964C-46F9-920F-F94839A9E2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7184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3368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34080" y="2514600"/>
            <a:ext cx="157464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8880" y="3200400"/>
            <a:ext cx="7113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456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12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454-CCB5-4DDD-B198-F7697C14AF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740560" y="2514600"/>
            <a:ext cx="157464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981080"/>
            <a:ext cx="1676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104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0160" y="1981080"/>
            <a:ext cx="1498320" cy="1752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7120" y="132732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    TG1   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SG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TG1    | Joint.11/.15| SDL Model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...........|.............|   Class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SG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AF60-A683-4355-AF65-7608E5ED9AA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B #1 Comment Resolution (W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4160" y="247644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CE3-CBC5-4DE2-820E-24089D5505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TG1 Tasks (Moni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4160" y="175248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569-EB91-4ADD-9E0D-E587D4820BC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, 13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, 14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15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, 16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Santa R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AC9-E41B-442B-A4AA-B7B3D4F73A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asks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429264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132-D8A4-495B-80F3-111AFB1D3C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imeline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5Ka" descr=""/>
          <p:cNvPicPr/>
          <p:nvPr/>
        </p:nvPicPr>
        <p:blipFill>
          <a:blip r:embed="rId1"/>
          <a:stretch/>
        </p:blipFill>
        <p:spPr>
          <a:xfrm>
            <a:off x="63360" y="1819440"/>
            <a:ext cx="9004320" cy="283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64240" y="3314880"/>
            <a:ext cx="7621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7960" y="504360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G1 had an offline discussion with Vic Hayes Tuesday, 14Sep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help us understand the WG LB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9FE-7AA1-479D-AA76-C8E1ABFF17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13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4:15pm and processed all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WG &amp; SPONSOR BALLOT RU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8C47-CFC0-4FE5-81E0-0046D3AA2D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8:32am and processed most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BLUETOOTH SYSTEM (Morning &amp; Ev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LUETOOTH LI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1 MILESTONE/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FOR WG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7C1-1214-43C8-888D-D0F70B31D1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Wedn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8:33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FUNCTION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RESOURCE RECR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ING FOR SPONSOR BALLOT -99/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802 COORDINATION -99/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BLUETOOTH COORDINATION -99/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ETSI COORDINATION -99/[8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FOR INITIAL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NEXT STEP WITH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AND APPROVED WEDNES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257800"/>
            <a:ext cx="22100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3120" y="2611440"/>
            <a:ext cx="31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} siep@ti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8B32-882B-4246-8160-D27E2F0D1D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Draft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A9D-CB42-47A6-8AA8-84A3EC79F18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ur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X:XX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FRI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NEXT STEPS/ACTIONS OF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720" y="2666880"/>
            <a:ext cx="1748880" cy="14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I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ia .15 R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258C-4FFA-418A-9BD2-14425245E9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83r0</dc:description>
  <dc:language>en-US</dc:language>
  <cp:lastModifiedBy>Bridget Labrode</cp:lastModifiedBy>
  <cp:lastPrinted>1998-02-10T13:28:06Z</cp:lastPrinted>
  <dcterms:modified xsi:type="dcterms:W3CDTF">1999-09-16T17:47:22Z</dcterms:modified>
  <cp:revision>22</cp:revision>
  <dc:subject>IEEE 802.15 TG1 Report #2</dc:subject>
  <dc:title>IEEE P802.15 Working Group for Wireless Personal Area Networks</dc:title>
</cp:coreProperties>
</file>