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8.png" ContentType="image/png"/>
  <Override PartName="/ppt/media/image1.wmf" ContentType="image/x-wmf"/>
  <Override PartName="/ppt/media/image31.wmf" ContentType="image/x-wmf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29.png" ContentType="image/png"/>
  <Override PartName="/ppt/media/image11.png" ContentType="image/png"/>
  <Override PartName="/ppt/media/image10.png" ContentType="image/png"/>
  <Override PartName="/ppt/media/image30.wmf" ContentType="image/x-wmf"/>
  <Override PartName="/ppt/media/image7.wmf" ContentType="image/x-wmf"/>
  <Override PartName="/ppt/media/image12.png" ContentType="image/png"/>
  <Override PartName="/ppt/media/image6.png" ContentType="image/png"/>
  <Override PartName="/ppt/media/image36.png" ContentType="image/png"/>
  <Override PartName="/ppt/media/image5.wmf" ContentType="image/x-wmf"/>
  <Override PartName="/ppt/media/image35.wmf" ContentType="image/x-wmf"/>
  <Override PartName="/ppt/media/image34.png" ContentType="image/png"/>
  <Override PartName="/ppt/media/image4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15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34200" cy="9078913"/>
  <p:custShowLst>
    <p:custShow name="ieee802.11" id="0">
      <p:sldLst>
        <p:sld r:id="rId3"/>
        <p:sld r:id="rId4"/>
        <p:sld r:id="rId5"/>
        <p:sld r:id="rId6"/>
        <p:sld r:id="rId8"/>
        <p:sld r:id="rId9"/>
        <p:sld r:id="rId10"/>
        <p:sld r:id="rId12"/>
        <p:sld r:id="rId13"/>
        <p:sld r:id="rId14"/>
        <p:sld r:id="rId15"/>
        <p:sld r:id="rId16"/>
        <p:sld r:id="rId18"/>
        <p:sld r:id="rId19"/>
        <p:sld r:id="rId22"/>
        <p:sld r:id="rId23"/>
        <p:sld r:id="rId24"/>
        <p:sld r:id="rId25"/>
        <p:sld r:id="rId26"/>
        <p:sld r:id="rId27"/>
        <p:sld r:id="rId30"/>
        <p:sld r:id="rId3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9C3-3DFE-4FBB-99A3-D3806531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649-3BC5-4C3F-B5B4-8CCDB52C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937-1296-46D2-9BF8-9C0674A0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4D4-7E1B-4A6C-A74B-B30194A8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EDB-2961-4749-B071-BA2B8D50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198-24C6-40F7-9223-E7CF37B5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C43-5897-4D83-9249-68894286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8FF-7660-48FA-AB57-85D946B2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626-5EF2-4B1A-8993-8BC0B9FF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9A6-6C84-4FBD-8BD8-02CB35A8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922-8590-48FA-89CB-884FD885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232-1854-468E-AD6C-C61517F9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c.: IEEE 802.15-0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Bisdikian-</a:t>
            </a:r>
            <a:fld id="{D2B7EDA2-3EA5-4577-8779-9F6F1D7BE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0.png"/><Relationship Id="rId6" Type="http://schemas.openxmlformats.org/officeDocument/2006/relationships/image" Target="../media/image26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luetooth Architecture Overview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r. Chatschik Bisdikia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BM Research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.J. Watson Research Center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awthorne, NY 10532, USA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isdik@us.ibm.com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94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3940200" y="2671920"/>
            <a:ext cx="860400" cy="1054080"/>
            <a:chOff x="3940200" y="2671920"/>
            <a:chExt cx="860400" cy="1054080"/>
          </a:xfrm>
        </p:grpSpPr>
        <p:sp>
          <p:nvSpPr>
            <p:cNvPr id="496" name=""/>
            <p:cNvSpPr/>
            <p:nvPr/>
          </p:nvSpPr>
          <p:spPr>
            <a:xfrm rot="20846400">
              <a:off x="4006080" y="2741760"/>
              <a:ext cx="529200" cy="491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7" name="tosh500" descr=""/>
            <p:cNvPicPr/>
            <p:nvPr/>
          </p:nvPicPr>
          <p:blipFill>
            <a:blip r:embed="rId3"/>
            <a:stretch/>
          </p:blipFill>
          <p:spPr>
            <a:xfrm>
              <a:off x="3940200" y="2671920"/>
              <a:ext cx="860400" cy="105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8" name="globe3" descr=""/>
          <p:cNvPicPr/>
          <p:nvPr/>
        </p:nvPicPr>
        <p:blipFill>
          <a:blip r:embed="rId4"/>
          <a:srcRect l="13639" t="0" r="12661" b="0"/>
          <a:stretch/>
        </p:blipFill>
        <p:spPr>
          <a:xfrm>
            <a:off x="6994440" y="2441520"/>
            <a:ext cx="1406520" cy="15210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4338000" y="1036800"/>
            <a:ext cx="2698560" cy="2705040"/>
            <a:chOff x="4338000" y="1036800"/>
            <a:chExt cx="2698560" cy="2705040"/>
          </a:xfrm>
        </p:grpSpPr>
        <p:pic>
          <p:nvPicPr>
            <p:cNvPr id="501" name="" descr=""/>
            <p:cNvPicPr/>
            <p:nvPr/>
          </p:nvPicPr>
          <p:blipFill>
            <a:blip r:embed="rId6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3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8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4338000" y="1036800"/>
              <a:ext cx="2643120" cy="988560"/>
              <a:chOff x="4338000" y="1036800"/>
              <a:chExt cx="2643120" cy="988560"/>
            </a:xfrm>
          </p:grpSpPr>
          <p:pic>
            <p:nvPicPr>
              <p:cNvPr id="5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51400" y="1547640"/>
                <a:ext cx="973080" cy="416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4" name=""/>
              <p:cNvGrpSpPr/>
              <p:nvPr/>
            </p:nvGrpSpPr>
            <p:grpSpPr>
              <a:xfrm>
                <a:off x="4338000" y="1547640"/>
                <a:ext cx="919080" cy="477720"/>
                <a:chOff x="4338000" y="1547640"/>
                <a:chExt cx="919080" cy="4777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4338000" y="1651680"/>
                  <a:ext cx="252000" cy="27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489560" y="1624680"/>
                  <a:ext cx="302400" cy="32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642200" y="1586160"/>
                  <a:ext cx="376560" cy="40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809240" y="1547640"/>
                  <a:ext cx="447840" cy="47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>
                <a:off x="4964040" y="1036800"/>
                <a:ext cx="1633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PSTN, ISDN,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LAN, WAN, xDS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6062040" y="1547640"/>
                <a:ext cx="919080" cy="477720"/>
                <a:chOff x="6062040" y="1547640"/>
                <a:chExt cx="919080" cy="4777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062040" y="1651680"/>
                  <a:ext cx="252000" cy="27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213600" y="1624680"/>
                  <a:ext cx="302400" cy="32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366240" y="1586160"/>
                  <a:ext cx="376560" cy="40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533280" y="1547640"/>
                  <a:ext cx="447840" cy="47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5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Data access poi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 more connector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y internet ac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connection experie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F01-ABE2-4488-AAC3-2D5A051843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133720" y="5367240"/>
            <a:ext cx="2898720" cy="424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33720" y="484668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33720" y="386856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01960" y="435780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01960" y="386856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33720" y="256716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204480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06720" y="204480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613320" y="204480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40240" y="204480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33720" y="1523880"/>
            <a:ext cx="3786120" cy="42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18840" y="29574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7809800">
            <a:off x="4582440" y="2977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5486400" y="4038480"/>
            <a:ext cx="426960" cy="1524240"/>
          </a:xfrm>
          <a:custGeom>
            <a:avLst/>
            <a:gdLst>
              <a:gd name="textAreaLeft" fmla="*/ 0 w 426960"/>
              <a:gd name="textAreaRight" fmla="*/ 154080 w 4269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46324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FC9-ED92-42D3-B2D6-A6111EDD845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adi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quency synthesis: frequency hopp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ersion bits into symbols: modul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mit pow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ceiver sensitiv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1F3-7AC0-499E-A279-8F0D2C93A8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47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network topolog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dio desig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ed radios can be master or slav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are symmetric (same radio can be 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o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 can connect to 7 simultaneous or 200+ inactive (parked) slaves per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ch piconet has maximum capacity (1 Mbp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que hopping pattern/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tter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capacity syst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imal impact with up to 10 piconets within ran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can share piconets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78C-ACA5-434A-A254-859DB1E2A2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rotocol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505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ing to join a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qui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k about radios to connect t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to a specific radi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ly on a piconet (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k/Hol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-power connected stat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17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627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630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633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7BD7-AB30-4BFD-A298-876CB50CD7F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link typ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ling-based (TDD) packet transmissio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slot: 0.625msec (max 1600 slots/sec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/slave slots (even-/odd-numbered slo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lling: master always “polls” slav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chronous connection-oriented (SCO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rcuit-switched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iodic single-slot packet assignmen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mmetric 64Kbps full-duplex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ynchronous connection-less (ACL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mmetric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iable packet size (1-5 slots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. 721 kbps (57.6 kbps return channel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8.8 - 432.6 kbps (symmetric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639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661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675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679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693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697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D5C-5396-4E2A-A4BC-1C1B5B709B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security featur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st frequency hopping (79 channel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w transmit power (range &lt;= 10m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 of remote devi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sed on link key (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 be performed in both direc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cryption of payload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 cipher algorith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ffects all traffic on a link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 entry by us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D6C-E1BF-4A29-9DBC-72C8E237B6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Key generation and usag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1060560" y="1079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81200" y="20001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203480" y="1452600"/>
            <a:ext cx="350640" cy="547560"/>
          </a:xfrm>
          <a:prstGeom prst="downArrow">
            <a:avLst>
              <a:gd name="adj1" fmla="val 50000"/>
              <a:gd name="adj2" fmla="val 3904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9880" y="29894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17440" y="51865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81200" y="40845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01680" y="35434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201680" y="24861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01680" y="45705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74840" y="3083040"/>
            <a:ext cx="2743200" cy="304560"/>
          </a:xfrm>
          <a:prstGeom prst="leftRightArrow">
            <a:avLst>
              <a:gd name="adj1" fmla="val 50000"/>
              <a:gd name="adj2" fmla="val 179308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79840" y="53625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751480" y="49878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39800" y="27432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60920" y="1066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80120" y="19875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03840" y="14400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70600" y="297648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18160" y="51832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280120" y="40719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02400" y="353052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02400" y="247320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02400" y="4557600"/>
            <a:ext cx="352440" cy="625680"/>
          </a:xfrm>
          <a:prstGeom prst="downArrow">
            <a:avLst>
              <a:gd name="adj1" fmla="val 50000"/>
              <a:gd name="adj2" fmla="val 44382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370920" y="1116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85320" y="28242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37600" y="511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B930-CB61-4DEF-8793-DC6927F8C8B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676520" y="1219320"/>
            <a:ext cx="6324480" cy="4266720"/>
            <a:chOff x="1676520" y="1219320"/>
            <a:chExt cx="6324480" cy="4266720"/>
          </a:xfrm>
        </p:grpSpPr>
        <p:sp>
          <p:nvSpPr>
            <p:cNvPr id="730" name=""/>
            <p:cNvSpPr/>
            <p:nvPr/>
          </p:nvSpPr>
          <p:spPr>
            <a:xfrm>
              <a:off x="1676520" y="335268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52840" y="506232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52840" y="454176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52840" y="356364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30720" y="405288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30720" y="356364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52840" y="226224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52840" y="173988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22520" y="173988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56040" y="173988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86480" y="173988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52840" y="121932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98280" y="2652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7809800">
              <a:off x="3866760" y="26834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9040" y="137160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48520" y="2506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517640" y="388620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94400" y="3581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805-3A74-41A5-ABF7-A5A30731F67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oftware architecture goa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the target usage scenari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a variety of hardware platfor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od out of box user experien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able legacy applic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tilize existing protocols where possib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1885-B244-4E31-82EE-8032AD6599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o is Bluetooth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 is Bluetooth and what does it do for you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usage scenarios examp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operability &amp;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B6A-1A76-4547-9C21-0D17CC81C37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st Controller Interface (HCI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Layer Control &amp; Adaptation (L2CA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4FF-5397-42CA-90CF-D8D3CCD3B3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rvice Discovery Protocol (SD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0B7-19BF-431E-829D-E63A5D54361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FCOMM (based on GSM TS07.10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ephony Control Protocol Spec (TC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gacy protocol reus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407-965F-48C1-8CF1-1762BB9AA3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teroperability &amp; 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653000" y="1219320"/>
            <a:ext cx="3857760" cy="3672720"/>
            <a:chOff x="4653000" y="1219320"/>
            <a:chExt cx="3857760" cy="3672720"/>
          </a:xfrm>
        </p:grpSpPr>
        <p:sp>
          <p:nvSpPr>
            <p:cNvPr id="759" name=""/>
            <p:cNvSpPr/>
            <p:nvPr/>
          </p:nvSpPr>
          <p:spPr>
            <a:xfrm>
              <a:off x="5072040" y="2152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2040" y="32986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72040" y="27255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72040" y="3871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45160" y="12924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18280" y="12924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791400" y="12924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4520" y="25938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935840" y="12924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32560" y="46036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60640" y="46022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53000" y="24400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6200000">
              <a:off x="4325400" y="287244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072040" y="12193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24600" y="13716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91400" y="37288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91400" y="25830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935840" y="37288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resents default solution for a usage mod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tical slice through the protocol st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s for interoperability and logo requiremen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ch Bluetooth device supports one or more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D72-BCCE-47FE-A7AD-C63DE29B16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neric Access Profil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ice Discovery Application Profi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ial Port Profi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al-up Networking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x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set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N Access Profile (using PPP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ic Object Exchange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 Transfer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Push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nchronization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CS_BIN-based profil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Telephony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com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F68-9621-4579-9DF6-C788C7E6F6F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2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E07-2FA4-4ECB-ABDF-66E1BFA2149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"/>
          <p:cNvGrpSpPr/>
          <p:nvPr/>
        </p:nvGrpSpPr>
        <p:grpSpPr>
          <a:xfrm>
            <a:off x="609480" y="1025640"/>
            <a:ext cx="8020080" cy="4612680"/>
            <a:chOff x="609480" y="1025640"/>
            <a:chExt cx="8020080" cy="4612680"/>
          </a:xfrm>
        </p:grpSpPr>
        <p:sp>
          <p:nvSpPr>
            <p:cNvPr id="799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1" name=""/>
            <p:cNvGraphicFramePr/>
            <p:nvPr/>
          </p:nvGraphicFramePr>
          <p:xfrm>
            <a:off x="3903480" y="1488600"/>
            <a:ext cx="855720" cy="78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1488600"/>
                      <a:ext cx="855720" cy="78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3" name=""/>
            <p:cNvGraphicFramePr/>
            <p:nvPr/>
          </p:nvGraphicFramePr>
          <p:xfrm>
            <a:off x="609480" y="2063520"/>
            <a:ext cx="1414440" cy="135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063520"/>
                      <a:ext cx="1414440" cy="13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5" name=""/>
            <p:cNvGraphicFramePr/>
            <p:nvPr/>
          </p:nvGraphicFramePr>
          <p:xfrm>
            <a:off x="2266920" y="1966680"/>
            <a:ext cx="1315800" cy="36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1966680"/>
                      <a:ext cx="1315800" cy="36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7" name=""/>
            <p:cNvGraphicFramePr/>
            <p:nvPr/>
          </p:nvGraphicFramePr>
          <p:xfrm>
            <a:off x="2371680" y="3012840"/>
            <a:ext cx="1271520" cy="40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012840"/>
                      <a:ext cx="1271520" cy="40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9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1320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13200" y="53528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6835680" y="50666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358040" y="53528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35804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48016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5713200" y="49240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864040" y="49240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835680" y="49240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358040" y="49240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8480160" y="49240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508520" y="49240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11880" y="47811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078320" y="372888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78320" y="2998440"/>
              <a:ext cx="0" cy="24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318000" y="4775040"/>
              <a:ext cx="801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05320" y="445104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92720" y="2204640"/>
              <a:ext cx="0" cy="29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692480" y="1461960"/>
              <a:ext cx="3240" cy="25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8" name="" descr=""/>
            <p:cNvPicPr/>
            <p:nvPr/>
          </p:nvPicPr>
          <p:blipFill>
            <a:blip r:embed="rId9"/>
            <a:stretch/>
          </p:blipFill>
          <p:spPr>
            <a:xfrm>
              <a:off x="4047840" y="3404880"/>
              <a:ext cx="658800" cy="4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71C-A013-4D6E-9E14-775DCB27099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609480" y="1092240"/>
            <a:ext cx="7910280" cy="4013280"/>
            <a:chOff x="609480" y="1092240"/>
            <a:chExt cx="7910280" cy="4013280"/>
          </a:xfrm>
        </p:grpSpPr>
        <p:sp>
          <p:nvSpPr>
            <p:cNvPr id="841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3" name=""/>
            <p:cNvGraphicFramePr/>
            <p:nvPr/>
          </p:nvGraphicFramePr>
          <p:xfrm>
            <a:off x="609480" y="4114800"/>
            <a:ext cx="114300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114800"/>
                      <a:ext cx="11430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5" name=""/>
            <p:cNvGraphicFramePr/>
            <p:nvPr/>
          </p:nvGraphicFramePr>
          <p:xfrm>
            <a:off x="2750760" y="1092240"/>
            <a:ext cx="1166760" cy="12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092240"/>
                      <a:ext cx="1166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7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60376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03760" y="44308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672588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48240" y="44308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4824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37072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5603760" y="40017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54240" y="40021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725880" y="40017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248240" y="40017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8370720" y="40017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399080" y="40021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0208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202080" y="31449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84656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187680" y="2287800"/>
              <a:ext cx="6480" cy="34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92720" y="1573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370120" y="128736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5"/>
            <a:stretch/>
          </p:blipFill>
          <p:spPr>
            <a:xfrm>
              <a:off x="1333080" y="2530440"/>
              <a:ext cx="1744920" cy="15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5CD-D299-41D9-8C83-A82B14DA6B3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"/>
          <p:cNvGrpSpPr/>
          <p:nvPr/>
        </p:nvGrpSpPr>
        <p:grpSpPr>
          <a:xfrm>
            <a:off x="685800" y="1219320"/>
            <a:ext cx="7994160" cy="4284720"/>
            <a:chOff x="685800" y="1219320"/>
            <a:chExt cx="7994160" cy="4284720"/>
          </a:xfrm>
        </p:grpSpPr>
        <p:sp>
          <p:nvSpPr>
            <p:cNvPr id="876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8" name=""/>
            <p:cNvGraphicFramePr/>
            <p:nvPr/>
          </p:nvGraphicFramePr>
          <p:xfrm>
            <a:off x="4343040" y="238752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38752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0" name=""/>
            <p:cNvGraphicFramePr/>
            <p:nvPr/>
          </p:nvGraphicFramePr>
          <p:xfrm>
            <a:off x="2590560" y="261612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261612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2" name=""/>
            <p:cNvGraphicFramePr/>
            <p:nvPr/>
          </p:nvGraphicFramePr>
          <p:xfrm>
            <a:off x="685800" y="223524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23524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4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6396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63960" y="521820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8644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08800" y="521820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0880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53092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5763960" y="478908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914800" y="478944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6886440" y="478908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408800" y="478908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8530920" y="478908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559280" y="478944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135560" y="359424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29080" y="271620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362640" y="464652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368760" y="464040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156080" y="43164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521400" y="479268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6930720" y="164448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N access poin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25F-6EC3-4D7F-863A-C23529CB561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luetooth is a global, RF-based (ISM band: 2.4GHz), short-range, connectivity technology &amp; solution for portable, personal de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pec compris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9 Discover Magazine Awards finali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 learn more: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http://www.bluetooth.com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864-E54E-45CC-AADF-9D9015349E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63868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o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rald Blaatand “Bluetooth” II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ing of Denmark 940-981 A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is one of two Runic stones erected in his capital city of Jell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tone’s inscription (“runes”) says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hristianiz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ontroll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believes that devices shall seamlessly communicate [wirelessly]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2FC1-47EB-4040-8BE7-AD6BFB3DBB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does Bluetooth do for you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3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Conne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68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0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79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5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1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3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6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6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8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69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0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1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2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3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5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5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2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4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6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07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8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0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2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2D0-6A8D-4520-9CEE-17F7ED9279F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little bit of histo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(Special Interest Group) was formed in Februar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icss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ki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re are 1100+ adopter compani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ent “public” in Ma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ork (the spec: &gt;1,500 pages) became public on July 26, 1999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4AB-7E5C-4B9E-9C1E-AA1C01F000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418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421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424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427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430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0F4-8E72-40CC-AEB4-A22A69C43E2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484200" y="990720"/>
            <a:ext cx="8278560" cy="4267080"/>
            <a:chOff x="484200" y="990720"/>
            <a:chExt cx="8278560" cy="4267080"/>
          </a:xfrm>
        </p:grpSpPr>
        <p:sp>
          <p:nvSpPr>
            <p:cNvPr id="433" name=""/>
            <p:cNvSpPr/>
            <p:nvPr/>
          </p:nvSpPr>
          <p:spPr>
            <a:xfrm>
              <a:off x="5262480" y="15548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22680" y="10666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24120" y="33836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36880" y="33526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24120" y="44798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36880" y="42670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75160" y="25437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531600" y="29718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4200" y="48340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4200" y="43131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4200" y="33354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2440" y="38242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2440" y="33354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4200" y="20336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200" y="15112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57200" y="15112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63800" y="15112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90720" y="15112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4200" y="9907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69320" y="24242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7809800">
              <a:off x="2932920" y="24440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hardware/software descrip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 application framewor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F9B-8733-475F-830E-AA93A02C32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57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9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1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2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4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6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8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2095560" y="566892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389-3F3B-40C4-9D93-4469B97AED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324160" y="566892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77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78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0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3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5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87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488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89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Heads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ple device acces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phone benefi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nd’s free oper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1F2-B245-42D6-B1DA-634DA4BD3E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2T01:34:02Z</dcterms:created>
  <dc:creator>Chatschik Bisdikian</dc:creator>
  <dc:description/>
  <dc:language>en-US</dc:language>
  <cp:lastModifiedBy>Ian C. Gifford</cp:lastModifiedBy>
  <cp:lastPrinted>1999-07-23T14:05:54Z</cp:lastPrinted>
  <dcterms:modified xsi:type="dcterms:W3CDTF">1999-11-10T05:24:09Z</dcterms:modified>
  <cp:revision>207</cp:revision>
  <dc:subject/>
  <dc:title>No Slide Title</dc:title>
</cp:coreProperties>
</file>