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C7CB-6823-435E-BC01-C1E356B8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04C-B991-480F-8B17-83EC15BF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B4C-7821-4C32-AF90-97DC5D9C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96D-51DD-49BB-96DF-D391BA54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698-3CDA-40ED-A756-462F5F87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C7C-408D-4D84-8B2C-5FBBC1FA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4E3-7604-4B8C-B856-F0203587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8AA-CBFF-4BF0-9088-517CA8F7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241-8D51-44C6-8D8D-57F52711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60E-140E-43C3-BAF2-571FAA87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A9D-4A63-4A61-A16B-5B929C3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322-42E1-45AF-86D3-F09DB56D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E6F3F5-77FF-4CB5-BE71-AF163D8E4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utes of Meeting Available on 802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real Attendance 467 vs 488 plan but with a $5600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 voted to increase munchies budget by $2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802.16 PAR on Coexistence of Broadband Wireless Access Systems with a project number of 802.16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 of 802.16 to 802.16.1 was tab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37B6-F852-4CAF-AFA1-97CE2230E0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letter to FCC regarding RF L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Comments to FCC on Wideband FH proposal subject to approval  by US Activities 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encouraged to work with HomeRF at Sept Meeting to resolve a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802.11 a&amp;b to RevCom subject to compliance with conditional approval proced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F0F-B10F-41C4-BFC6-BFB3FD3156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letters to ETSI requesting consideration of 802.11a as a member of the HIPERLAN family of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mation of an 802.11 SG on isochronous service and other enhancements--John Fakatselis, ch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irmed Officers of 802.15 through March 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4F3-F99B-4C88-9064-781B2C928E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mation of an 802.15 SG on Co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yes did not see need for separate SG, covered by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thought it important, but scope beyond dot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le promised strong liaisons, especially with dot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s did not understand need for including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carried to strik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would like to see specific recommendations, by November, why this activity should stay within dot15 rather than being elevated to 802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642-E5B7-41CF-8C27-3E916B60F7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art Kerry appointed chair of SEC subcommittee to prepare a recommendation on Network Access and Services by Sept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of Multiple MACs and Multiple Standards per WG was socialized.  No Action T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ing 802 Plenary Meeting moved to 11-12 timeslot allowing WGs to begin work at 1p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adjourned at mid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793-FD1B-4982-96A0-CF8DC5ECED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2:42:31Z</dcterms:created>
  <dc:creator>Bridget Labrode</dc:creator>
  <dc:description/>
  <dc:language>en-US</dc:language>
  <cp:lastModifiedBy>Bridget Labrode</cp:lastModifiedBy>
  <dcterms:modified xsi:type="dcterms:W3CDTF">1999-09-13T13:24:29Z</dcterms:modified>
  <cp:revision>5</cp:revision>
  <dc:subject/>
  <dc:title>No Slide Title</dc:title>
</cp:coreProperties>
</file>