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CF6-81A9-4A93-BF2A-F01C6F22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8F3-D0B3-48BF-8D18-A01C0104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ABF-69B9-47FD-AA0A-450008FA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878-57FB-4E54-AAD4-0581C9E8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A03-78FD-45A3-AFF0-E6508372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421D-43CE-4E28-A950-A4CFC3A3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E6D-181B-44F5-B0AA-1A03AB8D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EC7-2EA8-42E8-8BEB-7A9FA74E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F7F-BAC8-47D8-A598-4DD98AB3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DF2-5F1F-4A7E-9AC9-6BDC6860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122-1214-4E58-BE59-CC6C9F83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0A9-C3DF-4330-BA0C-19611C80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19CD97-AFFE-4A34-BCC0-1E876E071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Ballo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86D-D348-4B54-A55C-CEB5407AC81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Considers Draft Comments In The Following Mann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fig5" descr=""/>
          <p:cNvPicPr/>
          <p:nvPr/>
        </p:nvPicPr>
        <p:blipFill>
          <a:blip r:embed="rId1"/>
          <a:stretch/>
        </p:blipFill>
        <p:spPr>
          <a:xfrm>
            <a:off x="1220760" y="1936800"/>
            <a:ext cx="6856560" cy="4083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95480" y="5791320"/>
            <a:ext cx="3429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1360" y="6019920"/>
            <a:ext cx="55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IEEE Companion, http://standards.ieee.org/guides/companion/part5.html#bal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114-6557-45B7-BC61-D2CC76E068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urrent P802.15 Working Group is comprised of 40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329-F0BD-49E3-BB36-B7ACBFF4EA74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802 Reporting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1895400"/>
            <a:ext cx="503712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4E0-FA22-4F53-8072-CE6A304FC1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265720" y="1981080"/>
            <a:ext cx="3344760" cy="308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364 Indivi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Corp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Organiz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resen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G and Sponsor Ballot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64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Corp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ty of .1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Organizational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83440" y="3774960"/>
            <a:ext cx="1066680" cy="990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791320"/>
            <a:ext cx="8382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802.15 WG needs to understand How To become an IEEE-SA Member an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P802.15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8757-AA97-4392-907C-00B8FB65DE8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th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ine/Mile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lectronic Letter Ballot - 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Group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E1F-B96D-44A0-940A-1BFA68580C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114800"/>
            <a:ext cx="64767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0DC-AA13-40D9-A045-78D03A01F2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line/Milest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15Ka" descr=""/>
          <p:cNvPicPr/>
          <p:nvPr/>
        </p:nvPicPr>
        <p:blipFill>
          <a:blip r:embed="rId1"/>
          <a:stretch/>
        </p:blipFill>
        <p:spPr>
          <a:xfrm>
            <a:off x="63360" y="2117880"/>
            <a:ext cx="9004320" cy="28350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990720" y="4191120"/>
            <a:ext cx="7048440" cy="1411200"/>
            <a:chOff x="990720" y="4191120"/>
            <a:chExt cx="7048440" cy="1411200"/>
          </a:xfrm>
        </p:grpSpPr>
        <p:sp>
          <p:nvSpPr>
            <p:cNvPr id="55" name=""/>
            <p:cNvSpPr/>
            <p:nvPr/>
          </p:nvSpPr>
          <p:spPr>
            <a:xfrm>
              <a:off x="990720" y="5257800"/>
              <a:ext cx="76176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12600" y="523404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Ballo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67560" y="4191120"/>
              <a:ext cx="137160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C68-1271-4453-9A92-24FE88D508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Electronic Letter Ballot - I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a PDF of the Draft P802.1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Letter Ballot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LB and Comment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Letter Ballot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, Compile, and distribute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432-37D0-4919-8382-5BA3D5F33D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Finish P802.15.1 Draft on or before 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Nov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0A9-ACC4-4CE5-B806-EB0295F377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or before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8Nov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e LB#1 and release the sam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F63-BB8E-46D8-B37D-EAE0D150063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3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3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sam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9C9-9631-4B98-B7EF-2F9FCF4E73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4: Issue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Recirculation Letter Ballot? If yes, Pre Tel-Aviv or Post Tel-Avi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-Aviv Interim Meeting Quo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Tel-Aviv Interim Meeting Balloting vs. Letter Ball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onsor Ballot submission is 18Feb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360" y="5257800"/>
            <a:ext cx="81532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sk Group 1 suggest that we identify the Post LB #1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after the Comments are receiv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8CE-ECE1-496E-A7DD-2472F790C7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0:42:59Z</dcterms:created>
  <dc:creator>Ian C. Gifford</dc:creator>
  <dc:description>076r0</dc:description>
  <dc:language>en-US</dc:language>
  <cp:lastModifiedBy>Ian C. Gifford</cp:lastModifiedBy>
  <cp:lastPrinted>1998-02-10T13:28:06Z</cp:lastPrinted>
  <dcterms:modified xsi:type="dcterms:W3CDTF">1999-09-14T22:03:41Z</dcterms:modified>
  <cp:revision>15</cp:revision>
  <dc:subject>IEEE 802.15 WG Balloting Planning</dc:subject>
  <dc:title>IEEE 802.15 Working Group for Wireless Personal Area Networks</dc:title>
</cp:coreProperties>
</file>