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60F-7BFC-4311-8F59-A0560D6D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267-816F-4471-8BE2-3AFE538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E7F-2C10-4883-B4D4-D43BF650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54B9-EDBC-4BAA-A98B-1BCC573D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D9B-BD3B-46E2-B1F9-C3A18946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552-BBE9-4497-B9B5-F08BBBF0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669-B1EE-4206-9484-F54F0C13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D49-8145-47D4-984F-099901A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B80-2387-47DC-8D91-45EC101F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161-7D83-44BC-8417-FB8B4A7E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B84-66DE-491D-8020-CEEF7C2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BC6E-8570-4A6B-9751-0B3914B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E101AA-AEF3-48B9-AD72-540A7A80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3716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Coordinat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023-3F18-4E9C-8E6C-A8C0E137BC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tooth SIG Function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Draf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C7F-D28B-4260-9243-915B3D9A5D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Functional Organization (abstr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20720" y="1996920"/>
          <a:ext cx="59230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96920"/>
                    <a:ext cx="59230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A8C8-33D1-46B5-B95B-12CEAFC4F9A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luetooth SIG is set u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5680" y="2529000"/>
            <a:ext cx="8456040" cy="3174840"/>
            <a:chOff x="535680" y="2529000"/>
            <a:chExt cx="8456040" cy="3174840"/>
          </a:xfrm>
        </p:grpSpPr>
        <p:sp>
          <p:nvSpPr>
            <p:cNvPr id="54" name=""/>
            <p:cNvSpPr/>
            <p:nvPr/>
          </p:nvSpPr>
          <p:spPr>
            <a:xfrm>
              <a:off x="838080" y="3124080"/>
              <a:ext cx="2895840" cy="167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locking IPR’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ross Licens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152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36080" y="49528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59760" y="2529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5680" y="4952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4280" y="3124080"/>
              <a:ext cx="228600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6640" y="457200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QR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7227720" y="3583080"/>
              <a:ext cx="176400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809880" y="38862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6480" y="5335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tricted to Bluetoo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523880" y="4495680"/>
              <a:ext cx="4572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81480" y="35719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99/0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906-A90E-423F-8544-46B08F4128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BSIG should perceive the IEEE Process of Sub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Program Management will review their derived Draft; this takes two (2)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pproved the Draft will be submitted to the TG1 for thei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3124080"/>
            <a:ext cx="5715000" cy="2921040"/>
            <a:chOff x="3352680" y="3124080"/>
            <a:chExt cx="5715000" cy="2921040"/>
          </a:xfrm>
        </p:grpSpPr>
        <p:sp>
          <p:nvSpPr>
            <p:cNvPr id="69" name=""/>
            <p:cNvSpPr/>
            <p:nvPr/>
          </p:nvSpPr>
          <p:spPr>
            <a:xfrm flipV="1">
              <a:off x="6667200" y="433008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508600" y="335268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876560" y="449568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0760" y="373356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6708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6560" y="554976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11880" y="539712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509256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43240" y="373356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360" y="472428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45240" y="539712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52680" y="358128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342864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9080" y="60451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8508600" y="403812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Bluetooth%20logo%20(tm)" descr=""/>
            <p:cNvPicPr/>
            <p:nvPr/>
          </p:nvPicPr>
          <p:blipFill>
            <a:blip r:embed="rId1"/>
            <a:stretch/>
          </p:blipFill>
          <p:spPr>
            <a:xfrm>
              <a:off x="5410080" y="316044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4680" y="312408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C75-ABA1-4D9F-A429-7381A5EDEC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92120" y="25146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1520" y="1803240"/>
            <a:ext cx="3733920" cy="4572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 Draft Submission Process Process w/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686480"/>
            <a:ext cx="4648320" cy="16761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4660920"/>
            <a:ext cx="152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21193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33720" y="290844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6365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eee-ntw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762120" cy="657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276720" y="1765440"/>
            <a:ext cx="5715000" cy="2921040"/>
            <a:chOff x="3276720" y="1765440"/>
            <a:chExt cx="5715000" cy="2921040"/>
          </a:xfrm>
        </p:grpSpPr>
        <p:sp>
          <p:nvSpPr>
            <p:cNvPr id="97" name=""/>
            <p:cNvSpPr/>
            <p:nvPr/>
          </p:nvSpPr>
          <p:spPr>
            <a:xfrm flipV="1">
              <a:off x="6591240" y="2971440"/>
              <a:ext cx="0" cy="7621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432640" y="1994040"/>
              <a:ext cx="0" cy="304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800600" y="3137040"/>
              <a:ext cx="0" cy="10540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2374920"/>
              <a:ext cx="1371600" cy="76212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-IE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dito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ing 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2908440"/>
              <a:ext cx="3808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4191120"/>
              <a:ext cx="3657600" cy="1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920" y="4038480"/>
              <a:ext cx="4168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373392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olv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gative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2374920"/>
              <a:ext cx="1371600" cy="762120"/>
            </a:xfrm>
            <a:prstGeom prst="flowChartMultidocumen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uetooth SI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llot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3365640"/>
              <a:ext cx="91440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anges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tain B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M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69280" y="4038480"/>
              <a:ext cx="36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222640"/>
              <a:ext cx="4724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8400" y="2070000"/>
              <a:ext cx="64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3120" y="46864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8432640" y="2679480"/>
              <a:ext cx="0" cy="1523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Bluetooth%20logo%20(tm)" descr=""/>
            <p:cNvPicPr/>
            <p:nvPr/>
          </p:nvPicPr>
          <p:blipFill>
            <a:blip r:embed="rId4"/>
            <a:stretch/>
          </p:blipFill>
          <p:spPr>
            <a:xfrm>
              <a:off x="5334120" y="1801800"/>
              <a:ext cx="1600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848720" y="1765440"/>
              <a:ext cx="1143000" cy="914400"/>
            </a:xfrm>
            <a:prstGeom prst="flowChartDecision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T P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ision 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E5C-A54A-4DEC-8F88-3DDE0E7288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o follow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44D5-8132-4C57-9021-CB58751AE6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U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CA3-687B-4C70-A702-576314FA3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4:06:10Z</dcterms:created>
  <dc:creator>Ian C. Gifford</dc:creator>
  <dc:description>079r0</dc:description>
  <dc:language>en-US</dc:language>
  <cp:lastModifiedBy>Ian C. Gifford</cp:lastModifiedBy>
  <cp:lastPrinted>1998-02-10T13:28:06Z</cp:lastPrinted>
  <dcterms:modified xsi:type="dcterms:W3CDTF">1999-09-15T14:53:31Z</dcterms:modified>
  <cp:revision>8</cp:revision>
  <dc:subject>IEEE 802.15 Planning</dc:subject>
  <dc:title>Bluetooth Coordination Planning</dc:title>
</cp:coreProperties>
</file>