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3EBC-617B-4D71-9975-EE03F15C7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DE64-3350-4A13-904A-81B317DC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52F-AAC0-4B8A-8891-43E23E3A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98C-111A-43A2-8326-571C56D2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47BA-CC76-49F1-A982-25101B4A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16FE-1CB7-40BA-8724-5F417134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9E20-2210-45C4-9825-195B9B36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35B-1DB6-4201-B805-ACC2AAC1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CA2-AD94-446B-9E33-50164F86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E2C-467C-44C7-89D0-70635884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326-EB66-4A86-905B-F98606D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094-55FF-4A85-95F4-3A28D70C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043-34FA-4FAE-9A87-EF68DF4E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4B46-7897-468C-8FEF-C7CBFADA5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1752-9D3F-4F55-8578-50B7A9484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88BAE3-52E4-4924-9C8F-D1E95D088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160" y="1858680"/>
            <a:ext cx="86364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eing Bluetooth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1981080" cy="11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87624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8088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2438280" y="2192400"/>
            <a:ext cx="457200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01028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129456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276720" y="533520"/>
            <a:ext cx="5486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4: Cli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 in Clien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438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581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24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867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010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36640" y="4950000"/>
            <a:ext cx="598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31560" y="2178000"/>
            <a:ext cx="366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nix clients (i.e. RS-6000, Sun, etc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53160" y="2604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rot="13200000">
            <a:off x="3033720" y="2730240"/>
            <a:ext cx="644760" cy="74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 rot="13200000">
            <a:off x="3528720" y="3161880"/>
            <a:ext cx="68112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 rot="7800000">
            <a:off x="2253960" y="4371120"/>
            <a:ext cx="959040" cy="77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281240" y="4740120"/>
            <a:ext cx="34239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05440" y="3083040"/>
            <a:ext cx="28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T Workstation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95280" y="2938320"/>
            <a:ext cx="36831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95280" y="2516040"/>
            <a:ext cx="36687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05120" y="4389480"/>
            <a:ext cx="4845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indows 9x and NT Workstation 4 &amp;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Por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rot="10800000">
            <a:off x="6248880" y="3421080"/>
            <a:ext cx="1616040" cy="604800"/>
          </a:xfrm>
          <a:prstGeom prst="parallelogram">
            <a:avLst>
              <a:gd name="adj" fmla="val 99285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181960" y="3689280"/>
            <a:ext cx="447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ltra-portable fusion* devices (Windows 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1271520" y="3419640"/>
            <a:ext cx="6872400" cy="642600"/>
            <a:chOff x="1271520" y="3419640"/>
            <a:chExt cx="6872400" cy="642600"/>
          </a:xfrm>
        </p:grpSpPr>
        <p:sp>
          <p:nvSpPr>
            <p:cNvPr id="1250" name=""/>
            <p:cNvSpPr/>
            <p:nvPr/>
          </p:nvSpPr>
          <p:spPr>
            <a:xfrm>
              <a:off x="3003480" y="3419640"/>
              <a:ext cx="51404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271520" y="4062240"/>
              <a:ext cx="68500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971280" y="2049480"/>
            <a:ext cx="3312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977760" y="3600360"/>
            <a:ext cx="3193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16160" y="5197320"/>
            <a:ext cx="7056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Fusion devices combine elements of portable computers, personal digital assistants (PDAs), 2 way pagers, and cellular phones.  There will be thin clients that bring elements of fusion hardware technology to at least some desk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83240" y="2603520"/>
            <a:ext cx="446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Windows 9x and NT Workstation 4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54440" y="4603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930920" y="28130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916520" y="238140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301760" y="49212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01760" y="21924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3276720" y="3049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676520" y="2133720"/>
            <a:ext cx="586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ggressively work co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60020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ence of 802.11 and 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33400" y="457200"/>
            <a:ext cx="741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Wireless Mobi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271760" y="3043080"/>
            <a:ext cx="1836000" cy="2211480"/>
            <a:chOff x="4271760" y="3043080"/>
            <a:chExt cx="1836000" cy="2211480"/>
          </a:xfrm>
        </p:grpSpPr>
        <p:sp>
          <p:nvSpPr>
            <p:cNvPr id="78" name=""/>
            <p:cNvSpPr/>
            <p:nvPr/>
          </p:nvSpPr>
          <p:spPr>
            <a:xfrm>
              <a:off x="4479840" y="3139920"/>
              <a:ext cx="1452600" cy="17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71760" y="4941720"/>
              <a:ext cx="1836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2160" y="3855960"/>
              <a:ext cx="1461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68920" y="3854520"/>
              <a:ext cx="168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2160" y="3201840"/>
              <a:ext cx="603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3640" y="3778200"/>
              <a:ext cx="346320" cy="2635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8164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816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04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6480" y="420840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04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16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648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64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8164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276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164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276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64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276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8164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64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388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77920" y="1434960"/>
            <a:ext cx="7816680" cy="5273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78080" y="2151000"/>
            <a:ext cx="33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- Regional 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7136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0120" y="5680080"/>
            <a:ext cx="328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- Campu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572080" y="1824120"/>
          <a:ext cx="14619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824120"/>
                    <a:ext cx="14619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961320" y="3564000"/>
          <a:ext cx="140940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3564000"/>
                    <a:ext cx="14094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401840" y="3516480"/>
          <a:ext cx="205416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1840" y="3516480"/>
                    <a:ext cx="2054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245120" y="5513400"/>
          <a:ext cx="1985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5120" y="5513400"/>
                    <a:ext cx="198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1680" y="1303200"/>
          <a:ext cx="2403360" cy="16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680" y="1303200"/>
                    <a:ext cx="2403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0240" y="1001880"/>
            <a:ext cx="36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- National/Intl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03360" y="-520236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3720" y="49212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3720" y="3524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3720" y="28584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31080" y="70632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3160" y="1692360"/>
            <a:ext cx="547560" cy="53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917440" y="1622520"/>
            <a:ext cx="954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1520" y="169236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13200" y="2112840"/>
            <a:ext cx="1188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88680" y="218268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217656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14840" y="293652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714840" y="286668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0960" y="2878200"/>
            <a:ext cx="3445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69120" y="1762200"/>
            <a:ext cx="2333520" cy="404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03280" y="6087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12040" y="442764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6240" y="455616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4360" y="3584520"/>
            <a:ext cx="1833480" cy="2782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33040" y="63691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84480" y="46371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01400" y="465624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28600" y="444672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7280" y="180972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000" y="145584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08440" y="1897200"/>
            <a:ext cx="15552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1897200"/>
            <a:ext cx="12996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3960" y="203688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92680" y="2025360"/>
            <a:ext cx="1303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7840" y="168588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92680" y="217656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80080" y="217656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92680" y="2387520"/>
            <a:ext cx="2728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08080" y="2387520"/>
            <a:ext cx="29844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08720" y="110952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63960" y="167940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422680" y="1685880"/>
            <a:ext cx="83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75104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3920" y="1405080"/>
            <a:ext cx="34452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565160" y="160956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8480" y="1616040"/>
            <a:ext cx="272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93880" y="1685880"/>
            <a:ext cx="3697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6840" y="18907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50960" y="1897200"/>
            <a:ext cx="2984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51360" y="18907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2668680"/>
            <a:ext cx="55872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64800" y="272268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3960" y="168588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28624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1967040"/>
            <a:ext cx="70164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12040" y="38656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91800" y="35845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26240" y="398952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78000" y="2106720"/>
            <a:ext cx="141624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351320" y="252720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63920" y="2597040"/>
            <a:ext cx="105912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09560" y="252720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160" y="259236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923760" y="251568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732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188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0240" y="23176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0240" y="2597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25280" y="286236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896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3024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34960" y="2597040"/>
            <a:ext cx="177480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95560" y="29480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06720" y="301788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78440" y="3089160"/>
            <a:ext cx="70164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9920" y="307188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63800" y="364968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64520" y="370368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52680" y="3510000"/>
            <a:ext cx="725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34280" y="30891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35000" y="31431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2680" y="336384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05520" y="3159000"/>
            <a:ext cx="48888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565160" y="168588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8480" y="2234880"/>
            <a:ext cx="129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422600" y="224640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2160" y="1897200"/>
            <a:ext cx="5904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732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3800" y="196704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3920" y="3719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92680" y="421020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5520" y="3930480"/>
            <a:ext cx="1201680" cy="10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6160" y="385452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9920" y="426420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92560" y="476568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779800" y="455616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14760" y="14050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20880" y="153324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86040" y="154620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38400" y="1174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9520" y="49680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3720" y="3571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20880" y="435132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06600" y="526248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20880" y="5753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05600" y="3017880"/>
            <a:ext cx="1060560" cy="96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9840" y="231768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19720" y="161604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05600" y="49816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91480" y="435132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05600" y="4351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19720" y="42814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38840" y="2072880"/>
            <a:ext cx="736560" cy="5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99520" y="21240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23280" y="2797200"/>
            <a:ext cx="80964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8840" y="4835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99520" y="4087800"/>
            <a:ext cx="0" cy="135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35100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06600" y="4842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49560" y="343836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92520" y="3438360"/>
            <a:ext cx="7729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00200" y="3807000"/>
            <a:ext cx="0" cy="79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02000" y="378000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54080" y="5181480"/>
            <a:ext cx="522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82800" y="5673600"/>
            <a:ext cx="59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23960" y="6164280"/>
            <a:ext cx="66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0200" y="4995720"/>
            <a:ext cx="0" cy="114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40120" y="4765680"/>
            <a:ext cx="108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34320" y="1458720"/>
            <a:ext cx="27468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5280" y="13143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83360" y="3720960"/>
            <a:ext cx="833400" cy="32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84400" y="4632480"/>
            <a:ext cx="833400" cy="32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69160" y="533520"/>
            <a:ext cx="76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min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92680" y="3282840"/>
            <a:ext cx="15429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5779800" y="4761000"/>
            <a:ext cx="647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500120" y="3639960"/>
            <a:ext cx="2058840" cy="3220560"/>
            <a:chOff x="1500120" y="3639960"/>
            <a:chExt cx="2058840" cy="3220560"/>
          </a:xfrm>
        </p:grpSpPr>
        <p:sp>
          <p:nvSpPr>
            <p:cNvPr id="344" name=""/>
            <p:cNvSpPr/>
            <p:nvPr/>
          </p:nvSpPr>
          <p:spPr>
            <a:xfrm>
              <a:off x="1577160" y="3785760"/>
              <a:ext cx="1833120" cy="278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32320" y="6570000"/>
              <a:ext cx="1725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6920" y="4838040"/>
              <a:ext cx="19044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9960" y="4857120"/>
              <a:ext cx="141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56960" y="3850200"/>
              <a:ext cx="487800" cy="40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63440" y="3904560"/>
              <a:ext cx="514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e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14040" y="455184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00120" y="546372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14040" y="595440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00120" y="504288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427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853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94080" y="4008240"/>
              <a:ext cx="0" cy="79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160" y="3980520"/>
              <a:ext cx="33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5383080"/>
              <a:ext cx="52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74880" y="5874480"/>
              <a:ext cx="595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7480" y="6365520"/>
              <a:ext cx="66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94080" y="5196240"/>
              <a:ext cx="0" cy="114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2920" y="4966920"/>
              <a:ext cx="1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77200" y="4833720"/>
              <a:ext cx="833040" cy="327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2285640" y="4552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3080" y="4483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84600" y="5745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14720" y="3990960"/>
            <a:ext cx="14256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4168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14680" y="3921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14680" y="4692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55880" y="476244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5960" y="6024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0160" y="59547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8880" y="51134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14720" y="616572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7520" y="60958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27520" y="5043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55880" y="5324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41680" y="5394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55880" y="55339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70080" y="5675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623556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98800" y="6235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98760" y="5815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98760" y="5464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98760" y="56037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98760" y="57452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857240" y="58849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071800" y="58849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00160" y="5253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57240" y="476244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98400" y="4483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57280" y="406224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57240" y="399096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98760" y="53942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69040" y="1774800"/>
            <a:ext cx="2333520" cy="404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4280" y="61009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1960" y="473868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26160" y="48672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29600" y="47577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11960" y="3878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2800" y="35971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26160" y="400356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5640" y="3102120"/>
            <a:ext cx="487440" cy="40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34920" y="315612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07240" y="3171960"/>
            <a:ext cx="4870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05520" y="3032280"/>
            <a:ext cx="1060560" cy="9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2330280"/>
            <a:ext cx="106020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21440" y="162864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05520" y="49957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140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0552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21440" y="429408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570720" y="2085480"/>
            <a:ext cx="806400" cy="1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00880" y="21366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24640" y="2811600"/>
            <a:ext cx="808200" cy="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38760" y="48499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377120" y="4100400"/>
            <a:ext cx="23760" cy="136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34240" y="35226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834240" y="1473120"/>
            <a:ext cx="2746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35920" y="13287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83280" y="3733920"/>
            <a:ext cx="833400" cy="328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077840" y="4054320"/>
            <a:ext cx="6573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2240" y="4575240"/>
            <a:ext cx="1181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10480" y="46227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81760" y="4202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67560" y="4272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8176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94520" y="45529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24640" y="469260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24640" y="4341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24640" y="448308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24640" y="462276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424640" y="4272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91400" y="25401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63040" y="21193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48480" y="2190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63040" y="2330280"/>
            <a:ext cx="14256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77240" y="247032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2611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05560" y="22604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405560" y="240048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05560" y="25401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405200" y="219060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173720" y="30146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31160" y="2943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02440" y="24526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02400" y="23828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02400" y="3154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45320" y="322416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45360" y="25225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45320" y="24526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162560" y="47451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20000" y="4675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91280" y="41846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91240" y="41148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91240" y="4886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4160" y="495612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4200" y="42544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34160" y="418464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69120" y="1968480"/>
            <a:ext cx="2333520" cy="40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3280" y="629460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12040" y="46324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726240" y="4328640"/>
            <a:ext cx="54756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84360" y="3790800"/>
            <a:ext cx="1833480" cy="278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33040" y="6573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84480" y="4913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01400" y="49323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28600" y="465120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12040" y="40719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91800" y="378936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26240" y="4200480"/>
            <a:ext cx="5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63800" y="38559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64520" y="39099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34280" y="329400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35000" y="334800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792680" y="356868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79800" y="476100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63800" y="504180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38480" y="4784760"/>
            <a:ext cx="452160" cy="444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2781360" y="4276800"/>
            <a:ext cx="2253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4556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20880" y="55389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77920" y="55389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06600" y="546876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7792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20880" y="595944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660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91480" y="182232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91480" y="322416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05600" y="32241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19720" y="3154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19840" y="2522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05600" y="25225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91360" y="2522520"/>
            <a:ext cx="106020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0560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1972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0560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862760" y="518796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1972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91480" y="4556160"/>
            <a:ext cx="10587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05600" y="4556160"/>
            <a:ext cx="10605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19720" y="4486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91480" y="392580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0560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1972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38840" y="2306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99520" y="2330280"/>
            <a:ext cx="0" cy="149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38840" y="3008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8840" y="3710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8840" y="44100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38840" y="50418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10480" y="5673600"/>
            <a:ext cx="159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99520" y="4363920"/>
            <a:ext cx="0" cy="1285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34320" y="3714840"/>
            <a:ext cx="3459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4956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0660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20880" y="504828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4956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0660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4956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0660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4956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20880" y="4065480"/>
            <a:ext cx="77328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0660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92520" y="3645000"/>
            <a:ext cx="7729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00200" y="4013280"/>
            <a:ext cx="0" cy="725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82800" y="3989520"/>
            <a:ext cx="12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54080" y="448164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4080" y="4971960"/>
            <a:ext cx="236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54080" y="5392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54080" y="588312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54080" y="6373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5275440"/>
            <a:ext cx="0" cy="107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38520" y="4971960"/>
            <a:ext cx="309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873600"/>
            <a:ext cx="452520" cy="444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783560" y="2805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854840" y="2384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40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54840" y="25938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69400" y="27352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7720" y="287496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97720" y="2523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7720" y="26654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97720" y="280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497720" y="2454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83560" y="3576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54840" y="3156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40640" y="32259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54840" y="33656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069400" y="3506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97720" y="3646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7720" y="3295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97720" y="3436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97720" y="3576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497720" y="32259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8356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54840" y="448776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40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854840" y="4699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06940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97720" y="4978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9772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97720" y="4768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497720" y="4908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497720" y="45576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284600" y="3086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42040" y="301608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13680" y="252396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13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54800" y="2593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6560" y="252396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284600" y="50497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142040" y="49784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13680" y="4629240"/>
            <a:ext cx="1411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713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54800" y="4699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6560" y="462924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285640" y="46990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43080" y="4629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84600" y="589104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14720" y="4137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168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4680" y="406728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1468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5588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624204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27520" y="51894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54705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41680" y="5540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55880" y="56800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70080" y="582120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57280" y="638172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98800" y="6381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98760" y="59612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98760" y="5610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8760" y="5749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98760" y="58910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57240" y="490860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249840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57280" y="420840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57240" y="413712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498760" y="55404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3205080" y="2392200"/>
            <a:ext cx="960120" cy="2430360"/>
            <a:chOff x="3205080" y="2392200"/>
            <a:chExt cx="960120" cy="2430360"/>
          </a:xfrm>
        </p:grpSpPr>
        <p:sp>
          <p:nvSpPr>
            <p:cNvPr id="687" name=""/>
            <p:cNvSpPr/>
            <p:nvPr/>
          </p:nvSpPr>
          <p:spPr>
            <a:xfrm flipH="1">
              <a:off x="3205080" y="2916360"/>
              <a:ext cx="39528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3680" y="2916360"/>
              <a:ext cx="37152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33400" y="3179520"/>
              <a:ext cx="394200" cy="4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74000" y="3185280"/>
              <a:ext cx="367200" cy="4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94600" y="2392200"/>
              <a:ext cx="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63560" y="3616200"/>
              <a:ext cx="567720" cy="52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3347640" y="3625200"/>
              <a:ext cx="59184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68520" y="4139280"/>
              <a:ext cx="79668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205080" y="4139280"/>
              <a:ext cx="8294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588480" y="291060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04840" y="2492280"/>
            <a:ext cx="2712600" cy="2473200"/>
            <a:chOff x="204840" y="2492280"/>
            <a:chExt cx="2712600" cy="2473200"/>
          </a:xfrm>
        </p:grpSpPr>
        <p:sp>
          <p:nvSpPr>
            <p:cNvPr id="698" name=""/>
            <p:cNvSpPr/>
            <p:nvPr/>
          </p:nvSpPr>
          <p:spPr>
            <a:xfrm>
              <a:off x="204840" y="2777040"/>
              <a:ext cx="1446480" cy="147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5680" y="2492280"/>
              <a:ext cx="1645920" cy="153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3800" y="3577320"/>
              <a:ext cx="1559520" cy="138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57920" y="3301560"/>
              <a:ext cx="1559520" cy="138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2520" y="2770920"/>
              <a:ext cx="1772640" cy="18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29320" y="334224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160" y="355248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61920" y="2619360"/>
              <a:ext cx="599760" cy="57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04280" y="416196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09240" y="3105000"/>
            <a:ext cx="252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640640" y="4565520"/>
            <a:ext cx="1495080" cy="2283840"/>
            <a:chOff x="7640640" y="4565520"/>
            <a:chExt cx="1495080" cy="2283840"/>
          </a:xfrm>
        </p:grpSpPr>
        <p:sp>
          <p:nvSpPr>
            <p:cNvPr id="709" name=""/>
            <p:cNvSpPr/>
            <p:nvPr/>
          </p:nvSpPr>
          <p:spPr>
            <a:xfrm>
              <a:off x="7640640" y="4568400"/>
              <a:ext cx="95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904880" y="5174640"/>
              <a:ext cx="5461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1748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678880" y="6609960"/>
              <a:ext cx="44496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8439480" y="5162400"/>
              <a:ext cx="696240" cy="145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8210520" y="5168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753320" y="5174640"/>
              <a:ext cx="4687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6556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27680" y="6844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65560" y="5396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93080" y="5402520"/>
              <a:ext cx="1411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8146440" y="5468040"/>
              <a:ext cx="36864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8361720" y="5238360"/>
              <a:ext cx="16524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980840" y="5250600"/>
              <a:ext cx="39276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603280" y="654624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8754840" y="6610320"/>
              <a:ext cx="2930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8896320" y="6381360"/>
              <a:ext cx="1634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591400" y="6392880"/>
              <a:ext cx="3168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98000" y="5935680"/>
              <a:ext cx="29304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8603280" y="6304680"/>
              <a:ext cx="2930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8591400" y="5771880"/>
              <a:ext cx="31680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8286120" y="5783760"/>
              <a:ext cx="31680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73960" y="5935680"/>
              <a:ext cx="6516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27680" y="585936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451720" y="60890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03280" y="601272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527680" y="624060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78880" y="616500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03280" y="6392880"/>
              <a:ext cx="6408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754840" y="63169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8069040" y="5468040"/>
              <a:ext cx="4464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8210160" y="5707800"/>
              <a:ext cx="4683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27680" y="547992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65560" y="4641480"/>
              <a:ext cx="36864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88160" y="45655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870240" y="5786280"/>
            <a:ext cx="1003320" cy="763560"/>
            <a:chOff x="6870240" y="5786280"/>
            <a:chExt cx="1003320" cy="763560"/>
          </a:xfrm>
        </p:grpSpPr>
        <p:sp>
          <p:nvSpPr>
            <p:cNvPr id="745" name=""/>
            <p:cNvSpPr/>
            <p:nvPr/>
          </p:nvSpPr>
          <p:spPr>
            <a:xfrm>
              <a:off x="7105680" y="601560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7111440" y="6385680"/>
              <a:ext cx="75024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868160" y="592812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099560" y="5939640"/>
              <a:ext cx="77400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947640" y="65440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953760" y="600408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59880" y="6010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81640" y="609192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7187400" y="6156000"/>
              <a:ext cx="5983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792200" y="6003720"/>
              <a:ext cx="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187400" y="6004080"/>
              <a:ext cx="5983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644600" y="6244200"/>
              <a:ext cx="6516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6864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2200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4600" y="6320160"/>
              <a:ext cx="65160" cy="65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959880" y="5927760"/>
              <a:ext cx="672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44600" y="593388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870240" y="6473880"/>
              <a:ext cx="1652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6876360" y="5850000"/>
              <a:ext cx="0" cy="69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70600" y="57862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7232760" y="2803320"/>
            <a:ext cx="1898640" cy="1231560"/>
            <a:chOff x="7232760" y="2803320"/>
            <a:chExt cx="1898640" cy="1231560"/>
          </a:xfrm>
        </p:grpSpPr>
        <p:sp>
          <p:nvSpPr>
            <p:cNvPr id="766" name=""/>
            <p:cNvSpPr/>
            <p:nvPr/>
          </p:nvSpPr>
          <p:spPr>
            <a:xfrm>
              <a:off x="7851600" y="35020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13640" y="3881880"/>
              <a:ext cx="6739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613640" y="341244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452800" y="3424320"/>
              <a:ext cx="67248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13640" y="3959280"/>
              <a:ext cx="6739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299440" y="3490560"/>
              <a:ext cx="825840" cy="4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299440" y="3565800"/>
              <a:ext cx="82584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327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08360" y="280332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232760" y="2803320"/>
              <a:ext cx="82548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083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383960" y="2879280"/>
              <a:ext cx="75132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613640" y="3336480"/>
              <a:ext cx="74988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83960" y="3272760"/>
              <a:ext cx="21708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47880" y="2891160"/>
              <a:ext cx="21564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47880" y="28155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37680" y="38761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07520" y="3881880"/>
              <a:ext cx="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855920" y="358668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2760" y="32666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31400" y="35020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356160" y="4871880"/>
            <a:ext cx="145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 Voice, Pag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062920" y="1109520"/>
            <a:ext cx="96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28160" y="2693880"/>
            <a:ext cx="110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993640" y="6111720"/>
            <a:ext cx="74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606840" y="1422000"/>
            <a:ext cx="3758760" cy="960480"/>
            <a:chOff x="3606840" y="1422000"/>
            <a:chExt cx="3758760" cy="960480"/>
          </a:xfrm>
        </p:grpSpPr>
        <p:sp>
          <p:nvSpPr>
            <p:cNvPr id="792" name=""/>
            <p:cNvSpPr/>
            <p:nvPr/>
          </p:nvSpPr>
          <p:spPr>
            <a:xfrm flipV="1">
              <a:off x="3606840" y="1751040"/>
              <a:ext cx="170172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39520" y="1760040"/>
              <a:ext cx="8316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5434920" y="1422000"/>
              <a:ext cx="1930680" cy="65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567240" y="2422440"/>
            <a:ext cx="3341160" cy="3417480"/>
            <a:chOff x="3567240" y="2422440"/>
            <a:chExt cx="3341160" cy="3417480"/>
          </a:xfrm>
        </p:grpSpPr>
        <p:sp>
          <p:nvSpPr>
            <p:cNvPr id="796" name=""/>
            <p:cNvSpPr/>
            <p:nvPr/>
          </p:nvSpPr>
          <p:spPr>
            <a:xfrm>
              <a:off x="3567240" y="2422440"/>
              <a:ext cx="1809000" cy="19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5087160" y="437580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99400" y="4381920"/>
              <a:ext cx="1809000" cy="14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720880" y="4664160"/>
            <a:ext cx="301680" cy="331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63840" y="4633920"/>
            <a:ext cx="2458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44880" y="48290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06840" y="2406600"/>
            <a:ext cx="2473200" cy="156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5594040" y="3971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05560" y="3978360"/>
            <a:ext cx="21049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06840" y="2406600"/>
            <a:ext cx="244620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7302600" y="1355400"/>
            <a:ext cx="1550520" cy="927000"/>
            <a:chOff x="7302600" y="1355400"/>
            <a:chExt cx="1550520" cy="927000"/>
          </a:xfrm>
        </p:grpSpPr>
        <p:sp>
          <p:nvSpPr>
            <p:cNvPr id="807" name=""/>
            <p:cNvSpPr/>
            <p:nvPr/>
          </p:nvSpPr>
          <p:spPr>
            <a:xfrm>
              <a:off x="8758080" y="1637640"/>
              <a:ext cx="950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48040" y="1521000"/>
              <a:ext cx="0" cy="6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54160" y="1355400"/>
              <a:ext cx="1207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25440" y="1596960"/>
              <a:ext cx="0" cy="67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531560" y="1431720"/>
              <a:ext cx="12056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531560" y="2118960"/>
              <a:ext cx="12056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54160" y="15210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54160" y="22068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743320" y="1443600"/>
              <a:ext cx="0" cy="67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73480" y="1367640"/>
              <a:ext cx="637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01040" y="167292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607160" y="1509120"/>
              <a:ext cx="1054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667360" y="15210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595640" y="1901160"/>
              <a:ext cx="1077840" cy="1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683120" y="1661040"/>
              <a:ext cx="5220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683120" y="1737360"/>
              <a:ext cx="74916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759080" y="189504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759080" y="1888920"/>
              <a:ext cx="522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72080" y="1443600"/>
              <a:ext cx="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78200" y="1895040"/>
              <a:ext cx="1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02600" y="13676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257480" y="133200"/>
            <a:ext cx="774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29000" y="533520"/>
            <a:ext cx="5373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gional Low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5708520" y="2833560"/>
            <a:ext cx="3556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21480" y="3006720"/>
            <a:ext cx="21589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5120" y="6257880"/>
            <a:ext cx="120996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46200" y="6022800"/>
            <a:ext cx="417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Encryption 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98720" y="1789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31560" y="3670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148960" y="457668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8624880" y="2333520"/>
            <a:ext cx="428400" cy="771120"/>
            <a:chOff x="8624880" y="2333520"/>
            <a:chExt cx="428400" cy="771120"/>
          </a:xfrm>
        </p:grpSpPr>
        <p:sp>
          <p:nvSpPr>
            <p:cNvPr id="838" name=""/>
            <p:cNvSpPr/>
            <p:nvPr/>
          </p:nvSpPr>
          <p:spPr>
            <a:xfrm>
              <a:off x="9009000" y="243576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8624880" y="2333520"/>
              <a:ext cx="428400" cy="771120"/>
              <a:chOff x="8624880" y="2333520"/>
              <a:chExt cx="428400" cy="771120"/>
            </a:xfrm>
          </p:grpSpPr>
          <p:sp>
            <p:nvSpPr>
              <p:cNvPr id="840" name=""/>
              <p:cNvSpPr/>
              <p:nvPr/>
            </p:nvSpPr>
            <p:spPr>
              <a:xfrm flipH="1">
                <a:off x="8688240" y="2539440"/>
                <a:ext cx="1616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92560" y="2616480"/>
                <a:ext cx="22176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8918280" y="3024000"/>
                <a:ext cx="1317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8846640" y="2535120"/>
                <a:ext cx="20664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778960" y="253728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8643600" y="253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47200" y="2616480"/>
                <a:ext cx="22212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872920" y="310284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47200" y="261432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714880" y="261648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8760240" y="2637720"/>
                <a:ext cx="10908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8823960" y="256068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8711280" y="2565000"/>
                <a:ext cx="11664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895600" y="300276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8940960" y="302364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8982360" y="294696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8891640" y="295128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805240" y="2796840"/>
                <a:ext cx="8640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895600" y="292068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8891640" y="2741040"/>
                <a:ext cx="9396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8801280" y="274536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827920" y="279684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872920" y="27709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850600" y="28483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895600" y="28224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872920" y="28998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918280" y="28738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895600" y="29512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940960" y="29253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8737560" y="2638080"/>
                <a:ext cx="1317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778960" y="271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72920" y="26424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24880" y="23335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8647200" y="2359080"/>
              <a:ext cx="9000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526600" y="4965480"/>
            <a:ext cx="500040" cy="350280"/>
            <a:chOff x="8526600" y="4965480"/>
            <a:chExt cx="500040" cy="350280"/>
          </a:xfrm>
        </p:grpSpPr>
        <p:sp>
          <p:nvSpPr>
            <p:cNvPr id="875" name=""/>
            <p:cNvSpPr/>
            <p:nvPr/>
          </p:nvSpPr>
          <p:spPr>
            <a:xfrm>
              <a:off x="8577360" y="50281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579520" y="496548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602560" y="5056560"/>
              <a:ext cx="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8604720" y="499428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8604720" y="525348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79520" y="502812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79520" y="5287680"/>
              <a:ext cx="208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26640" y="49993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02520" y="497052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29200" y="50857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631360" y="502308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000360" y="50281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626320" y="5172480"/>
              <a:ext cx="3754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8658360" y="50806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8658360" y="510948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4640" y="516996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8684640" y="51670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50720" y="499932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52880" y="516996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526600" y="497052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896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7284960" y="3997440"/>
            <a:ext cx="497880" cy="350280"/>
            <a:chOff x="7284960" y="3997440"/>
            <a:chExt cx="497880" cy="350280"/>
          </a:xfrm>
        </p:grpSpPr>
        <p:sp>
          <p:nvSpPr>
            <p:cNvPr id="919" name=""/>
            <p:cNvSpPr/>
            <p:nvPr/>
          </p:nvSpPr>
          <p:spPr>
            <a:xfrm>
              <a:off x="7401600" y="410256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7404840" y="4272120"/>
              <a:ext cx="3726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780320" y="406116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398000" y="4067280"/>
              <a:ext cx="38484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322400" y="434520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7325640" y="4096440"/>
              <a:ext cx="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28880" y="409968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40480" y="41374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443360" y="416664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742520" y="40960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443360" y="409608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698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6320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70796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69800" y="424296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7328880" y="4061160"/>
              <a:ext cx="3344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69800" y="4064400"/>
              <a:ext cx="10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284960" y="431316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7287840" y="402624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91080" y="3997440"/>
              <a:ext cx="3132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5570640" y="5470560"/>
            <a:ext cx="785880" cy="553680"/>
            <a:chOff x="5570640" y="5470560"/>
            <a:chExt cx="785880" cy="553680"/>
          </a:xfrm>
        </p:grpSpPr>
        <p:graphicFrame>
          <p:nvGraphicFramePr>
            <p:cNvPr id="940" name=""/>
            <p:cNvGraphicFramePr/>
            <p:nvPr/>
          </p:nvGraphicFramePr>
          <p:xfrm>
            <a:off x="5570640" y="5576760"/>
            <a:ext cx="78588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0640" y="5576760"/>
                      <a:ext cx="78588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"/>
            <p:cNvSpPr/>
            <p:nvPr/>
          </p:nvSpPr>
          <p:spPr>
            <a:xfrm>
              <a:off x="6186600" y="5499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71840" y="547056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3016080" y="1052640"/>
            <a:ext cx="6299280" cy="5715000"/>
          </a:xfrm>
          <a:custGeom>
            <a:avLst/>
            <a:gdLst/>
            <a:ahLst/>
            <a:rect l="l" t="t" r="r" b="b"/>
            <a:pathLst>
              <a:path w="4234" h="3912">
                <a:moveTo>
                  <a:pt x="397" y="912"/>
                </a:moveTo>
                <a:cubicBezTo>
                  <a:pt x="416" y="817"/>
                  <a:pt x="459" y="739"/>
                  <a:pt x="541" y="684"/>
                </a:cubicBezTo>
                <a:cubicBezTo>
                  <a:pt x="577" y="630"/>
                  <a:pt x="620" y="588"/>
                  <a:pt x="673" y="552"/>
                </a:cubicBezTo>
                <a:cubicBezTo>
                  <a:pt x="715" y="490"/>
                  <a:pt x="782" y="453"/>
                  <a:pt x="841" y="408"/>
                </a:cubicBezTo>
                <a:cubicBezTo>
                  <a:pt x="857" y="396"/>
                  <a:pt x="871" y="381"/>
                  <a:pt x="889" y="372"/>
                </a:cubicBezTo>
                <a:cubicBezTo>
                  <a:pt x="945" y="344"/>
                  <a:pt x="974" y="320"/>
                  <a:pt x="1033" y="300"/>
                </a:cubicBezTo>
                <a:cubicBezTo>
                  <a:pt x="1060" y="291"/>
                  <a:pt x="1129" y="280"/>
                  <a:pt x="1153" y="264"/>
                </a:cubicBezTo>
                <a:cubicBezTo>
                  <a:pt x="1194" y="237"/>
                  <a:pt x="1304" y="215"/>
                  <a:pt x="1357" y="204"/>
                </a:cubicBezTo>
                <a:cubicBezTo>
                  <a:pt x="1386" y="190"/>
                  <a:pt x="1412" y="169"/>
                  <a:pt x="1441" y="156"/>
                </a:cubicBezTo>
                <a:cubicBezTo>
                  <a:pt x="1498" y="131"/>
                  <a:pt x="1551" y="124"/>
                  <a:pt x="1609" y="108"/>
                </a:cubicBezTo>
                <a:cubicBezTo>
                  <a:pt x="1750" y="69"/>
                  <a:pt x="1735" y="62"/>
                  <a:pt x="1897" y="48"/>
                </a:cubicBezTo>
                <a:cubicBezTo>
                  <a:pt x="1913" y="44"/>
                  <a:pt x="1929" y="41"/>
                  <a:pt x="1945" y="36"/>
                </a:cubicBezTo>
                <a:cubicBezTo>
                  <a:pt x="1969" y="29"/>
                  <a:pt x="2017" y="12"/>
                  <a:pt x="2017" y="12"/>
                </a:cubicBezTo>
                <a:cubicBezTo>
                  <a:pt x="2261" y="26"/>
                  <a:pt x="2306" y="35"/>
                  <a:pt x="2593" y="12"/>
                </a:cubicBezTo>
                <a:cubicBezTo>
                  <a:pt x="2593" y="12"/>
                  <a:pt x="2743" y="18"/>
                  <a:pt x="2761" y="12"/>
                </a:cubicBezTo>
                <a:cubicBezTo>
                  <a:pt x="2773" y="8"/>
                  <a:pt x="2893" y="0"/>
                  <a:pt x="2893" y="0"/>
                </a:cubicBezTo>
                <a:cubicBezTo>
                  <a:pt x="3257" y="15"/>
                  <a:pt x="3489" y="20"/>
                  <a:pt x="3853" y="36"/>
                </a:cubicBezTo>
                <a:cubicBezTo>
                  <a:pt x="3900" y="38"/>
                  <a:pt x="3931" y="90"/>
                  <a:pt x="3961" y="120"/>
                </a:cubicBezTo>
                <a:cubicBezTo>
                  <a:pt x="3973" y="156"/>
                  <a:pt x="3985" y="192"/>
                  <a:pt x="3997" y="228"/>
                </a:cubicBezTo>
                <a:cubicBezTo>
                  <a:pt x="4001" y="240"/>
                  <a:pt x="4005" y="252"/>
                  <a:pt x="4009" y="264"/>
                </a:cubicBezTo>
                <a:cubicBezTo>
                  <a:pt x="4013" y="276"/>
                  <a:pt x="4021" y="300"/>
                  <a:pt x="4021" y="300"/>
                </a:cubicBezTo>
                <a:cubicBezTo>
                  <a:pt x="4077" y="911"/>
                  <a:pt x="4033" y="381"/>
                  <a:pt x="4021" y="1872"/>
                </a:cubicBezTo>
                <a:cubicBezTo>
                  <a:pt x="4018" y="2293"/>
                  <a:pt x="4234" y="3239"/>
                  <a:pt x="3889" y="3756"/>
                </a:cubicBezTo>
                <a:cubicBezTo>
                  <a:pt x="3889" y="3756"/>
                  <a:pt x="3799" y="3786"/>
                  <a:pt x="3781" y="3792"/>
                </a:cubicBezTo>
                <a:cubicBezTo>
                  <a:pt x="3689" y="3823"/>
                  <a:pt x="3602" y="3864"/>
                  <a:pt x="3505" y="3888"/>
                </a:cubicBezTo>
                <a:cubicBezTo>
                  <a:pt x="3388" y="3878"/>
                  <a:pt x="3284" y="3871"/>
                  <a:pt x="3169" y="3900"/>
                </a:cubicBezTo>
                <a:cubicBezTo>
                  <a:pt x="2891" y="3894"/>
                  <a:pt x="2619" y="3846"/>
                  <a:pt x="2353" y="3912"/>
                </a:cubicBezTo>
                <a:cubicBezTo>
                  <a:pt x="2289" y="3908"/>
                  <a:pt x="2224" y="3910"/>
                  <a:pt x="2161" y="3900"/>
                </a:cubicBezTo>
                <a:cubicBezTo>
                  <a:pt x="2126" y="3894"/>
                  <a:pt x="2120" y="3862"/>
                  <a:pt x="2101" y="3840"/>
                </a:cubicBezTo>
                <a:cubicBezTo>
                  <a:pt x="2041" y="3773"/>
                  <a:pt x="2048" y="3780"/>
                  <a:pt x="1993" y="3744"/>
                </a:cubicBezTo>
                <a:cubicBezTo>
                  <a:pt x="1971" y="3679"/>
                  <a:pt x="1940" y="3597"/>
                  <a:pt x="1861" y="3588"/>
                </a:cubicBezTo>
                <a:cubicBezTo>
                  <a:pt x="1805" y="3581"/>
                  <a:pt x="1809" y="3472"/>
                  <a:pt x="1753" y="3468"/>
                </a:cubicBezTo>
                <a:cubicBezTo>
                  <a:pt x="1663" y="3408"/>
                  <a:pt x="1462" y="3438"/>
                  <a:pt x="1357" y="3420"/>
                </a:cubicBezTo>
                <a:cubicBezTo>
                  <a:pt x="1213" y="3396"/>
                  <a:pt x="1118" y="3384"/>
                  <a:pt x="973" y="3360"/>
                </a:cubicBezTo>
                <a:cubicBezTo>
                  <a:pt x="942" y="3339"/>
                  <a:pt x="884" y="3303"/>
                  <a:pt x="853" y="3276"/>
                </a:cubicBezTo>
                <a:cubicBezTo>
                  <a:pt x="786" y="3219"/>
                  <a:pt x="762" y="3186"/>
                  <a:pt x="673" y="3168"/>
                </a:cubicBezTo>
                <a:cubicBezTo>
                  <a:pt x="619" y="3132"/>
                  <a:pt x="591" y="3109"/>
                  <a:pt x="541" y="3084"/>
                </a:cubicBezTo>
                <a:cubicBezTo>
                  <a:pt x="503" y="3065"/>
                  <a:pt x="459" y="3031"/>
                  <a:pt x="421" y="3012"/>
                </a:cubicBezTo>
                <a:cubicBezTo>
                  <a:pt x="385" y="2994"/>
                  <a:pt x="359" y="2951"/>
                  <a:pt x="325" y="2928"/>
                </a:cubicBezTo>
                <a:cubicBezTo>
                  <a:pt x="321" y="2908"/>
                  <a:pt x="312" y="2909"/>
                  <a:pt x="301" y="2892"/>
                </a:cubicBezTo>
                <a:cubicBezTo>
                  <a:pt x="290" y="2875"/>
                  <a:pt x="268" y="2869"/>
                  <a:pt x="253" y="2856"/>
                </a:cubicBezTo>
                <a:cubicBezTo>
                  <a:pt x="192" y="2803"/>
                  <a:pt x="239" y="2840"/>
                  <a:pt x="193" y="2784"/>
                </a:cubicBezTo>
                <a:cubicBezTo>
                  <a:pt x="182" y="2771"/>
                  <a:pt x="170" y="2758"/>
                  <a:pt x="157" y="2748"/>
                </a:cubicBezTo>
                <a:cubicBezTo>
                  <a:pt x="134" y="2730"/>
                  <a:pt x="85" y="2616"/>
                  <a:pt x="85" y="2616"/>
                </a:cubicBezTo>
                <a:cubicBezTo>
                  <a:pt x="59" y="2537"/>
                  <a:pt x="47" y="2543"/>
                  <a:pt x="37" y="2460"/>
                </a:cubicBezTo>
                <a:cubicBezTo>
                  <a:pt x="43" y="2173"/>
                  <a:pt x="0" y="2020"/>
                  <a:pt x="73" y="1800"/>
                </a:cubicBezTo>
                <a:cubicBezTo>
                  <a:pt x="84" y="1689"/>
                  <a:pt x="101" y="1574"/>
                  <a:pt x="121" y="1464"/>
                </a:cubicBezTo>
                <a:cubicBezTo>
                  <a:pt x="129" y="1421"/>
                  <a:pt x="136" y="1430"/>
                  <a:pt x="157" y="1392"/>
                </a:cubicBezTo>
                <a:cubicBezTo>
                  <a:pt x="174" y="1361"/>
                  <a:pt x="193" y="1248"/>
                  <a:pt x="193" y="1248"/>
                </a:cubicBezTo>
                <a:cubicBezTo>
                  <a:pt x="197" y="1188"/>
                  <a:pt x="234" y="1164"/>
                  <a:pt x="241" y="1104"/>
                </a:cubicBezTo>
                <a:cubicBezTo>
                  <a:pt x="248" y="1044"/>
                  <a:pt x="312" y="945"/>
                  <a:pt x="361" y="912"/>
                </a:cubicBezTo>
                <a:cubicBezTo>
                  <a:pt x="378" y="886"/>
                  <a:pt x="404" y="866"/>
                  <a:pt x="421" y="840"/>
                </a:cubicBezTo>
                <a:cubicBezTo>
                  <a:pt x="448" y="800"/>
                  <a:pt x="416" y="804"/>
                  <a:pt x="445" y="804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84920" y="1332000"/>
            <a:ext cx="569880" cy="7128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0"/>
                </a:moveTo>
                <a:lnTo>
                  <a:pt x="336" y="0"/>
                </a:lnTo>
                <a:lnTo>
                  <a:pt x="240" y="48"/>
                </a:lnTo>
                <a:lnTo>
                  <a:pt x="57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926480" y="2314440"/>
            <a:ext cx="714240" cy="119232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816"/>
                </a:moveTo>
                <a:lnTo>
                  <a:pt x="144" y="528"/>
                </a:lnTo>
                <a:lnTo>
                  <a:pt x="144" y="624"/>
                </a:lnTo>
                <a:lnTo>
                  <a:pt x="48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284960" y="3506760"/>
            <a:ext cx="569880" cy="49068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336"/>
                </a:moveTo>
                <a:lnTo>
                  <a:pt x="240" y="48"/>
                </a:lnTo>
                <a:lnTo>
                  <a:pt x="192" y="240"/>
                </a:lnTo>
                <a:lnTo>
                  <a:pt x="3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11920" y="4557600"/>
            <a:ext cx="857520" cy="420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lnTo>
                  <a:pt x="336" y="144"/>
                </a:lnTo>
                <a:lnTo>
                  <a:pt x="240" y="192"/>
                </a:lnTo>
                <a:lnTo>
                  <a:pt x="576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41960" y="5470560"/>
            <a:ext cx="785880" cy="35064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288" y="96"/>
                </a:lnTo>
                <a:lnTo>
                  <a:pt x="192" y="144"/>
                </a:lnTo>
                <a:lnTo>
                  <a:pt x="52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26960" y="11923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726960" y="35067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11760" y="24541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011800" y="44179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584040" y="54705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4317840" y="11239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01000" y="609480"/>
            <a:ext cx="6156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Wireless LAN + WPA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28920" y="1822320"/>
            <a:ext cx="0" cy="44053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94400" y="1262160"/>
            <a:ext cx="2998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578480" y="1120680"/>
            <a:ext cx="1355400" cy="2101680"/>
            <a:chOff x="4578480" y="1120680"/>
            <a:chExt cx="1355400" cy="2101680"/>
          </a:xfrm>
        </p:grpSpPr>
        <p:sp>
          <p:nvSpPr>
            <p:cNvPr id="960" name=""/>
            <p:cNvSpPr/>
            <p:nvPr/>
          </p:nvSpPr>
          <p:spPr>
            <a:xfrm flipH="1">
              <a:off x="4780440" y="1681560"/>
              <a:ext cx="5112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79232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505840" y="3002040"/>
              <a:ext cx="41616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flipV="1">
              <a:off x="5279760" y="1669680"/>
              <a:ext cx="65412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065560" y="1675800"/>
              <a:ext cx="2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4637520" y="1681560"/>
              <a:ext cx="4399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4940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63280" y="321660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9400" y="188604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63600" y="189180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5006520" y="1950120"/>
              <a:ext cx="34488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5208120" y="173988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4851720" y="1751400"/>
              <a:ext cx="3686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34560" y="294372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5577480" y="30020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5707800" y="279180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422680" y="280332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49080" y="2382480"/>
              <a:ext cx="27324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434560" y="27212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5422680" y="2230560"/>
              <a:ext cx="29736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137200" y="224244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20720" y="23824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63280" y="231264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91640" y="2522880"/>
              <a:ext cx="5940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34560" y="24526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363280" y="266292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05840" y="259272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4560" y="28033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577480" y="27334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934880" y="1950120"/>
              <a:ext cx="41616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065920" y="2172240"/>
              <a:ext cx="43992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363280" y="1962000"/>
              <a:ext cx="13068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78480" y="11206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864480" y="1809720"/>
            <a:ext cx="1349280" cy="853920"/>
            <a:chOff x="6864480" y="1809720"/>
            <a:chExt cx="1349280" cy="853920"/>
          </a:xfrm>
        </p:grpSpPr>
        <p:sp>
          <p:nvSpPr>
            <p:cNvPr id="994" name=""/>
            <p:cNvSpPr/>
            <p:nvPr/>
          </p:nvSpPr>
          <p:spPr>
            <a:xfrm>
              <a:off x="7001280" y="1961640"/>
              <a:ext cx="0" cy="6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7007400" y="1809720"/>
              <a:ext cx="11289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69680" y="2030400"/>
              <a:ext cx="0" cy="62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075800" y="1879200"/>
              <a:ext cx="11314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075800" y="2511360"/>
              <a:ext cx="1131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07400" y="1961640"/>
              <a:ext cx="561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07400" y="2593440"/>
              <a:ext cx="5616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1891440"/>
              <a:ext cx="0" cy="61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148240" y="1821240"/>
              <a:ext cx="590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41320" y="21020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147080" y="1949400"/>
              <a:ext cx="989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142120" y="19616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134840" y="2313000"/>
              <a:ext cx="1012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219800" y="2089800"/>
              <a:ext cx="4878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219800" y="2160360"/>
              <a:ext cx="7020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1440" y="230688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291440" y="2300400"/>
              <a:ext cx="48744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29640" y="1891440"/>
              <a:ext cx="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935760" y="230688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64480" y="182124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565680" y="5257800"/>
            <a:ext cx="939240" cy="701280"/>
            <a:chOff x="6565680" y="5257800"/>
            <a:chExt cx="939240" cy="701280"/>
          </a:xfrm>
        </p:grpSpPr>
        <p:sp>
          <p:nvSpPr>
            <p:cNvPr id="1015" name=""/>
            <p:cNvSpPr/>
            <p:nvPr/>
          </p:nvSpPr>
          <p:spPr>
            <a:xfrm>
              <a:off x="6786000" y="5468040"/>
              <a:ext cx="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791760" y="5807160"/>
              <a:ext cx="701640" cy="1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499520" y="5386320"/>
              <a:ext cx="0" cy="4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779520" y="5397840"/>
              <a:ext cx="72540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637320" y="5953680"/>
              <a:ext cx="1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643080" y="545580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49200" y="546228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58720" y="5538240"/>
              <a:ext cx="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6864480" y="559656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7428240" y="545616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864480" y="545580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9144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19800" y="5678640"/>
              <a:ext cx="5940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6272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291440" y="5748840"/>
              <a:ext cx="59040" cy="58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649200" y="5385960"/>
              <a:ext cx="6303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91440" y="5392080"/>
              <a:ext cx="20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6565680" y="5889240"/>
              <a:ext cx="1544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571800" y="5316120"/>
              <a:ext cx="0" cy="6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77560" y="525780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 flipH="1">
            <a:off x="3850920" y="42004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143240" y="384336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149640" y="3984480"/>
            <a:ext cx="2728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35480" y="3989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708000" y="399564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138480" y="427032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720960" y="4194000"/>
            <a:ext cx="273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0006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14840" y="4276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078440" y="3786120"/>
            <a:ext cx="586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7320" y="4278240"/>
            <a:ext cx="6364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36680" y="3703320"/>
            <a:ext cx="2728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2160" y="3710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995040" y="3714840"/>
            <a:ext cx="29700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23360" y="3989520"/>
            <a:ext cx="58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6680" y="420048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006560" y="3914640"/>
            <a:ext cx="274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87360" y="371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0018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149480" y="3919680"/>
            <a:ext cx="6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00040" y="3365640"/>
            <a:ext cx="1719360" cy="22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1520" y="3979800"/>
            <a:ext cx="54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38400" y="3068640"/>
            <a:ext cx="966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3480" y="1244520"/>
            <a:ext cx="546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577880" y="4200480"/>
            <a:ext cx="16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648480" y="3563640"/>
            <a:ext cx="1779480" cy="1133280"/>
            <a:chOff x="6648480" y="3563640"/>
            <a:chExt cx="1779480" cy="1133280"/>
          </a:xfrm>
        </p:grpSpPr>
        <p:sp>
          <p:nvSpPr>
            <p:cNvPr id="1061" name=""/>
            <p:cNvSpPr/>
            <p:nvPr/>
          </p:nvSpPr>
          <p:spPr>
            <a:xfrm>
              <a:off x="8139240" y="37069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07040" y="45568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007040" y="4124880"/>
              <a:ext cx="7718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91120" y="4136400"/>
              <a:ext cx="63036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07040" y="46270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648200" y="419436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7648200" y="4264920"/>
              <a:ext cx="773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4848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71976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664848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1976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6791040" y="3635280"/>
              <a:ext cx="70236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007040" y="4054680"/>
              <a:ext cx="70056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791040" y="3996360"/>
              <a:ext cx="20412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05280" y="3647160"/>
              <a:ext cx="202320" cy="4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05280" y="3575880"/>
              <a:ext cx="27360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35400" y="455112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00920" y="455688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42120" y="3786120"/>
              <a:ext cx="0" cy="33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48480" y="3990240"/>
              <a:ext cx="5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33640" y="356976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427960" y="420660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43020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4120" y="1595520"/>
            <a:ext cx="13647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  Digital Voic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, and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037640" y="2717640"/>
            <a:ext cx="8802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801040" y="4557600"/>
            <a:ext cx="10008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51720" y="5452920"/>
            <a:ext cx="6822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078440" y="2722680"/>
            <a:ext cx="12996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21000" y="2733840"/>
            <a:ext cx="13032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363920" y="1109520"/>
            <a:ext cx="27324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4149720" y="2932200"/>
            <a:ext cx="2130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066000" y="2862000"/>
            <a:ext cx="225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6076800" y="1809360"/>
            <a:ext cx="84780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4149720" y="3422520"/>
            <a:ext cx="26305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566040" y="3435480"/>
            <a:ext cx="22536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6840" y="3575160"/>
            <a:ext cx="156060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49720" y="3855960"/>
            <a:ext cx="134460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5280120" y="469116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92720" y="4697280"/>
            <a:ext cx="134460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149640" y="4481640"/>
            <a:ext cx="2087280" cy="1557000"/>
            <a:chOff x="3149640" y="4481640"/>
            <a:chExt cx="2087280" cy="1557000"/>
          </a:xfrm>
        </p:grpSpPr>
        <p:sp>
          <p:nvSpPr>
            <p:cNvPr id="1101" name=""/>
            <p:cNvSpPr/>
            <p:nvPr/>
          </p:nvSpPr>
          <p:spPr>
            <a:xfrm>
              <a:off x="3149640" y="4481640"/>
              <a:ext cx="5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2" name=""/>
            <p:cNvGraphicFramePr/>
            <p:nvPr/>
          </p:nvGraphicFramePr>
          <p:xfrm>
            <a:off x="3457440" y="4808520"/>
            <a:ext cx="1779480" cy="12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4808520"/>
                      <a:ext cx="1779480" cy="12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4" name=""/>
            <p:cNvSpPr/>
            <p:nvPr/>
          </p:nvSpPr>
          <p:spPr>
            <a:xfrm>
              <a:off x="4851720" y="459684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18960" y="451620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467560" y="1611360"/>
            <a:ext cx="426960" cy="771120"/>
            <a:chOff x="8467560" y="1611360"/>
            <a:chExt cx="426960" cy="771120"/>
          </a:xfrm>
        </p:grpSpPr>
        <p:sp>
          <p:nvSpPr>
            <p:cNvPr id="1107" name=""/>
            <p:cNvSpPr/>
            <p:nvPr/>
          </p:nvSpPr>
          <p:spPr>
            <a:xfrm>
              <a:off x="8850240" y="171360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8467560" y="1611360"/>
              <a:ext cx="426960" cy="771120"/>
              <a:chOff x="8467560" y="1611360"/>
              <a:chExt cx="426960" cy="771120"/>
            </a:xfrm>
          </p:grpSpPr>
          <p:sp>
            <p:nvSpPr>
              <p:cNvPr id="1109" name=""/>
              <p:cNvSpPr/>
              <p:nvPr/>
            </p:nvSpPr>
            <p:spPr>
              <a:xfrm flipH="1">
                <a:off x="8530920" y="1817280"/>
                <a:ext cx="16128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534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8759880" y="2301840"/>
                <a:ext cx="1310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 flipV="1">
                <a:off x="8688240" y="1812960"/>
                <a:ext cx="20628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8620920" y="1815120"/>
                <a:ext cx="7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8485560" y="181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89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714880" y="238068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89880" y="189216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557200" y="189432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8602560" y="1915560"/>
                <a:ext cx="10872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8665920" y="183852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8553240" y="1842840"/>
                <a:ext cx="11628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737560" y="22806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8782560" y="230148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flipV="1">
                <a:off x="8823240" y="222480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8733600" y="222912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647560" y="2074680"/>
                <a:ext cx="8604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8737560" y="219852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 flipV="1">
                <a:off x="8733600" y="2018880"/>
                <a:ext cx="9360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8643600" y="202320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669880" y="207468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714880" y="20487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692560" y="21261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737560" y="21002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714880" y="21776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759880" y="21517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737560" y="222912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782560" y="220320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8579880" y="1915920"/>
                <a:ext cx="13104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8620920" y="199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714880" y="192024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467560" y="16113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8489880" y="1636920"/>
              <a:ext cx="8964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8497800" y="3785760"/>
            <a:ext cx="500040" cy="350640"/>
            <a:chOff x="8497800" y="3785760"/>
            <a:chExt cx="500040" cy="350640"/>
          </a:xfrm>
        </p:grpSpPr>
        <p:sp>
          <p:nvSpPr>
            <p:cNvPr id="1144" name=""/>
            <p:cNvSpPr/>
            <p:nvPr/>
          </p:nvSpPr>
          <p:spPr>
            <a:xfrm>
              <a:off x="8548560" y="38484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8550720" y="378576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573760" y="387684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8575920" y="381456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8575920" y="407412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50720" y="384840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550720" y="4108320"/>
              <a:ext cx="20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997840" y="3819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973720" y="379080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600400" y="390636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8602560" y="384336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971560" y="384840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8597520" y="3992760"/>
              <a:ext cx="37548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8629560" y="390096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8629560" y="392976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55840" y="399024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8655840" y="398772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521920" y="381960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24080" y="399024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497800" y="379080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1165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2935440" y="5189400"/>
            <a:ext cx="499680" cy="351000"/>
            <a:chOff x="2935440" y="5189400"/>
            <a:chExt cx="499680" cy="351000"/>
          </a:xfrm>
        </p:grpSpPr>
        <p:sp>
          <p:nvSpPr>
            <p:cNvPr id="1188" name=""/>
            <p:cNvSpPr/>
            <p:nvPr/>
          </p:nvSpPr>
          <p:spPr>
            <a:xfrm>
              <a:off x="3052440" y="52945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055680" y="5464080"/>
              <a:ext cx="3736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432240" y="525312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3049200" y="5259600"/>
              <a:ext cx="38592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2973240" y="55375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2976480" y="5288400"/>
              <a:ext cx="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79720" y="52916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91320" y="532980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094200" y="53586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3394440" y="52884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094200" y="52884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2136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83560" y="5400000"/>
              <a:ext cx="3168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5952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21360" y="543492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979720" y="5253120"/>
              <a:ext cx="3355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21360" y="525636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2935440" y="550548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938320" y="5218560"/>
              <a:ext cx="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941560" y="5189400"/>
              <a:ext cx="3168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6848640" y="6039000"/>
            <a:ext cx="785520" cy="553680"/>
            <a:chOff x="6848640" y="6039000"/>
            <a:chExt cx="785520" cy="553680"/>
          </a:xfrm>
        </p:grpSpPr>
        <p:graphicFrame>
          <p:nvGraphicFramePr>
            <p:cNvPr id="1209" name=""/>
            <p:cNvGraphicFramePr/>
            <p:nvPr/>
          </p:nvGraphicFramePr>
          <p:xfrm>
            <a:off x="6848640" y="6145200"/>
            <a:ext cx="785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8640" y="6145200"/>
                      <a:ext cx="785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1" name=""/>
            <p:cNvSpPr/>
            <p:nvPr/>
          </p:nvSpPr>
          <p:spPr>
            <a:xfrm>
              <a:off x="7464240" y="606780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49480" y="603900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4641840" y="1122480"/>
            <a:ext cx="2143080" cy="20952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0"/>
                </a:moveTo>
                <a:lnTo>
                  <a:pt x="864" y="144"/>
                </a:lnTo>
                <a:lnTo>
                  <a:pt x="816" y="48"/>
                </a:lnTo>
                <a:lnTo>
                  <a:pt x="144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298840" y="98100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908760" y="1612800"/>
            <a:ext cx="1589040" cy="211320"/>
          </a:xfrm>
          <a:custGeom>
            <a:avLst/>
            <a:gdLst/>
            <a:ahLst/>
            <a:rect l="l" t="t" r="r" b="b"/>
            <a:pathLst>
              <a:path w="1068" h="144">
                <a:moveTo>
                  <a:pt x="0" y="144"/>
                </a:moveTo>
                <a:cubicBezTo>
                  <a:pt x="43" y="115"/>
                  <a:pt x="23" y="126"/>
                  <a:pt x="60" y="108"/>
                </a:cubicBezTo>
                <a:lnTo>
                  <a:pt x="588" y="0"/>
                </a:lnTo>
                <a:lnTo>
                  <a:pt x="492" y="96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211960" y="3716280"/>
            <a:ext cx="285840" cy="69840"/>
          </a:xfrm>
          <a:custGeom>
            <a:avLst/>
            <a:gdLst/>
            <a:ahLst/>
            <a:rect l="l" t="t" r="r" b="b"/>
            <a:pathLst>
              <a:path w="252" h="48">
                <a:moveTo>
                  <a:pt x="0" y="0"/>
                </a:moveTo>
                <a:cubicBezTo>
                  <a:pt x="56" y="0"/>
                  <a:pt x="112" y="0"/>
                  <a:pt x="168" y="0"/>
                </a:cubicBezTo>
                <a:lnTo>
                  <a:pt x="108" y="48"/>
                </a:lnTo>
                <a:lnTo>
                  <a:pt x="252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155280" y="603108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083440" y="336564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368840" y="147312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70720" y="5259240"/>
            <a:ext cx="855720" cy="7718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384" y="336"/>
                </a:lnTo>
                <a:lnTo>
                  <a:pt x="288" y="336"/>
                </a:lnTo>
                <a:lnTo>
                  <a:pt x="576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41560" y="469908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27520" y="4557600"/>
            <a:ext cx="1928520" cy="631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432"/>
                </a:moveTo>
                <a:lnTo>
                  <a:pt x="768" y="144"/>
                </a:lnTo>
                <a:lnTo>
                  <a:pt x="720" y="240"/>
                </a:lnTo>
                <a:lnTo>
                  <a:pt x="12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41800" y="3786120"/>
            <a:ext cx="714240" cy="7714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192" y="336"/>
                </a:lnTo>
                <a:lnTo>
                  <a:pt x="192" y="240"/>
                </a:lnTo>
                <a:lnTo>
                  <a:pt x="480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55800" y="1000080"/>
            <a:ext cx="6413760" cy="5826240"/>
          </a:xfrm>
          <a:custGeom>
            <a:avLst/>
            <a:gdLst/>
            <a:ahLst/>
            <a:rect l="l" t="t" r="r" b="b"/>
            <a:pathLst>
              <a:path w="4311" h="3988">
                <a:moveTo>
                  <a:pt x="1244" y="108"/>
                </a:moveTo>
                <a:cubicBezTo>
                  <a:pt x="1223" y="115"/>
                  <a:pt x="1185" y="124"/>
                  <a:pt x="1172" y="144"/>
                </a:cubicBezTo>
                <a:cubicBezTo>
                  <a:pt x="1163" y="158"/>
                  <a:pt x="1165" y="176"/>
                  <a:pt x="1160" y="192"/>
                </a:cubicBezTo>
                <a:cubicBezTo>
                  <a:pt x="1148" y="235"/>
                  <a:pt x="1150" y="225"/>
                  <a:pt x="1124" y="264"/>
                </a:cubicBezTo>
                <a:cubicBezTo>
                  <a:pt x="1079" y="443"/>
                  <a:pt x="1002" y="607"/>
                  <a:pt x="944" y="780"/>
                </a:cubicBezTo>
                <a:cubicBezTo>
                  <a:pt x="912" y="877"/>
                  <a:pt x="899" y="979"/>
                  <a:pt x="884" y="1080"/>
                </a:cubicBezTo>
                <a:cubicBezTo>
                  <a:pt x="873" y="1152"/>
                  <a:pt x="847" y="1227"/>
                  <a:pt x="824" y="1296"/>
                </a:cubicBezTo>
                <a:cubicBezTo>
                  <a:pt x="803" y="1442"/>
                  <a:pt x="793" y="1529"/>
                  <a:pt x="812" y="1692"/>
                </a:cubicBezTo>
                <a:cubicBezTo>
                  <a:pt x="815" y="1717"/>
                  <a:pt x="828" y="1740"/>
                  <a:pt x="836" y="1764"/>
                </a:cubicBezTo>
                <a:cubicBezTo>
                  <a:pt x="840" y="1776"/>
                  <a:pt x="848" y="1800"/>
                  <a:pt x="848" y="1800"/>
                </a:cubicBezTo>
                <a:cubicBezTo>
                  <a:pt x="852" y="1840"/>
                  <a:pt x="853" y="1880"/>
                  <a:pt x="860" y="1920"/>
                </a:cubicBezTo>
                <a:cubicBezTo>
                  <a:pt x="865" y="1945"/>
                  <a:pt x="884" y="1992"/>
                  <a:pt x="884" y="1992"/>
                </a:cubicBezTo>
                <a:cubicBezTo>
                  <a:pt x="880" y="2068"/>
                  <a:pt x="887" y="2145"/>
                  <a:pt x="872" y="2220"/>
                </a:cubicBezTo>
                <a:cubicBezTo>
                  <a:pt x="855" y="2307"/>
                  <a:pt x="780" y="2324"/>
                  <a:pt x="728" y="2376"/>
                </a:cubicBezTo>
                <a:cubicBezTo>
                  <a:pt x="691" y="2413"/>
                  <a:pt x="659" y="2416"/>
                  <a:pt x="620" y="2448"/>
                </a:cubicBezTo>
                <a:cubicBezTo>
                  <a:pt x="534" y="2519"/>
                  <a:pt x="430" y="2554"/>
                  <a:pt x="320" y="2568"/>
                </a:cubicBezTo>
                <a:cubicBezTo>
                  <a:pt x="263" y="2606"/>
                  <a:pt x="298" y="2587"/>
                  <a:pt x="212" y="2616"/>
                </a:cubicBezTo>
                <a:cubicBezTo>
                  <a:pt x="185" y="2625"/>
                  <a:pt x="140" y="2664"/>
                  <a:pt x="140" y="2664"/>
                </a:cubicBezTo>
                <a:cubicBezTo>
                  <a:pt x="111" y="2707"/>
                  <a:pt x="76" y="2735"/>
                  <a:pt x="56" y="2784"/>
                </a:cubicBezTo>
                <a:cubicBezTo>
                  <a:pt x="47" y="2807"/>
                  <a:pt x="40" y="2832"/>
                  <a:pt x="32" y="2856"/>
                </a:cubicBezTo>
                <a:cubicBezTo>
                  <a:pt x="28" y="2868"/>
                  <a:pt x="20" y="2892"/>
                  <a:pt x="20" y="2892"/>
                </a:cubicBezTo>
                <a:cubicBezTo>
                  <a:pt x="23" y="2943"/>
                  <a:pt x="0" y="3170"/>
                  <a:pt x="80" y="3240"/>
                </a:cubicBezTo>
                <a:cubicBezTo>
                  <a:pt x="102" y="3259"/>
                  <a:pt x="140" y="3344"/>
                  <a:pt x="164" y="3360"/>
                </a:cubicBezTo>
                <a:cubicBezTo>
                  <a:pt x="237" y="3408"/>
                  <a:pt x="220" y="3423"/>
                  <a:pt x="284" y="3444"/>
                </a:cubicBezTo>
                <a:cubicBezTo>
                  <a:pt x="359" y="3557"/>
                  <a:pt x="334" y="3474"/>
                  <a:pt x="452" y="3552"/>
                </a:cubicBezTo>
                <a:cubicBezTo>
                  <a:pt x="476" y="3568"/>
                  <a:pt x="508" y="3560"/>
                  <a:pt x="536" y="3564"/>
                </a:cubicBezTo>
                <a:cubicBezTo>
                  <a:pt x="725" y="3627"/>
                  <a:pt x="1073" y="3603"/>
                  <a:pt x="1196" y="3600"/>
                </a:cubicBezTo>
                <a:cubicBezTo>
                  <a:pt x="1212" y="3588"/>
                  <a:pt x="1064" y="3612"/>
                  <a:pt x="1412" y="3624"/>
                </a:cubicBezTo>
                <a:cubicBezTo>
                  <a:pt x="1416" y="3624"/>
                  <a:pt x="1568" y="3610"/>
                  <a:pt x="1604" y="3612"/>
                </a:cubicBezTo>
                <a:cubicBezTo>
                  <a:pt x="1732" y="3619"/>
                  <a:pt x="1860" y="3620"/>
                  <a:pt x="1988" y="3624"/>
                </a:cubicBezTo>
                <a:cubicBezTo>
                  <a:pt x="2078" y="3654"/>
                  <a:pt x="1979" y="3589"/>
                  <a:pt x="2072" y="3636"/>
                </a:cubicBezTo>
                <a:cubicBezTo>
                  <a:pt x="2089" y="3645"/>
                  <a:pt x="2129" y="3680"/>
                  <a:pt x="2144" y="3684"/>
                </a:cubicBezTo>
                <a:cubicBezTo>
                  <a:pt x="2175" y="3715"/>
                  <a:pt x="2281" y="3843"/>
                  <a:pt x="2324" y="3864"/>
                </a:cubicBezTo>
                <a:cubicBezTo>
                  <a:pt x="2364" y="3884"/>
                  <a:pt x="2434" y="3884"/>
                  <a:pt x="2468" y="3888"/>
                </a:cubicBezTo>
                <a:cubicBezTo>
                  <a:pt x="2617" y="3988"/>
                  <a:pt x="2744" y="3918"/>
                  <a:pt x="2960" y="3912"/>
                </a:cubicBezTo>
                <a:cubicBezTo>
                  <a:pt x="3112" y="3861"/>
                  <a:pt x="3007" y="3889"/>
                  <a:pt x="3284" y="3876"/>
                </a:cubicBezTo>
                <a:cubicBezTo>
                  <a:pt x="3349" y="3854"/>
                  <a:pt x="3369" y="3815"/>
                  <a:pt x="3416" y="3768"/>
                </a:cubicBezTo>
                <a:cubicBezTo>
                  <a:pt x="3428" y="3707"/>
                  <a:pt x="3485" y="3709"/>
                  <a:pt x="3500" y="3648"/>
                </a:cubicBezTo>
                <a:cubicBezTo>
                  <a:pt x="3505" y="3628"/>
                  <a:pt x="3553" y="3559"/>
                  <a:pt x="3560" y="3540"/>
                </a:cubicBezTo>
                <a:cubicBezTo>
                  <a:pt x="3570" y="3513"/>
                  <a:pt x="3601" y="3427"/>
                  <a:pt x="3620" y="3408"/>
                </a:cubicBezTo>
                <a:cubicBezTo>
                  <a:pt x="3646" y="3331"/>
                  <a:pt x="3634" y="3298"/>
                  <a:pt x="3692" y="3240"/>
                </a:cubicBezTo>
                <a:cubicBezTo>
                  <a:pt x="3717" y="3166"/>
                  <a:pt x="3647" y="3225"/>
                  <a:pt x="3740" y="3132"/>
                </a:cubicBezTo>
                <a:cubicBezTo>
                  <a:pt x="3752" y="3120"/>
                  <a:pt x="3776" y="3096"/>
                  <a:pt x="3776" y="3096"/>
                </a:cubicBezTo>
                <a:cubicBezTo>
                  <a:pt x="3808" y="3000"/>
                  <a:pt x="3820" y="3012"/>
                  <a:pt x="3872" y="2940"/>
                </a:cubicBezTo>
                <a:cubicBezTo>
                  <a:pt x="3913" y="2882"/>
                  <a:pt x="3888" y="2864"/>
                  <a:pt x="3944" y="2808"/>
                </a:cubicBezTo>
                <a:cubicBezTo>
                  <a:pt x="3958" y="2751"/>
                  <a:pt x="3962" y="2719"/>
                  <a:pt x="4004" y="2664"/>
                </a:cubicBezTo>
                <a:cubicBezTo>
                  <a:pt x="4020" y="2642"/>
                  <a:pt x="4082" y="2562"/>
                  <a:pt x="4088" y="2544"/>
                </a:cubicBezTo>
                <a:cubicBezTo>
                  <a:pt x="4109" y="2481"/>
                  <a:pt x="4111" y="2420"/>
                  <a:pt x="4148" y="2364"/>
                </a:cubicBezTo>
                <a:cubicBezTo>
                  <a:pt x="4152" y="2332"/>
                  <a:pt x="4173" y="2322"/>
                  <a:pt x="4184" y="2292"/>
                </a:cubicBezTo>
                <a:cubicBezTo>
                  <a:pt x="4194" y="2265"/>
                  <a:pt x="4211" y="2223"/>
                  <a:pt x="4220" y="2196"/>
                </a:cubicBezTo>
                <a:cubicBezTo>
                  <a:pt x="4224" y="2184"/>
                  <a:pt x="4228" y="2004"/>
                  <a:pt x="4232" y="1992"/>
                </a:cubicBezTo>
                <a:cubicBezTo>
                  <a:pt x="4311" y="1440"/>
                  <a:pt x="4250" y="2409"/>
                  <a:pt x="4208" y="828"/>
                </a:cubicBezTo>
                <a:cubicBezTo>
                  <a:pt x="4207" y="782"/>
                  <a:pt x="4196" y="816"/>
                  <a:pt x="4160" y="672"/>
                </a:cubicBezTo>
                <a:cubicBezTo>
                  <a:pt x="4140" y="652"/>
                  <a:pt x="4124" y="588"/>
                  <a:pt x="4124" y="588"/>
                </a:cubicBezTo>
                <a:cubicBezTo>
                  <a:pt x="4096" y="546"/>
                  <a:pt x="4079" y="510"/>
                  <a:pt x="4040" y="480"/>
                </a:cubicBezTo>
                <a:cubicBezTo>
                  <a:pt x="3968" y="372"/>
                  <a:pt x="3896" y="324"/>
                  <a:pt x="3896" y="324"/>
                </a:cubicBezTo>
                <a:cubicBezTo>
                  <a:pt x="3856" y="264"/>
                  <a:pt x="3887" y="294"/>
                  <a:pt x="3824" y="252"/>
                </a:cubicBezTo>
                <a:cubicBezTo>
                  <a:pt x="3800" y="236"/>
                  <a:pt x="3780" y="209"/>
                  <a:pt x="3752" y="204"/>
                </a:cubicBezTo>
                <a:cubicBezTo>
                  <a:pt x="3648" y="187"/>
                  <a:pt x="3236" y="75"/>
                  <a:pt x="3116" y="60"/>
                </a:cubicBezTo>
                <a:cubicBezTo>
                  <a:pt x="2540" y="36"/>
                  <a:pt x="2877" y="33"/>
                  <a:pt x="2360" y="24"/>
                </a:cubicBezTo>
                <a:cubicBezTo>
                  <a:pt x="2132" y="20"/>
                  <a:pt x="1976" y="28"/>
                  <a:pt x="1748" y="24"/>
                </a:cubicBezTo>
                <a:cubicBezTo>
                  <a:pt x="1656" y="28"/>
                  <a:pt x="1736" y="0"/>
                  <a:pt x="1556" y="0"/>
                </a:cubicBezTo>
                <a:cubicBezTo>
                  <a:pt x="1533" y="4"/>
                  <a:pt x="1374" y="24"/>
                  <a:pt x="1364" y="36"/>
                </a:cubicBezTo>
                <a:cubicBezTo>
                  <a:pt x="1335" y="72"/>
                  <a:pt x="1278" y="74"/>
                  <a:pt x="1244" y="108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3083040" y="380880"/>
            <a:ext cx="606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reless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0000" y="1473120"/>
            <a:ext cx="503820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reless LA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get Sound - ~40 access poi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chita  -  90 access po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 Beach - 13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 Louis - 10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ropolitan Area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31:18Z</dcterms:created>
  <dc:creator>Mathematics &amp; Computing Technology</dc:creator>
  <dc:description/>
  <dc:language>en-US</dc:language>
  <cp:lastModifiedBy>Mathematics &amp; Computing Technology</cp:lastModifiedBy>
  <dcterms:modified xsi:type="dcterms:W3CDTF">1999-09-13T21:55:07Z</dcterms:modified>
  <cp:revision>8</cp:revision>
  <dc:subject/>
  <dc:title>No Slide Title</dc:title>
</cp:coreProperties>
</file>