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FEA6-216D-4DA9-B099-1B14A0AC1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DB6A-1275-41CD-9F90-7C8ACF5F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C2AF-24E6-4A48-86E4-762EACF86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E1EE-D35E-4C5A-A9FB-E9AC99A33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A383-0773-4870-ACA4-FB34A920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C41A-D736-4C83-A863-1199D473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E023-3611-4FFB-B60A-DF146750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63F2-BB18-4E1C-9EAD-5B34DCCD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4091-5A6B-48EC-AE36-23993D82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AA7E-2578-48B3-BC06-527C79F4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47A7-535F-4AD9-9B07-52762E0A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EAFB-1F47-44DD-9071-916611CC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C375E37-D5C8-4100-A726-95B50FE81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142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ing Committe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ua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 11,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Intersil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2B39-44CC-4EDF-B4CE-C998F35C96B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87880" y="563400"/>
            <a:ext cx="7675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genda-Thursday, November 11, 1999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8:30 - 10:00 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Meeting to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ee upon action items for Ad-hoc Membership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 membership into sub-committ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discussion leader/secre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to main room for reports from sub-committ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Busines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Intersil and Ian Gifford, M/A-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BEA8-E304-4C10-A616-F283E346EE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ursday Marketing Work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123920"/>
            <a:ext cx="8610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Topics will be discussed in Grand 5 meeting room from 8:45 to 9: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Provide a Position Paper to the IEEE on the TG1 perceived Publishing Procedure for a Joint Standard,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raft by Janu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List of suggested “Marketing Material” to support the IEEE Draft e.g., Handbook, Companion, Pocket Guides, etc. ,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efinitions, audience, content, format, commercial pubs; draft by Janu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) Determine if there are other SDO’s that might also be interested in paralleling the TG1 work, if ETSI remains undecided.;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rainst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) Trademark “WPAN” , protect URL;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enerate l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)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 website;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Suggest website ed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opic will be discussed in Garden Isle Lounge from 8:45 to 9: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 Support High Rate effort ;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rainsto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s reconvene in Grand 5 from 9:45 to 10:00 to consolidate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Intersil and Ian Gifford, M/A-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338F-5659-444D-A105-EF361ECE1D7F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838080"/>
            <a:ext cx="8686800" cy="56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 Provide a Position Paper to the IEEE on the TG1 perceived Publishing Procedure for a Joint Standar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an Gifford will prepare the initial draft and distribute via the reflector. Further discussion will be scheduled for the January interim mee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) List of suggested “Marketing Material” to support the IEEE Draft e.g., Handbook, Companion, Pocket Guides, et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ia liaison letter through WG to BT SIG, request starting material from BT SIG that could be used in an introductory document to complement the standar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search commercial companion publications that might be avail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egin preparing tutorial material for the Exco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) Determine if there are other SDO’s that might also be interested in paralleling the TG1 work, if ETSI remains undecid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1. Pursue resoution within ETSI as best altern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2. Explore completion of standard within IE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3. As a back up, consider using IETF but don’t pursue immediately, wait to see how previous two options evol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) Trademark “WPAN” 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dd other key terms and  UR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)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ain web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se website more extensively to post status and solicit feed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opic will be discussed in Garden Isle Lounge from 8:45 to 9: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) Support High Rate effor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dd to reflector; Generate press release; Details Contained in doc:IEEE802.15-99145r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82560" y="533520"/>
            <a:ext cx="32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 of Discu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Intersil and Ian Gifford, M/A-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5B1C-E9C9-4DC0-987F-A891454C651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8T16:56:24Z</dcterms:created>
  <dc:creator>Ian Gifford, M/A-COM &amp; Bruce Kraemer, Harris</dc:creator>
  <dc:description>031r1</dc:description>
  <dc:language>en-US</dc:language>
  <cp:lastModifiedBy>Bruce Kraemer</cp:lastModifiedBy>
  <cp:lastPrinted>1998-02-10T13:28:06Z</cp:lastPrinted>
  <dcterms:modified xsi:type="dcterms:W3CDTF">1999-11-11T23:08:33Z</dcterms:modified>
  <cp:revision>81</cp:revision>
  <dc:subject>IEEE 802.15 Marketing</dc:subject>
  <dc:title>IEEE P802.15 Working Group for Wireless Personal Area Networks</dc:title>
</cp:coreProperties>
</file>