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4F8-AF21-466A-83DC-789A860E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0EF-13DB-4F2A-89C5-C3412D10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CF5-BBD3-4FA8-98EF-E12E0021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B0F-B599-4EA6-81F6-DAD76BAB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951-B7F9-4C67-A8DC-E25069C2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8AE-B9E5-4E21-8F6A-1FCB2250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7F2-F22E-45B9-93CE-AAAE7D75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EA9E-2DCE-469E-A155-A509B0AB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FF6-5620-4D2E-81DE-4ED798E6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3B3-52D9-461A-8FB5-01E26FAA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F90-153E-43B5-9EE6-C56A6A9A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7A23-B3B0-4B1D-B1C6-D96B3FAF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92F2A3D-CD67-492E-81FA-2BDB90B0A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3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Liaison wit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 and P802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asons for Liai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luetooth (at least) will have LLC and bridging work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ed to determine who will be able to help with exper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ed to determine where work will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802.15 Task Grou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802.1 and 80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ed to determine approv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8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riginating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F25A-37DF-4D68-96FE-F0BBFDE47DC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aison with P802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2A88-F6E2-473E-806C-83BA6D5677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aison with P802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ABD-E69E-4D9C-AC2D-89FFCBA533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4:39:52Z</dcterms:created>
  <dc:creator>Tom Siep</dc:creator>
  <dc:description>&lt;doc#&gt;</dc:description>
  <dc:language>en-US</dc:language>
  <cp:lastModifiedBy>Bridget Labrode</cp:lastModifiedBy>
  <cp:lastPrinted>1998-02-10T13:28:06Z</cp:lastPrinted>
  <dcterms:modified xsi:type="dcterms:W3CDTF">1999-07-06T16:31:08Z</dcterms:modified>
  <cp:revision>7</cp:revision>
  <dc:subject>IEEE 802.15 &lt;subject&gt;</dc:subject>
  <dc:title>IEEE P802.15 Operating Rules</dc:title>
</cp:coreProperties>
</file>