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10638F-A7F5-499A-8EC0-1C1EA0374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D1F-EE75-4CF1-BAE3-50B42736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46B-E7DD-4EAA-A9C3-8AFFD054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837-AA04-4126-A732-BA57B1E7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83CA-F0BF-482B-B098-0B2BD8DD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80C-EDD5-487D-85C4-2D54D4C6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842-A1AD-464B-AA89-128929AE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9E5-809E-4D93-B0C3-D3EFB3C6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1C0-EB53-479E-8DFB-3A5D8E81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83C-005E-4F19-BBAC-A76E8CD6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7C1-C604-4A20-8B73-D5753AD4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579-3C02-4370-9019-C1DB8543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A7D-2159-4948-BC0A-34FF592E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0052054-8808-45E2-B98B-36CC027B3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4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ednesday Full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CB8-1AFF-43EE-A102-F9EA197A2F3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Nov99 the P802.15 Working Group will be comprised of 42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uart Kerry (Stua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Thomas Müller (Thom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eter Murray (Pete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3784680"/>
            <a:ext cx="4038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28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9080" y="1126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Resignation prior to the LB #1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A91-7DB3-4CEE-87DA-A211B596BEAF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4880" y="1619280"/>
            <a:ext cx="7951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I move to submit the contents of document IEEE P802-15/D0.6 to Sponsor Ballot [default recirculation ballot]; Draft_0-6.zip, available v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rouper.ieee.org/groups/802/15/private/LB1/LB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31840" y="3643200"/>
            <a:ext cx="1730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Ian Giff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, -99/113r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97360" y="313848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50% (Proced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CB06-0117-4D5E-8511-FDF2417A154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 Distribution Package [LB1.zip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for WG Letter Ballots of P802.15 in Adobe PDF, -99/112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Standard IEEE v0.6, P802-15/D0.6 in Adobe PDFs, Zip arch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 Ballot #1 of P802.15 in MS Word, -99/113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for TG1 Editors, -99/060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me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562720"/>
            <a:ext cx="86104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ou can point your Browser and download your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rouper.ieee.org/groups/802/15/private/LB1/LB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01D-D709-4D46-90AC-9D7AF5EABD6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 Distribution Package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- WG Chair to send LB#1 e-mail announcement w/ LB to .15 Reflector on 11Nov99: stds-802-15@iee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- TG1 Chair to post LB1.zip and individual files to WG Web site (priv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- Voters need to vote and comment, if applicable before 10Dec99 11pm 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- Send Ballot &amp; Comments to WG Chair and Technical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819-2398-40FD-97B3-D85A45D556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3779-6826-4A8D-AD67-08CE906C8FA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8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9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11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21F4-4A58-43C8-BA61-D8AD0ECB01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032-04F0-403E-9EE1-3A1EDCF03A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987-9F99-45D9-9464-4844CA5FC7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879-AF66-460A-A885-E13B4201FF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8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3:15pm and processed all of our Agenda Items and adjourned at 3:55pm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ON KERMANI TO BISDIKIAN VC REPLACEMENT -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TG1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DRAFT SUBMI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313-43B9-4AC8-886B-1DD354A884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74880" y="1619280"/>
            <a:ext cx="795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1: I move to replace Parviz Kermani with Chatschik Bisdikian as IEEE P802.15 TG1 Vice Chair.  Forward to W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31480" y="3643200"/>
            <a:ext cx="1991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Mike McIn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Vice Ch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97360" y="313848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50% (Proced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4DC1-E5A3-4645-98EB-4284C8D5A39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9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10:00am and processed all of our Agenda Items and adjourned at 11:55am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2 TO SUBMIT DRAFT TO WG LB 10NOV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3 TO EMPOWER INTERIM 10-14JAN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WG LETTER BALLOT #1 DISTRIBUTION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P802.15.1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WEDNESDAY DRAFT TG1 REPORT TO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0EB-78AE-4E2E-BE42-2521BF97BE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Motion Sched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G1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1 - 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2 - LB #1 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3 - Electronic or empower Tel-Aviv for Comment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4 - OR Status for 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09480" y="4786200"/>
            <a:ext cx="7925040" cy="471600"/>
            <a:chOff x="609480" y="4786200"/>
            <a:chExt cx="7925040" cy="471600"/>
          </a:xfrm>
        </p:grpSpPr>
        <p:sp>
          <p:nvSpPr>
            <p:cNvPr id="82" name=""/>
            <p:cNvSpPr/>
            <p:nvPr/>
          </p:nvSpPr>
          <p:spPr>
            <a:xfrm>
              <a:off x="609480" y="4786200"/>
              <a:ext cx="7925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480" y="5257800"/>
              <a:ext cx="7925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09480" y="5862600"/>
            <a:ext cx="792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438280" y="2286000"/>
            <a:ext cx="5590440" cy="2286000"/>
            <a:chOff x="2438280" y="2286000"/>
            <a:chExt cx="5590440" cy="2286000"/>
          </a:xfrm>
        </p:grpSpPr>
        <p:sp>
          <p:nvSpPr>
            <p:cNvPr id="86" name=""/>
            <p:cNvSpPr/>
            <p:nvPr/>
          </p:nvSpPr>
          <p:spPr>
            <a:xfrm flipH="1">
              <a:off x="2438280" y="3047760"/>
              <a:ext cx="373392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6720" y="2286000"/>
              <a:ext cx="223200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eferral to W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mpower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514240" y="3200400"/>
            <a:ext cx="6369840" cy="2438280"/>
            <a:chOff x="2514240" y="3200400"/>
            <a:chExt cx="6369840" cy="2438280"/>
          </a:xfrm>
        </p:grpSpPr>
        <p:sp>
          <p:nvSpPr>
            <p:cNvPr id="89" name=""/>
            <p:cNvSpPr/>
            <p:nvPr/>
          </p:nvSpPr>
          <p:spPr>
            <a:xfrm flipH="1">
              <a:off x="2514240" y="3429000"/>
              <a:ext cx="533412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52800" y="3200400"/>
              <a:ext cx="13312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rop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3A6-BBF5-48FA-A00B-481162FF94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23</dc:description>
  <dc:language>en-US</dc:language>
  <cp:lastModifiedBy>Ian C. Gifford</cp:lastModifiedBy>
  <cp:lastPrinted>1998-02-10T13:28:06Z</cp:lastPrinted>
  <dcterms:modified xsi:type="dcterms:W3CDTF">1999-11-11T02:39:34Z</dcterms:modified>
  <cp:revision>52</cp:revision>
  <dc:subject>IEEE 802.15 TG1 Report #2</dc:subject>
  <dc:title>IEEE P802.15 Working Group for Wireless Personal Area Networks</dc:title>
</cp:coreProperties>
</file>