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AAD-E53D-4E5F-9206-5BDF8309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ADC-BABA-40F6-8AAA-A958358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E6D-C27B-4194-90A1-CE374DAD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F37-C5F3-4E83-894C-41554607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52A-D1E6-4085-A0A2-6DAB7FCD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2CE-21F2-4350-A8AC-7C96A71D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9F3-30C5-45D4-A992-A840FF6A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21D-939B-4F1A-AB24-8A8936B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B30-2BC0-440F-825C-91C0D9CF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50D-6C10-41F9-971D-05F59A6E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93F-B411-425E-BD15-CDACB1A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974-57E8-4A90-863E-07BA1F4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169919-E1EE-4DAA-9331-A0122ABB3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Operating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\\venus\802.15 wpan\rules\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001r6P802-15_Working-Group-Operating-Rule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F9F-B28A-4D92-8B8A-AE493902C6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1814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anks added for clarity in this slide</a:t>
            </a:r>
            <a:br>
              <a:rPr sz="2000"/>
            </a:b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be included in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9520" y="2000160"/>
          <a:ext cx="87249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000160"/>
                    <a:ext cx="872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AB1-D464-4DB9-8E9F-008757632F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5:17Z</dcterms:modified>
  <cp:revision>5</cp:revision>
  <dc:subject>IEEE 802.15 &lt;subject&gt;</dc:subject>
  <dc:title>IEEE P802.15 Operating Rules</dc:title>
</cp:coreProperties>
</file>