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55CD7-779C-4695-86F8-A1887005F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5C9E9-40EA-4E16-9611-0DE010FB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A4C64-0AD7-4FDE-AE54-DE87570D6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EFA6A-290D-4097-AB66-D040C3701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A1AB0-EEC6-4CCD-B2D2-69B21F4D5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8E8E1-C5E2-4EDE-A59D-AFAC4DF1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1E8E2-5833-409F-AD78-6EEC5810D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1AB72-485F-41E9-9843-32E5ACBE1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AFF57-2E57-438E-B457-1F2F6CC52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92E8A-0A1B-45D8-9116-1B5110C0A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5C46-45F2-4C93-A929-9D599D608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0D859-FFE2-4B0B-A9B0-AB48A69B8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B37F20-64E3-475E-BBAE-E0E0E9871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3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23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Ad Hoc WPAN-High Rate meeting Agend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genda for Ad Hoc Meeting on High Rate WAP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E6F22E97-B0B3-4E9B-B2A6-A63DC7ED5885}"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da</a:t>
            </a:r>
            <a:br>
              <a:rPr sz="2800"/>
            </a:br>
            <a:r>
              <a:rPr b="0" lang="en-US" sz="2800" spc="-1" strike="noStrike">
                <a:solidFill>
                  <a:srgbClr val="000000"/>
                </a:solidFill>
                <a:latin typeface="Times New Roman"/>
              </a:rPr>
              <a:t>WPAN - High Rate SG (Ad Hoc)</a:t>
            </a:r>
            <a:br>
              <a:rPr sz="2800"/>
            </a:br>
            <a:r>
              <a:rPr b="0" lang="en-US" sz="1600" spc="-1" strike="noStrike">
                <a:solidFill>
                  <a:srgbClr val="000000"/>
                </a:solidFill>
                <a:latin typeface="Times New Roman"/>
              </a:rPr>
              <a:t>Tuesday Nov. 9, 1999</a:t>
            </a:r>
            <a:endParaRPr b="0" lang="en-US" sz="1600" spc="-1" strike="noStrike">
              <a:solidFill>
                <a:srgbClr val="000000"/>
              </a:solidFill>
              <a:latin typeface="Times New Roman"/>
            </a:endParaRPr>
          </a:p>
        </p:txBody>
      </p:sp>
      <p:sp>
        <p:nvSpPr>
          <p:cNvPr id="47"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to ord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s and collection of nam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Wednesday’s present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 Sessio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k discussion on merits/problems/concern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sub-teams and lead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e actions and meetings for SG (for next 4 month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ourn</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Jim Allen, Eastman Kodak</a:t>
            </a:r>
          </a:p>
        </p:txBody>
      </p:sp>
      <p:sp>
        <p:nvSpPr>
          <p:cNvPr id="3" name="PlaceHolder 2"/>
          <p:cNvSpPr>
            <a:spLocks noGrp="1"/>
          </p:cNvSpPr>
          <p:nvPr>
            <p:ph type="sldNum" idx="3"/>
          </p:nvPr>
        </p:nvSpPr>
        <p:spPr/>
        <p:txBody>
          <a:bodyPr/>
          <a:p>
            <a:fld id="{6A2C6C9A-C6F9-4141-B051-11D239DE2E8A}"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01:41:43Z</dcterms:created>
  <dc:creator>Jim Allen</dc:creator>
  <dc:description>99/133r0</dc:description>
  <dc:language>en-US</dc:language>
  <cp:lastModifiedBy>Rober F. Heile</cp:lastModifiedBy>
  <cp:lastPrinted>1998-02-10T13:28:06Z</cp:lastPrinted>
  <dcterms:modified xsi:type="dcterms:W3CDTF">1999-11-09T15:36:26Z</dcterms:modified>
  <cp:revision>2</cp:revision>
  <dc:subject>IEEE 802.15 &lt;subject&gt;</dc:subject>
  <dc:title>Ad Hoc WPAN-High Rate Agenda-Nov 9, 1999</dc:title>
</cp:coreProperties>
</file>