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13F-447D-4384-8A04-AD203462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E95-2099-450A-A13C-AF8F9A2B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FE2-7A51-4566-8332-C12C3FEB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64B-D91C-4462-8F2B-4CFEAF27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235-03D1-4891-BD76-12FB2EDB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9CA-9210-40FE-86BF-3491FBD8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C7E-BCF3-4D33-A0C0-C3FF85EE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E43-D1F8-40B6-9FD8-3E636F02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596-0AB2-4133-9A32-27223A7C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27FB-C493-4248-8C25-D24E8624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1A9-1125-474C-8BA5-CA1A2C4F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CD35-6C6B-42FC-95F2-9C95EFDF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E2BCB8E-BBD8-46E1-AB43-059264F43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8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“Coexis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3A8-0DF1-4B24-8168-BC64E8C33A1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320-3781-4D41-BB62-704FBB9671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hat with the Data Traffic models to determine when each of the networks are transmit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1AC-3469-4114-9A38-048E228A4B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different application scenarios and physical distribution of de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85A-71A6-4173-A6F8-BC79871227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the four parts of the model to predict the impact on the WPAN and WLAN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03D8-6BF6-4148-955B-ED3DBAE3C5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xistence Model will likely require work in all of the follow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ikely need to cross check using these different tools to verify the accuracy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902-3400-4820-86C3-0C0E8DEDC3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eviously performed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 to work the different areas of the Coexistenc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approach to model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method to synthesize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network performance metrics we plan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23D-380C-4E8D-87A5-2DBEA21225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i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we need to find a way to have some members of 802.11 participate in th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6F5-DE7E-4B8E-A869-261E4C2B07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IEEE 802.15 WPAN devices coexist with other wireless devices in the unlicensed frequenc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it is very important that 802.15 WPAN devices coexist with IEEE 802.11 WLA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DC1-7976-4485-B2DD-E08FDC34B7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wireless devices are said to “coexist” if they can be collocated without significantly impacting the performance of any of these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005-C6E0-40F2-A58D-A8E0600E81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currently defines three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exchanging two interoperable devices causes no damage to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our definition of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 devices can ex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llow but not require interoperability as a coexistenc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BEA-65ED-4B8A-B6F0-19AADCE5C6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of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will be to address coexist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802.11 W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other 802.15 WPAN (assuming there will b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selected other devices in the same band (e.g. HomeR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A04-5C36-4582-84C3-C5A239EB28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Recommended Practices to for 802.15 and 802.11 to facilitat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suggest modifications to the 802.15 and 802.11 standards to enhanc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E14-8FE9-4310-AAF6-53BFA3A11E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D57-11F8-47DE-B6DC-A06A28A5B8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72D-C7F8-4E21-A359-057B20B58B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of the 802.11 and 802.15 PHY layers which will predict the impact of mutual interference when multiple devices are operating simultaneously, based upon given signal power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7C8-9008-4F70-B428-4422ACC2A4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5:27:50Z</dcterms:created>
  <dc:creator>Steve Shellhammer</dc:creator>
  <dc:description>99/xxxr0</dc:description>
  <dc:language>en-US</dc:language>
  <cp:lastModifiedBy>Steve Shellhammer</cp:lastModifiedBy>
  <cp:lastPrinted>1998-02-10T13:28:06Z</cp:lastPrinted>
  <dcterms:modified xsi:type="dcterms:W3CDTF">1999-09-15T15:57:02Z</dcterms:modified>
  <cp:revision>45</cp:revision>
  <dc:subject>IEEE 802.15 Coexistence Charter</dc:subject>
  <dc:title>No Slide Title</dc:title>
</cp:coreProperties>
</file>