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B92BE4-0EFC-4510-8722-3840BA84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54C-0715-4D61-97A6-B09F77C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480-0D34-4377-8011-3923988A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E0B-7A9E-4C47-95B3-9898059B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64DF-B418-4E26-8952-DCBAE7BF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C99-D286-400D-B8AA-65E1667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B72-3ED3-4D28-984E-2E93EF5A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F7D-AD4C-4A74-A42D-6372E8FE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93D-2A0F-4175-B568-990A7742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B6E-386F-4E21-AB07-073B9EF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2C-4346-4017-B6B7-7BADAD3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1E7-0DF4-4BBF-B4C2-F06D125F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55A-85B8-4837-B948-C9A93A6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D1135A-773A-40DD-B445-3D150F1D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E04-88C1-4AA4-816E-AFA705C4E1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F7D-52C9-4AE2-910B-D71C3B82A6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BD4-06F8-4317-9380-2D495AE672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BC4-3C50-472C-A183-9E0CECA35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FE7-5FF4-47AB-8542-49FFA0D143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CB1-1EA1-4C61-85F3-A16CF5C10E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0C0E-2A4B-4BD0-A370-3A65456047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670-92D0-4759-99DC-4737B9BA79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1:00pm and processed all of our Agenda Items and adjourned at xx:yy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URSDAY DRAFT TG1 REPORT TO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664-B7DB-4C39-AC90-23D0700416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Comment Form in MS Word, -99/116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B49-5D42-4332-BBBF-8F0BF2C8D7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47r0</dc:description>
  <dc:language>en-US</dc:language>
  <cp:lastModifiedBy>Ian C. Gifford</cp:lastModifiedBy>
  <cp:lastPrinted>1998-02-10T13:28:06Z</cp:lastPrinted>
  <dcterms:modified xsi:type="dcterms:W3CDTF">1999-11-11T23:06:12Z</dcterms:modified>
  <cp:revision>54</cp:revision>
  <dc:subject>IEEE 802.15 TG1 Report #3</dc:subject>
  <dc:title>IEEE P802.15 Working Group for Wireless Personal Area Networks</dc:title>
</cp:coreProperties>
</file>