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70D-53EE-48A0-B4AE-91CD7990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A63-EE9E-4296-902D-2BECF9E4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77E-1448-4AA8-8B5C-A6CCF93D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033-F404-4152-AD92-05C8C5C0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ABC-B49B-4B91-B753-C22C6D3D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B76-6B05-4F66-97CA-91C5EB4C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98F-84CD-43F9-96F9-DA9B86D0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683-1FD7-4780-AF74-CB8F327A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F34-08B9-4DBB-A26F-AE8CC2C2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6F8-7729-402E-8B0A-7434D1B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011-4D3F-48D6-80C5-E3B8F267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A1B-2771-4CFC-BE48-9873DC9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7E075B-3AC4-45DB-AEA3-B96D64C94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gs to Vot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 Slate of Officers-Term is through 802 Plenary Meeting, March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802.11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to develop recommended Marketing Activities for the W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a position relative to NPRM on WB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9B6-3829-43F3-AAAA-89B79E50287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960" y="23814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9920" y="41148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613-2ECF-4145-B4C3-A831FF8F5D6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85D-016E-4074-BD13-A7582FD2CB7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5920" y="6132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99/031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718-9E50-45E5-A40C-0D0CF4EA72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B112-1B36-45E8-891C-55E2649C74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Marketing Committee to implement recommendations in Doc #99/031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124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f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FC4-8A55-41AD-BD6A-795C98FBEB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47000" y="1843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DC8-7236-41C8-A15B-41E6885BEA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ECF-E840-401C-9FFF-BA2D6F1195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E1C-207A-4ED8-B78B-44C5ED655E8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DC5-80B5-4FA7-AF2A-8E0C39D85F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egulatory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101-4008-4D70-A6D1-05376B5CE44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1480" y="3643200"/>
            <a:ext cx="149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A86-5AAA-441D-B864-7E8B04ED1C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144-553C-4C19-94F3-A17887CF12E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133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 of Grou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existence/Interoperabi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PAR defining work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846-1DD5-479A-AAB0-D2C1D465DF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81080"/>
            <a:ext cx="763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800" y="4038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600" y="46483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063-E4CC-4BA3-9F48-A755798A6D2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13T13:00:44Z</dcterms:modified>
  <cp:revision>54</cp:revision>
  <dc:subject>IEEE 802.15 Marketing</dc:subject>
  <dc:title>IEEE P802.15 Working Group for Wireless Personal Area Networks</dc:title>
</cp:coreProperties>
</file>