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D95-4098-45B8-B08C-1EB346EF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C60-8239-462E-B04F-F97F9984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4EB-69CA-4F47-A976-BC47E011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9F2-3E32-4CA9-814E-A9C5424F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282-F834-4E9B-8FF9-409D938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CEC-9E48-42DB-BBC7-6679E9C3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B5C-BD94-4883-9E50-BAD0A2EB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5CE-9CCC-4DF9-9A4A-43EAA253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815-13B9-48B0-9A42-C881F99A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9E3-9C08-49C2-8FF2-9156BC28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DB8-0EED-4630-B7E3-E0C770F0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F1D-9177-4185-B6E7-7C897BBE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D9A6A8-3011-44F0-9F95-C08B3F00C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8/049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28600" y="23623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s Executive Committe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8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1814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302-17D5-4AF2-8CDD-66D6918A4C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 Two Motions to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6002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1:  To affirm Bob Heile as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 To affirm Ian Gifford as Vice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876920"/>
            <a:ext cx="647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4382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ll Lidins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FE9-742C-462F-913A-202B16F7F6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62120" y="2057400"/>
          <a:ext cx="78134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3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814320" y="4686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vote was more for lack of understanding rather than dis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4BB-8B78-466E-B34E-8824DF8156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1981080"/>
          <a:ext cx="82706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70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457200" y="472428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s for vote: yes=support for letter, no=against letter, abstain=neutral o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105520"/>
            <a:ext cx="824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 position reaffirmed in separate v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stay neutral at this time on the subject of 802.11 letter to FCC re WBF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ed: Houman Albo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passes 23-8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38EB-5C5F-439C-AF1D-9EA5DF98CC3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98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70280" y="3886200"/>
            <a:ext cx="183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5FC3-42B7-42CA-BC93-99CE7A6316F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tion to the SEC for a Study Gro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/interoperability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7200" y="4495680"/>
            <a:ext cx="244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as amended carr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360" y="44053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:  Move to strike wor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/second      russell/marks   vote 6-3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 carr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446-69A4-4B3A-A0F8-D75DB62F04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udy Group as Approved by SE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463-C33F-41D4-8C02-1C113028575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810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5120" y="32004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0640" y="3733920"/>
            <a:ext cx="214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139-D163-4CEA-9BEC-D679BA84EAF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es, Boe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ECC-E0F8-42D0-881F-F53BFB8F07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2560" y="3643200"/>
            <a:ext cx="211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 Ker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A55-6D86-4B81-B32C-E1E63D957B1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Bridget Labrode</cp:lastModifiedBy>
  <cp:lastPrinted>1998-02-10T13:28:06Z</cp:lastPrinted>
  <dcterms:modified xsi:type="dcterms:W3CDTF">1999-07-13T13:05:43Z</dcterms:modified>
  <cp:revision>23</cp:revision>
  <dc:subject/>
  <dc:title>No Slide Title</dc:title>
</cp:coreProperties>
</file>