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929-457D-4859-97B4-CBB6B15C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EF8-8754-4E78-93C3-22B27D76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3D6-5674-4226-8EAC-F5D03BB5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3F0-BFCC-4E55-8FA0-072000E7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594-E160-4AFB-8E9C-24E84ED7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CFD-E79C-4EDF-9425-B4DC91AB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E95-263F-4915-AD0E-D5C5F467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D5A-3E3A-4A5D-BCD4-554E5B35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3B5-44A4-48E3-A91B-D4A635F1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8DC-62D1-4B4B-AF4A-71BEB63A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EEB-C894-4873-8B0A-55AC9D40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6F9-FDAB-4B70-9B54-BCD83F9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EEF10A-1961-437F-90F1-0836615DA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6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Ballo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859-A61A-4B5E-9207-25A35BE260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Considers Draft Comments In The Following Mann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fig5" descr=""/>
          <p:cNvPicPr/>
          <p:nvPr/>
        </p:nvPicPr>
        <p:blipFill>
          <a:blip r:embed="rId1"/>
          <a:stretch/>
        </p:blipFill>
        <p:spPr>
          <a:xfrm>
            <a:off x="1220760" y="1936800"/>
            <a:ext cx="6856560" cy="4083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95480" y="5791320"/>
            <a:ext cx="3429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1360" y="6019920"/>
            <a:ext cx="55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IEEE Companion, http://standards.ieee.org/guides/companion/part5.html#bal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485-1EAC-460E-A110-41D3608D1E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urrent P802.15 Working Group is comprised of 40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4A4-BFE5-46A1-9619-B323662208AD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802 Reporting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1895400"/>
            <a:ext cx="503712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302-CF9B-411A-8376-7F79124CA1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265720" y="1981080"/>
            <a:ext cx="3344760" cy="308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64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Organiz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G and Sponsor Ballot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64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Cor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ty of .1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Organizational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83440" y="3774960"/>
            <a:ext cx="1066680" cy="990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791320"/>
            <a:ext cx="8382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802.15 WG needs to understand How To become an IEEE-SA Member an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P802.15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F34-9294-4344-A9A3-B8AD76B4BD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h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line/Mile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lectronic Letter Ballot - 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Group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4BA2-A8FF-4DF1-A257-45707B81C0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the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Sep99 - Nov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 and Consolidation Comments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14800"/>
            <a:ext cx="6476760" cy="1828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9B0-28F0-4F88-9D48-C7896F3027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line/Milest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15Ka" descr=""/>
          <p:cNvPicPr/>
          <p:nvPr/>
        </p:nvPicPr>
        <p:blipFill>
          <a:blip r:embed="rId1"/>
          <a:stretch/>
        </p:blipFill>
        <p:spPr>
          <a:xfrm>
            <a:off x="63360" y="2117880"/>
            <a:ext cx="900432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990720" y="4191120"/>
            <a:ext cx="7048440" cy="1411200"/>
            <a:chOff x="990720" y="4191120"/>
            <a:chExt cx="7048440" cy="1411200"/>
          </a:xfrm>
        </p:grpSpPr>
        <p:sp>
          <p:nvSpPr>
            <p:cNvPr id="55" name=""/>
            <p:cNvSpPr/>
            <p:nvPr/>
          </p:nvSpPr>
          <p:spPr>
            <a:xfrm>
              <a:off x="990720" y="5257800"/>
              <a:ext cx="761760" cy="304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12600" y="523404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Ballo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67560" y="4191120"/>
              <a:ext cx="1371600" cy="304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03D-218E-4979-8389-DDE653939D5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Electronic Letter Ballot - 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a PDF of the Draft P802.1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Letter Ballot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 LB and Comment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 Letter Ballot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, Compile, and distribute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049-C2B9-46F7-A724-2AFF58A350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Finish P802.15.1 Draft on or before 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D37-E747-4DF8-9853-C557B7C439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or before 8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8Nov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LB#1 and release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28F-4B42-4614-A1DD-1D7B531E5E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3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3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sam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18F-8F82-4F39-9E3F-7238699F4E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4: Issues to consi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Recirculation Letter Ballot? If yes, Pre Tel-Aviv or Post Tel-Avi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-Aviv Interim Meeting Quo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Tel-Aviv Interim Meeting Balloting vs. Letter Ball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onsor Ballot submission is 18Feb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360" y="5257800"/>
            <a:ext cx="81532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sk Group 1 suggest that we identify the Post LB #1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s after the Comments are receive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07A-DF3B-4625-A949-BA9D6B5432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0:42:59Z</dcterms:created>
  <dc:creator>Ian C. Gifford</dc:creator>
  <dc:description>076r0</dc:description>
  <dc:language>en-US</dc:language>
  <cp:lastModifiedBy>Ian C. Gifford</cp:lastModifiedBy>
  <cp:lastPrinted>1998-02-10T13:28:06Z</cp:lastPrinted>
  <dcterms:modified xsi:type="dcterms:W3CDTF">1999-09-14T22:03:41Z</dcterms:modified>
  <cp:revision>15</cp:revision>
  <dc:subject>IEEE 802.15 WG Balloting Planning</dc:subject>
  <dc:title>IEEE 802.15 Working Group for Wireless Personal Area Networks</dc:title>
</cp:coreProperties>
</file>