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7855-BF06-406D-AAAD-0E86F7F8A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1D13-B1B0-4887-8EA2-EC953B0A8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92400" y="79380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DA8-2E7D-4FDD-B51B-678EF236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8C8-1E72-46A1-BB52-F639458F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AC2-273A-4989-9BED-422CC8DD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737-7E2F-479D-AFE8-F91930B9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78B-279E-491E-8955-0F0FC717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4EC-3728-4ADE-ADF0-FC293326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62E-7F27-4009-8FD5-4781757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9644-43B2-4B40-85EF-38C91DEC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558-4C51-4E30-A262-59448AC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F1F-B375-42DD-9952-595080D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3B9-301F-45C1-BB24-59ABAC2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F64-E364-4DF7-AE26-D9C6DCE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169848-A4FF-4DC6-9A6C-2638C7EAF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53920" y="219240"/>
            <a:ext cx="773748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pression for Probability of Error for Binary-FS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D.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799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ving, 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A6E-9D73-4BD6-A2C6-7A3EF6BF32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9480" y="1447920"/>
                <a:ext cx="79250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bit</m:t>
                        </m:r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llision</m:t>
                        </m:r>
                        <m:r>
                          <m:t xml:space="preserve">]</m:t>
                        </m:r>
                      </m:e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llision</m:t>
                              </m:r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JR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93640" y="357012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3951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29000" y="4381560"/>
                <a:ext cx="212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130400" y="51814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29000" y="5638680"/>
                <a:ext cx="2122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09480" y="2438280"/>
                <a:ext cx="246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82000" y="2465280"/>
            <a:ext cx="4367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portion of interferring energy in desired signal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8600" y="3075120"/>
            <a:ext cx="2416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Brick Wall Fil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508-B7DD-448B-AC41-72F56B2332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9320" y="231300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3920" y="269388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514680" y="3124080"/>
                <a:ext cx="2124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216080" y="392436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28800" y="4419720"/>
                <a:ext cx="5683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47360" y="1893960"/>
            <a:ext cx="4075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ume 3 MHz Wide Impact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86A-B620-43B6-ADC5-1212F25453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of Error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280" y="1550880"/>
            <a:ext cx="755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90520" y="193212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81280" y="2362320"/>
                <a:ext cx="21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82680" y="3162240"/>
            <a:ext cx="359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MHz Interfering hopper for 1 MHz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43160" y="3733920"/>
                <a:ext cx="6602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J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543-8682-4004-A89E-732B3BE844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3505320"/>
            <a:ext cx="4622760" cy="28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3800520" cy="236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3726000" cy="229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19320" y="13716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09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8954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9528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571500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428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920" y="76212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6600" y="3429000"/>
            <a:ext cx="834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1066680"/>
            <a:ext cx="1284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Hz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D. Gray, Nokia Research Cen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F68-F508-4A9C-97D9-008B1F477F1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5:53:13Z</dcterms:created>
  <dc:creator>Bridget Labrode</dc:creator>
  <dc:description/>
  <dc:language>en-US</dc:language>
  <cp:lastModifiedBy>Bridget Labrode</cp:lastModifiedBy>
  <dcterms:modified xsi:type="dcterms:W3CDTF">1999-07-18T16:12:34Z</dcterms:modified>
  <cp:revision>1</cp:revision>
  <dc:subject/>
  <dc:title>No Slide Title</dc:title>
</cp:coreProperties>
</file>