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08F-8E0C-4CD5-96EE-E022D1E9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9E8-6E4D-4AFA-85AA-2FFBD230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1BD-B211-4A71-816C-3E2629AC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81E-7BD5-4179-9B57-C8861264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C9A-509B-48A1-AA2C-99825E99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769-BACC-4E8D-AF23-0137D4FA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72B-F347-4335-AEDA-A943EFB1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9E9-1581-4E3A-9B50-4F429ABD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CFB-46E4-4648-B40D-822C02C3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620A-EF24-4990-A257-F5079D0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020-B90C-4950-BB21-6A63B741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8C4-370E-4507-ADF1-8D51BC0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602E3F-A90C-4DCD-BC50-8A3D9B23A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Functional Organization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509-A2A0-42B4-B61B-8936AD35FB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TG1 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be FrameMaker v5.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 in Technical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2200" y="2116080"/>
          <a:ext cx="8491680" cy="16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116080"/>
                    <a:ext cx="849168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553080" y="1600200"/>
            <a:ext cx="1981440" cy="990720"/>
          </a:xfrm>
          <a:prstGeom prst="wedgeRectCallout">
            <a:avLst>
              <a:gd name="adj1" fmla="val -62259"/>
              <a:gd name="adj2" fmla="val 13669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help in wr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MAC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629400" y="4191120"/>
            <a:ext cx="2133720" cy="1218960"/>
          </a:xfrm>
          <a:prstGeom prst="wedgeRectCallout">
            <a:avLst>
              <a:gd name="adj1" fmla="val -48662"/>
              <a:gd name="adj2" fmla="val 100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HY Lay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be  folded into 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yer Editor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67280"/>
            <a:ext cx="822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want to help please talk to Tom Siep &lt;siep@ti.co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76A-E4D8-4C1A-8454-D03131D1B5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802.15 Functional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Functional Organization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-IEEE Editorial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C9A-A6FE-4732-8CF8-D908DEC4C7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720" y="1857240"/>
            <a:ext cx="82360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760-1CEE-45C4-9867-9A3325408C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16120" y="1522440"/>
          <a:ext cx="75643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5224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3EB-9B73-4C21-928B-203FF6BFED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480" y="2738520"/>
          <a:ext cx="88930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738520"/>
                    <a:ext cx="88930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419-23E9-420F-A0FC-8920D0E18D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020-E30F-436C-B7BD-C088D81810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40120" y="2517840"/>
          <a:ext cx="424368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517840"/>
                    <a:ext cx="42436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2960" y="2516040"/>
          <a:ext cx="3357720" cy="19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960" y="2516040"/>
                    <a:ext cx="335772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172-10EA-4199-988C-F3074124A7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1000" y="2066760"/>
          <a:ext cx="6638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2066760"/>
                    <a:ext cx="6638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81480" y="3925800"/>
            <a:ext cx="1051200" cy="2551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8040" y="59245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040" y="552600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049720"/>
            <a:ext cx="80496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64976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24980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5128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4513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5029200"/>
            <a:ext cx="1905120" cy="9144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324480" y="3581280"/>
            <a:ext cx="2175120" cy="1719360"/>
            <a:chOff x="6324480" y="3581280"/>
            <a:chExt cx="2175120" cy="1719360"/>
          </a:xfrm>
        </p:grpSpPr>
        <p:sp>
          <p:nvSpPr>
            <p:cNvPr id="81" name=""/>
            <p:cNvSpPr/>
            <p:nvPr/>
          </p:nvSpPr>
          <p:spPr>
            <a:xfrm>
              <a:off x="6324480" y="3581280"/>
              <a:ext cx="2175120" cy="1719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4800" y="3868920"/>
              <a:ext cx="16174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A Radio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B Baseband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C Link Manager Proto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D L2CA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Bluetooth%20logo%20(tm)" descr=""/>
          <p:cNvPicPr/>
          <p:nvPr/>
        </p:nvPicPr>
        <p:blipFill>
          <a:blip r:embed="rId4"/>
          <a:stretch/>
        </p:blipFill>
        <p:spPr>
          <a:xfrm>
            <a:off x="5959440" y="579132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0CF-EA6E-487F-874A-6709190EF7F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Thoughts on Tim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743200"/>
          <a:ext cx="849780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49780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19D-4F72-43B3-B6F6-DF82103D010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3:26:07Z</dcterms:created>
  <dc:creator>Tom Siep</dc:creator>
  <dc:description>075r0</dc:description>
  <dc:language>en-US</dc:language>
  <cp:lastModifiedBy>Tom Siep</cp:lastModifiedBy>
  <cp:lastPrinted>1998-02-10T13:28:06Z</cp:lastPrinted>
  <dcterms:modified xsi:type="dcterms:W3CDTF">1999-09-14T20:09:30Z</dcterms:modified>
  <cp:revision>11</cp:revision>
  <dc:subject>IEEE 802.15 Functional Organization/Recruitment</dc:subject>
  <dc:title>IEEE P802.15 Working Group for Wireless Personal Area Networks</dc:title>
</cp:coreProperties>
</file>