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A9775A-30E5-47CB-91FB-4F330E423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57400" y="700200"/>
            <a:ext cx="4624200" cy="3468600"/>
          </a:xfrm>
          <a:prstGeom prst="rect">
            <a:avLst/>
          </a:prstGeom>
          <a:ln w="0">
            <a:noFill/>
          </a:ln>
        </p:spPr>
      </p:sp>
      <p:sp>
        <p:nvSpPr>
          <p:cNvPr id="73" name="PlaceHolder 2"/>
          <p:cNvSpPr>
            <a:spLocks noGrp="1"/>
          </p:cNvSpPr>
          <p:nvPr>
            <p:ph type="body"/>
          </p:nvPr>
        </p:nvSpPr>
        <p:spPr>
          <a:xfrm>
            <a:off x="922320" y="4408560"/>
            <a:ext cx="50896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0E976-B543-4A5E-9E35-66E0B96E3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0491-D3F0-4ABE-8282-2F55E03C8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C8C35-54B1-4A65-94FE-373A2C7E0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B2082-6472-4F74-93AD-58525583B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75265-7731-4180-B47D-18AC8DFA5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663BF-09CE-420F-BD34-E24CCD934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E12FA-B238-45E3-A5F9-22CE7A64D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46654-71D6-4A78-9CC6-7F1ADD3E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70E5E-756A-4615-BF5B-5FCACC32E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8ACCA-7361-49EB-A5FE-FD3D0245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33D2-B4C0-431F-B594-3117C3F0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4626-CDFD-4D4B-8312-E73261D8B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6A5AF5-F5BE-4873-8643-83D70A67A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8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F23BFF5-2031-44D0-936C-94ACB7CCB565}"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Functional Ov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Draft 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Organizational Iss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75CB451-ECC2-4ECF-87F7-B40F1256D135}"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of the Executive Committee is to oversee the operation of the LAN MAN Standards Committee in the following ways:</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arter the Study Groups, Working Groups and Technical Advisory Group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ppoint the initial Chairs of the Working Groups and Technical Advisory Groups. (The Chairs of Working Groups and Technical Advisory Groups are confirmed or elected by the Working Group and Technical Advisory Group members themselves.)</a:t>
            </a:r>
            <a:endParaRPr b="0" lang="en-US" sz="2000" spc="-1" strike="noStrike">
              <a:solidFill>
                <a:srgbClr val="000000"/>
              </a:solidFill>
              <a:latin typeface="Arial"/>
            </a:endParaRPr>
          </a:p>
          <a:p>
            <a:pPr lvl="1" marL="698400" indent="-26856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 Provide procedural and, if necessary, technical guidance to the Working Groups and Technical Advisory Groups as it relates to their char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F8EB3E5-EF18-42D9-97D8-C104FF6DA4AA}"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Rules - 3.1 Functions (cont.)</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a:t>
            </a:r>
            <a:endParaRPr b="0"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Oversee Working Group and Technical Advisory Group operation to see that it is within the scope of Project 802, and the charter of the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 Examine and approve Working Group draft standards for proper submission to sponsor ballot group (see Section 4); not for technical content.</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 Consider complaints of Working Group and Technical Advisory Group members and the resolutions of the Plenary, Working Groups and Technical Advisory Groups.</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 Manage the Functional Requirements and other global Project 802 issue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 Handle press releases and other external organization matters.</a:t>
            </a:r>
            <a:endParaRPr b="0"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Manage Project 802 logistics, i.e., concurrent Working Group and Technical Advisory Group meetings, finances, etc.</a:t>
            </a:r>
            <a:endParaRPr b="0" lang="en-US" sz="1600" spc="-1" strike="noStrike">
              <a:solidFill>
                <a:srgbClr val="000000"/>
              </a:solidFill>
              <a:latin typeface="Arial"/>
            </a:endParaRPr>
          </a:p>
          <a:p>
            <a:pPr lvl="1" marL="720720" indent="-277200">
              <a:spcBef>
                <a:spcPts val="4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 Oversee formation of sponsor ballot groups and sponsor ballot proces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F10CDD9-B176-4C4D-BDD5-AB5CF640EE30}"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bout the 802 Functional Requirements?</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cument defines the functional requirements and guidelines for the IEEE 802 family of Local Area Networks and Metropolitan Area Networks. The functional requirements include the use, environment, functions, and recommended performance of such networks. It also defines the functional requirements for interfaces and protocols. The guidelines are those items which, while not mandatory, give direction to standards developers in development of those standards. The material that is defined as requirements is shown in bold text, while the guidance material is shown in italics.</a:t>
            </a:r>
            <a:endParaRPr b="0" lang="en-US" sz="2000" spc="-1" strike="noStrike">
              <a:solidFill>
                <a:srgbClr val="000000"/>
              </a:solidFill>
              <a:latin typeface="Arial"/>
            </a:endParaRPr>
          </a:p>
        </p:txBody>
      </p:sp>
      <p:sp>
        <p:nvSpPr>
          <p:cNvPr id="65" name=""/>
          <p:cNvSpPr/>
          <p:nvPr/>
        </p:nvSpPr>
        <p:spPr>
          <a:xfrm>
            <a:off x="583200" y="5527800"/>
            <a:ext cx="754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ttp://grouper.ieee.org/groups/802/11/fureq6-8.html</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3506140-AF2A-492A-9A6E-04C08B101F75}"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 a Family of Standards</a:t>
            </a:r>
            <a:endParaRPr b="0" lang="en-US" sz="3600" spc="-1" strike="noStrike">
              <a:solidFill>
                <a:srgbClr val="000000"/>
              </a:solidFill>
              <a:latin typeface="Times New Roman"/>
            </a:endParaRPr>
          </a:p>
        </p:txBody>
      </p:sp>
      <p:pic>
        <p:nvPicPr>
          <p:cNvPr id="67" name="" descr=""/>
          <p:cNvPicPr/>
          <p:nvPr/>
        </p:nvPicPr>
        <p:blipFill>
          <a:blip r:embed="rId1"/>
          <a:stretch/>
        </p:blipFill>
        <p:spPr>
          <a:xfrm>
            <a:off x="279360" y="1828800"/>
            <a:ext cx="8583480" cy="3719520"/>
          </a:xfrm>
          <a:prstGeom prst="rect">
            <a:avLst/>
          </a:prstGeom>
          <a:ln w="0">
            <a:noFill/>
          </a:ln>
        </p:spPr>
      </p:pic>
      <p:sp>
        <p:nvSpPr>
          <p:cNvPr id="68" name=""/>
          <p:cNvSpPr/>
          <p:nvPr/>
        </p:nvSpPr>
        <p:spPr>
          <a:xfrm>
            <a:off x="8001000" y="3809880"/>
            <a:ext cx="762120" cy="137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C064231E-AB2E-4C95-9AFF-AA6C9C24AF4B}"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o follow...</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ABB82CFC-0EB7-49D3-AB83-49A2F917A1C8}" type="slidenum">
              <a:t>7</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URL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Operating Rules and Other Docu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grouper.ieee.org/groups/802/devdocs.htm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D1CB14C-90E6-4A22-B1C2-002FB923F070}"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4:06:10Z</dcterms:created>
  <dc:creator>Ian C. Gifford</dc:creator>
  <dc:description>078r0</dc:description>
  <dc:language>en-US</dc:language>
  <cp:lastModifiedBy>Ian C. Gifford</cp:lastModifiedBy>
  <cp:lastPrinted>1998-02-10T13:28:06Z</cp:lastPrinted>
  <dcterms:modified xsi:type="dcterms:W3CDTF">1999-09-15T14:38:25Z</dcterms:modified>
  <cp:revision>5</cp:revision>
  <dc:subject>IEEE 802.15 Planning</dc:subject>
  <dc:title>802 Coordination Planning</dc:title>
</cp:coreProperties>
</file>