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C0D2-3B0B-45C9-B7BF-8EC3CDBA6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7B36-D36F-4A50-9A4B-A7A1D1480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866C-AE81-4D5B-9760-74E9F8005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E08C-8ECB-4715-9054-16A478202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E0CE-CDB7-44AF-88F2-17E855C9FA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34F1-581F-4104-BC6C-76C1B632A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090A-96AB-4864-86F8-6C86BA873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8C29-A730-452A-96D5-3C7E33E70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41E9-7BED-40A3-8C90-E08DFE908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F5FC-8BDC-4B39-8383-C488B1CF8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AD7D-3CA6-4469-B6E4-85CC3BC74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ABBD-E160-4167-B9AB-E72C27896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A8BDF1-330C-4C34-97E7-54284D267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0F37-EF1D-4C89-91E1-E8ED641B78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8B2D-A071-4F3E-BBFD-83A309254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5FE5-62A5-4226-937E-28F4DBE5E4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3629-D76D-4633-BBA9-B7AE8C7C3E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7T21:06:59Z</dcterms:modified>
  <cp:revision>36</cp:revision>
  <dc:subject/>
  <dc:title>No Slide Title</dc:title>
</cp:coreProperties>
</file>