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F92C1E-A5DB-4BBF-8F97-F30F5A145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2F7C0-336E-41E8-B365-6B5F1AC2B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9A3B66-9293-4003-8971-AB8178D764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0604B4-286F-4419-A874-6A9BDE712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71E31-7BA2-4CA3-98BA-A6B482B3B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66E74-E8AB-4918-98EE-D4BB0CB43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2B4AE-8513-4197-8AEE-2549426DE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AD855-262E-4A14-A81D-C465CA15E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88B9E-4D9C-46FE-B744-5FBBA3261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58D52-FBB6-4C1C-9D8F-8AA61548B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A337A-DE34-4B55-BD81-72895E61C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ED104-CCC2-4F4F-B52A-2EBC3AC9A3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DF434A9-7FD5-480B-9267-BE1A04D26F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20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65D788FC-6F34-4600-BDB7-8CE80F1546B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447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WG Monday Report to 802</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November 8, 199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Robert F. Heile</a:t>
            </a:r>
            <a:r>
              <a:rPr b="0" lang="en-US" sz="1600" spc="-1" strike="noStrike">
                <a:solidFill>
                  <a:srgbClr val="000000"/>
                </a:solidFill>
                <a:latin typeface="Times New Roman"/>
              </a:rPr>
              <a:t>] Company [</a:t>
            </a:r>
            <a:r>
              <a:rPr b="0" lang="en-US" sz="1600" spc="-1" strike="noStrike">
                <a:solidFill>
                  <a:srgbClr val="ff0000"/>
                </a:solidFill>
                <a:latin typeface="Times New Roman"/>
              </a:rPr>
              <a:t>GTE Technology Organizat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40 Sylvan Road, Waltham, MA  02451</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781-466-2057</a:t>
            </a:r>
            <a:r>
              <a:rPr b="0" lang="en-US" sz="1600" spc="-1" strike="noStrike">
                <a:solidFill>
                  <a:srgbClr val="000000"/>
                </a:solidFill>
                <a:latin typeface="Times New Roman"/>
              </a:rPr>
              <a:t>], FAX: [</a:t>
            </a:r>
            <a:r>
              <a:rPr b="0" lang="en-US" sz="1600" spc="-1" strike="noStrike">
                <a:solidFill>
                  <a:srgbClr val="ff0000"/>
                </a:solidFill>
                <a:latin typeface="Times New Roman"/>
              </a:rPr>
              <a:t>781-466-2575</a:t>
            </a:r>
            <a:r>
              <a:rPr b="0" lang="en-US" sz="1600" spc="-1" strike="noStrike">
                <a:solidFill>
                  <a:srgbClr val="000000"/>
                </a:solidFill>
                <a:latin typeface="Times New Roman"/>
              </a:rPr>
              <a:t>], E-Mail:[</a:t>
            </a:r>
            <a:r>
              <a:rPr b="0" lang="en-US" sz="1600" spc="-1" strike="noStrike">
                <a:solidFill>
                  <a:srgbClr val="ff0000"/>
                </a:solidFill>
                <a:latin typeface="Times New Roman"/>
              </a:rPr>
              <a:t>bheile@bbn.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Opening Meeting Repor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Objectives of the Working Group Meeting</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Inform 802 Plenar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1752480" y="685800"/>
            <a:ext cx="5645160" cy="1711440"/>
            <a:chOff x="1752480" y="685800"/>
            <a:chExt cx="5645160" cy="1711440"/>
          </a:xfrm>
        </p:grpSpPr>
        <p:pic>
          <p:nvPicPr>
            <p:cNvPr id="50" name="802" descr=""/>
            <p:cNvPicPr/>
            <p:nvPr/>
          </p:nvPicPr>
          <p:blipFill>
            <a:blip r:embed="rId1"/>
            <a:stretch/>
          </p:blipFill>
          <p:spPr>
            <a:xfrm>
              <a:off x="5737320" y="685800"/>
              <a:ext cx="1660320" cy="1711440"/>
            </a:xfrm>
            <a:prstGeom prst="rect">
              <a:avLst/>
            </a:prstGeom>
            <a:ln w="0">
              <a:noFill/>
            </a:ln>
          </p:spPr>
        </p:pic>
        <p:grpSp>
          <p:nvGrpSpPr>
            <p:cNvPr id="51" name=""/>
            <p:cNvGrpSpPr/>
            <p:nvPr/>
          </p:nvGrpSpPr>
          <p:grpSpPr>
            <a:xfrm>
              <a:off x="1752480" y="933480"/>
              <a:ext cx="5477040" cy="1114560"/>
              <a:chOff x="1752480" y="933480"/>
              <a:chExt cx="5477040" cy="1114560"/>
            </a:xfrm>
          </p:grpSpPr>
          <p:sp>
            <p:nvSpPr>
              <p:cNvPr id="52" name=""/>
              <p:cNvSpPr/>
              <p:nvPr/>
            </p:nvSpPr>
            <p:spPr>
              <a:xfrm>
                <a:off x="1752480" y="933480"/>
                <a:ext cx="4181760" cy="111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630240" y="1028880"/>
                <a:ext cx="20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rPr>
                  <a:t>802.15</a:t>
                </a:r>
                <a:endParaRPr b="0" lang="en-US" sz="5400" spc="-1" strike="noStrike">
                  <a:solidFill>
                    <a:srgbClr val="000000"/>
                  </a:solidFill>
                  <a:latin typeface="Times New Roman"/>
                </a:endParaRPr>
              </a:p>
            </p:txBody>
          </p:sp>
          <p:grpSp>
            <p:nvGrpSpPr>
              <p:cNvPr id="54" name=""/>
              <p:cNvGrpSpPr/>
              <p:nvPr/>
            </p:nvGrpSpPr>
            <p:grpSpPr>
              <a:xfrm>
                <a:off x="1895400" y="976320"/>
                <a:ext cx="1595520" cy="1045800"/>
                <a:chOff x="1895400" y="976320"/>
                <a:chExt cx="1595520" cy="1045800"/>
              </a:xfrm>
            </p:grpSpPr>
            <p:grpSp>
              <p:nvGrpSpPr>
                <p:cNvPr id="55" name=""/>
                <p:cNvGrpSpPr/>
                <p:nvPr/>
              </p:nvGrpSpPr>
              <p:grpSpPr>
                <a:xfrm>
                  <a:off x="2165400" y="985680"/>
                  <a:ext cx="1325520" cy="1036440"/>
                  <a:chOff x="2165400" y="985680"/>
                  <a:chExt cx="1325520" cy="1036440"/>
                </a:xfrm>
              </p:grpSpPr>
              <p:pic>
                <p:nvPicPr>
                  <p:cNvPr id="56" name="" descr=""/>
                  <p:cNvPicPr/>
                  <p:nvPr/>
                </p:nvPicPr>
                <p:blipFill>
                  <a:blip r:embed="rId2"/>
                  <a:stretch/>
                </p:blipFill>
                <p:spPr>
                  <a:xfrm>
                    <a:off x="2165400" y="1245960"/>
                    <a:ext cx="1038240" cy="776160"/>
                  </a:xfrm>
                  <a:prstGeom prst="rect">
                    <a:avLst/>
                  </a:prstGeom>
                  <a:ln w="0">
                    <a:noFill/>
                  </a:ln>
                </p:spPr>
              </p:pic>
              <p:grpSp>
                <p:nvGrpSpPr>
                  <p:cNvPr id="57" name=""/>
                  <p:cNvGrpSpPr/>
                  <p:nvPr/>
                </p:nvGrpSpPr>
                <p:grpSpPr>
                  <a:xfrm>
                    <a:off x="2544840" y="985680"/>
                    <a:ext cx="946080" cy="944640"/>
                    <a:chOff x="2544840" y="985680"/>
                    <a:chExt cx="946080" cy="944640"/>
                  </a:xfrm>
                </p:grpSpPr>
                <p:sp>
                  <p:nvSpPr>
                    <p:cNvPr id="58" name=""/>
                    <p:cNvSpPr/>
                    <p:nvPr/>
                  </p:nvSpPr>
                  <p:spPr>
                    <a:xfrm>
                      <a:off x="2544840" y="98568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616120" y="1056960"/>
                      <a:ext cx="804960" cy="803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690640" y="1133280"/>
                      <a:ext cx="654120" cy="650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776320" y="1211040"/>
                      <a:ext cx="482760" cy="49680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865240" y="1306440"/>
                      <a:ext cx="30492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935080" y="1376280"/>
                      <a:ext cx="16524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979720" y="1420560"/>
                      <a:ext cx="7632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65" name=""/>
                  <p:cNvGrpSpPr/>
                  <p:nvPr/>
                </p:nvGrpSpPr>
                <p:grpSpPr>
                  <a:xfrm>
                    <a:off x="2212920" y="1041120"/>
                    <a:ext cx="946080" cy="944640"/>
                    <a:chOff x="2212920" y="1041120"/>
                    <a:chExt cx="946080" cy="944640"/>
                  </a:xfrm>
                </p:grpSpPr>
                <p:sp>
                  <p:nvSpPr>
                    <p:cNvPr id="66" name=""/>
                    <p:cNvSpPr/>
                    <p:nvPr/>
                  </p:nvSpPr>
                  <p:spPr>
                    <a:xfrm>
                      <a:off x="2212920" y="104112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286000" y="1110960"/>
                      <a:ext cx="801720" cy="8017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360520" y="1185480"/>
                      <a:ext cx="652320" cy="652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444760" y="1265040"/>
                      <a:ext cx="484200" cy="4953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33680" y="1360440"/>
                      <a:ext cx="30636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603520" y="1430280"/>
                      <a:ext cx="16668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647800" y="1473120"/>
                      <a:ext cx="7776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73" name=""/>
                <p:cNvGrpSpPr/>
                <p:nvPr/>
              </p:nvGrpSpPr>
              <p:grpSpPr>
                <a:xfrm>
                  <a:off x="1895400" y="976320"/>
                  <a:ext cx="946080" cy="942840"/>
                  <a:chOff x="1895400" y="976320"/>
                  <a:chExt cx="946080" cy="942840"/>
                </a:xfrm>
              </p:grpSpPr>
              <p:sp>
                <p:nvSpPr>
                  <p:cNvPr id="74" name=""/>
                  <p:cNvSpPr/>
                  <p:nvPr/>
                </p:nvSpPr>
                <p:spPr>
                  <a:xfrm>
                    <a:off x="1895400" y="976320"/>
                    <a:ext cx="946080" cy="9428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965240" y="1045800"/>
                    <a:ext cx="804960" cy="8031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041560" y="1122120"/>
                    <a:ext cx="654120" cy="650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127240" y="1201680"/>
                    <a:ext cx="482400" cy="49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216160" y="1296720"/>
                    <a:ext cx="304560" cy="3027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286000" y="1366560"/>
                    <a:ext cx="164880" cy="164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330280" y="1409400"/>
                    <a:ext cx="76320" cy="77400"/>
                  </a:xfrm>
                  <a:prstGeom prst="ellipse">
                    <a:avLst/>
                  </a:prstGeom>
                  <a:noFill/>
                  <a:ln w="12600">
                    <a:solidFill>
                      <a:srgbClr val="fc0128"/>
                    </a:solidFill>
                    <a:prstDash val="sysDot"/>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sp>
            <p:nvSpPr>
              <p:cNvPr id="81" name=""/>
              <p:cNvSpPr/>
              <p:nvPr/>
            </p:nvSpPr>
            <p:spPr>
              <a:xfrm>
                <a:off x="5924520" y="933480"/>
                <a:ext cx="1305000" cy="11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2" name=""/>
          <p:cNvSpPr/>
          <p:nvPr/>
        </p:nvSpPr>
        <p:spPr>
          <a:xfrm>
            <a:off x="762120" y="251460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rd Session of meetings of the IEEE 802.15 Working Group for Wireless Personal Area Networks</a:t>
            </a:r>
            <a:endParaRPr b="0" lang="en-US" sz="4400" spc="-1" strike="noStrike">
              <a:solidFill>
                <a:srgbClr val="000000"/>
              </a:solidFill>
              <a:latin typeface="Times New Roman"/>
            </a:endParaRPr>
          </a:p>
        </p:txBody>
      </p:sp>
      <p:sp>
        <p:nvSpPr>
          <p:cNvPr id="83" name=""/>
          <p:cNvSpPr/>
          <p:nvPr/>
        </p:nvSpPr>
        <p:spPr>
          <a:xfrm>
            <a:off x="1371600" y="4267080"/>
            <a:ext cx="6400800" cy="1752840"/>
          </a:xfrm>
          <a:prstGeom prst="rect">
            <a:avLst/>
          </a:prstGeom>
          <a:noFill/>
          <a:ln w="0">
            <a:noFill/>
          </a:ln>
        </p:spPr>
        <p:style>
          <a:lnRef idx="0"/>
          <a:fillRef idx="0"/>
          <a:effectRef idx="0"/>
          <a:fontRef idx="minor"/>
        </p:style>
        <p:txBody>
          <a:bodyPr lIns="92160" rIns="92160" tIns="46080" bIns="46080" anchor="t">
            <a:noAutofit/>
          </a:bodyPr>
          <a:p>
            <a:pPr algn="ct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vember 8-12, 1999</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yatt Regency Kauai</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71 Poipu Road</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loa, HI 96756</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 Technology Organization</a:t>
            </a:r>
          </a:p>
        </p:txBody>
      </p:sp>
      <p:sp>
        <p:nvSpPr>
          <p:cNvPr id="3" name="PlaceHolder 2"/>
          <p:cNvSpPr>
            <a:spLocks noGrp="1"/>
          </p:cNvSpPr>
          <p:nvPr>
            <p:ph type="sldNum" idx="3"/>
          </p:nvPr>
        </p:nvSpPr>
        <p:spPr/>
        <p:txBody>
          <a:bodyPr/>
          <a:p>
            <a:fld id="{3FC61C74-CBFA-47C4-8AB9-7A8972CBAC5A}" type="slidenum">
              <a:t>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all Objectives of the Kauai Meeting of 802.15 - November 8-12, 1999</a:t>
            </a:r>
            <a:endParaRPr b="0" lang="en-US" sz="3600" spc="-1" strike="noStrike">
              <a:solidFill>
                <a:srgbClr val="000000"/>
              </a:solidFill>
              <a:latin typeface="Times New Roman"/>
            </a:endParaRPr>
          </a:p>
        </p:txBody>
      </p:sp>
      <p:sp>
        <p:nvSpPr>
          <p:cNvPr id="85"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E TO SUBMIT THE DRAFT TO WG LETTER BALLOT #1</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AN OVERVIEW OF THE IEEE 802.15 TG1 DRAFT V1.0 DERIVED FROM THE BLUETOOTH SPECIFICATION(S)</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MBIT COEXISTENCE SG PAR TO THE SEC FOR REVIEW AND APPROVAL</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BLISH A DRAFT MARKETING ACTION PLAN/TIMELINE</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DUCT A CALL FOR INTEREST TO FORM SGs ON HIGH AND LOW END WPANs</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AISON WITH 802.11 ON COEXISTENCE / REGULATORY ISSUE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8D844F1C-6499-4DF3-B157-8D4A3A4167BD}" type="slidenum">
              <a:t>3</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PLENARY CONFERENCE TUTORIAL #3, Tuesday,6:30PM TO 8:00PM</a:t>
            </a:r>
            <a:endParaRPr b="0" lang="en-US" sz="3200" spc="-1" strike="noStrike">
              <a:solidFill>
                <a:srgbClr val="000000"/>
              </a:solidFill>
              <a:latin typeface="Times New Roman"/>
            </a:endParaRPr>
          </a:p>
        </p:txBody>
      </p:sp>
      <p:sp>
        <p:nvSpPr>
          <p:cNvPr id="87" name="PlaceHolder 2"/>
          <p:cNvSpPr>
            <a:spLocks noGrp="1"/>
          </p:cNvSpPr>
          <p:nvPr>
            <p:ph/>
          </p:nvPr>
        </p:nvSpPr>
        <p:spPr>
          <a:xfrm>
            <a:off x="304920" y="1981080"/>
            <a:ext cx="8610480" cy="4114800"/>
          </a:xfrm>
          <a:prstGeom prst="rect">
            <a:avLst/>
          </a:prstGeom>
          <a:noFill/>
          <a:ln w="0">
            <a:noFill/>
          </a:ln>
        </p:spPr>
        <p:txBody>
          <a:bodyPr lIns="92160" rIns="92160" tIns="46080" bIns="46080" anchor="t">
            <a:normAutofit fontScale="99000"/>
          </a:bodyPr>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RODUCTION - Bob Heile, Chair 802.15</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VERVIEW OF THE P802.15 v1.0 DRAFT STANDARD</a:t>
            </a:r>
            <a:endParaRPr b="0" lang="en-US" sz="2000" spc="-1" strike="noStrike">
              <a:solidFill>
                <a:srgbClr val="000000"/>
              </a:solidFill>
              <a:latin typeface="Arial"/>
            </a:endParaRPr>
          </a:p>
          <a:p>
            <a:pPr lvl="1" marL="735480" indent="-28296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an Gifford, M/A COM</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LUETOOTH ARCHITECTURE OVERVIEW -99/069r0 </a:t>
            </a:r>
            <a:endParaRPr b="0" lang="en-US" sz="2000" spc="-1" strike="noStrike">
              <a:solidFill>
                <a:srgbClr val="000000"/>
              </a:solidFill>
              <a:latin typeface="Arial"/>
            </a:endParaRPr>
          </a:p>
          <a:p>
            <a:pPr lvl="1" marL="735480" indent="-28296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schik Bisdikian, IBM</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PPING THE BLUETOOTH SPEC. TO IEEE 802.15.1 -99/071r1</a:t>
            </a:r>
            <a:endParaRPr b="0" lang="en-US" sz="2000" spc="-1" strike="noStrike">
              <a:solidFill>
                <a:srgbClr val="000000"/>
              </a:solidFill>
              <a:latin typeface="Arial"/>
            </a:endParaRPr>
          </a:p>
          <a:p>
            <a:pPr lvl="1" marL="735480" indent="-28296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m Siep, Texas Instruments</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15.1 V1.0 DRAFT STANDARD OVERVIEW -99/125r0</a:t>
            </a:r>
            <a:endParaRPr b="0" lang="en-US" sz="2000" spc="-1" strike="noStrike">
              <a:solidFill>
                <a:srgbClr val="000000"/>
              </a:solidFill>
              <a:latin typeface="Arial"/>
            </a:endParaRPr>
          </a:p>
          <a:p>
            <a:pPr lvl="1" marL="735480" indent="-28296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m Siep, Texas Instruments</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UESTIONS &amp; ANSWERS</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39480" indent="-3394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OSING REMARKS -Ian Gifford, Vice Chair</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ACA7ABDB-E09C-45B5-AFC8-37664FCA83A1}" type="slidenum">
              <a:t>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5T15:36:20Z</dcterms:created>
  <dc:creator>Rober F. Heile</dc:creator>
  <dc:description>99/120r0</dc:description>
  <dc:language>en-US</dc:language>
  <cp:lastModifiedBy>Rober F. Heile</cp:lastModifiedBy>
  <cp:lastPrinted>1999-09-14T16:44:21Z</cp:lastPrinted>
  <dcterms:modified xsi:type="dcterms:W3CDTF">1999-11-08T18:23:35Z</dcterms:modified>
  <cp:revision>5</cp:revision>
  <dc:subject>IEEE 802.15 &lt;subject&gt;</dc:subject>
  <dc:title>No Slide Title</dc:title>
</cp:coreProperties>
</file>