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3ECB81-2AF6-4A4E-B3E6-350486B2C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1B6D06-297A-4BA8-ACFC-7F9C7F9CD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369EB7-9BEE-4AB5-9B9F-68A68AE6B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E3EB8B-907E-488E-A7D5-3FB139072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EB890C-5F68-42EE-B836-D80C5476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07CC37-ADF5-4DC8-A745-8805F3B8A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5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5560" y="44085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F54-71B7-4A16-8CDD-B02F85DE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2EF-1635-4806-85D6-78F116F9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F98-E535-4F0B-A8E5-40D59651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6B0-C343-41D5-AB10-1AD05E99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2ED-7C43-43DF-8280-729D0623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FCE-C3E6-467E-93D2-9F6144DD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CF1-DE14-466A-850E-958BCDB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21E-59BB-43D6-AB73-89702300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699-8389-4576-A996-8AF92582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C1B-A09C-46F0-9354-DC96A02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7AF-145D-4F3A-A917-C2504C3B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B94-8704-4919-9546-6DEDA307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0A13C7-6D3B-417C-9377-F324A602B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-IEEE Editorial Working Group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10C-7490-4DE6-9A63-2635B16DE4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343400"/>
            <a:ext cx="3886200" cy="53352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cope and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related standards and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, revise,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380988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fig4" descr=""/>
          <p:cNvPicPr/>
          <p:nvPr/>
        </p:nvPicPr>
        <p:blipFill>
          <a:blip r:embed="rId1"/>
          <a:stretch/>
        </p:blipFill>
        <p:spPr>
          <a:xfrm>
            <a:off x="6019920" y="1371600"/>
            <a:ext cx="1523880" cy="493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853040" y="373392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72400" y="400860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94F-3BB7-41C8-B84C-D46FF4575BA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510552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4343400"/>
            <a:ext cx="190512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- TG1 done by Dec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v99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00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00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fig1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802320" cy="438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4440" y="559260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b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924320" y="533376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F26-3143-4738-A60F-0AD26BEDCD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life for BT Editorial W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T Editorial Group plans to finish its IEEE Editorial lower layer  (OSI 1&amp;2) work in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SI is interested in the upper layer (OSI 3-7) this work may require this same or another WG inside of B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4120" y="2513160"/>
          <a:ext cx="33638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13160"/>
                    <a:ext cx="33638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4DE-B7F2-4330-807F-DF582EFA66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al of pr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of pre Draft Standard fo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pre Draft Standard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00 - Published approved Standard, available as early as Apr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6B1-3980-4722-AE8A-45182587D6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20720" y="1995480"/>
          <a:ext cx="5923080" cy="34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5480"/>
                    <a:ext cx="592308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0E2-6066-4579-A664-D860853AB7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Function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74720" y="1503360"/>
          <a:ext cx="7650000" cy="497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1503360"/>
                    <a:ext cx="76500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488-5444-4FFF-BB49-43A2D7FAE22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765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124080" y="1981080"/>
            <a:ext cx="2362320" cy="1067040"/>
          </a:xfrm>
          <a:prstGeom prst="leftArrow">
            <a:avLst>
              <a:gd name="adj1" fmla="val 50000"/>
              <a:gd name="adj2" fmla="val 5534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4E2-EC27-4240-B6F5-067F8141DF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80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590-B968-4DA4-9A03-137861AD82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Draft Standard Submission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732200" y="2514600"/>
          <a:ext cx="4259520" cy="27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2200" y="2514600"/>
                    <a:ext cx="425952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9720" y="2513160"/>
          <a:ext cx="3364200" cy="19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2513160"/>
                    <a:ext cx="336420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21337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63B-7D1F-4C2E-A987-32079B45AF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Group 1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5BF-E7F4-41A1-8C35-0BB9DAF9FD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3886200"/>
            <a:ext cx="3886200" cy="647640"/>
          </a:xfrm>
          <a:prstGeom prst="rect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re - TG1 i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Jun97 - Idea for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8 - Find Spo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99 - Submit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99 - Approve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99 - Organiz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99 - Develop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Ballot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Approve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 Publish approv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72480" y="2006640"/>
            <a:ext cx="1904760" cy="91440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ig1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1960" cy="4384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53040" y="14018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153280" y="1676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and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165-85DB-4DE5-82CC-42338F33FD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6:10:17Z</dcterms:created>
  <dc:creator>Ian C. Gifford</dc:creator>
  <dc:description>068r0</dc:description>
  <dc:language>en-US</dc:language>
  <cp:lastModifiedBy>Ian C. Gifford</cp:lastModifiedBy>
  <cp:lastPrinted>1998-02-10T13:28:06Z</cp:lastPrinted>
  <dcterms:modified xsi:type="dcterms:W3CDTF">1999-09-13T05:49:26Z</dcterms:modified>
  <cp:revision>24</cp:revision>
  <dc:subject>IEEE 802.15 Liaison</dc:subject>
  <dc:title>Bluetooth-IEEE Editorial Working Group Report #1</dc:title>
</cp:coreProperties>
</file>