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9336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3467160" y="97200"/>
            <a:ext cx="28144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654120" y="97200"/>
            <a:ext cx="27367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52000" y="701280"/>
            <a:ext cx="4629240" cy="346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3771720" y="8984880"/>
            <a:ext cx="2509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2933280" y="8984880"/>
            <a:ext cx="8017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2C964EAC-7C8C-4111-A1B1-9C4B1F3936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23960" y="8985240"/>
            <a:ext cx="711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23960" y="8983800"/>
            <a:ext cx="5486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640" y="29700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nks for pitching this report -99/64r0 on Monday at 9:19am to the P802.15 Full W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itch is specifically for the following agenda -99/54r2  ite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3.3 II REPORT ON TG1 ACTIVITIES AND PLANS - GIFFORD 10 09:19 A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will update this report to r1 and r2 for Wednesday &amp; Friday Full WG Updates.  I will need help on the Friday Report to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st Regard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FB6E-E0C2-44C0-AEEC-448A532CE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ED4C-6776-40BB-88E7-9AC5F17F0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D4C1-F00D-41AC-8B75-ADCCB9E81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0F4E-D646-4CCA-B859-26008F41F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82ED-436D-4721-B518-A52D24ECA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EE24-6526-4DD6-B903-C7FEB51EB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F85F-BEBA-4A5C-8FE3-017DC8DEB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1666-3DDA-4D66-B30D-402AAEEE3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9C5A-5070-41D7-8139-E85897BF1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B5E7-8244-421F-9DA1-4F9347868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FA7E-7A6B-46B7-9459-4AAA59923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3613-F0BA-48AC-9134-02F2D65E2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E0BBD615-44B4-4D4D-9C96-C365BCF0DD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064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EEE P802.15 Working Group for Wireless Personal Area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G1 Report #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 &amp; 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0680-195E-41A8-B599-48B06B6ED846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G1 Timeline - Plan A &amp;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view of Montre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view of TG1 activities from 9Jul99 to 13Sep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mary of Santa Ros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mi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 &amp; 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733F-7243-42BE-B854-8109204C282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G1 Timeline - Plan 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60Ka" descr=""/>
          <p:cNvPicPr/>
          <p:nvPr/>
        </p:nvPicPr>
        <p:blipFill>
          <a:blip r:embed="rId1"/>
          <a:stretch/>
        </p:blipFill>
        <p:spPr>
          <a:xfrm>
            <a:off x="77760" y="2076480"/>
            <a:ext cx="8977320" cy="26431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743200" y="4114800"/>
            <a:ext cx="685800" cy="228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752480" y="4191120"/>
            <a:ext cx="114300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53320" y="5133960"/>
            <a:ext cx="8288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1.4.2.2 Voting by Letter Ballots... The [WG] letter ballot response time must be at least forty day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rom the time of “sending” postmark to the postmark of the returned ballo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 &amp; Ian Gifford, M/A-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001D-9C9A-4BB2-8E51-EBCC578E2208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G1 Timeline - Plan 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30Kb" descr=""/>
          <p:cNvPicPr/>
          <p:nvPr/>
        </p:nvPicPr>
        <p:blipFill>
          <a:blip r:embed="rId1"/>
          <a:stretch/>
        </p:blipFill>
        <p:spPr>
          <a:xfrm>
            <a:off x="101520" y="2076480"/>
            <a:ext cx="8931240" cy="27082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848040" y="4165560"/>
            <a:ext cx="685800" cy="228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2895480" y="4267080"/>
            <a:ext cx="114300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062360" y="5130720"/>
            <a:ext cx="721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 would like to consider a rapid turn around on the Letter Ballot e.g., 14 vs. 40 day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 &amp; Ian Gifford, M/A-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39A6-2269-406C-80B0-FFB03E0AF21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verview of Montre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hanks to your spirited involvement, it was quite a successful kick-off meeting. Over 60 people attended the meeting.  39 achieved voting status...and we formed a Task Group, headed by Ian Gifford, to begin the work of rapidly developing our first draft standard.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ob He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 &amp; 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8207-4BC1-4FFF-93D0-23C13BB02CB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view of TG1 activities from 9Jul99 to 13Sep9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ablished effort driven work in TG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ted contact w/ Bluetooth-IEEE Editorial Working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ed in IEEE/ETSI/Bluetooth Liaison Me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pared submissions for Santa Ro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d AC during weekly telec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 &amp; 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DA48-25BD-4A33-91C2-CBAC654F05E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anta Rosa - Objectiv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KICK OFF WORK ON TG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VOTE ON REMAINING TG1 OFFIC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PROVIDE AN UPDATE ON TG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PROVIDE AN OVERVIEW OF THE BLUETOOTH SPECIFICATION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PLAN FOR or OVERVIEW INITIAL DRAFT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 VOTE TO SUBMIT THE DRAFT TO WG LETTER BALLOT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 VOTE TO REVIEW THE COMMENTS FROM WG LB #1 IN NOV99 PLEN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4343400"/>
            <a:ext cx="20574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 &amp; 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ACF4-A70D-488C-86B2-0F9CF8BA441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anta Rosa - Submiss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enty-four (24) Submis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 (6) Bluetooth Liais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sting an Interim Conference Tutorial on Tuesday 14Sep99 from 6:30 to 9:00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ing a detailed overview of the “Mapping the Bluetooth Specification to IEEE 802.15.1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 &amp; 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85FE-63DB-41C3-AE38-F6243AF2523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654280" y="4648320"/>
            <a:ext cx="1460520" cy="99036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616120" y="1968480"/>
            <a:ext cx="2463840" cy="12193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816520" y="2514600"/>
            <a:ext cx="1575000" cy="21463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641680" y="3200400"/>
            <a:ext cx="711000" cy="14479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27000" y="4216320"/>
            <a:ext cx="1702080" cy="4320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anta Rosa - TG1 Ses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69560" y="1314360"/>
            <a:ext cx="8963280" cy="52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----|-------------|-----------|-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Monday    |  Tuesday  |Wednesday    |   Thursday |   Friday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----|-------------|-----------|-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Full 802.15 |    TG1    | TG1   ! SG  |    MC      |Full 802.15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AM |.............|           |       !     |............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MC  ! SG  |           |       !     |          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   !     |           |       !     |    TG1     |............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----|-------------|-----------|-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  SG     | TG1 ! SG  | Joint.11/.15|    TG1   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         |     !     |.............|          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PM |             |     !     |             |          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.............|     !     | Full 802.15 |          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 TG1     |     !     |             |          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----|-------------|-----------|-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Eve-|             | Bluetooth |   Social    | Pizza Party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ning|             |  Tutorial |             |     &amp;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         |6:30p-8:00p|             | Doc Editing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----|-------------|-----------|-------------|------------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egend:   ......... = flexible adjournment/Sta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G1 = Bluetooth Submission, SG = Coexistence, MC = Mark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28600" y="762120"/>
            <a:ext cx="228600" cy="2286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59720" y="762120"/>
            <a:ext cx="177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Task Group 1 in se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 &amp; Ian Gifford, M/A-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0320-AD91-4C5F-BF2D-47866F5EEDE4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2T05:58:24Z</dcterms:created>
  <dc:creator>Ian C. Gifford</dc:creator>
  <dc:description>064r1</dc:description>
  <dc:language>en-US</dc:language>
  <cp:lastModifiedBy>Ian C. Gifford</cp:lastModifiedBy>
  <cp:lastPrinted>1998-02-10T13:28:06Z</cp:lastPrinted>
  <dcterms:modified xsi:type="dcterms:W3CDTF">1999-09-13T02:40:44Z</dcterms:modified>
  <cp:revision>12</cp:revision>
  <dc:subject>IEEE 802.15 TG1 Report #1</dc:subject>
  <dc:title>IEEE P802.15 Working Group for Wireless Personal Area Networks</dc:title>
</cp:coreProperties>
</file>