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F604-3EF7-4567-BDE7-6B59FFBB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A487-4A31-49BE-9568-A4EB961F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6CE4-5644-49F1-B08F-16AFD81F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F8CD-6CE0-4EE0-8343-C36D0A12F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1401-4645-457F-884F-E31F4A2E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85C9-74BC-4111-BCDC-1A79ACFB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D29D-A8E5-4649-920B-04510DB8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45C7-22F5-45A0-A31B-B8B8AB51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BD5F-D231-44F2-8094-86CA1DF5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26C3-B64C-40A6-A708-B5877AAE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A343-59C5-4424-8C99-A08C29C4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D3ED-DB19-409B-8528-7714813E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FE21113-559F-4607-9465-BE04E1DCA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108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uai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 8-11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C4DA-D56F-4713-81F7-864BC609AAB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74560" y="685800"/>
            <a:ext cx="576324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genda –Tuesday, November 9, 1999       Defer to new High Rate Grou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genda-Wednesday, November 10, 1999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8:30 - 10:30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Meeting to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endance check- introduc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view of Marketing committee charter/objectiv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vents and progress since July/September meet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posed tasks for the week in Kaua’i, Hawa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Discuss Submission -99/13xr0, An update on the  “ TG1 requests to MC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Discuss Submission -99/13xr0, An update on “P802.15.1 MARCOM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g., SIG, Collateral, "Handbook to P802.15.1 Project", Un-plugfest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greement on tasks and individual/group assignments for Thurs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sub-committee meeting arrangements as need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genda-Thursday, November 11, 1999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8:30 - 10:30 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Meeting to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inuation of above i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por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mmendation on MC char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view preparations for Thursday .15 ful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709B-277E-47B3-A170-09D499CEA4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s of the WPAN Marketing 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 and maintain the application and usage scenarios generated by the CF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 the formulation of documentation that clearly &amp; distinctly differentiates the purposes and services of the various IEEE WPA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the dissemination of information about IEEE 802.15 Working Group activities internally (among 802 working groups) and externally (among the electronics industr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802.15 task groups in reaching convergence and consensus on technical require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how best to promote the public demonstration of interoperability between products built using 802.15 standar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nd maintain liaisons with other selected industry marketing groups (e.g. Bluetooth, HomeRF) and standards bodies (e.g ETS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ster two-way communications between suppliers and consumers of WPAN produc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urage and foster creation of value-added industry marketing groups as appropriate (e.g. Gigabit Ethernet Alliance, http://www.gigabit-Ethernet.org/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82E1-2534-4354-A2BD-F5B74B085A6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8T16:56:24Z</dcterms:created>
  <dc:creator>Ian Gifford, M/A-COM &amp; Bruce Kraemer, Harris</dc:creator>
  <dc:description>031r1</dc:description>
  <dc:language>en-US</dc:language>
  <cp:lastModifiedBy>Ian C. Gifford</cp:lastModifiedBy>
  <cp:lastPrinted>1998-02-10T13:28:06Z</cp:lastPrinted>
  <dcterms:modified xsi:type="dcterms:W3CDTF">1999-11-08T23:08:28Z</dcterms:modified>
  <cp:revision>46</cp:revision>
  <dc:subject>IEEE 802.15 Marketing</dc:subject>
  <dc:title>IEEE P802.15 Working Group for Wireless Personal Area Networks</dc:title>
</cp:coreProperties>
</file>