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D4E3A-C143-4059-A229-BB09F50DB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1414C-BE39-4D28-B4EC-431F3ABF4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6FDB2-2654-4A71-87F2-5E3413EE3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FBEEE-0DC6-4370-9698-5099EA06F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3DC4-B0B8-4415-B656-E365E93C3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1B6D6-B8C2-4AEE-AEA7-10D49A257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FD5DB-C5C0-412C-8B5C-0AE4E0D9D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0477-0E2A-44A8-B7A0-BF93182B4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1AF3B-FB87-421A-A5C4-452F6F271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DF81-7E7A-4A12-8CEC-289A05F84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4C48-C628-4992-9CDF-0E892B675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490A8-4E18-44A6-B6FD-2897BA81B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C46D75-AC74-4372-866D-DF36126EB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23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Ad Hoc WPAN-High Rate meeting Agend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genda for Ad Hoc Meeting on High Rate WAP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A9366E37-10F4-4907-A2A8-11326411C345}"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da</a:t>
            </a:r>
            <a:br>
              <a:rPr sz="2800"/>
            </a:br>
            <a:r>
              <a:rPr b="0" lang="en-US" sz="2800" spc="-1" strike="noStrike">
                <a:solidFill>
                  <a:srgbClr val="000000"/>
                </a:solidFill>
                <a:latin typeface="Times New Roman"/>
              </a:rPr>
              <a:t>WPAN - High Rate SG (Ad Hoc)</a:t>
            </a:r>
            <a:br>
              <a:rPr sz="2800"/>
            </a:br>
            <a:r>
              <a:rPr b="0" lang="en-US" sz="1600" spc="-1" strike="noStrike">
                <a:solidFill>
                  <a:srgbClr val="000000"/>
                </a:solidFill>
                <a:latin typeface="Times New Roman"/>
              </a:rPr>
              <a:t>Tuesday Nov. 9, 1999</a:t>
            </a:r>
            <a:endParaRPr b="0" lang="en-US" sz="1600" spc="-1" strike="noStrike">
              <a:solidFill>
                <a:srgbClr val="000000"/>
              </a:solidFill>
              <a:latin typeface="Times New Roman"/>
            </a:endParaRPr>
          </a:p>
        </p:txBody>
      </p:sp>
      <p:sp>
        <p:nvSpPr>
          <p:cNvPr id="47"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o ord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s and collection of nam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Wednesday’s present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 Sess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k discussion on merits/problems/concer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sub-teams and lea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actions and meetings for SG (for next 4 month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ourn</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CE27BFF7-8636-4228-ABFD-F5D33F8EADC3}"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01:41:43Z</dcterms:created>
  <dc:creator>Jim Allen</dc:creator>
  <dc:description>99/133r0</dc:description>
  <dc:language>en-US</dc:language>
  <cp:lastModifiedBy>Rober F. Heile</cp:lastModifiedBy>
  <cp:lastPrinted>1998-02-10T13:28:06Z</cp:lastPrinted>
  <dcterms:modified xsi:type="dcterms:W3CDTF">1999-11-09T15:36:26Z</dcterms:modified>
  <cp:revision>2</cp:revision>
  <dc:subject>IEEE 802.15 &lt;subject&gt;</dc:subject>
  <dc:title>Ad Hoc WPAN-High Rate Agenda-Nov 9, 1999</dc:title>
</cp:coreProperties>
</file>