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BDE76-C07E-42F5-9BBF-5FB1B4084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72CB1-0F62-4112-AAD7-B34136A0C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21A02-268F-46F9-8514-1011C77EE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D1651-7DCD-43F1-AB3A-87554E880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93F53-1945-4EDE-B9A6-C4CA518E3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03239-AFE3-41E6-A046-A8E720428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B6C85-160A-4E98-A8A1-166FC98BC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5273D-05A1-4EE1-9054-270BA57D8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DB85A-26ED-437C-8AEC-3B36B7B3C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5A8E-9673-4D2D-B33C-C2CA800F5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21C89-BE1B-4ABC-87D9-7B4262E9D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E4ED-BEFA-4996-9FD6-9726D08E0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CA0E4F-B600-4FB2-BA98-6405B6E07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F090463-9B2D-4604-AD42-6E00853C93C2}"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43040" y="80028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 (cont.)</a:t>
            </a:r>
            <a:br>
              <a:rPr sz="3600"/>
            </a:br>
            <a:endParaRPr b="0" lang="en-US" sz="3600" spc="-1" strike="noStrike">
              <a:solidFill>
                <a:srgbClr val="000000"/>
              </a:solidFill>
              <a:latin typeface="Times New Roman"/>
            </a:endParaRPr>
          </a:p>
        </p:txBody>
      </p:sp>
      <p:sp>
        <p:nvSpPr>
          <p:cNvPr id="93" name=""/>
          <p:cNvSpPr/>
          <p:nvPr/>
        </p:nvSpPr>
        <p:spPr>
          <a:xfrm>
            <a:off x="533520" y="2228760"/>
            <a:ext cx="8362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ynchronous or connection-less data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PAN’s in the same area (20 within 400 square fe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existence of multiple Wireless Systems such as  P802.11 in the sam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Network Access Control</a:t>
            </a:r>
            <a:endParaRPr b="0" lang="en-US" sz="3200" spc="-1" strike="noStrike">
              <a:solidFill>
                <a:srgbClr val="000000"/>
              </a:solidFill>
              <a:latin typeface="Times New Roman"/>
            </a:endParaRPr>
          </a:p>
        </p:txBody>
      </p:sp>
      <p:sp>
        <p:nvSpPr>
          <p:cNvPr id="9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BA0654D2-0F14-4661-8BEA-A1FEF102512F}"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2247840"/>
            <a:ext cx="8763120" cy="281952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0-10 meter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support for a minimum of 16 devices</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within one (1) second, once within range</a:t>
            </a:r>
            <a:endParaRPr b="0" lang="en-US" sz="3200" spc="-1" strike="noStrike">
              <a:solidFill>
                <a:srgbClr val="000000"/>
              </a:solidFill>
              <a:latin typeface="Times New Roman"/>
            </a:endParaRPr>
          </a:p>
          <a:p>
            <a:pPr marL="315360" indent="-31536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dge or Gateway connectivity to other data networks</a:t>
            </a:r>
            <a:endParaRPr b="0" lang="en-US" sz="3200" spc="-1" strike="noStrike">
              <a:solidFill>
                <a:srgbClr val="000000"/>
              </a:solidFill>
              <a:latin typeface="Times New Roman"/>
            </a:endParaRPr>
          </a:p>
        </p:txBody>
      </p:sp>
      <p:sp>
        <p:nvSpPr>
          <p:cNvPr id="96" name=""/>
          <p:cNvSpPr/>
          <p:nvPr/>
        </p:nvSpPr>
        <p:spPr>
          <a:xfrm>
            <a:off x="609480" y="10666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a:t>
            </a:r>
            <a:br>
              <a:rPr sz="3600"/>
            </a:br>
            <a:endParaRPr b="0" lang="en-US" sz="3600" spc="-1" strike="noStrike">
              <a:solidFill>
                <a:srgbClr val="000000"/>
              </a:solidFill>
              <a:latin typeface="Times New Roman"/>
            </a:endParaRPr>
          </a:p>
        </p:txBody>
      </p:sp>
      <p:sp>
        <p:nvSpPr>
          <p:cNvPr id="9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4D39F6F-7EEC-421F-848F-5D91570721A4}"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242892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ed Data Throughput at the MAC SAP: (19.2 - 100) kbit/s (actual 1 device to 1 de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vices within a WPAN must be able to communicate with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 QoS to support a variety of traffic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and connection-oriented links</a:t>
            </a:r>
            <a:endParaRPr b="0" lang="en-US" sz="3200" spc="-1" strike="noStrike">
              <a:solidFill>
                <a:srgbClr val="000000"/>
              </a:solidFill>
              <a:latin typeface="Times New Roman"/>
            </a:endParaRPr>
          </a:p>
        </p:txBody>
      </p:sp>
      <p:sp>
        <p:nvSpPr>
          <p:cNvPr id="99" name=""/>
          <p:cNvSpPr/>
          <p:nvPr/>
        </p:nvSpPr>
        <p:spPr>
          <a:xfrm>
            <a:off x="738360" y="81756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B” List (cont.)</a:t>
            </a:r>
            <a:endParaRPr b="0" lang="en-US" sz="36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F13BB28-7C89-4E33-B6D7-46161D8F22DA}"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C” List</a:t>
            </a:r>
            <a:endParaRPr b="0" lang="en-US" sz="3600" spc="-1" strike="noStrike">
              <a:solidFill>
                <a:srgbClr val="000000"/>
              </a:solidFill>
              <a:latin typeface="Times New Roman"/>
            </a:endParaRPr>
          </a:p>
        </p:txBody>
      </p:sp>
      <p:sp>
        <p:nvSpPr>
          <p:cNvPr id="102" name=""/>
          <p:cNvSpPr/>
          <p:nvPr/>
        </p:nvSpPr>
        <p:spPr>
          <a:xfrm>
            <a:off x="781200" y="234324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0327FB8-FDBD-4544-B2B3-C4E8D5A170B2}" type="slidenum">
              <a:t>1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5225451-2440-4FDE-8EF0-C7F7D1DAD2A2}"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Spec-June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Spec Dec 98/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SG--</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CE4F6AB-BC03-4650-91C7-75D902EE59C2}"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F61D382D-193E-429E-980B-2C91587C40A9}" type="slidenum">
              <a:t>16</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112" name=""/>
          <p:cNvGrpSpPr/>
          <p:nvPr/>
        </p:nvGrpSpPr>
        <p:grpSpPr>
          <a:xfrm>
            <a:off x="339840" y="3376440"/>
            <a:ext cx="8559000" cy="801720"/>
            <a:chOff x="339840" y="3376440"/>
            <a:chExt cx="8559000" cy="801720"/>
          </a:xfrm>
        </p:grpSpPr>
        <p:sp>
          <p:nvSpPr>
            <p:cNvPr id="113"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4"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5"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6"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7"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19"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339840" y="5041800"/>
            <a:ext cx="8229600" cy="801720"/>
            <a:chOff x="339840" y="5041800"/>
            <a:chExt cx="8229600" cy="801720"/>
          </a:xfrm>
        </p:grpSpPr>
        <p:sp>
          <p:nvSpPr>
            <p:cNvPr id="121"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22"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23"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4"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5"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26"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28"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29" name=""/>
          <p:cNvGrpSpPr/>
          <p:nvPr/>
        </p:nvGrpSpPr>
        <p:grpSpPr>
          <a:xfrm>
            <a:off x="339840" y="2563920"/>
            <a:ext cx="8424360" cy="801720"/>
            <a:chOff x="339840" y="2563920"/>
            <a:chExt cx="8424360" cy="801720"/>
          </a:xfrm>
        </p:grpSpPr>
        <p:sp>
          <p:nvSpPr>
            <p:cNvPr id="130"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1"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2"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3"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4"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36"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37" name=""/>
          <p:cNvGrpSpPr/>
          <p:nvPr/>
        </p:nvGrpSpPr>
        <p:grpSpPr>
          <a:xfrm>
            <a:off x="339840" y="4203720"/>
            <a:ext cx="8229600" cy="801720"/>
            <a:chOff x="339840" y="4203720"/>
            <a:chExt cx="8229600" cy="801720"/>
          </a:xfrm>
        </p:grpSpPr>
        <p:sp>
          <p:nvSpPr>
            <p:cNvPr id="138"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9"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40"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1"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42"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43"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44"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46"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47" name=""/>
          <p:cNvSpPr/>
          <p:nvPr/>
        </p:nvSpPr>
        <p:spPr>
          <a:xfrm flipH="1" flipV="1">
            <a:off x="2930040" y="4014360"/>
            <a:ext cx="2971800" cy="878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3083040" y="4014720"/>
            <a:ext cx="3774960" cy="5572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2819160" y="4014720"/>
            <a:ext cx="10666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339840" y="1574640"/>
            <a:ext cx="8246160" cy="992520"/>
            <a:chOff x="339840" y="1574640"/>
            <a:chExt cx="8246160" cy="992520"/>
          </a:xfrm>
        </p:grpSpPr>
        <p:sp>
          <p:nvSpPr>
            <p:cNvPr id="151"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52"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53"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4"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55"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57"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158"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159"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60"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61" name=""/>
          <p:cNvSpPr/>
          <p:nvPr/>
        </p:nvSpPr>
        <p:spPr>
          <a:xfrm>
            <a:off x="762120" y="6400800"/>
            <a:ext cx="12952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63"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64" name=""/>
          <p:cNvSpPr/>
          <p:nvPr/>
        </p:nvSpPr>
        <p:spPr>
          <a:xfrm>
            <a:off x="2362320" y="64008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166" name=""/>
          <p:cNvSpPr/>
          <p:nvPr/>
        </p:nvSpPr>
        <p:spPr>
          <a:xfrm>
            <a:off x="4092480" y="6400800"/>
            <a:ext cx="129564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053413D-8DB6-470B-AEBA-403F05000A38}" type="slidenum">
              <a:t>1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sk Group vs Working Group</a:t>
            </a:r>
            <a:endParaRPr b="0" lang="en-US" sz="4400" spc="-1" strike="noStrike">
              <a:solidFill>
                <a:srgbClr val="000000"/>
              </a:solidFill>
              <a:latin typeface="Times New Roman"/>
            </a:endParaRPr>
          </a:p>
        </p:txBody>
      </p:sp>
      <p:sp>
        <p:nvSpPr>
          <p:cNvPr id="168" name="PlaceHolder 2"/>
          <p:cNvSpPr>
            <a:spLocks noGrp="1"/>
          </p:cNvSpPr>
          <p:nvPr>
            <p:ph/>
          </p:nvPr>
        </p:nvSpPr>
        <p:spPr>
          <a:xfrm>
            <a:off x="457200" y="1676520"/>
            <a:ext cx="86868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802.11 WG and the WPAN SG:</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need for a WPAN Standard</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that there is a strong market demand for a consumer-cost, low power solution</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a PAR to accomplish that task</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d on the importance of Coexistence and the need for etiquette  in the use of a shared medium</a:t>
            </a: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agree </a:t>
            </a:r>
            <a:r>
              <a:rPr b="0" lang="en-US" sz="2800" spc="-1" strike="noStrike">
                <a:solidFill>
                  <a:srgbClr val="000000"/>
                </a:solidFill>
                <a:latin typeface="Times New Roman"/>
              </a:rPr>
              <a:t>on the venue to best create a WPAN Standar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923890A-423B-4159-A3E7-D5883B71691B}"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Hypotheses</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WPAN Standard that does not involve Bluetooth as a participant will have a tough time gaining market acceptance</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independent efforts will aggravate coexistence and interference issue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8749413-2447-455E-90DF-1868A97FCF56}"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Background</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ed as an Ad Hoc group under PASC in June 1997- led by Dick Braley, Fede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ed to a Study Group under 802.11 within LMSC in March 19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me a full Working Group of 802 in March 19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1F3614D-7EC6-4C68-98D7-5EC96121B03E}"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ratives for Success</a:t>
            </a:r>
            <a:endParaRPr b="0" lang="en-US" sz="4400" spc="-1" strike="noStrike">
              <a:solidFill>
                <a:srgbClr val="000000"/>
              </a:solidFill>
              <a:latin typeface="Times New Roman"/>
            </a:endParaRPr>
          </a:p>
        </p:txBody>
      </p:sp>
      <p:sp>
        <p:nvSpPr>
          <p:cNvPr id="172"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8000"/>
          </a:bodyPr>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that can attract members who feel they have equal standing</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get active participation from Members of Bluetooth, HomeRF/Firefly, 802.11, etc</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forum which can take a fresh look, evaluate different proposals and find compromise solutions that address broad market applicability as well as technical merits</a:t>
            </a:r>
            <a:endParaRPr b="0" lang="en-US" sz="2800" spc="-1" strike="noStrike">
              <a:solidFill>
                <a:srgbClr val="000000"/>
              </a:solidFill>
              <a:latin typeface="Times New Roman"/>
            </a:endParaRPr>
          </a:p>
          <a:p>
            <a:pPr marL="301680" indent="-3016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d is of the essence--1-2years maximum</a:t>
            </a:r>
            <a:endParaRPr b="0" lang="en-US" sz="2800" spc="-1" strike="noStrike">
              <a:solidFill>
                <a:srgbClr val="000000"/>
              </a:solidFill>
              <a:latin typeface="Times New Roman"/>
            </a:endParaRPr>
          </a:p>
          <a:p>
            <a:pPr lvl="1" marL="65376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6FAADB5-A245-478E-959B-D5687B28E3EA}"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antages of a WG</a:t>
            </a:r>
            <a:endParaRPr b="0" lang="en-US" sz="4400" spc="-1" strike="noStrike">
              <a:solidFill>
                <a:srgbClr val="000000"/>
              </a:solidFill>
              <a:latin typeface="Times New Roman"/>
            </a:endParaRPr>
          </a:p>
        </p:txBody>
      </p:sp>
      <p:sp>
        <p:nvSpPr>
          <p:cNvPr id="174" name="PlaceHolder 2"/>
          <p:cNvSpPr>
            <a:spLocks noGrp="1"/>
          </p:cNvSpPr>
          <p:nvPr>
            <p:ph/>
          </p:nvPr>
        </p:nvSpPr>
        <p:spPr>
          <a:xfrm>
            <a:off x="762120" y="2057400"/>
            <a:ext cx="807696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the stature required to work more effectively with significant external groups</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to act as the agent of compromi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ater freedom of action</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ular purpose promotes speed and efficienc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45FF068-4A47-4D2C-99C7-BCC4E35341EB}"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ttom Line</a:t>
            </a:r>
            <a:endParaRPr b="0" lang="en-US" sz="4400" spc="-1" strike="noStrike">
              <a:solidFill>
                <a:srgbClr val="000000"/>
              </a:solidFill>
              <a:latin typeface="Times New Roman"/>
            </a:endParaRPr>
          </a:p>
        </p:txBody>
      </p:sp>
      <p:sp>
        <p:nvSpPr>
          <p:cNvPr id="176" name="PlaceHolder 2"/>
          <p:cNvSpPr>
            <a:spLocks noGrp="1"/>
          </p:cNvSpPr>
          <p:nvPr>
            <p:ph/>
          </p:nvPr>
        </p:nvSpPr>
        <p:spPr>
          <a:xfrm>
            <a:off x="228600" y="1447920"/>
            <a:ext cx="8686800" cy="4114800"/>
          </a:xfrm>
          <a:prstGeom prst="rect">
            <a:avLst/>
          </a:prstGeom>
          <a:noFill/>
          <a:ln w="0">
            <a:noFill/>
          </a:ln>
        </p:spPr>
        <p:txBody>
          <a:bodyPr lIns="92160" rIns="92160" tIns="46080" bIns="46080" anchor="t">
            <a:normAutofit fontScale="90000"/>
          </a:bodyPr>
          <a:p>
            <a:pPr marL="3085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ongly urge the SEC to pass a motion to form a WPAN Working Group</a:t>
            </a:r>
            <a:endParaRPr b="0" lang="en-US" sz="32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effective compromise solutions is imperative to shared use, interoperability, success and acceptance.</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rception of balance needs to be assured.</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ssue is not whether a lite version of .11 can do the job, more important is market acceptance of a standard that does the job.</a:t>
            </a:r>
            <a:endParaRPr b="0" lang="en-US" sz="2400" spc="-1" strike="noStrike">
              <a:solidFill>
                <a:srgbClr val="000000"/>
              </a:solidFill>
              <a:latin typeface="Times New Roman"/>
            </a:endParaRPr>
          </a:p>
          <a:p>
            <a:pPr marL="308520" indent="-30852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WPAN standards are likely to address this spa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D57B3F8-B537-4935-BC9C-44F30ABF85C6}"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802.15 Working Group on Wireless Personal Area Networks approved March 18, 1999</a:t>
            </a:r>
            <a:endParaRPr b="0" lang="en-US" sz="32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tin, TX, April 14, 1999 - IEEE P802 LAN/MAN Standards Committee (LMSC) is pleased to announce the formation of a new Working Group to develop standards for Wireless Personal Area Networks for portable and mobile computing devices. Portable and mobile computing devices are defined as unobtrusive computing devices, networking devices, software and peripherals which are worn or carried by individuals to enhance their ability to perform productive work as well as provide entertainment.</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group is designated P802.15 Working Group on Wireless Personal Area Networks. The Standards created by P802.15 will address the requirements for Wireless Personal Area Networking (WPAN) of PCs, PDAs, peripherals, cell phones, pagers and consumer electronic devices to communicate and interoperate with one another. </a:t>
            </a:r>
            <a:endParaRPr b="0" lang="en-US" sz="2000" spc="-1" strike="noStrike">
              <a:solidFill>
                <a:srgbClr val="000000"/>
              </a:solidFill>
              <a:latin typeface="Times New Roman"/>
            </a:endParaRPr>
          </a:p>
        </p:txBody>
      </p:sp>
      <p:sp>
        <p:nvSpPr>
          <p:cNvPr id="179" name=""/>
          <p:cNvSpPr/>
          <p:nvPr/>
        </p:nvSpPr>
        <p:spPr>
          <a:xfrm>
            <a:off x="586800" y="6095880"/>
            <a:ext cx="66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tandards.ieee.org/announcements/802.15.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DDEF666-2A3B-4588-95E2-6E256A4A5FF2}"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EA6207D-92EB-475D-A506-95A2B5F2C0A9}"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5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7BA8292A-4243-4D32-A240-12A78B0DB7F9}" type="slidenum">
              <a:t>4</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5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5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6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6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6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6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6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58E20DF-6EDC-4A3D-9652-3B5AD79C9C52}"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6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87D236F-1503-4EA6-96AD-9128C5B961CA}"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72" name="" descr=""/>
          <p:cNvPicPr/>
          <p:nvPr/>
        </p:nvPicPr>
        <p:blipFill>
          <a:blip r:embed="rId1"/>
          <a:stretch/>
        </p:blipFill>
        <p:spPr>
          <a:xfrm>
            <a:off x="7559640" y="2057400"/>
            <a:ext cx="1432080" cy="1157400"/>
          </a:xfrm>
          <a:prstGeom prst="rect">
            <a:avLst/>
          </a:prstGeom>
          <a:ln w="0">
            <a:noFill/>
          </a:ln>
        </p:spPr>
      </p:pic>
      <p:pic>
        <p:nvPicPr>
          <p:cNvPr id="73" name="" descr=""/>
          <p:cNvPicPr/>
          <p:nvPr/>
        </p:nvPicPr>
        <p:blipFill>
          <a:blip r:embed="rId2"/>
          <a:stretch/>
        </p:blipFill>
        <p:spPr>
          <a:xfrm>
            <a:off x="7607160" y="4343400"/>
            <a:ext cx="1308240" cy="1405080"/>
          </a:xfrm>
          <a:prstGeom prst="rect">
            <a:avLst/>
          </a:prstGeom>
          <a:ln w="0">
            <a:noFill/>
          </a:ln>
        </p:spPr>
      </p:pic>
      <p:pic>
        <p:nvPicPr>
          <p:cNvPr id="74" name="" descr=""/>
          <p:cNvPicPr/>
          <p:nvPr/>
        </p:nvPicPr>
        <p:blipFill>
          <a:blip r:embed="rId3"/>
          <a:stretch/>
        </p:blipFill>
        <p:spPr>
          <a:xfrm>
            <a:off x="5794200" y="2755800"/>
            <a:ext cx="1673280" cy="2502000"/>
          </a:xfrm>
          <a:prstGeom prst="rect">
            <a:avLst/>
          </a:prstGeom>
          <a:ln w="0">
            <a:noFill/>
          </a:ln>
        </p:spPr>
      </p:pic>
      <p:sp>
        <p:nvSpPr>
          <p:cNvPr id="75"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76"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77"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78"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79"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373FBE9-C1F7-4BFF-8E0B-A0BE4E3982F7}"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81" name=""/>
          <p:cNvGraphicFramePr/>
          <p:nvPr/>
        </p:nvGraphicFramePr>
        <p:xfrm>
          <a:off x="426960" y="2128680"/>
          <a:ext cx="8336160" cy="1986120"/>
        </p:xfrm>
        <a:graphic>
          <a:graphicData uri="http://schemas.openxmlformats.org/presentationml/2006/ole">
            <p:oleObj progId="Excel.Sheet.12" r:id="rId1" spid="">
              <p:embed/>
              <p:pic>
                <p:nvPicPr>
                  <p:cNvPr id="82"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83" name=""/>
          <p:cNvGraphicFramePr/>
          <p:nvPr/>
        </p:nvGraphicFramePr>
        <p:xfrm>
          <a:off x="380880" y="4343400"/>
          <a:ext cx="8406000" cy="1913040"/>
        </p:xfrm>
        <a:graphic>
          <a:graphicData uri="http://schemas.openxmlformats.org/presentationml/2006/ole">
            <p:oleObj progId="Excel.Sheet.12" r:id="rId3" spid="">
              <p:embed/>
              <p:pic>
                <p:nvPicPr>
                  <p:cNvPr id="84" name="" descr=""/>
                  <p:cNvPicPr/>
                  <p:nvPr/>
                </p:nvPicPr>
                <p:blipFill>
                  <a:blip r:embed="rId4"/>
                  <a:stretch/>
                </p:blipFill>
                <p:spPr>
                  <a:xfrm>
                    <a:off x="380880" y="4343400"/>
                    <a:ext cx="8406000" cy="1913040"/>
                  </a:xfrm>
                  <a:prstGeom prst="rect">
                    <a:avLst/>
                  </a:prstGeom>
                  <a:ln w="0">
                    <a:noFill/>
                  </a:ln>
                </p:spPr>
              </p:pic>
            </p:oleObj>
          </a:graphicData>
        </a:graphic>
      </p:graphicFrame>
      <p:sp>
        <p:nvSpPr>
          <p:cNvPr id="85"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86"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87"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2A96618-37A3-456D-9D4D-B11723DC44C7}" type="slidenum">
              <a:t>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865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Current 802.15 WPAN Functional Requirements- “A” List</a:t>
            </a:r>
            <a:br>
              <a:rPr sz="3600"/>
            </a:br>
            <a:endParaRPr b="0" lang="en-US" sz="3600" spc="-1" strike="noStrike">
              <a:solidFill>
                <a:srgbClr val="000000"/>
              </a:solidFill>
              <a:latin typeface="Times New Roman"/>
            </a:endParaRPr>
          </a:p>
        </p:txBody>
      </p:sp>
      <p:sp>
        <p:nvSpPr>
          <p:cNvPr id="90" name="PlaceHolder 2"/>
          <p:cNvSpPr>
            <a:spLocks noGrp="1"/>
          </p:cNvSpPr>
          <p:nvPr>
            <p:ph/>
          </p:nvPr>
        </p:nvSpPr>
        <p:spPr>
          <a:xfrm>
            <a:off x="609480" y="2057400"/>
            <a:ext cx="830592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orldwide spectrum allocations for unlicensed bands such as 2.4GHz</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w Cost: i.e., relative to target devic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Size e.g., ~.5 cubic inches( excludes antenna &amp; batte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wer Management: Very Low current consumption (Average 20mw or less @ 10% Tx/Rx load)</a:t>
            </a:r>
            <a:endParaRPr b="0" lang="en-US" sz="3000" spc="-1" strike="noStrike">
              <a:solidFill>
                <a:srgbClr val="000000"/>
              </a:solidFill>
              <a:latin typeface="Times New Roman"/>
            </a:endParaRPr>
          </a:p>
        </p:txBody>
      </p:sp>
      <p:sp>
        <p:nvSpPr>
          <p:cNvPr id="91" name=""/>
          <p:cNvSpPr/>
          <p:nvPr/>
        </p:nvSpPr>
        <p:spPr>
          <a:xfrm>
            <a:off x="3265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61D0572-F00D-44CC-9D93-490E9BA1AAD6}"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03T19:24:12Z</dcterms:modified>
  <cp:revision>54</cp:revision>
  <dc:subject>doc.: IEEE 802.15-99/027r0</dc:subject>
  <dc:title>WPAN Background</dc:title>
</cp:coreProperties>
</file>