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7E94E-67BA-4CDC-82FB-E00270BE44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985C3-4E7F-4DE4-8AAD-20A00A0291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E9FBF-F695-4B06-8E7D-AEFE0FB971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81931-6008-4EC0-85E0-63EAEFF76C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D6010-24B2-4808-B586-0840B5FF66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BBA31-4D10-4478-B2F2-FB6AD6E6F0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75F6E-4B66-40B1-9D25-0ABE409EC3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56C14-B556-4EC1-8B45-F2AB16525B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2854D-8260-48D5-A799-A816CEAF49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FC98C-E2BB-47EA-A3A3-6260292DD4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85577-21E4-443C-B0BE-C245C2E4A4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4DF28-EF03-48CA-9A41-4B6E7C5E3D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35895B1-56E4-468B-A8A6-227378ED22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191120" y="396000"/>
            <a:ext cx="3962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 99037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68160" y="3160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581520" y="6438960"/>
            <a:ext cx="252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uce Kraemer, Harris Semicond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18840" y="1847880"/>
            <a:ext cx="60559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CC Spectrum Management Top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BFH + DS Processing 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wave Ligh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28F20-4DC1-4333-BC4C-76B0DB3084F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09480" y="593640"/>
            <a:ext cx="8153640" cy="57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ederal Communications Com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PRM: NOTICE OF PROPOSED RULE MA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endment of Regulations for Part 15 Spread Spectrum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 Docket No. 99-231        FCC 99-14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leased:  June 24,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ment Date: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75 days after publication in the Federal Register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 Comment Date: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105 days after publication in the Federal Register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CC proposes to amend the Part 15  Section 247 rules regarding the operation of ISM spread spectrum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equency hopping systems operating in the 2.4 GHz band (2400 - 2483.5 MHz) to allow for wider operational bandwidth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ine the method for measuring the processing gain of direct sequence system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: Facilitate development and deployment of spread spectrum technology, particularly for high data rate wireless applic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4DE75-DCE7-42B1-B298-028F3A1DF6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77840" y="1752480"/>
          <a:ext cx="8877240" cy="382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1752480"/>
                    <a:ext cx="8877240" cy="38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1748160" y="857160"/>
            <a:ext cx="548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mmary of WBFH Propos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5621A-3237-4C4C-A0DF-14CE9748787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71520" y="1295280"/>
            <a:ext cx="8561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ing gain (PG) shall b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0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G = improvement in SNR after filtering from coding and spre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day: PG (dB) =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NR with spread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R with spread 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osed Metho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hanges If chip rat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0 chips/symbo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chip rate &lt; 10 chips/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itional CW jammer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hematical calculation of processing 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mming margin test using Guassian No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665080" y="609480"/>
            <a:ext cx="362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S Processing G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5131A-143B-4C4D-93B7-3DFB735D599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593640"/>
            <a:ext cx="8610480" cy="61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CC Invites Commen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9)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CC does not believe new rules will result in any significant increase in interference to direct sequence spread spectrum system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BFH interference on DS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SSS can compensate by improving processing g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BFH interference to Amateur Ra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10)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CC believes that WBFH systems will achieve data rates substantially greater than 1 MHz system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ffects of multipath interference and subsequent retransmis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14)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urrent jamming margin test is based on use of a CW signal as an interference source but propose to use a Guassian interfere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ffect of using a Guassian interferer in the current jamming margin test set-up and detailed measurement procedu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15)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CC proposes that results of jamming margin test be submitted along with a mathematical calculation of processing gain, if the DS system uses fewer than 10 chips per symbo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 to submit the results of the jamming margin test as well as a calculation of processing gain to verify compliance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28F94-2974-4B3D-B8C0-EBD04B69B98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77640" y="1371600"/>
            <a:ext cx="8655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tion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 a 802.11 WBFH study group (liaison with 802.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 interference impact on legacy 802.11 syste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 findings/recommendations to 802.11 by Wedne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ggest furthe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tion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 a 802.11 DS Processing Gain study group (liaison with 802.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y understand rule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Gaussian noise 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 findings/recommendations to 802.11 by Wedne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ggest furthe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B8783-1724-410E-BB55-6E73D278E83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685800" y="1266840"/>
          <a:ext cx="8318520" cy="802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266840"/>
                    <a:ext cx="8318520" cy="80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1974960" y="609480"/>
            <a:ext cx="471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esday Evening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9AB01-F463-45A7-8342-C1C230B8CB2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PRM 98-4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mmended authorization of RF Lights operating in 2.45 GHz ISM b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 on in-band emission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FDA limits on human exposure ap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 OET recommendation sent to Commission in December, 19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15 Interests appealed directly to Com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ission delayed final resolution pending efforts of interested parties to seek 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94DD9-1BFD-4B29-A528-360A777F8D6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test Proposal (July 9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565280" y="1850760"/>
            <a:ext cx="7002360" cy="1579320"/>
            <a:chOff x="1565280" y="1850760"/>
            <a:chExt cx="7002360" cy="1579320"/>
          </a:xfrm>
        </p:grpSpPr>
        <p:sp>
          <p:nvSpPr>
            <p:cNvPr id="61" name=""/>
            <p:cNvSpPr/>
            <p:nvPr/>
          </p:nvSpPr>
          <p:spPr>
            <a:xfrm>
              <a:off x="1565280" y="3295800"/>
              <a:ext cx="700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2097000" y="1850760"/>
              <a:ext cx="0" cy="157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7956720" y="1850760"/>
              <a:ext cx="0" cy="157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796080" y="3017880"/>
            <a:ext cx="118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11400" y="3027240"/>
            <a:ext cx="353232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75160" y="3432240"/>
            <a:ext cx="58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89920" y="3645000"/>
            <a:ext cx="550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712640" y="3432240"/>
            <a:ext cx="58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727040" y="3645000"/>
            <a:ext cx="550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99800" y="3432240"/>
            <a:ext cx="58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514200" y="3645000"/>
            <a:ext cx="550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264280" y="1765440"/>
            <a:ext cx="31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48320" y="1724040"/>
            <a:ext cx="96840" cy="84240"/>
          </a:xfrm>
          <a:custGeom>
            <a:avLst/>
            <a:gdLst/>
            <a:ahLst/>
            <a:rect l="l" t="t" r="r" b="b"/>
            <a:pathLst>
              <a:path w="61" h="53">
                <a:moveTo>
                  <a:pt x="0" y="52"/>
                </a:moveTo>
                <a:lnTo>
                  <a:pt x="9" y="26"/>
                </a:lnTo>
                <a:lnTo>
                  <a:pt x="0" y="0"/>
                </a:lnTo>
                <a:lnTo>
                  <a:pt x="60" y="26"/>
                </a:lnTo>
                <a:lnTo>
                  <a:pt x="0" y="5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81760" y="1766880"/>
            <a:ext cx="31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10480" y="1725480"/>
            <a:ext cx="96840" cy="84240"/>
          </a:xfrm>
          <a:custGeom>
            <a:avLst/>
            <a:gdLst/>
            <a:ahLst/>
            <a:rect l="l" t="t" r="r" b="b"/>
            <a:pathLst>
              <a:path w="61" h="53">
                <a:moveTo>
                  <a:pt x="60" y="0"/>
                </a:moveTo>
                <a:lnTo>
                  <a:pt x="51" y="26"/>
                </a:lnTo>
                <a:lnTo>
                  <a:pt x="60" y="52"/>
                </a:lnTo>
                <a:lnTo>
                  <a:pt x="0" y="26"/>
                </a:lnTo>
                <a:lnTo>
                  <a:pt x="6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773520" y="1614600"/>
            <a:ext cx="1553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60 - 2480 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6588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6400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26248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6240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6088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95936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5784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5632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65444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5292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5140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34988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4800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4648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4496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4344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4336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4184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3996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3844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3692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33540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3388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3200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3048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2896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2744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2556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2404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23960" y="1978200"/>
            <a:ext cx="51120" cy="26640"/>
          </a:xfrm>
          <a:custGeom>
            <a:avLst/>
            <a:gdLst/>
            <a:ahLst/>
            <a:rect l="l" t="t" r="r" b="b"/>
            <a:pathLst>
              <a:path w="32" h="17">
                <a:moveTo>
                  <a:pt x="31" y="16"/>
                </a:moveTo>
                <a:lnTo>
                  <a:pt x="31" y="0"/>
                </a:lnTo>
                <a:lnTo>
                  <a:pt x="0" y="0"/>
                </a:lnTo>
                <a:lnTo>
                  <a:pt x="0" y="16"/>
                </a:lnTo>
                <a:lnTo>
                  <a:pt x="31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2244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32092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1940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1788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1600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1448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1296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1144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0956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28960" y="3017880"/>
            <a:ext cx="5220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27080" y="3017880"/>
            <a:ext cx="5256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25560" y="3017880"/>
            <a:ext cx="5256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24040" y="3017880"/>
            <a:ext cx="5220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22520" y="3017880"/>
            <a:ext cx="5220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63840" y="30178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16"/>
                </a:moveTo>
                <a:lnTo>
                  <a:pt x="16" y="0"/>
                </a:lnTo>
                <a:lnTo>
                  <a:pt x="0" y="0"/>
                </a:lnTo>
                <a:lnTo>
                  <a:pt x="0" y="16"/>
                </a:lnTo>
                <a:lnTo>
                  <a:pt x="16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21840" y="2311560"/>
            <a:ext cx="287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57760" y="1657440"/>
            <a:ext cx="2700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57760" y="1758960"/>
            <a:ext cx="2700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657760" y="186048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57760" y="1962000"/>
            <a:ext cx="27000" cy="51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16" y="0"/>
                </a:moveTo>
                <a:lnTo>
                  <a:pt x="0" y="0"/>
                </a:lnTo>
                <a:lnTo>
                  <a:pt x="0" y="31"/>
                </a:lnTo>
                <a:lnTo>
                  <a:pt x="16" y="31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657760" y="206208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57760" y="216360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57760" y="2265480"/>
            <a:ext cx="2700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57760" y="2367000"/>
            <a:ext cx="2700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57760" y="246852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657760" y="257004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657760" y="2671920"/>
            <a:ext cx="27000" cy="50760"/>
          </a:xfrm>
          <a:custGeom>
            <a:avLst/>
            <a:gdLst/>
            <a:ahLst/>
            <a:rect l="l" t="t" r="r" b="b"/>
            <a:pathLst>
              <a:path w="17" h="32">
                <a:moveTo>
                  <a:pt x="16" y="0"/>
                </a:moveTo>
                <a:lnTo>
                  <a:pt x="0" y="0"/>
                </a:lnTo>
                <a:lnTo>
                  <a:pt x="0" y="31"/>
                </a:lnTo>
                <a:lnTo>
                  <a:pt x="16" y="31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57760" y="277164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57760" y="2873520"/>
            <a:ext cx="2700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657760" y="2975040"/>
            <a:ext cx="2700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657760" y="307656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57760" y="317808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657760" y="327960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78800" y="1657440"/>
            <a:ext cx="2664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78800" y="1758960"/>
            <a:ext cx="2664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78800" y="186048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78800" y="1962000"/>
            <a:ext cx="26640" cy="51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16" y="0"/>
                </a:moveTo>
                <a:lnTo>
                  <a:pt x="0" y="0"/>
                </a:lnTo>
                <a:lnTo>
                  <a:pt x="0" y="31"/>
                </a:lnTo>
                <a:lnTo>
                  <a:pt x="16" y="31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78800" y="206208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78800" y="216360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778800" y="2265480"/>
            <a:ext cx="2664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78800" y="2367000"/>
            <a:ext cx="2664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78800" y="246852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778800" y="257004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778800" y="2671920"/>
            <a:ext cx="26640" cy="50760"/>
          </a:xfrm>
          <a:custGeom>
            <a:avLst/>
            <a:gdLst/>
            <a:ahLst/>
            <a:rect l="l" t="t" r="r" b="b"/>
            <a:pathLst>
              <a:path w="17" h="32">
                <a:moveTo>
                  <a:pt x="16" y="0"/>
                </a:moveTo>
                <a:lnTo>
                  <a:pt x="0" y="0"/>
                </a:lnTo>
                <a:lnTo>
                  <a:pt x="0" y="31"/>
                </a:lnTo>
                <a:lnTo>
                  <a:pt x="16" y="31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78800" y="277164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78800" y="2873520"/>
            <a:ext cx="2664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778800" y="2975040"/>
            <a:ext cx="2664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78800" y="307656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778800" y="317808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778800" y="327960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667480" y="1995480"/>
            <a:ext cx="110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34680" y="2293920"/>
            <a:ext cx="389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26480" y="2265480"/>
            <a:ext cx="491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1080" y="1854360"/>
            <a:ext cx="103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 dB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/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06680" y="2036880"/>
            <a:ext cx="722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@ 10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57640" y="2895480"/>
            <a:ext cx="945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 dB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/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22520" y="3078000"/>
            <a:ext cx="637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@ 3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30680" y="3919680"/>
            <a:ext cx="1113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g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4800" y="391968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81520" y="3919680"/>
            <a:ext cx="270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65760" y="391968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8880" y="3963960"/>
            <a:ext cx="4880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400 - 2460 MHz. RF lighting restricted to 1 mV/m (av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31400" y="4468680"/>
            <a:ext cx="121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gion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54880" y="4468680"/>
            <a:ext cx="249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18240" y="4468680"/>
            <a:ext cx="270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02120" y="446868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25960" y="4513320"/>
            <a:ext cx="5820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460 - 2480 MHz. RF Light emission limit of 100 dB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/m @ 10 m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51200" y="4772160"/>
            <a:ext cx="5942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quivalent to 330 mVm @ 3m).  Consistent with CISPR15 limi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33200" y="5016600"/>
            <a:ext cx="235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031040" y="5261040"/>
            <a:ext cx="1311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gion I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153520" y="5261040"/>
            <a:ext cx="249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16520" y="5261040"/>
            <a:ext cx="270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97160" y="5305320"/>
            <a:ext cx="4981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480 - 2500 MHz.  RF lighting restricted to 1 mV/m (av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48680" y="5608800"/>
            <a:ext cx="4665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portion of the band includes satellite servic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27080" y="5564160"/>
            <a:ext cx="249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83800" y="3411360"/>
            <a:ext cx="58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98200" y="3624120"/>
            <a:ext cx="550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34991-CEE1-4F9F-8F3C-1CA4C4F0DE4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16:59:08Z</dcterms:created>
  <dc:creator>Bruce Kraemer</dc:creator>
  <dc:description/>
  <dc:language>en-US</dc:language>
  <cp:lastModifiedBy>Bruce Kraemer</cp:lastModifiedBy>
  <dcterms:modified xsi:type="dcterms:W3CDTF">1999-07-07T13:14:22Z</dcterms:modified>
  <cp:revision>26</cp:revision>
  <dc:subject/>
  <dc:title>No Slide Title</dc:title>
</cp:coreProperties>
</file>