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C943-0244-4BB0-84BA-91A8345C0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D2A7-DA43-4947-95D9-6641BB37A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AF76-F385-4F35-9A42-DDC856025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5734-1F89-474A-9A8A-A7089DC71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8B30-3125-47F1-86D4-F2BD01C30B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F558-4275-4E17-A4AD-2C66AF1F1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BB1A-6065-41D5-B0CB-982512E2D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2489-DB65-4ACF-A51C-854683E0D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7968-D43C-4020-9C27-65E67A5EE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648A-D0B6-4702-B611-E78A9D0AF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8BBD-6207-4653-8CE8-3EAC99DEF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8916-4BC9-42E4-BBBF-A841D382B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0D93F7-8753-43ED-B9FA-27E01D6B9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 990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1520" y="64389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Harris Semi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8840" y="1847880"/>
            <a:ext cx="6055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Spectrum Management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+ DS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wave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D71A-956A-4695-89C8-1C3800F801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734D-CB2D-4509-9BB6-E55937FF00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4900-BB54-41EF-9600-48830A411B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B712-732D-4DC4-B9F4-B882C73B4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6AC8-2567-457C-908F-E1D0779770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BBC5-F464-4CD3-B08F-4D806C4AFC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266840"/>
          <a:ext cx="8318520" cy="80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66840"/>
                    <a:ext cx="8318520" cy="80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97496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Evening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87EF-38FD-44B8-96C3-C311EA1D8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1687-86A2-4DDF-9B53-AD421DCC2C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61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25E5-5C05-4978-B5C0-B0FF5AD7A9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Bruce Kraemer</cp:lastModifiedBy>
  <dcterms:modified xsi:type="dcterms:W3CDTF">1999-07-07T13:14:22Z</dcterms:modified>
  <cp:revision>26</cp:revision>
  <dc:subject/>
  <dc:title>No Slide Title</dc:title>
</cp:coreProperties>
</file>