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562-FC8F-4A38-9820-6F4FA698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45A-9813-4F3B-8819-395FE0A4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35D-E4AC-4303-A0A2-38A69131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E9B-E635-4AC9-ADFF-45D66BB2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381-49F7-43A7-A9CA-B1C4493B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C9B-BFC3-49A7-986F-6A5CB06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22A-DBEF-49CD-A645-1152F93E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35F-D8EF-485B-8123-F0E3FE0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DFC-C3BB-4444-B7C0-8894807F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B4D-DE75-4334-B311-A3EAA9ED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7D8-7CB3-4A6A-995F-38D6432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B32-C49B-41BA-A8D9-1BFEFC6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66CECFF-00C3-4BD6-B085-8A0ED98E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77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Performance Evaluation Process in a Coexistenc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a Gol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FEE-5A0C-4D5D-8496-FE96D21881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ffic Generatio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 that describe the distribution of the message size and interarrival time are derived from the application set consid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ffic models exist in the literature for voice, data (FTP, HTTP), video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7080" y="3581280"/>
          <a:ext cx="48769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48769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8600" y="4343400"/>
          <a:ext cx="434340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343400"/>
                    <a:ext cx="4343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0880" y="62485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s from IEEE 802.14/96-083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EDB-210F-4738-9592-5198A5DF37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mong devices in a pico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ico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F3B-D873-4F59-A422-7350F5DACB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 Parameters and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prob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FE1-A5D0-40A2-B8AB-0DC4E18695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Layer Parame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ion slot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t schedul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: Flush, 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size/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off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window size (max,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BB2-3D8E-4DB5-8D53-C8179930A6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delay (mean, variance, P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transmit a mes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s per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umber of collisions per s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ed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traffic presented to the network for transmission in bits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 bits/s of the successful traffic transmitted excluding MAC and PHY overhe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0D4-AE6E-48C0-B6C3-B2C6F0FC4C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 a methodology for MAC coexistence model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major components and provide examples for parameters, user situations, and performance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within each components are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179-72F9-41AC-8D9A-12438710C6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tart the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on this evalu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input 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3640" y="48769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032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342900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791320" y="4389480"/>
            <a:ext cx="1295280" cy="533520"/>
          </a:xfrm>
          <a:prstGeom prst="triangle">
            <a:avLst>
              <a:gd name="adj" fmla="val 50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0640" y="373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3017880"/>
            <a:ext cx="1981440" cy="121932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4313160"/>
            <a:ext cx="1981440" cy="1067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382-7E81-4CBB-A32C-9FA7DE96DF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erformance levels will lead to different levels of coexist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existence could mean an “acceptable” performance level to be quantif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MAC layer coexistence translates into a performance mea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mpact of interfering devices all sharing the 2.45 GHz ISM band on the MAC performan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w to evaluate and quantify WPAN MAC perform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F53-640D-463A-B180-B965484158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goal of this contribution is to propose a methodology for conducting a performance evaluation of the WPAN MAC in presence of other wireless devices sharing the same air sp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ation is to agree on an evaluation process so that simulation/ experimental/ analysis results can be conducted independently by different parties and presented to the IEEE 802.15 S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B04-FD8D-4C85-8F90-BE906E8A57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Performance Evaluation Set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144756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81480"/>
            <a:ext cx="14475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191120"/>
            <a:ext cx="144756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286000"/>
            <a:ext cx="3352680" cy="2362320"/>
          </a:xfrm>
          <a:prstGeom prst="cloudCallout">
            <a:avLst>
              <a:gd name="adj1" fmla="val 23199"/>
              <a:gd name="adj2" fmla="val 3205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800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493560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5392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40208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44784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0115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468760"/>
            <a:ext cx="175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922400"/>
            <a:ext cx="1447920" cy="45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2379600"/>
            <a:ext cx="14479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389240"/>
            <a:ext cx="14479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1465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1998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05120"/>
            <a:ext cx="1447920" cy="457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371600"/>
            <a:ext cx="14479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65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2438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44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Network 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in a Coexistenc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09680"/>
            <a:ext cx="3581280" cy="3030480"/>
          </a:xfrm>
          <a:custGeom>
            <a:avLst/>
            <a:gdLst/>
            <a:ahLst/>
            <a:rect l="l" t="t" r="r" b="b"/>
            <a:pathLst>
              <a:path w="2496" h="1888">
                <a:moveTo>
                  <a:pt x="0" y="0"/>
                </a:moveTo>
                <a:cubicBezTo>
                  <a:pt x="276" y="172"/>
                  <a:pt x="552" y="344"/>
                  <a:pt x="816" y="624"/>
                </a:cubicBezTo>
                <a:cubicBezTo>
                  <a:pt x="1080" y="904"/>
                  <a:pt x="1304" y="1472"/>
                  <a:pt x="1584" y="1680"/>
                </a:cubicBezTo>
                <a:cubicBezTo>
                  <a:pt x="1864" y="1888"/>
                  <a:pt x="2180" y="1880"/>
                  <a:pt x="2496" y="18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676520"/>
            <a:ext cx="3962520" cy="3670200"/>
          </a:xfrm>
          <a:custGeom>
            <a:avLst/>
            <a:gdLst/>
            <a:ahLst/>
            <a:rect l="l" t="t" r="r" b="b"/>
            <a:pathLst>
              <a:path w="2496" h="2312">
                <a:moveTo>
                  <a:pt x="0" y="2064"/>
                </a:moveTo>
                <a:cubicBezTo>
                  <a:pt x="228" y="2188"/>
                  <a:pt x="456" y="2312"/>
                  <a:pt x="720" y="2016"/>
                </a:cubicBezTo>
                <a:cubicBezTo>
                  <a:pt x="984" y="1720"/>
                  <a:pt x="1288" y="576"/>
                  <a:pt x="1584" y="288"/>
                </a:cubicBezTo>
                <a:cubicBezTo>
                  <a:pt x="1880" y="0"/>
                  <a:pt x="2188" y="144"/>
                  <a:pt x="2496" y="28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asure performance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15238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dentify  MAC 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251460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e assumptions on the PHY layer (interference/ propagation models) and traffic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2D9-B7B9-4D7D-8EA0-6F78D6609B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Coexistence Evalua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aluation proces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v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C layer protocol in a shared environment consist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ge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generation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 lay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59F-1D80-42A9-83F3-83964855DA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User Situations 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dless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set/Portabl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case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Synchro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www.bluetoot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nteract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52720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automati" descr=""/>
          <p:cNvPicPr/>
          <p:nvPr/>
        </p:nvPicPr>
        <p:blipFill>
          <a:blip r:embed="rId2"/>
          <a:stretch/>
        </p:blipFill>
        <p:spPr>
          <a:xfrm>
            <a:off x="6477120" y="1295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63F-13F0-4AB2-BBB7-E54F324D6E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c Service Set (BSS) consists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(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Stations (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onsider 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s density pe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nsity per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TAs per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refer to IEEE 802.15-99/073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F06-771E-4EC6-A992-1ED53A99EA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User Sit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pac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, interactive confer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synchronizer, head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ituations (anywhere el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bidden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85C-9C97-49A6-AAC5-1B205AD5CD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da Golmie, NIS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610-5E51-4C23-9E46-928B8FE9055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23:47:08Z</dcterms:created>
  <dc:creator>Nada Golmie</dc:creator>
  <dc:description>&lt;doc#&gt;</dc:description>
  <dc:language>en-US</dc:language>
  <cp:lastModifiedBy>Nada Golmie</cp:lastModifiedBy>
  <cp:lastPrinted>1999-11-04T14:50:30Z</cp:lastPrinted>
  <dcterms:modified xsi:type="dcterms:W3CDTF">1999-11-04T15:04:05Z</dcterms:modified>
  <cp:revision>15</cp:revision>
  <dc:subject>IEEE 802.15 &lt;subject&gt;</dc:subject>
  <dc:title>IEEE P802.15 Working Group for Wireless Personal Area Networks</dc:title>
</cp:coreProperties>
</file>