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3AF-9F69-4BD8-A896-640E77D8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5B0-B37A-41F9-AB81-9B746DC6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EAD-443D-4732-A15D-5A70DC0C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4D1-5068-4098-A92F-983282C8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36A-6DE2-41E1-8526-A972F97D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64B-9F6D-4F56-BF39-79A116C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93A-FF6C-4E9B-856E-F32E5008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A37-6A7B-4561-ABEE-6D72AF12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0E4F-DB09-4E1C-85CA-2BD4E576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78E-E38D-48FD-B282-A88E4F5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D4C-A30C-40F9-8D86-6D7495F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32C-C375-4AE1-98B1-78514DA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14CE79-B5C0-4332-894C-F2476653F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8/05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752480" y="685800"/>
            <a:ext cx="5645160" cy="1711440"/>
            <a:chOff x="1752480" y="685800"/>
            <a:chExt cx="5645160" cy="1711440"/>
          </a:xfrm>
        </p:grpSpPr>
        <p:pic>
          <p:nvPicPr>
            <p:cNvPr id="46" name="802" descr=""/>
            <p:cNvPicPr/>
            <p:nvPr/>
          </p:nvPicPr>
          <p:blipFill>
            <a:blip r:embed="rId1"/>
            <a:stretch/>
          </p:blipFill>
          <p:spPr>
            <a:xfrm>
              <a:off x="5737320" y="685800"/>
              <a:ext cx="1660320" cy="171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1752480" y="933480"/>
              <a:ext cx="5477040" cy="1114560"/>
              <a:chOff x="1752480" y="933480"/>
              <a:chExt cx="5477040" cy="1114560"/>
            </a:xfrm>
          </p:grpSpPr>
          <p:sp>
            <p:nvSpPr>
              <p:cNvPr id="48" name=""/>
              <p:cNvSpPr/>
              <p:nvPr/>
            </p:nvSpPr>
            <p:spPr>
              <a:xfrm>
                <a:off x="1752480" y="933480"/>
                <a:ext cx="4181760" cy="111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630240" y="1028880"/>
                <a:ext cx="20674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66ff"/>
                    </a:solidFill>
                    <a:latin typeface="Times New Roman"/>
                  </a:rPr>
                  <a:t>802.15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1895400" y="976320"/>
                <a:ext cx="1595520" cy="1045800"/>
                <a:chOff x="1895400" y="976320"/>
                <a:chExt cx="1595520" cy="1045800"/>
              </a:xfrm>
            </p:grpSpPr>
            <p:grpSp>
              <p:nvGrpSpPr>
                <p:cNvPr id="51" name=""/>
                <p:cNvGrpSpPr/>
                <p:nvPr/>
              </p:nvGrpSpPr>
              <p:grpSpPr>
                <a:xfrm>
                  <a:off x="2165400" y="985680"/>
                  <a:ext cx="1325520" cy="1036440"/>
                  <a:chOff x="2165400" y="985680"/>
                  <a:chExt cx="1325520" cy="1036440"/>
                </a:xfrm>
              </p:grpSpPr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5400" y="1245960"/>
                    <a:ext cx="10382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53" name=""/>
                  <p:cNvGrpSpPr/>
                  <p:nvPr/>
                </p:nvGrpSpPr>
                <p:grpSpPr>
                  <a:xfrm>
                    <a:off x="2544840" y="985680"/>
                    <a:ext cx="946080" cy="944640"/>
                    <a:chOff x="2544840" y="985680"/>
                    <a:chExt cx="946080" cy="9446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2544840" y="98568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616120" y="1056960"/>
                      <a:ext cx="804960" cy="8035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690640" y="1133280"/>
                      <a:ext cx="654120" cy="65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776320" y="1211040"/>
                      <a:ext cx="482760" cy="4968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2865240" y="1306440"/>
                      <a:ext cx="30492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2935080" y="1376280"/>
                      <a:ext cx="16524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2979720" y="1420560"/>
                      <a:ext cx="7632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212920" y="1041120"/>
                    <a:ext cx="946080" cy="944640"/>
                    <a:chOff x="2212920" y="1041120"/>
                    <a:chExt cx="946080" cy="944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212920" y="1041120"/>
                      <a:ext cx="946080" cy="94464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2286000" y="1110960"/>
                      <a:ext cx="801720" cy="8017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2360520" y="1185480"/>
                      <a:ext cx="652320" cy="652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444760" y="1265040"/>
                      <a:ext cx="484200" cy="495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2533680" y="1360440"/>
                      <a:ext cx="306360" cy="3045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603520" y="1430280"/>
                      <a:ext cx="166680" cy="166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2647800" y="1473120"/>
                      <a:ext cx="77760" cy="777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fc0128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895400" y="976320"/>
                  <a:ext cx="946080" cy="942840"/>
                  <a:chOff x="1895400" y="976320"/>
                  <a:chExt cx="946080" cy="9428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895400" y="976320"/>
                    <a:ext cx="946080" cy="9428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65240" y="1045800"/>
                    <a:ext cx="804960" cy="8031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041560" y="1122120"/>
                    <a:ext cx="654120" cy="6505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127240" y="1201680"/>
                    <a:ext cx="482400" cy="494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2216160" y="1296720"/>
                    <a:ext cx="304560" cy="3027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286000" y="1366560"/>
                    <a:ext cx="16488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2330280" y="1409400"/>
                    <a:ext cx="76320" cy="774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fc0128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5924520" y="933480"/>
                <a:ext cx="1305000" cy="1114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28600" y="2362320"/>
            <a:ext cx="8542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esentation to IEEE 802 Plenary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July 9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51814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764-0B15-47BB-AD06-5E42AB56DD7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752480"/>
            <a:ext cx="771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Task Group designated TG1 develop a draft standard against the current Working Group PAR #802.15 3/18/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2560" y="3643200"/>
            <a:ext cx="2078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51560" y="32385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8CD-77CB-4B61-9A23-07796B62C7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G1 Ch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981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: To affirm Ian Gifford as the Chair of TG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31120" y="3643200"/>
            <a:ext cx="212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7520" y="28195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CEA-76AC-4440-AB41-E17C8BB850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762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9810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form a Coexistence/Interoperability Study Group to determine the need for a PAR and develop if necessa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9280" y="35434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0280" y="3886200"/>
            <a:ext cx="1832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A4E-D93B-492E-8A63-AE711244370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udy Group as Approved by SEC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031-890A-4AA9-A995-330E0C65059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tion to the SEC for a Study Grou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76520"/>
            <a:ext cx="7407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 To approve the formation of a Study Group within 802.15 to determine the need and if warranted, develop a PAR on coexistence/interoperability for submission to the SEC by the November 1999 Ple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7200" y="4495680"/>
            <a:ext cx="2445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as amended carri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360" y="4405320"/>
            <a:ext cx="515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:  Move to strike word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/second      russell/marks   vote 6-3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ndment to Motion carr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896-B915-49D5-A7E9-6DD11514F9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Formation of SG for Coexistence/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ffirm Steve Shellhammer as Study Group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5120" y="32004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70640" y="3733920"/>
            <a:ext cx="2149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Allen Heber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0F2-1AD3-467E-93BD-3A4DB1544B7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2057400"/>
          <a:ext cx="7813440" cy="19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813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14320" y="4686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 vote was more for lack of understanding rather than dis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4AF-2AE7-4AAA-9A29-161CC3E563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s on 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91440" y="160020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and vote on motions in 802.11 doc 99/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1981080"/>
          <a:ext cx="8270640" cy="278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7064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457200" y="4724280"/>
            <a:ext cx="84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s for vote: yes=support for letter, no=against letter, abstain=neutral on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105520"/>
            <a:ext cx="824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 position reaffirmed in separate v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stay neutral at this time on the subject of 802.11 letter to FCC re WBF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ed: Houman Albor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passes 23-8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092-025D-4BAB-912B-0BA20E8A217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Objectives for July Ple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- set the stage, review the gameplan for the week, point attendees to the web or flash card for copies of draft rules and other documents for review ahea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- detailed presentations on WG objectives, proposed operating rules and liais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nesday- Review project action plan and call for proposals, joint meeting with .11, review draft standard outline, organize committees for first draft, review B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rsday-  Begin formal voting on Officers, rules, etc. Hear submissions, if any, in response to the CF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321-A725-489E-92C9-5F3510763B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ck-off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btain voting rights at the Thursday morning session of this meeting, you must attend at least 5 of the six sessions Monday, Tuesday, and Wednesday and the session on Thursday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are planning on attending at least 75% of the sessions and becoming a voting member, please declare it during sign-in on Monday or Tuesday morning. You will be eligible to receive the Standards CD on Wednesday after 2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oting will begin on Thursday morning. At sign-in you will receive a voting to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icial Voter Count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3EE-413A-4959-B05F-49774D5BA7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gs We Vote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 Slate of Officers-Term is through 802 Plenary Meeting, March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Proposed WG Rules doc #802.15-99/001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802.11 Inter-meeting Regulatory Rules doc #802.11-96/142-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TG1 to develop standard against existing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Study Group for Coexistence/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ze a position relative to NPRM on WBFH and RF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2F5-0BDE-475A-8C55-84F2653E22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te of Officers for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eile, G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n Gifford, M/A 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 Kinney, Interm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, 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is, Boe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t Tech Ed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7E3-EBC8-44AB-8CC7-15C968B0AE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commended slate of officers for 802.15 to serve the remainder of the current term which ends in March 00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32560" y="3643200"/>
            <a:ext cx="211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Parviz Ker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Offic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D0A-13B2-4891-8D45-EDDD972A2BE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 Two Motions to the 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1:  To affirm Bob Heile as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2:  To affirm Ian Gifford as Vice Chair of 802.15 through the March 2000 plenary of 8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4876920"/>
            <a:ext cx="6477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b He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43828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ve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 Niko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ll Lidins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es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ai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D0E-0AB6-4B90-8C5A-F6CE9C9261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te on th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5 document number 99/001r6 as the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6240" y="3962520"/>
            <a:ext cx="185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van Re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AC5-26A9-49D0-BF4B-48C8A1D255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6858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te on Intermeeting Regulatory R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1752480"/>
            <a:ext cx="725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802.11 document number 96/142-r1 as the regulatory rules of operation for the Work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8760" y="3962520"/>
            <a:ext cx="2055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Bruce Krae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Dick Eck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04200" y="33148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788-1B51-464B-9154-5904E0C5F9E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/>
  <dc:language>en-US</dc:language>
  <cp:lastModifiedBy>Bridget Labrode</cp:lastModifiedBy>
  <cp:lastPrinted>1998-02-10T13:28:06Z</cp:lastPrinted>
  <dcterms:modified xsi:type="dcterms:W3CDTF">1999-07-13T12:35:29Z</dcterms:modified>
  <cp:revision>24</cp:revision>
  <dc:subject/>
  <dc:title>No Slide Title</dc:title>
</cp:coreProperties>
</file>