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F1BA-284B-4E1D-90F0-D10FE217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EBF-395F-49DF-9B5E-F8BA6277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7FF-94D4-4056-BDB9-F9E8D0CB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E5B-AA46-47E6-A3C1-F9EDA14E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360-97EA-41E5-9925-DC5B73CE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1F5-7CC0-4F96-ABE4-42E494C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ECD-D8B0-4C28-9811-C3C5877C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51E-73F8-4D5F-90D3-871CF9A2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AE5-65CC-44E4-89BE-5783C3D6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626-DA6E-4A92-9BB2-785688B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715-80A5-435A-8561-B0ADD53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D9A-6AC3-4CE6-8A17-759D4EE3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482AC6-E8B7-4A2A-9452-431EBBFE2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Ian C. Gifford</cp:lastModifiedBy>
  <cp:lastPrinted>1998-02-10T13:28:06Z</cp:lastPrinted>
  <dcterms:modified xsi:type="dcterms:W3CDTF">1999-09-13T05:35:39Z</dcterms:modified>
  <cp:revision>2</cp:revision>
  <dc:subject>IEEE 802.15 Tutorial</dc:subject>
  <dc:title>Reliability of IEEE 802.11 WLANs in Presence of Bluetooth Radios</dc:title>
</cp:coreProperties>
</file>