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39760" y="694800"/>
            <a:ext cx="457848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984040B-5C3B-4784-BB01-F42420167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897760"/>
            <a:ext cx="70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040" y="889632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520" y="29376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C775C69-0B5E-4F47-8632-F37DF9AE5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2520"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4320" cy="344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8476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4760" y="8729640"/>
            <a:ext cx="2973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8729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12960" y="4363920"/>
            <a:ext cx="50306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1141560" y="696960"/>
            <a:ext cx="4576680" cy="3432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49F-3F97-431B-8DD0-95B2D5B9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EEFF-35FA-4E1C-BB0F-B9B230F1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0E1A-724C-45EF-A6C4-1B4C1851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3B1C-BB9D-4E98-AC9A-82C5D96F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FF4-202C-486B-9AC0-7DB72EF3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A002-638E-4A09-A469-88DCBF14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A5C-87F7-4317-8383-869E6C06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0250-C22E-43C8-B52D-64C14792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444-0985-4B80-ABA3-267566A5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6DE9-9ED5-4E54-AAC1-EF7C28A6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30F6-5293-4E9A-B88B-226FECC6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0C3B-8542-473B-B8DF-C95441DE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8A65C26-4497-4180-BDA6-4D82FA71A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0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Group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March 10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Personal Area Network Study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mllieee" descr=""/>
          <p:cNvPicPr/>
          <p:nvPr/>
        </p:nvPicPr>
        <p:blipFill>
          <a:blip r:embed="rId1"/>
          <a:stretch/>
        </p:blipFill>
        <p:spPr>
          <a:xfrm>
            <a:off x="4257720" y="1143000"/>
            <a:ext cx="628560" cy="71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748A-FA7E-46BE-BCF8-FE707A480FD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EM 6 under Additio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hange as follows: A Personal Operating Space (POS) is the space about a pers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r ob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typically extends up to 10 meters in all directions and envelops the person whether stationary or in motion. Reason: Clarification of int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E374-0D6D-47E5-B873-1C1B488828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ove to approve the WPAN PAR “Rev 9” -98/162r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90D-B105-4C88-8438-7F0AD74040A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ove that the 802.11 WLAN Working Group recommends that The Executive Committee of 802 submit the WPAN PAR “Rev 9” -98/162r9 amended to NesCOM for approv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H./Greg 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G: 36/0/7, P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221C-BF6E-42A1-AF72-007A076EFA7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802.11 WLAN Group recommends that The Executive Committee of 802 establish a new Working Group for Wireless Personal Area Netwo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EEF1-4B9B-49B4-8AC6-39C3A445602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ve, Mailing List, U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 Arch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ftp://ftp.flexipc.com/wearablesgroup/Index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ftp://ftp.flexipc.com/wearablesgrou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 Mailing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stds-802-wpan@majordomo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grouper.ieee.org/groups/802/11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 Special Interes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bluetooth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RF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homerf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5562720"/>
            <a:ext cx="762012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dd your name to IEEE mailing list please send an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an Gifford giffordi@amp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new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877680" cy="339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DFCF-F8F6-4DEC-9821-877DBF29C2AE}" type="slidenum">
              <a:t>1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for this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&amp; Backgrou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 resolution of WPAN PAR -98/162r8 &amp; Five Criteria -98/161r5 and submission to ExCom and Nes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AN Leadership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Updates and Future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707F-EC3D-43EA-88C8-16E14B6AC32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Cover Letter/PAR 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PAN Study Group respectfully submits, for approval, Rev 9 of the PAR and Rev 5 of the 5 Criteria for Wireless Personal Area Networks and recommends the formation of a separate Working Group under 802 that would include all PAN-related standards activ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tivation to create a Working Group is to independently consider technologically acceptable approaches that have broad market appeal.  We believe this is more efficiently and effectively done as a peer of 802.11 rather than as a Task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7F6C-EDCC-45A6-A113-0ADFBD738C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Cover Letter/PAR 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coexistence and effective use of a shared medium is so critical to success, the WPAN Study Group suggests that the new WPAN Working Group keep very close ties with 802.11 including joint interactive meetings whenever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cision to recommend the formation of a Working Group rather than a Task Group under 802.11 required the Study Group to modify Rev8 of the WPAN PAR in the following w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AB38-E65E-4826-896A-DDC172EF38B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Name of WG:  Change from ‘WPAN Study Group’ to ‘Sponsor:  IEEE 802.11 WG for WLAN, Proposed Working Group:  IEEE 802.xx WG for Wireless Personal Area Networks”   Reason: greater cl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nge Name of Reporter and supporting info from Vic Hayes To Bob Heile.   Reason: reflects change of recommendation from TG to W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06E8-C765-4AEA-BB44-30AF62B164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ame of WG Chair.  Add Vic Hayes.  Reason: no longer same as Repor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EM 5b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hange from Supplement to New Standard. Reason:  reflects change of recommendation from TG to W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EM 5c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 7 Change from Trial Use to Full Use. Reason: clerical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CE72-85D8-471E-B8CC-E7154D1FC1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EM 6:  Change Scope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“[To define derivative versions of the 802.11 PHY and MAC specifications for wireless connectivity with fixed, portable and moving devices within or entering a Personal Operating Space (POS).  A goal of the WPAN Group will be to achieve a level of interoperability (see –99/5) sufficient to transfer data between a WPAN device and an 802.11 device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802.11 PHY and MAC have been reviewed to determine their suitability to meet the Functional Requirements of the WPAN Applications as specified in IEEE documents –98/295-298 and –98/352.  Detailed suggestions on proposed changes to the IEEE 802.11 MAC &amp; PHY Standard have been reported in documents –98/322r2, 323, 324.]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601A-C52D-458B-9AAB-5D9202A7F9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EM 6:  Change Scop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[To define PHY and MAC specifications for wireless connectivity with fixed, portable and moving devices within or entering a Personal Operating Space (POS).  A goal of the WPAN Group will be to achieve a level of interoperability (see –99/5) sufficient to transfer data between a WPAN device and an 802.11 device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802.11 PHY and MA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ndard h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en reviewed to determin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itability to meet the Functional Requirements of the WPAN Applications as specified in IEEE documents –98/295-298 and –98/352.  Detailed suggestions on proposed changes to the IEEE 802.11 MAC &amp; PHY Standard have been reported in documents –98/322r2, 323, 324.]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: reflects change of recommendation from TG to W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D8DA-438B-44A3-A8BD-CD313ED1F8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EM 7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rop word “supplemental”. Reason: reflects change of recommendation from TG to W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EM 9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 following footnote “These groups are not standards organizations, but they have similar charters and the Working Group intends to establish liaisons with these groups as appropriate.” Reason: clarification and int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EM 12b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 “[ISO/IEC JTC1/SC6] by [DR]”.  Reason: clerical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D40A-0C8B-42B7-B5B2-FDAE88A88A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Ian Gifford</dc:creator>
  <dc:description>Ian Gifford, M/A-COM</dc:description>
  <dc:language>en-US</dc:language>
  <cp:lastModifiedBy>Ian C. Gifford</cp:lastModifiedBy>
  <cp:lastPrinted>1999-03-08T22:00:07Z</cp:lastPrinted>
  <dcterms:modified xsi:type="dcterms:W3CDTF">1999-03-10T23:21:50Z</dcterms:modified>
  <cp:revision>48</cp:revision>
  <dc:subject>doc.: IEEE 802.11-99/056</dc:subject>
  <dc:title>WPAN SG WG Report</dc:title>
</cp:coreProperties>
</file>