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082-7D83-4C79-875B-616A6BE0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5D3-6DF7-44D1-BE59-C2C9DD1D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F14-1C60-4889-974A-2587EDE5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EE2-5B12-437D-AA1E-44D15780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A5F-ED0A-4011-9789-C2539C32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09F-CCD1-437B-AEA4-88399934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3F5-7CCC-4139-BC78-7B0397E1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ED8-3579-441B-832D-68CAE6FD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968-91E4-474B-AC1F-AB2256B8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E83-85F6-470E-829F-98A42B67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943-70E8-4CBF-9DEF-1868737E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3F8-9667-4342-897F-EF3D4B45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A2ED6B9-90AD-4B43-BEB5-52397B7C2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ughts on Projec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5E1-A57E-4A71-8F5B-453AC914D76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Projec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 vs.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E8C-488B-4749-BFD0-C80383FFB0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stone - Projec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Authorization Request 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For Proposals (CF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Unapproved WPAN Draft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Specification approved by 802.15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Specification approved by IEEE S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E3A-73E6-4FFD-B1EA-B9DE35EA93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stone - Gantt Char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ort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day cycles from receipt of draft to WG LB and Sponsor L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roject1" descr=""/>
          <p:cNvPicPr/>
          <p:nvPr/>
        </p:nvPicPr>
        <p:blipFill>
          <a:blip r:embed="rId1"/>
          <a:stretch/>
        </p:blipFill>
        <p:spPr>
          <a:xfrm>
            <a:off x="685800" y="4411800"/>
            <a:ext cx="7772400" cy="13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35D-E3D3-4150-8F3E-2471B51A00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stone - Gantt Chart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ort &amp; Event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day cycles from receipt of draft to WG LB and Sponsor 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roject2" descr=""/>
          <p:cNvPicPr/>
          <p:nvPr/>
        </p:nvPicPr>
        <p:blipFill>
          <a:blip r:embed="rId1"/>
          <a:stretch/>
        </p:blipFill>
        <p:spPr>
          <a:xfrm>
            <a:off x="685800" y="4411800"/>
            <a:ext cx="7772400" cy="13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538-1CDB-48F1-89B9-490E19C3D8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stone - Gantt Chart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day cycles from receipt of draft to WG LB and Sponsor 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roject3" descr=""/>
          <p:cNvPicPr/>
          <p:nvPr/>
        </p:nvPicPr>
        <p:blipFill>
          <a:blip r:embed="rId1"/>
          <a:stretch/>
        </p:blipFill>
        <p:spPr>
          <a:xfrm>
            <a:off x="685800" y="4411800"/>
            <a:ext cx="7772400" cy="138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3B8-89BB-4055-9242-736E305B89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stone - ~50 Meeting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ENU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Y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R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ba Jap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d 5/5/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 5/6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6/7/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6/7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treal, Canada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d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 7/5/99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i 7/9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ver, Color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 8/5/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 8/6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 Rosa, Califor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9/13/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 9/17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auai, Hawai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d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 11/8/99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i 11/12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ra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1/10/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 1/14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buquerque, NM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d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 3/6/00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i 3/10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5/15/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 5/19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Jolla, California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d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 7/10/00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i 7/14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9/18/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 9/22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mpa, Florida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d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 11/6/00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i 11/10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760" y="15606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EEE 802 Ple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929-DC56-4E38-A489-C71741BF7F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stone - Gantt Chart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roject4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739360" cy="42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19A-90F0-40FB-9A83-82D1DF2C03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ration vs. Effort Driven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 is the length of time (calendar time) the task is scheduled to occ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 2000 is ~17 months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ort is the amount of work (resource assignments) to be done on th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ortia do not have time to work both in Industry and S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G has limited technica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AF4-3925-46CE-BC2E-39A44556AE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Ian C. Gifford</cp:lastModifiedBy>
  <cp:lastPrinted>1998-02-10T13:28:06Z</cp:lastPrinted>
  <dcterms:modified xsi:type="dcterms:W3CDTF">1999-05-05T12:12:56Z</dcterms:modified>
  <cp:revision>21</cp:revision>
  <dc:subject/>
  <dc:title>No Slide Title</dc:title>
</cp:coreProperties>
</file>