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40BBAC2-ACA1-407B-AA89-CA1E9AA0E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FFA-A41E-47BD-8EAB-9B371F85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5C2-6826-4780-A2AC-A06EC697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11E-E7B1-400D-B40A-C4978F63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B1B-E603-4443-B308-A9CF23B7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F69-0800-4713-AAEB-7874F076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AD3-BAEE-4C9F-9C3D-8766250F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56B-A1A5-4317-AB9D-64A469F6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0E5-766D-43C8-8EC6-DAEF138C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3E2-54C7-4241-9BE9-973B309C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5AA-1D88-48CB-8807-B4BD1EF7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500-33F7-4438-B0A4-E238CC6D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3CA-60D8-486E-B465-899A9A49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65E15D0-30F7-425C-B587-1A83C8D65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4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ednesday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90A-AD03-4045-BC88-63C260BA5CB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Nov99 the P802.15 Working Group will be comprised of 42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uart Kerry (Stua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Thomas Müller (Thom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eter Murray (Pet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78468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28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9080" y="112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Resignation prior to the LB #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803-C575-4007-9794-BA2EC22AF76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4880" y="1619280"/>
            <a:ext cx="7951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I move to submit the contents of document IEEE P802-15/D0.6 to Sponsor Ballot [default recirculation ballot]; Draft_0-6.zip, available v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31840" y="3643200"/>
            <a:ext cx="1730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an Giff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, -99/113r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97360" y="313848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50% (Proced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A48-22A2-4AF4-B362-07CBA778C0E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[LB1.zip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for WG Letter Ballots of P802.15 in Adobe PDF, -99/112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Standard IEEE v0.6, P802-15/D0.6 in Adobe PDFs, Zip arch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 Ballot #1 of P802.15 in MS Word, -99/113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for TG1 Editors, -99/060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me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562720"/>
            <a:ext cx="86104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point your Browser and download your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ECF-E71C-4EFA-9CC0-22063346B2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- WG Chair to send LB#1 e-mail announcement w/ LB to .15 Reflector on 11Nov99: stds-802-15@iee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- TG1 Chair to post LB1.zip and individual files to WG Web site (pr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- Voters need to vote and comment, if applicable before 10Dec99 11pm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- Send Ballot &amp; Comments to WG Chair and Technical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C56-1986-457F-8DDA-6CF986A672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EC9D-9A01-47A6-9AFD-8609E93CDC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8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9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11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4E8-AD93-4F34-AB43-FDE86E4495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F27-4FB0-4E10-B113-3F93BFA4B7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2A2-4080-43B3-A0A3-BFB68AFFEA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FD7-0E26-47F1-AE12-3D5B1021BC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3:15pm and processed all of our Agenda Items and adjourned at 3:55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KERMANI TO BISDIKIAN VC REPLACEMENT -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TG1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DRAFT SUBMI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98E-C987-4D15-808D-1331E56085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1: I move to replace Parviz Kermani with Chatschik Bisdikian as IEEE P802.15 TG1 Vice Chair.  Forward to W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31480" y="3643200"/>
            <a:ext cx="1991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Mike McIn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Vice Ch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7360" y="313848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50% (Proced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293-ADE6-44C4-8E83-B0C974ACD52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9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10:00am and processed all of our Agenda Items and adjourned at 11:55am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2 TO SUBMIT DRAFT TO WG LB 10NOV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3 TO EMPOWER INTERIM 10-14JAN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WG LETTER BALLOT #1 DISTRIBUTIO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P802.15.1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WEDNESDAY DRAFT TG1 REPORT TO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DA0-394D-46C7-9160-C43CA08BA9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G1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LB #1 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3 - Electronic or empower Tel-Aviv for Commen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4 - OR Status for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09480" y="4786200"/>
            <a:ext cx="7925040" cy="471600"/>
            <a:chOff x="609480" y="4786200"/>
            <a:chExt cx="7925040" cy="471600"/>
          </a:xfrm>
        </p:grpSpPr>
        <p:sp>
          <p:nvSpPr>
            <p:cNvPr id="82" name=""/>
            <p:cNvSpPr/>
            <p:nvPr/>
          </p:nvSpPr>
          <p:spPr>
            <a:xfrm>
              <a:off x="609480" y="4786200"/>
              <a:ext cx="7925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480" y="5257800"/>
              <a:ext cx="7925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09480" y="5862600"/>
            <a:ext cx="792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438280" y="2286000"/>
            <a:ext cx="5590440" cy="2286000"/>
            <a:chOff x="2438280" y="2286000"/>
            <a:chExt cx="5590440" cy="2286000"/>
          </a:xfrm>
        </p:grpSpPr>
        <p:sp>
          <p:nvSpPr>
            <p:cNvPr id="86" name=""/>
            <p:cNvSpPr/>
            <p:nvPr/>
          </p:nvSpPr>
          <p:spPr>
            <a:xfrm flipH="1">
              <a:off x="2438280" y="3047760"/>
              <a:ext cx="373392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6720" y="2286000"/>
              <a:ext cx="223200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eferral to W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mpower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514240" y="3200400"/>
            <a:ext cx="6369840" cy="2438280"/>
            <a:chOff x="2514240" y="3200400"/>
            <a:chExt cx="6369840" cy="2438280"/>
          </a:xfrm>
        </p:grpSpPr>
        <p:sp>
          <p:nvSpPr>
            <p:cNvPr id="89" name=""/>
            <p:cNvSpPr/>
            <p:nvPr/>
          </p:nvSpPr>
          <p:spPr>
            <a:xfrm flipH="1">
              <a:off x="2514240" y="3429000"/>
              <a:ext cx="533412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52800" y="3200400"/>
              <a:ext cx="13312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rop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5AC-0D63-46CC-8D31-197E413F82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23</dc:description>
  <dc:language>en-US</dc:language>
  <cp:lastModifiedBy>Ian C. Gifford</cp:lastModifiedBy>
  <cp:lastPrinted>1998-02-10T13:28:06Z</cp:lastPrinted>
  <dcterms:modified xsi:type="dcterms:W3CDTF">1999-11-11T02:39:34Z</dcterms:modified>
  <cp:revision>52</cp:revision>
  <dc:subject>IEEE 802.15 TG1 Report #2</dc:subject>
  <dc:title>IEEE P802.15 Working Group for Wireless Personal Area Networks</dc:title>
</cp:coreProperties>
</file>