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922-581E-4407-84B4-5D278693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7A0C-FA19-4DA9-AEF9-63BDCD7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BD9-44AC-4C4C-9044-0410F9A2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681-9E8D-4EF2-B9DD-C93BB20C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FF6-32BD-40E3-94BF-94CA8609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5AC-F7E2-43BF-BEA8-ECB4B74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A67-A638-4675-AC06-85A4D5D9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4F0-7A87-4E56-9AA7-0FBE064D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8AC-A537-406F-A1FE-8AC27344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F6E-96AC-4935-89F7-2322D6C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EE0-354D-4A95-8300-F76C312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62E-2D6F-4928-8F45-4BB7279E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09C2FC-7E1C-499E-B178-9A9AC105C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9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-March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c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Perspectives Column-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Edition of Personal Communications Magazine-Dec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Briefing: Global Wireless 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7DB-F7D5-4509-AC1C-DCE08DEB8C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com-Getting the Word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4479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aking Enga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AC/PC   ---Chiba, Japan Ma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99 Developers Conference  ---London, June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45, MobileIP WG ---Oslo, Norway, July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WCON  ---Denver, August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WC  ---San Francisco, October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Ref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ling Standards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ID News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EAB-52C4-49A4-B4BE-F3571A5876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3:16:34Z</dcterms:created>
  <dc:creator>Bridget Labrode</dc:creator>
  <dc:description/>
  <dc:language>en-US</dc:language>
  <cp:lastModifiedBy>Bridget Labrode</cp:lastModifiedBy>
  <dcterms:modified xsi:type="dcterms:W3CDTF">1999-09-13T13:38:08Z</dcterms:modified>
  <cp:revision>2</cp:revision>
  <dc:subject/>
  <dc:title>No Slide Title</dc:title>
</cp:coreProperties>
</file>