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1B3-5E12-4D43-93E1-0B08A75E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01A-6C57-48EB-BB0B-F344BE1F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041-210F-40BE-B0D3-C0F0FEC4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FD2-0DBB-49E8-8F84-C97EF08F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B00-F92E-4D5E-8B73-E89858FB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7EE-3707-4D68-8D64-921505A6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B02-683C-47E5-93DF-8736ECF3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7F9-45F0-4C75-8BCF-869323FF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3E8-CD27-472E-9D0D-2C9FD990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DD8-D1FB-4B81-91F7-2CDD40E2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726-D7B8-48DA-BE49-6DF9E4DD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35B-010E-45E7-8FF2-BF3F747B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1690254-1912-46E8-858D-A6594EFAE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3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--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Feb 2000 with rewritten arit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Briefing: Global Wireless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Dr. Dobb’s Jou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article in Mobile Computing and Communications Review (M2CR) Feb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8ED-0DEF-4A36-80E9-243BCB4019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 Standard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ID News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ADC-4F16-4D71-903F-EE123EEF33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16:34Z</dcterms:created>
  <dc:creator>Bob Heile</dc:creator>
  <dc:description/>
  <dc:language>en-US</dc:language>
  <cp:lastModifiedBy>Rober F. Heile</cp:lastModifiedBy>
  <dcterms:modified xsi:type="dcterms:W3CDTF">1999-11-08T18:50:20Z</dcterms:modified>
  <cp:revision>4</cp:revision>
  <dc:subject/>
  <dc:title>Nov Marcom update</dc:title>
</cp:coreProperties>
</file>