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F17E-B340-4D91-B973-B7C46BFE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0CB-68F4-4F2F-93BA-2455BBB6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B68-AB21-4589-9FEA-620279E5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DF0C-8F78-41C1-916B-35FF0E38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DE1-3BC4-41BF-99C9-24E354B6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9496-F3E1-4539-A5B6-29358A74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6C1-4B12-49F7-B748-606013DB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B9CA-B16A-47A6-AB46-B1E02B84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021-CC4F-4C93-A8A4-0AE460D8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587-7BE5-49E4-889E-AE5586DD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3711-BE11-48DF-81AC-CD7A278E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8D6-B121-44A3-90E7-019C5B0A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EF9BBE2-E9ED-480A-B1EA-953B33DFF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14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Committee Summar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, H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10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1BB-757F-4348-BF3F-AE998581E1F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of Marketing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MC Purpose, Objectives and 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Plans to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Marcom campa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 marketing of 802.15 with Bluetooth S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Position paper to the IEEE on the proposed Publishing procedure for a TG1 Join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 “Marketing Material” to support the IEEE Draft, e.g., Handbook, Companion, Pocket Guid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liaison with ETSI but also determine if there are alternate SDO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relevant “WPAN” terms and U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joint 802 and BT Press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High Rat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1400" y="5791320"/>
            <a:ext cx="63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quested membership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AC75-153E-4B3E-A8AF-2ACD7B69B29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2920" y="990720"/>
            <a:ext cx="8772480" cy="161856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 #1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at the charter of the 802.15 Marketing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extended to the March’00 Plen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:________    Against:_________    Abstain: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8760" y="2819520"/>
            <a:ext cx="8680320" cy="161856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 #2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at 802.15 request the IEEE  to immediately proceed with tradema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 of WPAN and WP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:________    Against:_________    Abstain: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8760" y="4695840"/>
            <a:ext cx="8680320" cy="161856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 #3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at the 802.15 Executive Committee be empowered to  proceed with additional trademark and URL registrations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:________    Against:_________    Abstain: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F37-7CAA-4137-BEB0-0E10B38C4AD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uce Kraemer</cp:lastModifiedBy>
  <cp:lastPrinted>1998-02-10T13:28:06Z</cp:lastPrinted>
  <dcterms:modified xsi:type="dcterms:W3CDTF">1999-11-10T22:59:31Z</dcterms:modified>
  <cp:revision>82</cp:revision>
  <dc:subject>IEEE 802.15 Marketing</dc:subject>
  <dc:title>IEEE P802.15 Working Group for Wireless Personal Area Networks</dc:title>
</cp:coreProperties>
</file>