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90E5-7055-48ED-BE4D-F04EC22A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93A8-983F-419C-876B-C748D005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83C-5A22-47A8-BE22-3918CA43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098-AD99-4317-915A-759B60DB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303-9DBE-4F82-A6C4-26ADB5D8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ADD-009A-4B0F-A384-5BE26442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AD05-8863-4F62-9B8C-2C5267BC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CD0B-687C-4461-8B19-37CAE58D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22C9-A71B-45A6-BEF1-1663B83C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D23-E1AF-47E0-AF91-84EB322D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DC19-0392-43CA-B90B-BE312A65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0D1C-DA92-4BB4-AFFB-24C006DF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61DA5BA-3FB1-4723-8878-F724E290E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031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the IEEE P802.15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BAA-D470-4551-BC12-A686926DCA6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Communication Systems by Network Class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 (Wide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s interconnect facilities in different parts of a country or of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 (Metropolitan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s shall be capable of operating over an area up to 50 Km in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 (Local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 shall be capable of supporting segments at least 100 meters in leng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 composed of segments connected by physical layer inter-networking devices, shall be capable of operating over a physical medium that is at least 2 Km in 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 (Personal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s shall be capable of supporting segments at least 10 meters in 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29B6-3F7D-43D5-8D66-6EF76234B3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Vision Stat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1 Bas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Frequency Hopping Spread Spectrum (1Mbit/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Direct Sequence Spread Spectrum (2Mbit/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red (1Mbit/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1a 5GHz Extension (&gt;20Mbit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1b 2.4GHz Extension (&gt;8Mbit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5 Wireless Personal Area Networks (WPANs) -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uetoot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RF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6 Broadband Wireless LANs (LMDS) -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828800"/>
            <a:ext cx="8610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EEE 802 is the focal point for Wireless LAN standards.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im Car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8C7-B64D-4F06-8966-46F2E55A38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of the WPAN Marketing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and maintain the application and usage scenarios generated by the CF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he formulation of documentation that clearly &amp; distinctly differentiates the purposes and services of the various IEEE WPA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 dissemination of information about IEEE 802.15 Working Group activities internally (among 802 working groups) and externally (among the electronics indust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802.15 task groups in reaching convergence and consensus on technical requir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how best to promote the public demonstration of interoperability between products built using 802.15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d maintain liaisons with other selected industry marketing groups (e.g. Bluetooth, HomeRF) and standards bodies (e.g ETS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ter two-way communications between suppliers and consumers of WPAN produ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and foster creation of value-added industry marketing groups as appropriate (e.g. Gigabit Ethernet Alliance, http://www.gigabit-Ethernet.org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35C2-229D-4E07-A9F7-BF10DCBBCB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2425680"/>
            <a:ext cx="5359680" cy="3060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W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Network Positio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96960" y="5482800"/>
            <a:ext cx="5830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8400" y="2470320"/>
            <a:ext cx="870120" cy="21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utdo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8400" y="4502160"/>
            <a:ext cx="870120" cy="9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do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494080" y="2282760"/>
            <a:ext cx="0" cy="318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93720" y="4998960"/>
            <a:ext cx="70488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93720" y="4076640"/>
            <a:ext cx="70488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93720" y="3537000"/>
            <a:ext cx="70488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93720" y="2470320"/>
            <a:ext cx="704880" cy="104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718080" y="242532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95720" y="240624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459480" y="242532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867800" y="2441520"/>
            <a:ext cx="0" cy="3043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93720" y="4502160"/>
            <a:ext cx="70488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em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4760" y="193356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29240" y="55008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5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9960" y="55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2040" y="550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6400" y="55008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4038480"/>
            <a:ext cx="350532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89040" y="4038480"/>
            <a:ext cx="1841760" cy="144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4495680"/>
            <a:ext cx="25146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7154-C369-4E36-B4EB-92D940FE8EF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89040" y="2425680"/>
            <a:ext cx="5359680" cy="1600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 Wireless Family Positio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96960" y="5482800"/>
            <a:ext cx="5830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8400" y="2470320"/>
            <a:ext cx="870120" cy="21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utdo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8400" y="4502160"/>
            <a:ext cx="870120" cy="9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do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494080" y="2282760"/>
            <a:ext cx="0" cy="318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93720" y="4998960"/>
            <a:ext cx="70488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93720" y="4076640"/>
            <a:ext cx="70488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93720" y="3537000"/>
            <a:ext cx="70488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93720" y="2470320"/>
            <a:ext cx="704880" cy="104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718080" y="242532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995720" y="240624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459480" y="242532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867800" y="2441520"/>
            <a:ext cx="0" cy="3043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93720" y="4502160"/>
            <a:ext cx="70488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em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4760" y="193356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29240" y="55008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5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9960" y="55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2040" y="550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6400" y="55008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4025880"/>
            <a:ext cx="3505320" cy="1447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02.16 B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89040" y="4025880"/>
            <a:ext cx="1841760" cy="144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02.15 WP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1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4483080"/>
            <a:ext cx="2514600" cy="990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02.11, 11a &amp; 11b WL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-54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46D0-A6AC-4AAA-B7F4-DB8183C2EDB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ntreal, determine interest level in the WG to form a limited duration Marketing Study Group [Jul99 to Nov9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G agrees to formation, Marketing Study Group to be tasked to study actionable “Objectives”  and provide an initial report with clearly identified deliverables by Sept 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04C3-4863-4D1B-9EA0-E6C9C12AC7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802.15 Functional Organization Ch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19200" y="1676520"/>
          <a:ext cx="610236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676520"/>
                    <a:ext cx="610236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80880" y="5791320"/>
            <a:ext cx="8305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dy Group can help provide focus on overall WG iss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F1DE-2F09-4991-A044-CABDF3267D8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make the following mo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802.15 WG will form a Study Group to investigate how to successfully market WPAN standar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rketing study group will initially be commissioned between July ‘99 and Nov ‘99 and report findings and recommendations  at each 802.15 mee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areas to be studied 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and Value of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of requirements as embodied in C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able “Objectives”, priorities, deliverables, assignments and 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C8BF-55B8-4EE6-AD8B-C45D5A0AEB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ing Study Group Offic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man: Bruce Krae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 Chairma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8DF-1C4F-4D11-8A3C-E47FF99709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6:56:24Z</dcterms:created>
  <dc:creator>Ian Gifford, M/A-COM &amp; Bruce Kraemer, Harris</dc:creator>
  <dc:description>031r1</dc:description>
  <dc:language>en-US</dc:language>
  <cp:lastModifiedBy>Bridget Labrode</cp:lastModifiedBy>
  <cp:lastPrinted>1998-02-10T13:28:06Z</cp:lastPrinted>
  <dcterms:modified xsi:type="dcterms:W3CDTF">1999-07-08T12:22:56Z</dcterms:modified>
  <cp:revision>39</cp:revision>
  <dc:subject>IEEE 802.15 Marketing</dc:subject>
  <dc:title>IEEE P802.15 Working Group for Wireless Personal Area Networks</dc:title>
</cp:coreProperties>
</file>