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C59-F3A4-4054-88BD-E529E3B0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6E3-A318-405B-9884-ACB0269E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79F-F286-4117-8BFB-68D4DA6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5A0-6384-4390-A8A7-03FAF1E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851-4737-4810-BBFC-7B506BDD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6C5-5DB3-4237-8941-0A0517A0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A9B-72B4-4024-BB6E-59B6E02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0F3-3702-466C-8BB4-1F452FDE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E15-E139-4C63-B8E6-1AFBC824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CB8-FFCE-41D2-9882-1030417E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D0B-09ED-4610-BEE2-93A933B0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564-286D-4136-BA9B-15546A29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97B047-3DDC-4127-B5E3-5C5CE7E81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03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Operating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foun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\\venus\802.15 wpan\rules\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99001r6P802-15_Working-Group-Operating-Rule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B5C-20A7-43AA-A88C-3F710D27B95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1814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lanks added for clarity in this slide</a:t>
            </a:r>
            <a:br>
              <a:rPr sz="2000"/>
            </a:b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to be included in fil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9520" y="2000160"/>
          <a:ext cx="87249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2000160"/>
                    <a:ext cx="872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327-3E7C-4476-A952-F7CD9372A0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4:39:52Z</dcterms:created>
  <dc:creator>Tom Siep</dc:creator>
  <dc:description>&lt;doc#&gt;</dc:description>
  <dc:language>en-US</dc:language>
  <cp:lastModifiedBy>Bridget Labrode</cp:lastModifiedBy>
  <cp:lastPrinted>1998-02-10T13:28:06Z</cp:lastPrinted>
  <dcterms:modified xsi:type="dcterms:W3CDTF">1999-07-06T16:35:17Z</dcterms:modified>
  <cp:revision>5</cp:revision>
  <dc:subject>IEEE 802.15 &lt;subject&gt;</dc:subject>
  <dc:title>IEEE P802.15 Operating Rules</dc:title>
</cp:coreProperties>
</file>