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0101-55B2-4309-9213-16E11B39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1D7C-943D-4D15-AF4F-EC93C777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F116-2BC5-47F8-9FA2-0E4B91EA8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E261-E377-44C5-8B9A-04A9E0A3F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8402-1C84-40FD-B258-130E0A74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E144-5F5A-4915-908E-30A2786A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BB65-8C6D-49CC-863F-A58EEE2F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0AD3-4939-410A-9B90-CCF766B1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E9E4-2093-4FA2-B61D-B098304E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C5C7-18AE-42C7-B29F-AADA0BE4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AF8A-0CF7-4621-BE81-4C05A96E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E648-C50E-4D07-ACA9-4A0E9DDD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6FBB5E3-5031-48C3-9275-EAB6A24A0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039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Liaison wit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802.1 and P802.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asons for Liai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luetooth (at least) will have LLC and bridging work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eed to determine who will be able to help with exper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eed to determine where work will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802.15 Task Grou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802.1 and 80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eed to determine approval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8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riginating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DAA2-CDD5-4C83-99AE-2411855F926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aison with P802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C88B-CAFA-40C9-B200-CB71CC19430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aison with P802.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C8C0-267B-4C54-979F-C086A28060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4:39:52Z</dcterms:created>
  <dc:creator>Tom Siep</dc:creator>
  <dc:description>&lt;doc#&gt;</dc:description>
  <dc:language>en-US</dc:language>
  <cp:lastModifiedBy>Bridget Labrode</cp:lastModifiedBy>
  <cp:lastPrinted>1998-02-10T13:28:06Z</cp:lastPrinted>
  <dcterms:modified xsi:type="dcterms:W3CDTF">1999-07-06T16:31:08Z</dcterms:modified>
  <cp:revision>7</cp:revision>
  <dc:subject>IEEE 802.15 &lt;subject&gt;</dc:subject>
  <dc:title>IEEE P802.15 Operating Rules</dc:title>
</cp:coreProperties>
</file>