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5F1810-8533-4A40-9D85-FE74C07A6C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60AC8C-EBDE-46E0-93E3-F4BF353608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801A32-CD05-4558-844A-4D8EDA535D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D150FF-07C8-4126-B2BB-2C5C9FABEC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AC1490-571A-4775-8794-4FD76A93A5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D6CE00-DD2D-4CC4-805C-B17F3B2E96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6C5C37-17C5-4830-B79B-606DD12BDC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933A57-3946-4DF2-A3DF-A8B8B31AFF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0413D5-C03D-4A2A-90FD-A374A46DC2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AA4F1-6EA0-4151-A995-5285216CD0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0FC0B-A1F3-4D4E-9FED-B7EE7E1AB6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466D6-AAC3-4649-8579-3160D99BF2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5C7251B-2F87-4917-979D-33110F4B9E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3716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139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P802.15 Working Group for Wireless Personal Area Networks</a:t>
            </a:r>
            <a:endParaRPr b="0" lang="en-US" sz="32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torial #3 Overview</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tooth Specification v1.0A, a Basis For Standards-Making</a:t>
            </a:r>
            <a:endParaRPr b="0" lang="en-US" sz="2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Nov99 to 12Nov99</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att Regency Kaua'i, 1571 Poipu Road Koloa, HI USA</a:t>
            </a:r>
            <a:endParaRPr b="0" lang="en-US" sz="1800" spc="-1" strike="noStrike">
              <a:solidFill>
                <a:srgbClr val="000000"/>
              </a:solidFill>
              <a:latin typeface="Arial"/>
            </a:endParaRPr>
          </a:p>
        </p:txBody>
      </p:sp>
      <p:pic>
        <p:nvPicPr>
          <p:cNvPr id="47" name="802" descr=""/>
          <p:cNvPicPr/>
          <p:nvPr/>
        </p:nvPicPr>
        <p:blipFill>
          <a:blip r:embed="rId1"/>
          <a:stretch/>
        </p:blipFill>
        <p:spPr>
          <a:xfrm>
            <a:off x="3753000" y="657360"/>
            <a:ext cx="1581120" cy="1628640"/>
          </a:xfrm>
          <a:prstGeom prst="rect">
            <a:avLst/>
          </a:prstGeom>
          <a:ln w="0">
            <a:noFill/>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CAF96A9A-18B9-4C4E-A1C6-342F1DE8564F}" type="slidenum">
              <a:t>1</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utorial Agenda</a:t>
            </a:r>
            <a:endParaRPr b="0" lang="en-US" sz="32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view of the P802.15.1 v0.6 Draft Standard - Gifford</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tooth Architecture Overview -99/069r0 - Bisdikian</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pping the Bluetooth Specification to P802.15.1 -99/071r3 - Siep</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802.15.1 V1.0 Draft Standard Overview -99/125r0 - Siep</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 &amp; Answers - Bisdikian</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sing Remarks - Giffor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A2B5C9B2-B192-40A7-9BA5-17958470C943}" type="slidenum">
              <a:t>2</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utorial Objectives</a:t>
            </a:r>
            <a:endParaRPr b="0" lang="en-US" sz="36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EEE Working Group for Wireless Personal Area Networks will initiate their first Working Group Electronic Letter Ballot during the IEEE 802 November 1999 Plenary. This Conference Tutorial has been prepared to assist the Working Group as well as the potential WPAN Sponsor Ballot Pool attendees on the content of the draft standard submission, and the source of the technology. Additionally, we will describe how the IEEE P802.15 WPAN technology complements the 802 Family.</a:t>
            </a:r>
            <a:endParaRPr b="0" lang="en-US" sz="2000" spc="-1" strike="noStrike">
              <a:solidFill>
                <a:srgbClr val="000000"/>
              </a:solidFill>
              <a:latin typeface="Arial"/>
            </a:endParaRPr>
          </a:p>
          <a:p>
            <a:pPr marL="329040" indent="-3290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e to the fast track nature of this standards making process the November Conference Tutorial will provide the necessary baseline for the up and coming Working Group and Sponsor Ballot voti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B7FC3097-370E-4FFB-8862-6C5EDA319F54}" type="slidenum">
              <a:t>3</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akeaway or Careabouts</a:t>
            </a:r>
            <a:endParaRPr b="0" lang="en-US" sz="36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raft v0.6 will enter the first Working Group Letter Ballot (LB #1) 11Nov99 to Friday 10Dec99 (30 days)</a:t>
            </a:r>
            <a:endParaRPr b="0" lang="en-US" sz="3600" spc="-1" strike="noStrike">
              <a:solidFill>
                <a:srgbClr val="000000"/>
              </a:solidFill>
              <a:latin typeface="Arial"/>
            </a:endParaRPr>
          </a:p>
          <a:p>
            <a:pPr marL="318960" indent="-3189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B #1 Comment Resolution 10-14Jan99</a:t>
            </a:r>
            <a:endParaRPr b="0" lang="en-US" sz="3600" spc="-1" strike="noStrike">
              <a:solidFill>
                <a:srgbClr val="000000"/>
              </a:solidFill>
              <a:latin typeface="Arial"/>
            </a:endParaRPr>
          </a:p>
          <a:p>
            <a:pPr marL="318960" indent="-3189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raft ready for Sponsor Ballot Mar99</a:t>
            </a: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0D30577-5E1D-440B-A119-D30329DE7D7B}" type="slidenum">
              <a:t>4</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IEEE Proposed Timeline</a:t>
            </a:r>
            <a:endParaRPr b="0"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l 1999 - Initial Discussion on Proposal submissions </a:t>
            </a:r>
            <a:endParaRPr b="0" lang="en-US" sz="2400" spc="-1" strike="noStrike">
              <a:solidFill>
                <a:srgbClr val="000000"/>
              </a:solidFill>
              <a:latin typeface="Arial"/>
            </a:endParaRPr>
          </a:p>
          <a:p>
            <a:pPr marL="332640" indent="-332640">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l 1999 - IEEE initial vote of support to draft 802.15 based on Bluetooth specification</a:t>
            </a:r>
            <a:endParaRPr b="0" lang="en-US" sz="2400" spc="-1" strike="noStrike">
              <a:solidFill>
                <a:srgbClr val="000000"/>
              </a:solidFill>
              <a:latin typeface="Arial"/>
            </a:endParaRPr>
          </a:p>
          <a:p>
            <a:pPr marL="332640" indent="-332640">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p 1999 - Overview the draft 802.15.1 based on the current  Bluetooth specification to the time line</a:t>
            </a:r>
            <a:endParaRPr b="0" lang="en-US" sz="2400" spc="-1" strike="noStrike">
              <a:solidFill>
                <a:srgbClr val="000000"/>
              </a:solidFill>
              <a:latin typeface="Arial"/>
            </a:endParaRPr>
          </a:p>
          <a:p>
            <a:pPr marL="332640" indent="-332640">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 1999 - Initial draft ready for WG ballot.</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n 2000 - First Ballot complete, second ballot kicked off.</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 2000 - Draft ready for IEEE sponsor ballot.</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l 2000</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 2000</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 2000 - Approval by IEEE Standards Bo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D42F98D4-304E-4415-BFBA-F6E26C44122E}" type="slidenum">
              <a:t>5</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view of Key IEEE802 Dates</a:t>
            </a:r>
            <a:endParaRPr b="0" lang="en-US" sz="36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ch 1999 </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802.15 Working Group for Wireless Personal Area Networks (WPAN) was formed</a:t>
            </a:r>
            <a:endParaRPr b="0" lang="en-US" sz="24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ly 1999</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802.15 Task Group 1 was formed</a:t>
            </a:r>
            <a:endParaRPr b="0" lang="en-US" sz="24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v 1999 Kaua'i, HI</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Standard submitted to WG from TG1</a:t>
            </a:r>
            <a:endParaRPr b="0" lang="en-US" sz="24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 2000 Albuquerque</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ready for Sponsor Ball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B84CD913-C9D1-48BB-835B-6220EA8A38CB}" type="slidenum">
              <a:t>6</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RL For Tutorial</a:t>
            </a:r>
            <a:endParaRPr b="0" lang="en-US" sz="36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ftcopy</a:t>
            </a:r>
            <a:endParaRPr b="0" lang="en-US" sz="36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grouper.ieee.org/groups/802/15/pub/Tutorials.htm</a:t>
            </a:r>
            <a:endParaRPr b="0" lang="en-US" sz="32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ing in 4 hours or less</a:t>
            </a:r>
            <a:endParaRPr b="0" lang="en-US" sz="3200" spc="-1" strike="noStrike">
              <a:solidFill>
                <a:srgbClr val="000000"/>
              </a:solidFill>
              <a:latin typeface="Arial"/>
            </a:endParaRPr>
          </a:p>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ardcopy</a:t>
            </a:r>
            <a:endParaRPr b="0" lang="en-US" sz="36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 to the IEEE Registration Office or see Ian Gifford, IEEE P802.15 Meeting</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36DFF830-D098-45AD-B353-0250B67F5B2F}" type="slidenum">
              <a:t>7</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utorial #3 Speakers</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an Gifford - IEEE 802.15.1 Chair</a:t>
            </a:r>
            <a:endParaRPr b="0" lang="en-US" sz="3200" spc="-1" strike="noStrike">
              <a:solidFill>
                <a:srgbClr val="000000"/>
              </a:solidFill>
              <a:latin typeface="Arial"/>
            </a:endParaRPr>
          </a:p>
          <a:p>
            <a:pPr lvl="1" marL="683280" indent="-262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ffordi@amp.com</a:t>
            </a:r>
            <a:endParaRPr b="0" lang="en-US" sz="2800" spc="-1" strike="noStrike">
              <a:solidFill>
                <a:srgbClr val="000000"/>
              </a:solidFill>
              <a:latin typeface="Arial"/>
            </a:endParaRPr>
          </a:p>
          <a:p>
            <a:pPr lvl="1" marL="683280" indent="-262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 +1 978 442 4650</a:t>
            </a:r>
            <a:endParaRPr b="0" lang="en-US" sz="2800" spc="-1" strike="noStrike">
              <a:solidFill>
                <a:srgbClr val="000000"/>
              </a:solidFill>
              <a:latin typeface="Arial"/>
            </a:endParaRPr>
          </a:p>
          <a:p>
            <a:pPr marL="315360" indent="-315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schik Bisdikian - IEEE 802.15.1 VC</a:t>
            </a:r>
            <a:endParaRPr b="0" lang="en-US" sz="3200" spc="-1" strike="noStrike">
              <a:solidFill>
                <a:srgbClr val="000000"/>
              </a:solidFill>
              <a:latin typeface="Arial"/>
            </a:endParaRPr>
          </a:p>
          <a:p>
            <a:pPr lvl="1" marL="683280" indent="-262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sdik@us.ibm.com </a:t>
            </a:r>
            <a:endParaRPr b="0" lang="en-US" sz="2800" spc="-1" strike="noStrike">
              <a:solidFill>
                <a:srgbClr val="000000"/>
              </a:solidFill>
              <a:latin typeface="Arial"/>
            </a:endParaRPr>
          </a:p>
          <a:p>
            <a:pPr lvl="1" marL="683280" indent="-262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 +1 914 784 7439 </a:t>
            </a:r>
            <a:endParaRPr b="0" lang="en-US" sz="2800" spc="-1" strike="noStrike">
              <a:solidFill>
                <a:srgbClr val="000000"/>
              </a:solidFill>
              <a:latin typeface="Arial"/>
            </a:endParaRPr>
          </a:p>
          <a:p>
            <a:pPr marL="315360" indent="-315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m Siep - IEEE 802.15.1 TechEditor</a:t>
            </a:r>
            <a:endParaRPr b="0" lang="en-US" sz="3200" spc="-1" strike="noStrike">
              <a:solidFill>
                <a:srgbClr val="000000"/>
              </a:solidFill>
              <a:latin typeface="Arial"/>
            </a:endParaRPr>
          </a:p>
          <a:p>
            <a:pPr lvl="1" marL="683280" indent="-262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ep@ti.com</a:t>
            </a:r>
            <a:endParaRPr b="0" lang="en-US" sz="2800" spc="-1" strike="noStrike">
              <a:solidFill>
                <a:srgbClr val="000000"/>
              </a:solidFill>
              <a:latin typeface="Arial"/>
            </a:endParaRPr>
          </a:p>
          <a:p>
            <a:pPr lvl="1" marL="683280" indent="-262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 +1 972 480 6786</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85A2ACE-9AD6-4A39-98E0-3D8D2E3BAB1A}" type="slidenum">
              <a:t>8</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9T19:31:17Z</dcterms:created>
  <dc:creator>Ian C. Gifford</dc:creator>
  <dc:description>&lt;doc#&gt;</dc:description>
  <dc:language>en-US</dc:language>
  <cp:lastModifiedBy>Ian C. Gifford</cp:lastModifiedBy>
  <cp:lastPrinted>1998-02-10T13:28:06Z</cp:lastPrinted>
  <dcterms:modified xsi:type="dcterms:W3CDTF">1999-11-10T06:07:59Z</dcterms:modified>
  <cp:revision>9</cp:revision>
  <dc:subject>IEEE 802.15 &lt;subject&gt;</dc:subject>
  <dc:title>IEEE P802.15 Working Group for Wireless Personal Area Networks</dc:title>
</cp:coreProperties>
</file>