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4A33D9EC-CC29-4CFE-A68C-9C0DA2592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4E25F80E-A7F1-48AE-9ECB-FEB3778410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sldImg"/>
          </p:nvPr>
        </p:nvSpPr>
        <p:spPr>
          <a:xfrm>
            <a:off x="1130400" y="689040"/>
            <a:ext cx="4597200" cy="3446280"/>
          </a:xfrm>
          <a:prstGeom prst="rect">
            <a:avLst/>
          </a:prstGeom>
          <a:ln w="0">
            <a:noFill/>
          </a:ln>
        </p:spPr>
      </p:sp>
      <p:sp>
        <p:nvSpPr>
          <p:cNvPr id="41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6ED0D-EB68-4027-9906-D55C18AEE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2C04E-4ECB-48A6-9E6B-F59D33BEC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6AECB-7D3C-4A7C-9921-BC762D824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CC1EC-B5A5-4F89-B6AA-35DB9E1D3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1DE62-EB3A-4EB2-9E0F-A2306916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05614-4274-49B2-A341-1C1AD2F48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5D3D-0453-4A3D-8D16-A86833434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FC96-94A4-40B7-AE9D-8FB41B7F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C75EA-C8BC-479C-A810-AE7F5E0BF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BF3D-FCCB-424C-9FE4-B5FD6226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63542-5EB9-4E2B-A288-CA678CE84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C8E9-5892-47B4-8CBD-C07184126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5A2683-D883-47AF-ABC9-13E593577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5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 Study Group</a:t>
            </a:r>
            <a:endParaRPr b="0" lang="en-US" sz="4400" spc="-1" strike="noStrike">
              <a:solidFill>
                <a:srgbClr val="000000"/>
              </a:solidFill>
              <a:latin typeface="Times New Roman"/>
            </a:endParaRPr>
          </a:p>
        </p:txBody>
      </p:sp>
      <p:pic>
        <p:nvPicPr>
          <p:cNvPr id="57" name="smllieee" descr=""/>
          <p:cNvPicPr/>
          <p:nvPr/>
        </p:nvPicPr>
        <p:blipFill>
          <a:blip r:embed="rId1"/>
          <a:stretch/>
        </p:blipFill>
        <p:spPr>
          <a:xfrm>
            <a:off x="4257720" y="1143000"/>
            <a:ext cx="628560" cy="714240"/>
          </a:xfrm>
          <a:prstGeom prst="rect">
            <a:avLst/>
          </a:prstGeom>
          <a:ln w="0">
            <a:noFill/>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F1192D7-4E2F-4ED9-A948-AA67C14D2AA3}" type="slidenum">
              <a:t>1</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A” List</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304920" y="1066680"/>
            <a:ext cx="8610480" cy="4114800"/>
          </a:xfrm>
          <a:prstGeom prst="rect">
            <a:avLst/>
          </a:prstGeom>
          <a:noFill/>
          <a:ln w="0">
            <a:noFill/>
          </a:ln>
        </p:spPr>
        <p:txBody>
          <a:bodyPr lIns="92160" rIns="92160" tIns="46080" bIns="4608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s will seek worldwide spectrum allocations for unlicensed bands e.g., 2.4GHz</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i.e., relative to target device</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ize e.g., ~.5 cubic inches( excludes antenna &amp; battery)</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Very Low current consumption (Average 20mW @ 10/90 or less)</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PAN’s in the same area (20 within 400 square feet)</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Systems i.e. P802.11 in the same are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Network Access Control</a:t>
            </a:r>
            <a:endParaRPr b="0" lang="en-US" sz="24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43830D8-0204-4BC2-BAC5-000003648044}" type="slidenum">
              <a:t>10</a:t>
            </a:fld>
          </a:p>
        </p:txBody>
      </p:sp>
      <p:sp>
        <p:nvSpPr>
          <p:cNvPr id="6" name="PlaceHolder 5"/>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066680"/>
            <a:ext cx="861048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at the MAC SAP: (19.2 - 100) kbit/s (actual 1 device to 1 dev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within a WPAN must be able to communicate with each other</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support for a minimum of 16 device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0-10 meter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within one (1) second, once within rang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or Gateway connectivity to other data networks</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B” List</a:t>
            </a:r>
            <a:br>
              <a:rPr sz="2800"/>
            </a:br>
            <a:endParaRPr b="0" lang="en-US" sz="28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B3B912FC-BD68-427C-A2F5-4DB63AB1B09E}" type="slidenum">
              <a:t>11</a:t>
            </a:fld>
          </a:p>
        </p:txBody>
      </p:sp>
      <p:sp>
        <p:nvSpPr>
          <p:cNvPr id="5" name="PlaceHolder 4"/>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WPAN Guidelines- “C” List</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17EDEEFC-B3BF-4F90-8157-ED284A0AB6B1}" type="slidenum">
              <a:t>1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Guideline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Density: 1 WPAN in 2 square meters, average density at acceptable [TBD] performance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umption: Each WPAN Device will consume &lt;20 mW long term average [TBD] given a 10% TxRx load in the WPAN</a:t>
            </a:r>
            <a:endParaRPr b="0" lang="en-US" sz="32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6C9DBB18-7D06-4465-9268-C8FA5C6465DE}" type="slidenum">
              <a:t>1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28800" y="2590920"/>
            <a:ext cx="3124080" cy="259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Feature List</a:t>
            </a:r>
            <a:endParaRPr b="0" lang="en-US" sz="4400" spc="-1" strike="noStrike">
              <a:solidFill>
                <a:srgbClr val="000000"/>
              </a:solidFill>
              <a:latin typeface="Times New Roman"/>
            </a:endParaRPr>
          </a:p>
        </p:txBody>
      </p:sp>
      <p:sp>
        <p:nvSpPr>
          <p:cNvPr id="112" name=""/>
          <p:cNvSpPr/>
          <p:nvPr/>
        </p:nvSpPr>
        <p:spPr>
          <a:xfrm>
            <a:off x="479520" y="5227560"/>
            <a:ext cx="81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560" y="201132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a:t>
            </a:r>
            <a:endParaRPr b="0" lang="en-US" sz="2400" spc="-1" strike="noStrike">
              <a:solidFill>
                <a:srgbClr val="000000"/>
              </a:solidFill>
              <a:latin typeface="Times New Roman"/>
            </a:endParaRPr>
          </a:p>
        </p:txBody>
      </p:sp>
      <p:sp>
        <p:nvSpPr>
          <p:cNvPr id="114" name=""/>
          <p:cNvSpPr/>
          <p:nvPr/>
        </p:nvSpPr>
        <p:spPr>
          <a:xfrm>
            <a:off x="380160" y="277344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a:t>
            </a:r>
            <a:endParaRPr b="0" lang="en-US" sz="2400" spc="-1" strike="noStrike">
              <a:solidFill>
                <a:srgbClr val="000000"/>
              </a:solidFill>
              <a:latin typeface="Times New Roman"/>
            </a:endParaRPr>
          </a:p>
        </p:txBody>
      </p:sp>
      <p:sp>
        <p:nvSpPr>
          <p:cNvPr id="115" name=""/>
          <p:cNvSpPr/>
          <p:nvPr/>
        </p:nvSpPr>
        <p:spPr>
          <a:xfrm>
            <a:off x="379440" y="52880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16" name=""/>
          <p:cNvSpPr/>
          <p:nvPr/>
        </p:nvSpPr>
        <p:spPr>
          <a:xfrm>
            <a:off x="1768320" y="2033640"/>
            <a:ext cx="0" cy="418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7360" y="1554120"/>
            <a:ext cx="121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ority</a:t>
            </a:r>
            <a:endParaRPr b="0" lang="en-US" sz="2400" spc="-1" strike="noStrike">
              <a:solidFill>
                <a:srgbClr val="000000"/>
              </a:solidFill>
              <a:latin typeface="Times New Roman"/>
            </a:endParaRPr>
          </a:p>
        </p:txBody>
      </p:sp>
      <p:sp>
        <p:nvSpPr>
          <p:cNvPr id="118" name=""/>
          <p:cNvSpPr/>
          <p:nvPr/>
        </p:nvSpPr>
        <p:spPr>
          <a:xfrm>
            <a:off x="2514240" y="208764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19" name=""/>
          <p:cNvSpPr/>
          <p:nvPr/>
        </p:nvSpPr>
        <p:spPr>
          <a:xfrm>
            <a:off x="6248520" y="2087640"/>
            <a:ext cx="74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120" name=""/>
          <p:cNvSpPr/>
          <p:nvPr/>
        </p:nvSpPr>
        <p:spPr>
          <a:xfrm>
            <a:off x="5045040" y="210996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5480" y="2560680"/>
            <a:ext cx="807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8280" y="2666880"/>
            <a:ext cx="2656800" cy="2836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ata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 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a:t>
            </a:r>
            <a:r>
              <a:rPr b="0" lang="en-US" sz="2000" spc="-1" strike="noStrike" u="sng">
                <a:solidFill>
                  <a:srgbClr val="000000"/>
                </a:solidFill>
                <a:uFillTx/>
                <a:latin typeface="Times New Roman"/>
              </a:rPr>
              <a:t>&lt; </a:t>
            </a: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auth/auto att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with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250960" y="2666880"/>
            <a:ext cx="235512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 isochrono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 mp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IP</a:t>
            </a:r>
            <a:endParaRPr b="0" lang="en-US" sz="2000" spc="-1" strike="noStrike">
              <a:solidFill>
                <a:srgbClr val="000000"/>
              </a:solidFill>
              <a:latin typeface="Times New Roman"/>
            </a:endParaRPr>
          </a:p>
        </p:txBody>
      </p:sp>
      <p:sp>
        <p:nvSpPr>
          <p:cNvPr id="124" name=""/>
          <p:cNvSpPr/>
          <p:nvPr/>
        </p:nvSpPr>
        <p:spPr>
          <a:xfrm>
            <a:off x="5327280" y="5257800"/>
            <a:ext cx="242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an connectivity</a:t>
            </a:r>
            <a:endParaRPr b="0" lang="en-US" sz="2000" spc="-1" strike="noStrike">
              <a:solidFill>
                <a:srgbClr val="000000"/>
              </a:solidFill>
              <a:latin typeface="Times New Roman"/>
            </a:endParaRPr>
          </a:p>
        </p:txBody>
      </p:sp>
      <p:sp>
        <p:nvSpPr>
          <p:cNvPr id="125" name=""/>
          <p:cNvSpPr/>
          <p:nvPr/>
        </p:nvSpPr>
        <p:spPr>
          <a:xfrm>
            <a:off x="1974240" y="5257800"/>
            <a:ext cx="25365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10 - 1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ing PANs 4-30</a:t>
            </a:r>
            <a:endParaRPr b="0" lang="en-US" sz="2000" spc="-1" strike="noStrike">
              <a:solidFill>
                <a:srgbClr val="000000"/>
              </a:solidFill>
              <a:latin typeface="Times New Roman"/>
            </a:endParaRPr>
          </a:p>
        </p:txBody>
      </p:sp>
      <p:sp>
        <p:nvSpPr>
          <p:cNvPr id="126"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48E33AB5-4444-4698-A7DC-4E3886176964}" type="slidenum">
              <a:t>14</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2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focused only on the Lower Layers</a:t>
            </a:r>
            <a:endParaRPr b="0" lang="en-US" sz="4400" spc="-1" strike="noStrike">
              <a:solidFill>
                <a:srgbClr val="000000"/>
              </a:solidFill>
              <a:latin typeface="Times New Roman"/>
            </a:endParaRPr>
          </a:p>
        </p:txBody>
      </p:sp>
      <p:sp>
        <p:nvSpPr>
          <p:cNvPr id="13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3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3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3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3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3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3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3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666880" y="3505320"/>
            <a:ext cx="1432080" cy="1157040"/>
          </a:xfrm>
          <a:prstGeom prst="rect">
            <a:avLst/>
          </a:prstGeom>
          <a:ln w="0">
            <a:noFill/>
          </a:ln>
        </p:spPr>
      </p:pic>
      <p:sp>
        <p:nvSpPr>
          <p:cNvPr id="14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4876920" y="3429000"/>
            <a:ext cx="1307880" cy="1405080"/>
          </a:xfrm>
          <a:prstGeom prst="rect">
            <a:avLst/>
          </a:prstGeom>
          <a:ln w="0">
            <a:noFill/>
          </a:ln>
        </p:spPr>
      </p:pic>
      <p:pic>
        <p:nvPicPr>
          <p:cNvPr id="143" name="802" descr=""/>
          <p:cNvPicPr/>
          <p:nvPr/>
        </p:nvPicPr>
        <p:blipFill>
          <a:blip r:embed="rId3"/>
          <a:stretch/>
        </p:blipFill>
        <p:spPr>
          <a:xfrm>
            <a:off x="6858000" y="3962520"/>
            <a:ext cx="1417680" cy="1460520"/>
          </a:xfrm>
          <a:prstGeom prst="rect">
            <a:avLst/>
          </a:prstGeom>
          <a:ln w="9360">
            <a:solidFill>
              <a:srgbClr val="000000"/>
            </a:solidFill>
            <a:miter/>
          </a:ln>
        </p:spPr>
      </p:pic>
      <p:sp>
        <p:nvSpPr>
          <p:cNvPr id="144"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45"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47A7586-0FAA-47B7-9064-000D2BAA9F70}" type="slidenum">
              <a:t>15</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IEEE 802.11 Standard for a WPAN fit</a:t>
            </a:r>
            <a:endParaRPr b="0" lang="en-US" sz="4400" spc="-1" strike="noStrike">
              <a:solidFill>
                <a:srgbClr val="000000"/>
              </a:solidFill>
              <a:latin typeface="Times New Roman"/>
            </a:endParaRPr>
          </a:p>
        </p:txBody>
      </p:sp>
      <p:sp>
        <p:nvSpPr>
          <p:cNvPr id="148"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0"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2"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54"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1"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63"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5"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66"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73"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74"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75"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76"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77"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80"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1"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82"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7FCC9AD-58C4-4B0A-98BE-4B06CD7CDBCC}" type="slidenum">
              <a:t>16</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 - Full Compliance to the 802.11 MAC &amp; PHY PICS</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ass 3 - Partial Interoperability: there is a way on the medium to exchange data without an intermediate device</a:t>
            </a:r>
            <a:endParaRPr b="0" lang="en-US" sz="24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a Transmit and Receive</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b Receive Only</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c Detect Energ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 - Bridge-like (1 MAC/2 PHY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 - Gateway-like (&gt; 1 MAC)</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0 - Non Interopera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E03309A3-BAF3-45E7-9B7E-8A3316D71681}" type="slidenum">
              <a:t>17</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um Interoperability Continuum </a:t>
            </a:r>
            <a:endParaRPr b="0" lang="en-US" sz="4400" spc="-1" strike="noStrike">
              <a:solidFill>
                <a:srgbClr val="000000"/>
              </a:solidFill>
              <a:latin typeface="Times New Roman"/>
            </a:endParaRPr>
          </a:p>
        </p:txBody>
      </p:sp>
      <p:grpSp>
        <p:nvGrpSpPr>
          <p:cNvPr id="186" name=""/>
          <p:cNvGrpSpPr/>
          <p:nvPr/>
        </p:nvGrpSpPr>
        <p:grpSpPr>
          <a:xfrm>
            <a:off x="76320" y="1733400"/>
            <a:ext cx="8684640" cy="4743720"/>
            <a:chOff x="76320" y="1733400"/>
            <a:chExt cx="8684640" cy="4743720"/>
          </a:xfrm>
        </p:grpSpPr>
        <p:sp>
          <p:nvSpPr>
            <p:cNvPr id="187"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89"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0" name=""/>
            <p:cNvGrpSpPr/>
            <p:nvPr/>
          </p:nvGrpSpPr>
          <p:grpSpPr>
            <a:xfrm>
              <a:off x="3427560" y="1733400"/>
              <a:ext cx="3187440" cy="458280"/>
              <a:chOff x="3427560" y="1733400"/>
              <a:chExt cx="3187440" cy="458280"/>
            </a:xfrm>
          </p:grpSpPr>
          <p:sp>
            <p:nvSpPr>
              <p:cNvPr id="191"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92"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94"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97"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99"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201"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204"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207" name=""/>
            <p:cNvGrpSpPr/>
            <p:nvPr/>
          </p:nvGrpSpPr>
          <p:grpSpPr>
            <a:xfrm>
              <a:off x="1523160" y="3809880"/>
              <a:ext cx="1456200" cy="1371600"/>
              <a:chOff x="1523160" y="3809880"/>
              <a:chExt cx="1456200" cy="1371600"/>
            </a:xfrm>
          </p:grpSpPr>
          <p:sp>
            <p:nvSpPr>
              <p:cNvPr id="208"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210" name=""/>
            <p:cNvGrpSpPr/>
            <p:nvPr/>
          </p:nvGrpSpPr>
          <p:grpSpPr>
            <a:xfrm>
              <a:off x="352440" y="3022560"/>
              <a:ext cx="6254640" cy="652680"/>
              <a:chOff x="352440" y="3022560"/>
              <a:chExt cx="6254640" cy="652680"/>
            </a:xfrm>
          </p:grpSpPr>
          <p:sp>
            <p:nvSpPr>
              <p:cNvPr id="211"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214"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215"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216"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17"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219"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74AA9529-12AB-4503-85CA-0512852C4F0D}" type="slidenum">
              <a:t>18</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221" name=""/>
          <p:cNvGrpSpPr/>
          <p:nvPr/>
        </p:nvGrpSpPr>
        <p:grpSpPr>
          <a:xfrm>
            <a:off x="339840" y="3376440"/>
            <a:ext cx="8559000" cy="801720"/>
            <a:chOff x="339840" y="3376440"/>
            <a:chExt cx="8559000" cy="801720"/>
          </a:xfrm>
        </p:grpSpPr>
        <p:sp>
          <p:nvSpPr>
            <p:cNvPr id="222"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3"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4"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5"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6"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28"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39840" y="5041800"/>
            <a:ext cx="8229600" cy="801720"/>
            <a:chOff x="339840" y="5041800"/>
            <a:chExt cx="8229600" cy="801720"/>
          </a:xfrm>
        </p:grpSpPr>
        <p:sp>
          <p:nvSpPr>
            <p:cNvPr id="230"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31"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32"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3"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4"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5"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37"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38" name=""/>
          <p:cNvGrpSpPr/>
          <p:nvPr/>
        </p:nvGrpSpPr>
        <p:grpSpPr>
          <a:xfrm>
            <a:off x="339840" y="2563920"/>
            <a:ext cx="8424360" cy="801720"/>
            <a:chOff x="339840" y="2563920"/>
            <a:chExt cx="8424360" cy="801720"/>
          </a:xfrm>
        </p:grpSpPr>
        <p:sp>
          <p:nvSpPr>
            <p:cNvPr id="239"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0"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1"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2"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3"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45"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46" name=""/>
          <p:cNvGrpSpPr/>
          <p:nvPr/>
        </p:nvGrpSpPr>
        <p:grpSpPr>
          <a:xfrm>
            <a:off x="339840" y="4203720"/>
            <a:ext cx="8229600" cy="801720"/>
            <a:chOff x="339840" y="4203720"/>
            <a:chExt cx="8229600" cy="801720"/>
          </a:xfrm>
        </p:grpSpPr>
        <p:sp>
          <p:nvSpPr>
            <p:cNvPr id="247"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8"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9"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50"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51"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52"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53"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55"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56"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39840" y="1574640"/>
            <a:ext cx="8246160" cy="992520"/>
            <a:chOff x="339840" y="1574640"/>
            <a:chExt cx="8246160" cy="992520"/>
          </a:xfrm>
        </p:grpSpPr>
        <p:sp>
          <p:nvSpPr>
            <p:cNvPr id="260"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61"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62"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64"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66"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267"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268"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69"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70"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72"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73"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75"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F76E3BFC-1A3E-48E8-A451-B0B3D5A1D749}" type="slidenum">
              <a:t>19</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 Statem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Study Group Objectiv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of Stud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ed and Reviewed Study Group Member Protocol Proposals &amp; Applications, via Call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IEEE 802.11 Standard</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HomeRF Specific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luetooth Specification</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96979AE-4F29-4D6B-ACF3-56F22E1F6B77}" type="slidenum">
              <a:t>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ny Participation</a:t>
            </a:r>
            <a:br>
              <a:rPr sz="4400"/>
            </a:br>
            <a:r>
              <a:rPr b="0" lang="en-US" sz="4400" spc="-1" strike="noStrike">
                <a:solidFill>
                  <a:srgbClr val="000000"/>
                </a:solidFill>
                <a:latin typeface="Times New Roman"/>
              </a:rPr>
              <a:t>as of March 1999</a:t>
            </a:r>
            <a:endParaRPr b="0" lang="en-US" sz="4400" spc="-1" strike="noStrike">
              <a:solidFill>
                <a:srgbClr val="000000"/>
              </a:solidFill>
              <a:latin typeface="Times New Roman"/>
            </a:endParaRPr>
          </a:p>
        </p:txBody>
      </p:sp>
      <p:sp>
        <p:nvSpPr>
          <p:cNvPr id="277"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1"/>
          <a:stretch/>
        </p:blipFill>
        <p:spPr>
          <a:xfrm>
            <a:off x="1996920" y="4633920"/>
            <a:ext cx="1432080" cy="1157400"/>
          </a:xfrm>
          <a:prstGeom prst="rect">
            <a:avLst/>
          </a:prstGeom>
          <a:ln w="0">
            <a:noFill/>
          </a:ln>
        </p:spPr>
      </p:pic>
      <p:pic>
        <p:nvPicPr>
          <p:cNvPr id="281" name="" descr=""/>
          <p:cNvPicPr/>
          <p:nvPr/>
        </p:nvPicPr>
        <p:blipFill>
          <a:blip r:embed="rId2"/>
          <a:stretch/>
        </p:blipFill>
        <p:spPr>
          <a:xfrm>
            <a:off x="6248520" y="4419720"/>
            <a:ext cx="1307880" cy="1404720"/>
          </a:xfrm>
          <a:prstGeom prst="rect">
            <a:avLst/>
          </a:prstGeom>
          <a:ln w="0">
            <a:noFill/>
          </a:ln>
        </p:spPr>
      </p:pic>
      <p:sp>
        <p:nvSpPr>
          <p:cNvPr id="282"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283" name=""/>
          <p:cNvSpPr/>
          <p:nvPr/>
        </p:nvSpPr>
        <p:spPr>
          <a:xfrm>
            <a:off x="6170040" y="3657600"/>
            <a:ext cx="28382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4 Bluetooth Adop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 Members</a:t>
            </a:r>
            <a:endParaRPr b="0" lang="en-US" sz="2000" spc="-1" strike="noStrike">
              <a:solidFill>
                <a:srgbClr val="000000"/>
              </a:solidFill>
              <a:latin typeface="Times New Roman"/>
            </a:endParaRPr>
          </a:p>
        </p:txBody>
      </p:sp>
      <p:sp>
        <p:nvSpPr>
          <p:cNvPr id="284"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28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286" name="smllieee" descr=""/>
          <p:cNvPicPr/>
          <p:nvPr/>
        </p:nvPicPr>
        <p:blipFill>
          <a:blip r:embed="rId3"/>
          <a:stretch/>
        </p:blipFill>
        <p:spPr>
          <a:xfrm>
            <a:off x="4267080" y="2743200"/>
            <a:ext cx="951120" cy="1081080"/>
          </a:xfrm>
          <a:prstGeom prst="rect">
            <a:avLst/>
          </a:prstGeom>
          <a:ln w="9360">
            <a:solidFill>
              <a:srgbClr val="000000"/>
            </a:solidFill>
            <a:miter/>
          </a:ln>
        </p:spPr>
      </p:pic>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CE15F375-B404-42B9-8A5D-2B6BBD283908}" type="slidenum">
              <a:t>20</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28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29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29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1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1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1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1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1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1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2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2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2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3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6404040" y="2090880"/>
            <a:ext cx="1444680" cy="1170000"/>
          </a:xfrm>
          <a:prstGeom prst="rect">
            <a:avLst/>
          </a:prstGeom>
          <a:ln w="0">
            <a:noFill/>
          </a:ln>
        </p:spPr>
      </p:pic>
      <p:sp>
        <p:nvSpPr>
          <p:cNvPr id="33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3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6" name=""/>
          <p:cNvSpPr/>
          <p:nvPr/>
        </p:nvSpPr>
        <p:spPr>
          <a:xfrm>
            <a:off x="5486400" y="320184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4875120" y="1905120"/>
            <a:ext cx="1320840" cy="1417680"/>
          </a:xfrm>
          <a:prstGeom prst="rect">
            <a:avLst/>
          </a:prstGeom>
          <a:ln w="0">
            <a:noFill/>
          </a:ln>
        </p:spPr>
      </p:pic>
      <p:sp>
        <p:nvSpPr>
          <p:cNvPr id="338"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9"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40"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2"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3"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44"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345"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46"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349"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351"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354"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4"/>
          <a:stretch/>
        </p:blipFill>
        <p:spPr>
          <a:xfrm>
            <a:off x="2136600" y="2133720"/>
            <a:ext cx="1444680" cy="1170000"/>
          </a:xfrm>
          <a:prstGeom prst="rect">
            <a:avLst/>
          </a:prstGeom>
          <a:ln w="0">
            <a:noFill/>
          </a:ln>
        </p:spPr>
      </p:pic>
      <p:sp>
        <p:nvSpPr>
          <p:cNvPr id="356"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357"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6F2A3353-C6B3-46EA-B954-8B5F03AA62FF}" type="slidenum">
              <a:t>21</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hould be written between the two elephants</a:t>
            </a:r>
            <a:endParaRPr b="0" lang="en-US" sz="4400" spc="-1" strike="noStrike">
              <a:solidFill>
                <a:srgbClr val="000000"/>
              </a:solidFill>
              <a:latin typeface="Times New Roman"/>
            </a:endParaRPr>
          </a:p>
        </p:txBody>
      </p:sp>
      <p:sp>
        <p:nvSpPr>
          <p:cNvPr id="361" name=""/>
          <p:cNvSpPr/>
          <p:nvPr/>
        </p:nvSpPr>
        <p:spPr>
          <a:xfrm>
            <a:off x="914400" y="2209680"/>
            <a:ext cx="0" cy="3657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10800">
            <a:off x="-55800" y="41702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a:t>
            </a:r>
            <a:endParaRPr b="0" lang="en-US" sz="2400" spc="-1" strike="noStrike">
              <a:solidFill>
                <a:srgbClr val="000000"/>
              </a:solidFill>
              <a:latin typeface="Times New Roman"/>
            </a:endParaRPr>
          </a:p>
        </p:txBody>
      </p:sp>
      <p:sp>
        <p:nvSpPr>
          <p:cNvPr id="363" name=""/>
          <p:cNvSpPr/>
          <p:nvPr/>
        </p:nvSpPr>
        <p:spPr>
          <a:xfrm>
            <a:off x="838080" y="5715000"/>
            <a:ext cx="731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14400" y="3505320"/>
            <a:ext cx="6553080" cy="2209680"/>
          </a:xfrm>
          <a:custGeom>
            <a:avLst/>
            <a:gdLst/>
            <a:ahLst/>
            <a:rect l="l" t="t" r="r" b="b"/>
            <a:pathLst>
              <a:path w="4128" h="1392">
                <a:moveTo>
                  <a:pt x="0" y="1392"/>
                </a:moveTo>
                <a:cubicBezTo>
                  <a:pt x="516" y="816"/>
                  <a:pt x="1032" y="240"/>
                  <a:pt x="1392" y="144"/>
                </a:cubicBezTo>
                <a:cubicBezTo>
                  <a:pt x="1752" y="48"/>
                  <a:pt x="1904" y="824"/>
                  <a:pt x="2160" y="816"/>
                </a:cubicBezTo>
                <a:cubicBezTo>
                  <a:pt x="2416" y="808"/>
                  <a:pt x="2600" y="0"/>
                  <a:pt x="2928" y="96"/>
                </a:cubicBezTo>
                <a:cubicBezTo>
                  <a:pt x="3256" y="192"/>
                  <a:pt x="3928" y="1176"/>
                  <a:pt x="4128" y="13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7600" y="396252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p:txBody>
      </p:sp>
      <p:sp>
        <p:nvSpPr>
          <p:cNvPr id="366" name=""/>
          <p:cNvSpPr/>
          <p:nvPr/>
        </p:nvSpPr>
        <p:spPr>
          <a:xfrm>
            <a:off x="4953600" y="396252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p:txBody>
      </p:sp>
      <p:sp>
        <p:nvSpPr>
          <p:cNvPr id="367" name=""/>
          <p:cNvSpPr/>
          <p:nvPr/>
        </p:nvSpPr>
        <p:spPr>
          <a:xfrm>
            <a:off x="3659040" y="33148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p:txBody>
      </p:sp>
      <p:sp>
        <p:nvSpPr>
          <p:cNvPr id="368" name=""/>
          <p:cNvSpPr/>
          <p:nvPr/>
        </p:nvSpPr>
        <p:spPr>
          <a:xfrm>
            <a:off x="397512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369" name=""/>
          <p:cNvSpPr/>
          <p:nvPr/>
        </p:nvSpPr>
        <p:spPr>
          <a:xfrm>
            <a:off x="610200" y="6289560"/>
            <a:ext cx="337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t>
            </a:r>
            <a:r>
              <a:rPr b="0" i="1" lang="en-US" sz="1000" spc="-1" strike="noStrike">
                <a:solidFill>
                  <a:srgbClr val="000000"/>
                </a:solidFill>
                <a:latin typeface="Times New Roman"/>
              </a:rPr>
              <a:t>Apocalypse of the two Elephants”</a:t>
            </a:r>
            <a:r>
              <a:rPr b="0" lang="en-US" sz="1000" spc="-1" strike="noStrike">
                <a:solidFill>
                  <a:srgbClr val="000000"/>
                </a:solidFill>
                <a:latin typeface="Times New Roman"/>
              </a:rPr>
              <a:t>, David Clark, MIT</a:t>
            </a:r>
            <a:endParaRPr b="0" lang="en-US" sz="1000" spc="-1" strike="noStrike">
              <a:solidFill>
                <a:srgbClr val="000000"/>
              </a:solidFill>
              <a:latin typeface="Times New Roman"/>
            </a:endParaRPr>
          </a:p>
        </p:txBody>
      </p:sp>
      <p:sp>
        <p:nvSpPr>
          <p:cNvPr id="370" name=""/>
          <p:cNvSpPr/>
          <p:nvPr/>
        </p:nvSpPr>
        <p:spPr>
          <a:xfrm>
            <a:off x="4267080" y="36702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2597040" y="4389480"/>
            <a:ext cx="1060560" cy="1249200"/>
          </a:xfrm>
          <a:prstGeom prst="rect">
            <a:avLst/>
          </a:prstGeom>
          <a:ln w="0">
            <a:noFill/>
          </a:ln>
        </p:spPr>
      </p:pic>
      <p:pic>
        <p:nvPicPr>
          <p:cNvPr id="372" name="" descr=""/>
          <p:cNvPicPr/>
          <p:nvPr/>
        </p:nvPicPr>
        <p:blipFill>
          <a:blip r:embed="rId2"/>
          <a:stretch/>
        </p:blipFill>
        <p:spPr>
          <a:xfrm>
            <a:off x="4959360" y="4389480"/>
            <a:ext cx="1060560" cy="1249200"/>
          </a:xfrm>
          <a:prstGeom prst="rect">
            <a:avLst/>
          </a:prstGeom>
          <a:ln w="0">
            <a:noFill/>
          </a:ln>
        </p:spPr>
      </p:pic>
      <p:grpSp>
        <p:nvGrpSpPr>
          <p:cNvPr id="373" name=""/>
          <p:cNvGrpSpPr/>
          <p:nvPr/>
        </p:nvGrpSpPr>
        <p:grpSpPr>
          <a:xfrm>
            <a:off x="3364560" y="2362320"/>
            <a:ext cx="596880" cy="3517920"/>
            <a:chOff x="3364560" y="2362320"/>
            <a:chExt cx="596880" cy="3517920"/>
          </a:xfrm>
        </p:grpSpPr>
        <p:sp>
          <p:nvSpPr>
            <p:cNvPr id="374" name=""/>
            <p:cNvSpPr/>
            <p:nvPr/>
          </p:nvSpPr>
          <p:spPr>
            <a:xfrm>
              <a:off x="36831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45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6" name=""/>
          <p:cNvGrpSpPr/>
          <p:nvPr/>
        </p:nvGrpSpPr>
        <p:grpSpPr>
          <a:xfrm>
            <a:off x="4964760" y="2362320"/>
            <a:ext cx="596880" cy="3517920"/>
            <a:chOff x="4964760" y="2362320"/>
            <a:chExt cx="596880" cy="3517920"/>
          </a:xfrm>
        </p:grpSpPr>
        <p:sp>
          <p:nvSpPr>
            <p:cNvPr id="377" name=""/>
            <p:cNvSpPr/>
            <p:nvPr/>
          </p:nvSpPr>
          <p:spPr>
            <a:xfrm>
              <a:off x="52833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647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9" name=""/>
          <p:cNvGrpSpPr/>
          <p:nvPr/>
        </p:nvGrpSpPr>
        <p:grpSpPr>
          <a:xfrm>
            <a:off x="4039200" y="2362320"/>
            <a:ext cx="596880" cy="3517920"/>
            <a:chOff x="4039200" y="2362320"/>
            <a:chExt cx="596880" cy="3517920"/>
          </a:xfrm>
        </p:grpSpPr>
        <p:sp>
          <p:nvSpPr>
            <p:cNvPr id="380" name=""/>
            <p:cNvSpPr/>
            <p:nvPr/>
          </p:nvSpPr>
          <p:spPr>
            <a:xfrm>
              <a:off x="435780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920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EF64D6E-0CAE-48A3-B0D8-6B90888F2AAF}" type="slidenum">
              <a:t>22</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ftp://ftp.flexipc.com/wearablesgroup/Index.htm</a:t>
            </a:r>
            <a:endParaRPr b="0" lang="en-US" sz="20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tp://ftp.flexipc.com/wearables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86"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65588D93-807E-45C8-A8BE-AA6D9014A904}" type="slidenum">
              <a:t>23</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88C46D64-E2C6-45C2-8EED-7A79679560F4}" type="slidenum">
              <a:t>24</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P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March 1998 802 LMSC Plenary, a Study Group was formed to investigate the MAC &amp; PHY Layers for Wireless Personal Area Networks (WPANs). This study will examine the requirements for WPAN for PCs, HPCs, peripherals, and consumer electronic devices to communicate and interoperate with one another in the home, office, etc. The WPAN Study Group has defined a WPAN with 0 to 10 metre range, data rates of less than 1 Mbit/s, low power consumption, small size less than 0.5 cubic inches and low cost relative to target device. One of the first applications anticipated is for wireless communications for Wearable computing devic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F366AA6A-7D1B-4F62-802F-E3300A710316}" type="slidenum">
              <a:t>2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622BD1B-CAFB-4359-AA4B-675897BF2E8B}" type="slidenum">
              <a:t>2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B8B9A73-84EF-4746-9C80-823BDE208C97}" type="slidenum">
              <a:t>2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Bluetooth Specification, via Liaison &amp; Public info</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al Interest Group Formed May 20, 1998</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July 7, 1998 -98/253</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September 15, 1998 -98/300</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October 26, 1998 -98/350 (Minutes only)</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December 14, 1998 J. Carlo 802 Overview to Bluetooth SIG</a:t>
            </a:r>
            <a:endParaRPr b="0" lang="en-US" sz="2800" spc="-1" strike="noStrike">
              <a:solidFill>
                <a:srgbClr val="000000"/>
              </a:solidFill>
              <a:latin typeface="Times New Roman"/>
            </a:endParaRPr>
          </a:p>
          <a:p>
            <a:pPr lvl="1" marL="683280" indent="-26280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iaison #5 March 9, 1999 -99/053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A414E3A-D14E-4E6F-B6B3-93AA83843491}" type="slidenum">
              <a:t>2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28651B0-C030-480B-B9EA-F06BB7DD0D1E}" type="slidenum">
              <a:t>2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band Wireless LANs (LMDS) - EC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ersonal Area Networks - WG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62"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3"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A5EE85C-41F4-4913-9E4E-CA6C4A8EB9C6}" type="slidenum">
              <a:t>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40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40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0817E20F-8AC6-459C-A634-6E4821A81B4C}" type="slidenum">
              <a:t>30</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403" name=""/>
          <p:cNvGraphicFramePr/>
          <p:nvPr/>
        </p:nvGraphicFramePr>
        <p:xfrm>
          <a:off x="426960" y="2128680"/>
          <a:ext cx="8336160" cy="1986120"/>
        </p:xfrm>
        <a:graphic>
          <a:graphicData uri="http://schemas.openxmlformats.org/presentationml/2006/ole">
            <p:oleObj progId="Excel.Sheet.12" r:id="rId1" spid="">
              <p:embed/>
              <p:pic>
                <p:nvPicPr>
                  <p:cNvPr id="404"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405" name=""/>
          <p:cNvGraphicFramePr/>
          <p:nvPr/>
        </p:nvGraphicFramePr>
        <p:xfrm>
          <a:off x="380880" y="4343400"/>
          <a:ext cx="8406000" cy="1913040"/>
        </p:xfrm>
        <a:graphic>
          <a:graphicData uri="http://schemas.openxmlformats.org/presentationml/2006/ole">
            <p:oleObj progId="Excel.Sheet.12" r:id="rId3" spid="">
              <p:embed/>
              <p:pic>
                <p:nvPicPr>
                  <p:cNvPr id="406" name="" descr=""/>
                  <p:cNvPicPr/>
                  <p:nvPr/>
                </p:nvPicPr>
                <p:blipFill>
                  <a:blip r:embed="rId4"/>
                  <a:stretch/>
                </p:blipFill>
                <p:spPr>
                  <a:xfrm>
                    <a:off x="380880" y="4343400"/>
                    <a:ext cx="8406000" cy="1913040"/>
                  </a:xfrm>
                  <a:prstGeom prst="rect">
                    <a:avLst/>
                  </a:prstGeom>
                  <a:ln w="0">
                    <a:noFill/>
                  </a:ln>
                </p:spPr>
              </p:pic>
            </p:oleObj>
          </a:graphicData>
        </a:graphic>
      </p:graphicFrame>
      <p:sp>
        <p:nvSpPr>
          <p:cNvPr id="407"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408"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409"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165162C9-557D-40F9-BF43-545EDEFFB3B1}" type="slidenum">
              <a:t>31</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41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992F1600-D412-4D8A-BB19-201D1219CFEE}" type="slidenum">
              <a:t>32</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6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6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7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7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D9E51532-6594-40AB-9639-23ABD55B9D31}" type="slidenum">
              <a:t>4</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7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5624C98-DF1D-4A74-B08F-E33CB6557C2E}" type="slidenum">
              <a:t>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Purpose</a:t>
            </a:r>
            <a:endParaRPr b="0" lang="en-US" sz="3200" spc="-1" strike="noStrike">
              <a:solidFill>
                <a:srgbClr val="000000"/>
              </a:solidFill>
              <a:latin typeface="Times New Roman"/>
            </a:endParaRPr>
          </a:p>
        </p:txBody>
      </p:sp>
      <p:sp>
        <p:nvSpPr>
          <p:cNvPr id="8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upplemental standard for low complexity, low power consumption wireless connectivity to support interoperability among devices within or entering the POS. This includes devices (see below) that are carried, worn, or located near the body. The proposed project will address Quality of Service to support a variety of traffic classes.</a:t>
            </a:r>
            <a:endParaRPr b="0" lang="en-US" sz="2800" spc="-1" strike="noStrike">
              <a:solidFill>
                <a:srgbClr val="000000"/>
              </a:solidFill>
              <a:latin typeface="Times New Roman"/>
            </a:endParaRPr>
          </a:p>
        </p:txBody>
      </p:sp>
      <p:sp>
        <p:nvSpPr>
          <p:cNvPr id="82" name=""/>
          <p:cNvSpPr/>
          <p:nvPr/>
        </p:nvSpPr>
        <p:spPr>
          <a:xfrm>
            <a:off x="228600" y="5029200"/>
            <a:ext cx="8610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devices, which can be networked, include Comput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Digital Assistants (PDAs)/Handheld Personal Computers (HP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ers, microphones, speakers, headsets, bar code readers, sens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plays, pagers, and cellular &amp; Personal Communications Service (PCS) phon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9D342C5-E49A-422E-9F6D-6C5D84F23A88}" type="slidenum">
              <a:t>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derivative versions of the 802.11 PHY and MAC specifications for wireless connectivity with fixed, portable and moving devices within or entering a Personal Operating Space (POS).  A goal of the WPAN Group will be to achieve a level of interoperability (see -99/5) sufficient to transfer data between a WPAN device and an 802.11 device.</a:t>
            </a:r>
            <a:endParaRPr b="0" lang="en-US" sz="2800" spc="-1" strike="noStrike">
              <a:solidFill>
                <a:srgbClr val="000000"/>
              </a:solidFill>
              <a:latin typeface="Times New Roman"/>
            </a:endParaRPr>
          </a:p>
        </p:txBody>
      </p:sp>
      <p:sp>
        <p:nvSpPr>
          <p:cNvPr id="85" name=""/>
          <p:cNvSpPr/>
          <p:nvPr/>
        </p:nvSpPr>
        <p:spPr>
          <a:xfrm>
            <a:off x="228600" y="5562720"/>
            <a:ext cx="8610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al Operating Space (POS) is the space about a person that typically extends 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10 meters in all directions and envelops the person whether stationary or in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003AD39-501E-4E98-8BD8-09A317E44D50}" type="slidenum">
              <a:t>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 (Continued)</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PHY and MAC have been reviewed to determine their suitability to meet the Functional Requirements of the WPAN Applications as specified in IEEE documents -98/295-298 and -98/352.  Detailed suggestions on proposed changes to the IEEE 802.11 MAC &amp; PHY Standard have been reported in documents -98/322r2, 323, 32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2C2D16A-1765-4086-A0BD-120A094449A3}" type="slidenum">
              <a:t>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7559640" y="2057400"/>
            <a:ext cx="1432080" cy="1157400"/>
          </a:xfrm>
          <a:prstGeom prst="rect">
            <a:avLst/>
          </a:prstGeom>
          <a:ln w="0">
            <a:noFill/>
          </a:ln>
        </p:spPr>
      </p:pic>
      <p:pic>
        <p:nvPicPr>
          <p:cNvPr id="91" name="" descr=""/>
          <p:cNvPicPr/>
          <p:nvPr/>
        </p:nvPicPr>
        <p:blipFill>
          <a:blip r:embed="rId2"/>
          <a:stretch/>
        </p:blipFill>
        <p:spPr>
          <a:xfrm>
            <a:off x="7607160" y="4343400"/>
            <a:ext cx="1308240" cy="1405080"/>
          </a:xfrm>
          <a:prstGeom prst="rect">
            <a:avLst/>
          </a:prstGeom>
          <a:ln w="0">
            <a:noFill/>
          </a:ln>
        </p:spPr>
      </p:pic>
      <p:pic>
        <p:nvPicPr>
          <p:cNvPr id="92" name="" descr=""/>
          <p:cNvPicPr/>
          <p:nvPr/>
        </p:nvPicPr>
        <p:blipFill>
          <a:blip r:embed="rId3"/>
          <a:stretch/>
        </p:blipFill>
        <p:spPr>
          <a:xfrm>
            <a:off x="5794200" y="2755800"/>
            <a:ext cx="1673280" cy="2502000"/>
          </a:xfrm>
          <a:prstGeom prst="rect">
            <a:avLst/>
          </a:prstGeom>
          <a:ln w="0">
            <a:noFill/>
          </a:ln>
        </p:spPr>
      </p:pic>
      <p:sp>
        <p:nvSpPr>
          <p:cNvPr id="93"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94"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95"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6"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97"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8C96C36-FCEC-4A49-BC90-24B1E695FC28}" type="slidenum">
              <a:t>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dc:language>en-US</dc:language>
  <cp:lastModifiedBy>Ian C. Gifford</cp:lastModifiedBy>
  <cp:lastPrinted>1999-03-08T22:00:07Z</cp:lastPrinted>
  <dcterms:modified xsi:type="dcterms:W3CDTF">1999-03-10T06:12:45Z</dcterms:modified>
  <cp:revision>44</cp:revision>
  <dc:subject>doc.: IEEE 802.11-99/055r1</dc:subject>
  <dc:title>WPAN SG Tutorial</dc:title>
</cp:coreProperties>
</file>