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57B-2E06-4C62-BF77-09DB692C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695-0109-4B0F-A9B7-47BD2E3A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F33-588C-48FA-B017-19F407A5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A8D-5151-48AE-B755-C709A368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931-8D0D-4EA6-8A42-D129BCAD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78D-9267-4B21-A764-23760ABD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447-2CC9-4F30-BDEE-26DE1FEF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DCE-8C48-403E-8DAB-D46573A6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BC1-AF2B-4B57-B393-BA472041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C9F-0A19-4A31-806D-4CC31F5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AB9-0941-48F0-94CD-4FBFA8D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D87-6C49-4DAE-A3E8-31F2B82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A3FEBB-19E3-441A-9DCE-53F1F7C2F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5-9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Elizabeth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 Rene-Levesque Blvd.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, PQ H3B 4A5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9CF-A65D-4844-A6DB-1A322B7BBB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897-6C7B-4DBE-91FD-DE975C0CDB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all Objectives of the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ize Working Group Leadership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committees for initial d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E04-80E8-4A06-95F1-DE0D2F0AA9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32C-A9CA-4BB2-ABC6-B5E273B11D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125-A958-4279-8904-A665741558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3CD-7944-42C3-A4A2-A8114B7796B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Ian C. Gifford</dc:creator>
  <dc:description>&lt;doc#&gt;</dc:description>
  <dc:language>en-US</dc:language>
  <cp:lastModifiedBy>Bridget Labrode</cp:lastModifiedBy>
  <cp:lastPrinted>1999-07-05T17:36:41Z</cp:lastPrinted>
  <dcterms:modified xsi:type="dcterms:W3CDTF">1999-07-05T22:44:03Z</dcterms:modified>
  <cp:revision>29</cp:revision>
  <dc:subject>IEEE 802.15 &lt;subject&gt;</dc:subject>
  <dc:title>IEEE P802.15 Working Group for Wireless Personal Area Networks</dc:title>
</cp:coreProperties>
</file>