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248B-4958-42AE-879D-D1540E3C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6A2F-CAE1-42D5-A9CF-63410608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EBB1-2B5F-44AF-AC86-7E5547B1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8A0A-8AD1-4D6A-8216-4CA93A3E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D2BF-5DB9-4E9A-AA66-A022897E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7E8A-BBDD-430C-BCCD-146B02F6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8225-047A-42E1-B1F5-BD8BA6A5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559C-3E60-4E2A-8C29-24FB0DB1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7AB-A5AC-48AA-A346-D5259D77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FC65-5AD6-4471-8528-208EC21E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471C-F235-4934-AB0A-6CEAF947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E01D-03C7-4B76-9C35-3C58DC09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3626A4E-7AEE-43C1-A65E-88055CD8D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8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on Thurs ExCom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utes of Meeting Available on 802 Web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treal Attendance 467 vs 488 plan but with a $5600 pro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 voted to increase munchies budget by $2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802.16 PAR on Coexistence of Broadband Wireless Access Systems with a project number of 802.16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ming of 802.16 to 802.16.1 was tab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78C6-03F0-4826-8F59-7615DB97DB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on Thurs ExCom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Submission of letter to FCC regarding RF Ligh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Submission of Comments to FCC on Wideband FH proposal subject to approval  by US Activities 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s encouraged to work with HomeRF at Sept Meeting to resolve a 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Submission of 802.11 a&amp;b to RevCom subject to compliance with conditional approval proced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E48B-A664-4BD7-972F-34972D40F28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on Thurs ExCom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letters to ETSI requesting consideration of 802.11a as a member of the HIPERLAN family of stand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formation of an 802.11 SG on isochronous service and other enhancements--John Fakatselis, ch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firmed Officers of 802.15 through March 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3CBB-9982-423A-B27A-BC1BFF9BE3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on Thurs ExCom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Formation of an 802.15 SG on Coexis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yes did not see need for separate SG, covered by 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mpson thought it important, but scope beyond dot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ile promised strong liaisons, especially with dot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s did not understand need for including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 carried to strike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mpson would like to see specific recommendations, by November, why this activity should stay within dot15 rather than being elevated to 802 le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4674-0F2D-4558-B733-CE5D02511B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on Thurs ExCom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art Kerry appointed chair of SEC subcommittee to prepare a recommendation on Network Access and Services by Sept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s of Multiple MACs and Multiple Standards per WG was socialized.  No Action T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ing 802 Plenary Meeting moved to 11-12 timeslot allowing WGs to begin work at 1p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ing adjourned at mid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5CDC-1525-4D85-BC28-F0D80C162C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2:42:31Z</dcterms:created>
  <dc:creator>Bridget Labrode</dc:creator>
  <dc:description/>
  <dc:language>en-US</dc:language>
  <cp:lastModifiedBy>Bridget Labrode</cp:lastModifiedBy>
  <dcterms:modified xsi:type="dcterms:W3CDTF">1999-09-13T13:24:29Z</dcterms:modified>
  <cp:revision>5</cp:revision>
  <dc:subject/>
  <dc:title>No Slide Title</dc:title>
</cp:coreProperties>
</file>