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E80-4148-4AAE-8828-F140C480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221-9C37-4316-90BD-F5371F4D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994-4D03-49E9-B27C-E51EEB14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04E-7D13-485F-B37B-9BFE9661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D6E-6748-4CB4-A2B1-A0C423E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FFE-FBF2-411D-9EDB-EF7252FA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782-6A77-438B-B1EA-0A0F97A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6D5-9C31-4937-9655-19BB2A9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5DE-BDC0-4231-B5B0-876B711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A8D-395E-478E-A45F-85FD1BA4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3CF-5253-43B5-BA6D-B4B7342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061-1FAC-47A9-89C8-B5CFE002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28E9EA-F7D7-45CD-9C49-0EA6C13C6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Functional Organization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B44-C41A-4032-9E42-8944381539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802.15 TG1 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be FrameMaker v5.5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 in Technical Wr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2200" y="2116080"/>
          <a:ext cx="8491680" cy="16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116080"/>
                    <a:ext cx="8491680" cy="16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553080" y="1600200"/>
            <a:ext cx="1981440" cy="990720"/>
          </a:xfrm>
          <a:prstGeom prst="wedgeRectCallout">
            <a:avLst>
              <a:gd name="adj1" fmla="val -62259"/>
              <a:gd name="adj2" fmla="val 13669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ed help in wr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MAC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629400" y="4191120"/>
            <a:ext cx="2133720" cy="1218960"/>
          </a:xfrm>
          <a:prstGeom prst="wedgeRectCallout">
            <a:avLst>
              <a:gd name="adj1" fmla="val -48662"/>
              <a:gd name="adj2" fmla="val 100648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HY Lay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be  folded into 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yer Editor’s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67280"/>
            <a:ext cx="8229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want to help please talk to Tom Siep &lt;siep@ti.co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4AA-0D48-420B-A89D-2CD452EA7B5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P802.15 Functional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Functional Organization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-IEEE Editorial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1BB-CDE6-43CB-ADAA-F5093D8668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 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720" y="1857240"/>
            <a:ext cx="823608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B36-0CC9-473D-97AA-107E33C9F58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16120" y="1522440"/>
          <a:ext cx="756432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522440"/>
                    <a:ext cx="756432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3FAE-27C2-4DFF-8818-80C9BFF6AE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480" y="2738520"/>
          <a:ext cx="889308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738520"/>
                    <a:ext cx="889308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CDB-885A-4350-A8D7-9B822E8B31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584-7D9E-4444-95C8-7A9C1EB263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40120" y="2517840"/>
          <a:ext cx="424368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2517840"/>
                    <a:ext cx="424368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2516040"/>
          <a:ext cx="3357720" cy="19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16040"/>
                    <a:ext cx="3357720" cy="19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507-E489-4163-92B1-DA8F778DB5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Functional Organiz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51000" y="2066760"/>
          <a:ext cx="6638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2066760"/>
                    <a:ext cx="6638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1480" y="3925800"/>
            <a:ext cx="1051200" cy="2551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38040" y="59245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8040" y="552600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049720"/>
            <a:ext cx="80496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64976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24980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851280"/>
            <a:ext cx="804960" cy="39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451320"/>
            <a:ext cx="8049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295280" y="5029200"/>
            <a:ext cx="1905120" cy="9144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324480" y="3581280"/>
            <a:ext cx="2175120" cy="1719360"/>
            <a:chOff x="6324480" y="3581280"/>
            <a:chExt cx="2175120" cy="1719360"/>
          </a:xfrm>
        </p:grpSpPr>
        <p:sp>
          <p:nvSpPr>
            <p:cNvPr id="81" name=""/>
            <p:cNvSpPr/>
            <p:nvPr/>
          </p:nvSpPr>
          <p:spPr>
            <a:xfrm>
              <a:off x="6324480" y="3581280"/>
              <a:ext cx="2175120" cy="1719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4800" y="3868920"/>
              <a:ext cx="16174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A Radio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B Baseband Specif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C Link Manager Proto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t D L2CA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ol.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Bluetooth%20logo%20(tm)" descr=""/>
          <p:cNvPicPr/>
          <p:nvPr/>
        </p:nvPicPr>
        <p:blipFill>
          <a:blip r:embed="rId4"/>
          <a:stretch/>
        </p:blipFill>
        <p:spPr>
          <a:xfrm>
            <a:off x="5959440" y="5791320"/>
            <a:ext cx="265104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F9C-E9BE-4C68-B7EA-66B7D46346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Thoughts on Time 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8600" y="2743200"/>
          <a:ext cx="849780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849780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FAA-40FF-4B1D-85DB-2A3163E987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3:26:07Z</dcterms:created>
  <dc:creator>Tom Siep</dc:creator>
  <dc:description>075r0</dc:description>
  <dc:language>en-US</dc:language>
  <cp:lastModifiedBy>Tom Siep</cp:lastModifiedBy>
  <cp:lastPrinted>1998-02-10T13:28:06Z</cp:lastPrinted>
  <dcterms:modified xsi:type="dcterms:W3CDTF">1999-09-14T20:09:30Z</dcterms:modified>
  <cp:revision>11</cp:revision>
  <dc:subject>IEEE 802.15 Functional Organization/Recruitment</dc:subject>
  <dc:title>IEEE P802.15 Working Group for Wireless Personal Area Networks</dc:title>
</cp:coreProperties>
</file>