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E0D440-5C4D-4230-A93A-DD40EB25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9433E9-F152-49C3-8E27-29D0531BC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704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5560" y="4925880"/>
            <a:ext cx="50832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6FC-2AF8-4930-9893-6749E02E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3D7-CA2B-4A6B-9DFE-C446D78A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41D-2D91-4E39-A0BD-CF978073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7BC-53F9-425B-90ED-BE351FB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9BC-58B5-4A6C-817B-4F99720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E89-68FA-41F6-BA1D-798E65E8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5C3-61B4-4CBC-96C2-E19B17E0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D51-7D2C-463E-B739-F2DFB64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EA3C-CF9D-4BB0-9C0A-A9E21B2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B98-40A4-4305-AFBE-AEA1139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8E6-4A6A-442E-AD87-BC22710F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749-0099-4B76-9E3F-B645E155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A94F67-67AF-4ED0-8E8F-35ACDB7F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80A-C216-4E09-A299-476D7BC139C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0F7-A086-47AD-BE82-E0041935AC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BB7-3624-4BB9-A6D8-A15E0F7847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E28-5585-45D3-A12D-C887DF466F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70D-86C6-4259-A96A-56F2AE856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036-0D0A-4448-A2BB-9FE7730536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7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10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1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2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2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CA0-D0F0-46FA-B90A-6A39CFC6EB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3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4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4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6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8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20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1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BAD-9F5A-4288-BDC9-DD3F0EB96B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33A2-DD25-4E9E-A8A5-140C240DD8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658-33AA-4564-A231-06C6431C86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7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7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8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8C1-9BD3-4E7E-A250-CE40F2D648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Ian C. Gifford</cp:lastModifiedBy>
  <cp:lastPrinted>1998-02-10T13:28:06Z</cp:lastPrinted>
  <dcterms:modified xsi:type="dcterms:W3CDTF">1999-09-13T05:15:18Z</dcterms:modified>
  <cp:revision>1</cp:revision>
  <dc:subject>IEEE 802.15 Tutorial</dc:subject>
  <dc:title>Nokia Hardware Overview</dc:title>
</cp:coreProperties>
</file>