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4F95842-0B94-4331-8D31-E8AF87EFBB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3960" y="8985240"/>
            <a:ext cx="711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s for pitching this report -99/64r0 on Monday at 9:19am to the P802.15 Full W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itch is specifically for the following agenda -99/54r2  ite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3.3 II REPORT ON TG1 ACTIVITIES AND PLANS - GIFFORD 10 09:19 A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will update this report to r1 and r2 for Wednesday &amp; Friday Full WG Updates.  I will need help on the Friday Report to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st Regard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B97F-320F-4DCD-A083-18A580BA5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459C-9821-4A9C-A134-63E86C7DA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2FA2-8E74-4F8D-BD58-1489B7165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D047-840E-4640-A8BD-7974198B8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6A78-9A88-4B95-84B8-C4A0D20B4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96B2-D475-4AAA-A954-08E236398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C1A4-8804-4EA8-84FE-C276D17B5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8274-823D-4C8C-83AD-5D7D510CE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B9F9-D357-4605-A65C-6DB1FB199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6E8A-1496-4735-AAFE-67EFA485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9581-9EB8-4016-8B5E-A684646C1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80E8-EE8A-42B3-A721-42309C0FA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6811799-EDE5-4DED-B5A4-5CD44419DB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083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G1 Report #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63C0-C928-408E-9084-03ED607001F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anta Rosa - Objec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KICK OFF WORK ON TG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VOTE ON REMAINING TG1 OFFI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PROVIDE AN UPDATE ON TG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PROVIDE AN OVERVIEW OF THE BLUETOOTH SPECIFICATION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PLAN FOR or OVERVIEW INITIAL DRAFT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VOTE TO SUBMIT THE DRAFT TO WG LETTER BALLOT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VOTE TO REVIEW THE COMMENTS FROM WG LB #1 IN NOV99 PLE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48120" y="4343400"/>
            <a:ext cx="2057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664E-2F3B-4C8A-A9E7-BAC4B1C204B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anta Rosa - Submis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enty-four (24) Submi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 (6) Bluetooth Liai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ting an Interim Conference Tutorial on Tuesday 14Sep99 from 6:30 to 9:00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a detailed overview of the “Mapping the Bluetooth Specification to IEEE 802.15.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E48A-779D-4259-9D40-1DB98A1A223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571840" y="4648320"/>
            <a:ext cx="1460520" cy="9903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33680" y="1968480"/>
            <a:ext cx="2463840" cy="12193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34080" y="2514600"/>
            <a:ext cx="1574640" cy="21463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58880" y="3200400"/>
            <a:ext cx="711360" cy="14479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44560" y="4216320"/>
            <a:ext cx="1701720" cy="4320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anta Rosa - TG1 Session O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7120" y="1314360"/>
            <a:ext cx="8963280" cy="52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Monday    |  Tuesday  |Wednesday    |   Thursday |   Friday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Full 802.15 |    TG1    | TG1   ! SG  |    MC      |Full 802.15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AM |.............|           |       !     |............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MC  ! SG  |           |       !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!     |           |       !     |    TG1     |............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SG     | TG1 ! SG  | Joint.11/.15|    TG1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     !     |.............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PM |             |     !     | 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.............|     !     | Full 802.15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TG1     |     !     | 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Eve-|             | Bluetooth |   Social    | Pizza Party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ning|             |  Tutorial |             |     &amp;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6:30p-8:00p|             | Doc Editing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gend:   ......... = flexible adjournment/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G1 = Bluetooth Submission, SG = Coexistence, MC =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762120"/>
            <a:ext cx="228600" cy="2286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9720" y="762120"/>
            <a:ext cx="17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Task Group 1 in 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075F-28F5-4AC2-B220-EF26B385585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740560" y="2514600"/>
            <a:ext cx="1574640" cy="6858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038480" y="1981080"/>
            <a:ext cx="16765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77960" y="4648320"/>
            <a:ext cx="1460520" cy="9903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51040" y="4216320"/>
            <a:ext cx="1701720" cy="4320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40160" y="1981080"/>
            <a:ext cx="1498320" cy="17528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anta Rosa - TG1 Session N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7120" y="1327320"/>
            <a:ext cx="8963280" cy="52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Monday    |  Tuesday  |Wednesday    |   Thursday |   Friday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Full 802.15 |    TG1    |     TG1     |    MC      |Full 802.15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AM |.............|           |.............|............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MC  ! SG  |           | 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!     |           |      SG     |    TG1     |............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SG     |    TG1    | Joint.11/.15| SDL Model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...........|.............|   Class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PM |             |           | 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.............|           | Full 802.15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TG1     |     SG    | 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Eve-|             | Bluetooth |   Social    | Pizza Party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ning|             |  Tutorial |             |     &amp;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6:30p-8:00p|             | Doc Editing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gend:   ......... = flexible adjournment/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G1 = Bluetooth Submission, SG = Coexistence, MC =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762120"/>
            <a:ext cx="228600" cy="2286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9720" y="762120"/>
            <a:ext cx="17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Task Group 1 in 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197C-9AD1-4561-9A19-3C4E8818BAD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xt Steps -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G1 Tas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802.15 Authorize P802.15 WG LB #1 between the Sep99 - Nov99 (B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802.15 Compose P802.15 WG Electronic Letter #1 Ballot (B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802.15 Upload Draft Standard to the private Web Site (I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802.15 WG Letter Ballot #1 Package Distribution (B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802.15 Letter Balloting (W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802.15 Process and Consolidation Comments (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802.15 WG LB #1 Comment Resolution (WG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4160" y="2476440"/>
            <a:ext cx="8305560" cy="1295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4480" y="762120"/>
            <a:ext cx="761760" cy="304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54360" y="730080"/>
            <a:ext cx="125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TG1 Foc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B447-6E54-4AFF-94B2-DD330E6F577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xt Steps -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 TG1 Tasks (Monito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T-IEEE WG Finalize Draft Standard (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T-IEEE WG Submit Draft Standard to BSIG Program Management (C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SIG Review Derivative Draft Standard Submission (BSI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SIG Disposition Draft Standard/Submit to IEEE P802.15, if ok (J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4160" y="1752480"/>
            <a:ext cx="8305560" cy="1295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4480" y="762120"/>
            <a:ext cx="761760" cy="304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54360" y="730080"/>
            <a:ext cx="125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TG1 Foc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A527-5D49-46AC-B6AB-D591089052C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G1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view of Santa R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nday, 13Sep9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uesday, 14Sep9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dnesday, 15Sep9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ursday, 16Sep9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for Santa Ros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mi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54FE-15B1-481B-9BB3-E63CA8995A8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view of the TG1 Tasks - 14Sep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uetooth SIG Letter of Intent (J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1 July 5-9, 1999 Montreal, PQ, Can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Finalize the Copyright License Agreement (I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2 September 13-17, 1999 Santa Rosa, CA USA Hilton 802.15 Interim Meeting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T-IEEE WG Finalize Draft Standard (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T-IEEE WG Submit Draft Standard to BSIG Program Management (C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SIG Review Derivative Draft Standard Submission (BSI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SIG Disposition Draft Standard/Submit to IEEE P802.15, if ok (J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3 November 8-12, 1999 Kauai, Hawaii Hyatt Regency, 802 Plenary Meet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Authorize P802.15 WG LB #1 between the Sep99 - Nov99 (B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Compose P802.15 WG Electronic Letter #1 Ballot (B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Upload Draft Standard to the private Web Site (I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WG Letter Ballot #1 Package Distribution (B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Letter Balloting (W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Process and Consolidation Comments (?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WG LB #1 Comment Resolution (W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4 January 10-14, 2000 Tel-Aviv, IL InterContinental, 802.15 Interim Meetin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5 March 6-10, 2000 Albuquerque, NM Hyatt Regency, 802 Plenary Meet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960" y="4292640"/>
            <a:ext cx="71629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3EF3-1AA7-467E-8DCC-AB468DC9C88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view of the TG1 Timeline - 14Sep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15Ka" descr=""/>
          <p:cNvPicPr/>
          <p:nvPr/>
        </p:nvPicPr>
        <p:blipFill>
          <a:blip r:embed="rId1"/>
          <a:stretch/>
        </p:blipFill>
        <p:spPr>
          <a:xfrm>
            <a:off x="63360" y="1819440"/>
            <a:ext cx="9004320" cy="2835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664240" y="3314880"/>
            <a:ext cx="762120" cy="304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37960" y="5043600"/>
            <a:ext cx="65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TG1 had an offline discussion with Vic Hayes Tuesday, 14Sep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help us understand the WG LB Proc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52880" y="3428640"/>
            <a:ext cx="91440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BA53-0BBF-46F8-85C6-73148F9981A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view of Monday, 13Sep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opened our meeting at 4:15pm and processed all of our Agenda Items.  The key items we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 FROM BT-IEEE EDITORIAL WORK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VIEW OF WG &amp; SPONSOR BALLOT RUL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698F-9066-4387-9161-16FF4C58DA5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view of Tuesday, 14Sep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opened our meeting at 8:32am and processed most of our Agenda Items.  The key items we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VIEW OF THE BLUETOOTH SYSTEM (Morning &amp; Even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BLUETOOTH LIAI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G1 MILESTONE/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ING FOR WG BAL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3909-AFF0-4F4C-AFD0-B4389AD5C77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view of Wednesday, 14Sep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opened our meeting at 8:33am and processed most of our Agenda Items.  The key items we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G1 FUNCTIONAL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G1 RESOURCE RECRUI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LANNING FOR SPONSOR BALLOT -99/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NING FOR 802 COORDINATION -99/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NING FOR BLUETOOTH COORDINATION -99/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NING FOR ETSI COORDINATION -99/[80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 FOR INITIAL DRAFT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 NEXT STEP WITH DRA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ION #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ED AND APPROVED WEDNESDAY DRAFT TG1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257800"/>
            <a:ext cx="221004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793120" y="2611440"/>
            <a:ext cx="312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} siep@ti.c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0CE8-3DF1-455D-A13D-6DFD8FB74C2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974880" y="1619280"/>
            <a:ext cx="795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on: To empower the TG1 Chair and Vice Chair to release the Bluetooth submission on behalf of TG1 to the 802.15 WG and to make a motion to the 802.15 WG to submit the Draft to Letter Bal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30040" y="3643200"/>
            <a:ext cx="2480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Tom Si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Chatschik Bisdiki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te on TG1 Draft Process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01680" y="3138480"/>
            <a:ext cx="161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7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165320" y="5478480"/>
            <a:ext cx="34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942D-A2A4-4A47-9699-94A96375A817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view of Thursday, 14Sep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opened our meeting at X:XXam and processed most of our Agenda Items.  The key items we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?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NING FOR STANDARD MAINTE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?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NING FOR STANDARD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?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NING FOR STANDARD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?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NING FOR STANDARD ENHA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TE TO SUBMIT THE DRAFT TO WG LETTER BALLOT #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TE TO REVIEW THE COMMENTS FROM WG LB #1 IN NOV99 PLEN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FRIDAY DRAFT TG1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VE TG1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NEXT STEPS/ACTIONS OF THE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164720" y="2666880"/>
            <a:ext cx="1748880" cy="14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}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I w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via .15 Re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177B-205B-44D0-8216-3B3E4370E6C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2T05:58:24Z</dcterms:created>
  <dc:creator>Ian C. Gifford</dc:creator>
  <dc:description>083r0</dc:description>
  <dc:language>en-US</dc:language>
  <cp:lastModifiedBy>Bridget Labrode</cp:lastModifiedBy>
  <cp:lastPrinted>1998-02-10T13:28:06Z</cp:lastPrinted>
  <dcterms:modified xsi:type="dcterms:W3CDTF">1999-09-16T17:47:22Z</dcterms:modified>
  <cp:revision>22</cp:revision>
  <dc:subject>IEEE 802.15 TG1 Report #2</dc:subject>
  <dc:title>IEEE P802.15 Working Group for Wireless Personal Area Networks</dc:title>
</cp:coreProperties>
</file>