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585-599A-4706-BD99-9C4FF2CA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A3F-8702-47E3-8982-BE66B8BF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947-9A30-4832-A6F4-A7C3EEA9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153-96A0-4B6B-A6BF-DE948BE0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BEB-A11C-474D-A19B-70EECE81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5100-0DB1-45A8-8565-7521DCC1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D31-D6A0-4B03-9480-D38EBE23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062-A268-4B0D-865A-1C1783CD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AAA-C93E-4CBE-B4E0-20012298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D3B-763F-4B1F-B4BC-21A1DB12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89D-E1BB-4664-8350-CBE1C188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4B2-C2C8-4982-8598-51222AFF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D5F7638-B124-4412-BCB5-5085ACD8F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9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-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Perspectives Column-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dition of Personal Communications Magazine-De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Briefing: Global Wireless 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D8C-04C0-4DD7-9D21-1A1F00A094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Eng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/PC   ---Chiba, Japan Ma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99 Developers Conference  ---London, Jun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45, MobileIP WG ---Oslo, Norway, 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CON  ---Denver,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WC  ---San Francisco, 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ing Standards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ID News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4A1-01BE-471F-ACAF-B24DB5EBBE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3:16:34Z</dcterms:created>
  <dc:creator>Bridget Labrode</dc:creator>
  <dc:description/>
  <dc:language>en-US</dc:language>
  <cp:lastModifiedBy>Bridget Labrode</cp:lastModifiedBy>
  <dcterms:modified xsi:type="dcterms:W3CDTF">1999-09-13T13:38:08Z</dcterms:modified>
  <cp:revision>2</cp:revision>
  <dc:subject/>
  <dc:title>No Slide Title</dc:title>
</cp:coreProperties>
</file>