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2530-C8BA-4D39-8851-8C663A76D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53F5-334D-45F6-A38A-394F0712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748B-C7F8-417A-A2FE-96455854E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BEA3-B11A-4B79-B809-81B6B3D09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DC81-94DC-43FC-A330-977AC797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8F49-9FF6-4568-A077-8CD9B70F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0D9A-E81E-4FBC-B2FF-8743EB43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4B21-62F8-4D25-8ABA-9D51D26C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9B97-3D4B-402E-86C8-5512D405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4FD2-0526-46EA-AA9C-026E829E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C73B-3F75-4991-BC65-EA47F46F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99D0-1414-422A-A82B-13B14A8A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15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37BCD06-AAC1-425E-8891-1EA770286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88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Task Group Char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a Coexistence Task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of “Coexisten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pe of Task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ter of Task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Group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A11A-66C3-49EE-AA08-8EFED9521B3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Traffic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the data traffic flow based upon different application scenarios for both the WLAN and WPAN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ce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ehouse dat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 &amp;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69A7-5482-4CE0-8116-D17C9593D77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 Layer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the WLAN and WPAN MAC lay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 that with the Data Traffic models to determine when each of the networks are transmitt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C5B5-061B-4E76-AC10-E8FEFFD8EA0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F Propaga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RF signal power levels at the different WPAN and WLAN nodes based on an RF propagation 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different application scenarios and physical distribution of devi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03F6-F5BB-4F76-BA66-9FC49F313E7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together the four parts of the model to predict the impact on the WPAN and WLAN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hrough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787D-EC86-4BBC-97D8-6AF04BC2A2C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existence Model will likely require work in all of the following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likely need to cross check using these different tools to verify the accuracy of the Coexistenc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0522-B3BB-4DAE-8BD1-857C65B021F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Task Group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previously performed resea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Teams to work the different areas of the Coexistence Mod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out what is the best approach to model the four areas of the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out what is the best method to synthesize the four areas of the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the network performance metrics we plan to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C459-9FBD-4839-9B30-C85752A68DD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ordination with 802.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rticular we need to find a way to have some members of 802.11 participate in the Task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nte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F82F-51A3-4702-B07A-1603276A1F4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ed for Coexistence Task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important that IEEE 802.15 WPAN devices coexist with other wireless devices in the unlicensed frequency b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rticular it is very important that 802.15 WPAN devices coexist with IEEE 802.11 WLAN de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FF8E-7F89-49DE-B19F-8F453C30D74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ition of Coexist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wireless devices are said to “coexist” if they can be collocated without significantly impacting the performance of any of these de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68B9-3A71-4907-884B-6FFE8769D93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oper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EEE currently defines three levels of interope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ly exchanging two interoperable devices causes no damage to the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our definition of co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operable devices can exchang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allow but not require interoperability as a coexistence mecha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385E-0814-4A1C-8AB4-1F7EBB134C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pe of Coexistence Task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al will be to address coexistence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802.15 WPAN with any 802.11 W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802.15 WPAN with any other 802.15 WPAN (assuming there will be more than 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802.15 WPAN with selected other devices in the same band (e.g. HomeRF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958A-B9C9-447C-B1D2-B4B55F43091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Task Group Char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e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 Coexistenc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 Recommended Practices to for 802.15 and 802.11 to facilitate coexis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y suggest modifications to the 802.15 and 802.11 standards to enhance coexis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0BE5-5E34-4143-B0C4-3899BB4DE8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this model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understand under what circumstance there is a coexistence problem and under what circumstances there is not a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velop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pporting evi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justify the recommended suggested practices and possible standards modif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7C74-6E34-4176-9477-0586BD8B93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2613000">
            <a:off x="3428640" y="2868480"/>
            <a:ext cx="2133720" cy="2133720"/>
          </a:xfrm>
          <a:prstGeom prst="rect">
            <a:avLst/>
          </a:prstGeom>
          <a:solidFill>
            <a:srgbClr val="ff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1840" y="195408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 Layer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5640" y="370692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 Layer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080" y="3657600"/>
            <a:ext cx="26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Traffic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5459400"/>
            <a:ext cx="30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 Propaga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00040" y="373392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8D44-3530-4EAC-A4A0-77B4EF02166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 of the 802.11 and 802.15 PHY layers which will predict the impact of mutual interference when multiple devices are operating simultaneously, based upon given signal power lev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5D73-46F5-4803-AF97-A0963D4C755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15:27:50Z</dcterms:created>
  <dc:creator>Steve Shellhammer</dc:creator>
  <dc:description>99/xxxr0</dc:description>
  <dc:language>en-US</dc:language>
  <cp:lastModifiedBy>Steve Shellhammer</cp:lastModifiedBy>
  <cp:lastPrinted>1998-02-10T13:28:06Z</cp:lastPrinted>
  <dcterms:modified xsi:type="dcterms:W3CDTF">1999-09-15T15:57:02Z</dcterms:modified>
  <cp:revision>45</cp:revision>
  <dc:subject>IEEE 802.15 Coexistence Charter</dc:subject>
  <dc:title>No Slide Title</dc:title>
</cp:coreProperties>
</file>