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E05B-7DF2-4D86-A059-33E7496B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D9EA-F3DD-492A-A8D9-F40753C7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22F6-DCF1-4253-8820-2D5A3D15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FB8F-7485-4AD9-8081-83E3624A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7FAF-3C6F-4B9B-A987-3897F08E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868F-7A84-4CB3-9759-B3431D6C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EEF7-920D-4D4B-91D0-C74F4BA3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5AA3-A348-4396-8E1B-5B87DDFF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AC1C-DBBB-4370-BE1F-B5260726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FA2E-F8C1-4B73-AFE0-3230C73F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43B7-9260-4058-B02C-558F7E8D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3309-B5B3-48AE-BE40-DED7701F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8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C2C81D0-EB92-41C9-BFE1-18A484373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xistence and Interoperability Stud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261B-8B0C-4DD2-A79E-1D019AA041E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udy Group Sche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think about what to include in PAR over the next two mon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send out material via em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PAR at Santa Ro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anta Rosa we will decide if we should include Interoper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Group work starts in Hawa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1F19-844A-4D8D-AF05-8359C1AEF52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Importance of Coexis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of 802.15 WPAN and 802.11 WLAN was mandated by the 802 Executive Committ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likely that WPAN and WLAN devices will operate in the same ISM b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PAN devices are likely to operate in locations where WLANs are insta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CC4A-00F2-488C-B8B9-E4BD4262BE2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Importance of 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rtant that two devices that conform to the 802.15 standard interoperate with one another at the Physical L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y also be desirable to have WPAN and WLAN devices interoperate at some higher l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75A2-9F28-4C0C-AA1D-D2451EAF75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pose the formation of a Coexistence and Interoperability Study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Group would write a Project Authorization Request (PAR) defining the objectives and scope of the Coexistence and Interoperability Task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Group would exist from July 1999 to November 199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8EB8-1941-4B9D-8D32-404354FFD0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devices with which a WPAN must coexist.  The following is a partial l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  1 &amp; 2 Mbps FH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  1 &amp; 2 Mbps DS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  5.5 &amp; 11 Mbps DS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802.15 WPAN devices, of potentially a different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6366-DA53-4178-83FB-AC5D6D91EC2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tential deliverables of the Task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ries of reports describing the impact of a WPAN on a WLAN in the same vicinity, and visa ver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of recommended practices for both the WPAN and WLAN to maximize co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, some recommended modifications or extensions to the WPAN and/or WLAN standards to improve coexis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21A6-FF25-4EAE-9AAB-3433E9E74E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levels of interope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5 to 802.15 devices (PHY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5 to 802.11 devices (higher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Group will define what type of interoperability to address as a Task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 from the W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2B7E-DF31-486F-889C-571B132FE0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aison with 802.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eems likely that the Task Group would likely set up a liaison with 802.11 to facilitate communication on the topics of coexistence and interoper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01E8-8F6E-4A6C-9660-40CC565300E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ested 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Shellhamm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rlos 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viz Kerma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urt Fis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a Golmi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tthias F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man Alborz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mon Baa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l Batliwa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ke Paczon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an Ree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ldwell Crossw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2CBA-3634-4C34-8E74-99D8CC494C2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19:46:37Z</dcterms:created>
  <dc:creator>Stephen J. Shellhammer</dc:creator>
  <dc:description>&lt;doc#&gt;</dc:description>
  <dc:language>en-US</dc:language>
  <cp:lastModifiedBy>Bridget Labrode</cp:lastModifiedBy>
  <cp:lastPrinted>1998-02-10T13:28:06Z</cp:lastPrinted>
  <dcterms:modified xsi:type="dcterms:W3CDTF">1999-07-08T17:21:14Z</dcterms:modified>
  <cp:revision>26</cp:revision>
  <dc:subject>IEEE 802.15 &lt;subject&gt;</dc:subject>
  <dc:title>IEEE P802.15 Working Group for Wireless Personal Area Networks</dc:title>
</cp:coreProperties>
</file>