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9AD-51EC-4780-A9E8-2C6CD534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1E4-A938-4D6C-932B-D60AF4D4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568-B95F-417A-87CB-3342D121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FB4-F584-41C2-BE4A-FA98F8BF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2F3-ECD9-4CD5-BC3A-1E7FBC77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754-8965-4FA4-8DB5-015CD5C8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F66-853C-40B3-BE33-615609BA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9AE-4AFD-419C-A8F8-47C97C7D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9BD-AA51-4300-8ED1-BC6BCD1E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FB7-2601-482F-958B-96BA61A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6DF-C864-4909-8CAE-BEDF445D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7FCF-2A6C-47C2-84BE-F06AECA6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5876B7-D745-4C80-A735-B39342D1A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5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Making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CD3-CE0E-4FDA-B1BB-DD4AF38DC1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5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Chang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lasses of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ial: does not effect the implementation of the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: effec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chn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may ha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en made in revie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u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A11-2615-44B5-B6C7-1340595AFD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483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Confirmation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s that any changes made do not invalidate previous “Approve” votes of those not a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38A3-0C08-43F7-9D1E-DDD1FBBDC9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705720" y="58672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so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 qualified from a Sponsor Ballo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IEEE-SA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room should be Sponsor Ballo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A8E-931C-4EEE-B6ED-3F85BBB3D7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238880" y="5867280"/>
            <a:ext cx="60984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Negative Vo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23E-5F36-4399-A251-3EAFE2BF4E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72400" y="5867280"/>
            <a:ext cx="8380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ed to Standards Board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follow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sor Ball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5E2-99A3-489B-BA7D-197E29FDE0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124080" y="2286000"/>
            <a:ext cx="2362320" cy="1066680"/>
          </a:xfrm>
          <a:prstGeom prst="leftArrow">
            <a:avLst>
              <a:gd name="adj1" fmla="val 50000"/>
              <a:gd name="adj2" fmla="val 5536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034-9E56-4C1B-B9BF-6D5E6CCA57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876920" y="4267080"/>
            <a:ext cx="53316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roup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ssion to ExC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EEE 802 Exec Committ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Criteria 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om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Auth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865-C095-413E-9C08-F6DBCF5CEB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0080" y="4267080"/>
            <a:ext cx="533520" cy="381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ablish Criteria for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proposa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292-ACE5-4756-9BAF-8BF2DA34E8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4120" y="4648320"/>
            <a:ext cx="6858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 Draft for Circ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or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outline (next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to Wor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FDC-8CF5-42F6-895E-BFEC9720C5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4100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Letter Ball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Ball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not outstanding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 available only to voting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4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can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487-44BD-4B4C-929D-5905F0F2F7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54100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ing Group Review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urned Ballo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es entered into Resolu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“Do Not Approve” votes must be ans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specific reasons for disapproval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t would tak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ange vote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Appr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9C9-3104-43B4-B6F8-1425234663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10080" y="586728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vable Negat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ation made if possible to change draft to satisfy comment and not get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70% approval to pro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778-CDBF-409D-A93B-EFF6251B05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952880" y="5029200"/>
            <a:ext cx="53352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e Changes to Obtain WG Approv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nly items that are effected by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s to avoid creating new “Do Not Approve”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724280" y="4329000"/>
          <a:ext cx="381024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329000"/>
                    <a:ext cx="38102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F46-4975-43FE-A244-BCCA7F2E65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,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18:09:33Z</dcterms:created>
  <dc:creator>Tom Siep</dc:creator>
  <dc:description>99/0xxr0</dc:description>
  <dc:language>en-US</dc:language>
  <cp:lastModifiedBy>Tom Siep</cp:lastModifiedBy>
  <cp:lastPrinted>1999-07-21T21:36:07Z</cp:lastPrinted>
  <dcterms:modified xsi:type="dcterms:W3CDTF">1999-07-27T22:28:58Z</dcterms:modified>
  <cp:revision>5</cp:revision>
  <dc:subject>IEEE 802.15 Steps to Making an IEEE 802 Standard</dc:subject>
  <dc:title>No Slide Title</dc:title>
</cp:coreProperties>
</file>