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8.png" ContentType="image/png"/>
  <Override PartName="/ppt/media/image1.wmf" ContentType="image/x-wmf"/>
  <Override PartName="/ppt/media/image31.wmf" ContentType="image/x-wmf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29.png" ContentType="image/png"/>
  <Override PartName="/ppt/media/image11.png" ContentType="image/png"/>
  <Override PartName="/ppt/media/image10.png" ContentType="image/png"/>
  <Override PartName="/ppt/media/image30.wmf" ContentType="image/x-wmf"/>
  <Override PartName="/ppt/media/image7.wmf" ContentType="image/x-wmf"/>
  <Override PartName="/ppt/media/image12.png" ContentType="image/png"/>
  <Override PartName="/ppt/media/image6.png" ContentType="image/png"/>
  <Override PartName="/ppt/media/image36.png" ContentType="image/png"/>
  <Override PartName="/ppt/media/image5.wmf" ContentType="image/x-wmf"/>
  <Override PartName="/ppt/media/image35.wmf" ContentType="image/x-wmf"/>
  <Override PartName="/ppt/media/image34.png" ContentType="image/png"/>
  <Override PartName="/ppt/media/image4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5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34200" cy="9078913"/>
  <p:custShowLst>
    <p:custShow name="ieee802.11" id="0">
      <p:sldLst>
        <p:sld r:id="rId3"/>
        <p:sld r:id="rId4"/>
        <p:sld r:id="rId5"/>
        <p:sld r:id="rId6"/>
        <p:sld r:id="rId8"/>
        <p:sld r:id="rId9"/>
        <p:sld r:id="rId10"/>
        <p:sld r:id="rId12"/>
        <p:sld r:id="rId13"/>
        <p:sld r:id="rId14"/>
        <p:sld r:id="rId15"/>
        <p:sld r:id="rId16"/>
        <p:sld r:id="rId18"/>
        <p:sld r:id="rId19"/>
        <p:sld r:id="rId22"/>
        <p:sld r:id="rId23"/>
        <p:sld r:id="rId24"/>
        <p:sld r:id="rId25"/>
        <p:sld r:id="rId26"/>
        <p:sld r:id="rId27"/>
        <p:sld r:id="rId30"/>
        <p:sld r:id="rId3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A51-9FBE-4723-AF4F-42E1C5E0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F82-1F3D-4875-A6CA-74D94DD3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337-E376-45BC-BFF8-8F7923D3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168-3FF6-4AFE-B479-9D0166B6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AF6-6843-4FBE-B518-7E0EA35F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E98-2E0C-4BCB-AE6A-FDD60748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647-9FEA-407D-9988-C57E4826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E22-F9C1-4FE8-8D19-DB6518C4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46E-BAAF-42E4-A783-ED6A0880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075-CC32-4DA2-8C0D-338A0665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61E-158A-4AD4-88C9-200C0D6B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AAF-D31A-483D-966D-289D95B5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c.: IEEE 802.15-0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isdikian-</a:t>
            </a:r>
            <a:fld id="{3A0E47EF-1545-4D26-A0BC-FC895B789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0.png"/><Relationship Id="rId6" Type="http://schemas.openxmlformats.org/officeDocument/2006/relationships/image" Target="../media/image26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uetooth Architecture Overview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r. Chatschik Bisdikia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M Research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.J. Watson Research Cente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wthorne, NY 10532, U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isdik@us.ibm.com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94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3940200" y="2671920"/>
            <a:ext cx="860400" cy="1054080"/>
            <a:chOff x="3940200" y="2671920"/>
            <a:chExt cx="860400" cy="1054080"/>
          </a:xfrm>
        </p:grpSpPr>
        <p:sp>
          <p:nvSpPr>
            <p:cNvPr id="496" name=""/>
            <p:cNvSpPr/>
            <p:nvPr/>
          </p:nvSpPr>
          <p:spPr>
            <a:xfrm rot="20846400">
              <a:off x="4006080" y="2741760"/>
              <a:ext cx="529200" cy="491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tosh500" descr=""/>
            <p:cNvPicPr/>
            <p:nvPr/>
          </p:nvPicPr>
          <p:blipFill>
            <a:blip r:embed="rId3"/>
            <a:stretch/>
          </p:blipFill>
          <p:spPr>
            <a:xfrm>
              <a:off x="3940200" y="2671920"/>
              <a:ext cx="860400" cy="105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8" name="globe3" descr=""/>
          <p:cNvPicPr/>
          <p:nvPr/>
        </p:nvPicPr>
        <p:blipFill>
          <a:blip r:embed="rId4"/>
          <a:srcRect l="13639" t="0" r="12661" b="0"/>
          <a:stretch/>
        </p:blipFill>
        <p:spPr>
          <a:xfrm>
            <a:off x="6994440" y="2441520"/>
            <a:ext cx="1406520" cy="1521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4338000" y="1036800"/>
            <a:ext cx="2698560" cy="2705040"/>
            <a:chOff x="4338000" y="1036800"/>
            <a:chExt cx="2698560" cy="2705040"/>
          </a:xfrm>
        </p:grpSpPr>
        <p:pic>
          <p:nvPicPr>
            <p:cNvPr id="501" name="" descr=""/>
            <p:cNvPicPr/>
            <p:nvPr/>
          </p:nvPicPr>
          <p:blipFill>
            <a:blip r:embed="rId6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4338000" y="1036800"/>
              <a:ext cx="2643120" cy="988560"/>
              <a:chOff x="4338000" y="1036800"/>
              <a:chExt cx="2643120" cy="988560"/>
            </a:xfrm>
          </p:grpSpPr>
          <p:pic>
            <p:nvPicPr>
              <p:cNvPr id="51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51400" y="1547640"/>
                <a:ext cx="97308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4" name=""/>
              <p:cNvGrpSpPr/>
              <p:nvPr/>
            </p:nvGrpSpPr>
            <p:grpSpPr>
              <a:xfrm>
                <a:off x="4338000" y="1547640"/>
                <a:ext cx="919080" cy="477720"/>
                <a:chOff x="4338000" y="1547640"/>
                <a:chExt cx="919080" cy="4777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433800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48956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64220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80924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4964040" y="1036800"/>
                <a:ext cx="1633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PSTN, ISDN,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LAN, WAN, xDS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6062040" y="1547640"/>
                <a:ext cx="919080" cy="477720"/>
                <a:chOff x="6062040" y="1547640"/>
                <a:chExt cx="919080" cy="4777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06204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21360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6624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53328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5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Data access poi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ore connector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y internet ac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connection experie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B0D-8338-4500-AB68-1D5C4B0422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133720" y="5367240"/>
            <a:ext cx="2898720" cy="424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33720" y="484668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33720" y="386856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01960" y="435780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01960" y="386856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256716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204480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06720" y="204480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613320" y="204480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40240" y="204480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1523880"/>
            <a:ext cx="3786120" cy="42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18840" y="2957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7809800">
            <a:off x="4582440" y="2977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5486400" y="4038480"/>
            <a:ext cx="426960" cy="1524240"/>
          </a:xfrm>
          <a:custGeom>
            <a:avLst/>
            <a:gdLst>
              <a:gd name="textAreaLeft" fmla="*/ 0 w 426960"/>
              <a:gd name="textAreaRight" fmla="*/ 154080 w 4269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46324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E84-5CB1-4522-939C-D164902DBD2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ad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 synthesis: frequency hopp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ersion bits into symbols: modu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mit pow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eiver sensitiv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E4C-0035-4435-9BBF-12E39B3AEB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47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network topolog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 desig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ed radios can be master or sl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are symmetric (same radio can be 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can connect to 7 simultaneous or 200+ inactive (parked) slaves per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piconet has maximum capacity (1 Mbp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 hopping pattern/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t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al impact with up to 10 piconets within r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1E6-1328-470B-BF8C-FA5CD5C951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rotoco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ing to join a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qui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 about radios to connect 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to a specific rad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ly on a piconet (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k/Hol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-power connected st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17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627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630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633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963-C6D5-49AF-95E5-4B2578FD14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link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ling-based (TDD) packet transmi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slot: 0.625msec (max 1600 slots/s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/slave slots (even-/odd-numbered slo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lling: master always “polls” slav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hronous connection-oriented (SCO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rcuit-switche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iodic single-slot packet assign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metric 64Kbps full-duple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ynchronous connection-less (ACL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mmetric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 packet size (1-5 slot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721 kbps (57.6 kbps return channel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8.8 - 432.6 kbps (symmetric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639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661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675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679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693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697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734-6AEB-4B50-9D59-AA2E8F49A4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security featur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st frequency hopping (79 channel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transmit power (range &lt;= 10m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 of remote devi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ed on link key (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 be performed in both direc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cryption of payload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 cipher algorit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ffects all traffic on a lin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 entry by us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41E-3B62-4AB1-8F80-DAA2FB47399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Key generation and us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1060560" y="1079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1200" y="20001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03480" y="1452600"/>
            <a:ext cx="350640" cy="547560"/>
          </a:xfrm>
          <a:prstGeom prst="downArrow">
            <a:avLst>
              <a:gd name="adj1" fmla="val 50000"/>
              <a:gd name="adj2" fmla="val 3904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69880" y="29894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17440" y="51865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81200" y="40845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01680" y="35434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01680" y="24861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01680" y="45705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74840" y="3083040"/>
            <a:ext cx="2743200" cy="304560"/>
          </a:xfrm>
          <a:prstGeom prst="leftRightArrow">
            <a:avLst>
              <a:gd name="adj1" fmla="val 50000"/>
              <a:gd name="adj2" fmla="val 179308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679840" y="53625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751480" y="498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39800" y="27432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60920" y="1066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80120" y="19875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03840" y="14400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70600" y="297648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18160" y="51832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280120" y="40719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02400" y="353052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02400" y="247320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02400" y="4557600"/>
            <a:ext cx="352440" cy="625680"/>
          </a:xfrm>
          <a:prstGeom prst="downArrow">
            <a:avLst>
              <a:gd name="adj1" fmla="val 50000"/>
              <a:gd name="adj2" fmla="val 443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370920" y="1116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85320" y="28242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37600" y="511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C91-4C1E-4703-B130-112629B5876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676520" y="1219320"/>
            <a:ext cx="6324480" cy="4266720"/>
            <a:chOff x="1676520" y="1219320"/>
            <a:chExt cx="6324480" cy="4266720"/>
          </a:xfrm>
        </p:grpSpPr>
        <p:sp>
          <p:nvSpPr>
            <p:cNvPr id="730" name=""/>
            <p:cNvSpPr/>
            <p:nvPr/>
          </p:nvSpPr>
          <p:spPr>
            <a:xfrm>
              <a:off x="1676520" y="335268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52840" y="506232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52840" y="454176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52840" y="356364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30720" y="405288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30720" y="356364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752840" y="226224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52840" y="173988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22520" y="173988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56040" y="173988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86480" y="173988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52840" y="121932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98280" y="2652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7809800">
              <a:off x="3866760" y="2683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9040" y="137160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48520" y="2506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517640" y="388620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94400" y="3581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D75-A3A6-49D8-AEE1-8D8F5A2AAD2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ftware architecture go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the target usage scenari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a variety of hardware platfor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od out of box user experi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able legacy appl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tilize existing protocols where possi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86B-DFF7-4285-9625-2EEB1DB3CBB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Bluetooth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 is Bluetooth and what does it do for you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usage scenarios examp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operability &amp;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4BA-A310-4628-801A-E83BF631070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Controller Interface (HCI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Layer Control &amp; Adaptation (L2CA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235-BF31-4136-909F-EE3557571A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ice Discovery Protocol (SD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F26-CAAF-42F3-95E8-BD9F9ACB2D7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FCOMM (based on GSM TS07.10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ephony Control Protocol Spec (TC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gacy protocol reus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8EA-3B0F-465F-B499-F2A72AAB64B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teroperability &amp; 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653000" y="1219320"/>
            <a:ext cx="3857760" cy="3672720"/>
            <a:chOff x="4653000" y="1219320"/>
            <a:chExt cx="3857760" cy="3672720"/>
          </a:xfrm>
        </p:grpSpPr>
        <p:sp>
          <p:nvSpPr>
            <p:cNvPr id="759" name=""/>
            <p:cNvSpPr/>
            <p:nvPr/>
          </p:nvSpPr>
          <p:spPr>
            <a:xfrm>
              <a:off x="5072040" y="2152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040" y="32986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72040" y="27255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72040" y="3871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45160" y="12924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218280" y="12924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791400" y="12924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4520" y="25938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35840" y="12924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532560" y="46036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60640" y="46022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53000" y="24400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6200000">
              <a:off x="4325400" y="287244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72040" y="12193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24600" y="13716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91400" y="37288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91400" y="25830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935840" y="37288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resents default solution for a usage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tical slice through the protocol st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s for interoperability and logo requireme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ch Bluetooth device supports one or more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C04-CE34-408E-AB00-FB9AA0D167D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neric Access Profi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ice Discovery Application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ial Port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al-up Networking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x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set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N Access Profile (using PP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ic Object Exchange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 Transfer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Push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ation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CS_BIN-based profil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Telephony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com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DC4-8314-4CEC-8ACF-C1261FAF32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2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896-61A2-4CC9-AA7F-1F8AD848F3B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609480" y="1025640"/>
            <a:ext cx="8020080" cy="4612680"/>
            <a:chOff x="609480" y="1025640"/>
            <a:chExt cx="8020080" cy="4612680"/>
          </a:xfrm>
        </p:grpSpPr>
        <p:sp>
          <p:nvSpPr>
            <p:cNvPr id="799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1" name=""/>
            <p:cNvGraphicFramePr/>
            <p:nvPr/>
          </p:nvGraphicFramePr>
          <p:xfrm>
            <a:off x="3903480" y="1488600"/>
            <a:ext cx="855720" cy="78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1488600"/>
                      <a:ext cx="85572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3" name=""/>
            <p:cNvGraphicFramePr/>
            <p:nvPr/>
          </p:nvGraphicFramePr>
          <p:xfrm>
            <a:off x="609480" y="2063520"/>
            <a:ext cx="1414440" cy="135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063520"/>
                      <a:ext cx="1414440" cy="13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5" name=""/>
            <p:cNvGraphicFramePr/>
            <p:nvPr/>
          </p:nvGraphicFramePr>
          <p:xfrm>
            <a:off x="2266920" y="1966680"/>
            <a:ext cx="131580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1966680"/>
                      <a:ext cx="131580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7" name=""/>
            <p:cNvGraphicFramePr/>
            <p:nvPr/>
          </p:nvGraphicFramePr>
          <p:xfrm>
            <a:off x="2371680" y="3012840"/>
            <a:ext cx="1271520" cy="40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012840"/>
                      <a:ext cx="127152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9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1320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13200" y="53528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6835680" y="50666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358040" y="53528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35804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48016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5713200" y="49240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864040" y="49240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35680" y="49240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358040" y="49240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8480160" y="49240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508520" y="49240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11880" y="4781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78320" y="372888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8320" y="29984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18000" y="4775040"/>
              <a:ext cx="80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05320" y="44510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092720" y="22046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692480" y="1461960"/>
              <a:ext cx="3240" cy="25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8" name="" descr=""/>
            <p:cNvPicPr/>
            <p:nvPr/>
          </p:nvPicPr>
          <p:blipFill>
            <a:blip r:embed="rId9"/>
            <a:stretch/>
          </p:blipFill>
          <p:spPr>
            <a:xfrm>
              <a:off x="4047840" y="3404880"/>
              <a:ext cx="6588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497-BC8F-476F-A47B-CC7F3E42AA6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609480" y="1092240"/>
            <a:ext cx="7910280" cy="4013280"/>
            <a:chOff x="609480" y="1092240"/>
            <a:chExt cx="7910280" cy="4013280"/>
          </a:xfrm>
        </p:grpSpPr>
        <p:sp>
          <p:nvSpPr>
            <p:cNvPr id="841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43" name=""/>
            <p:cNvGraphicFramePr/>
            <p:nvPr/>
          </p:nvGraphicFramePr>
          <p:xfrm>
            <a:off x="609480" y="4114800"/>
            <a:ext cx="114300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114800"/>
                      <a:ext cx="11430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5" name=""/>
            <p:cNvGraphicFramePr/>
            <p:nvPr/>
          </p:nvGraphicFramePr>
          <p:xfrm>
            <a:off x="2750760" y="1092240"/>
            <a:ext cx="1166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092240"/>
                      <a:ext cx="1166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7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60376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03760" y="44308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72588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48240" y="44308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4824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7072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5603760" y="40017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54240" y="40021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725880" y="40017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248240" y="40017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8370720" y="40017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399080" y="40021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0208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02080" y="31449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4656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187680" y="2287800"/>
              <a:ext cx="648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92720" y="1573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70120" y="128736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5"/>
            <a:stretch/>
          </p:blipFill>
          <p:spPr>
            <a:xfrm>
              <a:off x="1333080" y="2530440"/>
              <a:ext cx="1744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55F-5875-4330-A487-788E62DA34F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685800" y="1219320"/>
            <a:ext cx="7994160" cy="4284720"/>
            <a:chOff x="685800" y="1219320"/>
            <a:chExt cx="7994160" cy="4284720"/>
          </a:xfrm>
        </p:grpSpPr>
        <p:sp>
          <p:nvSpPr>
            <p:cNvPr id="876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8" name=""/>
            <p:cNvGraphicFramePr/>
            <p:nvPr/>
          </p:nvGraphicFramePr>
          <p:xfrm>
            <a:off x="4343040" y="238752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8752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0" name=""/>
            <p:cNvGraphicFramePr/>
            <p:nvPr/>
          </p:nvGraphicFramePr>
          <p:xfrm>
            <a:off x="2590560" y="261612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261612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2" name=""/>
            <p:cNvGraphicFramePr/>
            <p:nvPr/>
          </p:nvGraphicFramePr>
          <p:xfrm>
            <a:off x="685800" y="223524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23524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4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6396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63960" y="521820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8644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08800" y="521820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0880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53092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763960" y="478908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914800" y="478944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6886440" y="478908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408800" y="478908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8530920" y="478908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559280" y="478944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35560" y="35942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29080" y="271620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62640" y="46465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368760" y="464040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56080" y="43164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521400" y="479268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6930720" y="164448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N access poin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022-FD9A-4629-822B-AAD96207E04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uetooth is a global, RF-based (ISM band: 2.4GHz), short-range, connectivity technology &amp; solution for portable, personal de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pec compri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Discover Magazine Awards finali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learn more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ttp://www.bluetooth.com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E04-F0E2-4632-A9A8-71155593CD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63868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o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ald Blaatand “Bluetooth” I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ng of Denmark 940-981 A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one of two Runic stones erected in his capital city of Jell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tone’s inscription (“runes”) says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ontroll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believes that devices shall seamlessly communicate [wirelessly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EA0-F98B-4A8F-BB2A-4D38A595DC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does Bluetooth do for you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3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Conne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68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0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5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1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3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6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6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8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6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0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1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2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3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5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5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4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8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0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2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23E-A67B-47FF-9168-84BDBD8BF58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little bit of hist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(Special Interest Group) was formed in Februar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k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1100+ adopter compani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ent “public” in Ma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ork (the spec: &gt;1,500 pages) became public on July 26, 1999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764-F1F9-4BE1-AA0C-621C506EAA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418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C36-D779-4485-9FA8-DE8B050979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484200" y="990720"/>
            <a:ext cx="8278560" cy="4267080"/>
            <a:chOff x="484200" y="990720"/>
            <a:chExt cx="8278560" cy="4267080"/>
          </a:xfrm>
        </p:grpSpPr>
        <p:sp>
          <p:nvSpPr>
            <p:cNvPr id="433" name=""/>
            <p:cNvSpPr/>
            <p:nvPr/>
          </p:nvSpPr>
          <p:spPr>
            <a:xfrm>
              <a:off x="5262480" y="15548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22680" y="10666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4120" y="33836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36880" y="33526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4120" y="44798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36880" y="42670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75160" y="25437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3531600" y="29718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4200" y="48340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4200" y="43131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200" y="33354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52440" y="38242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2440" y="33354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20336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200" y="15112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57200" y="15112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3800" y="15112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0720" y="15112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4200" y="9907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69320" y="24242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7809800">
              <a:off x="2932920" y="24440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hardware/software descrip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 application frame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9AA-BE58-4667-9B61-787A73614A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57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9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1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2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6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8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095560" y="566892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762-8802-400F-A4C7-F4FEEAC2BD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324160" y="566892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77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78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0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3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87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88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89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Heads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ple device acces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phone benefi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nd’s free ope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061-344C-4F32-B76D-90CD04986B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1:34:02Z</dcterms:created>
  <dc:creator>Chatschik Bisdikian</dc:creator>
  <dc:description/>
  <dc:language>en-US</dc:language>
  <cp:lastModifiedBy>Kevin Marquess</cp:lastModifiedBy>
  <cp:lastPrinted>1999-07-23T14:05:54Z</cp:lastPrinted>
  <dcterms:modified xsi:type="dcterms:W3CDTF">1999-11-10T19:30:50Z</dcterms:modified>
  <cp:revision>208</cp:revision>
  <dc:subject/>
  <dc:title>No Slide Title</dc:title>
</cp:coreProperties>
</file>