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64D-B868-41F1-8D58-43DB9F83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F5F-E2CB-414D-A5B1-9CF2C8E4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A94-49D4-4F6B-B6DE-C343DC5E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A18D-EE24-4C92-A297-CA4EBF84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C3D-8AB5-4D79-8785-5B134299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B838-9EA2-44D1-AB67-47C1328B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418-670F-4D2F-B66A-E1AEB203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B354-166D-499B-A3B4-4480861D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DBB2-47D9-41C6-A277-72509AD9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ECC-228C-4C94-BEAB-BA17475B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392-B653-47B1-89FD-83512C7E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99A-4622-4ADC-9F3A-D6799134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F9B2512-F5D4-43C4-ACDE-8E5A95E42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0 Seattle Hote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Joint 802.11 and 802.15 Interim Meeting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ay 8-12, 2000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8080" y="2362320"/>
            <a:ext cx="78616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adison Renaissance Hotel - Seat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oom rate qu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$148.00 per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eting space require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$500.00 per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he room rate is firm and they will work w/me on cost reduction of the meeting spa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avanaughs - Seat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oom rate qu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$129.00 per nigh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eting space require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                $3000.00 per da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he room rate is firm and they will work w/me on cost reduction of the meeting spa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W Seattle Hotel - Seatt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oom rate qu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$185.00 per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eeting space require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                $1175.00 per 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--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McInnis, The Boe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2776-288E-48FD-ADFC-7B71F784353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dison Renaissance Hotel - Sea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240" y="2590920"/>
            <a:ext cx="91389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dison Renaissance Ho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5 Madison Str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ttle, WA 98104, U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renaissancehotels.com/seasm/fastfact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heart of downtown, The Madison Hotel is ideally located minutes from Seattle's major financial, medical, retail 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business districts, just three blocks from the Washington State Convention and Trade Center and 20 minutes fro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Sea - Tac International Airport. A recipient of the AAA 4 Diamond award, The Madison treats guests to delux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accommodations and exquisite personal serv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ea-Tac International Airport 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17 miles/25 minutes South Taxi @ $3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irport Expres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Airport Shuttle Service $7.50 one way of $13 roundtrip runs every 20 minutes 5am - 11:30 p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705120" cy="2000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1609560" cy="119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McInnis, The Boe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DDA-C611-4C3C-8F3C-3429B19161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vanaughs - Seatt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09880"/>
            <a:ext cx="9144000" cy="22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vanaughs on Fifth Aven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15 Fifth 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ttle, WA 981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cavanaugh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vanaughs on the corner of Fifth and Pike Avenues is located in the heart of downtown Seattle and offers 297 delu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est accommodations with spectacular views of Puget Sound  and convention facilities in the city's most vib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wntown neighborhood. Cavanaughs 12,000 square feet of meeting space has state-of-the-art presentation systems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ansive views  that complement rich decor. Our professional catering staff ensures a rewarding experience for mee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special events from 10 person board meetings to banquets for 600 in our Emerald Ball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43600" y="1828800"/>
            <a:ext cx="2400480" cy="293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37720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McInnis, The Boe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933B-E5EE-444F-AA9E-56BDA744B75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 Seattle Hotel - Seatt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438280"/>
            <a:ext cx="79801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Seattle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12 Fourth 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ttle, WA 98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hotels.com/cities/seattl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whotel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as a beacon in the thriving heart of Seattle, W SEATTLE will rise as a premier destination for the savvy traveler. Reminiscent of some of Seattle's classic towers, W SEATTLE combines elements of the city's architectural history in a modern interpretation of the Northwestern Regional Style. Crowned with a steel and mesh pyramid, its magical glow 26 stories above the street will make you feel the energy of this city on the cutting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SEATTLE was conceived by Starwood Hotels and Resorts Worldwide with one purpose in mind. To inspire the business traveler and provide solace and refuge in a hectic world. Throughout our 419 large, modern rooms and 16 suites, pillow top beds and luxurious linens, down-cushioned banquettes, a great desk, and custom furnishings await yo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SEATTLE is all about service and amenities. Whatever you want, whenever you want 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el is located in the center of Seattle's burgeoning downtown, close to all the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out the famous Space Needle. Savor a cup of coffee or catch a fresh fish at the 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Market. Lose yourself in a sublime performance at the new Benaroya Symphony 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7280" y="1371600"/>
            <a:ext cx="1428840" cy="18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McInnis, The Boeing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7DD-87E6-4A18-A830-9CD9C7C9AFB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5:32:38Z</dcterms:created>
  <dc:creator>Mike McInnis</dc:creator>
  <dc:description/>
  <dc:language>en-US</dc:language>
  <cp:lastModifiedBy>Standard Software Service</cp:lastModifiedBy>
  <dcterms:modified xsi:type="dcterms:W3CDTF">1999-09-15T15:22:11Z</dcterms:modified>
  <cp:revision>10</cp:revision>
  <dc:subject/>
  <dc:title>May 2000  Seattle Hotels</dc:title>
</cp:coreProperties>
</file>