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18A-86C5-41AD-9012-D97BADBC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D86-86CF-4F4E-9995-2F4F3D48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7B3-B118-448E-AB7A-E1F89D3A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1B3B-0377-4098-91AA-2C277B4F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60F-DC30-4281-AFC7-E7E23BE7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880-4214-4C9D-9F4F-E8FD7ED7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CA5-E2D0-4DA4-92FC-8C939D23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3AC-C526-4657-BDE0-8C660BA2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683-E397-42FA-BB9C-1E5DCA1F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9D5-4228-4497-8BCD-94C5A815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304-938A-41EF-A8C5-A74B230A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EEB-6043-4605-99FC-500B5F73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28F78F-E4EF-4D7F-A49D-4773A82C1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33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uni-bonn.de/I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2.wmf"/><Relationship Id="rId6" Type="http://schemas.openxmlformats.org/officeDocument/2006/relationships/image" Target="../media/image4.png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ation of Bluetooth into LAN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32040" y="3886200"/>
            <a:ext cx="7278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on Baat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tthias Frank, Peter Mart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Bonn, Institute of Computer Science IV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{baatz, matthew, martini}@cs.uni-bonn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DCF-0DB8-4FB4-A8B0-7ABAF5894C4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9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4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05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681360" y="4829040"/>
            <a:ext cx="9255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1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33720" y="2971800"/>
            <a:ext cx="9903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95480" y="1981080"/>
            <a:ext cx="990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3962520"/>
            <a:ext cx="9907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74F-44B1-4F19-8029-642B254628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306440" y="2190600"/>
            <a:ext cx="2925720" cy="3362400"/>
            <a:chOff x="1306440" y="2190600"/>
            <a:chExt cx="2925720" cy="3362400"/>
          </a:xfrm>
        </p:grpSpPr>
        <p:sp>
          <p:nvSpPr>
            <p:cNvPr id="1128" name=""/>
            <p:cNvSpPr/>
            <p:nvPr/>
          </p:nvSpPr>
          <p:spPr>
            <a:xfrm>
              <a:off x="2655720" y="2190600"/>
              <a:ext cx="1576440" cy="3362400"/>
            </a:xfrm>
            <a:custGeom>
              <a:avLst/>
              <a:gdLst/>
              <a:ahLst/>
              <a:rect l="l" t="t" r="r" b="b"/>
              <a:pathLst>
                <a:path w="1208" h="2544">
                  <a:moveTo>
                    <a:pt x="1120" y="0"/>
                  </a:moveTo>
                  <a:cubicBezTo>
                    <a:pt x="576" y="360"/>
                    <a:pt x="32" y="720"/>
                    <a:pt x="16" y="1008"/>
                  </a:cubicBezTo>
                  <a:cubicBezTo>
                    <a:pt x="0" y="1296"/>
                    <a:pt x="840" y="1472"/>
                    <a:pt x="1024" y="1728"/>
                  </a:cubicBezTo>
                  <a:cubicBezTo>
                    <a:pt x="1208" y="1984"/>
                    <a:pt x="1164" y="2264"/>
                    <a:pt x="1120" y="254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306440" y="3311640"/>
              <a:ext cx="1525680" cy="2179440"/>
            </a:xfrm>
            <a:custGeom>
              <a:avLst/>
              <a:gdLst/>
              <a:ahLst/>
              <a:rect l="l" t="t" r="r" b="b"/>
              <a:pathLst>
                <a:path w="1176" h="1680">
                  <a:moveTo>
                    <a:pt x="1104" y="0"/>
                  </a:moveTo>
                  <a:cubicBezTo>
                    <a:pt x="1140" y="20"/>
                    <a:pt x="1176" y="40"/>
                    <a:pt x="1008" y="192"/>
                  </a:cubicBezTo>
                  <a:cubicBezTo>
                    <a:pt x="840" y="344"/>
                    <a:pt x="192" y="664"/>
                    <a:pt x="96" y="912"/>
                  </a:cubicBezTo>
                  <a:cubicBezTo>
                    <a:pt x="0" y="1160"/>
                    <a:pt x="216" y="1420"/>
                    <a:pt x="432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6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37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40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42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4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358-5346-4163-BD53-90A4A8056C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cap="rnd" w="38160">
            <a:solidFill>
              <a:srgbClr val="ff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9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1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3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5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166" name=""/>
            <p:cNvSpPr/>
            <p:nvPr/>
          </p:nvSpPr>
          <p:spPr>
            <a:xfrm>
              <a:off x="924840" y="4782960"/>
              <a:ext cx="926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672360" y="4759200"/>
            <a:ext cx="1332720" cy="368280"/>
            <a:chOff x="3672360" y="4759200"/>
            <a:chExt cx="1332720" cy="368280"/>
          </a:xfrm>
        </p:grpSpPr>
        <p:sp>
          <p:nvSpPr>
            <p:cNvPr id="1169" name=""/>
            <p:cNvSpPr/>
            <p:nvPr/>
          </p:nvSpPr>
          <p:spPr>
            <a:xfrm>
              <a:off x="3681000" y="4829400"/>
              <a:ext cx="92592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72360" y="475920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71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3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update the routing tables on their way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s can be sent on multiple interfaces on their way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s disappear if not updated regul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770-25AE-48FF-9CE9-D060354B0A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s from a MAC Layer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7335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9" name=""/>
          <p:cNvCxnSpPr>
            <a:stCxn id="1180" idx="2"/>
            <a:endCxn id="1181" idx="0"/>
          </p:cNvCxnSpPr>
          <p:nvPr/>
        </p:nvCxnSpPr>
        <p:spPr>
          <a:xfrm flipH="1">
            <a:off x="2619000" y="3699000"/>
            <a:ext cx="53280" cy="13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1182" name=""/>
          <p:cNvGrpSpPr/>
          <p:nvPr/>
        </p:nvGrpSpPr>
        <p:grpSpPr>
          <a:xfrm>
            <a:off x="3300480" y="2590920"/>
            <a:ext cx="345600" cy="518760"/>
            <a:chOff x="3300480" y="2590920"/>
            <a:chExt cx="345600" cy="518760"/>
          </a:xfrm>
        </p:grpSpPr>
        <p:sp>
          <p:nvSpPr>
            <p:cNvPr id="1183" name=""/>
            <p:cNvSpPr/>
            <p:nvPr/>
          </p:nvSpPr>
          <p:spPr>
            <a:xfrm>
              <a:off x="33004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4729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54764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700280" y="2590920"/>
            <a:ext cx="345600" cy="518760"/>
            <a:chOff x="1700280" y="2590920"/>
            <a:chExt cx="345600" cy="518760"/>
          </a:xfrm>
        </p:grpSpPr>
        <p:sp>
          <p:nvSpPr>
            <p:cNvPr id="1187" name=""/>
            <p:cNvSpPr/>
            <p:nvPr/>
          </p:nvSpPr>
          <p:spPr>
            <a:xfrm>
              <a:off x="1700280" y="276372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ST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1872720" y="25909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2498760" y="3182400"/>
            <a:ext cx="345600" cy="516240"/>
            <a:chOff x="2498760" y="3182400"/>
            <a:chExt cx="345600" cy="516240"/>
          </a:xfrm>
        </p:grpSpPr>
        <p:sp>
          <p:nvSpPr>
            <p:cNvPr id="1180" name=""/>
            <p:cNvSpPr/>
            <p:nvPr/>
          </p:nvSpPr>
          <p:spPr>
            <a:xfrm>
              <a:off x="2498760" y="33544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671920" y="31824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170028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5248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2690280" y="2590920"/>
            <a:ext cx="7621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1928520" y="2590560"/>
            <a:ext cx="68580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rot="19452600">
            <a:off x="2769120" y="23623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2346600">
            <a:off x="1778040" y="24375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rom 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6" name=""/>
          <p:cNvCxnSpPr>
            <a:stCxn id="1197" idx="4"/>
          </p:cNvCxnSpPr>
          <p:nvPr/>
        </p:nvCxnSpPr>
        <p:spPr>
          <a:xfrm flipH="1">
            <a:off x="6454440" y="3771720"/>
            <a:ext cx="92880" cy="371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98" name=""/>
          <p:cNvSpPr/>
          <p:nvPr/>
        </p:nvSpPr>
        <p:spPr>
          <a:xfrm>
            <a:off x="5346720" y="205740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5906880" y="2642760"/>
            <a:ext cx="571320" cy="669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 flipV="1">
            <a:off x="5743080" y="2819520"/>
            <a:ext cx="536760" cy="644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3079800">
            <a:off x="5558760" y="3096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6058800" y="2298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oll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6602400" y="2662200"/>
            <a:ext cx="649440" cy="657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6815160" y="2903400"/>
            <a:ext cx="635040" cy="59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rot="19018200">
            <a:off x="7014600" y="3095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10160" y="3809880"/>
            <a:ext cx="1828800" cy="78444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solidFill>
            <a:srgbClr val="ccff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6272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614920" y="25779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9" name=""/>
          <p:cNvCxnSpPr>
            <a:stCxn id="1197" idx="1"/>
            <a:endCxn id="1208" idx="5"/>
          </p:cNvCxnSpPr>
          <p:nvPr/>
        </p:nvCxnSpPr>
        <p:spPr>
          <a:xfrm flipH="1" flipV="1">
            <a:off x="5843160" y="2729880"/>
            <a:ext cx="568800" cy="716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129440" y="253836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10" idx="3"/>
            <a:endCxn id="1197" idx="7"/>
          </p:cNvCxnSpPr>
          <p:nvPr/>
        </p:nvCxnSpPr>
        <p:spPr>
          <a:xfrm flipH="1">
            <a:off x="6681600" y="2843280"/>
            <a:ext cx="600480" cy="60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7" name=""/>
          <p:cNvSpPr/>
          <p:nvPr/>
        </p:nvSpPr>
        <p:spPr>
          <a:xfrm>
            <a:off x="6356520" y="3390840"/>
            <a:ext cx="380880" cy="381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618320" y="345312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678080" y="2487960"/>
            <a:ext cx="79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464832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signaling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rough access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contention free perio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 indicates to STAs in pow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ave state that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724280" y="46483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ct master/slave commun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has full control of medi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ccess: QoS guarantee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can activate slaves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ower save states if data is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67BA-0A78-4FF4-AC26-A1685EFF610C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le Approaches for LAN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609480" y="2743200"/>
            <a:ext cx="4994280" cy="3657600"/>
            <a:chOff x="609480" y="2743200"/>
            <a:chExt cx="4994280" cy="3657600"/>
          </a:xfrm>
        </p:grpSpPr>
        <p:sp>
          <p:nvSpPr>
            <p:cNvPr id="1218" name=""/>
            <p:cNvSpPr/>
            <p:nvPr/>
          </p:nvSpPr>
          <p:spPr>
            <a:xfrm>
              <a:off x="685800" y="5665680"/>
              <a:ext cx="4572000" cy="735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85800" y="5005440"/>
              <a:ext cx="4572000" cy="6602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66680" y="427032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INK  MANAGER (L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Connection state management, etc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6200000">
              <a:off x="-225360" y="3712680"/>
              <a:ext cx="2203560" cy="380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66680" y="3535200"/>
              <a:ext cx="4191120" cy="7351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GICAL LINK CONTROL (LL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gmentation, Reassembly, Multiplexing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66680" y="2801880"/>
              <a:ext cx="2095560" cy="733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(Serial Cable Emula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09480" y="2743200"/>
              <a:ext cx="4994280" cy="762120"/>
            </a:xfrm>
            <a:custGeom>
              <a:avLst/>
              <a:gdLst/>
              <a:ahLst/>
              <a:rect l="l" t="t" r="r" b="b"/>
              <a:pathLst>
                <a:path w="3146" h="480">
                  <a:moveTo>
                    <a:pt x="0" y="0"/>
                  </a:moveTo>
                  <a:cubicBezTo>
                    <a:pt x="13" y="0"/>
                    <a:pt x="27" y="0"/>
                    <a:pt x="40" y="0"/>
                  </a:cubicBezTo>
                  <a:lnTo>
                    <a:pt x="1649" y="0"/>
                  </a:lnTo>
                  <a:lnTo>
                    <a:pt x="1649" y="480"/>
                  </a:lnTo>
                  <a:lnTo>
                    <a:pt x="3146" y="47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1889280" y="308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5468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3276720" y="2514600"/>
            <a:ext cx="5333760" cy="916920"/>
            <a:chOff x="3276720" y="2514600"/>
            <a:chExt cx="5333760" cy="916920"/>
          </a:xfrm>
        </p:grpSpPr>
        <p:sp>
          <p:nvSpPr>
            <p:cNvPr id="1228" name=""/>
            <p:cNvSpPr/>
            <p:nvPr/>
          </p:nvSpPr>
          <p:spPr>
            <a:xfrm>
              <a:off x="3276720" y="2666880"/>
              <a:ext cx="1981080" cy="7351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15000" y="2819520"/>
              <a:ext cx="380880" cy="304560"/>
            </a:xfrm>
            <a:prstGeom prst="leftArrow">
              <a:avLst>
                <a:gd name="adj1" fmla="val 50000"/>
                <a:gd name="adj2" fmla="val 3126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56360" y="251460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 network layers with support for mo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623268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5715000" y="3313080"/>
            <a:ext cx="2742480" cy="368280"/>
            <a:chOff x="5715000" y="3313080"/>
            <a:chExt cx="2742480" cy="368280"/>
          </a:xfrm>
        </p:grpSpPr>
        <p:sp>
          <p:nvSpPr>
            <p:cNvPr id="1233" name=""/>
            <p:cNvSpPr/>
            <p:nvPr/>
          </p:nvSpPr>
          <p:spPr>
            <a:xfrm>
              <a:off x="5715000" y="33526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59960" y="3313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aptation” 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5715000" y="3770280"/>
            <a:ext cx="2895480" cy="916920"/>
            <a:chOff x="5715000" y="3770280"/>
            <a:chExt cx="2895480" cy="916920"/>
          </a:xfrm>
        </p:grpSpPr>
        <p:sp>
          <p:nvSpPr>
            <p:cNvPr id="1236" name=""/>
            <p:cNvSpPr/>
            <p:nvPr/>
          </p:nvSpPr>
          <p:spPr>
            <a:xfrm>
              <a:off x="5715000" y="3809880"/>
              <a:ext cx="380880" cy="304920"/>
            </a:xfrm>
            <a:prstGeom prst="leftArrow">
              <a:avLst>
                <a:gd name="adj1" fmla="val 50000"/>
                <a:gd name="adj2" fmla="val 3122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156360" y="3770280"/>
              <a:ext cx="245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nge LLC layer or add another protocol above L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6095880" y="5029200"/>
            <a:ext cx="26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Master/Slave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609480" y="1523880"/>
            <a:ext cx="8168760" cy="1116000"/>
            <a:chOff x="609480" y="1523880"/>
            <a:chExt cx="8168760" cy="1116000"/>
          </a:xfrm>
        </p:grpSpPr>
        <p:sp>
          <p:nvSpPr>
            <p:cNvPr id="1240" name=""/>
            <p:cNvSpPr/>
            <p:nvPr/>
          </p:nvSpPr>
          <p:spPr>
            <a:xfrm>
              <a:off x="1143000" y="2133720"/>
              <a:ext cx="1981080" cy="50616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724280" y="2057400"/>
              <a:ext cx="381240" cy="304920"/>
            </a:xfrm>
            <a:prstGeom prst="leftArrow">
              <a:avLst>
                <a:gd name="adj1" fmla="val 50000"/>
                <a:gd name="adj2" fmla="val 3125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185440" y="1905120"/>
              <a:ext cx="359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PPP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luetooth profile for LAN acces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9480" y="1600200"/>
              <a:ext cx="1981440" cy="5065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3200" y="15238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741-ADC7-4D30-AFE9-B422956A86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768240" y="2362320"/>
          <a:ext cx="7809120" cy="322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362320"/>
                    <a:ext cx="780912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8" name=""/>
          <p:cNvSpPr/>
          <p:nvPr/>
        </p:nvSpPr>
        <p:spPr>
          <a:xfrm>
            <a:off x="766800" y="182880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studied in some det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CE6-1A2E-40D2-9AE9-6A76C2FC13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the Approach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41320" y="2746440"/>
          <a:ext cx="7792920" cy="29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746440"/>
                    <a:ext cx="779292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762120" y="1828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with conceivable implications to an upcoming MAC &amp; PHY 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33F-EB77-4FB9-8B72-A37B7E66BD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and Open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63400" y="281952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P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serial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124080" y="2819520"/>
            <a:ext cx="26672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IP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ar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54720" y="2819520"/>
            <a:ext cx="2225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upport for a 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85800" y="1828800"/>
            <a:ext cx="7696080" cy="838080"/>
          </a:xfrm>
          <a:prstGeom prst="rightArrow">
            <a:avLst>
              <a:gd name="adj1" fmla="val 50000"/>
              <a:gd name="adj2" fmla="val 229575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85800" y="2057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mless LAN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evel of integration has to be achie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spects of LAN integration has 802.15 to deal with if Bluetooth becomes a candidate for standardiz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C16-39A1-4EBB-95E8-D336314356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4B435C-EF4A-49BE-8913-F90209068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80808"/>
                </a:solidFill>
                <a:uFillTx/>
                <a:latin typeface="Arial"/>
                <a:hlinkClick r:id="rId1"/>
              </a:rPr>
              <a:t>Institute of Computer Scienc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o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s.uni-bonn.de/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computer networks and distribu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P based communica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SIG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ork on IP network layer mobility support for Bluetoo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age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523880"/>
            <a:ext cx="3048120" cy="2737800"/>
            <a:chOff x="609480" y="1523880"/>
            <a:chExt cx="3048120" cy="2737800"/>
          </a:xfrm>
        </p:grpSpPr>
        <p:grpSp>
          <p:nvGrpSpPr>
            <p:cNvPr id="54" name=""/>
            <p:cNvGrpSpPr/>
            <p:nvPr/>
          </p:nvGrpSpPr>
          <p:grpSpPr>
            <a:xfrm>
              <a:off x="990720" y="2362320"/>
              <a:ext cx="2666880" cy="1899360"/>
              <a:chOff x="990720" y="2362320"/>
              <a:chExt cx="2666880" cy="1899360"/>
            </a:xfrm>
          </p:grpSpPr>
          <p:pic>
            <p:nvPicPr>
              <p:cNvPr id="55" name="CELPHON2" descr=""/>
              <p:cNvPicPr/>
              <p:nvPr/>
            </p:nvPicPr>
            <p:blipFill>
              <a:blip r:embed="rId1"/>
              <a:stretch/>
            </p:blipFill>
            <p:spPr>
              <a:xfrm>
                <a:off x="2631960" y="2413440"/>
                <a:ext cx="228240" cy="10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" name=""/>
              <p:cNvGrpSpPr/>
              <p:nvPr/>
            </p:nvGrpSpPr>
            <p:grpSpPr>
              <a:xfrm>
                <a:off x="2758320" y="2409840"/>
                <a:ext cx="899280" cy="1060920"/>
                <a:chOff x="2758320" y="2409840"/>
                <a:chExt cx="899280" cy="10609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2782800" y="2616480"/>
                  <a:ext cx="647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ff0000"/>
                      </a:solidFill>
                      <a:latin typeface="Times New Roman"/>
                    </a:rPr>
                    <a:t>GS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3539160" y="2567160"/>
                  <a:ext cx="118440" cy="903600"/>
                  <a:chOff x="3539160" y="2567160"/>
                  <a:chExt cx="118440" cy="9036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3581640" y="2890800"/>
                    <a:ext cx="37080" cy="1080"/>
                  </a:xfrm>
                  <a:prstGeom prst="line">
                    <a:avLst/>
                  </a:prstGeom>
                  <a:ln w="1584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" name=""/>
                  <p:cNvGrpSpPr/>
                  <p:nvPr/>
                </p:nvGrpSpPr>
                <p:grpSpPr>
                  <a:xfrm>
                    <a:off x="3539160" y="2567160"/>
                    <a:ext cx="118440" cy="903600"/>
                    <a:chOff x="3539160" y="2567160"/>
                    <a:chExt cx="118440" cy="90360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 flipV="1">
                      <a:off x="3598920" y="2579400"/>
                      <a:ext cx="1080" cy="18036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 flipV="1">
                      <a:off x="3539160" y="2756880"/>
                      <a:ext cx="47880" cy="71244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610440" y="2757240"/>
                      <a:ext cx="46800" cy="7135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3543480" y="3450600"/>
                      <a:ext cx="1141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3556080" y="3256200"/>
                      <a:ext cx="89280" cy="108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555360" y="3258360"/>
                      <a:ext cx="99000" cy="1976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>
                      <a:off x="3545280" y="3257280"/>
                      <a:ext cx="96840" cy="19224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3569040" y="3067200"/>
                      <a:ext cx="61920" cy="720"/>
                    </a:xfrm>
                    <a:prstGeom prst="line">
                      <a:avLst/>
                    </a:prstGeom>
                    <a:ln w="1584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567960" y="3065760"/>
                      <a:ext cx="73440" cy="19116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551760" y="3065400"/>
                      <a:ext cx="75960" cy="18900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3576600" y="2890800"/>
                      <a:ext cx="55080" cy="1771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 flipV="1">
                      <a:off x="3564720" y="2889720"/>
                      <a:ext cx="52200" cy="17928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3574440" y="2758320"/>
                      <a:ext cx="36000" cy="137520"/>
                    </a:xfrm>
                    <a:prstGeom prst="line">
                      <a:avLst/>
                    </a:prstGeom>
                    <a:ln w="792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3584160" y="2567160"/>
                      <a:ext cx="29520" cy="2124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2758320" y="2409840"/>
                  <a:ext cx="795960" cy="368640"/>
                  <a:chOff x="2758320" y="2409840"/>
                  <a:chExt cx="795960" cy="36864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3034800" y="2409840"/>
                    <a:ext cx="519480" cy="368640"/>
                    <a:chOff x="3034800" y="2409840"/>
                    <a:chExt cx="519480" cy="368640"/>
                  </a:xfrm>
                </p:grpSpPr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3126960" y="240984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3094920" y="2433600"/>
                      <a:ext cx="36972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034800" y="2461320"/>
                      <a:ext cx="34380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" name=""/>
                  <p:cNvGrpSpPr/>
                  <p:nvPr/>
                </p:nvGrpSpPr>
                <p:grpSpPr>
                  <a:xfrm>
                    <a:off x="2861280" y="2479320"/>
                    <a:ext cx="438840" cy="243360"/>
                    <a:chOff x="2861280" y="2479320"/>
                    <a:chExt cx="438840" cy="24336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939040" y="247932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2912760" y="249480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2861280" y="251316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" name=""/>
                  <p:cNvSpPr/>
                  <p:nvPr/>
                </p:nvSpPr>
                <p:spPr>
                  <a:xfrm>
                    <a:off x="2824200" y="2528640"/>
                    <a:ext cx="2610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787120" y="253872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2758320" y="255672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778840" y="257220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1144440" y="2362320"/>
                <a:ext cx="1505880" cy="739080"/>
                <a:chOff x="1144440" y="2362320"/>
                <a:chExt cx="1505880" cy="73908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1144440" y="2362320"/>
                  <a:ext cx="475920" cy="496080"/>
                  <a:chOff x="1144440" y="2362320"/>
                  <a:chExt cx="475920" cy="49608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1331280" y="2718720"/>
                    <a:ext cx="12708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62">
                        <a:moveTo>
                          <a:pt x="50" y="257"/>
                        </a:moveTo>
                        <a:lnTo>
                          <a:pt x="46" y="255"/>
                        </a:lnTo>
                        <a:lnTo>
                          <a:pt x="43" y="253"/>
                        </a:lnTo>
                        <a:lnTo>
                          <a:pt x="39" y="251"/>
                        </a:lnTo>
                        <a:lnTo>
                          <a:pt x="36" y="249"/>
                        </a:lnTo>
                        <a:lnTo>
                          <a:pt x="22" y="235"/>
                        </a:lnTo>
                        <a:lnTo>
                          <a:pt x="12" y="218"/>
                        </a:lnTo>
                        <a:lnTo>
                          <a:pt x="5" y="198"/>
                        </a:lnTo>
                        <a:lnTo>
                          <a:pt x="0" y="176"/>
                        </a:lnTo>
                        <a:lnTo>
                          <a:pt x="0" y="152"/>
                        </a:lnTo>
                        <a:lnTo>
                          <a:pt x="4" y="129"/>
                        </a:lnTo>
                        <a:lnTo>
                          <a:pt x="9" y="105"/>
                        </a:lnTo>
                        <a:lnTo>
                          <a:pt x="20" y="83"/>
                        </a:lnTo>
                        <a:lnTo>
                          <a:pt x="36" y="58"/>
                        </a:lnTo>
                        <a:lnTo>
                          <a:pt x="57" y="36"/>
                        </a:lnTo>
                        <a:lnTo>
                          <a:pt x="79" y="20"/>
                        </a:lnTo>
                        <a:lnTo>
                          <a:pt x="102" y="8"/>
                        </a:lnTo>
                        <a:lnTo>
                          <a:pt x="125" y="1"/>
                        </a:lnTo>
                        <a:lnTo>
                          <a:pt x="149" y="0"/>
                        </a:lnTo>
                        <a:lnTo>
                          <a:pt x="170" y="3"/>
                        </a:lnTo>
                        <a:lnTo>
                          <a:pt x="189" y="11"/>
                        </a:lnTo>
                        <a:lnTo>
                          <a:pt x="196" y="16"/>
                        </a:lnTo>
                        <a:lnTo>
                          <a:pt x="202" y="21"/>
                        </a:lnTo>
                        <a:lnTo>
                          <a:pt x="208" y="25"/>
                        </a:lnTo>
                        <a:lnTo>
                          <a:pt x="212" y="31"/>
                        </a:lnTo>
                        <a:lnTo>
                          <a:pt x="216" y="37"/>
                        </a:lnTo>
                        <a:lnTo>
                          <a:pt x="219" y="44"/>
                        </a:lnTo>
                        <a:lnTo>
                          <a:pt x="222" y="51"/>
                        </a:lnTo>
                        <a:lnTo>
                          <a:pt x="226" y="59"/>
                        </a:lnTo>
                        <a:lnTo>
                          <a:pt x="227" y="61"/>
                        </a:lnTo>
                        <a:lnTo>
                          <a:pt x="228" y="64"/>
                        </a:lnTo>
                        <a:lnTo>
                          <a:pt x="229" y="67"/>
                        </a:lnTo>
                        <a:lnTo>
                          <a:pt x="231" y="70"/>
                        </a:lnTo>
                        <a:lnTo>
                          <a:pt x="236" y="89"/>
                        </a:lnTo>
                        <a:lnTo>
                          <a:pt x="240" y="107"/>
                        </a:lnTo>
                        <a:lnTo>
                          <a:pt x="240" y="128"/>
                        </a:lnTo>
                        <a:lnTo>
                          <a:pt x="237" y="147"/>
                        </a:lnTo>
                        <a:lnTo>
                          <a:pt x="233" y="161"/>
                        </a:lnTo>
                        <a:lnTo>
                          <a:pt x="226" y="176"/>
                        </a:lnTo>
                        <a:lnTo>
                          <a:pt x="216" y="190"/>
                        </a:lnTo>
                        <a:lnTo>
                          <a:pt x="202" y="205"/>
                        </a:lnTo>
                        <a:lnTo>
                          <a:pt x="186" y="218"/>
                        </a:lnTo>
                        <a:lnTo>
                          <a:pt x="167" y="229"/>
                        </a:lnTo>
                        <a:lnTo>
                          <a:pt x="146" y="240"/>
                        </a:lnTo>
                        <a:lnTo>
                          <a:pt x="125" y="247"/>
                        </a:lnTo>
                        <a:lnTo>
                          <a:pt x="119" y="250"/>
                        </a:lnTo>
                        <a:lnTo>
                          <a:pt x="112" y="255"/>
                        </a:lnTo>
                        <a:lnTo>
                          <a:pt x="104" y="257"/>
                        </a:lnTo>
                        <a:lnTo>
                          <a:pt x="95" y="260"/>
                        </a:lnTo>
                        <a:lnTo>
                          <a:pt x="83" y="262"/>
                        </a:lnTo>
                        <a:lnTo>
                          <a:pt x="73" y="262"/>
                        </a:lnTo>
                        <a:lnTo>
                          <a:pt x="61" y="260"/>
                        </a:lnTo>
                        <a:lnTo>
                          <a:pt x="50" y="2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1170000" y="2701440"/>
                    <a:ext cx="169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9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22" y="0"/>
                        </a:lnTo>
                        <a:lnTo>
                          <a:pt x="25" y="12"/>
                        </a:lnTo>
                        <a:lnTo>
                          <a:pt x="28" y="27"/>
                        </a:lnTo>
                        <a:lnTo>
                          <a:pt x="31" y="45"/>
                        </a:lnTo>
                        <a:lnTo>
                          <a:pt x="30" y="63"/>
                        </a:lnTo>
                        <a:lnTo>
                          <a:pt x="27" y="82"/>
                        </a:lnTo>
                        <a:lnTo>
                          <a:pt x="22" y="100"/>
                        </a:lnTo>
                        <a:lnTo>
                          <a:pt x="12" y="115"/>
                        </a:lnTo>
                        <a:lnTo>
                          <a:pt x="0" y="129"/>
                        </a:lnTo>
                        <a:lnTo>
                          <a:pt x="11" y="106"/>
                        </a:lnTo>
                        <a:lnTo>
                          <a:pt x="17" y="86"/>
                        </a:lnTo>
                        <a:lnTo>
                          <a:pt x="19" y="68"/>
                        </a:lnTo>
                        <a:lnTo>
                          <a:pt x="19" y="52"/>
                        </a:lnTo>
                        <a:lnTo>
                          <a:pt x="16" y="37"/>
                        </a:lnTo>
                        <a:lnTo>
                          <a:pt x="11" y="23"/>
                        </a:lnTo>
                        <a:lnTo>
                          <a:pt x="7" y="1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145520" y="2568240"/>
                    <a:ext cx="12456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73">
                        <a:moveTo>
                          <a:pt x="160" y="4"/>
                        </a:moveTo>
                        <a:lnTo>
                          <a:pt x="167" y="7"/>
                        </a:lnTo>
                        <a:lnTo>
                          <a:pt x="174" y="10"/>
                        </a:lnTo>
                        <a:lnTo>
                          <a:pt x="180" y="13"/>
                        </a:lnTo>
                        <a:lnTo>
                          <a:pt x="186" y="17"/>
                        </a:lnTo>
                        <a:lnTo>
                          <a:pt x="192" y="22"/>
                        </a:lnTo>
                        <a:lnTo>
                          <a:pt x="198" y="27"/>
                        </a:lnTo>
                        <a:lnTo>
                          <a:pt x="202" y="32"/>
                        </a:lnTo>
                        <a:lnTo>
                          <a:pt x="207" y="38"/>
                        </a:lnTo>
                        <a:lnTo>
                          <a:pt x="209" y="41"/>
                        </a:lnTo>
                        <a:lnTo>
                          <a:pt x="212" y="45"/>
                        </a:lnTo>
                        <a:lnTo>
                          <a:pt x="214" y="48"/>
                        </a:lnTo>
                        <a:lnTo>
                          <a:pt x="216" y="52"/>
                        </a:lnTo>
                        <a:lnTo>
                          <a:pt x="228" y="78"/>
                        </a:lnTo>
                        <a:lnTo>
                          <a:pt x="233" y="107"/>
                        </a:lnTo>
                        <a:lnTo>
                          <a:pt x="233" y="139"/>
                        </a:lnTo>
                        <a:lnTo>
                          <a:pt x="226" y="171"/>
                        </a:lnTo>
                        <a:lnTo>
                          <a:pt x="218" y="191"/>
                        </a:lnTo>
                        <a:lnTo>
                          <a:pt x="208" y="209"/>
                        </a:lnTo>
                        <a:lnTo>
                          <a:pt x="197" y="226"/>
                        </a:lnTo>
                        <a:lnTo>
                          <a:pt x="183" y="240"/>
                        </a:lnTo>
                        <a:lnTo>
                          <a:pt x="169" y="252"/>
                        </a:lnTo>
                        <a:lnTo>
                          <a:pt x="153" y="261"/>
                        </a:lnTo>
                        <a:lnTo>
                          <a:pt x="136" y="268"/>
                        </a:lnTo>
                        <a:lnTo>
                          <a:pt x="118" y="272"/>
                        </a:lnTo>
                        <a:lnTo>
                          <a:pt x="114" y="273"/>
                        </a:lnTo>
                        <a:lnTo>
                          <a:pt x="109" y="273"/>
                        </a:lnTo>
                        <a:lnTo>
                          <a:pt x="103" y="273"/>
                        </a:lnTo>
                        <a:lnTo>
                          <a:pt x="99" y="273"/>
                        </a:lnTo>
                        <a:lnTo>
                          <a:pt x="93" y="272"/>
                        </a:lnTo>
                        <a:lnTo>
                          <a:pt x="87" y="270"/>
                        </a:lnTo>
                        <a:lnTo>
                          <a:pt x="80" y="269"/>
                        </a:lnTo>
                        <a:lnTo>
                          <a:pt x="74" y="268"/>
                        </a:lnTo>
                        <a:lnTo>
                          <a:pt x="54" y="258"/>
                        </a:lnTo>
                        <a:lnTo>
                          <a:pt x="35" y="244"/>
                        </a:lnTo>
                        <a:lnTo>
                          <a:pt x="20" y="226"/>
                        </a:lnTo>
                        <a:lnTo>
                          <a:pt x="10" y="205"/>
                        </a:lnTo>
                        <a:lnTo>
                          <a:pt x="2" y="181"/>
                        </a:lnTo>
                        <a:lnTo>
                          <a:pt x="0" y="154"/>
                        </a:lnTo>
                        <a:lnTo>
                          <a:pt x="1" y="128"/>
                        </a:lnTo>
                        <a:lnTo>
                          <a:pt x="8" y="100"/>
                        </a:lnTo>
                        <a:lnTo>
                          <a:pt x="18" y="75"/>
                        </a:lnTo>
                        <a:lnTo>
                          <a:pt x="33" y="52"/>
                        </a:lnTo>
                        <a:lnTo>
                          <a:pt x="50" y="33"/>
                        </a:lnTo>
                        <a:lnTo>
                          <a:pt x="70" y="17"/>
                        </a:lnTo>
                        <a:lnTo>
                          <a:pt x="92" y="7"/>
                        </a:lnTo>
                        <a:lnTo>
                          <a:pt x="114" y="1"/>
                        </a:lnTo>
                        <a:lnTo>
                          <a:pt x="137" y="0"/>
                        </a:lnTo>
                        <a:lnTo>
                          <a:pt x="16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1235160" y="2362320"/>
                    <a:ext cx="3232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536">
                        <a:moveTo>
                          <a:pt x="513" y="0"/>
                        </a:moveTo>
                        <a:lnTo>
                          <a:pt x="480" y="0"/>
                        </a:lnTo>
                        <a:lnTo>
                          <a:pt x="446" y="4"/>
                        </a:lnTo>
                        <a:lnTo>
                          <a:pt x="412" y="13"/>
                        </a:lnTo>
                        <a:lnTo>
                          <a:pt x="376" y="27"/>
                        </a:lnTo>
                        <a:lnTo>
                          <a:pt x="342" y="46"/>
                        </a:lnTo>
                        <a:lnTo>
                          <a:pt x="306" y="66"/>
                        </a:lnTo>
                        <a:lnTo>
                          <a:pt x="270" y="92"/>
                        </a:lnTo>
                        <a:lnTo>
                          <a:pt x="236" y="119"/>
                        </a:lnTo>
                        <a:lnTo>
                          <a:pt x="202" y="150"/>
                        </a:lnTo>
                        <a:lnTo>
                          <a:pt x="169" y="183"/>
                        </a:lnTo>
                        <a:lnTo>
                          <a:pt x="137" y="218"/>
                        </a:lnTo>
                        <a:lnTo>
                          <a:pt x="106" y="255"/>
                        </a:lnTo>
                        <a:lnTo>
                          <a:pt x="77" y="293"/>
                        </a:lnTo>
                        <a:lnTo>
                          <a:pt x="49" y="334"/>
                        </a:lnTo>
                        <a:lnTo>
                          <a:pt x="23" y="374"/>
                        </a:lnTo>
                        <a:lnTo>
                          <a:pt x="0" y="415"/>
                        </a:lnTo>
                        <a:lnTo>
                          <a:pt x="11" y="442"/>
                        </a:lnTo>
                        <a:lnTo>
                          <a:pt x="17" y="472"/>
                        </a:lnTo>
                        <a:lnTo>
                          <a:pt x="16" y="504"/>
                        </a:lnTo>
                        <a:lnTo>
                          <a:pt x="10" y="536"/>
                        </a:lnTo>
                        <a:lnTo>
                          <a:pt x="34" y="478"/>
                        </a:lnTo>
                        <a:lnTo>
                          <a:pt x="61" y="420"/>
                        </a:lnTo>
                        <a:lnTo>
                          <a:pt x="91" y="364"/>
                        </a:lnTo>
                        <a:lnTo>
                          <a:pt x="123" y="308"/>
                        </a:lnTo>
                        <a:lnTo>
                          <a:pt x="156" y="256"/>
                        </a:lnTo>
                        <a:lnTo>
                          <a:pt x="193" y="208"/>
                        </a:lnTo>
                        <a:lnTo>
                          <a:pt x="231" y="164"/>
                        </a:lnTo>
                        <a:lnTo>
                          <a:pt x="271" y="124"/>
                        </a:lnTo>
                        <a:lnTo>
                          <a:pt x="312" y="88"/>
                        </a:lnTo>
                        <a:lnTo>
                          <a:pt x="353" y="59"/>
                        </a:lnTo>
                        <a:lnTo>
                          <a:pt x="396" y="35"/>
                        </a:lnTo>
                        <a:lnTo>
                          <a:pt x="438" y="19"/>
                        </a:lnTo>
                        <a:lnTo>
                          <a:pt x="481" y="10"/>
                        </a:lnTo>
                        <a:lnTo>
                          <a:pt x="522" y="9"/>
                        </a:lnTo>
                        <a:lnTo>
                          <a:pt x="564" y="16"/>
                        </a:lnTo>
                        <a:lnTo>
                          <a:pt x="605" y="32"/>
                        </a:lnTo>
                        <a:lnTo>
                          <a:pt x="595" y="25"/>
                        </a:lnTo>
                        <a:lnTo>
                          <a:pt x="583" y="19"/>
                        </a:lnTo>
                        <a:lnTo>
                          <a:pt x="573" y="13"/>
                        </a:lnTo>
                        <a:lnTo>
                          <a:pt x="562" y="9"/>
                        </a:lnTo>
                        <a:lnTo>
                          <a:pt x="550" y="5"/>
                        </a:lnTo>
                        <a:lnTo>
                          <a:pt x="537" y="3"/>
                        </a:lnTo>
                        <a:lnTo>
                          <a:pt x="526" y="1"/>
                        </a:lnTo>
                        <a:lnTo>
                          <a:pt x="5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1450800" y="2379240"/>
                    <a:ext cx="1483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707">
                        <a:moveTo>
                          <a:pt x="200" y="0"/>
                        </a:moveTo>
                        <a:lnTo>
                          <a:pt x="227" y="25"/>
                        </a:lnTo>
                        <a:lnTo>
                          <a:pt x="248" y="57"/>
                        </a:lnTo>
                        <a:lnTo>
                          <a:pt x="263" y="93"/>
                        </a:lnTo>
                        <a:lnTo>
                          <a:pt x="272" y="133"/>
                        </a:lnTo>
                        <a:lnTo>
                          <a:pt x="276" y="178"/>
                        </a:lnTo>
                        <a:lnTo>
                          <a:pt x="275" y="224"/>
                        </a:lnTo>
                        <a:lnTo>
                          <a:pt x="268" y="274"/>
                        </a:lnTo>
                        <a:lnTo>
                          <a:pt x="258" y="325"/>
                        </a:lnTo>
                        <a:lnTo>
                          <a:pt x="242" y="377"/>
                        </a:lnTo>
                        <a:lnTo>
                          <a:pt x="221" y="428"/>
                        </a:lnTo>
                        <a:lnTo>
                          <a:pt x="196" y="479"/>
                        </a:lnTo>
                        <a:lnTo>
                          <a:pt x="166" y="530"/>
                        </a:lnTo>
                        <a:lnTo>
                          <a:pt x="131" y="578"/>
                        </a:lnTo>
                        <a:lnTo>
                          <a:pt x="93" y="624"/>
                        </a:lnTo>
                        <a:lnTo>
                          <a:pt x="51" y="668"/>
                        </a:lnTo>
                        <a:lnTo>
                          <a:pt x="5" y="707"/>
                        </a:lnTo>
                        <a:lnTo>
                          <a:pt x="3" y="704"/>
                        </a:lnTo>
                        <a:lnTo>
                          <a:pt x="2" y="701"/>
                        </a:lnTo>
                        <a:lnTo>
                          <a:pt x="1" y="698"/>
                        </a:lnTo>
                        <a:lnTo>
                          <a:pt x="0" y="696"/>
                        </a:lnTo>
                        <a:lnTo>
                          <a:pt x="33" y="667"/>
                        </a:lnTo>
                        <a:lnTo>
                          <a:pt x="67" y="634"/>
                        </a:lnTo>
                        <a:lnTo>
                          <a:pt x="98" y="595"/>
                        </a:lnTo>
                        <a:lnTo>
                          <a:pt x="129" y="553"/>
                        </a:lnTo>
                        <a:lnTo>
                          <a:pt x="158" y="508"/>
                        </a:lnTo>
                        <a:lnTo>
                          <a:pt x="184" y="460"/>
                        </a:lnTo>
                        <a:lnTo>
                          <a:pt x="208" y="410"/>
                        </a:lnTo>
                        <a:lnTo>
                          <a:pt x="228" y="358"/>
                        </a:lnTo>
                        <a:lnTo>
                          <a:pt x="244" y="307"/>
                        </a:lnTo>
                        <a:lnTo>
                          <a:pt x="256" y="257"/>
                        </a:lnTo>
                        <a:lnTo>
                          <a:pt x="263" y="206"/>
                        </a:lnTo>
                        <a:lnTo>
                          <a:pt x="264" y="159"/>
                        </a:lnTo>
                        <a:lnTo>
                          <a:pt x="258" y="113"/>
                        </a:lnTo>
                        <a:lnTo>
                          <a:pt x="246" y="71"/>
                        </a:lnTo>
                        <a:lnTo>
                          <a:pt x="227" y="33"/>
                        </a:lnTo>
                        <a:lnTo>
                          <a:pt x="2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44440" y="2568240"/>
                    <a:ext cx="6192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260">
                        <a:moveTo>
                          <a:pt x="117" y="0"/>
                        </a:moveTo>
                        <a:lnTo>
                          <a:pt x="102" y="4"/>
                        </a:lnTo>
                        <a:lnTo>
                          <a:pt x="86" y="10"/>
                        </a:lnTo>
                        <a:lnTo>
                          <a:pt x="72" y="18"/>
                        </a:lnTo>
                        <a:lnTo>
                          <a:pt x="58" y="28"/>
                        </a:lnTo>
                        <a:lnTo>
                          <a:pt x="45" y="41"/>
                        </a:lnTo>
                        <a:lnTo>
                          <a:pt x="33" y="55"/>
                        </a:lnTo>
                        <a:lnTo>
                          <a:pt x="23" y="70"/>
                        </a:lnTo>
                        <a:lnTo>
                          <a:pt x="14" y="87"/>
                        </a:lnTo>
                        <a:lnTo>
                          <a:pt x="7" y="107"/>
                        </a:lnTo>
                        <a:lnTo>
                          <a:pt x="3" y="127"/>
                        </a:lnTo>
                        <a:lnTo>
                          <a:pt x="0" y="148"/>
                        </a:lnTo>
                        <a:lnTo>
                          <a:pt x="1" y="168"/>
                        </a:lnTo>
                        <a:lnTo>
                          <a:pt x="5" y="186"/>
                        </a:lnTo>
                        <a:lnTo>
                          <a:pt x="11" y="203"/>
                        </a:lnTo>
                        <a:lnTo>
                          <a:pt x="19" y="220"/>
                        </a:lnTo>
                        <a:lnTo>
                          <a:pt x="29" y="235"/>
                        </a:lnTo>
                        <a:lnTo>
                          <a:pt x="33" y="238"/>
                        </a:lnTo>
                        <a:lnTo>
                          <a:pt x="36" y="241"/>
                        </a:lnTo>
                        <a:lnTo>
                          <a:pt x="39" y="245"/>
                        </a:lnTo>
                        <a:lnTo>
                          <a:pt x="44" y="248"/>
                        </a:lnTo>
                        <a:lnTo>
                          <a:pt x="49" y="252"/>
                        </a:lnTo>
                        <a:lnTo>
                          <a:pt x="53" y="255"/>
                        </a:lnTo>
                        <a:lnTo>
                          <a:pt x="59" y="258"/>
                        </a:lnTo>
                        <a:lnTo>
                          <a:pt x="65" y="260"/>
                        </a:lnTo>
                        <a:lnTo>
                          <a:pt x="41" y="233"/>
                        </a:lnTo>
                        <a:lnTo>
                          <a:pt x="27" y="200"/>
                        </a:lnTo>
                        <a:lnTo>
                          <a:pt x="22" y="162"/>
                        </a:lnTo>
                        <a:lnTo>
                          <a:pt x="26" y="122"/>
                        </a:lnTo>
                        <a:lnTo>
                          <a:pt x="38" y="82"/>
                        </a:lnTo>
                        <a:lnTo>
                          <a:pt x="58" y="47"/>
                        </a:lnTo>
                        <a:lnTo>
                          <a:pt x="84" y="18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366200" y="2745360"/>
                    <a:ext cx="9180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01">
                        <a:moveTo>
                          <a:pt x="170" y="99"/>
                        </a:moveTo>
                        <a:lnTo>
                          <a:pt x="173" y="80"/>
                        </a:lnTo>
                        <a:lnTo>
                          <a:pt x="173" y="59"/>
                        </a:lnTo>
                        <a:lnTo>
                          <a:pt x="169" y="41"/>
                        </a:lnTo>
                        <a:lnTo>
                          <a:pt x="164" y="22"/>
                        </a:lnTo>
                        <a:lnTo>
                          <a:pt x="151" y="33"/>
                        </a:lnTo>
                        <a:lnTo>
                          <a:pt x="144" y="26"/>
                        </a:lnTo>
                        <a:lnTo>
                          <a:pt x="137" y="19"/>
                        </a:lnTo>
                        <a:lnTo>
                          <a:pt x="129" y="12"/>
                        </a:lnTo>
                        <a:lnTo>
                          <a:pt x="121" y="6"/>
                        </a:lnTo>
                        <a:lnTo>
                          <a:pt x="111" y="3"/>
                        </a:lnTo>
                        <a:lnTo>
                          <a:pt x="99" y="0"/>
                        </a:lnTo>
                        <a:lnTo>
                          <a:pt x="85" y="2"/>
                        </a:lnTo>
                        <a:lnTo>
                          <a:pt x="70" y="6"/>
                        </a:lnTo>
                        <a:lnTo>
                          <a:pt x="54" y="15"/>
                        </a:lnTo>
                        <a:lnTo>
                          <a:pt x="40" y="27"/>
                        </a:lnTo>
                        <a:lnTo>
                          <a:pt x="29" y="41"/>
                        </a:lnTo>
                        <a:lnTo>
                          <a:pt x="18" y="55"/>
                        </a:lnTo>
                        <a:lnTo>
                          <a:pt x="10" y="71"/>
                        </a:lnTo>
                        <a:lnTo>
                          <a:pt x="5" y="86"/>
                        </a:lnTo>
                        <a:lnTo>
                          <a:pt x="1" y="101"/>
                        </a:lnTo>
                        <a:lnTo>
                          <a:pt x="0" y="113"/>
                        </a:lnTo>
                        <a:lnTo>
                          <a:pt x="0" y="127"/>
                        </a:lnTo>
                        <a:lnTo>
                          <a:pt x="1" y="142"/>
                        </a:lnTo>
                        <a:lnTo>
                          <a:pt x="2" y="158"/>
                        </a:lnTo>
                        <a:lnTo>
                          <a:pt x="7" y="173"/>
                        </a:lnTo>
                        <a:lnTo>
                          <a:pt x="13" y="187"/>
                        </a:lnTo>
                        <a:lnTo>
                          <a:pt x="23" y="196"/>
                        </a:lnTo>
                        <a:lnTo>
                          <a:pt x="38" y="201"/>
                        </a:lnTo>
                        <a:lnTo>
                          <a:pt x="58" y="199"/>
                        </a:lnTo>
                        <a:lnTo>
                          <a:pt x="79" y="192"/>
                        </a:lnTo>
                        <a:lnTo>
                          <a:pt x="100" y="181"/>
                        </a:lnTo>
                        <a:lnTo>
                          <a:pt x="119" y="170"/>
                        </a:lnTo>
                        <a:lnTo>
                          <a:pt x="135" y="157"/>
                        </a:lnTo>
                        <a:lnTo>
                          <a:pt x="149" y="142"/>
                        </a:lnTo>
                        <a:lnTo>
                          <a:pt x="159" y="128"/>
                        </a:lnTo>
                        <a:lnTo>
                          <a:pt x="166" y="113"/>
                        </a:lnTo>
                        <a:lnTo>
                          <a:pt x="170" y="99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454040" y="2362320"/>
                    <a:ext cx="166320" cy="43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16">
                        <a:moveTo>
                          <a:pt x="195" y="32"/>
                        </a:moveTo>
                        <a:lnTo>
                          <a:pt x="185" y="25"/>
                        </a:lnTo>
                        <a:lnTo>
                          <a:pt x="173" y="19"/>
                        </a:lnTo>
                        <a:lnTo>
                          <a:pt x="163" y="13"/>
                        </a:lnTo>
                        <a:lnTo>
                          <a:pt x="152" y="9"/>
                        </a:lnTo>
                        <a:lnTo>
                          <a:pt x="140" y="5"/>
                        </a:lnTo>
                        <a:lnTo>
                          <a:pt x="127" y="3"/>
                        </a:lnTo>
                        <a:lnTo>
                          <a:pt x="116" y="1"/>
                        </a:lnTo>
                        <a:lnTo>
                          <a:pt x="103" y="0"/>
                        </a:lnTo>
                        <a:lnTo>
                          <a:pt x="167" y="12"/>
                        </a:lnTo>
                        <a:lnTo>
                          <a:pt x="217" y="35"/>
                        </a:lnTo>
                        <a:lnTo>
                          <a:pt x="256" y="69"/>
                        </a:lnTo>
                        <a:lnTo>
                          <a:pt x="285" y="110"/>
                        </a:lnTo>
                        <a:lnTo>
                          <a:pt x="302" y="160"/>
                        </a:lnTo>
                        <a:lnTo>
                          <a:pt x="312" y="215"/>
                        </a:lnTo>
                        <a:lnTo>
                          <a:pt x="310" y="274"/>
                        </a:lnTo>
                        <a:lnTo>
                          <a:pt x="301" y="337"/>
                        </a:lnTo>
                        <a:lnTo>
                          <a:pt x="285" y="403"/>
                        </a:lnTo>
                        <a:lnTo>
                          <a:pt x="261" y="468"/>
                        </a:lnTo>
                        <a:lnTo>
                          <a:pt x="231" y="534"/>
                        </a:lnTo>
                        <a:lnTo>
                          <a:pt x="194" y="599"/>
                        </a:lnTo>
                        <a:lnTo>
                          <a:pt x="154" y="661"/>
                        </a:lnTo>
                        <a:lnTo>
                          <a:pt x="108" y="719"/>
                        </a:lnTo>
                        <a:lnTo>
                          <a:pt x="59" y="770"/>
                        </a:lnTo>
                        <a:lnTo>
                          <a:pt x="6" y="816"/>
                        </a:lnTo>
                        <a:lnTo>
                          <a:pt x="9" y="797"/>
                        </a:lnTo>
                        <a:lnTo>
                          <a:pt x="9" y="776"/>
                        </a:lnTo>
                        <a:lnTo>
                          <a:pt x="5" y="758"/>
                        </a:lnTo>
                        <a:lnTo>
                          <a:pt x="0" y="739"/>
                        </a:lnTo>
                        <a:lnTo>
                          <a:pt x="46" y="700"/>
                        </a:lnTo>
                        <a:lnTo>
                          <a:pt x="88" y="656"/>
                        </a:lnTo>
                        <a:lnTo>
                          <a:pt x="126" y="610"/>
                        </a:lnTo>
                        <a:lnTo>
                          <a:pt x="161" y="562"/>
                        </a:lnTo>
                        <a:lnTo>
                          <a:pt x="191" y="511"/>
                        </a:lnTo>
                        <a:lnTo>
                          <a:pt x="216" y="460"/>
                        </a:lnTo>
                        <a:lnTo>
                          <a:pt x="237" y="409"/>
                        </a:lnTo>
                        <a:lnTo>
                          <a:pt x="253" y="357"/>
                        </a:lnTo>
                        <a:lnTo>
                          <a:pt x="263" y="306"/>
                        </a:lnTo>
                        <a:lnTo>
                          <a:pt x="270" y="256"/>
                        </a:lnTo>
                        <a:lnTo>
                          <a:pt x="271" y="210"/>
                        </a:lnTo>
                        <a:lnTo>
                          <a:pt x="267" y="165"/>
                        </a:lnTo>
                        <a:lnTo>
                          <a:pt x="258" y="125"/>
                        </a:lnTo>
                        <a:lnTo>
                          <a:pt x="243" y="89"/>
                        </a:lnTo>
                        <a:lnTo>
                          <a:pt x="222" y="57"/>
                        </a:lnTo>
                        <a:lnTo>
                          <a:pt x="195" y="32"/>
                        </a:lnTo>
                        <a:close/>
                      </a:path>
                    </a:pathLst>
                  </a:custGeom>
                  <a:solidFill>
                    <a:srgbClr val="84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424160" y="2757240"/>
                    <a:ext cx="201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0">
                        <a:moveTo>
                          <a:pt x="5" y="0"/>
                        </a:moveTo>
                        <a:lnTo>
                          <a:pt x="13" y="6"/>
                        </a:lnTo>
                        <a:lnTo>
                          <a:pt x="21" y="15"/>
                        </a:lnTo>
                        <a:lnTo>
                          <a:pt x="28" y="26"/>
                        </a:lnTo>
                        <a:lnTo>
                          <a:pt x="34" y="37"/>
                        </a:lnTo>
                        <a:lnTo>
                          <a:pt x="37" y="50"/>
                        </a:lnTo>
                        <a:lnTo>
                          <a:pt x="37" y="64"/>
                        </a:lnTo>
                        <a:lnTo>
                          <a:pt x="35" y="78"/>
                        </a:lnTo>
                        <a:lnTo>
                          <a:pt x="29" y="90"/>
                        </a:lnTo>
                        <a:lnTo>
                          <a:pt x="0" y="61"/>
                        </a:lnTo>
                        <a:lnTo>
                          <a:pt x="7" y="48"/>
                        </a:lnTo>
                        <a:lnTo>
                          <a:pt x="9" y="30"/>
                        </a:lnTo>
                        <a:lnTo>
                          <a:pt x="8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1615680" y="2472480"/>
                  <a:ext cx="1034640" cy="628920"/>
                  <a:chOff x="1615680" y="2472480"/>
                  <a:chExt cx="1034640" cy="628920"/>
                </a:xfrm>
              </p:grpSpPr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15680" y="2472480"/>
                    <a:ext cx="739800" cy="566280"/>
                    <a:chOff x="1615680" y="2472480"/>
                    <a:chExt cx="739800" cy="56628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12276000">
                      <a:off x="1667160" y="2570040"/>
                      <a:ext cx="5497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12276000">
                      <a:off x="1774800" y="2630880"/>
                      <a:ext cx="474840" cy="31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rot="12276000">
                      <a:off x="1878120" y="2692800"/>
                      <a:ext cx="44172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942200" y="2659680"/>
                    <a:ext cx="600480" cy="425160"/>
                    <a:chOff x="1942200" y="2659680"/>
                    <a:chExt cx="600480" cy="42516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12276000">
                      <a:off x="1971360" y="2745000"/>
                      <a:ext cx="46404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12276000">
                      <a:off x="2062800" y="2790720"/>
                      <a:ext cx="400680" cy="20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rot="12276000">
                      <a:off x="2149560" y="2838600"/>
                      <a:ext cx="37332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" name=""/>
                  <p:cNvSpPr/>
                  <p:nvPr/>
                </p:nvSpPr>
                <p:spPr>
                  <a:xfrm rot="12276000">
                    <a:off x="2230200" y="2874600"/>
                    <a:ext cx="33516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2276000">
                    <a:off x="2316960" y="2915640"/>
                    <a:ext cx="28980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2276000">
                    <a:off x="2391480" y="2951280"/>
                    <a:ext cx="2487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2276000">
                    <a:off x="2463480" y="2971080"/>
                    <a:ext cx="148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1298160" y="3232440"/>
                <a:ext cx="1393560" cy="980640"/>
                <a:chOff x="1298160" y="3232440"/>
                <a:chExt cx="1393560" cy="980640"/>
              </a:xfrm>
            </p:grpSpPr>
            <p:pic>
              <p:nvPicPr>
                <p:cNvPr id="11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98160" y="3439440"/>
                  <a:ext cx="974160" cy="7736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4" name=""/>
                <p:cNvGrpSpPr/>
                <p:nvPr/>
              </p:nvGrpSpPr>
              <p:grpSpPr>
                <a:xfrm>
                  <a:off x="2269080" y="3305160"/>
                  <a:ext cx="422640" cy="425160"/>
                  <a:chOff x="2269080" y="3305160"/>
                  <a:chExt cx="422640" cy="42516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16240" y="3305160"/>
                    <a:ext cx="375480" cy="377280"/>
                    <a:chOff x="2316240" y="3305160"/>
                    <a:chExt cx="375480" cy="3772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 rot="19061400">
                      <a:off x="2399400" y="3335760"/>
                      <a:ext cx="21348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rot="19061400">
                      <a:off x="2389320" y="3377160"/>
                      <a:ext cx="1846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rot="19061400">
                      <a:off x="2370600" y="342468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282400" y="3435120"/>
                    <a:ext cx="282600" cy="280440"/>
                    <a:chOff x="2282400" y="3435120"/>
                    <a:chExt cx="282600" cy="2804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9061400">
                      <a:off x="2337480" y="3468240"/>
                      <a:ext cx="180360" cy="20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9061400">
                      <a:off x="2330640" y="3499200"/>
                      <a:ext cx="155160" cy="1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 rot="19061400">
                      <a:off x="2314440" y="35352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 rot="19061400">
                    <a:off x="2304720" y="35650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9061400">
                    <a:off x="2292840" y="3592080"/>
                    <a:ext cx="1119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9061400">
                    <a:off x="2285640" y="3621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9061400">
                    <a:off x="2300400" y="3640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>
                  <a:off x="1991880" y="323244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90720" y="2770200"/>
                <a:ext cx="1280880" cy="572400"/>
                <a:chOff x="990720" y="2770200"/>
                <a:chExt cx="1280880" cy="57240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90720" y="3028680"/>
                  <a:ext cx="358560" cy="304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0" name=""/>
                <p:cNvGrpSpPr/>
                <p:nvPr/>
              </p:nvGrpSpPr>
              <p:grpSpPr>
                <a:xfrm>
                  <a:off x="1476000" y="2973960"/>
                  <a:ext cx="795600" cy="368640"/>
                  <a:chOff x="1476000" y="2973960"/>
                  <a:chExt cx="795600" cy="368640"/>
                </a:xfrm>
              </p:grpSpPr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752480" y="2973960"/>
                    <a:ext cx="519120" cy="368640"/>
                    <a:chOff x="1752480" y="2973960"/>
                    <a:chExt cx="519120" cy="36864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844280" y="2973960"/>
                      <a:ext cx="42732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812600" y="2997720"/>
                      <a:ext cx="369000" cy="31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752480" y="3025440"/>
                      <a:ext cx="3430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1578960" y="3043440"/>
                    <a:ext cx="438840" cy="243360"/>
                    <a:chOff x="1578960" y="3043440"/>
                    <a:chExt cx="438840" cy="24336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56720" y="3043440"/>
                      <a:ext cx="361080" cy="24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630440" y="3058920"/>
                      <a:ext cx="3110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578960" y="3077280"/>
                      <a:ext cx="289800" cy="17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" name=""/>
                  <p:cNvSpPr/>
                  <p:nvPr/>
                </p:nvSpPr>
                <p:spPr>
                  <a:xfrm>
                    <a:off x="1542240" y="3092760"/>
                    <a:ext cx="2602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504800" y="3102840"/>
                    <a:ext cx="2250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476000" y="3120840"/>
                    <a:ext cx="1933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1496520" y="3136320"/>
                    <a:ext cx="1155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>
                  <a:off x="1530720" y="277020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58880" y="3394800"/>
                <a:ext cx="739080" cy="866880"/>
                <a:chOff x="2558880" y="3394800"/>
                <a:chExt cx="739080" cy="86688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982960" y="3798360"/>
                  <a:ext cx="315000" cy="463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6" name=""/>
                <p:cNvGrpSpPr/>
                <p:nvPr/>
              </p:nvGrpSpPr>
              <p:grpSpPr>
                <a:xfrm>
                  <a:off x="2780640" y="3394800"/>
                  <a:ext cx="370800" cy="439200"/>
                  <a:chOff x="2780640" y="3394800"/>
                  <a:chExt cx="370800" cy="43920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780640" y="3394800"/>
                    <a:ext cx="370800" cy="338760"/>
                    <a:chOff x="2780640" y="3394800"/>
                    <a:chExt cx="370800" cy="338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14962200">
                      <a:off x="2859120" y="3392280"/>
                      <a:ext cx="21348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14962200">
                      <a:off x="2882520" y="3444120"/>
                      <a:ext cx="18468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rot="14962200">
                      <a:off x="2904120" y="3498840"/>
                      <a:ext cx="17172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2881080" y="3530880"/>
                    <a:ext cx="258840" cy="267840"/>
                    <a:chOff x="2881080" y="3530880"/>
                    <a:chExt cx="258840" cy="267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 rot="14962200">
                      <a:off x="2920320" y="3547800"/>
                      <a:ext cx="180360" cy="20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 rot="14962200">
                      <a:off x="2940480" y="3587040"/>
                      <a:ext cx="155160" cy="17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rot="14962200">
                      <a:off x="2958840" y="3628800"/>
                      <a:ext cx="144000" cy="15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" name=""/>
                  <p:cNvSpPr/>
                  <p:nvPr/>
                </p:nvSpPr>
                <p:spPr>
                  <a:xfrm rot="14962200">
                    <a:off x="2977560" y="3662280"/>
                    <a:ext cx="12996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4962200">
                    <a:off x="2995560" y="3697200"/>
                    <a:ext cx="1119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962200">
                    <a:off x="3013920" y="3729960"/>
                    <a:ext cx="961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4962200">
                    <a:off x="3038760" y="3748680"/>
                    <a:ext cx="5724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2558880" y="3539520"/>
                  <a:ext cx="457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520" rIns="92520" tIns="46080" bIns="460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</a:rPr>
                    <a:t>B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60948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85440" y="3809880"/>
            <a:ext cx="5142240" cy="2563920"/>
            <a:chOff x="685440" y="3809880"/>
            <a:chExt cx="5142240" cy="2563920"/>
          </a:xfrm>
        </p:grpSpPr>
        <p:grpSp>
          <p:nvGrpSpPr>
            <p:cNvPr id="162" name=""/>
            <p:cNvGrpSpPr/>
            <p:nvPr/>
          </p:nvGrpSpPr>
          <p:grpSpPr>
            <a:xfrm>
              <a:off x="3313080" y="4419720"/>
              <a:ext cx="2514600" cy="1954080"/>
              <a:chOff x="3313080" y="4419720"/>
              <a:chExt cx="2514600" cy="19540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13080" y="447084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4400640" y="4498920"/>
                <a:ext cx="417600" cy="339120"/>
                <a:chOff x="4400640" y="4498920"/>
                <a:chExt cx="417600" cy="33912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4528080" y="4498920"/>
                  <a:ext cx="290160" cy="339120"/>
                  <a:chOff x="4528080" y="4498920"/>
                  <a:chExt cx="290160" cy="339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1190800">
                    <a:off x="4586760" y="451008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1190800">
                    <a:off x="4570560" y="453384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21190800">
                    <a:off x="4540680" y="456228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4447440" y="4573080"/>
                  <a:ext cx="239040" cy="228600"/>
                  <a:chOff x="4447440" y="4573080"/>
                  <a:chExt cx="239040" cy="2286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21190800">
                    <a:off x="4494240" y="45828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21190800">
                    <a:off x="4480920" y="4599000"/>
                    <a:ext cx="15588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1190800">
                    <a:off x="4455720" y="4618800"/>
                    <a:ext cx="1450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 rot="21190800">
                  <a:off x="4438080" y="463500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21190800">
                  <a:off x="4419360" y="4646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21190800">
                  <a:off x="4405320" y="466488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21190800">
                  <a:off x="4416120" y="46789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1280" y="5753520"/>
                <a:ext cx="315360" cy="46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8" name=""/>
              <p:cNvGrpSpPr/>
              <p:nvPr/>
            </p:nvGrpSpPr>
            <p:grpSpPr>
              <a:xfrm>
                <a:off x="3975120" y="5247000"/>
                <a:ext cx="371160" cy="439200"/>
                <a:chOff x="3975120" y="5247000"/>
                <a:chExt cx="371160" cy="4392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3975120" y="5247000"/>
                  <a:ext cx="371160" cy="338760"/>
                  <a:chOff x="3975120" y="5247000"/>
                  <a:chExt cx="371160" cy="33876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rot="14962200">
                    <a:off x="4053600" y="52441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14962200">
                    <a:off x="4077000" y="52963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4962200">
                    <a:off x="4098600" y="535104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075560" y="5383080"/>
                  <a:ext cx="259200" cy="267840"/>
                  <a:chOff x="4075560" y="5383080"/>
                  <a:chExt cx="259200" cy="26784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rot="14962200">
                    <a:off x="4114800" y="539964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rot="14962200">
                    <a:off x="4134960" y="543888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14962200">
                    <a:off x="4153320" y="548100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 rot="14962200">
                  <a:off x="4172040" y="55144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4962200">
                  <a:off x="4190400" y="554940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4962200">
                  <a:off x="4208400" y="558216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4962200">
                  <a:off x="4233600" y="560052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852800" y="5599800"/>
                <a:ext cx="974880" cy="774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2" name=""/>
              <p:cNvGrpSpPr/>
              <p:nvPr/>
            </p:nvGrpSpPr>
            <p:grpSpPr>
              <a:xfrm>
                <a:off x="5162400" y="5200560"/>
                <a:ext cx="365400" cy="437040"/>
                <a:chOff x="5162400" y="5200560"/>
                <a:chExt cx="365400" cy="43704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5162400" y="5200560"/>
                  <a:ext cx="365400" cy="329760"/>
                  <a:chOff x="5162400" y="5200560"/>
                  <a:chExt cx="365400" cy="3297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15149400">
                    <a:off x="5238000" y="5191920"/>
                    <a:ext cx="2134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5149400">
                    <a:off x="5259600" y="5244120"/>
                    <a:ext cx="18468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5149400">
                    <a:off x="5279400" y="5299920"/>
                    <a:ext cx="17172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257080" y="5337000"/>
                  <a:ext cx="253440" cy="262080"/>
                  <a:chOff x="5257080" y="5337000"/>
                  <a:chExt cx="253440" cy="2620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5149400">
                    <a:off x="5293440" y="5349600"/>
                    <a:ext cx="1803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5149400">
                    <a:off x="5312520" y="5389200"/>
                    <a:ext cx="15516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15149400">
                    <a:off x="5329080" y="5432040"/>
                    <a:ext cx="144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 rot="15149400">
                  <a:off x="5346720" y="5465880"/>
                  <a:ext cx="12996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5149400">
                  <a:off x="5363640" y="5501520"/>
                  <a:ext cx="11196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5149400">
                  <a:off x="5380560" y="5535000"/>
                  <a:ext cx="961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5149400">
                  <a:off x="5405040" y="5553360"/>
                  <a:ext cx="5724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52800" y="4419720"/>
                <a:ext cx="974880" cy="77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"/>
              <p:cNvGrpSpPr/>
              <p:nvPr/>
            </p:nvGrpSpPr>
            <p:grpSpPr>
              <a:xfrm>
                <a:off x="4317480" y="5038920"/>
                <a:ext cx="681120" cy="727560"/>
                <a:chOff x="4317480" y="5038920"/>
                <a:chExt cx="681120" cy="727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4317480" y="5200920"/>
                  <a:ext cx="552960" cy="565560"/>
                  <a:chOff x="4317480" y="5200920"/>
                  <a:chExt cx="552960" cy="5655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7975200">
                    <a:off x="4364640" y="5344200"/>
                    <a:ext cx="42732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38" y="214"/>
                        </a:moveTo>
                        <a:arcTo wR="10800" hR="10800" stAng="-4715030" swAng="918843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38" y="214"/>
                        </a:moveTo>
                        <a:arcTo wR="10800" hR="10800" stAng="-4715030" swAng="9188438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7975200">
                    <a:off x="4436280" y="5323680"/>
                    <a:ext cx="369720" cy="271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9" y="218"/>
                        </a:moveTo>
                        <a:arcTo wR="10800" hR="10800" stAng="-4708022" swAng="919142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9" y="218"/>
                        </a:moveTo>
                        <a:arcTo wR="10800" hR="10800" stAng="-4708022" swAng="919142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7975200">
                    <a:off x="4497840" y="5290200"/>
                    <a:ext cx="34380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96" y="205"/>
                        </a:moveTo>
                        <a:arcTo wR="10800" hR="10800" stAng="-4728645" swAng="922403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96" y="205"/>
                        </a:moveTo>
                        <a:arcTo wR="10800" hR="10800" stAng="-4728645" swAng="922403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4525200" y="5095800"/>
                  <a:ext cx="430560" cy="444600"/>
                  <a:chOff x="4525200" y="5095800"/>
                  <a:chExt cx="430560" cy="44460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7975200">
                    <a:off x="4543920" y="5232240"/>
                    <a:ext cx="361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71" swAng="923925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71" swAng="9239250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7975200">
                    <a:off x="4605120" y="5210280"/>
                    <a:ext cx="31104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63" y="199"/>
                        </a:moveTo>
                        <a:arcTo wR="10800" hR="10800" stAng="-4739237" swAng="92513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63" y="199"/>
                        </a:moveTo>
                        <a:arcTo wR="10800" hR="10800" stAng="-4739237" swAng="9251369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7975200">
                    <a:off x="4656600" y="5177520"/>
                    <a:ext cx="2898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9" y="202"/>
                        </a:moveTo>
                        <a:arcTo wR="10800" hR="10800" stAng="-4733964" swAng="922295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9" y="202"/>
                        </a:moveTo>
                        <a:arcTo wR="10800" hR="10800" stAng="-4733964" swAng="922295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 rot="7975200">
                  <a:off x="4703760" y="5148360"/>
                  <a:ext cx="261000" cy="130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3" y="209"/>
                      </a:moveTo>
                      <a:arcTo wR="10800" hR="10800" stAng="-4723069" swAng="92216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3" y="209"/>
                      </a:moveTo>
                      <a:arcTo wR="10800" hR="10800" stAng="-4723069" swAng="9221677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7975200">
                  <a:off x="4759560" y="5117040"/>
                  <a:ext cx="225000" cy="113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7" y="210"/>
                      </a:moveTo>
                      <a:arcTo wR="10800" hR="10800" stAng="-4721599" swAng="92211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7" y="210"/>
                      </a:moveTo>
                      <a:arcTo wR="10800" hR="10800" stAng="-4721599" swAng="9221142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7975200">
                  <a:off x="4804200" y="5095800"/>
                  <a:ext cx="193320" cy="8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74" y="221"/>
                      </a:moveTo>
                      <a:arcTo wR="10800" hR="10800" stAng="-4703355" swAng="91693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74" y="221"/>
                      </a:moveTo>
                      <a:arcTo wR="10800" hR="10800" stAng="-4703355" swAng="9169371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7975200">
                  <a:off x="4853520" y="5091120"/>
                  <a:ext cx="115560" cy="6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7" y="190"/>
                      </a:moveTo>
                      <a:arcTo wR="10800" hR="10800" stAng="-4754221" swAng="925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7" y="190"/>
                      </a:moveTo>
                      <a:arcTo wR="10800" hR="10800" stAng="-4754221" swAng="9252404"/>
                    </a:path>
                  </a:pathLst>
                </a:custGeom>
                <a:noFill/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1600200" y="5562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 Hoc Networ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85440" y="3809880"/>
              <a:ext cx="38862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570560" y="1523880"/>
            <a:ext cx="4039920" cy="4038840"/>
            <a:chOff x="4570560" y="1523880"/>
            <a:chExt cx="4039920" cy="4038840"/>
          </a:xfrm>
        </p:grpSpPr>
        <p:grpSp>
          <p:nvGrpSpPr>
            <p:cNvPr id="222" name=""/>
            <p:cNvGrpSpPr/>
            <p:nvPr/>
          </p:nvGrpSpPr>
          <p:grpSpPr>
            <a:xfrm>
              <a:off x="5715000" y="2228760"/>
              <a:ext cx="2514240" cy="2033640"/>
              <a:chOff x="5715000" y="2228760"/>
              <a:chExt cx="2514240" cy="203364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5715000" y="2400120"/>
                <a:ext cx="914400" cy="1095480"/>
                <a:chOff x="5715000" y="2400120"/>
                <a:chExt cx="914400" cy="1095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717160" y="3215160"/>
                  <a:ext cx="909360" cy="280440"/>
                </a:xfrm>
                <a:custGeom>
                  <a:avLst/>
                  <a:gdLst/>
                  <a:ahLst/>
                  <a:rect l="l" t="t" r="r" b="b"/>
                  <a:pathLst>
                    <a:path w="2186" h="674">
                      <a:moveTo>
                        <a:pt x="0" y="637"/>
                      </a:moveTo>
                      <a:lnTo>
                        <a:pt x="0" y="33"/>
                      </a:lnTo>
                      <a:lnTo>
                        <a:pt x="1" y="24"/>
                      </a:lnTo>
                      <a:lnTo>
                        <a:pt x="4" y="17"/>
                      </a:lnTo>
                      <a:lnTo>
                        <a:pt x="7" y="11"/>
                      </a:lnTo>
                      <a:lnTo>
                        <a:pt x="12" y="6"/>
                      </a:lnTo>
                      <a:lnTo>
                        <a:pt x="18" y="3"/>
                      </a:lnTo>
                      <a:lnTo>
                        <a:pt x="26" y="1"/>
                      </a:lnTo>
                      <a:lnTo>
                        <a:pt x="33" y="0"/>
                      </a:lnTo>
                      <a:lnTo>
                        <a:pt x="42" y="0"/>
                      </a:lnTo>
                      <a:lnTo>
                        <a:pt x="2135" y="0"/>
                      </a:lnTo>
                      <a:lnTo>
                        <a:pt x="2147" y="0"/>
                      </a:lnTo>
                      <a:lnTo>
                        <a:pt x="2157" y="2"/>
                      </a:lnTo>
                      <a:lnTo>
                        <a:pt x="2166" y="4"/>
                      </a:lnTo>
                      <a:lnTo>
                        <a:pt x="2173" y="9"/>
                      </a:lnTo>
                      <a:lnTo>
                        <a:pt x="2179" y="15"/>
                      </a:lnTo>
                      <a:lnTo>
                        <a:pt x="2182" y="23"/>
                      </a:lnTo>
                      <a:lnTo>
                        <a:pt x="2185" y="33"/>
                      </a:lnTo>
                      <a:lnTo>
                        <a:pt x="2186" y="46"/>
                      </a:lnTo>
                      <a:lnTo>
                        <a:pt x="2186" y="649"/>
                      </a:lnTo>
                      <a:lnTo>
                        <a:pt x="2185" y="662"/>
                      </a:lnTo>
                      <a:lnTo>
                        <a:pt x="2180" y="669"/>
                      </a:lnTo>
                      <a:lnTo>
                        <a:pt x="2172" y="672"/>
                      </a:lnTo>
                      <a:lnTo>
                        <a:pt x="2157" y="674"/>
                      </a:lnTo>
                      <a:lnTo>
                        <a:pt x="38" y="674"/>
                      </a:lnTo>
                      <a:lnTo>
                        <a:pt x="30" y="674"/>
                      </a:lnTo>
                      <a:lnTo>
                        <a:pt x="23" y="672"/>
                      </a:lnTo>
                      <a:lnTo>
                        <a:pt x="18" y="671"/>
                      </a:lnTo>
                      <a:lnTo>
                        <a:pt x="12" y="668"/>
                      </a:lnTo>
                      <a:lnTo>
                        <a:pt x="7" y="663"/>
                      </a:lnTo>
                      <a:lnTo>
                        <a:pt x="4" y="656"/>
                      </a:lnTo>
                      <a:lnTo>
                        <a:pt x="1" y="648"/>
                      </a:lnTo>
                      <a:lnTo>
                        <a:pt x="0" y="637"/>
                      </a:lnTo>
                      <a:close/>
                    </a:path>
                  </a:pathLst>
                </a:custGeom>
                <a:solidFill>
                  <a:srgbClr val="e5e0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715000" y="3228480"/>
                  <a:ext cx="468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04"/>
                      </a:lnTo>
                      <a:lnTo>
                        <a:pt x="11" y="60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2093" y="0"/>
                      </a:move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56" y="52"/>
                      </a:move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45" y="52"/>
                      </a:lnTo>
                      <a:lnTo>
                        <a:pt x="56" y="5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624360" y="3234240"/>
                  <a:ext cx="5040" cy="251280"/>
                </a:xfrm>
                <a:custGeom>
                  <a:avLst/>
                  <a:gdLst/>
                  <a:ahLst/>
                  <a:rect l="l" t="t" r="r" b="b"/>
                  <a:pathLst>
                    <a:path w="11" h="603">
                      <a:moveTo>
                        <a:pt x="11" y="603"/>
                      </a:moveTo>
                      <a:lnTo>
                        <a:pt x="11" y="60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603"/>
                      </a:lnTo>
                      <a:lnTo>
                        <a:pt x="0" y="603"/>
                      </a:lnTo>
                      <a:lnTo>
                        <a:pt x="11" y="6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717160" y="3120480"/>
                  <a:ext cx="909360" cy="113760"/>
                </a:xfrm>
                <a:custGeom>
                  <a:avLst/>
                  <a:gdLst/>
                  <a:ahLst/>
                  <a:rect l="l" t="t" r="r" b="b"/>
                  <a:pathLst>
                    <a:path w="2186" h="275">
                      <a:moveTo>
                        <a:pt x="1" y="246"/>
                      </a:moveTo>
                      <a:lnTo>
                        <a:pt x="4" y="241"/>
                      </a:lnTo>
                      <a:lnTo>
                        <a:pt x="10" y="231"/>
                      </a:lnTo>
                      <a:lnTo>
                        <a:pt x="20" y="218"/>
                      </a:lnTo>
                      <a:lnTo>
                        <a:pt x="33" y="202"/>
                      </a:lnTo>
                      <a:lnTo>
                        <a:pt x="46" y="182"/>
                      </a:lnTo>
                      <a:lnTo>
                        <a:pt x="64" y="162"/>
                      </a:lnTo>
                      <a:lnTo>
                        <a:pt x="81" y="140"/>
                      </a:lnTo>
                      <a:lnTo>
                        <a:pt x="99" y="118"/>
                      </a:lnTo>
                      <a:lnTo>
                        <a:pt x="119" y="96"/>
                      </a:lnTo>
                      <a:lnTo>
                        <a:pt x="136" y="74"/>
                      </a:lnTo>
                      <a:lnTo>
                        <a:pt x="154" y="55"/>
                      </a:lnTo>
                      <a:lnTo>
                        <a:pt x="170" y="37"/>
                      </a:lnTo>
                      <a:lnTo>
                        <a:pt x="182" y="22"/>
                      </a:lnTo>
                      <a:lnTo>
                        <a:pt x="193" y="11"/>
                      </a:lnTo>
                      <a:lnTo>
                        <a:pt x="201" y="3"/>
                      </a:lnTo>
                      <a:lnTo>
                        <a:pt x="204" y="0"/>
                      </a:lnTo>
                      <a:lnTo>
                        <a:pt x="1969" y="0"/>
                      </a:lnTo>
                      <a:lnTo>
                        <a:pt x="1974" y="3"/>
                      </a:lnTo>
                      <a:lnTo>
                        <a:pt x="1982" y="11"/>
                      </a:lnTo>
                      <a:lnTo>
                        <a:pt x="1993" y="22"/>
                      </a:lnTo>
                      <a:lnTo>
                        <a:pt x="2008" y="37"/>
                      </a:lnTo>
                      <a:lnTo>
                        <a:pt x="2024" y="56"/>
                      </a:lnTo>
                      <a:lnTo>
                        <a:pt x="2043" y="75"/>
                      </a:lnTo>
                      <a:lnTo>
                        <a:pt x="2062" y="97"/>
                      </a:lnTo>
                      <a:lnTo>
                        <a:pt x="2082" y="120"/>
                      </a:lnTo>
                      <a:lnTo>
                        <a:pt x="2102" y="143"/>
                      </a:lnTo>
                      <a:lnTo>
                        <a:pt x="2120" y="165"/>
                      </a:lnTo>
                      <a:lnTo>
                        <a:pt x="2137" y="186"/>
                      </a:lnTo>
                      <a:lnTo>
                        <a:pt x="2153" y="206"/>
                      </a:lnTo>
                      <a:lnTo>
                        <a:pt x="2167" y="223"/>
                      </a:lnTo>
                      <a:lnTo>
                        <a:pt x="2177" y="237"/>
                      </a:lnTo>
                      <a:lnTo>
                        <a:pt x="2183" y="246"/>
                      </a:lnTo>
                      <a:lnTo>
                        <a:pt x="2186" y="252"/>
                      </a:lnTo>
                      <a:lnTo>
                        <a:pt x="2186" y="275"/>
                      </a:lnTo>
                      <a:lnTo>
                        <a:pt x="2185" y="262"/>
                      </a:lnTo>
                      <a:lnTo>
                        <a:pt x="2182" y="252"/>
                      </a:lnTo>
                      <a:lnTo>
                        <a:pt x="2179" y="244"/>
                      </a:lnTo>
                      <a:lnTo>
                        <a:pt x="2173" y="238"/>
                      </a:lnTo>
                      <a:lnTo>
                        <a:pt x="2166" y="233"/>
                      </a:lnTo>
                      <a:lnTo>
                        <a:pt x="2157" y="231"/>
                      </a:lnTo>
                      <a:lnTo>
                        <a:pt x="2147" y="229"/>
                      </a:lnTo>
                      <a:lnTo>
                        <a:pt x="2135" y="229"/>
                      </a:lnTo>
                      <a:lnTo>
                        <a:pt x="42" y="229"/>
                      </a:lnTo>
                      <a:lnTo>
                        <a:pt x="33" y="229"/>
                      </a:lnTo>
                      <a:lnTo>
                        <a:pt x="26" y="230"/>
                      </a:lnTo>
                      <a:lnTo>
                        <a:pt x="18" y="232"/>
                      </a:lnTo>
                      <a:lnTo>
                        <a:pt x="12" y="235"/>
                      </a:lnTo>
                      <a:lnTo>
                        <a:pt x="7" y="240"/>
                      </a:lnTo>
                      <a:lnTo>
                        <a:pt x="4" y="246"/>
                      </a:lnTo>
                      <a:lnTo>
                        <a:pt x="1" y="253"/>
                      </a:lnTo>
                      <a:lnTo>
                        <a:pt x="0" y="262"/>
                      </a:lnTo>
                      <a:lnTo>
                        <a:pt x="1" y="246"/>
                      </a:lnTo>
                      <a:close/>
                    </a:path>
                  </a:pathLst>
                </a:custGeom>
                <a:solidFill>
                  <a:srgbClr val="b5a5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715720" y="3117960"/>
                  <a:ext cx="86400" cy="104040"/>
                </a:xfrm>
                <a:custGeom>
                  <a:avLst/>
                  <a:gdLst/>
                  <a:ahLst/>
                  <a:rect l="l" t="t" r="r" b="b"/>
                  <a:pathLst>
                    <a:path w="208" h="251">
                      <a:moveTo>
                        <a:pt x="208" y="0"/>
                      </a:moveTo>
                      <a:lnTo>
                        <a:pt x="208" y="0"/>
                      </a:lnTo>
                      <a:lnTo>
                        <a:pt x="201" y="3"/>
                      </a:lnTo>
                      <a:lnTo>
                        <a:pt x="193" y="12"/>
                      </a:lnTo>
                      <a:lnTo>
                        <a:pt x="182" y="24"/>
                      </a:lnTo>
                      <a:lnTo>
                        <a:pt x="169" y="39"/>
                      </a:lnTo>
                      <a:lnTo>
                        <a:pt x="153" y="56"/>
                      </a:lnTo>
                      <a:lnTo>
                        <a:pt x="136" y="76"/>
                      </a:lnTo>
                      <a:lnTo>
                        <a:pt x="118" y="98"/>
                      </a:lnTo>
                      <a:lnTo>
                        <a:pt x="99" y="120"/>
                      </a:lnTo>
                      <a:lnTo>
                        <a:pt x="80" y="141"/>
                      </a:lnTo>
                      <a:lnTo>
                        <a:pt x="63" y="163"/>
                      </a:lnTo>
                      <a:lnTo>
                        <a:pt x="46" y="184"/>
                      </a:lnTo>
                      <a:lnTo>
                        <a:pt x="32" y="204"/>
                      </a:lnTo>
                      <a:lnTo>
                        <a:pt x="19" y="220"/>
                      </a:lnTo>
                      <a:lnTo>
                        <a:pt x="9" y="232"/>
                      </a:lnTo>
                      <a:lnTo>
                        <a:pt x="3" y="244"/>
                      </a:lnTo>
                      <a:lnTo>
                        <a:pt x="0" y="251"/>
                      </a:lnTo>
                      <a:lnTo>
                        <a:pt x="11" y="251"/>
                      </a:lnTo>
                      <a:lnTo>
                        <a:pt x="12" y="249"/>
                      </a:lnTo>
                      <a:lnTo>
                        <a:pt x="18" y="239"/>
                      </a:lnTo>
                      <a:lnTo>
                        <a:pt x="28" y="227"/>
                      </a:lnTo>
                      <a:lnTo>
                        <a:pt x="41" y="211"/>
                      </a:lnTo>
                      <a:lnTo>
                        <a:pt x="55" y="191"/>
                      </a:lnTo>
                      <a:lnTo>
                        <a:pt x="72" y="170"/>
                      </a:lnTo>
                      <a:lnTo>
                        <a:pt x="90" y="148"/>
                      </a:lnTo>
                      <a:lnTo>
                        <a:pt x="108" y="126"/>
                      </a:lnTo>
                      <a:lnTo>
                        <a:pt x="128" y="105"/>
                      </a:lnTo>
                      <a:lnTo>
                        <a:pt x="145" y="83"/>
                      </a:lnTo>
                      <a:lnTo>
                        <a:pt x="162" y="63"/>
                      </a:lnTo>
                      <a:lnTo>
                        <a:pt x="178" y="46"/>
                      </a:lnTo>
                      <a:lnTo>
                        <a:pt x="191" y="31"/>
                      </a:lnTo>
                      <a:lnTo>
                        <a:pt x="200" y="19"/>
                      </a:lnTo>
                      <a:lnTo>
                        <a:pt x="208" y="12"/>
                      </a:lnTo>
                      <a:lnTo>
                        <a:pt x="208" y="11"/>
                      </a:lnTo>
                      <a:lnTo>
                        <a:pt x="208" y="11"/>
                      </a:lnTo>
                      <a:lnTo>
                        <a:pt x="2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02120" y="3117960"/>
                  <a:ext cx="734400" cy="4680"/>
                </a:xfrm>
                <a:custGeom>
                  <a:avLst/>
                  <a:gdLst/>
                  <a:ahLst/>
                  <a:rect l="l" t="t" r="r" b="b"/>
                  <a:pathLst>
                    <a:path w="1765" h="11">
                      <a:moveTo>
                        <a:pt x="1765" y="0"/>
                      </a:moveTo>
                      <a:lnTo>
                        <a:pt x="1765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765" y="11"/>
                      </a:lnTo>
                      <a:lnTo>
                        <a:pt x="1765" y="11"/>
                      </a:lnTo>
                      <a:lnTo>
                        <a:pt x="17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36880" y="3117960"/>
                  <a:ext cx="92160" cy="106200"/>
                </a:xfrm>
                <a:custGeom>
                  <a:avLst/>
                  <a:gdLst/>
                  <a:ahLst/>
                  <a:rect l="l" t="t" r="r" b="b"/>
                  <a:pathLst>
                    <a:path w="222" h="257">
                      <a:moveTo>
                        <a:pt x="222" y="257"/>
                      </a:moveTo>
                      <a:lnTo>
                        <a:pt x="222" y="257"/>
                      </a:lnTo>
                      <a:lnTo>
                        <a:pt x="219" y="249"/>
                      </a:lnTo>
                      <a:lnTo>
                        <a:pt x="212" y="238"/>
                      </a:lnTo>
                      <a:lnTo>
                        <a:pt x="203" y="224"/>
                      </a:lnTo>
                      <a:lnTo>
                        <a:pt x="189" y="207"/>
                      </a:lnTo>
                      <a:lnTo>
                        <a:pt x="173" y="187"/>
                      </a:lnTo>
                      <a:lnTo>
                        <a:pt x="156" y="167"/>
                      </a:lnTo>
                      <a:lnTo>
                        <a:pt x="137" y="145"/>
                      </a:lnTo>
                      <a:lnTo>
                        <a:pt x="118" y="122"/>
                      </a:lnTo>
                      <a:lnTo>
                        <a:pt x="98" y="99"/>
                      </a:lnTo>
                      <a:lnTo>
                        <a:pt x="78" y="77"/>
                      </a:lnTo>
                      <a:lnTo>
                        <a:pt x="60" y="57"/>
                      </a:lnTo>
                      <a:lnTo>
                        <a:pt x="44" y="39"/>
                      </a:lnTo>
                      <a:lnTo>
                        <a:pt x="28" y="24"/>
                      </a:lnTo>
                      <a:lnTo>
                        <a:pt x="16" y="12"/>
                      </a:lnTo>
                      <a:lnTo>
                        <a:pt x="8" y="3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9" y="19"/>
                      </a:lnTo>
                      <a:lnTo>
                        <a:pt x="21" y="31"/>
                      </a:lnTo>
                      <a:lnTo>
                        <a:pt x="35" y="46"/>
                      </a:lnTo>
                      <a:lnTo>
                        <a:pt x="51" y="64"/>
                      </a:lnTo>
                      <a:lnTo>
                        <a:pt x="69" y="84"/>
                      </a:lnTo>
                      <a:lnTo>
                        <a:pt x="89" y="106"/>
                      </a:lnTo>
                      <a:lnTo>
                        <a:pt x="108" y="129"/>
                      </a:lnTo>
                      <a:lnTo>
                        <a:pt x="128" y="152"/>
                      </a:lnTo>
                      <a:lnTo>
                        <a:pt x="146" y="174"/>
                      </a:lnTo>
                      <a:lnTo>
                        <a:pt x="164" y="194"/>
                      </a:lnTo>
                      <a:lnTo>
                        <a:pt x="180" y="214"/>
                      </a:lnTo>
                      <a:lnTo>
                        <a:pt x="194" y="231"/>
                      </a:lnTo>
                      <a:lnTo>
                        <a:pt x="203" y="245"/>
                      </a:lnTo>
                      <a:lnTo>
                        <a:pt x="210" y="253"/>
                      </a:lnTo>
                      <a:lnTo>
                        <a:pt x="211" y="257"/>
                      </a:lnTo>
                      <a:lnTo>
                        <a:pt x="211" y="257"/>
                      </a:lnTo>
                      <a:lnTo>
                        <a:pt x="222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24360" y="3224520"/>
                  <a:ext cx="5040" cy="97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3"/>
                      </a:moveTo>
                      <a:lnTo>
                        <a:pt x="11" y="23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11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606000" y="3212640"/>
                  <a:ext cx="23400" cy="21600"/>
                </a:xfrm>
                <a:custGeom>
                  <a:avLst/>
                  <a:gdLst/>
                  <a:ahLst/>
                  <a:rect l="l" t="t" r="r" b="b"/>
                  <a:pathLst>
                    <a:path w="56" h="52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21" y="14"/>
                      </a:lnTo>
                      <a:lnTo>
                        <a:pt x="29" y="16"/>
                      </a:lnTo>
                      <a:lnTo>
                        <a:pt x="35" y="19"/>
                      </a:lnTo>
                      <a:lnTo>
                        <a:pt x="39" y="24"/>
                      </a:lnTo>
                      <a:lnTo>
                        <a:pt x="42" y="30"/>
                      </a:lnTo>
                      <a:lnTo>
                        <a:pt x="44" y="39"/>
                      </a:lnTo>
                      <a:lnTo>
                        <a:pt x="45" y="52"/>
                      </a:lnTo>
                      <a:lnTo>
                        <a:pt x="56" y="52"/>
                      </a:lnTo>
                      <a:lnTo>
                        <a:pt x="55" y="39"/>
                      </a:lnTo>
                      <a:lnTo>
                        <a:pt x="53" y="27"/>
                      </a:lnTo>
                      <a:lnTo>
                        <a:pt x="48" y="17"/>
                      </a:lnTo>
                      <a:lnTo>
                        <a:pt x="42" y="10"/>
                      </a:lnTo>
                      <a:lnTo>
                        <a:pt x="33" y="4"/>
                      </a:lnTo>
                      <a:lnTo>
                        <a:pt x="23" y="2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34800" y="3212640"/>
                  <a:ext cx="871200" cy="5040"/>
                </a:xfrm>
                <a:custGeom>
                  <a:avLst/>
                  <a:gdLst/>
                  <a:ahLst/>
                  <a:rect l="l" t="t" r="r" b="b"/>
                  <a:pathLst>
                    <a:path w="2093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2093" y="11"/>
                      </a:lnTo>
                      <a:lnTo>
                        <a:pt x="209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715000" y="3212640"/>
                  <a:ext cx="19800" cy="1584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39"/>
                      </a:moveTo>
                      <a:lnTo>
                        <a:pt x="11" y="39"/>
                      </a:lnTo>
                      <a:lnTo>
                        <a:pt x="12" y="31"/>
                      </a:lnTo>
                      <a:lnTo>
                        <a:pt x="15" y="25"/>
                      </a:lnTo>
                      <a:lnTo>
                        <a:pt x="17" y="21"/>
                      </a:lnTo>
                      <a:lnTo>
                        <a:pt x="20" y="17"/>
                      </a:lnTo>
                      <a:lnTo>
                        <a:pt x="25" y="15"/>
                      </a:lnTo>
                      <a:lnTo>
                        <a:pt x="32" y="12"/>
                      </a:lnTo>
                      <a:lnTo>
                        <a:pt x="38" y="11"/>
                      </a:lnTo>
                      <a:lnTo>
                        <a:pt x="47" y="11"/>
                      </a:ln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29" y="1"/>
                      </a:lnTo>
                      <a:lnTo>
                        <a:pt x="20" y="3"/>
                      </a:lnTo>
                      <a:lnTo>
                        <a:pt x="13" y="8"/>
                      </a:lnTo>
                      <a:lnTo>
                        <a:pt x="8" y="14"/>
                      </a:lnTo>
                      <a:lnTo>
                        <a:pt x="3" y="21"/>
                      </a:lnTo>
                      <a:lnTo>
                        <a:pt x="1" y="29"/>
                      </a:lnTo>
                      <a:lnTo>
                        <a:pt x="0" y="39"/>
                      </a:lnTo>
                      <a:lnTo>
                        <a:pt x="11" y="39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15000" y="322200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6"/>
                      </a:lnTo>
                      <a:lnTo>
                        <a:pt x="11" y="16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30480" y="3225960"/>
                  <a:ext cx="880560" cy="165600"/>
                </a:xfrm>
                <a:custGeom>
                  <a:avLst/>
                  <a:gdLst/>
                  <a:ahLst/>
                  <a:rect l="l" t="t" r="r" b="b"/>
                  <a:pathLst>
                    <a:path w="2116" h="399">
                      <a:moveTo>
                        <a:pt x="0" y="365"/>
                      </a:moveTo>
                      <a:lnTo>
                        <a:pt x="0" y="30"/>
                      </a:lnTo>
                      <a:lnTo>
                        <a:pt x="1" y="22"/>
                      </a:lnTo>
                      <a:lnTo>
                        <a:pt x="2" y="16"/>
                      </a:lnTo>
                      <a:lnTo>
                        <a:pt x="5" y="10"/>
                      </a:lnTo>
                      <a:lnTo>
                        <a:pt x="10" y="7"/>
                      </a:lnTo>
                      <a:lnTo>
                        <a:pt x="16" y="4"/>
                      </a:lnTo>
                      <a:lnTo>
                        <a:pt x="21" y="1"/>
                      </a:lnTo>
                      <a:lnTo>
                        <a:pt x="30" y="0"/>
                      </a:lnTo>
                      <a:lnTo>
                        <a:pt x="38" y="0"/>
                      </a:lnTo>
                      <a:lnTo>
                        <a:pt x="2071" y="0"/>
                      </a:lnTo>
                      <a:lnTo>
                        <a:pt x="2081" y="0"/>
                      </a:lnTo>
                      <a:lnTo>
                        <a:pt x="2091" y="2"/>
                      </a:lnTo>
                      <a:lnTo>
                        <a:pt x="2099" y="5"/>
                      </a:lnTo>
                      <a:lnTo>
                        <a:pt x="2104" y="8"/>
                      </a:lnTo>
                      <a:lnTo>
                        <a:pt x="2110" y="14"/>
                      </a:lnTo>
                      <a:lnTo>
                        <a:pt x="2114" y="21"/>
                      </a:lnTo>
                      <a:lnTo>
                        <a:pt x="2115" y="30"/>
                      </a:lnTo>
                      <a:lnTo>
                        <a:pt x="2116" y="42"/>
                      </a:lnTo>
                      <a:lnTo>
                        <a:pt x="2116" y="376"/>
                      </a:lnTo>
                      <a:lnTo>
                        <a:pt x="2115" y="387"/>
                      </a:lnTo>
                      <a:lnTo>
                        <a:pt x="2111" y="394"/>
                      </a:lnTo>
                      <a:lnTo>
                        <a:pt x="2103" y="398"/>
                      </a:lnTo>
                      <a:lnTo>
                        <a:pt x="2091" y="399"/>
                      </a:lnTo>
                      <a:lnTo>
                        <a:pt x="34" y="399"/>
                      </a:lnTo>
                      <a:lnTo>
                        <a:pt x="27" y="399"/>
                      </a:lnTo>
                      <a:lnTo>
                        <a:pt x="20" y="398"/>
                      </a:lnTo>
                      <a:lnTo>
                        <a:pt x="15" y="396"/>
                      </a:lnTo>
                      <a:lnTo>
                        <a:pt x="10" y="393"/>
                      </a:lnTo>
                      <a:lnTo>
                        <a:pt x="5" y="389"/>
                      </a:lnTo>
                      <a:lnTo>
                        <a:pt x="2" y="383"/>
                      </a:lnTo>
                      <a:lnTo>
                        <a:pt x="1" y="376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e5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27240" y="3238560"/>
                  <a:ext cx="6480" cy="139680"/>
                </a:xfrm>
                <a:custGeom>
                  <a:avLst/>
                  <a:gdLst/>
                  <a:ahLst/>
                  <a:rect l="l" t="t" r="r" b="b"/>
                  <a:pathLst>
                    <a:path w="17" h="33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35"/>
                      </a:lnTo>
                      <a:lnTo>
                        <a:pt x="17" y="33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27240" y="3222720"/>
                  <a:ext cx="18720" cy="1584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0"/>
                      </a:moveTo>
                      <a:lnTo>
                        <a:pt x="47" y="0"/>
                      </a:lnTo>
                      <a:lnTo>
                        <a:pt x="39" y="1"/>
                      </a:lnTo>
                      <a:lnTo>
                        <a:pt x="29" y="2"/>
                      </a:lnTo>
                      <a:lnTo>
                        <a:pt x="21" y="5"/>
                      </a:lnTo>
                      <a:lnTo>
                        <a:pt x="15" y="9"/>
                      </a:lnTo>
                      <a:lnTo>
                        <a:pt x="9" y="14"/>
                      </a:lnTo>
                      <a:lnTo>
                        <a:pt x="4" y="22"/>
                      </a:lnTo>
                      <a:lnTo>
                        <a:pt x="3" y="29"/>
                      </a:lnTo>
                      <a:lnTo>
                        <a:pt x="0" y="38"/>
                      </a:lnTo>
                      <a:lnTo>
                        <a:pt x="17" y="38"/>
                      </a:lnTo>
                      <a:lnTo>
                        <a:pt x="17" y="31"/>
                      </a:lnTo>
                      <a:lnTo>
                        <a:pt x="18" y="26"/>
                      </a:lnTo>
                      <a:lnTo>
                        <a:pt x="20" y="23"/>
                      </a:lnTo>
                      <a:lnTo>
                        <a:pt x="22" y="21"/>
                      </a:lnTo>
                      <a:lnTo>
                        <a:pt x="28" y="18"/>
                      </a:lnTo>
                      <a:lnTo>
                        <a:pt x="32" y="16"/>
                      </a:lnTo>
                      <a:lnTo>
                        <a:pt x="39" y="15"/>
                      </a:lnTo>
                      <a:lnTo>
                        <a:pt x="47" y="16"/>
                      </a:lnTo>
                      <a:lnTo>
                        <a:pt x="47" y="1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46320" y="3222720"/>
                  <a:ext cx="846360" cy="6480"/>
                </a:xfrm>
                <a:custGeom>
                  <a:avLst/>
                  <a:gdLst/>
                  <a:ahLst/>
                  <a:rect l="l" t="t" r="r" b="b"/>
                  <a:pathLst>
                    <a:path w="2033" h="16">
                      <a:moveTo>
                        <a:pt x="2033" y="0"/>
                      </a:moveTo>
                      <a:lnTo>
                        <a:pt x="2033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2033" y="16"/>
                      </a:lnTo>
                      <a:lnTo>
                        <a:pt x="2033" y="16"/>
                      </a:lnTo>
                      <a:lnTo>
                        <a:pt x="20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92680" y="3222720"/>
                  <a:ext cx="21600" cy="20520"/>
                </a:xfrm>
                <a:custGeom>
                  <a:avLst/>
                  <a:gdLst/>
                  <a:ahLst/>
                  <a:rect l="l" t="t" r="r" b="b"/>
                  <a:pathLst>
                    <a:path w="53" h="50">
                      <a:moveTo>
                        <a:pt x="53" y="50"/>
                      </a:moveTo>
                      <a:lnTo>
                        <a:pt x="53" y="50"/>
                      </a:lnTo>
                      <a:lnTo>
                        <a:pt x="51" y="38"/>
                      </a:lnTo>
                      <a:lnTo>
                        <a:pt x="49" y="28"/>
                      </a:lnTo>
                      <a:lnTo>
                        <a:pt x="45" y="17"/>
                      </a:lnTo>
                      <a:lnTo>
                        <a:pt x="38" y="10"/>
                      </a:lnTo>
                      <a:lnTo>
                        <a:pt x="30" y="6"/>
                      </a:lnTo>
                      <a:lnTo>
                        <a:pt x="21" y="3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0" y="15"/>
                      </a:lnTo>
                      <a:lnTo>
                        <a:pt x="18" y="17"/>
                      </a:lnTo>
                      <a:lnTo>
                        <a:pt x="25" y="20"/>
                      </a:lnTo>
                      <a:lnTo>
                        <a:pt x="29" y="22"/>
                      </a:lnTo>
                      <a:lnTo>
                        <a:pt x="33" y="26"/>
                      </a:lnTo>
                      <a:lnTo>
                        <a:pt x="36" y="30"/>
                      </a:lnTo>
                      <a:lnTo>
                        <a:pt x="37" y="38"/>
                      </a:lnTo>
                      <a:lnTo>
                        <a:pt x="37" y="50"/>
                      </a:lnTo>
                      <a:lnTo>
                        <a:pt x="37" y="50"/>
                      </a:lnTo>
                      <a:lnTo>
                        <a:pt x="53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07800" y="3243600"/>
                  <a:ext cx="6480" cy="138960"/>
                </a:xfrm>
                <a:custGeom>
                  <a:avLst/>
                  <a:gdLst/>
                  <a:ahLst/>
                  <a:rect l="l" t="t" r="r" b="b"/>
                  <a:pathLst>
                    <a:path w="16" h="334">
                      <a:moveTo>
                        <a:pt x="16" y="334"/>
                      </a:moveTo>
                      <a:lnTo>
                        <a:pt x="16" y="334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34"/>
                      </a:lnTo>
                      <a:lnTo>
                        <a:pt x="0" y="334"/>
                      </a:lnTo>
                      <a:lnTo>
                        <a:pt x="16" y="3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600960" y="3382560"/>
                  <a:ext cx="13320" cy="12240"/>
                </a:xfrm>
                <a:custGeom>
                  <a:avLst/>
                  <a:gdLst/>
                  <a:ahLst/>
                  <a:rect l="l" t="t" r="r" b="b"/>
                  <a:pathLst>
                    <a:path w="33" h="31">
                      <a:moveTo>
                        <a:pt x="0" y="31"/>
                      </a:moveTo>
                      <a:lnTo>
                        <a:pt x="0" y="31"/>
                      </a:lnTo>
                      <a:lnTo>
                        <a:pt x="13" y="28"/>
                      </a:lnTo>
                      <a:lnTo>
                        <a:pt x="25" y="24"/>
                      </a:lnTo>
                      <a:lnTo>
                        <a:pt x="31" y="12"/>
                      </a:lnTo>
                      <a:lnTo>
                        <a:pt x="33" y="0"/>
                      </a:lnTo>
                      <a:lnTo>
                        <a:pt x="17" y="0"/>
                      </a:lnTo>
                      <a:lnTo>
                        <a:pt x="17" y="10"/>
                      </a:lnTo>
                      <a:lnTo>
                        <a:pt x="16" y="12"/>
                      </a:lnTo>
                      <a:lnTo>
                        <a:pt x="11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745600" y="3388680"/>
                  <a:ext cx="855360" cy="6480"/>
                </a:xfrm>
                <a:custGeom>
                  <a:avLst/>
                  <a:gdLst/>
                  <a:ahLst/>
                  <a:rect l="l" t="t" r="r" b="b"/>
                  <a:pathLst>
                    <a:path w="2057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2057" y="16"/>
                      </a:lnTo>
                      <a:lnTo>
                        <a:pt x="205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727240" y="3378600"/>
                  <a:ext cx="18000" cy="16560"/>
                </a:xfrm>
                <a:custGeom>
                  <a:avLst/>
                  <a:gdLst/>
                  <a:ahLst/>
                  <a:rect l="l" t="t" r="r" b="b"/>
                  <a:pathLst>
                    <a:path w="43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11"/>
                      </a:lnTo>
                      <a:lnTo>
                        <a:pt x="4" y="20"/>
                      </a:lnTo>
                      <a:lnTo>
                        <a:pt x="9" y="29"/>
                      </a:lnTo>
                      <a:lnTo>
                        <a:pt x="14" y="34"/>
                      </a:lnTo>
                      <a:lnTo>
                        <a:pt x="21" y="38"/>
                      </a:lnTo>
                      <a:lnTo>
                        <a:pt x="28" y="39"/>
                      </a:lnTo>
                      <a:lnTo>
                        <a:pt x="36" y="41"/>
                      </a:lnTo>
                      <a:lnTo>
                        <a:pt x="43" y="42"/>
                      </a:lnTo>
                      <a:lnTo>
                        <a:pt x="43" y="26"/>
                      </a:lnTo>
                      <a:lnTo>
                        <a:pt x="36" y="27"/>
                      </a:lnTo>
                      <a:lnTo>
                        <a:pt x="30" y="26"/>
                      </a:lnTo>
                      <a:lnTo>
                        <a:pt x="26" y="24"/>
                      </a:lnTo>
                      <a:lnTo>
                        <a:pt x="24" y="22"/>
                      </a:lnTo>
                      <a:lnTo>
                        <a:pt x="20" y="20"/>
                      </a:lnTo>
                      <a:lnTo>
                        <a:pt x="18" y="15"/>
                      </a:lnTo>
                      <a:lnTo>
                        <a:pt x="17" y="11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786280" y="3250440"/>
                  <a:ext cx="81360" cy="52200"/>
                </a:xfrm>
                <a:custGeom>
                  <a:avLst/>
                  <a:gdLst/>
                  <a:ahLst/>
                  <a:rect l="l" t="t" r="r" b="b"/>
                  <a:pathLst>
                    <a:path w="197" h="125">
                      <a:moveTo>
                        <a:pt x="135" y="125"/>
                      </a:moveTo>
                      <a:lnTo>
                        <a:pt x="147" y="124"/>
                      </a:lnTo>
                      <a:lnTo>
                        <a:pt x="159" y="121"/>
                      </a:lnTo>
                      <a:lnTo>
                        <a:pt x="169" y="115"/>
                      </a:lnTo>
                      <a:lnTo>
                        <a:pt x="179" y="107"/>
                      </a:lnTo>
                      <a:lnTo>
                        <a:pt x="187" y="98"/>
                      </a:lnTo>
                      <a:lnTo>
                        <a:pt x="192" y="87"/>
                      </a:lnTo>
                      <a:lnTo>
                        <a:pt x="196" y="76"/>
                      </a:lnTo>
                      <a:lnTo>
                        <a:pt x="197" y="63"/>
                      </a:lnTo>
                      <a:lnTo>
                        <a:pt x="196" y="51"/>
                      </a:lnTo>
                      <a:lnTo>
                        <a:pt x="192" y="39"/>
                      </a:lnTo>
                      <a:lnTo>
                        <a:pt x="187" y="27"/>
                      </a:lnTo>
                      <a:lnTo>
                        <a:pt x="179" y="18"/>
                      </a:lnTo>
                      <a:lnTo>
                        <a:pt x="169" y="10"/>
                      </a:lnTo>
                      <a:lnTo>
                        <a:pt x="159" y="4"/>
                      </a:lnTo>
                      <a:lnTo>
                        <a:pt x="147" y="1"/>
                      </a:lnTo>
                      <a:lnTo>
                        <a:pt x="135" y="0"/>
                      </a:lnTo>
                      <a:lnTo>
                        <a:pt x="62" y="0"/>
                      </a:lnTo>
                      <a:lnTo>
                        <a:pt x="50" y="1"/>
                      </a:lnTo>
                      <a:lnTo>
                        <a:pt x="38" y="4"/>
                      </a:lnTo>
                      <a:lnTo>
                        <a:pt x="28" y="10"/>
                      </a:lnTo>
                      <a:lnTo>
                        <a:pt x="18" y="18"/>
                      </a:lnTo>
                      <a:lnTo>
                        <a:pt x="10" y="27"/>
                      </a:lnTo>
                      <a:lnTo>
                        <a:pt x="5" y="39"/>
                      </a:lnTo>
                      <a:lnTo>
                        <a:pt x="1" y="51"/>
                      </a:lnTo>
                      <a:lnTo>
                        <a:pt x="0" y="63"/>
                      </a:lnTo>
                      <a:lnTo>
                        <a:pt x="1" y="76"/>
                      </a:lnTo>
                      <a:lnTo>
                        <a:pt x="5" y="87"/>
                      </a:lnTo>
                      <a:lnTo>
                        <a:pt x="10" y="98"/>
                      </a:lnTo>
                      <a:lnTo>
                        <a:pt x="18" y="107"/>
                      </a:lnTo>
                      <a:lnTo>
                        <a:pt x="28" y="115"/>
                      </a:lnTo>
                      <a:lnTo>
                        <a:pt x="38" y="121"/>
                      </a:lnTo>
                      <a:lnTo>
                        <a:pt x="50" y="124"/>
                      </a:lnTo>
                      <a:lnTo>
                        <a:pt x="62" y="125"/>
                      </a:lnTo>
                      <a:lnTo>
                        <a:pt x="135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729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729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39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739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61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61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506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506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793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793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783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783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771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771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58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858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847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47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826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826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837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837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803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803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16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816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988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88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97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97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95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95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967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967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23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923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9346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9346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94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94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869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869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891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91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88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88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91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91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901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1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248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48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38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238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215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215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8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25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225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183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83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193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193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205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205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118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18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293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1293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15060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15060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1408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1408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732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732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161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61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999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999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021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21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01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054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054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043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043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031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031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108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108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0858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858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96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96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0642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0642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7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07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507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507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518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518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5404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404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30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30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50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50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25824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5824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280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280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697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2697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3129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129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02160" y="3414240"/>
                  <a:ext cx="720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302160" y="3417480"/>
                  <a:ext cx="720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91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91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378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378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680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3680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345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345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3554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3554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324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324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356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3356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4980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4980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475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475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861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861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42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442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53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453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4652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652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3889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889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4105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4105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3997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3997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43284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43284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42132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7" y="8"/>
                      </a:moveTo>
                      <a:lnTo>
                        <a:pt x="14" y="2"/>
                      </a:lnTo>
                      <a:lnTo>
                        <a:pt x="9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2132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7" h="145">
                      <a:moveTo>
                        <a:pt x="9" y="145"/>
                      </a:moveTo>
                      <a:lnTo>
                        <a:pt x="17" y="145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9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9340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9340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5836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836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56208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6208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721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4" y="2"/>
                      </a:lnTo>
                      <a:lnTo>
                        <a:pt x="8" y="0"/>
                      </a:lnTo>
                      <a:lnTo>
                        <a:pt x="3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721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604560" y="3414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6" y="8"/>
                      </a:moveTo>
                      <a:lnTo>
                        <a:pt x="13" y="2"/>
                      </a:lnTo>
                      <a:lnTo>
                        <a:pt x="8" y="0"/>
                      </a:lnTo>
                      <a:lnTo>
                        <a:pt x="2" y="2"/>
                      </a:lnTo>
                      <a:lnTo>
                        <a:pt x="0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04560" y="3417480"/>
                  <a:ext cx="6480" cy="60480"/>
                </a:xfrm>
                <a:custGeom>
                  <a:avLst/>
                  <a:gdLst/>
                  <a:ahLst/>
                  <a:rect l="l" t="t" r="r" b="b"/>
                  <a:pathLst>
                    <a:path w="16" h="145">
                      <a:moveTo>
                        <a:pt x="8" y="145"/>
                      </a:moveTo>
                      <a:lnTo>
                        <a:pt x="16" y="14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45"/>
                      </a:lnTo>
                      <a:lnTo>
                        <a:pt x="8" y="1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45696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194880" y="3225960"/>
                  <a:ext cx="720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932080" y="3225960"/>
                  <a:ext cx="6480" cy="165600"/>
                </a:xfrm>
                <a:custGeom>
                  <a:avLst/>
                  <a:gdLst/>
                  <a:ahLst/>
                  <a:rect l="l" t="t" r="r" b="b"/>
                  <a:pathLst>
                    <a:path w="16" h="399">
                      <a:moveTo>
                        <a:pt x="8" y="399"/>
                      </a:moveTo>
                      <a:lnTo>
                        <a:pt x="16" y="399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99"/>
                      </a:lnTo>
                      <a:lnTo>
                        <a:pt x="8" y="3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761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761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761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93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93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793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837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7837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7837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7711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7711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7711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8586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586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8586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8478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8478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8478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8262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8262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8262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837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837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837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80356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80356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80356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8165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3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8165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8165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3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8694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8694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8694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89104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89104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89104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8813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8813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8813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9137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7" h="9">
                      <a:moveTo>
                        <a:pt x="17" y="9"/>
                      </a:move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3" y="3"/>
                      </a:lnTo>
                      <a:lnTo>
                        <a:pt x="0" y="9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9137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7" h="106">
                      <a:moveTo>
                        <a:pt x="9" y="106"/>
                      </a:moveTo>
                      <a:lnTo>
                        <a:pt x="17" y="106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9137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9" y="8"/>
                      </a:lnTo>
                      <a:lnTo>
                        <a:pt x="14" y="5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01120" y="3337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4" y="3"/>
                      </a:lnTo>
                      <a:lnTo>
                        <a:pt x="8" y="0"/>
                      </a:lnTo>
                      <a:lnTo>
                        <a:pt x="2" y="3"/>
                      </a:lnTo>
                      <a:lnTo>
                        <a:pt x="0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01120" y="3340800"/>
                  <a:ext cx="6480" cy="43920"/>
                </a:xfrm>
                <a:custGeom>
                  <a:avLst/>
                  <a:gdLst/>
                  <a:ahLst/>
                  <a:rect l="l" t="t" r="r" b="b"/>
                  <a:pathLst>
                    <a:path w="16" h="106">
                      <a:moveTo>
                        <a:pt x="8" y="106"/>
                      </a:moveTo>
                      <a:lnTo>
                        <a:pt x="16" y="106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106"/>
                      </a:lnTo>
                      <a:lnTo>
                        <a:pt x="8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01120" y="338508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8" y="8"/>
                      </a:lnTo>
                      <a:lnTo>
                        <a:pt x="14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730480" y="3331800"/>
                  <a:ext cx="392760" cy="4680"/>
                </a:xfrm>
                <a:custGeom>
                  <a:avLst/>
                  <a:gdLst/>
                  <a:ahLst/>
                  <a:rect l="l" t="t" r="r" b="b"/>
                  <a:pathLst>
                    <a:path w="943" h="11">
                      <a:moveTo>
                        <a:pt x="932" y="5"/>
                      </a:moveTo>
                      <a:lnTo>
                        <a:pt x="9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937" y="11"/>
                      </a:lnTo>
                      <a:lnTo>
                        <a:pt x="943" y="5"/>
                      </a:lnTo>
                      <a:lnTo>
                        <a:pt x="937" y="11"/>
                      </a:lnTo>
                      <a:lnTo>
                        <a:pt x="943" y="11"/>
                      </a:lnTo>
                      <a:lnTo>
                        <a:pt x="943" y="5"/>
                      </a:lnTo>
                      <a:lnTo>
                        <a:pt x="93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18200" y="331596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1" h="42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0" y="42"/>
                      </a:lnTo>
                      <a:lnTo>
                        <a:pt x="11" y="42"/>
                      </a:lnTo>
                      <a:lnTo>
                        <a:pt x="11" y="5"/>
                      </a:lnTo>
                      <a:lnTo>
                        <a:pt x="5" y="1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21080" y="3315960"/>
                  <a:ext cx="61200" cy="5040"/>
                </a:xfrm>
                <a:custGeom>
                  <a:avLst/>
                  <a:gdLst/>
                  <a:ahLst/>
                  <a:rect l="l" t="t" r="r" b="b"/>
                  <a:pathLst>
                    <a:path w="148" h="11">
                      <a:moveTo>
                        <a:pt x="148" y="5"/>
                      </a:moveTo>
                      <a:lnTo>
                        <a:pt x="14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42" y="11"/>
                      </a:lnTo>
                      <a:lnTo>
                        <a:pt x="136" y="5"/>
                      </a:lnTo>
                      <a:lnTo>
                        <a:pt x="148" y="5"/>
                      </a:lnTo>
                      <a:lnTo>
                        <a:pt x="148" y="0"/>
                      </a:lnTo>
                      <a:lnTo>
                        <a:pt x="142" y="0"/>
                      </a:lnTo>
                      <a:lnTo>
                        <a:pt x="148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77240" y="3318480"/>
                  <a:ext cx="5040" cy="18000"/>
                </a:xfrm>
                <a:custGeom>
                  <a:avLst/>
                  <a:gdLst/>
                  <a:ahLst/>
                  <a:rect l="l" t="t" r="r" b="b"/>
                  <a:pathLst>
                    <a:path w="12" h="43">
                      <a:moveTo>
                        <a:pt x="6" y="32"/>
                      </a:moveTo>
                      <a:lnTo>
                        <a:pt x="12" y="37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37"/>
                      </a:lnTo>
                      <a:lnTo>
                        <a:pt x="6" y="43"/>
                      </a:lnTo>
                      <a:lnTo>
                        <a:pt x="0" y="37"/>
                      </a:lnTo>
                      <a:lnTo>
                        <a:pt x="0" y="43"/>
                      </a:lnTo>
                      <a:lnTo>
                        <a:pt x="6" y="43"/>
                      </a:lnTo>
                      <a:lnTo>
                        <a:pt x="6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180120" y="3331800"/>
                  <a:ext cx="430920" cy="4680"/>
                </a:xfrm>
                <a:custGeom>
                  <a:avLst/>
                  <a:gdLst/>
                  <a:ahLst/>
                  <a:rect l="l" t="t" r="r" b="b"/>
                  <a:pathLst>
                    <a:path w="1037" h="11">
                      <a:moveTo>
                        <a:pt x="1037" y="5"/>
                      </a:moveTo>
                      <a:lnTo>
                        <a:pt x="1037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37" y="11"/>
                      </a:lnTo>
                      <a:lnTo>
                        <a:pt x="103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125040" y="3321720"/>
                  <a:ext cx="50760" cy="27360"/>
                </a:xfrm>
                <a:prstGeom prst="rect">
                  <a:avLst/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950440" y="3281760"/>
                  <a:ext cx="231120" cy="38160"/>
                </a:xfrm>
                <a:custGeom>
                  <a:avLst/>
                  <a:gdLst/>
                  <a:ahLst/>
                  <a:rect l="l" t="t" r="r" b="b"/>
                  <a:pathLst>
                    <a:path w="555" h="92">
                      <a:moveTo>
                        <a:pt x="555" y="67"/>
                      </a:moveTo>
                      <a:lnTo>
                        <a:pt x="382" y="67"/>
                      </a:lnTo>
                      <a:lnTo>
                        <a:pt x="382" y="92"/>
                      </a:lnTo>
                      <a:lnTo>
                        <a:pt x="173" y="92"/>
                      </a:lnTo>
                      <a:lnTo>
                        <a:pt x="173" y="64"/>
                      </a:lnTo>
                      <a:lnTo>
                        <a:pt x="0" y="64"/>
                      </a:lnTo>
                      <a:lnTo>
                        <a:pt x="0" y="26"/>
                      </a:lnTo>
                      <a:lnTo>
                        <a:pt x="173" y="26"/>
                      </a:lnTo>
                      <a:lnTo>
                        <a:pt x="173" y="0"/>
                      </a:lnTo>
                      <a:lnTo>
                        <a:pt x="382" y="0"/>
                      </a:lnTo>
                      <a:lnTo>
                        <a:pt x="382" y="25"/>
                      </a:lnTo>
                      <a:lnTo>
                        <a:pt x="555" y="25"/>
                      </a:lnTo>
                      <a:lnTo>
                        <a:pt x="555" y="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7560" y="32626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19" y="38"/>
                      </a:moveTo>
                      <a:lnTo>
                        <a:pt x="26" y="36"/>
                      </a:lnTo>
                      <a:lnTo>
                        <a:pt x="33" y="32"/>
                      </a:lnTo>
                      <a:lnTo>
                        <a:pt x="37" y="26"/>
                      </a:lnTo>
                      <a:lnTo>
                        <a:pt x="38" y="18"/>
                      </a:lnTo>
                      <a:lnTo>
                        <a:pt x="37" y="11"/>
                      </a:lnTo>
                      <a:lnTo>
                        <a:pt x="33" y="5"/>
                      </a:lnTo>
                      <a:lnTo>
                        <a:pt x="26" y="1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6" y="5"/>
                      </a:lnTo>
                      <a:lnTo>
                        <a:pt x="2" y="11"/>
                      </a:lnTo>
                      <a:lnTo>
                        <a:pt x="0" y="18"/>
                      </a:lnTo>
                      <a:lnTo>
                        <a:pt x="2" y="26"/>
                      </a:lnTo>
                      <a:lnTo>
                        <a:pt x="6" y="32"/>
                      </a:lnTo>
                      <a:lnTo>
                        <a:pt x="12" y="36"/>
                      </a:lnTo>
                      <a:lnTo>
                        <a:pt x="19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955120" y="32702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15" y="7"/>
                      </a:lnTo>
                      <a:lnTo>
                        <a:pt x="11" y="12"/>
                      </a:lnTo>
                      <a:lnTo>
                        <a:pt x="6" y="15"/>
                      </a:lnTo>
                      <a:lnTo>
                        <a:pt x="0" y="15"/>
                      </a:lnTo>
                      <a:lnTo>
                        <a:pt x="0" y="24"/>
                      </a:lnTo>
                      <a:lnTo>
                        <a:pt x="8" y="22"/>
                      </a:lnTo>
                      <a:lnTo>
                        <a:pt x="16" y="16"/>
                      </a:lnTo>
                      <a:lnTo>
                        <a:pt x="22" y="9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955120" y="3260880"/>
                  <a:ext cx="10440" cy="900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5" y="17"/>
                      </a:lnTo>
                      <a:lnTo>
                        <a:pt x="15" y="23"/>
                      </a:lnTo>
                      <a:lnTo>
                        <a:pt x="24" y="23"/>
                      </a:lnTo>
                      <a:lnTo>
                        <a:pt x="22" y="15"/>
                      </a:lnTo>
                      <a:lnTo>
                        <a:pt x="16" y="8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46120" y="326088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9" y="23"/>
                      </a:moveTo>
                      <a:lnTo>
                        <a:pt x="9" y="23"/>
                      </a:lnTo>
                      <a:lnTo>
                        <a:pt x="9" y="17"/>
                      </a:lnTo>
                      <a:lnTo>
                        <a:pt x="12" y="13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3" y="0"/>
                      </a:lnTo>
                      <a:lnTo>
                        <a:pt x="15" y="2"/>
                      </a:lnTo>
                      <a:lnTo>
                        <a:pt x="8" y="8"/>
                      </a:lnTo>
                      <a:lnTo>
                        <a:pt x="2" y="15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946120" y="3270240"/>
                  <a:ext cx="9000" cy="9720"/>
                </a:xfrm>
                <a:custGeom>
                  <a:avLst/>
                  <a:gdLst/>
                  <a:ahLst/>
                  <a:rect l="l" t="t" r="r" b="b"/>
                  <a:pathLst>
                    <a:path w="23" h="24">
                      <a:moveTo>
                        <a:pt x="23" y="15"/>
                      </a:moveTo>
                      <a:lnTo>
                        <a:pt x="23" y="15"/>
                      </a:lnTo>
                      <a:lnTo>
                        <a:pt x="17" y="15"/>
                      </a:lnTo>
                      <a:lnTo>
                        <a:pt x="12" y="12"/>
                      </a:lnTo>
                      <a:lnTo>
                        <a:pt x="9" y="7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8" y="16"/>
                      </a:lnTo>
                      <a:lnTo>
                        <a:pt x="15" y="22"/>
                      </a:lnTo>
                      <a:lnTo>
                        <a:pt x="23" y="24"/>
                      </a:lnTo>
                      <a:lnTo>
                        <a:pt x="23" y="24"/>
                      </a:lnTo>
                      <a:lnTo>
                        <a:pt x="2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023520" y="3267720"/>
                  <a:ext cx="83880" cy="140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105960" y="3267720"/>
                  <a:ext cx="3240" cy="15840"/>
                </a:xfrm>
                <a:custGeom>
                  <a:avLst/>
                  <a:gdLst/>
                  <a:ahLst/>
                  <a:rect l="l" t="t" r="r" b="b"/>
                  <a:pathLst>
                    <a:path w="10" h="38">
                      <a:moveTo>
                        <a:pt x="5" y="38"/>
                      </a:moveTo>
                      <a:lnTo>
                        <a:pt x="10" y="34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5" y="29"/>
                      </a:lnTo>
                      <a:lnTo>
                        <a:pt x="5" y="38"/>
                      </a:lnTo>
                      <a:lnTo>
                        <a:pt x="10" y="38"/>
                      </a:lnTo>
                      <a:lnTo>
                        <a:pt x="10" y="34"/>
                      </a:lnTo>
                      <a:lnTo>
                        <a:pt x="5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021720" y="328032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6" h="9">
                      <a:moveTo>
                        <a:pt x="0" y="5"/>
                      </a:moveTo>
                      <a:lnTo>
                        <a:pt x="4" y="9"/>
                      </a:lnTo>
                      <a:lnTo>
                        <a:pt x="206" y="9"/>
                      </a:lnTo>
                      <a:lnTo>
                        <a:pt x="206" y="0"/>
                      </a:lnTo>
                      <a:lnTo>
                        <a:pt x="4" y="0"/>
                      </a:lnTo>
                      <a:lnTo>
                        <a:pt x="9" y="5"/>
                      </a:lnTo>
                      <a:lnTo>
                        <a:pt x="0" y="5"/>
                      </a:lnTo>
                      <a:lnTo>
                        <a:pt x="0" y="9"/>
                      </a:lnTo>
                      <a:lnTo>
                        <a:pt x="4" y="9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021720" y="3266280"/>
                  <a:ext cx="3960" cy="15480"/>
                </a:xfrm>
                <a:custGeom>
                  <a:avLst/>
                  <a:gdLst/>
                  <a:ahLst/>
                  <a:rect l="l" t="t" r="r" b="b"/>
                  <a:pathLst>
                    <a:path w="9" h="38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9" y="4"/>
                      </a:lnTo>
                      <a:lnTo>
                        <a:pt x="4" y="9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023520" y="3266280"/>
                  <a:ext cx="85680" cy="2880"/>
                </a:xfrm>
                <a:custGeom>
                  <a:avLst/>
                  <a:gdLst/>
                  <a:ahLst/>
                  <a:rect l="l" t="t" r="r" b="b"/>
                  <a:pathLst>
                    <a:path w="207" h="9">
                      <a:moveTo>
                        <a:pt x="207" y="4"/>
                      </a:moveTo>
                      <a:lnTo>
                        <a:pt x="20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02" y="9"/>
                      </a:lnTo>
                      <a:lnTo>
                        <a:pt x="197" y="4"/>
                      </a:lnTo>
                      <a:lnTo>
                        <a:pt x="207" y="4"/>
                      </a:lnTo>
                      <a:lnTo>
                        <a:pt x="207" y="0"/>
                      </a:lnTo>
                      <a:lnTo>
                        <a:pt x="202" y="0"/>
                      </a:lnTo>
                      <a:lnTo>
                        <a:pt x="20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519600" y="3270240"/>
                  <a:ext cx="36360" cy="59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524280" y="3283560"/>
                  <a:ext cx="26280" cy="24840"/>
                </a:xfrm>
                <a:custGeom>
                  <a:avLst/>
                  <a:gdLst/>
                  <a:ahLst/>
                  <a:rect l="l" t="t" r="r" b="b"/>
                  <a:pathLst>
                    <a:path w="66" h="61">
                      <a:moveTo>
                        <a:pt x="7" y="61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66" y="0"/>
                      </a:lnTo>
                      <a:lnTo>
                        <a:pt x="66" y="12"/>
                      </a:lnTo>
                      <a:lnTo>
                        <a:pt x="59" y="61"/>
                      </a:lnTo>
                      <a:lnTo>
                        <a:pt x="7" y="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524280" y="3285360"/>
                  <a:ext cx="26280" cy="3960"/>
                </a:xfrm>
                <a:custGeom>
                  <a:avLst/>
                  <a:gdLst/>
                  <a:ahLst/>
                  <a:rect l="l" t="t" r="r" b="b"/>
                  <a:pathLst>
                    <a:path w="66" h="9">
                      <a:moveTo>
                        <a:pt x="66" y="5"/>
                      </a:moveTo>
                      <a:lnTo>
                        <a:pt x="66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66" y="9"/>
                      </a:lnTo>
                      <a:lnTo>
                        <a:pt x="6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755680" y="2402640"/>
                  <a:ext cx="807120" cy="658440"/>
                </a:xfrm>
                <a:custGeom>
                  <a:avLst/>
                  <a:gdLst/>
                  <a:ahLst/>
                  <a:rect l="l" t="t" r="r" b="b"/>
                  <a:pathLst>
                    <a:path w="1940" h="1582">
                      <a:moveTo>
                        <a:pt x="0" y="1521"/>
                      </a:moveTo>
                      <a:lnTo>
                        <a:pt x="0" y="91"/>
                      </a:lnTo>
                      <a:lnTo>
                        <a:pt x="4" y="67"/>
                      </a:lnTo>
                      <a:lnTo>
                        <a:pt x="11" y="47"/>
                      </a:lnTo>
                      <a:lnTo>
                        <a:pt x="23" y="32"/>
                      </a:lnTo>
                      <a:lnTo>
                        <a:pt x="38" y="20"/>
                      </a:lnTo>
                      <a:lnTo>
                        <a:pt x="54" y="10"/>
                      </a:lnTo>
                      <a:lnTo>
                        <a:pt x="72" y="5"/>
                      </a:lnTo>
                      <a:lnTo>
                        <a:pt x="89" y="1"/>
                      </a:lnTo>
                      <a:lnTo>
                        <a:pt x="105" y="0"/>
                      </a:lnTo>
                      <a:lnTo>
                        <a:pt x="1853" y="0"/>
                      </a:lnTo>
                      <a:lnTo>
                        <a:pt x="1871" y="1"/>
                      </a:lnTo>
                      <a:lnTo>
                        <a:pt x="1889" y="5"/>
                      </a:lnTo>
                      <a:lnTo>
                        <a:pt x="1903" y="10"/>
                      </a:lnTo>
                      <a:lnTo>
                        <a:pt x="1916" y="18"/>
                      </a:lnTo>
                      <a:lnTo>
                        <a:pt x="1927" y="29"/>
                      </a:lnTo>
                      <a:lnTo>
                        <a:pt x="1935" y="43"/>
                      </a:lnTo>
                      <a:lnTo>
                        <a:pt x="1939" y="59"/>
                      </a:lnTo>
                      <a:lnTo>
                        <a:pt x="1940" y="78"/>
                      </a:lnTo>
                      <a:lnTo>
                        <a:pt x="1940" y="1495"/>
                      </a:lnTo>
                      <a:lnTo>
                        <a:pt x="1938" y="1511"/>
                      </a:lnTo>
                      <a:lnTo>
                        <a:pt x="1933" y="1528"/>
                      </a:lnTo>
                      <a:lnTo>
                        <a:pt x="1927" y="1541"/>
                      </a:lnTo>
                      <a:lnTo>
                        <a:pt x="1916" y="1555"/>
                      </a:lnTo>
                      <a:lnTo>
                        <a:pt x="1905" y="1566"/>
                      </a:lnTo>
                      <a:lnTo>
                        <a:pt x="1893" y="1575"/>
                      </a:lnTo>
                      <a:lnTo>
                        <a:pt x="1879" y="1579"/>
                      </a:lnTo>
                      <a:lnTo>
                        <a:pt x="1867" y="1582"/>
                      </a:lnTo>
                      <a:lnTo>
                        <a:pt x="66" y="1582"/>
                      </a:lnTo>
                      <a:lnTo>
                        <a:pt x="49" y="1581"/>
                      </a:lnTo>
                      <a:lnTo>
                        <a:pt x="35" y="1578"/>
                      </a:lnTo>
                      <a:lnTo>
                        <a:pt x="24" y="1573"/>
                      </a:lnTo>
                      <a:lnTo>
                        <a:pt x="15" y="1567"/>
                      </a:lnTo>
                      <a:lnTo>
                        <a:pt x="8" y="1558"/>
                      </a:lnTo>
                      <a:lnTo>
                        <a:pt x="4" y="1547"/>
                      </a:lnTo>
                      <a:lnTo>
                        <a:pt x="1" y="1535"/>
                      </a:lnTo>
                      <a:lnTo>
                        <a:pt x="0" y="1521"/>
                      </a:lnTo>
                      <a:close/>
                    </a:path>
                  </a:pathLst>
                </a:custGeom>
                <a:solidFill>
                  <a:srgbClr val="f2ef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752800" y="2440800"/>
                  <a:ext cx="5040" cy="594360"/>
                </a:xfrm>
                <a:custGeom>
                  <a:avLst/>
                  <a:gdLst/>
                  <a:ahLst/>
                  <a:rect l="l" t="t" r="r" b="b"/>
                  <a:pathLst>
                    <a:path w="11" h="143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430"/>
                      </a:lnTo>
                      <a:lnTo>
                        <a:pt x="11" y="143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752800" y="2400120"/>
                  <a:ext cx="45720" cy="40680"/>
                </a:xfrm>
                <a:custGeom>
                  <a:avLst/>
                  <a:gdLst/>
                  <a:ahLst/>
                  <a:rect l="l" t="t" r="r" b="b"/>
                  <a:pathLst>
                    <a:path w="110" h="97">
                      <a:moveTo>
                        <a:pt x="110" y="0"/>
                      </a:moveTo>
                      <a:lnTo>
                        <a:pt x="110" y="0"/>
                      </a:lnTo>
                      <a:lnTo>
                        <a:pt x="94" y="1"/>
                      </a:lnTo>
                      <a:lnTo>
                        <a:pt x="76" y="5"/>
                      </a:lnTo>
                      <a:lnTo>
                        <a:pt x="57" y="11"/>
                      </a:lnTo>
                      <a:lnTo>
                        <a:pt x="40" y="21"/>
                      </a:lnTo>
                      <a:lnTo>
                        <a:pt x="25" y="35"/>
                      </a:lnTo>
                      <a:lnTo>
                        <a:pt x="11" y="51"/>
                      </a:lnTo>
                      <a:lnTo>
                        <a:pt x="3" y="72"/>
                      </a:lnTo>
                      <a:lnTo>
                        <a:pt x="0" y="97"/>
                      </a:lnTo>
                      <a:lnTo>
                        <a:pt x="11" y="97"/>
                      </a:lnTo>
                      <a:lnTo>
                        <a:pt x="15" y="74"/>
                      </a:lnTo>
                      <a:lnTo>
                        <a:pt x="20" y="56"/>
                      </a:lnTo>
                      <a:lnTo>
                        <a:pt x="32" y="42"/>
                      </a:lnTo>
                      <a:lnTo>
                        <a:pt x="47" y="30"/>
                      </a:lnTo>
                      <a:lnTo>
                        <a:pt x="62" y="22"/>
                      </a:lnTo>
                      <a:lnTo>
                        <a:pt x="78" y="16"/>
                      </a:lnTo>
                      <a:lnTo>
                        <a:pt x="94" y="13"/>
                      </a:lnTo>
                      <a:lnTo>
                        <a:pt x="110" y="12"/>
                      </a:lnTo>
                      <a:lnTo>
                        <a:pt x="110" y="12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798880" y="2400120"/>
                  <a:ext cx="727200" cy="5040"/>
                </a:xfrm>
                <a:custGeom>
                  <a:avLst/>
                  <a:gdLst/>
                  <a:ahLst/>
                  <a:rect l="l" t="t" r="r" b="b"/>
                  <a:pathLst>
                    <a:path w="1748" h="12">
                      <a:moveTo>
                        <a:pt x="1748" y="0"/>
                      </a:moveTo>
                      <a:lnTo>
                        <a:pt x="1748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748" y="12"/>
                      </a:lnTo>
                      <a:lnTo>
                        <a:pt x="1748" y="12"/>
                      </a:lnTo>
                      <a:lnTo>
                        <a:pt x="17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26080" y="2400120"/>
                  <a:ext cx="38880" cy="34920"/>
                </a:xfrm>
                <a:custGeom>
                  <a:avLst/>
                  <a:gdLst/>
                  <a:ahLst/>
                  <a:rect l="l" t="t" r="r" b="b"/>
                  <a:pathLst>
                    <a:path w="93" h="84">
                      <a:moveTo>
                        <a:pt x="93" y="84"/>
                      </a:moveTo>
                      <a:lnTo>
                        <a:pt x="93" y="84"/>
                      </a:lnTo>
                      <a:lnTo>
                        <a:pt x="92" y="65"/>
                      </a:lnTo>
                      <a:lnTo>
                        <a:pt x="87" y="46"/>
                      </a:lnTo>
                      <a:lnTo>
                        <a:pt x="78" y="31"/>
                      </a:lnTo>
                      <a:lnTo>
                        <a:pt x="67" y="20"/>
                      </a:lnTo>
                      <a:lnTo>
                        <a:pt x="53" y="12"/>
                      </a:lnTo>
                      <a:lnTo>
                        <a:pt x="37" y="5"/>
                      </a:lnTo>
                      <a:lnTo>
                        <a:pt x="18" y="1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8" y="13"/>
                      </a:lnTo>
                      <a:lnTo>
                        <a:pt x="34" y="16"/>
                      </a:lnTo>
                      <a:lnTo>
                        <a:pt x="48" y="21"/>
                      </a:lnTo>
                      <a:lnTo>
                        <a:pt x="60" y="29"/>
                      </a:lnTo>
                      <a:lnTo>
                        <a:pt x="69" y="38"/>
                      </a:lnTo>
                      <a:lnTo>
                        <a:pt x="76" y="51"/>
                      </a:lnTo>
                      <a:lnTo>
                        <a:pt x="80" y="65"/>
                      </a:lnTo>
                      <a:lnTo>
                        <a:pt x="82" y="84"/>
                      </a:lnTo>
                      <a:lnTo>
                        <a:pt x="82" y="84"/>
                      </a:lnTo>
                      <a:lnTo>
                        <a:pt x="93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560280" y="2435040"/>
                  <a:ext cx="4680" cy="590040"/>
                </a:xfrm>
                <a:custGeom>
                  <a:avLst/>
                  <a:gdLst/>
                  <a:ahLst/>
                  <a:rect l="l" t="t" r="r" b="b"/>
                  <a:pathLst>
                    <a:path w="11" h="1417">
                      <a:moveTo>
                        <a:pt x="11" y="1417"/>
                      </a:moveTo>
                      <a:lnTo>
                        <a:pt x="11" y="1417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417"/>
                      </a:lnTo>
                      <a:lnTo>
                        <a:pt x="0" y="1417"/>
                      </a:lnTo>
                      <a:lnTo>
                        <a:pt x="11" y="14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531840" y="302544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79" h="93">
                      <a:moveTo>
                        <a:pt x="0" y="93"/>
                      </a:moveTo>
                      <a:lnTo>
                        <a:pt x="0" y="93"/>
                      </a:lnTo>
                      <a:lnTo>
                        <a:pt x="13" y="90"/>
                      </a:lnTo>
                      <a:lnTo>
                        <a:pt x="28" y="84"/>
                      </a:lnTo>
                      <a:lnTo>
                        <a:pt x="41" y="75"/>
                      </a:lnTo>
                      <a:lnTo>
                        <a:pt x="54" y="64"/>
                      </a:lnTo>
                      <a:lnTo>
                        <a:pt x="64" y="49"/>
                      </a:lnTo>
                      <a:lnTo>
                        <a:pt x="72" y="34"/>
                      </a:lnTo>
                      <a:lnTo>
                        <a:pt x="77" y="18"/>
                      </a:lnTo>
                      <a:lnTo>
                        <a:pt x="79" y="0"/>
                      </a:lnTo>
                      <a:lnTo>
                        <a:pt x="68" y="0"/>
                      </a:lnTo>
                      <a:lnTo>
                        <a:pt x="65" y="15"/>
                      </a:lnTo>
                      <a:lnTo>
                        <a:pt x="61" y="31"/>
                      </a:lnTo>
                      <a:lnTo>
                        <a:pt x="55" y="44"/>
                      </a:lnTo>
                      <a:lnTo>
                        <a:pt x="45" y="57"/>
                      </a:lnTo>
                      <a:lnTo>
                        <a:pt x="34" y="66"/>
                      </a:lnTo>
                      <a:lnTo>
                        <a:pt x="24" y="75"/>
                      </a:lnTo>
                      <a:lnTo>
                        <a:pt x="11" y="79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782320" y="3058920"/>
                  <a:ext cx="749520" cy="4680"/>
                </a:xfrm>
                <a:custGeom>
                  <a:avLst/>
                  <a:gdLst/>
                  <a:ahLst/>
                  <a:rect l="l" t="t" r="r" b="b"/>
                  <a:pathLst>
                    <a:path w="1801" h="12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1801" y="12"/>
                      </a:lnTo>
                      <a:lnTo>
                        <a:pt x="180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52800" y="3035520"/>
                  <a:ext cx="29160" cy="28080"/>
                </a:xfrm>
                <a:custGeom>
                  <a:avLst/>
                  <a:gdLst/>
                  <a:ahLst/>
                  <a:rect l="l" t="t" r="r" b="b"/>
                  <a:pathLst>
                    <a:path w="71" h="6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14"/>
                      </a:lnTo>
                      <a:lnTo>
                        <a:pt x="3" y="27"/>
                      </a:lnTo>
                      <a:lnTo>
                        <a:pt x="9" y="39"/>
                      </a:lnTo>
                      <a:lnTo>
                        <a:pt x="17" y="50"/>
                      </a:lnTo>
                      <a:lnTo>
                        <a:pt x="27" y="56"/>
                      </a:lnTo>
                      <a:lnTo>
                        <a:pt x="39" y="63"/>
                      </a:lnTo>
                      <a:lnTo>
                        <a:pt x="54" y="65"/>
                      </a:lnTo>
                      <a:lnTo>
                        <a:pt x="71" y="67"/>
                      </a:lnTo>
                      <a:lnTo>
                        <a:pt x="71" y="55"/>
                      </a:lnTo>
                      <a:lnTo>
                        <a:pt x="54" y="54"/>
                      </a:lnTo>
                      <a:lnTo>
                        <a:pt x="41" y="52"/>
                      </a:lnTo>
                      <a:lnTo>
                        <a:pt x="32" y="47"/>
                      </a:lnTo>
                      <a:lnTo>
                        <a:pt x="24" y="41"/>
                      </a:lnTo>
                      <a:lnTo>
                        <a:pt x="18" y="34"/>
                      </a:lnTo>
                      <a:lnTo>
                        <a:pt x="15" y="25"/>
                      </a:lnTo>
                      <a:lnTo>
                        <a:pt x="12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774760" y="2416680"/>
                  <a:ext cx="768960" cy="627840"/>
                </a:xfrm>
                <a:custGeom>
                  <a:avLst/>
                  <a:gdLst/>
                  <a:ahLst/>
                  <a:rect l="l" t="t" r="r" b="b"/>
                  <a:pathLst>
                    <a:path w="1847" h="1508">
                      <a:moveTo>
                        <a:pt x="0" y="1449"/>
                      </a:moveTo>
                      <a:lnTo>
                        <a:pt x="0" y="87"/>
                      </a:lnTo>
                      <a:lnTo>
                        <a:pt x="2" y="64"/>
                      </a:lnTo>
                      <a:lnTo>
                        <a:pt x="10" y="46"/>
                      </a:lnTo>
                      <a:lnTo>
                        <a:pt x="21" y="30"/>
                      </a:lnTo>
                      <a:lnTo>
                        <a:pt x="35" y="18"/>
                      </a:lnTo>
                      <a:lnTo>
                        <a:pt x="51" y="10"/>
                      </a:lnTo>
                      <a:lnTo>
                        <a:pt x="68" y="4"/>
                      </a:lnTo>
                      <a:lnTo>
                        <a:pt x="85" y="1"/>
                      </a:lnTo>
                      <a:lnTo>
                        <a:pt x="100" y="0"/>
                      </a:lnTo>
                      <a:lnTo>
                        <a:pt x="1764" y="0"/>
                      </a:lnTo>
                      <a:lnTo>
                        <a:pt x="1782" y="1"/>
                      </a:lnTo>
                      <a:lnTo>
                        <a:pt x="1798" y="4"/>
                      </a:lnTo>
                      <a:lnTo>
                        <a:pt x="1813" y="9"/>
                      </a:lnTo>
                      <a:lnTo>
                        <a:pt x="1824" y="17"/>
                      </a:lnTo>
                      <a:lnTo>
                        <a:pt x="1835" y="27"/>
                      </a:lnTo>
                      <a:lnTo>
                        <a:pt x="1842" y="40"/>
                      </a:lnTo>
                      <a:lnTo>
                        <a:pt x="1846" y="56"/>
                      </a:lnTo>
                      <a:lnTo>
                        <a:pt x="1847" y="74"/>
                      </a:lnTo>
                      <a:lnTo>
                        <a:pt x="1847" y="1423"/>
                      </a:lnTo>
                      <a:lnTo>
                        <a:pt x="1846" y="1440"/>
                      </a:lnTo>
                      <a:lnTo>
                        <a:pt x="1842" y="1455"/>
                      </a:lnTo>
                      <a:lnTo>
                        <a:pt x="1834" y="1468"/>
                      </a:lnTo>
                      <a:lnTo>
                        <a:pt x="1824" y="1481"/>
                      </a:lnTo>
                      <a:lnTo>
                        <a:pt x="1814" y="1493"/>
                      </a:lnTo>
                      <a:lnTo>
                        <a:pt x="1802" y="1501"/>
                      </a:lnTo>
                      <a:lnTo>
                        <a:pt x="1790" y="1505"/>
                      </a:lnTo>
                      <a:lnTo>
                        <a:pt x="1777" y="1508"/>
                      </a:lnTo>
                      <a:lnTo>
                        <a:pt x="62" y="1508"/>
                      </a:lnTo>
                      <a:lnTo>
                        <a:pt x="46" y="1506"/>
                      </a:lnTo>
                      <a:lnTo>
                        <a:pt x="33" y="1504"/>
                      </a:lnTo>
                      <a:lnTo>
                        <a:pt x="23" y="1500"/>
                      </a:lnTo>
                      <a:lnTo>
                        <a:pt x="13" y="1493"/>
                      </a:lnTo>
                      <a:lnTo>
                        <a:pt x="8" y="1485"/>
                      </a:lnTo>
                      <a:lnTo>
                        <a:pt x="3" y="1474"/>
                      </a:lnTo>
                      <a:lnTo>
                        <a:pt x="1" y="1463"/>
                      </a:lnTo>
                      <a:lnTo>
                        <a:pt x="0" y="1449"/>
                      </a:lnTo>
                      <a:close/>
                    </a:path>
                  </a:pathLst>
                </a:custGeom>
                <a:solidFill>
                  <a:srgbClr val="c1b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772240" y="2453400"/>
                  <a:ext cx="4680" cy="567000"/>
                </a:xfrm>
                <a:custGeom>
                  <a:avLst/>
                  <a:gdLst/>
                  <a:ahLst/>
                  <a:rect l="l" t="t" r="r" b="b"/>
                  <a:pathLst>
                    <a:path w="11" h="13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62"/>
                      </a:lnTo>
                      <a:lnTo>
                        <a:pt x="11" y="136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772240" y="2414160"/>
                  <a:ext cx="43920" cy="39240"/>
                </a:xfrm>
                <a:custGeom>
                  <a:avLst/>
                  <a:gdLst/>
                  <a:ahLst/>
                  <a:rect l="l" t="t" r="r" b="b"/>
                  <a:pathLst>
                    <a:path w="106" h="93">
                      <a:moveTo>
                        <a:pt x="106" y="0"/>
                      </a:moveTo>
                      <a:lnTo>
                        <a:pt x="106" y="0"/>
                      </a:lnTo>
                      <a:lnTo>
                        <a:pt x="91" y="2"/>
                      </a:lnTo>
                      <a:lnTo>
                        <a:pt x="72" y="6"/>
                      </a:lnTo>
                      <a:lnTo>
                        <a:pt x="56" y="11"/>
                      </a:lnTo>
                      <a:lnTo>
                        <a:pt x="39" y="19"/>
                      </a:lnTo>
                      <a:lnTo>
                        <a:pt x="24" y="32"/>
                      </a:lnTo>
                      <a:lnTo>
                        <a:pt x="11" y="49"/>
                      </a:lnTo>
                      <a:lnTo>
                        <a:pt x="3" y="69"/>
                      </a:lnTo>
                      <a:lnTo>
                        <a:pt x="0" y="93"/>
                      </a:lnTo>
                      <a:lnTo>
                        <a:pt x="11" y="93"/>
                      </a:lnTo>
                      <a:lnTo>
                        <a:pt x="12" y="71"/>
                      </a:lnTo>
                      <a:lnTo>
                        <a:pt x="21" y="54"/>
                      </a:lnTo>
                      <a:lnTo>
                        <a:pt x="31" y="39"/>
                      </a:lnTo>
                      <a:lnTo>
                        <a:pt x="44" y="29"/>
                      </a:lnTo>
                      <a:lnTo>
                        <a:pt x="59" y="21"/>
                      </a:lnTo>
                      <a:lnTo>
                        <a:pt x="75" y="15"/>
                      </a:lnTo>
                      <a:lnTo>
                        <a:pt x="91" y="11"/>
                      </a:lnTo>
                      <a:lnTo>
                        <a:pt x="106" y="11"/>
                      </a:lnTo>
                      <a:lnTo>
                        <a:pt x="106" y="11"/>
                      </a:lnTo>
                      <a:lnTo>
                        <a:pt x="1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816520" y="2414160"/>
                  <a:ext cx="693000" cy="5040"/>
                </a:xfrm>
                <a:custGeom>
                  <a:avLst/>
                  <a:gdLst/>
                  <a:ahLst/>
                  <a:rect l="l" t="t" r="r" b="b"/>
                  <a:pathLst>
                    <a:path w="1664" h="11">
                      <a:moveTo>
                        <a:pt x="1664" y="0"/>
                      </a:moveTo>
                      <a:lnTo>
                        <a:pt x="166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664" y="11"/>
                      </a:lnTo>
                      <a:lnTo>
                        <a:pt x="1664" y="11"/>
                      </a:lnTo>
                      <a:lnTo>
                        <a:pt x="16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509520" y="2414160"/>
                  <a:ext cx="36360" cy="33840"/>
                </a:xfrm>
                <a:custGeom>
                  <a:avLst/>
                  <a:gdLst/>
                  <a:ahLst/>
                  <a:rect l="l" t="t" r="r" b="b"/>
                  <a:pathLst>
                    <a:path w="89" h="80">
                      <a:moveTo>
                        <a:pt x="89" y="80"/>
                      </a:moveTo>
                      <a:lnTo>
                        <a:pt x="89" y="80"/>
                      </a:lnTo>
                      <a:lnTo>
                        <a:pt x="87" y="62"/>
                      </a:lnTo>
                      <a:lnTo>
                        <a:pt x="82" y="45"/>
                      </a:lnTo>
                      <a:lnTo>
                        <a:pt x="74" y="31"/>
                      </a:lnTo>
                      <a:lnTo>
                        <a:pt x="64" y="19"/>
                      </a:lnTo>
                      <a:lnTo>
                        <a:pt x="51" y="10"/>
                      </a:lnTo>
                      <a:lnTo>
                        <a:pt x="35" y="6"/>
                      </a:lnTo>
                      <a:lnTo>
                        <a:pt x="18" y="2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8" y="11"/>
                      </a:lnTo>
                      <a:lnTo>
                        <a:pt x="33" y="15"/>
                      </a:lnTo>
                      <a:lnTo>
                        <a:pt x="47" y="19"/>
                      </a:lnTo>
                      <a:lnTo>
                        <a:pt x="57" y="26"/>
                      </a:lnTo>
                      <a:lnTo>
                        <a:pt x="67" y="36"/>
                      </a:lnTo>
                      <a:lnTo>
                        <a:pt x="73" y="47"/>
                      </a:lnTo>
                      <a:lnTo>
                        <a:pt x="78" y="62"/>
                      </a:lnTo>
                      <a:lnTo>
                        <a:pt x="78" y="80"/>
                      </a:lnTo>
                      <a:lnTo>
                        <a:pt x="78" y="80"/>
                      </a:lnTo>
                      <a:lnTo>
                        <a:pt x="89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541200" y="2448360"/>
                  <a:ext cx="5040" cy="560880"/>
                </a:xfrm>
                <a:custGeom>
                  <a:avLst/>
                  <a:gdLst/>
                  <a:ahLst/>
                  <a:rect l="l" t="t" r="r" b="b"/>
                  <a:pathLst>
                    <a:path w="11" h="1349">
                      <a:moveTo>
                        <a:pt x="11" y="1349"/>
                      </a:moveTo>
                      <a:lnTo>
                        <a:pt x="11" y="1349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349"/>
                      </a:lnTo>
                      <a:lnTo>
                        <a:pt x="0" y="1349"/>
                      </a:lnTo>
                      <a:lnTo>
                        <a:pt x="11" y="1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514560" y="3009600"/>
                  <a:ext cx="31680" cy="37440"/>
                </a:xfrm>
                <a:custGeom>
                  <a:avLst/>
                  <a:gdLst/>
                  <a:ahLst/>
                  <a:rect l="l" t="t" r="r" b="b"/>
                  <a:pathLst>
                    <a:path w="76" h="90">
                      <a:moveTo>
                        <a:pt x="0" y="90"/>
                      </a:moveTo>
                      <a:lnTo>
                        <a:pt x="0" y="90"/>
                      </a:lnTo>
                      <a:lnTo>
                        <a:pt x="14" y="87"/>
                      </a:lnTo>
                      <a:lnTo>
                        <a:pt x="28" y="82"/>
                      </a:lnTo>
                      <a:lnTo>
                        <a:pt x="40" y="73"/>
                      </a:lnTo>
                      <a:lnTo>
                        <a:pt x="51" y="62"/>
                      </a:lnTo>
                      <a:lnTo>
                        <a:pt x="61" y="48"/>
                      </a:lnTo>
                      <a:lnTo>
                        <a:pt x="69" y="34"/>
                      </a:lnTo>
                      <a:lnTo>
                        <a:pt x="74" y="17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65" y="17"/>
                      </a:lnTo>
                      <a:lnTo>
                        <a:pt x="60" y="29"/>
                      </a:lnTo>
                      <a:lnTo>
                        <a:pt x="52" y="43"/>
                      </a:lnTo>
                      <a:lnTo>
                        <a:pt x="44" y="55"/>
                      </a:lnTo>
                      <a:lnTo>
                        <a:pt x="34" y="66"/>
                      </a:lnTo>
                      <a:lnTo>
                        <a:pt x="23" y="73"/>
                      </a:lnTo>
                      <a:lnTo>
                        <a:pt x="12" y="78"/>
                      </a:lnTo>
                      <a:lnTo>
                        <a:pt x="0" y="79"/>
                      </a:lnTo>
                      <a:lnTo>
                        <a:pt x="0" y="79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00680" y="3042000"/>
                  <a:ext cx="713880" cy="5040"/>
                </a:xfrm>
                <a:custGeom>
                  <a:avLst/>
                  <a:gdLst/>
                  <a:ahLst/>
                  <a:rect l="l" t="t" r="r" b="b"/>
                  <a:pathLst>
                    <a:path w="1715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715" y="11"/>
                      </a:lnTo>
                      <a:lnTo>
                        <a:pt x="17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772240" y="3020400"/>
                  <a:ext cx="28080" cy="26280"/>
                </a:xfrm>
                <a:custGeom>
                  <a:avLst/>
                  <a:gdLst/>
                  <a:ahLst/>
                  <a:rect l="l" t="t" r="r" b="b"/>
                  <a:pathLst>
                    <a:path w="68" h="6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4"/>
                      </a:lnTo>
                      <a:lnTo>
                        <a:pt x="4" y="26"/>
                      </a:lnTo>
                      <a:lnTo>
                        <a:pt x="9" y="38"/>
                      </a:lnTo>
                      <a:lnTo>
                        <a:pt x="16" y="47"/>
                      </a:lnTo>
                      <a:lnTo>
                        <a:pt x="26" y="55"/>
                      </a:lnTo>
                      <a:lnTo>
                        <a:pt x="38" y="60"/>
                      </a:lnTo>
                      <a:lnTo>
                        <a:pt x="52" y="62"/>
                      </a:lnTo>
                      <a:lnTo>
                        <a:pt x="68" y="64"/>
                      </a:lnTo>
                      <a:lnTo>
                        <a:pt x="68" y="53"/>
                      </a:lnTo>
                      <a:lnTo>
                        <a:pt x="52" y="53"/>
                      </a:lnTo>
                      <a:lnTo>
                        <a:pt x="40" y="51"/>
                      </a:lnTo>
                      <a:lnTo>
                        <a:pt x="31" y="46"/>
                      </a:lnTo>
                      <a:lnTo>
                        <a:pt x="23" y="40"/>
                      </a:lnTo>
                      <a:lnTo>
                        <a:pt x="18" y="33"/>
                      </a:lnTo>
                      <a:lnTo>
                        <a:pt x="14" y="24"/>
                      </a:lnTo>
                      <a:lnTo>
                        <a:pt x="11" y="14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72680" y="2492640"/>
                  <a:ext cx="576720" cy="470160"/>
                </a:xfrm>
                <a:custGeom>
                  <a:avLst/>
                  <a:gdLst/>
                  <a:ahLst/>
                  <a:rect l="l" t="t" r="r" b="b"/>
                  <a:pathLst>
                    <a:path w="1385" h="1131">
                      <a:moveTo>
                        <a:pt x="0" y="1087"/>
                      </a:moveTo>
                      <a:lnTo>
                        <a:pt x="0" y="66"/>
                      </a:lnTo>
                      <a:lnTo>
                        <a:pt x="2" y="49"/>
                      </a:lnTo>
                      <a:lnTo>
                        <a:pt x="8" y="35"/>
                      </a:lnTo>
                      <a:lnTo>
                        <a:pt x="16" y="23"/>
                      </a:lnTo>
                      <a:lnTo>
                        <a:pt x="27" y="14"/>
                      </a:lnTo>
                      <a:lnTo>
                        <a:pt x="39" y="8"/>
                      </a:lnTo>
                      <a:lnTo>
                        <a:pt x="51" y="4"/>
                      </a:lnTo>
                      <a:lnTo>
                        <a:pt x="63" y="2"/>
                      </a:lnTo>
                      <a:lnTo>
                        <a:pt x="74" y="0"/>
                      </a:lnTo>
                      <a:lnTo>
                        <a:pt x="1323" y="0"/>
                      </a:lnTo>
                      <a:lnTo>
                        <a:pt x="1337" y="2"/>
                      </a:lnTo>
                      <a:lnTo>
                        <a:pt x="1349" y="4"/>
                      </a:lnTo>
                      <a:lnTo>
                        <a:pt x="1359" y="7"/>
                      </a:lnTo>
                      <a:lnTo>
                        <a:pt x="1368" y="13"/>
                      </a:lnTo>
                      <a:lnTo>
                        <a:pt x="1375" y="21"/>
                      </a:lnTo>
                      <a:lnTo>
                        <a:pt x="1381" y="32"/>
                      </a:lnTo>
                      <a:lnTo>
                        <a:pt x="1384" y="43"/>
                      </a:lnTo>
                      <a:lnTo>
                        <a:pt x="1385" y="57"/>
                      </a:lnTo>
                      <a:lnTo>
                        <a:pt x="1385" y="1068"/>
                      </a:lnTo>
                      <a:lnTo>
                        <a:pt x="1384" y="1080"/>
                      </a:lnTo>
                      <a:lnTo>
                        <a:pt x="1381" y="1091"/>
                      </a:lnTo>
                      <a:lnTo>
                        <a:pt x="1375" y="1102"/>
                      </a:lnTo>
                      <a:lnTo>
                        <a:pt x="1368" y="1111"/>
                      </a:lnTo>
                      <a:lnTo>
                        <a:pt x="1360" y="1119"/>
                      </a:lnTo>
                      <a:lnTo>
                        <a:pt x="1351" y="1125"/>
                      </a:lnTo>
                      <a:lnTo>
                        <a:pt x="1342" y="1129"/>
                      </a:lnTo>
                      <a:lnTo>
                        <a:pt x="1332" y="1131"/>
                      </a:lnTo>
                      <a:lnTo>
                        <a:pt x="47" y="1131"/>
                      </a:lnTo>
                      <a:lnTo>
                        <a:pt x="35" y="1129"/>
                      </a:lnTo>
                      <a:lnTo>
                        <a:pt x="25" y="1128"/>
                      </a:lnTo>
                      <a:lnTo>
                        <a:pt x="17" y="1125"/>
                      </a:lnTo>
                      <a:lnTo>
                        <a:pt x="10" y="1119"/>
                      </a:lnTo>
                      <a:lnTo>
                        <a:pt x="5" y="1113"/>
                      </a:lnTo>
                      <a:lnTo>
                        <a:pt x="2" y="1105"/>
                      </a:lnTo>
                      <a:lnTo>
                        <a:pt x="1" y="1097"/>
                      </a:lnTo>
                      <a:lnTo>
                        <a:pt x="0" y="10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02200" y="2505600"/>
                  <a:ext cx="519120" cy="434520"/>
                </a:xfrm>
                <a:custGeom>
                  <a:avLst/>
                  <a:gdLst/>
                  <a:ahLst/>
                  <a:rect l="l" t="t" r="r" b="b"/>
                  <a:pathLst>
                    <a:path w="1247" h="1042">
                      <a:moveTo>
                        <a:pt x="0" y="1003"/>
                      </a:moveTo>
                      <a:lnTo>
                        <a:pt x="0" y="60"/>
                      </a:lnTo>
                      <a:lnTo>
                        <a:pt x="2" y="45"/>
                      </a:lnTo>
                      <a:lnTo>
                        <a:pt x="7" y="31"/>
                      </a:lnTo>
                      <a:lnTo>
                        <a:pt x="15" y="21"/>
                      </a:lnTo>
                      <a:lnTo>
                        <a:pt x="24" y="13"/>
                      </a:lnTo>
                      <a:lnTo>
                        <a:pt x="36" y="7"/>
                      </a:lnTo>
                      <a:lnTo>
                        <a:pt x="47" y="3"/>
                      </a:lnTo>
                      <a:lnTo>
                        <a:pt x="57" y="1"/>
                      </a:lnTo>
                      <a:lnTo>
                        <a:pt x="68" y="0"/>
                      </a:lnTo>
                      <a:lnTo>
                        <a:pt x="1191" y="0"/>
                      </a:lnTo>
                      <a:lnTo>
                        <a:pt x="1203" y="1"/>
                      </a:lnTo>
                      <a:lnTo>
                        <a:pt x="1214" y="3"/>
                      </a:lnTo>
                      <a:lnTo>
                        <a:pt x="1223" y="7"/>
                      </a:lnTo>
                      <a:lnTo>
                        <a:pt x="1231" y="11"/>
                      </a:lnTo>
                      <a:lnTo>
                        <a:pt x="1238" y="18"/>
                      </a:lnTo>
                      <a:lnTo>
                        <a:pt x="1243" y="27"/>
                      </a:lnTo>
                      <a:lnTo>
                        <a:pt x="1246" y="38"/>
                      </a:lnTo>
                      <a:lnTo>
                        <a:pt x="1247" y="51"/>
                      </a:lnTo>
                      <a:lnTo>
                        <a:pt x="1247" y="986"/>
                      </a:lnTo>
                      <a:lnTo>
                        <a:pt x="1246" y="996"/>
                      </a:lnTo>
                      <a:lnTo>
                        <a:pt x="1243" y="1007"/>
                      </a:lnTo>
                      <a:lnTo>
                        <a:pt x="1238" y="1016"/>
                      </a:lnTo>
                      <a:lnTo>
                        <a:pt x="1233" y="1025"/>
                      </a:lnTo>
                      <a:lnTo>
                        <a:pt x="1224" y="1032"/>
                      </a:lnTo>
                      <a:lnTo>
                        <a:pt x="1216" y="1038"/>
                      </a:lnTo>
                      <a:lnTo>
                        <a:pt x="1208" y="1041"/>
                      </a:lnTo>
                      <a:lnTo>
                        <a:pt x="1199" y="1042"/>
                      </a:lnTo>
                      <a:lnTo>
                        <a:pt x="42" y="1042"/>
                      </a:lnTo>
                      <a:lnTo>
                        <a:pt x="32" y="1041"/>
                      </a:lnTo>
                      <a:lnTo>
                        <a:pt x="23" y="1040"/>
                      </a:lnTo>
                      <a:lnTo>
                        <a:pt x="15" y="1037"/>
                      </a:lnTo>
                      <a:lnTo>
                        <a:pt x="9" y="1032"/>
                      </a:lnTo>
                      <a:lnTo>
                        <a:pt x="6" y="1026"/>
                      </a:lnTo>
                      <a:lnTo>
                        <a:pt x="2" y="1021"/>
                      </a:lnTo>
                      <a:lnTo>
                        <a:pt x="0" y="1012"/>
                      </a:lnTo>
                      <a:lnTo>
                        <a:pt x="0" y="10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872680" y="2492640"/>
                  <a:ext cx="550800" cy="451800"/>
                </a:xfrm>
                <a:custGeom>
                  <a:avLst/>
                  <a:gdLst/>
                  <a:ahLst/>
                  <a:rect l="l" t="t" r="r" b="b"/>
                  <a:pathLst>
                    <a:path w="1323" h="1087">
                      <a:moveTo>
                        <a:pt x="70" y="1037"/>
                      </a:moveTo>
                      <a:lnTo>
                        <a:pt x="70" y="94"/>
                      </a:lnTo>
                      <a:lnTo>
                        <a:pt x="72" y="79"/>
                      </a:lnTo>
                      <a:lnTo>
                        <a:pt x="77" y="65"/>
                      </a:lnTo>
                      <a:lnTo>
                        <a:pt x="85" y="55"/>
                      </a:lnTo>
                      <a:lnTo>
                        <a:pt x="94" y="47"/>
                      </a:lnTo>
                      <a:lnTo>
                        <a:pt x="106" y="41"/>
                      </a:lnTo>
                      <a:lnTo>
                        <a:pt x="117" y="37"/>
                      </a:lnTo>
                      <a:lnTo>
                        <a:pt x="127" y="35"/>
                      </a:lnTo>
                      <a:lnTo>
                        <a:pt x="138" y="34"/>
                      </a:lnTo>
                      <a:lnTo>
                        <a:pt x="1261" y="34"/>
                      </a:lnTo>
                      <a:lnTo>
                        <a:pt x="1323" y="0"/>
                      </a:lnTo>
                      <a:lnTo>
                        <a:pt x="74" y="0"/>
                      </a:lnTo>
                      <a:lnTo>
                        <a:pt x="63" y="2"/>
                      </a:lnTo>
                      <a:lnTo>
                        <a:pt x="51" y="4"/>
                      </a:lnTo>
                      <a:lnTo>
                        <a:pt x="39" y="8"/>
                      </a:lnTo>
                      <a:lnTo>
                        <a:pt x="27" y="14"/>
                      </a:lnTo>
                      <a:lnTo>
                        <a:pt x="16" y="23"/>
                      </a:lnTo>
                      <a:lnTo>
                        <a:pt x="8" y="35"/>
                      </a:lnTo>
                      <a:lnTo>
                        <a:pt x="2" y="49"/>
                      </a:lnTo>
                      <a:lnTo>
                        <a:pt x="0" y="66"/>
                      </a:lnTo>
                      <a:lnTo>
                        <a:pt x="0" y="1087"/>
                      </a:lnTo>
                      <a:lnTo>
                        <a:pt x="70" y="1037"/>
                      </a:lnTo>
                      <a:close/>
                    </a:path>
                  </a:pathLst>
                </a:custGeom>
                <a:solidFill>
                  <a:srgbClr val="846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439680" y="2998800"/>
                  <a:ext cx="34920" cy="1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944680" y="3061080"/>
                  <a:ext cx="442440" cy="17280"/>
                </a:xfrm>
                <a:custGeom>
                  <a:avLst/>
                  <a:gdLst/>
                  <a:ahLst/>
                  <a:rect l="l" t="t" r="r" b="b"/>
                  <a:pathLst>
                    <a:path w="1065" h="41">
                      <a:moveTo>
                        <a:pt x="1052" y="41"/>
                      </a:moveTo>
                      <a:lnTo>
                        <a:pt x="1065" y="0"/>
                      </a:lnTo>
                      <a:lnTo>
                        <a:pt x="0" y="0"/>
                      </a:lnTo>
                      <a:lnTo>
                        <a:pt x="13" y="41"/>
                      </a:lnTo>
                      <a:lnTo>
                        <a:pt x="1052" y="41"/>
                      </a:lnTo>
                      <a:close/>
                    </a:path>
                  </a:pathLst>
                </a:custGeom>
                <a:solidFill>
                  <a:srgbClr val="9b87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6380640" y="3058920"/>
                  <a:ext cx="9720" cy="1980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17" y="12"/>
                      </a:moveTo>
                      <a:lnTo>
                        <a:pt x="12" y="5"/>
                      </a:lnTo>
                      <a:lnTo>
                        <a:pt x="0" y="46"/>
                      </a:lnTo>
                      <a:lnTo>
                        <a:pt x="9" y="48"/>
                      </a:lnTo>
                      <a:lnTo>
                        <a:pt x="21" y="7"/>
                      </a:lnTo>
                      <a:lnTo>
                        <a:pt x="17" y="0"/>
                      </a:lnTo>
                      <a:lnTo>
                        <a:pt x="21" y="7"/>
                      </a:lnTo>
                      <a:lnTo>
                        <a:pt x="24" y="0"/>
                      </a:lnTo>
                      <a:lnTo>
                        <a:pt x="17" y="0"/>
                      </a:lnTo>
                      <a:lnTo>
                        <a:pt x="1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41800" y="3058920"/>
                  <a:ext cx="445320" cy="468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2" y="5"/>
                      </a:moveTo>
                      <a:lnTo>
                        <a:pt x="7" y="12"/>
                      </a:lnTo>
                      <a:lnTo>
                        <a:pt x="1072" y="12"/>
                      </a:lnTo>
                      <a:lnTo>
                        <a:pt x="1072" y="0"/>
                      </a:lnTo>
                      <a:lnTo>
                        <a:pt x="7" y="0"/>
                      </a:lnTo>
                      <a:lnTo>
                        <a:pt x="3" y="7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942880" y="3060360"/>
                  <a:ext cx="9000" cy="19800"/>
                </a:xfrm>
                <a:custGeom>
                  <a:avLst/>
                  <a:gdLst/>
                  <a:ahLst/>
                  <a:rect l="l" t="t" r="r" b="b"/>
                  <a:pathLst>
                    <a:path w="22" h="48">
                      <a:moveTo>
                        <a:pt x="17" y="36"/>
                      </a:moveTo>
                      <a:lnTo>
                        <a:pt x="22" y="41"/>
                      </a:lnTo>
                      <a:lnTo>
                        <a:pt x="9" y="0"/>
                      </a:lnTo>
                      <a:lnTo>
                        <a:pt x="0" y="2"/>
                      </a:lnTo>
                      <a:lnTo>
                        <a:pt x="12" y="43"/>
                      </a:lnTo>
                      <a:lnTo>
                        <a:pt x="17" y="48"/>
                      </a:lnTo>
                      <a:lnTo>
                        <a:pt x="12" y="43"/>
                      </a:lnTo>
                      <a:lnTo>
                        <a:pt x="14" y="47"/>
                      </a:lnTo>
                      <a:lnTo>
                        <a:pt x="17" y="48"/>
                      </a:lnTo>
                      <a:lnTo>
                        <a:pt x="17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50440" y="3076200"/>
                  <a:ext cx="433440" cy="3960"/>
                </a:xfrm>
                <a:custGeom>
                  <a:avLst/>
                  <a:gdLst/>
                  <a:ahLst/>
                  <a:rect l="l" t="t" r="r" b="b"/>
                  <a:pathLst>
                    <a:path w="1044" h="12">
                      <a:moveTo>
                        <a:pt x="1035" y="5"/>
                      </a:moveTo>
                      <a:lnTo>
                        <a:pt x="1039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039" y="12"/>
                      </a:lnTo>
                      <a:lnTo>
                        <a:pt x="1044" y="7"/>
                      </a:lnTo>
                      <a:lnTo>
                        <a:pt x="1039" y="12"/>
                      </a:lnTo>
                      <a:lnTo>
                        <a:pt x="1043" y="11"/>
                      </a:lnTo>
                      <a:lnTo>
                        <a:pt x="1044" y="7"/>
                      </a:lnTo>
                      <a:lnTo>
                        <a:pt x="103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25240" y="3138840"/>
                  <a:ext cx="475920" cy="41400"/>
                </a:xfrm>
                <a:prstGeom prst="rect">
                  <a:avLst/>
                </a:prstGeom>
                <a:solidFill>
                  <a:srgbClr val="8e77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398640" y="313632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11"/>
                      </a:moveTo>
                      <a:lnTo>
                        <a:pt x="0" y="5"/>
                      </a:lnTo>
                      <a:lnTo>
                        <a:pt x="0" y="106"/>
                      </a:lnTo>
                      <a:lnTo>
                        <a:pt x="11" y="106"/>
                      </a:lnTo>
                      <a:lnTo>
                        <a:pt x="11" y="5"/>
                      </a:lnTo>
                      <a:lnTo>
                        <a:pt x="5" y="0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22720" y="3136320"/>
                  <a:ext cx="478440" cy="4680"/>
                </a:xfrm>
                <a:custGeom>
                  <a:avLst/>
                  <a:gdLst/>
                  <a:ahLst/>
                  <a:rect l="l" t="t" r="r" b="b"/>
                  <a:pathLst>
                    <a:path w="1149" h="11">
                      <a:moveTo>
                        <a:pt x="11" y="5"/>
                      </a:moveTo>
                      <a:lnTo>
                        <a:pt x="5" y="11"/>
                      </a:lnTo>
                      <a:lnTo>
                        <a:pt x="1149" y="11"/>
                      </a:lnTo>
                      <a:lnTo>
                        <a:pt x="1149" y="0"/>
                      </a:lnTo>
                      <a:lnTo>
                        <a:pt x="5" y="0"/>
                      </a:ln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922720" y="3138840"/>
                  <a:ext cx="504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6">
                      <a:moveTo>
                        <a:pt x="5" y="95"/>
                      </a:moveTo>
                      <a:lnTo>
                        <a:pt x="11" y="10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5" y="106"/>
                      </a:lnTo>
                      <a:lnTo>
                        <a:pt x="0" y="101"/>
                      </a:lnTo>
                      <a:lnTo>
                        <a:pt x="0" y="106"/>
                      </a:lnTo>
                      <a:lnTo>
                        <a:pt x="5" y="106"/>
                      </a:lnTo>
                      <a:lnTo>
                        <a:pt x="5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925240" y="3177720"/>
                  <a:ext cx="478440" cy="5040"/>
                </a:xfrm>
                <a:custGeom>
                  <a:avLst/>
                  <a:gdLst/>
                  <a:ahLst/>
                  <a:rect l="l" t="t" r="r" b="b"/>
                  <a:pathLst>
                    <a:path w="1150" h="11">
                      <a:moveTo>
                        <a:pt x="1139" y="6"/>
                      </a:moveTo>
                      <a:lnTo>
                        <a:pt x="1144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144" y="11"/>
                      </a:lnTo>
                      <a:lnTo>
                        <a:pt x="1150" y="6"/>
                      </a:lnTo>
                      <a:lnTo>
                        <a:pt x="1144" y="11"/>
                      </a:lnTo>
                      <a:lnTo>
                        <a:pt x="1150" y="11"/>
                      </a:lnTo>
                      <a:lnTo>
                        <a:pt x="1150" y="6"/>
                      </a:lnTo>
                      <a:lnTo>
                        <a:pt x="113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925240" y="3095280"/>
                  <a:ext cx="475920" cy="43200"/>
                </a:xfrm>
                <a:custGeom>
                  <a:avLst/>
                  <a:gdLst/>
                  <a:ahLst/>
                  <a:rect l="l" t="t" r="r" b="b"/>
                  <a:pathLst>
                    <a:path w="1144" h="103">
                      <a:moveTo>
                        <a:pt x="46" y="0"/>
                      </a:moveTo>
                      <a:lnTo>
                        <a:pt x="1098" y="0"/>
                      </a:lnTo>
                      <a:lnTo>
                        <a:pt x="1144" y="103"/>
                      </a:lnTo>
                      <a:lnTo>
                        <a:pt x="0" y="10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944680" y="3092760"/>
                  <a:ext cx="439200" cy="5040"/>
                </a:xfrm>
                <a:custGeom>
                  <a:avLst/>
                  <a:gdLst/>
                  <a:ahLst/>
                  <a:rect l="l" t="t" r="r" b="b"/>
                  <a:pathLst>
                    <a:path w="1057" h="11">
                      <a:moveTo>
                        <a:pt x="1057" y="3"/>
                      </a:moveTo>
                      <a:lnTo>
                        <a:pt x="105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052" y="11"/>
                      </a:lnTo>
                      <a:lnTo>
                        <a:pt x="1048" y="8"/>
                      </a:lnTo>
                      <a:lnTo>
                        <a:pt x="1057" y="3"/>
                      </a:lnTo>
                      <a:lnTo>
                        <a:pt x="1056" y="1"/>
                      </a:lnTo>
                      <a:lnTo>
                        <a:pt x="1052" y="0"/>
                      </a:lnTo>
                      <a:lnTo>
                        <a:pt x="105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380640" y="3094560"/>
                  <a:ext cx="24120" cy="46440"/>
                </a:xfrm>
                <a:custGeom>
                  <a:avLst/>
                  <a:gdLst/>
                  <a:ahLst/>
                  <a:rect l="l" t="t" r="r" b="b"/>
                  <a:pathLst>
                    <a:path w="58" h="112">
                      <a:moveTo>
                        <a:pt x="50" y="112"/>
                      </a:moveTo>
                      <a:lnTo>
                        <a:pt x="55" y="104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46" y="109"/>
                      </a:lnTo>
                      <a:lnTo>
                        <a:pt x="50" y="101"/>
                      </a:lnTo>
                      <a:lnTo>
                        <a:pt x="50" y="112"/>
                      </a:lnTo>
                      <a:lnTo>
                        <a:pt x="58" y="112"/>
                      </a:lnTo>
                      <a:lnTo>
                        <a:pt x="55" y="104"/>
                      </a:lnTo>
                      <a:lnTo>
                        <a:pt x="50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922000" y="3136320"/>
                  <a:ext cx="479160" cy="4680"/>
                </a:xfrm>
                <a:custGeom>
                  <a:avLst/>
                  <a:gdLst/>
                  <a:ahLst/>
                  <a:rect l="l" t="t" r="r" b="b"/>
                  <a:pathLst>
                    <a:path w="1152" h="11">
                      <a:moveTo>
                        <a:pt x="4" y="3"/>
                      </a:moveTo>
                      <a:lnTo>
                        <a:pt x="8" y="11"/>
                      </a:lnTo>
                      <a:lnTo>
                        <a:pt x="1152" y="11"/>
                      </a:lnTo>
                      <a:lnTo>
                        <a:pt x="1152" y="0"/>
                      </a:lnTo>
                      <a:lnTo>
                        <a:pt x="8" y="0"/>
                      </a:lnTo>
                      <a:lnTo>
                        <a:pt x="13" y="8"/>
                      </a:lnTo>
                      <a:lnTo>
                        <a:pt x="4" y="3"/>
                      </a:lnTo>
                      <a:lnTo>
                        <a:pt x="0" y="11"/>
                      </a:lnTo>
                      <a:lnTo>
                        <a:pt x="8" y="1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923440" y="3092760"/>
                  <a:ext cx="22320" cy="46440"/>
                </a:xfrm>
                <a:custGeom>
                  <a:avLst/>
                  <a:gdLst/>
                  <a:ahLst/>
                  <a:rect l="l" t="t" r="r" b="b"/>
                  <a:pathLst>
                    <a:path w="55" h="112">
                      <a:moveTo>
                        <a:pt x="50" y="0"/>
                      </a:moveTo>
                      <a:lnTo>
                        <a:pt x="46" y="3"/>
                      </a:lnTo>
                      <a:lnTo>
                        <a:pt x="0" y="107"/>
                      </a:lnTo>
                      <a:lnTo>
                        <a:pt x="9" y="112"/>
                      </a:lnTo>
                      <a:lnTo>
                        <a:pt x="55" y="8"/>
                      </a:lnTo>
                      <a:lnTo>
                        <a:pt x="50" y="11"/>
                      </a:lnTo>
                      <a:lnTo>
                        <a:pt x="50" y="0"/>
                      </a:lnTo>
                      <a:lnTo>
                        <a:pt x="47" y="1"/>
                      </a:lnTo>
                      <a:lnTo>
                        <a:pt x="46" y="3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08400" y="3078720"/>
                  <a:ext cx="325080" cy="50040"/>
                </a:xfrm>
                <a:custGeom>
                  <a:avLst/>
                  <a:gdLst/>
                  <a:ahLst/>
                  <a:rect l="l" t="t" r="r" b="b"/>
                  <a:pathLst>
                    <a:path w="782" h="120">
                      <a:moveTo>
                        <a:pt x="782" y="0"/>
                      </a:moveTo>
                      <a:lnTo>
                        <a:pt x="777" y="9"/>
                      </a:lnTo>
                      <a:lnTo>
                        <a:pt x="771" y="20"/>
                      </a:lnTo>
                      <a:lnTo>
                        <a:pt x="762" y="30"/>
                      </a:lnTo>
                      <a:lnTo>
                        <a:pt x="752" y="41"/>
                      </a:lnTo>
                      <a:lnTo>
                        <a:pt x="738" y="51"/>
                      </a:lnTo>
                      <a:lnTo>
                        <a:pt x="721" y="60"/>
                      </a:lnTo>
                      <a:lnTo>
                        <a:pt x="702" y="71"/>
                      </a:lnTo>
                      <a:lnTo>
                        <a:pt x="680" y="79"/>
                      </a:lnTo>
                      <a:lnTo>
                        <a:pt x="655" y="88"/>
                      </a:lnTo>
                      <a:lnTo>
                        <a:pt x="627" y="96"/>
                      </a:lnTo>
                      <a:lnTo>
                        <a:pt x="596" y="103"/>
                      </a:lnTo>
                      <a:lnTo>
                        <a:pt x="562" y="109"/>
                      </a:lnTo>
                      <a:lnTo>
                        <a:pt x="525" y="113"/>
                      </a:lnTo>
                      <a:lnTo>
                        <a:pt x="483" y="117"/>
                      </a:lnTo>
                      <a:lnTo>
                        <a:pt x="440" y="119"/>
                      </a:lnTo>
                      <a:lnTo>
                        <a:pt x="391" y="120"/>
                      </a:lnTo>
                      <a:lnTo>
                        <a:pt x="343" y="119"/>
                      </a:lnTo>
                      <a:lnTo>
                        <a:pt x="299" y="117"/>
                      </a:lnTo>
                      <a:lnTo>
                        <a:pt x="258" y="113"/>
                      </a:lnTo>
                      <a:lnTo>
                        <a:pt x="221" y="109"/>
                      </a:lnTo>
                      <a:lnTo>
                        <a:pt x="186" y="103"/>
                      </a:lnTo>
                      <a:lnTo>
                        <a:pt x="155" y="96"/>
                      </a:lnTo>
                      <a:lnTo>
                        <a:pt x="127" y="88"/>
                      </a:lnTo>
                      <a:lnTo>
                        <a:pt x="102" y="79"/>
                      </a:lnTo>
                      <a:lnTo>
                        <a:pt x="80" y="71"/>
                      </a:lnTo>
                      <a:lnTo>
                        <a:pt x="61" y="60"/>
                      </a:lnTo>
                      <a:lnTo>
                        <a:pt x="45" y="51"/>
                      </a:lnTo>
                      <a:lnTo>
                        <a:pt x="31" y="41"/>
                      </a:lnTo>
                      <a:lnTo>
                        <a:pt x="19" y="30"/>
                      </a:lnTo>
                      <a:lnTo>
                        <a:pt x="10" y="20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782" y="0"/>
                      </a:lnTo>
                      <a:close/>
                    </a:path>
                  </a:pathLst>
                </a:custGeom>
                <a:solidFill>
                  <a:srgbClr val="441e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171840" y="3078000"/>
                  <a:ext cx="163800" cy="52200"/>
                </a:xfrm>
                <a:custGeom>
                  <a:avLst/>
                  <a:gdLst/>
                  <a:ahLst/>
                  <a:rect l="l" t="t" r="r" b="b"/>
                  <a:pathLst>
                    <a:path w="395" h="127">
                      <a:moveTo>
                        <a:pt x="0" y="127"/>
                      </a:moveTo>
                      <a:lnTo>
                        <a:pt x="0" y="127"/>
                      </a:lnTo>
                      <a:lnTo>
                        <a:pt x="49" y="124"/>
                      </a:lnTo>
                      <a:lnTo>
                        <a:pt x="92" y="122"/>
                      </a:lnTo>
                      <a:lnTo>
                        <a:pt x="134" y="119"/>
                      </a:lnTo>
                      <a:lnTo>
                        <a:pt x="171" y="114"/>
                      </a:lnTo>
                      <a:lnTo>
                        <a:pt x="205" y="108"/>
                      </a:lnTo>
                      <a:lnTo>
                        <a:pt x="238" y="101"/>
                      </a:lnTo>
                      <a:lnTo>
                        <a:pt x="265" y="93"/>
                      </a:lnTo>
                      <a:lnTo>
                        <a:pt x="291" y="84"/>
                      </a:lnTo>
                      <a:lnTo>
                        <a:pt x="314" y="76"/>
                      </a:lnTo>
                      <a:lnTo>
                        <a:pt x="332" y="66"/>
                      </a:lnTo>
                      <a:lnTo>
                        <a:pt x="349" y="57"/>
                      </a:lnTo>
                      <a:lnTo>
                        <a:pt x="364" y="45"/>
                      </a:lnTo>
                      <a:lnTo>
                        <a:pt x="375" y="35"/>
                      </a:lnTo>
                      <a:lnTo>
                        <a:pt x="385" y="23"/>
                      </a:lnTo>
                      <a:lnTo>
                        <a:pt x="391" y="13"/>
                      </a:lnTo>
                      <a:lnTo>
                        <a:pt x="395" y="2"/>
                      </a:lnTo>
                      <a:lnTo>
                        <a:pt x="386" y="0"/>
                      </a:lnTo>
                      <a:lnTo>
                        <a:pt x="382" y="8"/>
                      </a:lnTo>
                      <a:lnTo>
                        <a:pt x="376" y="19"/>
                      </a:lnTo>
                      <a:lnTo>
                        <a:pt x="368" y="28"/>
                      </a:lnTo>
                      <a:lnTo>
                        <a:pt x="357" y="38"/>
                      </a:lnTo>
                      <a:lnTo>
                        <a:pt x="345" y="47"/>
                      </a:lnTo>
                      <a:lnTo>
                        <a:pt x="327" y="57"/>
                      </a:lnTo>
                      <a:lnTo>
                        <a:pt x="309" y="67"/>
                      </a:lnTo>
                      <a:lnTo>
                        <a:pt x="288" y="75"/>
                      </a:lnTo>
                      <a:lnTo>
                        <a:pt x="263" y="84"/>
                      </a:lnTo>
                      <a:lnTo>
                        <a:pt x="235" y="92"/>
                      </a:lnTo>
                      <a:lnTo>
                        <a:pt x="205" y="99"/>
                      </a:lnTo>
                      <a:lnTo>
                        <a:pt x="171" y="105"/>
                      </a:lnTo>
                      <a:lnTo>
                        <a:pt x="134" y="110"/>
                      </a:lnTo>
                      <a:lnTo>
                        <a:pt x="92" y="113"/>
                      </a:lnTo>
                      <a:lnTo>
                        <a:pt x="49" y="115"/>
                      </a:lnTo>
                      <a:lnTo>
                        <a:pt x="0" y="115"/>
                      </a:lnTo>
                      <a:lnTo>
                        <a:pt x="0" y="115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05160" y="3076200"/>
                  <a:ext cx="166320" cy="54000"/>
                </a:xfrm>
                <a:custGeom>
                  <a:avLst/>
                  <a:gdLst/>
                  <a:ahLst/>
                  <a:rect l="l" t="t" r="r" b="b"/>
                  <a:pathLst>
                    <a:path w="398" h="132">
                      <a:moveTo>
                        <a:pt x="7" y="0"/>
                      </a:moveTo>
                      <a:lnTo>
                        <a:pt x="2" y="7"/>
                      </a:lnTo>
                      <a:lnTo>
                        <a:pt x="7" y="18"/>
                      </a:lnTo>
                      <a:lnTo>
                        <a:pt x="12" y="28"/>
                      </a:lnTo>
                      <a:lnTo>
                        <a:pt x="23" y="40"/>
                      </a:lnTo>
                      <a:lnTo>
                        <a:pt x="34" y="50"/>
                      </a:lnTo>
                      <a:lnTo>
                        <a:pt x="49" y="62"/>
                      </a:lnTo>
                      <a:lnTo>
                        <a:pt x="65" y="71"/>
                      </a:lnTo>
                      <a:lnTo>
                        <a:pt x="85" y="81"/>
                      </a:lnTo>
                      <a:lnTo>
                        <a:pt x="108" y="89"/>
                      </a:lnTo>
                      <a:lnTo>
                        <a:pt x="133" y="98"/>
                      </a:lnTo>
                      <a:lnTo>
                        <a:pt x="161" y="106"/>
                      </a:lnTo>
                      <a:lnTo>
                        <a:pt x="193" y="113"/>
                      </a:lnTo>
                      <a:lnTo>
                        <a:pt x="228" y="119"/>
                      </a:lnTo>
                      <a:lnTo>
                        <a:pt x="265" y="124"/>
                      </a:lnTo>
                      <a:lnTo>
                        <a:pt x="306" y="127"/>
                      </a:lnTo>
                      <a:lnTo>
                        <a:pt x="350" y="129"/>
                      </a:lnTo>
                      <a:lnTo>
                        <a:pt x="398" y="132"/>
                      </a:lnTo>
                      <a:lnTo>
                        <a:pt x="398" y="120"/>
                      </a:lnTo>
                      <a:lnTo>
                        <a:pt x="350" y="120"/>
                      </a:lnTo>
                      <a:lnTo>
                        <a:pt x="306" y="118"/>
                      </a:lnTo>
                      <a:lnTo>
                        <a:pt x="265" y="115"/>
                      </a:lnTo>
                      <a:lnTo>
                        <a:pt x="228" y="110"/>
                      </a:lnTo>
                      <a:lnTo>
                        <a:pt x="193" y="104"/>
                      </a:lnTo>
                      <a:lnTo>
                        <a:pt x="163" y="97"/>
                      </a:lnTo>
                      <a:lnTo>
                        <a:pt x="136" y="89"/>
                      </a:lnTo>
                      <a:lnTo>
                        <a:pt x="110" y="80"/>
                      </a:lnTo>
                      <a:lnTo>
                        <a:pt x="90" y="72"/>
                      </a:lnTo>
                      <a:lnTo>
                        <a:pt x="70" y="62"/>
                      </a:lnTo>
                      <a:lnTo>
                        <a:pt x="54" y="52"/>
                      </a:lnTo>
                      <a:lnTo>
                        <a:pt x="41" y="43"/>
                      </a:lnTo>
                      <a:lnTo>
                        <a:pt x="30" y="33"/>
                      </a:lnTo>
                      <a:lnTo>
                        <a:pt x="22" y="24"/>
                      </a:lnTo>
                      <a:lnTo>
                        <a:pt x="16" y="13"/>
                      </a:lnTo>
                      <a:lnTo>
                        <a:pt x="11" y="5"/>
                      </a:lnTo>
                      <a:lnTo>
                        <a:pt x="7" y="12"/>
                      </a:lnTo>
                      <a:lnTo>
                        <a:pt x="7" y="0"/>
                      </a:lnTo>
                      <a:lnTo>
                        <a:pt x="0" y="2"/>
                      </a:lnTo>
                      <a:lnTo>
                        <a:pt x="2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008400" y="3076200"/>
                  <a:ext cx="327960" cy="3960"/>
                </a:xfrm>
                <a:custGeom>
                  <a:avLst/>
                  <a:gdLst/>
                  <a:ahLst/>
                  <a:rect l="l" t="t" r="r" b="b"/>
                  <a:pathLst>
                    <a:path w="789" h="12">
                      <a:moveTo>
                        <a:pt x="786" y="7"/>
                      </a:moveTo>
                      <a:lnTo>
                        <a:pt x="78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782" y="12"/>
                      </a:lnTo>
                      <a:lnTo>
                        <a:pt x="777" y="5"/>
                      </a:lnTo>
                      <a:lnTo>
                        <a:pt x="786" y="7"/>
                      </a:lnTo>
                      <a:lnTo>
                        <a:pt x="789" y="2"/>
                      </a:lnTo>
                      <a:lnTo>
                        <a:pt x="782" y="0"/>
                      </a:lnTo>
                      <a:lnTo>
                        <a:pt x="78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6505560" y="2742840"/>
                <a:ext cx="1723680" cy="700560"/>
                <a:chOff x="6505560" y="2742840"/>
                <a:chExt cx="1723680" cy="700560"/>
              </a:xfrm>
            </p:grpSpPr>
            <p:pic>
              <p:nvPicPr>
                <p:cNvPr id="5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56520" y="2742840"/>
                  <a:ext cx="972720" cy="700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524" name=""/>
                <p:cNvGrpSpPr/>
                <p:nvPr/>
              </p:nvGrpSpPr>
              <p:grpSpPr>
                <a:xfrm>
                  <a:off x="6505560" y="2795760"/>
                  <a:ext cx="668520" cy="410400"/>
                  <a:chOff x="6505560" y="2795760"/>
                  <a:chExt cx="668520" cy="41040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6737760" y="2795760"/>
                    <a:ext cx="436320" cy="410400"/>
                    <a:chOff x="6737760" y="2795760"/>
                    <a:chExt cx="436320" cy="41040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6815160" y="2795760"/>
                      <a:ext cx="358920" cy="41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6788520" y="2822040"/>
                      <a:ext cx="309960" cy="35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6737760" y="2853360"/>
                      <a:ext cx="288360" cy="29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6591600" y="2873160"/>
                    <a:ext cx="368280" cy="271080"/>
                    <a:chOff x="6591600" y="2873160"/>
                    <a:chExt cx="368280" cy="27108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6657480" y="2873160"/>
                      <a:ext cx="302400" cy="27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634800" y="2890440"/>
                      <a:ext cx="261000" cy="23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6591600" y="2910600"/>
                      <a:ext cx="24372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3" name=""/>
                  <p:cNvSpPr/>
                  <p:nvPr/>
                </p:nvSpPr>
                <p:spPr>
                  <a:xfrm>
                    <a:off x="6561000" y="2928240"/>
                    <a:ext cx="2185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529680" y="2939040"/>
                    <a:ext cx="18900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505560" y="2959200"/>
                    <a:ext cx="16200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522840" y="2976120"/>
                    <a:ext cx="968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5888520" y="3475080"/>
                <a:ext cx="1310400" cy="787320"/>
                <a:chOff x="5888520" y="3475080"/>
                <a:chExt cx="1310400" cy="787320"/>
              </a:xfrm>
            </p:grpSpPr>
            <p:grpSp>
              <p:nvGrpSpPr>
                <p:cNvPr id="538" name=""/>
                <p:cNvGrpSpPr/>
                <p:nvPr/>
              </p:nvGrpSpPr>
              <p:grpSpPr>
                <a:xfrm>
                  <a:off x="5888520" y="3942360"/>
                  <a:ext cx="1310400" cy="320040"/>
                  <a:chOff x="5888520" y="3942360"/>
                  <a:chExt cx="1310400" cy="3200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6991920" y="3972240"/>
                    <a:ext cx="14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0" y="30"/>
                        </a:moveTo>
                        <a:lnTo>
                          <a:pt x="0" y="30"/>
                        </a:lnTo>
                        <a:lnTo>
                          <a:pt x="16" y="29"/>
                        </a:lnTo>
                        <a:lnTo>
                          <a:pt x="26" y="25"/>
                        </a:lnTo>
                        <a:lnTo>
                          <a:pt x="33" y="14"/>
                        </a:lnTo>
                        <a:lnTo>
                          <a:pt x="34" y="0"/>
                        </a:lnTo>
                        <a:lnTo>
                          <a:pt x="23" y="0"/>
                        </a:lnTo>
                        <a:lnTo>
                          <a:pt x="22" y="12"/>
                        </a:lnTo>
                        <a:lnTo>
                          <a:pt x="20" y="15"/>
                        </a:lnTo>
                        <a:lnTo>
                          <a:pt x="14" y="18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6109920" y="3979800"/>
                    <a:ext cx="882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19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2119" y="11"/>
                        </a:lnTo>
                        <a:lnTo>
                          <a:pt x="2119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6091560" y="3966480"/>
                    <a:ext cx="180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11"/>
                        </a:lnTo>
                        <a:lnTo>
                          <a:pt x="3" y="20"/>
                        </a:lnTo>
                        <a:lnTo>
                          <a:pt x="8" y="30"/>
                        </a:lnTo>
                        <a:lnTo>
                          <a:pt x="13" y="35"/>
                        </a:lnTo>
                        <a:lnTo>
                          <a:pt x="20" y="40"/>
                        </a:lnTo>
                        <a:lnTo>
                          <a:pt x="28" y="41"/>
                        </a:lnTo>
                        <a:lnTo>
                          <a:pt x="35" y="42"/>
                        </a:lnTo>
                        <a:lnTo>
                          <a:pt x="43" y="42"/>
                        </a:lnTo>
                        <a:lnTo>
                          <a:pt x="43" y="31"/>
                        </a:lnTo>
                        <a:lnTo>
                          <a:pt x="35" y="31"/>
                        </a:lnTo>
                        <a:lnTo>
                          <a:pt x="28" y="30"/>
                        </a:lnTo>
                        <a:lnTo>
                          <a:pt x="25" y="28"/>
                        </a:lnTo>
                        <a:lnTo>
                          <a:pt x="20" y="26"/>
                        </a:lnTo>
                        <a:lnTo>
                          <a:pt x="17" y="23"/>
                        </a:lnTo>
                        <a:lnTo>
                          <a:pt x="15" y="18"/>
                        </a:lnTo>
                        <a:lnTo>
                          <a:pt x="12" y="11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105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116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138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12720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170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160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48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235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6224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62031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213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6180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1930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365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35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633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6343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630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6311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6323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6246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6267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258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290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6278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625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661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592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6602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6560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570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582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6495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6506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52788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51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655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6538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6376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6397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38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43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642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408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648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646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64738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64414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6453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6885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6895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69177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69076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69285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63516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6657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6647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66902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6679440" y="3964680"/>
                    <a:ext cx="7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6668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6755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67453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67226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67327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6701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67129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687528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6852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68634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68202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6831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8425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6765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67878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67770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81012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79860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9" y="8"/>
                        </a:lnTo>
                        <a:lnTo>
                          <a:pt x="14" y="6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9710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69609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693936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69494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3" y="6"/>
                        </a:lnTo>
                        <a:lnTo>
                          <a:pt x="8" y="8"/>
                        </a:lnTo>
                        <a:lnTo>
                          <a:pt x="14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6981840" y="396468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8">
                        <a:moveTo>
                          <a:pt x="0" y="0"/>
                        </a:moveTo>
                        <a:lnTo>
                          <a:pt x="2" y="6"/>
                        </a:lnTo>
                        <a:lnTo>
                          <a:pt x="8" y="8"/>
                        </a:lnTo>
                        <a:lnTo>
                          <a:pt x="13" y="6"/>
                        </a:lnTo>
                        <a:lnTo>
                          <a:pt x="1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5890680" y="3948120"/>
                    <a:ext cx="1305720" cy="31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36" h="747">
                        <a:moveTo>
                          <a:pt x="3052" y="746"/>
                        </a:moveTo>
                        <a:lnTo>
                          <a:pt x="3063" y="746"/>
                        </a:lnTo>
                        <a:lnTo>
                          <a:pt x="3075" y="747"/>
                        </a:lnTo>
                        <a:lnTo>
                          <a:pt x="3085" y="746"/>
                        </a:lnTo>
                        <a:lnTo>
                          <a:pt x="3095" y="744"/>
                        </a:lnTo>
                        <a:lnTo>
                          <a:pt x="3105" y="739"/>
                        </a:lnTo>
                        <a:lnTo>
                          <a:pt x="3114" y="731"/>
                        </a:lnTo>
                        <a:lnTo>
                          <a:pt x="3121" y="720"/>
                        </a:lnTo>
                        <a:lnTo>
                          <a:pt x="3126" y="705"/>
                        </a:lnTo>
                        <a:lnTo>
                          <a:pt x="3133" y="674"/>
                        </a:lnTo>
                        <a:lnTo>
                          <a:pt x="3136" y="652"/>
                        </a:lnTo>
                        <a:lnTo>
                          <a:pt x="3135" y="637"/>
                        </a:lnTo>
                        <a:lnTo>
                          <a:pt x="3132" y="628"/>
                        </a:lnTo>
                        <a:lnTo>
                          <a:pt x="3124" y="600"/>
                        </a:lnTo>
                        <a:lnTo>
                          <a:pt x="3103" y="533"/>
                        </a:lnTo>
                        <a:lnTo>
                          <a:pt x="3075" y="440"/>
                        </a:lnTo>
                        <a:lnTo>
                          <a:pt x="3042" y="333"/>
                        </a:lnTo>
                        <a:lnTo>
                          <a:pt x="3009" y="226"/>
                        </a:lnTo>
                        <a:lnTo>
                          <a:pt x="2980" y="131"/>
                        </a:lnTo>
                        <a:lnTo>
                          <a:pt x="2959" y="62"/>
                        </a:lnTo>
                        <a:lnTo>
                          <a:pt x="2951" y="32"/>
                        </a:lnTo>
                        <a:lnTo>
                          <a:pt x="2949" y="26"/>
                        </a:lnTo>
                        <a:lnTo>
                          <a:pt x="2947" y="19"/>
                        </a:lnTo>
                        <a:lnTo>
                          <a:pt x="2942" y="14"/>
                        </a:lnTo>
                        <a:lnTo>
                          <a:pt x="2936" y="8"/>
                        </a:lnTo>
                        <a:lnTo>
                          <a:pt x="2928" y="3"/>
                        </a:lnTo>
                        <a:lnTo>
                          <a:pt x="2917" y="1"/>
                        </a:lnTo>
                        <a:lnTo>
                          <a:pt x="2903" y="0"/>
                        </a:lnTo>
                        <a:lnTo>
                          <a:pt x="2886" y="1"/>
                        </a:lnTo>
                        <a:lnTo>
                          <a:pt x="2873" y="2"/>
                        </a:lnTo>
                        <a:lnTo>
                          <a:pt x="2848" y="2"/>
                        </a:lnTo>
                        <a:lnTo>
                          <a:pt x="2807" y="2"/>
                        </a:lnTo>
                        <a:lnTo>
                          <a:pt x="2756" y="3"/>
                        </a:lnTo>
                        <a:lnTo>
                          <a:pt x="2692" y="3"/>
                        </a:lnTo>
                        <a:lnTo>
                          <a:pt x="2618" y="3"/>
                        </a:lnTo>
                        <a:lnTo>
                          <a:pt x="2534" y="3"/>
                        </a:lnTo>
                        <a:lnTo>
                          <a:pt x="2443" y="4"/>
                        </a:lnTo>
                        <a:lnTo>
                          <a:pt x="2343" y="4"/>
                        </a:lnTo>
                        <a:lnTo>
                          <a:pt x="2237" y="4"/>
                        </a:lnTo>
                        <a:lnTo>
                          <a:pt x="2125" y="4"/>
                        </a:lnTo>
                        <a:lnTo>
                          <a:pt x="2009" y="4"/>
                        </a:lnTo>
                        <a:lnTo>
                          <a:pt x="1889" y="4"/>
                        </a:lnTo>
                        <a:lnTo>
                          <a:pt x="1767" y="3"/>
                        </a:lnTo>
                        <a:lnTo>
                          <a:pt x="1643" y="3"/>
                        </a:lnTo>
                        <a:lnTo>
                          <a:pt x="1517" y="3"/>
                        </a:lnTo>
                        <a:lnTo>
                          <a:pt x="1391" y="3"/>
                        </a:lnTo>
                        <a:lnTo>
                          <a:pt x="1268" y="3"/>
                        </a:lnTo>
                        <a:lnTo>
                          <a:pt x="1146" y="3"/>
                        </a:lnTo>
                        <a:lnTo>
                          <a:pt x="1026" y="3"/>
                        </a:lnTo>
                        <a:lnTo>
                          <a:pt x="912" y="2"/>
                        </a:lnTo>
                        <a:lnTo>
                          <a:pt x="802" y="2"/>
                        </a:lnTo>
                        <a:lnTo>
                          <a:pt x="698" y="2"/>
                        </a:lnTo>
                        <a:lnTo>
                          <a:pt x="600" y="2"/>
                        </a:lnTo>
                        <a:lnTo>
                          <a:pt x="511" y="2"/>
                        </a:lnTo>
                        <a:lnTo>
                          <a:pt x="431" y="2"/>
                        </a:lnTo>
                        <a:lnTo>
                          <a:pt x="359" y="1"/>
                        </a:lnTo>
                        <a:lnTo>
                          <a:pt x="299" y="1"/>
                        </a:lnTo>
                        <a:lnTo>
                          <a:pt x="251" y="1"/>
                        </a:lnTo>
                        <a:lnTo>
                          <a:pt x="215" y="1"/>
                        </a:lnTo>
                        <a:lnTo>
                          <a:pt x="193" y="1"/>
                        </a:lnTo>
                        <a:lnTo>
                          <a:pt x="185" y="1"/>
                        </a:lnTo>
                        <a:lnTo>
                          <a:pt x="169" y="1"/>
                        </a:lnTo>
                        <a:lnTo>
                          <a:pt x="155" y="3"/>
                        </a:lnTo>
                        <a:lnTo>
                          <a:pt x="144" y="7"/>
                        </a:lnTo>
                        <a:lnTo>
                          <a:pt x="135" y="11"/>
                        </a:lnTo>
                        <a:lnTo>
                          <a:pt x="128" y="17"/>
                        </a:lnTo>
                        <a:lnTo>
                          <a:pt x="122" y="24"/>
                        </a:lnTo>
                        <a:lnTo>
                          <a:pt x="118" y="31"/>
                        </a:lnTo>
                        <a:lnTo>
                          <a:pt x="117" y="40"/>
                        </a:lnTo>
                        <a:lnTo>
                          <a:pt x="113" y="72"/>
                        </a:lnTo>
                        <a:lnTo>
                          <a:pt x="100" y="141"/>
                        </a:lnTo>
                        <a:lnTo>
                          <a:pt x="83" y="235"/>
                        </a:lnTo>
                        <a:lnTo>
                          <a:pt x="62" y="340"/>
                        </a:lnTo>
                        <a:lnTo>
                          <a:pt x="42" y="443"/>
                        </a:lnTo>
                        <a:lnTo>
                          <a:pt x="25" y="533"/>
                        </a:lnTo>
                        <a:lnTo>
                          <a:pt x="12" y="596"/>
                        </a:lnTo>
                        <a:lnTo>
                          <a:pt x="8" y="621"/>
                        </a:lnTo>
                        <a:lnTo>
                          <a:pt x="4" y="636"/>
                        </a:lnTo>
                        <a:lnTo>
                          <a:pt x="0" y="669"/>
                        </a:lnTo>
                        <a:lnTo>
                          <a:pt x="1" y="707"/>
                        </a:lnTo>
                        <a:lnTo>
                          <a:pt x="12" y="734"/>
                        </a:lnTo>
                        <a:lnTo>
                          <a:pt x="18" y="737"/>
                        </a:lnTo>
                        <a:lnTo>
                          <a:pt x="25" y="740"/>
                        </a:lnTo>
                        <a:lnTo>
                          <a:pt x="32" y="742"/>
                        </a:lnTo>
                        <a:lnTo>
                          <a:pt x="40" y="744"/>
                        </a:lnTo>
                        <a:lnTo>
                          <a:pt x="47" y="745"/>
                        </a:lnTo>
                        <a:lnTo>
                          <a:pt x="54" y="746"/>
                        </a:lnTo>
                        <a:lnTo>
                          <a:pt x="60" y="746"/>
                        </a:lnTo>
                        <a:lnTo>
                          <a:pt x="64" y="746"/>
                        </a:lnTo>
                        <a:lnTo>
                          <a:pt x="3052" y="746"/>
                        </a:lnTo>
                        <a:close/>
                      </a:path>
                    </a:pathLst>
                  </a:custGeom>
                  <a:solidFill>
                    <a:srgbClr val="cec4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161840" y="4241520"/>
                    <a:ext cx="331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0">
                        <a:moveTo>
                          <a:pt x="69" y="0"/>
                        </a:moveTo>
                        <a:lnTo>
                          <a:pt x="69" y="0"/>
                        </a:lnTo>
                        <a:lnTo>
                          <a:pt x="63" y="13"/>
                        </a:lnTo>
                        <a:lnTo>
                          <a:pt x="57" y="24"/>
                        </a:lnTo>
                        <a:lnTo>
                          <a:pt x="49" y="31"/>
                        </a:lnTo>
                        <a:lnTo>
                          <a:pt x="42" y="34"/>
                        </a:lnTo>
                        <a:lnTo>
                          <a:pt x="33" y="36"/>
                        </a:lnTo>
                        <a:lnTo>
                          <a:pt x="23" y="36"/>
                        </a:lnTo>
                        <a:lnTo>
                          <a:pt x="11" y="35"/>
                        </a:lnTo>
                        <a:lnTo>
                          <a:pt x="0" y="36"/>
                        </a:lnTo>
                        <a:lnTo>
                          <a:pt x="0" y="48"/>
                        </a:lnTo>
                        <a:lnTo>
                          <a:pt x="11" y="49"/>
                        </a:lnTo>
                        <a:lnTo>
                          <a:pt x="23" y="50"/>
                        </a:lnTo>
                        <a:lnTo>
                          <a:pt x="33" y="48"/>
                        </a:lnTo>
                        <a:lnTo>
                          <a:pt x="45" y="46"/>
                        </a:lnTo>
                        <a:lnTo>
                          <a:pt x="56" y="40"/>
                        </a:lnTo>
                        <a:lnTo>
                          <a:pt x="66" y="31"/>
                        </a:lnTo>
                        <a:lnTo>
                          <a:pt x="74" y="18"/>
                        </a:lnTo>
                        <a:lnTo>
                          <a:pt x="80" y="2"/>
                        </a:lnTo>
                        <a:lnTo>
                          <a:pt x="80" y="2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7189920" y="4209120"/>
                    <a:ext cx="90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81">
                        <a:moveTo>
                          <a:pt x="5" y="5"/>
                        </a:moveTo>
                        <a:lnTo>
                          <a:pt x="5" y="5"/>
                        </a:lnTo>
                        <a:lnTo>
                          <a:pt x="8" y="12"/>
                        </a:lnTo>
                        <a:lnTo>
                          <a:pt x="8" y="27"/>
                        </a:lnTo>
                        <a:lnTo>
                          <a:pt x="7" y="48"/>
                        </a:lnTo>
                        <a:lnTo>
                          <a:pt x="0" y="79"/>
                        </a:lnTo>
                        <a:lnTo>
                          <a:pt x="11" y="81"/>
                        </a:lnTo>
                        <a:lnTo>
                          <a:pt x="18" y="50"/>
                        </a:lnTo>
                        <a:lnTo>
                          <a:pt x="22" y="27"/>
                        </a:lnTo>
                        <a:lnTo>
                          <a:pt x="19" y="12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7117560" y="3960360"/>
                    <a:ext cx="799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599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8" y="32"/>
                        </a:lnTo>
                        <a:lnTo>
                          <a:pt x="28" y="101"/>
                        </a:lnTo>
                        <a:lnTo>
                          <a:pt x="57" y="196"/>
                        </a:lnTo>
                        <a:lnTo>
                          <a:pt x="91" y="303"/>
                        </a:lnTo>
                        <a:lnTo>
                          <a:pt x="123" y="410"/>
                        </a:lnTo>
                        <a:lnTo>
                          <a:pt x="152" y="503"/>
                        </a:lnTo>
                        <a:lnTo>
                          <a:pt x="172" y="570"/>
                        </a:lnTo>
                        <a:lnTo>
                          <a:pt x="180" y="599"/>
                        </a:lnTo>
                        <a:lnTo>
                          <a:pt x="192" y="594"/>
                        </a:lnTo>
                        <a:lnTo>
                          <a:pt x="184" y="568"/>
                        </a:lnTo>
                        <a:lnTo>
                          <a:pt x="163" y="501"/>
                        </a:lnTo>
                        <a:lnTo>
                          <a:pt x="134" y="408"/>
                        </a:lnTo>
                        <a:lnTo>
                          <a:pt x="102" y="301"/>
                        </a:lnTo>
                        <a:lnTo>
                          <a:pt x="69" y="193"/>
                        </a:lnTo>
                        <a:lnTo>
                          <a:pt x="40" y="99"/>
                        </a:lnTo>
                        <a:lnTo>
                          <a:pt x="19" y="3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092720" y="394236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40">
                        <a:moveTo>
                          <a:pt x="0" y="14"/>
                        </a:moveTo>
                        <a:lnTo>
                          <a:pt x="0" y="14"/>
                        </a:lnTo>
                        <a:lnTo>
                          <a:pt x="17" y="14"/>
                        </a:lnTo>
                        <a:lnTo>
                          <a:pt x="31" y="14"/>
                        </a:lnTo>
                        <a:lnTo>
                          <a:pt x="41" y="16"/>
                        </a:lnTo>
                        <a:lnTo>
                          <a:pt x="47" y="19"/>
                        </a:lnTo>
                        <a:lnTo>
                          <a:pt x="52" y="25"/>
                        </a:lnTo>
                        <a:lnTo>
                          <a:pt x="55" y="29"/>
                        </a:lnTo>
                        <a:lnTo>
                          <a:pt x="57" y="36"/>
                        </a:lnTo>
                        <a:lnTo>
                          <a:pt x="60" y="40"/>
                        </a:lnTo>
                        <a:lnTo>
                          <a:pt x="71" y="38"/>
                        </a:lnTo>
                        <a:lnTo>
                          <a:pt x="69" y="31"/>
                        </a:lnTo>
                        <a:lnTo>
                          <a:pt x="67" y="24"/>
                        </a:lnTo>
                        <a:lnTo>
                          <a:pt x="61" y="16"/>
                        </a:lnTo>
                        <a:lnTo>
                          <a:pt x="54" y="10"/>
                        </a:lnTo>
                        <a:lnTo>
                          <a:pt x="43" y="4"/>
                        </a:lnTo>
                        <a:lnTo>
                          <a:pt x="31" y="2"/>
                        </a:ln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5968080" y="3942360"/>
                    <a:ext cx="1124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01" h="17">
                        <a:moveTo>
                          <a:pt x="0" y="13"/>
                        </a:moveTo>
                        <a:lnTo>
                          <a:pt x="0" y="14"/>
                        </a:lnTo>
                        <a:lnTo>
                          <a:pt x="8" y="14"/>
                        </a:lnTo>
                        <a:lnTo>
                          <a:pt x="30" y="14"/>
                        </a:lnTo>
                        <a:lnTo>
                          <a:pt x="66" y="14"/>
                        </a:lnTo>
                        <a:lnTo>
                          <a:pt x="114" y="14"/>
                        </a:lnTo>
                        <a:lnTo>
                          <a:pt x="174" y="14"/>
                        </a:lnTo>
                        <a:lnTo>
                          <a:pt x="246" y="15"/>
                        </a:lnTo>
                        <a:lnTo>
                          <a:pt x="326" y="15"/>
                        </a:lnTo>
                        <a:lnTo>
                          <a:pt x="415" y="15"/>
                        </a:lnTo>
                        <a:lnTo>
                          <a:pt x="513" y="15"/>
                        </a:lnTo>
                        <a:lnTo>
                          <a:pt x="617" y="15"/>
                        </a:lnTo>
                        <a:lnTo>
                          <a:pt x="727" y="15"/>
                        </a:lnTo>
                        <a:lnTo>
                          <a:pt x="841" y="16"/>
                        </a:lnTo>
                        <a:lnTo>
                          <a:pt x="961" y="16"/>
                        </a:lnTo>
                        <a:lnTo>
                          <a:pt x="1083" y="16"/>
                        </a:lnTo>
                        <a:lnTo>
                          <a:pt x="1206" y="16"/>
                        </a:lnTo>
                        <a:lnTo>
                          <a:pt x="1332" y="16"/>
                        </a:lnTo>
                        <a:lnTo>
                          <a:pt x="1458" y="16"/>
                        </a:lnTo>
                        <a:lnTo>
                          <a:pt x="1582" y="16"/>
                        </a:lnTo>
                        <a:lnTo>
                          <a:pt x="1704" y="17"/>
                        </a:lnTo>
                        <a:lnTo>
                          <a:pt x="1824" y="17"/>
                        </a:lnTo>
                        <a:lnTo>
                          <a:pt x="1940" y="17"/>
                        </a:lnTo>
                        <a:lnTo>
                          <a:pt x="2052" y="17"/>
                        </a:lnTo>
                        <a:lnTo>
                          <a:pt x="2158" y="17"/>
                        </a:lnTo>
                        <a:lnTo>
                          <a:pt x="2258" y="17"/>
                        </a:lnTo>
                        <a:lnTo>
                          <a:pt x="2349" y="16"/>
                        </a:lnTo>
                        <a:lnTo>
                          <a:pt x="2433" y="16"/>
                        </a:lnTo>
                        <a:lnTo>
                          <a:pt x="2507" y="16"/>
                        </a:lnTo>
                        <a:lnTo>
                          <a:pt x="2571" y="16"/>
                        </a:lnTo>
                        <a:lnTo>
                          <a:pt x="2622" y="15"/>
                        </a:lnTo>
                        <a:lnTo>
                          <a:pt x="2663" y="15"/>
                        </a:lnTo>
                        <a:lnTo>
                          <a:pt x="2688" y="15"/>
                        </a:lnTo>
                        <a:lnTo>
                          <a:pt x="2701" y="13"/>
                        </a:lnTo>
                        <a:lnTo>
                          <a:pt x="2701" y="1"/>
                        </a:lnTo>
                        <a:lnTo>
                          <a:pt x="2688" y="1"/>
                        </a:lnTo>
                        <a:lnTo>
                          <a:pt x="2663" y="1"/>
                        </a:lnTo>
                        <a:lnTo>
                          <a:pt x="2622" y="1"/>
                        </a:lnTo>
                        <a:lnTo>
                          <a:pt x="2571" y="2"/>
                        </a:lnTo>
                        <a:lnTo>
                          <a:pt x="2507" y="2"/>
                        </a:lnTo>
                        <a:lnTo>
                          <a:pt x="2433" y="2"/>
                        </a:lnTo>
                        <a:lnTo>
                          <a:pt x="2349" y="2"/>
                        </a:lnTo>
                        <a:lnTo>
                          <a:pt x="2258" y="3"/>
                        </a:lnTo>
                        <a:lnTo>
                          <a:pt x="2158" y="3"/>
                        </a:lnTo>
                        <a:lnTo>
                          <a:pt x="2052" y="3"/>
                        </a:lnTo>
                        <a:lnTo>
                          <a:pt x="1940" y="3"/>
                        </a:lnTo>
                        <a:lnTo>
                          <a:pt x="1824" y="3"/>
                        </a:lnTo>
                        <a:lnTo>
                          <a:pt x="1704" y="3"/>
                        </a:lnTo>
                        <a:lnTo>
                          <a:pt x="1582" y="2"/>
                        </a:lnTo>
                        <a:lnTo>
                          <a:pt x="1458" y="2"/>
                        </a:lnTo>
                        <a:lnTo>
                          <a:pt x="1332" y="2"/>
                        </a:lnTo>
                        <a:lnTo>
                          <a:pt x="1206" y="2"/>
                        </a:lnTo>
                        <a:lnTo>
                          <a:pt x="1083" y="2"/>
                        </a:lnTo>
                        <a:lnTo>
                          <a:pt x="961" y="2"/>
                        </a:lnTo>
                        <a:lnTo>
                          <a:pt x="841" y="2"/>
                        </a:lnTo>
                        <a:lnTo>
                          <a:pt x="727" y="1"/>
                        </a:lnTo>
                        <a:lnTo>
                          <a:pt x="617" y="1"/>
                        </a:lnTo>
                        <a:lnTo>
                          <a:pt x="513" y="1"/>
                        </a:lnTo>
                        <a:lnTo>
                          <a:pt x="415" y="1"/>
                        </a:lnTo>
                        <a:lnTo>
                          <a:pt x="326" y="1"/>
                        </a:lnTo>
                        <a:lnTo>
                          <a:pt x="246" y="1"/>
                        </a:lnTo>
                        <a:lnTo>
                          <a:pt x="174" y="0"/>
                        </a:lnTo>
                        <a:lnTo>
                          <a:pt x="114" y="0"/>
                        </a:lnTo>
                        <a:lnTo>
                          <a:pt x="66" y="0"/>
                        </a:lnTo>
                        <a:lnTo>
                          <a:pt x="30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5937480" y="3943800"/>
                    <a:ext cx="306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45">
                        <a:moveTo>
                          <a:pt x="11" y="45"/>
                        </a:moveTo>
                        <a:lnTo>
                          <a:pt x="11" y="45"/>
                        </a:lnTo>
                        <a:lnTo>
                          <a:pt x="12" y="37"/>
                        </a:lnTo>
                        <a:lnTo>
                          <a:pt x="15" y="32"/>
                        </a:lnTo>
                        <a:lnTo>
                          <a:pt x="20" y="27"/>
                        </a:lnTo>
                        <a:lnTo>
                          <a:pt x="26" y="22"/>
                        </a:lnTo>
                        <a:lnTo>
                          <a:pt x="34" y="17"/>
                        </a:lnTo>
                        <a:lnTo>
                          <a:pt x="45" y="14"/>
                        </a:lnTo>
                        <a:lnTo>
                          <a:pt x="57" y="12"/>
                        </a:lnTo>
                        <a:lnTo>
                          <a:pt x="73" y="12"/>
                        </a:lnTo>
                        <a:lnTo>
                          <a:pt x="73" y="0"/>
                        </a:lnTo>
                        <a:lnTo>
                          <a:pt x="57" y="0"/>
                        </a:lnTo>
                        <a:lnTo>
                          <a:pt x="42" y="2"/>
                        </a:lnTo>
                        <a:lnTo>
                          <a:pt x="30" y="6"/>
                        </a:lnTo>
                        <a:lnTo>
                          <a:pt x="19" y="10"/>
                        </a:lnTo>
                        <a:lnTo>
                          <a:pt x="11" y="17"/>
                        </a:lnTo>
                        <a:lnTo>
                          <a:pt x="5" y="25"/>
                        </a:lnTo>
                        <a:lnTo>
                          <a:pt x="1" y="35"/>
                        </a:lnTo>
                        <a:lnTo>
                          <a:pt x="0" y="45"/>
                        </a:lnTo>
                        <a:lnTo>
                          <a:pt x="0" y="45"/>
                        </a:lnTo>
                        <a:lnTo>
                          <a:pt x="11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5891400" y="3964680"/>
                    <a:ext cx="5076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582">
                        <a:moveTo>
                          <a:pt x="12" y="582"/>
                        </a:moveTo>
                        <a:lnTo>
                          <a:pt x="12" y="582"/>
                        </a:lnTo>
                        <a:lnTo>
                          <a:pt x="16" y="558"/>
                        </a:lnTo>
                        <a:lnTo>
                          <a:pt x="29" y="494"/>
                        </a:lnTo>
                        <a:lnTo>
                          <a:pt x="46" y="404"/>
                        </a:lnTo>
                        <a:lnTo>
                          <a:pt x="66" y="301"/>
                        </a:lnTo>
                        <a:lnTo>
                          <a:pt x="87" y="196"/>
                        </a:lnTo>
                        <a:lnTo>
                          <a:pt x="104" y="103"/>
                        </a:lnTo>
                        <a:lnTo>
                          <a:pt x="116" y="33"/>
                        </a:lnTo>
                        <a:lnTo>
                          <a:pt x="121" y="0"/>
                        </a:lnTo>
                        <a:lnTo>
                          <a:pt x="110" y="0"/>
                        </a:lnTo>
                        <a:lnTo>
                          <a:pt x="105" y="31"/>
                        </a:lnTo>
                        <a:lnTo>
                          <a:pt x="92" y="100"/>
                        </a:lnTo>
                        <a:lnTo>
                          <a:pt x="75" y="194"/>
                        </a:lnTo>
                        <a:lnTo>
                          <a:pt x="54" y="298"/>
                        </a:lnTo>
                        <a:lnTo>
                          <a:pt x="35" y="402"/>
                        </a:lnTo>
                        <a:lnTo>
                          <a:pt x="17" y="492"/>
                        </a:lnTo>
                        <a:lnTo>
                          <a:pt x="5" y="555"/>
                        </a:lnTo>
                        <a:lnTo>
                          <a:pt x="0" y="580"/>
                        </a:lnTo>
                        <a:lnTo>
                          <a:pt x="0" y="580"/>
                        </a:lnTo>
                        <a:lnTo>
                          <a:pt x="12" y="5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5888520" y="4206600"/>
                    <a:ext cx="90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18">
                        <a:moveTo>
                          <a:pt x="22" y="109"/>
                        </a:moveTo>
                        <a:lnTo>
                          <a:pt x="22" y="109"/>
                        </a:lnTo>
                        <a:lnTo>
                          <a:pt x="13" y="86"/>
                        </a:lnTo>
                        <a:lnTo>
                          <a:pt x="12" y="49"/>
                        </a:lnTo>
                        <a:lnTo>
                          <a:pt x="16" y="16"/>
                        </a:lnTo>
                        <a:lnTo>
                          <a:pt x="20" y="2"/>
                        </a:lnTo>
                        <a:lnTo>
                          <a:pt x="8" y="0"/>
                        </a:lnTo>
                        <a:lnTo>
                          <a:pt x="5" y="16"/>
                        </a:lnTo>
                        <a:lnTo>
                          <a:pt x="0" y="49"/>
                        </a:lnTo>
                        <a:lnTo>
                          <a:pt x="1" y="88"/>
                        </a:lnTo>
                        <a:lnTo>
                          <a:pt x="15" y="118"/>
                        </a:lnTo>
                        <a:lnTo>
                          <a:pt x="15" y="118"/>
                        </a:lnTo>
                        <a:lnTo>
                          <a:pt x="22" y="1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5895000" y="4251600"/>
                    <a:ext cx="223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">
                        <a:moveTo>
                          <a:pt x="55" y="10"/>
                        </a:moveTo>
                        <a:lnTo>
                          <a:pt x="55" y="10"/>
                        </a:lnTo>
                        <a:lnTo>
                          <a:pt x="51" y="10"/>
                        </a:lnTo>
                        <a:lnTo>
                          <a:pt x="45" y="11"/>
                        </a:lnTo>
                        <a:lnTo>
                          <a:pt x="38" y="10"/>
                        </a:lnTo>
                        <a:lnTo>
                          <a:pt x="32" y="9"/>
                        </a:lnTo>
                        <a:lnTo>
                          <a:pt x="24" y="7"/>
                        </a:lnTo>
                        <a:lnTo>
                          <a:pt x="17" y="6"/>
                        </a:lnTo>
                        <a:lnTo>
                          <a:pt x="12" y="2"/>
                        </a:lnTo>
                        <a:lnTo>
                          <a:pt x="7" y="0"/>
                        </a:lnTo>
                        <a:lnTo>
                          <a:pt x="0" y="9"/>
                        </a:lnTo>
                        <a:lnTo>
                          <a:pt x="7" y="14"/>
                        </a:lnTo>
                        <a:lnTo>
                          <a:pt x="15" y="17"/>
                        </a:lnTo>
                        <a:lnTo>
                          <a:pt x="22" y="18"/>
                        </a:lnTo>
                        <a:lnTo>
                          <a:pt x="30" y="21"/>
                        </a:lnTo>
                        <a:lnTo>
                          <a:pt x="38" y="22"/>
                        </a:lnTo>
                        <a:lnTo>
                          <a:pt x="45" y="23"/>
                        </a:lnTo>
                        <a:lnTo>
                          <a:pt x="51" y="24"/>
                        </a:lnTo>
                        <a:lnTo>
                          <a:pt x="55" y="24"/>
                        </a:lnTo>
                        <a:lnTo>
                          <a:pt x="55" y="24"/>
                        </a:lnTo>
                        <a:lnTo>
                          <a:pt x="5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5917320" y="4256640"/>
                    <a:ext cx="12441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88" h="14">
                        <a:moveTo>
                          <a:pt x="2988" y="1"/>
                        </a:moveTo>
                        <a:lnTo>
                          <a:pt x="2988" y="0"/>
                        </a:lnTo>
                        <a:lnTo>
                          <a:pt x="0" y="0"/>
                        </a:lnTo>
                        <a:lnTo>
                          <a:pt x="0" y="14"/>
                        </a:lnTo>
                        <a:lnTo>
                          <a:pt x="2988" y="14"/>
                        </a:lnTo>
                        <a:lnTo>
                          <a:pt x="2988" y="13"/>
                        </a:lnTo>
                        <a:lnTo>
                          <a:pt x="2988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893640" y="4002480"/>
                    <a:ext cx="1954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0" h="79">
                        <a:moveTo>
                          <a:pt x="0" y="0"/>
                        </a:moveTo>
                        <a:lnTo>
                          <a:pt x="455" y="0"/>
                        </a:lnTo>
                        <a:lnTo>
                          <a:pt x="470" y="79"/>
                        </a:lnTo>
                        <a:lnTo>
                          <a:pt x="10" y="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900120" y="4006440"/>
                    <a:ext cx="54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62">
                        <a:moveTo>
                          <a:pt x="0" y="0"/>
                        </a:moveTo>
                        <a:lnTo>
                          <a:pt x="121" y="0"/>
                        </a:lnTo>
                        <a:lnTo>
                          <a:pt x="131" y="62"/>
                        </a:lnTo>
                        <a:lnTo>
                          <a:pt x="7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901920" y="4048200"/>
                    <a:ext cx="2296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347">
                        <a:moveTo>
                          <a:pt x="551" y="324"/>
                        </a:moveTo>
                        <a:lnTo>
                          <a:pt x="551" y="331"/>
                        </a:lnTo>
                        <a:lnTo>
                          <a:pt x="550" y="339"/>
                        </a:lnTo>
                        <a:lnTo>
                          <a:pt x="546" y="345"/>
                        </a:lnTo>
                        <a:lnTo>
                          <a:pt x="542" y="347"/>
                        </a:lnTo>
                        <a:lnTo>
                          <a:pt x="531" y="347"/>
                        </a:lnTo>
                        <a:lnTo>
                          <a:pt x="512" y="347"/>
                        </a:lnTo>
                        <a:lnTo>
                          <a:pt x="485" y="347"/>
                        </a:lnTo>
                        <a:lnTo>
                          <a:pt x="452" y="347"/>
                        </a:lnTo>
                        <a:lnTo>
                          <a:pt x="415" y="347"/>
                        </a:lnTo>
                        <a:lnTo>
                          <a:pt x="374" y="347"/>
                        </a:lnTo>
                        <a:lnTo>
                          <a:pt x="331" y="347"/>
                        </a:lnTo>
                        <a:lnTo>
                          <a:pt x="287" y="347"/>
                        </a:lnTo>
                        <a:lnTo>
                          <a:pt x="245" y="347"/>
                        </a:lnTo>
                        <a:lnTo>
                          <a:pt x="203" y="347"/>
                        </a:lnTo>
                        <a:lnTo>
                          <a:pt x="165" y="347"/>
                        </a:lnTo>
                        <a:lnTo>
                          <a:pt x="132" y="347"/>
                        </a:lnTo>
                        <a:lnTo>
                          <a:pt x="104" y="347"/>
                        </a:lnTo>
                        <a:lnTo>
                          <a:pt x="82" y="347"/>
                        </a:lnTo>
                        <a:lnTo>
                          <a:pt x="71" y="347"/>
                        </a:lnTo>
                        <a:lnTo>
                          <a:pt x="67" y="347"/>
                        </a:lnTo>
                        <a:lnTo>
                          <a:pt x="63" y="346"/>
                        </a:lnTo>
                        <a:lnTo>
                          <a:pt x="58" y="344"/>
                        </a:lnTo>
                        <a:lnTo>
                          <a:pt x="54" y="339"/>
                        </a:lnTo>
                        <a:lnTo>
                          <a:pt x="52" y="333"/>
                        </a:lnTo>
                        <a:lnTo>
                          <a:pt x="50" y="320"/>
                        </a:lnTo>
                        <a:lnTo>
                          <a:pt x="44" y="286"/>
                        </a:lnTo>
                        <a:lnTo>
                          <a:pt x="36" y="241"/>
                        </a:lnTo>
                        <a:lnTo>
                          <a:pt x="27" y="191"/>
                        </a:lnTo>
                        <a:lnTo>
                          <a:pt x="18" y="139"/>
                        </a:lnTo>
                        <a:lnTo>
                          <a:pt x="10" y="94"/>
                        </a:lnTo>
                        <a:lnTo>
                          <a:pt x="3" y="62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1" y="37"/>
                        </a:lnTo>
                        <a:lnTo>
                          <a:pt x="5" y="34"/>
                        </a:lnTo>
                        <a:lnTo>
                          <a:pt x="8" y="33"/>
                        </a:lnTo>
                        <a:lnTo>
                          <a:pt x="14" y="33"/>
                        </a:lnTo>
                        <a:lnTo>
                          <a:pt x="19" y="33"/>
                        </a:lnTo>
                        <a:lnTo>
                          <a:pt x="23" y="34"/>
                        </a:lnTo>
                        <a:lnTo>
                          <a:pt x="25" y="34"/>
                        </a:lnTo>
                        <a:lnTo>
                          <a:pt x="26" y="29"/>
                        </a:lnTo>
                        <a:lnTo>
                          <a:pt x="28" y="20"/>
                        </a:lnTo>
                        <a:lnTo>
                          <a:pt x="30" y="10"/>
                        </a:lnTo>
                        <a:lnTo>
                          <a:pt x="33" y="4"/>
                        </a:lnTo>
                        <a:lnTo>
                          <a:pt x="35" y="2"/>
                        </a:lnTo>
                        <a:lnTo>
                          <a:pt x="36" y="0"/>
                        </a:lnTo>
                        <a:lnTo>
                          <a:pt x="38" y="2"/>
                        </a:lnTo>
                        <a:lnTo>
                          <a:pt x="41" y="2"/>
                        </a:lnTo>
                        <a:lnTo>
                          <a:pt x="44" y="2"/>
                        </a:lnTo>
                        <a:lnTo>
                          <a:pt x="50" y="3"/>
                        </a:lnTo>
                        <a:lnTo>
                          <a:pt x="57" y="3"/>
                        </a:lnTo>
                        <a:lnTo>
                          <a:pt x="67" y="4"/>
                        </a:lnTo>
                        <a:lnTo>
                          <a:pt x="76" y="4"/>
                        </a:lnTo>
                        <a:lnTo>
                          <a:pt x="87" y="5"/>
                        </a:lnTo>
                        <a:lnTo>
                          <a:pt x="95" y="4"/>
                        </a:lnTo>
                        <a:lnTo>
                          <a:pt x="103" y="3"/>
                        </a:lnTo>
                        <a:lnTo>
                          <a:pt x="107" y="2"/>
                        </a:lnTo>
                        <a:lnTo>
                          <a:pt x="111" y="2"/>
                        </a:lnTo>
                        <a:lnTo>
                          <a:pt x="113" y="4"/>
                        </a:lnTo>
                        <a:lnTo>
                          <a:pt x="113" y="6"/>
                        </a:lnTo>
                        <a:lnTo>
                          <a:pt x="114" y="12"/>
                        </a:lnTo>
                        <a:lnTo>
                          <a:pt x="117" y="22"/>
                        </a:lnTo>
                        <a:lnTo>
                          <a:pt x="118" y="32"/>
                        </a:lnTo>
                        <a:lnTo>
                          <a:pt x="119" y="36"/>
                        </a:lnTo>
                        <a:lnTo>
                          <a:pt x="126" y="36"/>
                        </a:lnTo>
                        <a:lnTo>
                          <a:pt x="132" y="36"/>
                        </a:lnTo>
                        <a:lnTo>
                          <a:pt x="136" y="36"/>
                        </a:lnTo>
                        <a:lnTo>
                          <a:pt x="141" y="36"/>
                        </a:lnTo>
                        <a:lnTo>
                          <a:pt x="142" y="36"/>
                        </a:lnTo>
                        <a:lnTo>
                          <a:pt x="143" y="33"/>
                        </a:lnTo>
                        <a:lnTo>
                          <a:pt x="144" y="24"/>
                        </a:lnTo>
                        <a:lnTo>
                          <a:pt x="147" y="13"/>
                        </a:lnTo>
                        <a:lnTo>
                          <a:pt x="149" y="7"/>
                        </a:lnTo>
                        <a:lnTo>
                          <a:pt x="151" y="5"/>
                        </a:lnTo>
                        <a:lnTo>
                          <a:pt x="152" y="4"/>
                        </a:lnTo>
                        <a:lnTo>
                          <a:pt x="155" y="5"/>
                        </a:lnTo>
                        <a:lnTo>
                          <a:pt x="157" y="5"/>
                        </a:lnTo>
                        <a:lnTo>
                          <a:pt x="160" y="5"/>
                        </a:lnTo>
                        <a:lnTo>
                          <a:pt x="166" y="6"/>
                        </a:lnTo>
                        <a:lnTo>
                          <a:pt x="173" y="6"/>
                        </a:lnTo>
                        <a:lnTo>
                          <a:pt x="184" y="7"/>
                        </a:lnTo>
                        <a:lnTo>
                          <a:pt x="193" y="7"/>
                        </a:lnTo>
                        <a:lnTo>
                          <a:pt x="203" y="9"/>
                        </a:lnTo>
                        <a:lnTo>
                          <a:pt x="211" y="7"/>
                        </a:lnTo>
                        <a:lnTo>
                          <a:pt x="219" y="6"/>
                        </a:lnTo>
                        <a:lnTo>
                          <a:pt x="224" y="5"/>
                        </a:lnTo>
                        <a:lnTo>
                          <a:pt x="226" y="5"/>
                        </a:lnTo>
                        <a:lnTo>
                          <a:pt x="228" y="7"/>
                        </a:lnTo>
                        <a:lnTo>
                          <a:pt x="230" y="10"/>
                        </a:lnTo>
                        <a:lnTo>
                          <a:pt x="231" y="15"/>
                        </a:lnTo>
                        <a:lnTo>
                          <a:pt x="232" y="25"/>
                        </a:lnTo>
                        <a:lnTo>
                          <a:pt x="234" y="33"/>
                        </a:lnTo>
                        <a:lnTo>
                          <a:pt x="234" y="36"/>
                        </a:lnTo>
                        <a:lnTo>
                          <a:pt x="245" y="36"/>
                        </a:lnTo>
                        <a:lnTo>
                          <a:pt x="249" y="36"/>
                        </a:lnTo>
                        <a:lnTo>
                          <a:pt x="255" y="36"/>
                        </a:lnTo>
                        <a:lnTo>
                          <a:pt x="260" y="36"/>
                        </a:lnTo>
                        <a:lnTo>
                          <a:pt x="261" y="36"/>
                        </a:lnTo>
                        <a:lnTo>
                          <a:pt x="262" y="33"/>
                        </a:lnTo>
                        <a:lnTo>
                          <a:pt x="263" y="25"/>
                        </a:lnTo>
                        <a:lnTo>
                          <a:pt x="265" y="17"/>
                        </a:lnTo>
                        <a:lnTo>
                          <a:pt x="268" y="11"/>
                        </a:lnTo>
                        <a:lnTo>
                          <a:pt x="270" y="9"/>
                        </a:lnTo>
                        <a:lnTo>
                          <a:pt x="272" y="7"/>
                        </a:lnTo>
                        <a:lnTo>
                          <a:pt x="273" y="9"/>
                        </a:lnTo>
                        <a:lnTo>
                          <a:pt x="276" y="9"/>
                        </a:lnTo>
                        <a:lnTo>
                          <a:pt x="279" y="9"/>
                        </a:lnTo>
                        <a:lnTo>
                          <a:pt x="285" y="10"/>
                        </a:lnTo>
                        <a:lnTo>
                          <a:pt x="293" y="10"/>
                        </a:lnTo>
                        <a:lnTo>
                          <a:pt x="302" y="11"/>
                        </a:lnTo>
                        <a:lnTo>
                          <a:pt x="311" y="11"/>
                        </a:lnTo>
                        <a:lnTo>
                          <a:pt x="322" y="12"/>
                        </a:lnTo>
                        <a:lnTo>
                          <a:pt x="331" y="11"/>
                        </a:lnTo>
                        <a:lnTo>
                          <a:pt x="339" y="10"/>
                        </a:lnTo>
                        <a:lnTo>
                          <a:pt x="344" y="9"/>
                        </a:lnTo>
                        <a:lnTo>
                          <a:pt x="346" y="9"/>
                        </a:lnTo>
                        <a:lnTo>
                          <a:pt x="348" y="11"/>
                        </a:lnTo>
                        <a:lnTo>
                          <a:pt x="348" y="13"/>
                        </a:lnTo>
                        <a:lnTo>
                          <a:pt x="349" y="19"/>
                        </a:lnTo>
                        <a:lnTo>
                          <a:pt x="351" y="26"/>
                        </a:lnTo>
                        <a:lnTo>
                          <a:pt x="353" y="33"/>
                        </a:lnTo>
                        <a:lnTo>
                          <a:pt x="353" y="36"/>
                        </a:lnTo>
                        <a:lnTo>
                          <a:pt x="364" y="36"/>
                        </a:lnTo>
                        <a:lnTo>
                          <a:pt x="369" y="36"/>
                        </a:lnTo>
                        <a:lnTo>
                          <a:pt x="374" y="36"/>
                        </a:lnTo>
                        <a:lnTo>
                          <a:pt x="377" y="36"/>
                        </a:lnTo>
                        <a:lnTo>
                          <a:pt x="378" y="36"/>
                        </a:lnTo>
                        <a:lnTo>
                          <a:pt x="378" y="33"/>
                        </a:lnTo>
                        <a:lnTo>
                          <a:pt x="379" y="25"/>
                        </a:lnTo>
                        <a:lnTo>
                          <a:pt x="382" y="17"/>
                        </a:lnTo>
                        <a:lnTo>
                          <a:pt x="383" y="11"/>
                        </a:lnTo>
                        <a:lnTo>
                          <a:pt x="385" y="9"/>
                        </a:lnTo>
                        <a:lnTo>
                          <a:pt x="387" y="7"/>
                        </a:lnTo>
                        <a:lnTo>
                          <a:pt x="389" y="9"/>
                        </a:lnTo>
                        <a:lnTo>
                          <a:pt x="391" y="9"/>
                        </a:lnTo>
                        <a:lnTo>
                          <a:pt x="394" y="9"/>
                        </a:lnTo>
                        <a:lnTo>
                          <a:pt x="400" y="10"/>
                        </a:lnTo>
                        <a:lnTo>
                          <a:pt x="408" y="10"/>
                        </a:lnTo>
                        <a:lnTo>
                          <a:pt x="417" y="10"/>
                        </a:lnTo>
                        <a:lnTo>
                          <a:pt x="428" y="11"/>
                        </a:lnTo>
                        <a:lnTo>
                          <a:pt x="438" y="11"/>
                        </a:lnTo>
                        <a:lnTo>
                          <a:pt x="447" y="10"/>
                        </a:lnTo>
                        <a:lnTo>
                          <a:pt x="455" y="9"/>
                        </a:lnTo>
                        <a:lnTo>
                          <a:pt x="460" y="7"/>
                        </a:lnTo>
                        <a:lnTo>
                          <a:pt x="462" y="7"/>
                        </a:lnTo>
                        <a:lnTo>
                          <a:pt x="465" y="10"/>
                        </a:lnTo>
                        <a:lnTo>
                          <a:pt x="465" y="12"/>
                        </a:lnTo>
                        <a:lnTo>
                          <a:pt x="466" y="18"/>
                        </a:lnTo>
                        <a:lnTo>
                          <a:pt x="468" y="26"/>
                        </a:lnTo>
                        <a:lnTo>
                          <a:pt x="470" y="33"/>
                        </a:lnTo>
                        <a:lnTo>
                          <a:pt x="472" y="36"/>
                        </a:lnTo>
                        <a:lnTo>
                          <a:pt x="475" y="36"/>
                        </a:lnTo>
                        <a:lnTo>
                          <a:pt x="478" y="36"/>
                        </a:lnTo>
                        <a:lnTo>
                          <a:pt x="482" y="36"/>
                        </a:lnTo>
                        <a:lnTo>
                          <a:pt x="483" y="36"/>
                        </a:lnTo>
                        <a:lnTo>
                          <a:pt x="484" y="37"/>
                        </a:lnTo>
                        <a:lnTo>
                          <a:pt x="487" y="40"/>
                        </a:lnTo>
                        <a:lnTo>
                          <a:pt x="488" y="41"/>
                        </a:lnTo>
                        <a:lnTo>
                          <a:pt x="488" y="43"/>
                        </a:lnTo>
                        <a:lnTo>
                          <a:pt x="491" y="56"/>
                        </a:lnTo>
                        <a:lnTo>
                          <a:pt x="498" y="88"/>
                        </a:lnTo>
                        <a:lnTo>
                          <a:pt x="508" y="133"/>
                        </a:lnTo>
                        <a:lnTo>
                          <a:pt x="520" y="185"/>
                        </a:lnTo>
                        <a:lnTo>
                          <a:pt x="531" y="236"/>
                        </a:lnTo>
                        <a:lnTo>
                          <a:pt x="542" y="280"/>
                        </a:lnTo>
                        <a:lnTo>
                          <a:pt x="549" y="313"/>
                        </a:lnTo>
                        <a:lnTo>
                          <a:pt x="551" y="3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5956560" y="4046400"/>
                    <a:ext cx="774360" cy="145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8" h="350">
                        <a:moveTo>
                          <a:pt x="1550" y="350"/>
                        </a:moveTo>
                        <a:lnTo>
                          <a:pt x="1548" y="286"/>
                        </a:lnTo>
                        <a:lnTo>
                          <a:pt x="1652" y="287"/>
                        </a:lnTo>
                        <a:lnTo>
                          <a:pt x="1656" y="350"/>
                        </a:lnTo>
                        <a:lnTo>
                          <a:pt x="1675" y="350"/>
                        </a:lnTo>
                        <a:lnTo>
                          <a:pt x="1693" y="350"/>
                        </a:lnTo>
                        <a:lnTo>
                          <a:pt x="1711" y="350"/>
                        </a:lnTo>
                        <a:lnTo>
                          <a:pt x="1728" y="350"/>
                        </a:lnTo>
                        <a:lnTo>
                          <a:pt x="1744" y="350"/>
                        </a:lnTo>
                        <a:lnTo>
                          <a:pt x="1759" y="350"/>
                        </a:lnTo>
                        <a:lnTo>
                          <a:pt x="1774" y="350"/>
                        </a:lnTo>
                        <a:lnTo>
                          <a:pt x="1788" y="350"/>
                        </a:lnTo>
                        <a:lnTo>
                          <a:pt x="1800" y="350"/>
                        </a:lnTo>
                        <a:lnTo>
                          <a:pt x="1811" y="350"/>
                        </a:lnTo>
                        <a:lnTo>
                          <a:pt x="1821" y="350"/>
                        </a:lnTo>
                        <a:lnTo>
                          <a:pt x="1829" y="350"/>
                        </a:lnTo>
                        <a:lnTo>
                          <a:pt x="1837" y="350"/>
                        </a:lnTo>
                        <a:lnTo>
                          <a:pt x="1842" y="350"/>
                        </a:lnTo>
                        <a:lnTo>
                          <a:pt x="1845" y="350"/>
                        </a:lnTo>
                        <a:lnTo>
                          <a:pt x="1848" y="350"/>
                        </a:lnTo>
                        <a:lnTo>
                          <a:pt x="1853" y="348"/>
                        </a:lnTo>
                        <a:lnTo>
                          <a:pt x="1857" y="344"/>
                        </a:lnTo>
                        <a:lnTo>
                          <a:pt x="1858" y="340"/>
                        </a:lnTo>
                        <a:lnTo>
                          <a:pt x="1858" y="334"/>
                        </a:lnTo>
                        <a:lnTo>
                          <a:pt x="1857" y="322"/>
                        </a:lnTo>
                        <a:lnTo>
                          <a:pt x="1852" y="291"/>
                        </a:lnTo>
                        <a:lnTo>
                          <a:pt x="1847" y="248"/>
                        </a:lnTo>
                        <a:lnTo>
                          <a:pt x="1840" y="198"/>
                        </a:lnTo>
                        <a:lnTo>
                          <a:pt x="1833" y="148"/>
                        </a:lnTo>
                        <a:lnTo>
                          <a:pt x="1827" y="104"/>
                        </a:lnTo>
                        <a:lnTo>
                          <a:pt x="1822" y="72"/>
                        </a:lnTo>
                        <a:lnTo>
                          <a:pt x="1821" y="60"/>
                        </a:lnTo>
                        <a:lnTo>
                          <a:pt x="1820" y="56"/>
                        </a:lnTo>
                        <a:lnTo>
                          <a:pt x="1819" y="52"/>
                        </a:lnTo>
                        <a:lnTo>
                          <a:pt x="1818" y="47"/>
                        </a:lnTo>
                        <a:lnTo>
                          <a:pt x="1817" y="45"/>
                        </a:lnTo>
                        <a:lnTo>
                          <a:pt x="1814" y="45"/>
                        </a:lnTo>
                        <a:lnTo>
                          <a:pt x="1811" y="45"/>
                        </a:lnTo>
                        <a:lnTo>
                          <a:pt x="1807" y="45"/>
                        </a:lnTo>
                        <a:lnTo>
                          <a:pt x="1804" y="45"/>
                        </a:lnTo>
                        <a:lnTo>
                          <a:pt x="1804" y="43"/>
                        </a:lnTo>
                        <a:lnTo>
                          <a:pt x="1802" y="37"/>
                        </a:lnTo>
                        <a:lnTo>
                          <a:pt x="1800" y="30"/>
                        </a:lnTo>
                        <a:lnTo>
                          <a:pt x="1799" y="25"/>
                        </a:lnTo>
                        <a:lnTo>
                          <a:pt x="1798" y="22"/>
                        </a:lnTo>
                        <a:lnTo>
                          <a:pt x="1797" y="19"/>
                        </a:lnTo>
                        <a:lnTo>
                          <a:pt x="1795" y="18"/>
                        </a:lnTo>
                        <a:lnTo>
                          <a:pt x="1790" y="19"/>
                        </a:lnTo>
                        <a:lnTo>
                          <a:pt x="1787" y="19"/>
                        </a:lnTo>
                        <a:lnTo>
                          <a:pt x="1766" y="21"/>
                        </a:lnTo>
                        <a:lnTo>
                          <a:pt x="1742" y="21"/>
                        </a:lnTo>
                        <a:lnTo>
                          <a:pt x="1714" y="21"/>
                        </a:lnTo>
                        <a:lnTo>
                          <a:pt x="1686" y="19"/>
                        </a:lnTo>
                        <a:lnTo>
                          <a:pt x="1660" y="19"/>
                        </a:lnTo>
                        <a:lnTo>
                          <a:pt x="1637" y="18"/>
                        </a:lnTo>
                        <a:lnTo>
                          <a:pt x="1620" y="17"/>
                        </a:lnTo>
                        <a:lnTo>
                          <a:pt x="1609" y="17"/>
                        </a:lnTo>
                        <a:lnTo>
                          <a:pt x="1609" y="17"/>
                        </a:lnTo>
                        <a:lnTo>
                          <a:pt x="1607" y="16"/>
                        </a:lnTo>
                        <a:lnTo>
                          <a:pt x="1602" y="17"/>
                        </a:lnTo>
                        <a:lnTo>
                          <a:pt x="1600" y="19"/>
                        </a:lnTo>
                        <a:lnTo>
                          <a:pt x="1598" y="25"/>
                        </a:lnTo>
                        <a:lnTo>
                          <a:pt x="1595" y="36"/>
                        </a:lnTo>
                        <a:lnTo>
                          <a:pt x="1594" y="45"/>
                        </a:lnTo>
                        <a:lnTo>
                          <a:pt x="1593" y="49"/>
                        </a:lnTo>
                        <a:lnTo>
                          <a:pt x="1592" y="49"/>
                        </a:lnTo>
                        <a:lnTo>
                          <a:pt x="1591" y="51"/>
                        </a:lnTo>
                        <a:lnTo>
                          <a:pt x="1587" y="52"/>
                        </a:lnTo>
                        <a:lnTo>
                          <a:pt x="1583" y="52"/>
                        </a:lnTo>
                        <a:lnTo>
                          <a:pt x="1574" y="51"/>
                        </a:lnTo>
                        <a:lnTo>
                          <a:pt x="1572" y="46"/>
                        </a:lnTo>
                        <a:lnTo>
                          <a:pt x="1571" y="37"/>
                        </a:lnTo>
                        <a:lnTo>
                          <a:pt x="1569" y="26"/>
                        </a:lnTo>
                        <a:lnTo>
                          <a:pt x="1568" y="19"/>
                        </a:lnTo>
                        <a:lnTo>
                          <a:pt x="1567" y="17"/>
                        </a:lnTo>
                        <a:lnTo>
                          <a:pt x="1564" y="16"/>
                        </a:lnTo>
                        <a:lnTo>
                          <a:pt x="1562" y="16"/>
                        </a:lnTo>
                        <a:lnTo>
                          <a:pt x="1557" y="16"/>
                        </a:lnTo>
                        <a:lnTo>
                          <a:pt x="1549" y="17"/>
                        </a:lnTo>
                        <a:lnTo>
                          <a:pt x="1539" y="18"/>
                        </a:lnTo>
                        <a:lnTo>
                          <a:pt x="1529" y="18"/>
                        </a:lnTo>
                        <a:lnTo>
                          <a:pt x="1518" y="17"/>
                        </a:lnTo>
                        <a:lnTo>
                          <a:pt x="1509" y="17"/>
                        </a:lnTo>
                        <a:lnTo>
                          <a:pt x="1501" y="17"/>
                        </a:lnTo>
                        <a:lnTo>
                          <a:pt x="1495" y="16"/>
                        </a:lnTo>
                        <a:lnTo>
                          <a:pt x="1492" y="16"/>
                        </a:lnTo>
                        <a:lnTo>
                          <a:pt x="1489" y="16"/>
                        </a:lnTo>
                        <a:lnTo>
                          <a:pt x="1487" y="15"/>
                        </a:lnTo>
                        <a:lnTo>
                          <a:pt x="1485" y="16"/>
                        </a:lnTo>
                        <a:lnTo>
                          <a:pt x="1482" y="18"/>
                        </a:lnTo>
                        <a:lnTo>
                          <a:pt x="1480" y="24"/>
                        </a:lnTo>
                        <a:lnTo>
                          <a:pt x="1478" y="34"/>
                        </a:lnTo>
                        <a:lnTo>
                          <a:pt x="1476" y="44"/>
                        </a:lnTo>
                        <a:lnTo>
                          <a:pt x="1474" y="48"/>
                        </a:lnTo>
                        <a:lnTo>
                          <a:pt x="1473" y="48"/>
                        </a:lnTo>
                        <a:lnTo>
                          <a:pt x="1472" y="49"/>
                        </a:lnTo>
                        <a:lnTo>
                          <a:pt x="1469" y="51"/>
                        </a:lnTo>
                        <a:lnTo>
                          <a:pt x="1464" y="51"/>
                        </a:lnTo>
                        <a:lnTo>
                          <a:pt x="1459" y="48"/>
                        </a:lnTo>
                        <a:lnTo>
                          <a:pt x="1458" y="44"/>
                        </a:lnTo>
                        <a:lnTo>
                          <a:pt x="1456" y="34"/>
                        </a:lnTo>
                        <a:lnTo>
                          <a:pt x="1454" y="24"/>
                        </a:lnTo>
                        <a:lnTo>
                          <a:pt x="1453" y="17"/>
                        </a:lnTo>
                        <a:lnTo>
                          <a:pt x="1453" y="15"/>
                        </a:lnTo>
                        <a:lnTo>
                          <a:pt x="1450" y="14"/>
                        </a:lnTo>
                        <a:lnTo>
                          <a:pt x="1448" y="14"/>
                        </a:lnTo>
                        <a:lnTo>
                          <a:pt x="1443" y="15"/>
                        </a:lnTo>
                        <a:lnTo>
                          <a:pt x="1435" y="16"/>
                        </a:lnTo>
                        <a:lnTo>
                          <a:pt x="1426" y="17"/>
                        </a:lnTo>
                        <a:lnTo>
                          <a:pt x="1416" y="17"/>
                        </a:lnTo>
                        <a:lnTo>
                          <a:pt x="1405" y="16"/>
                        </a:lnTo>
                        <a:lnTo>
                          <a:pt x="1395" y="16"/>
                        </a:lnTo>
                        <a:lnTo>
                          <a:pt x="1387" y="16"/>
                        </a:lnTo>
                        <a:lnTo>
                          <a:pt x="1381" y="15"/>
                        </a:lnTo>
                        <a:lnTo>
                          <a:pt x="1378" y="15"/>
                        </a:lnTo>
                        <a:lnTo>
                          <a:pt x="1375" y="15"/>
                        </a:lnTo>
                        <a:lnTo>
                          <a:pt x="1374" y="14"/>
                        </a:lnTo>
                        <a:lnTo>
                          <a:pt x="1372" y="15"/>
                        </a:lnTo>
                        <a:lnTo>
                          <a:pt x="1370" y="16"/>
                        </a:lnTo>
                        <a:lnTo>
                          <a:pt x="1367" y="23"/>
                        </a:lnTo>
                        <a:lnTo>
                          <a:pt x="1365" y="32"/>
                        </a:lnTo>
                        <a:lnTo>
                          <a:pt x="1363" y="41"/>
                        </a:lnTo>
                        <a:lnTo>
                          <a:pt x="1362" y="46"/>
                        </a:lnTo>
                        <a:lnTo>
                          <a:pt x="1360" y="46"/>
                        </a:lnTo>
                        <a:lnTo>
                          <a:pt x="1359" y="47"/>
                        </a:lnTo>
                        <a:lnTo>
                          <a:pt x="1356" y="48"/>
                        </a:lnTo>
                        <a:lnTo>
                          <a:pt x="1352" y="48"/>
                        </a:lnTo>
                        <a:lnTo>
                          <a:pt x="1347" y="47"/>
                        </a:lnTo>
                        <a:lnTo>
                          <a:pt x="1345" y="43"/>
                        </a:lnTo>
                        <a:lnTo>
                          <a:pt x="1343" y="33"/>
                        </a:lnTo>
                        <a:lnTo>
                          <a:pt x="1341" y="22"/>
                        </a:lnTo>
                        <a:lnTo>
                          <a:pt x="1340" y="16"/>
                        </a:lnTo>
                        <a:lnTo>
                          <a:pt x="1340" y="14"/>
                        </a:lnTo>
                        <a:lnTo>
                          <a:pt x="1337" y="11"/>
                        </a:lnTo>
                        <a:lnTo>
                          <a:pt x="1334" y="11"/>
                        </a:lnTo>
                        <a:lnTo>
                          <a:pt x="1329" y="13"/>
                        </a:lnTo>
                        <a:lnTo>
                          <a:pt x="1321" y="14"/>
                        </a:lnTo>
                        <a:lnTo>
                          <a:pt x="1312" y="15"/>
                        </a:lnTo>
                        <a:lnTo>
                          <a:pt x="1302" y="15"/>
                        </a:lnTo>
                        <a:lnTo>
                          <a:pt x="1291" y="14"/>
                        </a:lnTo>
                        <a:lnTo>
                          <a:pt x="1281" y="14"/>
                        </a:lnTo>
                        <a:lnTo>
                          <a:pt x="1273" y="14"/>
                        </a:lnTo>
                        <a:lnTo>
                          <a:pt x="1267" y="13"/>
                        </a:lnTo>
                        <a:lnTo>
                          <a:pt x="1264" y="13"/>
                        </a:lnTo>
                        <a:lnTo>
                          <a:pt x="1261" y="13"/>
                        </a:lnTo>
                        <a:lnTo>
                          <a:pt x="1260" y="11"/>
                        </a:lnTo>
                        <a:lnTo>
                          <a:pt x="1258" y="13"/>
                        </a:lnTo>
                        <a:lnTo>
                          <a:pt x="1256" y="15"/>
                        </a:lnTo>
                        <a:lnTo>
                          <a:pt x="1253" y="21"/>
                        </a:lnTo>
                        <a:lnTo>
                          <a:pt x="1251" y="32"/>
                        </a:lnTo>
                        <a:lnTo>
                          <a:pt x="1249" y="41"/>
                        </a:lnTo>
                        <a:lnTo>
                          <a:pt x="1247" y="46"/>
                        </a:lnTo>
                        <a:lnTo>
                          <a:pt x="1246" y="46"/>
                        </a:lnTo>
                        <a:lnTo>
                          <a:pt x="1245" y="47"/>
                        </a:lnTo>
                        <a:lnTo>
                          <a:pt x="1242" y="48"/>
                        </a:lnTo>
                        <a:lnTo>
                          <a:pt x="1237" y="48"/>
                        </a:lnTo>
                        <a:lnTo>
                          <a:pt x="1232" y="46"/>
                        </a:lnTo>
                        <a:lnTo>
                          <a:pt x="1231" y="43"/>
                        </a:lnTo>
                        <a:lnTo>
                          <a:pt x="1229" y="33"/>
                        </a:lnTo>
                        <a:lnTo>
                          <a:pt x="1227" y="23"/>
                        </a:lnTo>
                        <a:lnTo>
                          <a:pt x="1226" y="17"/>
                        </a:lnTo>
                        <a:lnTo>
                          <a:pt x="1224" y="15"/>
                        </a:lnTo>
                        <a:lnTo>
                          <a:pt x="1222" y="13"/>
                        </a:lnTo>
                        <a:lnTo>
                          <a:pt x="1220" y="13"/>
                        </a:lnTo>
                        <a:lnTo>
                          <a:pt x="1215" y="14"/>
                        </a:lnTo>
                        <a:lnTo>
                          <a:pt x="1207" y="15"/>
                        </a:lnTo>
                        <a:lnTo>
                          <a:pt x="1197" y="16"/>
                        </a:lnTo>
                        <a:lnTo>
                          <a:pt x="1186" y="16"/>
                        </a:lnTo>
                        <a:lnTo>
                          <a:pt x="1176" y="15"/>
                        </a:lnTo>
                        <a:lnTo>
                          <a:pt x="1167" y="15"/>
                        </a:lnTo>
                        <a:lnTo>
                          <a:pt x="1159" y="15"/>
                        </a:lnTo>
                        <a:lnTo>
                          <a:pt x="1153" y="14"/>
                        </a:lnTo>
                        <a:lnTo>
                          <a:pt x="1150" y="14"/>
                        </a:lnTo>
                        <a:lnTo>
                          <a:pt x="1147" y="14"/>
                        </a:lnTo>
                        <a:lnTo>
                          <a:pt x="1145" y="13"/>
                        </a:lnTo>
                        <a:lnTo>
                          <a:pt x="1143" y="14"/>
                        </a:lnTo>
                        <a:lnTo>
                          <a:pt x="1140" y="15"/>
                        </a:lnTo>
                        <a:lnTo>
                          <a:pt x="1138" y="22"/>
                        </a:lnTo>
                        <a:lnTo>
                          <a:pt x="1136" y="31"/>
                        </a:lnTo>
                        <a:lnTo>
                          <a:pt x="1135" y="40"/>
                        </a:lnTo>
                        <a:lnTo>
                          <a:pt x="1133" y="44"/>
                        </a:lnTo>
                        <a:lnTo>
                          <a:pt x="1133" y="44"/>
                        </a:lnTo>
                        <a:lnTo>
                          <a:pt x="1131" y="45"/>
                        </a:lnTo>
                        <a:lnTo>
                          <a:pt x="1129" y="46"/>
                        </a:lnTo>
                        <a:lnTo>
                          <a:pt x="1124" y="46"/>
                        </a:lnTo>
                        <a:lnTo>
                          <a:pt x="1122" y="47"/>
                        </a:lnTo>
                        <a:lnTo>
                          <a:pt x="1113" y="46"/>
                        </a:lnTo>
                        <a:lnTo>
                          <a:pt x="1112" y="41"/>
                        </a:lnTo>
                        <a:lnTo>
                          <a:pt x="1109" y="32"/>
                        </a:lnTo>
                        <a:lnTo>
                          <a:pt x="1107" y="22"/>
                        </a:lnTo>
                        <a:lnTo>
                          <a:pt x="1106" y="16"/>
                        </a:lnTo>
                        <a:lnTo>
                          <a:pt x="1105" y="14"/>
                        </a:lnTo>
                        <a:lnTo>
                          <a:pt x="1103" y="11"/>
                        </a:lnTo>
                        <a:lnTo>
                          <a:pt x="1100" y="11"/>
                        </a:lnTo>
                        <a:lnTo>
                          <a:pt x="1095" y="13"/>
                        </a:lnTo>
                        <a:lnTo>
                          <a:pt x="1087" y="14"/>
                        </a:lnTo>
                        <a:lnTo>
                          <a:pt x="1078" y="15"/>
                        </a:lnTo>
                        <a:lnTo>
                          <a:pt x="1068" y="15"/>
                        </a:lnTo>
                        <a:lnTo>
                          <a:pt x="1057" y="14"/>
                        </a:lnTo>
                        <a:lnTo>
                          <a:pt x="1047" y="14"/>
                        </a:lnTo>
                        <a:lnTo>
                          <a:pt x="1039" y="14"/>
                        </a:lnTo>
                        <a:lnTo>
                          <a:pt x="1033" y="13"/>
                        </a:lnTo>
                        <a:lnTo>
                          <a:pt x="1030" y="13"/>
                        </a:lnTo>
                        <a:lnTo>
                          <a:pt x="1027" y="13"/>
                        </a:lnTo>
                        <a:lnTo>
                          <a:pt x="1025" y="11"/>
                        </a:lnTo>
                        <a:lnTo>
                          <a:pt x="1024" y="13"/>
                        </a:lnTo>
                        <a:lnTo>
                          <a:pt x="1022" y="14"/>
                        </a:lnTo>
                        <a:lnTo>
                          <a:pt x="1019" y="19"/>
                        </a:lnTo>
                        <a:lnTo>
                          <a:pt x="1017" y="29"/>
                        </a:lnTo>
                        <a:lnTo>
                          <a:pt x="1015" y="38"/>
                        </a:lnTo>
                        <a:lnTo>
                          <a:pt x="1014" y="41"/>
                        </a:lnTo>
                        <a:lnTo>
                          <a:pt x="1012" y="41"/>
                        </a:lnTo>
                        <a:lnTo>
                          <a:pt x="1010" y="43"/>
                        </a:lnTo>
                        <a:lnTo>
                          <a:pt x="1008" y="44"/>
                        </a:lnTo>
                        <a:lnTo>
                          <a:pt x="1003" y="44"/>
                        </a:lnTo>
                        <a:lnTo>
                          <a:pt x="997" y="43"/>
                        </a:lnTo>
                        <a:lnTo>
                          <a:pt x="996" y="39"/>
                        </a:lnTo>
                        <a:lnTo>
                          <a:pt x="995" y="30"/>
                        </a:lnTo>
                        <a:lnTo>
                          <a:pt x="993" y="21"/>
                        </a:lnTo>
                        <a:lnTo>
                          <a:pt x="992" y="14"/>
                        </a:lnTo>
                        <a:lnTo>
                          <a:pt x="991" y="11"/>
                        </a:lnTo>
                        <a:lnTo>
                          <a:pt x="988" y="9"/>
                        </a:lnTo>
                        <a:lnTo>
                          <a:pt x="985" y="9"/>
                        </a:lnTo>
                        <a:lnTo>
                          <a:pt x="980" y="10"/>
                        </a:lnTo>
                        <a:lnTo>
                          <a:pt x="972" y="11"/>
                        </a:lnTo>
                        <a:lnTo>
                          <a:pt x="963" y="13"/>
                        </a:lnTo>
                        <a:lnTo>
                          <a:pt x="953" y="13"/>
                        </a:lnTo>
                        <a:lnTo>
                          <a:pt x="942" y="11"/>
                        </a:lnTo>
                        <a:lnTo>
                          <a:pt x="933" y="11"/>
                        </a:lnTo>
                        <a:lnTo>
                          <a:pt x="925" y="11"/>
                        </a:lnTo>
                        <a:lnTo>
                          <a:pt x="919" y="10"/>
                        </a:lnTo>
                        <a:lnTo>
                          <a:pt x="916" y="10"/>
                        </a:lnTo>
                        <a:lnTo>
                          <a:pt x="913" y="10"/>
                        </a:lnTo>
                        <a:lnTo>
                          <a:pt x="911" y="9"/>
                        </a:lnTo>
                        <a:lnTo>
                          <a:pt x="909" y="10"/>
                        </a:lnTo>
                        <a:lnTo>
                          <a:pt x="906" y="13"/>
                        </a:lnTo>
                        <a:lnTo>
                          <a:pt x="904" y="18"/>
                        </a:lnTo>
                        <a:lnTo>
                          <a:pt x="902" y="28"/>
                        </a:lnTo>
                        <a:lnTo>
                          <a:pt x="900" y="37"/>
                        </a:lnTo>
                        <a:lnTo>
                          <a:pt x="898" y="40"/>
                        </a:lnTo>
                        <a:lnTo>
                          <a:pt x="897" y="40"/>
                        </a:lnTo>
                        <a:lnTo>
                          <a:pt x="896" y="40"/>
                        </a:lnTo>
                        <a:lnTo>
                          <a:pt x="893" y="41"/>
                        </a:lnTo>
                        <a:lnTo>
                          <a:pt x="889" y="41"/>
                        </a:lnTo>
                        <a:lnTo>
                          <a:pt x="883" y="40"/>
                        </a:lnTo>
                        <a:lnTo>
                          <a:pt x="882" y="37"/>
                        </a:lnTo>
                        <a:lnTo>
                          <a:pt x="881" y="28"/>
                        </a:lnTo>
                        <a:lnTo>
                          <a:pt x="879" y="18"/>
                        </a:lnTo>
                        <a:lnTo>
                          <a:pt x="878" y="13"/>
                        </a:lnTo>
                        <a:lnTo>
                          <a:pt x="877" y="10"/>
                        </a:lnTo>
                        <a:lnTo>
                          <a:pt x="874" y="9"/>
                        </a:lnTo>
                        <a:lnTo>
                          <a:pt x="871" y="9"/>
                        </a:lnTo>
                        <a:lnTo>
                          <a:pt x="866" y="10"/>
                        </a:lnTo>
                        <a:lnTo>
                          <a:pt x="858" y="11"/>
                        </a:lnTo>
                        <a:lnTo>
                          <a:pt x="849" y="13"/>
                        </a:lnTo>
                        <a:lnTo>
                          <a:pt x="838" y="13"/>
                        </a:lnTo>
                        <a:lnTo>
                          <a:pt x="828" y="11"/>
                        </a:lnTo>
                        <a:lnTo>
                          <a:pt x="819" y="11"/>
                        </a:lnTo>
                        <a:lnTo>
                          <a:pt x="811" y="11"/>
                        </a:lnTo>
                        <a:lnTo>
                          <a:pt x="805" y="10"/>
                        </a:lnTo>
                        <a:lnTo>
                          <a:pt x="802" y="10"/>
                        </a:lnTo>
                        <a:lnTo>
                          <a:pt x="799" y="9"/>
                        </a:lnTo>
                        <a:lnTo>
                          <a:pt x="797" y="9"/>
                        </a:lnTo>
                        <a:lnTo>
                          <a:pt x="795" y="9"/>
                        </a:lnTo>
                        <a:lnTo>
                          <a:pt x="792" y="11"/>
                        </a:lnTo>
                        <a:lnTo>
                          <a:pt x="790" y="18"/>
                        </a:lnTo>
                        <a:lnTo>
                          <a:pt x="788" y="28"/>
                        </a:lnTo>
                        <a:lnTo>
                          <a:pt x="787" y="37"/>
                        </a:lnTo>
                        <a:lnTo>
                          <a:pt x="786" y="41"/>
                        </a:lnTo>
                        <a:lnTo>
                          <a:pt x="784" y="41"/>
                        </a:lnTo>
                        <a:lnTo>
                          <a:pt x="782" y="41"/>
                        </a:lnTo>
                        <a:lnTo>
                          <a:pt x="780" y="43"/>
                        </a:lnTo>
                        <a:lnTo>
                          <a:pt x="775" y="43"/>
                        </a:lnTo>
                        <a:lnTo>
                          <a:pt x="769" y="41"/>
                        </a:lnTo>
                        <a:lnTo>
                          <a:pt x="768" y="37"/>
                        </a:lnTo>
                        <a:lnTo>
                          <a:pt x="766" y="28"/>
                        </a:lnTo>
                        <a:lnTo>
                          <a:pt x="764" y="17"/>
                        </a:lnTo>
                        <a:lnTo>
                          <a:pt x="762" y="10"/>
                        </a:lnTo>
                        <a:lnTo>
                          <a:pt x="761" y="8"/>
                        </a:lnTo>
                        <a:lnTo>
                          <a:pt x="760" y="7"/>
                        </a:lnTo>
                        <a:lnTo>
                          <a:pt x="757" y="7"/>
                        </a:lnTo>
                        <a:lnTo>
                          <a:pt x="752" y="7"/>
                        </a:lnTo>
                        <a:lnTo>
                          <a:pt x="744" y="8"/>
                        </a:lnTo>
                        <a:lnTo>
                          <a:pt x="735" y="9"/>
                        </a:lnTo>
                        <a:lnTo>
                          <a:pt x="724" y="9"/>
                        </a:lnTo>
                        <a:lnTo>
                          <a:pt x="714" y="8"/>
                        </a:lnTo>
                        <a:lnTo>
                          <a:pt x="704" y="8"/>
                        </a:lnTo>
                        <a:lnTo>
                          <a:pt x="696" y="8"/>
                        </a:lnTo>
                        <a:lnTo>
                          <a:pt x="690" y="7"/>
                        </a:lnTo>
                        <a:lnTo>
                          <a:pt x="686" y="7"/>
                        </a:lnTo>
                        <a:lnTo>
                          <a:pt x="684" y="7"/>
                        </a:lnTo>
                        <a:lnTo>
                          <a:pt x="683" y="6"/>
                        </a:lnTo>
                        <a:lnTo>
                          <a:pt x="681" y="7"/>
                        </a:lnTo>
                        <a:lnTo>
                          <a:pt x="678" y="9"/>
                        </a:lnTo>
                        <a:lnTo>
                          <a:pt x="676" y="16"/>
                        </a:lnTo>
                        <a:lnTo>
                          <a:pt x="674" y="25"/>
                        </a:lnTo>
                        <a:lnTo>
                          <a:pt x="671" y="34"/>
                        </a:lnTo>
                        <a:lnTo>
                          <a:pt x="670" y="39"/>
                        </a:lnTo>
                        <a:lnTo>
                          <a:pt x="670" y="39"/>
                        </a:lnTo>
                        <a:lnTo>
                          <a:pt x="668" y="40"/>
                        </a:lnTo>
                        <a:lnTo>
                          <a:pt x="666" y="41"/>
                        </a:lnTo>
                        <a:lnTo>
                          <a:pt x="661" y="41"/>
                        </a:lnTo>
                        <a:lnTo>
                          <a:pt x="656" y="41"/>
                        </a:lnTo>
                        <a:lnTo>
                          <a:pt x="647" y="40"/>
                        </a:lnTo>
                        <a:lnTo>
                          <a:pt x="646" y="36"/>
                        </a:lnTo>
                        <a:lnTo>
                          <a:pt x="645" y="26"/>
                        </a:lnTo>
                        <a:lnTo>
                          <a:pt x="643" y="16"/>
                        </a:lnTo>
                        <a:lnTo>
                          <a:pt x="641" y="9"/>
                        </a:lnTo>
                        <a:lnTo>
                          <a:pt x="640" y="7"/>
                        </a:lnTo>
                        <a:lnTo>
                          <a:pt x="638" y="6"/>
                        </a:lnTo>
                        <a:lnTo>
                          <a:pt x="635" y="6"/>
                        </a:lnTo>
                        <a:lnTo>
                          <a:pt x="630" y="6"/>
                        </a:lnTo>
                        <a:lnTo>
                          <a:pt x="622" y="7"/>
                        </a:lnTo>
                        <a:lnTo>
                          <a:pt x="613" y="8"/>
                        </a:lnTo>
                        <a:lnTo>
                          <a:pt x="602" y="8"/>
                        </a:lnTo>
                        <a:lnTo>
                          <a:pt x="592" y="8"/>
                        </a:lnTo>
                        <a:lnTo>
                          <a:pt x="583" y="7"/>
                        </a:lnTo>
                        <a:lnTo>
                          <a:pt x="575" y="7"/>
                        </a:lnTo>
                        <a:lnTo>
                          <a:pt x="569" y="6"/>
                        </a:lnTo>
                        <a:lnTo>
                          <a:pt x="565" y="6"/>
                        </a:lnTo>
                        <a:lnTo>
                          <a:pt x="563" y="6"/>
                        </a:lnTo>
                        <a:lnTo>
                          <a:pt x="561" y="4"/>
                        </a:lnTo>
                        <a:lnTo>
                          <a:pt x="559" y="6"/>
                        </a:lnTo>
                        <a:lnTo>
                          <a:pt x="556" y="8"/>
                        </a:lnTo>
                        <a:lnTo>
                          <a:pt x="554" y="15"/>
                        </a:lnTo>
                        <a:lnTo>
                          <a:pt x="552" y="25"/>
                        </a:lnTo>
                        <a:lnTo>
                          <a:pt x="550" y="34"/>
                        </a:lnTo>
                        <a:lnTo>
                          <a:pt x="549" y="39"/>
                        </a:lnTo>
                        <a:lnTo>
                          <a:pt x="548" y="39"/>
                        </a:lnTo>
                        <a:lnTo>
                          <a:pt x="547" y="39"/>
                        </a:lnTo>
                        <a:lnTo>
                          <a:pt x="544" y="40"/>
                        </a:lnTo>
                        <a:lnTo>
                          <a:pt x="539" y="40"/>
                        </a:lnTo>
                        <a:lnTo>
                          <a:pt x="534" y="39"/>
                        </a:lnTo>
                        <a:lnTo>
                          <a:pt x="533" y="34"/>
                        </a:lnTo>
                        <a:lnTo>
                          <a:pt x="531" y="25"/>
                        </a:lnTo>
                        <a:lnTo>
                          <a:pt x="529" y="15"/>
                        </a:lnTo>
                        <a:lnTo>
                          <a:pt x="526" y="9"/>
                        </a:lnTo>
                        <a:lnTo>
                          <a:pt x="525" y="7"/>
                        </a:lnTo>
                        <a:lnTo>
                          <a:pt x="524" y="4"/>
                        </a:lnTo>
                        <a:lnTo>
                          <a:pt x="521" y="4"/>
                        </a:lnTo>
                        <a:lnTo>
                          <a:pt x="516" y="6"/>
                        </a:lnTo>
                        <a:lnTo>
                          <a:pt x="508" y="7"/>
                        </a:lnTo>
                        <a:lnTo>
                          <a:pt x="499" y="8"/>
                        </a:lnTo>
                        <a:lnTo>
                          <a:pt x="488" y="8"/>
                        </a:lnTo>
                        <a:lnTo>
                          <a:pt x="478" y="7"/>
                        </a:lnTo>
                        <a:lnTo>
                          <a:pt x="468" y="7"/>
                        </a:lnTo>
                        <a:lnTo>
                          <a:pt x="459" y="7"/>
                        </a:lnTo>
                        <a:lnTo>
                          <a:pt x="454" y="6"/>
                        </a:lnTo>
                        <a:lnTo>
                          <a:pt x="450" y="6"/>
                        </a:lnTo>
                        <a:lnTo>
                          <a:pt x="448" y="6"/>
                        </a:lnTo>
                        <a:lnTo>
                          <a:pt x="447" y="4"/>
                        </a:lnTo>
                        <a:lnTo>
                          <a:pt x="444" y="6"/>
                        </a:lnTo>
                        <a:lnTo>
                          <a:pt x="442" y="8"/>
                        </a:lnTo>
                        <a:lnTo>
                          <a:pt x="440" y="14"/>
                        </a:lnTo>
                        <a:lnTo>
                          <a:pt x="438" y="24"/>
                        </a:lnTo>
                        <a:lnTo>
                          <a:pt x="435" y="33"/>
                        </a:lnTo>
                        <a:lnTo>
                          <a:pt x="434" y="38"/>
                        </a:lnTo>
                        <a:lnTo>
                          <a:pt x="433" y="38"/>
                        </a:lnTo>
                        <a:lnTo>
                          <a:pt x="432" y="38"/>
                        </a:lnTo>
                        <a:lnTo>
                          <a:pt x="428" y="39"/>
                        </a:lnTo>
                        <a:lnTo>
                          <a:pt x="425" y="39"/>
                        </a:lnTo>
                        <a:lnTo>
                          <a:pt x="419" y="38"/>
                        </a:lnTo>
                        <a:lnTo>
                          <a:pt x="418" y="33"/>
                        </a:lnTo>
                        <a:lnTo>
                          <a:pt x="416" y="23"/>
                        </a:lnTo>
                        <a:lnTo>
                          <a:pt x="413" y="13"/>
                        </a:lnTo>
                        <a:lnTo>
                          <a:pt x="412" y="6"/>
                        </a:lnTo>
                        <a:lnTo>
                          <a:pt x="411" y="3"/>
                        </a:lnTo>
                        <a:lnTo>
                          <a:pt x="410" y="2"/>
                        </a:lnTo>
                        <a:lnTo>
                          <a:pt x="406" y="1"/>
                        </a:lnTo>
                        <a:lnTo>
                          <a:pt x="402" y="2"/>
                        </a:lnTo>
                        <a:lnTo>
                          <a:pt x="394" y="3"/>
                        </a:lnTo>
                        <a:lnTo>
                          <a:pt x="385" y="4"/>
                        </a:lnTo>
                        <a:lnTo>
                          <a:pt x="374" y="4"/>
                        </a:lnTo>
                        <a:lnTo>
                          <a:pt x="364" y="3"/>
                        </a:lnTo>
                        <a:lnTo>
                          <a:pt x="353" y="3"/>
                        </a:lnTo>
                        <a:lnTo>
                          <a:pt x="345" y="3"/>
                        </a:lnTo>
                        <a:lnTo>
                          <a:pt x="340" y="2"/>
                        </a:lnTo>
                        <a:lnTo>
                          <a:pt x="336" y="2"/>
                        </a:lnTo>
                        <a:lnTo>
                          <a:pt x="334" y="2"/>
                        </a:lnTo>
                        <a:lnTo>
                          <a:pt x="333" y="1"/>
                        </a:lnTo>
                        <a:lnTo>
                          <a:pt x="330" y="2"/>
                        </a:lnTo>
                        <a:lnTo>
                          <a:pt x="328" y="4"/>
                        </a:lnTo>
                        <a:lnTo>
                          <a:pt x="326" y="10"/>
                        </a:lnTo>
                        <a:lnTo>
                          <a:pt x="324" y="22"/>
                        </a:lnTo>
                        <a:lnTo>
                          <a:pt x="321" y="31"/>
                        </a:lnTo>
                        <a:lnTo>
                          <a:pt x="320" y="36"/>
                        </a:lnTo>
                        <a:lnTo>
                          <a:pt x="319" y="36"/>
                        </a:lnTo>
                        <a:lnTo>
                          <a:pt x="318" y="37"/>
                        </a:lnTo>
                        <a:lnTo>
                          <a:pt x="314" y="38"/>
                        </a:lnTo>
                        <a:lnTo>
                          <a:pt x="310" y="38"/>
                        </a:lnTo>
                        <a:lnTo>
                          <a:pt x="305" y="36"/>
                        </a:lnTo>
                        <a:lnTo>
                          <a:pt x="304" y="31"/>
                        </a:lnTo>
                        <a:lnTo>
                          <a:pt x="302" y="22"/>
                        </a:lnTo>
                        <a:lnTo>
                          <a:pt x="299" y="13"/>
                        </a:lnTo>
                        <a:lnTo>
                          <a:pt x="298" y="6"/>
                        </a:lnTo>
                        <a:lnTo>
                          <a:pt x="297" y="3"/>
                        </a:lnTo>
                        <a:lnTo>
                          <a:pt x="295" y="2"/>
                        </a:lnTo>
                        <a:lnTo>
                          <a:pt x="291" y="2"/>
                        </a:lnTo>
                        <a:lnTo>
                          <a:pt x="287" y="2"/>
                        </a:lnTo>
                        <a:lnTo>
                          <a:pt x="279" y="3"/>
                        </a:lnTo>
                        <a:lnTo>
                          <a:pt x="269" y="4"/>
                        </a:lnTo>
                        <a:lnTo>
                          <a:pt x="259" y="4"/>
                        </a:lnTo>
                        <a:lnTo>
                          <a:pt x="249" y="4"/>
                        </a:lnTo>
                        <a:lnTo>
                          <a:pt x="239" y="3"/>
                        </a:lnTo>
                        <a:lnTo>
                          <a:pt x="231" y="3"/>
                        </a:lnTo>
                        <a:lnTo>
                          <a:pt x="226" y="2"/>
                        </a:lnTo>
                        <a:lnTo>
                          <a:pt x="222" y="2"/>
                        </a:lnTo>
                        <a:lnTo>
                          <a:pt x="220" y="2"/>
                        </a:lnTo>
                        <a:lnTo>
                          <a:pt x="218" y="2"/>
                        </a:lnTo>
                        <a:lnTo>
                          <a:pt x="215" y="2"/>
                        </a:lnTo>
                        <a:lnTo>
                          <a:pt x="213" y="4"/>
                        </a:lnTo>
                        <a:lnTo>
                          <a:pt x="211" y="11"/>
                        </a:lnTo>
                        <a:lnTo>
                          <a:pt x="208" y="21"/>
                        </a:lnTo>
                        <a:lnTo>
                          <a:pt x="207" y="30"/>
                        </a:lnTo>
                        <a:lnTo>
                          <a:pt x="206" y="34"/>
                        </a:lnTo>
                        <a:lnTo>
                          <a:pt x="206" y="34"/>
                        </a:lnTo>
                        <a:lnTo>
                          <a:pt x="204" y="36"/>
                        </a:lnTo>
                        <a:lnTo>
                          <a:pt x="201" y="37"/>
                        </a:lnTo>
                        <a:lnTo>
                          <a:pt x="197" y="37"/>
                        </a:lnTo>
                        <a:lnTo>
                          <a:pt x="193" y="37"/>
                        </a:lnTo>
                        <a:lnTo>
                          <a:pt x="188" y="34"/>
                        </a:lnTo>
                        <a:lnTo>
                          <a:pt x="186" y="30"/>
                        </a:lnTo>
                        <a:lnTo>
                          <a:pt x="184" y="21"/>
                        </a:lnTo>
                        <a:lnTo>
                          <a:pt x="182" y="10"/>
                        </a:lnTo>
                        <a:lnTo>
                          <a:pt x="181" y="4"/>
                        </a:lnTo>
                        <a:lnTo>
                          <a:pt x="180" y="2"/>
                        </a:lnTo>
                        <a:lnTo>
                          <a:pt x="177" y="0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2"/>
                        </a:lnTo>
                        <a:lnTo>
                          <a:pt x="153" y="3"/>
                        </a:lnTo>
                        <a:lnTo>
                          <a:pt x="143" y="3"/>
                        </a:lnTo>
                        <a:lnTo>
                          <a:pt x="132" y="2"/>
                        </a:lnTo>
                        <a:lnTo>
                          <a:pt x="122" y="2"/>
                        </a:lnTo>
                        <a:lnTo>
                          <a:pt x="114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2" y="1"/>
                        </a:lnTo>
                        <a:lnTo>
                          <a:pt x="100" y="0"/>
                        </a:lnTo>
                        <a:lnTo>
                          <a:pt x="99" y="1"/>
                        </a:lnTo>
                        <a:lnTo>
                          <a:pt x="97" y="3"/>
                        </a:lnTo>
                        <a:lnTo>
                          <a:pt x="94" y="9"/>
                        </a:lnTo>
                        <a:lnTo>
                          <a:pt x="92" y="21"/>
                        </a:lnTo>
                        <a:lnTo>
                          <a:pt x="90" y="30"/>
                        </a:lnTo>
                        <a:lnTo>
                          <a:pt x="89" y="34"/>
                        </a:lnTo>
                        <a:lnTo>
                          <a:pt x="87" y="34"/>
                        </a:lnTo>
                        <a:lnTo>
                          <a:pt x="86" y="36"/>
                        </a:lnTo>
                        <a:lnTo>
                          <a:pt x="83" y="36"/>
                        </a:lnTo>
                        <a:lnTo>
                          <a:pt x="78" y="37"/>
                        </a:lnTo>
                        <a:lnTo>
                          <a:pt x="72" y="36"/>
                        </a:lnTo>
                        <a:lnTo>
                          <a:pt x="62" y="37"/>
                        </a:lnTo>
                        <a:lnTo>
                          <a:pt x="53" y="43"/>
                        </a:lnTo>
                        <a:lnTo>
                          <a:pt x="46" y="59"/>
                        </a:lnTo>
                        <a:lnTo>
                          <a:pt x="42" y="78"/>
                        </a:lnTo>
                        <a:lnTo>
                          <a:pt x="36" y="113"/>
                        </a:lnTo>
                        <a:lnTo>
                          <a:pt x="29" y="157"/>
                        </a:lnTo>
                        <a:lnTo>
                          <a:pt x="21" y="205"/>
                        </a:lnTo>
                        <a:lnTo>
                          <a:pt x="12" y="251"/>
                        </a:lnTo>
                        <a:lnTo>
                          <a:pt x="6" y="293"/>
                        </a:lnTo>
                        <a:lnTo>
                          <a:pt x="1" y="321"/>
                        </a:lnTo>
                        <a:lnTo>
                          <a:pt x="0" y="334"/>
                        </a:lnTo>
                        <a:lnTo>
                          <a:pt x="0" y="339"/>
                        </a:lnTo>
                        <a:lnTo>
                          <a:pt x="2" y="344"/>
                        </a:lnTo>
                        <a:lnTo>
                          <a:pt x="6" y="349"/>
                        </a:lnTo>
                        <a:lnTo>
                          <a:pt x="11" y="350"/>
                        </a:lnTo>
                        <a:lnTo>
                          <a:pt x="212" y="350"/>
                        </a:lnTo>
                        <a:lnTo>
                          <a:pt x="211" y="326"/>
                        </a:lnTo>
                        <a:lnTo>
                          <a:pt x="209" y="305"/>
                        </a:lnTo>
                        <a:lnTo>
                          <a:pt x="208" y="291"/>
                        </a:lnTo>
                        <a:lnTo>
                          <a:pt x="208" y="286"/>
                        </a:lnTo>
                        <a:lnTo>
                          <a:pt x="310" y="286"/>
                        </a:lnTo>
                        <a:lnTo>
                          <a:pt x="315" y="350"/>
                        </a:lnTo>
                        <a:lnTo>
                          <a:pt x="1550" y="3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38136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334560" y="4050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28740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238800" y="40489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188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14052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093000" y="404748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045840" y="404748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5996520" y="40464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647964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3"/>
                        </a:lnTo>
                        <a:lnTo>
                          <a:pt x="73" y="3"/>
                        </a:lnTo>
                        <a:lnTo>
                          <a:pt x="65" y="4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6" y="37"/>
                        </a:lnTo>
                        <a:lnTo>
                          <a:pt x="6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65271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8">
                        <a:moveTo>
                          <a:pt x="84" y="4"/>
                        </a:moveTo>
                        <a:lnTo>
                          <a:pt x="84" y="4"/>
                        </a:lnTo>
                        <a:lnTo>
                          <a:pt x="83" y="2"/>
                        </a:lnTo>
                        <a:lnTo>
                          <a:pt x="80" y="0"/>
                        </a:lnTo>
                        <a:lnTo>
                          <a:pt x="78" y="0"/>
                        </a:lnTo>
                        <a:lnTo>
                          <a:pt x="73" y="1"/>
                        </a:lnTo>
                        <a:lnTo>
                          <a:pt x="73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1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1" y="36"/>
                        </a:lnTo>
                        <a:lnTo>
                          <a:pt x="77" y="35"/>
                        </a:lnTo>
                        <a:lnTo>
                          <a:pt x="77" y="35"/>
                        </a:lnTo>
                        <a:lnTo>
                          <a:pt x="80" y="34"/>
                        </a:lnTo>
                        <a:lnTo>
                          <a:pt x="83" y="33"/>
                        </a:lnTo>
                        <a:lnTo>
                          <a:pt x="85" y="31"/>
                        </a:lnTo>
                        <a:lnTo>
                          <a:pt x="85" y="27"/>
                        </a:lnTo>
                        <a:lnTo>
                          <a:pt x="85" y="27"/>
                        </a:lnTo>
                        <a:lnTo>
                          <a:pt x="85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65743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5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6432120" y="40521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640116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6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35292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305400" y="407556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258240" y="40741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207480" y="40741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6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6"/>
                        </a:lnTo>
                        <a:lnTo>
                          <a:pt x="80" y="35"/>
                        </a:lnTo>
                        <a:lnTo>
                          <a:pt x="80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159600" y="40730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6112440" y="40723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6063840" y="407160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981760" y="4069800"/>
                    <a:ext cx="66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40">
                        <a:moveTo>
                          <a:pt x="157" y="7"/>
                        </a:moveTo>
                        <a:lnTo>
                          <a:pt x="157" y="7"/>
                        </a:lnTo>
                        <a:lnTo>
                          <a:pt x="155" y="5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4" y="5"/>
                        </a:lnTo>
                        <a:lnTo>
                          <a:pt x="85" y="4"/>
                        </a:lnTo>
                        <a:lnTo>
                          <a:pt x="66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1" y="1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9" y="40"/>
                        </a:lnTo>
                        <a:lnTo>
                          <a:pt x="118" y="40"/>
                        </a:lnTo>
                        <a:lnTo>
                          <a:pt x="136" y="40"/>
                        </a:lnTo>
                        <a:lnTo>
                          <a:pt x="146" y="38"/>
                        </a:lnTo>
                        <a:lnTo>
                          <a:pt x="146" y="38"/>
                        </a:lnTo>
                        <a:lnTo>
                          <a:pt x="152" y="37"/>
                        </a:lnTo>
                        <a:lnTo>
                          <a:pt x="157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5"/>
                        </a:lnTo>
                        <a:lnTo>
                          <a:pt x="160" y="16"/>
                        </a:lnTo>
                        <a:lnTo>
                          <a:pt x="157" y="11"/>
                        </a:lnTo>
                        <a:lnTo>
                          <a:pt x="15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499440" y="4076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546960" y="40773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6593760" y="4078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6450480" y="407736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6456960" y="41090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3" y="34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408000" y="41090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3"/>
                        </a:moveTo>
                        <a:lnTo>
                          <a:pt x="86" y="3"/>
                        </a:lnTo>
                        <a:lnTo>
                          <a:pt x="85" y="1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4" y="37"/>
                        </a:lnTo>
                        <a:lnTo>
                          <a:pt x="74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7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2"/>
                        </a:lnTo>
                        <a:lnTo>
                          <a:pt x="87" y="14"/>
                        </a:lnTo>
                        <a:lnTo>
                          <a:pt x="86" y="7"/>
                        </a:lnTo>
                        <a:lnTo>
                          <a:pt x="86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360480" y="410832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312960" y="41072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262920" y="41072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6214680" y="4105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67160" y="4105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30" y="36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6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1"/>
                        </a:lnTo>
                        <a:lnTo>
                          <a:pt x="86" y="13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6120000" y="4104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4"/>
                        </a:lnTo>
                        <a:lnTo>
                          <a:pt x="37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5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5"/>
                        </a:lnTo>
                        <a:lnTo>
                          <a:pt x="86" y="34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070680" y="4104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1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5" y="2"/>
                        </a:lnTo>
                        <a:lnTo>
                          <a:pt x="17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7"/>
                        </a:lnTo>
                        <a:lnTo>
                          <a:pt x="53" y="38"/>
                        </a:lnTo>
                        <a:lnTo>
                          <a:pt x="63" y="37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2"/>
                        </a:lnTo>
                        <a:lnTo>
                          <a:pt x="86" y="30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2"/>
                        </a:lnTo>
                        <a:lnTo>
                          <a:pt x="86" y="14"/>
                        </a:lnTo>
                        <a:lnTo>
                          <a:pt x="85" y="7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555600" y="410976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3" y="2"/>
                        </a:lnTo>
                        <a:lnTo>
                          <a:pt x="81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5" y="3"/>
                        </a:lnTo>
                        <a:lnTo>
                          <a:pt x="35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8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29" y="37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3" y="33"/>
                        </a:lnTo>
                        <a:lnTo>
                          <a:pt x="86" y="31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602040" y="41108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3"/>
                        </a:lnTo>
                        <a:lnTo>
                          <a:pt x="27" y="3"/>
                        </a:lnTo>
                        <a:lnTo>
                          <a:pt x="19" y="3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647760" y="411084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39">
                        <a:moveTo>
                          <a:pt x="158" y="6"/>
                        </a:moveTo>
                        <a:lnTo>
                          <a:pt x="158" y="6"/>
                        </a:lnTo>
                        <a:lnTo>
                          <a:pt x="155" y="4"/>
                        </a:lnTo>
                        <a:lnTo>
                          <a:pt x="152" y="3"/>
                        </a:lnTo>
                        <a:lnTo>
                          <a:pt x="146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6" y="5"/>
                        </a:lnTo>
                        <a:lnTo>
                          <a:pt x="86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3" y="3"/>
                        </a:lnTo>
                        <a:lnTo>
                          <a:pt x="23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8" y="37"/>
                        </a:lnTo>
                        <a:lnTo>
                          <a:pt x="56" y="38"/>
                        </a:lnTo>
                        <a:lnTo>
                          <a:pt x="78" y="38"/>
                        </a:lnTo>
                        <a:lnTo>
                          <a:pt x="99" y="39"/>
                        </a:lnTo>
                        <a:lnTo>
                          <a:pt x="120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3" y="36"/>
                        </a:lnTo>
                        <a:lnTo>
                          <a:pt x="158" y="35"/>
                        </a:lnTo>
                        <a:lnTo>
                          <a:pt x="160" y="33"/>
                        </a:lnTo>
                        <a:lnTo>
                          <a:pt x="161" y="30"/>
                        </a:lnTo>
                        <a:lnTo>
                          <a:pt x="161" y="30"/>
                        </a:lnTo>
                        <a:lnTo>
                          <a:pt x="161" y="24"/>
                        </a:lnTo>
                        <a:lnTo>
                          <a:pt x="160" y="16"/>
                        </a:lnTo>
                        <a:lnTo>
                          <a:pt x="158" y="9"/>
                        </a:lnTo>
                        <a:lnTo>
                          <a:pt x="158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505200" y="41108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6427800" y="413496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7" y="31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379560" y="41338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6332040" y="41331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284880" y="41324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7" y="4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23412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5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186240" y="413136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7" y="4"/>
                        </a:moveTo>
                        <a:lnTo>
                          <a:pt x="87" y="4"/>
                        </a:lnTo>
                        <a:lnTo>
                          <a:pt x="86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9" y="36"/>
                        </a:lnTo>
                        <a:lnTo>
                          <a:pt x="9" y="36"/>
                        </a:lnTo>
                        <a:lnTo>
                          <a:pt x="13" y="36"/>
                        </a:lnTo>
                        <a:lnTo>
                          <a:pt x="21" y="37"/>
                        </a:lnTo>
                        <a:lnTo>
                          <a:pt x="32" y="37"/>
                        </a:lnTo>
                        <a:lnTo>
                          <a:pt x="43" y="38"/>
                        </a:lnTo>
                        <a:lnTo>
                          <a:pt x="55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8" y="15"/>
                        </a:lnTo>
                        <a:lnTo>
                          <a:pt x="87" y="8"/>
                        </a:lnTo>
                        <a:lnTo>
                          <a:pt x="87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139080" y="41306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1" y="0"/>
                        </a:lnTo>
                        <a:lnTo>
                          <a:pt x="78" y="0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4"/>
                        </a:lnTo>
                        <a:lnTo>
                          <a:pt x="35" y="3"/>
                        </a:lnTo>
                        <a:lnTo>
                          <a:pt x="25" y="3"/>
                        </a:lnTo>
                        <a:lnTo>
                          <a:pt x="17" y="3"/>
                        </a:lnTo>
                        <a:lnTo>
                          <a:pt x="11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1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6" y="28"/>
                        </a:lnTo>
                        <a:lnTo>
                          <a:pt x="86" y="24"/>
                        </a:lnTo>
                        <a:lnTo>
                          <a:pt x="86" y="15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6091560" y="4129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4"/>
                        </a:lnTo>
                        <a:lnTo>
                          <a:pt x="46" y="4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2" y="32"/>
                        </a:lnTo>
                        <a:lnTo>
                          <a:pt x="3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5969880" y="4128120"/>
                    <a:ext cx="1047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41">
                        <a:moveTo>
                          <a:pt x="246" y="8"/>
                        </a:moveTo>
                        <a:lnTo>
                          <a:pt x="246" y="8"/>
                        </a:lnTo>
                        <a:lnTo>
                          <a:pt x="243" y="5"/>
                        </a:lnTo>
                        <a:lnTo>
                          <a:pt x="238" y="4"/>
                        </a:lnTo>
                        <a:lnTo>
                          <a:pt x="229" y="4"/>
                        </a:lnTo>
                        <a:lnTo>
                          <a:pt x="215" y="4"/>
                        </a:lnTo>
                        <a:lnTo>
                          <a:pt x="215" y="4"/>
                        </a:lnTo>
                        <a:lnTo>
                          <a:pt x="205" y="4"/>
                        </a:lnTo>
                        <a:lnTo>
                          <a:pt x="192" y="5"/>
                        </a:lnTo>
                        <a:lnTo>
                          <a:pt x="178" y="5"/>
                        </a:lnTo>
                        <a:lnTo>
                          <a:pt x="165" y="5"/>
                        </a:lnTo>
                        <a:lnTo>
                          <a:pt x="150" y="5"/>
                        </a:lnTo>
                        <a:lnTo>
                          <a:pt x="135" y="4"/>
                        </a:lnTo>
                        <a:lnTo>
                          <a:pt x="119" y="4"/>
                        </a:lnTo>
                        <a:lnTo>
                          <a:pt x="104" y="4"/>
                        </a:lnTo>
                        <a:lnTo>
                          <a:pt x="90" y="3"/>
                        </a:lnTo>
                        <a:lnTo>
                          <a:pt x="76" y="3"/>
                        </a:lnTo>
                        <a:lnTo>
                          <a:pt x="63" y="2"/>
                        </a:lnTo>
                        <a:lnTo>
                          <a:pt x="52" y="2"/>
                        </a:lnTo>
                        <a:lnTo>
                          <a:pt x="43" y="2"/>
                        </a:lnTo>
                        <a:lnTo>
                          <a:pt x="34" y="1"/>
                        </a:lnTo>
                        <a:lnTo>
                          <a:pt x="30" y="1"/>
                        </a:lnTo>
                        <a:lnTo>
                          <a:pt x="26" y="1"/>
                        </a:lnTo>
                        <a:lnTo>
                          <a:pt x="26" y="1"/>
                        </a:lnTo>
                        <a:lnTo>
                          <a:pt x="18" y="0"/>
                        </a:lnTo>
                        <a:lnTo>
                          <a:pt x="10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5" y="30"/>
                        </a:lnTo>
                        <a:lnTo>
                          <a:pt x="8" y="32"/>
                        </a:lnTo>
                        <a:lnTo>
                          <a:pt x="13" y="34"/>
                        </a:lnTo>
                        <a:lnTo>
                          <a:pt x="23" y="35"/>
                        </a:lnTo>
                        <a:lnTo>
                          <a:pt x="23" y="35"/>
                        </a:lnTo>
                        <a:lnTo>
                          <a:pt x="28" y="35"/>
                        </a:lnTo>
                        <a:lnTo>
                          <a:pt x="36" y="37"/>
                        </a:lnTo>
                        <a:lnTo>
                          <a:pt x="46" y="37"/>
                        </a:lnTo>
                        <a:lnTo>
                          <a:pt x="59" y="37"/>
                        </a:lnTo>
                        <a:lnTo>
                          <a:pt x="72" y="38"/>
                        </a:lnTo>
                        <a:lnTo>
                          <a:pt x="89" y="38"/>
                        </a:lnTo>
                        <a:lnTo>
                          <a:pt x="105" y="39"/>
                        </a:lnTo>
                        <a:lnTo>
                          <a:pt x="121" y="39"/>
                        </a:lnTo>
                        <a:lnTo>
                          <a:pt x="138" y="40"/>
                        </a:lnTo>
                        <a:lnTo>
                          <a:pt x="155" y="40"/>
                        </a:lnTo>
                        <a:lnTo>
                          <a:pt x="172" y="41"/>
                        </a:lnTo>
                        <a:lnTo>
                          <a:pt x="187" y="41"/>
                        </a:lnTo>
                        <a:lnTo>
                          <a:pt x="200" y="41"/>
                        </a:lnTo>
                        <a:lnTo>
                          <a:pt x="212" y="41"/>
                        </a:lnTo>
                        <a:lnTo>
                          <a:pt x="222" y="40"/>
                        </a:lnTo>
                        <a:lnTo>
                          <a:pt x="229" y="40"/>
                        </a:lnTo>
                        <a:lnTo>
                          <a:pt x="229" y="40"/>
                        </a:lnTo>
                        <a:lnTo>
                          <a:pt x="240" y="39"/>
                        </a:lnTo>
                        <a:lnTo>
                          <a:pt x="246" y="37"/>
                        </a:lnTo>
                        <a:lnTo>
                          <a:pt x="251" y="34"/>
                        </a:lnTo>
                        <a:lnTo>
                          <a:pt x="252" y="32"/>
                        </a:lnTo>
                        <a:lnTo>
                          <a:pt x="252" y="32"/>
                        </a:lnTo>
                        <a:lnTo>
                          <a:pt x="251" y="26"/>
                        </a:lnTo>
                        <a:lnTo>
                          <a:pt x="250" y="18"/>
                        </a:lnTo>
                        <a:lnTo>
                          <a:pt x="248" y="11"/>
                        </a:lnTo>
                        <a:lnTo>
                          <a:pt x="246" y="8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6526080" y="4134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7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573600" y="413568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2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2"/>
                        </a:lnTo>
                        <a:lnTo>
                          <a:pt x="4" y="35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6623640" y="4136400"/>
                    <a:ext cx="972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42">
                        <a:moveTo>
                          <a:pt x="229" y="10"/>
                        </a:moveTo>
                        <a:lnTo>
                          <a:pt x="229" y="10"/>
                        </a:lnTo>
                        <a:lnTo>
                          <a:pt x="226" y="7"/>
                        </a:lnTo>
                        <a:lnTo>
                          <a:pt x="221" y="5"/>
                        </a:lnTo>
                        <a:lnTo>
                          <a:pt x="212" y="5"/>
                        </a:lnTo>
                        <a:lnTo>
                          <a:pt x="199" y="5"/>
                        </a:lnTo>
                        <a:lnTo>
                          <a:pt x="199" y="5"/>
                        </a:lnTo>
                        <a:lnTo>
                          <a:pt x="177" y="6"/>
                        </a:lnTo>
                        <a:lnTo>
                          <a:pt x="152" y="6"/>
                        </a:lnTo>
                        <a:lnTo>
                          <a:pt x="124" y="5"/>
                        </a:lnTo>
                        <a:lnTo>
                          <a:pt x="97" y="5"/>
                        </a:lnTo>
                        <a:lnTo>
                          <a:pt x="70" y="4"/>
                        </a:lnTo>
                        <a:lnTo>
                          <a:pt x="48" y="3"/>
                        </a:lnTo>
                        <a:lnTo>
                          <a:pt x="32" y="2"/>
                        </a:lnTo>
                        <a:lnTo>
                          <a:pt x="24" y="2"/>
                        </a:lnTo>
                        <a:lnTo>
                          <a:pt x="24" y="2"/>
                        </a:lnTo>
                        <a:lnTo>
                          <a:pt x="17" y="2"/>
                        </a:lnTo>
                        <a:lnTo>
                          <a:pt x="9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7" y="34"/>
                        </a:lnTo>
                        <a:lnTo>
                          <a:pt x="12" y="35"/>
                        </a:lnTo>
                        <a:lnTo>
                          <a:pt x="22" y="36"/>
                        </a:lnTo>
                        <a:lnTo>
                          <a:pt x="22" y="36"/>
                        </a:lnTo>
                        <a:lnTo>
                          <a:pt x="26" y="36"/>
                        </a:lnTo>
                        <a:lnTo>
                          <a:pt x="33" y="37"/>
                        </a:lnTo>
                        <a:lnTo>
                          <a:pt x="43" y="37"/>
                        </a:lnTo>
                        <a:lnTo>
                          <a:pt x="54" y="38"/>
                        </a:lnTo>
                        <a:lnTo>
                          <a:pt x="68" y="38"/>
                        </a:lnTo>
                        <a:lnTo>
                          <a:pt x="82" y="40"/>
                        </a:lnTo>
                        <a:lnTo>
                          <a:pt x="97" y="40"/>
                        </a:lnTo>
                        <a:lnTo>
                          <a:pt x="113" y="41"/>
                        </a:lnTo>
                        <a:lnTo>
                          <a:pt x="129" y="41"/>
                        </a:lnTo>
                        <a:lnTo>
                          <a:pt x="144" y="42"/>
                        </a:lnTo>
                        <a:lnTo>
                          <a:pt x="159" y="42"/>
                        </a:lnTo>
                        <a:lnTo>
                          <a:pt x="173" y="42"/>
                        </a:lnTo>
                        <a:lnTo>
                          <a:pt x="187" y="42"/>
                        </a:lnTo>
                        <a:lnTo>
                          <a:pt x="197" y="42"/>
                        </a:lnTo>
                        <a:lnTo>
                          <a:pt x="206" y="41"/>
                        </a:lnTo>
                        <a:lnTo>
                          <a:pt x="213" y="41"/>
                        </a:lnTo>
                        <a:lnTo>
                          <a:pt x="213" y="41"/>
                        </a:lnTo>
                        <a:lnTo>
                          <a:pt x="222" y="40"/>
                        </a:lnTo>
                        <a:lnTo>
                          <a:pt x="229" y="37"/>
                        </a:lnTo>
                        <a:lnTo>
                          <a:pt x="234" y="35"/>
                        </a:lnTo>
                        <a:lnTo>
                          <a:pt x="235" y="33"/>
                        </a:lnTo>
                        <a:lnTo>
                          <a:pt x="235" y="33"/>
                        </a:lnTo>
                        <a:lnTo>
                          <a:pt x="234" y="28"/>
                        </a:lnTo>
                        <a:lnTo>
                          <a:pt x="233" y="20"/>
                        </a:lnTo>
                        <a:lnTo>
                          <a:pt x="230" y="13"/>
                        </a:lnTo>
                        <a:lnTo>
                          <a:pt x="229" y="1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6477120" y="413568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5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2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5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6642000" y="4078800"/>
                    <a:ext cx="698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39">
                        <a:moveTo>
                          <a:pt x="165" y="6"/>
                        </a:moveTo>
                        <a:lnTo>
                          <a:pt x="165" y="6"/>
                        </a:lnTo>
                        <a:lnTo>
                          <a:pt x="162" y="4"/>
                        </a:lnTo>
                        <a:lnTo>
                          <a:pt x="159" y="3"/>
                        </a:lnTo>
                        <a:lnTo>
                          <a:pt x="152" y="3"/>
                        </a:lnTo>
                        <a:lnTo>
                          <a:pt x="143" y="3"/>
                        </a:lnTo>
                        <a:lnTo>
                          <a:pt x="143" y="3"/>
                        </a:lnTo>
                        <a:lnTo>
                          <a:pt x="128" y="4"/>
                        </a:lnTo>
                        <a:lnTo>
                          <a:pt x="109" y="5"/>
                        </a:lnTo>
                        <a:lnTo>
                          <a:pt x="90" y="4"/>
                        </a:lnTo>
                        <a:lnTo>
                          <a:pt x="70" y="4"/>
                        </a:lnTo>
                        <a:lnTo>
                          <a:pt x="51" y="3"/>
                        </a:lnTo>
                        <a:lnTo>
                          <a:pt x="36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1" y="23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6" y="36"/>
                        </a:lnTo>
                        <a:lnTo>
                          <a:pt x="16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4" y="39"/>
                        </a:lnTo>
                        <a:lnTo>
                          <a:pt x="142" y="39"/>
                        </a:lnTo>
                        <a:lnTo>
                          <a:pt x="153" y="38"/>
                        </a:lnTo>
                        <a:lnTo>
                          <a:pt x="153" y="38"/>
                        </a:lnTo>
                        <a:lnTo>
                          <a:pt x="159" y="36"/>
                        </a:lnTo>
                        <a:lnTo>
                          <a:pt x="165" y="35"/>
                        </a:lnTo>
                        <a:lnTo>
                          <a:pt x="167" y="32"/>
                        </a:lnTo>
                        <a:lnTo>
                          <a:pt x="168" y="30"/>
                        </a:lnTo>
                        <a:lnTo>
                          <a:pt x="168" y="30"/>
                        </a:lnTo>
                        <a:lnTo>
                          <a:pt x="168" y="24"/>
                        </a:lnTo>
                        <a:lnTo>
                          <a:pt x="167" y="16"/>
                        </a:lnTo>
                        <a:lnTo>
                          <a:pt x="165" y="9"/>
                        </a:lnTo>
                        <a:lnTo>
                          <a:pt x="16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626160" y="4053960"/>
                    <a:ext cx="80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0">
                        <a:moveTo>
                          <a:pt x="190" y="7"/>
                        </a:moveTo>
                        <a:lnTo>
                          <a:pt x="190" y="7"/>
                        </a:lnTo>
                        <a:lnTo>
                          <a:pt x="188" y="5"/>
                        </a:lnTo>
                        <a:lnTo>
                          <a:pt x="183" y="2"/>
                        </a:lnTo>
                        <a:lnTo>
                          <a:pt x="176" y="2"/>
                        </a:lnTo>
                        <a:lnTo>
                          <a:pt x="166" y="4"/>
                        </a:lnTo>
                        <a:lnTo>
                          <a:pt x="166" y="4"/>
                        </a:lnTo>
                        <a:lnTo>
                          <a:pt x="147" y="5"/>
                        </a:lnTo>
                        <a:lnTo>
                          <a:pt x="127" y="5"/>
                        </a:lnTo>
                        <a:lnTo>
                          <a:pt x="104" y="5"/>
                        </a:lnTo>
                        <a:lnTo>
                          <a:pt x="81" y="4"/>
                        </a:lnTo>
                        <a:lnTo>
                          <a:pt x="59" y="2"/>
                        </a:lnTo>
                        <a:lnTo>
                          <a:pt x="40" y="2"/>
                        </a:lnTo>
                        <a:lnTo>
                          <a:pt x="28" y="1"/>
                        </a:lnTo>
                        <a:lnTo>
                          <a:pt x="21" y="1"/>
                        </a:lnTo>
                        <a:lnTo>
                          <a:pt x="21" y="1"/>
                        </a:lnTo>
                        <a:lnTo>
                          <a:pt x="15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1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6" y="34"/>
                        </a:lnTo>
                        <a:lnTo>
                          <a:pt x="10" y="35"/>
                        </a:lnTo>
                        <a:lnTo>
                          <a:pt x="18" y="36"/>
                        </a:lnTo>
                        <a:lnTo>
                          <a:pt x="18" y="36"/>
                        </a:lnTo>
                        <a:lnTo>
                          <a:pt x="29" y="37"/>
                        </a:lnTo>
                        <a:lnTo>
                          <a:pt x="46" y="37"/>
                        </a:lnTo>
                        <a:lnTo>
                          <a:pt x="68" y="38"/>
                        </a:lnTo>
                        <a:lnTo>
                          <a:pt x="94" y="39"/>
                        </a:lnTo>
                        <a:lnTo>
                          <a:pt x="120" y="39"/>
                        </a:lnTo>
                        <a:lnTo>
                          <a:pt x="144" y="40"/>
                        </a:lnTo>
                        <a:lnTo>
                          <a:pt x="165" y="39"/>
                        </a:lnTo>
                        <a:lnTo>
                          <a:pt x="177" y="38"/>
                        </a:lnTo>
                        <a:lnTo>
                          <a:pt x="177" y="38"/>
                        </a:lnTo>
                        <a:lnTo>
                          <a:pt x="185" y="37"/>
                        </a:lnTo>
                        <a:lnTo>
                          <a:pt x="190" y="36"/>
                        </a:lnTo>
                        <a:lnTo>
                          <a:pt x="193" y="34"/>
                        </a:lnTo>
                        <a:lnTo>
                          <a:pt x="195" y="31"/>
                        </a:lnTo>
                        <a:lnTo>
                          <a:pt x="195" y="31"/>
                        </a:lnTo>
                        <a:lnTo>
                          <a:pt x="193" y="26"/>
                        </a:lnTo>
                        <a:lnTo>
                          <a:pt x="192" y="17"/>
                        </a:lnTo>
                        <a:lnTo>
                          <a:pt x="191" y="11"/>
                        </a:lnTo>
                        <a:lnTo>
                          <a:pt x="190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6656040" y="4161600"/>
                    <a:ext cx="673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9">
                        <a:moveTo>
                          <a:pt x="158" y="7"/>
                        </a:moveTo>
                        <a:lnTo>
                          <a:pt x="158" y="7"/>
                        </a:lnTo>
                        <a:lnTo>
                          <a:pt x="156" y="5"/>
                        </a:lnTo>
                        <a:lnTo>
                          <a:pt x="153" y="3"/>
                        </a:lnTo>
                        <a:lnTo>
                          <a:pt x="147" y="3"/>
                        </a:lnTo>
                        <a:lnTo>
                          <a:pt x="138" y="3"/>
                        </a:lnTo>
                        <a:lnTo>
                          <a:pt x="138" y="3"/>
                        </a:lnTo>
                        <a:lnTo>
                          <a:pt x="123" y="4"/>
                        </a:lnTo>
                        <a:lnTo>
                          <a:pt x="105" y="5"/>
                        </a:lnTo>
                        <a:lnTo>
                          <a:pt x="87" y="4"/>
                        </a:lnTo>
                        <a:lnTo>
                          <a:pt x="67" y="4"/>
                        </a:lnTo>
                        <a:lnTo>
                          <a:pt x="49" y="3"/>
                        </a:lnTo>
                        <a:lnTo>
                          <a:pt x="34" y="3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4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9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4" y="36"/>
                        </a:lnTo>
                        <a:lnTo>
                          <a:pt x="39" y="37"/>
                        </a:lnTo>
                        <a:lnTo>
                          <a:pt x="57" y="38"/>
                        </a:lnTo>
                        <a:lnTo>
                          <a:pt x="78" y="38"/>
                        </a:lnTo>
                        <a:lnTo>
                          <a:pt x="100" y="39"/>
                        </a:lnTo>
                        <a:lnTo>
                          <a:pt x="119" y="39"/>
                        </a:lnTo>
                        <a:lnTo>
                          <a:pt x="136" y="39"/>
                        </a:lnTo>
                        <a:lnTo>
                          <a:pt x="147" y="38"/>
                        </a:lnTo>
                        <a:lnTo>
                          <a:pt x="147" y="38"/>
                        </a:lnTo>
                        <a:lnTo>
                          <a:pt x="154" y="37"/>
                        </a:lnTo>
                        <a:lnTo>
                          <a:pt x="158" y="35"/>
                        </a:lnTo>
                        <a:lnTo>
                          <a:pt x="161" y="32"/>
                        </a:lnTo>
                        <a:lnTo>
                          <a:pt x="162" y="30"/>
                        </a:lnTo>
                        <a:lnTo>
                          <a:pt x="162" y="30"/>
                        </a:lnTo>
                        <a:lnTo>
                          <a:pt x="162" y="26"/>
                        </a:lnTo>
                        <a:lnTo>
                          <a:pt x="161" y="18"/>
                        </a:lnTo>
                        <a:lnTo>
                          <a:pt x="158" y="11"/>
                        </a:lnTo>
                        <a:lnTo>
                          <a:pt x="15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6527880" y="4161600"/>
                    <a:ext cx="67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40">
                        <a:moveTo>
                          <a:pt x="157" y="6"/>
                        </a:moveTo>
                        <a:lnTo>
                          <a:pt x="157" y="6"/>
                        </a:lnTo>
                        <a:lnTo>
                          <a:pt x="154" y="4"/>
                        </a:lnTo>
                        <a:lnTo>
                          <a:pt x="151" y="3"/>
                        </a:lnTo>
                        <a:lnTo>
                          <a:pt x="145" y="3"/>
                        </a:lnTo>
                        <a:lnTo>
                          <a:pt x="137" y="3"/>
                        </a:lnTo>
                        <a:lnTo>
                          <a:pt x="137" y="3"/>
                        </a:lnTo>
                        <a:lnTo>
                          <a:pt x="122" y="4"/>
                        </a:lnTo>
                        <a:lnTo>
                          <a:pt x="105" y="5"/>
                        </a:lnTo>
                        <a:lnTo>
                          <a:pt x="85" y="4"/>
                        </a:lnTo>
                        <a:lnTo>
                          <a:pt x="67" y="4"/>
                        </a:lnTo>
                        <a:lnTo>
                          <a:pt x="48" y="3"/>
                        </a:lnTo>
                        <a:lnTo>
                          <a:pt x="33" y="3"/>
                        </a:lnTo>
                        <a:lnTo>
                          <a:pt x="23" y="2"/>
                        </a:lnTo>
                        <a:lnTo>
                          <a:pt x="17" y="2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1" y="25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3" y="31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5" y="36"/>
                        </a:lnTo>
                        <a:lnTo>
                          <a:pt x="15" y="36"/>
                        </a:lnTo>
                        <a:lnTo>
                          <a:pt x="23" y="36"/>
                        </a:lnTo>
                        <a:lnTo>
                          <a:pt x="37" y="37"/>
                        </a:lnTo>
                        <a:lnTo>
                          <a:pt x="56" y="38"/>
                        </a:lnTo>
                        <a:lnTo>
                          <a:pt x="77" y="38"/>
                        </a:lnTo>
                        <a:lnTo>
                          <a:pt x="98" y="40"/>
                        </a:lnTo>
                        <a:lnTo>
                          <a:pt x="119" y="40"/>
                        </a:lnTo>
                        <a:lnTo>
                          <a:pt x="135" y="40"/>
                        </a:lnTo>
                        <a:lnTo>
                          <a:pt x="145" y="38"/>
                        </a:lnTo>
                        <a:lnTo>
                          <a:pt x="145" y="38"/>
                        </a:lnTo>
                        <a:lnTo>
                          <a:pt x="152" y="36"/>
                        </a:lnTo>
                        <a:lnTo>
                          <a:pt x="157" y="35"/>
                        </a:lnTo>
                        <a:lnTo>
                          <a:pt x="159" y="33"/>
                        </a:lnTo>
                        <a:lnTo>
                          <a:pt x="160" y="30"/>
                        </a:lnTo>
                        <a:lnTo>
                          <a:pt x="160" y="30"/>
                        </a:lnTo>
                        <a:lnTo>
                          <a:pt x="160" y="25"/>
                        </a:lnTo>
                        <a:lnTo>
                          <a:pt x="159" y="17"/>
                        </a:lnTo>
                        <a:lnTo>
                          <a:pt x="157" y="10"/>
                        </a:lnTo>
                        <a:lnTo>
                          <a:pt x="157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5977440" y="4098960"/>
                    <a:ext cx="75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40">
                        <a:moveTo>
                          <a:pt x="178" y="7"/>
                        </a:moveTo>
                        <a:lnTo>
                          <a:pt x="178" y="7"/>
                        </a:lnTo>
                        <a:lnTo>
                          <a:pt x="175" y="4"/>
                        </a:lnTo>
                        <a:lnTo>
                          <a:pt x="172" y="3"/>
                        </a:lnTo>
                        <a:lnTo>
                          <a:pt x="165" y="3"/>
                        </a:lnTo>
                        <a:lnTo>
                          <a:pt x="155" y="3"/>
                        </a:lnTo>
                        <a:lnTo>
                          <a:pt x="155" y="3"/>
                        </a:lnTo>
                        <a:lnTo>
                          <a:pt x="138" y="4"/>
                        </a:lnTo>
                        <a:lnTo>
                          <a:pt x="119" y="4"/>
                        </a:lnTo>
                        <a:lnTo>
                          <a:pt x="97" y="4"/>
                        </a:lnTo>
                        <a:lnTo>
                          <a:pt x="75" y="3"/>
                        </a:lnTo>
                        <a:lnTo>
                          <a:pt x="55" y="3"/>
                        </a:lnTo>
                        <a:lnTo>
                          <a:pt x="38" y="2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20" y="1"/>
                        </a:lnTo>
                        <a:lnTo>
                          <a:pt x="14" y="1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8"/>
                        </a:lnTo>
                        <a:lnTo>
                          <a:pt x="2" y="28"/>
                        </a:lnTo>
                        <a:lnTo>
                          <a:pt x="4" y="31"/>
                        </a:lnTo>
                        <a:lnTo>
                          <a:pt x="5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6" y="36"/>
                        </a:lnTo>
                        <a:lnTo>
                          <a:pt x="43" y="38"/>
                        </a:lnTo>
                        <a:lnTo>
                          <a:pt x="64" y="39"/>
                        </a:lnTo>
                        <a:lnTo>
                          <a:pt x="88" y="39"/>
                        </a:lnTo>
                        <a:lnTo>
                          <a:pt x="112" y="40"/>
                        </a:lnTo>
                        <a:lnTo>
                          <a:pt x="135" y="40"/>
                        </a:lnTo>
                        <a:lnTo>
                          <a:pt x="152" y="40"/>
                        </a:lnTo>
                        <a:lnTo>
                          <a:pt x="165" y="39"/>
                        </a:lnTo>
                        <a:lnTo>
                          <a:pt x="165" y="39"/>
                        </a:lnTo>
                        <a:lnTo>
                          <a:pt x="173" y="36"/>
                        </a:lnTo>
                        <a:lnTo>
                          <a:pt x="178" y="35"/>
                        </a:lnTo>
                        <a:lnTo>
                          <a:pt x="181" y="33"/>
                        </a:lnTo>
                        <a:lnTo>
                          <a:pt x="182" y="31"/>
                        </a:lnTo>
                        <a:lnTo>
                          <a:pt x="182" y="31"/>
                        </a:lnTo>
                        <a:lnTo>
                          <a:pt x="181" y="25"/>
                        </a:lnTo>
                        <a:lnTo>
                          <a:pt x="180" y="17"/>
                        </a:lnTo>
                        <a:lnTo>
                          <a:pt x="179" y="10"/>
                        </a:lnTo>
                        <a:lnTo>
                          <a:pt x="178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5965920" y="4156560"/>
                    <a:ext cx="705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9">
                        <a:moveTo>
                          <a:pt x="167" y="7"/>
                        </a:moveTo>
                        <a:lnTo>
                          <a:pt x="167" y="7"/>
                        </a:lnTo>
                        <a:lnTo>
                          <a:pt x="164" y="4"/>
                        </a:lnTo>
                        <a:lnTo>
                          <a:pt x="161" y="2"/>
                        </a:lnTo>
                        <a:lnTo>
                          <a:pt x="154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0" y="4"/>
                        </a:lnTo>
                        <a:lnTo>
                          <a:pt x="91" y="3"/>
                        </a:lnTo>
                        <a:lnTo>
                          <a:pt x="70" y="3"/>
                        </a:lnTo>
                        <a:lnTo>
                          <a:pt x="51" y="2"/>
                        </a:lnTo>
                        <a:lnTo>
                          <a:pt x="35" y="2"/>
                        </a:lnTo>
                        <a:lnTo>
                          <a:pt x="24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2" y="1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1" y="24"/>
                        </a:lnTo>
                        <a:lnTo>
                          <a:pt x="2" y="27"/>
                        </a:lnTo>
                        <a:lnTo>
                          <a:pt x="2" y="27"/>
                        </a:lnTo>
                        <a:lnTo>
                          <a:pt x="3" y="31"/>
                        </a:lnTo>
                        <a:lnTo>
                          <a:pt x="4" y="33"/>
                        </a:lnTo>
                        <a:lnTo>
                          <a:pt x="9" y="34"/>
                        </a:lnTo>
                        <a:lnTo>
                          <a:pt x="16" y="35"/>
                        </a:lnTo>
                        <a:lnTo>
                          <a:pt x="16" y="35"/>
                        </a:lnTo>
                        <a:lnTo>
                          <a:pt x="24" y="35"/>
                        </a:lnTo>
                        <a:lnTo>
                          <a:pt x="39" y="37"/>
                        </a:lnTo>
                        <a:lnTo>
                          <a:pt x="59" y="38"/>
                        </a:lnTo>
                        <a:lnTo>
                          <a:pt x="81" y="38"/>
                        </a:lnTo>
                        <a:lnTo>
                          <a:pt x="104" y="39"/>
                        </a:lnTo>
                        <a:lnTo>
                          <a:pt x="125" y="39"/>
                        </a:lnTo>
                        <a:lnTo>
                          <a:pt x="144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7"/>
                        </a:lnTo>
                        <a:lnTo>
                          <a:pt x="167" y="34"/>
                        </a:lnTo>
                        <a:lnTo>
                          <a:pt x="169" y="32"/>
                        </a:lnTo>
                        <a:lnTo>
                          <a:pt x="170" y="30"/>
                        </a:lnTo>
                        <a:lnTo>
                          <a:pt x="170" y="30"/>
                        </a:lnTo>
                        <a:lnTo>
                          <a:pt x="170" y="25"/>
                        </a:lnTo>
                        <a:lnTo>
                          <a:pt x="169" y="17"/>
                        </a:lnTo>
                        <a:lnTo>
                          <a:pt x="167" y="10"/>
                        </a:lnTo>
                        <a:lnTo>
                          <a:pt x="16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094080" y="4159080"/>
                    <a:ext cx="70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39">
                        <a:moveTo>
                          <a:pt x="166" y="5"/>
                        </a:moveTo>
                        <a:lnTo>
                          <a:pt x="166" y="5"/>
                        </a:lnTo>
                        <a:lnTo>
                          <a:pt x="165" y="3"/>
                        </a:lnTo>
                        <a:lnTo>
                          <a:pt x="162" y="2"/>
                        </a:lnTo>
                        <a:lnTo>
                          <a:pt x="155" y="2"/>
                        </a:lnTo>
                        <a:lnTo>
                          <a:pt x="145" y="2"/>
                        </a:lnTo>
                        <a:lnTo>
                          <a:pt x="145" y="2"/>
                        </a:lnTo>
                        <a:lnTo>
                          <a:pt x="130" y="3"/>
                        </a:lnTo>
                        <a:lnTo>
                          <a:pt x="111" y="4"/>
                        </a:lnTo>
                        <a:lnTo>
                          <a:pt x="91" y="3"/>
                        </a:lnTo>
                        <a:lnTo>
                          <a:pt x="71" y="3"/>
                        </a:lnTo>
                        <a:lnTo>
                          <a:pt x="52" y="2"/>
                        </a:lnTo>
                        <a:lnTo>
                          <a:pt x="36" y="2"/>
                        </a:lnTo>
                        <a:lnTo>
                          <a:pt x="23" y="1"/>
                        </a:lnTo>
                        <a:lnTo>
                          <a:pt x="18" y="1"/>
                        </a:lnTo>
                        <a:lnTo>
                          <a:pt x="18" y="1"/>
                        </a:lnTo>
                        <a:lnTo>
                          <a:pt x="13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3" y="31"/>
                        </a:lnTo>
                        <a:lnTo>
                          <a:pt x="5" y="33"/>
                        </a:lnTo>
                        <a:lnTo>
                          <a:pt x="8" y="34"/>
                        </a:lnTo>
                        <a:lnTo>
                          <a:pt x="15" y="35"/>
                        </a:lnTo>
                        <a:lnTo>
                          <a:pt x="15" y="35"/>
                        </a:lnTo>
                        <a:lnTo>
                          <a:pt x="24" y="35"/>
                        </a:lnTo>
                        <a:lnTo>
                          <a:pt x="39" y="36"/>
                        </a:lnTo>
                        <a:lnTo>
                          <a:pt x="59" y="38"/>
                        </a:lnTo>
                        <a:lnTo>
                          <a:pt x="82" y="38"/>
                        </a:lnTo>
                        <a:lnTo>
                          <a:pt x="105" y="39"/>
                        </a:lnTo>
                        <a:lnTo>
                          <a:pt x="126" y="39"/>
                        </a:lnTo>
                        <a:lnTo>
                          <a:pt x="143" y="39"/>
                        </a:lnTo>
                        <a:lnTo>
                          <a:pt x="155" y="38"/>
                        </a:lnTo>
                        <a:lnTo>
                          <a:pt x="155" y="38"/>
                        </a:lnTo>
                        <a:lnTo>
                          <a:pt x="162" y="36"/>
                        </a:lnTo>
                        <a:lnTo>
                          <a:pt x="166" y="34"/>
                        </a:lnTo>
                        <a:lnTo>
                          <a:pt x="170" y="32"/>
                        </a:lnTo>
                        <a:lnTo>
                          <a:pt x="171" y="30"/>
                        </a:lnTo>
                        <a:lnTo>
                          <a:pt x="171" y="30"/>
                        </a:lnTo>
                        <a:lnTo>
                          <a:pt x="170" y="24"/>
                        </a:lnTo>
                        <a:lnTo>
                          <a:pt x="168" y="16"/>
                        </a:lnTo>
                        <a:lnTo>
                          <a:pt x="167" y="9"/>
                        </a:lnTo>
                        <a:lnTo>
                          <a:pt x="16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171480" y="4160520"/>
                    <a:ext cx="3495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839" h="36">
                        <a:moveTo>
                          <a:pt x="13" y="0"/>
                        </a:moveTo>
                        <a:lnTo>
                          <a:pt x="827" y="0"/>
                        </a:lnTo>
                        <a:lnTo>
                          <a:pt x="827" y="0"/>
                        </a:lnTo>
                        <a:lnTo>
                          <a:pt x="828" y="1"/>
                        </a:lnTo>
                        <a:lnTo>
                          <a:pt x="832" y="2"/>
                        </a:lnTo>
                        <a:lnTo>
                          <a:pt x="834" y="6"/>
                        </a:lnTo>
                        <a:lnTo>
                          <a:pt x="835" y="9"/>
                        </a:lnTo>
                        <a:lnTo>
                          <a:pt x="835" y="9"/>
                        </a:lnTo>
                        <a:lnTo>
                          <a:pt x="835" y="14"/>
                        </a:lnTo>
                        <a:lnTo>
                          <a:pt x="836" y="19"/>
                        </a:lnTo>
                        <a:lnTo>
                          <a:pt x="837" y="23"/>
                        </a:lnTo>
                        <a:lnTo>
                          <a:pt x="837" y="24"/>
                        </a:lnTo>
                        <a:lnTo>
                          <a:pt x="837" y="24"/>
                        </a:lnTo>
                        <a:lnTo>
                          <a:pt x="839" y="27"/>
                        </a:lnTo>
                        <a:lnTo>
                          <a:pt x="839" y="30"/>
                        </a:lnTo>
                        <a:lnTo>
                          <a:pt x="837" y="35"/>
                        </a:lnTo>
                        <a:lnTo>
                          <a:pt x="831" y="36"/>
                        </a:lnTo>
                        <a:lnTo>
                          <a:pt x="831" y="36"/>
                        </a:lnTo>
                        <a:lnTo>
                          <a:pt x="827" y="36"/>
                        </a:lnTo>
                        <a:lnTo>
                          <a:pt x="819" y="36"/>
                        </a:lnTo>
                        <a:lnTo>
                          <a:pt x="808" y="36"/>
                        </a:lnTo>
                        <a:lnTo>
                          <a:pt x="791" y="36"/>
                        </a:lnTo>
                        <a:lnTo>
                          <a:pt x="773" y="36"/>
                        </a:lnTo>
                        <a:lnTo>
                          <a:pt x="750" y="36"/>
                        </a:lnTo>
                        <a:lnTo>
                          <a:pt x="725" y="36"/>
                        </a:lnTo>
                        <a:lnTo>
                          <a:pt x="697" y="36"/>
                        </a:lnTo>
                        <a:lnTo>
                          <a:pt x="667" y="36"/>
                        </a:lnTo>
                        <a:lnTo>
                          <a:pt x="635" y="36"/>
                        </a:lnTo>
                        <a:lnTo>
                          <a:pt x="601" y="36"/>
                        </a:lnTo>
                        <a:lnTo>
                          <a:pt x="566" y="36"/>
                        </a:lnTo>
                        <a:lnTo>
                          <a:pt x="529" y="36"/>
                        </a:lnTo>
                        <a:lnTo>
                          <a:pt x="492" y="36"/>
                        </a:lnTo>
                        <a:lnTo>
                          <a:pt x="454" y="36"/>
                        </a:lnTo>
                        <a:lnTo>
                          <a:pt x="416" y="36"/>
                        </a:lnTo>
                        <a:lnTo>
                          <a:pt x="378" y="36"/>
                        </a:lnTo>
                        <a:lnTo>
                          <a:pt x="340" y="36"/>
                        </a:lnTo>
                        <a:lnTo>
                          <a:pt x="303" y="36"/>
                        </a:lnTo>
                        <a:lnTo>
                          <a:pt x="266" y="36"/>
                        </a:lnTo>
                        <a:lnTo>
                          <a:pt x="231" y="36"/>
                        </a:lnTo>
                        <a:lnTo>
                          <a:pt x="198" y="36"/>
                        </a:lnTo>
                        <a:lnTo>
                          <a:pt x="166" y="36"/>
                        </a:lnTo>
                        <a:lnTo>
                          <a:pt x="137" y="36"/>
                        </a:lnTo>
                        <a:lnTo>
                          <a:pt x="109" y="36"/>
                        </a:lnTo>
                        <a:lnTo>
                          <a:pt x="85" y="36"/>
                        </a:lnTo>
                        <a:lnTo>
                          <a:pt x="63" y="36"/>
                        </a:lnTo>
                        <a:lnTo>
                          <a:pt x="45" y="36"/>
                        </a:lnTo>
                        <a:lnTo>
                          <a:pt x="30" y="36"/>
                        </a:lnTo>
                        <a:lnTo>
                          <a:pt x="20" y="36"/>
                        </a:lnTo>
                        <a:lnTo>
                          <a:pt x="13" y="36"/>
                        </a:lnTo>
                        <a:lnTo>
                          <a:pt x="10" y="36"/>
                        </a:lnTo>
                        <a:lnTo>
                          <a:pt x="10" y="36"/>
                        </a:lnTo>
                        <a:lnTo>
                          <a:pt x="9" y="36"/>
                        </a:lnTo>
                        <a:lnTo>
                          <a:pt x="6" y="33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2"/>
                        </a:lnTo>
                        <a:lnTo>
                          <a:pt x="1" y="16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1" y="9"/>
                        </a:lnTo>
                        <a:lnTo>
                          <a:pt x="2" y="8"/>
                        </a:lnTo>
                        <a:lnTo>
                          <a:pt x="3" y="5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6512040" y="3995640"/>
                    <a:ext cx="2026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95">
                        <a:moveTo>
                          <a:pt x="26" y="34"/>
                        </a:moveTo>
                        <a:lnTo>
                          <a:pt x="27" y="30"/>
                        </a:lnTo>
                        <a:lnTo>
                          <a:pt x="30" y="21"/>
                        </a:lnTo>
                        <a:lnTo>
                          <a:pt x="32" y="10"/>
                        </a:lnTo>
                        <a:lnTo>
                          <a:pt x="34" y="4"/>
                        </a:lnTo>
                        <a:lnTo>
                          <a:pt x="37" y="2"/>
                        </a:lnTo>
                        <a:lnTo>
                          <a:pt x="38" y="1"/>
                        </a:lnTo>
                        <a:lnTo>
                          <a:pt x="40" y="2"/>
                        </a:lnTo>
                        <a:lnTo>
                          <a:pt x="42" y="2"/>
                        </a:lnTo>
                        <a:lnTo>
                          <a:pt x="46" y="2"/>
                        </a:lnTo>
                        <a:lnTo>
                          <a:pt x="52" y="3"/>
                        </a:lnTo>
                        <a:lnTo>
                          <a:pt x="60" y="3"/>
                        </a:lnTo>
                        <a:lnTo>
                          <a:pt x="70" y="3"/>
                        </a:lnTo>
                        <a:lnTo>
                          <a:pt x="80" y="4"/>
                        </a:lnTo>
                        <a:lnTo>
                          <a:pt x="91" y="4"/>
                        </a:lnTo>
                        <a:lnTo>
                          <a:pt x="100" y="3"/>
                        </a:lnTo>
                        <a:lnTo>
                          <a:pt x="108" y="2"/>
                        </a:lnTo>
                        <a:lnTo>
                          <a:pt x="111" y="1"/>
                        </a:lnTo>
                        <a:lnTo>
                          <a:pt x="115" y="1"/>
                        </a:lnTo>
                        <a:lnTo>
                          <a:pt x="116" y="3"/>
                        </a:lnTo>
                        <a:lnTo>
                          <a:pt x="117" y="6"/>
                        </a:lnTo>
                        <a:lnTo>
                          <a:pt x="118" y="11"/>
                        </a:lnTo>
                        <a:lnTo>
                          <a:pt x="121" y="21"/>
                        </a:lnTo>
                        <a:lnTo>
                          <a:pt x="123" y="29"/>
                        </a:lnTo>
                        <a:lnTo>
                          <a:pt x="124" y="32"/>
                        </a:lnTo>
                        <a:lnTo>
                          <a:pt x="129" y="32"/>
                        </a:lnTo>
                        <a:lnTo>
                          <a:pt x="133" y="33"/>
                        </a:lnTo>
                        <a:lnTo>
                          <a:pt x="137" y="33"/>
                        </a:lnTo>
                        <a:lnTo>
                          <a:pt x="138" y="33"/>
                        </a:lnTo>
                        <a:lnTo>
                          <a:pt x="139" y="33"/>
                        </a:lnTo>
                        <a:lnTo>
                          <a:pt x="140" y="29"/>
                        </a:lnTo>
                        <a:lnTo>
                          <a:pt x="143" y="19"/>
                        </a:lnTo>
                        <a:lnTo>
                          <a:pt x="145" y="9"/>
                        </a:lnTo>
                        <a:lnTo>
                          <a:pt x="147" y="3"/>
                        </a:lnTo>
                        <a:lnTo>
                          <a:pt x="149" y="1"/>
                        </a:lnTo>
                        <a:lnTo>
                          <a:pt x="152" y="0"/>
                        </a:lnTo>
                        <a:lnTo>
                          <a:pt x="154" y="1"/>
                        </a:lnTo>
                        <a:lnTo>
                          <a:pt x="156" y="1"/>
                        </a:lnTo>
                        <a:lnTo>
                          <a:pt x="160" y="1"/>
                        </a:lnTo>
                        <a:lnTo>
                          <a:pt x="166" y="2"/>
                        </a:lnTo>
                        <a:lnTo>
                          <a:pt x="174" y="2"/>
                        </a:lnTo>
                        <a:lnTo>
                          <a:pt x="183" y="2"/>
                        </a:lnTo>
                        <a:lnTo>
                          <a:pt x="193" y="3"/>
                        </a:lnTo>
                        <a:lnTo>
                          <a:pt x="204" y="3"/>
                        </a:lnTo>
                        <a:lnTo>
                          <a:pt x="213" y="2"/>
                        </a:lnTo>
                        <a:lnTo>
                          <a:pt x="221" y="1"/>
                        </a:lnTo>
                        <a:lnTo>
                          <a:pt x="226" y="0"/>
                        </a:lnTo>
                        <a:lnTo>
                          <a:pt x="229" y="0"/>
                        </a:lnTo>
                        <a:lnTo>
                          <a:pt x="231" y="2"/>
                        </a:lnTo>
                        <a:lnTo>
                          <a:pt x="232" y="4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8" y="29"/>
                        </a:lnTo>
                        <a:lnTo>
                          <a:pt x="239" y="32"/>
                        </a:lnTo>
                        <a:lnTo>
                          <a:pt x="244" y="33"/>
                        </a:lnTo>
                        <a:lnTo>
                          <a:pt x="247" y="33"/>
                        </a:lnTo>
                        <a:lnTo>
                          <a:pt x="251" y="33"/>
                        </a:lnTo>
                        <a:lnTo>
                          <a:pt x="252" y="34"/>
                        </a:lnTo>
                        <a:lnTo>
                          <a:pt x="253" y="34"/>
                        </a:lnTo>
                        <a:lnTo>
                          <a:pt x="254" y="30"/>
                        </a:lnTo>
                        <a:lnTo>
                          <a:pt x="257" y="21"/>
                        </a:lnTo>
                        <a:lnTo>
                          <a:pt x="259" y="10"/>
                        </a:lnTo>
                        <a:lnTo>
                          <a:pt x="261" y="3"/>
                        </a:lnTo>
                        <a:lnTo>
                          <a:pt x="264" y="2"/>
                        </a:lnTo>
                        <a:lnTo>
                          <a:pt x="266" y="1"/>
                        </a:lnTo>
                        <a:lnTo>
                          <a:pt x="268" y="2"/>
                        </a:lnTo>
                        <a:lnTo>
                          <a:pt x="270" y="2"/>
                        </a:lnTo>
                        <a:lnTo>
                          <a:pt x="274" y="2"/>
                        </a:lnTo>
                        <a:lnTo>
                          <a:pt x="280" y="3"/>
                        </a:lnTo>
                        <a:lnTo>
                          <a:pt x="288" y="3"/>
                        </a:lnTo>
                        <a:lnTo>
                          <a:pt x="297" y="3"/>
                        </a:lnTo>
                        <a:lnTo>
                          <a:pt x="307" y="4"/>
                        </a:lnTo>
                        <a:lnTo>
                          <a:pt x="318" y="4"/>
                        </a:lnTo>
                        <a:lnTo>
                          <a:pt x="327" y="3"/>
                        </a:lnTo>
                        <a:lnTo>
                          <a:pt x="335" y="2"/>
                        </a:lnTo>
                        <a:lnTo>
                          <a:pt x="340" y="1"/>
                        </a:lnTo>
                        <a:lnTo>
                          <a:pt x="343" y="1"/>
                        </a:lnTo>
                        <a:lnTo>
                          <a:pt x="345" y="3"/>
                        </a:lnTo>
                        <a:lnTo>
                          <a:pt x="346" y="6"/>
                        </a:lnTo>
                        <a:lnTo>
                          <a:pt x="348" y="11"/>
                        </a:lnTo>
                        <a:lnTo>
                          <a:pt x="350" y="21"/>
                        </a:lnTo>
                        <a:lnTo>
                          <a:pt x="351" y="29"/>
                        </a:lnTo>
                        <a:lnTo>
                          <a:pt x="352" y="32"/>
                        </a:lnTo>
                        <a:lnTo>
                          <a:pt x="358" y="33"/>
                        </a:lnTo>
                        <a:lnTo>
                          <a:pt x="363" y="33"/>
                        </a:lnTo>
                        <a:lnTo>
                          <a:pt x="365" y="33"/>
                        </a:lnTo>
                        <a:lnTo>
                          <a:pt x="367" y="33"/>
                        </a:lnTo>
                        <a:lnTo>
                          <a:pt x="368" y="33"/>
                        </a:lnTo>
                        <a:lnTo>
                          <a:pt x="370" y="29"/>
                        </a:lnTo>
                        <a:lnTo>
                          <a:pt x="372" y="19"/>
                        </a:lnTo>
                        <a:lnTo>
                          <a:pt x="374" y="9"/>
                        </a:lnTo>
                        <a:lnTo>
                          <a:pt x="376" y="3"/>
                        </a:lnTo>
                        <a:lnTo>
                          <a:pt x="379" y="1"/>
                        </a:lnTo>
                        <a:lnTo>
                          <a:pt x="380" y="0"/>
                        </a:lnTo>
                        <a:lnTo>
                          <a:pt x="382" y="1"/>
                        </a:lnTo>
                        <a:lnTo>
                          <a:pt x="385" y="1"/>
                        </a:lnTo>
                        <a:lnTo>
                          <a:pt x="388" y="1"/>
                        </a:lnTo>
                        <a:lnTo>
                          <a:pt x="394" y="2"/>
                        </a:lnTo>
                        <a:lnTo>
                          <a:pt x="402" y="2"/>
                        </a:lnTo>
                        <a:lnTo>
                          <a:pt x="412" y="2"/>
                        </a:lnTo>
                        <a:lnTo>
                          <a:pt x="423" y="3"/>
                        </a:lnTo>
                        <a:lnTo>
                          <a:pt x="433" y="3"/>
                        </a:lnTo>
                        <a:lnTo>
                          <a:pt x="442" y="2"/>
                        </a:lnTo>
                        <a:lnTo>
                          <a:pt x="450" y="1"/>
                        </a:lnTo>
                        <a:lnTo>
                          <a:pt x="455" y="0"/>
                        </a:lnTo>
                        <a:lnTo>
                          <a:pt x="457" y="0"/>
                        </a:lnTo>
                        <a:lnTo>
                          <a:pt x="459" y="2"/>
                        </a:lnTo>
                        <a:lnTo>
                          <a:pt x="461" y="4"/>
                        </a:lnTo>
                        <a:lnTo>
                          <a:pt x="462" y="11"/>
                        </a:lnTo>
                        <a:lnTo>
                          <a:pt x="464" y="21"/>
                        </a:lnTo>
                        <a:lnTo>
                          <a:pt x="466" y="30"/>
                        </a:lnTo>
                        <a:lnTo>
                          <a:pt x="467" y="33"/>
                        </a:lnTo>
                        <a:lnTo>
                          <a:pt x="473" y="33"/>
                        </a:lnTo>
                        <a:lnTo>
                          <a:pt x="480" y="33"/>
                        </a:lnTo>
                        <a:lnTo>
                          <a:pt x="482" y="34"/>
                        </a:lnTo>
                        <a:lnTo>
                          <a:pt x="482" y="35"/>
                        </a:lnTo>
                        <a:lnTo>
                          <a:pt x="484" y="38"/>
                        </a:lnTo>
                        <a:lnTo>
                          <a:pt x="484" y="40"/>
                        </a:lnTo>
                        <a:lnTo>
                          <a:pt x="485" y="50"/>
                        </a:lnTo>
                        <a:lnTo>
                          <a:pt x="486" y="67"/>
                        </a:lnTo>
                        <a:lnTo>
                          <a:pt x="487" y="83"/>
                        </a:lnTo>
                        <a:lnTo>
                          <a:pt x="487" y="91"/>
                        </a:lnTo>
                        <a:lnTo>
                          <a:pt x="487" y="92"/>
                        </a:lnTo>
                        <a:lnTo>
                          <a:pt x="485" y="94"/>
                        </a:lnTo>
                        <a:lnTo>
                          <a:pt x="482" y="95"/>
                        </a:lnTo>
                        <a:lnTo>
                          <a:pt x="479" y="95"/>
                        </a:lnTo>
                        <a:lnTo>
                          <a:pt x="472" y="95"/>
                        </a:lnTo>
                        <a:lnTo>
                          <a:pt x="457" y="95"/>
                        </a:lnTo>
                        <a:lnTo>
                          <a:pt x="433" y="95"/>
                        </a:lnTo>
                        <a:lnTo>
                          <a:pt x="404" y="95"/>
                        </a:lnTo>
                        <a:lnTo>
                          <a:pt x="368" y="95"/>
                        </a:lnTo>
                        <a:lnTo>
                          <a:pt x="329" y="95"/>
                        </a:lnTo>
                        <a:lnTo>
                          <a:pt x="288" y="95"/>
                        </a:lnTo>
                        <a:lnTo>
                          <a:pt x="245" y="95"/>
                        </a:lnTo>
                        <a:lnTo>
                          <a:pt x="202" y="95"/>
                        </a:lnTo>
                        <a:lnTo>
                          <a:pt x="162" y="95"/>
                        </a:lnTo>
                        <a:lnTo>
                          <a:pt x="123" y="95"/>
                        </a:lnTo>
                        <a:lnTo>
                          <a:pt x="90" y="95"/>
                        </a:lnTo>
                        <a:lnTo>
                          <a:pt x="60" y="95"/>
                        </a:lnTo>
                        <a:lnTo>
                          <a:pt x="38" y="95"/>
                        </a:lnTo>
                        <a:lnTo>
                          <a:pt x="23" y="95"/>
                        </a:lnTo>
                        <a:lnTo>
                          <a:pt x="18" y="95"/>
                        </a:lnTo>
                        <a:lnTo>
                          <a:pt x="16" y="95"/>
                        </a:lnTo>
                        <a:lnTo>
                          <a:pt x="11" y="94"/>
                        </a:lnTo>
                        <a:lnTo>
                          <a:pt x="7" y="92"/>
                        </a:lnTo>
                        <a:lnTo>
                          <a:pt x="4" y="84"/>
                        </a:lnTo>
                        <a:lnTo>
                          <a:pt x="3" y="71"/>
                        </a:lnTo>
                        <a:lnTo>
                          <a:pt x="0" y="55"/>
                        </a:lnTo>
                        <a:lnTo>
                          <a:pt x="1" y="40"/>
                        </a:lnTo>
                        <a:lnTo>
                          <a:pt x="9" y="34"/>
                        </a:lnTo>
                        <a:lnTo>
                          <a:pt x="26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666864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6" y="5"/>
                        </a:moveTo>
                        <a:lnTo>
                          <a:pt x="86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2"/>
                        </a:lnTo>
                        <a:lnTo>
                          <a:pt x="87" y="14"/>
                        </a:lnTo>
                        <a:lnTo>
                          <a:pt x="86" y="8"/>
                        </a:lnTo>
                        <a:lnTo>
                          <a:pt x="86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66204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80" y="36"/>
                        </a:lnTo>
                        <a:lnTo>
                          <a:pt x="80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5736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7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7" y="15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652608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4" y="5"/>
                        </a:moveTo>
                        <a:lnTo>
                          <a:pt x="84" y="5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80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5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3" y="36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2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5" y="31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3"/>
                        </a:lnTo>
                        <a:lnTo>
                          <a:pt x="85" y="15"/>
                        </a:lnTo>
                        <a:lnTo>
                          <a:pt x="84" y="8"/>
                        </a:lnTo>
                        <a:lnTo>
                          <a:pt x="84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6962760" y="40507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4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4"/>
                        </a:lnTo>
                        <a:lnTo>
                          <a:pt x="58" y="5"/>
                        </a:lnTo>
                        <a:lnTo>
                          <a:pt x="48" y="4"/>
                        </a:lnTo>
                        <a:lnTo>
                          <a:pt x="37" y="4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4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5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7011720" y="4051440"/>
                    <a:ext cx="363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40">
                        <a:moveTo>
                          <a:pt x="87" y="7"/>
                        </a:moveTo>
                        <a:lnTo>
                          <a:pt x="87" y="7"/>
                        </a:lnTo>
                        <a:lnTo>
                          <a:pt x="85" y="5"/>
                        </a:lnTo>
                        <a:lnTo>
                          <a:pt x="83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8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8" y="3"/>
                        </a:lnTo>
                        <a:lnTo>
                          <a:pt x="20" y="3"/>
                        </a:lnTo>
                        <a:lnTo>
                          <a:pt x="14" y="2"/>
                        </a:lnTo>
                        <a:lnTo>
                          <a:pt x="11" y="2"/>
                        </a:lnTo>
                        <a:lnTo>
                          <a:pt x="11" y="2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5" y="36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40"/>
                        </a:lnTo>
                        <a:lnTo>
                          <a:pt x="42" y="40"/>
                        </a:lnTo>
                        <a:lnTo>
                          <a:pt x="53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7" y="33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6"/>
                        </a:lnTo>
                        <a:lnTo>
                          <a:pt x="88" y="18"/>
                        </a:lnTo>
                        <a:lnTo>
                          <a:pt x="87" y="11"/>
                        </a:lnTo>
                        <a:lnTo>
                          <a:pt x="87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7059960" y="4051440"/>
                    <a:ext cx="35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4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4" y="3"/>
                        </a:lnTo>
                        <a:lnTo>
                          <a:pt x="74" y="3"/>
                        </a:lnTo>
                        <a:lnTo>
                          <a:pt x="66" y="4"/>
                        </a:lnTo>
                        <a:lnTo>
                          <a:pt x="57" y="5"/>
                        </a:lnTo>
                        <a:lnTo>
                          <a:pt x="47" y="4"/>
                        </a:lnTo>
                        <a:lnTo>
                          <a:pt x="36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5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1" y="36"/>
                        </a:lnTo>
                        <a:lnTo>
                          <a:pt x="84" y="35"/>
                        </a:lnTo>
                        <a:lnTo>
                          <a:pt x="86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0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914160" y="40489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9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9184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1" y="2"/>
                        </a:lnTo>
                        <a:lnTo>
                          <a:pt x="78" y="2"/>
                        </a:lnTo>
                        <a:lnTo>
                          <a:pt x="73" y="2"/>
                        </a:lnTo>
                        <a:lnTo>
                          <a:pt x="73" y="2"/>
                        </a:lnTo>
                        <a:lnTo>
                          <a:pt x="65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3" y="34"/>
                        </a:lnTo>
                        <a:lnTo>
                          <a:pt x="6" y="36"/>
                        </a:lnTo>
                        <a:lnTo>
                          <a:pt x="6" y="36"/>
                        </a:lnTo>
                        <a:lnTo>
                          <a:pt x="11" y="36"/>
                        </a:lnTo>
                        <a:lnTo>
                          <a:pt x="18" y="37"/>
                        </a:lnTo>
                        <a:lnTo>
                          <a:pt x="28" y="38"/>
                        </a:lnTo>
                        <a:lnTo>
                          <a:pt x="40" y="38"/>
                        </a:lnTo>
                        <a:lnTo>
                          <a:pt x="51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1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966000" y="40748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1" y="36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70635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6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701496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92280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97104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8" y="1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7066080" y="409968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3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29" y="38"/>
                        </a:lnTo>
                        <a:lnTo>
                          <a:pt x="41" y="38"/>
                        </a:lnTo>
                        <a:lnTo>
                          <a:pt x="52" y="38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017480" y="409896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18" y="36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69267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702180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7" y="5"/>
                        </a:moveTo>
                        <a:lnTo>
                          <a:pt x="87" y="5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11" y="1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7"/>
                        </a:lnTo>
                        <a:lnTo>
                          <a:pt x="1" y="27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8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7" y="32"/>
                        </a:lnTo>
                        <a:lnTo>
                          <a:pt x="88" y="28"/>
                        </a:lnTo>
                        <a:lnTo>
                          <a:pt x="88" y="28"/>
                        </a:lnTo>
                        <a:lnTo>
                          <a:pt x="88" y="24"/>
                        </a:lnTo>
                        <a:lnTo>
                          <a:pt x="88" y="16"/>
                        </a:lnTo>
                        <a:lnTo>
                          <a:pt x="87" y="9"/>
                        </a:lnTo>
                        <a:lnTo>
                          <a:pt x="87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7070040" y="41238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3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7" y="5"/>
                        </a:lnTo>
                        <a:lnTo>
                          <a:pt x="47" y="5"/>
                        </a:lnTo>
                        <a:lnTo>
                          <a:pt x="37" y="4"/>
                        </a:lnTo>
                        <a:lnTo>
                          <a:pt x="26" y="4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40"/>
                        </a:lnTo>
                        <a:lnTo>
                          <a:pt x="41" y="40"/>
                        </a:lnTo>
                        <a:lnTo>
                          <a:pt x="53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973560" y="41238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1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6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6"/>
                        </a:lnTo>
                        <a:lnTo>
                          <a:pt x="78" y="36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6976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7025760" y="415044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3" y="36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075080" y="415152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5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5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6"/>
                        </a:lnTo>
                        <a:lnTo>
                          <a:pt x="84" y="35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693180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10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6746040" y="4137480"/>
                    <a:ext cx="15804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31">
                        <a:moveTo>
                          <a:pt x="18" y="131"/>
                        </a:moveTo>
                        <a:lnTo>
                          <a:pt x="22" y="131"/>
                        </a:lnTo>
                        <a:lnTo>
                          <a:pt x="33" y="131"/>
                        </a:lnTo>
                        <a:lnTo>
                          <a:pt x="51" y="131"/>
                        </a:lnTo>
                        <a:lnTo>
                          <a:pt x="73" y="131"/>
                        </a:lnTo>
                        <a:lnTo>
                          <a:pt x="98" y="131"/>
                        </a:lnTo>
                        <a:lnTo>
                          <a:pt x="128" y="131"/>
                        </a:lnTo>
                        <a:lnTo>
                          <a:pt x="159" y="131"/>
                        </a:lnTo>
                        <a:lnTo>
                          <a:pt x="191" y="131"/>
                        </a:lnTo>
                        <a:lnTo>
                          <a:pt x="223" y="131"/>
                        </a:lnTo>
                        <a:lnTo>
                          <a:pt x="255" y="131"/>
                        </a:lnTo>
                        <a:lnTo>
                          <a:pt x="283" y="131"/>
                        </a:lnTo>
                        <a:lnTo>
                          <a:pt x="310" y="131"/>
                        </a:lnTo>
                        <a:lnTo>
                          <a:pt x="333" y="131"/>
                        </a:lnTo>
                        <a:lnTo>
                          <a:pt x="350" y="131"/>
                        </a:lnTo>
                        <a:lnTo>
                          <a:pt x="362" y="131"/>
                        </a:lnTo>
                        <a:lnTo>
                          <a:pt x="366" y="131"/>
                        </a:lnTo>
                        <a:lnTo>
                          <a:pt x="371" y="130"/>
                        </a:lnTo>
                        <a:lnTo>
                          <a:pt x="375" y="126"/>
                        </a:lnTo>
                        <a:lnTo>
                          <a:pt x="379" y="123"/>
                        </a:lnTo>
                        <a:lnTo>
                          <a:pt x="380" y="118"/>
                        </a:lnTo>
                        <a:lnTo>
                          <a:pt x="378" y="108"/>
                        </a:lnTo>
                        <a:lnTo>
                          <a:pt x="374" y="91"/>
                        </a:lnTo>
                        <a:lnTo>
                          <a:pt x="372" y="76"/>
                        </a:lnTo>
                        <a:lnTo>
                          <a:pt x="371" y="69"/>
                        </a:lnTo>
                        <a:lnTo>
                          <a:pt x="371" y="68"/>
                        </a:lnTo>
                        <a:lnTo>
                          <a:pt x="369" y="65"/>
                        </a:lnTo>
                        <a:lnTo>
                          <a:pt x="363" y="64"/>
                        </a:lnTo>
                        <a:lnTo>
                          <a:pt x="355" y="63"/>
                        </a:lnTo>
                        <a:lnTo>
                          <a:pt x="344" y="63"/>
                        </a:lnTo>
                        <a:lnTo>
                          <a:pt x="331" y="63"/>
                        </a:lnTo>
                        <a:lnTo>
                          <a:pt x="317" y="63"/>
                        </a:lnTo>
                        <a:lnTo>
                          <a:pt x="302" y="63"/>
                        </a:lnTo>
                        <a:lnTo>
                          <a:pt x="288" y="63"/>
                        </a:lnTo>
                        <a:lnTo>
                          <a:pt x="276" y="63"/>
                        </a:lnTo>
                        <a:lnTo>
                          <a:pt x="267" y="63"/>
                        </a:lnTo>
                        <a:lnTo>
                          <a:pt x="263" y="63"/>
                        </a:lnTo>
                        <a:lnTo>
                          <a:pt x="258" y="63"/>
                        </a:lnTo>
                        <a:lnTo>
                          <a:pt x="256" y="61"/>
                        </a:lnTo>
                        <a:lnTo>
                          <a:pt x="252" y="57"/>
                        </a:lnTo>
                        <a:lnTo>
                          <a:pt x="251" y="50"/>
                        </a:lnTo>
                        <a:lnTo>
                          <a:pt x="250" y="39"/>
                        </a:lnTo>
                        <a:lnTo>
                          <a:pt x="248" y="24"/>
                        </a:lnTo>
                        <a:lnTo>
                          <a:pt x="245" y="11"/>
                        </a:lnTo>
                        <a:lnTo>
                          <a:pt x="244" y="6"/>
                        </a:lnTo>
                        <a:lnTo>
                          <a:pt x="244" y="4"/>
                        </a:lnTo>
                        <a:lnTo>
                          <a:pt x="243" y="3"/>
                        </a:lnTo>
                        <a:lnTo>
                          <a:pt x="238" y="2"/>
                        </a:lnTo>
                        <a:lnTo>
                          <a:pt x="226" y="1"/>
                        </a:lnTo>
                        <a:lnTo>
                          <a:pt x="215" y="1"/>
                        </a:lnTo>
                        <a:lnTo>
                          <a:pt x="202" y="0"/>
                        </a:lnTo>
                        <a:lnTo>
                          <a:pt x="187" y="0"/>
                        </a:lnTo>
                        <a:lnTo>
                          <a:pt x="169" y="0"/>
                        </a:lnTo>
                        <a:lnTo>
                          <a:pt x="154" y="0"/>
                        </a:lnTo>
                        <a:lnTo>
                          <a:pt x="142" y="0"/>
                        </a:lnTo>
                        <a:lnTo>
                          <a:pt x="132" y="0"/>
                        </a:lnTo>
                        <a:lnTo>
                          <a:pt x="129" y="0"/>
                        </a:lnTo>
                        <a:lnTo>
                          <a:pt x="127" y="0"/>
                        </a:lnTo>
                        <a:lnTo>
                          <a:pt x="122" y="1"/>
                        </a:lnTo>
                        <a:lnTo>
                          <a:pt x="117" y="4"/>
                        </a:lnTo>
                        <a:lnTo>
                          <a:pt x="115" y="9"/>
                        </a:lnTo>
                        <a:lnTo>
                          <a:pt x="114" y="19"/>
                        </a:lnTo>
                        <a:lnTo>
                          <a:pt x="113" y="37"/>
                        </a:lnTo>
                        <a:lnTo>
                          <a:pt x="111" y="53"/>
                        </a:lnTo>
                        <a:lnTo>
                          <a:pt x="111" y="60"/>
                        </a:lnTo>
                        <a:lnTo>
                          <a:pt x="106" y="60"/>
                        </a:lnTo>
                        <a:lnTo>
                          <a:pt x="96" y="60"/>
                        </a:lnTo>
                        <a:lnTo>
                          <a:pt x="81" y="60"/>
                        </a:lnTo>
                        <a:lnTo>
                          <a:pt x="63" y="60"/>
                        </a:lnTo>
                        <a:lnTo>
                          <a:pt x="45" y="60"/>
                        </a:lnTo>
                        <a:lnTo>
                          <a:pt x="29" y="60"/>
                        </a:lnTo>
                        <a:lnTo>
                          <a:pt x="17" y="60"/>
                        </a:lnTo>
                        <a:lnTo>
                          <a:pt x="11" y="60"/>
                        </a:lnTo>
                        <a:lnTo>
                          <a:pt x="8" y="60"/>
                        </a:lnTo>
                        <a:lnTo>
                          <a:pt x="5" y="61"/>
                        </a:lnTo>
                        <a:lnTo>
                          <a:pt x="1" y="63"/>
                        </a:lnTo>
                        <a:lnTo>
                          <a:pt x="0" y="68"/>
                        </a:lnTo>
                        <a:lnTo>
                          <a:pt x="0" y="78"/>
                        </a:lnTo>
                        <a:lnTo>
                          <a:pt x="0" y="97"/>
                        </a:lnTo>
                        <a:lnTo>
                          <a:pt x="0" y="114"/>
                        </a:lnTo>
                        <a:lnTo>
                          <a:pt x="0" y="122"/>
                        </a:lnTo>
                        <a:lnTo>
                          <a:pt x="1" y="123"/>
                        </a:lnTo>
                        <a:lnTo>
                          <a:pt x="3" y="126"/>
                        </a:lnTo>
                        <a:lnTo>
                          <a:pt x="9" y="130"/>
                        </a:lnTo>
                        <a:lnTo>
                          <a:pt x="18" y="1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6737760" y="4061520"/>
                    <a:ext cx="1512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118">
                        <a:moveTo>
                          <a:pt x="29" y="117"/>
                        </a:moveTo>
                        <a:lnTo>
                          <a:pt x="32" y="117"/>
                        </a:lnTo>
                        <a:lnTo>
                          <a:pt x="43" y="117"/>
                        </a:lnTo>
                        <a:lnTo>
                          <a:pt x="59" y="117"/>
                        </a:lnTo>
                        <a:lnTo>
                          <a:pt x="79" y="117"/>
                        </a:lnTo>
                        <a:lnTo>
                          <a:pt x="103" y="117"/>
                        </a:lnTo>
                        <a:lnTo>
                          <a:pt x="130" y="118"/>
                        </a:lnTo>
                        <a:lnTo>
                          <a:pt x="159" y="118"/>
                        </a:lnTo>
                        <a:lnTo>
                          <a:pt x="189" y="118"/>
                        </a:lnTo>
                        <a:lnTo>
                          <a:pt x="219" y="118"/>
                        </a:lnTo>
                        <a:lnTo>
                          <a:pt x="248" y="118"/>
                        </a:lnTo>
                        <a:lnTo>
                          <a:pt x="276" y="118"/>
                        </a:lnTo>
                        <a:lnTo>
                          <a:pt x="300" y="118"/>
                        </a:lnTo>
                        <a:lnTo>
                          <a:pt x="322" y="118"/>
                        </a:lnTo>
                        <a:lnTo>
                          <a:pt x="338" y="118"/>
                        </a:lnTo>
                        <a:lnTo>
                          <a:pt x="349" y="117"/>
                        </a:lnTo>
                        <a:lnTo>
                          <a:pt x="354" y="117"/>
                        </a:lnTo>
                        <a:lnTo>
                          <a:pt x="360" y="115"/>
                        </a:lnTo>
                        <a:lnTo>
                          <a:pt x="363" y="113"/>
                        </a:lnTo>
                        <a:lnTo>
                          <a:pt x="365" y="108"/>
                        </a:lnTo>
                        <a:lnTo>
                          <a:pt x="365" y="102"/>
                        </a:lnTo>
                        <a:lnTo>
                          <a:pt x="362" y="84"/>
                        </a:lnTo>
                        <a:lnTo>
                          <a:pt x="357" y="52"/>
                        </a:lnTo>
                        <a:lnTo>
                          <a:pt x="353" y="22"/>
                        </a:lnTo>
                        <a:lnTo>
                          <a:pt x="350" y="9"/>
                        </a:lnTo>
                        <a:lnTo>
                          <a:pt x="349" y="8"/>
                        </a:lnTo>
                        <a:lnTo>
                          <a:pt x="347" y="4"/>
                        </a:lnTo>
                        <a:lnTo>
                          <a:pt x="343" y="2"/>
                        </a:lnTo>
                        <a:lnTo>
                          <a:pt x="339" y="0"/>
                        </a:lnTo>
                        <a:lnTo>
                          <a:pt x="334" y="0"/>
                        </a:lnTo>
                        <a:lnTo>
                          <a:pt x="324" y="0"/>
                        </a:lnTo>
                        <a:lnTo>
                          <a:pt x="308" y="0"/>
                        </a:lnTo>
                        <a:lnTo>
                          <a:pt x="287" y="0"/>
                        </a:lnTo>
                        <a:lnTo>
                          <a:pt x="264" y="0"/>
                        </a:lnTo>
                        <a:lnTo>
                          <a:pt x="238" y="0"/>
                        </a:lnTo>
                        <a:lnTo>
                          <a:pt x="209" y="0"/>
                        </a:lnTo>
                        <a:lnTo>
                          <a:pt x="180" y="0"/>
                        </a:lnTo>
                        <a:lnTo>
                          <a:pt x="151" y="1"/>
                        </a:lnTo>
                        <a:lnTo>
                          <a:pt x="123" y="1"/>
                        </a:lnTo>
                        <a:lnTo>
                          <a:pt x="97" y="1"/>
                        </a:lnTo>
                        <a:lnTo>
                          <a:pt x="73" y="1"/>
                        </a:lnTo>
                        <a:lnTo>
                          <a:pt x="52" y="1"/>
                        </a:lnTo>
                        <a:lnTo>
                          <a:pt x="36" y="1"/>
                        </a:lnTo>
                        <a:lnTo>
                          <a:pt x="24" y="1"/>
                        </a:lnTo>
                        <a:lnTo>
                          <a:pt x="20" y="1"/>
                        </a:lnTo>
                        <a:lnTo>
                          <a:pt x="13" y="1"/>
                        </a:lnTo>
                        <a:lnTo>
                          <a:pt x="7" y="2"/>
                        </a:lnTo>
                        <a:lnTo>
                          <a:pt x="2" y="6"/>
                        </a:lnTo>
                        <a:lnTo>
                          <a:pt x="0" y="9"/>
                        </a:lnTo>
                        <a:lnTo>
                          <a:pt x="2" y="27"/>
                        </a:lnTo>
                        <a:lnTo>
                          <a:pt x="6" y="61"/>
                        </a:lnTo>
                        <a:lnTo>
                          <a:pt x="9" y="93"/>
                        </a:lnTo>
                        <a:lnTo>
                          <a:pt x="12" y="107"/>
                        </a:lnTo>
                        <a:lnTo>
                          <a:pt x="13" y="109"/>
                        </a:lnTo>
                        <a:lnTo>
                          <a:pt x="15" y="113"/>
                        </a:lnTo>
                        <a:lnTo>
                          <a:pt x="20" y="116"/>
                        </a:lnTo>
                        <a:lnTo>
                          <a:pt x="29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6730920" y="3994920"/>
                    <a:ext cx="15156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96">
                        <a:moveTo>
                          <a:pt x="346" y="35"/>
                        </a:moveTo>
                        <a:lnTo>
                          <a:pt x="345" y="31"/>
                        </a:lnTo>
                        <a:lnTo>
                          <a:pt x="343" y="22"/>
                        </a:lnTo>
                        <a:lnTo>
                          <a:pt x="341" y="11"/>
                        </a:lnTo>
                        <a:lnTo>
                          <a:pt x="340" y="4"/>
                        </a:lnTo>
                        <a:lnTo>
                          <a:pt x="339" y="2"/>
                        </a:lnTo>
                        <a:lnTo>
                          <a:pt x="336" y="0"/>
                        </a:lnTo>
                        <a:lnTo>
                          <a:pt x="334" y="0"/>
                        </a:lnTo>
                        <a:lnTo>
                          <a:pt x="330" y="1"/>
                        </a:lnTo>
                        <a:lnTo>
                          <a:pt x="321" y="2"/>
                        </a:lnTo>
                        <a:lnTo>
                          <a:pt x="311" y="3"/>
                        </a:lnTo>
                        <a:lnTo>
                          <a:pt x="301" y="3"/>
                        </a:lnTo>
                        <a:lnTo>
                          <a:pt x="290" y="2"/>
                        </a:lnTo>
                        <a:lnTo>
                          <a:pt x="281" y="2"/>
                        </a:lnTo>
                        <a:lnTo>
                          <a:pt x="273" y="2"/>
                        </a:lnTo>
                        <a:lnTo>
                          <a:pt x="267" y="1"/>
                        </a:lnTo>
                        <a:lnTo>
                          <a:pt x="264" y="1"/>
                        </a:lnTo>
                        <a:lnTo>
                          <a:pt x="262" y="1"/>
                        </a:lnTo>
                        <a:lnTo>
                          <a:pt x="259" y="0"/>
                        </a:lnTo>
                        <a:lnTo>
                          <a:pt x="257" y="1"/>
                        </a:lnTo>
                        <a:lnTo>
                          <a:pt x="255" y="3"/>
                        </a:lnTo>
                        <a:lnTo>
                          <a:pt x="252" y="9"/>
                        </a:lnTo>
                        <a:lnTo>
                          <a:pt x="250" y="20"/>
                        </a:lnTo>
                        <a:lnTo>
                          <a:pt x="249" y="30"/>
                        </a:lnTo>
                        <a:lnTo>
                          <a:pt x="248" y="34"/>
                        </a:lnTo>
                        <a:lnTo>
                          <a:pt x="248" y="34"/>
                        </a:lnTo>
                        <a:lnTo>
                          <a:pt x="245" y="34"/>
                        </a:lnTo>
                        <a:lnTo>
                          <a:pt x="243" y="35"/>
                        </a:lnTo>
                        <a:lnTo>
                          <a:pt x="239" y="35"/>
                        </a:lnTo>
                        <a:lnTo>
                          <a:pt x="232" y="35"/>
                        </a:lnTo>
                        <a:lnTo>
                          <a:pt x="230" y="31"/>
                        </a:lnTo>
                        <a:lnTo>
                          <a:pt x="228" y="22"/>
                        </a:lnTo>
                        <a:lnTo>
                          <a:pt x="226" y="11"/>
                        </a:lnTo>
                        <a:lnTo>
                          <a:pt x="225" y="4"/>
                        </a:lnTo>
                        <a:lnTo>
                          <a:pt x="224" y="2"/>
                        </a:lnTo>
                        <a:lnTo>
                          <a:pt x="222" y="1"/>
                        </a:lnTo>
                        <a:lnTo>
                          <a:pt x="219" y="1"/>
                        </a:lnTo>
                        <a:lnTo>
                          <a:pt x="214" y="2"/>
                        </a:lnTo>
                        <a:lnTo>
                          <a:pt x="206" y="3"/>
                        </a:lnTo>
                        <a:lnTo>
                          <a:pt x="197" y="4"/>
                        </a:lnTo>
                        <a:lnTo>
                          <a:pt x="187" y="4"/>
                        </a:lnTo>
                        <a:lnTo>
                          <a:pt x="176" y="3"/>
                        </a:lnTo>
                        <a:lnTo>
                          <a:pt x="166" y="3"/>
                        </a:lnTo>
                        <a:lnTo>
                          <a:pt x="158" y="3"/>
                        </a:lnTo>
                        <a:lnTo>
                          <a:pt x="152" y="2"/>
                        </a:lnTo>
                        <a:lnTo>
                          <a:pt x="149" y="2"/>
                        </a:lnTo>
                        <a:lnTo>
                          <a:pt x="146" y="2"/>
                        </a:lnTo>
                        <a:lnTo>
                          <a:pt x="145" y="1"/>
                        </a:lnTo>
                        <a:lnTo>
                          <a:pt x="143" y="2"/>
                        </a:lnTo>
                        <a:lnTo>
                          <a:pt x="141" y="3"/>
                        </a:lnTo>
                        <a:lnTo>
                          <a:pt x="138" y="10"/>
                        </a:lnTo>
                        <a:lnTo>
                          <a:pt x="136" y="20"/>
                        </a:lnTo>
                        <a:lnTo>
                          <a:pt x="135" y="31"/>
                        </a:lnTo>
                        <a:lnTo>
                          <a:pt x="134" y="35"/>
                        </a:lnTo>
                        <a:lnTo>
                          <a:pt x="133" y="35"/>
                        </a:lnTo>
                        <a:lnTo>
                          <a:pt x="130" y="35"/>
                        </a:lnTo>
                        <a:lnTo>
                          <a:pt x="127" y="35"/>
                        </a:lnTo>
                        <a:lnTo>
                          <a:pt x="122" y="36"/>
                        </a:lnTo>
                        <a:lnTo>
                          <a:pt x="118" y="35"/>
                        </a:lnTo>
                        <a:lnTo>
                          <a:pt x="116" y="31"/>
                        </a:lnTo>
                        <a:lnTo>
                          <a:pt x="114" y="22"/>
                        </a:lnTo>
                        <a:lnTo>
                          <a:pt x="112" y="11"/>
                        </a:lnTo>
                        <a:lnTo>
                          <a:pt x="111" y="4"/>
                        </a:lnTo>
                        <a:lnTo>
                          <a:pt x="110" y="2"/>
                        </a:lnTo>
                        <a:lnTo>
                          <a:pt x="108" y="1"/>
                        </a:lnTo>
                        <a:lnTo>
                          <a:pt x="105" y="1"/>
                        </a:lnTo>
                        <a:lnTo>
                          <a:pt x="100" y="2"/>
                        </a:lnTo>
                        <a:lnTo>
                          <a:pt x="92" y="3"/>
                        </a:lnTo>
                        <a:lnTo>
                          <a:pt x="83" y="4"/>
                        </a:lnTo>
                        <a:lnTo>
                          <a:pt x="73" y="4"/>
                        </a:lnTo>
                        <a:lnTo>
                          <a:pt x="62" y="3"/>
                        </a:lnTo>
                        <a:lnTo>
                          <a:pt x="52" y="3"/>
                        </a:lnTo>
                        <a:lnTo>
                          <a:pt x="44" y="3"/>
                        </a:lnTo>
                        <a:lnTo>
                          <a:pt x="38" y="2"/>
                        </a:lnTo>
                        <a:lnTo>
                          <a:pt x="35" y="2"/>
                        </a:lnTo>
                        <a:lnTo>
                          <a:pt x="32" y="2"/>
                        </a:lnTo>
                        <a:lnTo>
                          <a:pt x="31" y="1"/>
                        </a:lnTo>
                        <a:lnTo>
                          <a:pt x="29" y="2"/>
                        </a:lnTo>
                        <a:lnTo>
                          <a:pt x="27" y="3"/>
                        </a:lnTo>
                        <a:lnTo>
                          <a:pt x="24" y="10"/>
                        </a:lnTo>
                        <a:lnTo>
                          <a:pt x="21" y="20"/>
                        </a:lnTo>
                        <a:lnTo>
                          <a:pt x="18" y="30"/>
                        </a:lnTo>
                        <a:lnTo>
                          <a:pt x="17" y="34"/>
                        </a:lnTo>
                        <a:lnTo>
                          <a:pt x="17" y="34"/>
                        </a:lnTo>
                        <a:lnTo>
                          <a:pt x="15" y="34"/>
                        </a:lnTo>
                        <a:lnTo>
                          <a:pt x="13" y="34"/>
                        </a:lnTo>
                        <a:lnTo>
                          <a:pt x="8" y="34"/>
                        </a:lnTo>
                        <a:lnTo>
                          <a:pt x="5" y="35"/>
                        </a:lnTo>
                        <a:lnTo>
                          <a:pt x="2" y="38"/>
                        </a:lnTo>
                        <a:lnTo>
                          <a:pt x="1" y="42"/>
                        </a:lnTo>
                        <a:lnTo>
                          <a:pt x="0" y="48"/>
                        </a:lnTo>
                        <a:lnTo>
                          <a:pt x="0" y="57"/>
                        </a:lnTo>
                        <a:lnTo>
                          <a:pt x="1" y="69"/>
                        </a:lnTo>
                        <a:lnTo>
                          <a:pt x="2" y="78"/>
                        </a:lnTo>
                        <a:lnTo>
                          <a:pt x="2" y="83"/>
                        </a:lnTo>
                        <a:lnTo>
                          <a:pt x="4" y="91"/>
                        </a:lnTo>
                        <a:lnTo>
                          <a:pt x="8" y="94"/>
                        </a:lnTo>
                        <a:lnTo>
                          <a:pt x="12" y="96"/>
                        </a:lnTo>
                        <a:lnTo>
                          <a:pt x="16" y="96"/>
                        </a:lnTo>
                        <a:lnTo>
                          <a:pt x="22" y="96"/>
                        </a:lnTo>
                        <a:lnTo>
                          <a:pt x="33" y="96"/>
                        </a:lnTo>
                        <a:lnTo>
                          <a:pt x="51" y="96"/>
                        </a:lnTo>
                        <a:lnTo>
                          <a:pt x="74" y="96"/>
                        </a:lnTo>
                        <a:lnTo>
                          <a:pt x="99" y="96"/>
                        </a:lnTo>
                        <a:lnTo>
                          <a:pt x="128" y="96"/>
                        </a:lnTo>
                        <a:lnTo>
                          <a:pt x="159" y="96"/>
                        </a:lnTo>
                        <a:lnTo>
                          <a:pt x="191" y="96"/>
                        </a:lnTo>
                        <a:lnTo>
                          <a:pt x="222" y="96"/>
                        </a:lnTo>
                        <a:lnTo>
                          <a:pt x="252" y="96"/>
                        </a:lnTo>
                        <a:lnTo>
                          <a:pt x="281" y="96"/>
                        </a:lnTo>
                        <a:lnTo>
                          <a:pt x="307" y="96"/>
                        </a:lnTo>
                        <a:lnTo>
                          <a:pt x="327" y="96"/>
                        </a:lnTo>
                        <a:lnTo>
                          <a:pt x="345" y="96"/>
                        </a:lnTo>
                        <a:lnTo>
                          <a:pt x="355" y="96"/>
                        </a:lnTo>
                        <a:lnTo>
                          <a:pt x="358" y="96"/>
                        </a:lnTo>
                        <a:lnTo>
                          <a:pt x="362" y="95"/>
                        </a:lnTo>
                        <a:lnTo>
                          <a:pt x="363" y="94"/>
                        </a:lnTo>
                        <a:lnTo>
                          <a:pt x="364" y="93"/>
                        </a:lnTo>
                        <a:lnTo>
                          <a:pt x="364" y="92"/>
                        </a:lnTo>
                        <a:lnTo>
                          <a:pt x="363" y="84"/>
                        </a:lnTo>
                        <a:lnTo>
                          <a:pt x="361" y="70"/>
                        </a:lnTo>
                        <a:lnTo>
                          <a:pt x="358" y="56"/>
                        </a:lnTo>
                        <a:lnTo>
                          <a:pt x="357" y="48"/>
                        </a:lnTo>
                        <a:lnTo>
                          <a:pt x="357" y="43"/>
                        </a:lnTo>
                        <a:lnTo>
                          <a:pt x="356" y="40"/>
                        </a:lnTo>
                        <a:lnTo>
                          <a:pt x="355" y="38"/>
                        </a:lnTo>
                        <a:lnTo>
                          <a:pt x="353" y="36"/>
                        </a:lnTo>
                        <a:lnTo>
                          <a:pt x="346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6836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6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3" y="37"/>
                        </a:lnTo>
                        <a:lnTo>
                          <a:pt x="79" y="36"/>
                        </a:lnTo>
                        <a:lnTo>
                          <a:pt x="79" y="36"/>
                        </a:lnTo>
                        <a:lnTo>
                          <a:pt x="83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7" y="28"/>
                        </a:lnTo>
                        <a:lnTo>
                          <a:pt x="87" y="28"/>
                        </a:lnTo>
                        <a:lnTo>
                          <a:pt x="87" y="22"/>
                        </a:lnTo>
                        <a:lnTo>
                          <a:pt x="86" y="14"/>
                        </a:lnTo>
                        <a:lnTo>
                          <a:pt x="85" y="8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678852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8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67410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6" y="4"/>
                        </a:moveTo>
                        <a:lnTo>
                          <a:pt x="86" y="4"/>
                        </a:lnTo>
                        <a:lnTo>
                          <a:pt x="86" y="2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2" y="29"/>
                        </a:lnTo>
                        <a:lnTo>
                          <a:pt x="2" y="29"/>
                        </a:lnTo>
                        <a:lnTo>
                          <a:pt x="3" y="32"/>
                        </a:lnTo>
                        <a:lnTo>
                          <a:pt x="4" y="34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5" y="38"/>
                        </a:lnTo>
                        <a:lnTo>
                          <a:pt x="74" y="38"/>
                        </a:lnTo>
                        <a:lnTo>
                          <a:pt x="80" y="37"/>
                        </a:lnTo>
                        <a:lnTo>
                          <a:pt x="80" y="37"/>
                        </a:lnTo>
                        <a:lnTo>
                          <a:pt x="83" y="34"/>
                        </a:lnTo>
                        <a:lnTo>
                          <a:pt x="86" y="33"/>
                        </a:lnTo>
                        <a:lnTo>
                          <a:pt x="87" y="31"/>
                        </a:lnTo>
                        <a:lnTo>
                          <a:pt x="88" y="29"/>
                        </a:lnTo>
                        <a:lnTo>
                          <a:pt x="88" y="29"/>
                        </a:lnTo>
                        <a:lnTo>
                          <a:pt x="88" y="23"/>
                        </a:lnTo>
                        <a:lnTo>
                          <a:pt x="87" y="15"/>
                        </a:lnTo>
                        <a:lnTo>
                          <a:pt x="86" y="8"/>
                        </a:lnTo>
                        <a:lnTo>
                          <a:pt x="86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6803640" y="412380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80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8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2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3"/>
                        </a:lnTo>
                        <a:lnTo>
                          <a:pt x="2" y="35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8" y="38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3" y="40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6"/>
                        </a:lnTo>
                        <a:lnTo>
                          <a:pt x="86" y="18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680688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5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5" y="34"/>
                        </a:lnTo>
                        <a:lnTo>
                          <a:pt x="86" y="32"/>
                        </a:lnTo>
                        <a:lnTo>
                          <a:pt x="88" y="30"/>
                        </a:lnTo>
                        <a:lnTo>
                          <a:pt x="88" y="30"/>
                        </a:lnTo>
                        <a:lnTo>
                          <a:pt x="88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856200" y="414972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9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6" y="4"/>
                        </a:lnTo>
                        <a:lnTo>
                          <a:pt x="46" y="3"/>
                        </a:lnTo>
                        <a:lnTo>
                          <a:pt x="35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5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752880" y="41504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2" y="2"/>
                        </a:lnTo>
                        <a:lnTo>
                          <a:pt x="78" y="2"/>
                        </a:lnTo>
                        <a:lnTo>
                          <a:pt x="74" y="2"/>
                        </a:lnTo>
                        <a:lnTo>
                          <a:pt x="74" y="2"/>
                        </a:lnTo>
                        <a:lnTo>
                          <a:pt x="66" y="3"/>
                        </a:lnTo>
                        <a:lnTo>
                          <a:pt x="57" y="4"/>
                        </a:lnTo>
                        <a:lnTo>
                          <a:pt x="46" y="3"/>
                        </a:lnTo>
                        <a:lnTo>
                          <a:pt x="36" y="3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1"/>
                        </a:lnTo>
                        <a:lnTo>
                          <a:pt x="1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18" y="37"/>
                        </a:lnTo>
                        <a:lnTo>
                          <a:pt x="29" y="38"/>
                        </a:lnTo>
                        <a:lnTo>
                          <a:pt x="40" y="38"/>
                        </a:lnTo>
                        <a:lnTo>
                          <a:pt x="52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5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960240" y="4006440"/>
                    <a:ext cx="61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62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47" y="62"/>
                        </a:lnTo>
                        <a:lnTo>
                          <a:pt x="10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7027560" y="4006440"/>
                    <a:ext cx="52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62">
                        <a:moveTo>
                          <a:pt x="0" y="0"/>
                        </a:moveTo>
                        <a:lnTo>
                          <a:pt x="118" y="0"/>
                        </a:lnTo>
                        <a:lnTo>
                          <a:pt x="128" y="62"/>
                        </a:lnTo>
                        <a:lnTo>
                          <a:pt x="8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6296400" y="3995640"/>
                    <a:ext cx="2023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94">
                        <a:moveTo>
                          <a:pt x="26" y="33"/>
                        </a:moveTo>
                        <a:lnTo>
                          <a:pt x="27" y="29"/>
                        </a:lnTo>
                        <a:lnTo>
                          <a:pt x="29" y="19"/>
                        </a:lnTo>
                        <a:lnTo>
                          <a:pt x="31" y="9"/>
                        </a:lnTo>
                        <a:lnTo>
                          <a:pt x="34" y="3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69" y="2"/>
                        </a:lnTo>
                        <a:lnTo>
                          <a:pt x="80" y="3"/>
                        </a:lnTo>
                        <a:lnTo>
                          <a:pt x="90" y="3"/>
                        </a:lnTo>
                        <a:lnTo>
                          <a:pt x="99" y="2"/>
                        </a:lnTo>
                        <a:lnTo>
                          <a:pt x="107" y="1"/>
                        </a:lnTo>
                        <a:lnTo>
                          <a:pt x="112" y="0"/>
                        </a:lnTo>
                        <a:lnTo>
                          <a:pt x="116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29" y="32"/>
                        </a:lnTo>
                        <a:lnTo>
                          <a:pt x="134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2" y="0"/>
                        </a:lnTo>
                        <a:lnTo>
                          <a:pt x="155" y="0"/>
                        </a:lnTo>
                        <a:lnTo>
                          <a:pt x="157" y="0"/>
                        </a:lnTo>
                        <a:lnTo>
                          <a:pt x="160" y="0"/>
                        </a:lnTo>
                        <a:lnTo>
                          <a:pt x="166" y="1"/>
                        </a:lnTo>
                        <a:lnTo>
                          <a:pt x="174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2" y="1"/>
                        </a:lnTo>
                        <a:lnTo>
                          <a:pt x="233" y="3"/>
                        </a:lnTo>
                        <a:lnTo>
                          <a:pt x="234" y="10"/>
                        </a:lnTo>
                        <a:lnTo>
                          <a:pt x="236" y="19"/>
                        </a:lnTo>
                        <a:lnTo>
                          <a:pt x="239" y="29"/>
                        </a:lnTo>
                        <a:lnTo>
                          <a:pt x="240" y="32"/>
                        </a:lnTo>
                        <a:lnTo>
                          <a:pt x="245" y="32"/>
                        </a:lnTo>
                        <a:lnTo>
                          <a:pt x="249" y="32"/>
                        </a:lnTo>
                        <a:lnTo>
                          <a:pt x="251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69" y="1"/>
                        </a:lnTo>
                        <a:lnTo>
                          <a:pt x="271" y="1"/>
                        </a:lnTo>
                        <a:lnTo>
                          <a:pt x="274" y="1"/>
                        </a:lnTo>
                        <a:lnTo>
                          <a:pt x="280" y="2"/>
                        </a:lnTo>
                        <a:lnTo>
                          <a:pt x="288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6" y="2"/>
                        </a:lnTo>
                        <a:lnTo>
                          <a:pt x="347" y="4"/>
                        </a:lnTo>
                        <a:lnTo>
                          <a:pt x="348" y="10"/>
                        </a:lnTo>
                        <a:lnTo>
                          <a:pt x="351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59" y="33"/>
                        </a:lnTo>
                        <a:lnTo>
                          <a:pt x="363" y="33"/>
                        </a:lnTo>
                        <a:lnTo>
                          <a:pt x="367" y="32"/>
                        </a:lnTo>
                        <a:lnTo>
                          <a:pt x="368" y="32"/>
                        </a:lnTo>
                        <a:lnTo>
                          <a:pt x="369" y="32"/>
                        </a:lnTo>
                        <a:lnTo>
                          <a:pt x="370" y="27"/>
                        </a:lnTo>
                        <a:lnTo>
                          <a:pt x="372" y="18"/>
                        </a:lnTo>
                        <a:lnTo>
                          <a:pt x="375" y="9"/>
                        </a:lnTo>
                        <a:lnTo>
                          <a:pt x="377" y="2"/>
                        </a:lnTo>
                        <a:lnTo>
                          <a:pt x="379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4" y="1"/>
                        </a:lnTo>
                        <a:lnTo>
                          <a:pt x="413" y="2"/>
                        </a:lnTo>
                        <a:lnTo>
                          <a:pt x="423" y="2"/>
                        </a:lnTo>
                        <a:lnTo>
                          <a:pt x="433" y="2"/>
                        </a:lnTo>
                        <a:lnTo>
                          <a:pt x="443" y="1"/>
                        </a:lnTo>
                        <a:lnTo>
                          <a:pt x="451" y="0"/>
                        </a:lnTo>
                        <a:lnTo>
                          <a:pt x="455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1" y="32"/>
                        </a:lnTo>
                        <a:lnTo>
                          <a:pt x="483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6" y="65"/>
                        </a:lnTo>
                        <a:lnTo>
                          <a:pt x="488" y="82"/>
                        </a:lnTo>
                        <a:lnTo>
                          <a:pt x="488" y="90"/>
                        </a:lnTo>
                        <a:lnTo>
                          <a:pt x="488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8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69" y="94"/>
                        </a:lnTo>
                        <a:lnTo>
                          <a:pt x="330" y="94"/>
                        </a:lnTo>
                        <a:lnTo>
                          <a:pt x="288" y="94"/>
                        </a:lnTo>
                        <a:lnTo>
                          <a:pt x="246" y="94"/>
                        </a:lnTo>
                        <a:lnTo>
                          <a:pt x="203" y="94"/>
                        </a:lnTo>
                        <a:lnTo>
                          <a:pt x="162" y="94"/>
                        </a:lnTo>
                        <a:lnTo>
                          <a:pt x="124" y="94"/>
                        </a:lnTo>
                        <a:lnTo>
                          <a:pt x="89" y="94"/>
                        </a:lnTo>
                        <a:lnTo>
                          <a:pt x="59" y="94"/>
                        </a:lnTo>
                        <a:lnTo>
                          <a:pt x="37" y="94"/>
                        </a:lnTo>
                        <a:lnTo>
                          <a:pt x="22" y="94"/>
                        </a:lnTo>
                        <a:lnTo>
                          <a:pt x="18" y="94"/>
                        </a:lnTo>
                        <a:lnTo>
                          <a:pt x="15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3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10" y="33"/>
                        </a:lnTo>
                        <a:lnTo>
                          <a:pt x="26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6453000" y="3995640"/>
                    <a:ext cx="35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7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2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3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640476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3" y="38"/>
                        </a:lnTo>
                        <a:lnTo>
                          <a:pt x="72" y="37"/>
                        </a:lnTo>
                        <a:lnTo>
                          <a:pt x="78" y="35"/>
                        </a:lnTo>
                        <a:lnTo>
                          <a:pt x="78" y="35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7"/>
                        </a:lnTo>
                        <a:lnTo>
                          <a:pt x="86" y="27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63572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63097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6078240" y="3995640"/>
                    <a:ext cx="203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94">
                        <a:moveTo>
                          <a:pt x="27" y="33"/>
                        </a:moveTo>
                        <a:lnTo>
                          <a:pt x="28" y="29"/>
                        </a:lnTo>
                        <a:lnTo>
                          <a:pt x="30" y="19"/>
                        </a:lnTo>
                        <a:lnTo>
                          <a:pt x="33" y="9"/>
                        </a:lnTo>
                        <a:lnTo>
                          <a:pt x="35" y="3"/>
                        </a:lnTo>
                        <a:lnTo>
                          <a:pt x="37" y="1"/>
                        </a:lnTo>
                        <a:lnTo>
                          <a:pt x="38" y="0"/>
                        </a:lnTo>
                        <a:lnTo>
                          <a:pt x="41" y="1"/>
                        </a:lnTo>
                        <a:lnTo>
                          <a:pt x="43" y="1"/>
                        </a:lnTo>
                        <a:lnTo>
                          <a:pt x="46" y="1"/>
                        </a:lnTo>
                        <a:lnTo>
                          <a:pt x="52" y="2"/>
                        </a:lnTo>
                        <a:lnTo>
                          <a:pt x="60" y="2"/>
                        </a:lnTo>
                        <a:lnTo>
                          <a:pt x="71" y="2"/>
                        </a:lnTo>
                        <a:lnTo>
                          <a:pt x="81" y="3"/>
                        </a:lnTo>
                        <a:lnTo>
                          <a:pt x="91" y="3"/>
                        </a:lnTo>
                        <a:lnTo>
                          <a:pt x="101" y="2"/>
                        </a:lnTo>
                        <a:lnTo>
                          <a:pt x="109" y="1"/>
                        </a:lnTo>
                        <a:lnTo>
                          <a:pt x="113" y="0"/>
                        </a:lnTo>
                        <a:lnTo>
                          <a:pt x="115" y="1"/>
                        </a:lnTo>
                        <a:lnTo>
                          <a:pt x="118" y="2"/>
                        </a:lnTo>
                        <a:lnTo>
                          <a:pt x="119" y="4"/>
                        </a:lnTo>
                        <a:lnTo>
                          <a:pt x="120" y="10"/>
                        </a:lnTo>
                        <a:lnTo>
                          <a:pt x="122" y="19"/>
                        </a:lnTo>
                        <a:lnTo>
                          <a:pt x="125" y="29"/>
                        </a:lnTo>
                        <a:lnTo>
                          <a:pt x="126" y="32"/>
                        </a:lnTo>
                        <a:lnTo>
                          <a:pt x="130" y="32"/>
                        </a:lnTo>
                        <a:lnTo>
                          <a:pt x="135" y="32"/>
                        </a:lnTo>
                        <a:lnTo>
                          <a:pt x="137" y="32"/>
                        </a:lnTo>
                        <a:lnTo>
                          <a:pt x="140" y="32"/>
                        </a:lnTo>
                        <a:lnTo>
                          <a:pt x="141" y="32"/>
                        </a:lnTo>
                        <a:lnTo>
                          <a:pt x="142" y="27"/>
                        </a:lnTo>
                        <a:lnTo>
                          <a:pt x="144" y="18"/>
                        </a:lnTo>
                        <a:lnTo>
                          <a:pt x="147" y="9"/>
                        </a:lnTo>
                        <a:lnTo>
                          <a:pt x="149" y="2"/>
                        </a:lnTo>
                        <a:lnTo>
                          <a:pt x="151" y="0"/>
                        </a:lnTo>
                        <a:lnTo>
                          <a:pt x="153" y="0"/>
                        </a:lnTo>
                        <a:lnTo>
                          <a:pt x="156" y="0"/>
                        </a:lnTo>
                        <a:lnTo>
                          <a:pt x="158" y="0"/>
                        </a:lnTo>
                        <a:lnTo>
                          <a:pt x="162" y="0"/>
                        </a:lnTo>
                        <a:lnTo>
                          <a:pt x="167" y="1"/>
                        </a:lnTo>
                        <a:lnTo>
                          <a:pt x="175" y="1"/>
                        </a:lnTo>
                        <a:lnTo>
                          <a:pt x="185" y="2"/>
                        </a:lnTo>
                        <a:lnTo>
                          <a:pt x="195" y="2"/>
                        </a:lnTo>
                        <a:lnTo>
                          <a:pt x="205" y="2"/>
                        </a:lnTo>
                        <a:lnTo>
                          <a:pt x="215" y="1"/>
                        </a:lnTo>
                        <a:lnTo>
                          <a:pt x="223" y="0"/>
                        </a:lnTo>
                        <a:lnTo>
                          <a:pt x="227" y="0"/>
                        </a:lnTo>
                        <a:lnTo>
                          <a:pt x="231" y="0"/>
                        </a:lnTo>
                        <a:lnTo>
                          <a:pt x="233" y="1"/>
                        </a:lnTo>
                        <a:lnTo>
                          <a:pt x="234" y="3"/>
                        </a:lnTo>
                        <a:lnTo>
                          <a:pt x="235" y="10"/>
                        </a:lnTo>
                        <a:lnTo>
                          <a:pt x="238" y="19"/>
                        </a:lnTo>
                        <a:lnTo>
                          <a:pt x="240" y="29"/>
                        </a:lnTo>
                        <a:lnTo>
                          <a:pt x="241" y="32"/>
                        </a:lnTo>
                        <a:lnTo>
                          <a:pt x="246" y="32"/>
                        </a:lnTo>
                        <a:lnTo>
                          <a:pt x="249" y="32"/>
                        </a:lnTo>
                        <a:lnTo>
                          <a:pt x="253" y="32"/>
                        </a:lnTo>
                        <a:lnTo>
                          <a:pt x="254" y="33"/>
                        </a:lnTo>
                        <a:lnTo>
                          <a:pt x="255" y="33"/>
                        </a:lnTo>
                        <a:lnTo>
                          <a:pt x="256" y="29"/>
                        </a:lnTo>
                        <a:lnTo>
                          <a:pt x="258" y="19"/>
                        </a:lnTo>
                        <a:lnTo>
                          <a:pt x="261" y="9"/>
                        </a:lnTo>
                        <a:lnTo>
                          <a:pt x="263" y="3"/>
                        </a:lnTo>
                        <a:lnTo>
                          <a:pt x="265" y="1"/>
                        </a:lnTo>
                        <a:lnTo>
                          <a:pt x="268" y="0"/>
                        </a:lnTo>
                        <a:lnTo>
                          <a:pt x="270" y="1"/>
                        </a:lnTo>
                        <a:lnTo>
                          <a:pt x="272" y="1"/>
                        </a:lnTo>
                        <a:lnTo>
                          <a:pt x="276" y="1"/>
                        </a:lnTo>
                        <a:lnTo>
                          <a:pt x="281" y="2"/>
                        </a:lnTo>
                        <a:lnTo>
                          <a:pt x="289" y="2"/>
                        </a:lnTo>
                        <a:lnTo>
                          <a:pt x="299" y="2"/>
                        </a:lnTo>
                        <a:lnTo>
                          <a:pt x="309" y="3"/>
                        </a:lnTo>
                        <a:lnTo>
                          <a:pt x="319" y="3"/>
                        </a:lnTo>
                        <a:lnTo>
                          <a:pt x="329" y="2"/>
                        </a:lnTo>
                        <a:lnTo>
                          <a:pt x="337" y="1"/>
                        </a:lnTo>
                        <a:lnTo>
                          <a:pt x="341" y="0"/>
                        </a:lnTo>
                        <a:lnTo>
                          <a:pt x="345" y="0"/>
                        </a:lnTo>
                        <a:lnTo>
                          <a:pt x="347" y="2"/>
                        </a:lnTo>
                        <a:lnTo>
                          <a:pt x="348" y="4"/>
                        </a:lnTo>
                        <a:lnTo>
                          <a:pt x="349" y="10"/>
                        </a:lnTo>
                        <a:lnTo>
                          <a:pt x="352" y="19"/>
                        </a:lnTo>
                        <a:lnTo>
                          <a:pt x="353" y="27"/>
                        </a:lnTo>
                        <a:lnTo>
                          <a:pt x="354" y="31"/>
                        </a:lnTo>
                        <a:lnTo>
                          <a:pt x="360" y="33"/>
                        </a:lnTo>
                        <a:lnTo>
                          <a:pt x="364" y="33"/>
                        </a:lnTo>
                        <a:lnTo>
                          <a:pt x="367" y="32"/>
                        </a:lnTo>
                        <a:lnTo>
                          <a:pt x="369" y="32"/>
                        </a:lnTo>
                        <a:lnTo>
                          <a:pt x="370" y="32"/>
                        </a:lnTo>
                        <a:lnTo>
                          <a:pt x="371" y="27"/>
                        </a:lnTo>
                        <a:lnTo>
                          <a:pt x="374" y="18"/>
                        </a:lnTo>
                        <a:lnTo>
                          <a:pt x="376" y="9"/>
                        </a:lnTo>
                        <a:lnTo>
                          <a:pt x="378" y="2"/>
                        </a:lnTo>
                        <a:lnTo>
                          <a:pt x="380" y="0"/>
                        </a:lnTo>
                        <a:lnTo>
                          <a:pt x="382" y="0"/>
                        </a:lnTo>
                        <a:lnTo>
                          <a:pt x="384" y="0"/>
                        </a:lnTo>
                        <a:lnTo>
                          <a:pt x="386" y="0"/>
                        </a:lnTo>
                        <a:lnTo>
                          <a:pt x="390" y="0"/>
                        </a:lnTo>
                        <a:lnTo>
                          <a:pt x="395" y="1"/>
                        </a:lnTo>
                        <a:lnTo>
                          <a:pt x="403" y="1"/>
                        </a:lnTo>
                        <a:lnTo>
                          <a:pt x="414" y="2"/>
                        </a:lnTo>
                        <a:lnTo>
                          <a:pt x="424" y="2"/>
                        </a:lnTo>
                        <a:lnTo>
                          <a:pt x="435" y="2"/>
                        </a:lnTo>
                        <a:lnTo>
                          <a:pt x="444" y="1"/>
                        </a:lnTo>
                        <a:lnTo>
                          <a:pt x="452" y="0"/>
                        </a:lnTo>
                        <a:lnTo>
                          <a:pt x="456" y="0"/>
                        </a:lnTo>
                        <a:lnTo>
                          <a:pt x="459" y="0"/>
                        </a:lnTo>
                        <a:lnTo>
                          <a:pt x="461" y="1"/>
                        </a:lnTo>
                        <a:lnTo>
                          <a:pt x="462" y="3"/>
                        </a:lnTo>
                        <a:lnTo>
                          <a:pt x="463" y="10"/>
                        </a:lnTo>
                        <a:lnTo>
                          <a:pt x="466" y="19"/>
                        </a:lnTo>
                        <a:lnTo>
                          <a:pt x="468" y="29"/>
                        </a:lnTo>
                        <a:lnTo>
                          <a:pt x="469" y="32"/>
                        </a:lnTo>
                        <a:lnTo>
                          <a:pt x="475" y="32"/>
                        </a:lnTo>
                        <a:lnTo>
                          <a:pt x="482" y="32"/>
                        </a:lnTo>
                        <a:lnTo>
                          <a:pt x="484" y="33"/>
                        </a:lnTo>
                        <a:lnTo>
                          <a:pt x="484" y="34"/>
                        </a:lnTo>
                        <a:lnTo>
                          <a:pt x="485" y="37"/>
                        </a:lnTo>
                        <a:lnTo>
                          <a:pt x="485" y="40"/>
                        </a:lnTo>
                        <a:lnTo>
                          <a:pt x="486" y="49"/>
                        </a:lnTo>
                        <a:lnTo>
                          <a:pt x="488" y="65"/>
                        </a:lnTo>
                        <a:lnTo>
                          <a:pt x="489" y="82"/>
                        </a:lnTo>
                        <a:lnTo>
                          <a:pt x="489" y="90"/>
                        </a:lnTo>
                        <a:lnTo>
                          <a:pt x="489" y="92"/>
                        </a:lnTo>
                        <a:lnTo>
                          <a:pt x="486" y="93"/>
                        </a:lnTo>
                        <a:lnTo>
                          <a:pt x="484" y="94"/>
                        </a:lnTo>
                        <a:lnTo>
                          <a:pt x="481" y="94"/>
                        </a:lnTo>
                        <a:lnTo>
                          <a:pt x="474" y="94"/>
                        </a:lnTo>
                        <a:lnTo>
                          <a:pt x="459" y="94"/>
                        </a:lnTo>
                        <a:lnTo>
                          <a:pt x="435" y="94"/>
                        </a:lnTo>
                        <a:lnTo>
                          <a:pt x="405" y="94"/>
                        </a:lnTo>
                        <a:lnTo>
                          <a:pt x="370" y="94"/>
                        </a:lnTo>
                        <a:lnTo>
                          <a:pt x="331" y="94"/>
                        </a:lnTo>
                        <a:lnTo>
                          <a:pt x="289" y="94"/>
                        </a:lnTo>
                        <a:lnTo>
                          <a:pt x="247" y="94"/>
                        </a:lnTo>
                        <a:lnTo>
                          <a:pt x="204" y="94"/>
                        </a:lnTo>
                        <a:lnTo>
                          <a:pt x="163" y="94"/>
                        </a:lnTo>
                        <a:lnTo>
                          <a:pt x="125" y="94"/>
                        </a:lnTo>
                        <a:lnTo>
                          <a:pt x="90" y="94"/>
                        </a:lnTo>
                        <a:lnTo>
                          <a:pt x="60" y="94"/>
                        </a:lnTo>
                        <a:lnTo>
                          <a:pt x="38" y="94"/>
                        </a:lnTo>
                        <a:lnTo>
                          <a:pt x="23" y="94"/>
                        </a:lnTo>
                        <a:lnTo>
                          <a:pt x="19" y="94"/>
                        </a:lnTo>
                        <a:lnTo>
                          <a:pt x="16" y="94"/>
                        </a:lnTo>
                        <a:lnTo>
                          <a:pt x="12" y="93"/>
                        </a:lnTo>
                        <a:lnTo>
                          <a:pt x="7" y="91"/>
                        </a:lnTo>
                        <a:lnTo>
                          <a:pt x="5" y="83"/>
                        </a:lnTo>
                        <a:lnTo>
                          <a:pt x="4" y="70"/>
                        </a:lnTo>
                        <a:lnTo>
                          <a:pt x="0" y="54"/>
                        </a:lnTo>
                        <a:lnTo>
                          <a:pt x="1" y="39"/>
                        </a:lnTo>
                        <a:lnTo>
                          <a:pt x="9" y="33"/>
                        </a:lnTo>
                        <a:lnTo>
                          <a:pt x="27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623484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8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3" y="35"/>
                        </a:lnTo>
                        <a:lnTo>
                          <a:pt x="20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5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8" y="27"/>
                        </a:lnTo>
                        <a:lnTo>
                          <a:pt x="88" y="27"/>
                        </a:lnTo>
                        <a:lnTo>
                          <a:pt x="88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618732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8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3" y="0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3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8" y="35"/>
                        </a:lnTo>
                        <a:lnTo>
                          <a:pt x="8" y="35"/>
                        </a:lnTo>
                        <a:lnTo>
                          <a:pt x="12" y="35"/>
                        </a:lnTo>
                        <a:lnTo>
                          <a:pt x="19" y="37"/>
                        </a:lnTo>
                        <a:lnTo>
                          <a:pt x="30" y="37"/>
                        </a:lnTo>
                        <a:lnTo>
                          <a:pt x="41" y="38"/>
                        </a:lnTo>
                        <a:lnTo>
                          <a:pt x="53" y="38"/>
                        </a:lnTo>
                        <a:lnTo>
                          <a:pt x="64" y="38"/>
                        </a:lnTo>
                        <a:lnTo>
                          <a:pt x="74" y="37"/>
                        </a:lnTo>
                        <a:lnTo>
                          <a:pt x="79" y="35"/>
                        </a:lnTo>
                        <a:lnTo>
                          <a:pt x="79" y="35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7"/>
                        </a:lnTo>
                        <a:lnTo>
                          <a:pt x="87" y="27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613980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4" y="2"/>
                        </a:lnTo>
                        <a:lnTo>
                          <a:pt x="82" y="0"/>
                        </a:lnTo>
                        <a:lnTo>
                          <a:pt x="78" y="0"/>
                        </a:lnTo>
                        <a:lnTo>
                          <a:pt x="74" y="1"/>
                        </a:lnTo>
                        <a:lnTo>
                          <a:pt x="74" y="1"/>
                        </a:lnTo>
                        <a:lnTo>
                          <a:pt x="66" y="2"/>
                        </a:lnTo>
                        <a:lnTo>
                          <a:pt x="56" y="3"/>
                        </a:lnTo>
                        <a:lnTo>
                          <a:pt x="46" y="3"/>
                        </a:lnTo>
                        <a:lnTo>
                          <a:pt x="36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7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3" y="38"/>
                        </a:lnTo>
                        <a:lnTo>
                          <a:pt x="72" y="38"/>
                        </a:lnTo>
                        <a:lnTo>
                          <a:pt x="78" y="37"/>
                        </a:lnTo>
                        <a:lnTo>
                          <a:pt x="78" y="37"/>
                        </a:lnTo>
                        <a:lnTo>
                          <a:pt x="82" y="34"/>
                        </a:lnTo>
                        <a:lnTo>
                          <a:pt x="84" y="33"/>
                        </a:lnTo>
                        <a:lnTo>
                          <a:pt x="86" y="31"/>
                        </a:lnTo>
                        <a:lnTo>
                          <a:pt x="86" y="29"/>
                        </a:lnTo>
                        <a:lnTo>
                          <a:pt x="86" y="29"/>
                        </a:lnTo>
                        <a:lnTo>
                          <a:pt x="86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6092280" y="399564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5" y="4"/>
                        </a:moveTo>
                        <a:lnTo>
                          <a:pt x="85" y="4"/>
                        </a:lnTo>
                        <a:lnTo>
                          <a:pt x="85" y="2"/>
                        </a:lnTo>
                        <a:lnTo>
                          <a:pt x="83" y="1"/>
                        </a:lnTo>
                        <a:lnTo>
                          <a:pt x="79" y="0"/>
                        </a:lnTo>
                        <a:lnTo>
                          <a:pt x="75" y="1"/>
                        </a:lnTo>
                        <a:lnTo>
                          <a:pt x="75" y="1"/>
                        </a:lnTo>
                        <a:lnTo>
                          <a:pt x="67" y="2"/>
                        </a:lnTo>
                        <a:lnTo>
                          <a:pt x="57" y="3"/>
                        </a:lnTo>
                        <a:lnTo>
                          <a:pt x="47" y="3"/>
                        </a:lnTo>
                        <a:lnTo>
                          <a:pt x="37" y="2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9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2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8"/>
                        </a:lnTo>
                        <a:lnTo>
                          <a:pt x="53" y="39"/>
                        </a:lnTo>
                        <a:lnTo>
                          <a:pt x="64" y="38"/>
                        </a:lnTo>
                        <a:lnTo>
                          <a:pt x="73" y="38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3" y="34"/>
                        </a:lnTo>
                        <a:lnTo>
                          <a:pt x="85" y="33"/>
                        </a:lnTo>
                        <a:lnTo>
                          <a:pt x="86" y="31"/>
                        </a:lnTo>
                        <a:lnTo>
                          <a:pt x="87" y="29"/>
                        </a:lnTo>
                        <a:lnTo>
                          <a:pt x="87" y="29"/>
                        </a:lnTo>
                        <a:lnTo>
                          <a:pt x="87" y="23"/>
                        </a:lnTo>
                        <a:lnTo>
                          <a:pt x="86" y="15"/>
                        </a:lnTo>
                        <a:lnTo>
                          <a:pt x="85" y="8"/>
                        </a:lnTo>
                        <a:lnTo>
                          <a:pt x="85" y="4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679428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0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4" y="4"/>
                        </a:lnTo>
                        <a:lnTo>
                          <a:pt x="74" y="4"/>
                        </a:lnTo>
                        <a:lnTo>
                          <a:pt x="66" y="5"/>
                        </a:lnTo>
                        <a:lnTo>
                          <a:pt x="57" y="5"/>
                        </a:lnTo>
                        <a:lnTo>
                          <a:pt x="46" y="5"/>
                        </a:lnTo>
                        <a:lnTo>
                          <a:pt x="36" y="4"/>
                        </a:lnTo>
                        <a:lnTo>
                          <a:pt x="27" y="4"/>
                        </a:lnTo>
                        <a:lnTo>
                          <a:pt x="19" y="3"/>
                        </a:lnTo>
                        <a:lnTo>
                          <a:pt x="13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0" y="33"/>
                        </a:lnTo>
                        <a:lnTo>
                          <a:pt x="1" y="35"/>
                        </a:lnTo>
                        <a:lnTo>
                          <a:pt x="4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2" y="37"/>
                        </a:lnTo>
                        <a:lnTo>
                          <a:pt x="19" y="39"/>
                        </a:lnTo>
                        <a:lnTo>
                          <a:pt x="29" y="40"/>
                        </a:lnTo>
                        <a:lnTo>
                          <a:pt x="41" y="40"/>
                        </a:lnTo>
                        <a:lnTo>
                          <a:pt x="52" y="40"/>
                        </a:lnTo>
                        <a:lnTo>
                          <a:pt x="64" y="40"/>
                        </a:lnTo>
                        <a:lnTo>
                          <a:pt x="73" y="40"/>
                        </a:lnTo>
                        <a:lnTo>
                          <a:pt x="79" y="39"/>
                        </a:lnTo>
                        <a:lnTo>
                          <a:pt x="79" y="39"/>
                        </a:lnTo>
                        <a:lnTo>
                          <a:pt x="82" y="37"/>
                        </a:lnTo>
                        <a:lnTo>
                          <a:pt x="84" y="36"/>
                        </a:lnTo>
                        <a:lnTo>
                          <a:pt x="86" y="34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6"/>
                        </a:lnTo>
                        <a:lnTo>
                          <a:pt x="87" y="18"/>
                        </a:lnTo>
                        <a:lnTo>
                          <a:pt x="86" y="11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6840360" y="404820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40">
                        <a:moveTo>
                          <a:pt x="85" y="7"/>
                        </a:moveTo>
                        <a:lnTo>
                          <a:pt x="85" y="7"/>
                        </a:lnTo>
                        <a:lnTo>
                          <a:pt x="84" y="5"/>
                        </a:lnTo>
                        <a:lnTo>
                          <a:pt x="82" y="3"/>
                        </a:lnTo>
                        <a:lnTo>
                          <a:pt x="79" y="3"/>
                        </a:lnTo>
                        <a:lnTo>
                          <a:pt x="75" y="4"/>
                        </a:lnTo>
                        <a:lnTo>
                          <a:pt x="75" y="4"/>
                        </a:lnTo>
                        <a:lnTo>
                          <a:pt x="67" y="5"/>
                        </a:lnTo>
                        <a:lnTo>
                          <a:pt x="56" y="5"/>
                        </a:lnTo>
                        <a:lnTo>
                          <a:pt x="46" y="5"/>
                        </a:lnTo>
                        <a:lnTo>
                          <a:pt x="35" y="4"/>
                        </a:lnTo>
                        <a:lnTo>
                          <a:pt x="26" y="3"/>
                        </a:lnTo>
                        <a:lnTo>
                          <a:pt x="18" y="3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7" y="2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11"/>
                        </a:lnTo>
                        <a:lnTo>
                          <a:pt x="0" y="18"/>
                        </a:lnTo>
                        <a:lnTo>
                          <a:pt x="0" y="25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2"/>
                        </a:lnTo>
                        <a:lnTo>
                          <a:pt x="2" y="34"/>
                        </a:lnTo>
                        <a:lnTo>
                          <a:pt x="3" y="36"/>
                        </a:lnTo>
                        <a:lnTo>
                          <a:pt x="7" y="37"/>
                        </a:lnTo>
                        <a:lnTo>
                          <a:pt x="7" y="37"/>
                        </a:lnTo>
                        <a:lnTo>
                          <a:pt x="11" y="37"/>
                        </a:lnTo>
                        <a:lnTo>
                          <a:pt x="18" y="39"/>
                        </a:lnTo>
                        <a:lnTo>
                          <a:pt x="29" y="40"/>
                        </a:lnTo>
                        <a:lnTo>
                          <a:pt x="40" y="40"/>
                        </a:lnTo>
                        <a:lnTo>
                          <a:pt x="52" y="40"/>
                        </a:lnTo>
                        <a:lnTo>
                          <a:pt x="63" y="40"/>
                        </a:lnTo>
                        <a:lnTo>
                          <a:pt x="72" y="40"/>
                        </a:lnTo>
                        <a:lnTo>
                          <a:pt x="78" y="39"/>
                        </a:lnTo>
                        <a:lnTo>
                          <a:pt x="78" y="39"/>
                        </a:lnTo>
                        <a:lnTo>
                          <a:pt x="82" y="37"/>
                        </a:lnTo>
                        <a:lnTo>
                          <a:pt x="84" y="35"/>
                        </a:lnTo>
                        <a:lnTo>
                          <a:pt x="85" y="33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5"/>
                        </a:lnTo>
                        <a:lnTo>
                          <a:pt x="86" y="17"/>
                        </a:lnTo>
                        <a:lnTo>
                          <a:pt x="85" y="11"/>
                        </a:lnTo>
                        <a:lnTo>
                          <a:pt x="85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6746040" y="404892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7"/>
                        </a:moveTo>
                        <a:lnTo>
                          <a:pt x="86" y="7"/>
                        </a:lnTo>
                        <a:lnTo>
                          <a:pt x="85" y="4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3"/>
                        </a:lnTo>
                        <a:lnTo>
                          <a:pt x="75" y="3"/>
                        </a:lnTo>
                        <a:lnTo>
                          <a:pt x="67" y="4"/>
                        </a:lnTo>
                        <a:lnTo>
                          <a:pt x="58" y="4"/>
                        </a:lnTo>
                        <a:lnTo>
                          <a:pt x="47" y="4"/>
                        </a:lnTo>
                        <a:lnTo>
                          <a:pt x="37" y="3"/>
                        </a:lnTo>
                        <a:lnTo>
                          <a:pt x="28" y="2"/>
                        </a:lnTo>
                        <a:lnTo>
                          <a:pt x="20" y="2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1" y="28"/>
                        </a:lnTo>
                        <a:lnTo>
                          <a:pt x="1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5" y="35"/>
                        </a:lnTo>
                        <a:lnTo>
                          <a:pt x="8" y="37"/>
                        </a:lnTo>
                        <a:lnTo>
                          <a:pt x="8" y="37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30" y="39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5" y="35"/>
                        </a:lnTo>
                        <a:lnTo>
                          <a:pt x="86" y="33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5"/>
                        </a:lnTo>
                        <a:lnTo>
                          <a:pt x="87" y="17"/>
                        </a:lnTo>
                        <a:lnTo>
                          <a:pt x="86" y="10"/>
                        </a:lnTo>
                        <a:lnTo>
                          <a:pt x="86" y="7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679788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39">
                        <a:moveTo>
                          <a:pt x="86" y="6"/>
                        </a:moveTo>
                        <a:lnTo>
                          <a:pt x="86" y="6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80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8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10" y="1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4" y="39"/>
                        </a:lnTo>
                        <a:lnTo>
                          <a:pt x="73" y="39"/>
                        </a:lnTo>
                        <a:lnTo>
                          <a:pt x="79" y="38"/>
                        </a:lnTo>
                        <a:lnTo>
                          <a:pt x="79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7" y="32"/>
                        </a:lnTo>
                        <a:lnTo>
                          <a:pt x="87" y="30"/>
                        </a:lnTo>
                        <a:lnTo>
                          <a:pt x="87" y="30"/>
                        </a:lnTo>
                        <a:lnTo>
                          <a:pt x="87" y="24"/>
                        </a:lnTo>
                        <a:lnTo>
                          <a:pt x="87" y="16"/>
                        </a:lnTo>
                        <a:lnTo>
                          <a:pt x="86" y="9"/>
                        </a:lnTo>
                        <a:lnTo>
                          <a:pt x="86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6844320" y="4074840"/>
                    <a:ext cx="356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6"/>
                        </a:moveTo>
                        <a:lnTo>
                          <a:pt x="85" y="6"/>
                        </a:lnTo>
                        <a:lnTo>
                          <a:pt x="84" y="3"/>
                        </a:lnTo>
                        <a:lnTo>
                          <a:pt x="83" y="1"/>
                        </a:lnTo>
                        <a:lnTo>
                          <a:pt x="80" y="1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8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7" y="2"/>
                        </a:lnTo>
                        <a:lnTo>
                          <a:pt x="19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8"/>
                        </a:lnTo>
                        <a:lnTo>
                          <a:pt x="0" y="28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4" y="34"/>
                        </a:lnTo>
                        <a:lnTo>
                          <a:pt x="7" y="36"/>
                        </a:lnTo>
                        <a:lnTo>
                          <a:pt x="7" y="36"/>
                        </a:lnTo>
                        <a:lnTo>
                          <a:pt x="12" y="36"/>
                        </a:lnTo>
                        <a:lnTo>
                          <a:pt x="20" y="37"/>
                        </a:lnTo>
                        <a:lnTo>
                          <a:pt x="30" y="38"/>
                        </a:lnTo>
                        <a:lnTo>
                          <a:pt x="42" y="38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3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6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6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  <a:close/>
                      </a:path>
                    </a:pathLst>
                  </a:custGeom>
                  <a:solidFill>
                    <a:srgbClr val="e5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6748560" y="4074120"/>
                    <a:ext cx="36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39">
                        <a:moveTo>
                          <a:pt x="85" y="5"/>
                        </a:moveTo>
                        <a:lnTo>
                          <a:pt x="85" y="5"/>
                        </a:lnTo>
                        <a:lnTo>
                          <a:pt x="84" y="3"/>
                        </a:lnTo>
                        <a:lnTo>
                          <a:pt x="83" y="2"/>
                        </a:lnTo>
                        <a:lnTo>
                          <a:pt x="79" y="2"/>
                        </a:lnTo>
                        <a:lnTo>
                          <a:pt x="75" y="2"/>
                        </a:lnTo>
                        <a:lnTo>
                          <a:pt x="75" y="2"/>
                        </a:lnTo>
                        <a:lnTo>
                          <a:pt x="67" y="3"/>
                        </a:lnTo>
                        <a:lnTo>
                          <a:pt x="57" y="4"/>
                        </a:lnTo>
                        <a:lnTo>
                          <a:pt x="47" y="3"/>
                        </a:lnTo>
                        <a:lnTo>
                          <a:pt x="37" y="3"/>
                        </a:lnTo>
                        <a:lnTo>
                          <a:pt x="26" y="2"/>
                        </a:lnTo>
                        <a:lnTo>
                          <a:pt x="18" y="2"/>
                        </a:lnTo>
                        <a:lnTo>
                          <a:pt x="13" y="1"/>
                        </a:lnTo>
                        <a:lnTo>
                          <a:pt x="9" y="1"/>
                        </a:lnTo>
                        <a:lnTo>
                          <a:pt x="9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0" y="10"/>
                        </a:lnTo>
                        <a:lnTo>
                          <a:pt x="0" y="17"/>
                        </a:lnTo>
                        <a:lnTo>
                          <a:pt x="0" y="24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2" y="33"/>
                        </a:lnTo>
                        <a:lnTo>
                          <a:pt x="3" y="34"/>
                        </a:lnTo>
                        <a:lnTo>
                          <a:pt x="7" y="35"/>
                        </a:lnTo>
                        <a:lnTo>
                          <a:pt x="7" y="35"/>
                        </a:lnTo>
                        <a:lnTo>
                          <a:pt x="11" y="37"/>
                        </a:lnTo>
                        <a:lnTo>
                          <a:pt x="19" y="38"/>
                        </a:lnTo>
                        <a:lnTo>
                          <a:pt x="30" y="38"/>
                        </a:lnTo>
                        <a:lnTo>
                          <a:pt x="41" y="39"/>
                        </a:lnTo>
                        <a:lnTo>
                          <a:pt x="53" y="39"/>
                        </a:lnTo>
                        <a:lnTo>
                          <a:pt x="63" y="39"/>
                        </a:lnTo>
                        <a:lnTo>
                          <a:pt x="72" y="39"/>
                        </a:lnTo>
                        <a:lnTo>
                          <a:pt x="78" y="38"/>
                        </a:lnTo>
                        <a:lnTo>
                          <a:pt x="78" y="38"/>
                        </a:lnTo>
                        <a:lnTo>
                          <a:pt x="82" y="37"/>
                        </a:lnTo>
                        <a:lnTo>
                          <a:pt x="84" y="34"/>
                        </a:lnTo>
                        <a:lnTo>
                          <a:pt x="86" y="32"/>
                        </a:lnTo>
                        <a:lnTo>
                          <a:pt x="86" y="30"/>
                        </a:lnTo>
                        <a:lnTo>
                          <a:pt x="86" y="30"/>
                        </a:lnTo>
                        <a:lnTo>
                          <a:pt x="86" y="24"/>
                        </a:lnTo>
                        <a:lnTo>
                          <a:pt x="86" y="16"/>
                        </a:lnTo>
                        <a:lnTo>
                          <a:pt x="85" y="9"/>
                        </a:lnTo>
                        <a:lnTo>
                          <a:pt x="85" y="5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891400" y="4239000"/>
                    <a:ext cx="13006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24" h="14">
                        <a:moveTo>
                          <a:pt x="0" y="7"/>
                        </a:moveTo>
                        <a:lnTo>
                          <a:pt x="0" y="14"/>
                        </a:lnTo>
                        <a:lnTo>
                          <a:pt x="3124" y="14"/>
                        </a:lnTo>
                        <a:lnTo>
                          <a:pt x="3124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136920" y="3475080"/>
                  <a:ext cx="470520" cy="472680"/>
                  <a:chOff x="6136920" y="3475080"/>
                  <a:chExt cx="470520" cy="472680"/>
                </a:xfrm>
              </p:grpSpPr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6136920" y="3475080"/>
                    <a:ext cx="421200" cy="416880"/>
                    <a:chOff x="6136920" y="3475080"/>
                    <a:chExt cx="421200" cy="41688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rot="13717200">
                      <a:off x="6228360" y="350460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rot="13717200">
                      <a:off x="6264720" y="35564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 rot="13717200">
                      <a:off x="6301080" y="360900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6280200" y="3616920"/>
                    <a:ext cx="311400" cy="315360"/>
                    <a:chOff x="6280200" y="3616920"/>
                    <a:chExt cx="311400" cy="315360"/>
                  </a:xfrm>
                </p:grpSpPr>
                <p:sp>
                  <p:nvSpPr>
                    <p:cNvPr id="864" name=""/>
                    <p:cNvSpPr/>
                    <p:nvPr/>
                  </p:nvSpPr>
                  <p:spPr>
                    <a:xfrm rot="13717200">
                      <a:off x="6333120" y="3652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 rot="13717200">
                      <a:off x="6364080" y="369180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 rot="13717200">
                      <a:off x="6394320" y="373176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7" name=""/>
                  <p:cNvSpPr/>
                  <p:nvPr/>
                </p:nvSpPr>
                <p:spPr>
                  <a:xfrm rot="13717200">
                    <a:off x="6424200" y="376200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13717200">
                    <a:off x="6454080" y="37954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rot="13717200">
                    <a:off x="6481440" y="3826800"/>
                    <a:ext cx="1076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rot="13717200">
                    <a:off x="6512040" y="384444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1" name=""/>
              <p:cNvGrpSpPr/>
              <p:nvPr/>
            </p:nvGrpSpPr>
            <p:grpSpPr>
              <a:xfrm>
                <a:off x="6629400" y="3294360"/>
                <a:ext cx="823320" cy="588960"/>
                <a:chOff x="6629400" y="3294360"/>
                <a:chExt cx="823320" cy="588960"/>
              </a:xfrm>
            </p:grpSpPr>
            <p:grpSp>
              <p:nvGrpSpPr>
                <p:cNvPr id="872" name=""/>
                <p:cNvGrpSpPr/>
                <p:nvPr/>
              </p:nvGrpSpPr>
              <p:grpSpPr>
                <a:xfrm>
                  <a:off x="6999120" y="3625920"/>
                  <a:ext cx="453600" cy="257400"/>
                  <a:chOff x="6999120" y="3625920"/>
                  <a:chExt cx="453600" cy="2574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22200">
                    <a:off x="7011000" y="3754800"/>
                    <a:ext cx="4370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2" h="919">
                        <a:moveTo>
                          <a:pt x="4" y="394"/>
                        </a:moveTo>
                        <a:lnTo>
                          <a:pt x="0" y="428"/>
                        </a:lnTo>
                        <a:lnTo>
                          <a:pt x="7" y="448"/>
                        </a:lnTo>
                        <a:lnTo>
                          <a:pt x="25" y="467"/>
                        </a:lnTo>
                        <a:lnTo>
                          <a:pt x="53" y="484"/>
                        </a:lnTo>
                        <a:lnTo>
                          <a:pt x="94" y="496"/>
                        </a:lnTo>
                        <a:lnTo>
                          <a:pt x="144" y="508"/>
                        </a:lnTo>
                        <a:lnTo>
                          <a:pt x="207" y="522"/>
                        </a:lnTo>
                        <a:lnTo>
                          <a:pt x="311" y="539"/>
                        </a:lnTo>
                        <a:lnTo>
                          <a:pt x="455" y="563"/>
                        </a:lnTo>
                        <a:lnTo>
                          <a:pt x="614" y="595"/>
                        </a:lnTo>
                        <a:lnTo>
                          <a:pt x="876" y="651"/>
                        </a:lnTo>
                        <a:lnTo>
                          <a:pt x="1062" y="689"/>
                        </a:lnTo>
                        <a:lnTo>
                          <a:pt x="1276" y="725"/>
                        </a:lnTo>
                        <a:lnTo>
                          <a:pt x="1560" y="779"/>
                        </a:lnTo>
                        <a:lnTo>
                          <a:pt x="1801" y="822"/>
                        </a:lnTo>
                        <a:lnTo>
                          <a:pt x="2041" y="869"/>
                        </a:lnTo>
                        <a:lnTo>
                          <a:pt x="2326" y="912"/>
                        </a:lnTo>
                        <a:lnTo>
                          <a:pt x="2411" y="916"/>
                        </a:lnTo>
                        <a:lnTo>
                          <a:pt x="2494" y="919"/>
                        </a:lnTo>
                        <a:lnTo>
                          <a:pt x="2577" y="911"/>
                        </a:lnTo>
                        <a:lnTo>
                          <a:pt x="2647" y="898"/>
                        </a:lnTo>
                        <a:lnTo>
                          <a:pt x="2748" y="869"/>
                        </a:lnTo>
                        <a:lnTo>
                          <a:pt x="2841" y="825"/>
                        </a:lnTo>
                        <a:lnTo>
                          <a:pt x="2905" y="781"/>
                        </a:lnTo>
                        <a:lnTo>
                          <a:pt x="2974" y="718"/>
                        </a:lnTo>
                        <a:lnTo>
                          <a:pt x="3065" y="622"/>
                        </a:lnTo>
                        <a:lnTo>
                          <a:pt x="3093" y="581"/>
                        </a:lnTo>
                        <a:lnTo>
                          <a:pt x="3117" y="541"/>
                        </a:lnTo>
                        <a:lnTo>
                          <a:pt x="3140" y="492"/>
                        </a:lnTo>
                        <a:lnTo>
                          <a:pt x="3153" y="450"/>
                        </a:lnTo>
                        <a:lnTo>
                          <a:pt x="3162" y="403"/>
                        </a:lnTo>
                        <a:lnTo>
                          <a:pt x="3162" y="356"/>
                        </a:lnTo>
                        <a:lnTo>
                          <a:pt x="3151" y="304"/>
                        </a:lnTo>
                        <a:lnTo>
                          <a:pt x="773" y="0"/>
                        </a:lnTo>
                        <a:lnTo>
                          <a:pt x="43" y="303"/>
                        </a:lnTo>
                        <a:lnTo>
                          <a:pt x="4" y="3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22200">
                    <a:off x="7049520" y="3661920"/>
                    <a:ext cx="96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7" h="120">
                        <a:moveTo>
                          <a:pt x="23" y="90"/>
                        </a:moveTo>
                        <a:lnTo>
                          <a:pt x="0" y="120"/>
                        </a:lnTo>
                        <a:lnTo>
                          <a:pt x="686" y="50"/>
                        </a:lnTo>
                        <a:lnTo>
                          <a:pt x="697" y="35"/>
                        </a:lnTo>
                        <a:lnTo>
                          <a:pt x="382" y="0"/>
                        </a:lnTo>
                        <a:lnTo>
                          <a:pt x="23" y="9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rot="22200">
                    <a:off x="6999480" y="3749400"/>
                    <a:ext cx="4496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56" h="919">
                        <a:moveTo>
                          <a:pt x="0" y="119"/>
                        </a:moveTo>
                        <a:lnTo>
                          <a:pt x="3" y="153"/>
                        </a:lnTo>
                        <a:lnTo>
                          <a:pt x="8" y="188"/>
                        </a:lnTo>
                        <a:lnTo>
                          <a:pt x="12" y="221"/>
                        </a:lnTo>
                        <a:lnTo>
                          <a:pt x="21" y="255"/>
                        </a:lnTo>
                        <a:lnTo>
                          <a:pt x="29" y="286"/>
                        </a:lnTo>
                        <a:lnTo>
                          <a:pt x="38" y="319"/>
                        </a:lnTo>
                        <a:lnTo>
                          <a:pt x="51" y="358"/>
                        </a:lnTo>
                        <a:lnTo>
                          <a:pt x="81" y="421"/>
                        </a:lnTo>
                        <a:lnTo>
                          <a:pt x="103" y="453"/>
                        </a:lnTo>
                        <a:lnTo>
                          <a:pt x="132" y="477"/>
                        </a:lnTo>
                        <a:lnTo>
                          <a:pt x="170" y="497"/>
                        </a:lnTo>
                        <a:lnTo>
                          <a:pt x="200" y="506"/>
                        </a:lnTo>
                        <a:lnTo>
                          <a:pt x="284" y="522"/>
                        </a:lnTo>
                        <a:lnTo>
                          <a:pt x="389" y="540"/>
                        </a:lnTo>
                        <a:lnTo>
                          <a:pt x="531" y="564"/>
                        </a:lnTo>
                        <a:lnTo>
                          <a:pt x="690" y="595"/>
                        </a:lnTo>
                        <a:lnTo>
                          <a:pt x="952" y="651"/>
                        </a:lnTo>
                        <a:lnTo>
                          <a:pt x="1139" y="689"/>
                        </a:lnTo>
                        <a:lnTo>
                          <a:pt x="1353" y="725"/>
                        </a:lnTo>
                        <a:lnTo>
                          <a:pt x="1636" y="779"/>
                        </a:lnTo>
                        <a:lnTo>
                          <a:pt x="1878" y="823"/>
                        </a:lnTo>
                        <a:lnTo>
                          <a:pt x="2118" y="870"/>
                        </a:lnTo>
                        <a:lnTo>
                          <a:pt x="2403" y="912"/>
                        </a:lnTo>
                        <a:lnTo>
                          <a:pt x="2487" y="917"/>
                        </a:lnTo>
                        <a:lnTo>
                          <a:pt x="2570" y="919"/>
                        </a:lnTo>
                        <a:lnTo>
                          <a:pt x="2653" y="911"/>
                        </a:lnTo>
                        <a:lnTo>
                          <a:pt x="2723" y="898"/>
                        </a:lnTo>
                        <a:lnTo>
                          <a:pt x="2824" y="870"/>
                        </a:lnTo>
                        <a:lnTo>
                          <a:pt x="2918" y="825"/>
                        </a:lnTo>
                        <a:lnTo>
                          <a:pt x="2981" y="781"/>
                        </a:lnTo>
                        <a:lnTo>
                          <a:pt x="3050" y="719"/>
                        </a:lnTo>
                        <a:lnTo>
                          <a:pt x="3142" y="623"/>
                        </a:lnTo>
                        <a:lnTo>
                          <a:pt x="3170" y="581"/>
                        </a:lnTo>
                        <a:lnTo>
                          <a:pt x="3193" y="542"/>
                        </a:lnTo>
                        <a:lnTo>
                          <a:pt x="3217" y="492"/>
                        </a:lnTo>
                        <a:lnTo>
                          <a:pt x="3229" y="451"/>
                        </a:lnTo>
                        <a:lnTo>
                          <a:pt x="3243" y="404"/>
                        </a:lnTo>
                        <a:lnTo>
                          <a:pt x="3250" y="355"/>
                        </a:lnTo>
                        <a:lnTo>
                          <a:pt x="3256" y="308"/>
                        </a:lnTo>
                        <a:lnTo>
                          <a:pt x="848" y="0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rot="22200">
                    <a:off x="6999840" y="3759480"/>
                    <a:ext cx="44964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57" h="507">
                        <a:moveTo>
                          <a:pt x="0" y="42"/>
                        </a:moveTo>
                        <a:lnTo>
                          <a:pt x="2" y="72"/>
                        </a:lnTo>
                        <a:lnTo>
                          <a:pt x="12" y="91"/>
                        </a:lnTo>
                        <a:lnTo>
                          <a:pt x="23" y="102"/>
                        </a:lnTo>
                        <a:lnTo>
                          <a:pt x="39" y="110"/>
                        </a:lnTo>
                        <a:lnTo>
                          <a:pt x="53" y="112"/>
                        </a:lnTo>
                        <a:lnTo>
                          <a:pt x="67" y="113"/>
                        </a:lnTo>
                        <a:lnTo>
                          <a:pt x="80" y="113"/>
                        </a:lnTo>
                        <a:lnTo>
                          <a:pt x="95" y="112"/>
                        </a:lnTo>
                        <a:lnTo>
                          <a:pt x="113" y="108"/>
                        </a:lnTo>
                        <a:lnTo>
                          <a:pt x="131" y="105"/>
                        </a:lnTo>
                        <a:lnTo>
                          <a:pt x="154" y="100"/>
                        </a:lnTo>
                        <a:lnTo>
                          <a:pt x="182" y="95"/>
                        </a:lnTo>
                        <a:lnTo>
                          <a:pt x="205" y="90"/>
                        </a:lnTo>
                        <a:lnTo>
                          <a:pt x="231" y="85"/>
                        </a:lnTo>
                        <a:lnTo>
                          <a:pt x="255" y="82"/>
                        </a:lnTo>
                        <a:lnTo>
                          <a:pt x="274" y="78"/>
                        </a:lnTo>
                        <a:lnTo>
                          <a:pt x="292" y="76"/>
                        </a:lnTo>
                        <a:lnTo>
                          <a:pt x="313" y="74"/>
                        </a:lnTo>
                        <a:lnTo>
                          <a:pt x="341" y="71"/>
                        </a:lnTo>
                        <a:lnTo>
                          <a:pt x="374" y="68"/>
                        </a:lnTo>
                        <a:lnTo>
                          <a:pt x="407" y="66"/>
                        </a:lnTo>
                        <a:lnTo>
                          <a:pt x="443" y="62"/>
                        </a:lnTo>
                        <a:lnTo>
                          <a:pt x="477" y="60"/>
                        </a:lnTo>
                        <a:lnTo>
                          <a:pt x="514" y="58"/>
                        </a:lnTo>
                        <a:lnTo>
                          <a:pt x="551" y="55"/>
                        </a:lnTo>
                        <a:lnTo>
                          <a:pt x="592" y="53"/>
                        </a:lnTo>
                        <a:lnTo>
                          <a:pt x="628" y="52"/>
                        </a:lnTo>
                        <a:lnTo>
                          <a:pt x="663" y="52"/>
                        </a:lnTo>
                        <a:lnTo>
                          <a:pt x="695" y="51"/>
                        </a:lnTo>
                        <a:lnTo>
                          <a:pt x="732" y="51"/>
                        </a:lnTo>
                        <a:lnTo>
                          <a:pt x="768" y="50"/>
                        </a:lnTo>
                        <a:lnTo>
                          <a:pt x="803" y="50"/>
                        </a:lnTo>
                        <a:lnTo>
                          <a:pt x="832" y="50"/>
                        </a:lnTo>
                        <a:lnTo>
                          <a:pt x="858" y="52"/>
                        </a:lnTo>
                        <a:lnTo>
                          <a:pt x="887" y="53"/>
                        </a:lnTo>
                        <a:lnTo>
                          <a:pt x="916" y="56"/>
                        </a:lnTo>
                        <a:lnTo>
                          <a:pt x="937" y="59"/>
                        </a:lnTo>
                        <a:lnTo>
                          <a:pt x="956" y="62"/>
                        </a:lnTo>
                        <a:lnTo>
                          <a:pt x="976" y="64"/>
                        </a:lnTo>
                        <a:lnTo>
                          <a:pt x="996" y="66"/>
                        </a:lnTo>
                        <a:lnTo>
                          <a:pt x="1019" y="71"/>
                        </a:lnTo>
                        <a:lnTo>
                          <a:pt x="1043" y="74"/>
                        </a:lnTo>
                        <a:lnTo>
                          <a:pt x="1068" y="78"/>
                        </a:lnTo>
                        <a:lnTo>
                          <a:pt x="1087" y="82"/>
                        </a:lnTo>
                        <a:lnTo>
                          <a:pt x="1109" y="85"/>
                        </a:lnTo>
                        <a:lnTo>
                          <a:pt x="1137" y="90"/>
                        </a:lnTo>
                        <a:lnTo>
                          <a:pt x="1165" y="95"/>
                        </a:lnTo>
                        <a:lnTo>
                          <a:pt x="1190" y="99"/>
                        </a:lnTo>
                        <a:lnTo>
                          <a:pt x="1218" y="103"/>
                        </a:lnTo>
                        <a:lnTo>
                          <a:pt x="1249" y="109"/>
                        </a:lnTo>
                        <a:lnTo>
                          <a:pt x="1276" y="114"/>
                        </a:lnTo>
                        <a:lnTo>
                          <a:pt x="1302" y="120"/>
                        </a:lnTo>
                        <a:lnTo>
                          <a:pt x="1338" y="126"/>
                        </a:lnTo>
                        <a:lnTo>
                          <a:pt x="1362" y="131"/>
                        </a:lnTo>
                        <a:lnTo>
                          <a:pt x="1394" y="136"/>
                        </a:lnTo>
                        <a:lnTo>
                          <a:pt x="1425" y="144"/>
                        </a:lnTo>
                        <a:lnTo>
                          <a:pt x="1461" y="150"/>
                        </a:lnTo>
                        <a:lnTo>
                          <a:pt x="1497" y="157"/>
                        </a:lnTo>
                        <a:lnTo>
                          <a:pt x="1532" y="165"/>
                        </a:lnTo>
                        <a:lnTo>
                          <a:pt x="1558" y="169"/>
                        </a:lnTo>
                        <a:lnTo>
                          <a:pt x="1585" y="176"/>
                        </a:lnTo>
                        <a:lnTo>
                          <a:pt x="1619" y="183"/>
                        </a:lnTo>
                        <a:lnTo>
                          <a:pt x="1648" y="190"/>
                        </a:lnTo>
                        <a:lnTo>
                          <a:pt x="1683" y="198"/>
                        </a:lnTo>
                        <a:lnTo>
                          <a:pt x="1712" y="205"/>
                        </a:lnTo>
                        <a:lnTo>
                          <a:pt x="1740" y="213"/>
                        </a:lnTo>
                        <a:lnTo>
                          <a:pt x="1767" y="223"/>
                        </a:lnTo>
                        <a:lnTo>
                          <a:pt x="1791" y="229"/>
                        </a:lnTo>
                        <a:lnTo>
                          <a:pt x="1813" y="237"/>
                        </a:lnTo>
                        <a:lnTo>
                          <a:pt x="1833" y="243"/>
                        </a:lnTo>
                        <a:lnTo>
                          <a:pt x="1854" y="250"/>
                        </a:lnTo>
                        <a:lnTo>
                          <a:pt x="1873" y="257"/>
                        </a:lnTo>
                        <a:lnTo>
                          <a:pt x="1891" y="262"/>
                        </a:lnTo>
                        <a:lnTo>
                          <a:pt x="1912" y="270"/>
                        </a:lnTo>
                        <a:lnTo>
                          <a:pt x="1931" y="277"/>
                        </a:lnTo>
                        <a:lnTo>
                          <a:pt x="1948" y="285"/>
                        </a:lnTo>
                        <a:lnTo>
                          <a:pt x="1973" y="295"/>
                        </a:lnTo>
                        <a:lnTo>
                          <a:pt x="1997" y="306"/>
                        </a:lnTo>
                        <a:lnTo>
                          <a:pt x="2022" y="316"/>
                        </a:lnTo>
                        <a:lnTo>
                          <a:pt x="2056" y="330"/>
                        </a:lnTo>
                        <a:lnTo>
                          <a:pt x="2083" y="341"/>
                        </a:lnTo>
                        <a:lnTo>
                          <a:pt x="2122" y="358"/>
                        </a:lnTo>
                        <a:lnTo>
                          <a:pt x="2165" y="376"/>
                        </a:lnTo>
                        <a:lnTo>
                          <a:pt x="2215" y="393"/>
                        </a:lnTo>
                        <a:lnTo>
                          <a:pt x="2261" y="410"/>
                        </a:lnTo>
                        <a:lnTo>
                          <a:pt x="2313" y="426"/>
                        </a:lnTo>
                        <a:lnTo>
                          <a:pt x="2360" y="443"/>
                        </a:lnTo>
                        <a:lnTo>
                          <a:pt x="2411" y="458"/>
                        </a:lnTo>
                        <a:lnTo>
                          <a:pt x="2456" y="471"/>
                        </a:lnTo>
                        <a:lnTo>
                          <a:pt x="2492" y="480"/>
                        </a:lnTo>
                        <a:lnTo>
                          <a:pt x="2533" y="488"/>
                        </a:lnTo>
                        <a:lnTo>
                          <a:pt x="2577" y="497"/>
                        </a:lnTo>
                        <a:lnTo>
                          <a:pt x="2622" y="503"/>
                        </a:lnTo>
                        <a:lnTo>
                          <a:pt x="2673" y="506"/>
                        </a:lnTo>
                        <a:lnTo>
                          <a:pt x="2726" y="507"/>
                        </a:lnTo>
                        <a:lnTo>
                          <a:pt x="2789" y="506"/>
                        </a:lnTo>
                        <a:lnTo>
                          <a:pt x="2837" y="502"/>
                        </a:lnTo>
                        <a:lnTo>
                          <a:pt x="2875" y="497"/>
                        </a:lnTo>
                        <a:lnTo>
                          <a:pt x="2918" y="490"/>
                        </a:lnTo>
                        <a:lnTo>
                          <a:pt x="2958" y="479"/>
                        </a:lnTo>
                        <a:lnTo>
                          <a:pt x="2998" y="467"/>
                        </a:lnTo>
                        <a:lnTo>
                          <a:pt x="3038" y="452"/>
                        </a:lnTo>
                        <a:lnTo>
                          <a:pt x="3074" y="437"/>
                        </a:lnTo>
                        <a:lnTo>
                          <a:pt x="3101" y="422"/>
                        </a:lnTo>
                        <a:lnTo>
                          <a:pt x="3131" y="405"/>
                        </a:lnTo>
                        <a:lnTo>
                          <a:pt x="3163" y="386"/>
                        </a:lnTo>
                        <a:lnTo>
                          <a:pt x="3190" y="368"/>
                        </a:lnTo>
                        <a:lnTo>
                          <a:pt x="3214" y="346"/>
                        </a:lnTo>
                        <a:lnTo>
                          <a:pt x="3230" y="319"/>
                        </a:lnTo>
                        <a:lnTo>
                          <a:pt x="3245" y="292"/>
                        </a:lnTo>
                        <a:lnTo>
                          <a:pt x="3253" y="263"/>
                        </a:lnTo>
                        <a:lnTo>
                          <a:pt x="3257" y="238"/>
                        </a:lnTo>
                        <a:lnTo>
                          <a:pt x="3176" y="344"/>
                        </a:lnTo>
                        <a:lnTo>
                          <a:pt x="2923" y="457"/>
                        </a:lnTo>
                        <a:lnTo>
                          <a:pt x="2741" y="459"/>
                        </a:lnTo>
                        <a:lnTo>
                          <a:pt x="1591" y="148"/>
                        </a:lnTo>
                        <a:lnTo>
                          <a:pt x="1333" y="91"/>
                        </a:lnTo>
                        <a:lnTo>
                          <a:pt x="836" y="3"/>
                        </a:lnTo>
                        <a:lnTo>
                          <a:pt x="604" y="0"/>
                        </a:lnTo>
                        <a:lnTo>
                          <a:pt x="295" y="29"/>
                        </a:lnTo>
                        <a:lnTo>
                          <a:pt x="31" y="62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22200">
                    <a:off x="7084080" y="3626280"/>
                    <a:ext cx="9684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995">
                        <a:moveTo>
                          <a:pt x="67" y="994"/>
                        </a:moveTo>
                        <a:lnTo>
                          <a:pt x="99" y="995"/>
                        </a:lnTo>
                        <a:lnTo>
                          <a:pt x="117" y="863"/>
                        </a:lnTo>
                        <a:lnTo>
                          <a:pt x="224" y="677"/>
                        </a:lnTo>
                        <a:lnTo>
                          <a:pt x="481" y="312"/>
                        </a:lnTo>
                        <a:lnTo>
                          <a:pt x="702" y="0"/>
                        </a:lnTo>
                        <a:lnTo>
                          <a:pt x="672" y="0"/>
                        </a:lnTo>
                        <a:lnTo>
                          <a:pt x="621" y="28"/>
                        </a:lnTo>
                        <a:lnTo>
                          <a:pt x="391" y="326"/>
                        </a:lnTo>
                        <a:lnTo>
                          <a:pt x="63" y="782"/>
                        </a:lnTo>
                        <a:lnTo>
                          <a:pt x="0" y="874"/>
                        </a:lnTo>
                        <a:lnTo>
                          <a:pt x="67" y="994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22200">
                    <a:off x="7050960" y="3626640"/>
                    <a:ext cx="126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917" h="349">
                        <a:moveTo>
                          <a:pt x="917" y="0"/>
                        </a:moveTo>
                        <a:lnTo>
                          <a:pt x="887" y="34"/>
                        </a:lnTo>
                        <a:lnTo>
                          <a:pt x="860" y="63"/>
                        </a:lnTo>
                        <a:lnTo>
                          <a:pt x="837" y="92"/>
                        </a:lnTo>
                        <a:lnTo>
                          <a:pt x="809" y="124"/>
                        </a:lnTo>
                        <a:lnTo>
                          <a:pt x="786" y="154"/>
                        </a:lnTo>
                        <a:lnTo>
                          <a:pt x="765" y="180"/>
                        </a:lnTo>
                        <a:lnTo>
                          <a:pt x="740" y="212"/>
                        </a:lnTo>
                        <a:lnTo>
                          <a:pt x="718" y="240"/>
                        </a:lnTo>
                        <a:lnTo>
                          <a:pt x="698" y="264"/>
                        </a:lnTo>
                        <a:lnTo>
                          <a:pt x="681" y="290"/>
                        </a:lnTo>
                        <a:lnTo>
                          <a:pt x="664" y="287"/>
                        </a:lnTo>
                        <a:lnTo>
                          <a:pt x="636" y="286"/>
                        </a:lnTo>
                        <a:lnTo>
                          <a:pt x="597" y="283"/>
                        </a:lnTo>
                        <a:lnTo>
                          <a:pt x="561" y="282"/>
                        </a:lnTo>
                        <a:lnTo>
                          <a:pt x="524" y="282"/>
                        </a:lnTo>
                        <a:lnTo>
                          <a:pt x="478" y="283"/>
                        </a:lnTo>
                        <a:lnTo>
                          <a:pt x="436" y="285"/>
                        </a:lnTo>
                        <a:lnTo>
                          <a:pt x="388" y="288"/>
                        </a:lnTo>
                        <a:lnTo>
                          <a:pt x="351" y="293"/>
                        </a:lnTo>
                        <a:lnTo>
                          <a:pt x="310" y="298"/>
                        </a:lnTo>
                        <a:lnTo>
                          <a:pt x="270" y="304"/>
                        </a:lnTo>
                        <a:lnTo>
                          <a:pt x="229" y="309"/>
                        </a:lnTo>
                        <a:lnTo>
                          <a:pt x="178" y="317"/>
                        </a:lnTo>
                        <a:lnTo>
                          <a:pt x="138" y="323"/>
                        </a:lnTo>
                        <a:lnTo>
                          <a:pt x="91" y="330"/>
                        </a:lnTo>
                        <a:lnTo>
                          <a:pt x="0" y="349"/>
                        </a:lnTo>
                        <a:lnTo>
                          <a:pt x="214" y="123"/>
                        </a:lnTo>
                        <a:lnTo>
                          <a:pt x="234" y="109"/>
                        </a:lnTo>
                        <a:lnTo>
                          <a:pt x="252" y="96"/>
                        </a:lnTo>
                        <a:lnTo>
                          <a:pt x="275" y="84"/>
                        </a:lnTo>
                        <a:lnTo>
                          <a:pt x="291" y="77"/>
                        </a:lnTo>
                        <a:lnTo>
                          <a:pt x="332" y="66"/>
                        </a:lnTo>
                        <a:lnTo>
                          <a:pt x="374" y="57"/>
                        </a:lnTo>
                        <a:lnTo>
                          <a:pt x="430" y="46"/>
                        </a:lnTo>
                        <a:lnTo>
                          <a:pt x="507" y="32"/>
                        </a:lnTo>
                        <a:lnTo>
                          <a:pt x="623" y="15"/>
                        </a:lnTo>
                        <a:lnTo>
                          <a:pt x="725" y="5"/>
                        </a:lnTo>
                        <a:lnTo>
                          <a:pt x="834" y="0"/>
                        </a:lnTo>
                        <a:lnTo>
                          <a:pt x="917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rot="22200">
                    <a:off x="7095600" y="3723120"/>
                    <a:ext cx="35676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80" h="759">
                        <a:moveTo>
                          <a:pt x="36" y="109"/>
                        </a:moveTo>
                        <a:lnTo>
                          <a:pt x="19" y="131"/>
                        </a:lnTo>
                        <a:lnTo>
                          <a:pt x="11" y="150"/>
                        </a:lnTo>
                        <a:lnTo>
                          <a:pt x="5" y="172"/>
                        </a:lnTo>
                        <a:lnTo>
                          <a:pt x="1" y="190"/>
                        </a:lnTo>
                        <a:lnTo>
                          <a:pt x="0" y="206"/>
                        </a:lnTo>
                        <a:lnTo>
                          <a:pt x="0" y="229"/>
                        </a:lnTo>
                        <a:lnTo>
                          <a:pt x="2" y="256"/>
                        </a:lnTo>
                        <a:lnTo>
                          <a:pt x="5" y="283"/>
                        </a:lnTo>
                        <a:lnTo>
                          <a:pt x="8" y="306"/>
                        </a:lnTo>
                        <a:lnTo>
                          <a:pt x="28" y="305"/>
                        </a:lnTo>
                        <a:lnTo>
                          <a:pt x="51" y="304"/>
                        </a:lnTo>
                        <a:lnTo>
                          <a:pt x="74" y="304"/>
                        </a:lnTo>
                        <a:lnTo>
                          <a:pt x="94" y="304"/>
                        </a:lnTo>
                        <a:lnTo>
                          <a:pt x="116" y="303"/>
                        </a:lnTo>
                        <a:lnTo>
                          <a:pt x="136" y="303"/>
                        </a:lnTo>
                        <a:lnTo>
                          <a:pt x="169" y="305"/>
                        </a:lnTo>
                        <a:lnTo>
                          <a:pt x="234" y="312"/>
                        </a:lnTo>
                        <a:lnTo>
                          <a:pt x="305" y="320"/>
                        </a:lnTo>
                        <a:lnTo>
                          <a:pt x="370" y="329"/>
                        </a:lnTo>
                        <a:lnTo>
                          <a:pt x="443" y="341"/>
                        </a:lnTo>
                        <a:lnTo>
                          <a:pt x="497" y="352"/>
                        </a:lnTo>
                        <a:lnTo>
                          <a:pt x="554" y="362"/>
                        </a:lnTo>
                        <a:lnTo>
                          <a:pt x="612" y="373"/>
                        </a:lnTo>
                        <a:lnTo>
                          <a:pt x="660" y="383"/>
                        </a:lnTo>
                        <a:lnTo>
                          <a:pt x="723" y="396"/>
                        </a:lnTo>
                        <a:lnTo>
                          <a:pt x="779" y="407"/>
                        </a:lnTo>
                        <a:lnTo>
                          <a:pt x="846" y="420"/>
                        </a:lnTo>
                        <a:lnTo>
                          <a:pt x="946" y="441"/>
                        </a:lnTo>
                        <a:lnTo>
                          <a:pt x="1050" y="466"/>
                        </a:lnTo>
                        <a:lnTo>
                          <a:pt x="1139" y="495"/>
                        </a:lnTo>
                        <a:lnTo>
                          <a:pt x="1222" y="524"/>
                        </a:lnTo>
                        <a:lnTo>
                          <a:pt x="1309" y="560"/>
                        </a:lnTo>
                        <a:lnTo>
                          <a:pt x="1374" y="585"/>
                        </a:lnTo>
                        <a:lnTo>
                          <a:pt x="1431" y="609"/>
                        </a:lnTo>
                        <a:lnTo>
                          <a:pt x="1491" y="632"/>
                        </a:lnTo>
                        <a:lnTo>
                          <a:pt x="1545" y="653"/>
                        </a:lnTo>
                        <a:lnTo>
                          <a:pt x="1590" y="669"/>
                        </a:lnTo>
                        <a:lnTo>
                          <a:pt x="1620" y="678"/>
                        </a:lnTo>
                        <a:lnTo>
                          <a:pt x="1697" y="704"/>
                        </a:lnTo>
                        <a:lnTo>
                          <a:pt x="1780" y="725"/>
                        </a:lnTo>
                        <a:lnTo>
                          <a:pt x="1858" y="744"/>
                        </a:lnTo>
                        <a:lnTo>
                          <a:pt x="1928" y="754"/>
                        </a:lnTo>
                        <a:lnTo>
                          <a:pt x="2002" y="759"/>
                        </a:lnTo>
                        <a:lnTo>
                          <a:pt x="2067" y="759"/>
                        </a:lnTo>
                        <a:lnTo>
                          <a:pt x="2147" y="754"/>
                        </a:lnTo>
                        <a:lnTo>
                          <a:pt x="2182" y="749"/>
                        </a:lnTo>
                        <a:lnTo>
                          <a:pt x="2220" y="744"/>
                        </a:lnTo>
                        <a:lnTo>
                          <a:pt x="2257" y="735"/>
                        </a:lnTo>
                        <a:lnTo>
                          <a:pt x="2294" y="723"/>
                        </a:lnTo>
                        <a:lnTo>
                          <a:pt x="2333" y="709"/>
                        </a:lnTo>
                        <a:lnTo>
                          <a:pt x="2370" y="695"/>
                        </a:lnTo>
                        <a:lnTo>
                          <a:pt x="2408" y="676"/>
                        </a:lnTo>
                        <a:lnTo>
                          <a:pt x="2434" y="661"/>
                        </a:lnTo>
                        <a:lnTo>
                          <a:pt x="2481" y="632"/>
                        </a:lnTo>
                        <a:lnTo>
                          <a:pt x="2509" y="610"/>
                        </a:lnTo>
                        <a:lnTo>
                          <a:pt x="2524" y="594"/>
                        </a:lnTo>
                        <a:lnTo>
                          <a:pt x="2537" y="575"/>
                        </a:lnTo>
                        <a:lnTo>
                          <a:pt x="2546" y="560"/>
                        </a:lnTo>
                        <a:lnTo>
                          <a:pt x="2557" y="535"/>
                        </a:lnTo>
                        <a:lnTo>
                          <a:pt x="2566" y="506"/>
                        </a:lnTo>
                        <a:lnTo>
                          <a:pt x="2570" y="482"/>
                        </a:lnTo>
                        <a:lnTo>
                          <a:pt x="2574" y="458"/>
                        </a:lnTo>
                        <a:lnTo>
                          <a:pt x="2580" y="407"/>
                        </a:lnTo>
                        <a:lnTo>
                          <a:pt x="2580" y="350"/>
                        </a:lnTo>
                        <a:lnTo>
                          <a:pt x="2580" y="303"/>
                        </a:lnTo>
                        <a:lnTo>
                          <a:pt x="2578" y="246"/>
                        </a:lnTo>
                        <a:lnTo>
                          <a:pt x="2572" y="201"/>
                        </a:lnTo>
                        <a:lnTo>
                          <a:pt x="2561" y="153"/>
                        </a:lnTo>
                        <a:lnTo>
                          <a:pt x="2546" y="101"/>
                        </a:lnTo>
                        <a:lnTo>
                          <a:pt x="2533" y="64"/>
                        </a:lnTo>
                        <a:lnTo>
                          <a:pt x="2497" y="0"/>
                        </a:lnTo>
                        <a:lnTo>
                          <a:pt x="145" y="31"/>
                        </a:lnTo>
                        <a:lnTo>
                          <a:pt x="36" y="109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22200">
                    <a:off x="6999120" y="3738960"/>
                    <a:ext cx="96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245">
                        <a:moveTo>
                          <a:pt x="27" y="14"/>
                        </a:moveTo>
                        <a:lnTo>
                          <a:pt x="16" y="42"/>
                        </a:lnTo>
                        <a:lnTo>
                          <a:pt x="8" y="71"/>
                        </a:lnTo>
                        <a:lnTo>
                          <a:pt x="3" y="99"/>
                        </a:lnTo>
                        <a:lnTo>
                          <a:pt x="0" y="126"/>
                        </a:lnTo>
                        <a:lnTo>
                          <a:pt x="0" y="153"/>
                        </a:lnTo>
                        <a:lnTo>
                          <a:pt x="0" y="174"/>
                        </a:lnTo>
                        <a:lnTo>
                          <a:pt x="6" y="200"/>
                        </a:lnTo>
                        <a:lnTo>
                          <a:pt x="13" y="217"/>
                        </a:lnTo>
                        <a:lnTo>
                          <a:pt x="21" y="227"/>
                        </a:lnTo>
                        <a:lnTo>
                          <a:pt x="32" y="235"/>
                        </a:lnTo>
                        <a:lnTo>
                          <a:pt x="43" y="241"/>
                        </a:lnTo>
                        <a:lnTo>
                          <a:pt x="60" y="245"/>
                        </a:lnTo>
                        <a:lnTo>
                          <a:pt x="88" y="245"/>
                        </a:lnTo>
                        <a:lnTo>
                          <a:pt x="129" y="237"/>
                        </a:lnTo>
                        <a:lnTo>
                          <a:pt x="173" y="229"/>
                        </a:lnTo>
                        <a:lnTo>
                          <a:pt x="229" y="219"/>
                        </a:lnTo>
                        <a:lnTo>
                          <a:pt x="283" y="211"/>
                        </a:lnTo>
                        <a:lnTo>
                          <a:pt x="327" y="206"/>
                        </a:lnTo>
                        <a:lnTo>
                          <a:pt x="373" y="202"/>
                        </a:lnTo>
                        <a:lnTo>
                          <a:pt x="424" y="196"/>
                        </a:lnTo>
                        <a:lnTo>
                          <a:pt x="472" y="193"/>
                        </a:lnTo>
                        <a:lnTo>
                          <a:pt x="518" y="189"/>
                        </a:lnTo>
                        <a:lnTo>
                          <a:pt x="563" y="187"/>
                        </a:lnTo>
                        <a:lnTo>
                          <a:pt x="588" y="186"/>
                        </a:lnTo>
                        <a:lnTo>
                          <a:pt x="610" y="185"/>
                        </a:lnTo>
                        <a:lnTo>
                          <a:pt x="631" y="184"/>
                        </a:lnTo>
                        <a:lnTo>
                          <a:pt x="656" y="184"/>
                        </a:lnTo>
                        <a:lnTo>
                          <a:pt x="685" y="184"/>
                        </a:lnTo>
                        <a:lnTo>
                          <a:pt x="681" y="159"/>
                        </a:lnTo>
                        <a:lnTo>
                          <a:pt x="678" y="125"/>
                        </a:lnTo>
                        <a:lnTo>
                          <a:pt x="677" y="103"/>
                        </a:lnTo>
                        <a:lnTo>
                          <a:pt x="677" y="80"/>
                        </a:lnTo>
                        <a:lnTo>
                          <a:pt x="677" y="60"/>
                        </a:lnTo>
                        <a:lnTo>
                          <a:pt x="680" y="41"/>
                        </a:lnTo>
                        <a:lnTo>
                          <a:pt x="689" y="21"/>
                        </a:lnTo>
                        <a:lnTo>
                          <a:pt x="702" y="0"/>
                        </a:lnTo>
                        <a:lnTo>
                          <a:pt x="27" y="1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rot="22200">
                    <a:off x="6999840" y="3738960"/>
                    <a:ext cx="96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127">
                        <a:moveTo>
                          <a:pt x="22" y="17"/>
                        </a:moveTo>
                        <a:lnTo>
                          <a:pt x="18" y="24"/>
                        </a:lnTo>
                        <a:lnTo>
                          <a:pt x="12" y="36"/>
                        </a:lnTo>
                        <a:lnTo>
                          <a:pt x="8" y="51"/>
                        </a:lnTo>
                        <a:lnTo>
                          <a:pt x="4" y="66"/>
                        </a:lnTo>
                        <a:lnTo>
                          <a:pt x="2" y="79"/>
                        </a:lnTo>
                        <a:lnTo>
                          <a:pt x="0" y="90"/>
                        </a:lnTo>
                        <a:lnTo>
                          <a:pt x="8" y="104"/>
                        </a:lnTo>
                        <a:lnTo>
                          <a:pt x="16" y="113"/>
                        </a:lnTo>
                        <a:lnTo>
                          <a:pt x="34" y="123"/>
                        </a:lnTo>
                        <a:lnTo>
                          <a:pt x="61" y="127"/>
                        </a:lnTo>
                        <a:lnTo>
                          <a:pt x="90" y="127"/>
                        </a:lnTo>
                        <a:lnTo>
                          <a:pt x="131" y="124"/>
                        </a:lnTo>
                        <a:lnTo>
                          <a:pt x="175" y="120"/>
                        </a:lnTo>
                        <a:lnTo>
                          <a:pt x="230" y="113"/>
                        </a:lnTo>
                        <a:lnTo>
                          <a:pt x="286" y="106"/>
                        </a:lnTo>
                        <a:lnTo>
                          <a:pt x="337" y="101"/>
                        </a:lnTo>
                        <a:lnTo>
                          <a:pt x="384" y="96"/>
                        </a:lnTo>
                        <a:lnTo>
                          <a:pt x="432" y="91"/>
                        </a:lnTo>
                        <a:lnTo>
                          <a:pt x="482" y="87"/>
                        </a:lnTo>
                        <a:lnTo>
                          <a:pt x="524" y="81"/>
                        </a:lnTo>
                        <a:lnTo>
                          <a:pt x="561" y="76"/>
                        </a:lnTo>
                        <a:lnTo>
                          <a:pt x="588" y="74"/>
                        </a:lnTo>
                        <a:lnTo>
                          <a:pt x="612" y="70"/>
                        </a:lnTo>
                        <a:lnTo>
                          <a:pt x="637" y="68"/>
                        </a:lnTo>
                        <a:lnTo>
                          <a:pt x="654" y="66"/>
                        </a:lnTo>
                        <a:lnTo>
                          <a:pt x="673" y="66"/>
                        </a:lnTo>
                        <a:lnTo>
                          <a:pt x="675" y="53"/>
                        </a:lnTo>
                        <a:lnTo>
                          <a:pt x="678" y="41"/>
                        </a:lnTo>
                        <a:lnTo>
                          <a:pt x="683" y="29"/>
                        </a:lnTo>
                        <a:lnTo>
                          <a:pt x="698" y="0"/>
                        </a:lnTo>
                        <a:lnTo>
                          <a:pt x="22" y="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rot="22200">
                    <a:off x="7003080" y="3666960"/>
                    <a:ext cx="14076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1" h="576">
                        <a:moveTo>
                          <a:pt x="1021" y="8"/>
                        </a:moveTo>
                        <a:lnTo>
                          <a:pt x="763" y="385"/>
                        </a:lnTo>
                        <a:lnTo>
                          <a:pt x="747" y="411"/>
                        </a:lnTo>
                        <a:lnTo>
                          <a:pt x="730" y="436"/>
                        </a:lnTo>
                        <a:lnTo>
                          <a:pt x="712" y="466"/>
                        </a:lnTo>
                        <a:lnTo>
                          <a:pt x="692" y="497"/>
                        </a:lnTo>
                        <a:lnTo>
                          <a:pt x="681" y="514"/>
                        </a:lnTo>
                        <a:lnTo>
                          <a:pt x="676" y="524"/>
                        </a:lnTo>
                        <a:lnTo>
                          <a:pt x="632" y="527"/>
                        </a:lnTo>
                        <a:lnTo>
                          <a:pt x="592" y="530"/>
                        </a:lnTo>
                        <a:lnTo>
                          <a:pt x="551" y="535"/>
                        </a:lnTo>
                        <a:lnTo>
                          <a:pt x="505" y="540"/>
                        </a:lnTo>
                        <a:lnTo>
                          <a:pt x="450" y="546"/>
                        </a:lnTo>
                        <a:lnTo>
                          <a:pt x="397" y="551"/>
                        </a:lnTo>
                        <a:lnTo>
                          <a:pt x="345" y="557"/>
                        </a:lnTo>
                        <a:lnTo>
                          <a:pt x="289" y="562"/>
                        </a:lnTo>
                        <a:lnTo>
                          <a:pt x="232" y="567"/>
                        </a:lnTo>
                        <a:lnTo>
                          <a:pt x="173" y="572"/>
                        </a:lnTo>
                        <a:lnTo>
                          <a:pt x="118" y="576"/>
                        </a:lnTo>
                        <a:lnTo>
                          <a:pt x="80" y="576"/>
                        </a:lnTo>
                        <a:lnTo>
                          <a:pt x="48" y="571"/>
                        </a:lnTo>
                        <a:lnTo>
                          <a:pt x="23" y="564"/>
                        </a:lnTo>
                        <a:lnTo>
                          <a:pt x="5" y="552"/>
                        </a:lnTo>
                        <a:lnTo>
                          <a:pt x="0" y="539"/>
                        </a:lnTo>
                        <a:lnTo>
                          <a:pt x="41" y="450"/>
                        </a:lnTo>
                        <a:lnTo>
                          <a:pt x="91" y="378"/>
                        </a:lnTo>
                        <a:lnTo>
                          <a:pt x="142" y="305"/>
                        </a:lnTo>
                        <a:lnTo>
                          <a:pt x="189" y="243"/>
                        </a:lnTo>
                        <a:lnTo>
                          <a:pt x="238" y="184"/>
                        </a:lnTo>
                        <a:lnTo>
                          <a:pt x="292" y="126"/>
                        </a:lnTo>
                        <a:lnTo>
                          <a:pt x="338" y="68"/>
                        </a:lnTo>
                        <a:lnTo>
                          <a:pt x="389" y="57"/>
                        </a:lnTo>
                        <a:lnTo>
                          <a:pt x="440" y="47"/>
                        </a:lnTo>
                        <a:lnTo>
                          <a:pt x="488" y="39"/>
                        </a:lnTo>
                        <a:lnTo>
                          <a:pt x="527" y="34"/>
                        </a:lnTo>
                        <a:lnTo>
                          <a:pt x="565" y="28"/>
                        </a:lnTo>
                        <a:lnTo>
                          <a:pt x="601" y="23"/>
                        </a:lnTo>
                        <a:lnTo>
                          <a:pt x="639" y="17"/>
                        </a:lnTo>
                        <a:lnTo>
                          <a:pt x="679" y="13"/>
                        </a:lnTo>
                        <a:lnTo>
                          <a:pt x="726" y="8"/>
                        </a:lnTo>
                        <a:lnTo>
                          <a:pt x="772" y="3"/>
                        </a:lnTo>
                        <a:lnTo>
                          <a:pt x="819" y="2"/>
                        </a:lnTo>
                        <a:lnTo>
                          <a:pt x="861" y="0"/>
                        </a:lnTo>
                        <a:lnTo>
                          <a:pt x="905" y="0"/>
                        </a:lnTo>
                        <a:lnTo>
                          <a:pt x="947" y="1"/>
                        </a:lnTo>
                        <a:lnTo>
                          <a:pt x="988" y="3"/>
                        </a:lnTo>
                        <a:lnTo>
                          <a:pt x="1021" y="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rot="22200">
                    <a:off x="7003080" y="3744720"/>
                    <a:ext cx="752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56">
                        <a:moveTo>
                          <a:pt x="0" y="18"/>
                        </a:moveTo>
                        <a:lnTo>
                          <a:pt x="14" y="32"/>
                        </a:lnTo>
                        <a:lnTo>
                          <a:pt x="25" y="38"/>
                        </a:lnTo>
                        <a:lnTo>
                          <a:pt x="38" y="43"/>
                        </a:lnTo>
                        <a:lnTo>
                          <a:pt x="54" y="45"/>
                        </a:lnTo>
                        <a:lnTo>
                          <a:pt x="73" y="46"/>
                        </a:lnTo>
                        <a:lnTo>
                          <a:pt x="109" y="43"/>
                        </a:lnTo>
                        <a:lnTo>
                          <a:pt x="134" y="42"/>
                        </a:lnTo>
                        <a:lnTo>
                          <a:pt x="186" y="36"/>
                        </a:lnTo>
                        <a:lnTo>
                          <a:pt x="259" y="27"/>
                        </a:lnTo>
                        <a:lnTo>
                          <a:pt x="298" y="23"/>
                        </a:lnTo>
                        <a:lnTo>
                          <a:pt x="339" y="19"/>
                        </a:lnTo>
                        <a:lnTo>
                          <a:pt x="384" y="14"/>
                        </a:lnTo>
                        <a:lnTo>
                          <a:pt x="434" y="9"/>
                        </a:lnTo>
                        <a:lnTo>
                          <a:pt x="460" y="7"/>
                        </a:lnTo>
                        <a:lnTo>
                          <a:pt x="489" y="3"/>
                        </a:lnTo>
                        <a:lnTo>
                          <a:pt x="523" y="0"/>
                        </a:lnTo>
                        <a:lnTo>
                          <a:pt x="546" y="1"/>
                        </a:lnTo>
                        <a:lnTo>
                          <a:pt x="545" y="7"/>
                        </a:lnTo>
                        <a:lnTo>
                          <a:pt x="531" y="7"/>
                        </a:lnTo>
                        <a:lnTo>
                          <a:pt x="479" y="12"/>
                        </a:lnTo>
                        <a:lnTo>
                          <a:pt x="437" y="15"/>
                        </a:lnTo>
                        <a:lnTo>
                          <a:pt x="404" y="20"/>
                        </a:lnTo>
                        <a:lnTo>
                          <a:pt x="362" y="25"/>
                        </a:lnTo>
                        <a:lnTo>
                          <a:pt x="317" y="31"/>
                        </a:lnTo>
                        <a:lnTo>
                          <a:pt x="282" y="34"/>
                        </a:lnTo>
                        <a:lnTo>
                          <a:pt x="228" y="40"/>
                        </a:lnTo>
                        <a:lnTo>
                          <a:pt x="175" y="45"/>
                        </a:lnTo>
                        <a:lnTo>
                          <a:pt x="139" y="48"/>
                        </a:lnTo>
                        <a:lnTo>
                          <a:pt x="89" y="54"/>
                        </a:lnTo>
                        <a:lnTo>
                          <a:pt x="56" y="56"/>
                        </a:lnTo>
                        <a:lnTo>
                          <a:pt x="38" y="55"/>
                        </a:lnTo>
                        <a:lnTo>
                          <a:pt x="22" y="50"/>
                        </a:lnTo>
                        <a:lnTo>
                          <a:pt x="14" y="43"/>
                        </a:lnTo>
                        <a:lnTo>
                          <a:pt x="5" y="35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 rot="22200">
                    <a:off x="7049520" y="3668400"/>
                    <a:ext cx="867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88">
                        <a:moveTo>
                          <a:pt x="23" y="59"/>
                        </a:moveTo>
                        <a:lnTo>
                          <a:pt x="0" y="82"/>
                        </a:lnTo>
                        <a:lnTo>
                          <a:pt x="13" y="88"/>
                        </a:lnTo>
                        <a:lnTo>
                          <a:pt x="190" y="51"/>
                        </a:lnTo>
                        <a:lnTo>
                          <a:pt x="388" y="28"/>
                        </a:lnTo>
                        <a:lnTo>
                          <a:pt x="487" y="25"/>
                        </a:lnTo>
                        <a:lnTo>
                          <a:pt x="584" y="27"/>
                        </a:lnTo>
                        <a:lnTo>
                          <a:pt x="612" y="28"/>
                        </a:lnTo>
                        <a:lnTo>
                          <a:pt x="633" y="2"/>
                        </a:lnTo>
                        <a:lnTo>
                          <a:pt x="597" y="1"/>
                        </a:lnTo>
                        <a:lnTo>
                          <a:pt x="544" y="0"/>
                        </a:lnTo>
                        <a:lnTo>
                          <a:pt x="495" y="0"/>
                        </a:lnTo>
                        <a:lnTo>
                          <a:pt x="452" y="2"/>
                        </a:lnTo>
                        <a:lnTo>
                          <a:pt x="390" y="6"/>
                        </a:lnTo>
                        <a:lnTo>
                          <a:pt x="354" y="11"/>
                        </a:lnTo>
                        <a:lnTo>
                          <a:pt x="303" y="16"/>
                        </a:lnTo>
                        <a:lnTo>
                          <a:pt x="240" y="23"/>
                        </a:lnTo>
                        <a:lnTo>
                          <a:pt x="181" y="32"/>
                        </a:lnTo>
                        <a:lnTo>
                          <a:pt x="134" y="40"/>
                        </a:lnTo>
                        <a:lnTo>
                          <a:pt x="85" y="49"/>
                        </a:lnTo>
                        <a:lnTo>
                          <a:pt x="39" y="59"/>
                        </a:lnTo>
                        <a:lnTo>
                          <a:pt x="23" y="5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rot="22200">
                    <a:off x="7049520" y="3668400"/>
                    <a:ext cx="878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95">
                        <a:moveTo>
                          <a:pt x="490" y="30"/>
                        </a:moveTo>
                        <a:lnTo>
                          <a:pt x="531" y="30"/>
                        </a:lnTo>
                        <a:lnTo>
                          <a:pt x="572" y="34"/>
                        </a:lnTo>
                        <a:lnTo>
                          <a:pt x="610" y="38"/>
                        </a:lnTo>
                        <a:lnTo>
                          <a:pt x="633" y="13"/>
                        </a:lnTo>
                        <a:lnTo>
                          <a:pt x="631" y="0"/>
                        </a:lnTo>
                        <a:lnTo>
                          <a:pt x="610" y="24"/>
                        </a:lnTo>
                        <a:lnTo>
                          <a:pt x="576" y="20"/>
                        </a:lnTo>
                        <a:lnTo>
                          <a:pt x="532" y="18"/>
                        </a:lnTo>
                        <a:lnTo>
                          <a:pt x="493" y="18"/>
                        </a:lnTo>
                        <a:lnTo>
                          <a:pt x="458" y="18"/>
                        </a:lnTo>
                        <a:lnTo>
                          <a:pt x="419" y="20"/>
                        </a:lnTo>
                        <a:lnTo>
                          <a:pt x="378" y="23"/>
                        </a:lnTo>
                        <a:lnTo>
                          <a:pt x="331" y="28"/>
                        </a:lnTo>
                        <a:lnTo>
                          <a:pt x="282" y="35"/>
                        </a:lnTo>
                        <a:lnTo>
                          <a:pt x="240" y="40"/>
                        </a:lnTo>
                        <a:lnTo>
                          <a:pt x="186" y="48"/>
                        </a:lnTo>
                        <a:lnTo>
                          <a:pt x="138" y="55"/>
                        </a:lnTo>
                        <a:lnTo>
                          <a:pt x="99" y="63"/>
                        </a:lnTo>
                        <a:lnTo>
                          <a:pt x="73" y="69"/>
                        </a:lnTo>
                        <a:lnTo>
                          <a:pt x="32" y="75"/>
                        </a:lnTo>
                        <a:lnTo>
                          <a:pt x="0" y="82"/>
                        </a:lnTo>
                        <a:lnTo>
                          <a:pt x="5" y="95"/>
                        </a:lnTo>
                        <a:lnTo>
                          <a:pt x="62" y="83"/>
                        </a:lnTo>
                        <a:lnTo>
                          <a:pt x="115" y="73"/>
                        </a:lnTo>
                        <a:lnTo>
                          <a:pt x="166" y="64"/>
                        </a:lnTo>
                        <a:lnTo>
                          <a:pt x="212" y="59"/>
                        </a:lnTo>
                        <a:lnTo>
                          <a:pt x="259" y="50"/>
                        </a:lnTo>
                        <a:lnTo>
                          <a:pt x="315" y="46"/>
                        </a:lnTo>
                        <a:lnTo>
                          <a:pt x="360" y="40"/>
                        </a:lnTo>
                        <a:lnTo>
                          <a:pt x="409" y="35"/>
                        </a:lnTo>
                        <a:lnTo>
                          <a:pt x="453" y="32"/>
                        </a:lnTo>
                        <a:lnTo>
                          <a:pt x="490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rot="22200">
                    <a:off x="7095240" y="3729240"/>
                    <a:ext cx="1501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8" h="294">
                        <a:moveTo>
                          <a:pt x="0" y="139"/>
                        </a:moveTo>
                        <a:lnTo>
                          <a:pt x="75" y="131"/>
                        </a:lnTo>
                        <a:lnTo>
                          <a:pt x="114" y="130"/>
                        </a:lnTo>
                        <a:lnTo>
                          <a:pt x="152" y="131"/>
                        </a:lnTo>
                        <a:lnTo>
                          <a:pt x="198" y="133"/>
                        </a:lnTo>
                        <a:lnTo>
                          <a:pt x="233" y="137"/>
                        </a:lnTo>
                        <a:lnTo>
                          <a:pt x="267" y="141"/>
                        </a:lnTo>
                        <a:lnTo>
                          <a:pt x="336" y="149"/>
                        </a:lnTo>
                        <a:lnTo>
                          <a:pt x="392" y="156"/>
                        </a:lnTo>
                        <a:lnTo>
                          <a:pt x="467" y="167"/>
                        </a:lnTo>
                        <a:lnTo>
                          <a:pt x="539" y="180"/>
                        </a:lnTo>
                        <a:lnTo>
                          <a:pt x="609" y="193"/>
                        </a:lnTo>
                        <a:lnTo>
                          <a:pt x="672" y="203"/>
                        </a:lnTo>
                        <a:lnTo>
                          <a:pt x="728" y="214"/>
                        </a:lnTo>
                        <a:lnTo>
                          <a:pt x="765" y="221"/>
                        </a:lnTo>
                        <a:lnTo>
                          <a:pt x="881" y="247"/>
                        </a:lnTo>
                        <a:lnTo>
                          <a:pt x="992" y="270"/>
                        </a:lnTo>
                        <a:lnTo>
                          <a:pt x="1088" y="294"/>
                        </a:lnTo>
                        <a:lnTo>
                          <a:pt x="1039" y="178"/>
                        </a:lnTo>
                        <a:lnTo>
                          <a:pt x="433" y="0"/>
                        </a:lnTo>
                        <a:lnTo>
                          <a:pt x="95" y="31"/>
                        </a:lnTo>
                        <a:lnTo>
                          <a:pt x="20" y="79"/>
                        </a:lnTo>
                        <a:lnTo>
                          <a:pt x="15" y="91"/>
                        </a:lnTo>
                        <a:lnTo>
                          <a:pt x="9" y="106"/>
                        </a:lnTo>
                        <a:lnTo>
                          <a:pt x="4" y="122"/>
                        </a:lnTo>
                        <a:lnTo>
                          <a:pt x="0" y="13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rot="22200">
                    <a:off x="7238520" y="3754080"/>
                    <a:ext cx="16092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1" h="411">
                        <a:moveTo>
                          <a:pt x="45" y="120"/>
                        </a:moveTo>
                        <a:lnTo>
                          <a:pt x="123" y="143"/>
                        </a:lnTo>
                        <a:lnTo>
                          <a:pt x="200" y="173"/>
                        </a:lnTo>
                        <a:lnTo>
                          <a:pt x="262" y="198"/>
                        </a:lnTo>
                        <a:lnTo>
                          <a:pt x="331" y="227"/>
                        </a:lnTo>
                        <a:lnTo>
                          <a:pt x="461" y="285"/>
                        </a:lnTo>
                        <a:lnTo>
                          <a:pt x="573" y="328"/>
                        </a:lnTo>
                        <a:lnTo>
                          <a:pt x="711" y="374"/>
                        </a:lnTo>
                        <a:lnTo>
                          <a:pt x="811" y="397"/>
                        </a:lnTo>
                        <a:lnTo>
                          <a:pt x="899" y="408"/>
                        </a:lnTo>
                        <a:lnTo>
                          <a:pt x="964" y="410"/>
                        </a:lnTo>
                        <a:lnTo>
                          <a:pt x="1023" y="411"/>
                        </a:lnTo>
                        <a:lnTo>
                          <a:pt x="1088" y="404"/>
                        </a:lnTo>
                        <a:lnTo>
                          <a:pt x="1161" y="395"/>
                        </a:lnTo>
                        <a:lnTo>
                          <a:pt x="1092" y="280"/>
                        </a:lnTo>
                        <a:lnTo>
                          <a:pt x="419" y="83"/>
                        </a:lnTo>
                        <a:lnTo>
                          <a:pt x="0" y="0"/>
                        </a:lnTo>
                        <a:lnTo>
                          <a:pt x="45" y="1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rot="22200">
                    <a:off x="7394040" y="3726360"/>
                    <a:ext cx="561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599">
                        <a:moveTo>
                          <a:pt x="42" y="599"/>
                        </a:moveTo>
                        <a:lnTo>
                          <a:pt x="102" y="586"/>
                        </a:lnTo>
                        <a:lnTo>
                          <a:pt x="144" y="571"/>
                        </a:lnTo>
                        <a:lnTo>
                          <a:pt x="184" y="555"/>
                        </a:lnTo>
                        <a:lnTo>
                          <a:pt x="217" y="541"/>
                        </a:lnTo>
                        <a:lnTo>
                          <a:pt x="258" y="517"/>
                        </a:lnTo>
                        <a:lnTo>
                          <a:pt x="318" y="471"/>
                        </a:lnTo>
                        <a:lnTo>
                          <a:pt x="352" y="431"/>
                        </a:lnTo>
                        <a:lnTo>
                          <a:pt x="373" y="396"/>
                        </a:lnTo>
                        <a:lnTo>
                          <a:pt x="386" y="367"/>
                        </a:lnTo>
                        <a:lnTo>
                          <a:pt x="396" y="335"/>
                        </a:lnTo>
                        <a:lnTo>
                          <a:pt x="402" y="300"/>
                        </a:lnTo>
                        <a:lnTo>
                          <a:pt x="406" y="267"/>
                        </a:lnTo>
                        <a:lnTo>
                          <a:pt x="407" y="240"/>
                        </a:lnTo>
                        <a:lnTo>
                          <a:pt x="405" y="205"/>
                        </a:lnTo>
                        <a:lnTo>
                          <a:pt x="400" y="163"/>
                        </a:lnTo>
                        <a:lnTo>
                          <a:pt x="390" y="123"/>
                        </a:lnTo>
                        <a:lnTo>
                          <a:pt x="379" y="85"/>
                        </a:lnTo>
                        <a:lnTo>
                          <a:pt x="365" y="43"/>
                        </a:lnTo>
                        <a:lnTo>
                          <a:pt x="343" y="0"/>
                        </a:lnTo>
                        <a:lnTo>
                          <a:pt x="327" y="17"/>
                        </a:lnTo>
                        <a:lnTo>
                          <a:pt x="321" y="147"/>
                        </a:lnTo>
                        <a:lnTo>
                          <a:pt x="221" y="396"/>
                        </a:lnTo>
                        <a:lnTo>
                          <a:pt x="0" y="530"/>
                        </a:lnTo>
                        <a:lnTo>
                          <a:pt x="42" y="59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rot="22200">
                    <a:off x="7098120" y="3627000"/>
                    <a:ext cx="3499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34" h="1283">
                        <a:moveTo>
                          <a:pt x="593" y="6"/>
                        </a:moveTo>
                        <a:lnTo>
                          <a:pt x="573" y="31"/>
                        </a:lnTo>
                        <a:lnTo>
                          <a:pt x="554" y="49"/>
                        </a:lnTo>
                        <a:lnTo>
                          <a:pt x="534" y="75"/>
                        </a:lnTo>
                        <a:lnTo>
                          <a:pt x="514" y="99"/>
                        </a:lnTo>
                        <a:lnTo>
                          <a:pt x="493" y="123"/>
                        </a:lnTo>
                        <a:lnTo>
                          <a:pt x="472" y="148"/>
                        </a:lnTo>
                        <a:lnTo>
                          <a:pt x="451" y="176"/>
                        </a:lnTo>
                        <a:lnTo>
                          <a:pt x="425" y="208"/>
                        </a:lnTo>
                        <a:lnTo>
                          <a:pt x="407" y="231"/>
                        </a:lnTo>
                        <a:lnTo>
                          <a:pt x="389" y="255"/>
                        </a:lnTo>
                        <a:lnTo>
                          <a:pt x="377" y="270"/>
                        </a:lnTo>
                        <a:lnTo>
                          <a:pt x="361" y="291"/>
                        </a:lnTo>
                        <a:lnTo>
                          <a:pt x="344" y="312"/>
                        </a:lnTo>
                        <a:lnTo>
                          <a:pt x="332" y="327"/>
                        </a:lnTo>
                        <a:lnTo>
                          <a:pt x="323" y="344"/>
                        </a:lnTo>
                        <a:lnTo>
                          <a:pt x="307" y="364"/>
                        </a:lnTo>
                        <a:lnTo>
                          <a:pt x="294" y="384"/>
                        </a:lnTo>
                        <a:lnTo>
                          <a:pt x="281" y="404"/>
                        </a:lnTo>
                        <a:lnTo>
                          <a:pt x="268" y="423"/>
                        </a:lnTo>
                        <a:lnTo>
                          <a:pt x="254" y="444"/>
                        </a:lnTo>
                        <a:lnTo>
                          <a:pt x="235" y="469"/>
                        </a:lnTo>
                        <a:lnTo>
                          <a:pt x="220" y="490"/>
                        </a:lnTo>
                        <a:lnTo>
                          <a:pt x="207" y="510"/>
                        </a:lnTo>
                        <a:lnTo>
                          <a:pt x="194" y="527"/>
                        </a:lnTo>
                        <a:lnTo>
                          <a:pt x="182" y="546"/>
                        </a:lnTo>
                        <a:lnTo>
                          <a:pt x="167" y="567"/>
                        </a:lnTo>
                        <a:lnTo>
                          <a:pt x="152" y="589"/>
                        </a:lnTo>
                        <a:lnTo>
                          <a:pt x="138" y="611"/>
                        </a:lnTo>
                        <a:lnTo>
                          <a:pt x="122" y="630"/>
                        </a:lnTo>
                        <a:lnTo>
                          <a:pt x="110" y="647"/>
                        </a:lnTo>
                        <a:lnTo>
                          <a:pt x="98" y="665"/>
                        </a:lnTo>
                        <a:lnTo>
                          <a:pt x="86" y="685"/>
                        </a:lnTo>
                        <a:lnTo>
                          <a:pt x="74" y="701"/>
                        </a:lnTo>
                        <a:lnTo>
                          <a:pt x="63" y="721"/>
                        </a:lnTo>
                        <a:lnTo>
                          <a:pt x="51" y="739"/>
                        </a:lnTo>
                        <a:lnTo>
                          <a:pt x="38" y="760"/>
                        </a:lnTo>
                        <a:lnTo>
                          <a:pt x="24" y="782"/>
                        </a:lnTo>
                        <a:lnTo>
                          <a:pt x="12" y="801"/>
                        </a:lnTo>
                        <a:lnTo>
                          <a:pt x="0" y="822"/>
                        </a:lnTo>
                        <a:lnTo>
                          <a:pt x="36" y="816"/>
                        </a:lnTo>
                        <a:lnTo>
                          <a:pt x="75" y="814"/>
                        </a:lnTo>
                        <a:lnTo>
                          <a:pt x="104" y="814"/>
                        </a:lnTo>
                        <a:lnTo>
                          <a:pt x="131" y="814"/>
                        </a:lnTo>
                        <a:lnTo>
                          <a:pt x="167" y="816"/>
                        </a:lnTo>
                        <a:lnTo>
                          <a:pt x="205" y="819"/>
                        </a:lnTo>
                        <a:lnTo>
                          <a:pt x="238" y="824"/>
                        </a:lnTo>
                        <a:lnTo>
                          <a:pt x="272" y="827"/>
                        </a:lnTo>
                        <a:lnTo>
                          <a:pt x="302" y="831"/>
                        </a:lnTo>
                        <a:lnTo>
                          <a:pt x="354" y="838"/>
                        </a:lnTo>
                        <a:lnTo>
                          <a:pt x="424" y="849"/>
                        </a:lnTo>
                        <a:lnTo>
                          <a:pt x="510" y="868"/>
                        </a:lnTo>
                        <a:lnTo>
                          <a:pt x="604" y="884"/>
                        </a:lnTo>
                        <a:lnTo>
                          <a:pt x="712" y="905"/>
                        </a:lnTo>
                        <a:lnTo>
                          <a:pt x="819" y="930"/>
                        </a:lnTo>
                        <a:lnTo>
                          <a:pt x="910" y="951"/>
                        </a:lnTo>
                        <a:lnTo>
                          <a:pt x="1001" y="970"/>
                        </a:lnTo>
                        <a:lnTo>
                          <a:pt x="1084" y="991"/>
                        </a:lnTo>
                        <a:lnTo>
                          <a:pt x="1167" y="1016"/>
                        </a:lnTo>
                        <a:lnTo>
                          <a:pt x="1252" y="1048"/>
                        </a:lnTo>
                        <a:lnTo>
                          <a:pt x="1371" y="1095"/>
                        </a:lnTo>
                        <a:lnTo>
                          <a:pt x="1466" y="1139"/>
                        </a:lnTo>
                        <a:lnTo>
                          <a:pt x="1560" y="1178"/>
                        </a:lnTo>
                        <a:lnTo>
                          <a:pt x="1653" y="1212"/>
                        </a:lnTo>
                        <a:lnTo>
                          <a:pt x="1765" y="1248"/>
                        </a:lnTo>
                        <a:lnTo>
                          <a:pt x="1848" y="1264"/>
                        </a:lnTo>
                        <a:lnTo>
                          <a:pt x="1948" y="1279"/>
                        </a:lnTo>
                        <a:lnTo>
                          <a:pt x="2053" y="1283"/>
                        </a:lnTo>
                        <a:lnTo>
                          <a:pt x="2155" y="1273"/>
                        </a:lnTo>
                        <a:lnTo>
                          <a:pt x="2233" y="1258"/>
                        </a:lnTo>
                        <a:lnTo>
                          <a:pt x="2303" y="1235"/>
                        </a:lnTo>
                        <a:lnTo>
                          <a:pt x="2342" y="1216"/>
                        </a:lnTo>
                        <a:lnTo>
                          <a:pt x="2373" y="1200"/>
                        </a:lnTo>
                        <a:lnTo>
                          <a:pt x="2405" y="1179"/>
                        </a:lnTo>
                        <a:lnTo>
                          <a:pt x="2437" y="1155"/>
                        </a:lnTo>
                        <a:lnTo>
                          <a:pt x="2463" y="1129"/>
                        </a:lnTo>
                        <a:lnTo>
                          <a:pt x="2483" y="1104"/>
                        </a:lnTo>
                        <a:lnTo>
                          <a:pt x="2499" y="1078"/>
                        </a:lnTo>
                        <a:lnTo>
                          <a:pt x="2513" y="1046"/>
                        </a:lnTo>
                        <a:lnTo>
                          <a:pt x="2523" y="1013"/>
                        </a:lnTo>
                        <a:lnTo>
                          <a:pt x="2528" y="977"/>
                        </a:lnTo>
                        <a:lnTo>
                          <a:pt x="2534" y="916"/>
                        </a:lnTo>
                        <a:lnTo>
                          <a:pt x="2524" y="838"/>
                        </a:lnTo>
                        <a:lnTo>
                          <a:pt x="2504" y="760"/>
                        </a:lnTo>
                        <a:lnTo>
                          <a:pt x="2476" y="693"/>
                        </a:lnTo>
                        <a:lnTo>
                          <a:pt x="2437" y="630"/>
                        </a:lnTo>
                        <a:lnTo>
                          <a:pt x="2396" y="581"/>
                        </a:lnTo>
                        <a:lnTo>
                          <a:pt x="2354" y="534"/>
                        </a:lnTo>
                        <a:lnTo>
                          <a:pt x="2303" y="483"/>
                        </a:lnTo>
                        <a:lnTo>
                          <a:pt x="2235" y="430"/>
                        </a:lnTo>
                        <a:lnTo>
                          <a:pt x="2173" y="386"/>
                        </a:lnTo>
                        <a:lnTo>
                          <a:pt x="2080" y="332"/>
                        </a:lnTo>
                        <a:lnTo>
                          <a:pt x="1995" y="294"/>
                        </a:lnTo>
                        <a:lnTo>
                          <a:pt x="1892" y="252"/>
                        </a:lnTo>
                        <a:lnTo>
                          <a:pt x="1790" y="216"/>
                        </a:lnTo>
                        <a:lnTo>
                          <a:pt x="1681" y="182"/>
                        </a:lnTo>
                        <a:lnTo>
                          <a:pt x="1562" y="146"/>
                        </a:lnTo>
                        <a:lnTo>
                          <a:pt x="1471" y="119"/>
                        </a:lnTo>
                        <a:lnTo>
                          <a:pt x="1365" y="91"/>
                        </a:lnTo>
                        <a:lnTo>
                          <a:pt x="1283" y="70"/>
                        </a:lnTo>
                        <a:lnTo>
                          <a:pt x="1200" y="55"/>
                        </a:lnTo>
                        <a:lnTo>
                          <a:pt x="1103" y="36"/>
                        </a:lnTo>
                        <a:lnTo>
                          <a:pt x="1003" y="21"/>
                        </a:lnTo>
                        <a:lnTo>
                          <a:pt x="927" y="11"/>
                        </a:lnTo>
                        <a:lnTo>
                          <a:pt x="862" y="7"/>
                        </a:lnTo>
                        <a:lnTo>
                          <a:pt x="764" y="2"/>
                        </a:lnTo>
                        <a:lnTo>
                          <a:pt x="697" y="0"/>
                        </a:lnTo>
                        <a:lnTo>
                          <a:pt x="638" y="3"/>
                        </a:lnTo>
                        <a:lnTo>
                          <a:pt x="593" y="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6629400" y="3294360"/>
                  <a:ext cx="501840" cy="420840"/>
                  <a:chOff x="6629400" y="3294360"/>
                  <a:chExt cx="501840" cy="420840"/>
                </a:xfrm>
              </p:grpSpPr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6629400" y="3294360"/>
                    <a:ext cx="393480" cy="420840"/>
                    <a:chOff x="6629400" y="3294360"/>
                    <a:chExt cx="393480" cy="42084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rot="12382200">
                      <a:off x="6694920" y="332892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rot="12382200">
                      <a:off x="6739920" y="337068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 rot="12382200">
                      <a:off x="6785280" y="340992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6786000" y="3405600"/>
                    <a:ext cx="307080" cy="296640"/>
                    <a:chOff x="6786000" y="3405600"/>
                    <a:chExt cx="307080" cy="296640"/>
                  </a:xfrm>
                </p:grpSpPr>
                <p:sp>
                  <p:nvSpPr>
                    <p:cNvPr id="896" name=""/>
                    <p:cNvSpPr/>
                    <p:nvPr/>
                  </p:nvSpPr>
                  <p:spPr>
                    <a:xfrm rot="12382200">
                      <a:off x="6826680" y="343764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 rot="12382200">
                      <a:off x="6864840" y="346824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rot="12382200">
                      <a:off x="6902640" y="3497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" name=""/>
                  <p:cNvSpPr/>
                  <p:nvPr/>
                </p:nvSpPr>
                <p:spPr>
                  <a:xfrm rot="12382200">
                    <a:off x="6938280" y="351828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rot="12382200">
                    <a:off x="6975360" y="354276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rot="12382200">
                    <a:off x="7008480" y="3565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rot="12382200">
                    <a:off x="7040160" y="35791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03" name=""/>
              <p:cNvGrpSpPr/>
              <p:nvPr/>
            </p:nvGrpSpPr>
            <p:grpSpPr>
              <a:xfrm>
                <a:off x="6529320" y="2228760"/>
                <a:ext cx="1469160" cy="494280"/>
                <a:chOff x="6529320" y="2228760"/>
                <a:chExt cx="1469160" cy="494280"/>
              </a:xfrm>
            </p:grpSpPr>
            <p:grpSp>
              <p:nvGrpSpPr>
                <p:cNvPr id="904" name=""/>
                <p:cNvGrpSpPr/>
                <p:nvPr/>
              </p:nvGrpSpPr>
              <p:grpSpPr>
                <a:xfrm>
                  <a:off x="7142400" y="2228760"/>
                  <a:ext cx="856080" cy="399240"/>
                  <a:chOff x="7142400" y="2228760"/>
                  <a:chExt cx="856080" cy="39924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 flipH="1">
                    <a:off x="754704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>
                    <a:off x="7190280" y="2561040"/>
                    <a:ext cx="142560" cy="66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H="1">
                    <a:off x="7759440" y="2351160"/>
                    <a:ext cx="164160" cy="1152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7890480" y="2328840"/>
                    <a:ext cx="10764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5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14" y="0"/>
                        </a:lnTo>
                        <a:lnTo>
                          <a:pt x="30" y="2"/>
                        </a:lnTo>
                        <a:lnTo>
                          <a:pt x="46" y="4"/>
                        </a:lnTo>
                        <a:lnTo>
                          <a:pt x="62" y="8"/>
                        </a:lnTo>
                        <a:lnTo>
                          <a:pt x="73" y="12"/>
                        </a:lnTo>
                        <a:lnTo>
                          <a:pt x="85" y="20"/>
                        </a:lnTo>
                        <a:lnTo>
                          <a:pt x="99" y="28"/>
                        </a:lnTo>
                        <a:lnTo>
                          <a:pt x="109" y="36"/>
                        </a:lnTo>
                        <a:lnTo>
                          <a:pt x="119" y="46"/>
                        </a:lnTo>
                        <a:lnTo>
                          <a:pt x="127" y="56"/>
                        </a:lnTo>
                        <a:lnTo>
                          <a:pt x="135" y="68"/>
                        </a:lnTo>
                        <a:lnTo>
                          <a:pt x="139" y="80"/>
                        </a:lnTo>
                        <a:lnTo>
                          <a:pt x="143" y="92"/>
                        </a:lnTo>
                        <a:lnTo>
                          <a:pt x="145" y="104"/>
                        </a:lnTo>
                        <a:lnTo>
                          <a:pt x="145" y="118"/>
                        </a:lnTo>
                        <a:lnTo>
                          <a:pt x="145" y="130"/>
                        </a:lnTo>
                        <a:lnTo>
                          <a:pt x="143" y="143"/>
                        </a:lnTo>
                        <a:lnTo>
                          <a:pt x="137" y="155"/>
                        </a:lnTo>
                        <a:lnTo>
                          <a:pt x="131" y="165"/>
                        </a:lnTo>
                        <a:lnTo>
                          <a:pt x="123" y="177"/>
                        </a:lnTo>
                        <a:lnTo>
                          <a:pt x="113" y="187"/>
                        </a:lnTo>
                        <a:lnTo>
                          <a:pt x="103" y="195"/>
                        </a:lnTo>
                        <a:lnTo>
                          <a:pt x="89" y="203"/>
                        </a:lnTo>
                        <a:lnTo>
                          <a:pt x="75" y="209"/>
                        </a:lnTo>
                        <a:lnTo>
                          <a:pt x="60" y="215"/>
                        </a:lnTo>
                        <a:lnTo>
                          <a:pt x="48" y="219"/>
                        </a:lnTo>
                        <a:lnTo>
                          <a:pt x="30" y="223"/>
                        </a:lnTo>
                        <a:lnTo>
                          <a:pt x="18" y="225"/>
                        </a:lnTo>
                        <a:lnTo>
                          <a:pt x="10" y="225"/>
                        </a:lnTo>
                        <a:lnTo>
                          <a:pt x="0" y="2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>
                    <a:off x="7769880" y="2362320"/>
                    <a:ext cx="129960" cy="720"/>
                  </a:xfrm>
                  <a:prstGeom prst="line">
                    <a:avLst/>
                  </a:prstGeom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>
                    <a:off x="7976520" y="2334240"/>
                    <a:ext cx="4320" cy="147600"/>
                  </a:xfrm>
                  <a:prstGeom prst="rect">
                    <a:avLst/>
                  </a:prstGeom>
                  <a:solidFill>
                    <a:srgbClr val="8383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7142040" y="2288880"/>
                    <a:ext cx="62172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837" h="399">
                        <a:moveTo>
                          <a:pt x="813" y="0"/>
                        </a:moveTo>
                        <a:lnTo>
                          <a:pt x="28" y="0"/>
                        </a:lnTo>
                        <a:lnTo>
                          <a:pt x="0" y="21"/>
                        </a:lnTo>
                        <a:lnTo>
                          <a:pt x="0" y="399"/>
                        </a:lnTo>
                        <a:lnTo>
                          <a:pt x="837" y="399"/>
                        </a:lnTo>
                        <a:lnTo>
                          <a:pt x="837" y="20"/>
                        </a:lnTo>
                        <a:lnTo>
                          <a:pt x="813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7266240" y="2340000"/>
                    <a:ext cx="470880" cy="71280"/>
                  </a:xfrm>
                  <a:prstGeom prst="rect">
                    <a:avLst/>
                  </a:prstGeom>
                  <a:solidFill>
                    <a:srgbClr val="ffffff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7236000" y="2341440"/>
                    <a:ext cx="14760" cy="1951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>
                    <a:off x="7566840" y="2362320"/>
                    <a:ext cx="45720" cy="295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7509600" y="2363760"/>
                    <a:ext cx="4644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7360560" y="2363760"/>
                    <a:ext cx="4608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7301160" y="2363760"/>
                    <a:ext cx="47520" cy="291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7665480" y="2362320"/>
                    <a:ext cx="316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4">
                        <a:moveTo>
                          <a:pt x="21" y="44"/>
                        </a:moveTo>
                        <a:lnTo>
                          <a:pt x="25" y="44"/>
                        </a:lnTo>
                        <a:lnTo>
                          <a:pt x="29" y="42"/>
                        </a:lnTo>
                        <a:lnTo>
                          <a:pt x="33" y="40"/>
                        </a:lnTo>
                        <a:lnTo>
                          <a:pt x="37" y="38"/>
                        </a:lnTo>
                        <a:lnTo>
                          <a:pt x="39" y="34"/>
                        </a:lnTo>
                        <a:lnTo>
                          <a:pt x="41" y="30"/>
                        </a:lnTo>
                        <a:lnTo>
                          <a:pt x="43" y="26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7" y="6"/>
                        </a:lnTo>
                        <a:lnTo>
                          <a:pt x="33" y="4"/>
                        </a:lnTo>
                        <a:lnTo>
                          <a:pt x="29" y="2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6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30"/>
                        </a:lnTo>
                        <a:lnTo>
                          <a:pt x="4" y="34"/>
                        </a:lnTo>
                        <a:lnTo>
                          <a:pt x="6" y="38"/>
                        </a:lnTo>
                        <a:lnTo>
                          <a:pt x="10" y="40"/>
                        </a:lnTo>
                        <a:lnTo>
                          <a:pt x="14" y="42"/>
                        </a:lnTo>
                        <a:lnTo>
                          <a:pt x="16" y="44"/>
                        </a:lnTo>
                        <a:lnTo>
                          <a:pt x="21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>
                    <a:off x="7462440" y="2362320"/>
                    <a:ext cx="3240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6" y="38"/>
                        </a:lnTo>
                        <a:lnTo>
                          <a:pt x="40" y="36"/>
                        </a:lnTo>
                        <a:lnTo>
                          <a:pt x="42" y="32"/>
                        </a:lnTo>
                        <a:lnTo>
                          <a:pt x="42" y="28"/>
                        </a:lnTo>
                        <a:lnTo>
                          <a:pt x="44" y="22"/>
                        </a:lnTo>
                        <a:lnTo>
                          <a:pt x="42" y="18"/>
                        </a:lnTo>
                        <a:lnTo>
                          <a:pt x="42" y="14"/>
                        </a:lnTo>
                        <a:lnTo>
                          <a:pt x="40" y="10"/>
                        </a:lnTo>
                        <a:lnTo>
                          <a:pt x="36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7421400" y="2362320"/>
                    <a:ext cx="316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6">
                        <a:moveTo>
                          <a:pt x="22" y="46"/>
                        </a:moveTo>
                        <a:lnTo>
                          <a:pt x="26" y="44"/>
                        </a:lnTo>
                        <a:lnTo>
                          <a:pt x="30" y="44"/>
                        </a:lnTo>
                        <a:lnTo>
                          <a:pt x="34" y="42"/>
                        </a:lnTo>
                        <a:lnTo>
                          <a:pt x="38" y="38"/>
                        </a:lnTo>
                        <a:lnTo>
                          <a:pt x="39" y="36"/>
                        </a:lnTo>
                        <a:lnTo>
                          <a:pt x="41" y="32"/>
                        </a:lnTo>
                        <a:lnTo>
                          <a:pt x="43" y="28"/>
                        </a:lnTo>
                        <a:lnTo>
                          <a:pt x="43" y="22"/>
                        </a:lnTo>
                        <a:lnTo>
                          <a:pt x="43" y="18"/>
                        </a:lnTo>
                        <a:lnTo>
                          <a:pt x="41" y="14"/>
                        </a:lnTo>
                        <a:lnTo>
                          <a:pt x="39" y="10"/>
                        </a:lnTo>
                        <a:lnTo>
                          <a:pt x="38" y="8"/>
                        </a:lnTo>
                        <a:lnTo>
                          <a:pt x="34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18" y="2"/>
                        </a:lnTo>
                        <a:lnTo>
                          <a:pt x="14" y="2"/>
                        </a:lnTo>
                        <a:lnTo>
                          <a:pt x="10" y="4"/>
                        </a:lnTo>
                        <a:lnTo>
                          <a:pt x="6" y="8"/>
                        </a:lnTo>
                        <a:lnTo>
                          <a:pt x="4" y="10"/>
                        </a:lnTo>
                        <a:lnTo>
                          <a:pt x="2" y="14"/>
                        </a:lnTo>
                        <a:lnTo>
                          <a:pt x="2" y="18"/>
                        </a:lnTo>
                        <a:lnTo>
                          <a:pt x="0" y="22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4" y="36"/>
                        </a:lnTo>
                        <a:lnTo>
                          <a:pt x="6" y="38"/>
                        </a:lnTo>
                        <a:lnTo>
                          <a:pt x="10" y="42"/>
                        </a:lnTo>
                        <a:lnTo>
                          <a:pt x="14" y="44"/>
                        </a:lnTo>
                        <a:lnTo>
                          <a:pt x="18" y="44"/>
                        </a:lnTo>
                        <a:lnTo>
                          <a:pt x="22" y="46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>
                    <a:off x="7148160" y="2303640"/>
                    <a:ext cx="485640" cy="360"/>
                  </a:xfrm>
                  <a:prstGeom prst="line">
                    <a:avLst/>
                  </a:prstGeom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7657920" y="2252520"/>
                    <a:ext cx="172080" cy="8856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7648560" y="2253960"/>
                    <a:ext cx="14760" cy="9864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9999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77500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>
                    <a:off x="774252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H="1">
                    <a:off x="773388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H="1">
                    <a:off x="7726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H="1">
                    <a:off x="77173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H="1">
                    <a:off x="7710120" y="225648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>
                    <a:off x="7706880" y="2257920"/>
                    <a:ext cx="360" cy="77760"/>
                  </a:xfrm>
                  <a:prstGeom prst="line">
                    <a:avLst/>
                  </a:prstGeom>
                  <a:ln cap="sq" w="0">
                    <a:solidFill>
                      <a:srgbClr val="b6b6b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H="1">
                    <a:off x="7901280" y="2344320"/>
                    <a:ext cx="69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66">
                        <a:moveTo>
                          <a:pt x="51" y="16"/>
                        </a:moveTo>
                        <a:lnTo>
                          <a:pt x="63" y="24"/>
                        </a:lnTo>
                        <a:lnTo>
                          <a:pt x="73" y="34"/>
                        </a:lnTo>
                        <a:lnTo>
                          <a:pt x="81" y="44"/>
                        </a:lnTo>
                        <a:lnTo>
                          <a:pt x="89" y="56"/>
                        </a:lnTo>
                        <a:lnTo>
                          <a:pt x="93" y="66"/>
                        </a:lnTo>
                        <a:lnTo>
                          <a:pt x="79" y="54"/>
                        </a:lnTo>
                        <a:lnTo>
                          <a:pt x="63" y="46"/>
                        </a:lnTo>
                        <a:lnTo>
                          <a:pt x="47" y="42"/>
                        </a:lnTo>
                        <a:lnTo>
                          <a:pt x="34" y="38"/>
                        </a:lnTo>
                        <a:lnTo>
                          <a:pt x="18" y="36"/>
                        </a:lnTo>
                        <a:lnTo>
                          <a:pt x="0" y="36"/>
                        </a:lnTo>
                        <a:lnTo>
                          <a:pt x="0" y="0"/>
                        </a:lnTo>
                        <a:lnTo>
                          <a:pt x="22" y="4"/>
                        </a:lnTo>
                        <a:lnTo>
                          <a:pt x="37" y="8"/>
                        </a:lnTo>
                        <a:lnTo>
                          <a:pt x="51" y="16"/>
                        </a:lnTo>
                        <a:close/>
                      </a:path>
                    </a:pathLst>
                  </a:custGeom>
                  <a:solidFill>
                    <a:srgbClr val="838383"/>
                  </a:solidFill>
                  <a:ln cap="sq"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flipH="1">
                    <a:off x="7634160" y="2228760"/>
                    <a:ext cx="72000" cy="27720"/>
                  </a:xfrm>
                  <a:prstGeom prst="rect">
                    <a:avLst/>
                  </a:prstGeom>
                  <a:solidFill>
                    <a:srgbClr val="000000"/>
                  </a:solidFill>
                  <a:ln cap="sq" w="0">
                    <a:solidFill>
                      <a:srgbClr val="838383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6529320" y="2314800"/>
                  <a:ext cx="486720" cy="408240"/>
                  <a:chOff x="6529320" y="2314800"/>
                  <a:chExt cx="486720" cy="408240"/>
                </a:xfrm>
              </p:grpSpPr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6647400" y="2314800"/>
                    <a:ext cx="368640" cy="408240"/>
                    <a:chOff x="6647400" y="2314800"/>
                    <a:chExt cx="368640" cy="40824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 rot="20515800">
                      <a:off x="6729120" y="2342880"/>
                      <a:ext cx="237960" cy="35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38" y="214"/>
                          </a:moveTo>
                          <a:arcTo wR="10800" hR="10800" stAng="-4715030" swAng="91884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38" y="214"/>
                          </a:moveTo>
                          <a:arcTo wR="10800" hR="10800" stAng="-4715030" swAng="9188438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rot="20515800">
                      <a:off x="6712560" y="2375640"/>
                      <a:ext cx="205560" cy="30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959" y="218"/>
                          </a:moveTo>
                          <a:arcTo wR="10800" hR="10800" stAng="-4708022" swAng="919142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959" y="218"/>
                          </a:moveTo>
                          <a:arcTo wR="10800" hR="10800" stAng="-4708022" swAng="919142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 rot="20515800">
                      <a:off x="6681960" y="2415240"/>
                      <a:ext cx="19116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96" y="205"/>
                          </a:moveTo>
                          <a:arcTo wR="10800" hR="10800" stAng="-4728645" swAng="922403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96" y="205"/>
                          </a:moveTo>
                          <a:arcTo wR="10800" hR="10800" stAng="-4728645" swAng="922403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6570360" y="2421720"/>
                    <a:ext cx="293760" cy="282600"/>
                    <a:chOff x="6570360" y="2421720"/>
                    <a:chExt cx="293760" cy="282600"/>
                  </a:xfrm>
                </p:grpSpPr>
                <p:sp>
                  <p:nvSpPr>
                    <p:cNvPr id="939" name=""/>
                    <p:cNvSpPr/>
                    <p:nvPr/>
                  </p:nvSpPr>
                  <p:spPr>
                    <a:xfrm rot="20515800">
                      <a:off x="6632640" y="2446920"/>
                      <a:ext cx="20052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71" swAng="923925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71" swAng="9239250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 rot="20515800">
                      <a:off x="6618960" y="2470320"/>
                      <a:ext cx="173160" cy="19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63" y="199"/>
                          </a:moveTo>
                          <a:arcTo wR="10800" hR="10800" stAng="-4739237" swAng="9251369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63" y="199"/>
                          </a:moveTo>
                          <a:arcTo wR="10800" hR="10800" stAng="-4739237" swAng="9251369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 rot="20515800">
                      <a:off x="6592320" y="2498400"/>
                      <a:ext cx="1616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2879" y="202"/>
                          </a:moveTo>
                          <a:arcTo wR="10800" hR="10800" stAng="-4733964" swAng="922295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2879" y="202"/>
                          </a:moveTo>
                          <a:arcTo wR="10800" hR="10800" stAng="-4733964" swAng="9222954"/>
                        </a:path>
                      </a:pathLst>
                    </a:custGeom>
                    <a:noFill/>
                    <a:ln w="12600">
                      <a:solidFill>
                        <a:srgbClr val="00cc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2" name=""/>
                  <p:cNvSpPr/>
                  <p:nvPr/>
                </p:nvSpPr>
                <p:spPr>
                  <a:xfrm rot="20515800">
                    <a:off x="6574320" y="2522520"/>
                    <a:ext cx="145080" cy="14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3" y="209"/>
                        </a:moveTo>
                        <a:arcTo wR="10800" hR="10800" stAng="-4723069" swAng="92216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3" y="209"/>
                        </a:moveTo>
                        <a:arcTo wR="10800" hR="10800" stAng="-4723069" swAng="9221677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20515800">
                    <a:off x="6555240" y="2540880"/>
                    <a:ext cx="1249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17" y="210"/>
                        </a:moveTo>
                        <a:arcTo wR="10800" hR="10800" stAng="-4721599" swAng="922114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17" y="210"/>
                        </a:moveTo>
                        <a:arcTo wR="10800" hR="10800" stAng="-4721599" swAng="9221142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rot="20515800">
                    <a:off x="6541560" y="2566080"/>
                    <a:ext cx="106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74" y="221"/>
                        </a:moveTo>
                        <a:arcTo wR="10800" hR="10800" stAng="-4703355" swAng="91693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74" y="221"/>
                        </a:moveTo>
                        <a:arcTo wR="10800" hR="10800" stAng="-4703355" swAng="9169371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rot="20515800">
                    <a:off x="6554520" y="2583720"/>
                    <a:ext cx="6372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17" y="190"/>
                        </a:moveTo>
                        <a:arcTo wR="10800" hR="10800" stAng="-4754221" swAng="925240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17" y="190"/>
                        </a:moveTo>
                        <a:arcTo wR="10800" hR="10800" stAng="-4754221" swAng="9252404"/>
                      </a:path>
                    </a:pathLst>
                  </a:custGeom>
                  <a:noFill/>
                  <a:ln w="1260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46" name=""/>
            <p:cNvSpPr/>
            <p:nvPr/>
          </p:nvSpPr>
          <p:spPr>
            <a:xfrm>
              <a:off x="6172200" y="152388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ble Re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70560" y="152388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572000" y="3809880"/>
              <a:ext cx="403848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355-72DD-4E34-8C62-104800E92B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6095880" y="4191120"/>
            <a:ext cx="2362320" cy="1600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HSS (Frequency Hopping Spread Spectr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1600 Hops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 channels in the 2.4 GHz ISM band (similar to 802.11 FHS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Link Oriented TDMA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: Defines hopp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s: Synchronized with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7 simultaneous active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in “Park”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 can participate in several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858000" y="3734280"/>
            <a:ext cx="91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Pic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391520" y="5334120"/>
            <a:ext cx="304560" cy="304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55" idx="5"/>
            <a:endCxn id="953" idx="0"/>
          </p:cNvCxnSpPr>
          <p:nvPr/>
        </p:nvCxnSpPr>
        <p:spPr>
          <a:xfrm>
            <a:off x="7488360" y="5126040"/>
            <a:ext cx="56160" cy="2088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6629400" y="449568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55" idx="1"/>
            <a:endCxn id="956" idx="5"/>
          </p:cNvCxnSpPr>
          <p:nvPr/>
        </p:nvCxnSpPr>
        <p:spPr>
          <a:xfrm flipH="1" flipV="1">
            <a:off x="6857280" y="4647600"/>
            <a:ext cx="361080" cy="20844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7315200" y="43434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58" idx="3"/>
            <a:endCxn id="955" idx="0"/>
          </p:cNvCxnSpPr>
          <p:nvPr/>
        </p:nvCxnSpPr>
        <p:spPr>
          <a:xfrm flipH="1">
            <a:off x="7352640" y="4647960"/>
            <a:ext cx="114840" cy="15300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7210440" y="4800600"/>
            <a:ext cx="304920" cy="304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162920" y="4800600"/>
            <a:ext cx="380880" cy="380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6629400" y="5105520"/>
            <a:ext cx="307800" cy="339120"/>
            <a:chOff x="6629400" y="5105520"/>
            <a:chExt cx="307800" cy="339120"/>
          </a:xfrm>
        </p:grpSpPr>
        <p:sp>
          <p:nvSpPr>
            <p:cNvPr id="962" name=""/>
            <p:cNvSpPr/>
            <p:nvPr/>
          </p:nvSpPr>
          <p:spPr>
            <a:xfrm>
              <a:off x="6629400" y="51055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520" rIns="92520" tIns="46080" bIns="4608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37680" y="5137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7620120" y="4800960"/>
            <a:ext cx="80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17960" y="4267440"/>
            <a:ext cx="694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256000" y="5181840"/>
            <a:ext cx="1394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ked 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E16-CBEF-4206-BA2E-775CF5BB7F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: Bluetooth ke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wo Link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Connection Oriented (SCO) (typically vo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Connectionless (AC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Scan: Find device with know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 Scan: Find other radios in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histicated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728720" y="4876920"/>
            <a:ext cx="74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ni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9292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672600" y="4876920"/>
            <a:ext cx="75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2120" y="56386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76520" y="5486400"/>
            <a:ext cx="5867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DFF-8F5E-4293-975E-7B4503CC4A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itability for W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fills most of the functional requirements of the second WPAN Call For Proposal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unlicensed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st, low power, smal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0-1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and synchronous links, voice,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eed further examin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xistence with other wireles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or gateway connectivity to other data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ming between pico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774200" y="4876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40560" y="52578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81960" y="5791320"/>
            <a:ext cx="36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vered in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48B-F5A1-4465-8697-8398D99477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Handoff Support Need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is not designed as a cellu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ase st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amless handoff, Inquiry Scan can last for several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Slow handoff is sufficient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-control palmtop moving around a 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 usage: Prevent discontinuation of work due to room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g out off/log into network, need to close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local/remote information in public pl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irport terminal, department store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175-73F8-469B-A0A4-79FE98405A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ity Required for Handoff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2" name=""/>
          <p:cNvCxnSpPr>
            <a:stCxn id="983" idx="2"/>
            <a:endCxn id="984" idx="0"/>
          </p:cNvCxnSpPr>
          <p:nvPr/>
        </p:nvCxnSpPr>
        <p:spPr>
          <a:xfrm>
            <a:off x="3371760" y="3473280"/>
            <a:ext cx="254880" cy="354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3198960" y="2954160"/>
            <a:ext cx="345600" cy="518760"/>
            <a:chOff x="3198960" y="2954160"/>
            <a:chExt cx="345600" cy="518760"/>
          </a:xfrm>
        </p:grpSpPr>
        <p:sp>
          <p:nvSpPr>
            <p:cNvPr id="983" name=""/>
            <p:cNvSpPr/>
            <p:nvPr/>
          </p:nvSpPr>
          <p:spPr>
            <a:xfrm>
              <a:off x="3198960" y="31269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3371400" y="29541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2464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8" name=""/>
          <p:cNvCxnSpPr>
            <a:stCxn id="989" idx="2"/>
            <a:endCxn id="984" idx="1"/>
          </p:cNvCxnSpPr>
          <p:nvPr/>
        </p:nvCxnSpPr>
        <p:spPr>
          <a:xfrm flipH="1">
            <a:off x="5221080" y="3470040"/>
            <a:ext cx="140400" cy="113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grpSp>
        <p:nvGrpSpPr>
          <p:cNvPr id="990" name=""/>
          <p:cNvGrpSpPr/>
          <p:nvPr/>
        </p:nvGrpSpPr>
        <p:grpSpPr>
          <a:xfrm>
            <a:off x="5707080" y="2174760"/>
            <a:ext cx="345600" cy="518760"/>
            <a:chOff x="5707080" y="2174760"/>
            <a:chExt cx="345600" cy="518760"/>
          </a:xfrm>
        </p:grpSpPr>
        <p:sp>
          <p:nvSpPr>
            <p:cNvPr id="991" name=""/>
            <p:cNvSpPr/>
            <p:nvPr/>
          </p:nvSpPr>
          <p:spPr>
            <a:xfrm>
              <a:off x="570708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587952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237200" y="1828800"/>
            <a:ext cx="224928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495680" y="2174760"/>
            <a:ext cx="345960" cy="518760"/>
            <a:chOff x="4495680" y="2174760"/>
            <a:chExt cx="345960" cy="518760"/>
          </a:xfrm>
        </p:grpSpPr>
        <p:sp>
          <p:nvSpPr>
            <p:cNvPr id="995" name=""/>
            <p:cNvSpPr/>
            <p:nvPr/>
          </p:nvSpPr>
          <p:spPr>
            <a:xfrm>
              <a:off x="44956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46684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3890880" y="2174760"/>
            <a:ext cx="345960" cy="518760"/>
            <a:chOff x="3890880" y="2174760"/>
            <a:chExt cx="345960" cy="518760"/>
          </a:xfrm>
        </p:grpSpPr>
        <p:sp>
          <p:nvSpPr>
            <p:cNvPr id="998" name=""/>
            <p:cNvSpPr/>
            <p:nvPr/>
          </p:nvSpPr>
          <p:spPr>
            <a:xfrm>
              <a:off x="3890880" y="2347560"/>
              <a:ext cx="34596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40636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2679840" y="2174760"/>
            <a:ext cx="345600" cy="518760"/>
            <a:chOff x="2679840" y="2174760"/>
            <a:chExt cx="345600" cy="518760"/>
          </a:xfrm>
        </p:grpSpPr>
        <p:sp>
          <p:nvSpPr>
            <p:cNvPr id="1001" name=""/>
            <p:cNvSpPr/>
            <p:nvPr/>
          </p:nvSpPr>
          <p:spPr>
            <a:xfrm>
              <a:off x="2679840" y="234756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2852280" y="2174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3371760" y="2174760"/>
            <a:ext cx="691920" cy="779040"/>
            <a:chOff x="3371760" y="2174760"/>
            <a:chExt cx="691920" cy="779040"/>
          </a:xfrm>
        </p:grpSpPr>
        <p:sp>
          <p:nvSpPr>
            <p:cNvPr id="1004" name=""/>
            <p:cNvSpPr/>
            <p:nvPr/>
          </p:nvSpPr>
          <p:spPr>
            <a:xfrm flipV="1">
              <a:off x="3371760" y="2607480"/>
              <a:ext cx="4323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3717720" y="2520720"/>
              <a:ext cx="8604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3718080" y="2174760"/>
              <a:ext cx="3456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5361120" y="2174760"/>
            <a:ext cx="518400" cy="779040"/>
            <a:chOff x="5361120" y="2174760"/>
            <a:chExt cx="518400" cy="779040"/>
          </a:xfrm>
        </p:grpSpPr>
        <p:sp>
          <p:nvSpPr>
            <p:cNvPr id="1008" name=""/>
            <p:cNvSpPr/>
            <p:nvPr/>
          </p:nvSpPr>
          <p:spPr>
            <a:xfrm flipV="1">
              <a:off x="5361120" y="2607480"/>
              <a:ext cx="34596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5620320" y="2520720"/>
              <a:ext cx="864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5620320" y="2174760"/>
              <a:ext cx="259200" cy="34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314532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086800" y="21747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918480" y="4338720"/>
            <a:ext cx="51912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13" idx="1"/>
            <a:endCxn id="1015" idx="3"/>
          </p:cNvCxnSpPr>
          <p:nvPr/>
        </p:nvCxnSpPr>
        <p:spPr>
          <a:xfrm flipH="1">
            <a:off x="6386040" y="4597560"/>
            <a:ext cx="532800" cy="81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1295280" y="3127320"/>
            <a:ext cx="2249640" cy="2249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2246400" y="4251240"/>
            <a:ext cx="345600" cy="518760"/>
            <a:chOff x="2246400" y="4251240"/>
            <a:chExt cx="345600" cy="518760"/>
          </a:xfrm>
        </p:grpSpPr>
        <p:sp>
          <p:nvSpPr>
            <p:cNvPr id="1018" name=""/>
            <p:cNvSpPr/>
            <p:nvPr/>
          </p:nvSpPr>
          <p:spPr>
            <a:xfrm>
              <a:off x="2246400" y="442404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418840" y="425124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0" name=""/>
          <p:cNvCxnSpPr>
            <a:stCxn id="1018" idx="3"/>
            <a:endCxn id="984" idx="2"/>
          </p:cNvCxnSpPr>
          <p:nvPr/>
        </p:nvCxnSpPr>
        <p:spPr>
          <a:xfrm flipV="1">
            <a:off x="2592000" y="4514400"/>
            <a:ext cx="337320" cy="8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4" name=""/>
          <p:cNvSpPr/>
          <p:nvPr/>
        </p:nvSpPr>
        <p:spPr>
          <a:xfrm>
            <a:off x="2938320" y="3559320"/>
            <a:ext cx="3633840" cy="1557360"/>
          </a:xfrm>
          <a:custGeom>
            <a:avLst/>
            <a:gdLst/>
            <a:ahLst/>
            <a:rect l="l" t="t" r="r" b="b"/>
            <a:pathLst>
              <a:path w="812" h="558">
                <a:moveTo>
                  <a:pt x="156" y="96"/>
                </a:moveTo>
                <a:cubicBezTo>
                  <a:pt x="183" y="87"/>
                  <a:pt x="184" y="70"/>
                  <a:pt x="204" y="54"/>
                </a:cubicBezTo>
                <a:cubicBezTo>
                  <a:pt x="218" y="43"/>
                  <a:pt x="247" y="42"/>
                  <a:pt x="264" y="36"/>
                </a:cubicBezTo>
                <a:cubicBezTo>
                  <a:pt x="308" y="41"/>
                  <a:pt x="368" y="51"/>
                  <a:pt x="408" y="24"/>
                </a:cubicBezTo>
                <a:cubicBezTo>
                  <a:pt x="424" y="13"/>
                  <a:pt x="462" y="0"/>
                  <a:pt x="462" y="0"/>
                </a:cubicBezTo>
                <a:cubicBezTo>
                  <a:pt x="470" y="2"/>
                  <a:pt x="500" y="6"/>
                  <a:pt x="510" y="12"/>
                </a:cubicBezTo>
                <a:cubicBezTo>
                  <a:pt x="529" y="23"/>
                  <a:pt x="543" y="41"/>
                  <a:pt x="564" y="48"/>
                </a:cubicBezTo>
                <a:cubicBezTo>
                  <a:pt x="598" y="59"/>
                  <a:pt x="576" y="52"/>
                  <a:pt x="630" y="66"/>
                </a:cubicBezTo>
                <a:cubicBezTo>
                  <a:pt x="658" y="73"/>
                  <a:pt x="686" y="81"/>
                  <a:pt x="714" y="90"/>
                </a:cubicBezTo>
                <a:cubicBezTo>
                  <a:pt x="720" y="92"/>
                  <a:pt x="732" y="96"/>
                  <a:pt x="732" y="96"/>
                </a:cubicBezTo>
                <a:cubicBezTo>
                  <a:pt x="766" y="148"/>
                  <a:pt x="732" y="154"/>
                  <a:pt x="756" y="234"/>
                </a:cubicBezTo>
                <a:cubicBezTo>
                  <a:pt x="761" y="250"/>
                  <a:pt x="792" y="270"/>
                  <a:pt x="792" y="270"/>
                </a:cubicBezTo>
                <a:cubicBezTo>
                  <a:pt x="802" y="299"/>
                  <a:pt x="812" y="325"/>
                  <a:pt x="792" y="354"/>
                </a:cubicBezTo>
                <a:cubicBezTo>
                  <a:pt x="786" y="363"/>
                  <a:pt x="766" y="379"/>
                  <a:pt x="756" y="384"/>
                </a:cubicBezTo>
                <a:cubicBezTo>
                  <a:pt x="744" y="389"/>
                  <a:pt x="720" y="396"/>
                  <a:pt x="720" y="396"/>
                </a:cubicBezTo>
                <a:cubicBezTo>
                  <a:pt x="691" y="425"/>
                  <a:pt x="685" y="480"/>
                  <a:pt x="636" y="486"/>
                </a:cubicBezTo>
                <a:cubicBezTo>
                  <a:pt x="612" y="489"/>
                  <a:pt x="588" y="490"/>
                  <a:pt x="564" y="492"/>
                </a:cubicBezTo>
                <a:cubicBezTo>
                  <a:pt x="533" y="513"/>
                  <a:pt x="508" y="547"/>
                  <a:pt x="474" y="558"/>
                </a:cubicBezTo>
                <a:cubicBezTo>
                  <a:pt x="374" y="544"/>
                  <a:pt x="418" y="542"/>
                  <a:pt x="342" y="552"/>
                </a:cubicBezTo>
                <a:cubicBezTo>
                  <a:pt x="306" y="550"/>
                  <a:pt x="269" y="553"/>
                  <a:pt x="234" y="546"/>
                </a:cubicBezTo>
                <a:cubicBezTo>
                  <a:pt x="227" y="545"/>
                  <a:pt x="225" y="535"/>
                  <a:pt x="222" y="528"/>
                </a:cubicBezTo>
                <a:cubicBezTo>
                  <a:pt x="212" y="505"/>
                  <a:pt x="206" y="477"/>
                  <a:pt x="192" y="456"/>
                </a:cubicBezTo>
                <a:cubicBezTo>
                  <a:pt x="161" y="409"/>
                  <a:pt x="91" y="407"/>
                  <a:pt x="42" y="402"/>
                </a:cubicBezTo>
                <a:cubicBezTo>
                  <a:pt x="14" y="383"/>
                  <a:pt x="7" y="376"/>
                  <a:pt x="0" y="342"/>
                </a:cubicBezTo>
                <a:cubicBezTo>
                  <a:pt x="5" y="295"/>
                  <a:pt x="0" y="282"/>
                  <a:pt x="30" y="252"/>
                </a:cubicBezTo>
                <a:cubicBezTo>
                  <a:pt x="42" y="215"/>
                  <a:pt x="23" y="189"/>
                  <a:pt x="36" y="144"/>
                </a:cubicBezTo>
                <a:cubicBezTo>
                  <a:pt x="47" y="104"/>
                  <a:pt x="126" y="100"/>
                  <a:pt x="156" y="9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727280" y="4424400"/>
            <a:ext cx="345600" cy="518760"/>
            <a:chOff x="1727280" y="4424400"/>
            <a:chExt cx="345600" cy="518760"/>
          </a:xfrm>
        </p:grpSpPr>
        <p:sp>
          <p:nvSpPr>
            <p:cNvPr id="1022" name=""/>
            <p:cNvSpPr/>
            <p:nvPr/>
          </p:nvSpPr>
          <p:spPr>
            <a:xfrm>
              <a:off x="1727280" y="459720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1899720" y="442440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727280" y="3473280"/>
            <a:ext cx="345600" cy="518760"/>
            <a:chOff x="1727280" y="3473280"/>
            <a:chExt cx="345600" cy="518760"/>
          </a:xfrm>
        </p:grpSpPr>
        <p:sp>
          <p:nvSpPr>
            <p:cNvPr id="1025" name=""/>
            <p:cNvSpPr/>
            <p:nvPr/>
          </p:nvSpPr>
          <p:spPr>
            <a:xfrm>
              <a:off x="1727280" y="3646080"/>
              <a:ext cx="345600" cy="34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1899720" y="34732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1900080" y="4251240"/>
            <a:ext cx="518400" cy="172800"/>
            <a:chOff x="1900080" y="4251240"/>
            <a:chExt cx="518400" cy="172800"/>
          </a:xfrm>
        </p:grpSpPr>
        <p:sp>
          <p:nvSpPr>
            <p:cNvPr id="1028" name=""/>
            <p:cNvSpPr/>
            <p:nvPr/>
          </p:nvSpPr>
          <p:spPr>
            <a:xfrm flipH="1">
              <a:off x="2072520" y="4251240"/>
              <a:ext cx="34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72880" y="4251240"/>
              <a:ext cx="86400" cy="8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1900080" y="4338000"/>
              <a:ext cx="259200" cy="8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900080" y="3473280"/>
            <a:ext cx="518760" cy="777600"/>
            <a:chOff x="1900080" y="3473280"/>
            <a:chExt cx="518760" cy="777600"/>
          </a:xfrm>
        </p:grpSpPr>
        <p:sp>
          <p:nvSpPr>
            <p:cNvPr id="1032" name=""/>
            <p:cNvSpPr/>
            <p:nvPr/>
          </p:nvSpPr>
          <p:spPr>
            <a:xfrm>
              <a:off x="1900080" y="3473280"/>
              <a:ext cx="51876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2246040" y="3818880"/>
              <a:ext cx="17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246040" y="3818880"/>
              <a:ext cx="172800" cy="43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934320" y="5334120"/>
            <a:ext cx="1535040" cy="1023840"/>
          </a:xfrm>
          <a:custGeom>
            <a:avLst/>
            <a:gdLst/>
            <a:ahLst/>
            <a:rect l="l" t="t" r="r" b="b"/>
            <a:pathLst>
              <a:path w="852" h="568">
                <a:moveTo>
                  <a:pt x="84" y="106"/>
                </a:moveTo>
                <a:cubicBezTo>
                  <a:pt x="91" y="92"/>
                  <a:pt x="94" y="77"/>
                  <a:pt x="102" y="64"/>
                </a:cubicBezTo>
                <a:cubicBezTo>
                  <a:pt x="132" y="20"/>
                  <a:pt x="199" y="11"/>
                  <a:pt x="246" y="4"/>
                </a:cubicBezTo>
                <a:cubicBezTo>
                  <a:pt x="248" y="4"/>
                  <a:pt x="284" y="13"/>
                  <a:pt x="288" y="16"/>
                </a:cubicBezTo>
                <a:cubicBezTo>
                  <a:pt x="301" y="26"/>
                  <a:pt x="324" y="52"/>
                  <a:pt x="324" y="52"/>
                </a:cubicBezTo>
                <a:cubicBezTo>
                  <a:pt x="391" y="45"/>
                  <a:pt x="361" y="52"/>
                  <a:pt x="414" y="34"/>
                </a:cubicBezTo>
                <a:cubicBezTo>
                  <a:pt x="428" y="29"/>
                  <a:pt x="436" y="13"/>
                  <a:pt x="450" y="10"/>
                </a:cubicBezTo>
                <a:cubicBezTo>
                  <a:pt x="460" y="8"/>
                  <a:pt x="470" y="6"/>
                  <a:pt x="480" y="4"/>
                </a:cubicBezTo>
                <a:cubicBezTo>
                  <a:pt x="520" y="7"/>
                  <a:pt x="563" y="0"/>
                  <a:pt x="600" y="16"/>
                </a:cubicBezTo>
                <a:cubicBezTo>
                  <a:pt x="655" y="40"/>
                  <a:pt x="569" y="35"/>
                  <a:pt x="654" y="46"/>
                </a:cubicBezTo>
                <a:cubicBezTo>
                  <a:pt x="687" y="50"/>
                  <a:pt x="713" y="54"/>
                  <a:pt x="744" y="64"/>
                </a:cubicBezTo>
                <a:cubicBezTo>
                  <a:pt x="758" y="78"/>
                  <a:pt x="772" y="92"/>
                  <a:pt x="786" y="106"/>
                </a:cubicBezTo>
                <a:cubicBezTo>
                  <a:pt x="792" y="112"/>
                  <a:pt x="804" y="124"/>
                  <a:pt x="804" y="124"/>
                </a:cubicBezTo>
                <a:cubicBezTo>
                  <a:pt x="815" y="157"/>
                  <a:pt x="841" y="181"/>
                  <a:pt x="852" y="214"/>
                </a:cubicBezTo>
                <a:cubicBezTo>
                  <a:pt x="837" y="259"/>
                  <a:pt x="852" y="206"/>
                  <a:pt x="852" y="298"/>
                </a:cubicBezTo>
                <a:cubicBezTo>
                  <a:pt x="852" y="336"/>
                  <a:pt x="852" y="376"/>
                  <a:pt x="840" y="412"/>
                </a:cubicBezTo>
                <a:cubicBezTo>
                  <a:pt x="835" y="427"/>
                  <a:pt x="813" y="429"/>
                  <a:pt x="804" y="442"/>
                </a:cubicBezTo>
                <a:cubicBezTo>
                  <a:pt x="789" y="463"/>
                  <a:pt x="801" y="500"/>
                  <a:pt x="780" y="514"/>
                </a:cubicBezTo>
                <a:cubicBezTo>
                  <a:pt x="755" y="531"/>
                  <a:pt x="725" y="537"/>
                  <a:pt x="696" y="544"/>
                </a:cubicBezTo>
                <a:cubicBezTo>
                  <a:pt x="661" y="568"/>
                  <a:pt x="655" y="561"/>
                  <a:pt x="606" y="556"/>
                </a:cubicBezTo>
                <a:cubicBezTo>
                  <a:pt x="579" y="549"/>
                  <a:pt x="562" y="538"/>
                  <a:pt x="534" y="532"/>
                </a:cubicBezTo>
                <a:cubicBezTo>
                  <a:pt x="507" y="514"/>
                  <a:pt x="475" y="508"/>
                  <a:pt x="444" y="502"/>
                </a:cubicBezTo>
                <a:cubicBezTo>
                  <a:pt x="378" y="515"/>
                  <a:pt x="313" y="533"/>
                  <a:pt x="246" y="544"/>
                </a:cubicBezTo>
                <a:cubicBezTo>
                  <a:pt x="218" y="542"/>
                  <a:pt x="188" y="548"/>
                  <a:pt x="162" y="538"/>
                </a:cubicBezTo>
                <a:cubicBezTo>
                  <a:pt x="149" y="533"/>
                  <a:pt x="138" y="502"/>
                  <a:pt x="138" y="502"/>
                </a:cubicBezTo>
                <a:cubicBezTo>
                  <a:pt x="139" y="491"/>
                  <a:pt x="151" y="438"/>
                  <a:pt x="138" y="418"/>
                </a:cubicBezTo>
                <a:cubicBezTo>
                  <a:pt x="131" y="407"/>
                  <a:pt x="57" y="375"/>
                  <a:pt x="42" y="370"/>
                </a:cubicBezTo>
                <a:cubicBezTo>
                  <a:pt x="20" y="348"/>
                  <a:pt x="8" y="346"/>
                  <a:pt x="0" y="316"/>
                </a:cubicBezTo>
                <a:cubicBezTo>
                  <a:pt x="7" y="288"/>
                  <a:pt x="6" y="278"/>
                  <a:pt x="30" y="262"/>
                </a:cubicBezTo>
                <a:cubicBezTo>
                  <a:pt x="42" y="226"/>
                  <a:pt x="24" y="148"/>
                  <a:pt x="24" y="148"/>
                </a:cubicBezTo>
                <a:cubicBezTo>
                  <a:pt x="55" y="127"/>
                  <a:pt x="47" y="151"/>
                  <a:pt x="78" y="130"/>
                </a:cubicBezTo>
                <a:cubicBezTo>
                  <a:pt x="85" y="110"/>
                  <a:pt x="84" y="118"/>
                  <a:pt x="84" y="106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77960" y="5638680"/>
            <a:ext cx="135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259680" y="5149800"/>
            <a:ext cx="519120" cy="5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7" idx="0"/>
            <a:endCxn id="1015" idx="2"/>
          </p:cNvCxnSpPr>
          <p:nvPr/>
        </p:nvCxnSpPr>
        <p:spPr>
          <a:xfrm flipH="1" flipV="1">
            <a:off x="6127200" y="4934880"/>
            <a:ext cx="392760" cy="21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>
            <a:stCxn id="1037" idx="3"/>
            <a:endCxn id="1035" idx="0"/>
          </p:cNvCxnSpPr>
          <p:nvPr/>
        </p:nvCxnSpPr>
        <p:spPr>
          <a:xfrm>
            <a:off x="6778800" y="5408280"/>
            <a:ext cx="28800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40" name=""/>
          <p:cNvCxnSpPr>
            <a:stCxn id="1015" idx="1"/>
            <a:endCxn id="1041" idx="2"/>
          </p:cNvCxnSpPr>
          <p:nvPr/>
        </p:nvCxnSpPr>
        <p:spPr>
          <a:xfrm flipH="1" flipV="1">
            <a:off x="5201640" y="4307760"/>
            <a:ext cx="665640" cy="3704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15" idx="1"/>
            <a:endCxn id="1043" idx="3"/>
          </p:cNvCxnSpPr>
          <p:nvPr/>
        </p:nvCxnSpPr>
        <p:spPr>
          <a:xfrm flipH="1" flipV="1">
            <a:off x="4231800" y="4439520"/>
            <a:ext cx="1635840" cy="238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4" name=""/>
          <p:cNvCxnSpPr>
            <a:stCxn id="1043" idx="1"/>
            <a:endCxn id="984" idx="3"/>
          </p:cNvCxnSpPr>
          <p:nvPr/>
        </p:nvCxnSpPr>
        <p:spPr>
          <a:xfrm flipH="1">
            <a:off x="2928240" y="4439880"/>
            <a:ext cx="957960" cy="738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5" name=""/>
          <p:cNvCxnSpPr>
            <a:stCxn id="1043" idx="0"/>
            <a:endCxn id="984" idx="4"/>
          </p:cNvCxnSpPr>
          <p:nvPr/>
        </p:nvCxnSpPr>
        <p:spPr>
          <a:xfrm flipH="1" flipV="1">
            <a:off x="3627000" y="3826800"/>
            <a:ext cx="432720" cy="440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1" idx="0"/>
            <a:endCxn id="984" idx="5"/>
          </p:cNvCxnSpPr>
          <p:nvPr/>
        </p:nvCxnSpPr>
        <p:spPr>
          <a:xfrm flipV="1">
            <a:off x="5202000" y="3582720"/>
            <a:ext cx="19800" cy="380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047" name=""/>
          <p:cNvSpPr/>
          <p:nvPr/>
        </p:nvSpPr>
        <p:spPr>
          <a:xfrm>
            <a:off x="2070000" y="2590920"/>
            <a:ext cx="3797280" cy="2438280"/>
          </a:xfrm>
          <a:custGeom>
            <a:avLst/>
            <a:gdLst/>
            <a:ahLst/>
            <a:rect l="l" t="t" r="r" b="b"/>
            <a:pathLst>
              <a:path w="2392" h="1536">
                <a:moveTo>
                  <a:pt x="2392" y="0"/>
                </a:moveTo>
                <a:cubicBezTo>
                  <a:pt x="2132" y="140"/>
                  <a:pt x="1872" y="280"/>
                  <a:pt x="1624" y="288"/>
                </a:cubicBezTo>
                <a:cubicBezTo>
                  <a:pt x="1376" y="296"/>
                  <a:pt x="1152" y="0"/>
                  <a:pt x="904" y="48"/>
                </a:cubicBezTo>
                <a:cubicBezTo>
                  <a:pt x="656" y="96"/>
                  <a:pt x="272" y="328"/>
                  <a:pt x="136" y="576"/>
                </a:cubicBezTo>
                <a:cubicBezTo>
                  <a:pt x="0" y="824"/>
                  <a:pt x="44" y="1180"/>
                  <a:pt x="88" y="1536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514600" y="3213000"/>
            <a:ext cx="2819520" cy="1435320"/>
          </a:xfrm>
          <a:custGeom>
            <a:avLst/>
            <a:gdLst/>
            <a:ahLst/>
            <a:rect l="l" t="t" r="r" b="b"/>
            <a:pathLst>
              <a:path w="1776" h="904">
                <a:moveTo>
                  <a:pt x="1776" y="88"/>
                </a:moveTo>
                <a:cubicBezTo>
                  <a:pt x="1300" y="44"/>
                  <a:pt x="824" y="0"/>
                  <a:pt x="528" y="136"/>
                </a:cubicBezTo>
                <a:cubicBezTo>
                  <a:pt x="232" y="272"/>
                  <a:pt x="116" y="588"/>
                  <a:pt x="0" y="904"/>
                </a:cubicBezTo>
              </a:path>
            </a:pathLst>
          </a:custGeom>
          <a:noFill/>
          <a:ln w="38160">
            <a:solidFill>
              <a:srgbClr val="008000"/>
            </a:solidFill>
            <a:prstDash val="dash"/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867280" y="4419720"/>
            <a:ext cx="51912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86200" y="4267080"/>
            <a:ext cx="3459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029200" y="3962520"/>
            <a:ext cx="3459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4724280" y="5029200"/>
            <a:ext cx="1143000" cy="83808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4190760" y="4723920"/>
            <a:ext cx="533160" cy="114300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4724280" y="4419360"/>
            <a:ext cx="381240" cy="1447560"/>
          </a:xfrm>
          <a:prstGeom prst="line">
            <a:avLst/>
          </a:prstGeom>
          <a:ln w="22320">
            <a:solidFill>
              <a:srgbClr val="3333cc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6576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uting 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5187960" y="2953800"/>
            <a:ext cx="345600" cy="516240"/>
            <a:chOff x="5187960" y="2953800"/>
            <a:chExt cx="345600" cy="516240"/>
          </a:xfrm>
        </p:grpSpPr>
        <p:sp>
          <p:nvSpPr>
            <p:cNvPr id="989" name=""/>
            <p:cNvSpPr/>
            <p:nvPr/>
          </p:nvSpPr>
          <p:spPr>
            <a:xfrm>
              <a:off x="5187960" y="3125880"/>
              <a:ext cx="345600" cy="34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5361120" y="2953800"/>
              <a:ext cx="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391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79640" y="24494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h of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718240" y="31240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ssion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008-7E53-48AC-89C2-8480F74EF3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2655720" y="2190600"/>
            <a:ext cx="1576440" cy="3362400"/>
          </a:xfrm>
          <a:custGeom>
            <a:avLst/>
            <a:gdLst/>
            <a:ahLst/>
            <a:rect l="l" t="t" r="r" b="b"/>
            <a:pathLst>
              <a:path w="1208" h="2544">
                <a:moveTo>
                  <a:pt x="1120" y="0"/>
                </a:moveTo>
                <a:cubicBezTo>
                  <a:pt x="576" y="360"/>
                  <a:pt x="32" y="720"/>
                  <a:pt x="16" y="1008"/>
                </a:cubicBezTo>
                <a:cubicBezTo>
                  <a:pt x="0" y="1296"/>
                  <a:pt x="840" y="1472"/>
                  <a:pt x="1024" y="1728"/>
                </a:cubicBezTo>
                <a:cubicBezTo>
                  <a:pt x="1208" y="1984"/>
                  <a:pt x="1164" y="2264"/>
                  <a:pt x="1120" y="25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twork Layer Solution: Cellular 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8280" y="2577960"/>
            <a:ext cx="4486320" cy="185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1"/>
          <a:stretch/>
        </p:blipFill>
        <p:spPr>
          <a:xfrm>
            <a:off x="3816360" y="1752480"/>
            <a:ext cx="1276200" cy="80820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4115520" y="1981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744280" y="1828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656160" y="2360520"/>
            <a:ext cx="3268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906200" y="27432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3882960" y="5681520"/>
            <a:ext cx="604800" cy="45576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581640" y="60958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T De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17640" y="2378160"/>
            <a:ext cx="1576440" cy="3174840"/>
          </a:xfrm>
          <a:custGeom>
            <a:avLst/>
            <a:gdLst/>
            <a:ahLst/>
            <a:rect l="l" t="t" r="r" b="b"/>
            <a:pathLst>
              <a:path w="1216" h="2448">
                <a:moveTo>
                  <a:pt x="1216" y="2448"/>
                </a:moveTo>
                <a:cubicBezTo>
                  <a:pt x="1216" y="2096"/>
                  <a:pt x="1216" y="1744"/>
                  <a:pt x="1024" y="1488"/>
                </a:cubicBezTo>
                <a:cubicBezTo>
                  <a:pt x="832" y="1232"/>
                  <a:pt x="128" y="1120"/>
                  <a:pt x="64" y="912"/>
                </a:cubicBezTo>
                <a:cubicBezTo>
                  <a:pt x="0" y="704"/>
                  <a:pt x="464" y="392"/>
                  <a:pt x="640" y="240"/>
                </a:cubicBezTo>
                <a:cubicBezTo>
                  <a:pt x="816" y="88"/>
                  <a:pt x="968" y="44"/>
                  <a:pt x="112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06440" y="3311640"/>
            <a:ext cx="1525680" cy="2179440"/>
          </a:xfrm>
          <a:custGeom>
            <a:avLst/>
            <a:gdLst/>
            <a:ahLst/>
            <a:rect l="l" t="t" r="r" b="b"/>
            <a:pathLst>
              <a:path w="1176" h="1680">
                <a:moveTo>
                  <a:pt x="1104" y="0"/>
                </a:moveTo>
                <a:cubicBezTo>
                  <a:pt x="1140" y="20"/>
                  <a:pt x="1176" y="40"/>
                  <a:pt x="1008" y="192"/>
                </a:cubicBezTo>
                <a:cubicBezTo>
                  <a:pt x="840" y="344"/>
                  <a:pt x="192" y="664"/>
                  <a:pt x="96" y="912"/>
                </a:cubicBezTo>
                <a:cubicBezTo>
                  <a:pt x="0" y="1160"/>
                  <a:pt x="216" y="1420"/>
                  <a:pt x="432" y="1680"/>
                </a:cubicBezTo>
              </a:path>
            </a:pathLst>
          </a:custGeom>
          <a:noFill/>
          <a:ln w="381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3784680" y="4075200"/>
          <a:ext cx="55728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4680" y="4075200"/>
                    <a:ext cx="5572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"/>
          <p:cNvGraphicFramePr/>
          <p:nvPr/>
        </p:nvGraphicFramePr>
        <p:xfrm>
          <a:off x="2286000" y="3132000"/>
          <a:ext cx="5572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313200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"/>
          <p:cNvGraphicFramePr/>
          <p:nvPr/>
        </p:nvGraphicFramePr>
        <p:xfrm>
          <a:off x="1060560" y="4027320"/>
          <a:ext cx="55728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0560" y="4027320"/>
                    <a:ext cx="5572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3103560" y="2128680"/>
          <a:ext cx="558720" cy="74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3560" y="2128680"/>
                    <a:ext cx="5587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8" name="" descr=""/>
          <p:cNvPicPr/>
          <p:nvPr/>
        </p:nvPicPr>
        <p:blipFill>
          <a:blip r:embed="rId11"/>
          <a:stretch/>
        </p:blipFill>
        <p:spPr>
          <a:xfrm>
            <a:off x="1555920" y="5678640"/>
            <a:ext cx="603000" cy="45720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2365200" y="5802480"/>
            <a:ext cx="1368720" cy="311040"/>
          </a:xfrm>
          <a:prstGeom prst="rightArrow">
            <a:avLst>
              <a:gd name="adj1" fmla="val 50000"/>
              <a:gd name="adj2" fmla="val 110012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181120" y="1752120"/>
            <a:ext cx="3505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ackets coming from BT devices are routed to the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916200" y="4711680"/>
            <a:ext cx="1332720" cy="368280"/>
            <a:chOff x="916200" y="4711680"/>
            <a:chExt cx="1332720" cy="368280"/>
          </a:xfrm>
        </p:grpSpPr>
        <p:sp>
          <p:nvSpPr>
            <p:cNvPr id="1082" name=""/>
            <p:cNvSpPr/>
            <p:nvPr/>
          </p:nvSpPr>
          <p:spPr>
            <a:xfrm>
              <a:off x="925560" y="4800600"/>
              <a:ext cx="128412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916200" y="47116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Base 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3681360" y="4829040"/>
            <a:ext cx="127152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657960" y="47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imon Baatz, University of Bon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446-A058-4225-AAD9-4B697B08AD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8T08:00:38Z</dcterms:created>
  <dc:creator>Simon Baatz</dc:creator>
  <dc:description>IEEE 802.15-99/033r2</dc:description>
  <dc:language>en-US</dc:language>
  <cp:lastModifiedBy>Ian C. Gifford</cp:lastModifiedBy>
  <cp:lastPrinted>1999-07-02T15:55:08Z</cp:lastPrinted>
  <dcterms:modified xsi:type="dcterms:W3CDTF">1999-07-05T13:14:34Z</dcterms:modified>
  <cp:revision>38</cp:revision>
  <dc:subject>IEEE 802.15 Integration of Bluetooth into LAN Environments</dc:subject>
  <dc:title>Integration of Bluetooth into LAN Environments</dc:title>
</cp:coreProperties>
</file>