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77D6-0812-42D9-B721-91850BABE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3843-D711-4835-90AA-D35F674AF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5EB0-B388-4DA4-96F2-4CA65B961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842C-E485-43C3-BD84-D640DE74A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6F1F-85EE-4FB5-8F72-E8EE2B4A1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7799-D9E9-4086-B117-369786697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F35B-BF7E-4CB1-98F1-6629BD4B0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4703-B456-4FE4-AB66-9C0B5A6A0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2D7F-7A50-4CAE-A3FA-E56538DD1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57AA-DDB0-458B-BE0A-C169D971A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8463-9FA6-46FF-81F3-D4D22EEC7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7B3E-1A94-4726-8F54-2105AE356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19C617C-27FA-43F7-BE54-33B0DD2CB1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140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Working Group for Wireless Personal Area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102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keting Committee Summary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uai, H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vember 10, 19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, Intersi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ACF5-430D-47A6-9B7A-12A732604C9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mary of Marketing Committee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9154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ed MC Purpose, Objectives and Exist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ed Plans to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e Marcom campaig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e  marketing of 802.15 with Bluetooth S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a Position paper to the IEEE on the proposed Publishing procedure for a TG1 Joint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 “Marketing Material” to support the IEEE Draft, e.g., Handbook, Companion, Pocket Guides, et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e liaison with ETSI but also determine if there are alternate SDO’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ct relevant “WPAN” terms and UR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sue joint 802 and BT Press Rel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High Rate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1400" y="5791320"/>
            <a:ext cx="635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Requested membership assi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, Intersi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1D4A-A0F2-464A-81DB-9256D72B75C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42920" y="990720"/>
            <a:ext cx="8772480" cy="161856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tion #1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ve that the charter of the 802.15 Marketing Committ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 extended to the March’00 Plena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:________    Against:_________    Abstain: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8760" y="2819520"/>
            <a:ext cx="8680320" cy="161856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tion #2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ve that 802.15 request the IEEE  to immediately proceed with trademar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 of WPAN and WPA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:________    Against:_________    Abstain: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8760" y="4695840"/>
            <a:ext cx="8680320" cy="161856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tion #3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ve that the 802.15 Executive Committee be empowered to  proceed with additional trademark and URL registrations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:________    Against:_________    Abstain: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, Intersil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2EAB-AC42-4E06-86E3-FBB0DFF26672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8T16:56:24Z</dcterms:created>
  <dc:creator>Ian Gifford, M/A-COM &amp; Bruce Kraemer, Harris</dc:creator>
  <dc:description>031r1</dc:description>
  <dc:language>en-US</dc:language>
  <cp:lastModifiedBy>Bruce Kraemer</cp:lastModifiedBy>
  <cp:lastPrinted>1998-02-10T13:28:06Z</cp:lastPrinted>
  <dcterms:modified xsi:type="dcterms:W3CDTF">1999-11-10T22:59:31Z</dcterms:modified>
  <cp:revision>82</cp:revision>
  <dc:subject>IEEE 802.15 Marketing</dc:subject>
  <dc:title>IEEE P802.15 Working Group for Wireless Personal Area Networks</dc:title>
</cp:coreProperties>
</file>