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3D3-128F-4116-BFB0-CD4A57E8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431-5868-40F5-AF7B-ACAEB640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10EF-68BB-4229-86DD-EAD67B0F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D430-7D37-46CC-B95D-6AE67C7C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22E-059B-4D82-A7CF-270F5841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E1E-B9EA-4437-A3AC-C314A05E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206-6199-4676-A5C6-13C68957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472-8B7C-406B-84C6-71A49D46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D15-5C92-4C45-91D0-073F7D60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624-30EB-4699-B912-5B0B7F41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BB9-6E92-4C46-B3BB-06EF56F7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F8D-C866-4C4F-9F37-F3A1EB06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EDEC2AE-DADA-4D56-974B-B53F36F4C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8/049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28600" y="23623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8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51814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886-D948-41B1-B80D-257FF4BB00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 Two Motions to the 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6002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1:  To affirm Bob Heile as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:  To affirm Ian Gifford as Vice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876920"/>
            <a:ext cx="647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43828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ll Lidins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1C1-6C98-4145-B91A-8203212F2E5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2120" y="2057400"/>
          <a:ext cx="7813440" cy="19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134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814320" y="4686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vote was more for lack of understanding rather than dis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A72-588B-4BA2-8033-7F17DC6C91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981080"/>
          <a:ext cx="82706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70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7200" y="4724280"/>
            <a:ext cx="84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s for vote: yes=support for letter, no=against letter, abstain=neutral o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105520"/>
            <a:ext cx="824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tral position reaffirmed in separate v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stay neutral at this time on the subject of 802.11 letter to FCC re WBF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ed: Houman Albo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passes 23-8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E01-7948-4BC1-8407-539A42EEED3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9810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70280" y="3886200"/>
            <a:ext cx="1832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A02-086B-4FE7-AF88-102B8D76951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tion to the SEC for a Study Grou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/interoperability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7200" y="4495680"/>
            <a:ext cx="244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as amended carr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360" y="4405320"/>
            <a:ext cx="515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:  Move to strike word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/second      russell/marks   vote 6-3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 carr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F83-27C8-4BA1-85E5-0806DB4B3F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udy Group as Approved by SE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DB9-69A8-4BFC-B88A-5934CE596E9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5120" y="32004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0640" y="3733920"/>
            <a:ext cx="2149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AC5-0579-44C4-8D27-1536A743987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es, Boe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A70-DBAF-467E-9674-213E80C349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2560" y="3643200"/>
            <a:ext cx="211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 Ker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F6D-8A08-4C9E-AE2C-C44BB8B66C8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Bridget Labrode</cp:lastModifiedBy>
  <cp:lastPrinted>1998-02-10T13:28:06Z</cp:lastPrinted>
  <dcterms:modified xsi:type="dcterms:W3CDTF">1999-07-13T13:05:43Z</dcterms:modified>
  <cp:revision>23</cp:revision>
  <dc:subject/>
  <dc:title>No Slide Title</dc:title>
</cp:coreProperties>
</file>