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4BE-DE16-4734-8494-AC88C57D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005-2204-4D82-B976-B76207F2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F73-E62D-47EF-B381-B77BB487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B45-2435-4B52-BC6F-6D2103BF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E70-DA94-4610-BA59-8F8427F6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A31-1B21-4083-BD69-146F4D2C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E6A-D45E-4612-B1C6-0E1E29CA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AAB-AF3E-45B5-8E00-6AFFCD3C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83D0-1C0B-4E2D-9EA8-8F33531F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661-C763-4E0F-A204-A971909B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434-8B2A-4596-9B34-825C1DDE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502-CC3D-405C-92F2-95ED2D5E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92A6D5-0CE5-4BC8-91D7-6073806F3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3716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7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Coordination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770-BB47-402A-BF3F-BB5613E9D3E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SIG Functiona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Draf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14F-453E-4B6F-8FBE-6142955F3A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20720" y="1996920"/>
          <a:ext cx="592308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6920"/>
                    <a:ext cx="5923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749-000D-487C-9958-F6CCFF41B36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Bluetooth SIG is set 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5680" y="2529000"/>
            <a:ext cx="8456040" cy="3174840"/>
            <a:chOff x="535680" y="2529000"/>
            <a:chExt cx="8456040" cy="3174840"/>
          </a:xfrm>
        </p:grpSpPr>
        <p:sp>
          <p:nvSpPr>
            <p:cNvPr id="54" name=""/>
            <p:cNvSpPr/>
            <p:nvPr/>
          </p:nvSpPr>
          <p:spPr>
            <a:xfrm>
              <a:off x="838080" y="3124080"/>
              <a:ext cx="2895840" cy="167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locking IPR’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ross Licens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1520" y="252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36080" y="49528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59760" y="252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5680" y="4952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24280" y="3124080"/>
              <a:ext cx="2286000" cy="152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6640" y="457200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QR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Bluetooth%20logo%20(tm)" descr=""/>
            <p:cNvPicPr/>
            <p:nvPr/>
          </p:nvPicPr>
          <p:blipFill>
            <a:blip r:embed="rId1"/>
            <a:stretch/>
          </p:blipFill>
          <p:spPr>
            <a:xfrm>
              <a:off x="7227720" y="3583080"/>
              <a:ext cx="176400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809880" y="38862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46480" y="5335560"/>
              <a:ext cx="23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tricted to Bluetoo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523880" y="4495680"/>
              <a:ext cx="4572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81480" y="35719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99/0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37F-AC6E-41C5-894A-E171BABB1A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BSIG should perceive the IEEE Process of Sub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Program Management will review their derived Draft; this takes two (2)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pproved the Draft will be submitted to the TG1 for thei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3124080"/>
            <a:ext cx="5715000" cy="2921040"/>
            <a:chOff x="3352680" y="3124080"/>
            <a:chExt cx="5715000" cy="2921040"/>
          </a:xfrm>
        </p:grpSpPr>
        <p:sp>
          <p:nvSpPr>
            <p:cNvPr id="69" name=""/>
            <p:cNvSpPr/>
            <p:nvPr/>
          </p:nvSpPr>
          <p:spPr>
            <a:xfrm flipV="1">
              <a:off x="6667200" y="433008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508600" y="335268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876560" y="449568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0760" y="373356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360" y="426708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6560" y="554976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1880" y="539712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5880" y="509256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43240" y="373356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19360" y="472428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45240" y="539712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52680" y="358128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4360" y="342864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9080" y="60451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8508600" y="403812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Bluetooth%20logo%20(tm)" descr=""/>
            <p:cNvPicPr/>
            <p:nvPr/>
          </p:nvPicPr>
          <p:blipFill>
            <a:blip r:embed="rId1"/>
            <a:stretch/>
          </p:blipFill>
          <p:spPr>
            <a:xfrm>
              <a:off x="5410080" y="316044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924680" y="312408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30E4-D9CD-409E-B1DB-E3438E3B39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92120" y="25146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1520" y="1803240"/>
            <a:ext cx="3733920" cy="4572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 Process w/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4686480"/>
            <a:ext cx="464832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4660920"/>
            <a:ext cx="152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21193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193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133720" y="2908440"/>
            <a:ext cx="198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6365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eee-ntw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762120" cy="657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276720" y="1765440"/>
            <a:ext cx="5715000" cy="2921040"/>
            <a:chOff x="3276720" y="1765440"/>
            <a:chExt cx="5715000" cy="2921040"/>
          </a:xfrm>
        </p:grpSpPr>
        <p:sp>
          <p:nvSpPr>
            <p:cNvPr id="97" name=""/>
            <p:cNvSpPr/>
            <p:nvPr/>
          </p:nvSpPr>
          <p:spPr>
            <a:xfrm flipV="1">
              <a:off x="6591240" y="297144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32640" y="199404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800600" y="313704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237492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290844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00600" y="419112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5920" y="403848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9920" y="373392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237492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336564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9280" y="403848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6720" y="222264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8400" y="207000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3120" y="468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432640" y="267948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Bluetooth%20logo%20(tm)" descr=""/>
            <p:cNvPicPr/>
            <p:nvPr/>
          </p:nvPicPr>
          <p:blipFill>
            <a:blip r:embed="rId4"/>
            <a:stretch/>
          </p:blipFill>
          <p:spPr>
            <a:xfrm>
              <a:off x="5334120" y="180180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848720" y="176544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B2D-90C8-4505-BC75-4381B93C0D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to follow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012-8808-4329-AB26-534958C2E2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U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bluetoot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81C-5500-49ED-AF67-FFBAA2FEA2D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4:06:10Z</dcterms:created>
  <dc:creator>Ian C. Gifford</dc:creator>
  <dc:description>079r0</dc:description>
  <dc:language>en-US</dc:language>
  <cp:lastModifiedBy>Ian C. Gifford</cp:lastModifiedBy>
  <cp:lastPrinted>1998-02-10T13:28:06Z</cp:lastPrinted>
  <dcterms:modified xsi:type="dcterms:W3CDTF">1999-09-15T14:53:31Z</dcterms:modified>
  <cp:revision>8</cp:revision>
  <dc:subject>IEEE 802.15 Planning</dc:subject>
  <dc:title>Bluetooth Coordination Planning</dc:title>
</cp:coreProperties>
</file>