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5B3-CAC5-43B1-A63F-854161A5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D77-5A82-4A07-95BF-2C17C55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C09-8C66-45DE-B7C2-201018CE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6F4-9F7A-4665-B506-14B9D31B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7A7-F11C-4392-88B0-7D74E2F1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636-F317-4FD2-B971-88AE1FCB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F8A-8019-40FD-81F1-B61EF9F6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4F8-3559-4E61-B6B4-E742B40F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E77-CC90-4CFE-86B7-559B2041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195-5E9B-4BED-9BF0-5E6D14E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9E3-C87D-423F-A6AA-85C49E0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632-B92F-4FF3-B2FC-557EB361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A9D9A1-037C-41C3-88EB-333905F9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5-9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Elizabeth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0 Rene-Levesque Blvd.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, PQ H3B 4A5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1E8-6952-41F4-BDF4-03A9978797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WG Meet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0000"/>
          </a:bodyPr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Telecons for the Advisory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Chiba, Japan ( with 802.11), May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d draft of 802.15 rules and document structure, reviewed Marcom activities, set liaison agenda,  established meeting schedule and proposed project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WGAC Meeting in London,UK, 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gameplan for July plenary, established meeting objectives for joint session with Bluetooth, finalized Call for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Bluetooth in London, UK, 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standards process and agree on a proposed working relationship/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2DC-964B-4343-8A00-47D5E71572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all Objectives of the Me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ize Working Group Leadership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committees for initial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01E-9241-4785-A5C8-C54BDA25C9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-  Begin formal voting on Officers and rules,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8A9-264C-4C89-BBDC-1A45B406DB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D8B-1745-4007-B929-9C4BBC535E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76201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F4C-47D1-4260-89B7-C7845C4AE16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Ian C. Gifford</dc:creator>
  <dc:description>&lt;doc#&gt;</dc:description>
  <dc:language>en-US</dc:language>
  <cp:lastModifiedBy>Bridget Labrode</cp:lastModifiedBy>
  <cp:lastPrinted>1999-07-05T17:36:41Z</cp:lastPrinted>
  <dcterms:modified xsi:type="dcterms:W3CDTF">1999-07-05T22:44:03Z</dcterms:modified>
  <cp:revision>29</cp:revision>
  <dc:subject>IEEE 802.15 &lt;subject&gt;</dc:subject>
  <dc:title>IEEE P802.15 Working Group for Wireless Personal Area Networks</dc:title>
</cp:coreProperties>
</file>