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472-7C60-4778-BE6D-61DC8FD5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961-4BE1-410C-88CC-BDA252CA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E4D-C85A-40D7-B6F9-D9A519E8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A27-E228-45A3-857D-EC68912F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CCA-C3FC-4112-8CA4-4CDE5E57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2FB-9AAF-4665-99E7-07EAE478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5C8-55A5-4A33-BB05-015CB247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2CC-880E-4F1A-AE82-09BB8F6D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B02-02FA-434A-AB3B-ED1B67FC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2E1-5319-4DF3-B281-AB9A9FD9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E28-76ED-4252-A9CF-AB788A46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8C10-5086-42A0-BB87-93EF7699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728D-B61B-4D55-9DDB-7A3003449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71520"/>
            <a:ext cx="769608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294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585720"/>
            <a:ext cx="82296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617400"/>
            <a:ext cx="82296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9:14:15Z</dcterms:created>
  <dc:creator>Ivan Reede</dc:creator>
  <dc:description/>
  <dc:language>en-US</dc:language>
  <cp:lastModifiedBy>Ivan Reede</cp:lastModifiedBy>
  <dcterms:modified xsi:type="dcterms:W3CDTF">1999-07-07T19:47:33Z</dcterms:modified>
  <cp:revision>1</cp:revision>
  <dc:subject/>
  <dc:title>No Slide Title</dc:title>
</cp:coreProperties>
</file>