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9/5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5160" y="609480"/>
            <a:ext cx="7763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5160" y="6477120"/>
            <a:ext cx="7839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Personal Area Networ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January 13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Interoperability Continu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70320" y="1461960"/>
            <a:ext cx="0" cy="485316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36960" y="5108400"/>
            <a:ext cx="3363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White no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83000" y="5367240"/>
            <a:ext cx="453960" cy="1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7560" y="1604880"/>
            <a:ext cx="3183120" cy="457200"/>
            <a:chOff x="3427560" y="1604880"/>
            <a:chExt cx="3183120" cy="457200"/>
          </a:xfrm>
        </p:grpSpPr>
        <p:sp>
          <p:nvSpPr>
            <p:cNvPr id="67" name=""/>
            <p:cNvSpPr txBox="1"/>
            <p:nvPr/>
          </p:nvSpPr>
          <p:spPr>
            <a:xfrm>
              <a:off x="4457880" y="1604880"/>
              <a:ext cx="2152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ll comp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7560" y="1870200"/>
              <a:ext cx="930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 txBox="1"/>
          <p:nvPr/>
        </p:nvSpPr>
        <p:spPr>
          <a:xfrm>
            <a:off x="4402080" y="5649840"/>
            <a:ext cx="313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Destructive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344840" y="5975280"/>
            <a:ext cx="321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>
              <a:lnSpc>
                <a:spcPct val="100000"/>
              </a:lnSpc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ignificant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9560" y="1947960"/>
            <a:ext cx="0" cy="315432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3657600"/>
            <a:ext cx="1638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120" y="3703680"/>
            <a:ext cx="1638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48240" y="2833560"/>
            <a:ext cx="3012840" cy="0"/>
          </a:xfrm>
          <a:prstGeom prst="line">
            <a:avLst/>
          </a:prstGeom>
          <a:ln w="1260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28920" y="2575080"/>
            <a:ext cx="3016080" cy="4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able to 802.11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0" y="1866960"/>
            <a:ext cx="0" cy="1778040"/>
          </a:xfrm>
          <a:prstGeom prst="line">
            <a:avLst/>
          </a:prstGeom>
          <a:ln w="3816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754440" y="3241800"/>
            <a:ext cx="3073320" cy="1455480"/>
            <a:chOff x="3754440" y="3241800"/>
            <a:chExt cx="3073320" cy="1455480"/>
          </a:xfrm>
        </p:grpSpPr>
        <p:sp>
          <p:nvSpPr>
            <p:cNvPr id="78" name=""/>
            <p:cNvSpPr/>
            <p:nvPr/>
          </p:nvSpPr>
          <p:spPr>
            <a:xfrm>
              <a:off x="3813120" y="3968640"/>
              <a:ext cx="3014640" cy="0"/>
            </a:xfrm>
            <a:prstGeom prst="line">
              <a:avLst/>
            </a:prstGeom>
            <a:ln w="12600">
              <a:solidFill>
                <a:srgbClr val="00cc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4237200" y="3706920"/>
              <a:ext cx="2444760" cy="482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cc99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PAN proposal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54440" y="3241800"/>
              <a:ext cx="0" cy="1455480"/>
            </a:xfrm>
            <a:prstGeom prst="line">
              <a:avLst/>
            </a:prstGeom>
            <a:ln w="38160">
              <a:solidFill>
                <a:srgbClr val="00cc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95280" y="5181480"/>
            <a:ext cx="2535120" cy="1295640"/>
            <a:chOff x="395280" y="5181480"/>
            <a:chExt cx="2535120" cy="1295640"/>
          </a:xfrm>
        </p:grpSpPr>
        <p:grpSp>
          <p:nvGrpSpPr>
            <p:cNvPr id="82" name=""/>
            <p:cNvGrpSpPr/>
            <p:nvPr/>
          </p:nvGrpSpPr>
          <p:grpSpPr>
            <a:xfrm>
              <a:off x="395280" y="5265720"/>
              <a:ext cx="1755720" cy="1211400"/>
              <a:chOff x="395280" y="5265720"/>
              <a:chExt cx="1755720" cy="1211400"/>
            </a:xfrm>
          </p:grpSpPr>
          <p:sp>
            <p:nvSpPr>
              <p:cNvPr id="83" name=""/>
              <p:cNvSpPr/>
              <p:nvPr/>
            </p:nvSpPr>
            <p:spPr>
              <a:xfrm>
                <a:off x="1009800" y="5265720"/>
                <a:ext cx="0" cy="1211400"/>
              </a:xfrm>
              <a:prstGeom prst="line">
                <a:avLst/>
              </a:prstGeom>
              <a:ln w="12600">
                <a:solidFill>
                  <a:srgbClr val="3333cc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395280" y="5565600"/>
                <a:ext cx="17557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3333cc"/>
                    </a:solidFill>
                    <a:latin typeface="Times New Roman"/>
                    <a:ea typeface="Times New Roman"/>
                  </a:rPr>
                  <a:t>interferen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574560" y="518148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270160" y="1947960"/>
            <a:ext cx="0" cy="1776240"/>
          </a:xfrm>
          <a:prstGeom prst="line">
            <a:avLst/>
          </a:prstGeom>
          <a:ln w="12600">
            <a:solidFill>
              <a:srgbClr val="ff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77840" y="2362320"/>
            <a:ext cx="219852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23880" y="3809880"/>
            <a:ext cx="1454040" cy="1371600"/>
            <a:chOff x="1523880" y="3809880"/>
            <a:chExt cx="1454040" cy="1371600"/>
          </a:xfrm>
        </p:grpSpPr>
        <p:sp>
          <p:nvSpPr>
            <p:cNvPr id="89" name=""/>
            <p:cNvSpPr/>
            <p:nvPr/>
          </p:nvSpPr>
          <p:spPr>
            <a:xfrm>
              <a:off x="2270160" y="380988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1523880" y="4091040"/>
              <a:ext cx="1454040" cy="96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pectr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iquet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45960" y="3016080"/>
            <a:ext cx="6261120" cy="665280"/>
            <a:chOff x="345960" y="3016080"/>
            <a:chExt cx="6261120" cy="665280"/>
          </a:xfrm>
        </p:grpSpPr>
        <p:sp>
          <p:nvSpPr>
            <p:cNvPr id="92" name=""/>
            <p:cNvSpPr/>
            <p:nvPr/>
          </p:nvSpPr>
          <p:spPr>
            <a:xfrm>
              <a:off x="3867120" y="3349800"/>
              <a:ext cx="2739960" cy="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960" y="3016080"/>
              <a:ext cx="3798720" cy="66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 txBox="1"/>
          <p:nvPr/>
        </p:nvSpPr>
        <p:spPr>
          <a:xfrm>
            <a:off x="4230720" y="3133800"/>
            <a:ext cx="3065400" cy="4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ransfer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20040" y="1623960"/>
            <a:ext cx="1073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534440" y="2241720"/>
            <a:ext cx="12254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3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31200" y="5257800"/>
            <a:ext cx="1384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84440" y="5889600"/>
            <a:ext cx="454320" cy="1440"/>
          </a:xfrm>
          <a:prstGeom prst="line">
            <a:avLst/>
          </a:prstGeom>
          <a:ln w="12600">
            <a:solidFill>
              <a:srgbClr val="ff003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680" y="3200400"/>
            <a:ext cx="1136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PAN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Interoperability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4 - Full Compliance to the 802.11 MAC &amp; PHY 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 3 - Partial Interoperability: there is a way on the medium to exchange data without an intermediat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 3a Transmit and 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 3b Receiv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 3c Detec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2 - Bridge-like (1 MAC/2 PH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1 - Gateway-like (&gt; 1 M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0 - Non 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to submit for recirculation LB (WG) the contents of documents IEEE 802.11 -98/161r5 [5C] and -98/162r8 [PAR]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 Motion: Unanimous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G Motion: 38-0-4, P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5456160"/>
            <a:ext cx="7907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Abramowitz, Jeff said he would change his LB16 No to a Yes, Chair asked for a written confi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time and attentio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Com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PAN SG meeting from Monday to Wedn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ved the Albuquerque, NM Minutes -98/356r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ter Ballot 16 - “Motion 3 passed with 60/14/4 or 81%. WPAN's PAR and 5 Criter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ed and Dispositioned the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ed the Five Criteria -98/161r5 and PAR -98/162r8 for recirculation ballot and submission to Ex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ing for 802 Plenary in Austin, TX; the SG ends March 12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Comment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ON: “To submit the contents of documents IEEE 802.11-98/161-r4 and -98/162-r7 to Executive Committe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"Motion 3 passed with 60/14/4 or 81%. WPAN's PAR and 5 Crite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the approved PAR -98/162r7 and revised Five Criteria -98/161r4 to ExCom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a revised PAR -98/162r8 and revised Five Criteria -98/161r5 to recirculation WG Letter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Motion 3 passed with 60/14/4 or 81%. WPAN's PAR and 5 Criteria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ere 88 Voting members. 78 submitted their vote. 3 aspirant members submitted their vote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turn ratio is 78/88= 88 %. So the ballot is valid (50 % is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xt step is to resolve all com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Absten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Comm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1784520"/>
            <a:ext cx="78310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1: SG Agreed to incorporate the minor 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rick, Al - SG agreed to fix typo in the Five Criteria -98/161r4, abstract para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amowitz, Jeff - SG agreed to add in the Five Criteria -98/161r4 WPAN Application examples, 1.1. Broad Market Potential, a) Broad sets of applic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amowitz, Jeff - SG agreed to add “Bluetooth Specification” reference, Five Criteria -98/161r4 1.3 Distinct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yat, Naftali - SG agreed to proposed revision on cost target, Five Criteria -98/161r4, 1.1. Broad Market Potential, c) Balance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, Simon - SG agreed with the proposed revision to have at least a verb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es, Vic -  SG agreed to deal with Isochronous Traffic as a QoS issue, PAR -98/162r8, 7.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es, Vic -  SG agreed to add references to WPAN documents Functional Requirements, CFA Summa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2: SG Agreed to add the following to the P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in scope that a level of interoperability sufficient to transfer data between a WPAN device and an 802.11 device will b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 Tom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in scope that a level of interoperability sufficient to transfer data between a WPAN device and an 802.11 device will b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 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 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Heile</dc:creator>
  <dc:description>Bob Heile, GTE</dc:description>
  <dc:language>en-US</dc:language>
  <cp:lastModifiedBy>Ian C. Gifford</cp:lastModifiedBy>
  <cp:revision>0</cp:revision>
  <dc:subject>Submission</dc:subject>
  <dc:title>doc.: IEEE 802.11-99/5</dc:title>
</cp:coreProperties>
</file>