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0C4-C782-429C-A566-32325757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C13-D8A7-4A95-BFD1-F9FF593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435-54A4-4AB2-86E9-19CFD3A3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1C9-565F-49AC-B1E8-96778C14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DB5-D55C-4BD9-B68B-F077AEAD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67D-997D-43B4-BE73-ADD2168F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A35-0F17-48D2-AC4F-10CCF2D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1E0-0B22-497A-8259-D7F7964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E86-C71B-48D4-8163-0B57D5BA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A51-54AB-446C-BDBE-6824F61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4B9-B51E-4C40-878E-C8CA6D8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AE8-058B-4043-814F-14E6085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2E04C1-BBD5-40A8-9A65-1815985D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5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 Plenar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9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B95-FA0B-433A-B2B5-3651274F3E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2560" y="3643200"/>
            <a:ext cx="207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CEF-33C0-4AFA-A196-FE4C45C96E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81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1120" y="3643200"/>
            <a:ext cx="212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7520" y="28195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277-2DAC-4CAB-834B-B8235AF2AA5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128-5D20-481C-B5A0-6E7AF67013D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166-B374-4AAF-A47B-168E3F4502A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AE6-B9EC-469F-BEB6-0A69739CB7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8FA-6BB9-4898-B43A-1C721C92AFF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F22-BC73-4F32-832E-DA89B33CF7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E6F-B6F8-4FE0-8FB8-90613C06A05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, rules, etc.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28E-84DA-462C-A230-9F3C3BB293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ial Voter Coun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9E4-EBEC-437D-BA80-D4F32987A4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We Vot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Slate of Officers-Term is through 802 Plenary Meeting, March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1 Inter-meeting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e a position relative to NPRM on WBFH and RF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DE0-6FCD-4D38-A890-4F4A74634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CF3-A999-4AEA-8125-225008DC8D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655-19BD-4C87-9D2C-149E4581EA6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83F-06EC-4C0E-80C8-26F773AFF2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6240" y="3962520"/>
            <a:ext cx="185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81C-B40B-43F8-91C0-85C787A9F4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Intermeeting Regulatory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8760" y="3962520"/>
            <a:ext cx="205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690-B025-4055-9E9D-F9344222932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/>
  <dc:language>en-US</dc:language>
  <cp:lastModifiedBy>Bridget Labrode</cp:lastModifiedBy>
  <cp:lastPrinted>1998-02-10T13:28:06Z</cp:lastPrinted>
  <dcterms:modified xsi:type="dcterms:W3CDTF">1999-07-13T12:35:29Z</dcterms:modified>
  <cp:revision>24</cp:revision>
  <dc:subject/>
  <dc:title>No Slide Title</dc:title>
</cp:coreProperties>
</file>