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574-019B-4368-ACD6-31D563A3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8B8-C537-4355-99A8-43BF61C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308-892B-4C9A-A319-3506444B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828-4176-4829-B0BF-A7E158E7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67E-D714-48AE-B32B-9003CC7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49A-0E2F-49B0-BFBC-9E625B3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489-BD50-4FDB-87D9-902D781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21C-71B2-4211-A652-445062C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FF8-F368-436C-80AF-508268C8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F9D-AC4A-4F8F-A4E9-B83478D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202-7F00-41AC-BAA2-3151433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034-7720-4F1A-897F-10B0AA8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003044-E73B-4EA8-B370-3AA1B744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5-9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Elizabeth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 Rene-Levesque Blvd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, PQ H3B 4A5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962-C1DD-4C12-BFFF-E188031A09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9EA-8C76-4489-9FA3-AC57D206C1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all Objectives of th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 Working Group Leadership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committees for initial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490-EC1D-498B-9E90-065F7B46A2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D3D-99BB-466D-BDF4-4B4966BD4C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476-BDFB-47D6-98B0-9798FEC1CC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395-A462-453F-BDFA-852DB0A4B19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Ian C. Gifford</dc:creator>
  <dc:description>&lt;doc#&gt;</dc:description>
  <dc:language>en-US</dc:language>
  <cp:lastModifiedBy>Bridget Labrode</cp:lastModifiedBy>
  <cp:lastPrinted>1999-07-05T17:36:41Z</cp:lastPrinted>
  <dcterms:modified xsi:type="dcterms:W3CDTF">1999-07-05T22:44:03Z</dcterms:modified>
  <cp:revision>29</cp:revision>
  <dc:subject>IEEE 802.15 &lt;subject&gt;</dc:subject>
  <dc:title>IEEE P802.15 Working Group for Wireless Personal Area Networks</dc:title>
</cp:coreProperties>
</file>