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4E1E6C-E030-4A16-9D58-9E43B2EB0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1"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5600" y="703440"/>
            <a:ext cx="4622760" cy="34668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87"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sldImg"/>
          </p:nvPr>
        </p:nvSpPr>
        <p:spPr>
          <a:xfrm>
            <a:off x="1155600" y="703440"/>
            <a:ext cx="4622760" cy="3466800"/>
          </a:xfrm>
          <a:prstGeom prst="rect">
            <a:avLst/>
          </a:prstGeom>
          <a:ln w="0">
            <a:noFill/>
          </a:ln>
        </p:spPr>
      </p:sp>
      <p:sp>
        <p:nvSpPr>
          <p:cNvPr id="190"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3"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sldImg"/>
          </p:nvPr>
        </p:nvSpPr>
        <p:spPr>
          <a:xfrm>
            <a:off x="1155600" y="703440"/>
            <a:ext cx="4622760" cy="3466800"/>
          </a:xfrm>
          <a:prstGeom prst="rect">
            <a:avLst/>
          </a:prstGeom>
          <a:ln w="0">
            <a:noFill/>
          </a:ln>
        </p:spPr>
      </p:sp>
      <p:sp>
        <p:nvSpPr>
          <p:cNvPr id="196"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99"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sldImg"/>
          </p:nvPr>
        </p:nvSpPr>
        <p:spPr>
          <a:xfrm>
            <a:off x="1155600" y="703440"/>
            <a:ext cx="4622760" cy="3466800"/>
          </a:xfrm>
          <a:prstGeom prst="rect">
            <a:avLst/>
          </a:prstGeom>
          <a:ln w="0">
            <a:noFill/>
          </a:ln>
        </p:spPr>
      </p:sp>
      <p:sp>
        <p:nvSpPr>
          <p:cNvPr id="202"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5"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1155600" y="703440"/>
            <a:ext cx="4622760" cy="3466800"/>
          </a:xfrm>
          <a:prstGeom prst="rect">
            <a:avLst/>
          </a:prstGeom>
          <a:ln w="0">
            <a:noFill/>
          </a:ln>
        </p:spPr>
      </p:sp>
      <p:sp>
        <p:nvSpPr>
          <p:cNvPr id="208"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55600" y="703440"/>
            <a:ext cx="4622760" cy="3466800"/>
          </a:xfrm>
          <a:prstGeom prst="rect">
            <a:avLst/>
          </a:prstGeom>
          <a:ln w="0">
            <a:noFill/>
          </a:ln>
        </p:spPr>
      </p:sp>
      <p:sp>
        <p:nvSpPr>
          <p:cNvPr id="21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7"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55600" y="703440"/>
            <a:ext cx="4622760" cy="3466800"/>
          </a:xfrm>
          <a:prstGeom prst="rect">
            <a:avLst/>
          </a:prstGeom>
          <a:ln w="0">
            <a:noFill/>
          </a:ln>
        </p:spPr>
      </p:sp>
      <p:sp>
        <p:nvSpPr>
          <p:cNvPr id="220"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269CD-312B-4DB3-88C4-6EAB63531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07530-D4D6-42A9-A3EA-0DD283652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27379-FA7F-475D-8729-F53DCF486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35CF6-59F7-4235-AC3E-D109F61ED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43194-34CF-4A87-8E53-D068C4BB9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A248F-7ED8-4182-8E41-0EB157AE3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2A28C-9ABE-4B92-B360-985A4830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842FF-7633-4873-994F-EC40B1659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B0166-CEED-4C63-BBD6-B94717917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9ADEC-3CCE-422D-95A4-A2AF3BE10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1D823-DCD5-4F20-B968-5DEABE388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4DECD-1001-4D29-B2B1-271558462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EACB81-C46A-49B2-9C67-A0B85016D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0.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st Session of meetings of the IEEE P802.15 Working Group for Wireless Personal Area Networks</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y 5-9, 1999</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en Elizabeth Hotel</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0 Rene-Levesque Blvd. West</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real, PQ H3B 4A5 CANAD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7F05972-1CE7-4942-BD6C-4059327B1427}"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 are imposed within WG 802.15: </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nd SG meetings do not count towards 802.15 WG voting rights unless they are held in conjunction with a WG meeting.  In that case they are treated as if the member attended the parallel meeting within the WG.</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voting rights participants must request to become a voter during a 802.15 WG Opening or Closing plenary meeting when additions to the voter list are solicited by the Chair from the "Nearly Voting Membe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101C1B6-B22E-4083-8CFD-22C6A0E8C4C6}"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nd retain voting rights participants must record and maintain complete contact information in the 802.15 databas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are established by participation in 2 plenary meetings within 4 consecutive plenary meetings.  One interim meeting may be substituted for a plenary meeting.  Participation is defined as attending 75% of all meetings during an officially sanctioned session of the WG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may be lost by:</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6E521E4-1D1A-448C-969E-5374BF9AE86D}"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FD77657-17A8-492D-9163-64C09F7DB9EF}"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Registration</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Chris or to the chair of the meeti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D5C12BA-5B2A-481B-BB2E-F61AD6BCE190}" type="slidenum">
              <a:t>13</a:t>
            </a:fld>
          </a:p>
        </p:txBody>
      </p:sp>
      <p:sp>
        <p:nvSpPr>
          <p:cNvPr id="6" name="PlaceHolder 5"/>
          <p:cNvSpPr>
            <a:spLocks noGrp="1"/>
          </p:cNvSpPr>
          <p:nvPr>
            <p:ph type="dt" idx="1"/>
          </p:nvPr>
        </p:nvSpPr>
        <p:spPr/>
        <p:txBody>
          <a:bodyPr/>
          <a:p>
            <a:r>
              <a:rPr lang="en-US"/>
              <a:t>Februar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2</a:t>
            </a:r>
            <a:endParaRPr b="0" lang="en-US" sz="3600" spc="-1" strike="noStrike">
              <a:solidFill>
                <a:srgbClr val="000000"/>
              </a:solidFill>
              <a:latin typeface="Times New Roman"/>
            </a:endParaRPr>
          </a:p>
        </p:txBody>
      </p:sp>
      <p:graphicFrame>
        <p:nvGraphicFramePr>
          <p:cNvPr id="84" name=""/>
          <p:cNvGraphicFramePr/>
          <p:nvPr/>
        </p:nvGraphicFramePr>
        <p:xfrm>
          <a:off x="1728720" y="1523880"/>
          <a:ext cx="5626080" cy="2457720"/>
        </p:xfrm>
        <a:graphic>
          <a:graphicData uri="http://schemas.openxmlformats.org/presentationml/2006/ole">
            <p:oleObj progId="Word.Document.12" r:id="rId1" spid="">
              <p:embed/>
              <p:pic>
                <p:nvPicPr>
                  <p:cNvPr id="85" name="" descr=""/>
                  <p:cNvPicPr/>
                  <p:nvPr/>
                </p:nvPicPr>
                <p:blipFill>
                  <a:blip r:embed="rId2"/>
                  <a:stretch/>
                </p:blipFill>
                <p:spPr>
                  <a:xfrm>
                    <a:off x="1728720" y="1523880"/>
                    <a:ext cx="5626080" cy="2457720"/>
                  </a:xfrm>
                  <a:prstGeom prst="rect">
                    <a:avLst/>
                  </a:prstGeom>
                  <a:ln w="0">
                    <a:noFill/>
                  </a:ln>
                </p:spPr>
              </p:pic>
            </p:oleObj>
          </a:graphicData>
        </a:graphic>
      </p:graphicFrame>
      <p:sp>
        <p:nvSpPr>
          <p:cNvPr id="86"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nly sign in the box designated with the applicable day and part of the day, AM/PM/Ev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4AACBDA-958F-4478-B4CB-313EFD93CB90}" type="slidenum">
              <a:t>14</a:t>
            </a:fld>
          </a:p>
        </p:txBody>
      </p:sp>
      <p:sp>
        <p:nvSpPr>
          <p:cNvPr id="6" name="PlaceHolder 5"/>
          <p:cNvSpPr>
            <a:spLocks noGrp="1"/>
          </p:cNvSpPr>
          <p:nvPr>
            <p:ph type="dt" idx="1"/>
          </p:nvPr>
        </p:nvSpPr>
        <p:spPr/>
        <p:txBody>
          <a:bodyPr/>
          <a:p>
            <a:r>
              <a:rPr lang="en-US"/>
              <a:t>Februar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3</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e-mail address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me addresses have been struck, or have a $-sign added to the right</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received complaints from the reflector</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strike your e-mail address if you do not use it</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f you use an e-mail address, please let me know</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f you do not disagree to receiving very long files, mark bulk e-mail with y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53D2AEF-553B-4DF4-B7B7-18E72047644D}" type="slidenum">
              <a:t>15</a:t>
            </a:fld>
          </a:p>
        </p:txBody>
      </p:sp>
      <p:sp>
        <p:nvSpPr>
          <p:cNvPr id="6" name="PlaceHolder 5"/>
          <p:cNvSpPr>
            <a:spLocks noGrp="1"/>
          </p:cNvSpPr>
          <p:nvPr>
            <p:ph type="dt" idx="1"/>
          </p:nvPr>
        </p:nvSpPr>
        <p:spPr/>
        <p:txBody>
          <a:bodyPr/>
          <a:p>
            <a:r>
              <a:rPr lang="en-US"/>
              <a:t>February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4510649-53B5-4D42-B6EA-AD07F2D0DA47}" type="slidenum">
              <a:t>16</a:t>
            </a:fld>
          </a:p>
        </p:txBody>
      </p:sp>
      <p:sp>
        <p:nvSpPr>
          <p:cNvPr id="6" name="PlaceHolder 5"/>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CEBAB9F-31BC-4A20-A4BB-1FB9218940A1}"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Bold"/>
              </a:rPr>
              <a:t>6.3 Patents</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a:t>
            </a:r>
            <a:r>
              <a:rPr b="0" i="1" lang="en-US" sz="2800" spc="-1" strike="noStrike">
                <a:solidFill>
                  <a:srgbClr val="000000"/>
                </a:solidFill>
                <a:latin typeface="Times-Italic"/>
              </a:rPr>
              <a:t>IEEE-SA Standards Board Bylaw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Staff Administrator, Intellectual Property Rights) before the time of IEEE-SA Standards Board review for approval. The IEEE will provide contact information about the patent holder upon reque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954DB6D-05FF-4F1C-9ABE-D7DD5F181A4F}"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6880" y="1428840"/>
            <a:ext cx="8545680" cy="588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1 Public 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o all applicants desiring to obtain such licenses. The IEEE makes no representation as to the reasonableness of rates and/or terms and conditions of the license agreements offered by patent holders. Further information may be obtained from the IEEE Standards Department. If the IEEE has not received letters of assurance prior to the time of publication, the following notice shall app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2 Submit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3 Discla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23DD5B9-80A6-43D4-9E30-09CF2956AE3E}" type="slidenum">
              <a:t>19</a:t>
            </a:fld>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WPAN Officer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man: Bob Heile &lt;bheile@bbn.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man: Ian Gifford &lt;giffordi@amp.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 Editor: Tom Siep &lt;siep@ti.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 Pat Kinney &lt;kinneypw@norand.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 Sec/TE: Mike McInnis &lt;michael.d.mcinnis@boeing.com&g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Imperativ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IEEE802.15 to develop consensus standards that benefits the World Wide Networking Socie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the imperative principals of due process, consensus, openness, balance and rights of appea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distribution of standard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C63B2E5-F027-426C-A2A3-1E487ED1EEC7}"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eb Site &amp; Reflector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Web S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index.htm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PAN Public E-Mail Refl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s-802-wpan@ieee.or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PAN Private E-Mail Refl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s-802-15@ieee.or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481F439-811C-403E-8F04-EED0A866A49F}"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om Meeting Summary</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plenary meeting broke even-attendance around 350</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eting projected to be around 450</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6 introduced PAR on coexistenc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form a Ballot Pool--application forms are on SEC Wed site. A ballot group is formed from the ballot pool. Requires IEEE-SA membership to be eligible to vote.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want a rule in the WG on guidelines for list of contributors to a standard (to appear in the frontpiec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guidelines will be reviewed for appropriateness</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types--b1 new standard, b2 revision, b3 amendment, b4 corrigenda (correction not content chang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bate on PAR numbering scheme. May need to default to 802.na for first PAR and allow working groups to own more than a single stand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423B359-433D-412B-BB54-6B095155D1FA}"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om Meeting Summary-2</a:t>
            </a:r>
            <a:endParaRPr b="0" lang="en-US" sz="3600" spc="-1" strike="noStrike">
              <a:solidFill>
                <a:srgbClr val="000000"/>
              </a:solidFill>
              <a:latin typeface="Times New Roman"/>
            </a:endParaRPr>
          </a:p>
        </p:txBody>
      </p:sp>
      <p:sp>
        <p:nvSpPr>
          <p:cNvPr id="102" name="PlaceHolder 2"/>
          <p:cNvSpPr>
            <a:spLocks noGrp="1"/>
          </p:cNvSpPr>
          <p:nvPr>
            <p:ph/>
          </p:nvPr>
        </p:nvSpPr>
        <p:spPr>
          <a:xfrm>
            <a:off x="609120" y="1981080"/>
            <a:ext cx="815364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requests from TR41 and TR42 relating to CAT6 and IP phone sets(issue is powered 10-100 interfaces). TIA may want to do these things if 802.3 does not. Could get dic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into Domain names. Only one available is IEEE802.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nd .16 gave brief overviews of activity since 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ab is approved and will be available for sale July 2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 has introduced a process for International observer status via email sign-up vs. the requirement of attendance at one mee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and update on IEE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904C518-D339-43F0-A4B2-86DA4D60928A}"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104"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07DD582-71E8-41CB-BAA5-979D885CDD2D}"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3D1E46B-E4B8-43E9-AF4C-5A87606B48BA}"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893960" y="2749680"/>
            <a:ext cx="1406520" cy="749160"/>
            <a:chOff x="1893960" y="2749680"/>
            <a:chExt cx="1406520" cy="749160"/>
          </a:xfrm>
        </p:grpSpPr>
        <p:sp>
          <p:nvSpPr>
            <p:cNvPr id="108"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10"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12" name=""/>
          <p:cNvGrpSpPr/>
          <p:nvPr/>
        </p:nvGrpSpPr>
        <p:grpSpPr>
          <a:xfrm>
            <a:off x="425520" y="3581280"/>
            <a:ext cx="1282680" cy="749520"/>
            <a:chOff x="425520" y="3581280"/>
            <a:chExt cx="1282680" cy="749520"/>
          </a:xfrm>
        </p:grpSpPr>
        <p:sp>
          <p:nvSpPr>
            <p:cNvPr id="113"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15"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17" name=""/>
          <p:cNvGrpSpPr/>
          <p:nvPr/>
        </p:nvGrpSpPr>
        <p:grpSpPr>
          <a:xfrm>
            <a:off x="4813200" y="5583240"/>
            <a:ext cx="1270080" cy="841320"/>
            <a:chOff x="4813200" y="5583240"/>
            <a:chExt cx="1270080" cy="841320"/>
          </a:xfrm>
        </p:grpSpPr>
        <p:sp>
          <p:nvSpPr>
            <p:cNvPr id="118"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20" name=""/>
          <p:cNvGrpSpPr/>
          <p:nvPr/>
        </p:nvGrpSpPr>
        <p:grpSpPr>
          <a:xfrm>
            <a:off x="1873080" y="3581280"/>
            <a:ext cx="1283040" cy="749520"/>
            <a:chOff x="1873080" y="3581280"/>
            <a:chExt cx="1283040" cy="749520"/>
          </a:xfrm>
        </p:grpSpPr>
        <p:sp>
          <p:nvSpPr>
            <p:cNvPr id="121"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23" name=""/>
          <p:cNvGrpSpPr/>
          <p:nvPr/>
        </p:nvGrpSpPr>
        <p:grpSpPr>
          <a:xfrm>
            <a:off x="6248520" y="4572000"/>
            <a:ext cx="1358640" cy="762120"/>
            <a:chOff x="6248520" y="4572000"/>
            <a:chExt cx="1358640" cy="762120"/>
          </a:xfrm>
        </p:grpSpPr>
        <p:sp>
          <p:nvSpPr>
            <p:cNvPr id="124"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26" name=""/>
          <p:cNvGrpSpPr/>
          <p:nvPr/>
        </p:nvGrpSpPr>
        <p:grpSpPr>
          <a:xfrm>
            <a:off x="3301920" y="3584520"/>
            <a:ext cx="1282680" cy="749520"/>
            <a:chOff x="3301920" y="3584520"/>
            <a:chExt cx="1282680" cy="749520"/>
          </a:xfrm>
        </p:grpSpPr>
        <p:sp>
          <p:nvSpPr>
            <p:cNvPr id="127"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29" name=""/>
          <p:cNvGrpSpPr/>
          <p:nvPr/>
        </p:nvGrpSpPr>
        <p:grpSpPr>
          <a:xfrm>
            <a:off x="446040" y="4540320"/>
            <a:ext cx="1282680" cy="749160"/>
            <a:chOff x="446040" y="4540320"/>
            <a:chExt cx="1282680" cy="749160"/>
          </a:xfrm>
        </p:grpSpPr>
        <p:sp>
          <p:nvSpPr>
            <p:cNvPr id="130"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32"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34" name=""/>
          <p:cNvGrpSpPr/>
          <p:nvPr/>
        </p:nvGrpSpPr>
        <p:grpSpPr>
          <a:xfrm>
            <a:off x="1849320" y="4540320"/>
            <a:ext cx="1300320" cy="749160"/>
            <a:chOff x="1849320" y="4540320"/>
            <a:chExt cx="1300320" cy="749160"/>
          </a:xfrm>
        </p:grpSpPr>
        <p:sp>
          <p:nvSpPr>
            <p:cNvPr id="135"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37" name=""/>
          <p:cNvGrpSpPr/>
          <p:nvPr/>
        </p:nvGrpSpPr>
        <p:grpSpPr>
          <a:xfrm>
            <a:off x="421920" y="2749680"/>
            <a:ext cx="1424880" cy="749160"/>
            <a:chOff x="421920" y="2749680"/>
            <a:chExt cx="1424880" cy="749160"/>
          </a:xfrm>
        </p:grpSpPr>
        <p:sp>
          <p:nvSpPr>
            <p:cNvPr id="138"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40"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42"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43" name=""/>
          <p:cNvGrpSpPr/>
          <p:nvPr/>
        </p:nvGrpSpPr>
        <p:grpSpPr>
          <a:xfrm>
            <a:off x="5854680" y="2762280"/>
            <a:ext cx="1346400" cy="749160"/>
            <a:chOff x="5854680" y="2762280"/>
            <a:chExt cx="1346400" cy="749160"/>
          </a:xfrm>
        </p:grpSpPr>
        <p:sp>
          <p:nvSpPr>
            <p:cNvPr id="144"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46" name=""/>
          <p:cNvGrpSpPr/>
          <p:nvPr/>
        </p:nvGrpSpPr>
        <p:grpSpPr>
          <a:xfrm>
            <a:off x="7301520" y="2743200"/>
            <a:ext cx="1469160" cy="749160"/>
            <a:chOff x="7301520" y="2743200"/>
            <a:chExt cx="1469160" cy="749160"/>
          </a:xfrm>
        </p:grpSpPr>
        <p:sp>
          <p:nvSpPr>
            <p:cNvPr id="147"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49" name=""/>
          <p:cNvGrpSpPr/>
          <p:nvPr/>
        </p:nvGrpSpPr>
        <p:grpSpPr>
          <a:xfrm>
            <a:off x="7324560" y="3584520"/>
            <a:ext cx="1346400" cy="749520"/>
            <a:chOff x="7324560" y="3584520"/>
            <a:chExt cx="1346400" cy="749520"/>
          </a:xfrm>
        </p:grpSpPr>
        <p:sp>
          <p:nvSpPr>
            <p:cNvPr id="150"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52" name=""/>
          <p:cNvGrpSpPr/>
          <p:nvPr/>
        </p:nvGrpSpPr>
        <p:grpSpPr>
          <a:xfrm>
            <a:off x="5851440" y="3581280"/>
            <a:ext cx="1406880" cy="749520"/>
            <a:chOff x="5851440" y="3581280"/>
            <a:chExt cx="1406880" cy="749520"/>
          </a:xfrm>
        </p:grpSpPr>
        <p:sp>
          <p:nvSpPr>
            <p:cNvPr id="153"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55"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56" name=""/>
          <p:cNvGrpSpPr/>
          <p:nvPr/>
        </p:nvGrpSpPr>
        <p:grpSpPr>
          <a:xfrm>
            <a:off x="3898800" y="2070000"/>
            <a:ext cx="1346400" cy="825480"/>
            <a:chOff x="3898800" y="2070000"/>
            <a:chExt cx="1346400" cy="825480"/>
          </a:xfrm>
        </p:grpSpPr>
        <p:sp>
          <p:nvSpPr>
            <p:cNvPr id="157"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59"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60"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61"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62"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63" name=""/>
          <p:cNvGrpSpPr/>
          <p:nvPr/>
        </p:nvGrpSpPr>
        <p:grpSpPr>
          <a:xfrm>
            <a:off x="3273480" y="4533840"/>
            <a:ext cx="1282680" cy="749160"/>
            <a:chOff x="3273480" y="4533840"/>
            <a:chExt cx="1282680" cy="749160"/>
          </a:xfrm>
        </p:grpSpPr>
        <p:sp>
          <p:nvSpPr>
            <p:cNvPr id="164"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66" name=""/>
          <p:cNvGrpSpPr/>
          <p:nvPr/>
        </p:nvGrpSpPr>
        <p:grpSpPr>
          <a:xfrm>
            <a:off x="4673520" y="4546440"/>
            <a:ext cx="1282680" cy="749160"/>
            <a:chOff x="4673520" y="4546440"/>
            <a:chExt cx="1282680" cy="749160"/>
          </a:xfrm>
        </p:grpSpPr>
        <p:sp>
          <p:nvSpPr>
            <p:cNvPr id="167"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6F57297-39BE-4969-8DCE-E09E078FECE8}" type="slidenum">
              <a:t>25</a:t>
            </a:fld>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1128600" y="1517760"/>
          <a:ext cx="7391520" cy="4425840"/>
        </p:xfrm>
        <a:graphic>
          <a:graphicData uri="http://schemas.openxmlformats.org/presentationml/2006/ole">
            <p:oleObj progId="Word.Document.12" r:id="rId1" spid="">
              <p:embed/>
              <p:pic>
                <p:nvPicPr>
                  <p:cNvPr id="171"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72"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AF4D057-79F6-4D2E-929F-50B8E7988EAC}" type="slidenum">
              <a:t>26</a:t>
            </a:fld>
          </a:p>
        </p:txBody>
      </p:sp>
      <p:sp>
        <p:nvSpPr>
          <p:cNvPr id="5" name="PlaceHolder 4"/>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49B7599-76CD-4244-8717-2633E50954D9}"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177"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178"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15D7113-019B-4246-92CD-7A2DEC84A4DF}"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60"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tp://ftp.flexipc.com/wearablesgroup/</a:t>
            </a:r>
            <a:endParaRPr b="0" lang="en-US" sz="20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1/index.htm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61"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p:txBody>
      </p:sp>
      <p:sp>
        <p:nvSpPr>
          <p:cNvPr id="62"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AE5B108-D9DD-4780-9D31-B5AEF7D45C7E}" type="slidenum">
              <a:t>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Meeting</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ize Working Group Leadership and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committees for initial draf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9C3EAF1-BC4D-48A6-A06F-F120BD174A9D}"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ily Objectives for July Plenary</a:t>
            </a:r>
            <a:endParaRPr b="0" lang="en-US" sz="3600" spc="-1" strike="noStrike">
              <a:solidFill>
                <a:srgbClr val="000000"/>
              </a:solidFill>
              <a:latin typeface="Times New Roman"/>
            </a:endParaRPr>
          </a:p>
        </p:txBody>
      </p:sp>
      <p:sp>
        <p:nvSpPr>
          <p:cNvPr id="66" name=""/>
          <p:cNvSpPr/>
          <p:nvPr/>
        </p:nvSpPr>
        <p:spPr>
          <a:xfrm>
            <a:off x="762120" y="1676520"/>
            <a:ext cx="7772400" cy="411480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set the stage, review the gameplan for the week, point attendees to the web or flash card for copies of draft rules and other documents for review ahead of time.</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 detailed presentations on WG objectives, proposed operating rules and liaison activities</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Review project action plan and call for proposals, joint meeting with .11, review draft standard outline, organize committees for first draft, review BT spec</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day-  Begin formal voting on Officers and rules, hear submissions, if any, in response to the CF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FAD10C6-9033-432F-9994-2AAA45677F88}"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ck-off Proces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voting rights at the Thursday morning session of this meeting, you must attend at least 5 of the six sessions Monday, Tuesday, and Wednesday and the session on Thursday morn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planning on attending at least 75% of the sessions and becoming a voting member, please declare it during sign-in on Monday or Tuesday morning. You will be eligible to receive the Standards CD on Wednesday after 2pm.</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voting will begin on Thursday morning. At sign-in you will receive a voting tok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9B906F1-A284-41E5-B307-B7A61DFA2568}"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1C3E6A6-80EB-496A-B414-0E36360ECBA9}"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 Membershi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  Thereafter, voting  membership in a Working Group is established by participating in the meetings of the Working Group at two out of the last four Plenary sessions, and (optionally) a letter of intent to the Chair of the Working Group.  Membership starts at the third Plenary session.  One duly constituted interim Working Group or task group meeting may be substituted for the Working Group meetings at one of the two Plenary sessions (See 5.1.3.5 Meetings and Participatio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8F1D80C-1ACB-4B5B-96E0-58FB014D3C64}"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5 Meetings and Partici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Only voting members have the right to participate in the discussions. The privilege of observers to participate in discussions may be granted by the Working Group Cha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1) Reasonable notification (&gt;4 weeks), 2) Few last minute shifts in location (&lt;&lt; 1 per year), and 3) Notification of all Working Group members, observers and liaison people (Notice to all Working Group members, observers, and liaison people in addition to any announcement given at a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2E76034-B0F4-4092-A167-728130692B58}"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Ian C. Gifford</dc:creator>
  <dc:description>&lt;doc#&gt;</dc:description>
  <dc:language>en-US</dc:language>
  <cp:lastModifiedBy>Ian C. Gifford</cp:lastModifiedBy>
  <cp:lastPrinted>1998-02-10T13:28:06Z</cp:lastPrinted>
  <dcterms:modified xsi:type="dcterms:W3CDTF">1999-07-05T16:17:26Z</dcterms:modified>
  <cp:revision>25</cp:revision>
  <dc:subject>IEEE 802.15 &lt;subject&gt;</dc:subject>
  <dc:title>IEEE P802.15 Working Group for Wireless Personal Area Networks</dc:title>
</cp:coreProperties>
</file>