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948-233B-4DD7-947D-ECA499AC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B1A-8853-4F7D-AD66-F1ADBBBC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5E0-4EF8-4B28-870E-BACD706F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492-8103-4878-A151-DA632E2B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538-E11B-46DE-9FE9-995B680F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732-ACDA-4BA5-A025-E18A024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391-0CDD-40A9-807D-50A3B91A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95D-C7B3-48A8-8938-5ECAB9B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E3B-1EDD-4E9E-BF31-0A98299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865-071A-46E9-B535-E85B9EB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857-4307-4EBA-8CC6-C857B01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9FE-7E69-4B3F-9CFC-BFD716D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34498E-9B02-4342-8A99-05F135C0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to Vot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Slate of Officers-Term is through 802 Plenary Meeting, March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802.11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to develop recommended Marketing Activities for the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position relative to NPRM on 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62F-AEAC-4CA4-9B91-FD6B31B73E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23814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9920" y="41148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3A7-09CD-45E0-97FF-EBDB977E90B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9BA-70B8-4776-95F5-0F1BA80F50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5920" y="6132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99/031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A31-2F31-4FEA-A29E-FA05D3C4D3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725-0898-4126-A4FC-A5BEE82BA9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Marketing Committee to implement recommendations in Doc #99/031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f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B1E-AB14-4DDC-BAAB-BE5ECBEFE2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7000" y="1843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38F-4EEC-4767-8ADB-0FD8FBA2E1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41C-74F5-4A4B-B2FC-1D5A116D21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A03-C35D-4F0F-A981-649ACB39F7F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FEA-8701-43AD-A4AF-4E7CEFD044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egulatory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2A1-7559-4E40-92E8-783B851BC29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1480" y="3643200"/>
            <a:ext cx="149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2BA-F19C-4308-BB8C-1239B7A405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165-7A8F-46DD-ABC6-422C94516B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of Gro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existence/Interoper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R defining work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8E0-6383-4007-9052-15EA67A9D8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81080"/>
            <a:ext cx="763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800" y="4038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46483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29D-39EF-4D27-80CB-E76AF3CED95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13T13:00:44Z</dcterms:modified>
  <cp:revision>54</cp:revision>
  <dc:subject>IEEE 802.15 Marketing</dc:subject>
  <dc:title>IEEE P802.15 Working Group for Wireless Personal Area Networks</dc:title>
</cp:coreProperties>
</file>