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2B277-9AA8-4901-ADD1-A12513E0AA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185DC-D6F9-437F-8620-C58816D84C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225BA-C2C5-4A5A-A737-E0097EF9C3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34690-48F4-48DD-9056-0C058CF794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AA818-9A3E-4575-B2AF-F4E19134B4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E04F5-5486-4B22-932C-F0066ACFE0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78707-EFE1-4545-ABC9-EFEA5295FD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E1E9E-8F8F-4259-89D2-18E3A564D6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B14FB-2DAE-436B-8375-3AB3B6B7F3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24EE5-00FC-44AB-9FC2-FC792357CE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E6A55-5EFF-4413-97FF-290F6001B0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E6C8A-C166-4588-BEAF-224B9A26A2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7367809-0594-4695-B569-90B775C817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191120" y="396000"/>
            <a:ext cx="3962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 99/1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68160" y="3160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577200" y="6438960"/>
            <a:ext cx="122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Zyren Har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17400" y="2438280"/>
            <a:ext cx="5865120" cy="19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PRM 98-42 Study Group 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im Zy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373CE-2030-4633-8A42-75F710FB2BD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PRM 98-4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mmended authorization of RF Lights operating in 2.45 GHz ISM b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 on in-band emission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FDA limits on human exposure app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 OET recommendation sent to Commission in December, 19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 15 Interests appealed directly to Comm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ission delayed final resolution pending efforts of interested parties to seek 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1D830-A819-4C4A-852F-DD26CD7734F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test Proposal (July 9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565280" y="1850760"/>
            <a:ext cx="7002360" cy="1579320"/>
            <a:chOff x="1565280" y="1850760"/>
            <a:chExt cx="7002360" cy="1579320"/>
          </a:xfrm>
        </p:grpSpPr>
        <p:sp>
          <p:nvSpPr>
            <p:cNvPr id="50" name=""/>
            <p:cNvSpPr/>
            <p:nvPr/>
          </p:nvSpPr>
          <p:spPr>
            <a:xfrm>
              <a:off x="1565280" y="3295800"/>
              <a:ext cx="7002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2097000" y="1850760"/>
              <a:ext cx="0" cy="157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7956720" y="1850760"/>
              <a:ext cx="0" cy="157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6796080" y="3017880"/>
            <a:ext cx="118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111400" y="3027240"/>
            <a:ext cx="353232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775160" y="3432240"/>
            <a:ext cx="581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4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89920" y="3645000"/>
            <a:ext cx="550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712640" y="3432240"/>
            <a:ext cx="581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727040" y="3645000"/>
            <a:ext cx="550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499800" y="3432240"/>
            <a:ext cx="581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4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514200" y="3645000"/>
            <a:ext cx="550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5264280" y="1765440"/>
            <a:ext cx="31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548320" y="1724040"/>
            <a:ext cx="96840" cy="84240"/>
          </a:xfrm>
          <a:custGeom>
            <a:avLst/>
            <a:gdLst/>
            <a:ahLst/>
            <a:rect l="l" t="t" r="r" b="b"/>
            <a:pathLst>
              <a:path w="61" h="53">
                <a:moveTo>
                  <a:pt x="0" y="52"/>
                </a:moveTo>
                <a:lnTo>
                  <a:pt x="9" y="26"/>
                </a:lnTo>
                <a:lnTo>
                  <a:pt x="0" y="0"/>
                </a:lnTo>
                <a:lnTo>
                  <a:pt x="60" y="26"/>
                </a:lnTo>
                <a:lnTo>
                  <a:pt x="0" y="5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81760" y="1766880"/>
            <a:ext cx="31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10480" y="1725480"/>
            <a:ext cx="96840" cy="84240"/>
          </a:xfrm>
          <a:custGeom>
            <a:avLst/>
            <a:gdLst/>
            <a:ahLst/>
            <a:rect l="l" t="t" r="r" b="b"/>
            <a:pathLst>
              <a:path w="61" h="53">
                <a:moveTo>
                  <a:pt x="60" y="0"/>
                </a:moveTo>
                <a:lnTo>
                  <a:pt x="51" y="26"/>
                </a:lnTo>
                <a:lnTo>
                  <a:pt x="60" y="52"/>
                </a:lnTo>
                <a:lnTo>
                  <a:pt x="0" y="26"/>
                </a:lnTo>
                <a:lnTo>
                  <a:pt x="6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773520" y="1614600"/>
            <a:ext cx="1553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460 - 2480 M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6588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6400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26248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6240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06088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95936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5784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75632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65444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5292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5140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4988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4800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14648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04496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94344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4336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74184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63996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3844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43692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3540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3388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3200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3048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92896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2744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2556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62404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23960" y="1978200"/>
            <a:ext cx="51120" cy="26640"/>
          </a:xfrm>
          <a:custGeom>
            <a:avLst/>
            <a:gdLst/>
            <a:ahLst/>
            <a:rect l="l" t="t" r="r" b="b"/>
            <a:pathLst>
              <a:path w="32" h="17">
                <a:moveTo>
                  <a:pt x="31" y="16"/>
                </a:moveTo>
                <a:lnTo>
                  <a:pt x="31" y="0"/>
                </a:lnTo>
                <a:lnTo>
                  <a:pt x="0" y="0"/>
                </a:lnTo>
                <a:lnTo>
                  <a:pt x="0" y="16"/>
                </a:lnTo>
                <a:lnTo>
                  <a:pt x="31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42244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2092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1940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11788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1600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1448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1296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1144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0956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28960" y="3017880"/>
            <a:ext cx="5220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27080" y="3017880"/>
            <a:ext cx="5256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825560" y="3017880"/>
            <a:ext cx="5256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724040" y="3017880"/>
            <a:ext cx="5220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22520" y="3017880"/>
            <a:ext cx="5220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63840" y="30178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16"/>
                </a:moveTo>
                <a:lnTo>
                  <a:pt x="16" y="0"/>
                </a:lnTo>
                <a:lnTo>
                  <a:pt x="0" y="0"/>
                </a:lnTo>
                <a:lnTo>
                  <a:pt x="0" y="16"/>
                </a:lnTo>
                <a:lnTo>
                  <a:pt x="16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21840" y="2311560"/>
            <a:ext cx="287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657760" y="1657440"/>
            <a:ext cx="2700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657760" y="1758960"/>
            <a:ext cx="2700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657760" y="186048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657760" y="1962000"/>
            <a:ext cx="27000" cy="51120"/>
          </a:xfrm>
          <a:custGeom>
            <a:avLst/>
            <a:gdLst/>
            <a:ahLst/>
            <a:rect l="l" t="t" r="r" b="b"/>
            <a:pathLst>
              <a:path w="17" h="32">
                <a:moveTo>
                  <a:pt x="16" y="0"/>
                </a:moveTo>
                <a:lnTo>
                  <a:pt x="0" y="0"/>
                </a:lnTo>
                <a:lnTo>
                  <a:pt x="0" y="31"/>
                </a:lnTo>
                <a:lnTo>
                  <a:pt x="16" y="31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57760" y="206208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657760" y="216360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657760" y="2265480"/>
            <a:ext cx="2700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57760" y="2367000"/>
            <a:ext cx="2700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657760" y="246852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657760" y="257004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657760" y="2671920"/>
            <a:ext cx="27000" cy="50760"/>
          </a:xfrm>
          <a:custGeom>
            <a:avLst/>
            <a:gdLst/>
            <a:ahLst/>
            <a:rect l="l" t="t" r="r" b="b"/>
            <a:pathLst>
              <a:path w="17" h="32">
                <a:moveTo>
                  <a:pt x="16" y="0"/>
                </a:moveTo>
                <a:lnTo>
                  <a:pt x="0" y="0"/>
                </a:lnTo>
                <a:lnTo>
                  <a:pt x="0" y="31"/>
                </a:lnTo>
                <a:lnTo>
                  <a:pt x="16" y="31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657760" y="277164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657760" y="2873520"/>
            <a:ext cx="2700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657760" y="2975040"/>
            <a:ext cx="2700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657760" y="307656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657760" y="317808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57760" y="327960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778800" y="1657440"/>
            <a:ext cx="2664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78800" y="1758960"/>
            <a:ext cx="2664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778800" y="1860480"/>
            <a:ext cx="2664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78800" y="1962000"/>
            <a:ext cx="26640" cy="51120"/>
          </a:xfrm>
          <a:custGeom>
            <a:avLst/>
            <a:gdLst/>
            <a:ahLst/>
            <a:rect l="l" t="t" r="r" b="b"/>
            <a:pathLst>
              <a:path w="17" h="32">
                <a:moveTo>
                  <a:pt x="16" y="0"/>
                </a:moveTo>
                <a:lnTo>
                  <a:pt x="0" y="0"/>
                </a:lnTo>
                <a:lnTo>
                  <a:pt x="0" y="31"/>
                </a:lnTo>
                <a:lnTo>
                  <a:pt x="16" y="31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778800" y="2062080"/>
            <a:ext cx="2664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78800" y="2163600"/>
            <a:ext cx="2664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78800" y="2265480"/>
            <a:ext cx="2664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778800" y="2367000"/>
            <a:ext cx="2664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778800" y="2468520"/>
            <a:ext cx="2664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778800" y="2570040"/>
            <a:ext cx="2664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78800" y="2671920"/>
            <a:ext cx="26640" cy="50760"/>
          </a:xfrm>
          <a:custGeom>
            <a:avLst/>
            <a:gdLst/>
            <a:ahLst/>
            <a:rect l="l" t="t" r="r" b="b"/>
            <a:pathLst>
              <a:path w="17" h="32">
                <a:moveTo>
                  <a:pt x="16" y="0"/>
                </a:moveTo>
                <a:lnTo>
                  <a:pt x="0" y="0"/>
                </a:lnTo>
                <a:lnTo>
                  <a:pt x="0" y="31"/>
                </a:lnTo>
                <a:lnTo>
                  <a:pt x="16" y="31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778800" y="2771640"/>
            <a:ext cx="2664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778800" y="2873520"/>
            <a:ext cx="2664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78800" y="2975040"/>
            <a:ext cx="2664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78800" y="3076560"/>
            <a:ext cx="2664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778800" y="3178080"/>
            <a:ext cx="2664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778800" y="3279600"/>
            <a:ext cx="2664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667480" y="1995480"/>
            <a:ext cx="1103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34680" y="2293920"/>
            <a:ext cx="389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026480" y="2265480"/>
            <a:ext cx="491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1080" y="1854360"/>
            <a:ext cx="1031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 dB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/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06680" y="2036880"/>
            <a:ext cx="722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@ 10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7640" y="2895480"/>
            <a:ext cx="945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 dB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/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22520" y="3078000"/>
            <a:ext cx="637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@ 3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30680" y="3919680"/>
            <a:ext cx="1113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gion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54800" y="391968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081520" y="3919680"/>
            <a:ext cx="270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165760" y="391968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88880" y="3963960"/>
            <a:ext cx="4880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400 - 2460 MHz. RF lighting restricted to 1 mV/m (av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31400" y="4468680"/>
            <a:ext cx="1212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gion 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054880" y="4468680"/>
            <a:ext cx="249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118240" y="4468680"/>
            <a:ext cx="270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02120" y="446868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325960" y="4513320"/>
            <a:ext cx="5820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460 - 2480 MHz. RF Light emission limit of 100 dB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/m @ 10 m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51200" y="4772160"/>
            <a:ext cx="5942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quivalent to 330 mVm @ 3m).  Consistent with CISPR15 limi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33200" y="5016600"/>
            <a:ext cx="235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031040" y="5261040"/>
            <a:ext cx="1311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gion I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153520" y="5261040"/>
            <a:ext cx="249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16520" y="5261040"/>
            <a:ext cx="270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97160" y="5305320"/>
            <a:ext cx="4981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480 - 2500 MHz.  RF lighting restricted to 1 mV/m (av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48680" y="5608800"/>
            <a:ext cx="4665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portion of the band includes satellite servic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27080" y="5564160"/>
            <a:ext cx="249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83800" y="3411360"/>
            <a:ext cx="581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4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98200" y="3624120"/>
            <a:ext cx="550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3BF84-685A-49D4-AC15-F73B80E8849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mit a revised letter to the FCC and Fusion Lighting on spurious emission lev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56DC2-AAB2-4545-8D37-798B9F15102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5T16:59:08Z</dcterms:created>
  <dc:creator>Jim Zyren</dc:creator>
  <dc:description/>
  <dc:language>en-US</dc:language>
  <cp:lastModifiedBy>Al Petrick</cp:lastModifiedBy>
  <dcterms:modified xsi:type="dcterms:W3CDTF">1999-07-07T21:06:59Z</dcterms:modified>
  <cp:revision>36</cp:revision>
  <dc:subject/>
  <dc:title>No Slide Title</dc:title>
</cp:coreProperties>
</file>