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134A-9761-4BC6-BD87-5AC81DC5D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E0DB-3534-47D8-9005-28DC3536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BAC1-E9F7-49D2-BE5D-508848A76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0128-5019-4DD3-A597-2C3904A36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B6DE-A692-473B-B885-02C7FAD0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D20A-B5F3-4DA6-A6C0-1E29746D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5FFD-4D43-47FB-9796-B7E3AC57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E155-1F0B-4836-97E4-97CEE6CF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DA9B-BB6E-48EC-91EE-31170868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6050-6707-45C2-815B-1C524549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EAD6-6369-4D25-A62F-574D00D1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371C-7845-4432-AF1B-02F120D4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CA65559-E881-4ADD-99FD-C09EF2AC5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040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and IEEE 80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280" y="1905120"/>
          <a:ext cx="8724960" cy="46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905120"/>
                    <a:ext cx="8724960" cy="46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3124080" y="4267080"/>
          <a:ext cx="2538360" cy="11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4267080"/>
                    <a:ext cx="253836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2743200" y="2895480"/>
          <a:ext cx="3224160" cy="159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2895480"/>
                    <a:ext cx="3224160" cy="15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200400" y="1371600"/>
          <a:ext cx="4952880" cy="1380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0400" y="1371600"/>
                    <a:ext cx="4952880" cy="13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80880" y="685800"/>
          <a:ext cx="5513400" cy="2895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685800"/>
                    <a:ext cx="55134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2514600" y="1981080"/>
          <a:ext cx="5738760" cy="2163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14600" y="1981080"/>
                    <a:ext cx="5738760" cy="21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E2F6-97FC-4F90-B44B-60B78C5DA20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Draf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Functional Organization Ch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447920" y="1676520"/>
          <a:ext cx="587988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676520"/>
                    <a:ext cx="587988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FAC4-0481-4C65-BA30-A911AEE591A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F1EC-0FF2-4253-A31A-BE09F7C92C6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4:39:52Z</dcterms:created>
  <dc:creator>Tom Siep</dc:creator>
  <dc:description>&lt;doc#&gt;</dc:description>
  <dc:language>en-US</dc:language>
  <cp:lastModifiedBy>Bridget Labrode</cp:lastModifiedBy>
  <cp:lastPrinted>1998-02-10T13:28:06Z</cp:lastPrinted>
  <dcterms:modified xsi:type="dcterms:W3CDTF">1999-07-06T16:42:20Z</dcterms:modified>
  <cp:revision>5</cp:revision>
  <dc:subject>IEEE 802.15 &lt;subject&gt;</dc:subject>
  <dc:title>IEEE P802.15 Operating Rules</dc:title>
</cp:coreProperties>
</file>