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3BC10C-D1CE-4DE2-9568-F90C5A01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791560"/>
            <a:ext cx="71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790120"/>
            <a:ext cx="54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0520"/>
            <a:ext cx="564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3C801F-914C-4C86-B9D4-712F15CF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67932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ence of Bluetooth to the ISO Open Standards Interface (OSI) model and how the IEEE standards map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EEE has only two layers of the ISO-OSI while Bluetooth (as you well know) covers all of them.  What is not indicated by this graph is that the normal place for the LLC layer is in a separate committee, 802.2.  This standard is common to 802 stacks, but each MAC may have some medium-specific clauses in the 802.2 standard.  Due to the unique nature of the wireless medium, we will need to evaluate if there is sufficient flexibility for a Bluetooth-based standard to follow this model.  Other options can be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to be a fairly good correspondence, except for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scu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560" y="3993840"/>
            <a:ext cx="509256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are performed via Service Access Points (S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ogical Link Control -- Three types of operation: connectionless with no ACK; connection-oriented; and connectionless with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upper layers via a set of primi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MAC via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Media Access Control -- Performs access control functions for the shared medium in support of the LL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ddressing and recognition of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rame check sequence generation and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LLC protocol data unit (PDU) deli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MAC Management -- managed objects and controls for MAC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Physical Layer Convergence Procedure -- Medium-independent physical layer: receives Messages, hands over bits to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Physical Medium Dependent layer takes bits and (in our case) turns them into radio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PHY Management  -- managed objects and controls for PHY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Station Management -- Set of tools that allow performanc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aul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erforman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Secur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ccoun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61A-0B65-4A8B-B531-1116720F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223-F48B-47D7-84B7-D3E9729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04F-4256-41D3-B220-649560F9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ADE-52F2-427A-9932-A3D308CC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B09-9051-4C67-8AA2-2085A420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DAF-AE60-4E31-A1AC-F53FC30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0AD-DAA5-4F87-9964-67CAD34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C97-C088-4AF4-AD49-D5596D86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A5D-D765-4D11-906B-869E13BC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717-DC79-4183-B255-80783C6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A7F-6102-44A8-9088-4A000A5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C0E-96E1-4EBF-A50F-CF6F97D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6C9CFA-E995-4C61-8ED7-A3176862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Proposed Stru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MAC and PH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FD6-EC4B-4255-9127-43F117FE79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43C-D4C0-4017-A3FB-F195140AC4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6B8-B271-405F-A11C-489742D876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495680"/>
            <a:ext cx="182880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035-F1A6-4665-8313-2B8DCFB18F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Servic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419720"/>
            <a:ext cx="1905120" cy="30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5E9-F552-4882-A29B-5BC30433D6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A47-1AA5-4732-909C-CF28DFDE12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/De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Exchang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F28-630D-41E0-8848-8040850102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105520"/>
            <a:ext cx="17524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381-026F-4374-A407-FBD3E7CBBA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PHY Servi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175248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D20-DAA6-4026-B5B1-7C6386C7A7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97C-F997-4372-BDB6-EAF6320E11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A39-942E-47A9-88CE-8C42C4EC4E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71600" y="1600200"/>
          <a:ext cx="6553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357-75B8-44EA-85AA-9046BD8A10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C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886200"/>
            <a:ext cx="2514600" cy="2362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C42-0314-4C9C-B00B-D7352D9C31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nd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rotocol Implementation Conformance Statement (PICS) pr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4BF-1F4C-4DBA-9D2A-50C85EA472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otocol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plementation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nformace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atement pro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S is a description of an implementation claim.  It specif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capabilities wer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ptions were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3FB-F47A-41BE-B606-0E34F4ED61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Defini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finitions are represent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Recommendation Z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berger, J., </a:t>
            </a:r>
            <a:r>
              <a:rPr b="1" i="1" lang="en-US" sz="28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tfordshire, Prentice Hall Europe, 199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BN 0-13-621384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0A3-7102-439D-B9DD-BEBDCB6B57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s are abstract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represented in ANS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-T Recommend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680-6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32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C5D-5C78-4FF5-A72D-77E8768F68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Wo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752480"/>
          <a:ext cx="784872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B43-9F1C-4680-BCB4-A390CDD134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ckup slides fo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099-574D-4037-B76D-BFD0CD7387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and IE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luetooth%20OSI%2080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8196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29C-E79D-4FEB-9C83-6DE651CE56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to IEEE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057400"/>
          <a:ext cx="3224160" cy="20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057400"/>
                    <a:ext cx="32241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F0A-73EA-4149-A2F1-083CB3E091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uetoo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960" y="-344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179360"/>
            <a:ext cx="6933960" cy="947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y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97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rid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028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021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1484280"/>
            <a:ext cx="47448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omm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ort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310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5160" y="6200640"/>
            <a:ext cx="214776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5160" y="5486400"/>
            <a:ext cx="371520" cy="67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948280"/>
            <a:ext cx="171900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695920"/>
            <a:ext cx="1719000" cy="2113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486400"/>
            <a:ext cx="1719000" cy="1681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</a:t>
            </a:r>
            <a:r>
              <a:rPr b="1" lang="en-GB" sz="1000" spc="-1" strike="noStrike" baseline="30000">
                <a:solidFill>
                  <a:srgbClr val="ffffff"/>
                </a:solidFill>
                <a:latin typeface="News Gothic MT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8440" y="4608360"/>
            <a:ext cx="6764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7760" y="4532400"/>
            <a:ext cx="676080" cy="49356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S0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0880" y="4532400"/>
            <a:ext cx="6764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1760" y="4532400"/>
            <a:ext cx="6746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33520" y="354168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rOB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7760" y="354168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05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164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2550960"/>
            <a:ext cx="4730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33520" y="255096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77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2" idx="2"/>
            <a:endCxn id="194" idx="3"/>
          </p:cNvCxnSpPr>
          <p:nvPr/>
        </p:nvCxnSpPr>
        <p:spPr>
          <a:xfrm rot="5400000">
            <a:off x="5685120" y="2948760"/>
            <a:ext cx="2802600" cy="861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3" name=""/>
          <p:cNvCxnSpPr>
            <a:stCxn id="197" idx="2"/>
          </p:cNvCxnSpPr>
          <p:nvPr/>
        </p:nvCxnSpPr>
        <p:spPr>
          <a:xfrm rot="5400000">
            <a:off x="5568480" y="2847960"/>
            <a:ext cx="842040" cy="1235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4" name=""/>
          <p:cNvCxnSpPr>
            <a:stCxn id="181" idx="2"/>
            <a:endCxn id="193" idx="0"/>
          </p:cNvCxnSpPr>
          <p:nvPr/>
        </p:nvCxnSpPr>
        <p:spPr>
          <a:xfrm rot="5400000">
            <a:off x="4330800" y="3045240"/>
            <a:ext cx="2554920" cy="420120"/>
          </a:xfrm>
          <a:prstGeom prst="bentConnector3">
            <a:avLst>
              <a:gd name="adj1" fmla="val 49957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5" name=""/>
          <p:cNvCxnSpPr>
            <a:stCxn id="178" idx="2"/>
            <a:endCxn id="191" idx="1"/>
          </p:cNvCxnSpPr>
          <p:nvPr/>
        </p:nvCxnSpPr>
        <p:spPr>
          <a:xfrm flipH="1" rot="16200000">
            <a:off x="664560" y="2881800"/>
            <a:ext cx="2878560" cy="10706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6" name=""/>
          <p:cNvCxnSpPr>
            <a:stCxn id="179" idx="2"/>
            <a:endCxn id="199" idx="0"/>
          </p:cNvCxnSpPr>
          <p:nvPr/>
        </p:nvCxnSpPr>
        <p:spPr>
          <a:xfrm rot="5400000">
            <a:off x="1923480" y="2057040"/>
            <a:ext cx="573480" cy="4150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7" name=""/>
          <p:cNvCxnSpPr>
            <a:stCxn id="179" idx="2"/>
            <a:endCxn id="200" idx="0"/>
          </p:cNvCxnSpPr>
          <p:nvPr/>
        </p:nvCxnSpPr>
        <p:spPr>
          <a:xfrm flipH="1" rot="16200000">
            <a:off x="2208240" y="2187000"/>
            <a:ext cx="573480" cy="1548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8" name=""/>
          <p:cNvCxnSpPr>
            <a:stCxn id="199" idx="2"/>
            <a:endCxn id="195" idx="0"/>
          </p:cNvCxnSpPr>
          <p:nvPr/>
        </p:nvCxnSpPr>
        <p:spPr>
          <a:xfrm flipH="1" rot="16200000">
            <a:off x="2037960" y="3008880"/>
            <a:ext cx="497520" cy="56880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9" name=""/>
          <p:cNvCxnSpPr>
            <a:stCxn id="200" idx="2"/>
            <a:endCxn id="195" idx="0"/>
          </p:cNvCxnSpPr>
          <p:nvPr/>
        </p:nvCxnSpPr>
        <p:spPr>
          <a:xfrm flipV="1" rot="10800000">
            <a:off x="257112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0" name=""/>
          <p:cNvCxnSpPr>
            <a:stCxn id="195" idx="2"/>
            <a:endCxn id="192" idx="0"/>
          </p:cNvCxnSpPr>
          <p:nvPr/>
        </p:nvCxnSpPr>
        <p:spPr>
          <a:xfrm flipH="1" rot="16200000">
            <a:off x="3134520" y="3471840"/>
            <a:ext cx="497520" cy="162468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1" name=""/>
          <p:cNvCxnSpPr>
            <a:stCxn id="198" idx="2"/>
          </p:cNvCxnSpPr>
          <p:nvPr/>
        </p:nvCxnSpPr>
        <p:spPr>
          <a:xfrm rot="5400000">
            <a:off x="2800800" y="2799720"/>
            <a:ext cx="232560" cy="722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183" idx="2"/>
            <a:endCxn id="198" idx="0"/>
          </p:cNvCxnSpPr>
          <p:nvPr/>
        </p:nvCxnSpPr>
        <p:spPr>
          <a:xfrm rot="5400000">
            <a:off x="302148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180" idx="2"/>
            <a:endCxn id="201" idx="0"/>
          </p:cNvCxnSpPr>
          <p:nvPr/>
        </p:nvCxnSpPr>
        <p:spPr>
          <a:xfrm rot="5400000">
            <a:off x="3818160" y="2253240"/>
            <a:ext cx="573480" cy="226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4" name=""/>
          <p:cNvCxnSpPr>
            <a:stCxn id="201" idx="2"/>
            <a:endCxn id="196" idx="0"/>
          </p:cNvCxnSpPr>
          <p:nvPr/>
        </p:nvCxnSpPr>
        <p:spPr>
          <a:xfrm flipV="1" rot="10800000">
            <a:off x="409356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5" name=""/>
          <p:cNvCxnSpPr>
            <a:stCxn id="196" idx="2"/>
            <a:endCxn id="192" idx="0"/>
          </p:cNvCxnSpPr>
          <p:nvPr/>
        </p:nvCxnSpPr>
        <p:spPr>
          <a:xfrm flipH="1" rot="16200000">
            <a:off x="3896640" y="4232880"/>
            <a:ext cx="497520" cy="10224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6" name=""/>
          <p:cNvCxnSpPr>
            <a:stCxn id="184" idx="2"/>
            <a:endCxn id="192" idx="3"/>
          </p:cNvCxnSpPr>
          <p:nvPr/>
        </p:nvCxnSpPr>
        <p:spPr>
          <a:xfrm rot="5400000">
            <a:off x="3349800" y="3161520"/>
            <a:ext cx="2802600" cy="43560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7" name=""/>
          <p:cNvCxnSpPr>
            <a:stCxn id="185" idx="2"/>
            <a:endCxn id="197" idx="0"/>
          </p:cNvCxnSpPr>
          <p:nvPr/>
        </p:nvCxnSpPr>
        <p:spPr>
          <a:xfrm rot="5400000">
            <a:off x="635040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8" name=""/>
          <p:cNvCxnSpPr>
            <a:stCxn id="191" idx="2"/>
            <a:endCxn id="190" idx="0"/>
          </p:cNvCxnSpPr>
          <p:nvPr/>
        </p:nvCxnSpPr>
        <p:spPr>
          <a:xfrm flipH="1" rot="16200000">
            <a:off x="3593160" y="4484880"/>
            <a:ext cx="384840" cy="1618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9" name=""/>
          <p:cNvCxnSpPr>
            <a:stCxn id="192" idx="2"/>
            <a:endCxn id="190" idx="0"/>
          </p:cNvCxnSpPr>
          <p:nvPr/>
        </p:nvCxnSpPr>
        <p:spPr>
          <a:xfrm flipH="1" rot="16200000">
            <a:off x="4163760" y="5056560"/>
            <a:ext cx="461160" cy="399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0" name=""/>
          <p:cNvCxnSpPr>
            <a:stCxn id="193" idx="2"/>
            <a:endCxn id="190" idx="0"/>
          </p:cNvCxnSpPr>
          <p:nvPr/>
        </p:nvCxnSpPr>
        <p:spPr>
          <a:xfrm rot="5400000">
            <a:off x="4765680" y="4853520"/>
            <a:ext cx="461160" cy="805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1" name=""/>
          <p:cNvCxnSpPr>
            <a:stCxn id="194" idx="2"/>
            <a:endCxn id="190" idx="0"/>
          </p:cNvCxnSpPr>
          <p:nvPr/>
        </p:nvCxnSpPr>
        <p:spPr>
          <a:xfrm rot="5400000">
            <a:off x="5226120" y="4393080"/>
            <a:ext cx="461160" cy="1726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E72-013F-4630-B903-4E946CE45D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447920"/>
          <a:ext cx="6784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84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054-9797-4A30-A7E0-F86FBD7957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onomy of an 802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4388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43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81680" y="1828800"/>
          <a:ext cx="160020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828800"/>
                    <a:ext cx="1600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E0E-3E11-4F26-9470-3253982F24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Main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2E4-8549-49C7-A762-B13316639E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Appendi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 Implementation Conformance       Statement (PICS) pro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4CD-C029-43C4-BC1E-9A6CBD432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F8E-364E-4B66-AC10-4B3D22F5D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 (IEEE, ISO, ITU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825-99D1-4DB5-9EA2-C53F85F225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specific to thi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E37-209E-4176-8AFF-AE55327549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om Siep</dc:creator>
  <dc:description>Tom Siep, Texas Instruments</dc:description>
  <dc:language>en-US</dc:language>
  <cp:lastModifiedBy>Tom Siep</cp:lastModifiedBy>
  <cp:lastPrinted>1999-04-23T19:19:31Z</cp:lastPrinted>
  <dcterms:modified xsi:type="dcterms:W3CDTF">1999-07-07T18:47:54Z</dcterms:modified>
  <cp:revision>72</cp:revision>
  <dc:subject>doc.: IEEE 802.11-99/055r1</dc:subject>
  <dc:title>WPAN SG Tutorial</dc:title>
</cp:coreProperties>
</file>