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AB2E-3EDD-4466-A894-97E200DE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84E4-788B-4CA0-AC21-8A2BECD30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92400" y="79380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D5F-EB3E-4842-8745-849E54C1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988-6550-4E4A-A56B-80AE57A8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5F5-F7A1-44F4-B554-B6AFEE25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5A5-A944-4BBF-89EC-907FBD79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343-543A-4740-9C9B-C663E20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B6B-98B4-4FA8-B84A-A9144A1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33F-11B5-4706-981A-8036F1ED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3C8-1A85-4917-B4E6-29BEB93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893-5B3D-42E6-9F20-CDBE469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E78-4318-49C8-8828-9EAC38A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D50-FB91-4460-A266-9A08CF9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6F7-6435-47DC-9593-A153CFB9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3DED58-BB63-4F38-A9BA-FACE7338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53920" y="219240"/>
            <a:ext cx="773748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pression for Probability of Error for Binary-FS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D.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, 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B32-4314-4E66-878C-D5396C3285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1447920"/>
                <a:ext cx="79250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</m:e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llision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93640" y="357012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3951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29000" y="4381560"/>
                <a:ext cx="21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30400" y="51814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29000" y="5638680"/>
                <a:ext cx="21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2438280"/>
                <a:ext cx="246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82000" y="2465280"/>
            <a:ext cx="4367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ortion of interferring energy in desired signal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8600" y="3075120"/>
            <a:ext cx="241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Brick Wall Fil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17-60FA-41D8-BE0F-8853408D44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9320" y="231300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6938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14680" y="3124080"/>
                <a:ext cx="21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6080" y="3924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28800" y="4419720"/>
                <a:ext cx="5683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47360" y="1893960"/>
            <a:ext cx="4075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3 MHz Wide Impact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BBA-FD6C-4448-9E5B-B172C65039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280" y="155088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0520" y="193212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2362320"/>
                <a:ext cx="21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82680" y="316224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3160" y="3733920"/>
                <a:ext cx="6602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697-A5F7-43F2-A933-8A8A25778E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62276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800520" cy="236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726000" cy="229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13716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09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9528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57150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92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600" y="342900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066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C1E-222E-4689-B713-A4277517733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5:53:13Z</dcterms:created>
  <dc:creator>Bridget Labrode</dc:creator>
  <dc:description/>
  <dc:language>en-US</dc:language>
  <cp:lastModifiedBy>Bridget Labrode</cp:lastModifiedBy>
  <dcterms:modified xsi:type="dcterms:W3CDTF">1999-07-18T16:12:34Z</dcterms:modified>
  <cp:revision>1</cp:revision>
  <dc:subject/>
  <dc:title>No Slide Title</dc:title>
</cp:coreProperties>
</file>