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BE04-E92F-4126-A884-6716BE69F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F43F-35C0-4B05-BFC8-950BB5907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F1D2-6F4B-447F-8520-6FFE21716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B0BD-9ECD-4A67-B7AB-5451F8991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3D00-E076-471D-A7EF-A1452C0BA6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39B5-CFA5-4661-94A7-4C437E7A2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4107-D5AC-42A0-8C52-4CD343458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CBA3-9F0C-4989-953A-B20A91EAC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3692-6EC7-4663-83D5-F032C4281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57E6-E846-4C2D-80CD-C675E7B6B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4B34-389C-44AE-9789-1AAD7E93E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FEA2-CF68-4E58-9BCB-1A630832E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78BB1D-C2B4-4D30-98FE-1D8F87425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0800" y="6438960"/>
            <a:ext cx="222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Al Petrick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86DC-6BD0-44F3-B47A-C93B851901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A050-9792-4639-975D-975520849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D1E3-367C-4A14-8F10-CB0D62EA6B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95BC-1DDF-487B-9E23-8B538CBA72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47D2-6B4E-4A6A-8F78-0FED93224F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Al Petrick</cp:lastModifiedBy>
  <dcterms:modified xsi:type="dcterms:W3CDTF">1999-07-07T21:08:22Z</dcterms:modified>
  <cp:revision>19</cp:revision>
  <dc:subject/>
  <dc:title>No Slide Title</dc:title>
</cp:coreProperties>
</file>