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F84-1268-432A-863F-16B70C65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1F4-1FFB-44BD-9C73-45B3481C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A0F-AB4A-4E35-92A2-E467902B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CDE-5EE9-4DB0-A5D5-B279209B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035-C15A-4434-A0BC-94E4C1EF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891-7A44-4C30-8978-83265BD7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D24-63B1-4E36-A0FB-C04E0B15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502-0EA3-4E57-B168-804F27E7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583-77FC-4C0A-BE57-84C15BC3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7E0-3CC7-4B4C-BD66-7CCC894B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10D-C9C8-4949-AFB1-A8D6051B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14B-A3B9-424D-88F0-746B5F9C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06AD943-5E53-43C4-A1F3-27F48C9E4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26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581280"/>
            <a:ext cx="6993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b Heile, 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1680" y="762120"/>
            <a:ext cx="8542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802.15 Working Group Status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ation to IEEE 802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ndards Executive Committe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uly 5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58E-3699-4612-A975-32E0C5FA62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for July 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- set the stage, review the gameplan for the week, point attendees to the web or flash card for copies of draft rules and other documents for review ahea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- detailed presentations on WG objectives, proposed operating rules and liais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- Review project action plan and call for proposals, joint meeting with .11, review draft standard outline, organize committees for first draft, review B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rsday-  Begin formal voting on Officers and rules, hear submissions, if any, in response to the CF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374-C71A-4B74-9FFC-A94A1785CD1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802.15 Proposed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is common with revised 802.11, which is based on 802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lined a few procedures to make meetings go more smooth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recommended procedures as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CE37-9F8C-4836-8042-70E2827AD7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ck-off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btain voting rights at the Thursday morning session of this meeting, you must attend at least 5 of the six sessions Monday, Tuesday, and Wednesday and the session on Thursday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are planning on attending at least 75% of the sessions and becoming a voting member, please declare it during sign-in on Monday or Tuesday morning. You will be eligible to receive the Standards CD on Wednesday after 2p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voting will begin on Thursday morning. At sign-in you will receive a voting t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55D-D6A1-4BB3-A3BB-72370AF573B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 Working Group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y Since March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ing the wor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/Missions/Tim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for July Ple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309-8615-4303-BAB2-6CF57ACAA4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-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Perspectives Column-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dition of Personal Communications Magazine-De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Eng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/PC   ---Chiba, Japan Ma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99 Developers Conference  ---London, Jun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45, MobileIP WG ---Oslo, Norway, 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CON  ---Denver,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WC  ---San Francisco, 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CBF-F8BF-415C-8303-9D39AE99A6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WG Mee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0000"/>
          </a:bodyPr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ly Telecons for the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WGAC Meeting in Chiba, Japan ( with 802.11), May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ized draft of 802.15 rules and document structure, reviewed Marcom activities, set liaison agenda,  established meeting schedule and proposed project time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WGAC Meeting in London,UK,  Jun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ed gameplan for July plenary, established meeting objectives for joint session with Bluetooth, finalized Call for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Meeting with Bluetooth in London, UK, Jun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standards process and agree on a proposed working relationship/tim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1D1-412F-4B4F-A480-2BA98C849D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P802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66C-451B-4D2D-AA5D-18A2539ABB0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aison 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Bluetooth Special Interes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Home Radio Frequency Working Group (HRFW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Internet Engineering Task Force (IET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Wireless Access Protocol (WAP)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Wireless Data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ATM Forum Wireless ATM (WATM) Work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ETSI Broadband Radio Access Networks (BRAN)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Infrared Data Association (Ir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Wireless LAN Alliance (WL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Department of Transportation, Federal Highway Agency and Intelligent Transport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Dedicated Short Range Communications Task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s were sen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A08-6DB2-417E-AE87-193DA7747E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ongoing 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 IPR and Copy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a mutual timeline, circulate to SIG for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plan to recast version1.0 L2CAP and below into a draft standard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 HRF-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ongoing 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Meeting Date July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49C-86B4-497E-A22D-E439939D2C1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ghts on Objectives/Missions/Tim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120" y="23623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3048120"/>
            <a:ext cx="702612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recognized by companies as the place to go for WPAN functionality in their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have users demand P802.15 compliance as a minimum requirement of product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BD9-A23C-4171-9895-CCA001EABC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ghts on Objectives/Missions/Tim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 sponsor ballot approved standard sooner than later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should be Nov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be recognized by Bluetooth, HomeRF and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enough(meets market need for functionality) vs perfect is an acceptable trade-off for speed in delivery of a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ly need coex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more flexibility on interoperability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ARs are likel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/Kod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 low power/low cost/low data rat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032-1CDD-44BC-9558-A2C90D37251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Robert F. Heile, GTE</dc:description>
  <dc:language>en-US</dc:language>
  <cp:lastModifiedBy>Bridget Labrode</cp:lastModifiedBy>
  <cp:lastPrinted>1998-11-06T19:39:09Z</cp:lastPrinted>
  <dcterms:modified xsi:type="dcterms:W3CDTF">1999-07-05T01:16:31Z</dcterms:modified>
  <cp:revision>34</cp:revision>
  <dc:subject>doc.: IEEE 802.11-99/026r0</dc:subject>
  <dc:title>P802.15-ExCom Report</dc:title>
</cp:coreProperties>
</file>