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39A51-07C7-4E5D-AABE-7923982A06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B0DD2-B741-4478-A4DB-876380C0DB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65C68-2056-43F4-9573-626481144A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C41FD-6012-4CDC-8CB6-368E1120E9B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64C5F-A826-4C99-B6CB-73ED90D7B66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5BF2F-C894-434D-9B64-E9CFEB7353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FD7DB-861A-4F33-A929-5292C391E3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5FAAE-1F61-433C-8335-9680573EBF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286C6-AB78-4D1A-9AC2-286DA5EDCA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850DE-127F-4AD3-930F-0C3D3B713D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FCA13-6CF0-4D0D-9951-3186DDF5EA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DC2C0-3C43-480B-A66D-C735EC4276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EEC8E639-3169-463B-A425-50698AAEEC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191120" y="396000"/>
            <a:ext cx="3962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 99037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68160" y="3160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581520" y="6438960"/>
            <a:ext cx="252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uce Kraemer, Harris Semicondu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518840" y="1847880"/>
            <a:ext cx="605592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CC Spectrum Management Top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BFH + DS Processing G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crowave Ligh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9946D-A942-4A86-B73C-14C61E69E7D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09480" y="593640"/>
            <a:ext cx="8153640" cy="57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ederal Communications Commi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PRM: NOTICE OF PROPOSED RULE MAK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mendment of Regulations for Part 15 Spread Spectrum De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T Docket No. 99-231        FCC 99-14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leased:  June 24, 19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mment Date: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75 days after publication in the Federal Register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ly Comment Date: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105 days after publication in the Federal Register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CC proposes to amend the Part 15  Section 247 rules regarding the operation of ISM spread spectrum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equency hopping systems operating in the 2.4 GHz band (2400 - 2483.5 MHz) to allow for wider operational bandwidth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fine the method for measuring the processing gain of direct sequence systems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: Facilitate development and deployment of spread spectrum technology, particularly for high data rate wireless applicat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5F09F-985E-4BAF-A888-1C176419DAD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177840" y="1752480"/>
          <a:ext cx="8877240" cy="3822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840" y="1752480"/>
                    <a:ext cx="8877240" cy="38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>
            <a:off x="1748160" y="857160"/>
            <a:ext cx="548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mmary of WBFH Propos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DB17E-90EC-4C8E-AE98-17E1B85D462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71520" y="1295280"/>
            <a:ext cx="85611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ssing gain (PG) shall b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0d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G = improvement in SNR after filtering from coding and sprea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day: PG (dB) =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NR with spread 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NR with spread 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posed Method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hanges If chip rat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0 chips/symbo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chip rate &lt; 10 chips/symb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ditional CW jammer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hematical calculation of processing g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mming margin test using Guassian No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665080" y="609480"/>
            <a:ext cx="362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S Processing G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53730-FF69-436D-9CEB-A8A6098972A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33520" y="593640"/>
            <a:ext cx="8610480" cy="61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CC Invites Comment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(9)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CC does not believe new rules will result in any significant increase in interference to direct sequence spread spectrum systems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Aft>
                <a:spcPts val="9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BFH interference on DS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SSS can compensate by improving processing g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BFH interference to Amateur Rad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(10)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CC believes that WBFH systems will achieve data rates substantially greater than 1 MHz system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ffects of multipath interference and subsequent retransmis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(14)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current jamming margin test is based on use of a CW signal as an interference source but propose to use a Guassian interferer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ffect of using a Guassian interferer in the current jamming margin test set-up and detailed measurement procedur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(15)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CC proposes that results of jamming margin test be submitted along with a mathematical calculation of processing gain, if the DS system uses fewer than 10 chips per symbo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quirements to submit the results of the jamming margin test as well as a calculation of processing gain to verify compliance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F8344-2B81-4EFF-9B90-9919D26FB62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77640" y="1371600"/>
            <a:ext cx="86558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otion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 a 802.11 WBFH study group (liaison with 802.1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yze interference impact on legacy 802.11 system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ort findings/recommendations to 802.11 by Wednes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ggest further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otion 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 a 802.11 DS Processing Gain study group (liaison with 802.1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lly understand rule chan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Gaussian noise 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ort findings/recommendations to 802.11 by Wednes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ggest further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7070E-0791-421B-91F5-1EFEC89210C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685800" y="1266840"/>
          <a:ext cx="8318520" cy="8029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266840"/>
                    <a:ext cx="8318520" cy="802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1974960" y="609480"/>
            <a:ext cx="471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uesday Evening 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74800-CD21-4B23-B317-3B82E728F0F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8580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PRM 98-4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ommended authorization of RF Lights operating in 2.45 GHz ISM b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 on in-band emission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FDA limits on human exposure app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al OET recommendation sent to Commission in December, 199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 15 Interests appealed directly to Commi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ission delayed final resolution pending efforts of interested parties to seek 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B6A2E-8F9C-4B7A-B829-95158DED500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8580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test Proposal (July 99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1565280" y="1850760"/>
            <a:ext cx="7002360" cy="1579320"/>
            <a:chOff x="1565280" y="1850760"/>
            <a:chExt cx="7002360" cy="1579320"/>
          </a:xfrm>
        </p:grpSpPr>
        <p:sp>
          <p:nvSpPr>
            <p:cNvPr id="61" name=""/>
            <p:cNvSpPr/>
            <p:nvPr/>
          </p:nvSpPr>
          <p:spPr>
            <a:xfrm>
              <a:off x="1565280" y="3295800"/>
              <a:ext cx="7002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2097000" y="1850760"/>
              <a:ext cx="0" cy="157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V="1">
              <a:off x="7956720" y="1850760"/>
              <a:ext cx="0" cy="157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796080" y="3017880"/>
            <a:ext cx="118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111400" y="3027240"/>
            <a:ext cx="3532320" cy="6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775160" y="3432240"/>
            <a:ext cx="581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4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789920" y="3645000"/>
            <a:ext cx="550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H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712640" y="3432240"/>
            <a:ext cx="581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727040" y="3645000"/>
            <a:ext cx="550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H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499800" y="3432240"/>
            <a:ext cx="581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4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514200" y="3645000"/>
            <a:ext cx="550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H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264280" y="1765440"/>
            <a:ext cx="311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548320" y="1724040"/>
            <a:ext cx="96840" cy="84240"/>
          </a:xfrm>
          <a:custGeom>
            <a:avLst/>
            <a:gdLst/>
            <a:ahLst/>
            <a:rect l="l" t="t" r="r" b="b"/>
            <a:pathLst>
              <a:path w="61" h="53">
                <a:moveTo>
                  <a:pt x="0" y="52"/>
                </a:moveTo>
                <a:lnTo>
                  <a:pt x="9" y="26"/>
                </a:lnTo>
                <a:lnTo>
                  <a:pt x="0" y="0"/>
                </a:lnTo>
                <a:lnTo>
                  <a:pt x="60" y="26"/>
                </a:lnTo>
                <a:lnTo>
                  <a:pt x="0" y="52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81760" y="1766880"/>
            <a:ext cx="311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810480" y="1725480"/>
            <a:ext cx="96840" cy="84240"/>
          </a:xfrm>
          <a:custGeom>
            <a:avLst/>
            <a:gdLst/>
            <a:ahLst/>
            <a:rect l="l" t="t" r="r" b="b"/>
            <a:pathLst>
              <a:path w="61" h="53">
                <a:moveTo>
                  <a:pt x="60" y="0"/>
                </a:moveTo>
                <a:lnTo>
                  <a:pt x="51" y="26"/>
                </a:lnTo>
                <a:lnTo>
                  <a:pt x="60" y="52"/>
                </a:lnTo>
                <a:lnTo>
                  <a:pt x="0" y="26"/>
                </a:lnTo>
                <a:lnTo>
                  <a:pt x="6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773520" y="1614600"/>
            <a:ext cx="1553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460 - 2480 MH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465880" y="1978200"/>
            <a:ext cx="5220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64000" y="1978200"/>
            <a:ext cx="5256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262480" y="1978200"/>
            <a:ext cx="5256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162400" y="1978200"/>
            <a:ext cx="5256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060880" y="1978200"/>
            <a:ext cx="5256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959360" y="1978200"/>
            <a:ext cx="5220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857840" y="1978200"/>
            <a:ext cx="5220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756320" y="1978200"/>
            <a:ext cx="5220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654440" y="1978200"/>
            <a:ext cx="5256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552920" y="1978200"/>
            <a:ext cx="5256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51400" y="1978200"/>
            <a:ext cx="5220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349880" y="1978200"/>
            <a:ext cx="5220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48000" y="1978200"/>
            <a:ext cx="5256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46480" y="1978200"/>
            <a:ext cx="5256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044960" y="1978200"/>
            <a:ext cx="5220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943440" y="1978200"/>
            <a:ext cx="5220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43360" y="1978200"/>
            <a:ext cx="5220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741840" y="1978200"/>
            <a:ext cx="5220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639960" y="1978200"/>
            <a:ext cx="5256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38440" y="1978200"/>
            <a:ext cx="5256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36920" y="1978200"/>
            <a:ext cx="5256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335400" y="1978200"/>
            <a:ext cx="5220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233880" y="1978200"/>
            <a:ext cx="5220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132000" y="1978200"/>
            <a:ext cx="5256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030480" y="1978200"/>
            <a:ext cx="5256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928960" y="1978200"/>
            <a:ext cx="5220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27440" y="1978200"/>
            <a:ext cx="5220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725560" y="1978200"/>
            <a:ext cx="5256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624040" y="1978200"/>
            <a:ext cx="5256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523960" y="1978200"/>
            <a:ext cx="51120" cy="26640"/>
          </a:xfrm>
          <a:custGeom>
            <a:avLst/>
            <a:gdLst/>
            <a:ahLst/>
            <a:rect l="l" t="t" r="r" b="b"/>
            <a:pathLst>
              <a:path w="32" h="17">
                <a:moveTo>
                  <a:pt x="31" y="16"/>
                </a:moveTo>
                <a:lnTo>
                  <a:pt x="31" y="0"/>
                </a:lnTo>
                <a:lnTo>
                  <a:pt x="0" y="0"/>
                </a:lnTo>
                <a:lnTo>
                  <a:pt x="0" y="16"/>
                </a:lnTo>
                <a:lnTo>
                  <a:pt x="31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22440" y="1978200"/>
            <a:ext cx="5256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320920" y="1978200"/>
            <a:ext cx="5256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219400" y="1978200"/>
            <a:ext cx="5220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17880" y="1978200"/>
            <a:ext cx="5220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16000" y="1978200"/>
            <a:ext cx="5256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914480" y="1978200"/>
            <a:ext cx="5256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12960" y="1978200"/>
            <a:ext cx="5220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711440" y="1978200"/>
            <a:ext cx="5220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09560" y="1978200"/>
            <a:ext cx="5256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028960" y="3017880"/>
            <a:ext cx="52200" cy="2700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927080" y="3017880"/>
            <a:ext cx="52560" cy="2700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825560" y="3017880"/>
            <a:ext cx="52560" cy="2700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724040" y="3017880"/>
            <a:ext cx="52200" cy="2700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622520" y="3017880"/>
            <a:ext cx="52200" cy="2700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563840" y="301788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6" y="16"/>
                </a:moveTo>
                <a:lnTo>
                  <a:pt x="16" y="0"/>
                </a:lnTo>
                <a:lnTo>
                  <a:pt x="0" y="0"/>
                </a:lnTo>
                <a:lnTo>
                  <a:pt x="0" y="16"/>
                </a:lnTo>
                <a:lnTo>
                  <a:pt x="16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21840" y="2311560"/>
            <a:ext cx="287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657760" y="1657440"/>
            <a:ext cx="27000" cy="5220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657760" y="1758960"/>
            <a:ext cx="27000" cy="5220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657760" y="1860480"/>
            <a:ext cx="2700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657760" y="1962000"/>
            <a:ext cx="27000" cy="51120"/>
          </a:xfrm>
          <a:custGeom>
            <a:avLst/>
            <a:gdLst/>
            <a:ahLst/>
            <a:rect l="l" t="t" r="r" b="b"/>
            <a:pathLst>
              <a:path w="17" h="32">
                <a:moveTo>
                  <a:pt x="16" y="0"/>
                </a:moveTo>
                <a:lnTo>
                  <a:pt x="0" y="0"/>
                </a:lnTo>
                <a:lnTo>
                  <a:pt x="0" y="31"/>
                </a:lnTo>
                <a:lnTo>
                  <a:pt x="16" y="31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657760" y="2062080"/>
            <a:ext cx="2700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57760" y="2163600"/>
            <a:ext cx="2700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657760" y="2265480"/>
            <a:ext cx="27000" cy="5220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57760" y="2367000"/>
            <a:ext cx="27000" cy="5220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657760" y="2468520"/>
            <a:ext cx="2700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657760" y="2570040"/>
            <a:ext cx="2700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657760" y="2671920"/>
            <a:ext cx="27000" cy="50760"/>
          </a:xfrm>
          <a:custGeom>
            <a:avLst/>
            <a:gdLst/>
            <a:ahLst/>
            <a:rect l="l" t="t" r="r" b="b"/>
            <a:pathLst>
              <a:path w="17" h="32">
                <a:moveTo>
                  <a:pt x="16" y="0"/>
                </a:moveTo>
                <a:lnTo>
                  <a:pt x="0" y="0"/>
                </a:lnTo>
                <a:lnTo>
                  <a:pt x="0" y="31"/>
                </a:lnTo>
                <a:lnTo>
                  <a:pt x="16" y="31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57760" y="2771640"/>
            <a:ext cx="2700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657760" y="2873520"/>
            <a:ext cx="27000" cy="5220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657760" y="2975040"/>
            <a:ext cx="27000" cy="5220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657760" y="3076560"/>
            <a:ext cx="2700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57760" y="3178080"/>
            <a:ext cx="2700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657760" y="3279600"/>
            <a:ext cx="2700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778800" y="1657440"/>
            <a:ext cx="26640" cy="5220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778800" y="1758960"/>
            <a:ext cx="26640" cy="5220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778800" y="1860480"/>
            <a:ext cx="2664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78800" y="1962000"/>
            <a:ext cx="26640" cy="51120"/>
          </a:xfrm>
          <a:custGeom>
            <a:avLst/>
            <a:gdLst/>
            <a:ahLst/>
            <a:rect l="l" t="t" r="r" b="b"/>
            <a:pathLst>
              <a:path w="17" h="32">
                <a:moveTo>
                  <a:pt x="16" y="0"/>
                </a:moveTo>
                <a:lnTo>
                  <a:pt x="0" y="0"/>
                </a:lnTo>
                <a:lnTo>
                  <a:pt x="0" y="31"/>
                </a:lnTo>
                <a:lnTo>
                  <a:pt x="16" y="31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778800" y="2062080"/>
            <a:ext cx="2664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778800" y="2163600"/>
            <a:ext cx="2664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778800" y="2265480"/>
            <a:ext cx="26640" cy="5220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778800" y="2367000"/>
            <a:ext cx="26640" cy="5220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778800" y="2468520"/>
            <a:ext cx="2664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778800" y="2570040"/>
            <a:ext cx="2664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778800" y="2671920"/>
            <a:ext cx="26640" cy="50760"/>
          </a:xfrm>
          <a:custGeom>
            <a:avLst/>
            <a:gdLst/>
            <a:ahLst/>
            <a:rect l="l" t="t" r="r" b="b"/>
            <a:pathLst>
              <a:path w="17" h="32">
                <a:moveTo>
                  <a:pt x="16" y="0"/>
                </a:moveTo>
                <a:lnTo>
                  <a:pt x="0" y="0"/>
                </a:lnTo>
                <a:lnTo>
                  <a:pt x="0" y="31"/>
                </a:lnTo>
                <a:lnTo>
                  <a:pt x="16" y="31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778800" y="2771640"/>
            <a:ext cx="2664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778800" y="2873520"/>
            <a:ext cx="26640" cy="5220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778800" y="2975040"/>
            <a:ext cx="26640" cy="5220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778800" y="3076560"/>
            <a:ext cx="2664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778800" y="3178080"/>
            <a:ext cx="2664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778800" y="3279600"/>
            <a:ext cx="2664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667480" y="1995480"/>
            <a:ext cx="1103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034680" y="2293920"/>
            <a:ext cx="389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26480" y="2265480"/>
            <a:ext cx="491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41080" y="1854360"/>
            <a:ext cx="10310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 dB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/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06680" y="2036880"/>
            <a:ext cx="722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@ 10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57640" y="2895480"/>
            <a:ext cx="945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0 dB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/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22520" y="3078000"/>
            <a:ext cx="6375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@ 3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30680" y="3919680"/>
            <a:ext cx="1113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gion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954800" y="391968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081520" y="3919680"/>
            <a:ext cx="270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165760" y="391968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288880" y="3963960"/>
            <a:ext cx="48805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400 - 2460 MHz. RF lighting restricted to 1 mV/m (av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031400" y="4468680"/>
            <a:ext cx="1212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gion 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054880" y="4468680"/>
            <a:ext cx="249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118240" y="4468680"/>
            <a:ext cx="270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202120" y="446868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325960" y="4513320"/>
            <a:ext cx="5820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460 - 2480 MHz. RF Light emission limit of 100 dB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/m @ 10 m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51200" y="4772160"/>
            <a:ext cx="59428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quivalent to 330 mVm @ 3m).  Consistent with CISPR15 limi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033200" y="5016600"/>
            <a:ext cx="235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031040" y="5261040"/>
            <a:ext cx="1311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gion I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153520" y="5261040"/>
            <a:ext cx="249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216520" y="5261040"/>
            <a:ext cx="270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297160" y="5305320"/>
            <a:ext cx="4981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480 - 2500 MHz.  RF lighting restricted to 1 mV/m (av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48680" y="5608800"/>
            <a:ext cx="4665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portion of the band includes satellite servic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427080" y="5564160"/>
            <a:ext cx="249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383800" y="3411360"/>
            <a:ext cx="581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4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398200" y="3624120"/>
            <a:ext cx="550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H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BBCBA-45A5-4370-AE8E-E6077793493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5T16:59:08Z</dcterms:created>
  <dc:creator>Bruce Kraemer</dc:creator>
  <dc:description/>
  <dc:language>en-US</dc:language>
  <cp:lastModifiedBy>Bruce Kraemer</cp:lastModifiedBy>
  <dcterms:modified xsi:type="dcterms:W3CDTF">1999-07-07T13:14:22Z</dcterms:modified>
  <cp:revision>26</cp:revision>
  <dc:subject/>
  <dc:title>No Slide Title</dc:title>
</cp:coreProperties>
</file>