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9B4-E5BB-42CF-83C4-6E5B4324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0AC-94D9-438E-8D45-5874601C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B41-0BBE-462F-BA2E-3D51D2A5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B8E-DF6D-4219-B714-98EA59C0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0D1-96CC-4862-BAF3-FC64A7B2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95A-166E-401E-BAB0-5E4EE610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5AA-FC47-4CB9-8586-BA6EB9F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CAF-F676-4B97-9EF3-8879F5D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D25-3B01-43FE-ABE4-73039C3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DB3-1E17-49C3-95F3-3786013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760-0D9E-4F81-B882-F78E2E4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712-2658-489E-AEF4-E1C6B48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919A38-09DD-4C9E-A73C-B6026AE4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EA4-9BCA-4F23-ABAA-B838DCC2BB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419-15E1-4324-B34F-77A56A2FBE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E8B-DD75-4E11-96D6-D025ABEB86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EC3-CA0D-41D3-AE86-7A8DAA825C4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E6F-1737-46DB-899B-1874E854CAB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7EC-5ADC-4FBC-8EF7-2135CFD7D9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BE2-8F83-46F1-BCFB-29DE207EBE8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310-1E71-4827-93A7-04BAEC6936F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EF7-E4D8-4B5B-9554-481CA39E54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F9D-35A2-4A4E-92D5-91294F36994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Bridget Labrode</cp:lastModifiedBy>
  <cp:lastPrinted>1998-02-10T13:28:06Z</cp:lastPrinted>
  <dcterms:modified xsi:type="dcterms:W3CDTF">1999-07-13T13:05:43Z</dcterms:modified>
  <cp:revision>23</cp:revision>
  <dc:subject/>
  <dc:title>No Slide Title</dc:title>
</cp:coreProperties>
</file>