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93A0-C19B-431A-8862-3721B6073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2A9D-CE55-4FAD-A434-61F8E7D6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79EE-2C64-48EA-B9BA-505F4FD4B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576A-B356-459D-B72F-CD89D55B5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F9FD-F26E-4C60-91FC-2577C3A0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01AF-4232-4259-A43C-5551A817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9B40-47BE-4052-B6EF-3CFA1EF3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44A9-23A7-4720-93F3-4DE5E07A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B627-84EE-41A6-A526-7798EB68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3BE2-933F-4746-A096-EC985836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8D8E-FE7D-4ABF-8FFA-75EE845F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73A3-78B3-4E35-83CE-01F6D7F2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21B2-74AD-4361-B0D1-0ECF0BB15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371520"/>
            <a:ext cx="7696080" cy="61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2948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585720"/>
            <a:ext cx="822960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617400"/>
            <a:ext cx="822960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19:14:15Z</dcterms:created>
  <dc:creator>Ivan Reede</dc:creator>
  <dc:description/>
  <dc:language>en-US</dc:language>
  <cp:lastModifiedBy>Ivan Reede</cp:lastModifiedBy>
  <dcterms:modified xsi:type="dcterms:W3CDTF">1999-07-07T19:47:33Z</dcterms:modified>
  <cp:revision>1</cp:revision>
  <dc:subject/>
  <dc:title>No Slide Title</dc:title>
</cp:coreProperties>
</file>