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A22A-B847-481D-8AEB-4BB4044C5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9D4E-5590-486E-B847-B24EFDCF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8273-91A9-4012-BEAC-4DE149F0F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1B51-EFCD-44C7-AA4E-5AB0075C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B42F-6EB6-421E-9959-CA33111B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1DCD-99E9-4D78-B7F6-D400DAE7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D45B-55E7-4D1F-96A5-6799BDC3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0C31-B51B-4869-82E3-3DF6A351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F6B6-25CC-413B-97E9-9F91C2A4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4251-7790-49BE-94CE-DFB0E4AC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BAE1-75DF-40EB-9A56-D64A34A8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F58B-B404-48C0-BCB2-BD00D41E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8E8A422-EB55-4119-AAA3-77309ADBC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039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Liaison wit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802.1 and P802.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asons for Liai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luetooth (at least) will have LLC and bridging work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eed to determine who will be able to help with exper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eed to determine where work will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802.15 Task Grou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802.1 and 80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eed to determine approval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8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riginating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ED03-3915-4B97-884D-08C858F9204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aison with P802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1030-85BC-40FD-998D-E7BF51A820D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aison with P802.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BEC6-E694-4287-B296-AE8B37F6C6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4:39:52Z</dcterms:created>
  <dc:creator>Tom Siep</dc:creator>
  <dc:description>&lt;doc#&gt;</dc:description>
  <dc:language>en-US</dc:language>
  <cp:lastModifiedBy>Bridget Labrode</cp:lastModifiedBy>
  <cp:lastPrinted>1998-02-10T13:28:06Z</cp:lastPrinted>
  <dcterms:modified xsi:type="dcterms:W3CDTF">1999-07-06T16:31:08Z</dcterms:modified>
  <cp:revision>7</cp:revision>
  <dc:subject>IEEE 802.15 &lt;subject&gt;</dc:subject>
  <dc:title>IEEE P802.15 Operating Rules</dc:title>
</cp:coreProperties>
</file>