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015-2E4B-40A1-8A6C-30EC20B3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825-C5D1-428C-A276-60258DE4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BB5-A7D6-46C0-9FD1-D264FA66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BDB-A3B1-4D52-A30E-93EB68AD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454-C0DE-4005-95C8-249E3BBC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58F-C277-4FAC-94C8-DA23D32A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773-3ECC-4289-91AB-9764AF5D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9FA-FBAE-4ED6-A9B7-29D4D6B7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519-0B34-4528-960F-F21DB297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2D5-0A9E-41A0-B909-9BCBE7E4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1B0-76E6-466A-B8A5-76E110D5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0D7-E0F6-4104-88EE-3A4F980B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BD1ED87-1695-48DA-8D0D-EB439EFBB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Operating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foun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\\venus\802.15 wpan\rules\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99001r6P802-15_Working-Group-Operating-Rules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369-6B9E-444F-AE3C-F63D6883446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ing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1814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lanks added for clarity in this slide</a:t>
            </a:r>
            <a:br>
              <a:rPr sz="2000"/>
            </a:b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to be included in fil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9520" y="2000160"/>
          <a:ext cx="872496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2000160"/>
                    <a:ext cx="8724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A21-520A-4D3A-B671-9F586E3062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35:17Z</dcterms:modified>
  <cp:revision>5</cp:revision>
  <dc:subject>IEEE 802.15 &lt;subject&gt;</dc:subject>
  <dc:title>IEEE P802.15 Operating Rules</dc:title>
</cp:coreProperties>
</file>