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ADD-2D60-4511-80FA-31FCDBA9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417-0A32-4EDE-9466-7309250C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08A-4BC4-4427-B6F8-17A876F0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3B3-7F51-435A-8AC2-C30C01C1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019-49D5-4F02-A951-40AFC959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1EE-BAD3-4DFE-80BE-E2770712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7D3-0269-4AA5-AFC5-5EEF3FAF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F8E-D4D3-46C1-9E88-E0FE52EB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07C-497F-4522-85DE-BBD1DE49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67F-BB58-47F0-B152-D5A0A01C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0AF-1BA7-42F2-BDB8-1C0DAD7C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829-D8A3-4777-AA10-EB6D73C5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8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B5FF51-0EEB-490B-9AA8-D2C60B729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and Interoperability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612-2A51-46A2-97DE-8032743BB5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y Group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think about what to include in PAR over the next two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send out material via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PAR at Santa R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anta Rosa we will decide if we should include Interoper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work starts in Hawa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3B9-54F5-444F-A765-B14F37A79D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ortance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of 802.15 WPAN and 802.11 WLAN was mandated by the 802 Executive Committ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ikely that WPAN and WLAN devices will operate in the same ISM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N devices are likely to operate in locations where WLANs are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C1E-C23B-4A2B-9C78-03F9042679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ortance of 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two devices that conform to the 802.15 standard interoperate with one another at the Physical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also be desirable to have WPAN and WLAN devices interoperate at some higher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708-6BE2-472D-AD5D-C8712E3AED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pose the formation of a Coexistence and Interoperability Study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ould write a Project Authorization Request (PAR) defining the objectives and scope of the Coexistence and Interoperability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ould exist from July 1999 to November 1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A59-E90D-4144-9175-726191EB6D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devices with which a WPAN must coexist.  The following is a partial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1 &amp; 2 Mbps FH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1 &amp; 2 Mbps D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5.5 &amp; 11 Mbps D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802.15 WPAN devices, of potentially a different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7C3-08F9-42FE-941F-3BFE040FC6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deliverables of th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es of reports describing the impact of a WPAN on a WLAN in the same vicinity, and visa 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recommended practices for both the WPAN and WLAN to maximize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, some recommended modifications or extensions to the WPAN and/or WLAN standards to improve co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A95-253F-405D-A3DD-09452D4EB2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to 802.15 devices (PHY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to 802.11 devices (higher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ill define what type of interoperability to address as a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from the W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BC2-D10E-4306-91AE-02044BB1BB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eems likely that the Task Group would likely set up a liaison with 802.11 to facilitate communication on the topics of coexistence and interoper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B09-CAF0-46BB-9BEE-002DDE1C23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ested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los 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viz Kerm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urt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thias F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man Alborz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on Ba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l Batliwa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ke Paczon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an Ree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dwell Cross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4C1-8433-4471-A353-21A7FBB425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9:46:37Z</dcterms:created>
  <dc:creator>Stephen J. Shellhammer</dc:creator>
  <dc:description>&lt;doc#&gt;</dc:description>
  <dc:language>en-US</dc:language>
  <cp:lastModifiedBy>Bridget Labrode</cp:lastModifiedBy>
  <cp:lastPrinted>1998-02-10T13:28:06Z</cp:lastPrinted>
  <dcterms:modified xsi:type="dcterms:W3CDTF">1999-07-08T17:21:14Z</dcterms:modified>
  <cp:revision>26</cp:revision>
  <dc:subject>IEEE 802.15 &lt;subject&gt;</dc:subject>
  <dc:title>IEEE P802.15 Working Group for Wireless Personal Area Networks</dc:title>
</cp:coreProperties>
</file>