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609-0B60-4177-BECD-6C351EE3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2DE-8E01-4DCB-A11B-28E55A6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EB2-7CB0-4E84-832F-97E5867E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F18-4E0C-4B67-920D-CC1C06BF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D82-3E06-4A92-9FAF-6177A699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378-E000-4B76-AFB0-D970A74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D3F-A0B4-4063-BE40-813DFC6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A80-88B3-47A7-B800-7560AED2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FB8-86BC-4C93-992A-047C022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C56-E20E-40CD-884C-0BE7BCE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1B1-CD89-4F75-9BB5-5F66AC7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4EB-42D0-4E9F-8488-AAFC4FC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B6DA0E-EF5F-4CE4-BF12-26589950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1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the IEEE P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145-8E53-41AB-9CAA-02D5AE426A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Communication Systems by Network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(Wide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interconnect facilities in different parts of a country or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shall be capable of operating over an area up to 50 Km in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(Loc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shall be capable of supporting segments at least 100 meters in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composed of segments connected by physical layer inter-networking devices, shall be capable of operating over a physical medium that is at least 2 Km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 (Person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 shall be capable of supporting segments at least 10 meters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B5E-423C-499B-8A93-4727448D85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Bas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Frequency Hopping Spread Spectrum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Direct Sequence Spread Spectrum (2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red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a 5GHz Extension (&gt;20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2.4GHz Extension (&gt;8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5 Wireless Personal Area Networks (WPAN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6 Broadband Wireless LANs (LMD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628-CBD3-4741-B710-898493BE23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A40-F1C8-48DD-BF62-BC4116304D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2425680"/>
            <a:ext cx="5359680" cy="306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Network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35053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9040" y="40384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495680"/>
            <a:ext cx="25146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C09-1AA9-46AD-85BD-94151E452C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9040" y="2425680"/>
            <a:ext cx="5359680" cy="1600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Family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25880"/>
            <a:ext cx="3505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6 B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9040" y="40258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5 WP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1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83080"/>
            <a:ext cx="251460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1, 11a &amp; 11b W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-54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373-3512-42C3-A689-63B97D426B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ntreal, determine interest level in the WG to form a limited duration Marketing Study Group [Jul99 to Nov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G agrees to formation, Marketing Study Group to be tasked to study actionable “Objectives”  and provide an initial report with clearly identified deliverables by Sept 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F7B-8B10-4C01-9D4F-E3D3137EE7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19200" y="1676520"/>
          <a:ext cx="6102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2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5791320"/>
            <a:ext cx="8305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Group can help provide focus on overall W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FCC-E44F-4AF1-AEE0-8E62F0135A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make the following mo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802.15 WG will form a Study Group to investigate how to successfully market WPAN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ing study group will initially be commissioned between July ‘99 and Nov ‘99 and report findings and recommendations  at each 802.1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reas to be studied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d Value of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requirements as embodied in C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able “Objectives”, priorities, deliverables, assignments an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40-4018-40A8-AF9E-1C61F6700F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A21-CD0C-41D0-ACB8-66B670AE42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08T12:22:56Z</dcterms:modified>
  <cp:revision>39</cp:revision>
  <dc:subject>IEEE 802.15 Marketing</dc:subject>
  <dc:title>IEEE P802.15 Working Group for Wireless Personal Area Networks</dc:title>
</cp:coreProperties>
</file>