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48F-2455-47C3-A098-0A5371A6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97F-CF3D-4B8C-8126-278CE63C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CE8-24C1-444F-8B2A-ECA55F4B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442-4858-4B30-8F45-064EB303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1A0-E34D-49AF-B6CB-3A6942DC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82D-7E57-4A90-B4E0-3CD7FB18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FF4-6CF8-4540-A167-CBE5DDC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DC8-D626-4120-AC32-7DE8CF5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4A6-E3B2-47EF-90F7-92414B20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125-A3A5-4029-858E-E276D13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789-7DD7-42AB-96D3-A196BC8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80D-DD45-4A1F-9E90-38E31C5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Cypher,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AA09E0-003E-48B2-B8EA-207607F6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ference 802.15-99/114.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, Interoperability and 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larifications of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6F9-62C2-496D-BE9E-925C65B6DE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mal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65760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048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514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0"/>
            <a:ext cx="2362320" cy="3048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2362320" cy="3048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286000"/>
            <a:ext cx="2361960" cy="30481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E55-AB1A-4580-98B9-87E5B138C5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existence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905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5181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0988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209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657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0"/>
            <a:ext cx="6858000" cy="3505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3962520" cy="37339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981080"/>
            <a:ext cx="5791320" cy="4191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3BE-7B80-4F55-8D6D-0B882649DC5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o finer definitions on coexistence and interoper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erformance criteria to evaluate the protocols/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“level of performance” where systems are defined to co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696-5CB5-47B0-9EEA-61D52033EC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ireless devices are said to “coexist” if they can be collocated without significantly impacting the performance of any of thes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6DF-3045-4684-9EB0-FAB2FD90E5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- The ability for two or more systems to exchange information and to mutually use the information that has been ex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- The ability for two systems to perform a given task using a single set of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FD5-C5BE-43EC-A836-F94D969678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ance/Conformance Testing/Co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/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T, SUT, repeatability,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F35-FB9A-44A8-9EA8-8FD719A085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743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280" y="4495680"/>
            <a:ext cx="449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nformance Testing (User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nformance Testing (Network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onformance Testing of NNI (symmet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a 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b Interworking (UNI to N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Interoperability of TE and Switc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nteroperability of Switch 1 and Switc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24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32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36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74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718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32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2744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6576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516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712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1905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412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98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1680" y="144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184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92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2C5-99AF-4D2B-B955-3C3C018444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3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432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136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48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9718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00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15200" y="29718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0440" y="3200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724280"/>
            <a:ext cx="1067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562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1600" y="5562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5D5-C9EF-4BB6-A39F-98F5D12320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(Speech via a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11560" y="276228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3581280"/>
            <a:ext cx="381240" cy="3812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362320"/>
            <a:ext cx="2895480" cy="28191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76720"/>
            <a:ext cx="990360" cy="99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4114800" cy="4038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447920"/>
            <a:ext cx="4724280" cy="46479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05740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97180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2286000" cy="2210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5410440" cy="5181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67A-C75A-4FDA-848B-6732D1A614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esence of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828800"/>
            <a:ext cx="4114800" cy="4038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23880"/>
            <a:ext cx="4724280" cy="4648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295280"/>
            <a:ext cx="5410440" cy="5181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66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2A4-9EF1-4037-A417-0AC6853CEF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79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2743200"/>
            <a:ext cx="2286000" cy="2209680"/>
            <a:chOff x="4724280" y="2743200"/>
            <a:chExt cx="2286000" cy="2209680"/>
          </a:xfrm>
        </p:grpSpPr>
        <p:sp>
          <p:nvSpPr>
            <p:cNvPr id="184" name=""/>
            <p:cNvSpPr/>
            <p:nvPr/>
          </p:nvSpPr>
          <p:spPr>
            <a:xfrm>
              <a:off x="5715000" y="3657240"/>
              <a:ext cx="380880" cy="3808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3352680"/>
              <a:ext cx="990720" cy="99000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04776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274320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1AA-0802-4631-AFDD-62EA0D6DF3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David Cypher</cp:lastModifiedBy>
  <cp:lastPrinted>1999-11-03T18:52:39Z</cp:lastPrinted>
  <dcterms:modified xsi:type="dcterms:W3CDTF">1999-11-09T20:56:45Z</dcterms:modified>
  <cp:revision>10</cp:revision>
  <dc:subject/>
  <dc:title>No Slide Title</dc:title>
</cp:coreProperties>
</file>