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3421-219F-406C-BE2F-DD8C69644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FA42-03C8-4008-B00A-510EF246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975C-7385-44A9-825E-796BFC71E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A7FB-B99B-4975-BA40-C97AC85E4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A650-FE72-4F64-8E41-4F8E5081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0458-1FB7-4B8E-97D7-1ECC3DE3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FF58-A19A-4575-8410-DCEBD8D1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D1D5-AD50-4B73-914F-6EC2DBC2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C63B-5B8C-48D6-8637-5E7FFEDC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5942-21D7-48EF-8987-33410BBF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5D4E-A401-4710-8740-A9751D3D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E976-6FCC-43CA-83C5-850D12C6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B2C888A-795A-408D-A4A3-12741C25B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142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ing Committe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ua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 11,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Intersil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D6AB-C269-4C56-AF46-EFA293B191A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87880" y="563400"/>
            <a:ext cx="7675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genda-Thursday, November 11, 1999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8:30 - 10:00 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Meeting to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ee upon action items for Ad-hoc Membership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 membership into sub-committ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discussion leader/secre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to main room for reports from sub-committ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Busines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Intersil and Ian Gifford, M/A-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A866-525D-4FC3-8A29-CE6AA9CBF5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ursday Marketing Work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123920"/>
            <a:ext cx="86104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Topics will be discussed in Grand 5 meeting room from 8:45 to 9: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Provide a Position Paper to the IEEE on the TG1 perceived Publishing Procedure for a Joint Standard,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raft by Janu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List of suggested “Marketing Material” to support the IEEE Draft e.g., Handbook, Companion, Pocket Guides, etc. ,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efinitions, audience, content, format, commercial pubs; draft by Janu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) Determine if there are other SDO’s that might also be interested in paralleling the TG1 work, if ETSI remains undecided.;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rainst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) Trademark “WPAN” , protect URL;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enerate l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)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 website;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Suggest website ed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opic will be discussed in Garden Isle Lounge from 8:45 to 9: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) Support High Rate effort ;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rainsto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s reconvene in Grand 5 from 9:45 to 10:00 to consolidate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Intersil and Ian Gifford, M/A-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20D6-9F4D-4550-A529-29CE669E373A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838080"/>
            <a:ext cx="8686800" cy="56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) Provide a Position Paper to the IEEE on the TG1 perceived Publishing Procedure for a Joint Standar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an Gifford will prepare the initial draft and distribute via the reflector. Further discussion will be scheduled for the January interim mee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) List of suggested “Marketing Material” to support the IEEE Draft e.g., Handbook, Companion, Pocket Guides, et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ia liaison letter through WG to BT SIG, request starting material from BT SIG that could be used in an introductory document to complement the standar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search commercial companion publications that might be avail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egin preparing tutorial material for the Exco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) Determine if there are other SDO’s that might also be interested in paralleling the TG1 work, if ETSI remains undecid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1. Pursue resoution within ETSI as best altern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2. Explore completion of standard within IE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3. As a back up, consider using IETF but don’t pursue immediately, wait to see how previous two options evol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) Trademark “WPAN” 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dd other key terms and  UR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)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tain web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se website more extensively to post status and solicit feed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opic will be discussed in Garden Isle Lounge from 8:45 to 9: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) Support High Rate effor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dd to reflector; Generate press release; Details Contained in doc:IEEE802.15-99145r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82560" y="533520"/>
            <a:ext cx="32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 of Discu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Intersil and Ian Gifford, M/A-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FADB-B8F9-4F6A-99AA-8D044399460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8T16:56:24Z</dcterms:created>
  <dc:creator>Ian Gifford, M/A-COM &amp; Bruce Kraemer, Harris</dc:creator>
  <dc:description>031r1</dc:description>
  <dc:language>en-US</dc:language>
  <cp:lastModifiedBy>Bruce Kraemer</cp:lastModifiedBy>
  <cp:lastPrinted>1998-02-10T13:28:06Z</cp:lastPrinted>
  <dcterms:modified xsi:type="dcterms:W3CDTF">1999-11-11T23:08:33Z</dcterms:modified>
  <cp:revision>81</cp:revision>
  <dc:subject>IEEE 802.15 Marketing</dc:subject>
  <dc:title>IEEE P802.15 Working Group for Wireless Personal Area Networks</dc:title>
</cp:coreProperties>
</file>