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805EDE-0653-4E8A-86B9-B1F45288D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A87-AC33-4583-B45A-4D41067E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D7C-9213-49A5-9821-26752BFD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93E-644F-405A-B563-1FF3A28E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605-9820-4BCC-BADC-90FB2F11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705-6181-498A-9FFC-CAF64A47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6C6-BDF2-4BFB-8129-0D084A98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E83-64FD-402C-8223-04EAC2FD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3E9-0816-4D5B-B665-0986EF88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F03-BB5C-424E-8A26-00D53229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A6F-8D4B-419D-8902-074B3AEF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947-58A7-48C0-B51E-E83EF709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16E-7F9B-4F8D-A81E-05E3FE0A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7E0261-7A70-4582-B5EB-FFCFB1BAE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4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ednesday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33D-1E7D-4588-A940-0213666C79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a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BAB-9038-4A8A-80B1-66351A3DA9B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4880" y="1619280"/>
            <a:ext cx="7951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I move to submit the contents of document IEEE P802-15/D0.6 to Sponsor Ballot [default recirculation ballot]; Draft_0-6.zip, available v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31840" y="3643200"/>
            <a:ext cx="1730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an Giff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, -99/113r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97360" y="313848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50% (Proced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381-6EDA-4DEC-8EF9-28B706AA9BD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[LB1.zip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WG Letter Ballots of P802.15 in Adobe PDF, -99/112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Standard IEEE v0.6, P802-15/D0.6 in Adobe PDFs, Zip arch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 Ballot #1 of P802.15 in MS Word, -99/113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TG1 Editors, -99/060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me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562720"/>
            <a:ext cx="86104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point your Browser and download your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4A4-848A-4783-9476-EDD05ED99C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- WG Chair to send LB#1 e-mail announcement w/ LB to .15 Reflector on 11Nov99: stds-802-15@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- TG1 Chair to post LB1.zip and individual files to WG Web site (pr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- Voters need to vote and comment, if applicable before 10Dec99 11pm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- Send Ballot &amp; Comments to WG Chair and Technical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11B-2125-47F5-9582-1AD3F2A545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62A-B8DB-4120-AD38-4A48202EACB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8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9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11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A82-0739-4477-AB51-69A92800AC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7AD-AB13-40CF-B726-5A9482ACDC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69D-629B-4DD9-BFD2-432B6DD1A9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C0B-AE47-4F06-B2DA-064BCA600E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3:15pm and processed all of our Agenda Items and adjourned at 3:55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KERMANI TO BISDIKIAN VC REPLACEMENT -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TG1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DRAFT SUBMI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1E0-6D9B-4A81-9817-713180D385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1: I move to replace Parviz Kermani with Chatschik Bisdikian as IEEE P802.15 TG1 Vice Chair.  Forward to W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31480" y="3643200"/>
            <a:ext cx="1991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Mike McIn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Vice Ch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7360" y="313848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50% (Proced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3DB-2189-4FDE-A20B-B8A092F2BFF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9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10:00am and processed all of our Agenda Items and adjourned at 11:55am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2 TO SUBMIT DRAFT TO WG LB 10NOV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3 TO EMPOWER INTERIM 10-14JAN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WG LETTER BALLOT #1 DISTRIBUTIO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P802.15.1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WEDNESDAY DRAFT TG1 REPORT TO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50F-B808-4BF7-829A-45D8D25BB9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09480" y="4786200"/>
            <a:ext cx="7925040" cy="471600"/>
            <a:chOff x="609480" y="4786200"/>
            <a:chExt cx="7925040" cy="471600"/>
          </a:xfrm>
        </p:grpSpPr>
        <p:sp>
          <p:nvSpPr>
            <p:cNvPr id="82" name=""/>
            <p:cNvSpPr/>
            <p:nvPr/>
          </p:nvSpPr>
          <p:spPr>
            <a:xfrm>
              <a:off x="609480" y="4786200"/>
              <a:ext cx="7925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5257800"/>
              <a:ext cx="7925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09480" y="5862600"/>
            <a:ext cx="792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438280" y="2286000"/>
            <a:ext cx="5590440" cy="2286000"/>
            <a:chOff x="2438280" y="2286000"/>
            <a:chExt cx="5590440" cy="2286000"/>
          </a:xfrm>
        </p:grpSpPr>
        <p:sp>
          <p:nvSpPr>
            <p:cNvPr id="86" name=""/>
            <p:cNvSpPr/>
            <p:nvPr/>
          </p:nvSpPr>
          <p:spPr>
            <a:xfrm flipH="1">
              <a:off x="2438280" y="3047760"/>
              <a:ext cx="373392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6720" y="2286000"/>
              <a:ext cx="223200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eferral to W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mpower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514240" y="3200400"/>
            <a:ext cx="6369840" cy="2438280"/>
            <a:chOff x="2514240" y="3200400"/>
            <a:chExt cx="6369840" cy="2438280"/>
          </a:xfrm>
        </p:grpSpPr>
        <p:sp>
          <p:nvSpPr>
            <p:cNvPr id="89" name=""/>
            <p:cNvSpPr/>
            <p:nvPr/>
          </p:nvSpPr>
          <p:spPr>
            <a:xfrm flipH="1">
              <a:off x="2514240" y="3429000"/>
              <a:ext cx="533412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52800" y="3200400"/>
              <a:ext cx="13312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rop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DE7-458B-4CDC-884E-397235F22A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11T02:39:34Z</dcterms:modified>
  <cp:revision>52</cp:revision>
  <dc:subject>IEEE 802.15 TG1 Report #2</dc:subject>
  <dc:title>IEEE P802.15 Working Group for Wireless Personal Area Networks</dc:title>
</cp:coreProperties>
</file>