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350-7FCC-4B1D-8691-98B5BEF8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2C8-6B02-4F74-B99B-603DBDDE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172-6C0D-4E74-B70F-A7787897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502-A4F0-4266-B72F-2E972630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B75-A3FC-4781-8143-1AD27242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8F3-3412-4B82-9382-F1A41926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009-847A-4446-A101-A2C8EB25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B66-603A-49CB-A33B-0AE812B4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880-0A57-40B4-9C04-58B8C9B8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B57-3B26-471B-88B2-903F25BE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461-6606-4EFD-9E94-94CA5C9E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695-4D91-4290-8170-4AB71EDB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D25260F-410F-4BE2-BD86-7C92919FC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3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-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--on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 Perspectives Column-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dition of Personal Communications Magazine-Dec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Feb 2000 with rewritten arit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Briefing: Global Wireless 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article in Dr. Dobb’s Jou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article in Mobile Computing and Communications Review (M2CR) Feb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41B-8DF5-416B-9246-BA2ED20A3B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Eng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AC/PC   ---Chiba, Japan Ma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99 Developers Conference  ---London, Jun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45, MobileIP WG ---Oslo, Norway, 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WCON  ---Denver,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WC  ---San Francisco, October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f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ling Standards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ID News magaz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E743-7DFA-478A-82A0-E8429DCD43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3:16:34Z</dcterms:created>
  <dc:creator>Bob Heile</dc:creator>
  <dc:description/>
  <dc:language>en-US</dc:language>
  <cp:lastModifiedBy>Rober F. Heile</cp:lastModifiedBy>
  <dcterms:modified xsi:type="dcterms:W3CDTF">1999-11-08T18:50:20Z</dcterms:modified>
  <cp:revision>4</cp:revision>
  <dc:subject/>
  <dc:title>Nov Marcom update</dc:title>
</cp:coreProperties>
</file>