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5755CD-DA8A-46A7-9431-4F6CDE0B3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C67-8181-43B3-B1D8-ECBBAE6E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F70-9C41-45D1-9065-B016A4F0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D24-4875-4B5A-A58C-E17AE2BA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1DD-4A82-44AD-A3AB-4D64C287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B00-7A53-406F-8852-BACE252A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C5C-0423-4AAB-A458-A685396D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AFE-76CE-4FDE-BD5F-40FDC319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59C-CD74-4B8D-BCB1-4345C93C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D62-9CFF-44B7-8FB2-1F728475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8C0-11AA-4A1B-9B07-206BBA9E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535-EB33-4596-9385-7551EEB4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221-77E6-40C2-BB67-ECE9AD9D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17CC570-2E6E-40DF-9628-20D7B6244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0B0-13B3-442B-B0E8-6B8D7D00B28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834-1837-4D5E-8E11-0DFDAF631C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1C1-BED6-4D89-BF66-06876DC829F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469-3890-4A7F-BF8F-E3FD8B89D4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Draft Submission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802-15/D0.6 [...P802-15-1_D0-6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“how to” review the P802.15.1 Draft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ing Plenary Conference Tutorial #3 on Tuesday 9Nov99 from 6:30 to 8:00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THE P802.15 v0.6 DRAFT STANDARD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ARCHITECTURE OVERVIEW -99/069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THE BLUETOOTH SPEC. TO IEEE 802.15.1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802.15.1 V0.6 DRAFT STANDARD OVERVIEW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0DE-ADE9-411C-809D-3BC21756B2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193-0705-400B-B69D-8A35ADA3536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G1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LB #1 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3 - Electronic or empower Tel-Aviv for Commen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4 - OR Status for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05B-2CEA-4D82-82CD-D9792A7EFD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: Posted P802.15.1 Draft 4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743200" y="27432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her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d to the P802.15 Privat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189-D99D-418C-9715-0AF979B19F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Our plan is to start the Letter Ballot #1 Process on 1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9718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make a motion 10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to  release LB#1 on 11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D29-43AD-4267-AE88-FE8ADD4F2C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is to stop the Letter Ballot #1 Process on 10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0Dec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B Comments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EE3-CCD7-44D3-B199-617155B12A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Nov99 the P802.15 Working Group will be comprised of 42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uart Kerry (Stua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Thomas Müller (Thom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eter Murray (Pet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378468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28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9080" y="112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Resignation prior to the LB #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438-1A35-4D43-8B03-EB0F68926C38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#1 Motion Detail &amp; WG Ballot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-IEEE Editorial Working Group Drafting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2EE-F090-4920-924D-12992F5A02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T-IEEE Editorial Working Group Drafting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0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1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2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3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3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4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5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1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hief Editor/6 Technical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Bluetooth Promoter Company Reviewers w/ internal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0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6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8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3F1-1015-4DE5-A29B-ED46F118F5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N OVERVIEW OF THE BLUETOOTH SPECIFICATION(S), VIA 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 PLAN FOR AN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TE TO EMPOWER THE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BEA-A858-44DB-B9CB-F5E5F502E0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Vote on TG1 Draft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17A-0B9D-4AAC-B739-4462FA0A4DE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057400"/>
            <a:ext cx="6426360" cy="3809880"/>
            <a:chOff x="1371600" y="2057400"/>
            <a:chExt cx="6426360" cy="3809880"/>
          </a:xfrm>
        </p:grpSpPr>
        <p:graphicFrame>
          <p:nvGraphicFramePr>
            <p:cNvPr id="68" name=""/>
            <p:cNvGraphicFramePr/>
            <p:nvPr/>
          </p:nvGraphicFramePr>
          <p:xfrm>
            <a:off x="1371600" y="2057400"/>
            <a:ext cx="642636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2057400"/>
                      <a:ext cx="642636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733920" y="5029200"/>
            <a:ext cx="2197080" cy="54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5029200"/>
                      <a:ext cx="219708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809880" y="3505320"/>
            <a:ext cx="2370240" cy="1469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3505320"/>
                      <a:ext cx="237024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809880" y="3048120"/>
            <a:ext cx="3054600" cy="1481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9880" y="3048120"/>
                      <a:ext cx="3054600" cy="14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3048120" y="2743200"/>
            <a:ext cx="4255920" cy="131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48120" y="2743200"/>
                      <a:ext cx="4255920" cy="13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2057400" y="2743200"/>
            <a:ext cx="3970440" cy="1508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2743200"/>
                      <a:ext cx="3970440" cy="15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639720" y="6208560"/>
            <a:ext cx="685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802.15-99/071r0, "Mapping the Bluetooth Specification to IEEE 802.15.1", Tom Siep,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3827520" y="2685960"/>
            <a:ext cx="148896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8520" y="35053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44080" y="1828800"/>
            <a:ext cx="26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Abstract Networ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E58-3D44-4D7E-9E94-2AEC8AAE648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G1 Issue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ink that our efforts would really be wasted if we develop an 802.15.1 standard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oo late to be relevant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s (but not leveraged by) the original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nfusing to the people that are already familiar with the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tentionally deviates from the original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 v0.6 standard is 1:1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183-F033-4AC8-8BEA-82FBBF1808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Main Outline Overview (D0.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s 1 through 4: IEEE-required reference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5: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6: PHY (Direct copy of Part A, Radio Specification [1.0a]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7: MAC Short introduction, follow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1 (Direct copy of Part B, Baseband Specification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2 (Direct copy of Part C, Link Manager Protocol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3 (Direct copy of Part D, Logical Link Control and Adaptation Protocol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8: Service Access Points (General Material and one example of how SAPs will be document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A: Placeholder for Protocol Implementation Conformance Statement (P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B: Placeholder for MAC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C: Placeholder for PHY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nnex D: Generic Access Profile (Direct copy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E: Bibliography (incomple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C72-CC81-4DB1-B8DE-613AC9D2B2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SI RF to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06560" y="1981080"/>
            <a:ext cx="7121160" cy="4149360"/>
            <a:chOff x="1006560" y="1981080"/>
            <a:chExt cx="7121160" cy="4149360"/>
          </a:xfrm>
        </p:grpSpPr>
        <p:sp>
          <p:nvSpPr>
            <p:cNvPr id="91" name=""/>
            <p:cNvSpPr/>
            <p:nvPr/>
          </p:nvSpPr>
          <p:spPr>
            <a:xfrm>
              <a:off x="1200600" y="4574520"/>
              <a:ext cx="2201040" cy="25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L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00600" y="4834080"/>
              <a:ext cx="2201040" cy="258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00600" y="5093280"/>
              <a:ext cx="1488960" cy="518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00600" y="4574520"/>
              <a:ext cx="1488960" cy="51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00600" y="405612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00600" y="353700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0600" y="301860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00600" y="249984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00600" y="198108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6560" y="5612040"/>
              <a:ext cx="187740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401640" y="3990600"/>
              <a:ext cx="142416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89560" y="5612040"/>
              <a:ext cx="21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911120" y="1981080"/>
              <a:ext cx="3216600" cy="3630600"/>
              <a:chOff x="4911120" y="1981080"/>
              <a:chExt cx="3216600" cy="3630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911120" y="5250960"/>
                <a:ext cx="2462400" cy="360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11120" y="4808160"/>
                <a:ext cx="2462400" cy="38736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11120" y="3975840"/>
                <a:ext cx="602640" cy="776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63800" y="4392360"/>
                <a:ext cx="1809720" cy="360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63800" y="3975840"/>
                <a:ext cx="1155600" cy="360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11120" y="2868480"/>
                <a:ext cx="2311560" cy="105192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11120" y="2424240"/>
                <a:ext cx="6742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52720" y="2424240"/>
                <a:ext cx="4636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67880" y="2424240"/>
                <a:ext cx="107856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70600" y="2424240"/>
                <a:ext cx="1256760" cy="19220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11120" y="1981080"/>
                <a:ext cx="3216600" cy="360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16960" y="324828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7809800">
                <a:off x="7033680" y="3229200"/>
                <a:ext cx="100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6120" y="160020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7320" y="17524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/OSI Referenc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E74-7C35-4FDC-A69B-97BE826819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Bluetooth to IEEE P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2120" y="1905120"/>
            <a:ext cx="7520040" cy="4266720"/>
            <a:chOff x="762120" y="1905120"/>
            <a:chExt cx="7520040" cy="4266720"/>
          </a:xfrm>
        </p:grpSpPr>
        <p:grpSp>
          <p:nvGrpSpPr>
            <p:cNvPr id="122" name=""/>
            <p:cNvGrpSpPr/>
            <p:nvPr/>
          </p:nvGrpSpPr>
          <p:grpSpPr>
            <a:xfrm>
              <a:off x="762120" y="1905120"/>
              <a:ext cx="3786120" cy="4266720"/>
              <a:chOff x="762120" y="1905120"/>
              <a:chExt cx="3786120" cy="4266720"/>
            </a:xfrm>
          </p:grpSpPr>
          <p:sp>
            <p:nvSpPr>
              <p:cNvPr id="123" name=""/>
              <p:cNvSpPr/>
              <p:nvPr/>
            </p:nvSpPr>
            <p:spPr>
              <a:xfrm>
                <a:off x="762120" y="5748120"/>
                <a:ext cx="2898720" cy="423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2120" y="5227560"/>
                <a:ext cx="2898720" cy="4550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120" y="4249440"/>
                <a:ext cx="709560" cy="9126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30360" y="4738680"/>
                <a:ext cx="2130480" cy="423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30360" y="4249440"/>
                <a:ext cx="1360440" cy="42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120" y="2948040"/>
                <a:ext cx="2720880" cy="123624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2120" y="2425680"/>
                <a:ext cx="79380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35120" y="2425680"/>
                <a:ext cx="5461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41720" y="2425680"/>
                <a:ext cx="12697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68640" y="2425680"/>
                <a:ext cx="1479600" cy="22586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2120" y="1905120"/>
                <a:ext cx="3786120" cy="423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45440" y="3462120"/>
                <a:ext cx="55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809800">
                <a:off x="3363480" y="363744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462640" y="2361960"/>
              <a:ext cx="281952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6 (R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2640" y="2819160"/>
              <a:ext cx="2819520" cy="1523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Baseband, Lin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r, L2C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2640" y="190512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1-5 (Intr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62640" y="434340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8 (S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62640" y="4800600"/>
              <a:ext cx="2819520" cy="12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A: Placeholder for P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B: Placeholder for MAC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C: Placeholder for PHY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D: Generic Access 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E: Bibliography (incomplete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807080" y="2438280"/>
              <a:ext cx="426960" cy="182844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1320" y="152388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5480" y="167652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Draft 0.6 Abstract T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6E9-58AF-4E8D-A6B6-E9C89D054A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23</dc:description>
  <dc:language>en-US</dc:language>
  <cp:lastModifiedBy>Ian C. Gifford</cp:lastModifiedBy>
  <cp:lastPrinted>1998-02-10T13:28:06Z</cp:lastPrinted>
  <dcterms:modified xsi:type="dcterms:W3CDTF">1999-11-10T23:22:45Z</dcterms:modified>
  <cp:revision>46</cp:revision>
  <dc:subject>IEEE 802.15 TG1 Report #2</dc:subject>
  <dc:title>IEEE P802.15 Working Group for Wireless Personal Area Networks</dc:title>
</cp:coreProperties>
</file>