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101-CC27-4360-A977-435353A4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B46-60E1-4C3A-8620-D3780103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C2F-46FA-47B8-8526-7F8A7607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0E8-82FF-4AF2-B8F3-E75C3DBD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2E9-CA6B-497C-8FC4-A0C2F5C0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367-2DD5-4F90-8F3D-58334A0C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053-5527-4FA7-BF09-C46DAD46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8F6-EEA0-4A77-AA8D-236BFC76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5C4-B6B1-45C2-A2A8-ACEE246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80A-572A-47FE-B323-BE0C733A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C7C-D996-4FD9-A332-4CD29EBB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CFE-D32D-4A34-923C-CC0B684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9CD275-4967-42F6-BD53-55367A4E5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0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244-4E83-4D0E-9565-9A33A318F42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Marketing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MC Purpose, Objectives and 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Plans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Marcom campa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 marketing of 802.15 with Bluetooth 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Position paper to the IEEE on the proposed Publishing procedure for a TG1 Join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 “Marketing Material” to support the IEEE Draft, e.g., Handbook, Companion, Pocket Guid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liaison with ETSI but also determine if there are alternate SDO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relevant “WPAN” terms and U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joint 802 and BT Press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High R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1400" y="5791320"/>
            <a:ext cx="63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quested membership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26D-A2A1-49D4-AB8E-65F2CB18B2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2920" y="990720"/>
            <a:ext cx="877248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1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the charter of the 802.15 Marketing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xtended to the March’00 Plen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760" y="2819520"/>
            <a:ext cx="868032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2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802.15 request the IEEE  to immediately proceed with tradema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 of WPAN and WP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760" y="4695840"/>
            <a:ext cx="868032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the 802.15 Executive Committee be empowered to  proceed with additional trademark and URL registration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040-7FA2-48BA-B177-4961C52D7BA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uce Kraemer</cp:lastModifiedBy>
  <cp:lastPrinted>1998-02-10T13:28:06Z</cp:lastPrinted>
  <dcterms:modified xsi:type="dcterms:W3CDTF">1999-11-10T22:59:31Z</dcterms:modified>
  <cp:revision>82</cp:revision>
  <dc:subject>IEEE 802.15 Marketing</dc:subject>
  <dc:title>IEEE P802.15 Working Group for Wireless Personal Area Networks</dc:title>
</cp:coreProperties>
</file>