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EA10-D79A-42D0-8521-C6B0D8767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79B2-FAF1-4F60-93E4-6D9BA090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875E-F83D-4806-A9DE-25B75030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9AE4-18C7-4281-AFF5-3C991F74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9562-D6F0-4F5E-9985-6773A28D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19EF-40B6-4A0A-8040-9AC7453F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A633-54C0-4DF8-AFDE-B44DC825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1CEF-7FDB-49A9-9395-D9C22E60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2366-5165-4968-92BE-2A5EF20E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AD7B-2ACE-44CA-88C7-BC7EF923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DB33-65F7-4C50-A77F-65CFD334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20AE-28B2-41C7-8CA1-F7C60941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BA0DD0F-5C18-447B-A29B-8661E52CC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108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uai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 8-11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B3AA-47B0-4448-9EB4-0A947BC7BE5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74560" y="685800"/>
            <a:ext cx="576324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genda –Tuesday, November 9, 1999       Defer to new High Rate Grou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genda-Wednesday, November 10, 1999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8:30 - 10:30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Meeting to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endance check- introduc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view of Marketing committee charter/objectiv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vents and progress since July/September meet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posed tasks for the week in Kaua’i, Hawa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Discuss Submission -99/13xr0, An update on the  “ TG1 requests to MC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Discuss Submission -99/13xr0, An update on “P802.15.1 MARCOM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g., SIG, Collateral, "Handbook to P802.15.1 Project", Un-plugfest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greement on tasks and individual/group assignments for Thurs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sub-committee meeting arrangements as need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genda-Thursday, November 11, 1999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8:30 - 10:30 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Meeting to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inuation of above i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por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mmendation on MC char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view preparations for Thursday .15 ful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C859-1729-4BED-A0A6-6997C8430A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s of the WPAN Marketing 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 and maintain the application and usage scenarios generated by the CF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 the formulation of documentation that clearly &amp; distinctly differentiates the purposes and services of the various IEEE WPA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the dissemination of information about IEEE 802.15 Working Group activities internally (among 802 working groups) and externally (among the electronics industr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802.15 task groups in reaching convergence and consensus on technical require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how best to promote the public demonstration of interoperability between products built using 802.15 standar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nd maintain liaisons with other selected industry marketing groups (e.g. Bluetooth, HomeRF) and standards bodies (e.g ETS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ter two-way communications between suppliers and consumers of WPAN produc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e and foster creation of value-added industry marketing groups as appropriate (e.g. Gigabit Ethernet Alliance, http://www.gigabit-Ethernet.org/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7862-B70A-440F-95FA-79947F0219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16:56:24Z</dcterms:created>
  <dc:creator>Ian Gifford, M/A-COM &amp; Bruce Kraemer, Harris</dc:creator>
  <dc:description>031r1</dc:description>
  <dc:language>en-US</dc:language>
  <cp:lastModifiedBy>Ian C. Gifford</cp:lastModifiedBy>
  <cp:lastPrinted>1998-02-10T13:28:06Z</cp:lastPrinted>
  <dcterms:modified xsi:type="dcterms:W3CDTF">1999-11-08T23:08:28Z</dcterms:modified>
  <cp:revision>46</cp:revision>
  <dc:subject>IEEE 802.15 Marketing</dc:subject>
  <dc:title>IEEE P802.15 Working Group for Wireless Personal Area Networks</dc:title>
</cp:coreProperties>
</file>