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C8545-CC11-4DDA-B541-2F5F70FA0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6336-097B-49F9-8441-96F66FDDE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F1EDA-2DB4-4754-9801-3E60FB54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A7975-506C-4E41-88E2-004AEC45D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E745-D81B-4B55-BAEC-D2C9B570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B6A0-0485-419E-B34B-8E24D5194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0E5E-1C9C-4284-AF7A-622635C6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7E29-425A-448C-A4BE-E8C28337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17D0-E184-47DC-9A36-E2F9CADE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590F-DEA1-4FD6-86CB-F6DBC4D3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4A121-E394-4AFD-A609-D08B360A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1B4AA-605C-48B2-8CF5-FE862FD7A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F18738-5A2C-4257-9324-402C0388F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Report to the Excom on Coexistence S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F. Heile] Company [GTE Technology Orga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G on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G Status and Proposal for Opera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olicit  Excom approval on the formation of a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B5951FCC-5992-4DFF-A110-D269505DFECD}"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existence Study Group would become a Task Group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aisons from 802.11 would be able to vote in the Task Group since they have voting rights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the group would be reported at the regularly scheduled 802.11/802.15 joint session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00F096E6-1F19-450B-8ADD-B059297666CB}"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draft Recommended Practice was ready for letter ballot it would be submitted to both the 802.15 and the 802.11 Working Groups for separate letter ballo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the Recommended Practice to be forwarded to the Executive Committee for Sponsor ballot, the letter ballot must pass in both Working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DB3CC82-418E-4787-AAC5-D9699D9AD4E7}"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C45BE013-04FA-40EB-A136-8D3BDA3413EF}"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76668F5D-9341-4187-8EDD-10E8A42C7287}"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existence</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wireless devices are said to “coexist” if they can be collocated without significantly impacting the performance of any of these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E5F53A1-4613-4F3F-AF15-C6CA4B1EB1BA}"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currently defines three levels of interoperabil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ly exchanging two interoperable devices causes no damage to the devi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our definition of coexist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evices can exchange dat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llow but not require interoperability as a coexistence mechanism.</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D84D7C5-53A3-4E93-8B30-03CDD7C8B157}"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AFBEB57-D8C8-4497-852B-E2EBF8DF21D6}"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ff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data traffic flow based upon different application scenarios for both the WLAN and WPAN network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traffic</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transfe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ata collect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mp; Other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5EA46071-20D7-46BB-99FA-09CD860E445F}"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WLAN and WPAN MAC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that with the Data Traffic models to determine when each of the networks are transmitting da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EA02410-A8E3-439A-9711-A61A903DA718}"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Propagation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RF signal power levels at the different WPAN and WLAN nodes based on an RF propagation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ifferent application scenarios and physical distribution of devic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E7514B2B-FCC5-4BDF-B8DB-C78CF6579744}"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5553F959-3BA1-4D1D-B584-C0E7DED24C2B}"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184A245-7BCD-4DE5-B3B3-652C07976972}"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existence Model for the 2.4 band, that we can all agree to, which will help us assess the issues of Coexistence in a more quantitative way</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option selections from the existing 2.4 band standards that would further coexistence (much like writing a profile)</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3901112-A888-45EB-8169-3F13C05C51BB}"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guidebook on band etiquette so that as new standards are developed or existing standards are enhanced, there is an organized way to improve the coexistence environmen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 how multi-mode radios in the 2.4 band should go about the task of deciding what mode to be in and how to exchange information and data between environm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A4D56B5-EF28-4C07-A0AB-5807FAB688C9}"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proposed Task Group would be a set of Recommended Practic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0FA4908D-9FC7-4707-8E4E-D308F56753A0}"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00AC7599-6361-4D9E-9EB1-9BE9436E544E}"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9"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1"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2"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3"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4"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B278D8A5-1B68-4EA6-8971-DF43D204715E}" type="slidenum">
              <a:t>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ogether the four parts of the model to predict the impact on the WPAN and WLAN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t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3F126FB5-2964-438B-B79B-37FA7EF838FC}"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3:23:06Z</dcterms:created>
  <dc:creator>Rober F. Heile</dc:creator>
  <dc:description>&lt;doc#&gt;</dc:description>
  <dc:language>en-US</dc:language>
  <cp:lastModifiedBy>Rober F. Heile</cp:lastModifiedBy>
  <cp:lastPrinted>1999-09-14T16:44:21Z</cp:lastPrinted>
  <dcterms:modified xsi:type="dcterms:W3CDTF">1999-11-08T19:13:17Z</dcterms:modified>
  <cp:revision>6</cp:revision>
  <dc:subject>IEEE 802.15 &lt;subject&gt;</dc:subject>
  <dc:title>No Slide Title</dc:title>
</cp:coreProperties>
</file>