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D7C45B-AACB-4A07-9F02-1F1D93FE2B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65BD03-489B-47BA-9E43-CF2F79406B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EA67A6-A3F5-4F52-A3C4-94EC07B773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5C8C4F-B20D-4F6B-8DB3-960E50BF63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80BA4D-A45D-4AE1-ACC5-40818D6669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F49FF0-95E8-4EBD-8CC3-875E74012D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A100C6-6D5B-467E-B691-18E93926EB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856674-657C-441E-8CAA-BE49EFBF7A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C2E1C0-FB21-4074-ADA6-036C197F7C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4901A6-9230-4B4B-BB96-A6495F0F4F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991293-9A2A-49C8-8635-9D60B34BF3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CA4BB9-4547-4A10-98E2-25C05717B0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789AFCB-DE51-4B18-90BA-DB1D1E910D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99/133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152280" y="990720"/>
            <a:ext cx="8991720" cy="4233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P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Ad Hoc WPAN-High Rate meeting Agenda</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November 8, 1999</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James D. Allen]    Company: [Eastman Kodak C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1669 Eastman Ave. Rochester, NY, 14650-2015]</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716) 588-1906], FAX: [(716) 722-9053], E-Mail:[jimallen@kodak.com]</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Agenda for Ad Hoc Meeting on High Rate WAPN</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P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Jim Allen, Eastman Kodak</a:t>
            </a:r>
          </a:p>
        </p:txBody>
      </p:sp>
      <p:sp>
        <p:nvSpPr>
          <p:cNvPr id="3" name="PlaceHolder 2"/>
          <p:cNvSpPr>
            <a:spLocks noGrp="1"/>
          </p:cNvSpPr>
          <p:nvPr>
            <p:ph type="sldNum" idx="3"/>
          </p:nvPr>
        </p:nvSpPr>
        <p:spPr/>
        <p:txBody>
          <a:bodyPr/>
          <a:p>
            <a:fld id="{B84B7028-C73C-4539-9E12-9631A66A7A64}" type="slidenum">
              <a:t>1</a:t>
            </a:fld>
          </a:p>
        </p:txBody>
      </p:sp>
      <p:sp>
        <p:nvSpPr>
          <p:cNvPr id="4" name="PlaceHolder 3"/>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838080" y="7621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genda</a:t>
            </a:r>
            <a:br>
              <a:rPr sz="2800"/>
            </a:br>
            <a:r>
              <a:rPr b="0" lang="en-US" sz="2800" spc="-1" strike="noStrike">
                <a:solidFill>
                  <a:srgbClr val="000000"/>
                </a:solidFill>
                <a:latin typeface="Times New Roman"/>
              </a:rPr>
              <a:t>WPAN - High Rate SG (Ad Hoc)</a:t>
            </a:r>
            <a:br>
              <a:rPr sz="2800"/>
            </a:br>
            <a:r>
              <a:rPr b="0" lang="en-US" sz="1600" spc="-1" strike="noStrike">
                <a:solidFill>
                  <a:srgbClr val="000000"/>
                </a:solidFill>
                <a:latin typeface="Times New Roman"/>
              </a:rPr>
              <a:t>Tuesday Nov. 9, 1999</a:t>
            </a:r>
            <a:endParaRPr b="0" lang="en-US" sz="1600" spc="-1" strike="noStrike">
              <a:solidFill>
                <a:srgbClr val="000000"/>
              </a:solidFill>
              <a:latin typeface="Times New Roman"/>
            </a:endParaRPr>
          </a:p>
        </p:txBody>
      </p:sp>
      <p:sp>
        <p:nvSpPr>
          <p:cNvPr id="47" name=""/>
          <p:cNvSpPr/>
          <p:nvPr/>
        </p:nvSpPr>
        <p:spPr>
          <a:xfrm>
            <a:off x="838080" y="213372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 to order</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roductions and collection of name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mmary of Wednesday’s presentation</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A Session</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ank discussion on merits/problems/concerns</a:t>
            </a:r>
            <a:endParaRPr b="0" lang="en-US" sz="20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ose sub-teams and leader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ose actions and meetings for SG (for next 4 month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journ</a:t>
            </a:r>
            <a:endParaRPr b="0" lang="en-US" sz="24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 name="PlaceHolder 1"/>
          <p:cNvSpPr>
            <a:spLocks noGrp="1"/>
          </p:cNvSpPr>
          <p:nvPr>
            <p:ph type="ftr" idx="2"/>
          </p:nvPr>
        </p:nvSpPr>
        <p:spPr/>
        <p:txBody>
          <a:bodyPr/>
          <a:p>
            <a:r>
              <a:t>Jim Allen, Eastman Kodak</a:t>
            </a:r>
          </a:p>
        </p:txBody>
      </p:sp>
      <p:sp>
        <p:nvSpPr>
          <p:cNvPr id="3" name="PlaceHolder 2"/>
          <p:cNvSpPr>
            <a:spLocks noGrp="1"/>
          </p:cNvSpPr>
          <p:nvPr>
            <p:ph type="sldNum" idx="3"/>
          </p:nvPr>
        </p:nvSpPr>
        <p:spPr/>
        <p:txBody>
          <a:bodyPr/>
          <a:p>
            <a:fld id="{5D55F92C-BA8D-4B25-9E17-568FDADF3E51}" type="slidenum">
              <a:t>2</a:t>
            </a:fld>
          </a:p>
        </p:txBody>
      </p:sp>
      <p:sp>
        <p:nvSpPr>
          <p:cNvPr id="4" name="PlaceHolder 3"/>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1-09T01:41:43Z</dcterms:created>
  <dc:creator>Jim Allen</dc:creator>
  <dc:description>99/133r0</dc:description>
  <dc:language>en-US</dc:language>
  <cp:lastModifiedBy>Rober F. Heile</cp:lastModifiedBy>
  <cp:lastPrinted>1998-02-10T13:28:06Z</cp:lastPrinted>
  <dcterms:modified xsi:type="dcterms:W3CDTF">1999-11-09T15:36:26Z</dcterms:modified>
  <cp:revision>2</cp:revision>
  <dc:subject>IEEE 802.15 &lt;subject&gt;</dc:subject>
  <dc:title>Ad Hoc WPAN-High Rate Agenda-Nov 9, 1999</dc:title>
</cp:coreProperties>
</file>