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DE2CBC-4ECF-426F-9B21-DCBF7BAE9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701640"/>
            <a:ext cx="4626000" cy="3468600"/>
          </a:xfrm>
          <a:prstGeom prst="rect">
            <a:avLst/>
          </a:prstGeom>
          <a:ln w="0">
            <a:noFill/>
          </a:ln>
        </p:spPr>
      </p:sp>
      <p:sp>
        <p:nvSpPr>
          <p:cNvPr id="1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ate: Tue, 7 Sep 1999 21:21:11 -0500</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From: Jim Carlo &lt;jcarlo@ti.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o: Ian Gifford &lt;giffordi@world.std.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c: Bob Heile &lt;bheile@bbn.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ubject: FW: FW: Network Setup Time for Santa Rosa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ee below:</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Note that this applies to IEEE Sponsor Ballo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Suggest that you put together the paperwork and a motion for the November</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meeting. First have 802.15 approve, then the SEC will approv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I will then forward to Standards Board for January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Jim Carlo(jcarlo@ti.com) Cellular:1-214-693-1776 Voice&amp;Fax:1-214-853-5274</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I Fellow, Networking Standards at Texas Instrumen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SO/IEC JTC1/SC6 Telecom and Info Exchange Between System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EEE802 LAN/MAN Standards Committe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117E0-E03B-4109-926E-0CED65192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D160-252F-434B-9023-3A6C9EAD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F281A-FC49-4AAD-8071-8B8E79324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320FD-1A1B-4A9B-8CEA-6A0EDE78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FFF1-8D2A-4CB7-AFEE-8F2B3EFC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FDD5-9958-44B3-A5B2-474E15E97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F0F29-6C17-4130-BFB1-7B3FCC89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0FDCE-99CB-48CC-9CEE-621215A6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FECCB-40C1-45CD-A0B3-6A4EA1A9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46CA-98BA-4707-8924-AEB5C7D6F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B1CE-7227-4CCC-888A-D78253CA2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A6B8F-DAFC-4B53-9994-37521DF3D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472BA9-B36C-493A-8188-F89A50110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orking Agend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Nov99 to 12Nov99</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tt Regency Kaua'i, 1571 Poipu Road Koloa, HI 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D1963B-B88F-4DAD-9043-1ADC0D711354}"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 Letter Ballot Analysi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Nov99 TG1 Posts Dra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4Nov99 to Wednesday 10Nov99 (7 D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v99 LB #1 Motion To Comm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10Nov99 to Thursday 9Dec99 (30 Days) or</a:t>
            </a:r>
            <a:endParaRPr b="0" lang="en-US" sz="2800" spc="-1" strike="noStrike">
              <a:solidFill>
                <a:srgbClr val="000000"/>
              </a:solidFill>
              <a:latin typeface="Arial"/>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ursday 11Nov99 to Friday 10Dec99 (3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93256EE-F03D-4608-94B3-51A1543EDF07}"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Letter Ballot Analysi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Dec99 LB #1 Motion Ends 11pm ES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Consolidate Comments </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13Dec99 to Thursday 16Dec99 (4 Day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Dec99 Distribute LB #1 Voting Results and, if any, Com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Resolu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Dec99?, 27-31Dec99?, 3-7Jan00?</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Jan00 Interim Meeting in Tel-Aviv?</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546AA10-594E-40BF-B68F-1519AC03FD1B}"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74880" y="1619280"/>
            <a:ext cx="79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 I move to submit the contents of document IEEE P802-15/D0.6 to Sponsor Ballot [default recirculation ballot]; Draft_0-6.zip, available vi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LB1/LB1.html</a:t>
            </a:r>
            <a:endParaRPr b="0" lang="en-US" sz="2400" spc="-1" strike="noStrike">
              <a:solidFill>
                <a:srgbClr val="000000"/>
              </a:solidFill>
              <a:latin typeface="Times New Roman"/>
            </a:endParaRPr>
          </a:p>
        </p:txBody>
      </p:sp>
      <p:sp>
        <p:nvSpPr>
          <p:cNvPr id="89"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a:t>
            </a:r>
            <a:endParaRPr b="0" lang="en-US" sz="3600" spc="-1" strike="noStrike">
              <a:solidFill>
                <a:srgbClr val="000000"/>
              </a:solidFill>
              <a:latin typeface="Times New Roman"/>
            </a:endParaRPr>
          </a:p>
        </p:txBody>
      </p:sp>
      <p:sp>
        <p:nvSpPr>
          <p:cNvPr id="91"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2"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BD8C4A23-EED7-460E-9BEB-C1D3596490CA}"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4880" y="1619280"/>
            <a:ext cx="795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3: I move to empower the P802.15 to conduct LB #1 Comment Resolution during the Interim Meeting in 10-14Jan00 in Tel-Aviv, Israel</a:t>
            </a:r>
            <a:endParaRPr b="0" lang="en-US" sz="2800" spc="-1" strike="noStrike">
              <a:solidFill>
                <a:srgbClr val="000000"/>
              </a:solidFill>
              <a:latin typeface="Times New Roman"/>
            </a:endParaRPr>
          </a:p>
        </p:txBody>
      </p:sp>
      <p:sp>
        <p:nvSpPr>
          <p:cNvPr id="94"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 Interim Empowerment</a:t>
            </a:r>
            <a:endParaRPr b="0" lang="en-US" sz="3600" spc="-1" strike="noStrike">
              <a:solidFill>
                <a:srgbClr val="000000"/>
              </a:solidFill>
              <a:latin typeface="Times New Roman"/>
            </a:endParaRPr>
          </a:p>
        </p:txBody>
      </p:sp>
      <p:sp>
        <p:nvSpPr>
          <p:cNvPr id="9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63E03CC7-52DD-44D9-B14E-CC7B1F42CA67}"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organizational representative (OR) membership category mea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IEEE standards development traditionally was on an individual basis. In addition, a spokesperson for the consensus of an organization, committee, segment of industry, or similar group could participate. OR status indicates that the representative is acting for the organization and not as an individual. The term of an organizational representative is granted for the life of the project described in the Project Authorization Request (PAR) (including reballots), and the IEEE-SA Standards Board reserves the right to terminate this voting privilege.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BD3585-84C8-4A88-90F1-592FE7302900}"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4880" y="1619280"/>
            <a:ext cx="795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4: I move to approve the Bluetooth SIG IEEE-SA Organizational Representative (OR) and/or IEEE 802 WPAN Ballot Group membership request.  Forward to SEC.</a:t>
            </a:r>
            <a:endParaRPr b="0" lang="en-US" sz="2400" spc="-1" strike="noStrike">
              <a:solidFill>
                <a:srgbClr val="000000"/>
              </a:solidFill>
              <a:latin typeface="Times New Roman"/>
            </a:endParaRPr>
          </a:p>
        </p:txBody>
      </p:sp>
      <p:sp>
        <p:nvSpPr>
          <p:cNvPr id="101"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10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EEE-SA OR Status</a:t>
            </a:r>
            <a:endParaRPr b="0" lang="en-US" sz="3600" spc="-1" strike="noStrike">
              <a:solidFill>
                <a:srgbClr val="000000"/>
              </a:solidFill>
              <a:latin typeface="Times New Roman"/>
            </a:endParaRPr>
          </a:p>
        </p:txBody>
      </p:sp>
      <p:sp>
        <p:nvSpPr>
          <p:cNvPr id="103"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104"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815393FD-BB9C-4C4D-9BD6-7A5FD08E3E8D}"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ua’i Object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1 - Vice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2 - LB #1 Commencemen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3 - Electronic or empower Tel-Aviv for Comment Resolu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4 - OR Status for Bluetooth</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6B533F-9EA2-429B-A620-51E4C2147678}"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Objective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VIDE A MOTION TO SUBMIT THE DRAFT TO WG LETTER BALLOT #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 MOTION TO REVIEW THE COMMENTS FROM WG LB #1 ON OR BEFORE 10-14JAN00 INTER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VIDE AN UPDATE ON TG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DRAFT DERIVED FROM THE BLUETOOTH SPECIFICATION(S) &lt;TUTORIAL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ROVIDE A MOTION TO WG TO INVOKE "OR" STATUS FOR BSIG, IF APPROVED FWD TO SEC AS A MOTION</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DRAFT TG1 OPERATING RULES AND PROVIDE A MOTION RESULT TO WG, WG APPROVAL</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 PROVIDE A MOTION TO REPLACE PARVIZ KERMANI WITH CHATSCHIK BISDIKI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8BA047-3CE9-4951-AF5C-3D88B5CD845F}"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610FFF-8BE8-47F2-9928-69A91D546670}"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74880" y="1619280"/>
            <a:ext cx="7951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 I move to replace Parviz Kermani with Chatschik Bisdikian as IEEE P802.15 TG1 Vice Chair.  Forward to WG.</a:t>
            </a:r>
            <a:endParaRPr b="0" lang="en-US" sz="3200" spc="-1" strike="noStrike">
              <a:solidFill>
                <a:srgbClr val="000000"/>
              </a:solidFill>
              <a:latin typeface="Times New Roman"/>
            </a:endParaRPr>
          </a:p>
        </p:txBody>
      </p:sp>
      <p:sp>
        <p:nvSpPr>
          <p:cNvPr id="64" name=""/>
          <p:cNvSpPr/>
          <p:nvPr/>
        </p:nvSpPr>
        <p:spPr>
          <a:xfrm>
            <a:off x="1131480" y="3643200"/>
            <a:ext cx="1991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Mike McInn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 0</a:t>
            </a:r>
            <a:endParaRPr b="0" lang="en-US" sz="1600" spc="-1" strike="noStrike">
              <a:solidFill>
                <a:srgbClr val="000000"/>
              </a:solidFill>
              <a:latin typeface="Times New Roman"/>
            </a:endParaRPr>
          </a:p>
        </p:txBody>
      </p:sp>
      <p:sp>
        <p:nvSpPr>
          <p:cNvPr id="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Vice Chair</a:t>
            </a:r>
            <a:endParaRPr b="0" lang="en-US" sz="3600" spc="-1" strike="noStrike">
              <a:solidFill>
                <a:srgbClr val="000000"/>
              </a:solidFill>
              <a:latin typeface="Times New Roman"/>
            </a:endParaRPr>
          </a:p>
        </p:txBody>
      </p:sp>
      <p:sp>
        <p:nvSpPr>
          <p:cNvPr id="6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6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EDB71746-6CD0-4A1A-B898-54775ADCA3BB}"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rrent P802.15 Working Group is comprised of 42 voting members:</a:t>
            </a:r>
            <a:endParaRPr b="0" lang="en-US" sz="3600" spc="-1" strike="noStrike">
              <a:solidFill>
                <a:srgbClr val="000000"/>
              </a:solidFill>
              <a:latin typeface="Times New Roman"/>
            </a:endParaRPr>
          </a:p>
        </p:txBody>
      </p:sp>
      <p:sp>
        <p:nvSpPr>
          <p:cNvPr id="69"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0"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1"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4E2E6D10-DAC7-4416-A697-FD86E6C3C48F}" type="slidenum">
              <a:t>6</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osted 4ov99, WG Voter’s need to review and understan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ED3C41-8F08-4221-8365-8E975E480304}"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74880" y="1619280"/>
            <a:ext cx="7951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empower the TG1 Chair and Vice Chair to release the Bluetooth submission on behalf of TG1 to the 802.15 WG and to make a motion to the 802.15 WG to submit the Draft to Letter Ballot.</a:t>
            </a:r>
            <a:endParaRPr b="0" lang="en-US" sz="2400" spc="-1" strike="noStrike">
              <a:solidFill>
                <a:srgbClr val="000000"/>
              </a:solidFill>
              <a:latin typeface="Times New Roman"/>
            </a:endParaRPr>
          </a:p>
        </p:txBody>
      </p:sp>
      <p:sp>
        <p:nvSpPr>
          <p:cNvPr id="77" name=""/>
          <p:cNvSpPr/>
          <p:nvPr/>
        </p:nvSpPr>
        <p:spPr>
          <a:xfrm>
            <a:off x="1130040" y="3643200"/>
            <a:ext cx="248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Chatschik Bisdik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0</a:t>
            </a:r>
            <a:endParaRPr b="0" lang="en-US" sz="1600" spc="-1" strike="noStrike">
              <a:solidFill>
                <a:srgbClr val="000000"/>
              </a:solidFill>
              <a:latin typeface="Times New Roman"/>
            </a:endParaRPr>
          </a:p>
        </p:txBody>
      </p:sp>
      <p:sp>
        <p:nvSpPr>
          <p:cNvPr id="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ta Rosa - Vote on TG1 Draft Processing</a:t>
            </a:r>
            <a:endParaRPr b="0" lang="en-US" sz="3200" spc="-1" strike="noStrike">
              <a:solidFill>
                <a:srgbClr val="000000"/>
              </a:solidFill>
              <a:latin typeface="Times New Roman"/>
            </a:endParaRPr>
          </a:p>
        </p:txBody>
      </p:sp>
      <p:sp>
        <p:nvSpPr>
          <p:cNvPr id="79" name=""/>
          <p:cNvSpPr/>
          <p:nvPr/>
        </p:nvSpPr>
        <p:spPr>
          <a:xfrm>
            <a:off x="1201680" y="31384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75%</a:t>
            </a:r>
            <a:endParaRPr b="0" lang="en-US" sz="2000" spc="-1" strike="noStrike">
              <a:solidFill>
                <a:srgbClr val="000000"/>
              </a:solidFill>
              <a:latin typeface="Times New Roman"/>
            </a:endParaRPr>
          </a:p>
        </p:txBody>
      </p:sp>
      <p:sp>
        <p:nvSpPr>
          <p:cNvPr id="80"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81" name=""/>
          <p:cNvSpPr/>
          <p:nvPr/>
        </p:nvSpPr>
        <p:spPr>
          <a:xfrm rot="19229400">
            <a:off x="2210040" y="3047760"/>
            <a:ext cx="4735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lready Approved</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119529E2-CC7E-458B-B9F8-CF2E3F083CF7}"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ta Rosa - Motion Analysi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empower the TG1 Chair and Vice Chair to release the Bluetooth submission on behalf of TG1 to the 802.15 W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ne.  4Nov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o make a motion to the 802.15 WG to submit the Draft to Letter Ballot.”</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ed to do.  TG1 Recommends Wednesday, 10Nov99 during the Full WG S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EAA4B9-C657-4E43-AE45-BDC949FE31AE}"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4:04:19Z</dcterms:created>
  <dc:creator>Ian C. Gifford</dc:creator>
  <dc:description>-99/132r0</dc:description>
  <dc:language>en-US</dc:language>
  <cp:lastModifiedBy>Ian C. Gifford</cp:lastModifiedBy>
  <cp:lastPrinted>1998-02-10T13:28:06Z</cp:lastPrinted>
  <dcterms:modified xsi:type="dcterms:W3CDTF">1999-11-10T23:09:37Z</dcterms:modified>
  <cp:revision>17</cp:revision>
  <dc:subject>IEEE 802.15 Working Agenda Nov99</dc:subject>
  <dc:title>No Slide Title</dc:title>
</cp:coreProperties>
</file>