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8DD199-9356-4529-BCBD-34F5964E3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3DA-6409-4796-986C-D699BFDB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66B-1FEE-495F-8F63-54974191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E6D-EE62-4522-AC9B-27A2D4DC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0EB-8331-4C98-818F-1F1F33AB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8D6-48BF-4382-90EA-5AEB9934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D31-9EB7-4ECD-A933-A2CA50E1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941-0805-482C-B173-B10CB93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165-B464-46EE-95B2-3EE2517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B09-6C54-4FA6-9298-58A5A7D6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41F-8109-4459-B32A-D56513DB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6D2-01F0-4B1D-B877-DFB76197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7A7-FE37-4BB5-A152-9F6DBC3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DBB0F2-1355-4EEA-9305-B52D32F21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76C-C4C8-4156-B28C-331391ACD4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E62-D730-4438-AA7D-2A8B2F6DA3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4D9-1098-4004-B86C-D0EC6C90FB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5C1-BC99-4EE6-9B81-1C86F852AA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C08-59A0-4EB7-A62E-7250499265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5A3-0979-4AD3-BD90-F9F1A88AA3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92D-43C8-4F65-8782-EA30534207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E84-0B54-478E-BFA1-6FC9153335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1:00pm and processed all of our Agenda Items and adjourned at xx:yy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URSDAY DRAFT TG1 REPORT TO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937-3F27-4780-9DF0-E7E80A97AB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Comment Form in MS Word, -99/116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507-0BAD-4368-ABEA-5DDD94DEA2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47r0</dc:description>
  <dc:language>en-US</dc:language>
  <cp:lastModifiedBy>Ian C. Gifford</cp:lastModifiedBy>
  <cp:lastPrinted>1998-02-10T13:28:06Z</cp:lastPrinted>
  <dcterms:modified xsi:type="dcterms:W3CDTF">1999-11-11T23:06:12Z</dcterms:modified>
  <cp:revision>54</cp:revision>
  <dc:subject>IEEE 802.15 TG1 Report #3</dc:subject>
  <dc:title>IEEE P802.15 Working Group for Wireless Personal Area Networks</dc:title>
</cp:coreProperties>
</file>