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7F2ED-7605-4673-85AD-BC5371061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393C6-7068-4B7F-9632-53093F00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3D03-54F3-44F8-B1E0-8169D9FA9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0EBB5-3285-432C-8CAD-D0062C193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C05CE-FAB2-48F5-BA12-08C6FCB1F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71F4-C152-4E1A-AB8C-1E10AE2CF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FD2F3-62A1-4F0D-A5A3-3AA9C868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F608-2FF9-4D77-BE79-3BE60772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1B14-20D3-493C-BD8B-9EE2E34D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EB59-8BF9-4BC7-8997-73411690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95A1-8A9E-4DBB-9779-346BDAC5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90A3-AA25-44B8-A4E6-BA34844EF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C12820-43DF-4608-9202-A88960D91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Conditions</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follow the structure advertised for IEEE P802-15/D0.6, with the following exception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order of sections in their entire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parts of the D0.6 other than the PHY, MAC, and GAP sections</a:t>
            </a:r>
            <a:endParaRPr b="0" lang="en-US" sz="1800" spc="-1" strike="noStrike">
              <a:solidFill>
                <a:srgbClr val="000000"/>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dditions to D0.6 to be done with the approval of the SIG to assure that there is no conflict with the most up-to-date approved BT spec.</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resolution regarding the PHY, MAC and "GAP" sections are to be submitted to the BT errata groups for resolution in parallel, thus avoiding any possibility of divergence between the BT spec and 802.15 standard.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 99/028r2_Bluetooth-Letter-Of-Submission.do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308C1AD-DD12-44BD-B29E-F8F6C58AE177}"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2:46:58Z</dcterms:created>
  <dc:creator>Tom Siep</dc:creator>
  <dc:description/>
  <dc:language>en-US</dc:language>
  <cp:lastModifiedBy>Tom Siep</cp:lastModifiedBy>
  <dcterms:modified xsi:type="dcterms:W3CDTF">1999-11-12T00:56:54Z</dcterms:modified>
  <cp:revision>1</cp:revision>
  <dc:subject/>
  <dc:title>Bluetooth Conditions</dc:title>
</cp:coreProperties>
</file>