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444-B38B-478D-AA0C-3AF81825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69B-1B82-43ED-8599-14DE51A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A76-C37B-4213-AAE8-6E9894B2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38C-4F60-4CE3-A5A0-5775C4E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DEC-F9DA-4839-A669-3AEC912B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B57-418E-492B-9266-D0EF889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9FF-F992-4F0F-9F05-0146ECA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D81-D3ED-4D29-958B-D889CF22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EC8-6A24-4773-A2A9-F9B61E5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C06-0EC7-4A87-8676-D4739927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E94-0A22-47FF-AD3F-55CE258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92B-E3A0-41E8-9917-1033697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F3810A-61B9-4B13-9981-189E72DD3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Performance Evaluation Process in a Coexistenc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C72-917F-4991-A410-C3DEC280B4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Gener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 that describe the distribution of the message size and interarrival time are derived from the application set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ffic models exist in the literature for voice, data (FTP, HTTP), video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67080" y="3581280"/>
          <a:ext cx="48769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48769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4343400"/>
          <a:ext cx="43434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4343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62485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s from IEEE 802.14/96-083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718-71A9-4633-8401-C01FC5AA13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mong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ico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E2E-510C-4D60-8462-78BC2D0F03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Parameters and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3BB-2427-4507-BBD3-95BB7FB771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Parame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n slo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t schedul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: Flush,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size/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window size (max,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ED0-A98A-4EF8-9B09-D027BFAAE8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elay (mean, variance, P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ransmit a mes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per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collisions per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traffic presented to the network for transmission in 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 bits/s of the successful traffic transmitted excluding MAC and PHY overh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355-1274-4863-9F77-50987CC7B5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ethodology for MAC coexistence model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major components and provide examples for parameters, user situations, and performance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within each components are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52D-8829-49E6-BC81-26D8B1AEDE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tart the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on this evalu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3640" y="48769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032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42900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91320" y="4389480"/>
            <a:ext cx="129528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06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017880"/>
            <a:ext cx="1981440" cy="1219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4313160"/>
            <a:ext cx="1981440" cy="1067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34C-C080-42CE-9F7F-7D958FED38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erformance levels will lead to different levels of coexis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could mean an “acceptable” performance level to be quantif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C layer coexistence translates into a performance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interfering devices all sharing the 2.45 GHz ISM band on the MAC performa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to evaluate and quantify WPAN MAC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777-6D2A-48F3-B5EA-8AB3BC7F73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goal of this contribution is to propose a methodology for conducting a performance evaluation of the WPAN MAC in presence of other wireless devices sharing the same ai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ation is to agree on an evaluation process so that simulation/ experimental/ analysis results can be conducted independently by different parties and presented to the IEEE 802.15 S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C36-6A1B-4BD7-9CF8-8A8851A77B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erformance Evaluation S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144756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81480"/>
            <a:ext cx="14475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191120"/>
            <a:ext cx="1447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286000"/>
            <a:ext cx="3352680" cy="2362320"/>
          </a:xfrm>
          <a:prstGeom prst="cloudCallout">
            <a:avLst>
              <a:gd name="adj1" fmla="val 23199"/>
              <a:gd name="adj2" fmla="val 320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00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93560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392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4020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4478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0115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46876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92240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379600"/>
            <a:ext cx="14479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389240"/>
            <a:ext cx="14479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465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1998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0512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6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44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a Coexistenc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09680"/>
            <a:ext cx="3581280" cy="3030480"/>
          </a:xfrm>
          <a:custGeom>
            <a:avLst/>
            <a:gdLst/>
            <a:ahLst/>
            <a:rect l="l" t="t" r="r" b="b"/>
            <a:pathLst>
              <a:path w="2496" h="1888">
                <a:moveTo>
                  <a:pt x="0" y="0"/>
                </a:moveTo>
                <a:cubicBezTo>
                  <a:pt x="276" y="172"/>
                  <a:pt x="552" y="344"/>
                  <a:pt x="816" y="624"/>
                </a:cubicBezTo>
                <a:cubicBezTo>
                  <a:pt x="1080" y="904"/>
                  <a:pt x="1304" y="1472"/>
                  <a:pt x="1584" y="1680"/>
                </a:cubicBezTo>
                <a:cubicBezTo>
                  <a:pt x="1864" y="1888"/>
                  <a:pt x="2180" y="1880"/>
                  <a:pt x="2496" y="18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676520"/>
            <a:ext cx="3962520" cy="367020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 performance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1523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dentify  MAC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251460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ke assumptions on the PHY layer (interference/ propagation models) and traff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6EA-374D-4974-ABE5-F0F199EAEE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Evalu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proces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C layer protocol in a shared environment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g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gener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 lay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FC4-9BF9-4034-AD65-3F6FA6426A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er Situations 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less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set/Portabl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case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Synchro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ww.bluetoot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nteract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automati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7F0-52EC-4D34-8D8F-CB831DEF34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Service Set (BSS) consists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(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Stations (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sider 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 density p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nsity per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s per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efer to IEEE 802.15-99/073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252-F30A-4BF0-BD68-BC0C2559CF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spac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, interactive conf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synchronizer, hea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ituations (anywhere e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CA9-3E53-43C9-BB8B-9431D41D84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139-C5E1-4AAF-9C97-4006AA2F41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Nada Golmie</cp:lastModifiedBy>
  <cp:lastPrinted>1999-11-04T14:50:30Z</cp:lastPrinted>
  <dcterms:modified xsi:type="dcterms:W3CDTF">1999-11-04T15:04:05Z</dcterms:modified>
  <cp:revision>15</cp:revision>
  <dc:subject>IEEE 802.15 &lt;subject&gt;</dc:subject>
  <dc:title>IEEE P802.15 Working Group for Wireless Personal Area Networks</dc:title>
</cp:coreProperties>
</file>