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D71D5-1C2B-4753-9A72-D8EE1DAC7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6322-F27A-4F0A-9A2E-6D6DD638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A637-86E7-4ACB-BF16-EEE9884D8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93E2F-096E-41DA-8BB3-D0C628628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5DBA-938F-4C9D-A3F9-4843F2540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29BB-F0FF-48D4-B1BD-484F9455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3925-5E8A-4F56-BFCD-09A16994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68B8D-C9AF-4FE2-9141-92892A5E8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E4336-CE68-4239-A26C-65F3C056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16CA-23F0-4130-9C39-B26D9B7D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5530-C04C-404F-89FE-24A765C80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C407-C8BC-4CFB-8456-BF839CAEF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9FA364-2A2B-497A-99A7-CB0BAF575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a:t>
            </a: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802.15 WPAN High Rate Study Group ad hoc marketing meet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00 Dewey Avenue, M.C. 01829, Rochester, New York 14650-182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588-6322], E-Mail:[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f this is a proposed revision, cite the original documen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ed 802.15 WPAN High Rate Study Group ad hoc marketing meeting summ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his document is intended to provide a summary of the ad hoc marketing committee meeting which took place November, 11, 1999 coincident with the morning session of the 802.15 MC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54A8377-9FC4-4549-BF38-42CFD9E5154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rketing audience targets</a:t>
            </a:r>
            <a:endParaRPr b="0" lang="en-US" sz="32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pplications</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and academic institu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059698D-6AE9-4590-901E-D4D6572C01DF}"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ing strategy/message for each target audien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message</a:t>
            </a:r>
            <a:endParaRPr b="0" lang="en-US" sz="24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EEE</a:t>
            </a:r>
            <a:endParaRPr b="0" lang="en-US" sz="24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aisons into marketing audience targets</a:t>
            </a:r>
            <a:endParaRPr b="0" lang="en-US" sz="28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fferential value-added application spa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 from marketing targets</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58C157-E6E8-481B-8303-47BCC41483A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arketing requirement specification document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velop press releases with 802.15</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brand identity for High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A866CC2-D644-44AD-A558-D5E3E43758E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00:30:20Z</dcterms:created>
  <dc:creator>Rick Alfvin</dc:creator>
  <dc:description>&lt;doc#&gt;</dc:description>
  <dc:language>en-US</dc:language>
  <cp:lastModifiedBy>Rick Alfvin</cp:lastModifiedBy>
  <cp:lastPrinted>1998-02-10T13:28:06Z</cp:lastPrinted>
  <dcterms:modified xsi:type="dcterms:W3CDTF">1999-11-12T00:55:32Z</dcterms:modified>
  <cp:revision>2</cp:revision>
  <dc:subject>IEEE 802.15 &lt;subject&gt;</dc:subject>
  <dc:title>No Slide Title</dc:title>
</cp:coreProperties>
</file>