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6116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6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32200" y="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1800" y="744120"/>
            <a:ext cx="49608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1440" y="4714560"/>
            <a:ext cx="4957560" cy="4467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32200" y="942984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DE6BF3C-4447-4ADC-8ADB-F79B0A295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832200" y="942984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5E4ACB3-6978-4400-9A74-931D8891F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942984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832200" y="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4400" y="7542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01440" y="5268960"/>
            <a:ext cx="495756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luetooth%20pick%20only%20-%20400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523880" y="166680"/>
            <a:ext cx="6096240" cy="6005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0033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9900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ahoma"/>
              </a:rPr>
              <a:t>IEEE 802.15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ahoma"/>
              </a:rPr>
              <a:t>September 11 - 17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48720" y="6369120"/>
            <a:ext cx="609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2394-2E20-4EEE-A879-B3A6C9B26777}" type="slidenum">
              <a:rPr b="1" lang="en-US" sz="16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Bluetooth%20logo%20(tm)" descr=""/>
          <p:cNvPicPr/>
          <p:nvPr/>
        </p:nvPicPr>
        <p:blipFill>
          <a:blip r:embed="rId3"/>
          <a:stretch/>
        </p:blipFill>
        <p:spPr>
          <a:xfrm>
            <a:off x="609480" y="6327720"/>
            <a:ext cx="175284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838840" y="2514600"/>
            <a:ext cx="2820960" cy="3124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1066680"/>
            <a:ext cx="8305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NOKIA HARDWARE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7800" y="3251160"/>
            <a:ext cx="31352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laf Joer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kia 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laf.Joeressen@nmp.noki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7800" y="4508640"/>
            <a:ext cx="3392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lger Huss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kia 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lger.Hussmann@nmp.noki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960" y="1994040"/>
            <a:ext cx="2835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omas Mü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kia 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mas.T.Muller@noki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More Common Bluetooth Interfaces needed 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69344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rivers for common interfac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ate interoperability between components (HW/SW) from different vendors (Example: H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Needed 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/BB: most important HW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vendors on both sides of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rated BB solutions require stable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W/S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rgely hidden in BB 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depend on 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Standard RF/BB Interface driver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vendor-independ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F-architecture independ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ow-pin cou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 BB integration into other AS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device pin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uture proofnes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ogy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40040" y="1731960"/>
            <a:ext cx="59277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ies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92640" y="150840"/>
            <a:ext cx="244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NOKIA Module: Fact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lip-Chips: RF ASIC, BB ASIC, Flash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ize: &lt; 500 mm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incl. Crystal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Height: 2 mm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mpletely shielded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ower supply: 3.0 .. 5.2 V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terfacing: 1.8 .. 3.3 V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NOKIA Architectur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raditional high-IF RF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time-to-mar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sensi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W oriented BB architectur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MIPS consuming tasks done in H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 low-level features can be added in S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HW buffers dedicated to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er flexibility w.r.t. interfaces and buffer u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HW Block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1717560" y="1523880"/>
            <a:ext cx="6124680" cy="44388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31120" y="4930920"/>
            <a:ext cx="1000080" cy="677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92680" y="2629080"/>
            <a:ext cx="1801800" cy="1447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33440" y="2629080"/>
            <a:ext cx="1757520" cy="1447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0960" y="2603520"/>
            <a:ext cx="1095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23000" y="2603520"/>
            <a:ext cx="1120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55760" y="2437920"/>
            <a:ext cx="362520" cy="638280"/>
            <a:chOff x="455760" y="2437920"/>
            <a:chExt cx="362520" cy="638280"/>
          </a:xfrm>
        </p:grpSpPr>
        <p:sp>
          <p:nvSpPr>
            <p:cNvPr id="68" name=""/>
            <p:cNvSpPr/>
            <p:nvPr/>
          </p:nvSpPr>
          <p:spPr>
            <a:xfrm>
              <a:off x="636120" y="2468520"/>
              <a:ext cx="0" cy="60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455760" y="2437920"/>
              <a:ext cx="194400" cy="39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623520" y="2468520"/>
              <a:ext cx="194760" cy="33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2537280" y="3019320"/>
            <a:ext cx="12956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x/T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gul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c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60720" y="3019320"/>
            <a:ext cx="1632240" cy="9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x/Tx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ARM7T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CVSD co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Applic.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9040" y="4073400"/>
            <a:ext cx="0" cy="790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9720" y="3078000"/>
            <a:ext cx="157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14720" y="3370320"/>
            <a:ext cx="165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481880" y="2986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5920" y="2913120"/>
            <a:ext cx="1700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74440" y="2579760"/>
            <a:ext cx="995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75520" y="3036960"/>
            <a:ext cx="675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37840" y="3900600"/>
            <a:ext cx="1687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15560" y="1668600"/>
            <a:ext cx="27554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tooth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7516440" y="3718080"/>
            <a:ext cx="1306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54840" y="3797280"/>
            <a:ext cx="12222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p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8V, 2.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3.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932600" y="2593800"/>
            <a:ext cx="1213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.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640" y="3992400"/>
            <a:ext cx="1287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 .. 5.2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98880" y="382284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61120" y="3489480"/>
            <a:ext cx="903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91400" y="4083120"/>
            <a:ext cx="0" cy="823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639960" y="4449600"/>
            <a:ext cx="318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654360" y="4083120"/>
            <a:ext cx="0" cy="36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98520" y="4175280"/>
            <a:ext cx="71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8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294080" y="2820960"/>
            <a:ext cx="9216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294080" y="3278160"/>
            <a:ext cx="9216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03720" y="29131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03720" y="33703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57440" y="554688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02680" y="5454720"/>
            <a:ext cx="72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 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711760" y="4896000"/>
            <a:ext cx="558720" cy="558720"/>
            <a:chOff x="5711760" y="4896000"/>
            <a:chExt cx="558720" cy="558720"/>
          </a:xfrm>
        </p:grpSpPr>
        <p:sp>
          <p:nvSpPr>
            <p:cNvPr id="99" name=""/>
            <p:cNvSpPr/>
            <p:nvPr/>
          </p:nvSpPr>
          <p:spPr>
            <a:xfrm rot="5400000">
              <a:off x="5711760" y="4896000"/>
              <a:ext cx="558720" cy="55872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5773320" y="5037120"/>
              <a:ext cx="416160" cy="273960"/>
              <a:chOff x="5773320" y="5037120"/>
              <a:chExt cx="416160" cy="273960"/>
            </a:xfrm>
          </p:grpSpPr>
          <p:sp>
            <p:nvSpPr>
              <p:cNvPr id="101" name=""/>
              <p:cNvSpPr/>
              <p:nvPr/>
            </p:nvSpPr>
            <p:spPr>
              <a:xfrm rot="5400000">
                <a:off x="5885640" y="5119920"/>
                <a:ext cx="193320" cy="113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5880240" y="5041800"/>
                <a:ext cx="2880" cy="26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5773320" y="5176800"/>
                <a:ext cx="1112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6081840" y="5037120"/>
                <a:ext cx="2880" cy="26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6078600" y="5187600"/>
                <a:ext cx="110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2649600" y="5000760"/>
            <a:ext cx="558720" cy="558720"/>
            <a:chOff x="2649600" y="5000760"/>
            <a:chExt cx="558720" cy="558720"/>
          </a:xfrm>
        </p:grpSpPr>
        <p:sp>
          <p:nvSpPr>
            <p:cNvPr id="107" name=""/>
            <p:cNvSpPr/>
            <p:nvPr/>
          </p:nvSpPr>
          <p:spPr>
            <a:xfrm rot="5400000">
              <a:off x="2649600" y="5000760"/>
              <a:ext cx="558720" cy="55872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711160" y="5141880"/>
              <a:ext cx="416160" cy="273960"/>
              <a:chOff x="2711160" y="5141880"/>
              <a:chExt cx="416160" cy="273960"/>
            </a:xfrm>
          </p:grpSpPr>
          <p:sp>
            <p:nvSpPr>
              <p:cNvPr id="109" name=""/>
              <p:cNvSpPr/>
              <p:nvPr/>
            </p:nvSpPr>
            <p:spPr>
              <a:xfrm rot="5400000">
                <a:off x="2823480" y="5224680"/>
                <a:ext cx="193320" cy="113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2818080" y="5146560"/>
                <a:ext cx="2880" cy="26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2711160" y="5281560"/>
                <a:ext cx="1112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3019680" y="5141880"/>
                <a:ext cx="2880" cy="26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3016440" y="5292360"/>
                <a:ext cx="110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" name=""/>
          <p:cNvGrpSpPr/>
          <p:nvPr/>
        </p:nvGrpSpPr>
        <p:grpSpPr>
          <a:xfrm>
            <a:off x="2739960" y="4083120"/>
            <a:ext cx="367920" cy="918360"/>
            <a:chOff x="2739960" y="4083120"/>
            <a:chExt cx="367920" cy="918360"/>
          </a:xfrm>
        </p:grpSpPr>
        <p:sp>
          <p:nvSpPr>
            <p:cNvPr id="115" name=""/>
            <p:cNvSpPr/>
            <p:nvPr/>
          </p:nvSpPr>
          <p:spPr>
            <a:xfrm>
              <a:off x="2739960" y="4083120"/>
              <a:ext cx="1440" cy="91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05720" y="4083120"/>
              <a:ext cx="2160" cy="91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848200" y="4083120"/>
            <a:ext cx="367560" cy="826200"/>
            <a:chOff x="5848200" y="4083120"/>
            <a:chExt cx="367560" cy="826200"/>
          </a:xfrm>
        </p:grpSpPr>
        <p:sp>
          <p:nvSpPr>
            <p:cNvPr id="118" name=""/>
            <p:cNvSpPr/>
            <p:nvPr/>
          </p:nvSpPr>
          <p:spPr>
            <a:xfrm>
              <a:off x="5848200" y="4083120"/>
              <a:ext cx="2160" cy="82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14320" y="4083120"/>
              <a:ext cx="1440" cy="82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NOKIA RF Par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"/>
          <p:cNvSpPr/>
          <p:nvPr/>
        </p:nvSpPr>
        <p:spPr>
          <a:xfrm>
            <a:off x="2030400" y="1332000"/>
            <a:ext cx="5345280" cy="45720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12920" y="3048120"/>
            <a:ext cx="43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112920" y="30477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12920" y="4114800"/>
            <a:ext cx="43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4000" y="1965240"/>
            <a:ext cx="471600" cy="41760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778200" y="2108160"/>
            <a:ext cx="415440" cy="1381320"/>
            <a:chOff x="3778200" y="2108160"/>
            <a:chExt cx="415440" cy="1381320"/>
          </a:xfrm>
        </p:grpSpPr>
        <p:sp>
          <p:nvSpPr>
            <p:cNvPr id="127" name=""/>
            <p:cNvSpPr/>
            <p:nvPr/>
          </p:nvSpPr>
          <p:spPr>
            <a:xfrm>
              <a:off x="3778200" y="3262320"/>
              <a:ext cx="1141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892320" y="2108160"/>
              <a:ext cx="1440" cy="11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92320" y="2108160"/>
              <a:ext cx="3013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031280" y="2252880"/>
              <a:ext cx="1440" cy="123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31280" y="2252880"/>
              <a:ext cx="162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78200" y="3487680"/>
              <a:ext cx="2530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657680" y="2108160"/>
            <a:ext cx="415440" cy="1381320"/>
            <a:chOff x="4657680" y="2108160"/>
            <a:chExt cx="415440" cy="1381320"/>
          </a:xfrm>
        </p:grpSpPr>
        <p:sp>
          <p:nvSpPr>
            <p:cNvPr id="134" name=""/>
            <p:cNvSpPr/>
            <p:nvPr/>
          </p:nvSpPr>
          <p:spPr>
            <a:xfrm flipH="1">
              <a:off x="4958280" y="3262320"/>
              <a:ext cx="1141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958640" y="2108160"/>
              <a:ext cx="1800" cy="11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657680" y="2108160"/>
              <a:ext cx="3009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819680" y="2252880"/>
              <a:ext cx="1800" cy="123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657680" y="2252880"/>
              <a:ext cx="162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4819680" y="3487680"/>
              <a:ext cx="2534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264200" y="2006640"/>
            <a:ext cx="323280" cy="328680"/>
            <a:chOff x="4264200" y="2006640"/>
            <a:chExt cx="323280" cy="328680"/>
          </a:xfrm>
        </p:grpSpPr>
        <p:sp>
          <p:nvSpPr>
            <p:cNvPr id="141" name=""/>
            <p:cNvSpPr/>
            <p:nvPr/>
          </p:nvSpPr>
          <p:spPr>
            <a:xfrm>
              <a:off x="4264200" y="2102040"/>
              <a:ext cx="323280" cy="13320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64200" y="2102040"/>
              <a:ext cx="323280" cy="13320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64200" y="2200320"/>
              <a:ext cx="323280" cy="135000"/>
            </a:xfrm>
            <a:custGeom>
              <a:avLst/>
              <a:gdLst/>
              <a:ahLst/>
              <a:rect l="l" t="t" r="r" b="b"/>
              <a:pathLst>
                <a:path w="181" h="85">
                  <a:moveTo>
                    <a:pt x="0" y="33"/>
                  </a:moveTo>
                  <a:lnTo>
                    <a:pt x="1" y="31"/>
                  </a:lnTo>
                  <a:lnTo>
                    <a:pt x="3" y="28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6" y="19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4"/>
                  </a:lnTo>
                  <a:lnTo>
                    <a:pt x="53" y="4"/>
                  </a:lnTo>
                  <a:lnTo>
                    <a:pt x="53" y="7"/>
                  </a:lnTo>
                  <a:lnTo>
                    <a:pt x="55" y="7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2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8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2"/>
                  </a:lnTo>
                  <a:lnTo>
                    <a:pt x="72" y="22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7"/>
                  </a:lnTo>
                  <a:lnTo>
                    <a:pt x="78" y="28"/>
                  </a:lnTo>
                  <a:lnTo>
                    <a:pt x="78" y="30"/>
                  </a:lnTo>
                  <a:lnTo>
                    <a:pt x="78" y="31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7"/>
                  </a:lnTo>
                  <a:lnTo>
                    <a:pt x="83" y="37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3"/>
                  </a:lnTo>
                  <a:lnTo>
                    <a:pt x="87" y="43"/>
                  </a:lnTo>
                  <a:lnTo>
                    <a:pt x="87" y="44"/>
                  </a:lnTo>
                  <a:lnTo>
                    <a:pt x="89" y="45"/>
                  </a:lnTo>
                  <a:lnTo>
                    <a:pt x="89" y="49"/>
                  </a:lnTo>
                  <a:lnTo>
                    <a:pt x="90" y="49"/>
                  </a:lnTo>
                  <a:lnTo>
                    <a:pt x="92" y="50"/>
                  </a:lnTo>
                  <a:lnTo>
                    <a:pt x="92" y="52"/>
                  </a:lnTo>
                  <a:lnTo>
                    <a:pt x="93" y="52"/>
                  </a:lnTo>
                  <a:lnTo>
                    <a:pt x="93" y="53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8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7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2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11" y="75"/>
                  </a:lnTo>
                  <a:lnTo>
                    <a:pt x="113" y="75"/>
                  </a:lnTo>
                  <a:lnTo>
                    <a:pt x="115" y="75"/>
                  </a:lnTo>
                  <a:lnTo>
                    <a:pt x="115" y="78"/>
                  </a:lnTo>
                  <a:lnTo>
                    <a:pt x="117" y="78"/>
                  </a:lnTo>
                  <a:lnTo>
                    <a:pt x="117" y="80"/>
                  </a:lnTo>
                  <a:lnTo>
                    <a:pt x="117" y="80"/>
                  </a:lnTo>
                  <a:lnTo>
                    <a:pt x="117" y="81"/>
                  </a:lnTo>
                  <a:lnTo>
                    <a:pt x="120" y="81"/>
                  </a:lnTo>
                  <a:lnTo>
                    <a:pt x="120" y="83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5"/>
                  </a:lnTo>
                  <a:lnTo>
                    <a:pt x="148" y="85"/>
                  </a:lnTo>
                  <a:lnTo>
                    <a:pt x="148" y="84"/>
                  </a:lnTo>
                  <a:lnTo>
                    <a:pt x="152" y="84"/>
                  </a:lnTo>
                  <a:lnTo>
                    <a:pt x="152" y="83"/>
                  </a:lnTo>
                  <a:lnTo>
                    <a:pt x="153" y="82"/>
                  </a:lnTo>
                  <a:lnTo>
                    <a:pt x="156" y="82"/>
                  </a:lnTo>
                  <a:lnTo>
                    <a:pt x="159" y="79"/>
                  </a:lnTo>
                  <a:lnTo>
                    <a:pt x="160" y="79"/>
                  </a:lnTo>
                  <a:lnTo>
                    <a:pt x="160" y="77"/>
                  </a:lnTo>
                  <a:lnTo>
                    <a:pt x="161" y="77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8"/>
                  </a:lnTo>
                  <a:lnTo>
                    <a:pt x="172" y="67"/>
                  </a:lnTo>
                  <a:lnTo>
                    <a:pt x="172" y="65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50"/>
                  </a:lnTo>
                  <a:lnTo>
                    <a:pt x="181" y="50"/>
                  </a:lnTo>
                  <a:lnTo>
                    <a:pt x="181" y="48"/>
                  </a:lnTo>
                  <a:lnTo>
                    <a:pt x="181" y="48"/>
                  </a:lnTo>
                  <a:lnTo>
                    <a:pt x="181" y="44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64200" y="2200320"/>
              <a:ext cx="323280" cy="135000"/>
            </a:xfrm>
            <a:custGeom>
              <a:avLst/>
              <a:gdLst/>
              <a:ahLst/>
              <a:rect l="l" t="t" r="r" b="b"/>
              <a:pathLst>
                <a:path w="181" h="85">
                  <a:moveTo>
                    <a:pt x="0" y="33"/>
                  </a:moveTo>
                  <a:lnTo>
                    <a:pt x="1" y="31"/>
                  </a:lnTo>
                  <a:lnTo>
                    <a:pt x="3" y="28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6" y="19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4"/>
                  </a:lnTo>
                  <a:lnTo>
                    <a:pt x="53" y="4"/>
                  </a:lnTo>
                  <a:lnTo>
                    <a:pt x="53" y="7"/>
                  </a:lnTo>
                  <a:lnTo>
                    <a:pt x="55" y="7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2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8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2"/>
                  </a:lnTo>
                  <a:lnTo>
                    <a:pt x="72" y="22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7"/>
                  </a:lnTo>
                  <a:lnTo>
                    <a:pt x="78" y="28"/>
                  </a:lnTo>
                  <a:lnTo>
                    <a:pt x="78" y="30"/>
                  </a:lnTo>
                  <a:lnTo>
                    <a:pt x="78" y="31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7"/>
                  </a:lnTo>
                  <a:lnTo>
                    <a:pt x="83" y="37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3"/>
                  </a:lnTo>
                  <a:lnTo>
                    <a:pt x="87" y="43"/>
                  </a:lnTo>
                  <a:lnTo>
                    <a:pt x="87" y="44"/>
                  </a:lnTo>
                  <a:lnTo>
                    <a:pt x="89" y="45"/>
                  </a:lnTo>
                  <a:lnTo>
                    <a:pt x="89" y="49"/>
                  </a:lnTo>
                  <a:lnTo>
                    <a:pt x="90" y="49"/>
                  </a:lnTo>
                  <a:lnTo>
                    <a:pt x="92" y="50"/>
                  </a:lnTo>
                  <a:lnTo>
                    <a:pt x="92" y="52"/>
                  </a:lnTo>
                  <a:lnTo>
                    <a:pt x="93" y="52"/>
                  </a:lnTo>
                  <a:lnTo>
                    <a:pt x="93" y="53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8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7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2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11" y="75"/>
                  </a:lnTo>
                  <a:lnTo>
                    <a:pt x="113" y="75"/>
                  </a:lnTo>
                  <a:lnTo>
                    <a:pt x="115" y="75"/>
                  </a:lnTo>
                  <a:lnTo>
                    <a:pt x="115" y="78"/>
                  </a:lnTo>
                  <a:lnTo>
                    <a:pt x="117" y="78"/>
                  </a:lnTo>
                  <a:lnTo>
                    <a:pt x="117" y="80"/>
                  </a:lnTo>
                  <a:lnTo>
                    <a:pt x="117" y="80"/>
                  </a:lnTo>
                  <a:lnTo>
                    <a:pt x="117" y="81"/>
                  </a:lnTo>
                  <a:lnTo>
                    <a:pt x="120" y="81"/>
                  </a:lnTo>
                  <a:lnTo>
                    <a:pt x="120" y="83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5"/>
                  </a:lnTo>
                  <a:lnTo>
                    <a:pt x="148" y="85"/>
                  </a:lnTo>
                  <a:lnTo>
                    <a:pt x="148" y="84"/>
                  </a:lnTo>
                  <a:lnTo>
                    <a:pt x="152" y="84"/>
                  </a:lnTo>
                  <a:lnTo>
                    <a:pt x="152" y="83"/>
                  </a:lnTo>
                  <a:lnTo>
                    <a:pt x="153" y="82"/>
                  </a:lnTo>
                  <a:lnTo>
                    <a:pt x="156" y="82"/>
                  </a:lnTo>
                  <a:lnTo>
                    <a:pt x="159" y="79"/>
                  </a:lnTo>
                  <a:lnTo>
                    <a:pt x="160" y="79"/>
                  </a:lnTo>
                  <a:lnTo>
                    <a:pt x="160" y="77"/>
                  </a:lnTo>
                  <a:lnTo>
                    <a:pt x="161" y="77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8"/>
                  </a:lnTo>
                  <a:lnTo>
                    <a:pt x="172" y="67"/>
                  </a:lnTo>
                  <a:lnTo>
                    <a:pt x="172" y="65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50"/>
                  </a:lnTo>
                  <a:lnTo>
                    <a:pt x="181" y="50"/>
                  </a:lnTo>
                  <a:lnTo>
                    <a:pt x="181" y="48"/>
                  </a:lnTo>
                  <a:lnTo>
                    <a:pt x="181" y="48"/>
                  </a:lnTo>
                  <a:lnTo>
                    <a:pt x="181" y="4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380480" y="2252520"/>
              <a:ext cx="112320" cy="60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64200" y="2006640"/>
              <a:ext cx="323280" cy="13356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4200" y="2006640"/>
              <a:ext cx="323280" cy="13356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4380480" y="2027160"/>
              <a:ext cx="112320" cy="58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5621400" y="1965240"/>
            <a:ext cx="469800" cy="41760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51440" y="2376360"/>
            <a:ext cx="324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72320" y="2168640"/>
            <a:ext cx="1378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75200" y="2212920"/>
            <a:ext cx="1396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42160" y="2063880"/>
            <a:ext cx="1440" cy="1047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942160" y="2207880"/>
            <a:ext cx="1440" cy="103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686560" y="2043360"/>
            <a:ext cx="144360" cy="271080"/>
            <a:chOff x="5686560" y="2043360"/>
            <a:chExt cx="144360" cy="271080"/>
          </a:xfrm>
        </p:grpSpPr>
        <p:sp>
          <p:nvSpPr>
            <p:cNvPr id="156" name=""/>
            <p:cNvSpPr/>
            <p:nvPr/>
          </p:nvSpPr>
          <p:spPr>
            <a:xfrm>
              <a:off x="5686560" y="2046240"/>
              <a:ext cx="144360" cy="8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" y="10421"/>
                  </a:moveTo>
                  <a:arcTo wR="10800" hR="10800" stAng="-10679427" swAng="5197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7" y="10421"/>
                  </a:moveTo>
                  <a:arcTo wR="10800" hR="10800" stAng="-10679427" swAng="5197040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86560" y="2046240"/>
              <a:ext cx="144360" cy="8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" y="10421"/>
                  </a:moveTo>
                  <a:arcTo wR="10800" hR="10800" stAng="-10679427" swAng="5197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7" y="10421"/>
                  </a:moveTo>
                  <a:arcTo wR="10800" hR="10800" stAng="-10679427" swAng="5197040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86560" y="204336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86560" y="204336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86560" y="213516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86560" y="213516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86560" y="213048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86560" y="213048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86560" y="222264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86560" y="222264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86560" y="2227680"/>
              <a:ext cx="144000" cy="8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7" y="21597"/>
                  </a:moveTo>
                  <a:arcTo wR="10800" hR="10800" stAng="5483831" swAng="54434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7" y="21597"/>
                  </a:moveTo>
                  <a:arcTo wR="10800" hR="10800" stAng="5483831" swAng="5443434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686560" y="2227680"/>
              <a:ext cx="144000" cy="8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7" y="21597"/>
                  </a:moveTo>
                  <a:arcTo wR="10800" hR="10800" stAng="5483831" swAng="54434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7" y="21597"/>
                  </a:moveTo>
                  <a:arcTo wR="10800" hR="10800" stAng="5483831" swAng="5443434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916080" y="1563840"/>
            <a:ext cx="109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W 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18240" y="1379520"/>
            <a:ext cx="1472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rim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487160" y="533412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84040" y="1523880"/>
            <a:ext cx="981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3240" y="5410080"/>
            <a:ext cx="1287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 .. 5.2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65360" y="2771640"/>
            <a:ext cx="1440" cy="83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65360" y="3614760"/>
            <a:ext cx="48240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665360" y="2771640"/>
            <a:ext cx="120600" cy="20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771640"/>
            <a:ext cx="117720" cy="20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3800" y="3406680"/>
            <a:ext cx="471600" cy="41760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27280" y="3614760"/>
            <a:ext cx="230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157480" y="3406680"/>
            <a:ext cx="472680" cy="417600"/>
            <a:chOff x="2157480" y="3406680"/>
            <a:chExt cx="472680" cy="417600"/>
          </a:xfrm>
        </p:grpSpPr>
        <p:sp>
          <p:nvSpPr>
            <p:cNvPr id="180" name=""/>
            <p:cNvSpPr/>
            <p:nvPr/>
          </p:nvSpPr>
          <p:spPr>
            <a:xfrm>
              <a:off x="2157480" y="3406680"/>
              <a:ext cx="472680" cy="41760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221200" y="3459240"/>
              <a:ext cx="324720" cy="326880"/>
              <a:chOff x="2221200" y="3459240"/>
              <a:chExt cx="324720" cy="326880"/>
            </a:xfrm>
          </p:grpSpPr>
          <p:sp>
            <p:nvSpPr>
              <p:cNvPr id="182" name=""/>
              <p:cNvSpPr/>
              <p:nvPr/>
            </p:nvSpPr>
            <p:spPr>
              <a:xfrm>
                <a:off x="2221200" y="3554280"/>
                <a:ext cx="324720" cy="13356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6"/>
                    </a:lnTo>
                    <a:lnTo>
                      <a:pt x="59" y="6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6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6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221200" y="3554280"/>
                <a:ext cx="324720" cy="13356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6"/>
                    </a:lnTo>
                    <a:lnTo>
                      <a:pt x="59" y="6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6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6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</a:path>
                </a:pathLst>
              </a:custGeom>
              <a:solidFill>
                <a:srgbClr val="ffff99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221200" y="3652920"/>
                <a:ext cx="324720" cy="13320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3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9" y="17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7" y="2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2"/>
                    </a:lnTo>
                    <a:lnTo>
                      <a:pt x="51" y="2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6"/>
                    </a:lnTo>
                    <a:lnTo>
                      <a:pt x="55" y="6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9"/>
                    </a:lnTo>
                    <a:lnTo>
                      <a:pt x="60" y="10"/>
                    </a:lnTo>
                    <a:lnTo>
                      <a:pt x="61" y="10"/>
                    </a:lnTo>
                    <a:lnTo>
                      <a:pt x="63" y="11"/>
                    </a:lnTo>
                    <a:lnTo>
                      <a:pt x="63" y="13"/>
                    </a:lnTo>
                    <a:lnTo>
                      <a:pt x="64" y="13"/>
                    </a:lnTo>
                    <a:lnTo>
                      <a:pt x="66" y="14"/>
                    </a:lnTo>
                    <a:lnTo>
                      <a:pt x="66" y="16"/>
                    </a:lnTo>
                    <a:lnTo>
                      <a:pt x="67" y="16"/>
                    </a:lnTo>
                    <a:lnTo>
                      <a:pt x="70" y="18"/>
                    </a:lnTo>
                    <a:lnTo>
                      <a:pt x="70" y="19"/>
                    </a:lnTo>
                    <a:lnTo>
                      <a:pt x="71" y="19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3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6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2"/>
                    </a:lnTo>
                    <a:lnTo>
                      <a:pt x="81" y="33"/>
                    </a:lnTo>
                    <a:lnTo>
                      <a:pt x="82" y="33"/>
                    </a:lnTo>
                    <a:lnTo>
                      <a:pt x="82" y="36"/>
                    </a:lnTo>
                    <a:lnTo>
                      <a:pt x="84" y="36"/>
                    </a:lnTo>
                    <a:lnTo>
                      <a:pt x="84" y="39"/>
                    </a:lnTo>
                    <a:lnTo>
                      <a:pt x="85" y="39"/>
                    </a:lnTo>
                    <a:lnTo>
                      <a:pt x="85" y="41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6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4"/>
                    </a:lnTo>
                    <a:lnTo>
                      <a:pt x="96" y="56"/>
                    </a:lnTo>
                    <a:lnTo>
                      <a:pt x="97" y="57"/>
                    </a:lnTo>
                    <a:lnTo>
                      <a:pt x="97" y="59"/>
                    </a:lnTo>
                    <a:lnTo>
                      <a:pt x="100" y="60"/>
                    </a:lnTo>
                    <a:lnTo>
                      <a:pt x="100" y="60"/>
                    </a:lnTo>
                    <a:lnTo>
                      <a:pt x="100" y="61"/>
                    </a:lnTo>
                    <a:lnTo>
                      <a:pt x="103" y="63"/>
                    </a:lnTo>
                    <a:lnTo>
                      <a:pt x="103" y="66"/>
                    </a:lnTo>
                    <a:lnTo>
                      <a:pt x="103" y="66"/>
                    </a:lnTo>
                    <a:lnTo>
                      <a:pt x="105" y="67"/>
                    </a:lnTo>
                    <a:lnTo>
                      <a:pt x="106" y="69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6"/>
                    </a:lnTo>
                    <a:lnTo>
                      <a:pt x="114" y="78"/>
                    </a:lnTo>
                    <a:lnTo>
                      <a:pt x="116" y="78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3"/>
                    </a:lnTo>
                    <a:lnTo>
                      <a:pt x="127" y="83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3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7"/>
                    </a:lnTo>
                    <a:lnTo>
                      <a:pt x="162" y="77"/>
                    </a:lnTo>
                    <a:lnTo>
                      <a:pt x="163" y="76"/>
                    </a:lnTo>
                    <a:lnTo>
                      <a:pt x="165" y="76"/>
                    </a:lnTo>
                    <a:lnTo>
                      <a:pt x="165" y="73"/>
                    </a:lnTo>
                    <a:lnTo>
                      <a:pt x="166" y="73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8"/>
                    </a:lnTo>
                    <a:lnTo>
                      <a:pt x="172" y="67"/>
                    </a:lnTo>
                    <a:lnTo>
                      <a:pt x="172" y="64"/>
                    </a:lnTo>
                    <a:lnTo>
                      <a:pt x="175" y="64"/>
                    </a:lnTo>
                    <a:lnTo>
                      <a:pt x="175" y="64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6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7"/>
                    </a:lnTo>
                    <a:lnTo>
                      <a:pt x="182" y="47"/>
                    </a:lnTo>
                    <a:lnTo>
                      <a:pt x="182" y="44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200" y="3652920"/>
                <a:ext cx="324720" cy="13320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3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9" y="17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7" y="2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2"/>
                    </a:lnTo>
                    <a:lnTo>
                      <a:pt x="51" y="2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6"/>
                    </a:lnTo>
                    <a:lnTo>
                      <a:pt x="55" y="6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9"/>
                    </a:lnTo>
                    <a:lnTo>
                      <a:pt x="60" y="10"/>
                    </a:lnTo>
                    <a:lnTo>
                      <a:pt x="61" y="10"/>
                    </a:lnTo>
                    <a:lnTo>
                      <a:pt x="63" y="11"/>
                    </a:lnTo>
                    <a:lnTo>
                      <a:pt x="63" y="13"/>
                    </a:lnTo>
                    <a:lnTo>
                      <a:pt x="64" y="13"/>
                    </a:lnTo>
                    <a:lnTo>
                      <a:pt x="66" y="14"/>
                    </a:lnTo>
                    <a:lnTo>
                      <a:pt x="66" y="16"/>
                    </a:lnTo>
                    <a:lnTo>
                      <a:pt x="67" y="16"/>
                    </a:lnTo>
                    <a:lnTo>
                      <a:pt x="70" y="18"/>
                    </a:lnTo>
                    <a:lnTo>
                      <a:pt x="70" y="19"/>
                    </a:lnTo>
                    <a:lnTo>
                      <a:pt x="71" y="19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3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6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2"/>
                    </a:lnTo>
                    <a:lnTo>
                      <a:pt x="81" y="33"/>
                    </a:lnTo>
                    <a:lnTo>
                      <a:pt x="82" y="33"/>
                    </a:lnTo>
                    <a:lnTo>
                      <a:pt x="82" y="36"/>
                    </a:lnTo>
                    <a:lnTo>
                      <a:pt x="84" y="36"/>
                    </a:lnTo>
                    <a:lnTo>
                      <a:pt x="84" y="39"/>
                    </a:lnTo>
                    <a:lnTo>
                      <a:pt x="85" y="39"/>
                    </a:lnTo>
                    <a:lnTo>
                      <a:pt x="85" y="41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6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4"/>
                    </a:lnTo>
                    <a:lnTo>
                      <a:pt x="96" y="56"/>
                    </a:lnTo>
                    <a:lnTo>
                      <a:pt x="97" y="57"/>
                    </a:lnTo>
                    <a:lnTo>
                      <a:pt x="97" y="59"/>
                    </a:lnTo>
                    <a:lnTo>
                      <a:pt x="100" y="60"/>
                    </a:lnTo>
                    <a:lnTo>
                      <a:pt x="100" y="60"/>
                    </a:lnTo>
                    <a:lnTo>
                      <a:pt x="100" y="61"/>
                    </a:lnTo>
                    <a:lnTo>
                      <a:pt x="103" y="63"/>
                    </a:lnTo>
                    <a:lnTo>
                      <a:pt x="103" y="66"/>
                    </a:lnTo>
                    <a:lnTo>
                      <a:pt x="103" y="66"/>
                    </a:lnTo>
                    <a:lnTo>
                      <a:pt x="105" y="67"/>
                    </a:lnTo>
                    <a:lnTo>
                      <a:pt x="106" y="69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6"/>
                    </a:lnTo>
                    <a:lnTo>
                      <a:pt x="114" y="78"/>
                    </a:lnTo>
                    <a:lnTo>
                      <a:pt x="116" y="78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3"/>
                    </a:lnTo>
                    <a:lnTo>
                      <a:pt x="127" y="83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3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7"/>
                    </a:lnTo>
                    <a:lnTo>
                      <a:pt x="162" y="77"/>
                    </a:lnTo>
                    <a:lnTo>
                      <a:pt x="163" y="76"/>
                    </a:lnTo>
                    <a:lnTo>
                      <a:pt x="165" y="76"/>
                    </a:lnTo>
                    <a:lnTo>
                      <a:pt x="165" y="73"/>
                    </a:lnTo>
                    <a:lnTo>
                      <a:pt x="166" y="73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8"/>
                    </a:lnTo>
                    <a:lnTo>
                      <a:pt x="172" y="67"/>
                    </a:lnTo>
                    <a:lnTo>
                      <a:pt x="172" y="64"/>
                    </a:lnTo>
                    <a:lnTo>
                      <a:pt x="175" y="64"/>
                    </a:lnTo>
                    <a:lnTo>
                      <a:pt x="175" y="64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6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7"/>
                    </a:lnTo>
                    <a:lnTo>
                      <a:pt x="182" y="47"/>
                    </a:lnTo>
                    <a:lnTo>
                      <a:pt x="182" y="44"/>
                    </a:lnTo>
                  </a:path>
                </a:pathLst>
              </a:custGeom>
              <a:solidFill>
                <a:srgbClr val="ffff99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2337120" y="3704760"/>
                <a:ext cx="110160" cy="586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221200" y="3459240"/>
                <a:ext cx="324720" cy="13320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7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21200" y="3459240"/>
                <a:ext cx="324720" cy="13320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7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</a:path>
                </a:pathLst>
              </a:custGeom>
              <a:solidFill>
                <a:srgbClr val="ffff99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2337120" y="3477960"/>
                <a:ext cx="110160" cy="601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2908800" y="3546360"/>
            <a:ext cx="339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17800" y="243828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4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21160" y="2535120"/>
            <a:ext cx="3578040" cy="226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43600" y="2541600"/>
            <a:ext cx="1095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13320" y="2743200"/>
            <a:ext cx="3138120" cy="20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high IF limiting R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analog FM discrimin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pen loop T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ternal VCO tank &amp; vari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dig. pulse sha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l regul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pin-count RF/BB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293000" y="5105520"/>
            <a:ext cx="472680" cy="419040"/>
            <a:chOff x="4293000" y="5105520"/>
            <a:chExt cx="472680" cy="419040"/>
          </a:xfrm>
        </p:grpSpPr>
        <p:sp>
          <p:nvSpPr>
            <p:cNvPr id="196" name=""/>
            <p:cNvSpPr/>
            <p:nvPr/>
          </p:nvSpPr>
          <p:spPr>
            <a:xfrm rot="5400000">
              <a:off x="4319640" y="5078520"/>
              <a:ext cx="419040" cy="47268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5400000">
              <a:off x="4460040" y="5274720"/>
              <a:ext cx="146160" cy="96480"/>
            </a:xfrm>
            <a:prstGeom prst="rect">
              <a:avLst/>
            </a:prstGeom>
            <a:solidFill>
              <a:srgbClr val="ffff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624560" y="5229360"/>
              <a:ext cx="1440" cy="183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440240" y="5229360"/>
              <a:ext cx="1440" cy="20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26000" y="5332320"/>
              <a:ext cx="950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348800" y="5332320"/>
              <a:ext cx="928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4378320" y="4800600"/>
            <a:ext cx="144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2840" y="4800600"/>
            <a:ext cx="144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06960" y="556272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863880" y="4800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65680" y="5105520"/>
            <a:ext cx="471600" cy="41904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21280" y="5311800"/>
            <a:ext cx="13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21280" y="5353200"/>
            <a:ext cx="13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91120" y="5210280"/>
            <a:ext cx="1800" cy="101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991120" y="5353200"/>
            <a:ext cx="1800" cy="102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5735520" y="5186160"/>
            <a:ext cx="145080" cy="271440"/>
            <a:chOff x="5735520" y="5186160"/>
            <a:chExt cx="145080" cy="271440"/>
          </a:xfrm>
        </p:grpSpPr>
        <p:sp>
          <p:nvSpPr>
            <p:cNvPr id="212" name=""/>
            <p:cNvSpPr/>
            <p:nvPr/>
          </p:nvSpPr>
          <p:spPr>
            <a:xfrm>
              <a:off x="5736960" y="518940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36960" y="518940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35520" y="518616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29" y="21597"/>
                  </a:moveTo>
                  <a:arcTo wR="10800" hR="10800" stAng="5486380" swAng="5432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29" y="21597"/>
                  </a:moveTo>
                  <a:arcTo wR="10800" hR="10800" stAng="5486380" swAng="5432724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35520" y="518616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29" y="21597"/>
                  </a:moveTo>
                  <a:arcTo wR="10800" hR="10800" stAng="5486380" swAng="5432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29" y="21597"/>
                  </a:moveTo>
                  <a:arcTo wR="10800" hR="10800" stAng="5486380" swAng="5432724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36960" y="527832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36960" y="527832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35520" y="527364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35520" y="527364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36960" y="536580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36960" y="536580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35520" y="5369400"/>
              <a:ext cx="145080" cy="8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35520" y="5369400"/>
              <a:ext cx="145080" cy="8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5751360" y="4800600"/>
            <a:ext cx="180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440" y="4800600"/>
            <a:ext cx="144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22560" y="5562720"/>
            <a:ext cx="49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20080" y="3325680"/>
            <a:ext cx="1557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7094520" y="2895480"/>
            <a:ext cx="1595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742520" y="2614680"/>
            <a:ext cx="8139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742880" y="3048120"/>
            <a:ext cx="5670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28480" y="3452760"/>
            <a:ext cx="7452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7593120" y="2819520"/>
            <a:ext cx="856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7574040" y="3249720"/>
            <a:ext cx="856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487640" y="293364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487640" y="337644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62680" y="3909960"/>
            <a:ext cx="5990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59600" y="3730680"/>
            <a:ext cx="1555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059600" y="4191120"/>
            <a:ext cx="1555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51480" y="2193840"/>
            <a:ext cx="171360" cy="354240"/>
          </a:xfrm>
          <a:custGeom>
            <a:avLst/>
            <a:gdLst/>
            <a:ahLst/>
            <a:rect l="l" t="t" r="r" b="b"/>
            <a:pathLst>
              <a:path w="108" h="223">
                <a:moveTo>
                  <a:pt x="108" y="0"/>
                </a:moveTo>
                <a:lnTo>
                  <a:pt x="0" y="0"/>
                </a:lnTo>
                <a:lnTo>
                  <a:pt x="0" y="22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NOKIA RF/BB Interfac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ptimized for low pin count to aid integration of the BB functionality into existing system ASICs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-directional data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bus can be shared with other AS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control supported in the RF ASIC (e.g. synth. sett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NOKIA Baseband ASIC Fact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lipChip packag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RM7 @ 13 MHz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32 kHz Sleep clock oscillator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ow-level (MIPS consuming) protocols in HW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entral buffer RAM (no dedicated buffer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919080" y="1208160"/>
            <a:ext cx="7724880" cy="48085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Baseband ASIC - Block Diagram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6" name=""/>
          <p:cNvSpPr/>
          <p:nvPr/>
        </p:nvSpPr>
        <p:spPr>
          <a:xfrm>
            <a:off x="1192320" y="3033720"/>
            <a:ext cx="1457280" cy="789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17520" y="4875120"/>
            <a:ext cx="1433520" cy="85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ch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16240" y="4870440"/>
            <a:ext cx="1433520" cy="853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03640" y="2565360"/>
            <a:ext cx="1496880" cy="1325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W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57960" y="1430280"/>
            <a:ext cx="1457280" cy="789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ffer/M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37080" y="2719440"/>
            <a:ext cx="1446480" cy="2967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b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378560" y="3429000"/>
            <a:ext cx="1025640" cy="1273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9280" y="5059440"/>
            <a:ext cx="51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1960" y="3586320"/>
            <a:ext cx="6429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4680" y="3249720"/>
            <a:ext cx="63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01640" y="5486400"/>
            <a:ext cx="51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60" y="47102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-13680" y="5164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05040" y="358128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74800" y="324468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05040" y="549900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74800" y="516240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3727440" y="3902040"/>
            <a:ext cx="293400" cy="983880"/>
            <a:chOff x="3727440" y="3902040"/>
            <a:chExt cx="293400" cy="983880"/>
          </a:xfrm>
        </p:grpSpPr>
        <p:sp>
          <p:nvSpPr>
            <p:cNvPr id="264" name=""/>
            <p:cNvSpPr/>
            <p:nvPr/>
          </p:nvSpPr>
          <p:spPr>
            <a:xfrm>
              <a:off x="3727440" y="3902040"/>
              <a:ext cx="0" cy="98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20840" y="3902040"/>
              <a:ext cx="0" cy="98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4686480" y="289872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86480" y="308916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86480" y="348300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86480" y="367344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67400" y="515952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67400" y="534996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896160" y="3943440"/>
            <a:ext cx="511200" cy="177840"/>
            <a:chOff x="6896160" y="3943440"/>
            <a:chExt cx="511200" cy="177840"/>
          </a:xfrm>
        </p:grpSpPr>
        <p:sp>
          <p:nvSpPr>
            <p:cNvPr id="273" name=""/>
            <p:cNvSpPr/>
            <p:nvPr/>
          </p:nvSpPr>
          <p:spPr>
            <a:xfrm>
              <a:off x="6896160" y="394344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96160" y="412128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5948280" y="2225520"/>
            <a:ext cx="473040" cy="486000"/>
          </a:xfrm>
          <a:prstGeom prst="upDownArrow">
            <a:avLst>
              <a:gd name="adj1" fmla="val 50000"/>
              <a:gd name="adj2" fmla="val 2045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400480" y="4600080"/>
            <a:ext cx="0" cy="27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22480" y="421164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Rese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60160" y="2759040"/>
            <a:ext cx="2641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41440" y="4626000"/>
            <a:ext cx="276120" cy="249120"/>
          </a:xfrm>
          <a:prstGeom prst="upArrow">
            <a:avLst>
              <a:gd name="adj1" fmla="val 40231"/>
              <a:gd name="adj2" fmla="val 5159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47960" y="397368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8415360" y="3951360"/>
            <a:ext cx="511200" cy="177840"/>
            <a:chOff x="8415360" y="3951360"/>
            <a:chExt cx="511200" cy="177840"/>
          </a:xfrm>
        </p:grpSpPr>
        <p:sp>
          <p:nvSpPr>
            <p:cNvPr id="282" name=""/>
            <p:cNvSpPr/>
            <p:nvPr/>
          </p:nvSpPr>
          <p:spPr>
            <a:xfrm>
              <a:off x="8415360" y="395136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415360" y="412920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3:49:30Z</dcterms:created>
  <dc:creator>Ericsson User</dc:creator>
  <dc:description/>
  <dc:language>en-US</dc:language>
  <cp:lastModifiedBy>thmuller</cp:lastModifiedBy>
  <cp:lastPrinted>1999-09-06T11:06:15Z</cp:lastPrinted>
  <dcterms:modified xsi:type="dcterms:W3CDTF">1999-09-07T15:31:21Z</dcterms:modified>
  <cp:revision>41</cp:revision>
  <dc:subject/>
  <dc:title>No Slide Title</dc:title>
</cp:coreProperties>
</file>