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001-6FEA-43BC-838E-B7F7B24B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A61-000A-44F4-BC78-3FE88F1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BE0-3CCA-4333-B792-3FE5D697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219-58E0-429E-B114-0F4AF89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983-E638-4CBE-8128-23E7D1B5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0B7-5DEC-49A9-8EFA-97A9BF5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177-1F58-4120-AC1F-B73D6288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661-C517-41BB-A60B-D5CCCFE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B76-D1D5-4AF0-9911-3C00E7B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8D2-F2A7-4008-B3D8-7CBC4FC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87E-D9A4-4A7A-B4D4-48EE976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40C-DCFB-4B2F-9594-50D74D7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AD4C7872-AE4A-4540-A68A-C3E18A45F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0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7A9-5EF6-403C-B0B0-FE75783D93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1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0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91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2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C2E-27C7-4D8A-9B13-2037AC9AF6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7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6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1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2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5B9-FA7D-459B-8E2A-B5AAAEF8B2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999-1273-42CD-A15C-13E49871C5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2D5-97DE-4B99-87D3-6F440C5090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0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47F-0E2F-4ABB-B095-65655369C1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9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048-DF14-44C1-A86C-F7C0AAB3FC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4EA-4CCB-49D6-B09F-DA26329EC7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D3D-3259-4229-BACB-84118B958D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1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1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483-30BB-4B09-B9BC-C144D58E00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B46-B851-4CF2-B434-9E4C789909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37F-7934-45D9-B6E9-B869FBD803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66A-3FAD-4D7D-BEB0-02DAD4010A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6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0" idx="5"/>
              <a:endCxn id="798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801" idx="3"/>
              <a:endCxn id="798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6"/>
              <a:endCxn id="801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798" idx="5"/>
              <a:endCxn id="799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7"/>
              <a:endCxn id="798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5CE-68C5-462B-9EE5-AD766845A7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424-BDD4-4418-877F-0CE56C001B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879-B121-4807-A4BC-7142AA4B21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5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7ED-83F2-43D9-8E72-8827FC2F35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279-88CE-41C9-9EF7-B56B494422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80880" y="1295280"/>
            <a:ext cx="8404200" cy="4495680"/>
            <a:chOff x="380880" y="1295280"/>
            <a:chExt cx="8404200" cy="4495680"/>
          </a:xfrm>
        </p:grpSpPr>
        <p:sp>
          <p:nvSpPr>
            <p:cNvPr id="871" name=""/>
            <p:cNvSpPr/>
            <p:nvPr/>
          </p:nvSpPr>
          <p:spPr>
            <a:xfrm>
              <a:off x="2614680" y="4470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04960" y="445932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65520" y="335268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65520" y="403776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70280" y="494352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2676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94320" y="24382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000" y="266688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6572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99080" y="508608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048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5560" y="509256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8098560" y="175176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7500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7500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60800" y="396216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13280" y="334008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7028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1780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5560" y="290196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840" y="289548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6720" y="287316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8520" y="285732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64120" y="357480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54760" y="355752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27480" y="266688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6100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65320" y="419076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4120" y="419076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038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355752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423-C63F-464E-A4C6-7EC2182F5D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110-1564-43EE-A50E-1E3614161F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1AE-D562-4504-AAA6-34144B904F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B42-64AB-40E5-A5F2-D6AFB3408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90F-357F-43D6-B0C4-2E1AF83371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2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6E1-E672-4CFB-B512-3A1E97DAE1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3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671-AB12-48A2-AE78-DD2A83B1A6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2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4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05C-1293-440A-9D0E-B6E4F43F35E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6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8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EAB-4033-4FBF-807B-CA9975C9B79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279-282C-4F86-84EF-C0A8E2C7985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5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8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1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4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7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101-CE8F-4AF2-84D0-CFD5A3CBE22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4BF-C009-4520-8F93-910C037A5C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8C9-C5AC-4D83-92D8-C549918FBC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1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888-633B-4A07-BCB6-8EDF87E5E96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B44-3912-47B6-95AE-6D12E4E253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D6D-7193-4605-8107-3B5A679975B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2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B22-53A4-40ED-B77C-F1B5A18C6A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6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32F-3F74-4154-91DB-C543D6941F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3BF-CAC8-440E-8A32-3F358F6AEB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17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FA9-7EC5-4C5C-A3C8-798680D2D5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715-69C2-4350-ABD3-B1ECAF96FF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1" name=""/>
          <p:cNvCxnSpPr>
            <a:stCxn id="1554" idx="3"/>
            <a:endCxn id="1555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555" idx="3"/>
            <a:endCxn id="1556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559" idx="3"/>
            <a:endCxn id="1558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8" idx="3"/>
            <a:endCxn id="1557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5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67" idx="3"/>
            <a:endCxn id="1568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8" idx="0"/>
            <a:endCxn id="1569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4" idx="3"/>
            <a:endCxn id="1573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7" idx="3"/>
            <a:endCxn id="1578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73" idx="2"/>
            <a:endCxn id="1577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69" idx="3"/>
            <a:endCxn id="1572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6" idx="0"/>
            <a:endCxn id="1584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86" idx="0"/>
            <a:endCxn id="1585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3FB-00E4-4CA8-A356-735616D224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89E-E8E3-46DA-9361-2ADF983CDC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2F6-0C8A-4FD6-8C45-00CE81A7E1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0E0-120B-4AED-A0E8-87148AA1D4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C86-C62A-4BE4-B833-7834FC30E4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 examp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Access Poin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 Comput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ference T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dless Comput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iness Card Exchan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ant Postcar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e-in-one 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r Speaker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694-FDF8-4D35-A61F-8A009E2BA1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09-09T17:57:01Z</dcterms:modified>
  <cp:revision>185</cp:revision>
  <dc:subject/>
  <dc:title>No Slide Title</dc:title>
</cp:coreProperties>
</file>