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E30E-1D7B-4967-8FB5-158C810EF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EDE4-FCE3-464B-ACC4-E2E388C1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B43D-89CE-4B66-BEFB-E89AFFEFD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B595-7292-4917-A560-FA87224A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01C4-1957-41D1-97C9-6A6BF983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1ADC-ACB5-46CE-B62F-02A36F18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D118-0C95-4048-819B-01C95429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08C5-5566-433F-AA8D-4139148D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8905-6686-46C7-8B7D-211593F6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1047-14B6-4FFD-801A-E1201557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C1B1-CCAF-4B10-B522-D9AD1234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D839-7707-416E-A8CE-BF9EA709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9C0E13B-C883-40DF-92E2-A71FEEBF9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53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to Making 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EE 802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057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reless Personal Area Net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smllieee" descr=""/>
          <p:cNvPicPr/>
          <p:nvPr/>
        </p:nvPicPr>
        <p:blipFill>
          <a:blip r:embed="rId1"/>
          <a:stretch/>
        </p:blipFill>
        <p:spPr>
          <a:xfrm>
            <a:off x="3276720" y="1143000"/>
            <a:ext cx="628560" cy="714240"/>
          </a:xfrm>
          <a:prstGeom prst="rect">
            <a:avLst/>
          </a:prstGeom>
          <a:ln w="0">
            <a:noFill/>
          </a:ln>
        </p:spPr>
      </p:pic>
      <p:pic>
        <p:nvPicPr>
          <p:cNvPr id="48" name="IEEE%20802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739800" cy="76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A692-57F2-4FE5-8951-52FA040D1C8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5880" y="5867280"/>
            <a:ext cx="60984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chnical Chang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lasses of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ial: does not effect the implementation of the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: effect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technic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may ha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en made in review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dur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DBCF-B0A6-4E29-865E-AF1015BDD07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48320" y="5867280"/>
            <a:ext cx="53316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orking Group Confirmation Ball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Bal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s that any changes made do not invalidate previous “Approve” votes of those not at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6839-0804-46DF-A53F-7C4810184A1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705720" y="5867280"/>
            <a:ext cx="53316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onsor Ball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ers qualified from a Sponsor Ballot P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IEEE-SA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very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is room should be Sponsor Ballo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F757-E004-4A3D-9BAF-8F5F884B448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238880" y="5867280"/>
            <a:ext cx="60984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Negative Vot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es entered into Resolution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“Do Not Approve” votes must be answ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ust have specific reasons for disapproval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t would tak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ange vote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Appro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20F7-7575-476C-A263-81B7858FEDE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772400" y="5867280"/>
            <a:ext cx="83808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ceed to Standards Board Approv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ation made if possible to change draft to satisfy comment and not get new “Do Not Approve” v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have 70% approval to proc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 Boar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follow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nsor Ballo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5243-332B-4D0A-AA88-B4EA77CCD3C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09480" y="16765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124080" y="2286000"/>
            <a:ext cx="2362320" cy="1066680"/>
          </a:xfrm>
          <a:prstGeom prst="leftArrow">
            <a:avLst>
              <a:gd name="adj1" fmla="val 50000"/>
              <a:gd name="adj2" fmla="val 55366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re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5344-41D4-4265-9461-960B6858E48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876920" y="4267080"/>
            <a:ext cx="53316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Group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Group Recomme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ssion to ExC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EEE 802 Exec Committ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Criteria (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om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 Boa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ject Author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BFEC-EC1F-4F30-9FF2-2E947E17C3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410080" y="4267080"/>
            <a:ext cx="533520" cy="38124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ablish Criteria for Stand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for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red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proposal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or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1CAB-D986-4360-934C-9ED8B83D4E3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4120" y="4648320"/>
            <a:ext cx="6858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pare Draft for Circul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Group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or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outline (next pres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 to Work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3E9A-6F3B-4B06-A2EC-ADEA558FE7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410080" y="5029200"/>
            <a:ext cx="53352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orking Group Letter Ball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Ball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have not outstanding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available only to voting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to 45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es can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ai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Appro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7979-6FD7-44ED-9AF9-2F2E71C869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410080" y="5410080"/>
            <a:ext cx="53352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orking Group Review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turned Ballo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es entered into Resolution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“Do Not Approve” votes must be answ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ust have specific reasons for disapproval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t would tak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ange vote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Appro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143D-320E-4C01-BD9D-A460B17E05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410080" y="5867280"/>
            <a:ext cx="53352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vable Negativ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ation made if possible to change draft to satisfy comment and not get new “Do Not Approve” v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have 70% approval to proc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BC38-9B76-4DB7-BF4D-49827B8C140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952880" y="5029200"/>
            <a:ext cx="53352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ke Changes to Obtain WG Approv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Group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only items that are effected by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s to avoid creating new “Do Not Approve” v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F769-A2F1-491A-9EB1-B3A5761CC8D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1T18:09:33Z</dcterms:created>
  <dc:creator>Tom Siep</dc:creator>
  <dc:description>99/0xxr0</dc:description>
  <dc:language>en-US</dc:language>
  <cp:lastModifiedBy>Tom Siep</cp:lastModifiedBy>
  <cp:lastPrinted>1999-07-21T21:36:07Z</cp:lastPrinted>
  <dcterms:modified xsi:type="dcterms:W3CDTF">1999-07-27T22:28:58Z</dcterms:modified>
  <cp:revision>5</cp:revision>
  <dc:subject>IEEE 802.15 Steps to Making an IEEE 802 Standard</dc:subject>
  <dc:title>No Slide Title</dc:title>
</cp:coreProperties>
</file>