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9064-5A99-45F5-B07D-438D2C18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240-23A9-46B8-A4B8-4DE83DE1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41BC-09A9-4EF1-9185-5B2D2885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181-5161-4835-9424-F2B023A2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441-E82B-4528-9DD4-175D2623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6C5-8376-4D7A-9F89-1BB44530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28B5-3E0C-4736-A6EC-2347C174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570-96A7-4975-8A92-F2DADD4D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BD5E-7096-4F50-9350-4BCD8728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39B-EC2B-4191-AABA-7D60D3FB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30E-0314-466D-A72F-E40C1CDF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AA5-274E-4424-882E-C147AB91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1E6BDE6-418E-49C4-A93B-5D13305D2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1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st Session of meetings of the IEEE P802.15 Task Group 1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13 - 17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ton Hotel, Sonoma Cou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55 Round Barn Blv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ta Rosa, CA  95403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FCC-7142-4A76-81F4-827278FBA96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Schedule -99/56r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320" y="1600200"/>
            <a:ext cx="8963280" cy="46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  Wednesday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! SG1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! 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MC  ! SG1  |           |      !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!      |           |      !      |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Joint.11/.15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DL Model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.............|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...........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SG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Bluetoo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utorial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|             |      &amp;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6:30-9: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|             |Doc.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1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A93-3ABD-4CF1-817C-610CB4AB15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1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5105520"/>
            <a:ext cx="6781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943600"/>
            <a:ext cx="6781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5486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63244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C2C-FFC4-4934-8F63-94CCDDA437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als was Liaison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the IEEE as a Value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the IEEE 802 as a leader in Wireless Standards-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P802.15 as an expert in WP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/Receive Draft Standard Submissions from External and Internal (IEEE) from our Liais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8E1-5FAF-480E-94F4-D29460D7C3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Need to Consider Draft Com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ig5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236080" cy="490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B7D-AF65-4951-A6C1-55B03F4082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o be adde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772-3B64-4788-951F-B6DC59D5CB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 3.11 Review Bluetooth Lia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D55-CD53-4253-A237-53485E1318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con &amp;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Aug99 Örjan Johansson, Chatschik Bisdikian, ETSI &amp; IEEE-SA Liaison Meeting in Washington DC -99/0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9Sep99 Jim Kardach &amp; Ian Gifford discussed Bluetooth and the FCC NP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’s to Bluetooth 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9Sep99 Ian Gifford forwarded Jim Kardach the IEEE Letter to F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’s from Bluetooth 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5, 1999 Letter of Intent #2, Copyright License Agreement, CD-ROM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31, 1999 Bluetooth Proposal to IEEE and ETSI -99/0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3, 1999 CD-ROM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9, 1999 Signed &amp; Initialed Copyright License 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to submit the approved Draft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going Mee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294-4AC7-4111-AFDC-0EA150118A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been reviewing the Bluetooth Specification, via Liaison &amp; Public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Special Interest Group Formed May 20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 07Jul98 -98/2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2 15Sep98 -98/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3 26Oct98 -98/350 (Minute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4 14Dec98 J. Carlo 802 Overview to Bluetooth 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5 09Mar99 -99/053 Tu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6 01Jul99 -99/028 Letter Of I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7 15Jul99 -99/028r1 LOI #2, License, CD-ROM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8 26Jul99 Bluetooth v1.0A Foundation Specification Available via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9 31Aug99 -99/085 IEEE/ETSI/Bluetooth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0 31Aug99 -99/085 Proposal to IEEE &amp; ET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1 3Sep99 CD-ROM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2 9Sep99 Signed &amp; Initialed Copyright License Agre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3 13Sep99 -99/068 BT-IEEE Editorial WG Report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4 14Sep99 -99/069 to 073 Overview of the Bluetoot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3E0-E477-47F1-B3A6-EAF7E6572E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4T17:33:09Z</dcterms:created>
  <dc:creator>Ian C. Gifford</dc:creator>
  <dc:description>061r1</dc:description>
  <dc:language>en-US</dc:language>
  <cp:lastModifiedBy>Ian C. Gifford</cp:lastModifiedBy>
  <cp:lastPrinted>1998-02-10T13:28:06Z</cp:lastPrinted>
  <dcterms:modified xsi:type="dcterms:W3CDTF">1999-09-14T22:04:16Z</dcterms:modified>
  <cp:revision>21</cp:revision>
  <dc:subject>IEEE 802.15 &lt;subject&gt;</dc:subject>
  <dc:title>1st Session of meetings of the IEEE P802.15 Task Group 1 for Wireless Personal Area Networks</dc:title>
</cp:coreProperties>
</file>