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FB501F-F44C-4D6D-8F9E-A18BBF636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60C-C2F0-4F02-B225-C56C5F79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A9F-34E4-41D6-B40B-61E44895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AFC-79AF-43EC-A289-66D37EFE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F6D-69ED-47C0-93CE-B2265194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68C-DDC7-47E1-84E1-5D005668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BD0-89AE-4D91-986E-106CE1B3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65A-7AAC-481D-A27A-1798E6F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9AE-7EB7-47A9-B2CD-74ABF962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1DE-E476-44DC-AEEA-72EE19A8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B7E-7D5B-4795-99D1-5AA6B2C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A87-F2F2-418E-A23B-50BA5528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3B7-52F5-4992-8D3D-FCD00CDE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3CCD06-CCA6-4896-AED1-D128AE89E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4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4AD-3226-4A03-9923-598872659E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Timeline - Plan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G1 activities from 9Jul99 to 13Sep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anta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C22-AC0A-4DC3-86DB-7795D01F5D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60Ka" descr=""/>
          <p:cNvPicPr/>
          <p:nvPr/>
        </p:nvPicPr>
        <p:blipFill>
          <a:blip r:embed="rId1"/>
          <a:stretch/>
        </p:blipFill>
        <p:spPr>
          <a:xfrm>
            <a:off x="77760" y="2076480"/>
            <a:ext cx="897732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411480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52480" y="41911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320" y="5133960"/>
            <a:ext cx="828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1.4.2.2 Voting by Letter Ballots... The [WG] letter ballot response time must be at least forty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the time of “sending” postmark to the postmark of the returned bal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B3B-0180-454C-AE9C-F7154F87C4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30Kb" descr=""/>
          <p:cNvPicPr/>
          <p:nvPr/>
        </p:nvPicPr>
        <p:blipFill>
          <a:blip r:embed="rId1"/>
          <a:stretch/>
        </p:blipFill>
        <p:spPr>
          <a:xfrm>
            <a:off x="101520" y="2076480"/>
            <a:ext cx="8931240" cy="270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48040" y="416556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95480" y="426708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2360" y="5130720"/>
            <a:ext cx="72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ould like to consider a rapid turn around on the Letter Ballot e.g., 14 vs. 40 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6C0-CC0F-4A5A-BA22-77BE3E567E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tr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nks to your spirited involvement, it was quite a successful kick-off meeting. Over 60 people attended the meeting.  39 achieved voting status...and we formed a Task Group, headed by Ian Gifford, to begin the work of rapidly developing our first draft standard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b H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187-8512-4163-ABC2-F654C4527B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G1 activities from 9Jul99 to 13Sep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effort driven work in TG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d contact w/ Bluetooth-IEEE Editorial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d in IEEE/ETSI/Bluetooth Liaison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submissions for Santa 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AC during weekly tele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FD9-D7FB-4D5E-A7B3-39FBEBA6EB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A9F-12F5-4887-BFDA-F62F0C25B1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AC6-EAEF-4A44-AC20-E2610C1823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5428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612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6520" y="2514600"/>
            <a:ext cx="157500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41680" y="3200400"/>
            <a:ext cx="71100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7000" y="4216320"/>
            <a:ext cx="170208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56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BF6-2329-4753-AFE6-320C745805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64r1</dc:description>
  <dc:language>en-US</dc:language>
  <cp:lastModifiedBy>Ian C. Gifford</cp:lastModifiedBy>
  <cp:lastPrinted>1998-02-10T13:28:06Z</cp:lastPrinted>
  <dcterms:modified xsi:type="dcterms:W3CDTF">1999-09-13T02:40:44Z</dcterms:modified>
  <cp:revision>12</cp:revision>
  <dc:subject>IEEE 802.15 TG1 Report #1</dc:subject>
  <dc:title>IEEE P802.15 Working Group for Wireless Personal Area Networks</dc:title>
</cp:coreProperties>
</file>