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01132-A34D-4007-87F9-BC13A7C1F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8743D-CE61-40C4-AF99-969CBC412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6B541-62B7-4012-9E4E-A22B17072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85BBC-9551-4B7B-9270-B1AE360B5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6BC57-0000-44DE-BD92-28D98AF31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1B111-2A15-43EC-873C-F2265EF34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4F154-3ACF-4650-9C5D-98A2F0E69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34C49-08C3-4CEF-9393-AC9C7C307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4A7C6-998A-4D1B-B069-A3CFD98C2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D396-217A-40AB-8155-47DCE4533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09112-FC4B-4495-807D-6893DF3E1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B4629-17EF-4F7C-BC6B-81DF77D88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912FFB-D7B0-44E3-BF13-4700015C9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6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ting Rules Overvie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6272805-0171-4B9F-888A-E73C5DE29C70}"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802 Reporting Relationship</a:t>
            </a:r>
            <a:endParaRPr b="0" lang="en-US" sz="3600" spc="-1" strike="noStrike">
              <a:solidFill>
                <a:srgbClr val="000000"/>
              </a:solidFill>
              <a:latin typeface="Times New Roman"/>
            </a:endParaRPr>
          </a:p>
        </p:txBody>
      </p:sp>
      <p:pic>
        <p:nvPicPr>
          <p:cNvPr id="147" name="" descr=""/>
          <p:cNvPicPr/>
          <p:nvPr/>
        </p:nvPicPr>
        <p:blipFill>
          <a:blip r:embed="rId1"/>
          <a:stretch/>
        </p:blipFill>
        <p:spPr>
          <a:xfrm>
            <a:off x="2057400" y="1895400"/>
            <a:ext cx="5037120" cy="45054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EC543B1-1F94-4362-94A8-D34CC1BA3173}" type="slidenum">
              <a:t>1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onsiders Draft Comments In The Following Manner:</a:t>
            </a:r>
            <a:endParaRPr b="0" lang="en-US" sz="3600" spc="-1" strike="noStrike">
              <a:solidFill>
                <a:srgbClr val="000000"/>
              </a:solidFill>
              <a:latin typeface="Times New Roman"/>
            </a:endParaRPr>
          </a:p>
        </p:txBody>
      </p:sp>
      <p:pic>
        <p:nvPicPr>
          <p:cNvPr id="149" name="fig5" descr=""/>
          <p:cNvPicPr/>
          <p:nvPr/>
        </p:nvPicPr>
        <p:blipFill>
          <a:blip r:embed="rId1"/>
          <a:stretch/>
        </p:blipFill>
        <p:spPr>
          <a:xfrm>
            <a:off x="1220760" y="1936800"/>
            <a:ext cx="6856560" cy="4083120"/>
          </a:xfrm>
          <a:prstGeom prst="rect">
            <a:avLst/>
          </a:prstGeom>
          <a:ln w="0">
            <a:noFill/>
          </a:ln>
        </p:spPr>
      </p:pic>
      <p:sp>
        <p:nvSpPr>
          <p:cNvPr id="150" name=""/>
          <p:cNvSpPr/>
          <p:nvPr/>
        </p:nvSpPr>
        <p:spPr>
          <a:xfrm>
            <a:off x="2895480" y="5791320"/>
            <a:ext cx="34290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18840" y="6019920"/>
            <a:ext cx="4749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IEEE Companion, http://grouper.ieee.org/groups/802/devdocs.htm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03E1866-828B-4DB4-A847-6B7587D5BA96}"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IEEE-SA and Sponsor Balloting</a:t>
            </a:r>
            <a:endParaRPr b="0" lang="en-US" sz="3600" spc="-1" strike="noStrike">
              <a:solidFill>
                <a:srgbClr val="000000"/>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work actually begins while you're finalizing your draft, with the formation of your balloting group. Many sponsors have particular rules of how the balloting group is to be formed, so we should examine those carefully before taking any action. It is the responsibility of the sponsor to form the balloting group. </a:t>
            </a:r>
            <a:endParaRPr b="0" lang="en-US" sz="2400" spc="-1" strike="noStrike">
              <a:solidFill>
                <a:srgbClr val="000000"/>
              </a:solidFill>
              <a:latin typeface="Arial"/>
            </a:endParaRPr>
          </a:p>
        </p:txBody>
      </p:sp>
      <p:pic>
        <p:nvPicPr>
          <p:cNvPr id="154" name="fig6" descr=""/>
          <p:cNvPicPr/>
          <p:nvPr/>
        </p:nvPicPr>
        <p:blipFill>
          <a:blip r:embed="rId1"/>
          <a:stretch/>
        </p:blipFill>
        <p:spPr>
          <a:xfrm>
            <a:off x="5160960" y="1828800"/>
            <a:ext cx="3373560" cy="44845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0C4CE1-408D-407A-9185-2A4BE6FA601D}"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aft must successfully pass a WG letter ballot (conditional approval excepted) before it can be can be forwarded to the Executive Committee for approval for Sponsor Group vot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24FEC46-6346-4E0A-AE2C-3A2F783DB4B5}"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4 TG Function</a:t>
            </a:r>
            <a:endParaRPr b="0" lang="en-US" sz="36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initial draft of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greement upon completed draf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F82F94F-8A3E-4073-B5CC-8B5F525E3A30}"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5 WG Function</a:t>
            </a:r>
            <a:endParaRPr b="0" lang="en-US" sz="36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preview of documen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WG ballots, which, by default, are electronic (FAX or email)</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e comments from WG ballo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irculate for approval including any unresolved negatives and revised areas in ballot packag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e to closu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62F040C-ADDB-49FC-9BF8-65B4B4B3BD19}"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ational Representative (OR) Membership Category</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okesperson for the consensus of an organization, committee, segment of industry, or similar group can particip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note that individual companies are not considered organizations. The IEEE-SA has corporate/entity members who can participate in the standards process, including balloting on standards projects earmarked for corporate/entity balloting.</a:t>
            </a:r>
            <a:endParaRPr b="0" lang="en-US" sz="2800" spc="-1" strike="noStrike">
              <a:solidFill>
                <a:srgbClr val="000000"/>
              </a:solidFill>
              <a:latin typeface="Arial"/>
            </a:endParaRPr>
          </a:p>
        </p:txBody>
      </p:sp>
      <p:sp>
        <p:nvSpPr>
          <p:cNvPr id="163"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1 should identify Organizational Representative (OR) that w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articipate i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69B0C84-4E86-4E6C-BBFF-1A0876A36218}"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has identified three (3) Membership Balloting processes</a:t>
            </a:r>
            <a:endParaRPr b="0" lang="en-US" sz="36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Member Balloting</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Member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embership Balloting, combination the above two (Still being determined by the  SASB)</a:t>
            </a:r>
            <a:endParaRPr b="0" lang="en-US" sz="3200" spc="-1" strike="noStrike">
              <a:solidFill>
                <a:srgbClr val="000000"/>
              </a:solidFill>
              <a:latin typeface="Arial"/>
            </a:endParaRPr>
          </a:p>
        </p:txBody>
      </p:sp>
      <p:sp>
        <p:nvSpPr>
          <p:cNvPr id="166"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ponsor should indicate on the Project Authorization  Request (P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the intent is to use an entity ballot that particular project, and that that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 followed throughout the standard’s develop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4982D86-00D2-4D71-A3B4-61CE00958554}"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dues for individual IEEE-SA membership?</a:t>
            </a:r>
            <a:endParaRPr b="0" lang="en-US" sz="36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99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member of any grade: US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ociety Affiliates : US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IEEE members: US $12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Representatives: US $250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A42A517-ADA8-420E-BE56-C4932C19C30B}"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dues for corporate/entity IEEE-SA membership?</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1999: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based on annual revenue)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 US $1 million: US $1000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1 million to US $1billion: US $3000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US $1 billion: US $5000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gency: US $5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Association and user group: US $1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US $1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Developing Organization: US $1000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AEC0C05-8407-4B99-A7DC-6DCFD72F7548}"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ere?</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Draft Standard</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at?</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ing in Draft Standard Outline</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en?</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Approved Standard</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Ballot Roadmap</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Observations/Next Step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Functional Organization</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9362881-07A0-48C2-BDBC-C94B42214E76}"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a corporate/entity member participate in a working group?</a:t>
            </a:r>
            <a:endParaRPr b="0" lang="en-US" sz="36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articipate in a working group, a corporation/entity or individual does not have to be an IEEE or an IEEE-SA member. This requirement is set, however, for those who want to ballot on standards. Some working groups/sponsors may have their own rules on whether a corporation/entity or individual must be an IEEE or SA member to vote within the working group on working group issues. Corporations/entities need to check with the sponsoring society and the working group to find out what their respective specific rules may be.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3D2C1F2-BC90-43B3-81D0-F19980F75710}"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l I need to be a member of the IEEE-SA in order to ballot a draft standard?</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f 1 June 1998, you need to be a member of the IEEE-SA to ballot a draft standard. This applies to new ballot groups formed after 1 June 1998 and beyond. It does not affect ballots that were in process by 1 June 1998 or ballot groups formed by 1 June 1998 (however, those ballot groups had to go to ballot by 31 December 1998).</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6305AE7-67E5-4CA8-8E2B-23B109C19E00}"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there a corporate/entity ballot body?</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cember 1998, the IEEE-SA Standards Board, at the request of the IEEE-SA Board of Governors, approved a new type of ballot body, comprised solely of corporate/entity SA members (any SA members who are not individuals.) </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1999, the IEEE-SA Standards Board is considering an additional type of balloting group, one that would combine individual and corporate/entity members in one balloting body.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C8924DD-74F8-4D06-86B4-C1A37CF144D1}"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a corporate/entity member officially identify a person(s) to be their identified or allotted individual IEEE-SA member? </a:t>
            </a: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porate/entity member representative sends the list of individuals to the IEEE-SA Administrator at ieee-sa-exec@ieee.org. The list should include the individuals' full name, company name, title and contact information (email, phone, fax). Once IEEE processes the membership, each individual member is given a member/customer number.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5487605-19E6-4A9A-AE1A-9649DA8563B9}"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RL Sources</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sponsor-level bal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Balloting Report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0B77426-0E3E-4E95-A99E-E9C85676A6ED}"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 WG Balloting</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raft must successfully pass a WG letter ballot (conditional approval excepted) before it can be can be forwarded to the Executive Committee for approval for Sponsor Group voting.  The rules and procedures governing WG letter ballots, comment resolution and confirmation letter ballots are contained in the Operating rules of IEEE Project 802 (See ref [1], 5.1.4.2.2).  An overview of the process is also provided in subclause 7.1 of this documen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requirements are imposed within WG 802.15 are specified by the clauses bel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F1A270A-1959-48AF-B772-AF38C9D71CE7}" type="slidenum">
              <a:t>2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1. Draft Standard Balloting Group</a:t>
            </a:r>
            <a:endParaRPr b="0" lang="en-US" sz="36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2.15 WG balloting group consists of all voting members of the 802.15 WG as of the close of day the ballot package distribution was completed as determined by the WG Chair.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A55EAFC-2537-476B-ACE3-2FA230649051}"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2. Draft Standard Balloting Requirements</a:t>
            </a:r>
            <a:endParaRPr b="0" lang="en-US" sz="36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raft is submitted to WG letter ballot it shall in addition have met the following requirement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complete with no open technical iss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made available on the web site a week before the meeting before it is to be discussed.  All changes made to the draft after the initial posting shall be presented for review during the closing plenary immediately prior to the vote for approval to go to WG ballo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formatted according to the IEEE style specified the WG templat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approved for submittal to WG ballot at the 802.15 WG closing plenary.</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WG letter ballot to be considered valid the abstention rate must be less than 3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resent, state diagrams shall take precedence over tex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2E2B990-5179-4C81-9E81-A6E49DE43FDE}" type="slidenum">
              <a:t>2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3. Draft Standard Formatting Requirements</a:t>
            </a:r>
            <a:endParaRPr b="0" lang="en-US" sz="36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aft must be provided in the current IEEE electronic format.  At a minimum this shall be completed prior to the Sponsor ballot however it is preferable that the draft be maintained in this format for its entire lif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the IEEE 802.15 current or draft standard shall be shown in underscore and strikeout.  Note that the current standard may not be the same as the published standard due to approved but unpublished supplement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CC339E4-D23B-420F-937F-C87BF4AA4A0D}" type="slidenum">
              <a:t>2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a:t>
            </a:r>
            <a:endParaRPr b="0" lang="en-US" sz="36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2 Vo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types of votes in the Working Group. These are votes at meetings and votes by letter ballo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2.1 Voting at Mee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ote is carried by a 75% approval of those members voting “Approve” and “Do Not Approve”. No quorum is required at meetings held in conjunction with the Plenary session since the Plenary session time and place is established well in advance. A quorum is required at other Working Group meetings. The Working Group Chair may vote at meetings. A quorum is at least one-half of the Working Group memb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E657C8-4779-4EAB-9A78-5C3E2A5432F1}" type="slidenum">
              <a:t>2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411480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Ballot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pprove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Publish approved standard</a:t>
            </a:r>
            <a:endParaRPr b="0" lang="en-US" sz="2000" spc="-1" strike="noStrike">
              <a:solidFill>
                <a:srgbClr val="000000"/>
              </a:solidFill>
              <a:latin typeface="Arial"/>
            </a:endParaRPr>
          </a:p>
        </p:txBody>
      </p:sp>
      <p:sp>
        <p:nvSpPr>
          <p:cNvPr id="52"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fig1" descr=""/>
          <p:cNvPicPr/>
          <p:nvPr/>
        </p:nvPicPr>
        <p:blipFill>
          <a:blip r:embed="rId1"/>
          <a:stretch/>
        </p:blipFill>
        <p:spPr>
          <a:xfrm>
            <a:off x="5029200" y="1600200"/>
            <a:ext cx="3801960" cy="4384800"/>
          </a:xfrm>
          <a:prstGeom prst="rect">
            <a:avLst/>
          </a:prstGeom>
          <a:ln w="0">
            <a:noFill/>
          </a:ln>
        </p:spPr>
      </p:pic>
      <p:sp>
        <p:nvSpPr>
          <p:cNvPr id="54"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55" name=""/>
          <p:cNvSpPr/>
          <p:nvPr/>
        </p:nvSpPr>
        <p:spPr>
          <a:xfrm flipH="1">
            <a:off x="8153280" y="1676520"/>
            <a:ext cx="152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C77BFAF-76FF-4E5E-9EF7-AB68DF57CB05}" type="slidenum">
              <a:t>3</a:t>
            </a:fld>
          </a:p>
        </p:txBody>
      </p:sp>
      <p:sp>
        <p:nvSpPr>
          <p:cNvPr id="6" name="PlaceHolder 5"/>
          <p:cNvSpPr>
            <a:spLocks noGrp="1"/>
          </p:cNvSpPr>
          <p:nvPr>
            <p:ph type="dt" idx="1"/>
          </p:nvPr>
        </p:nvSpPr>
        <p:spPr/>
        <p:txBody>
          <a:bodyPr/>
          <a:p>
            <a:r>
              <a:rPr lang="en-US"/>
              <a:t>Sept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4.2.2 Voting by Letter Ballo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sion to submit a draft standard or a revised standard to the Sponsor Ballot Group must be ratified by a letter ballot. Other matters may also be decided by a letter ballot at the discretion of the Working Group Chair. The Working Group Chair may vote in letter ballo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tter ballot response time must be at least </a:t>
            </a:r>
            <a:r>
              <a:rPr b="0" lang="en-US" sz="2400" spc="-1" strike="noStrike" u="sng">
                <a:solidFill>
                  <a:srgbClr val="ff0000"/>
                </a:solidFill>
                <a:uFillTx/>
                <a:latin typeface="Arial"/>
              </a:rPr>
              <a:t>forty days</a:t>
            </a:r>
            <a:r>
              <a:rPr b="0" lang="en-US" sz="2400" spc="-1" strike="noStrike">
                <a:solidFill>
                  <a:srgbClr val="000000"/>
                </a:solidFill>
                <a:latin typeface="Arial"/>
              </a:rPr>
              <a:t> from the time of “sending” postmark to the postmark of the returned bal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64F94E3-8B3F-4B5E-B5F4-3655FA831841}" type="slidenum">
              <a:t>3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4.2.2 Voting by Letter Ballots (cont.)</a:t>
            </a:r>
            <a:endParaRPr b="0" lang="en-US" sz="3200" spc="-1" strike="noStrike">
              <a:solidFill>
                <a:srgbClr val="000000"/>
              </a:solidFill>
              <a:latin typeface="Arial"/>
            </a:endParaRPr>
          </a:p>
          <a:p>
            <a:pPr lvl="1" marL="705600" indent="-2714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lot shall contains three choices:</a:t>
            </a:r>
            <a:endParaRPr b="0" lang="en-US" sz="32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 (May attach non-binding comments.)</a:t>
            </a:r>
            <a:endParaRPr b="0" lang="en-US" sz="28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Approve. (Must attach specific comments on what must be done to the draft to change the vote to “Approve”.)</a:t>
            </a:r>
            <a:endParaRPr b="0" lang="en-US" sz="28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ain. (Must include reasons for absten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5D95433-36D5-4BA9-96A6-411D4BA96709}" type="slidenum">
              <a:t>3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4.2.2 Voting by Letter Ballots</a:t>
            </a:r>
            <a:endParaRPr b="0" lang="en-US" sz="32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orward a draft standard or a revised standard to the Executive Committee for approval for Sponsor Ballot Group voting, a letter ballot (or confirmation letter ballot) must be done first within the Working Group. A 75 percent approval of the Working Group confirmation letter ballot is necessary with at least 50 percent of the members voting. The 75 percent figure is computed only from the “Approve” and “Do Not Approve” votes. Subsequent confirmation ballots to the Sponsor Ballot Group do not require Executive Committee approv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DD7D112-CB2F-48F2-84C0-7D4FD59E0D9E}" type="slidenum">
              <a:t>3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4.2.2 Voting by Letter Ballots</a:t>
            </a:r>
            <a:endParaRPr b="0" lang="en-US" sz="28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ing Group Chair determines if and how negative votes in an otherwise affirmative letter ballot are to be resolved. Normally, the Working Group meets to resolve the negatives or assigns the task to a ballot resolution group. </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recirculation requirement. For guidance on the recirculation process see Section 5.4.3.2 Resolution of comments, objections, and negative votes in the IEEE Standards Operating Manual.</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 of a draft standard or a revised standard to the Executive Committee must be accompanied by any outstanding negative votes and a statement of why these unresolved negative votes could not be resolv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1900077-4013-451B-9A77-A2508E376E60}" type="slidenum">
              <a:t>3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1128600" y="1517760"/>
          <a:ext cx="7391520" cy="4425840"/>
        </p:xfrm>
        <a:graphic>
          <a:graphicData uri="http://schemas.openxmlformats.org/presentationml/2006/ole">
            <p:oleObj progId="Word.Document.12" r:id="rId1" spid="">
              <p:embed/>
              <p:pic>
                <p:nvPicPr>
                  <p:cNvPr id="200"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1"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B2BC4DD-BC92-4CBC-8BDD-D3FCD20462AE}" type="slidenum">
              <a:t>34</a:t>
            </a:fld>
          </a:p>
        </p:txBody>
      </p:sp>
      <p:sp>
        <p:nvSpPr>
          <p:cNvPr id="5" name="PlaceHolder 4"/>
          <p:cNvSpPr>
            <a:spLocks noGrp="1"/>
          </p:cNvSpPr>
          <p:nvPr>
            <p:ph type="dt" idx="1"/>
          </p:nvPr>
        </p:nvSpPr>
        <p:spPr/>
        <p:txBody>
          <a:bodyPr/>
          <a:p>
            <a:r>
              <a:rPr lang="en-US"/>
              <a:t>Sept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Dec98</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Standards ballot by the Sponso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1 Balloting group</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1.1 Balloting group made of persons who are of any category other than individual</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2 Delegation of authority</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 Conduct of ballo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1 Initial ballo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2 Resolution of comments, objections, and negative vo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3F583B2-7771-4DF5-AA80-C8BB720702CB}" type="slidenum">
              <a:t>3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 Standards ballot by the Sponsor</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lloting group shall be one of two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IEEE-SA who are individu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IEEE-SA who are of any category other than individu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69FA6BE-AB8F-404E-9685-DD7882AD9A7A}" type="slidenum">
              <a:t>3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lloting group shall meet the criteria in subclause 5.2.2.3 of the IEEE-SA Standards Board Bylaws.  Balloting group members are selected to vote on the acceptability of a new or revised standard by the Sponsor based on the interest in and commitment to reviewing and voting on a specific proposed standard. The balloting group shall provide for the development of consensus by all interests significantly affected by the scope of the standard. This is achieved through a balance of such interests in the balloting group membership. Balance is defined as the avoidance of dominance by any single interest category.</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EEE-SA member organization shall apply, via the Sponsor, to the IEEE-SA Standards Board for approval as an organizational representative (OR), as defined by the IEEE-SA Standards Board Bylaws, on a ballot of members of the IEEE-SA who are individuals. The Sponsor shall forward all requests in a timely manner with recommendations concerning support of the applications to the IEEE-SA Standards Board.</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ly, no individual balloter shall have more than one vote. However, if a ballot group consists of IEEE-SA members who are individuals, a balloter can participate as an individual and as an OR, casting a separate vote for himself or herself as well as the organization the individual represents. The organization shall confirm in writing to the Sponsor that they are aware of and will accept the result. Additionally, the privilege of voting twice, as an individual as well as an OR, shall require approval by a majority of the committee excluding the vote of that individual.</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2C71680-8A1B-4DBB-94FF-48459DC96CCD}" type="slidenum">
              <a:t>3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 (cont.)</a:t>
            </a:r>
            <a:endParaRPr b="0" lang="en-US" sz="3600" spc="-1" strike="noStrike">
              <a:solidFill>
                <a:srgbClr val="000000"/>
              </a:solidFill>
              <a:latin typeface="Times New Roman"/>
            </a:endParaRPr>
          </a:p>
        </p:txBody>
      </p:sp>
      <p:sp>
        <p:nvSpPr>
          <p:cNvPr id="21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quest from the organization has to include which project(s), i.e., PAR(s) or TPAR(s), the organization is interested in balloting. As new projects are developed, the organization may apply to ballot these additional projects. This information should be indicated by project number(s) and title(s). In addition, the organization shall provide the name of the individual serving as OR. An OR is limited to voting only on matters relating to these specific PAR(s) or TPAR(s).</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rm of an OR is granted for the life of the project described in the PAR or TPAR (including reballots), and the IEEE-SA Standards Board reserves the right to terminate this voting privilege.</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status implies that the representative is acting for the organization and not as an individual. Although frequent changes in ORs are discouraged, any individual can be empowered through written authorization from the organization to the Sponsor chair to exercise the vote of the organization.</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s are required to classify the relationship of each member of the balloting group relative to the scope of standards activity (for example, producer, user, and general interest). Where appropriate, additional classifications, such as “public safety” or “academic,” should be considered. This decision should be based on the effect the standard may have on participants not already recognized by the primary classifications. ORs are classified in relation to the interests of their organization. IEEE-SA members who are individuals are classified based on their technical background, which may be related to their employment, job functions, or experience. Except for the general-interest category, no group (classification) may constitute 50% or more of the balloting group membership. Care shall be taken to assure that all classes of interest are represented to the extent possible.</a:t>
            </a:r>
            <a:endParaRPr b="0" lang="en-US" sz="1400" spc="-1" strike="noStrike">
              <a:solidFill>
                <a:srgbClr val="000000"/>
              </a:solidFill>
              <a:latin typeface="Arial"/>
            </a:endParaRPr>
          </a:p>
          <a:p>
            <a:pPr marL="322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FAFC8D1-B68B-4AC9-9688-CF396284ED43}" type="slidenum">
              <a:t>3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 (cont.)</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desirable to have representation of the materially interested and affected parties when reviewing the balance of the balloting group. Sponsors are expected to take steps to assure balance prior to conducting a Sponsor ballot.</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ed or affected IEEE-SA members may join the balloting group for a specific standards project. Once the ballot has begun, the balloting group is closed to additional participants. Interested individuals who wish to become observers of the balloting process may so indicate at any time during the official Sponsor ballot by establishing observer status with the IEEE Standards Department and paying the appropriate fees. Such individuals will be provided with the most recent draft and subsequent balloting comments and changes. Such individuals may submit comments until the specified ballot closing date. Comments from observers will be considered in the same manner as those for coordination.</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s who are not IEEE-SA members, invited experts, or ORs at the beginning of the ballot may obtain the ballot draft for information only. Such persons may submit comments on the draft within the balloting period. However, they may not vote to approve, disapprove, or abstain on the proposed standard, nor are they entitled to receive any material other than the revised draft and responses to their comments. Even if IEEE-SA membership status changes during the balloting and/or recirculation period, there shall be no change to the voting status of the balloter with respect to that ballot. Comments from persons who are not IEEE-SA members shall be given due consideration and an appropriate respons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58FFC15-4EF0-40EC-A541-D4D76D5B2314}" type="slidenum">
              <a:t>3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4343400"/>
            <a:ext cx="3886200" cy="53352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cope and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lated standards and pub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vise, rev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document</a:t>
            </a:r>
            <a:endParaRPr b="0" lang="en-US" sz="2400" spc="-1" strike="noStrike">
              <a:solidFill>
                <a:srgbClr val="000000"/>
              </a:solidFill>
              <a:latin typeface="Arial"/>
            </a:endParaRPr>
          </a:p>
        </p:txBody>
      </p:sp>
      <p:sp>
        <p:nvSpPr>
          <p:cNvPr id="59"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fig4" descr=""/>
          <p:cNvPicPr/>
          <p:nvPr/>
        </p:nvPicPr>
        <p:blipFill>
          <a:blip r:embed="rId1"/>
          <a:stretch/>
        </p:blipFill>
        <p:spPr>
          <a:xfrm>
            <a:off x="6019920" y="1371600"/>
            <a:ext cx="1523880" cy="4933800"/>
          </a:xfrm>
          <a:prstGeom prst="rect">
            <a:avLst/>
          </a:prstGeom>
          <a:ln w="0">
            <a:noFill/>
          </a:ln>
        </p:spPr>
      </p:pic>
      <p:sp>
        <p:nvSpPr>
          <p:cNvPr id="61"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62" name=""/>
          <p:cNvSpPr/>
          <p:nvPr/>
        </p:nvSpPr>
        <p:spPr>
          <a:xfrm flipH="1">
            <a:off x="7772400" y="400860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FA7CC7F-536D-4F7C-97A4-8267DB59D7F3}" type="slidenum">
              <a:t>4</a:t>
            </a:fld>
          </a:p>
        </p:txBody>
      </p:sp>
      <p:sp>
        <p:nvSpPr>
          <p:cNvPr id="6" name="PlaceHolder 5"/>
          <p:cNvSpPr>
            <a:spLocks noGrp="1"/>
          </p:cNvSpPr>
          <p:nvPr>
            <p:ph type="dt" idx="1"/>
          </p:nvPr>
        </p:nvSpPr>
        <p:spPr/>
        <p:txBody>
          <a:bodyPr/>
          <a:p>
            <a:r>
              <a:rPr lang="en-US"/>
              <a:t>September 1999</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 Conduct of ballot</a:t>
            </a: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tter or electronic ballot shall be conducted by the Sponsor, or the delegated authority (see 5.4.2), when a proposed standard is ready for ballo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95512FB-C295-4102-A7DF-A040BE20ABBA}" type="slidenum">
              <a:t>4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1 Initial ballot</a:t>
            </a: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llot shall provide three choices:</a:t>
            </a:r>
            <a:endParaRPr b="0"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ve (Affirmative).</a:t>
            </a:r>
            <a:r>
              <a:rPr b="0" lang="en-US" sz="1600" spc="-1" strike="noStrike">
                <a:solidFill>
                  <a:srgbClr val="000000"/>
                </a:solidFill>
                <a:latin typeface="Arial"/>
              </a:rPr>
              <a:t> This vote may be accompanied by comments suggesting corrections and improvements. Action on such comments is left to the discretion of the Sponso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 Not Approve (Negative).</a:t>
            </a:r>
            <a:r>
              <a:rPr b="0" lang="en-US" sz="1600" spc="-1" strike="noStrike">
                <a:solidFill>
                  <a:srgbClr val="000000"/>
                </a:solidFill>
                <a:latin typeface="Arial"/>
              </a:rPr>
              <a:t> This vote shall be accompanied by one or more specific objections with proposed resolution in sufficient detail in a legible form so that the specific wording of the changes that will cause the negative voter to change his or her vote to “approve” can readily be determined. The Sponsor shall obtain written confirmation from each voter that indicates concurrence with any change of his or her vote. Written confirmation can be by letter, fax, or electronic mail. In the absence of any objection accompanying a negative vote (whether or not this includes a proposed resolution), the ballot shall, after a follow-up inquiry, be classified as “no response.”</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bstain.</a:t>
            </a:r>
            <a:r>
              <a:rPr b="0" lang="en-US" sz="1600" spc="-1" strike="noStrike">
                <a:solidFill>
                  <a:srgbClr val="000000"/>
                </a:solidFill>
                <a:latin typeface="Arial"/>
              </a:rPr>
              <a:t> This category is provided to allow for ballot returns from members who do not wish to review the document because of conflict of interest, lack of expertise, or other reasons. A reason shall be given for this vote; otherwise, the ballot shall be classified as “no respons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EAB61FE-3773-40C0-B3E3-FD27A8872351}" type="slidenum">
              <a:t>4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1 Initial ballot (cont.)</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177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 standards ballot to be effective, at least 75% of the ballots shall be returned. In the event that a 75% return from the balloting group cannot be obtained, the balloting process is considered to have failed. Further disposition of the document shall be the responsibility of the Sponsor. A minimum of 75% of those voting affirmative or negative must approve the draft in order to submit the ballot result to the IEEE-SA Standards Board. In the event that 30% or more of the returned ballots are abstentions, the ballot shall be considered invalid.</a:t>
            </a: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event that the IEEE Standards Department receives documentation of the death or incapacity of a member of a balloting group by the closing date for the initial ballot, that person shall be administratively removed from the balloting group. In the event that such documentation is received following the closing date for the initial ballot, the member shall be deemed unavailable for balloting purposes and shall not be sent any further balloting material. Negative comments received before the voter became unavailable will be treated normally; note that confirmation of resolution is not expected. However, no tally shall be recalculated as a result of such a determination of unavailability, including ballots, abstention rate, return, or approval rate.</a:t>
            </a: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onsor is only obligated to consider comments that are received with ballots and other comments that are received by the close of the ballot. The ballot shall close at the end of business on the date specified on the ballot. If the ballot has not achieved a 75% return by the specified closing date, the ballot may be extended to close when a 75% return of the balloting group is received. This extension for receipt of a 75% return shall not be longer than 60 days. Comments received after the close of balloting will be provided to the Sponsor. The Sponsor shall acknowledge the receipt of these comments to the initiator and take such action as the Sponsor deems appropriate (similar to the coordination proces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2DFD427-9DB1-4B18-BAF9-8789E9637A40}" type="slidenum">
              <a:t>4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A OM - 5.4.3.2 Resolution of comments, objections, and negative votes</a:t>
            </a:r>
            <a:endParaRPr b="0" lang="en-US" sz="3200" spc="-1" strike="noStrike">
              <a:solidFill>
                <a:srgbClr val="000000"/>
              </a:solidFill>
              <a:latin typeface="Times New Roman"/>
            </a:endParaRPr>
          </a:p>
        </p:txBody>
      </p:sp>
      <p:sp>
        <p:nvSpPr>
          <p:cNvPr id="220" name="PlaceHolder 2"/>
          <p:cNvSpPr>
            <a:spLocks noGrp="1"/>
          </p:cNvSpPr>
          <p:nvPr>
            <p:ph/>
          </p:nvPr>
        </p:nvSpPr>
        <p:spPr>
          <a:xfrm>
            <a:off x="685800" y="186696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onsor shall make every attempt to resolve comments, objections, and negative votes. Comments pointing out obvious mistakes, typographical errors, and improvements in punctuation, grammar, and composition that do not change the technical meaning may be accepted, revised, or rejected. It must be borne in mind that documents are professionally edited prior to publication.</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 accompanying affirmative votes that advocate changes in the technical meaning of the document may be accepted, revised, or rejected.</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 received before the close of ballot from persons who are not in the balloting group require acknowledgement sent to the commentor and shall be presented to the comment resolution group for consideration. However, a rationale, rebuttal, or explanation is not required.</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pprove a draft at a meeting held to resolve comments, roll-call votes may be taken at such meetings of the Sponsor where all members are familiar with the document, reasons for negative votes are recorded, and at least 75% of the members of the Sponsoring body vote. Information recorded shall be equivalent to that available from a letter ballot.</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s may be made in the document to resolve negative votes or for other reasons. The Sponsor shall obtain written confirmation from each voter (by letter, fax, or electronic mail) that indicates concurrence with any change of his or her vote. If the negative vote is not satisfied, either entirely or in part, the negative voter shall be informed of the reasons for the rejection and be given an opportunity either to change his or her vote to “approve” or to retain his or her negative vote. All unresolved negative votes shall be recirculated to the Sponsor balloting group. Recirculated ballots and associated comments shall contain the exact wording as submitte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2CD8749-A915-477D-8069-9455EF10EAAA}" type="slidenum">
              <a:t>4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OM - 5.4.3.2 Resolution of comments, objections, and negative votes (cont.)</a:t>
            </a:r>
            <a:endParaRPr b="0" lang="en-US" sz="28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ubstantive technical changes made in the final draft to resolve comments, objections, and negative votes, and all unresolved negative votes, together with the reasons of the negative voter and the rebuttal by the members conducting the resolution of the ballots, shall be submitted to the members of the Sponsor balloting group. Balloting group members shall have an opportunity to change their previously cast ballots. A change to “do not approve,” which shall be submitted with comments, shall be based only on the changed portions of the balloted document, clauses affected by the changes, or portions of the balloted document that are the subject of the unresolved negative votes. Names of the unresolved negative voters are to be included with their negative comments in the recirculation of negative comments. Further resolution efforts may be required if additional negative votes result. However, once 75% approval has been achieved, the IEEE has an obligation to the majority to review and publish the standard quickly. Therefore, once 75% approval has been achieved, the IEEE requirements for consensus have been met. Efforts to resolve negative votes may continue for a brief period; however, should such resolution not be possible in a timely manner, the Sponsor should forward the submittal to RevCom.</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 of all unresolved negative votes, together with the reasons given by the negative voters and the rebuttals by the Sponsor, shall be included with the ballot results submitted to the IEEE-SA Standards Board. Copies of the written confirmations from voters that indicate concurrence with the change of their votes shall also be included in the submittal to RevCom. Copies of all ballots declared unresponsive [see item b) of 5.4.3.1], together with the reasons for classification as “no response,” shall be included with the ballot results submitted to the IEEE-SA Standards Board. Documentation of all vote changes from negative to affirmative shall be provided.</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tandards receiving a significant number of unresolved negative votes should be considered by the Sponsor for trial-use (see 5.7).</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C29AC98-059B-4F22-9B35-607B07294C15}" type="slidenum">
              <a:t>4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Jan99</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2.3 Sponsor balloting 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0C3456F-1A11-4EBA-BC79-C599A0952A6F}" type="slidenum">
              <a:t>4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Bylaws - 5.2.2.3 Sponsor balloting group</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 dominance in sponsor ballots as evidenced by an unduly high proportion of individuals from a single firm and/or organization or from a particular balloting classification is unacceptable, counter to open and fair participation by all interested parties, and deprecated by the IEEE-SA Standards Board.</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Technical Committees, whose membership is normally constituted by IEEE members, may function as the sponsor balloting group. In any case, the balloting group shall consist of persons who are members of the IEEE-SA. A person is an individual; proprietorship; partnership; corporation; association; federal, state, provincial, or local government agency; and some other relevant entity. In addition, with the approval of the IEEE-SA Standards Board, designated representatives of organizations outside the IEEE and invited individual experts who are non-IEEE-SA members may hold membership on IEEE committees and subcommittees developing standards and shall be entitled to vote on matters relating to those standards.</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type of balloting group for a standard, based on the type of sponsorship, shall be established at the time of PAR or TPAR approval and officially approved prior to the formation of a balloting group. A statement of the type of balloting membership to be used shall be included in all versions of the draft standard and the final approved standard.</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rganization is an entity that represents broad-based membership interest. This includes not only standards-development organizations but also other types of organizations such as a government agency (federal, state, provincial, or local), user group, or trade association.</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hould be noted that individual firms are not considered to be organization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DDA6736-8CCB-4DF2-BA82-010F5EEA4C0B}" type="slidenum">
              <a:t>4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5105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r00 - Approve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c00 - Publish approved standard</a:t>
            </a:r>
            <a:endParaRPr b="0" lang="en-US" sz="2000" spc="-1" strike="noStrike">
              <a:solidFill>
                <a:srgbClr val="000000"/>
              </a:solidFill>
              <a:latin typeface="Arial"/>
            </a:endParaRPr>
          </a:p>
        </p:txBody>
      </p:sp>
      <p:pic>
        <p:nvPicPr>
          <p:cNvPr id="67" name="fig1" descr=""/>
          <p:cNvPicPr/>
          <p:nvPr/>
        </p:nvPicPr>
        <p:blipFill>
          <a:blip r:embed="rId1"/>
          <a:stretch/>
        </p:blipFill>
        <p:spPr>
          <a:xfrm>
            <a:off x="4952880" y="1523880"/>
            <a:ext cx="3802320" cy="4384800"/>
          </a:xfrm>
          <a:prstGeom prst="rect">
            <a:avLst/>
          </a:prstGeom>
          <a:ln w="0">
            <a:noFill/>
          </a:ln>
        </p:spPr>
      </p:pic>
      <p:sp>
        <p:nvSpPr>
          <p:cNvPr id="68"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be here</a:t>
            </a:r>
            <a:endParaRPr b="0" lang="en-US" sz="1200" spc="-1" strike="noStrike">
              <a:solidFill>
                <a:srgbClr val="000000"/>
              </a:solidFill>
              <a:latin typeface="Times New Roman"/>
            </a:endParaRPr>
          </a:p>
        </p:txBody>
      </p:sp>
      <p:sp>
        <p:nvSpPr>
          <p:cNvPr id="69" name=""/>
          <p:cNvSpPr/>
          <p:nvPr/>
        </p:nvSpPr>
        <p:spPr>
          <a:xfrm flipH="1" flipV="1">
            <a:off x="7924320" y="533376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273B0B8-0294-47FF-BB3D-3497D82CCA95}"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1424160" y="3900600"/>
            <a:ext cx="633240" cy="2446200"/>
            <a:chOff x="1424160" y="3900600"/>
            <a:chExt cx="633240" cy="2446200"/>
          </a:xfrm>
        </p:grpSpPr>
        <p:sp>
          <p:nvSpPr>
            <p:cNvPr id="71" name=""/>
            <p:cNvSpPr/>
            <p:nvPr/>
          </p:nvSpPr>
          <p:spPr>
            <a:xfrm>
              <a:off x="1638360" y="412920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32240" y="3900600"/>
              <a:ext cx="4251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3"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a:t>
            </a:r>
            <a:endParaRPr b="0" lang="en-US" sz="3600" spc="-1" strike="noStrike">
              <a:solidFill>
                <a:srgbClr val="000000"/>
              </a:solidFill>
              <a:latin typeface="Times New Roman"/>
            </a:endParaRPr>
          </a:p>
        </p:txBody>
      </p:sp>
      <p:sp>
        <p:nvSpPr>
          <p:cNvPr id="75" name=""/>
          <p:cNvSpPr/>
          <p:nvPr/>
        </p:nvSpPr>
        <p:spPr>
          <a:xfrm>
            <a:off x="304920" y="6033960"/>
            <a:ext cx="8381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77"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78"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80"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916920" y="1523880"/>
            <a:ext cx="569520" cy="4495320"/>
            <a:chOff x="916920" y="1523880"/>
            <a:chExt cx="569520" cy="4495320"/>
          </a:xfrm>
        </p:grpSpPr>
        <p:sp>
          <p:nvSpPr>
            <p:cNvPr id="82"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84"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85"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87"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96"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97"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98"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99"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00"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01"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02"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08"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09"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10"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11"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12"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14"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15"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16"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7"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nvGrpSpPr>
          <p:cNvPr id="118" name=""/>
          <p:cNvGrpSpPr/>
          <p:nvPr/>
        </p:nvGrpSpPr>
        <p:grpSpPr>
          <a:xfrm>
            <a:off x="2392200" y="3898800"/>
            <a:ext cx="706320" cy="2121120"/>
            <a:chOff x="2392200" y="3898800"/>
            <a:chExt cx="706320" cy="2121120"/>
          </a:xfrm>
        </p:grpSpPr>
        <p:sp>
          <p:nvSpPr>
            <p:cNvPr id="119" name=""/>
            <p:cNvSpPr/>
            <p:nvPr/>
          </p:nvSpPr>
          <p:spPr>
            <a:xfrm>
              <a:off x="2403360" y="411480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92200" y="3898800"/>
              <a:ext cx="7063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21" name=""/>
          <p:cNvSpPr/>
          <p:nvPr/>
        </p:nvSpPr>
        <p:spPr>
          <a:xfrm>
            <a:off x="44640" y="3962520"/>
            <a:ext cx="11145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wants</a:t>
            </a:r>
            <a:endParaRPr b="0" lang="en-US" sz="1400" spc="-1" strike="noStrike">
              <a:solidFill>
                <a:srgbClr val="000000"/>
              </a:solidFill>
              <a:latin typeface="Times New Roman"/>
            </a:endParaRPr>
          </a:p>
        </p:txBody>
      </p:sp>
      <p:sp>
        <p:nvSpPr>
          <p:cNvPr id="122" name=""/>
          <p:cNvSpPr/>
          <p:nvPr/>
        </p:nvSpPr>
        <p:spPr>
          <a:xfrm>
            <a:off x="58320" y="3390840"/>
            <a:ext cx="125352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p:txBody>
      </p:sp>
      <p:grpSp>
        <p:nvGrpSpPr>
          <p:cNvPr id="123" name=""/>
          <p:cNvGrpSpPr/>
          <p:nvPr/>
        </p:nvGrpSpPr>
        <p:grpSpPr>
          <a:xfrm>
            <a:off x="70920" y="4648320"/>
            <a:ext cx="8158680" cy="611640"/>
            <a:chOff x="70920" y="4648320"/>
            <a:chExt cx="8158680" cy="611640"/>
          </a:xfrm>
        </p:grpSpPr>
        <p:grpSp>
          <p:nvGrpSpPr>
            <p:cNvPr id="124" name=""/>
            <p:cNvGrpSpPr/>
            <p:nvPr/>
          </p:nvGrpSpPr>
          <p:grpSpPr>
            <a:xfrm>
              <a:off x="1219320" y="4724280"/>
              <a:ext cx="7010280" cy="381240"/>
              <a:chOff x="1219320" y="4724280"/>
              <a:chExt cx="7010280" cy="381240"/>
            </a:xfrm>
          </p:grpSpPr>
          <p:sp>
            <p:nvSpPr>
              <p:cNvPr id="125"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26"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27"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28"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29"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30"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31"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2"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33"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134"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35"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36"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37"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8" name=""/>
          <p:cNvSpPr/>
          <p:nvPr/>
        </p:nvSpPr>
        <p:spPr>
          <a:xfrm>
            <a:off x="3429000" y="3886200"/>
            <a:ext cx="609480" cy="533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2B6A39B-5DBB-48DB-9092-100A818A04B7}"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Observations/Next Steps</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Balloting Rules have limited flexibility</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start planning</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Group</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llot Coordinator Function (see next slide)</a:t>
            </a:r>
            <a:endParaRPr b="0" lang="en-US" sz="16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Group -99/76 </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have a Draft and the WG (40 members) agrees, we should fast-track WGLB#1 in a ~10 day cycle i.e., 18-29Oct99</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G (40 members) agrees, we should empower 8-12Nov99 Plenary to vote resolve LB#1</a:t>
            </a:r>
            <a:endParaRPr b="0" lang="en-US" sz="16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99/77</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G1 will make a motion to WG/SEC invoke organizational representative (OR) status for Bluetooth</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3F1EDDC-2B6C-4A67-A688-86214066B106}"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Functional Organization</a:t>
            </a:r>
            <a:endParaRPr b="0" lang="en-US" sz="3600" spc="-1" strike="noStrike">
              <a:solidFill>
                <a:srgbClr val="000000"/>
              </a:solidFill>
              <a:latin typeface="Times New Roman"/>
            </a:endParaRPr>
          </a:p>
        </p:txBody>
      </p:sp>
      <p:graphicFrame>
        <p:nvGraphicFramePr>
          <p:cNvPr id="142" name=""/>
          <p:cNvGraphicFramePr/>
          <p:nvPr/>
        </p:nvGraphicFramePr>
        <p:xfrm>
          <a:off x="84240" y="2732040"/>
          <a:ext cx="8924760" cy="2373480"/>
        </p:xfrm>
        <a:graphic>
          <a:graphicData uri="http://schemas.openxmlformats.org/presentationml/2006/ole">
            <p:oleObj r:id="rId1" spid="">
              <p:embed/>
              <p:pic>
                <p:nvPicPr>
                  <p:cNvPr id="143" name="" descr=""/>
                  <p:cNvPicPr/>
                  <p:nvPr/>
                </p:nvPicPr>
                <p:blipFill>
                  <a:blip r:embed="rId2"/>
                  <a:stretch/>
                </p:blipFill>
                <p:spPr>
                  <a:xfrm>
                    <a:off x="84240" y="2732040"/>
                    <a:ext cx="8924760" cy="2373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BD79B1E-96E0-44AE-BD6A-CA29E718BC83}" type="slidenum">
              <a:t>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ing Rules Overview</a:t>
            </a:r>
            <a:endParaRPr b="0" lang="en-US" sz="3600" spc="-1" strike="noStrike">
              <a:solidFill>
                <a:srgbClr val="000000"/>
              </a:solidFill>
              <a:latin typeface="Times New Roman"/>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333CC8D-C784-415C-B607-4C2B41435824}"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9T10:43:02Z</dcterms:created>
  <dc:creator>Ian C. Gifford</dc:creator>
  <dc:description>066r0</dc:description>
  <dc:language>en-US</dc:language>
  <cp:lastModifiedBy>Ian C. Gifford</cp:lastModifiedBy>
  <cp:lastPrinted>1998-02-10T13:28:06Z</cp:lastPrinted>
  <dcterms:modified xsi:type="dcterms:W3CDTF">1999-09-13T16:12:27Z</dcterms:modified>
  <cp:revision>27</cp:revision>
  <dc:subject>IEEE 802.15 Balloting Rules Overview</dc:subject>
  <dc:title>IEEE 802.15 Working Group for Wireless Personal Area Networks</dc:title>
</cp:coreProperties>
</file>