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D3B7C9-0FB1-4779-8035-0423D0464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B3A7E7-8A46-43A1-9AE5-7C6858A5D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E7F069-A642-4EDE-99AB-795AF69E3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00B28F-8D24-4281-8762-E69FBFE9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CD0BEB-D1D1-4E32-8AF4-D2012F99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72C894-9525-4CEF-8494-58937382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FBE-D6EE-443A-878E-57A1BB03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DBF-976E-40FD-99C7-ED98D49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10A-78F4-49FB-ACDE-9311575A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52D-407B-463B-9758-28E5CC2D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804-3E10-4DEE-843F-BA0CA1D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4B0-09CF-4046-86C5-C8224C3C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F3D-E47D-4C93-9F34-11C33F3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A68-4A54-44A8-860F-27724B0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8CA-A86D-4142-AE1C-C86914B5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7CC-6F38-47DB-9A36-3B24436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ADE-2D1A-449C-BEF6-A11D175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3B8-E9A0-4D61-97DE-AC2A345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AA7E13-EE2E-4031-8691-344E0373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-IEEE Editorial Working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ED3-3F18-4C20-918C-231A71D1D4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3434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80988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g4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523880" cy="493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53040" y="37339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40086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3E5-50DA-4BCB-9FC4-4B6804360F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4440" y="55926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F8C-4F85-41EC-A18D-7CFEA97E69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life for BT Editorial W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T Editorial Group plans to finish its IEEE Editorial lower layer  (OSI 1&amp;2) work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is interested in the upper layer (OSI 3-7) this work may require this same or another WG inside of B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4120" y="2513160"/>
          <a:ext cx="33638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3160"/>
                    <a:ext cx="33638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BD5-9091-402C-BC0E-9236761021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pr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of pre Draft Standard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pre Draft Standard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ed approved Standard, available as early as Apr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C95-4649-42E7-903A-A3ECC58392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20720" y="1995480"/>
          <a:ext cx="5923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5480"/>
                    <a:ext cx="5923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860-40B3-434B-856A-36EBEA6A30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74720" y="1503360"/>
          <a:ext cx="7650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03360"/>
                    <a:ext cx="7650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4E8-5B43-4CB5-A4D6-DB557FC5F4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124080" y="198108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858-7D71-49B7-B029-2EACF17195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80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D54-A3B3-4C97-8028-9BEF7E4BCF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32200" y="2514600"/>
          <a:ext cx="4259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2200" y="2514600"/>
                    <a:ext cx="4259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9720" y="2513160"/>
          <a:ext cx="336420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2513160"/>
                    <a:ext cx="3364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1C0-F02A-4D87-9439-9B01025E09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1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20A-D6DC-4A23-9169-067F377F97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8620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200664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53040" y="14018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3280" y="1676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4AD-8581-4F7E-95FD-60D1A1BB83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6:10:17Z</dcterms:created>
  <dc:creator>Ian C. Gifford</dc:creator>
  <dc:description>068r0</dc:description>
  <dc:language>en-US</dc:language>
  <cp:lastModifiedBy>Ian C. Gifford</cp:lastModifiedBy>
  <cp:lastPrinted>1998-02-10T13:28:06Z</cp:lastPrinted>
  <dcterms:modified xsi:type="dcterms:W3CDTF">1999-09-13T05:49:26Z</dcterms:modified>
  <cp:revision>24</cp:revision>
  <dc:subject>IEEE 802.15 Liaison</dc:subject>
  <dc:title>Bluetooth-IEEE Editorial Working Group Report #1</dc:title>
</cp:coreProperties>
</file>