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282-7343-4414-8290-314D1F21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054-5A93-4AED-A564-BB28059E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4DE-B7D2-4286-B1CA-F5D6849B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F05-2FC7-496C-9620-48A26345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21B-3D57-4F5F-8B8A-0A1C490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3C1-1753-4CAC-8DC5-6722864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66D-60EF-49D0-B11A-B6995FA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DF3-EFE0-4399-8228-67870054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E4E-E602-4C51-8F1F-E9A4CF9E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184-DC5C-4225-BA48-A79345B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C75-195D-4277-8FDC-6953191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CE5-FC4D-4866-A6B2-E3F1851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0887D6-CEE8-4E7D-B6EE-1ED8FFBB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96B-9B19-4C75-A2E1-01EF4166BA1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248-A500-49B9-B02B-DA4E9385F8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5CB-8A60-4409-A1F5-85306FDFF9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F0D-94B9-4DB2-917F-18713BC0DD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CB0-F302-44AE-A51B-379FFB730E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2B0-35A5-4CBE-841F-6216CEC23C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70D-1CAF-450F-B331-BCD4B07C1C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C40-E438-45A8-908C-5C687063AD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E2A-4534-4486-B4DD-3AFD604485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857-A453-48AD-8AEB-1A025C0231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542-867A-4A08-AEBE-A38B83C67B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9C2-FBDC-40ED-BA42-0A54089087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F54-3765-46E4-898D-92CD2390D8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0BA-6B59-4CB4-B119-FCE5B45EA0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167-79D0-4354-BFE7-B132CDD679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B4D-05D7-4BB0-B742-B7ACC4F096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FAC-67BA-4A83-ACD7-FBF443F927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739-5C6B-422B-B615-B290B3A1AC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B21-3CFF-4BDD-AF5C-8B189EE9E7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DA7-9058-45CC-802D-D40B71ED21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895-B737-498B-B277-0455EF0CBB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69C-D852-4061-A265-012260CF0E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4B1-7EDA-40A2-A79E-E401B2A7DD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102-0BBA-4269-A66D-B31509A2B1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20B-F339-43B4-BB16-54AF330E69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5DC-BD7C-4169-BCDC-641D38C01C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45C-C2EE-4565-A790-79699DB3DA5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1BF-224B-41E6-8EA9-E56C1EDB8F4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CEB-5082-427E-99C7-9E608AED86B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421-903F-460F-8A06-DEC48FE0E7A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124-899D-45D6-932C-DAE69AE351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7D3-BC67-4360-9487-A2740AB09C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457-4F21-4204-A0EE-1DD89541B2B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7EE-E8A0-4029-9AD6-174B8E203F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4CB-8BFC-4377-9F72-28319BD2731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FF3-BA98-4401-8901-50E84FBE16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FA6-AB6D-42E4-A7D0-3BA648D7D4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4A8-A38B-40BB-8A0A-181101A74B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471-DACA-4561-AA2D-59ACACB43D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59D-1AA0-4FF0-83C7-AFE9275DF1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B1E-4131-41DB-92BE-77CA9680F9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FCC-5303-4E86-A697-49773ABD95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CD3-E91C-4C58-BE24-42A62F8998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2DE-4836-4FE7-91FE-4D24F88923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AFF-488D-4152-9664-CE9615AA66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724-01E7-41F8-87A9-AD45D3FC31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Ian C. Gifford</cp:lastModifiedBy>
  <cp:lastPrinted>1998-02-10T13:28:06Z</cp:lastPrinted>
  <dcterms:modified xsi:type="dcterms:W3CDTF">1999-09-09T18:35:42Z</dcterms:modified>
  <cp:revision>2</cp:revision>
  <dc:subject>Bluetooth Architecture Overview</dc:subject>
  <dc:title>Overview of the Bluetooth System</dc:title>
</cp:coreProperties>
</file>