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134DB2-4D19-4A80-925E-A80B8A649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5896F0-15C0-41BC-95D9-4F42D31AA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7048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5560" y="4925880"/>
            <a:ext cx="50832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D12-A788-4D59-B1C2-EE842530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AE9-278D-48E8-B324-2B7331B4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231-2B19-4B03-92D5-E3E524A2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AF3-24B7-4172-8258-D1FB5576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DE2-FCA9-4E0B-A6E1-324A4A74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778-EC8F-445B-91B2-14D96822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561-5644-4EA1-827D-9512C250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D7B-A04E-4FA0-B17A-327A4002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A61-17C8-4D14-89C0-DC7AF314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91E-8A7A-4FAD-A3D2-01D8D3E6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F76-11B3-4FF8-A549-FF8E3F75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2EF-4EE0-4304-9EC6-EFB2BBC3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A7CC61-536F-4DAC-884D-78403EFC8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913-C426-4F9B-8036-D4C502F932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mmon Bluetooth Interfaces neede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for common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4C5-3926-4770-A580-BB85099DAF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ard RF/BB Interface dri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-architectu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pin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roo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81A-8AA6-487F-AE02-CD922BD534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898-4C60-4B2D-851A-F2B52DC50D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Module: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-Chips: RF ASIC, BB ASIC,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&lt; 5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. Crys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: 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shiel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: 3.0 .. 5.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ing: 1.8 .. 3.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FC2-9624-4FB4-8520-A9DC29C555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high-IF R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oriented BB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8E8-7D83-40BB-8E4E-833AC528A2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W B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74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105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13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15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21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24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714-0519-4A9D-A864-E3FC5220C6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30400" y="16002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12920" y="33163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12920" y="3315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12920" y="43830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4000" y="22334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778200" y="2376360"/>
            <a:ext cx="415440" cy="1381320"/>
            <a:chOff x="3778200" y="2376360"/>
            <a:chExt cx="415440" cy="1381320"/>
          </a:xfrm>
        </p:grpSpPr>
        <p:sp>
          <p:nvSpPr>
            <p:cNvPr id="133" name=""/>
            <p:cNvSpPr/>
            <p:nvPr/>
          </p:nvSpPr>
          <p:spPr>
            <a:xfrm>
              <a:off x="377820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92320" y="23763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2320" y="23763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031280" y="25210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12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78200" y="37558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57680" y="2376360"/>
            <a:ext cx="415440" cy="1381320"/>
            <a:chOff x="4657680" y="2376360"/>
            <a:chExt cx="415440" cy="1381320"/>
          </a:xfrm>
        </p:grpSpPr>
        <p:sp>
          <p:nvSpPr>
            <p:cNvPr id="140" name=""/>
            <p:cNvSpPr/>
            <p:nvPr/>
          </p:nvSpPr>
          <p:spPr>
            <a:xfrm flipH="1">
              <a:off x="495828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8640" y="23763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657680" y="23763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819680" y="25210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6576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19680" y="37558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64200" y="2274840"/>
            <a:ext cx="323280" cy="328680"/>
            <a:chOff x="4264200" y="2274840"/>
            <a:chExt cx="323280" cy="328680"/>
          </a:xfrm>
        </p:grpSpPr>
        <p:sp>
          <p:nvSpPr>
            <p:cNvPr id="147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80480" y="25207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380480" y="22953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621400" y="22334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1440" y="264492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2320" y="24368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75200" y="24811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2160" y="23320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42160" y="24760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686560" y="2311560"/>
            <a:ext cx="144360" cy="271080"/>
            <a:chOff x="5686560" y="2311560"/>
            <a:chExt cx="144360" cy="271080"/>
          </a:xfrm>
        </p:grpSpPr>
        <p:sp>
          <p:nvSpPr>
            <p:cNvPr id="162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916080" y="18320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8240" y="16477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87160" y="56023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84040" y="179244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240" y="567864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65360" y="304020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65360" y="38829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665360" y="3039840"/>
            <a:ext cx="12060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3040200"/>
            <a:ext cx="11772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63800" y="3675240"/>
            <a:ext cx="471600" cy="4172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3882960"/>
            <a:ext cx="23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57480" y="3675240"/>
            <a:ext cx="472680" cy="417240"/>
            <a:chOff x="2157480" y="3675240"/>
            <a:chExt cx="472680" cy="417240"/>
          </a:xfrm>
        </p:grpSpPr>
        <p:sp>
          <p:nvSpPr>
            <p:cNvPr id="186" name=""/>
            <p:cNvSpPr/>
            <p:nvPr/>
          </p:nvSpPr>
          <p:spPr>
            <a:xfrm>
              <a:off x="2157480" y="3675240"/>
              <a:ext cx="472680" cy="41724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221200" y="3727440"/>
              <a:ext cx="324720" cy="326160"/>
              <a:chOff x="2221200" y="3727440"/>
              <a:chExt cx="324720" cy="326160"/>
            </a:xfrm>
          </p:grpSpPr>
          <p:sp>
            <p:nvSpPr>
              <p:cNvPr id="188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337120" y="3972960"/>
                <a:ext cx="110160" cy="58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337120" y="3746160"/>
                <a:ext cx="110160" cy="5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2908800" y="381492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7800" y="27068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1160" y="2803680"/>
            <a:ext cx="3578040" cy="226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28098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3960" y="30114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293000" y="5373720"/>
            <a:ext cx="472680" cy="419040"/>
            <a:chOff x="4293000" y="5373720"/>
            <a:chExt cx="472680" cy="419040"/>
          </a:xfrm>
        </p:grpSpPr>
        <p:sp>
          <p:nvSpPr>
            <p:cNvPr id="202" name=""/>
            <p:cNvSpPr/>
            <p:nvPr/>
          </p:nvSpPr>
          <p:spPr>
            <a:xfrm rot="5400000">
              <a:off x="4319640" y="53467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460040" y="55429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624560" y="54975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440240" y="54975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26000" y="56005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348800" y="56005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37832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28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06960" y="58309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63880" y="506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65680" y="53737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21280" y="558000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1280" y="56214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91120" y="54784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991120" y="56214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35520" y="5454720"/>
            <a:ext cx="145080" cy="271440"/>
            <a:chOff x="5735520" y="5454720"/>
            <a:chExt cx="145080" cy="271440"/>
          </a:xfrm>
        </p:grpSpPr>
        <p:sp>
          <p:nvSpPr>
            <p:cNvPr id="218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751360" y="5068800"/>
            <a:ext cx="180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4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2560" y="58309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20080" y="359424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94520" y="316404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46480" y="28828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46120" y="33163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32440" y="37209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593120" y="3087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74040" y="35179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87640" y="3201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87640" y="36450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64120" y="41781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59600" y="39988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9600" y="44593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1480" y="24620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BDD-B348-4E9C-AB1A-3480FC9CD5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/BB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96D-3B62-4139-8D85-BB990703FA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Baseband ASIC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Chip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7 @ 1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kHz Sleep clock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(MIPS consuming) protocols in 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ffer RAM (no dedicated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11F-F6FB-4952-AD9D-025FFA5F69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19080" y="15159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ASIC - Block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2320" y="33415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7520" y="518328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16240" y="517860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3640" y="287352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57960" y="1738440"/>
            <a:ext cx="1457280" cy="78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37080" y="30272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78560" y="37368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9280" y="53672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1960" y="38941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4680" y="35575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640" y="57942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60" y="50180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13680" y="5472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5040" y="38894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74800" y="35528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5040" y="58071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74800" y="54705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727440" y="4210200"/>
            <a:ext cx="293400" cy="983880"/>
            <a:chOff x="3727440" y="4210200"/>
            <a:chExt cx="293400" cy="983880"/>
          </a:xfrm>
        </p:grpSpPr>
        <p:sp>
          <p:nvSpPr>
            <p:cNvPr id="270" name=""/>
            <p:cNvSpPr/>
            <p:nvPr/>
          </p:nvSpPr>
          <p:spPr>
            <a:xfrm>
              <a:off x="37274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208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686480" y="320688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86480" y="339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86480" y="37908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6480" y="39816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67400" y="546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67400" y="56577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96160" y="4251240"/>
            <a:ext cx="511200" cy="177840"/>
            <a:chOff x="6896160" y="4251240"/>
            <a:chExt cx="511200" cy="177840"/>
          </a:xfrm>
        </p:grpSpPr>
        <p:sp>
          <p:nvSpPr>
            <p:cNvPr id="279" name=""/>
            <p:cNvSpPr/>
            <p:nvPr/>
          </p:nvSpPr>
          <p:spPr>
            <a:xfrm>
              <a:off x="6896160" y="42512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96160" y="44290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948280" y="2533680"/>
            <a:ext cx="473040" cy="485640"/>
          </a:xfrm>
          <a:prstGeom prst="upDownArrow">
            <a:avLst>
              <a:gd name="adj1" fmla="val 50000"/>
              <a:gd name="adj2" fmla="val 204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00480" y="490824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22480" y="4519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60160" y="306720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1440" y="4933800"/>
            <a:ext cx="276120" cy="24948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7960" y="42814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415360" y="4259160"/>
            <a:ext cx="511200" cy="177840"/>
            <a:chOff x="8415360" y="4259160"/>
            <a:chExt cx="511200" cy="177840"/>
          </a:xfrm>
        </p:grpSpPr>
        <p:sp>
          <p:nvSpPr>
            <p:cNvPr id="288" name=""/>
            <p:cNvSpPr/>
            <p:nvPr/>
          </p:nvSpPr>
          <p:spPr>
            <a:xfrm>
              <a:off x="8415360" y="42591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15360" y="44370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824-1ABE-4F2A-BB6B-982188B083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0:25Z</dcterms:created>
  <dc:creator>Thomas Müller</dc:creator>
  <dc:description>070r0</dc:description>
  <dc:language>en-US</dc:language>
  <cp:lastModifiedBy>Ian C. Gifford</cp:lastModifiedBy>
  <cp:lastPrinted>1998-02-10T13:28:06Z</cp:lastPrinted>
  <dcterms:modified xsi:type="dcterms:W3CDTF">1999-09-13T05:15:18Z</dcterms:modified>
  <cp:revision>1</cp:revision>
  <dc:subject>IEEE 802.15 Tutorial</dc:subject>
  <dc:title>Nokia Hardware Overview</dc:title>
</cp:coreProperties>
</file>