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2A7-B7E3-4DAD-BDF0-2E4ECD84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9E8-F5B8-46CA-A91F-0E7E0FDA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1F0-0954-4454-AE96-09439926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0A5-7AB4-473D-BCE6-83742C0D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CF6-C80A-4788-B772-8E0F3B23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FA6-F617-40C2-B0A0-8D07CE4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F9B-8F77-4225-A4BB-6A6CD0A6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114-3513-494C-B114-F4AFA64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2BC-D2DF-4475-94C6-29DDA2D4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493-1A8B-4389-A5AA-1E825AB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9A0-007E-4E20-9468-30578AF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AE3-3397-4CEB-BD13-F4784E0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0F776C-0C25-4280-BAB8-90349454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6AB-3680-448C-90AF-16CAD31532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E0B-7B69-4F91-B030-3771A3D895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A1E-8EEB-47AA-A84E-1C92E8B2CE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04A-BAB6-459F-B59A-69DB048DA4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949-A708-4E6F-AE17-02C43A0FE0DB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597-DB37-4AD6-A852-60B1A87F3E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DF5-46B9-4A15-8C30-997AC26A29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4F1-6227-43FA-9456-B0F2EE8F02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389-C328-4155-8E9F-0E19499FC1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C0A-6EC5-4081-9D88-ECA2682E46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7D9-99B2-46FF-ABDA-C41C636632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ED3-2F77-492E-922F-AA8121B946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&lt;doc#&gt;</dc:description>
  <dc:language>en-US</dc:language>
  <cp:lastModifiedBy>Tom Siep</cp:lastModifiedBy>
  <cp:lastPrinted>1998-02-10T13:28:06Z</cp:lastPrinted>
  <dcterms:modified xsi:type="dcterms:W3CDTF">1999-09-13T22:36:14Z</dcterms:modified>
  <cp:revision>4</cp:revision>
  <dc:subject>IEEE 802.15 &lt;subject&gt;</dc:subject>
  <dc:title>Mapping the Bluetooth Specification to IEEE 802.15.1</dc:title>
</cp:coreProperties>
</file>