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CD8-9762-472A-9421-BCD34477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FDF-049C-484A-A4D4-9435EC9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481-EC9F-4B8F-8F28-6AFB5827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4C6-B404-4AFE-A203-06C260A2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058-61E6-464C-AACA-F8C93C0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D7A-B25A-4274-A8A9-6E85B21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C1F-81D3-41DE-BF02-BC936F0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236-CB18-4A46-8BE4-239FCC1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E1D-2266-4B6A-9286-AE0A449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8BC-FA0D-4174-8624-47DBA49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A6-C000-44B0-AFD9-3ABEA2F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765-E022-44AC-95A1-237CC3F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E65E6A-38FF-46D9-87E1-CBF815046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Functional Organization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2DB-CEF6-4055-BBC7-81DCEFF62A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TG1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be FrameMaker v5.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 in Technical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2200" y="2116080"/>
          <a:ext cx="849168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116080"/>
                    <a:ext cx="849168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53080" y="1600200"/>
            <a:ext cx="1981440" cy="990720"/>
          </a:xfrm>
          <a:prstGeom prst="wedgeRectCallout">
            <a:avLst>
              <a:gd name="adj1" fmla="val -62259"/>
              <a:gd name="adj2" fmla="val 13669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help in wr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MAC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29400" y="4191120"/>
            <a:ext cx="2133720" cy="1218960"/>
          </a:xfrm>
          <a:prstGeom prst="wedgeRectCallout">
            <a:avLst>
              <a:gd name="adj1" fmla="val -48662"/>
              <a:gd name="adj2" fmla="val 100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HY Lay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be  folded into 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yer Editor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67280"/>
            <a:ext cx="822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want to help please talk to Tom Siep &lt;siep@ti.c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03E-27F6-49F1-9396-7C6B51BB9E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802.15 Functional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Functional Organization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-IEEE Editorial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8F8-3D1C-4934-8149-DCCEB7A62A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720" y="1857240"/>
            <a:ext cx="82360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AD8-6FBC-4871-A1C1-C4001534DD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16120" y="1522440"/>
          <a:ext cx="75643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5224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530-DBEF-46B8-B360-9FF1A6A298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480" y="2738520"/>
          <a:ext cx="8893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738520"/>
                    <a:ext cx="8893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EBC-83F5-4E0D-9B21-7F33320470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2C7-7C5A-4927-903D-7F7041747B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40120" y="2517840"/>
          <a:ext cx="42436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517840"/>
                    <a:ext cx="42436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2516040"/>
          <a:ext cx="3357720" cy="19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16040"/>
                    <a:ext cx="335772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37A-5058-442E-B1CE-220E1BF1B1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1000" y="2066760"/>
          <a:ext cx="6638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2066760"/>
                    <a:ext cx="6638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1480" y="3925800"/>
            <a:ext cx="1051200" cy="255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8040" y="59245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040" y="552600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049720"/>
            <a:ext cx="80496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64976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24980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5128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4513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5029200"/>
            <a:ext cx="1905120" cy="9144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324480" y="3581280"/>
            <a:ext cx="2175120" cy="1719360"/>
            <a:chOff x="6324480" y="3581280"/>
            <a:chExt cx="2175120" cy="1719360"/>
          </a:xfrm>
        </p:grpSpPr>
        <p:sp>
          <p:nvSpPr>
            <p:cNvPr id="81" name=""/>
            <p:cNvSpPr/>
            <p:nvPr/>
          </p:nvSpPr>
          <p:spPr>
            <a:xfrm>
              <a:off x="6324480" y="3581280"/>
              <a:ext cx="2175120" cy="1719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4800" y="3868920"/>
              <a:ext cx="16174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A Radio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B Baseband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C Link Manager Proto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D L2CA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Bluetooth%20logo%20(tm)" descr=""/>
          <p:cNvPicPr/>
          <p:nvPr/>
        </p:nvPicPr>
        <p:blipFill>
          <a:blip r:embed="rId4"/>
          <a:stretch/>
        </p:blipFill>
        <p:spPr>
          <a:xfrm>
            <a:off x="5959440" y="579132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FFD-DE90-4B81-98E3-1AB63EC4E9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Thoughts on Tim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743200"/>
          <a:ext cx="849780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49780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0F7-6737-48DE-8ADD-8DEAD7F071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3:26:07Z</dcterms:created>
  <dc:creator>Tom Siep</dc:creator>
  <dc:description>075r0</dc:description>
  <dc:language>en-US</dc:language>
  <cp:lastModifiedBy>Tom Siep</cp:lastModifiedBy>
  <cp:lastPrinted>1998-02-10T13:28:06Z</cp:lastPrinted>
  <dcterms:modified xsi:type="dcterms:W3CDTF">1999-09-14T20:09:30Z</dcterms:modified>
  <cp:revision>11</cp:revision>
  <dc:subject>IEEE 802.15 Functional Organization/Recruitment</dc:subject>
  <dc:title>IEEE P802.15 Working Group for Wireless Personal Area Networks</dc:title>
</cp:coreProperties>
</file>