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B8D-B28F-4E90-966D-B9B82399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8F0-1062-4BC0-8762-60F1F7B3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BCA-4489-4214-8D9F-C209D50D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DC4-CCE1-441F-9BF5-DC723E92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E74-982D-4970-95E8-10810548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640-F38E-46C8-BBFB-1601BD8F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0D5-EE73-4EC4-A8F0-AC875547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A60-F670-4CF6-AA36-E3EFB6EF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18B-AB74-415B-8FDC-DC259D16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D02-D98B-4E56-9DB3-C980EFE6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4CE-9AF8-42F1-B754-9C19936D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760-196C-4027-9CE8-1B9D48EE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74D2666-6C75-4783-B058-28DA3237D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6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Ballo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B02-DD37-4B12-AC9C-DA1481AE725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Considers Draft Comments In The Following Mann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fig5" descr=""/>
          <p:cNvPicPr/>
          <p:nvPr/>
        </p:nvPicPr>
        <p:blipFill>
          <a:blip r:embed="rId1"/>
          <a:stretch/>
        </p:blipFill>
        <p:spPr>
          <a:xfrm>
            <a:off x="1220760" y="1936800"/>
            <a:ext cx="6856560" cy="4083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95480" y="5791320"/>
            <a:ext cx="3429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1360" y="6019920"/>
            <a:ext cx="55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IEEE Companion, http://standards.ieee.org/guides/companion/part5.html#bal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D91-71CB-4B0D-A2A1-B8145F496C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urrent P802.15 Working Group is comprised of 40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F4D-42B2-49C4-9583-EFB1A210202E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802 Reporting Relation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7400" y="1895400"/>
            <a:ext cx="503712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69E4-8B4F-43A5-86BD-EEF6013DD54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265720" y="1981080"/>
            <a:ext cx="3344760" cy="308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364 Individ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 Corp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Organiz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resen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G and Sponsor Ballot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po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64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Corp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ty of .1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Organizational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83440" y="3774960"/>
            <a:ext cx="1066680" cy="9907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5791320"/>
            <a:ext cx="8382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802.15 WG needs to understand How To become an IEEE-SA Member an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he P802.15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70C-7889-4576-B614-A1E8399A19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th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line/Mile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lectronic Letter Ballot - 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Group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62A-03CE-4887-9F75-D20DA376C7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114800"/>
            <a:ext cx="64767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87B-CF80-482E-A4E7-0C6B50A8C8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line/Milest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15Ka" descr=""/>
          <p:cNvPicPr/>
          <p:nvPr/>
        </p:nvPicPr>
        <p:blipFill>
          <a:blip r:embed="rId1"/>
          <a:stretch/>
        </p:blipFill>
        <p:spPr>
          <a:xfrm>
            <a:off x="63360" y="2117880"/>
            <a:ext cx="9004320" cy="28350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990720" y="4191120"/>
            <a:ext cx="7048440" cy="1411200"/>
            <a:chOff x="990720" y="4191120"/>
            <a:chExt cx="7048440" cy="1411200"/>
          </a:xfrm>
        </p:grpSpPr>
        <p:sp>
          <p:nvSpPr>
            <p:cNvPr id="55" name=""/>
            <p:cNvSpPr/>
            <p:nvPr/>
          </p:nvSpPr>
          <p:spPr>
            <a:xfrm>
              <a:off x="990720" y="5257800"/>
              <a:ext cx="76176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12600" y="523404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Ballo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67560" y="4191120"/>
              <a:ext cx="137160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F79-3B0E-4ABA-883B-E03C6A10486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Electronic Letter Ballot - I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a PDF of the Draft P802.1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Letter Ballot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 LB and Comment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Letter Ballot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, Compile, and distribute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8CA-60D0-45B5-BAD9-BD67F535D2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: Finish P802.15.1 Draft on or before 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743200" y="27432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Nov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o the P802.15 Privat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A59-95D8-4B1C-B980-F81D241E34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Our plan is to start the Letter Ballot #1 Process on or before 8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29718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8Nov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e LB#1 and release the sam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897-A37D-4246-9FB7-BC5BCB76D10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: Our plan is to stop the Letter Ballot #1 Process on 13Dec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743200" y="378468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3Dec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LB Comments the sam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8FB-5DF7-4FD4-922B-389C68EB324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4: Issue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Recirculation Letter Ballot? If yes, Pre Tel-Aviv or Post Tel-Avi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-Aviv Interim Meeting Quor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Tel-Aviv Interim Meeting Balloting vs. Letter Ball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onsor Ballot submission is 18Feb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360" y="5257800"/>
            <a:ext cx="81532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ask Group 1 suggest that we identify the Post LB #1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s after the Comments are receiv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406-FD7A-4FEB-801A-864720DBB8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9T10:42:59Z</dcterms:created>
  <dc:creator>Ian C. Gifford</dc:creator>
  <dc:description>076r0</dc:description>
  <dc:language>en-US</dc:language>
  <cp:lastModifiedBy>Ian C. Gifford</cp:lastModifiedBy>
  <cp:lastPrinted>1998-02-10T13:28:06Z</cp:lastPrinted>
  <dcterms:modified xsi:type="dcterms:W3CDTF">1999-09-14T22:03:41Z</dcterms:modified>
  <cp:revision>15</cp:revision>
  <dc:subject>IEEE 802.15 WG Balloting Planning</dc:subject>
  <dc:title>IEEE 802.15 Working Group for Wireless Personal Area Networks</dc:title>
</cp:coreProperties>
</file>