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2C7-953E-4383-B02D-13C12F16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F31-93C8-4834-9BC5-B2C57783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146-7BD4-443A-9AC1-561A3DCD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763-5894-4706-9804-067754A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8AA-3FEF-4B95-9E87-727C6A4E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31B-E9D7-4E69-9D98-0144A9B2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626-E97C-4272-AA5E-ED74DF2D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092-CADA-492C-A1E0-C2E7466B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4FD-B014-4F0D-9406-91897CBC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03B-865A-47EB-A1E8-103D5EE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058-38C1-48E1-8B65-9FBA3AE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9B4-208B-45AB-8383-F2F36B9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76FE38-A65F-4CAF-AC24-8682164E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3716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ordinati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D17-6F1A-4216-801B-672CADDB3D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Function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Draf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99D-1640-4D55-98F2-918E705DF3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621-C6BA-46AB-AAA2-7C2866B469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luetooth SIG is set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680" y="2529000"/>
            <a:ext cx="8456040" cy="3174840"/>
            <a:chOff x="535680" y="2529000"/>
            <a:chExt cx="8456040" cy="3174840"/>
          </a:xfrm>
        </p:grpSpPr>
        <p:sp>
          <p:nvSpPr>
            <p:cNvPr id="54" name=""/>
            <p:cNvSpPr/>
            <p:nvPr/>
          </p:nvSpPr>
          <p:spPr>
            <a:xfrm>
              <a:off x="838080" y="3124080"/>
              <a:ext cx="2895840" cy="167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locking IPR’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ross Licens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152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6080" y="49528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976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5680" y="495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3124080"/>
              <a:ext cx="2286000" cy="15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6640" y="457200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QR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7227720" y="3583080"/>
              <a:ext cx="176400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9880" y="3886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6480" y="5335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ed to Blueto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523880" y="449568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81480" y="35719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99/0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A24-2F5C-4390-BD3C-3EE5DAE934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SIG should perceive the IEEE Process of Sub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Program Management will review their derived Draft; this takes two (2)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pproved the Draft will be submitted to the TG1 for thei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3124080"/>
            <a:ext cx="5715000" cy="2921040"/>
            <a:chOff x="3352680" y="3124080"/>
            <a:chExt cx="5715000" cy="2921040"/>
          </a:xfrm>
        </p:grpSpPr>
        <p:sp>
          <p:nvSpPr>
            <p:cNvPr id="69" name=""/>
            <p:cNvSpPr/>
            <p:nvPr/>
          </p:nvSpPr>
          <p:spPr>
            <a:xfrm flipV="1">
              <a:off x="6667200" y="433008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08600" y="335268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876560" y="449568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0760" y="373356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360" y="426708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560" y="554976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9712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509256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240" y="373356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360" y="472428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240" y="539712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358128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342864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9080" y="6045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508600" y="403812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5410080" y="316044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4680" y="312408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B8F-349A-4ED5-AF2A-9759B9A6A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97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EB8-616F-4591-A0BA-9F7565E237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o foll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487-0FC4-4331-9ACC-471C75E603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211-5FBB-4672-8DB5-C1973A48B5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4:06:10Z</dcterms:created>
  <dc:creator>Ian C. Gifford</dc:creator>
  <dc:description>079r0</dc:description>
  <dc:language>en-US</dc:language>
  <cp:lastModifiedBy>Ian C. Gifford</cp:lastModifiedBy>
  <cp:lastPrinted>1998-02-10T13:28:06Z</cp:lastPrinted>
  <dcterms:modified xsi:type="dcterms:W3CDTF">1999-09-15T14:53:31Z</dcterms:modified>
  <cp:revision>8</cp:revision>
  <dc:subject>IEEE 802.15 Planning</dc:subject>
  <dc:title>Bluetooth Coordination Planning</dc:title>
</cp:coreProperties>
</file>