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B66933-F1DF-4152-91A3-4A58F8FF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B3B-F06A-405F-BF83-85F77DD4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70C-992C-4E20-8204-1333223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EF6-E0AB-4075-9E2C-F1FD7436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6A1-E5CD-487E-8139-4CAD94A0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647-26F0-4CD9-B684-44C61D34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F8B-C8B8-48D4-A9B8-4475682F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E5E-A678-4B74-99B8-EE51F76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639-99A1-4E80-BE1D-79278CB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5E2-46A6-47AE-B19E-A21B14A7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C42-C343-4C6A-A3CA-8087222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3B5-76E9-4650-9089-B3172C2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8EC-4B3A-4A02-87A2-DCFE579B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0BBAC1-D461-403F-91D8-40C6AED2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D2A-7D9E-4A61-B428-C7D0B1FFBF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8FA-FCE0-49A5-B5FE-24E784ECE2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251-D13B-49F3-87FC-5ADCB5C04E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63A-6CFB-4D8E-BAB1-D896295AA9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D0B-F78B-42A6-A7D8-BCC610A52F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486-7C52-4527-9B19-161596576A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D93-4BE4-4453-892F-D8BF59CE18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9BC-3A27-4D20-8859-92E3738A8E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CB4-0AD6-4487-BBA3-A9564CB400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CD8-9115-4FC5-A8C4-959DA12DA9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05-42E4-4D21-9268-8190490291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C49-916A-4DE1-A930-2DD1A1352C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AEE-DAF6-4170-A683-E230EFB9211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6C9-5AD6-4855-87E7-489DA6C3D7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1r0</dc:description>
  <dc:language>en-US</dc:language>
  <cp:lastModifiedBy>Bridget Labrode</cp:lastModifiedBy>
  <cp:lastPrinted>1998-02-10T13:28:06Z</cp:lastPrinted>
  <dcterms:modified xsi:type="dcterms:W3CDTF">1999-09-15T23:04:25Z</dcterms:modified>
  <cp:revision>20</cp:revision>
  <dc:subject>IEEE 802.15 TG1 Report #2</dc:subject>
  <dc:title>IEEE P802.15 Working Group for Wireless Personal Area Networks</dc:title>
</cp:coreProperties>
</file>