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3200E3-99AA-4FAC-A5C7-4048211EA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800-0F51-47BE-8ACB-15B6AF63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55D-DD3D-46D5-9B3A-9012EDD4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5ED-0738-4402-8C2A-A9AF5680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475-2E7C-4875-AB5C-C9A013EA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97D-C811-46FA-8C2C-063F5396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46A-7EE9-41BC-B03C-A583E614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332-4CDD-4A8A-8E7F-194DA7FB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53C-EF07-4ECE-B82D-8E8EEC08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7E5-AACD-400C-BD5A-9BEC1D9E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054-2DB1-4991-AE59-E5D4C343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CE5-81F9-417B-84F0-FAB11A4F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C86-9CA5-4D14-90D1-09E020FE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E8B832C-ABA8-47A2-9F34-E85CA2E7D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56E-A423-41D0-9D78-832871E25F7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B75-752F-464E-B4BC-5D5509AA3E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-four (24)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(6) Bluetooth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an Interim Conference Tutorial on Tuesday 14Sep99 from 6:30 to 9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detailed overview of the “Mapping the Bluetooth Specification to IEEE 802.15.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0D7-D49A-4834-ADA1-7400F766DE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7184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33680" y="1968480"/>
            <a:ext cx="2463840" cy="1219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34080" y="2514600"/>
            <a:ext cx="1574640" cy="214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58880" y="3200400"/>
            <a:ext cx="7113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456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120" y="131436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TG1   ! SG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 !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!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 !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TG1 ! SG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!     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!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21B-ACC9-49A9-A0D4-38083D90F4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740560" y="2514600"/>
            <a:ext cx="157464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981080"/>
            <a:ext cx="1676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104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0160" y="1981080"/>
            <a:ext cx="1498320" cy="1752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7120" y="132732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    TG1   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SG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   TG1    | Joint.11/.15| SDL Model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...........|.............|   Class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SG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E95-1A0C-4374-93E3-776FF01175B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1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B #1 Comment Resolution (W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4160" y="247644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E92-1BFE-4CE4-B9FC-6F6513A2C3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TG1 Tasks (Moni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4160" y="175248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772-8911-4467-9456-B31FF69A49A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, 13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, 14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15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, 16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Santa Ro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FC4-08D8-4DAE-9918-2B91AB870A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asks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429264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33D-BDDC-4369-A65C-1F8942ACFB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imeline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5Ka" descr=""/>
          <p:cNvPicPr/>
          <p:nvPr/>
        </p:nvPicPr>
        <p:blipFill>
          <a:blip r:embed="rId1"/>
          <a:stretch/>
        </p:blipFill>
        <p:spPr>
          <a:xfrm>
            <a:off x="63360" y="1819440"/>
            <a:ext cx="9004320" cy="283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64240" y="3314880"/>
            <a:ext cx="7621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7960" y="5043600"/>
            <a:ext cx="65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G1 had an offline discussion with Vic Hayes Tuesday, 14Sep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help us understand the WG LB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5D9-7B1C-4DEC-893D-21A3A727F8A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13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4:15pm and processed all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WG &amp; SPONSOR BALLOT RUL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F8E-E42A-4603-8409-B21B104552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8:32am and processed most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BLUETOOTH SYSTEM (Morning &amp; Ev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BLUETOOTH LIA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1 MILESTONE/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FOR WG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FE8-2EF3-4DA2-B8FB-7FE522E488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Wedn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8:33am and processed most of our Agenda Items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FUNCTION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RESOURCE RECR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NING FOR SPONSOR BALLOT -99/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802 COORDINATION -99/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BLUETOOTH COORDINATION -99/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ETSI COORDINATION -99/[8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FOR INITIAL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NEXT STEP WITH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AND APPROVED WEDNESDAY DRAFT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257800"/>
            <a:ext cx="22100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3120" y="2611440"/>
            <a:ext cx="31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} siep@ti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05A-F2C8-44AD-B1CA-7F6486027C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 Draft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09D-907C-4601-9E43-A0246D44837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ur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X:XXam and processed most of our Agenda Items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FRIDAY DRAFT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NEXT STEPS/ACTIONS OF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4720" y="2666880"/>
            <a:ext cx="1748880" cy="14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I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ia .15 R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4B7-55FC-4493-A437-ACDDF3B74F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083r0</dc:description>
  <dc:language>en-US</dc:language>
  <cp:lastModifiedBy>Bridget Labrode</cp:lastModifiedBy>
  <cp:lastPrinted>1998-02-10T13:28:06Z</cp:lastPrinted>
  <dcterms:modified xsi:type="dcterms:W3CDTF">1999-09-16T17:47:22Z</dcterms:modified>
  <cp:revision>22</cp:revision>
  <dc:subject>IEEE 802.15 TG1 Report #2</dc:subject>
  <dc:title>IEEE P802.15 Working Group for Wireless Personal Area Networks</dc:title>
</cp:coreProperties>
</file>