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2BEC-0B1D-4A57-A43F-993FDDBB6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1833-C5C3-4146-9489-412AED18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CB4C-9EEA-45E8-BBC6-B65D6E17F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A404-E1F3-406D-9681-6E6F8DB9B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2A0F-734D-43BF-A858-31E8BC79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3607-51EA-41B5-BF45-4FDB6476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6B74-3E38-4693-910B-84E76FB9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61AA-19CD-4BEC-B1DF-C96A257E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6B13-BD67-49C7-92CD-00F5165E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A055-98DD-4D51-96DE-1E5AC199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9D07-C898-4B14-BA01-E118573F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EC06-615E-48DD-AC44-A079FBBC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CDEA494-488A-40B7-BE26-D4B4A7343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89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 on Thurs ExCom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utes of Meeting Available on 802 Web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treal Attendance 467 vs 488 plan but with a $5600 prof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 voted to increase munchies budget by $2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ed 802.16 PAR on Coexistence of Broadband Wireless Access Systems with a project number of 802.16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aming of 802.16 to 802.16.1 was tab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1489-63D2-4306-9AAA-267292EB728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 on Thurs ExCom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ed Submission of letter to FCC regarding RF Ligh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ed Submission of Comments to FCC on Wideband FH proposal subject to approval  by US Activities Bo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s encouraged to work with HomeRF at Sept Meeting to resolve a 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ed Submission of 802.11 a&amp;b to RevCom subject to compliance with conditional approval proced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6BF3-F28C-4864-852E-C70266A196C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 on Thurs ExCom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ed letters to ETSI requesting consideration of 802.11a as a member of the HIPERLAN family of standa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ed formation of an 802.11 SG on isochronous service and other enhancements--John Fakatselis, cha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firmed Officers of 802.15 through March 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907A-D570-4E16-BED1-6D5CCE96E4B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 on Thurs ExCom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ed Formation of an 802.15 SG on Coexis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yes did not see need for separate SG, covered by P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mpson thought it important, but scope beyond dot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ile promised strong liaisons, especially with dot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s did not understand need for including 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carried to strike 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mpson would like to see specific recommendations, by November, why this activity should stay within dot15 rather than being elevated to 802 lev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E21F-DCE6-4272-B96C-78800998F47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 on Thurs ExCom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art Kerry appointed chair of SEC subcommittee to prepare a recommendation on Network Access and Services by Sept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s of Multiple MACs and Multiple Standards per WG was socialized.  No Action Ta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ing 802 Plenary Meeting moved to 11-12 timeslot allowing WGs to begin work at 1p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eting adjourned at mid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01C1-3303-412F-99E0-A3C61E1AF8F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12:42:31Z</dcterms:created>
  <dc:creator>Bridget Labrode</dc:creator>
  <dc:description/>
  <dc:language>en-US</dc:language>
  <cp:lastModifiedBy>Bridget Labrode</cp:lastModifiedBy>
  <dcterms:modified xsi:type="dcterms:W3CDTF">1999-09-13T13:24:29Z</dcterms:modified>
  <cp:revision>5</cp:revision>
  <dc:subject/>
  <dc:title>No Slide Title</dc:title>
</cp:coreProperties>
</file>