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232-B667-4DCC-A1FB-0D1499EB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CE14-600D-4338-9E31-7313A7F7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CCD-B777-49D2-ABDB-D8E7E8E6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64B-AE26-4FEF-B0F8-0E854222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9A4-2D5A-4C3D-9CC8-7191EB9F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A03-2B26-4261-944E-701F2FE7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326-B6D2-40BE-A67C-1772F341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5D9-09F4-4ACA-82D4-732BBA45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81A-BCFE-4B8E-B1BF-10B9AF84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314-558D-4E38-82FC-D3D8E83A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DBE-1B88-4797-B369-E12729E6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82E-B9BE-42E6-9B6A-2A137478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DCAD493-7FB0-4D0C-964E-01A1D6DEB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9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-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Perspectives Column-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dition of Personal Communications Magazine-De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Briefing: Global Wireless 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D5E-995C-4A1B-B6F8-ADF49B0717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Eng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/PC   ---Chiba, Japan Ma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99 Developers Conference  ---London, Jun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45, MobileIP WG ---Oslo, Norway, 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CON  ---Denver,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WC  ---San Francisco, 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ing Standards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ID News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6AF-D58F-4498-A2C5-388DF942AE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3:16:34Z</dcterms:created>
  <dc:creator>Bridget Labrode</dc:creator>
  <dc:description/>
  <dc:language>en-US</dc:language>
  <cp:lastModifiedBy>Bridget Labrode</cp:lastModifiedBy>
  <dcterms:modified xsi:type="dcterms:W3CDTF">1999-09-13T13:38:08Z</dcterms:modified>
  <cp:revision>2</cp:revision>
  <dc:subject/>
  <dc:title>No Slide Title</dc:title>
</cp:coreProperties>
</file>