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77A2CD5-D032-4391-AA5A-3251616B2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5339641-514F-49A6-B110-62EB029C4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F08638-F76A-4089-8BB0-C3C2EEE434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21F914-855A-46E7-B778-03D966BF01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010A5-FCF1-4406-AA86-70EB87AFD7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7086CB-2D93-4C98-969B-BB03E6D57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314B22-357E-4F6C-955D-1B5F679596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BDE2CA-A15D-42BA-A09C-40DA169EB8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830E2E-29B0-4FC8-A0BA-836504B3E7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FED4C-67F7-498E-9859-ADFC988B34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A4F408-49C5-4E5A-8C00-62B3172668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4F682-09EE-42C8-AD68-88A13361CE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6FB381-EF3A-4105-9A35-F167C9658D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6BEA05-B302-4D2B-A181-A65DC158AE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8BB3-1055-4684-A9D5-265A2C07E52F}" type="datetime5">
              <a:rPr b="1" lang="en-US" sz="1400" spc="-1" strike="noStrike">
                <a:solidFill>
                  <a:srgbClr val="000000"/>
                </a:solidFill>
                <a:latin typeface="Times New Roman"/>
              </a:rPr>
              <a:t>Jul 30,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E3C335-E184-43E9-B1BF-44518BE7E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050D24-FFA6-488E-833B-D3B2A9452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3757-ED83-47D3-9B62-0C5EB9968C6D}" type="datetime5">
              <a:rPr b="1" lang="en-US" sz="1400" spc="-1" strike="noStrike">
                <a:solidFill>
                  <a:srgbClr val="000000"/>
                </a:solidFill>
                <a:latin typeface="Times New Roman"/>
              </a:rPr>
              <a:t>Jul 30,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89BFCB8C-80C0-4012-94DA-614011A503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