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1C-B545-437F-B426-375C1CB9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905-A41F-419A-933B-9991792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ADA-BC62-435E-9458-927B6A31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D37-0BC1-4DDE-810A-7A05681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920-C8FB-4DAF-807B-B78BAAD6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B6A-C82F-4AC7-A559-07D8214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D86-0D4A-4338-BED1-B02EF51C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EB4-7B6C-4294-9B2A-2D07F25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44B-745D-4642-B5EA-3F0DCE01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58A-AF4B-4B26-830B-AE5BF4A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E63-6D14-450D-B75C-63E8DEF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EA3-576A-416A-8E0D-409FF34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A1AAD6-07B8-426B-9F19-4F9AF2E45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Seattle Hot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Joint 802.11 and 802.15 Interim Mee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y 8-12, 20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2362320"/>
            <a:ext cx="7861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48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500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29.00 per nigh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3000.00 per 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85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1175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C49-94FA-46D6-9D7D-5F594BD005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40" y="2590920"/>
            <a:ext cx="9138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Renaissance Ho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5 Madiso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ttle, WA 98104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renaissancehotels.com/seasm/fastfac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heart of downtown, The Madison Hotel is ideally located minutes from Seattle's major financial, medical, retail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usiness districts, just three blocks from the Washington State Convention and Trade Center and 20 min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Sea - Tac International Airport. A recipient of the AAA 4 Diamond award, The Madison treats guests to delux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ccommodations and exquisite personal ser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a-Tac International Airport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 miles/25 minutes South Taxi @ $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irport Expr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Airport Shuttle Service $7.50 one way of $13 roundtrip runs every 20 minutes 5am - 11:30 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7051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160956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575-4B19-45DE-8033-72477C49D5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91440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anaughs on Fifth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5 Fif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avanaugh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vanaughs on the corner of Fifth and Pike Avenues is located in the heart of downtown Seattle and offers 297 delu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accommodations with spectacular views of Puget Sound  and convention facilities in the city's most vib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town neighborhood. Cavanaughs 12,000 square feet of meeting space has state-of-the-art presentation system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ansive views  that complement rich decor. Our professional catering staff ensures a rewarding experience fo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pecial events from 10 person board meetings to banquets for 600 in our Emerald Ball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0480" cy="29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7720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407-2089-4611-A8DD-2C74BC3FB3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7980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2 Four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hotels.com/cities/seatt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hotel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as a beacon in the thriving heart of Seattle, W SEATTLE will rise as a premier destination for the savvy traveler. Reminiscent of some of Seattle's classic towers, W SEATTLE combines elements of the city's architectural history in a modern interpretation of the Northwestern Regional Style. Crowned with a steel and mesh pyramid, its magical glow 26 stories above the street will make you feel the energy of this city on the cutt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was conceived by Starwood Hotels and Resorts Worldwide with one purpose in mind. To inspire the business traveler and provide solace and refuge in a hectic world. Throughout our 419 large, modern rooms and 16 suites, pillow top beds and luxurious linens, down-cushioned banquettes, a great desk, and custom furnishings await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is all about service and amenities. Whatever you want, whenever you wan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is located in the center of Seattle's burgeoning downtown, close to all th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 the famous Space Needle. Savor a cup of coffee or catch a fresh fish at the 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Market. Lose yourself in a sublime performance at the new Benaroya Symphony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D8D-AC17-4281-9BA2-105C69CE19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32:38Z</dcterms:created>
  <dc:creator>Mike McInnis</dc:creator>
  <dc:description/>
  <dc:language>en-US</dc:language>
  <cp:lastModifiedBy>Standard Software Service</cp:lastModifiedBy>
  <dcterms:modified xsi:type="dcterms:W3CDTF">1999-09-15T15:22:11Z</dcterms:modified>
  <cp:revision>10</cp:revision>
  <dc:subject/>
  <dc:title>May 2000  Seattle Hotels</dc:title>
</cp:coreProperties>
</file>