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DC0-8F28-4941-B785-B98837F1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121-729E-4736-AA63-A4378F59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4FF-ACDA-4421-88BF-C696DA7C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660-CE80-4828-9D97-E02B288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598-60A5-48B4-BDFE-003DB84F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CC5-0348-4D5F-9A5B-F6694FD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30D-9761-4C44-9E49-9262C010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ABA-05DE-4FEE-BECD-97E2C0E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218-F38E-497C-811E-3BE9E16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617-405E-42EC-A195-C6AB0C6E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255-F04D-4BC3-9F55-AAF2B25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821-A7A0-403D-A09F-0379813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098F97-2CC3-4C63-8D2C-64B742E9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0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tudy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A3F-99D5-4DDE-9ACF-2B3642D5B4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Authorization 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ri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eing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OM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i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27A-03C5-4EC4-BFD6-83E7F1AE60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has voted to submit the PAR to th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ove that the Working Group vote to submit  the Coexistence Study Group PAR and Five Criteria to the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99/08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C7D-382A-4919-AFA3-A814FE467C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100r1</dc:description>
  <dc:language>en-US</dc:language>
  <cp:lastModifiedBy>Bridget Labrode</cp:lastModifiedBy>
  <cp:lastPrinted>1998-02-10T13:28:06Z</cp:lastPrinted>
  <dcterms:modified xsi:type="dcterms:W3CDTF">1999-09-16T17:54:55Z</dcterms:modified>
  <cp:revision>12</cp:revision>
  <dc:subject>IEEE 802.15 &lt;subject&gt;</dc:subject>
  <dc:title>IEEE P802.15 Working Group for Wireless Personal Area Networks</dc:title>
</cp:coreProperties>
</file>