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784EC-E79C-4BDD-8BE3-5FDBEE0CC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B850A-E969-4923-9ABC-D1CD60FB1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5AE7D-1773-4041-BD6A-578C679DF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D6F7C-BDB2-4C05-8EBD-63EC942A9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84626-D1AD-403C-9F1D-B00361F7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5C95-2139-4E3C-901D-4915F681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CDB8-19D8-459A-A12E-5D02DDB9B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738A2-3C68-4774-89FE-6EB688BDA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5AB9-375C-4C86-91F9-219A5DBC9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DB50-075F-473F-BEB2-D8CCF7C58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8D91-1F24-4369-9DCC-93CC17871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0BE9-A973-4784-8827-BFB550BEA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BB1A09-7E67-49CD-8E86-2C0F003F1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0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Report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vid Intercontinental Hotel 12, Kaufman St. Tel Aviv Israel</a:t>
            </a:r>
            <a:endParaRPr b="0" lang="en-US" sz="3200" spc="-1" strike="noStrike">
              <a:solidFill>
                <a:srgbClr val="000000"/>
              </a:solidFill>
              <a:latin typeface="Arial"/>
            </a:endParaRPr>
          </a:p>
        </p:txBody>
      </p:sp>
      <p:pic>
        <p:nvPicPr>
          <p:cNvPr id="47"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BD10AD-7F3E-4FF8-A367-26790F23AF5B}" type="slidenum">
              <a:t>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Publication Activity (con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Network Interactive, IEEE 802 Perspectives, Feature Column, July/August 1999</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tandards.ieee.org/reading/ieee/SB/1999/bearer_1999July.pdf</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Bearer, Vol. 13, No. 3 July 1999</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207.127.135.8/ni/public/1999/jul/index.htm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Working Group Press Release, 14 April 1999</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grouper.ieee.org/groups/802/15/pub/PR2.htm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ECA5B4-2A4F-4D6E-847F-85BE7EC91777}" type="slidenum">
              <a:t>10</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Publication Activity (cont.)</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Paving The Way for Personal Area Network Standards: An Overview of The IEEE P802.15 Working Group for Wireless Personal Area Networks</a:t>
            </a:r>
            <a:r>
              <a:rPr b="0" lang="en-US" sz="2400" spc="-1" strike="noStrike">
                <a:solidFill>
                  <a:srgbClr val="000000"/>
                </a:solidFill>
                <a:latin typeface="Arial"/>
              </a:rPr>
              <a:t>" Thomas M. Siep, Ian C. Gifford, Richard C. Braley, Robert F. Heile, IEEE Personal Communications, The Magazine of Nomadic Communications and Computing - Special Issue on "Technologies for short range, wireless communications", February 200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grouper.ieee.org/groups/802/15/bin/PCMag/PCMag.htm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
          <p:cNvSpPr/>
          <p:nvPr/>
        </p:nvSpPr>
        <p:spPr>
          <a:xfrm>
            <a:off x="355680" y="5486400"/>
            <a:ext cx="84582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ix (6) Technical Papers planned for thi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 and coming publication.  Watch for th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EFECB47-CDBF-418F-94AF-49B5058B2E37}" type="slidenum">
              <a:t>1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Publication Activity (cont.)</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reless Personal Area Networks: An Overview of the IEEE P802.15 Working Group”, Richard C. Braley, Federal Express Corporation, Ian C. Gifford, M/A-COM, Inc., Robert F. Heile, GTE Technology OrganizationMobile Computing and Communications Review (MC2R), ACM SIGMOBILE, ? 2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Article for Dr. Dobbs Journal], Dr. Dobb's Journal, ? 200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BAC3FD-13F8-4697-9FFE-82B15F57327D}" type="slidenum">
              <a:t>1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erence Tutorials &amp; Presentation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Development Organizations</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Variou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Development Conference ’98, ‘99</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P World’99</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97, ‘98, ‘99</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99</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L’98</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ais’98</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B04BA39-6065-4461-BA7F-6E2D7744DF45}" type="slidenum">
              <a:t>1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 Based MARCOM</a:t>
            </a:r>
            <a:endParaRPr b="0" lang="en-US" sz="3600" spc="-1" strike="noStrike">
              <a:solidFill>
                <a:srgbClr val="000000"/>
              </a:solidFill>
              <a:latin typeface="Times New Roman"/>
            </a:endParaRPr>
          </a:p>
        </p:txBody>
      </p:sp>
      <p:sp>
        <p:nvSpPr>
          <p:cNvPr id="76" name="PlaceHolder 2"/>
          <p:cNvSpPr>
            <a:spLocks noGrp="1"/>
          </p:cNvSpPr>
          <p:nvPr>
            <p:ph/>
          </p:nvPr>
        </p:nvSpPr>
        <p:spPr>
          <a:xfrm>
            <a:off x="380880" y="1981080"/>
            <a:ext cx="830592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 Home Page</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index.html</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 Press Releases HTML Page</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pub/PR.html</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Committee HTML Page</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pub/MC.html</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Site Link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luetooth.com/</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27A355D-D173-4576-9410-336D931AFC73}" type="slidenum">
              <a:t>1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aVista Search: “WPAN”</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 Pages Found</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7</a:t>
            </a:r>
            <a:endParaRPr b="0"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PAN and Library Link</a:t>
            </a:r>
            <a:endParaRPr b="0" lang="en-US" sz="2000" spc="-1" strike="noStrike">
              <a:solidFill>
                <a:srgbClr val="000000"/>
              </a:solidFill>
              <a:latin typeface="Arial"/>
            </a:endParaRPr>
          </a:p>
          <a:p>
            <a:pPr lvl="1" marL="683280" indent="-262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802exec: 5 Criteria for WPAN</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PSD vs West Virginia (Oct. 14, 1997) </a:t>
            </a:r>
            <a:endParaRPr b="0" lang="en-US" sz="2000" spc="-1" strike="noStrike">
              <a:solidFill>
                <a:srgbClr val="000000"/>
              </a:solidFill>
              <a:latin typeface="Arial"/>
            </a:endParaRPr>
          </a:p>
          <a:p>
            <a:pPr lvl="1" marL="683280" indent="-262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IEEE P802.15 Working Group for Wireless Personal Area Networks (WPANs)</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lass73</a:t>
            </a:r>
            <a:endParaRPr b="0" lang="en-US" sz="2000" spc="-1" strike="noStrike">
              <a:solidFill>
                <a:srgbClr val="000000"/>
              </a:solidFill>
              <a:latin typeface="Arial"/>
            </a:endParaRPr>
          </a:p>
          <a:p>
            <a:pPr lvl="1" marL="683280" indent="-262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 IEEE P802.11, Main general info page</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Location-Aware Wearable Computers &amp; Voice Based Interaction </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F3CFAF5-85CC-40FA-AF17-1DD9323DF997}" type="slidenum">
              <a:t>1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aVista Search: “P802.15”</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Page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3</a:t>
            </a:r>
            <a:endParaRPr b="0" lang="en-US" sz="24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IEEE P802.15 Working Group for Wireless Personal Area Networks (WPANs) </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IEEE P802.15 Working Group for Wireless Personal Area Networks (WPANs)</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 IEEE P802 LMSC Launches New Working Group P802.15, on Wireless Personal Area</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4E5043-61EB-4744-9826-A29C4EAF3007}" type="slidenum">
              <a:t>1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 Summar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ua’i Summar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im Session Summar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Tel-Aviv </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Scheduling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a:t>
            </a: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C9B40AB-5CCD-485C-AC55-65EFF7352F97}"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Next Step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open marketing coordination dialog with John Webb at Intel (John Webb, Intel, John.P.Webb@intel.com, +1.408.765.423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 position on the charges issue for 802.15 review by January, 2000. Submit to IEEE by March,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volunteers and Editorial Team lead to generate and submit to the IEEE and Bluetooth SIG a list of suggested Marketing material to support the IEEE Draft (primer, handbook, and compan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volunteers and Editorial Team lead to review Bluetooth Upper Layers to determine if there are other SDOs  that might also be interested in  paralleling the TG1 work if ETSI remains undecid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volunteers and lead to find out what commercial publications are availabl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A4A33F0-9F8F-4EA1-AA67-AD1FA8476831}"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Next Steps (con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vide a white paper to the IEEE on the TG1 perceived publishing issues for a joint standard, draft by Janu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List of suggested  marketing material to support the IEEE draft eg handbook, companion, pocket guides Definitions audience content format commercial pubs draft Janu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upport High Rate effort; brainst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Determine if there are other SDOs that might also be interested in paralleling the TG1 work if ETSI remains undecided, brainst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Trademark "WPAN" protect URL list of 6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Suggest website edi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AD8E0A6-A89F-40DA-B9EF-CE6CAF1E35B4}" type="slidenum">
              <a:t>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Next Steps (con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a"</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to draft first version of the procedure to be discussed at January meeting</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b"</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Bluetooth SIG and issue liaison letter directly to Bluetooth to determine what material is available</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d"</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ETSI as primary but explore other IEEE groups as secondary, with IETF as backup</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e"</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terms such as 802.15, POS, http://www wpan.com/org/net</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 logo that will embellish the 802.15 team</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Item: Ian Gifford to modify web site by adding search criteria that will help Internet Search engines capture our key wor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D34502-64D9-4E20-A72D-195B18574D77}" type="slidenum">
              <a:t>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Aviv Objectiv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ve HI Minutes -99/129r0</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marketing with BT SIG</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om activities</a:t>
            </a:r>
            <a:endParaRPr b="0" lang="en-US" sz="16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erences</a:t>
            </a:r>
            <a:endParaRPr b="0" lang="en-US" sz="14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I BRAN Liaison Status</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ng</a:t>
            </a:r>
            <a:endParaRPr b="0" lang="en-US" sz="16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mark status</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L status</a:t>
            </a:r>
            <a:endParaRPr b="0" lang="en-US" sz="14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ite</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Standard Publication</a:t>
            </a:r>
            <a:endParaRPr b="0" lang="en-US" sz="16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of  Publication Procedure Proposal</a:t>
            </a:r>
            <a:endParaRPr b="0" lang="en-US" sz="14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book and ancillary info for TG1</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Activities for TG2</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Activities for High Rate Study Group</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tasks and individual/group assignments for the week in Tel Aviv, Isra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B9C088-55A3-48B2-A786-784170468CCF}" type="slidenum">
              <a:t>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MC Graphic</a:t>
            </a:r>
            <a:endParaRPr b="0" lang="en-US" sz="3600" spc="-1" strike="noStrike">
              <a:solidFill>
                <a:srgbClr val="000000"/>
              </a:solidFill>
              <a:latin typeface="Times New Roman"/>
            </a:endParaRPr>
          </a:p>
        </p:txBody>
      </p:sp>
      <p:graphicFrame>
        <p:nvGraphicFramePr>
          <p:cNvPr id="59" name=""/>
          <p:cNvGraphicFramePr/>
          <p:nvPr/>
        </p:nvGraphicFramePr>
        <p:xfrm>
          <a:off x="343080" y="1752480"/>
          <a:ext cx="8459640" cy="4211640"/>
        </p:xfrm>
        <a:graphic>
          <a:graphicData uri="http://schemas.openxmlformats.org/presentationml/2006/ole">
            <p:oleObj progId="Excel.Sheet.12" r:id="rId1" spid="">
              <p:embed/>
              <p:pic>
                <p:nvPicPr>
                  <p:cNvPr id="60" name="" descr=""/>
                  <p:cNvPicPr/>
                  <p:nvPr/>
                </p:nvPicPr>
                <p:blipFill>
                  <a:blip r:embed="rId2"/>
                  <a:stretch/>
                </p:blipFill>
                <p:spPr>
                  <a:xfrm>
                    <a:off x="343080" y="1752480"/>
                    <a:ext cx="8459640" cy="4211640"/>
                  </a:xfrm>
                  <a:prstGeom prst="rect">
                    <a:avLst/>
                  </a:prstGeom>
                  <a:ln w="0">
                    <a:noFill/>
                  </a:ln>
                </p:spPr>
              </p:pic>
            </p:oleObj>
          </a:graphicData>
        </a:graphic>
      </p:graphicFrame>
      <p:sp>
        <p:nvSpPr>
          <p:cNvPr id="61" name=""/>
          <p:cNvSpPr/>
          <p:nvPr/>
        </p:nvSpPr>
        <p:spPr>
          <a:xfrm>
            <a:off x="208800" y="6205680"/>
            <a:ext cx="660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is graphic describes the weekly session of the IEEE P802.15, w/ </a:t>
            </a:r>
            <a:r>
              <a:rPr b="1" lang="en-US" sz="1200" spc="-1" strike="noStrike">
                <a:solidFill>
                  <a:srgbClr val="ff0000"/>
                </a:solidFill>
                <a:latin typeface="Arial"/>
              </a:rPr>
              <a:t>MC</a:t>
            </a:r>
            <a:r>
              <a:rPr b="1" lang="en-US" sz="1200" spc="-1" strike="noStrike">
                <a:solidFill>
                  <a:srgbClr val="000000"/>
                </a:solidFill>
                <a:latin typeface="Arial"/>
              </a:rPr>
              <a:t> highlight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3C4DEFE-4336-4767-B7A2-DF25D75F47C6}" type="slidenum">
              <a:t>7</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14E5FE1-3C46-4D8E-8119-47C0C568C288}" type="slidenum">
              <a:t>8</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Publication Activity</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andards groups eye unified broadband wireless specs”, Loring Wirbel, EE Times, 15 January 1999</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etimes.com/story/OEG19990115S001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gress Report: IEEE 802.11 Wireless Personal Area Network Study Group”, Open Systems Standards Tracking Report, Dick Braley and Ian Gifford, 11 March 1999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broken link&g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Working Group Press Relea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tandards.ieee.org/announcements/802.15.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BDDE8C9-A5EF-4864-9B6D-28EF0FE8C072}" type="slidenum">
              <a:t>9</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99/175r0</dc:description>
  <dc:language>en-US</dc:language>
  <cp:lastModifiedBy>Ian C. Gifford</cp:lastModifiedBy>
  <cp:lastPrinted>1998-02-10T13:28:06Z</cp:lastPrinted>
  <dcterms:modified xsi:type="dcterms:W3CDTF">2000-01-12T07:26:07Z</dcterms:modified>
  <cp:revision>96</cp:revision>
  <dc:subject>IEEE 802.15 TG1 Report</dc:subject>
  <dc:title>IEEE P802.15 Working Group for Wireless Personal Area Networks</dc:title>
</cp:coreProperties>
</file>