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2AE-D9DC-483E-B5E6-3B25D560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648-4321-4746-8349-7980AC07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DFFA-839F-4A66-A98C-B243FC1A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D30-2AE5-432D-89E9-209139E4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4610-CDA5-4E2C-8457-82B1EF03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3E3-B591-41BC-8379-B72BD1D5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1AC-232B-4EDD-B374-8A19CF57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122-BC04-4DDA-8476-9CEC388F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DE5-014A-4E2A-96C8-392BF23A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1F5-FDC6-4F6E-8EEC-4A9B00F8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AF7D-5171-40BB-AD32-B30C7FDE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94B-1817-43D6-8123-C8962064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845FE12-5EB6-471B-9C75-68DD01E37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01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rketing Needs of TG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0A8-CBB4-4C86-8416-54E42C80E7D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arketing Needs of TG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te a clear message about the purpose of TG2 (Produ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white paper expressing TG2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cit additional contribu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 benefits to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Recommended Prac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xistence Handbook with details of Coexistence Model (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C6F2-193B-4686-978D-909103998B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arketing Needs of TG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Communication (Promo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into issuing corporate press releases derived from IEEE press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 set of speaking arrangement to promote TG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potential places to write an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&amp; HomeRF refl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articles &amp;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6F2-BD87-4EAD-B5B4-A0FBDD44E8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TG2 Marketing person to work with the Marketing Committee on the TG2 Marketing effort. (Steve to find volunte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list of upcoming conferences for potential speaking arrangements (M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a list of potential magazines and places to publish articles (M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MC edit all articles &amp;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991-8824-4F32-9C68-59D2D2FBC8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ve Shellhammer</cp:lastModifiedBy>
  <cp:lastPrinted>1998-02-10T13:28:06Z</cp:lastPrinted>
  <dcterms:modified xsi:type="dcterms:W3CDTF">2000-01-12T08:18:59Z</dcterms:modified>
  <cp:revision>67</cp:revision>
  <dc:subject>IEEE 802.15 &lt;subject&gt;</dc:subject>
  <dc:title>IEEE P802.15 Working Group for Wireless Personal Area Networks</dc:title>
</cp:coreProperties>
</file>