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1BFB82-B34B-47FC-841D-68C01C60D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9776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9632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37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571E8D-E8C5-48A0-A3F3-339E77034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8120" cy="34340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5840" y="4365360"/>
            <a:ext cx="502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730F18-07AB-4F66-B1CC-E6028A018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8120" cy="34340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5840" y="4365360"/>
            <a:ext cx="502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22E8B9-778E-4ED0-864C-B3EF43131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8120" cy="34340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5840" y="4365360"/>
            <a:ext cx="502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D88-8D2E-4BA7-8555-DA99CD0D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DD9-4025-4393-A9CD-2226A66D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AB9-F5CE-4528-8DC9-B6DDE7DD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7A8-C50C-4624-91A8-EDB1C3E0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AF3-E2DE-44D5-A2FE-9A628932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A13C-CA94-4D4D-8F83-7C31AE9A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AB7-977B-4023-8603-4AB96960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489-17DB-471E-A2AC-47C46401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7FD-E459-4A6A-9C69-A35780AC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98B-8D51-44E4-BEE1-35DC8B6E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992-B66F-4816-B14F-80387FA9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11C-F802-4304-92CC-5EEB464F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7A15D1-AFF6-42E9-A562-41EBBFE94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6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™-IEEE Working Group and IEEE P802.15 Working Group for WPANs Liaison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, 8Dec99 7:00am to 8:00am P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™ Developers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in Bonaventure Hotel, Los Angeles, California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246-46C6-4903-98E7-0CB20A2FACE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4800600"/>
            <a:ext cx="3886200" cy="533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- TG1 i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scope and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related standards and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, revise, rev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08600" y="4819680"/>
            <a:ext cx="190512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fig4" descr=""/>
          <p:cNvPicPr/>
          <p:nvPr/>
        </p:nvPicPr>
        <p:blipFill>
          <a:blip r:embed="rId1"/>
          <a:stretch/>
        </p:blipFill>
        <p:spPr>
          <a:xfrm>
            <a:off x="6037200" y="1542960"/>
            <a:ext cx="1524240" cy="4934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870320" y="474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789680" y="5018040"/>
            <a:ext cx="5331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C66-1D58-4660-ACD4-6DC8FD2D05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5105520"/>
            <a:ext cx="3886200" cy="647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4343400"/>
            <a:ext cx="190512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- TG1 done by Dec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Jun97 - Idea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8 - Find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99 - Submit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9 - Approv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 - Organiz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99 - Develop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99 - Ballot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00 - Approv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00 - Publish approv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fig1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02320" cy="4384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3720" y="559260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 b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7924320" y="53337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2AE-E2F2-4C67-8931-E43AA2B3CF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: Our plan was to stop the Letter Ballot #1 Process on 10Dec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2743200" y="378468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B #1 will be complete 23Dec99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B Comments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638680" y="1142640"/>
            <a:ext cx="3128760" cy="1176480"/>
            <a:chOff x="5638680" y="1142640"/>
            <a:chExt cx="3128760" cy="1176480"/>
          </a:xfrm>
        </p:grpSpPr>
        <p:sp>
          <p:nvSpPr>
            <p:cNvPr id="202" name=""/>
            <p:cNvSpPr/>
            <p:nvPr/>
          </p:nvSpPr>
          <p:spPr>
            <a:xfrm>
              <a:off x="6936120" y="1676520"/>
              <a:ext cx="183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23Dec9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638680" y="1142640"/>
              <a:ext cx="16765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D90-0DE8-4703-AC00-6B49FC78EC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4: Our plan is resolve the LB #1 Comments 10-14Jan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666880" y="4267080"/>
            <a:ext cx="6019920" cy="1524240"/>
          </a:xfrm>
          <a:prstGeom prst="leftArrow">
            <a:avLst>
              <a:gd name="adj1" fmla="val 50000"/>
              <a:gd name="adj2" fmla="val 9873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B #1 Comment Resolution the d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eek of 10-14Jan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33520" y="2681280"/>
            <a:ext cx="5906160" cy="3795840"/>
            <a:chOff x="533520" y="2681280"/>
            <a:chExt cx="5906160" cy="3795840"/>
          </a:xfrm>
        </p:grpSpPr>
        <p:sp>
          <p:nvSpPr>
            <p:cNvPr id="209" name=""/>
            <p:cNvSpPr/>
            <p:nvPr/>
          </p:nvSpPr>
          <p:spPr>
            <a:xfrm>
              <a:off x="533520" y="4952880"/>
              <a:ext cx="4038480" cy="1524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514600" y="2681280"/>
              <a:ext cx="3925080" cy="2728800"/>
              <a:chOff x="2514600" y="2681280"/>
              <a:chExt cx="3925080" cy="2728800"/>
            </a:xfrm>
          </p:grpSpPr>
          <p:sp>
            <p:nvSpPr>
              <p:cNvPr id="211" name=""/>
              <p:cNvSpPr/>
              <p:nvPr/>
            </p:nvSpPr>
            <p:spPr>
              <a:xfrm flipH="1">
                <a:off x="2514600" y="2971800"/>
                <a:ext cx="327672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105160" y="2681280"/>
                <a:ext cx="133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Critical Ste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0C0-61E9-42D3-93C3-070788D83A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: Contact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n Gifford - IEEE P802.15.1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fordi@iee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: +1 978 442 46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Heile - IEEE P802.15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eile@bb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: +1 781 466 20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 Siep - IEEE P802.15.1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p@t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: +1 972 480 67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EB6-98AF-4E12-A6A6-120777664D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: Additiona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iee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tandards.iee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tandards.ieee.org/faqs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-SA Balloting Poo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tandards.ieee.org/db/balloting/ballotform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P802.15 WG for WP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grouper.ieee.org/groups/802/1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BF7-4A5C-4793-A76C-E5EF956507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™-IEEE Working Group and IEEE P802.15 Working Group for WPANs Liaison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4ED-BB06-4537-AD14-BF241B8E21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: An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Established in 1884 (AIEE &amp; 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Dec98 Membership was 334,811; 66% USA &amp; 33% Non-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produces 30 percent of the world's published literature in electrical engineering, computers and control technolog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holds annually more than 300 major conferences and tradesh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has more than 800 active standards with 700 under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244-4D8C-4AE0-9869-320D2684AC9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Inter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80880" y="1476360"/>
            <a:ext cx="823608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35C-B75D-4410-A7DD-EBBE920492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Standards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46320" y="1498680"/>
            <a:ext cx="6983280" cy="4902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238880" y="59436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3429000"/>
            <a:ext cx="40384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14400" y="201132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572000" y="2286000"/>
            <a:ext cx="129528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329-A506-4223-A50E-4B69A0807D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eting Goal &amp; 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al of the meeting is to provide the Bluetooth SIG an opportunity to meet with some of the IEEE Leadership and discuss the latest information on the Bluetooth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EEE Draft Standard [P802-15/D0.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 7:00am to 8:00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Schedules (BT &amp; IE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P802.15 Balloting Process (WG and Spons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FF5-94F3-4340-AAC1-E0D1577751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66840" y="1473120"/>
            <a:ext cx="8408880" cy="477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54E-90F9-4726-9964-AA23B9DDF0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Status (Aug199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2.1 VLAN Approved (802.1)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2.2 Hiber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2.3 1000BASE-T Approved, 10G Study Group Under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2.4 Hiber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2.5 High Speed Token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2.6 Hiber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2.7 Hiber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2.8 Fiber Guidelines Bal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2.9 Hiber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2.10 Hiber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2.11 Higher Speed Activity Under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2.12 Hiber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2.14 WG Draft Ballot, Advanced PHY P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2718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18e6"/>
                </a:solidFill>
                <a:latin typeface="Arial"/>
              </a:rPr>
              <a:t>802.15 WPAN Task Group, Coexistence Study Group and Marketing Committee Under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2.16 Broadband Access Projects (LMDS). This will also have ETSI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511-4B23-4688-9A6B-5FFBA7B7D0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73120" y="1600200"/>
          <a:ext cx="79614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600200"/>
                    <a:ext cx="79614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510-B27B-4C10-B47D-E91831062EB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Meeting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899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P802.15 WPAN MEE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10-14, 2000 Tel-Aviv, Israel, David Inter-Continental Hotel, 802.15 Interim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6-10, 2000 Albuquerque, NM USA, Hyatt, 802 Plenary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8-12, 2000 Seattle, WA USA, Renaissance Madison Hotel, 802.15 Interim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10-14, 2000 LaJolla, CA USA, Hyatt Regency, 802 Plenary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tative September 18-22, 2000 Memphis, TN USA, TBD, 802.15 Interim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6-10, 2000 Tampa, FL USA, Hyatt Regency, 802 Plenary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rouper.ieee.org/groups/802/15/pub/Meeting_Pl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06EA-8831-4E83-B9AD-2E0510ACEF2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IEEE 802.15 Draft Was Cre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vered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om Siep’s presentation today at 5pm (session D23) for an expla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B1E-F128-4CC1-9781-8F0AC817C3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G Draft Standard Flow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72960" y="2724120"/>
          <a:ext cx="3357720" cy="19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2724120"/>
                    <a:ext cx="335772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 flipV="1">
            <a:off x="2057400" y="23410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234144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34144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num7" descr=""/>
          <p:cNvPicPr/>
          <p:nvPr/>
        </p:nvPicPr>
        <p:blipFill>
          <a:blip r:embed="rId3"/>
          <a:stretch/>
        </p:blipFill>
        <p:spPr>
          <a:xfrm>
            <a:off x="5562720" y="1523880"/>
            <a:ext cx="2257200" cy="633600"/>
          </a:xfrm>
          <a:prstGeom prst="rect">
            <a:avLst/>
          </a:prstGeom>
          <a:ln w="0">
            <a:noFill/>
          </a:ln>
        </p:spPr>
      </p:pic>
      <p:pic>
        <p:nvPicPr>
          <p:cNvPr id="68" name="Bluetooth%20logo%20(tm)" descr=""/>
          <p:cNvPicPr/>
          <p:nvPr/>
        </p:nvPicPr>
        <p:blipFill>
          <a:blip r:embed="rId4"/>
          <a:stretch/>
        </p:blipFill>
        <p:spPr>
          <a:xfrm>
            <a:off x="1143000" y="1486080"/>
            <a:ext cx="2651040" cy="57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4805280" y="2716200"/>
          <a:ext cx="4113360" cy="24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5280" y="2716200"/>
                    <a:ext cx="411336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57200" y="5257800"/>
            <a:ext cx="8229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G TG1 Timeline Submission -99/148r0 is a MS Project (*.MPP) file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s, in detail, the WG TG1 Draft Standard Flowchart over time. 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ing slides are an abstract of this timeline before and after LB1 exten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CC8-7C73-4982-96A5-BC2FE7B6BC6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14600" y="1981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5562720"/>
            <a:ext cx="1600200" cy="91440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tter Ballot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G Draft Standard Flowchart -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286000"/>
            <a:ext cx="1600200" cy="9144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num7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2257200" cy="633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352680" y="25909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4920" y="24796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2209680"/>
            <a:ext cx="1600200" cy="9144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4560" y="2362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97880" y="38862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Dec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3886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3276720"/>
            <a:ext cx="1600200" cy="9144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tter Ballot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889520"/>
            <a:ext cx="2590920" cy="82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5562720"/>
            <a:ext cx="1600200" cy="91440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tter Ballot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97880" y="58802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Dec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luetooth%20logo%20(tm)" descr=""/>
          <p:cNvPicPr/>
          <p:nvPr/>
        </p:nvPicPr>
        <p:blipFill>
          <a:blip r:embed="rId2"/>
          <a:stretch/>
        </p:blipFill>
        <p:spPr>
          <a:xfrm>
            <a:off x="1143000" y="1486080"/>
            <a:ext cx="2651040" cy="571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74480" y="31240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5181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432320"/>
            <a:ext cx="1600200" cy="914400"/>
          </a:xfrm>
          <a:prstGeom prst="flowChartPrepara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Letter Ballo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llot Results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Pre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54440" y="3048120"/>
            <a:ext cx="6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080" y="58802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Dec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2520" y="609480"/>
            <a:ext cx="667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grouper.ieee.org/groups/802/15/pub/1999/Nov99/99148r0P802-15_WG-TG1-Timeline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962520"/>
            <a:ext cx="495288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omments are loaded into the datab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Bluetooth comments are also loa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130-728F-4E95-8466-8425ADAAB6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G Draft Standard Flowchart - 2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uetooth%20logo%20(tm)" descr=""/>
          <p:cNvPicPr/>
          <p:nvPr/>
        </p:nvPicPr>
        <p:blipFill>
          <a:blip r:embed="rId1"/>
          <a:stretch/>
        </p:blipFill>
        <p:spPr>
          <a:xfrm>
            <a:off x="1143000" y="1486080"/>
            <a:ext cx="2651040" cy="571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943600" y="2209680"/>
            <a:ext cx="1600200" cy="91440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tter Ballot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97880" y="25272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Dec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080" y="25272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Dec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3429000"/>
            <a:ext cx="1600200" cy="91440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mmary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3720" y="37339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Jan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3962520"/>
            <a:ext cx="266724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3124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17520" y="3306600"/>
            <a:ext cx="8492040" cy="276480"/>
            <a:chOff x="317520" y="3306600"/>
            <a:chExt cx="8492040" cy="276480"/>
          </a:xfrm>
        </p:grpSpPr>
        <p:sp>
          <p:nvSpPr>
            <p:cNvPr id="107" name=""/>
            <p:cNvSpPr/>
            <p:nvPr/>
          </p:nvSpPr>
          <p:spPr>
            <a:xfrm>
              <a:off x="317520" y="3306600"/>
              <a:ext cx="83818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88760" y="3306600"/>
              <a:ext cx="26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P802.15  Interim Meeting 10-13Jan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640280" y="46483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Jan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029200"/>
            <a:ext cx="49528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 collection of all proposed changes to D0.6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ption of  the Action Items to be completed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ed individuals by a specified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5105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4495680"/>
            <a:ext cx="1600200" cy="91440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Technical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mmary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81760" y="5562720"/>
            <a:ext cx="1600200" cy="9144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d to V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47120" y="5943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Feb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209680"/>
            <a:ext cx="1600200" cy="91440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tter Ballot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1981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057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num7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2257200" cy="633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2520" y="609480"/>
            <a:ext cx="667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grouper.ieee.org/groups/802/15/pub/1999/Nov99/99148r0P802-15_WG-TG1-Timeline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F6A-DF79-4729-8CFD-F4C7075833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G Draft Standard Flowchart - 3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1905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81760" y="2362320"/>
            <a:ext cx="1600200" cy="9144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d to V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um7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2257200" cy="633600"/>
          </a:xfrm>
          <a:prstGeom prst="rect">
            <a:avLst/>
          </a:prstGeom>
          <a:ln w="0">
            <a:noFill/>
          </a:ln>
        </p:spPr>
      </p:pic>
      <p:pic>
        <p:nvPicPr>
          <p:cNvPr id="124" name="Bluetooth%20logo%20(tm)" descr=""/>
          <p:cNvPicPr/>
          <p:nvPr/>
        </p:nvPicPr>
        <p:blipFill>
          <a:blip r:embed="rId2"/>
          <a:stretch/>
        </p:blipFill>
        <p:spPr>
          <a:xfrm>
            <a:off x="1143000" y="1486080"/>
            <a:ext cx="265104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3352320" y="27432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3352680"/>
            <a:ext cx="1600200" cy="91440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V1.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52760" y="2895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2286000"/>
            <a:ext cx="1600200" cy="9144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38640" y="3541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40160" y="483876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40160" y="4267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2720" y="45259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3987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080" y="25272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Feb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7880" y="25272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Feb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4080" y="3733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Feb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43880" y="49276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36040" y="6095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Apr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11560" y="53341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Mar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2600" y="5257800"/>
            <a:ext cx="6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81760" y="4444920"/>
            <a:ext cx="1600200" cy="9144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d to V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81760" y="3352680"/>
            <a:ext cx="1600200" cy="91440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V1.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3480" y="41958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3809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560" y="35352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40680" y="3695760"/>
            <a:ext cx="762120" cy="228600"/>
          </a:xfrm>
          <a:prstGeom prst="flowChartTermina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520" y="609480"/>
            <a:ext cx="667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grouper.ieee.org/groups/802/15/pub/1999/Nov99/99148r0P802-15_WG-TG1-Timeline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43880" y="6019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81760" y="5460840"/>
            <a:ext cx="1600200" cy="9144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tter Ballot #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irculation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firmation Bal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2080" y="4457880"/>
            <a:ext cx="8858880" cy="276480"/>
            <a:chOff x="82080" y="4457880"/>
            <a:chExt cx="8858880" cy="276480"/>
          </a:xfrm>
        </p:grpSpPr>
        <p:sp>
          <p:nvSpPr>
            <p:cNvPr id="152" name=""/>
            <p:cNvSpPr/>
            <p:nvPr/>
          </p:nvSpPr>
          <p:spPr>
            <a:xfrm>
              <a:off x="82080" y="4457880"/>
              <a:ext cx="231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802  Plenary Meeting 6-10Mar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280" y="4457880"/>
              <a:ext cx="87886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350-F466-422A-A56D-23AD1A46288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705720" y="5029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G Draft Standard Flowchart - 4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luetooth%20logo%20(tm)" descr=""/>
          <p:cNvPicPr/>
          <p:nvPr/>
        </p:nvPicPr>
        <p:blipFill>
          <a:blip r:embed="rId1"/>
          <a:stretch/>
        </p:blipFill>
        <p:spPr>
          <a:xfrm>
            <a:off x="1143000" y="1486080"/>
            <a:ext cx="2651040" cy="571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32520" y="609480"/>
            <a:ext cx="667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grouper.ieee.org/groups/802/15/pub/1999/Nov99/99148r0P802-15_WG-TG1-Timeline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4648320"/>
            <a:ext cx="1600200" cy="91440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tter Ballot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1828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2362320"/>
            <a:ext cx="1600200" cy="9144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tter Ballot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352320" y="3975120"/>
            <a:ext cx="2590920" cy="82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7880" y="49658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Apr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4267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3517920"/>
            <a:ext cx="1600200" cy="914400"/>
          </a:xfrm>
          <a:prstGeom prst="flowChartPrepara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tter Ballot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llot Results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Pre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num7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2257200" cy="633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736040" y="29718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Apr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11560" y="22096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Mar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2600" y="2133720"/>
            <a:ext cx="6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0400" y="49658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Apr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5791320"/>
            <a:ext cx="1600200" cy="91440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mmary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5334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648320"/>
            <a:ext cx="1600200" cy="91440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tter Ballot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nt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400" y="60958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Apr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6095880"/>
            <a:ext cx="12193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FFF-707E-43EE-A10D-A03AD18D77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4495680"/>
            <a:ext cx="3886200" cy="419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- TG1 i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Jun97 - Idea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8 - Find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99 - Submit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9 - Approv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 - Organiz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99 - Develop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99 - Ballot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Approv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Publish approv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2480" y="2793960"/>
            <a:ext cx="190476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fig1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801960" cy="4384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946640" y="155412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763120" y="18288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 &amp; 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301-2116-4E60-BC55-3EAF90B9CE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Gifford &amp; Tom Siep</dc:creator>
  <dc:description>-99/169r0</dc:description>
  <dc:language>en-US</dc:language>
  <cp:lastModifiedBy>Ian C. Gifford</cp:lastModifiedBy>
  <cp:lastPrinted>1999-12-07T21:00:39Z</cp:lastPrinted>
  <dcterms:modified xsi:type="dcterms:W3CDTF">1999-12-10T17:19:54Z</dcterms:modified>
  <cp:revision>135</cp:revision>
  <dc:subject>IEEE 802.15 Liaison Report</dc:subject>
  <dc:title>IEEE P802.15 Working Group for Wireless Personal Area Networks</dc:title>
</cp:coreProperties>
</file>