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904C-FB69-4714-8FF0-C78714841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641BC-6871-4663-A873-1EDF61C4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3B0F8-4E57-4634-9B37-99A0B88FC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EF81C-4279-46B0-BBAC-C434813F5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58245-A553-4565-84CD-4C55A0ECF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EB1D5-8FDF-447A-84C8-1F9B69160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1A8E-A405-4618-9E4C-42BB5943C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FAA06-0C0A-4AF4-8524-0C830C3A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BB486-0F37-4C5D-8674-5F7E31936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3977-7462-41DE-8E30-BF7AA801C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5984-7087-4BF4-8CB6-DF05E203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39870-5CCE-4596-AC62-14E7335B5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BB93B4-C402-4D34-B350-3F5FB49F9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01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Repor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vid Intercontinental Hotel 12, Kaufman St. Tel Aviv Israel</a:t>
            </a:r>
            <a:endParaRPr b="0" lang="en-US" sz="3200" spc="-1" strike="noStrike">
              <a:solidFill>
                <a:srgbClr val="000000"/>
              </a:solidFill>
              <a:latin typeface="Arial"/>
            </a:endParaRPr>
          </a:p>
        </p:txBody>
      </p:sp>
      <p:pic>
        <p:nvPicPr>
          <p:cNvPr id="47"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9C3878C-EFC6-425F-89DD-C900D671CCEC}" type="slidenum">
              <a:t>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Activities for High Rate Study Group</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1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4949B2-8848-4540-A9CF-6B693EA16676}" type="slidenum">
              <a:t>10</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Activities for TG2</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18</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344232D-434D-4D1A-A9FC-439AACC37CF1}" type="slidenum">
              <a:t>1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Committee Officer(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man: Bruce Krae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Chairman: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a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or: ?</a:t>
            </a:r>
            <a:endParaRPr b="0" lang="en-US" sz="3200" spc="-1" strike="noStrike">
              <a:solidFill>
                <a:srgbClr val="000000"/>
              </a:solidFill>
              <a:latin typeface="Arial"/>
            </a:endParaRPr>
          </a:p>
        </p:txBody>
      </p:sp>
      <p:sp>
        <p:nvSpPr>
          <p:cNvPr id="77" name=""/>
          <p:cNvSpPr/>
          <p:nvPr/>
        </p:nvSpPr>
        <p:spPr>
          <a:xfrm>
            <a:off x="380880" y="5334120"/>
            <a:ext cx="8382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uce is interested in filling in his remaining position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Sub Working Group e.g., Bob Morris, etc.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B95ACF-D6F3-4B89-A465-3AF1617666B2}" type="slidenum">
              <a:t>1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4B44404-5620-4244-8E99-B6F21483C9F5}" type="slidenum">
              <a:t>1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Next Steps</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1 - Need to open marketing coordination dialog with John Webb at Intel (John Webb, Intel, John.P.Webb@intel.com, +1.408.765.423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1 - Draft a position on the charges issue for 802.15 review by January, 2000. Submit to IEEE by March,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1 - Draft volunteers and Editorial Team lead to generate and submit to the IEEE and Bluetooth SIG a list of suggested Marketing material to support the IEEE Draft (primer, handbook, and compan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1 - Draft volunteers and Editorial Team lead to review Bluetooth Upper Layers to determine if there are other SDOs  that might also be interested in  paralleling the TG1 work if ETSI remains undecid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volunteers and lead to find out what commercial publications are availabl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28E7EBE-6C11-4F32-B70F-40EE9DB735DA}" type="slidenum">
              <a:t>1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Next Steps (cont.)</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vide a white paper to the IEEE on the TG1 perceived publishing issues for a joint standard, draft by Janu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List of suggested  marketing material to support the IEEE draft eg handbook, companion, pocket guides Definitions audience content format commercial pubs draft Janu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upport High Rate effort; brainst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Determine if there are other SDOs that might also be interested in paralleling the TG1 work if ETSI remains undecided, brainst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Trademark "WPAN" protect URL list of 6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Suggest website edi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2D6804E-42BE-452E-8908-A915ACFAB911}" type="slidenum">
              <a:t>1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Next Steps (cont.)</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a"</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to draft first version of the procedure to be discussed at January meeting</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b"</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Bluetooth SIG and issue liaison letter directly to Bluetooth to determine what material is available</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d"</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ETSI as primary but explore other IEEE groups as secondary, with IETF as backup</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team "e"</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terms such as 802.15, POS, http://www wpan.com/org/net</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 logo that will embellish the 802.15 team</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Item: Ian Gifford to modify web site by adding search criteria that will help Internet Search engines capture our key wor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BE51968-0DAB-4621-BF5C-C9B5F9105801}" type="slidenum">
              <a:t>1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 Session Graph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 Session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Tuesday, 11Jan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Wednesday, 12Jan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uai Actio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42D46C-063D-4044-9459-E0CE127F6198}"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2247840"/>
            <a:ext cx="609840" cy="558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410080" y="2260440"/>
            <a:ext cx="1067040" cy="559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Committee Graphic</a:t>
            </a:r>
            <a:endParaRPr b="0" lang="en-US" sz="3600" spc="-1" strike="noStrike">
              <a:solidFill>
                <a:srgbClr val="000000"/>
              </a:solidFill>
              <a:latin typeface="Times New Roman"/>
            </a:endParaRPr>
          </a:p>
        </p:txBody>
      </p:sp>
      <p:graphicFrame>
        <p:nvGraphicFramePr>
          <p:cNvPr id="53" name=""/>
          <p:cNvGraphicFramePr/>
          <p:nvPr/>
        </p:nvGraphicFramePr>
        <p:xfrm>
          <a:off x="343080" y="1739880"/>
          <a:ext cx="8445240" cy="4203720"/>
        </p:xfrm>
        <a:graphic>
          <a:graphicData uri="http://schemas.openxmlformats.org/presentationml/2006/ole">
            <p:oleObj progId="Excel.Sheet.12" r:id="rId1" spid="">
              <p:embed/>
              <p:pic>
                <p:nvPicPr>
                  <p:cNvPr id="54" name="" descr=""/>
                  <p:cNvPicPr/>
                  <p:nvPr/>
                </p:nvPicPr>
                <p:blipFill>
                  <a:blip r:embed="rId2"/>
                  <a:stretch/>
                </p:blipFill>
                <p:spPr>
                  <a:xfrm>
                    <a:off x="343080" y="1739880"/>
                    <a:ext cx="8445240" cy="4203720"/>
                  </a:xfrm>
                  <a:prstGeom prst="rect">
                    <a:avLst/>
                  </a:prstGeom>
                  <a:ln w="0">
                    <a:noFill/>
                  </a:ln>
                </p:spPr>
              </p:pic>
            </p:oleObj>
          </a:graphicData>
        </a:graphic>
      </p:graphicFrame>
      <p:sp>
        <p:nvSpPr>
          <p:cNvPr id="55" name=""/>
          <p:cNvSpPr/>
          <p:nvPr/>
        </p:nvSpPr>
        <p:spPr>
          <a:xfrm>
            <a:off x="208800" y="6205680"/>
            <a:ext cx="660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is graphic describes the weekly session of the IEEE P802.15, w/ </a:t>
            </a:r>
            <a:r>
              <a:rPr b="1" lang="en-US" sz="1200" spc="-1" strike="noStrike">
                <a:solidFill>
                  <a:srgbClr val="ff0000"/>
                </a:solidFill>
                <a:latin typeface="Arial"/>
              </a:rPr>
              <a:t>MC</a:t>
            </a:r>
            <a:r>
              <a:rPr b="1" lang="en-US" sz="1200" spc="-1" strike="noStrike">
                <a:solidFill>
                  <a:srgbClr val="000000"/>
                </a:solidFill>
                <a:latin typeface="Arial"/>
              </a:rPr>
              <a:t> highlight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440FA7B-B3CA-4F38-940E-2D9EF5CCFCC9}" type="slidenum">
              <a:t>3</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Aviv Objectiv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ve HI Minutes -99/129r0</a:t>
            </a:r>
            <a:endParaRPr b="0" lang="en-US" sz="16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marketing with BT SIG</a:t>
            </a:r>
            <a:endParaRPr b="0" lang="en-US" sz="16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om activities</a:t>
            </a:r>
            <a:endParaRPr b="0" lang="en-US" sz="1600" spc="-1" strike="noStrike">
              <a:solidFill>
                <a:srgbClr val="000000"/>
              </a:solidFill>
              <a:latin typeface="Arial"/>
            </a:endParaRPr>
          </a:p>
          <a:p>
            <a:pPr lvl="1" marL="668520" indent="-257040">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p>
            <a:pPr lvl="1" marL="668520" indent="-257040">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erences</a:t>
            </a:r>
            <a:endParaRPr b="0" lang="en-US" sz="14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I BRAN Liaison Status</a:t>
            </a:r>
            <a:endParaRPr b="0" lang="en-US" sz="16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ing</a:t>
            </a:r>
            <a:endParaRPr b="0" lang="en-US" sz="1600" spc="-1" strike="noStrike">
              <a:solidFill>
                <a:srgbClr val="000000"/>
              </a:solidFill>
              <a:latin typeface="Arial"/>
            </a:endParaRPr>
          </a:p>
          <a:p>
            <a:pPr lvl="1" marL="668520" indent="-257040">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mark status</a:t>
            </a:r>
            <a:endParaRPr b="0" lang="en-US" sz="1400" spc="-1" strike="noStrike">
              <a:solidFill>
                <a:srgbClr val="000000"/>
              </a:solidFill>
              <a:latin typeface="Arial"/>
            </a:endParaRPr>
          </a:p>
          <a:p>
            <a:pPr lvl="1" marL="668520" indent="-257040">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L status</a:t>
            </a:r>
            <a:endParaRPr b="0" lang="en-US" sz="14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ite</a:t>
            </a:r>
            <a:endParaRPr b="0" lang="en-US" sz="16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Standard Publication</a:t>
            </a:r>
            <a:endParaRPr b="0" lang="en-US" sz="1600" spc="-1" strike="noStrike">
              <a:solidFill>
                <a:srgbClr val="000000"/>
              </a:solidFill>
              <a:latin typeface="Arial"/>
            </a:endParaRPr>
          </a:p>
          <a:p>
            <a:pPr lvl="1" marL="668520" indent="-257040">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of  Publication Procedure Proposal</a:t>
            </a:r>
            <a:endParaRPr b="0" lang="en-US" sz="14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book and ancillary info for TG1</a:t>
            </a:r>
            <a:endParaRPr b="0" lang="en-US" sz="16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Activities for TG2</a:t>
            </a:r>
            <a:endParaRPr b="0" lang="en-US" sz="16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Activities for High Rate Study Group</a:t>
            </a:r>
            <a:endParaRPr b="0" lang="en-US" sz="1600" spc="-1" strike="noStrike">
              <a:solidFill>
                <a:srgbClr val="000000"/>
              </a:solidFill>
              <a:latin typeface="Arial"/>
            </a:endParaRPr>
          </a:p>
          <a:p>
            <a:pPr marL="308520" indent="-30852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tasks and individual/group assignments for the week in Tel Aviv, Isra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F8690FD-CFFE-4073-8927-68A5DAB01B53}" type="slidenum">
              <a:t>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Aviv Submissions</a:t>
            </a:r>
            <a:endParaRPr b="0" lang="en-US" sz="3600" spc="-1" strike="noStrike">
              <a:solidFill>
                <a:srgbClr val="000000"/>
              </a:solidFill>
              <a:latin typeface="Times New Roman"/>
            </a:endParaRPr>
          </a:p>
        </p:txBody>
      </p:sp>
      <p:graphicFrame>
        <p:nvGraphicFramePr>
          <p:cNvPr id="59" name=""/>
          <p:cNvGraphicFramePr/>
          <p:nvPr/>
        </p:nvGraphicFramePr>
        <p:xfrm>
          <a:off x="393840" y="2290680"/>
          <a:ext cx="8364240" cy="3422880"/>
        </p:xfrm>
        <a:graphic>
          <a:graphicData uri="http://schemas.openxmlformats.org/presentationml/2006/ole">
            <p:oleObj progId="Excel.Sheet.12" r:id="rId1" spid="">
              <p:embed/>
              <p:pic>
                <p:nvPicPr>
                  <p:cNvPr id="60" name="" descr=""/>
                  <p:cNvPicPr/>
                  <p:nvPr/>
                </p:nvPicPr>
                <p:blipFill>
                  <a:blip r:embed="rId2"/>
                  <a:stretch/>
                </p:blipFill>
                <p:spPr>
                  <a:xfrm>
                    <a:off x="393840" y="2290680"/>
                    <a:ext cx="8364240" cy="34228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647DECF-181D-4B4E-85FC-649186B13714}" type="slidenum">
              <a:t>5</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Tuesday, 11Jan00</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pened our meeting at 8:30am and processed most of our Agenda Items and adjourned at 10:m.  The key items were:</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AGENDA -99/163r0</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MC ON ADMINISTRATIVE AGENDA POINTS</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ED THE TG2, HRSG, AND ACTION/NEXT STEPS TO WEDNESDA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9F15F3-8764-4766-A030-9D4ECB7C833B}" type="slidenum">
              <a:t>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Wednesday, 12Jan00</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pened our meeting at 8:30am and processed most of our Agenda Items and adjourned at 10:00am.  The key items were:</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Approve Kauai, HI Minutes -99/129r0</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2</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SG</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NEXT STE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586640-B203-4153-B580-2AA6D1701638}" type="slidenum">
              <a:t>7</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ACTON/NEXT STEPS</a:t>
            </a:r>
            <a:endParaRPr b="0" lang="en-US" sz="3600" spc="-1" strike="noStrike">
              <a:solidFill>
                <a:srgbClr val="000000"/>
              </a:solidFill>
              <a:latin typeface="Times New Roman"/>
            </a:endParaRPr>
          </a:p>
        </p:txBody>
      </p:sp>
      <p:graphicFrame>
        <p:nvGraphicFramePr>
          <p:cNvPr id="66" name=""/>
          <p:cNvGraphicFramePr/>
          <p:nvPr/>
        </p:nvGraphicFramePr>
        <p:xfrm>
          <a:off x="635040" y="1905120"/>
          <a:ext cx="7873920" cy="4646520"/>
        </p:xfrm>
        <a:graphic>
          <a:graphicData uri="http://schemas.openxmlformats.org/presentationml/2006/ole">
            <p:oleObj progId="Word.Document.12" r:id="rId1" spid="">
              <p:embed/>
              <p:pic>
                <p:nvPicPr>
                  <p:cNvPr id="67" name="" descr=""/>
                  <p:cNvPicPr/>
                  <p:nvPr/>
                </p:nvPicPr>
                <p:blipFill>
                  <a:blip r:embed="rId2"/>
                  <a:stretch/>
                </p:blipFill>
                <p:spPr>
                  <a:xfrm>
                    <a:off x="635040" y="1905120"/>
                    <a:ext cx="7873920" cy="46465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E126082-D6F5-4A25-84CC-B19DC9AB97D9}" type="slidenum">
              <a:t>8</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ACTON/NEXT STEPS</a:t>
            </a:r>
            <a:endParaRPr b="0" lang="en-US" sz="3600" spc="-1" strike="noStrike">
              <a:solidFill>
                <a:srgbClr val="000000"/>
              </a:solidFill>
              <a:latin typeface="Times New Roman"/>
            </a:endParaRPr>
          </a:p>
        </p:txBody>
      </p:sp>
      <p:graphicFrame>
        <p:nvGraphicFramePr>
          <p:cNvPr id="69" name=""/>
          <p:cNvGraphicFramePr/>
          <p:nvPr/>
        </p:nvGraphicFramePr>
        <p:xfrm>
          <a:off x="649440" y="1905120"/>
          <a:ext cx="7870680" cy="4597200"/>
        </p:xfrm>
        <a:graphic>
          <a:graphicData uri="http://schemas.openxmlformats.org/presentationml/2006/ole">
            <p:oleObj progId="Word.Document.12" r:id="rId1" spid="">
              <p:embed/>
              <p:pic>
                <p:nvPicPr>
                  <p:cNvPr id="70" name="" descr=""/>
                  <p:cNvPicPr/>
                  <p:nvPr/>
                </p:nvPicPr>
                <p:blipFill>
                  <a:blip r:embed="rId2"/>
                  <a:stretch/>
                </p:blipFill>
                <p:spPr>
                  <a:xfrm>
                    <a:off x="649440" y="1905120"/>
                    <a:ext cx="7870680" cy="459720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0762A2B-1489-479F-9E7E-B3FA1A73CB52}" type="slidenum">
              <a:t>9</a:t>
            </a:fld>
          </a:p>
        </p:txBody>
      </p:sp>
      <p:sp>
        <p:nvSpPr>
          <p:cNvPr id="5" name="PlaceHolder 4"/>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99/175r0</dc:description>
  <dc:language>en-US</dc:language>
  <cp:lastModifiedBy>Ian C. Gifford</cp:lastModifiedBy>
  <cp:lastPrinted>1998-02-10T13:28:06Z</cp:lastPrinted>
  <dcterms:modified xsi:type="dcterms:W3CDTF">2000-01-13T14:28:11Z</dcterms:modified>
  <cp:revision>115</cp:revision>
  <dc:subject>IEEE 802.15 TG1 Report</dc:subject>
  <dc:title>IEEE P802.15 Working Group for Wireless Personal Area Networks</dc:title>
</cp:coreProperties>
</file>