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A84-4BC2-4E35-A629-13697A65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D3B-CCFA-4851-AAD4-0DD904E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888-4121-4E88-A728-9B6C0FDD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F65-15A2-44BA-96D4-23427792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C58-2A9E-48C3-A551-7E01AFD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618-EE35-45D9-A799-681EABA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3C5-3606-4203-93D0-F1B154C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5F8-1FB3-4C11-8781-F9AB693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813-4A19-4DCD-A4B3-01D4A67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607-80D3-41B3-BE73-35B65AB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D10-7CF6-45C8-A16F-CB93A2A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FD9-FE8E-4F67-A655-8553316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8BDF39-80F3-447B-BD3D-58DFB59A2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0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193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1999 announcing the formation of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ember 1999 announcing the Telelogic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2000  announcing TG2 and HR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CDF-1381-4879-BADD-EA9DE37D18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534-921F-4D0D-AAA7-2CC9ECF37B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t F.  Heile</cp:lastModifiedBy>
  <dcterms:modified xsi:type="dcterms:W3CDTF">2000-01-09T12:30:35Z</dcterms:modified>
  <cp:revision>6</cp:revision>
  <dc:subject/>
  <dc:title>Jan Marcom update</dc:title>
</cp:coreProperties>
</file>