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EE7C2-75D9-44A4-BC71-8EBDF2CF5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D3EB-00E1-4FEB-955E-182C03840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006B1-7CA5-4EC5-AA6A-8934E5A23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33C8B-860E-47E4-A983-73775649A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95FA0-1D2E-413A-A2D0-9468CC7E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40949-46C7-47EF-B3DE-C8A55C102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8B06-6945-4D37-BE85-0DFDB666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048A-E49B-44FA-8CE8-D3EB5BC85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E877-B3A2-4696-8320-8FBD3F95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FE82-92CB-4B7F-AB73-21751B86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A0F3-838C-44B0-9EAA-DCACF734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2CC4-F6CC-40EB-B306-B9366A559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F3B9D8-2653-4348-B252-C823FF8BD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0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5DC53AFA-E719-49CE-A701-351B1DAB46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Study Group Summary and Motion for .15WG approv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January 10,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summarizes the results of the High Rate Study Groups worko n the PAR and Five Criteria.]</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all for a motion to approve the PAR and 5C so that it may be forwarded to the Executive Committe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y Group</a:t>
            </a:r>
            <a:r>
              <a:rPr b="0" lang="en-US" sz="3600" spc="-1" strike="noStrike">
                <a:solidFill>
                  <a:srgbClr val="000000"/>
                </a:solidFill>
                <a:latin typeface="Times New Roman"/>
              </a:rPr>
              <a:t> </a:t>
            </a:r>
            <a:r>
              <a:rPr b="0" lang="en-US" sz="4800" spc="-1" strike="noStrike">
                <a:solidFill>
                  <a:srgbClr val="000000"/>
                </a:solidFill>
                <a:latin typeface="Times New Roman"/>
              </a:rPr>
              <a:t>Summary</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676520"/>
            <a:ext cx="7772400" cy="4114800"/>
          </a:xfrm>
          <a:prstGeom prst="rect">
            <a:avLst/>
          </a:prstGeom>
          <a:noFill/>
          <a:ln w="9360">
            <a:solidFill>
              <a:srgbClr val="3333cc"/>
            </a:solidFill>
            <a:miter/>
          </a:ln>
        </p:spPr>
        <p:txBody>
          <a:bodyPr lIns="92160" rIns="92160" tIns="46080" bIns="46080"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G met 4 times (including Hawaii)</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Individuals, from 16 Compani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d to approve (13/0/0/) forwarding the PAR and 5C to the 802.15 WG</a:t>
            </a:r>
            <a:endParaRPr b="0" lang="en-US" sz="32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165r4 - Project Authorization Request</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166r2 - Five Criteria</a:t>
            </a:r>
            <a:endParaRPr b="0" lang="en-US" sz="20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st a new Call for Proposals/ Call for Applications (March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8857B635-DB03-410C-918E-99AD43B6D452}" type="slidenum">
              <a:t>2</a:t>
            </a:fld>
          </a:p>
        </p:txBody>
      </p:sp>
      <p:sp>
        <p:nvSpPr>
          <p:cNvPr id="6" name="PlaceHolder 5"/>
          <p:cNvSpPr>
            <a:spLocks noGrp="1"/>
          </p:cNvSpPr>
          <p:nvPr>
            <p:ph type="dt" idx="1"/>
          </p:nvPr>
        </p:nvSpPr>
        <p:spPr/>
        <p:txBody>
          <a:bodyPr/>
          <a:p>
            <a:r>
              <a:rPr lang="en-US"/>
              <a:t>January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the 802.15 Working Group </a:t>
            </a:r>
            <a:r>
              <a:rPr b="0" lang="en-US" sz="3200" spc="-1" strike="noStrike">
                <a:solidFill>
                  <a:srgbClr val="000000"/>
                </a:solidFill>
                <a:latin typeface="Times New Roman"/>
              </a:rPr>
              <a:t>(Voting Member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vote on the acceptance of the WPAN High Rate PAR (r4) and 5  Criteria (r2) submitted by the High Rate Study Group.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ffirmative vote will allow it to be submitted to the Executive Committee for a Task Group vote at the March plenary mee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3DDAAB9E-BD0C-41A4-97B3-7A347348757D}" type="slidenum">
              <a:t>3</a:t>
            </a:fld>
          </a:p>
        </p:txBody>
      </p:sp>
      <p:sp>
        <p:nvSpPr>
          <p:cNvPr id="6" name="PlaceHolder 5"/>
          <p:cNvSpPr>
            <a:spLocks noGrp="1"/>
          </p:cNvSpPr>
          <p:nvPr>
            <p:ph type="dt" idx="1"/>
          </p:nvPr>
        </p:nvSpPr>
        <p:spPr/>
        <p:txBody>
          <a:bodyPr/>
          <a:p>
            <a:r>
              <a:rPr lang="en-US"/>
              <a:t>January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James D. Allen</dc:creator>
  <dc:description>00/002r0</dc:description>
  <dc:language>en-US</dc:language>
  <cp:lastModifiedBy>James Allen</cp:lastModifiedBy>
  <cp:lastPrinted>1999-11-03T15:28:50Z</cp:lastPrinted>
  <dcterms:modified xsi:type="dcterms:W3CDTF">2000-01-10T09:37:34Z</dcterms:modified>
  <cp:revision>27</cp:revision>
  <dc:subject>IEEE 802.15 &lt;Motion to approve HRSG PAR/5C&gt;</dc:subject>
  <dc:title>No Slide Title</dc:title>
</cp:coreProperties>
</file>