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FB2A496-F540-4CCD-A6F6-C4DA99EB2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aG used a non-standard Type of Comment e.g., 32 "E/t" and 4 "e/t".  I am unclear how to deal with these comments.  The Editor-in-Chief interpreted them as "t’s”; which nets 59 total of which 36 are hybr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K forgot to code pwk19 e.g., Type of Comment e.g., "E/t/e/t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umanA used a non-standard numbering for comments e.g., 8a, 8b, etc. indicating he did not read the instructions.  He supplied 62 not 48 com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keP used "e" 100%  in the Type of comments (E/e/T/t) and added the N, t, T in the Part of NO vote (Y/N); indicating he did not read the instructions. Therefore he has 139 "e's" and he added 4 "t’s" and 3 "T’s" to the wrong column hence -7 "e’s" and a some T/t ent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ped Dr. Yunxin Li as I could not find his comments.  Source: BobH results *.xls file. FOUND 10JAN00…All 250 of them!  He forgot to code yxl00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ped Mr. Daniel R. McGlynn &amp; Mr. Ivan Reede as they did not supply Comments w/ their “Nea” vote.  Therefore these balloters failed to vote.  Note: Ivan indicated 7Jan00 that he would change his “Nea” to a “Yea” w/o Comments if it stalled the WG Balloting process.  He will not supply comments on his nea vote - lost HD &amp; NadaG covered his com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2310-397B-41B1-AE38-E8A94CC57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0CAC-377A-4854-ADC5-34334C24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9D1B-C3E3-40AE-917B-04076D954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EB05-3C2F-40E1-9DFD-360A3E747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4D48-6E07-464C-80F8-558A05CF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E43E-F354-4777-B94A-E8382730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1378-0B46-4EF6-81F8-E2D014BE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7C90-F720-452D-BD35-950C8F8E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45C6-15D3-43EA-B9BB-BB4C81C2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1E47-D7A5-469D-9EE0-BC07A16F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AECF-6EAA-4EA4-85F0-7B130A67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08FB-BD97-4403-8499-A298B0A4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A5BEE0D-D9BD-4EDA-8544-EA702625A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012r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1 Report 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vid Intercontinental Hotel 12, Kaufman St. Tel Aviv Isra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802" descr=""/>
          <p:cNvPicPr/>
          <p:nvPr/>
        </p:nvPicPr>
        <p:blipFill>
          <a:blip r:embed="rId1"/>
          <a:stretch/>
        </p:blipFill>
        <p:spPr>
          <a:xfrm>
            <a:off x="3753000" y="733320"/>
            <a:ext cx="1581120" cy="16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4C43-7909-4334-91B4-10824E5D631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xt Steps/TG1 Roadm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Jan00 post Tel-Aviv, 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 Comment Resolution(s) -99/173r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IEEE P802.15.1/D0.6 to reflect Bluetooth Specification(s) v1.0 B; will become P802.15.1/D0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ic Letter Ballot of the -99/173r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-10Mar00 Albuquerque, NM 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results of Ballot apply -99/173r5 to P802.15.1/D0.7 this becomes P802.15.1/D0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-12May00 Seattle, WA 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ic Letter Ballot of P802.15.1/D0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-14Jul00 LaJolla, CA 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B Comment Resolution of P802.15.1/D0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BEDF-4A07-4DD2-A6CC-754663F917F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ent Co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1] 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G1 Conc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2]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G1 needs to do more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3] Discu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G1 needs to discuss in 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4] Clar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G1 will request more detail from the Auth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5] BSIG Discu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G1 needs to discuss the comment w/ BS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6] Dec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G1 declines the comment from the Auth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7] Verif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G1 we need to review Bluetooth Specification(s) v1.0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8] De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G1 requires and Bluetooth has not determined n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9] Editor Discre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thing coded as E/e/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D224-98BD-4B00-AD71-F1ADDEE9DC0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B1 Results -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 Total Voting Memb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5 Total Votes  (18/15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Total Failed to vote (2 of 7 were incomplete No'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286000" y="4419720"/>
          <a:ext cx="4560840" cy="171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4419720"/>
                    <a:ext cx="4560840" cy="17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9B3F-178D-40E5-B007-FB965FE30AE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B1 Results - Deta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04920" y="1676520"/>
          <a:ext cx="4162320" cy="357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416232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4676760" y="1685880"/>
          <a:ext cx="4162320" cy="3409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76760" y="1685880"/>
                    <a:ext cx="4162320" cy="34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614520" y="5257800"/>
            <a:ext cx="2128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Abs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Do Not Approve (Negat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Approve (Affirmat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c = with Com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/o = with out Com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failed to respo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7837-DD72-472E-9562-F1741A4AB20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 of comments (e/E/t/T) - LB1 #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5410080"/>
            <a:ext cx="81532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1 appreciates the work the eighteen (18) Members d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oviding these 1013 Comments! 2 not co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04640" y="1643040"/>
          <a:ext cx="8336160" cy="357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643040"/>
                    <a:ext cx="833616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0A98-7CB1-4E72-AE30-FFE5112C116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 of comments (e/E/t/T) - LB1 #/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11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or Editor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4 (4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Editor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4 (36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or Technical "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 (1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Technical "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4 (9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465800" y="3962520"/>
          <a:ext cx="4678200" cy="247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5800" y="3962520"/>
                    <a:ext cx="467820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456080" y="1486080"/>
          <a:ext cx="4687920" cy="2476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56080" y="1486080"/>
                    <a:ext cx="468792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D0F8-B43E-486F-9FE5-3F1CCC83F99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G1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Tel-Avi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 Schedu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5242-C788-41B3-B3B0-11E1E98C93E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B1 yielded 1013 comments to be resolved against P802.15.1/D0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3 Technical Comment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18 Editori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B1 Comment Resolution 10Jan00 - 11Feb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B(2) 21Feb00 to 2Mar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B(3) 19May00 to 22Jun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 ready for Sponsor Ballot Jul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1616-511A-4CC0-936C-2BA2A28C67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l-Aviv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LETTER BALLOT 1 COMMENT RESOLUTION/DIS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ROVIDE AN UPDATE ON T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ROVIDE AN OVERVIEW OF THE BLUETOOTH VERSION 1.0 B SPECIFICATION(S), IN SESSION &amp; 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LAN FOR DRAFT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VOTE TO FORWARD/RECIRCULATE THE DRAFT TO SPONSOR/WG RECIRC L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VOTE TO REVIEW THE RECIRC COMMENTS FROM WG LB #X BEFORE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BC80-763D-4761-8906-1ED8CAD1F1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l-Aviv - Submi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80880" y="1509840"/>
          <a:ext cx="8355240" cy="48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09840"/>
                    <a:ext cx="835524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598D-26B7-48DB-9428-007BD2DD2C2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1/WG Motion Schedu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1 - Empower the WG Technical Editor for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2 - Empower the WG to recirculate a Draft L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6EE6-C01F-450F-850A-94CF629843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TION #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: I move that we empower the WG Technical Editor to be able to continue with TG1 Comment Resolution between 14Jan00 &amp; 5Mar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Technical 50% (Procedu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r: 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: 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/N/A: 8/0/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/Fail?: P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A079-B1C4-4FE4-B992-BB1B0956624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TION #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ON: I move that we empower the WG chair to be able to conduct a 10 Day Electronic Letter Ballot for approval of the application of -99/173r5 to the current P802.15.1 Draft Standard between 14Jan00 &amp; 5Mar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 Technical 50% (Procedur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er: I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: T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/N/A: 8/0/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/Fail?: P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5FCC-F8B5-49FC-BD43-1E9A5D3496F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 TG1 -99/160r1 Graph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43080" y="1752480"/>
          <a:ext cx="8459640" cy="421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1752480"/>
                    <a:ext cx="8459640" cy="42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205560" y="6205680"/>
            <a:ext cx="824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 This graphic describes the weekly session of the IEEE P802.15, w/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G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highlighted.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TG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re r1 new ad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1194-2EAF-42E9-AF08-052883C3F68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2T05:58:24Z</dcterms:created>
  <dc:creator>Ian C. Gifford</dc:creator>
  <dc:description>-99/175r0</dc:description>
  <dc:language>en-US</dc:language>
  <cp:lastModifiedBy>Ian C. Gifford</cp:lastModifiedBy>
  <cp:lastPrinted>1998-02-10T13:28:06Z</cp:lastPrinted>
  <dcterms:modified xsi:type="dcterms:W3CDTF">2000-01-13T14:29:36Z</dcterms:modified>
  <cp:revision>87</cp:revision>
  <dc:subject>IEEE 802.15 TG1 Report</dc:subject>
  <dc:title>IEEE P802.15 Working Group for Wireless Personal Area Networks</dc:title>
</cp:coreProperties>
</file>