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974-947B-41E5-A594-4284E6E4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0A5-62D8-46AD-9DE4-E17A425C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813-096B-4283-9D1C-B649405D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F2C-5B49-4957-8ADA-C0387385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7FD-B129-4A81-8C91-FF900E74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2E5-B605-4652-9014-6F443F6B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C80-BF36-417C-941A-397B3151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A19-BB21-4C79-B074-7B1F7203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344-1E05-4229-9EF1-734D3DC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06E-0C61-4CBE-BB21-DA31564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9C8-F1CA-480E-BAF2-D27396C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946-D753-4AF1-9A04-FE876A9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167040"/>
            <a:ext cx="16002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Morris, Motorola,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1ACB85-3111-45A8-8A58-2821BC84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91120" y="396000"/>
            <a:ext cx="426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HR Study Group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Needs From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7F8-13D6-41E5-BCEB-FDF7B29FC9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HR Study Group Marketing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in converging WPAN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e -- help to encourage one 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ce opportunity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HomeRF MM (see attach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ractices -- learn from history (802.1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criteria development and proposal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criteria development and proposal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frame -- send list out 2/4 (call for intent), 5/8 proposal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eria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--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 MM -- HomeRF -- Benny Man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 2 -- Bluetooth 2 SIG -- Jim Kard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perLAN/2 -- ETSI/BRAN -- Jamsh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1b -- Stewart Kerry, Bruce Krae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807-82C3-475F-BA00-C76071B35A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5 HR Study Group Marketing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-- getting the wor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support … working great :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 the call for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ed depository of PR releases/articles/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pre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rtiums, forum and other speaking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 speech -- Fast and low power WPAN solution for the consumer space that can be delivered in 18 – 24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mark and br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C42-FC2C-438A-9678-3C888CB68F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03840" cy="56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63D-BE9F-4A2D-9057-CEB9696EB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%20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8664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8BF-64C7-462D-8CB1-9EA8773D7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%20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486560" cy="561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772-AD0A-41F6-B230-C7AD83C12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13:58:51Z</dcterms:created>
  <dc:creator>Bob Morris</dc:creator>
  <dc:description/>
  <dc:language>en-US</dc:language>
  <cp:lastModifiedBy>Robert F.  Heile</cp:lastModifiedBy>
  <dcterms:modified xsi:type="dcterms:W3CDTF">2000-01-13T09:44:13Z</dcterms:modified>
  <cp:revision>6</cp:revision>
  <dc:subject>802.15 HR needs from 802.15 Marketing</dc:subject>
  <dc:title>IEEE 802.15-00/017r0</dc:title>
</cp:coreProperties>
</file>