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35D20-494D-4882-9D93-071962212F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B2858B-9FE9-49A5-B55F-C4A9498CD0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FD40AB-5655-4CE1-BA0B-E1416094FE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7C5DD3-0612-4832-87B7-C980D02EEA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B19C9-4037-41ED-8384-2B401A9E68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67B56-787E-453F-87B7-98544BE923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A0541-949E-45A3-A4D7-86055674D3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281AEB4F-2F97-4C0E-9CBC-25C095F0F7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3A07DE5-68E0-4033-805D-7295400756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F6AF6-77E6-4DB9-87C6-BC1890173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96949-9319-4E1E-A3F5-059CFB483E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13FCB-01B7-4609-9A91-8C5F3DF9ED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2B3A40-459E-4704-916F-E56D794BC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22r0</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10200" y="380880"/>
            <a:ext cx="122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0</a:t>
            </a:r>
            <a:endParaRPr b="0" lang="en-US" sz="1400" spc="-1" strike="noStrike">
              <a:solidFill>
                <a:srgbClr val="000000"/>
              </a:solidFill>
              <a:latin typeface="Times New Roman"/>
            </a:endParaRPr>
          </a:p>
        </p:txBody>
      </p:sp>
      <p:sp>
        <p:nvSpPr>
          <p:cNvPr id="8" name=""/>
          <p:cNvSpPr/>
          <p:nvPr/>
        </p:nvSpPr>
        <p:spPr>
          <a:xfrm>
            <a:off x="5719320" y="6426360"/>
            <a:ext cx="24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D. Alle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609480"/>
            <a:ext cx="8763120" cy="511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Organizational Propos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3Januar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shows the organizational proposal for the anticipated High Rate Task Group]</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names of proposed leaders and open positions.  To facilitate the filling of positions prior to submitting the PAR.]</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ational Proposal</a:t>
            </a:r>
            <a:br>
              <a:rPr sz="3600"/>
            </a:br>
            <a:r>
              <a:rPr b="0" lang="en-US" sz="2000" spc="-1" strike="noStrike">
                <a:solidFill>
                  <a:srgbClr val="000000"/>
                </a:solidFill>
                <a:latin typeface="Times New Roman"/>
              </a:rPr>
              <a:t>pre-TG Status Draft</a:t>
            </a:r>
            <a:endParaRPr b="0" lang="en-US" sz="2000" spc="-1" strike="noStrike">
              <a:solidFill>
                <a:srgbClr val="000000"/>
              </a:solidFill>
              <a:latin typeface="Times New Roman"/>
            </a:endParaRPr>
          </a:p>
        </p:txBody>
      </p:sp>
      <p:sp>
        <p:nvSpPr>
          <p:cNvPr id="47"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a:t>
            </a:r>
            <a:endParaRPr b="0" lang="en-US" sz="24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 (Motorola to nominate - replaces B. Morris)</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 Chair - (T. Cooklev)</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retary - (P. Kinney) </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 Editor - (TBD)</a:t>
            </a:r>
            <a:endParaRPr b="0" lang="en-US" sz="16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Committee Leaders</a:t>
            </a:r>
            <a:endParaRPr b="0" lang="en-US" sz="24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 - (TBD - Carlson)</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 (TBD - Heberling)</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Controller Interface (TBD)</a:t>
            </a:r>
            <a:endParaRPr b="0" lang="en-US" sz="16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s</a:t>
            </a:r>
            <a:endParaRPr b="0" lang="en-US" sz="24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15 - (TBD-Bill Bailey)</a:t>
            </a:r>
            <a:br>
              <a:rPr sz="1600"/>
            </a:br>
            <a:br>
              <a:rPr sz="1600"/>
            </a:br>
            <a:r>
              <a:rPr b="0" lang="en-US" sz="1600" spc="-1" strike="noStrike">
                <a:solidFill>
                  <a:srgbClr val="000000"/>
                </a:solidFill>
                <a:latin typeface="Arial"/>
              </a:rPr>
              <a:t>(continued next pag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CD9A0-13C6-4DC2-BD33-015B7460C4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62120" y="1219320"/>
            <a:ext cx="7772400" cy="4114800"/>
          </a:xfrm>
          <a:prstGeom prst="rect">
            <a:avLst/>
          </a:prstGeom>
          <a:noFill/>
          <a:ln w="0">
            <a:noFill/>
          </a:ln>
        </p:spPr>
        <p:txBody>
          <a:bodyPr lIns="92160" rIns="92160" tIns="46080" bIns="46080"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existence .15 (Kevin Marques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 (T. Bak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RF - (Morris to propo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C - (TBD - Carls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I/BRAN - ( F. Wantanab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to be defined by end of Janua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ed parties can contact Jim Allen, Bob Morris, or Bob He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Robert F.  Heile</cp:lastModifiedBy>
  <dcterms:modified xsi:type="dcterms:W3CDTF">2000-01-16T06:45:51Z</dcterms:modified>
  <cp:revision>8</cp:revision>
  <dc:subject>High Rate TG Organizational Proposal</dc:subject>
  <dc:title>Organization Proposal </dc:title>
</cp:coreProperties>
</file>