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30E-F345-44BB-899F-3F778DA0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9DB-E4AB-4379-B23A-3D62D6EE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B27-EAA6-4CD5-ADFC-2D9AF5EF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033-7E49-47BB-AF4D-1B3640C2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8F5-7CDF-4599-8B10-E6270034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3E7-BD8A-4289-92D7-82D4C801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39A-814D-492D-94CD-E17DE4E2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564-DC15-407F-8646-A3B15DDD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1EF-B1B3-46AC-A85D-EDA06835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A0F-9D40-42D3-9728-7926F1B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3E4-B929-4E66-8499-4C92C33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211-FBDD-47D9-937B-44B2A10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D30D52-3FDD-4EE0-8654-2E77FA06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1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Task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 Av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B44-A732-4E3C-AFE6-27DDEC6E5B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l for submission on 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embers of the Task Group are developing the Coexistence Model they may think of ideas on how to facilitate coexistence of WPAN and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Call for Submissions is to solicit submissions on these Coexistence Mechanisms to IEEE 802.15 Coexistence Task Group, IEEE 802.15-00/009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15C-D1E5-4454-A7F1-FCFDD00F81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sion on 802.15 TG2 and Bluetooth Collab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ith Jim Lasford and Evan Green from Intel, representing the Bluetooth 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recently established a Task Group on WLAN inter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s of that task group are consistent with the goals of TG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orward we will look for ways to work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2B8-68D5-436C-A913-7F78F755CC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r Cooklev “Towards Coexistence of Wireless Devices,” IEEE 802.15-99/0188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“Call for submissions on Coexistence Mechanisms”, IEEE 802.15-00/009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 Marquess “Letter to Wireless Research Groups,” IEEE 802.15-00/015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A72-5943-4ECD-B958-FB9B7B2C38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 Marquess “Bluetooth Qualification Review,” IEEE 802.15-00/016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. “802.11 CCA Mechanisms”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5CD-62A6-4616-881D-DDF6D70CC9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0292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Task Group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292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rouper.ieee.org/groups/802/15/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50292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192-E7CB-4610-9133-67ABD0E8FD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r plan for the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on ExCom vote in Kau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development of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Submissions on 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Jim Lansford on how 802.15 TG2 and Bluetooth SIG can work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on Coexistence Model and 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59E-BFBD-4350-B6E4-56BD5FABCF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 for the   2.4 GHz ISM band, that we can all agree to, which will help us assess the issues of Coexistence in a more quantitativ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ommended 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WPAN devices intended to operate in a WLAN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A6A-7584-4E35-8C40-E12512F0E1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reement between 802.11 &amp;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Study Group would become a Task Group in 802.1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aisons from 802.11 would be able to vote in the Task Group since they have voting rights in 802.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of the group would be reported at the regularly scheduled 802.11/802.15 joint se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FF5-FFAF-4D40-8600-B022C30692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draft Recommended Practice is ready for letter ballot it would be submitted to both the 802.15 and the 802.11 Working Groups for separate letter ballot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the Recommended Practice to be forwarded to the Executive Committee for Sponsor ballot, the letter ballot must pass in both Working Grou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reement between 802.11 &amp;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D70-BEAB-468D-8DAF-BF8A8A0F27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05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attending a Coexistence Task group session would be given attendance credit, for that time, in either 802.11 or 802.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reement between 802.11 &amp;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8CA-A071-4F32-A2DD-B00253449F6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Com Vote in Kau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0292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Heile moved to approve the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0292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 Hayes seconded th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0292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passed unanimously in Ex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502920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552-C87A-4755-922C-A2FA21DAE4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820-11C0-4B3E-8F9B-4B3197095C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783-1250-4414-BB4E-DC66E84AC1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1998-02-10T13:28:06Z</cp:lastPrinted>
  <dcterms:modified xsi:type="dcterms:W3CDTF">2000-01-11T15:25:33Z</dcterms:modified>
  <cp:revision>60</cp:revision>
  <dc:subject>IEEE 802.15 &lt;subject&gt;</dc:subject>
  <dc:title>IEEE P802.15 Working Group for Wireless Personal Area Networks</dc:title>
</cp:coreProperties>
</file>