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BD2-4AE3-4798-9637-73AE4626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C05-C511-47B0-92F2-52364C2C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8F1-7C60-4F4D-9906-1EBBBB4D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363-9D1A-4198-8D69-2539373C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161-56FC-452E-8490-A03FEC63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25C-DFF1-42A1-BDBC-683235F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4ED-16D1-432A-8293-6D199408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FDD-81BB-465D-8CC0-75546A05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BC6-063D-472F-B9C2-051AA5CF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BF7-C7DD-49F4-83A4-F1D5ADEB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A86-69AE-4485-8234-962E4BB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0BF-7FE5-48EE-BB31-ACB2D8E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19BF07-B1FD-4C49-A585-2C2FAA25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2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renE@ti.com" TargetMode="External"/><Relationship Id="rId2" Type="http://schemas.openxmlformats.org/officeDocument/2006/relationships/hyperlink" Target="mailto:OrenE@ti.com" TargetMode="External"/><Relationship Id="rId3" Type="http://schemas.openxmlformats.org/officeDocument/2006/relationships/hyperlink" Target="mailto:OrenE@ti.com" TargetMode="External"/><Relationship Id="rId4" Type="http://schemas.openxmlformats.org/officeDocument/2006/relationships/hyperlink" Target="mailto:OrenE@ti.com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   TG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br>
              <a:rPr sz="3600"/>
            </a:b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-Aviv    January 13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n Eliez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ren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alization and consideration of another wireless system in the shared environment of oper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operability, in contr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easur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Sensitivity Degradation in d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ditional dBs necessary to maintain the same reception quality in terms of BER or other link quality mea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erformance Degradation in throughp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bits/seco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ception of the damage is most importan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sceptibility to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wireless applications have different sensitivities to interference (in terms of user perception of the link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coexistence policies to suit the different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s of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-band, out-of-band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communication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ch as microwave ov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els and Effects of RF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front-end compression (sat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 of the entire band or portions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rd order inter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channel j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without interference or with manageable inter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4 units are invol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 Inter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ymmetrical Inter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system layouts are possible resulting in different interference scenari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en Eliezer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0:02:52Z</dcterms:created>
  <dc:creator>Oren Eliezer</dc:creator>
  <dc:description/>
  <dc:language>en-US</dc:language>
  <cp:lastModifiedBy>Robert F.  Heile</cp:lastModifiedBy>
  <cp:lastPrinted>2000-01-13T10:22:14Z</cp:lastPrinted>
  <dcterms:modified xsi:type="dcterms:W3CDTF">2000-01-13T14:12:30Z</dcterms:modified>
  <cp:revision>9</cp:revision>
  <dc:subject/>
  <dc:title>IEEE 802.15    TG2  Coexistence  Tel-Aviv    January 13, 2000</dc:title>
</cp:coreProperties>
</file>