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7ED-4B30-4AFE-9355-275DF2F9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68B-11CC-4B13-9BF9-0994C29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177-FA5F-48A1-9556-AE852276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AFF-4EE1-4E39-95B6-3288BAC3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185-3C45-4CAC-BE5D-28C10F5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3DC-358B-470C-830B-5CFBBC72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C39-B7B8-489D-8E65-F59CA75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A07-C77A-4AEA-874E-B2C6F44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577-05D0-441D-9CE7-61FD0FF6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12E-7FD5-487E-8E01-D71A7F8B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F64-10BD-4CCA-82B3-BBE0265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DD6-48BD-4CF6-8510-51D0D60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C4653E-245A-45C8-823D-B0EB3F187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7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 &amp; Interim - Suggested Sessio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Jan00 to 14Jan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Inter-Continental Hotel Tel-Aviv,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B5E-D863-4660-B396-9BA5DFCA3F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st Typical Interim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1520" y="2933640"/>
          <a:ext cx="8931240" cy="188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933640"/>
                    <a:ext cx="893124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3E-B0A1-4086-BC55-E0C626A83D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Interim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Full WG’s and 1 Joint .11/.15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 in the morning and 3.5 hours in the afternoon yielding 6.5 hours per day or 27.5 hours for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lose up to 6.5 hours to the WG therefore we net 21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FB6-5B68-49F9-8154-10BEF9A4F3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Day Interim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ll WG’s and 1 Joint .11/.15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 hours in the morning &amp; afternoon yielding 7 hours per day or 30 hours for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en assign up to 6 hours to the WG therefore we can net 24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5160" y="99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066680"/>
            <a:ext cx="53352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2520" y="121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137040"/>
            <a:ext cx="144792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209680"/>
            <a:ext cx="670572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9F6-2BE0-408C-82A8-2A53CBB34E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Day Interim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ll WG’s and 1 Joint .11/.15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 hours in the morning &amp; afternoon yielding 7 hours per day or 28 hours for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en assign up to 5.5 hours to the WG therefore we can net 22.5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137040"/>
            <a:ext cx="144792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209680"/>
            <a:ext cx="670572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5160" y="99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066680"/>
            <a:ext cx="53352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2520" y="121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7D5-8263-4142-9329-B6BE3BE5F2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im Meeting #4 Tel-Aviv -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 in the morning and 3.5 hours in the afternoon yields 6.5 hours per day or 26 hours for the four (4) day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st 5 hours to the WG therefore we netted 21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30E-9E6B-46DD-982D-708A3747D8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im Mee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#4 Tel-Aviv -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at 8a would be 7 hours per day or 28 hours for the four (4) day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give up 5.5 hours to the WG therefore we net 22.5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3240" y="68580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209680"/>
            <a:ext cx="670572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5160" y="99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066680"/>
            <a:ext cx="53352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2520" y="121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961-6BB2-450A-98AD-A9FC2E38BB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802.15 Formally adopt new Plenary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Day/24.5 Hours (Slide 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802.15 Formally adopt new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Day/30 Hours (Slide 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Day/28 Hours (Slide 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ccomplished by a P802.15 rule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at 8:00a and closing at 5:00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ng Full WG Meetings other than First Day/Last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ht want to review 802.11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- Moving to Monday late morning slot (Slot #2) during Plenary and Interim Meetings might be more effective than 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Tutorial Slot(s) - Coordinate to offset parallelisms e.g., avoid issues in Sponsor Ballot by providing first hand information 2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serial Opening/Closing Meetings to offset parallelisms e.g., if parallel Members will have a hard time attending open/close of each others Full WG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192-A723-484D-8BFD-F140AA42E4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732-3591-42EB-B14B-EBF16ACD84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1981080"/>
            <a:ext cx="6477120" cy="1067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1981080"/>
            <a:ext cx="157464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073320"/>
            <a:ext cx="4876920" cy="1295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#1 5Jul99 to 9Jul99 Montreal, PQ 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7120" y="1371600"/>
            <a:ext cx="89632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Executive   |Full 802.15| Full 802.15 |Full 802.15 |     802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Committee   |           |             |            |   Plenary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802Plenary  |Full 802.15|Joint Session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802.11/802.15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Full 802.15 |      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Tutorial   |           |             |Exec. |Mlng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         |Social       | Comm.|Prep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Event  |      |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B7F-633C-4FDE-826A-264AB9B50A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981080"/>
            <a:ext cx="170208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200400"/>
            <a:ext cx="16891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1981080"/>
            <a:ext cx="157464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#2 13Sep99 to 17Sep99 Santa Rosa, 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...........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E04-BCF1-46B7-863C-8B72BDB756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+ New TG1 Graphic for Tel-Av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lenary Sess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Interim Sess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Mont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Sant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 Ka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 Tel-Aviv (.11 &amp; 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95B-BA09-4D40-8DBE-CA129FFF34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327800" y="1981080"/>
            <a:ext cx="1575000" cy="1219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1040" y="1981080"/>
            <a:ext cx="1663560" cy="1981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200400"/>
            <a:ext cx="1676520" cy="1473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0560" y="3987720"/>
            <a:ext cx="157464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#3 8Nov99 to 12Nov99 Kauai, 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MC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321-36A1-4D1D-8B75-1454E1E3DD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40560" y="3987720"/>
            <a:ext cx="157464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13280" y="3200400"/>
            <a:ext cx="1714320" cy="762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981080"/>
            <a:ext cx="171468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24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 MC    |     MC      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...........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HR      |     HR    |     HR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2     |    TG1    | Joint.11/.15|    TG2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...........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TG2    |    TG1     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TG1     |*Tut #1 TG1|   Social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6:30-7:30p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*Tut #2?   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?         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WPAN, TG2 = Coexistence, MC = Marketing, SG = WPAN-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10Jan00 to 14Jan00 Tel-Aviv, 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35D-129B-457D-97EE-4F091BA74F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013280" y="3200400"/>
            <a:ext cx="1714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981080"/>
            <a:ext cx="171468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981080"/>
            <a:ext cx="1600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10Jan00 to 14Jan00 Tel-Aviv, 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240" y="1327320"/>
            <a:ext cx="8963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1 |  SG IAPP  |a-hReg|SGIAPP|   SG MAC   |Full 802.11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...........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TGb-cor   |  a-h Reg  |a-hReg| TGd  |   SG IAPP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|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SG MAC   |   SG MAC  | Joint.11/.15|    TGd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...........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d     |    TGd    | Full 802.11 |   SG IAPP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*Tut #1 TG1|   Social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6:30-7:30p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*Tut #2?   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?         | 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00B-12F4-45EF-825B-71B553D24A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802.15 Plenary &amp; Interim Meetings can be mor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uggest the following Sessio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8:00a vs. 8:30a and making the work day 7 hours long vs. 6.5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Full WG Meetings other than First Day/Las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rule change, I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4D1-CEE2-487C-967E-4321384E40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TG1 -99/160r1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3080" y="1752480"/>
          <a:ext cx="845964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96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05560" y="6205680"/>
            <a:ext cx="82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This graphic describes the weekly session of the IEEE P802.15, w/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ighlighted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r1 new ad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FA4-942B-46AE-8708-08B55A5240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PAN Operating Rules -99/001r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to change 2.5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.7. Working Group Standar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ist describes the normal content and operations of Plenary and Interim P802.15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Working Group meetings start promptly at 8:30 a.m. end promptly at 5:00 p.m. or per the approved meeting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158920" y="4826160"/>
            <a:ext cx="60984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960" y="4952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:00 a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BA8-03A9-44F5-851B-63C1802CC3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Working Group 802.15 meetings during 802 Plenary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47920" y="1676520"/>
          <a:ext cx="62244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2244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137-ACE0-4F50-AF6D-5AC2108DF1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st Typical Plenary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4240" y="2971800"/>
          <a:ext cx="895824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2971800"/>
                    <a:ext cx="89582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3240" y="68580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ExCom,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219-C5D0-4C9C-A18F-4289709D70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Plenary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Full WG’s and 1 Joint .11/.15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8:00a start times suggest that the WG consider 8:00a I submit that we adopt 8:00a start time for the Plenary &amp; Interi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W we lose 7 hours to WG and net 16 hours for Sub WGs during Plenary Se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3240" y="68580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ExCom,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48F-A2EF-4C46-8A95-045314BDB0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enary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271600"/>
          <a:ext cx="777240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1600"/>
                    <a:ext cx="77724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ll WG’s and 1 Joint .11/.15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8:00a and then we will have 3.5 hours in the morning &amp; afternoon yielding 7 hours per day or 24.5 hours for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en assign up to 5.5 hours to the WG and net 19 hours for the sub W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5160" y="99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85800"/>
            <a:ext cx="457200" cy="228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3240" y="68580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ExCom, WG or Joint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3137040"/>
            <a:ext cx="144792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066680"/>
            <a:ext cx="53352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2520" y="121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209680"/>
            <a:ext cx="670572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F0F-FBA8-4ECF-B82D-95CE12B658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9:31:17Z</dcterms:created>
  <dc:creator>Ian Gifford</dc:creator>
  <dc:description>-99/176r0</dc:description>
  <dc:language>en-US</dc:language>
  <cp:lastModifiedBy>Ian C. Gifford</cp:lastModifiedBy>
  <cp:lastPrinted>1998-02-10T13:28:06Z</cp:lastPrinted>
  <dcterms:modified xsi:type="dcterms:W3CDTF">2000-01-08T21:54:23Z</dcterms:modified>
  <cp:revision>37</cp:revision>
  <dc:subject>IEEE 802.15 Plenary &amp; Interim - Suggested Session Changes</dc:subject>
  <dc:title>IEEE P802.15 Working Group for Wireless Personal Area Networks</dc:title>
</cp:coreProperties>
</file>