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F6A44-895C-4FF6-B14A-762BB19F1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51B82-2C8B-4F00-9F5B-8A656CD67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BF081-87D9-4EB8-B5A3-56474CADD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A9553-E581-40DE-AA7D-724F895C0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5F539-2061-473B-B082-57A6D6A81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31FD8-6087-4915-A7F1-CC5AECB2F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C65AA-6EAA-43ED-956B-70B912F43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28CEB-8FF9-4FD3-9158-68C05D8A9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43F27-3FFF-4C13-B193-76CF8DBD8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E2C16-6C27-48DB-8A94-862C197B9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5F78A-D372-4EE3-B970-8CDA7BA5F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B08C2-5735-4C70-806A-59FAE3DBC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67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D. Allen, Eastman Kodak Co.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5AE640-2985-4B84-810F-2CBF62E5E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08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62120"/>
            <a:ext cx="8991720" cy="50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High Rate Project Planning Summar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0 January,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Lake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716.588.1906], FAX: [+1 716.722.9053], E-Mail:[james.d.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Description of the work we decided to do this week and a running summary of the results and action item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mmunicate the consensus opinion and status of the work being done this week.  Because the week’s agenda was completed the first day, this planning activity represents the changes to the original agen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5EC85C2-E54C-44B3-AA74-55659DB4B5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ocument Number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G Planning Summary -00/008r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D/Criteria Document- 00/007r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High Rate CFP/CFA - </a:t>
            </a:r>
            <a:r>
              <a:rPr b="0" lang="en-US" sz="3200" spc="-1" strike="noStrike">
                <a:solidFill>
                  <a:srgbClr val="000000"/>
                </a:solidFill>
                <a:latin typeface="Arial"/>
              </a:rPr>
              <a:t>99/164r1</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4447728-FE91-4A6E-AB92-CD843D7ED3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ditor’s Not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document has been updated in part in the Joint Session presentation (doc.:00/019r1 ) and organizational chart (doc.:00/022r0) which happened 3 days after this present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834027F-D8FB-48F3-8F93-B4CC347BDE1B}"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HR SG Status</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 approved by .15 W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be submitted to ExCom for Mar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 .15 - 99/16r4</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C =  .15- 99/166r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organizational and marketing activities in anticipation of TG Statu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0F1AAFD-F7A8-4086-9699-8294572566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gh Rate SG Agenda List/Schedule</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day</a:t>
            </a:r>
            <a:endParaRPr b="0" lang="en-US" sz="32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me High Rate?</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Proposal</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Content/Updates</a:t>
            </a:r>
            <a:endParaRPr b="0" lang="en-US" sz="24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esday</a:t>
            </a:r>
            <a:endParaRPr b="0" lang="en-US" sz="32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MRD</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 Evaluation Criteria</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r Applications/Call for Proposals</a:t>
            </a:r>
            <a:endParaRPr b="0" lang="en-US" sz="24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day</a:t>
            </a:r>
            <a:endParaRPr b="0" lang="en-US" sz="28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presentation and debate of 5C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8B2C034-05AA-4F01-AB05-F6010A7A94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33520" y="13716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Meeting &amp; March Action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Rate TG leadership propos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 Letter for P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Committee Chairs and Liais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s Relea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C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Agenda and Presentation to ExCo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Rate SIG role and statu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441360" y="65088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45BC544-4D97-4C73-9099-8905A2F843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80520"/>
            <a:ext cx="6095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me</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295280"/>
            <a:ext cx="7772400" cy="4114800"/>
          </a:xfrm>
          <a:prstGeom prst="rect">
            <a:avLst/>
          </a:prstGeom>
          <a:noFill/>
          <a:ln w="0">
            <a:noFill/>
          </a:ln>
        </p:spPr>
        <p:txBody>
          <a:bodyPr lIns="92160" rIns="92160" tIns="46080" bIns="4608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change name if we become a TG because it is too relative to current abilities and insensative to 802.11MM?</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all for Name” request - </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ake under advisement</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 Staff to make final decision</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for March meeting</a:t>
            </a:r>
            <a:endParaRPr b="0" lang="en-US" sz="28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Assume a TG Sequence Number </a:t>
            </a:r>
            <a:r>
              <a:rPr b="0" lang="en-US" sz="2400" spc="-1" strike="noStrike">
                <a:solidFill>
                  <a:srgbClr val="000000"/>
                </a:solidFill>
                <a:latin typeface="Arial"/>
              </a:rPr>
              <a:t>(action: JDA to ask RFH)</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6E29C38-15F6-436C-BD07-393B11A9D6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b</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falls to Secretary to keep Ian posted with new data and requir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needs links to up coming non-IEEE press rele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Bailey and Bob Morris to work on until Secretary is appoint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FEE1CDC-746F-457F-82F0-AE3C099F14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rganization- need to complete list:</a:t>
            </a:r>
            <a:endParaRPr b="0" lang="en-US" sz="3600" spc="-1" strike="noStrike">
              <a:solidFill>
                <a:srgbClr val="000000"/>
              </a:solidFill>
              <a:latin typeface="Times New Roman"/>
            </a:endParaRPr>
          </a:p>
        </p:txBody>
      </p:sp>
      <p:sp>
        <p:nvSpPr>
          <p:cNvPr id="57" name="PlaceHolder 2"/>
          <p:cNvSpPr>
            <a:spLocks noGrp="1"/>
          </p:cNvSpPr>
          <p:nvPr>
            <p:ph/>
          </p:nvPr>
        </p:nvSpPr>
        <p:spPr>
          <a:xfrm>
            <a:off x="609480" y="1371600"/>
            <a:ext cx="7772400" cy="4114800"/>
          </a:xfrm>
          <a:prstGeom prst="rect">
            <a:avLst/>
          </a:prstGeom>
          <a:noFill/>
          <a:ln w="0">
            <a:noFill/>
          </a:ln>
        </p:spPr>
        <p:txBody>
          <a:bodyPr lIns="92160" rIns="92160" tIns="46080" bIns="46080" anchor="t">
            <a:normAutofit fontScale="79000"/>
          </a:bodyPr>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a:t>
            </a:r>
            <a:endParaRPr b="0" lang="en-US" sz="2400" spc="-1" strike="noStrike">
              <a:solidFill>
                <a:srgbClr val="000000"/>
              </a:solidFill>
              <a:latin typeface="Arial"/>
            </a:endParaRPr>
          </a:p>
          <a:p>
            <a:pPr lvl="1" marL="586800" indent="-225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 - (Motorola to nominate - replaces Morris)</a:t>
            </a:r>
            <a:endParaRPr b="0" lang="en-US" sz="1600" spc="-1" strike="noStrike">
              <a:solidFill>
                <a:srgbClr val="000000"/>
              </a:solidFill>
              <a:latin typeface="Arial"/>
            </a:endParaRPr>
          </a:p>
          <a:p>
            <a:pPr lvl="1" marL="586800" indent="-225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ce Chair - (Todor Cooklev)</a:t>
            </a:r>
            <a:endParaRPr b="0" lang="en-US" sz="1600" spc="-1" strike="noStrike">
              <a:solidFill>
                <a:srgbClr val="000000"/>
              </a:solidFill>
              <a:latin typeface="Arial"/>
            </a:endParaRPr>
          </a:p>
          <a:p>
            <a:pPr lvl="1" marL="586800" indent="-225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retary - (Pat Kinney) </a:t>
            </a:r>
            <a:endParaRPr b="0" lang="en-US" sz="1600" spc="-1" strike="noStrike">
              <a:solidFill>
                <a:srgbClr val="000000"/>
              </a:solidFill>
              <a:latin typeface="Arial"/>
            </a:endParaRPr>
          </a:p>
          <a:p>
            <a:pPr lvl="1" marL="586800" indent="-225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 Editor - (TBD)</a:t>
            </a:r>
            <a:endParaRPr b="0" lang="en-US" sz="16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 Committee Leaders</a:t>
            </a:r>
            <a:endParaRPr b="0" lang="en-US" sz="2400" spc="-1" strike="noStrike">
              <a:solidFill>
                <a:srgbClr val="000000"/>
              </a:solidFill>
              <a:latin typeface="Arial"/>
            </a:endParaRPr>
          </a:p>
          <a:p>
            <a:pPr lvl="1" marL="586800" indent="-225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 - (Gilb/Carlson)</a:t>
            </a:r>
            <a:endParaRPr b="0" lang="en-US" sz="1600" spc="-1" strike="noStrike">
              <a:solidFill>
                <a:srgbClr val="000000"/>
              </a:solidFill>
              <a:latin typeface="Arial"/>
            </a:endParaRPr>
          </a:p>
          <a:p>
            <a:pPr lvl="1" marL="586800" indent="-225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 - (Heberling)</a:t>
            </a:r>
            <a:endParaRPr b="0" lang="en-US" sz="1600" spc="-1" strike="noStrike">
              <a:solidFill>
                <a:srgbClr val="000000"/>
              </a:solidFill>
              <a:latin typeface="Arial"/>
            </a:endParaRPr>
          </a:p>
          <a:p>
            <a:pPr lvl="1" marL="586800" indent="-225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Controller Interface (TBD)</a:t>
            </a:r>
            <a:endParaRPr b="0" lang="en-US" sz="16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s</a:t>
            </a:r>
            <a:endParaRPr b="0" lang="en-US" sz="2400" spc="-1" strike="noStrike">
              <a:solidFill>
                <a:srgbClr val="000000"/>
              </a:solidFill>
              <a:latin typeface="Arial"/>
            </a:endParaRPr>
          </a:p>
          <a:p>
            <a:pPr lvl="1" marL="586800" indent="-225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 .15 - (TBD)</a:t>
            </a:r>
            <a:endParaRPr b="0" lang="en-US" sz="1600" spc="-1" strike="noStrike">
              <a:solidFill>
                <a:srgbClr val="000000"/>
              </a:solidFill>
              <a:latin typeface="Arial"/>
            </a:endParaRPr>
          </a:p>
          <a:p>
            <a:pPr lvl="1" marL="586800" indent="-225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existence .15 (Kevin Marquess)</a:t>
            </a:r>
            <a:endParaRPr b="0" lang="en-US" sz="1600" spc="-1" strike="noStrike">
              <a:solidFill>
                <a:srgbClr val="000000"/>
              </a:solidFill>
              <a:latin typeface="Arial"/>
            </a:endParaRPr>
          </a:p>
          <a:p>
            <a:pPr lvl="1" marL="586800" indent="-225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 (Morris to propose)</a:t>
            </a:r>
            <a:endParaRPr b="0" lang="en-US" sz="1600" spc="-1" strike="noStrike">
              <a:solidFill>
                <a:srgbClr val="000000"/>
              </a:solidFill>
              <a:latin typeface="Arial"/>
            </a:endParaRPr>
          </a:p>
          <a:p>
            <a:pPr lvl="1" marL="586800" indent="-225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eRF - (Morris to propose)</a:t>
            </a:r>
            <a:endParaRPr b="0" lang="en-US" sz="1600" spc="-1" strike="noStrike">
              <a:solidFill>
                <a:srgbClr val="000000"/>
              </a:solidFill>
              <a:latin typeface="Arial"/>
            </a:endParaRPr>
          </a:p>
          <a:p>
            <a:pPr lvl="1" marL="586800" indent="-225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C - (Carlson)</a:t>
            </a:r>
            <a:endParaRPr b="0" lang="en-US" sz="1600" spc="-1" strike="noStrike">
              <a:solidFill>
                <a:srgbClr val="000000"/>
              </a:solidFill>
              <a:latin typeface="Arial"/>
            </a:endParaRPr>
          </a:p>
          <a:p>
            <a:pPr lvl="1" marL="586800" indent="-225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SI/BRAN - ( Fujio Wantanabe)</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F834FD53-8A28-4DB5-9F0E-4306B017C9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RD and Evaluation Criteria</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Collection of MRD input to support decisions and P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Musts”, “Wants”, “Referen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from BT, HRF-MM, 802.11B, HIPERLAN, Digital Img. Group.…</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Criteria for Selection Process </a:t>
            </a:r>
            <a:r>
              <a:rPr b="0" lang="en-US" sz="2400" spc="-1" strike="noStrike">
                <a:solidFill>
                  <a:srgbClr val="000000"/>
                </a:solidFill>
                <a:latin typeface="Arial"/>
              </a:rPr>
              <a:t>(Kevin Marqu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34ED845-21E1-427A-A5F0-F86B048E84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RD and Evaluation Criteria</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our Straw-version with CFP/CP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each proposal to submit self-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Feb. 4t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include instructions including boiler pl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60D6316-487D-45CE-8487-07457F4F1F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0T21:11:36Z</dcterms:created>
  <dc:creator>James Allen</dc:creator>
  <dc:description/>
  <dc:language>en-US</dc:language>
  <cp:lastModifiedBy>Robert F.  Heile</cp:lastModifiedBy>
  <dcterms:modified xsi:type="dcterms:W3CDTF">2000-01-16T06:40:47Z</dcterms:modified>
  <cp:revision>23</cp:revision>
  <dc:subject/>
  <dc:title>High Rate SG Agenda List</dc:title>
</cp:coreProperties>
</file>