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CC1C-D626-40CB-AB3E-3294E66B3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4FD7-CC1D-4725-B1AF-07E77ED23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AED0-5CC1-4D0D-BE8C-0E18B2419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0B78-AE30-4410-81FA-01AF03A8D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A7EC-109F-4CE1-8AD9-5762979E8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42F4-A80B-455B-BECF-CF6CD36D0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AC67-82EE-4798-B22D-22178D162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ED94-80D7-4105-B8DE-1DEE63C53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7212-0D0A-488B-A3A7-5CDB59476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7ACB-B306-4FA8-83E0-D482E2A3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7098-0C12-49FF-AB6F-3E7A6584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C1B1-6E3A-4110-A0E6-B82EB9BD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57A2D60-C73D-45BC-ADFB-A6D0CC2674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177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1 Working 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vid Intercontinental Hotel 12, Kaufman St. Tel Aviv Isra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802" descr=""/>
          <p:cNvPicPr/>
          <p:nvPr/>
        </p:nvPicPr>
        <p:blipFill>
          <a:blip r:embed="rId1"/>
          <a:stretch/>
        </p:blipFill>
        <p:spPr>
          <a:xfrm>
            <a:off x="3753000" y="733320"/>
            <a:ext cx="1581120" cy="1629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D6D5-8893-4DBF-B2AC-0A732AFDEE4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G1 Graph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G1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G1 Tel Aviv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on Schedul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C400-5388-4579-BEBE-2311672C56F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w TG1 -99/160r1 Graph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43080" y="1752480"/>
          <a:ext cx="8459640" cy="421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1752480"/>
                    <a:ext cx="8459640" cy="42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205560" y="6205680"/>
            <a:ext cx="824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: This graphic describes the weekly session of the IEEE P802.15, w/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TG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highlighted.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TG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are r1 new ad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51B8-88AB-4F42-AA41-2D1A711BBC2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4838760"/>
            <a:ext cx="3886200" cy="4190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934320" y="3200400"/>
            <a:ext cx="1904760" cy="9144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G1 Summary - you are h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Jun97 - Idea for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98 - Find Spon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b99 - Submit 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99 - Approve 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l99 - Organize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99 - Develop draft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v99 - Ballot draft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00 - Approve draft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00 - Publish approved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fig1" descr=""/>
          <p:cNvPicPr/>
          <p:nvPr/>
        </p:nvPicPr>
        <p:blipFill>
          <a:blip r:embed="rId1"/>
          <a:stretch/>
        </p:blipFill>
        <p:spPr>
          <a:xfrm>
            <a:off x="5029200" y="1981080"/>
            <a:ext cx="3801960" cy="438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0BF4-AEC6-4766-977E-2B714F78DEE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5867280"/>
            <a:ext cx="3886200" cy="648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934320" y="4800600"/>
            <a:ext cx="1904760" cy="9144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G1 Summary - will be done h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Jun97 - Idea for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98 - Find Spon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b99 - Submit 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99 - Approve 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l99 - Organize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99 - Develop draft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v99 - Ballot draft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00 - Approve draft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00 - Publish approved standard (or soon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fig1" descr=""/>
          <p:cNvPicPr/>
          <p:nvPr/>
        </p:nvPicPr>
        <p:blipFill>
          <a:blip r:embed="rId1"/>
          <a:stretch/>
        </p:blipFill>
        <p:spPr>
          <a:xfrm>
            <a:off x="5029200" y="1981080"/>
            <a:ext cx="3801960" cy="438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CE13-A335-448C-A034-68AB006C201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l-Aviv Ob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LETTER BALLOT 1 COMMENT RESOLUTION/DIS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PROVIDE AN UPDATE ON TG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PROVIDE AN OVERVIEW OF THE BLUETOOTH VERSION 1.0 B SPECIFICATION(S), IN SESSION &amp; 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PLAN FOR DRAFT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VOTE TO FORWARD/RECIRCULATE THE DRAFT TO SPONSOR/WG RECIRC L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VOTE TO REVIEW THE RECIRC COMMENTS FROM WG LB #X BEFORE PLE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3006-B9C3-4C02-A5A6-70643F10D8D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G1/WG Motion Schedu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on #1 - Empower the P802.15 Technical Editor between 14Jan00 &amp; 5Mar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on #2 - Empower the WG to conduct an Electronic LB for the TG1 Draft between 14Jan00 &amp; 5Mar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B7E7-3AA9-4A67-AEC7-1100EEA9AE2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129320" y="3643200"/>
            <a:ext cx="1270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B #1 Interim Empower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97360" y="3138480"/>
            <a:ext cx="29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50% (Procedur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65320" y="5478480"/>
            <a:ext cx="34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ed or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879560"/>
            <a:ext cx="79520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ion 1: I move to empower the P802.15 Technical Editor to continue conducting LB1 Electronic Comment resolution between 14Jan00 and 5Mar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CD24-413E-43A8-A24A-2A9F60A1DA31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09480" y="1879560"/>
            <a:ext cx="79520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on 2: I move to empower the P802.15 WG to conduct a new Electronic Letter Ballot between 14Jan00 and 5Mar00 for the pending TG1 Draft Stand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29320" y="3643200"/>
            <a:ext cx="1270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G Empowerment for ELB Recirculation Between 14Jan00 - 5Mar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97360" y="3138480"/>
            <a:ext cx="29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75% (Procedur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65320" y="5478480"/>
            <a:ext cx="34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ed or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CE2A-D4C6-4971-BD1D-679D77BC0386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2T05:58:24Z</dcterms:created>
  <dc:creator>Ian C. Gifford</dc:creator>
  <dc:description>-99/175r0</dc:description>
  <dc:language>en-US</dc:language>
  <cp:lastModifiedBy>Ian C. Gifford</cp:lastModifiedBy>
  <cp:lastPrinted>1998-02-10T13:28:06Z</cp:lastPrinted>
  <dcterms:modified xsi:type="dcterms:W3CDTF">2000-01-12T07:13:06Z</dcterms:modified>
  <cp:revision>79</cp:revision>
  <dc:subject>IEEE 802.15 TG1 Report</dc:subject>
  <dc:title>IEEE P802.15 Working Group for Wireless Personal Area Networks</dc:title>
</cp:coreProperties>
</file>