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32AE2-B129-4AEC-BE24-14AE2FE9A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DDAEB-5F2D-4020-9582-9E4325A97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7DEE6-411C-468B-A0E0-B41F2F284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CC784-E1FF-4E60-946A-F41FAD8EA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0D15C-6FF4-4CBA-A2D3-106509727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F477F-EBF8-490A-B811-FA04C55A6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EFA90-2CEF-4A5C-9D38-ED080C260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3F6C1-B6EF-4155-A232-0726CB544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FA60B-D447-43D2-8382-65592005F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C3ABC-0626-4AA2-BE02-8842E7AA4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854D6-41E2-44B2-B03D-B9813DB21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853D7-141C-4DD2-A113-42F1B1D64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D7E849-3897-4A88-81E1-238E38F43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8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52280" y="609480"/>
            <a:ext cx="8991720" cy="502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1" lang="en-US" sz="1800" spc="-1" strike="noStrike">
                <a:solidFill>
                  <a:srgbClr val="000000"/>
                </a:solidFill>
                <a:latin typeface="Times New Roman"/>
              </a:rPr>
              <a:t>TOWARDS COEXISTENCE AMONG WIRELESS DEV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Jan. 10,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1" lang="en-US" sz="1800" spc="-1" strike="noStrike">
                <a:solidFill>
                  <a:srgbClr val="000000"/>
                </a:solidFill>
                <a:latin typeface="Times New Roman"/>
              </a:rPr>
              <a:t>D. Ostermiller, S. Prestwich,  K. Dobson, T. Cooklev, Aware, In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 Middlesex Turnpike, Bedford, MA 01730-1432,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801) 424-3869, FAX: (801) 424-3869, E-Mail:tcooklev@aware.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99/188r1</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 modification to the 802.15.1 is proposed. It is suggested to implement a simple mechanism to limit hopping to a narrower frequency band. This change can be easily implemented and will greatly facilitate coexistence with other wireless devices in the 2.4 GHz band.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 Ensure coexistence among wireless devices in the 2.4 GHz b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Todor Cooklev, Aware</a:t>
            </a:r>
          </a:p>
        </p:txBody>
      </p:sp>
      <p:sp>
        <p:nvSpPr>
          <p:cNvPr id="3" name="PlaceHolder 2"/>
          <p:cNvSpPr>
            <a:spLocks noGrp="1"/>
          </p:cNvSpPr>
          <p:nvPr>
            <p:ph type="sldNum" idx="3"/>
          </p:nvPr>
        </p:nvSpPr>
        <p:spPr/>
        <p:txBody>
          <a:bodyPr/>
          <a:p>
            <a:fld id="{C9D74DF6-5072-4C8C-83CF-CF36D976C42E}" type="slidenum">
              <a:t>1</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do we need coexistence?</a:t>
            </a: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1371600" y="2514600"/>
            <a:ext cx="7391520" cy="3733920"/>
          </a:xfrm>
          <a:prstGeom prst="rect">
            <a:avLst/>
          </a:prstGeom>
          <a:noFill/>
          <a:ln w="0">
            <a:noFill/>
          </a:ln>
        </p:spPr>
        <p:txBody>
          <a:bodyPr lIns="92160" rIns="92160" tIns="46080" bIns="4608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trum is a precious resourc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several wireless standards in the same frequency band, with more wireless standards to com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existence is necessary for the user acceptance of wireless technology</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dor Cooklev, Aware</a:t>
            </a:r>
          </a:p>
        </p:txBody>
      </p:sp>
      <p:sp>
        <p:nvSpPr>
          <p:cNvPr id="5" name="PlaceHolder 4"/>
          <p:cNvSpPr>
            <a:spLocks noGrp="1"/>
          </p:cNvSpPr>
          <p:nvPr>
            <p:ph type="sldNum" idx="3"/>
          </p:nvPr>
        </p:nvSpPr>
        <p:spPr/>
        <p:txBody>
          <a:bodyPr/>
          <a:p>
            <a:fld id="{7C1A7512-B710-4A63-800E-BC87F938A151}" type="slidenum">
              <a:t>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wireless standard:</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s the entire frequency band is available only to itsel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big stick” policy, the device transmitting relatively at the highest power will get its data throug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investigations of coexistence seem to support the big stick polic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replace the “big stick” policy with the “good citizen” polic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dor Cooklev, Aware</a:t>
            </a:r>
          </a:p>
        </p:txBody>
      </p:sp>
      <p:sp>
        <p:nvSpPr>
          <p:cNvPr id="5" name="PlaceHolder 4"/>
          <p:cNvSpPr>
            <a:spLocks noGrp="1"/>
          </p:cNvSpPr>
          <p:nvPr>
            <p:ph type="sldNum" idx="3"/>
          </p:nvPr>
        </p:nvSpPr>
        <p:spPr/>
        <p:txBody>
          <a:bodyPr/>
          <a:p>
            <a:fld id="{F5C6C9CF-D7AB-4FEA-A318-325BE3EDA20B}" type="slidenum">
              <a:t>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140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quency hopping</a:t>
            </a: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1371600" y="2133720"/>
            <a:ext cx="6400800" cy="3504960"/>
          </a:xfrm>
          <a:prstGeom prst="rect">
            <a:avLst/>
          </a:prstGeom>
          <a:noFill/>
          <a:ln w="0">
            <a:noFill/>
          </a:ln>
        </p:spPr>
        <p:txBody>
          <a:bodyPr lIns="92160" rIns="92160" tIns="46080" bIns="4608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the US 2402+k MHz, k=0,…78</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ain, France and Japan are slightly differ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ed in a pseudo-random patter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dor Cooklev, Aware</a:t>
            </a:r>
          </a:p>
        </p:txBody>
      </p:sp>
      <p:sp>
        <p:nvSpPr>
          <p:cNvPr id="5" name="PlaceHolder 4"/>
          <p:cNvSpPr>
            <a:spLocks noGrp="1"/>
          </p:cNvSpPr>
          <p:nvPr>
            <p:ph type="sldNum" idx="3"/>
          </p:nvPr>
        </p:nvSpPr>
        <p:spPr/>
        <p:txBody>
          <a:bodyPr/>
          <a:p>
            <a:fld id="{189FD596-4ECD-45B1-8024-6392EC87FE2F}" type="slidenum">
              <a:t>4</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rn Hopping Off (N)</a:t>
            </a:r>
            <a:endParaRPr b="0" lang="en-US" sz="3600" spc="-1" strike="noStrike">
              <a:solidFill>
                <a:srgbClr val="000000"/>
              </a:solidFill>
              <a:latin typeface="Times New Roman"/>
            </a:endParaRPr>
          </a:p>
        </p:txBody>
      </p:sp>
      <p:sp>
        <p:nvSpPr>
          <p:cNvPr id="54" name="PlaceHolder 2"/>
          <p:cNvSpPr>
            <a:spLocks noGrp="1"/>
          </p:cNvSpPr>
          <p:nvPr>
            <p:ph type="subTitle"/>
          </p:nvPr>
        </p:nvSpPr>
        <p:spPr>
          <a:xfrm>
            <a:off x="1371600" y="2057400"/>
            <a:ext cx="6400800" cy="3581280"/>
          </a:xfrm>
          <a:prstGeom prst="rect">
            <a:avLst/>
          </a:prstGeom>
          <a:noFill/>
          <a:ln w="0">
            <a:noFill/>
          </a:ln>
        </p:spPr>
        <p:txBody>
          <a:bodyPr lIns="92160" rIns="92160" tIns="46080" bIns="46080" anchor="t">
            <a:no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1 start hopping in a narrower b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0 stop hopping and use one 1 MHz-wide channel; limit output power as per FCC requirement 15.249 (50 mV/m at 3 meter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dor Cooklev, Aware</a:t>
            </a:r>
          </a:p>
        </p:txBody>
      </p:sp>
      <p:sp>
        <p:nvSpPr>
          <p:cNvPr id="5" name="PlaceHolder 4"/>
          <p:cNvSpPr>
            <a:spLocks noGrp="1"/>
          </p:cNvSpPr>
          <p:nvPr>
            <p:ph type="sldNum" idx="3"/>
          </p:nvPr>
        </p:nvSpPr>
        <p:spPr/>
        <p:txBody>
          <a:bodyPr/>
          <a:p>
            <a:fld id="{11B02F7F-7498-412F-8AC9-9FEB4B350F7A}" type="slidenum">
              <a:t>5</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21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1981080"/>
            <a:ext cx="6934320" cy="3657600"/>
          </a:xfrm>
          <a:prstGeom prst="rect">
            <a:avLst/>
          </a:prstGeom>
          <a:noFill/>
          <a:ln w="0">
            <a:noFill/>
          </a:ln>
        </p:spPr>
        <p:txBody>
          <a:bodyPr lIns="92160" rIns="92160" tIns="46080" bIns="46080" anchor="t">
            <a:no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g stick” policy is replaced with the “good citizen” polic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CC requirements are not violat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only a minor change in the firmware; major schedules are not affect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dor Cooklev, Aware</a:t>
            </a:r>
          </a:p>
        </p:txBody>
      </p:sp>
      <p:sp>
        <p:nvSpPr>
          <p:cNvPr id="5" name="PlaceHolder 4"/>
          <p:cNvSpPr>
            <a:spLocks noGrp="1"/>
          </p:cNvSpPr>
          <p:nvPr>
            <p:ph type="sldNum" idx="3"/>
          </p:nvPr>
        </p:nvSpPr>
        <p:spPr/>
        <p:txBody>
          <a:bodyPr/>
          <a:p>
            <a:fld id="{17A2C2ED-0D40-4FB9-A519-2E1399EDAB84}" type="slidenum">
              <a:t>6</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5T00:13:41Z</dcterms:created>
  <dc:creator>Todor Cooklev</dc:creator>
  <dc:description>-99/189r0</dc:description>
  <dc:language>en-US</dc:language>
  <cp:lastModifiedBy>Ian C. Gifford</cp:lastModifiedBy>
  <cp:lastPrinted>1998-02-10T13:28:06Z</cp:lastPrinted>
  <dcterms:modified xsi:type="dcterms:W3CDTF">2000-01-10T16:42:43Z</dcterms:modified>
  <cp:revision>14</cp:revision>
  <dc:subject>IEEE 802.15 a Coexistence Proposal to TG2</dc:subject>
  <dc:title>Towards Coexistence</dc:title>
</cp:coreProperties>
</file>