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82A-0256-4FF9-AED0-EDBED387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E97-08AE-4ABD-91A3-E738F0EE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D65-740E-4DAD-B52D-025BD0B6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959-4671-4880-AA2B-00D8D29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BFC-80C4-45CA-9297-8F59AE4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BEC-E057-492D-92D8-2B39235F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9C4-FE47-479B-BF39-BBBC143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36A-BCD3-42B2-9E49-A683468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A15-A6F4-49F3-99E2-164E63B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BB5-C817-40B7-BFD2-948E5D8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488-59C4-4541-B98F-4544E20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2CF-3362-4201-A65D-36E8449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D4F96C-46E0-4BD4-BD38-C06165B4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vid Intercontinental Hotel 12, Kaufman St. Tel Aviv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E6B-967B-4DA3-859B-2D814685F0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TG1 -99/160r1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3080" y="1752480"/>
          <a:ext cx="845964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96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05560" y="6205680"/>
            <a:ext cx="82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This graphic describes the weekly session of the IEEE P802.15, w/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ighlighted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r1 new ad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40C-9C1D-4D8D-A6B5-94916E48C8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ua’i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1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el-Av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B4C-46C0-4829-8291-10754E3504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838760"/>
            <a:ext cx="3886200" cy="419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3200400"/>
            <a:ext cx="190476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Summary - you are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fig1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0E4-D0D5-4F95-A575-F637E23EF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5867280"/>
            <a:ext cx="3886200" cy="648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800600"/>
            <a:ext cx="190476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Summary - will be done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 approved standard (or soo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ig1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316-E296-410F-8B4A-2698378081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C77-0464-4BDA-BFA9-51CE9C4F0E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1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allot 1 MOTION: To submit the contents of document IEEE P802-15/D0.6 to Sponsor Ballot [default recirculation ballot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allot 1 RESULT: Motion failed with 18/15/2 or 43%  (P802-15/D0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lan is resolve the LB1 Comments and start a 10 Day recirculation LB of P802-15/D1.0 on 25Feb00 or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960-5EE9-4B15-99BF-49BE50A5A4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-Aviv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ETTER BALLOT 1 COMMENT RESOLUTION/DIS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OVERVIEW OF THE BLUETOOTH VERSION 1.0 B SPECIFICATION(S), IN SESSION &amp; 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N FOR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VOTE TO FORWARD/RECIRCULATE THE DRAFT TO SPONSOR/WG RECIRC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REVIEW THE RECIRC COMMENTS FROM WG LB #X BEFORE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809-28C9-4E6A-A0FA-42D2184CF1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-Aviv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 #1 Comments -99/172r0[a-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 #1 Comment Worksheet -99/173r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Interim Conference Tutorial on Tuesday 9Nov99 from 6:30 to 7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P802.15.1/D0.6 DRAFT STANDARD &amp; LB1 SUMMARY -99/179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V1.0 B SPECIFICATION(S) OVERVIEW -99/180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9F6-E4CF-4704-BD42-8EF05D4A7C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/WG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Empower the WG to recirculate a LB with TG1’s Draft between 15Jan00 &amp; 5Mar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Empower the TG1 to conduct electronic Comment Resolution of TG1’s Draft Comments between 15Jan00 &amp; 5Mar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F35-6658-4671-B788-D6BD895D99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75r0</dc:description>
  <dc:language>en-US</dc:language>
  <cp:lastModifiedBy>Ian C. Gifford</cp:lastModifiedBy>
  <cp:lastPrinted>1998-02-10T13:28:06Z</cp:lastPrinted>
  <dcterms:modified xsi:type="dcterms:W3CDTF">2000-01-08T18:53:40Z</dcterms:modified>
  <cp:revision>74</cp:revision>
  <dc:subject>IEEE 802.15 TG1 Report</dc:subject>
  <dc:title>IEEE P802.15 Working Group for Wireless Personal Area Networks</dc:title>
</cp:coreProperties>
</file>