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20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1CB-3D04-4047-9C51-EFFDE83B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156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59E-DA92-4FC8-A4B5-A336E095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BD0-1418-4C66-9683-A331088B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7F3-221B-4E06-A48B-56DD6D74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E2A-4FE2-45D3-84FB-ED56B4C9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246-2751-4498-9BD0-597EE5EE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9EE-2BEC-4127-BB8A-BB86B5C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2B4-5FFE-47E4-A8B7-886A804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163-ADE9-4774-990A-490CDCC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766-17CF-4EC2-B3C3-EFB8D8C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A4C-E5A8-4ECA-8B95-1ED0E9B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E67-D51D-4632-916F-DCA55E6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EF0-89C5-493B-AEFD-8BE9EA5C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0120" y="93348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28600" y="614520"/>
            <a:ext cx="674640" cy="660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57434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vifr2" descr=""/>
          <p:cNvPicPr/>
          <p:nvPr/>
        </p:nvPicPr>
        <p:blipFill>
          <a:blip r:embed="rId3"/>
          <a:stretch/>
        </p:blipFill>
        <p:spPr>
          <a:xfrm flipH="1" rot="10800000">
            <a:off x="0" y="6357960"/>
            <a:ext cx="92203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gning Standards to Maximize Bluetooth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7560" y="4299120"/>
            <a:ext cx="4572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 Si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Group Technical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05C-DA76-42A1-81E0-117E844711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EEE Project 802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63560" y="1166760"/>
          <a:ext cx="59803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166760"/>
                    <a:ext cx="59803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0F8-F598-4DEB-B426-DA42906B7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094520" y="2925720"/>
          <a:ext cx="156852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4520" y="2925720"/>
                    <a:ext cx="15685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Detail of IEEE P802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16040" y="1581120"/>
          <a:ext cx="2163960" cy="39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6040" y="1581120"/>
                    <a:ext cx="216396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76360" y="1579680"/>
          <a:ext cx="24177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1579680"/>
                    <a:ext cx="2417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46040" y="2882880"/>
          <a:ext cx="26719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6040" y="2882880"/>
                    <a:ext cx="2671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824040" y="4241880"/>
          <a:ext cx="2212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040" y="4241880"/>
                    <a:ext cx="221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272120" y="2913120"/>
          <a:ext cx="2741400" cy="257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72120" y="2913120"/>
                    <a:ext cx="2741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440320" y="2166840"/>
          <a:ext cx="1908360" cy="116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40320" y="2166840"/>
                    <a:ext cx="19083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401920" y="5110200"/>
          <a:ext cx="3035160" cy="81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01920" y="5110200"/>
                    <a:ext cx="30351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54400" y="1455840"/>
          <a:ext cx="5154480" cy="464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54400" y="1455840"/>
                    <a:ext cx="5154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B44-3799-49EA-B613-0E873E14B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es That Relate to Bluetoo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rchitecture" descr=""/>
          <p:cNvPicPr/>
          <p:nvPr/>
        </p:nvPicPr>
        <p:blipFill>
          <a:blip r:embed="rId1"/>
          <a:stretch/>
        </p:blipFill>
        <p:spPr>
          <a:xfrm>
            <a:off x="1724040" y="1030320"/>
            <a:ext cx="5581800" cy="5332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0080" y="175572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L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30C-346E-4206-BDA5-A902324D7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27160" y="1116000"/>
            <a:ext cx="271440" cy="18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the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4829040"/>
            <a:ext cx="2673360" cy="3524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4480" y="4395960"/>
            <a:ext cx="2673360" cy="379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54480" y="3583080"/>
            <a:ext cx="655920" cy="758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4400" y="3989520"/>
            <a:ext cx="1963440" cy="35244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4400" y="3583080"/>
            <a:ext cx="1253880" cy="352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4480" y="2519280"/>
            <a:ext cx="2509920" cy="101448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7800" y="2824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68800" y="2065320"/>
            <a:ext cx="677880" cy="3808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16520" y="2065320"/>
            <a:ext cx="434880" cy="3808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1600" y="2065320"/>
            <a:ext cx="830160" cy="3808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0" y="2076480"/>
            <a:ext cx="503280" cy="379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81720" y="2065320"/>
            <a:ext cx="1365480" cy="187956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84640" y="1631880"/>
            <a:ext cx="3562560" cy="352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09800">
            <a:off x="7430400" y="272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6000" y="1125360"/>
            <a:ext cx="3373560" cy="43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0680" y="1120680"/>
            <a:ext cx="47808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6200" y="1120680"/>
            <a:ext cx="47628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3000">
            <a:off x="270360" y="1843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A PICS profor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7960" y="1114560"/>
            <a:ext cx="281160" cy="18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3000">
            <a:off x="720360" y="195840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B Formal Def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89120" y="1120680"/>
            <a:ext cx="28080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3000">
            <a:off x="888480" y="1865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C Generic Prof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68480" y="1120680"/>
            <a:ext cx="28260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3000">
            <a:off x="1438920" y="2172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D Pag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36680" y="1120680"/>
            <a:ext cx="28116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3000">
            <a:off x="1450800" y="192420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E Bluetooth 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3440" y="1120680"/>
            <a:ext cx="477720" cy="183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38760" y="1120680"/>
            <a:ext cx="280800" cy="183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3000">
            <a:off x="1973880" y="1995840"/>
            <a:ext cx="155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F 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3000">
            <a:off x="2300400" y="181296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G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3000">
            <a:off x="3484800" y="228348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bliograph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7160" y="4927680"/>
            <a:ext cx="3092400" cy="31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7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7160" y="4611600"/>
            <a:ext cx="3092400" cy="31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8 Baseband (B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7160" y="4103640"/>
            <a:ext cx="3092400" cy="507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9 Lin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 (L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7160" y="3597120"/>
            <a:ext cx="3092400" cy="50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10 Logical Link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ation Protocol (L2C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7160" y="2951280"/>
            <a:ext cx="3092400" cy="328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rvice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6080" y="521172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6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5200" y="1114560"/>
            <a:ext cx="3654360" cy="46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7160" y="5470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5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5200" y="5751360"/>
            <a:ext cx="365436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6800" y="576432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1-4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81600" y="2016000"/>
            <a:ext cx="1720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7400" y="5413320"/>
            <a:ext cx="350640" cy="19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7800" y="55576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luetooth Derive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6013440"/>
            <a:ext cx="35100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69240" y="589932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EEE Derive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7160" y="3268800"/>
            <a:ext cx="3092400" cy="32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 11 Host Computer 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3000">
            <a:off x="2911680" y="215640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 H Tim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8880" y="52657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luetooth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5703840"/>
            <a:ext cx="35100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7CA-3673-4533-8FA1-D15174978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r Ballot started 24May00, ends 3July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 Resolution at July00 IEEE meeting in La Jolla, Califor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irculation ballot ends ~15August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ed to Working Group and then IEEE 802 Executive Committee September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/MAN 802.15 Sponsor Ballot(s) during the F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Com we will submit Final Draft Std on 9Feb01 for a 21Mar01 Appro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922-7C0E-419C-9A0C-36CBF18B0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8748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: Contac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m Car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802 LAN/MAN Standards Committe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arlo@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&amp;Fax: +1 214 853 527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Tati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-SA Director Standards Publish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tatiner@iee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: +1 732 562 383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 Si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P802.15.1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p@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: +1 972 480 6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916-0B8A-421F-92D4-B98F57DD2F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kely not sh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828-617B-4847-96A0-009D6F011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ject -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1040" y="1676520"/>
          <a:ext cx="8528040" cy="43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676520"/>
                    <a:ext cx="852804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2360" y="5969160"/>
            <a:ext cx="60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grouper.ieee.org/groups/802/15/pub/TG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Black = Milestone Baseline, Note 2: 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alics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evised or new against Milestone Baselin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F9C-44AC-4755-97FE-9944103C63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EEE:  An Ov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400" y="1604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1884 (AIEE &amp; 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was 360,00 Dec99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% USA &amp; 33% Non-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30 percent of the world's published literature in electrical engineering, computers and control technolog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annually more than 300 major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more than 800 active standards with 700 under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C62-AA8E-4B1C-824D-E8A8ECEA90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8020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P802 LAN/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73200"/>
            <a:ext cx="79200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jec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al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ropolit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work Standards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redited by ANSI, Sponsored by IEEE Computer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, Token Ring, Wireless, Cable Modem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ing, VLAN, Secur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s three times per year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0 individuals, 15% non-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equivalent IEC/ISO JTC 1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TC 1 series of equivalent standards are ISO 8802-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U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www.ieee802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5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www.ieee802.org/1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79C-27CC-4EBF-9A64-BE1F2C0EB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904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tion Versu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eing “Standardiz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-Specific Additions to the Bluetooth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the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s for Future Bluetooth/IEE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CEF-68AD-4B04-89D0-FA89B3FDE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 Standards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146240"/>
            <a:ext cx="79390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Due Pro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rough established rules an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sens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ighly desired, near unanimity is generally the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Open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re all individuals, world-wide, have access to 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Bal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ed by having balloting group include both developers and us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Right to App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 procedural and technical issues at any time during 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821-8F95-46A2-9C9B-D2D83F2F3E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 versus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87480" y="2467080"/>
            <a:ext cx="1901880" cy="215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03800" y="2638440"/>
            <a:ext cx="2495520" cy="197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0680" y="325116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9CC-E3E5-4F34-B6AD-D730F824DF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516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ecification Art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s people see the world in a </a:t>
            </a: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n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70400" y="2703600"/>
            <a:ext cx="258624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58B-BE15-43F8-A605-EE8B34642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andards Engine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788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difies well-understood phenomena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d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pplies them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ell-know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16600" y="2955960"/>
            <a:ext cx="30556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4EF-2E8C-446C-94A7-46116CCF3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516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Industry Initiative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74960"/>
            <a:ext cx="451476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s with a blank 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ually ev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ten describes 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ys many (perhaps different) things to man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times “you had to be t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70400" y="2703600"/>
            <a:ext cx="258624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0BD-7187-4D69-BC03-157BC7D19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cess of Standard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63800"/>
            <a:ext cx="3809880" cy="30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s with defined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at dictated b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olution by formal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lementation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ambigu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you need to know is right there (or in the refer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16600" y="2955960"/>
            <a:ext cx="30556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6F6-B664-43C2-B7DE-8CAB073932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3880" y="1319040"/>
            <a:ext cx="48135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 A.D. — Harald Blaatand "Bluetooth" II thinks Laptops and cell phones should communicate wire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1 A. D. — Harald thinks IEEE 802 Standards a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ttle time pas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4, 1999 IEEE initiates a Call For Proposal, Bluetooth SIG responds July 1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6 1999 Bluetooth Specification becomes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9 1999 Bluetooth SIG engages with IEEE and IEEE 802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245200" y="1076400"/>
            <a:ext cx="3348000" cy="4943520"/>
            <a:chOff x="5245200" y="1076400"/>
            <a:chExt cx="3348000" cy="4943520"/>
          </a:xfrm>
        </p:grpSpPr>
        <p:graphicFrame>
          <p:nvGraphicFramePr>
            <p:cNvPr id="68" name=""/>
            <p:cNvGraphicFramePr/>
            <p:nvPr/>
          </p:nvGraphicFramePr>
          <p:xfrm>
            <a:off x="5245200" y="1076400"/>
            <a:ext cx="334800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5200" y="1076400"/>
                      <a:ext cx="334800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0" name=""/>
            <p:cNvGrpSpPr/>
            <p:nvPr/>
          </p:nvGrpSpPr>
          <p:grpSpPr>
            <a:xfrm>
              <a:off x="6314040" y="2462400"/>
              <a:ext cx="1384920" cy="669240"/>
              <a:chOff x="6314040" y="2462400"/>
              <a:chExt cx="1384920" cy="669240"/>
            </a:xfrm>
          </p:grpSpPr>
          <p:sp>
            <p:nvSpPr>
              <p:cNvPr id="71" name=""/>
              <p:cNvSpPr/>
              <p:nvPr/>
            </p:nvSpPr>
            <p:spPr>
              <a:xfrm>
                <a:off x="6314040" y="2608200"/>
                <a:ext cx="380160" cy="37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42280" y="2570040"/>
                <a:ext cx="456480" cy="45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772680" y="2516040"/>
                <a:ext cx="567360" cy="56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23600" y="2462400"/>
                <a:ext cx="675360" cy="66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5684760" y="2878200"/>
          <a:ext cx="5367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760" y="2878200"/>
                    <a:ext cx="5367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373-4F23-486F-ABF6-712A9E01A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cess of Creating a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25640" y="1631880"/>
          <a:ext cx="784836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31880"/>
                    <a:ext cx="7848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473280" y="300816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7AC-B3EF-47A1-9EB8-2E4D8D9E1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19:44:03Z</dcterms:created>
  <dc:creator>Inge Infante</dc:creator>
  <dc:description/>
  <dc:language>en-US</dc:language>
  <cp:lastModifiedBy>Tom Siep</cp:lastModifiedBy>
  <cp:lastPrinted>1999-10-22T19:25:58Z</cp:lastPrinted>
  <dcterms:modified xsi:type="dcterms:W3CDTF">2000-06-08T16:06:30Z</dcterms:modified>
  <cp:revision>44</cp:revision>
  <dc:subject/>
  <dc:title>No Slide Title</dc:title>
</cp:coreProperties>
</file>