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5700-6F8B-4374-84E3-86142345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3FC-325C-4D3D-9167-4665989B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BC0-D87E-4A42-B1DD-C021F9C8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7D17-800E-4B1C-AF32-11EC28AE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547B-2A12-4EAB-8A7F-9F9A059D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010-5B03-4036-9871-7FD3BEF6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F95C-1B72-42F8-8B2A-34F81CED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864-6E3A-4EBD-BC0A-9FA188F8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227D-6A89-4B8B-928C-755705A2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650-B484-466D-8985-BE3B4F54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1176-6374-420E-9E8E-98AB2860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485-1423-426B-B23B-8C07A21F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F17E846-1FF8-4628-887E-B80945EBA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22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 Liaison Repor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e-to-Fac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days in New Jersey in J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-located with Radio 2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d M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ly conferenc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to the BT SIG Program Managers on FCC NP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Ditch, Motoro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3B1-5EFE-4F3B-9259-87B997BB15D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 Liaison Repor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rtment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ing: 12 meter X 80 meter floor (960 square me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artment: 100 square 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m: 20 square 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sterboard walls between ro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ick walls between apar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e between floors - not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d concrete flo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Ditch, Motoro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429-4F86-4F38-B984-7AFF78A292F5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 Liaison Repor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port/Shopping Mall/Factory 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inite expanse in two dim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ll material and spacing - not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iling height - not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Ditch, Motoro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408B-61F7-4F95-A000-EC0438D08A3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 Liaison Repor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do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inite extent in two dim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eiling, no w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Ditch, Motoro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0734-76C1-42FD-8880-9EE27CAB2A3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 Liaison Repor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Interfer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idential (US &amp; Europe) - Bluetooth (V/D), HomeRF (V/D), 802.11b (D), Microwave Oven, Cordless ph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 (Closed &amp; Cubical) - Bluetooth (V/D), 802.11b (D), 802.11FH 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artment - Bluetooth (V/D), DECT (V), 802.11b (D), Microwave Ovens, Home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port - Bluetooth (V/D), 802.11b (D), RF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doors - Bluetooth (V/D), RFID, Fusion Ligh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Ditch, Motoro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A15A-F4D3-43E7-9746-95B85A4AB39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 Liaison Repor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&amp; Frequency simulations - assume a particular time usage (due to specific traffic models) together with frequency hoping scenarios to establish collision rate between Bluetooth and the interfer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doing Physical Layer, implementation specific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doing MAC layer sim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Ditch, Motoro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4691-6DDF-4E38-A0BA-B1F98F9C3FB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 Liaison Repor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 Coexistence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tered by Bluetooth SIG to address coexistence issues of Bluetooth with other devices operating in the 2.4 GHz ISM unlicensed 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ired by Tod Sizer of Lu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bers include Lucent, Motorola, Ericsson, Toshiba, 3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Ditch, Motoro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DCD-9EC9-45E3-BF75-7D00DDF09A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 Liaison Repor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Ditch, Motoro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135-88C5-452B-B9D2-DD9D004CD47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 Liaison Repor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ge Model 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ironments (lead to Loss Mod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ed Interfering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m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ffic D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Ditch, Motoro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91D4-16D9-467C-9A78-C2380B7708F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 Liaison Repor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idential - 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idential -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- cu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- clo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artment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port, Shopping Mall,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do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Ditch, Motoro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4CA5-85DC-4EDB-AFAE-7A37F16F2CF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 Liaison Repor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Residential 1 (US)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family 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or height - not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00 square f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od frame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4 acre 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Ditch, Motoro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5262-E3B2-4563-B18E-EDC54BBF894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 Liaison Repor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Residential 2 (Europe)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family 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or height - not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0 square 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ick walls, reinforced concrete flo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10 acre 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Ditch, Motoro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8E4-FC01-4593-997A-DC48C92DF0A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 Liaison Repor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Office - open/cu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foot high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tion material - not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square meter cub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inite extent in two dim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acent flo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e between floors - not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Ditch, Motoro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D26D-BBF8-45CB-827F-76B8C88A9E6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 Liaison Repor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Office - Cl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rete flo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sterboard w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square meter off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inite extent in two dim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acent flo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e between floors - not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Ditch, Motoro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50C1-D2BA-418B-85EB-CAD05CA742F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2:42:31Z</dcterms:created>
  <dc:creator>Rich Ditch</dc:creator>
  <dc:description/>
  <dc:language>en-US</dc:language>
  <cp:lastModifiedBy>Motorola PC</cp:lastModifiedBy>
  <cp:lastPrinted>2000-07-06T20:58:37Z</cp:lastPrinted>
  <dcterms:modified xsi:type="dcterms:W3CDTF">2000-07-11T15:53:18Z</dcterms:modified>
  <cp:revision>27</cp:revision>
  <dc:subject/>
  <dc:title>Coexistence Liaison Report #1</dc:title>
</cp:coreProperties>
</file>