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F931-39F5-4591-B140-4F057D08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3738-D6DE-470D-8D08-5D456B6D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65E1-91A3-4BAA-AAD9-B3AD9023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60DB-F7BC-421A-9FA1-3839F8C41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39F7-3B31-4D2F-BB30-A655DD72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ADFF-B17C-4070-8A71-C167018A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8135-3203-4F55-BE8E-F7361C40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E1E9-2669-4E40-BA61-7899DC9D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00A2-A862-4EB5-A788-ABB84A9D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4C03-D10B-4C6D-9049-8F41C2E1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D0C7-530D-4EAC-8701-7A64634C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5888-9D05-45D0-8BF2-22D8BA64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91D718B-CA4E-4FF0-806F-DED0D0D4B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216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752480" y="685800"/>
            <a:ext cx="5645160" cy="1711440"/>
            <a:chOff x="1752480" y="685800"/>
            <a:chExt cx="5645160" cy="1711440"/>
          </a:xfrm>
        </p:grpSpPr>
        <p:pic>
          <p:nvPicPr>
            <p:cNvPr id="46" name="802" descr=""/>
            <p:cNvPicPr/>
            <p:nvPr/>
          </p:nvPicPr>
          <p:blipFill>
            <a:blip r:embed="rId1"/>
            <a:stretch/>
          </p:blipFill>
          <p:spPr>
            <a:xfrm>
              <a:off x="5737320" y="685800"/>
              <a:ext cx="1660320" cy="171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" name=""/>
            <p:cNvGrpSpPr/>
            <p:nvPr/>
          </p:nvGrpSpPr>
          <p:grpSpPr>
            <a:xfrm>
              <a:off x="1752480" y="933480"/>
              <a:ext cx="5477040" cy="1114560"/>
              <a:chOff x="1752480" y="933480"/>
              <a:chExt cx="5477040" cy="1114560"/>
            </a:xfrm>
          </p:grpSpPr>
          <p:sp>
            <p:nvSpPr>
              <p:cNvPr id="48" name=""/>
              <p:cNvSpPr/>
              <p:nvPr/>
            </p:nvSpPr>
            <p:spPr>
              <a:xfrm>
                <a:off x="1752480" y="933480"/>
                <a:ext cx="4181760" cy="11145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630240" y="1028880"/>
                <a:ext cx="20674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66ff"/>
                    </a:solidFill>
                    <a:latin typeface="Times New Roman"/>
                  </a:rPr>
                  <a:t>802.15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1895400" y="976320"/>
                <a:ext cx="1595520" cy="1045800"/>
                <a:chOff x="1895400" y="976320"/>
                <a:chExt cx="1595520" cy="1045800"/>
              </a:xfrm>
            </p:grpSpPr>
            <p:grpSp>
              <p:nvGrpSpPr>
                <p:cNvPr id="51" name=""/>
                <p:cNvGrpSpPr/>
                <p:nvPr/>
              </p:nvGrpSpPr>
              <p:grpSpPr>
                <a:xfrm>
                  <a:off x="2165400" y="985680"/>
                  <a:ext cx="1325520" cy="1036440"/>
                  <a:chOff x="2165400" y="985680"/>
                  <a:chExt cx="1325520" cy="1036440"/>
                </a:xfrm>
              </p:grpSpPr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5400" y="1245960"/>
                    <a:ext cx="103824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53" name=""/>
                  <p:cNvGrpSpPr/>
                  <p:nvPr/>
                </p:nvGrpSpPr>
                <p:grpSpPr>
                  <a:xfrm>
                    <a:off x="2544840" y="985680"/>
                    <a:ext cx="946080" cy="944640"/>
                    <a:chOff x="2544840" y="985680"/>
                    <a:chExt cx="946080" cy="944640"/>
                  </a:xfrm>
                </p:grpSpPr>
                <p:sp>
                  <p:nvSpPr>
                    <p:cNvPr id="54" name=""/>
                    <p:cNvSpPr/>
                    <p:nvPr/>
                  </p:nvSpPr>
                  <p:spPr>
                    <a:xfrm>
                      <a:off x="2544840" y="985680"/>
                      <a:ext cx="946080" cy="9446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" name=""/>
                    <p:cNvSpPr/>
                    <p:nvPr/>
                  </p:nvSpPr>
                  <p:spPr>
                    <a:xfrm>
                      <a:off x="2616120" y="1056960"/>
                      <a:ext cx="804960" cy="8035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" name=""/>
                    <p:cNvSpPr/>
                    <p:nvPr/>
                  </p:nvSpPr>
                  <p:spPr>
                    <a:xfrm>
                      <a:off x="2690640" y="1133280"/>
                      <a:ext cx="654120" cy="6508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" name=""/>
                    <p:cNvSpPr/>
                    <p:nvPr/>
                  </p:nvSpPr>
                  <p:spPr>
                    <a:xfrm>
                      <a:off x="2776320" y="1211040"/>
                      <a:ext cx="482760" cy="4968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" name=""/>
                    <p:cNvSpPr/>
                    <p:nvPr/>
                  </p:nvSpPr>
                  <p:spPr>
                    <a:xfrm>
                      <a:off x="2865240" y="1306440"/>
                      <a:ext cx="304920" cy="3045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" name=""/>
                    <p:cNvSpPr/>
                    <p:nvPr/>
                  </p:nvSpPr>
                  <p:spPr>
                    <a:xfrm>
                      <a:off x="2935080" y="1376280"/>
                      <a:ext cx="165240" cy="166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" name=""/>
                    <p:cNvSpPr/>
                    <p:nvPr/>
                  </p:nvSpPr>
                  <p:spPr>
                    <a:xfrm>
                      <a:off x="2979720" y="1420560"/>
                      <a:ext cx="76320" cy="777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8640" bIns="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212920" y="1041120"/>
                    <a:ext cx="946080" cy="944640"/>
                    <a:chOff x="2212920" y="1041120"/>
                    <a:chExt cx="946080" cy="94464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212920" y="1041120"/>
                      <a:ext cx="946080" cy="9446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>
                      <a:off x="2286000" y="1110960"/>
                      <a:ext cx="801720" cy="8017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" name=""/>
                    <p:cNvSpPr/>
                    <p:nvPr/>
                  </p:nvSpPr>
                  <p:spPr>
                    <a:xfrm>
                      <a:off x="2360520" y="1185480"/>
                      <a:ext cx="652320" cy="652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" name=""/>
                    <p:cNvSpPr/>
                    <p:nvPr/>
                  </p:nvSpPr>
                  <p:spPr>
                    <a:xfrm>
                      <a:off x="2444760" y="1265040"/>
                      <a:ext cx="484200" cy="4953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2533680" y="1360440"/>
                      <a:ext cx="306360" cy="3045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>
                      <a:off x="2603520" y="1430280"/>
                      <a:ext cx="166680" cy="166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" name=""/>
                    <p:cNvSpPr/>
                    <p:nvPr/>
                  </p:nvSpPr>
                  <p:spPr>
                    <a:xfrm>
                      <a:off x="2647800" y="1473120"/>
                      <a:ext cx="77760" cy="777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8640" bIns="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1895400" y="976320"/>
                  <a:ext cx="946080" cy="942840"/>
                  <a:chOff x="1895400" y="976320"/>
                  <a:chExt cx="946080" cy="94284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>
                    <a:off x="1895400" y="976320"/>
                    <a:ext cx="946080" cy="9428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1965240" y="1045800"/>
                    <a:ext cx="804960" cy="8031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2041560" y="1122120"/>
                    <a:ext cx="654120" cy="6505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2127240" y="1201680"/>
                    <a:ext cx="482400" cy="494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2216160" y="1296720"/>
                    <a:ext cx="304560" cy="3027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286000" y="1366560"/>
                    <a:ext cx="164880" cy="1648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2330280" y="1409400"/>
                    <a:ext cx="76320" cy="774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7" name=""/>
              <p:cNvSpPr/>
              <p:nvPr/>
            </p:nvSpPr>
            <p:spPr>
              <a:xfrm>
                <a:off x="5924520" y="933480"/>
                <a:ext cx="1305000" cy="111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th Session of meetings of the IEEE 802.15 Working Group for Wireless Personal Area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uly 10-14, 2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yatt Regency La Jo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777 La Jolla Village D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n Diego, CA. 921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1204-8C2F-4FAB-B75C-FE7E05132F7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 of Major 802.15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1 conducted third letter ballot on draft standard based on Bluetooth spec-currently in comment re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2 Developing Coexistenc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3 PAR for a High Rate WPAN submitted and approved at Mar S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ED52-71CD-490F-96AA-FEB0B0A5C42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ives of the LaJolla Mee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uly 10-14,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80880" y="1905120"/>
          <a:ext cx="8545680" cy="419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05120"/>
                    <a:ext cx="854568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DEFB-EB14-4B88-8C23-92527EB7C95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ives of the LaJolla Mee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uly 10-14,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28480" y="2052720"/>
          <a:ext cx="8615520" cy="365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2052720"/>
                    <a:ext cx="8615520" cy="36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EF07-628A-4CA1-BD94-7EACF01D883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gistics-Meeting Graph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09480" y="1143000"/>
          <a:ext cx="8077320" cy="529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143000"/>
                    <a:ext cx="8077320" cy="52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F3F3-75DE-4388-B436-C5BC1F6BC54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2T06:24:01Z</dcterms:created>
  <dc:creator>Robert F. Heile</dc:creator>
  <dc:description>00/216ro</dc:description>
  <dc:language>en-US</dc:language>
  <cp:lastModifiedBy>Robert F.  Heile</cp:lastModifiedBy>
  <cp:lastPrinted>2000-03-05T01:29:49Z</cp:lastPrinted>
  <dcterms:modified xsi:type="dcterms:W3CDTF">2000-07-07T14:49:27Z</dcterms:modified>
  <cp:revision>77</cp:revision>
  <dc:subject>IEEE 802.15 &lt;subject&gt;</dc:subject>
  <dc:title>July00 Monday Report to 802</dc:title>
</cp:coreProperties>
</file>