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29.png" ContentType="image/png"/>
  <Override PartName="/ppt/media/image32.wmf" ContentType="image/x-wmf"/>
  <Override PartName="/ppt/media/image26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28.png" ContentType="image/png"/>
  <Override PartName="/ppt/media/image25.gif" ContentType="image/gif"/>
  <Override PartName="/ppt/media/image5.png" ContentType="image/png"/>
  <Override PartName="/ppt/media/image30.png" ContentType="image/png"/>
  <Override PartName="/ppt/media/image10.png" ContentType="image/png"/>
  <Override PartName="/ppt/media/image9.wmf" ContentType="image/x-wmf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8.wmf" ContentType="image/x-wmf"/>
  <Override PartName="/ppt/media/image3.wmf" ContentType="image/x-wmf"/>
  <Override PartName="/ppt/media/image2.jpeg" ContentType="image/jpeg"/>
  <Override PartName="/ppt/media/image31.png" ContentType="image/png"/>
  <Override PartName="/ppt/media/image1.png" ContentType="image/png"/>
  <Override PartName="/ppt/media/image19.gif" ContentType="image/gif"/>
  <Override PartName="/ppt/media/image14.png" ContentType="image/png"/>
  <Override PartName="/ppt/media/image21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13.png" ContentType="image/png"/>
  <Override PartName="/ppt/media/image20.gif" ContentType="image/gif"/>
  <Override PartName="/ppt/media/image15.png" ContentType="image/png"/>
  <Override PartName="/ppt/media/image22.gif" ContentType="image/gif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95604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056CEAA-BBF6-4BCD-829D-6C9A6C64769F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936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Click to move the slide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95604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25CD6E0-4C44-44A1-A832-D54973D986D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82156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sson, IBM, Intel, Nokia,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shib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the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founding mem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uetooth Special Interest 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which was formed in early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three weeks following the Bluetooth public launch in May 1998 more than 150 companies joined or started the process of joining the Bluetooth S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708-68D2-44C0-8B62-D522F8FD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7C0-B07F-4F19-A148-E50A022E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67D-D101-43DE-9017-61F509B1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C0A-9ACB-4CE9-8442-445D0A79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002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867-1F4D-4A25-AB46-0F90E149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4E8-5CFE-4437-B297-0A50EF4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475-EE63-4BF5-AED4-5742DA88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446-F266-410D-BF7B-485F489B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002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B31-CFA7-4DA1-883D-25E94EC2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482-00A4-4849-B0F7-6758BDAF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524-6FC7-4717-954D-059FD06A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F46-BA7A-4E5A-841B-18B35529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0b00e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d1d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552720"/>
            <a:ext cx="2552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6680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88120" y="6552720"/>
            <a:ext cx="1193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C52D-EA34-4650-B948-A502C12FD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4857840"/>
          <a:ext cx="739800" cy="20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857840"/>
                    <a:ext cx="7398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600" y="0"/>
            <a:ext cx="841320" cy="6858000"/>
          </a:xfrm>
          <a:prstGeom prst="rect">
            <a:avLst/>
          </a:prstGeom>
          <a:gradFill rotWithShape="0">
            <a:gsLst>
              <a:gs pos="0">
                <a:srgbClr val="0b00e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620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ril 27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6680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l Bluetooth Symposi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4857840"/>
          <a:ext cx="739800" cy="20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857840"/>
                    <a:ext cx="7398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1d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1d1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1d1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image" Target="../media/image8.wmf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0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1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0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2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3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4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5.png"/><Relationship Id="rId3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5639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mpact"/>
              </a:rPr>
              <a:t>Bluetooth Overview</a:t>
            </a:r>
            <a:endParaRPr b="1" lang="en-US" sz="5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35053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reless Personal Area Netwo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echnology and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EEE ComSoc Boston Chap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th June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5796000" y="804960"/>
            <a:ext cx="3348000" cy="4943520"/>
            <a:chOff x="5796000" y="804960"/>
            <a:chExt cx="3348000" cy="4943520"/>
          </a:xfrm>
        </p:grpSpPr>
        <p:graphicFrame>
          <p:nvGraphicFramePr>
            <p:cNvPr id="494" name=""/>
            <p:cNvGraphicFramePr/>
            <p:nvPr/>
          </p:nvGraphicFramePr>
          <p:xfrm>
            <a:off x="5796000" y="804960"/>
            <a:ext cx="334800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6000" y="804960"/>
                      <a:ext cx="334800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96" name=""/>
            <p:cNvGrpSpPr/>
            <p:nvPr/>
          </p:nvGrpSpPr>
          <p:grpSpPr>
            <a:xfrm>
              <a:off x="6864840" y="2190960"/>
              <a:ext cx="1384920" cy="669240"/>
              <a:chOff x="6864840" y="2190960"/>
              <a:chExt cx="1384920" cy="669240"/>
            </a:xfrm>
          </p:grpSpPr>
          <p:sp>
            <p:nvSpPr>
              <p:cNvPr id="497" name=""/>
              <p:cNvSpPr/>
              <p:nvPr/>
            </p:nvSpPr>
            <p:spPr>
              <a:xfrm>
                <a:off x="6864840" y="2336760"/>
                <a:ext cx="380160" cy="37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93080" y="2298600"/>
                <a:ext cx="456480" cy="45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23480" y="2244600"/>
                <a:ext cx="567360" cy="56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574400" y="2190960"/>
                <a:ext cx="675360" cy="66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738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Who Is Bluetooth?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701064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Harald Blaatand “Bluetooth”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a24"/>
                </a:solidFill>
                <a:latin typeface="Arial"/>
              </a:rPr>
              <a:t>King of Denmark 940-9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a24"/>
                </a:solidFill>
                <a:latin typeface="Arial"/>
              </a:rPr>
              <a:t>Son of Gorm the Old (King of Denmark) and Thyra Danebod (daughter of King Ethelred of Engla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5892840" y="3317760"/>
            <a:ext cx="3260520" cy="35402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0" y="2362320"/>
            <a:ext cx="63244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Black"/>
              </a:rPr>
              <a:t>This is one of two Runic stones erected in his capitol city of Jelling (central Jut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02ef0"/>
              </a:buClr>
              <a:buSzPct val="85000"/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a24"/>
                </a:solidFill>
                <a:latin typeface="Times New Roman"/>
              </a:rPr>
              <a:t>This is the front of the stone depicting the chivalry of Hara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02ef0"/>
              </a:buClr>
              <a:buSzPct val="85000"/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a24"/>
                </a:solidFill>
                <a:latin typeface="Times New Roman"/>
              </a:rPr>
              <a:t>The stone’s inscription (“runes”) sa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02ef0"/>
              </a:buClr>
              <a:buSzPct val="85000"/>
              <a:buFont typeface="ZapfDingba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a24"/>
                </a:solidFill>
                <a:latin typeface="Times New Roman"/>
              </a:rPr>
              <a:t>Harald christianized the D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02ef0"/>
              </a:buClr>
              <a:buSzPct val="85000"/>
              <a:buFont typeface="ZapfDingba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a24"/>
                </a:solidFill>
                <a:latin typeface="Times New Roman"/>
              </a:rPr>
              <a:t>Harald controlled Denmark and No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02ef0"/>
              </a:buClr>
              <a:buSzPct val="85000"/>
              <a:buFont typeface="ZapfDingba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a24"/>
                </a:solidFill>
                <a:latin typeface="Times New Roman"/>
              </a:rPr>
              <a:t>Harald thinks notebooks and cellular phones should seamlessly commun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A76-88D6-41AF-AADF-CEC5D10746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1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271200" y="5234040"/>
            <a:ext cx="2764080" cy="79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QRB = Bluetooth Qualification Review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TAB = Bluetooth Technical Advisor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QA = Bluetooth Qualification Administ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QB = Bluetooth Qualification Body</a:t>
            </a:r>
            <a:r>
              <a:rPr b="0" lang="sv-S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62120" y="1346040"/>
          <a:ext cx="754380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46040"/>
                    <a:ext cx="754380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Bluetooth SIG Structure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976-4C06-4950-9E65-55F8370C781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1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cc66"/>
                </a:solidFill>
                <a:latin typeface="Impact"/>
              </a:rPr>
              <a:t>Thanks</a:t>
            </a:r>
            <a:endParaRPr b="1" lang="en-US" sz="106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esentation was made available on 31May00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m Kard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SIG Program Manag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 Corp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Bluetooth is…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st low-cost radio link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for mobile devices – small, low power, and low cost, but good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, royalty free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251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Int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IBM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Erics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0fa24"/>
                </a:solidFill>
                <a:latin typeface="Arial"/>
              </a:rPr>
              <a:t>Nok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oshiba,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</a:rPr>
              <a:t>Lucen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3000" spc="-1" strike="noStrike">
                <a:solidFill>
                  <a:srgbClr val="00ccff"/>
                </a:solidFill>
                <a:latin typeface="Arial"/>
              </a:rPr>
              <a:t>Motorola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3000" spc="-1" strike="noStrike">
                <a:solidFill>
                  <a:srgbClr val="9900ff"/>
                </a:solidFill>
                <a:latin typeface="Arial"/>
              </a:rPr>
              <a:t>3COM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3000" spc="-1" strike="noStrike">
                <a:solidFill>
                  <a:srgbClr val="f0fa24"/>
                </a:solidFill>
                <a:latin typeface="Arial"/>
              </a:rPr>
              <a:t>Microsof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a24"/>
                </a:solidFill>
                <a:latin typeface="Arial"/>
              </a:rPr>
              <a:t>&gt;1,900 more Bluetooth SIG memb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q, Dell, Motorola, Qualcomm, Psion, Xircom, Philips, Texas Instruments, Sony, Sprint PCS, Seiko-Epson, Conexant, BMW, Puma, NEC, Saab, Starfish, Casio, NTT DoCoMo, Boeing, Bang &amp; Olafse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EE Standard (via the 802.15.1 working gro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448-DD1A-4A4E-BCE9-B06660F61E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1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Impact"/>
              </a:rPr>
              <a:t>Bluetooth-integrated Cable Replacement Tech</a:t>
            </a:r>
            <a:endParaRPr b="1" lang="en-US" sz="40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targeted at mobile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es where users go (global use, 2.4GHz ISM band, airline saf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ly secure (business da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apacity (High interference immunity to itself and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ed feature in notebooks, cell-phones and handhelds (low cost, very small, low powe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 the cables common to mobile devices (short ran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762120"/>
            <a:ext cx="6323760" cy="3168000"/>
            <a:chOff x="1676520" y="762120"/>
            <a:chExt cx="6323760" cy="3168000"/>
          </a:xfrm>
        </p:grpSpPr>
        <p:sp>
          <p:nvSpPr>
            <p:cNvPr id="101" name=""/>
            <p:cNvSpPr/>
            <p:nvPr/>
          </p:nvSpPr>
          <p:spPr>
            <a:xfrm>
              <a:off x="1676520" y="3561840"/>
              <a:ext cx="21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a24"/>
                  </a:solidFill>
                  <a:latin typeface="Arial"/>
                </a:rPr>
                <a:t>25 mm 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3720" y="3561840"/>
              <a:ext cx="21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a24"/>
                  </a:solidFill>
                  <a:latin typeface="Arial"/>
                </a:rPr>
                <a:t>17x33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2000" y="3561840"/>
              <a:ext cx="21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a24"/>
                  </a:solidFill>
                  <a:latin typeface="Arial"/>
                </a:rPr>
                <a:t>36x43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1947240" y="762120"/>
            <a:ext cx="6053040" cy="272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47240" y="762120"/>
                      <a:ext cx="6053040" cy="272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552-5D69-4A74-8DBB-242ED56BF5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1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4360" y="-360"/>
            <a:ext cx="7893000" cy="452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Bluetooth Vision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5297400" y="5943600"/>
            <a:ext cx="3527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Personal Ad-hoc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375080" y="3181320"/>
            <a:ext cx="3786120" cy="2751120"/>
            <a:chOff x="4375080" y="3181320"/>
            <a:chExt cx="3786120" cy="2751120"/>
          </a:xfrm>
        </p:grpSpPr>
        <p:sp>
          <p:nvSpPr>
            <p:cNvPr id="109" name=""/>
            <p:cNvSpPr/>
            <p:nvPr/>
          </p:nvSpPr>
          <p:spPr>
            <a:xfrm>
              <a:off x="4572000" y="3214800"/>
              <a:ext cx="3529080" cy="2717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867200" y="3304440"/>
              <a:ext cx="1273320" cy="45396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4072400">
              <a:off x="6873480" y="3558240"/>
              <a:ext cx="1179360" cy="4903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14072400">
              <a:off x="5208480" y="4191840"/>
              <a:ext cx="1176120" cy="4903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532560" y="4301280"/>
              <a:ext cx="1273320" cy="4525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4375080" y="3797280"/>
            <a:ext cx="890640" cy="988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75080" y="3797280"/>
                      <a:ext cx="89064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5900760" y="4862520"/>
            <a:ext cx="88884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4862520"/>
                      <a:ext cx="8888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7272360" y="4178160"/>
            <a:ext cx="888840" cy="989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72360" y="4178160"/>
                      <a:ext cx="888840" cy="98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6129360" y="3262320"/>
            <a:ext cx="636480" cy="719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29360" y="3262320"/>
                      <a:ext cx="63648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2" name=""/>
          <p:cNvGrpSpPr/>
          <p:nvPr/>
        </p:nvGrpSpPr>
        <p:grpSpPr>
          <a:xfrm>
            <a:off x="5572080" y="142920"/>
            <a:ext cx="3571920" cy="3200040"/>
            <a:chOff x="5572080" y="142920"/>
            <a:chExt cx="3571920" cy="3200040"/>
          </a:xfrm>
        </p:grpSpPr>
        <p:sp>
          <p:nvSpPr>
            <p:cNvPr id="123" name=""/>
            <p:cNvSpPr/>
            <p:nvPr/>
          </p:nvSpPr>
          <p:spPr>
            <a:xfrm>
              <a:off x="7112160" y="2514600"/>
              <a:ext cx="203184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Cable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61000" y="142920"/>
              <a:ext cx="2959200" cy="251604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67520" y="704880"/>
              <a:ext cx="587160" cy="227160"/>
            </a:xfrm>
            <a:custGeom>
              <a:avLst/>
              <a:gdLst/>
              <a:ahLst/>
              <a:rect l="l" t="t" r="r" b="b"/>
              <a:pathLst>
                <a:path w="343" h="130">
                  <a:moveTo>
                    <a:pt x="0" y="129"/>
                  </a:moveTo>
                  <a:lnTo>
                    <a:pt x="224" y="73"/>
                  </a:lnTo>
                  <a:lnTo>
                    <a:pt x="94" y="74"/>
                  </a:lnTo>
                  <a:lnTo>
                    <a:pt x="34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89640" y="422280"/>
              <a:ext cx="588960" cy="227160"/>
            </a:xfrm>
            <a:custGeom>
              <a:avLst/>
              <a:gdLst/>
              <a:ahLst/>
              <a:rect l="l" t="t" r="r" b="b"/>
              <a:pathLst>
                <a:path w="344" h="130">
                  <a:moveTo>
                    <a:pt x="0" y="129"/>
                  </a:moveTo>
                  <a:lnTo>
                    <a:pt x="224" y="73"/>
                  </a:lnTo>
                  <a:lnTo>
                    <a:pt x="94" y="74"/>
                  </a:lnTo>
                  <a:lnTo>
                    <a:pt x="343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89640" y="819000"/>
              <a:ext cx="749520" cy="455760"/>
            </a:xfrm>
            <a:custGeom>
              <a:avLst/>
              <a:gdLst/>
              <a:ahLst/>
              <a:rect l="l" t="t" r="r" b="b"/>
              <a:pathLst>
                <a:path w="438" h="260">
                  <a:moveTo>
                    <a:pt x="0" y="0"/>
                  </a:moveTo>
                  <a:lnTo>
                    <a:pt x="287" y="112"/>
                  </a:lnTo>
                  <a:lnTo>
                    <a:pt x="121" y="109"/>
                  </a:lnTo>
                  <a:lnTo>
                    <a:pt x="437" y="25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326280" y="2346480"/>
              <a:ext cx="970920" cy="394920"/>
              <a:chOff x="6326280" y="2346480"/>
              <a:chExt cx="970920" cy="394920"/>
            </a:xfrm>
          </p:grpSpPr>
          <p:sp>
            <p:nvSpPr>
              <p:cNvPr id="129" name=""/>
              <p:cNvSpPr/>
              <p:nvPr/>
            </p:nvSpPr>
            <p:spPr>
              <a:xfrm>
                <a:off x="6593400" y="2346480"/>
                <a:ext cx="703800" cy="222840"/>
              </a:xfrm>
              <a:custGeom>
                <a:avLst/>
                <a:gdLst/>
                <a:ahLst/>
                <a:rect l="l" t="t" r="r" b="b"/>
                <a:pathLst>
                  <a:path w="411" h="128">
                    <a:moveTo>
                      <a:pt x="0" y="0"/>
                    </a:moveTo>
                    <a:lnTo>
                      <a:pt x="0" y="24"/>
                    </a:lnTo>
                    <a:lnTo>
                      <a:pt x="410" y="127"/>
                    </a:lnTo>
                    <a:lnTo>
                      <a:pt x="410" y="9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326280" y="2356920"/>
                <a:ext cx="960840" cy="384480"/>
              </a:xfrm>
              <a:custGeom>
                <a:avLst/>
                <a:gdLst/>
                <a:ahLst/>
                <a:rect l="l" t="t" r="r" b="b"/>
                <a:pathLst>
                  <a:path w="561" h="221">
                    <a:moveTo>
                      <a:pt x="0" y="84"/>
                    </a:moveTo>
                    <a:lnTo>
                      <a:pt x="430" y="220"/>
                    </a:lnTo>
                    <a:lnTo>
                      <a:pt x="560" y="123"/>
                    </a:lnTo>
                    <a:lnTo>
                      <a:pt x="560" y="94"/>
                    </a:lnTo>
                    <a:lnTo>
                      <a:pt x="159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6280" y="2506680"/>
                <a:ext cx="734760" cy="212400"/>
              </a:xfrm>
              <a:custGeom>
                <a:avLst/>
                <a:gdLst/>
                <a:ahLst/>
                <a:rect l="l" t="t" r="r" b="b"/>
                <a:pathLst>
                  <a:path w="429" h="122">
                    <a:moveTo>
                      <a:pt x="428" y="112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427" y="121"/>
                    </a:lnTo>
                    <a:lnTo>
                      <a:pt x="428" y="11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054200" y="2522160"/>
                <a:ext cx="229320" cy="1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6422040" y="2372400"/>
                <a:ext cx="822600" cy="321120"/>
                <a:chOff x="6422040" y="2372400"/>
                <a:chExt cx="822600" cy="32112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6450840" y="2447280"/>
                  <a:ext cx="677520" cy="187200"/>
                  <a:chOff x="6450840" y="2447280"/>
                  <a:chExt cx="677520" cy="1872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450840" y="2447280"/>
                    <a:ext cx="71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1">
                        <a:moveTo>
                          <a:pt x="0" y="9"/>
                        </a:moveTo>
                        <a:lnTo>
                          <a:pt x="15" y="0"/>
                        </a:lnTo>
                        <a:lnTo>
                          <a:pt x="41" y="8"/>
                        </a:lnTo>
                        <a:lnTo>
                          <a:pt x="30" y="2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510600" y="2462760"/>
                    <a:ext cx="478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12" y="0"/>
                        </a:moveTo>
                        <a:lnTo>
                          <a:pt x="27" y="7"/>
                        </a:lnTo>
                        <a:lnTo>
                          <a:pt x="14" y="20"/>
                        </a:lnTo>
                        <a:lnTo>
                          <a:pt x="0" y="1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2240" bIns="-122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551640" y="2473200"/>
                    <a:ext cx="496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2" y="0"/>
                        </a:moveTo>
                        <a:lnTo>
                          <a:pt x="28" y="3"/>
                        </a:lnTo>
                        <a:lnTo>
                          <a:pt x="17" y="19"/>
                        </a:lnTo>
                        <a:lnTo>
                          <a:pt x="0" y="12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592680" y="2483640"/>
                    <a:ext cx="511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3" y="0"/>
                        </a:moveTo>
                        <a:lnTo>
                          <a:pt x="0" y="11"/>
                        </a:lnTo>
                        <a:lnTo>
                          <a:pt x="18" y="19"/>
                        </a:lnTo>
                        <a:lnTo>
                          <a:pt x="29" y="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635520" y="2497680"/>
                    <a:ext cx="57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9">
                        <a:moveTo>
                          <a:pt x="13" y="0"/>
                        </a:moveTo>
                        <a:lnTo>
                          <a:pt x="0" y="9"/>
                        </a:lnTo>
                        <a:lnTo>
                          <a:pt x="22" y="18"/>
                        </a:lnTo>
                        <a:lnTo>
                          <a:pt x="33" y="4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5480" bIns="-15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685200" y="2507760"/>
                    <a:ext cx="46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6" y="19"/>
                        </a:lnTo>
                        <a:lnTo>
                          <a:pt x="26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320" bIns="-1332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726240" y="2518560"/>
                    <a:ext cx="547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8" y="19"/>
                        </a:lnTo>
                        <a:lnTo>
                          <a:pt x="31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774120" y="2527200"/>
                    <a:ext cx="514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19" y="23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6480" bIns="-6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817320" y="254088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0" y="13"/>
                        </a:lnTo>
                        <a:lnTo>
                          <a:pt x="17" y="22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280" bIns="-82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863400" y="2551680"/>
                    <a:ext cx="47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2">
                        <a:moveTo>
                          <a:pt x="10" y="0"/>
                        </a:moveTo>
                        <a:lnTo>
                          <a:pt x="0" y="13"/>
                        </a:lnTo>
                        <a:lnTo>
                          <a:pt x="17" y="21"/>
                        </a:lnTo>
                        <a:lnTo>
                          <a:pt x="27" y="4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6905880" y="2563560"/>
                    <a:ext cx="529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1" y="0"/>
                        </a:moveTo>
                        <a:lnTo>
                          <a:pt x="0" y="12"/>
                        </a:lnTo>
                        <a:lnTo>
                          <a:pt x="20" y="20"/>
                        </a:lnTo>
                        <a:lnTo>
                          <a:pt x="30" y="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2240" bIns="-122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952320" y="2574000"/>
                    <a:ext cx="529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2">
                        <a:moveTo>
                          <a:pt x="10" y="0"/>
                        </a:moveTo>
                        <a:lnTo>
                          <a:pt x="0" y="12"/>
                        </a:lnTo>
                        <a:lnTo>
                          <a:pt x="17" y="21"/>
                        </a:lnTo>
                        <a:lnTo>
                          <a:pt x="30" y="6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989760" y="2584080"/>
                    <a:ext cx="57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2">
                        <a:moveTo>
                          <a:pt x="14" y="0"/>
                        </a:moveTo>
                        <a:lnTo>
                          <a:pt x="0" y="12"/>
                        </a:lnTo>
                        <a:lnTo>
                          <a:pt x="21" y="21"/>
                        </a:lnTo>
                        <a:lnTo>
                          <a:pt x="33" y="7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043040" y="2599920"/>
                    <a:ext cx="853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0">
                        <a:moveTo>
                          <a:pt x="11" y="0"/>
                        </a:moveTo>
                        <a:lnTo>
                          <a:pt x="0" y="7"/>
                        </a:lnTo>
                        <a:lnTo>
                          <a:pt x="39" y="19"/>
                        </a:lnTo>
                        <a:lnTo>
                          <a:pt x="4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6422040" y="2468160"/>
                  <a:ext cx="655200" cy="225360"/>
                  <a:chOff x="6422040" y="2468160"/>
                  <a:chExt cx="655200" cy="2253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6422040" y="2468160"/>
                    <a:ext cx="73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22">
                        <a:moveTo>
                          <a:pt x="11" y="0"/>
                        </a:moveTo>
                        <a:lnTo>
                          <a:pt x="0" y="9"/>
                        </a:lnTo>
                        <a:lnTo>
                          <a:pt x="31" y="21"/>
                        </a:lnTo>
                        <a:lnTo>
                          <a:pt x="42" y="12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460920" y="2500920"/>
                    <a:ext cx="49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2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8" y="21"/>
                        </a:lnTo>
                        <a:lnTo>
                          <a:pt x="28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539760" y="2500920"/>
                    <a:ext cx="615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9" y="0"/>
                        </a:moveTo>
                        <a:lnTo>
                          <a:pt x="0" y="7"/>
                        </a:lnTo>
                        <a:lnTo>
                          <a:pt x="25" y="21"/>
                        </a:lnTo>
                        <a:lnTo>
                          <a:pt x="35" y="10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919920" y="2622240"/>
                    <a:ext cx="49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4">
                        <a:moveTo>
                          <a:pt x="6" y="0"/>
                        </a:moveTo>
                        <a:lnTo>
                          <a:pt x="28" y="10"/>
                        </a:lnTo>
                        <a:lnTo>
                          <a:pt x="21" y="23"/>
                        </a:lnTo>
                        <a:lnTo>
                          <a:pt x="0" y="11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6840" bIns="-68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967800" y="2641680"/>
                    <a:ext cx="525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7" y="0"/>
                        </a:moveTo>
                        <a:lnTo>
                          <a:pt x="0" y="10"/>
                        </a:lnTo>
                        <a:lnTo>
                          <a:pt x="23" y="19"/>
                        </a:lnTo>
                        <a:lnTo>
                          <a:pt x="30" y="7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20720" y="2658960"/>
                    <a:ext cx="56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8" y="0"/>
                        </a:moveTo>
                        <a:lnTo>
                          <a:pt x="0" y="7"/>
                        </a:lnTo>
                        <a:lnTo>
                          <a:pt x="25" y="19"/>
                        </a:lnTo>
                        <a:lnTo>
                          <a:pt x="32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990120" y="2617200"/>
                    <a:ext cx="651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1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26" y="20"/>
                        </a:lnTo>
                        <a:lnTo>
                          <a:pt x="37" y="8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863400" y="2582640"/>
                    <a:ext cx="612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1">
                        <a:moveTo>
                          <a:pt x="8" y="0"/>
                        </a:moveTo>
                        <a:lnTo>
                          <a:pt x="0" y="10"/>
                        </a:lnTo>
                        <a:lnTo>
                          <a:pt x="28" y="20"/>
                        </a:lnTo>
                        <a:lnTo>
                          <a:pt x="35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601680" y="2513160"/>
                    <a:ext cx="2584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6">
                        <a:moveTo>
                          <a:pt x="11" y="0"/>
                        </a:moveTo>
                        <a:lnTo>
                          <a:pt x="0" y="7"/>
                        </a:lnTo>
                        <a:lnTo>
                          <a:pt x="140" y="45"/>
                        </a:lnTo>
                        <a:lnTo>
                          <a:pt x="150" y="3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31680" bIns="31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555600" y="2391480"/>
                  <a:ext cx="663840" cy="189000"/>
                  <a:chOff x="6555600" y="2391480"/>
                  <a:chExt cx="663840" cy="1890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555600" y="2391480"/>
                    <a:ext cx="47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2" y="0"/>
                        </a:moveTo>
                        <a:lnTo>
                          <a:pt x="27" y="7"/>
                        </a:lnTo>
                        <a:lnTo>
                          <a:pt x="16" y="19"/>
                        </a:lnTo>
                        <a:lnTo>
                          <a:pt x="0" y="1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594480" y="2400120"/>
                    <a:ext cx="52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2" y="0"/>
                        </a:moveTo>
                        <a:lnTo>
                          <a:pt x="0" y="11"/>
                        </a:lnTo>
                        <a:lnTo>
                          <a:pt x="17" y="19"/>
                        </a:lnTo>
                        <a:lnTo>
                          <a:pt x="30" y="5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637680" y="2410200"/>
                    <a:ext cx="525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18" y="19"/>
                        </a:lnTo>
                        <a:lnTo>
                          <a:pt x="30" y="7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320" bIns="-1332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678360" y="2424240"/>
                    <a:ext cx="52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17" y="19"/>
                        </a:lnTo>
                        <a:lnTo>
                          <a:pt x="30" y="5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723000" y="2431080"/>
                    <a:ext cx="529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2"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19" y="21"/>
                        </a:lnTo>
                        <a:lnTo>
                          <a:pt x="30" y="5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767640" y="2443320"/>
                    <a:ext cx="525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7" y="19"/>
                        </a:lnTo>
                        <a:lnTo>
                          <a:pt x="30" y="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6815520" y="2450520"/>
                    <a:ext cx="49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2"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20" y="21"/>
                        </a:lnTo>
                        <a:lnTo>
                          <a:pt x="28" y="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61600" y="2466000"/>
                    <a:ext cx="496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19" y="19"/>
                        </a:lnTo>
                        <a:lnTo>
                          <a:pt x="28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903000" y="2472840"/>
                    <a:ext cx="44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1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7" y="20"/>
                        </a:lnTo>
                        <a:lnTo>
                          <a:pt x="25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6945480" y="2483280"/>
                    <a:ext cx="496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19" y="20"/>
                        </a:lnTo>
                        <a:lnTo>
                          <a:pt x="28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2240" bIns="-122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986520" y="2497320"/>
                    <a:ext cx="496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9" y="0"/>
                        </a:moveTo>
                        <a:lnTo>
                          <a:pt x="0" y="9"/>
                        </a:lnTo>
                        <a:lnTo>
                          <a:pt x="19" y="18"/>
                        </a:lnTo>
                        <a:lnTo>
                          <a:pt x="28" y="4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5480" bIns="-15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7034760" y="2507400"/>
                    <a:ext cx="46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18" y="19"/>
                        </a:lnTo>
                        <a:lnTo>
                          <a:pt x="26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320" bIns="-1332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075800" y="2518200"/>
                    <a:ext cx="47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6" y="19"/>
                        </a:lnTo>
                        <a:lnTo>
                          <a:pt x="27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7118640" y="2528280"/>
                    <a:ext cx="525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8" y="20"/>
                        </a:lnTo>
                        <a:lnTo>
                          <a:pt x="30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166520" y="254052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3">
                        <a:moveTo>
                          <a:pt x="10" y="0"/>
                        </a:moveTo>
                        <a:lnTo>
                          <a:pt x="30" y="7"/>
                        </a:lnTo>
                        <a:lnTo>
                          <a:pt x="20" y="22"/>
                        </a:lnTo>
                        <a:lnTo>
                          <a:pt x="0" y="11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280" bIns="-82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483600" y="2431440"/>
                  <a:ext cx="676080" cy="182160"/>
                  <a:chOff x="6483600" y="2431440"/>
                  <a:chExt cx="676080" cy="18216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6553800" y="2443320"/>
                    <a:ext cx="47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7" y="19"/>
                        </a:lnTo>
                        <a:lnTo>
                          <a:pt x="27" y="6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593040" y="2454120"/>
                    <a:ext cx="511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11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2240" bIns="-122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640560" y="2466360"/>
                    <a:ext cx="496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3">
                        <a:moveTo>
                          <a:pt x="11" y="0"/>
                        </a:moveTo>
                        <a:lnTo>
                          <a:pt x="0" y="13"/>
                        </a:lnTo>
                        <a:lnTo>
                          <a:pt x="18" y="22"/>
                        </a:lnTo>
                        <a:lnTo>
                          <a:pt x="28" y="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640" bIns="-86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685200" y="2478240"/>
                    <a:ext cx="529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30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729840" y="249048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10" y="0"/>
                        </a:moveTo>
                        <a:lnTo>
                          <a:pt x="0" y="13"/>
                        </a:lnTo>
                        <a:lnTo>
                          <a:pt x="16" y="22"/>
                        </a:lnTo>
                        <a:lnTo>
                          <a:pt x="27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280" bIns="-82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483600" y="2431440"/>
                    <a:ext cx="802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">
                        <a:moveTo>
                          <a:pt x="13" y="0"/>
                        </a:moveTo>
                        <a:lnTo>
                          <a:pt x="0" y="7"/>
                        </a:lnTo>
                        <a:lnTo>
                          <a:pt x="32" y="19"/>
                        </a:lnTo>
                        <a:lnTo>
                          <a:pt x="46" y="1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320" bIns="-1332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774120" y="2506320"/>
                    <a:ext cx="51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10" y="0"/>
                        </a:moveTo>
                        <a:lnTo>
                          <a:pt x="29" y="7"/>
                        </a:lnTo>
                        <a:lnTo>
                          <a:pt x="19" y="20"/>
                        </a:lnTo>
                        <a:lnTo>
                          <a:pt x="0" y="11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818760" y="2513160"/>
                    <a:ext cx="478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6" y="19"/>
                        </a:lnTo>
                        <a:lnTo>
                          <a:pt x="27" y="5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863400" y="2523600"/>
                    <a:ext cx="511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9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913440" y="2540880"/>
                    <a:ext cx="511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11" y="0"/>
                        </a:moveTo>
                        <a:lnTo>
                          <a:pt x="0" y="9"/>
                        </a:lnTo>
                        <a:lnTo>
                          <a:pt x="19" y="18"/>
                        </a:lnTo>
                        <a:lnTo>
                          <a:pt x="29" y="5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5480" bIns="-15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959520" y="254592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0" y="13"/>
                        </a:lnTo>
                        <a:lnTo>
                          <a:pt x="18" y="22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280" bIns="-82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000200" y="2560320"/>
                    <a:ext cx="52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20" y="19"/>
                        </a:lnTo>
                        <a:lnTo>
                          <a:pt x="30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7043400" y="2568960"/>
                    <a:ext cx="1162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6">
                        <a:moveTo>
                          <a:pt x="13" y="0"/>
                        </a:moveTo>
                        <a:lnTo>
                          <a:pt x="0" y="8"/>
                        </a:lnTo>
                        <a:lnTo>
                          <a:pt x="57" y="25"/>
                        </a:lnTo>
                        <a:lnTo>
                          <a:pt x="67" y="13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3600" bIns="-36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6516360" y="2410560"/>
                  <a:ext cx="672480" cy="182520"/>
                  <a:chOff x="6516360" y="2410560"/>
                  <a:chExt cx="672480" cy="1825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6516360" y="2410560"/>
                    <a:ext cx="71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0">
                        <a:moveTo>
                          <a:pt x="0" y="10"/>
                        </a:moveTo>
                        <a:lnTo>
                          <a:pt x="15" y="0"/>
                        </a:lnTo>
                        <a:lnTo>
                          <a:pt x="41" y="7"/>
                        </a:lnTo>
                        <a:lnTo>
                          <a:pt x="30" y="19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320" bIns="-1332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577560" y="2424600"/>
                    <a:ext cx="496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2" y="0"/>
                        </a:moveTo>
                        <a:lnTo>
                          <a:pt x="28" y="4"/>
                        </a:lnTo>
                        <a:lnTo>
                          <a:pt x="17" y="18"/>
                        </a:lnTo>
                        <a:lnTo>
                          <a:pt x="0" y="9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5480" bIns="-15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615360" y="2433240"/>
                    <a:ext cx="529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3" y="0"/>
                        </a:moveTo>
                        <a:lnTo>
                          <a:pt x="30" y="3"/>
                        </a:lnTo>
                        <a:lnTo>
                          <a:pt x="19" y="20"/>
                        </a:lnTo>
                        <a:lnTo>
                          <a:pt x="0" y="13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2240" bIns="-122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658200" y="2443320"/>
                    <a:ext cx="561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12" y="0"/>
                        </a:moveTo>
                        <a:lnTo>
                          <a:pt x="0" y="11"/>
                        </a:lnTo>
                        <a:lnTo>
                          <a:pt x="19" y="19"/>
                        </a:lnTo>
                        <a:lnTo>
                          <a:pt x="32" y="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704640" y="2454120"/>
                    <a:ext cx="547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1"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21" y="20"/>
                        </a:lnTo>
                        <a:lnTo>
                          <a:pt x="31" y="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2240" bIns="-122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752160" y="2466360"/>
                    <a:ext cx="460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3">
                        <a:moveTo>
                          <a:pt x="9" y="0"/>
                        </a:moveTo>
                        <a:lnTo>
                          <a:pt x="0" y="13"/>
                        </a:lnTo>
                        <a:lnTo>
                          <a:pt x="15" y="22"/>
                        </a:lnTo>
                        <a:lnTo>
                          <a:pt x="26" y="6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640" bIns="-86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796800" y="2478240"/>
                    <a:ext cx="511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9" y="0"/>
                        </a:moveTo>
                        <a:lnTo>
                          <a:pt x="0" y="12"/>
                        </a:lnTo>
                        <a:lnTo>
                          <a:pt x="19" y="20"/>
                        </a:lnTo>
                        <a:lnTo>
                          <a:pt x="29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841080" y="2488680"/>
                    <a:ext cx="496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7" y="20"/>
                        </a:lnTo>
                        <a:lnTo>
                          <a:pt x="28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880680" y="2505960"/>
                    <a:ext cx="511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9" y="19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928560" y="2505960"/>
                    <a:ext cx="514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19" y="23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6480" bIns="-6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969600" y="2521800"/>
                    <a:ext cx="57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2">
                        <a:moveTo>
                          <a:pt x="13" y="0"/>
                        </a:moveTo>
                        <a:lnTo>
                          <a:pt x="0" y="11"/>
                        </a:lnTo>
                        <a:lnTo>
                          <a:pt x="22" y="21"/>
                        </a:lnTo>
                        <a:lnTo>
                          <a:pt x="33" y="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014240" y="2540880"/>
                    <a:ext cx="561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9">
                        <a:moveTo>
                          <a:pt x="11" y="0"/>
                        </a:moveTo>
                        <a:lnTo>
                          <a:pt x="0" y="9"/>
                        </a:lnTo>
                        <a:lnTo>
                          <a:pt x="17" y="18"/>
                        </a:lnTo>
                        <a:lnTo>
                          <a:pt x="32" y="4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5480" bIns="-15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058520" y="2548080"/>
                    <a:ext cx="579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0">
                        <a:moveTo>
                          <a:pt x="13" y="0"/>
                        </a:moveTo>
                        <a:lnTo>
                          <a:pt x="0" y="11"/>
                        </a:lnTo>
                        <a:lnTo>
                          <a:pt x="22" y="19"/>
                        </a:lnTo>
                        <a:lnTo>
                          <a:pt x="33" y="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111800" y="2558160"/>
                    <a:ext cx="77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34" y="19"/>
                        </a:lnTo>
                        <a:lnTo>
                          <a:pt x="44" y="7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320" bIns="-1332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6589440" y="2372400"/>
                  <a:ext cx="655200" cy="183960"/>
                  <a:chOff x="6589440" y="2372400"/>
                  <a:chExt cx="655200" cy="183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6671520" y="2390040"/>
                    <a:ext cx="42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3">
                        <a:moveTo>
                          <a:pt x="8" y="0"/>
                        </a:moveTo>
                        <a:lnTo>
                          <a:pt x="24" y="7"/>
                        </a:lnTo>
                        <a:lnTo>
                          <a:pt x="18" y="22"/>
                        </a:lnTo>
                        <a:lnTo>
                          <a:pt x="0" y="1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640" bIns="-86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714360" y="2401920"/>
                    <a:ext cx="442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7" y="0"/>
                        </a:moveTo>
                        <a:lnTo>
                          <a:pt x="25" y="7"/>
                        </a:lnTo>
                        <a:lnTo>
                          <a:pt x="18" y="21"/>
                        </a:lnTo>
                        <a:lnTo>
                          <a:pt x="0" y="11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755400" y="241056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27" y="7"/>
                        </a:lnTo>
                        <a:lnTo>
                          <a:pt x="18" y="22"/>
                        </a:lnTo>
                        <a:lnTo>
                          <a:pt x="0" y="11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280" bIns="-82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796440" y="2422800"/>
                    <a:ext cx="51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8" y="0"/>
                        </a:moveTo>
                        <a:lnTo>
                          <a:pt x="0" y="8"/>
                        </a:lnTo>
                        <a:lnTo>
                          <a:pt x="22" y="19"/>
                        </a:lnTo>
                        <a:lnTo>
                          <a:pt x="29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320" bIns="-1332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844320" y="2433240"/>
                    <a:ext cx="478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2">
                        <a:moveTo>
                          <a:pt x="7" y="0"/>
                        </a:moveTo>
                        <a:lnTo>
                          <a:pt x="0" y="12"/>
                        </a:lnTo>
                        <a:lnTo>
                          <a:pt x="19" y="21"/>
                        </a:lnTo>
                        <a:lnTo>
                          <a:pt x="27" y="7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886800" y="2443320"/>
                    <a:ext cx="442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6" y="0"/>
                        </a:moveTo>
                        <a:lnTo>
                          <a:pt x="0" y="9"/>
                        </a:lnTo>
                        <a:lnTo>
                          <a:pt x="18" y="21"/>
                        </a:lnTo>
                        <a:lnTo>
                          <a:pt x="25" y="7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930000" y="2452320"/>
                    <a:ext cx="511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8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77880" y="2467800"/>
                    <a:ext cx="442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17" y="21"/>
                        </a:lnTo>
                        <a:lnTo>
                          <a:pt x="25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0080" bIns="-100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018920" y="2478240"/>
                    <a:ext cx="46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1">
                        <a:moveTo>
                          <a:pt x="8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6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058160" y="2487240"/>
                    <a:ext cx="478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2240" bIns="-122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104240" y="2497320"/>
                    <a:ext cx="493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18" y="20"/>
                        </a:lnTo>
                        <a:lnTo>
                          <a:pt x="28" y="6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1880" bIns="-118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147440" y="2505960"/>
                    <a:ext cx="47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20" y="22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640" bIns="-86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589440" y="2372400"/>
                    <a:ext cx="410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3">
                        <a:moveTo>
                          <a:pt x="0" y="11"/>
                        </a:moveTo>
                        <a:lnTo>
                          <a:pt x="9" y="0"/>
                        </a:lnTo>
                        <a:lnTo>
                          <a:pt x="23" y="8"/>
                        </a:lnTo>
                        <a:lnTo>
                          <a:pt x="16" y="22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280" bIns="-82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628680" y="2390040"/>
                    <a:ext cx="460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0" y="10"/>
                        </a:moveTo>
                        <a:lnTo>
                          <a:pt x="10" y="0"/>
                        </a:lnTo>
                        <a:lnTo>
                          <a:pt x="26" y="7"/>
                        </a:lnTo>
                        <a:lnTo>
                          <a:pt x="18" y="19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13680" bIns="-136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189920" y="2516400"/>
                    <a:ext cx="54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3">
                        <a:moveTo>
                          <a:pt x="8" y="0"/>
                        </a:moveTo>
                        <a:lnTo>
                          <a:pt x="31" y="8"/>
                        </a:lnTo>
                        <a:lnTo>
                          <a:pt x="24" y="22"/>
                        </a:lnTo>
                        <a:lnTo>
                          <a:pt x="0" y="11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480" rIns="96480" tIns="-8280" bIns="-82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0" name=""/>
            <p:cNvGrpSpPr/>
            <p:nvPr/>
          </p:nvGrpSpPr>
          <p:grpSpPr>
            <a:xfrm>
              <a:off x="7505640" y="2224080"/>
              <a:ext cx="347400" cy="288720"/>
              <a:chOff x="7505640" y="2224080"/>
              <a:chExt cx="347400" cy="288720"/>
            </a:xfrm>
          </p:grpSpPr>
          <p:sp>
            <p:nvSpPr>
              <p:cNvPr id="221" name=""/>
              <p:cNvSpPr/>
              <p:nvPr/>
            </p:nvSpPr>
            <p:spPr>
              <a:xfrm>
                <a:off x="7555320" y="228456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12480" y="2225520"/>
                <a:ext cx="294480" cy="262800"/>
              </a:xfrm>
              <a:custGeom>
                <a:avLst/>
                <a:gdLst/>
                <a:ahLst/>
                <a:rect l="l" t="t" r="r" b="b"/>
                <a:pathLst>
                  <a:path w="172" h="151">
                    <a:moveTo>
                      <a:pt x="1" y="61"/>
                    </a:moveTo>
                    <a:lnTo>
                      <a:pt x="100" y="148"/>
                    </a:lnTo>
                    <a:lnTo>
                      <a:pt x="101" y="148"/>
                    </a:lnTo>
                    <a:lnTo>
                      <a:pt x="101" y="149"/>
                    </a:lnTo>
                    <a:lnTo>
                      <a:pt x="102" y="150"/>
                    </a:lnTo>
                    <a:lnTo>
                      <a:pt x="103" y="150"/>
                    </a:lnTo>
                    <a:lnTo>
                      <a:pt x="104" y="150"/>
                    </a:lnTo>
                    <a:lnTo>
                      <a:pt x="105" y="150"/>
                    </a:lnTo>
                    <a:lnTo>
                      <a:pt x="106" y="150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68" y="93"/>
                    </a:lnTo>
                    <a:lnTo>
                      <a:pt x="171" y="89"/>
                    </a:lnTo>
                    <a:lnTo>
                      <a:pt x="170" y="61"/>
                    </a:lnTo>
                    <a:lnTo>
                      <a:pt x="163" y="49"/>
                    </a:lnTo>
                    <a:lnTo>
                      <a:pt x="115" y="15"/>
                    </a:lnTo>
                    <a:lnTo>
                      <a:pt x="113" y="14"/>
                    </a:lnTo>
                    <a:lnTo>
                      <a:pt x="112" y="14"/>
                    </a:lnTo>
                    <a:lnTo>
                      <a:pt x="111" y="13"/>
                    </a:lnTo>
                    <a:lnTo>
                      <a:pt x="110" y="13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99" y="12"/>
                    </a:lnTo>
                    <a:lnTo>
                      <a:pt x="99" y="9"/>
                    </a:lnTo>
                    <a:lnTo>
                      <a:pt x="98" y="9"/>
                    </a:lnTo>
                    <a:lnTo>
                      <a:pt x="95" y="9"/>
                    </a:lnTo>
                    <a:lnTo>
                      <a:pt x="95" y="8"/>
                    </a:lnTo>
                    <a:lnTo>
                      <a:pt x="93" y="8"/>
                    </a:lnTo>
                    <a:lnTo>
                      <a:pt x="91" y="8"/>
                    </a:lnTo>
                    <a:lnTo>
                      <a:pt x="90" y="8"/>
                    </a:lnTo>
                    <a:lnTo>
                      <a:pt x="88" y="7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3" y="4"/>
                    </a:lnTo>
                    <a:lnTo>
                      <a:pt x="81" y="3"/>
                    </a:lnTo>
                    <a:lnTo>
                      <a:pt x="80" y="3"/>
                    </a:lnTo>
                    <a:lnTo>
                      <a:pt x="79" y="3"/>
                    </a:lnTo>
                    <a:lnTo>
                      <a:pt x="77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3" y="1"/>
                    </a:lnTo>
                    <a:lnTo>
                      <a:pt x="72" y="1"/>
                    </a:lnTo>
                    <a:lnTo>
                      <a:pt x="70" y="0"/>
                    </a:lnTo>
                    <a:lnTo>
                      <a:pt x="69" y="0"/>
                    </a:lnTo>
                    <a:lnTo>
                      <a:pt x="8" y="40"/>
                    </a:lnTo>
                    <a:lnTo>
                      <a:pt x="2" y="47"/>
                    </a:lnTo>
                    <a:lnTo>
                      <a:pt x="0" y="56"/>
                    </a:lnTo>
                    <a:lnTo>
                      <a:pt x="1" y="61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13920" y="2338920"/>
                <a:ext cx="169560" cy="14940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8" y="83"/>
                    </a:moveTo>
                    <a:lnTo>
                      <a:pt x="98" y="85"/>
                    </a:lnTo>
                    <a:lnTo>
                      <a:pt x="0" y="0"/>
                    </a:lnTo>
                    <a:lnTo>
                      <a:pt x="98" y="85"/>
                    </a:lnTo>
                    <a:lnTo>
                      <a:pt x="98" y="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88880" y="24883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4"/>
                    </a:moveTo>
                    <a:lnTo>
                      <a:pt x="9" y="4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7360" bIns="-27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04000" y="2392560"/>
                <a:ext cx="97560" cy="9720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56" y="0"/>
                    </a:moveTo>
                    <a:lnTo>
                      <a:pt x="0" y="55"/>
                    </a:lnTo>
                    <a:lnTo>
                      <a:pt x="1" y="55"/>
                    </a:lnTo>
                    <a:lnTo>
                      <a:pt x="56" y="1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03360" y="2389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920" bIns="-25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62320" y="2342520"/>
                <a:ext cx="90720" cy="4140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52" y="0"/>
                    </a:moveTo>
                    <a:lnTo>
                      <a:pt x="0" y="2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6840" bIns="-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96880" y="2318040"/>
                <a:ext cx="21960" cy="244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14440" y="2256840"/>
                <a:ext cx="80280" cy="5400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0" y="0"/>
                    </a:moveTo>
                    <a:lnTo>
                      <a:pt x="46" y="30"/>
                    </a:lnTo>
                    <a:lnTo>
                      <a:pt x="4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5760" bIns="5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30560" y="2225520"/>
                <a:ext cx="78840" cy="3456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5" y="15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0" y="18"/>
                    </a:lnTo>
                    <a:lnTo>
                      <a:pt x="43" y="18"/>
                    </a:lnTo>
                    <a:lnTo>
                      <a:pt x="45" y="19"/>
                    </a:lnTo>
                    <a:lnTo>
                      <a:pt x="43" y="18"/>
                    </a:lnTo>
                    <a:lnTo>
                      <a:pt x="43" y="17"/>
                    </a:lnTo>
                    <a:lnTo>
                      <a:pt x="40" y="17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1" y="14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6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9" y="8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13680" bIns="-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26160" y="2224080"/>
                <a:ext cx="100800" cy="6588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1" y="37"/>
                    </a:moveTo>
                    <a:lnTo>
                      <a:pt x="0" y="37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1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17640" bIns="17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15720" y="23036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" y="12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07080" y="2318040"/>
                <a:ext cx="20520" cy="244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2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05640" y="233028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4480" bIns="-244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510680" y="2330280"/>
                <a:ext cx="296280" cy="159840"/>
              </a:xfrm>
              <a:custGeom>
                <a:avLst/>
                <a:gdLst/>
                <a:ahLst/>
                <a:rect l="l" t="t" r="r" b="b"/>
                <a:pathLst>
                  <a:path w="173" h="92">
                    <a:moveTo>
                      <a:pt x="172" y="31"/>
                    </a:moveTo>
                    <a:lnTo>
                      <a:pt x="109" y="84"/>
                    </a:lnTo>
                    <a:lnTo>
                      <a:pt x="109" y="85"/>
                    </a:lnTo>
                    <a:lnTo>
                      <a:pt x="107" y="85"/>
                    </a:lnTo>
                    <a:lnTo>
                      <a:pt x="107" y="84"/>
                    </a:lnTo>
                    <a:lnTo>
                      <a:pt x="107" y="85"/>
                    </a:lnTo>
                    <a:lnTo>
                      <a:pt x="106" y="85"/>
                    </a:lnTo>
                    <a:lnTo>
                      <a:pt x="105" y="85"/>
                    </a:lnTo>
                    <a:lnTo>
                      <a:pt x="104" y="85"/>
                    </a:lnTo>
                    <a:lnTo>
                      <a:pt x="104" y="85"/>
                    </a:lnTo>
                    <a:lnTo>
                      <a:pt x="103" y="84"/>
                    </a:lnTo>
                    <a:lnTo>
                      <a:pt x="101" y="84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00" y="89"/>
                    </a:lnTo>
                    <a:lnTo>
                      <a:pt x="102" y="89"/>
                    </a:lnTo>
                    <a:lnTo>
                      <a:pt x="102" y="90"/>
                    </a:lnTo>
                    <a:lnTo>
                      <a:pt x="103" y="90"/>
                    </a:lnTo>
                    <a:lnTo>
                      <a:pt x="104" y="90"/>
                    </a:lnTo>
                    <a:lnTo>
                      <a:pt x="105" y="90"/>
                    </a:lnTo>
                    <a:lnTo>
                      <a:pt x="106" y="91"/>
                    </a:lnTo>
                    <a:lnTo>
                      <a:pt x="108" y="89"/>
                    </a:lnTo>
                    <a:lnTo>
                      <a:pt x="109" y="89"/>
                    </a:lnTo>
                    <a:lnTo>
                      <a:pt x="169" y="36"/>
                    </a:lnTo>
                    <a:lnTo>
                      <a:pt x="172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705800" y="2389320"/>
                <a:ext cx="100800" cy="9036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0" y="51"/>
                    </a:moveTo>
                    <a:lnTo>
                      <a:pt x="58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2120" bIns="421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87080" y="2481480"/>
                <a:ext cx="22320" cy="259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2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4"/>
                    </a:lnTo>
                    <a:lnTo>
                      <a:pt x="12" y="14"/>
                    </a:lnTo>
                    <a:lnTo>
                      <a:pt x="9" y="1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2320" bIns="-22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10680" y="2330280"/>
                <a:ext cx="174600" cy="144360"/>
              </a:xfrm>
              <a:custGeom>
                <a:avLst/>
                <a:gdLst/>
                <a:ahLst/>
                <a:rect l="l" t="t" r="r" b="b"/>
                <a:pathLst>
                  <a:path w="102" h="83">
                    <a:moveTo>
                      <a:pt x="0" y="0"/>
                    </a:moveTo>
                    <a:lnTo>
                      <a:pt x="0" y="1"/>
                    </a:lnTo>
                    <a:lnTo>
                      <a:pt x="100" y="82"/>
                    </a:lnTo>
                    <a:lnTo>
                      <a:pt x="101" y="8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505640" y="233028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4480" bIns="-244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13920" y="2338920"/>
                <a:ext cx="169560" cy="14940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8" y="83"/>
                    </a:moveTo>
                    <a:lnTo>
                      <a:pt x="0" y="0"/>
                    </a:lnTo>
                    <a:lnTo>
                      <a:pt x="98" y="85"/>
                    </a:lnTo>
                    <a:lnTo>
                      <a:pt x="98" y="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88880" y="2488320"/>
                <a:ext cx="237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3"/>
                    </a:moveTo>
                    <a:lnTo>
                      <a:pt x="10" y="4"/>
                    </a:lnTo>
                    <a:lnTo>
                      <a:pt x="9" y="4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9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05800" y="2392560"/>
                <a:ext cx="95760" cy="9720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0"/>
                    </a:moveTo>
                    <a:lnTo>
                      <a:pt x="0" y="53"/>
                    </a:lnTo>
                    <a:lnTo>
                      <a:pt x="0" y="55"/>
                    </a:lnTo>
                    <a:lnTo>
                      <a:pt x="55" y="1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03360" y="2368440"/>
                <a:ext cx="23760" cy="468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13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15720" y="2298600"/>
                <a:ext cx="289800" cy="132120"/>
              </a:xfrm>
              <a:custGeom>
                <a:avLst/>
                <a:gdLst/>
                <a:ahLst/>
                <a:rect l="l" t="t" r="r" b="b"/>
                <a:pathLst>
                  <a:path w="169" h="76">
                    <a:moveTo>
                      <a:pt x="0" y="8"/>
                    </a:moveTo>
                    <a:lnTo>
                      <a:pt x="102" y="73"/>
                    </a:lnTo>
                    <a:lnTo>
                      <a:pt x="102" y="75"/>
                    </a:lnTo>
                    <a:lnTo>
                      <a:pt x="103" y="75"/>
                    </a:lnTo>
                    <a:lnTo>
                      <a:pt x="104" y="75"/>
                    </a:lnTo>
                    <a:lnTo>
                      <a:pt x="105" y="75"/>
                    </a:lnTo>
                    <a:lnTo>
                      <a:pt x="105" y="74"/>
                    </a:lnTo>
                    <a:lnTo>
                      <a:pt x="168" y="20"/>
                    </a:lnTo>
                    <a:lnTo>
                      <a:pt x="161" y="8"/>
                    </a:lnTo>
                    <a:lnTo>
                      <a:pt x="102" y="56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47" y="18"/>
                    </a:lnTo>
                    <a:lnTo>
                      <a:pt x="46" y="17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5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4000" y="2226960"/>
                <a:ext cx="270720" cy="168840"/>
              </a:xfrm>
              <a:custGeom>
                <a:avLst/>
                <a:gdLst/>
                <a:ahLst/>
                <a:rect l="l" t="t" r="r" b="b"/>
                <a:pathLst>
                  <a:path w="158" h="97">
                    <a:moveTo>
                      <a:pt x="157" y="48"/>
                    </a:moveTo>
                    <a:lnTo>
                      <a:pt x="97" y="96"/>
                    </a:lnTo>
                    <a:lnTo>
                      <a:pt x="47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3" y="58"/>
                    </a:lnTo>
                    <a:lnTo>
                      <a:pt x="42" y="57"/>
                    </a:lnTo>
                    <a:lnTo>
                      <a:pt x="40" y="57"/>
                    </a:lnTo>
                    <a:lnTo>
                      <a:pt x="38" y="57"/>
                    </a:lnTo>
                    <a:lnTo>
                      <a:pt x="38" y="56"/>
                    </a:lnTo>
                    <a:lnTo>
                      <a:pt x="36" y="55"/>
                    </a:lnTo>
                    <a:lnTo>
                      <a:pt x="34" y="54"/>
                    </a:lnTo>
                    <a:lnTo>
                      <a:pt x="33" y="54"/>
                    </a:lnTo>
                    <a:lnTo>
                      <a:pt x="31" y="54"/>
                    </a:lnTo>
                    <a:lnTo>
                      <a:pt x="29" y="53"/>
                    </a:lnTo>
                    <a:lnTo>
                      <a:pt x="27" y="52"/>
                    </a:lnTo>
                    <a:lnTo>
                      <a:pt x="26" y="52"/>
                    </a:lnTo>
                    <a:lnTo>
                      <a:pt x="24" y="52"/>
                    </a:lnTo>
                    <a:lnTo>
                      <a:pt x="23" y="51"/>
                    </a:lnTo>
                    <a:lnTo>
                      <a:pt x="22" y="50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17" y="48"/>
                    </a:lnTo>
                    <a:lnTo>
                      <a:pt x="16" y="46"/>
                    </a:lnTo>
                    <a:lnTo>
                      <a:pt x="15" y="46"/>
                    </a:lnTo>
                    <a:lnTo>
                      <a:pt x="12" y="46"/>
                    </a:lnTo>
                    <a:lnTo>
                      <a:pt x="11" y="45"/>
                    </a:lnTo>
                    <a:lnTo>
                      <a:pt x="10" y="44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4" y="41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5" y="2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0" y="3"/>
                    </a:lnTo>
                    <a:lnTo>
                      <a:pt x="71" y="3"/>
                    </a:lnTo>
                    <a:lnTo>
                      <a:pt x="72" y="3"/>
                    </a:lnTo>
                    <a:lnTo>
                      <a:pt x="74" y="4"/>
                    </a:lnTo>
                    <a:lnTo>
                      <a:pt x="75" y="4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9" y="6"/>
                    </a:lnTo>
                    <a:lnTo>
                      <a:pt x="81" y="7"/>
                    </a:lnTo>
                    <a:lnTo>
                      <a:pt x="82" y="8"/>
                    </a:lnTo>
                    <a:lnTo>
                      <a:pt x="84" y="9"/>
                    </a:lnTo>
                    <a:lnTo>
                      <a:pt x="85" y="9"/>
                    </a:lnTo>
                    <a:lnTo>
                      <a:pt x="87" y="9"/>
                    </a:lnTo>
                    <a:lnTo>
                      <a:pt x="88" y="9"/>
                    </a:lnTo>
                    <a:lnTo>
                      <a:pt x="90" y="9"/>
                    </a:lnTo>
                    <a:lnTo>
                      <a:pt x="92" y="9"/>
                    </a:lnTo>
                    <a:lnTo>
                      <a:pt x="93" y="10"/>
                    </a:lnTo>
                    <a:lnTo>
                      <a:pt x="95" y="11"/>
                    </a:lnTo>
                    <a:lnTo>
                      <a:pt x="96" y="11"/>
                    </a:lnTo>
                    <a:lnTo>
                      <a:pt x="97" y="11"/>
                    </a:lnTo>
                    <a:lnTo>
                      <a:pt x="98" y="13"/>
                    </a:lnTo>
                    <a:lnTo>
                      <a:pt x="101" y="13"/>
                    </a:lnTo>
                    <a:lnTo>
                      <a:pt x="102" y="13"/>
                    </a:lnTo>
                    <a:lnTo>
                      <a:pt x="103" y="13"/>
                    </a:lnTo>
                    <a:lnTo>
                      <a:pt x="105" y="14"/>
                    </a:lnTo>
                    <a:lnTo>
                      <a:pt x="106" y="14"/>
                    </a:lnTo>
                    <a:lnTo>
                      <a:pt x="108" y="15"/>
                    </a:lnTo>
                    <a:lnTo>
                      <a:pt x="157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13920" y="2338920"/>
                <a:ext cx="169560" cy="14940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8" y="83"/>
                    </a:moveTo>
                    <a:lnTo>
                      <a:pt x="98" y="85"/>
                    </a:lnTo>
                    <a:lnTo>
                      <a:pt x="0" y="0"/>
                    </a:lnTo>
                    <a:lnTo>
                      <a:pt x="98" y="85"/>
                    </a:lnTo>
                    <a:lnTo>
                      <a:pt x="98" y="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88880" y="24883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4"/>
                    </a:moveTo>
                    <a:lnTo>
                      <a:pt x="9" y="4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7360" bIns="-27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04000" y="2392560"/>
                <a:ext cx="97560" cy="9720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56" y="0"/>
                    </a:moveTo>
                    <a:lnTo>
                      <a:pt x="0" y="55"/>
                    </a:lnTo>
                    <a:lnTo>
                      <a:pt x="1" y="55"/>
                    </a:lnTo>
                    <a:lnTo>
                      <a:pt x="56" y="1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03360" y="2389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920" bIns="-25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62320" y="2342520"/>
                <a:ext cx="90720" cy="4140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52" y="0"/>
                    </a:moveTo>
                    <a:lnTo>
                      <a:pt x="0" y="2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6840" bIns="-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96880" y="2318040"/>
                <a:ext cx="21960" cy="244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14440" y="2256840"/>
                <a:ext cx="80280" cy="5400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0" y="0"/>
                    </a:moveTo>
                    <a:lnTo>
                      <a:pt x="46" y="30"/>
                    </a:lnTo>
                    <a:lnTo>
                      <a:pt x="4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5760" bIns="5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30560" y="2225520"/>
                <a:ext cx="78840" cy="3456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5" y="15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0" y="18"/>
                    </a:lnTo>
                    <a:lnTo>
                      <a:pt x="43" y="18"/>
                    </a:lnTo>
                    <a:lnTo>
                      <a:pt x="45" y="19"/>
                    </a:lnTo>
                    <a:lnTo>
                      <a:pt x="43" y="18"/>
                    </a:lnTo>
                    <a:lnTo>
                      <a:pt x="43" y="17"/>
                    </a:lnTo>
                    <a:lnTo>
                      <a:pt x="40" y="17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1" y="14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6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9" y="8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13680" bIns="-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26160" y="2224080"/>
                <a:ext cx="100800" cy="6588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1" y="37"/>
                    </a:moveTo>
                    <a:lnTo>
                      <a:pt x="0" y="37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1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17640" bIns="17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15720" y="23036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" y="12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07080" y="2318040"/>
                <a:ext cx="20520" cy="244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2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505640" y="233028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4480" bIns="-244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550280" y="2229120"/>
                <a:ext cx="129960" cy="84960"/>
              </a:xfrm>
              <a:custGeom>
                <a:avLst/>
                <a:gdLst/>
                <a:ahLst/>
                <a:rect l="l" t="t" r="r" b="b"/>
                <a:pathLst>
                  <a:path w="76" h="49">
                    <a:moveTo>
                      <a:pt x="0" y="37"/>
                    </a:moveTo>
                    <a:lnTo>
                      <a:pt x="26" y="48"/>
                    </a:lnTo>
                    <a:lnTo>
                      <a:pt x="42" y="37"/>
                    </a:lnTo>
                    <a:lnTo>
                      <a:pt x="40" y="37"/>
                    </a:lnTo>
                    <a:lnTo>
                      <a:pt x="39" y="36"/>
                    </a:lnTo>
                    <a:lnTo>
                      <a:pt x="43" y="3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75" y="16"/>
                    </a:lnTo>
                    <a:lnTo>
                      <a:pt x="73" y="14"/>
                    </a:lnTo>
                    <a:lnTo>
                      <a:pt x="73" y="13"/>
                    </a:lnTo>
                    <a:lnTo>
                      <a:pt x="57" y="7"/>
                    </a:lnTo>
                    <a:lnTo>
                      <a:pt x="49" y="0"/>
                    </a:lnTo>
                    <a:lnTo>
                      <a:pt x="36" y="8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18" y="19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36720" bIns="36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46680" y="2302200"/>
                <a:ext cx="44280" cy="295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4" y="15"/>
                    </a:moveTo>
                    <a:lnTo>
                      <a:pt x="25" y="1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5" y="16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18720" bIns="-18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99600" y="230220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0"/>
                    </a:moveTo>
                    <a:lnTo>
                      <a:pt x="0" y="1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7360" bIns="-27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20120" y="2293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7" y="12"/>
                    </a:lnTo>
                    <a:lnTo>
                      <a:pt x="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920" bIns="-25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18680" y="2293560"/>
                <a:ext cx="237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1" y="13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621920" y="2293560"/>
                <a:ext cx="20520" cy="244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8760" y="227772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1"/>
                    </a:moveTo>
                    <a:lnTo>
                      <a:pt x="13" y="0"/>
                    </a:lnTo>
                    <a:lnTo>
                      <a:pt x="0" y="1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47840" y="2272320"/>
                <a:ext cx="20520" cy="244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9" y="13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9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646040" y="227232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1" y="13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52880" y="2272320"/>
                <a:ext cx="20520" cy="244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59720" y="22568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0"/>
                    </a:moveTo>
                    <a:lnTo>
                      <a:pt x="0" y="1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78440" y="2251440"/>
                <a:ext cx="20520" cy="244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0" y="0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78440" y="2247840"/>
                <a:ext cx="22320" cy="262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4"/>
                    </a:moveTo>
                    <a:lnTo>
                      <a:pt x="11" y="1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" y="14"/>
                    </a:lnTo>
                    <a:lnTo>
                      <a:pt x="12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1960" bIns="-21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54680" y="224640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39200" y="2229120"/>
                <a:ext cx="20520" cy="259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1"/>
                    </a:moveTo>
                    <a:lnTo>
                      <a:pt x="11" y="1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2320" bIns="-22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615080" y="22255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13" y="1"/>
                    </a:lnTo>
                    <a:lnTo>
                      <a:pt x="13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7360" bIns="-27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08240" y="2246400"/>
                <a:ext cx="21960" cy="244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5" y="0"/>
                    </a:lnTo>
                    <a:lnTo>
                      <a:pt x="0" y="12"/>
                    </a:lnTo>
                    <a:lnTo>
                      <a:pt x="3" y="13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440" y="2246400"/>
                <a:ext cx="20520" cy="259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1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2320" bIns="-22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84480" y="22478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0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577280" y="226728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0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920" bIns="-25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573680" y="2265480"/>
                <a:ext cx="22320" cy="262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6" y="6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5" y="13"/>
                    </a:lnTo>
                    <a:lnTo>
                      <a:pt x="11" y="14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1960" bIns="-21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55320" y="226908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2"/>
                    </a:moveTo>
                    <a:lnTo>
                      <a:pt x="12" y="1"/>
                    </a:lnTo>
                    <a:lnTo>
                      <a:pt x="11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46680" y="2289960"/>
                <a:ext cx="2196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6160" y="2293560"/>
                <a:ext cx="46080" cy="223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3"/>
                    </a:moveTo>
                    <a:lnTo>
                      <a:pt x="0" y="12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920" bIns="-25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55320" y="2229120"/>
                <a:ext cx="121320" cy="79920"/>
              </a:xfrm>
              <a:custGeom>
                <a:avLst/>
                <a:gdLst/>
                <a:ahLst/>
                <a:rect l="l" t="t" r="r" b="b"/>
                <a:pathLst>
                  <a:path w="71" h="46">
                    <a:moveTo>
                      <a:pt x="32" y="8"/>
                    </a:moveTo>
                    <a:lnTo>
                      <a:pt x="41" y="17"/>
                    </a:lnTo>
                    <a:lnTo>
                      <a:pt x="56" y="23"/>
                    </a:lnTo>
                    <a:lnTo>
                      <a:pt x="70" y="13"/>
                    </a:lnTo>
                    <a:lnTo>
                      <a:pt x="54" y="8"/>
                    </a:lnTo>
                    <a:lnTo>
                      <a:pt x="47" y="0"/>
                    </a:lnTo>
                    <a:lnTo>
                      <a:pt x="32" y="8"/>
                    </a:lnTo>
                    <a:lnTo>
                      <a:pt x="16" y="18"/>
                    </a:lnTo>
                    <a:lnTo>
                      <a:pt x="24" y="27"/>
                    </a:lnTo>
                    <a:lnTo>
                      <a:pt x="40" y="33"/>
                    </a:lnTo>
                    <a:lnTo>
                      <a:pt x="53" y="23"/>
                    </a:lnTo>
                    <a:lnTo>
                      <a:pt x="38" y="18"/>
                    </a:lnTo>
                    <a:lnTo>
                      <a:pt x="29" y="10"/>
                    </a:lnTo>
                    <a:lnTo>
                      <a:pt x="16" y="18"/>
                    </a:lnTo>
                    <a:lnTo>
                      <a:pt x="0" y="30"/>
                    </a:lnTo>
                    <a:lnTo>
                      <a:pt x="6" y="38"/>
                    </a:lnTo>
                    <a:lnTo>
                      <a:pt x="23" y="45"/>
                    </a:lnTo>
                    <a:lnTo>
                      <a:pt x="36" y="36"/>
                    </a:lnTo>
                    <a:lnTo>
                      <a:pt x="22" y="29"/>
                    </a:lnTo>
                    <a:lnTo>
                      <a:pt x="13" y="22"/>
                    </a:lnTo>
                    <a:lnTo>
                      <a:pt x="0" y="3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31680" bIns="31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11480" y="2247840"/>
                <a:ext cx="20520" cy="262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14"/>
                    </a:moveTo>
                    <a:lnTo>
                      <a:pt x="0" y="0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1960" bIns="-21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628760" y="2241360"/>
                <a:ext cx="23760" cy="482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3" y="27"/>
                    </a:moveTo>
                    <a:lnTo>
                      <a:pt x="0" y="0"/>
                    </a:lnTo>
                    <a:lnTo>
                      <a:pt x="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57920" y="22550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3" y="1"/>
                    </a:moveTo>
                    <a:lnTo>
                      <a:pt x="13" y="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7360" bIns="-27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54680" y="224640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39200" y="2229120"/>
                <a:ext cx="20520" cy="259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1"/>
                    </a:moveTo>
                    <a:lnTo>
                      <a:pt x="11" y="1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2320" bIns="-22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15080" y="22255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13" y="1"/>
                    </a:lnTo>
                    <a:lnTo>
                      <a:pt x="13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7360" bIns="-27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16880" y="2247840"/>
                <a:ext cx="13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8240" bIns="-48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84480" y="2269080"/>
                <a:ext cx="20520" cy="244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0" y="0"/>
                    </a:lnTo>
                    <a:lnTo>
                      <a:pt x="9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596360" y="2284560"/>
                <a:ext cx="255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28760" y="2275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0"/>
                    </a:moveTo>
                    <a:lnTo>
                      <a:pt x="0" y="1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920" bIns="-25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23720" y="226548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08240" y="2250000"/>
                <a:ext cx="20160" cy="244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84480" y="22478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0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84480" y="2260080"/>
                <a:ext cx="1440" cy="2448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3"/>
                    </a:moveTo>
                    <a:lnTo>
                      <a:pt x="0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50280" y="2289960"/>
                <a:ext cx="20520" cy="244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0" y="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568640" y="2283120"/>
                <a:ext cx="23760" cy="482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2" y="27"/>
                    </a:moveTo>
                    <a:lnTo>
                      <a:pt x="0" y="0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2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97800" y="229500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1"/>
                    </a:moveTo>
                    <a:lnTo>
                      <a:pt x="13" y="0"/>
                    </a:lnTo>
                    <a:lnTo>
                      <a:pt x="0" y="1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94560" y="228996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577280" y="2272320"/>
                <a:ext cx="21960" cy="244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" y="1"/>
                    </a:moveTo>
                    <a:lnTo>
                      <a:pt x="0" y="0"/>
                    </a:lnTo>
                    <a:lnTo>
                      <a:pt x="10" y="13"/>
                    </a:lnTo>
                    <a:lnTo>
                      <a:pt x="12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55320" y="226908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2"/>
                    </a:moveTo>
                    <a:lnTo>
                      <a:pt x="12" y="1"/>
                    </a:lnTo>
                    <a:lnTo>
                      <a:pt x="11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28760" y="2242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1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920" bIns="-25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599600" y="226368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1" y="1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7360" bIns="-27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68640" y="228456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12"/>
                    </a:moveTo>
                    <a:lnTo>
                      <a:pt x="13" y="1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5920" bIns="-25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06" name=""/>
            <p:cNvGraphicFramePr/>
            <p:nvPr/>
          </p:nvGraphicFramePr>
          <p:xfrm>
            <a:off x="7924680" y="228600"/>
            <a:ext cx="181080" cy="3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924680" y="228600"/>
                      <a:ext cx="181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8" name=""/>
            <p:cNvGrpSpPr/>
            <p:nvPr/>
          </p:nvGrpSpPr>
          <p:grpSpPr>
            <a:xfrm>
              <a:off x="8093160" y="649440"/>
              <a:ext cx="198000" cy="420120"/>
              <a:chOff x="8093160" y="649440"/>
              <a:chExt cx="198000" cy="420120"/>
            </a:xfrm>
          </p:grpSpPr>
          <p:sp>
            <p:nvSpPr>
              <p:cNvPr id="309" name=""/>
              <p:cNvSpPr/>
              <p:nvPr/>
            </p:nvSpPr>
            <p:spPr>
              <a:xfrm>
                <a:off x="8224560" y="767880"/>
                <a:ext cx="0" cy="231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202600" y="767880"/>
                <a:ext cx="0" cy="231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188560" y="654840"/>
                <a:ext cx="46080" cy="396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7" y="2"/>
                    </a:moveTo>
                    <a:lnTo>
                      <a:pt x="0" y="18"/>
                    </a:lnTo>
                    <a:lnTo>
                      <a:pt x="7" y="22"/>
                    </a:lnTo>
                    <a:lnTo>
                      <a:pt x="19" y="19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8640" bIns="-8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094960" y="649440"/>
                <a:ext cx="146520" cy="11160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85" y="61"/>
                    </a:moveTo>
                    <a:lnTo>
                      <a:pt x="85" y="24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37" y="63"/>
                    </a:lnTo>
                    <a:lnTo>
                      <a:pt x="85" y="63"/>
                    </a:lnTo>
                    <a:lnTo>
                      <a:pt x="85" y="6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151120" y="752400"/>
                <a:ext cx="44280" cy="271800"/>
              </a:xfrm>
              <a:custGeom>
                <a:avLst/>
                <a:gdLst/>
                <a:ahLst/>
                <a:rect l="l" t="t" r="r" b="b"/>
                <a:pathLst>
                  <a:path w="26" h="156">
                    <a:moveTo>
                      <a:pt x="0" y="155"/>
                    </a:moveTo>
                    <a:lnTo>
                      <a:pt x="9" y="150"/>
                    </a:lnTo>
                    <a:lnTo>
                      <a:pt x="16" y="143"/>
                    </a:lnTo>
                    <a:lnTo>
                      <a:pt x="17" y="136"/>
                    </a:lnTo>
                    <a:lnTo>
                      <a:pt x="16" y="129"/>
                    </a:lnTo>
                    <a:lnTo>
                      <a:pt x="11" y="121"/>
                    </a:lnTo>
                    <a:lnTo>
                      <a:pt x="4" y="118"/>
                    </a:lnTo>
                    <a:lnTo>
                      <a:pt x="0" y="115"/>
                    </a:lnTo>
                    <a:lnTo>
                      <a:pt x="9" y="111"/>
                    </a:lnTo>
                    <a:lnTo>
                      <a:pt x="15" y="105"/>
                    </a:lnTo>
                    <a:lnTo>
                      <a:pt x="17" y="100"/>
                    </a:lnTo>
                    <a:lnTo>
                      <a:pt x="17" y="93"/>
                    </a:lnTo>
                    <a:lnTo>
                      <a:pt x="15" y="89"/>
                    </a:lnTo>
                    <a:lnTo>
                      <a:pt x="10" y="82"/>
                    </a:lnTo>
                    <a:lnTo>
                      <a:pt x="3" y="78"/>
                    </a:lnTo>
                    <a:lnTo>
                      <a:pt x="0" y="78"/>
                    </a:lnTo>
                    <a:lnTo>
                      <a:pt x="13" y="69"/>
                    </a:lnTo>
                    <a:lnTo>
                      <a:pt x="17" y="64"/>
                    </a:lnTo>
                    <a:lnTo>
                      <a:pt x="17" y="59"/>
                    </a:lnTo>
                    <a:lnTo>
                      <a:pt x="16" y="54"/>
                    </a:lnTo>
                    <a:lnTo>
                      <a:pt x="13" y="48"/>
                    </a:lnTo>
                    <a:lnTo>
                      <a:pt x="9" y="44"/>
                    </a:lnTo>
                    <a:lnTo>
                      <a:pt x="0" y="38"/>
                    </a:lnTo>
                    <a:lnTo>
                      <a:pt x="12" y="32"/>
                    </a:lnTo>
                    <a:lnTo>
                      <a:pt x="17" y="25"/>
                    </a:lnTo>
                    <a:lnTo>
                      <a:pt x="17" y="19"/>
                    </a:lnTo>
                    <a:lnTo>
                      <a:pt x="15" y="11"/>
                    </a:lnTo>
                    <a:lnTo>
                      <a:pt x="13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25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093160" y="703440"/>
                <a:ext cx="77040" cy="6264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35"/>
                    </a:moveTo>
                    <a:lnTo>
                      <a:pt x="0" y="0"/>
                    </a:lnTo>
                    <a:lnTo>
                      <a:pt x="34" y="35"/>
                    </a:lnTo>
                    <a:lnTo>
                      <a:pt x="42" y="35"/>
                    </a:lnTo>
                    <a:lnTo>
                      <a:pt x="44" y="3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14400" bIns="14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096400" y="1024560"/>
                <a:ext cx="194760" cy="45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3240" bIns="-3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152920" y="678960"/>
                <a:ext cx="23760" cy="2628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9160" bIns="-29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7343640" y="704880"/>
              <a:ext cx="695520" cy="171360"/>
            </a:xfrm>
            <a:custGeom>
              <a:avLst/>
              <a:gdLst/>
              <a:ahLst/>
              <a:rect l="l" t="t" r="r" b="b"/>
              <a:pathLst>
                <a:path w="406" h="98">
                  <a:moveTo>
                    <a:pt x="0" y="22"/>
                  </a:moveTo>
                  <a:lnTo>
                    <a:pt x="217" y="97"/>
                  </a:lnTo>
                  <a:lnTo>
                    <a:pt x="144" y="0"/>
                  </a:lnTo>
                  <a:lnTo>
                    <a:pt x="405" y="6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43640" y="1046160"/>
              <a:ext cx="214560" cy="1184400"/>
            </a:xfrm>
            <a:custGeom>
              <a:avLst/>
              <a:gdLst/>
              <a:ahLst/>
              <a:rect l="l" t="t" r="r" b="b"/>
              <a:pathLst>
                <a:path w="125" h="678">
                  <a:moveTo>
                    <a:pt x="0" y="0"/>
                  </a:moveTo>
                  <a:lnTo>
                    <a:pt x="81" y="296"/>
                  </a:lnTo>
                  <a:lnTo>
                    <a:pt x="34" y="286"/>
                  </a:lnTo>
                  <a:lnTo>
                    <a:pt x="124" y="677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29440" y="1100160"/>
              <a:ext cx="162000" cy="1243080"/>
            </a:xfrm>
            <a:custGeom>
              <a:avLst/>
              <a:gdLst/>
              <a:ahLst/>
              <a:rect l="l" t="t" r="r" b="b"/>
              <a:pathLst>
                <a:path w="94" h="712">
                  <a:moveTo>
                    <a:pt x="93" y="0"/>
                  </a:moveTo>
                  <a:lnTo>
                    <a:pt x="32" y="310"/>
                  </a:lnTo>
                  <a:lnTo>
                    <a:pt x="67" y="300"/>
                  </a:lnTo>
                  <a:lnTo>
                    <a:pt x="0" y="711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0" name=""/>
            <p:cNvGraphicFramePr/>
            <p:nvPr/>
          </p:nvGraphicFramePr>
          <p:xfrm>
            <a:off x="5572080" y="828720"/>
            <a:ext cx="636480" cy="718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72080" y="828720"/>
                      <a:ext cx="636480" cy="71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2" name=""/>
            <p:cNvGraphicFramePr/>
            <p:nvPr/>
          </p:nvGraphicFramePr>
          <p:xfrm>
            <a:off x="6410160" y="523800"/>
            <a:ext cx="889200" cy="990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10160" y="523800"/>
                      <a:ext cx="8892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"/>
            <p:cNvGraphicFramePr/>
            <p:nvPr/>
          </p:nvGraphicFramePr>
          <p:xfrm>
            <a:off x="7819920" y="1285920"/>
            <a:ext cx="574920" cy="914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19920" y="1285920"/>
                      <a:ext cx="574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6" name=""/>
          <p:cNvSpPr/>
          <p:nvPr/>
        </p:nvSpPr>
        <p:spPr>
          <a:xfrm>
            <a:off x="1450800" y="3429000"/>
            <a:ext cx="222588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Universal Data/Voice Access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09480" y="936720"/>
            <a:ext cx="4189680" cy="2933640"/>
            <a:chOff x="609480" y="936720"/>
            <a:chExt cx="4189680" cy="2933640"/>
          </a:xfrm>
        </p:grpSpPr>
        <p:sp>
          <p:nvSpPr>
            <p:cNvPr id="328" name=""/>
            <p:cNvSpPr/>
            <p:nvPr/>
          </p:nvSpPr>
          <p:spPr>
            <a:xfrm>
              <a:off x="1616040" y="936720"/>
              <a:ext cx="2967120" cy="25779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676680" y="1279440"/>
              <a:ext cx="274320" cy="217080"/>
              <a:chOff x="3676680" y="1279440"/>
              <a:chExt cx="274320" cy="217080"/>
            </a:xfrm>
          </p:grpSpPr>
          <p:sp>
            <p:nvSpPr>
              <p:cNvPr id="330" name=""/>
              <p:cNvSpPr/>
              <p:nvPr/>
            </p:nvSpPr>
            <p:spPr>
              <a:xfrm>
                <a:off x="3678480" y="1288080"/>
                <a:ext cx="260640" cy="19944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736800" y="1315080"/>
                <a:ext cx="143640" cy="13464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731760" y="1476720"/>
                <a:ext cx="16920" cy="198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8440" bIns="-28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46880" y="147888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30600" bIns="-30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16280" y="1302480"/>
                <a:ext cx="185040" cy="15984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79360" y="147888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30600" bIns="-30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55240" y="1476720"/>
                <a:ext cx="21960" cy="19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8440" bIns="-28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32920" y="1476720"/>
                <a:ext cx="360" cy="1980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8440" bIns="-28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07360" y="147672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8440" bIns="-28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83240" y="1476720"/>
                <a:ext cx="21960" cy="19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8440" bIns="-28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930480" y="1302480"/>
                <a:ext cx="1800" cy="16704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34080" y="1304640"/>
                <a:ext cx="16920" cy="16308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82080" y="1304640"/>
                <a:ext cx="20520" cy="16308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29960" y="14749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8800" bIns="-28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9960" y="147672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28440" bIns="-28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929040" y="1288080"/>
                <a:ext cx="20520" cy="195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676680" y="1288080"/>
                <a:ext cx="18720" cy="195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692160" y="1288080"/>
                <a:ext cx="233280" cy="195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14120" y="1300680"/>
                <a:ext cx="189000" cy="16128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14120" y="1300680"/>
                <a:ext cx="189000" cy="16128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735000" y="1313280"/>
                <a:ext cx="145800" cy="13608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35000" y="1313280"/>
                <a:ext cx="145800" cy="13608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70720" y="147492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70720" y="147888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46600" y="147492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46600" y="14788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24280" y="147492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24280" y="147888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01600" y="147492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01600" y="14788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76040" y="147492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76040" y="147888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6800" bIns="-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41840" y="1279440"/>
                <a:ext cx="13320" cy="140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37800" bIns="-37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16280" y="1279440"/>
                <a:ext cx="11880" cy="140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37800" bIns="-37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 flipV="1">
              <a:off x="3016080" y="1797120"/>
              <a:ext cx="660600" cy="34272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75960" y="1538280"/>
              <a:ext cx="165240" cy="6890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92400" y="2139840"/>
              <a:ext cx="1236600" cy="8748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006800" y="1279440"/>
              <a:ext cx="411120" cy="8748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33600" y="2827440"/>
              <a:ext cx="823680" cy="43020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27160" y="2311560"/>
              <a:ext cx="495360" cy="34416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841400" y="2052720"/>
              <a:ext cx="314280" cy="178920"/>
              <a:chOff x="1841400" y="2052720"/>
              <a:chExt cx="314280" cy="1789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1841400" y="2147400"/>
                <a:ext cx="314280" cy="84240"/>
                <a:chOff x="1841400" y="2147400"/>
                <a:chExt cx="314280" cy="842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841400" y="2147400"/>
                  <a:ext cx="314280" cy="8424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36000" bIns="36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46440" y="2185560"/>
                  <a:ext cx="30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48600" y="2180520"/>
                  <a:ext cx="300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43920" y="2225160"/>
                  <a:ext cx="310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52560" y="2192040"/>
                  <a:ext cx="291600" cy="3420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14040" bIns="-140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69480" y="2197080"/>
                  <a:ext cx="86400" cy="2412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24120" bIns="-24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73440" y="2199600"/>
                  <a:ext cx="77400" cy="1764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0600" bIns="-30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84600" y="22035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83160" y="22060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80640" y="22086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78120" y="221112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7080" bIns="-37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75600" y="221364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93240" y="22035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89640" y="22035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929240" y="22150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8160" bIns="-38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913040" y="22096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13040" y="22050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7080" bIns="-37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915560" y="22035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915560" y="22150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8160" bIns="-38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920240" y="22096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915560" y="220968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920240" y="22050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7080" bIns="-37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915560" y="220500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7080" bIns="-37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921680" y="22035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21680" y="22150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8160" bIns="-38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927800" y="22096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921680" y="22096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921680" y="22050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7080" bIns="-37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921680" y="22086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31760" y="22035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31760" y="22150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8160" bIns="-38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936800" y="22096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936800" y="22050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7080" bIns="-37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930320" y="22050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7080" bIns="-37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931760" y="22086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976400" y="219852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995840" y="219852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14560" y="2198520"/>
                  <a:ext cx="10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034360" y="219852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051640" y="2198520"/>
                  <a:ext cx="9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071440" y="219852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089800" y="2198520"/>
                  <a:ext cx="10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087280" y="219708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067840" y="21970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049120" y="21970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030760" y="21970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012040" y="219708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992240" y="21970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973880" y="21970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087280" y="219708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840" y="21970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049120" y="21970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030760" y="21970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012040" y="219708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992240" y="21970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973880" y="21970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976400" y="2211120"/>
                  <a:ext cx="14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995840" y="2211120"/>
                  <a:ext cx="1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066760" y="2211120"/>
                  <a:ext cx="12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085120" y="2211120"/>
                  <a:ext cx="1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48240" bIns="-48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081160" y="2209680"/>
                  <a:ext cx="1980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062800" y="22096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992240" y="2209680"/>
                  <a:ext cx="1944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973880" y="22096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081160" y="2209680"/>
                  <a:ext cx="1980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062800" y="22096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992240" y="2209680"/>
                  <a:ext cx="1944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973880" y="22096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6720" bIns="-36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856160" y="2197080"/>
                  <a:ext cx="12240" cy="1764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0600" bIns="-30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858680" y="219852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480" rIns="96480" tIns="-37080" bIns="-37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2113560" y="2052720"/>
                <a:ext cx="0" cy="10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 flipH="1">
              <a:off x="1295280" y="2160720"/>
              <a:ext cx="58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48240" bIns="-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452600" y="2187720"/>
              <a:ext cx="390600" cy="22680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88960" y="1996920"/>
              <a:ext cx="384120" cy="15264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27120" y="1685880"/>
              <a:ext cx="345960" cy="46368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1190520" y="1452600"/>
              <a:ext cx="432000" cy="345600"/>
              <a:chOff x="1190520" y="1452600"/>
              <a:chExt cx="432000" cy="345600"/>
            </a:xfrm>
          </p:grpSpPr>
          <p:pic>
            <p:nvPicPr>
              <p:cNvPr id="44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0520" y="1514160"/>
                <a:ext cx="432000" cy="28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1280880" y="1452600"/>
                <a:ext cx="296640" cy="14004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50" name="" descr=""/>
            <p:cNvPicPr/>
            <p:nvPr/>
          </p:nvPicPr>
          <p:blipFill>
            <a:blip r:embed="rId18"/>
            <a:stretch/>
          </p:blipFill>
          <p:spPr>
            <a:xfrm>
              <a:off x="1249200" y="1868400"/>
              <a:ext cx="25740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609480" y="2057400"/>
              <a:ext cx="773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92400" y="1193760"/>
              <a:ext cx="306360" cy="46188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89200" y="2311560"/>
              <a:ext cx="824040" cy="2584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4384800" y="1203480"/>
            <a:ext cx="414360" cy="1064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384800" y="1203480"/>
                      <a:ext cx="414360" cy="10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6" name=""/>
            <p:cNvGraphicFramePr/>
            <p:nvPr/>
          </p:nvGraphicFramePr>
          <p:xfrm>
            <a:off x="2936880" y="2192400"/>
            <a:ext cx="1076400" cy="12016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36880" y="2192400"/>
                      <a:ext cx="1076400" cy="12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8" name=""/>
            <p:cNvGraphicFramePr/>
            <p:nvPr/>
          </p:nvGraphicFramePr>
          <p:xfrm>
            <a:off x="1184400" y="2801880"/>
            <a:ext cx="414360" cy="10684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84400" y="2801880"/>
                      <a:ext cx="414360" cy="106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955800" y="2268360"/>
            <a:ext cx="527040" cy="6098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55800" y="2268360"/>
                      <a:ext cx="52704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2" name=""/>
            <p:cNvGraphicFramePr/>
            <p:nvPr/>
          </p:nvGraphicFramePr>
          <p:xfrm>
            <a:off x="2327400" y="2727360"/>
            <a:ext cx="457200" cy="3319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327400" y="2727360"/>
                      <a:ext cx="45720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2479680" y="1506600"/>
            <a:ext cx="558720" cy="609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479680" y="1506600"/>
                      <a:ext cx="5587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6" name=""/>
          <p:cNvGraphicFramePr/>
          <p:nvPr/>
        </p:nvGraphicFramePr>
        <p:xfrm>
          <a:off x="1488960" y="441360"/>
          <a:ext cx="952560" cy="13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488960" y="441360"/>
                    <a:ext cx="95256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AA1-6E02-4641-A327-FE037E2385A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1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Data Access Points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733920" cy="23860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772080" cy="2286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2209680" y="3276720"/>
            <a:ext cx="4275360" cy="1303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1676520" y="4724280"/>
            <a:ext cx="5715000" cy="18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65F-B061-4925-9510-73C7499DBB9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1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Cable Replacement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15318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3772080" cy="21495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4419720" y="2362320"/>
            <a:ext cx="4400280" cy="1600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4914720" cy="13035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6248520" y="4114800"/>
            <a:ext cx="2549520" cy="21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0AD-40F6-41D0-9FC9-BB09BAC4B02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1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Ad-Hoc Networking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90384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C29-684B-4AE8-B1E0-F2E47ACB40B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1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07560" y="-360"/>
            <a:ext cx="7471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Impact"/>
              </a:rPr>
              <a:t>What Does Bluetooth Do?</a:t>
            </a:r>
            <a:endParaRPr b="1" lang="en-US" sz="40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482" name="4" descr=""/>
          <p:cNvPicPr/>
          <p:nvPr/>
        </p:nvPicPr>
        <p:blipFill>
          <a:blip r:embed="rId1"/>
          <a:stretch/>
        </p:blipFill>
        <p:spPr>
          <a:xfrm>
            <a:off x="6076800" y="609480"/>
            <a:ext cx="2135160" cy="1600200"/>
          </a:xfrm>
          <a:prstGeom prst="rect">
            <a:avLst/>
          </a:prstGeom>
          <a:ln w="38160">
            <a:solidFill>
              <a:srgbClr val="cc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aphicFrame>
        <p:nvGraphicFramePr>
          <p:cNvPr id="483" name=""/>
          <p:cNvGraphicFramePr/>
          <p:nvPr/>
        </p:nvGraphicFramePr>
        <p:xfrm>
          <a:off x="380880" y="2286000"/>
          <a:ext cx="8496360" cy="3809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0"/>
                    <a:ext cx="849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77640" y="6171840"/>
            <a:ext cx="8415000" cy="5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ble Repla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3124080" y="1600200"/>
          <a:ext cx="1362240" cy="58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1600200"/>
                    <a:ext cx="13622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2057400" y="609480"/>
          <a:ext cx="1219320" cy="55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609480"/>
                    <a:ext cx="12193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3200400" y="1143000"/>
            <a:ext cx="539640" cy="328680"/>
          </a:xfrm>
          <a:prstGeom prst="lightningBolt">
            <a:avLst/>
          </a:prstGeom>
          <a:solidFill>
            <a:srgbClr val="ccff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F51-6208-4FCD-B21D-A32533BCE0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1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</a:rPr>
              <a:t>Mobile Computer Market</a:t>
            </a:r>
            <a:endParaRPr b="1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Computer Total Available Market (T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M ’98, 18M ’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l to provide Bluetooth solutions in the P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s and bin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modules for notebook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tooth pene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BM&amp;Toshiba 1H’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1d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of NB OEMs 2H’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2FC-5C2B-4497-B44C-F9039017C0F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1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2T04:09:41Z</dcterms:created>
  <dc:creator>James Kardach</dc:creator>
  <dc:description/>
  <dc:language>en-US</dc:language>
  <cp:lastModifiedBy>Ian C. Gifford</cp:lastModifiedBy>
  <cp:lastPrinted>1998-10-19T15:52:02Z</cp:lastPrinted>
  <dcterms:modified xsi:type="dcterms:W3CDTF">2000-06-08T17:13:40Z</dcterms:modified>
  <cp:revision>25</cp:revision>
  <dc:subject/>
  <dc:title>Bluetooth Overview</dc:title>
</cp:coreProperties>
</file>