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7.wmf" ContentType="image/x-wmf"/>
  <Override PartName="/ppt/media/image26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31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8.png" ContentType="image/png"/>
  <Override PartName="/ppt/media/image13.png" ContentType="image/png"/>
  <Override PartName="/ppt/media/image9.wmf" ContentType="image/x-wmf"/>
  <Override PartName="/ppt/media/image4.png" ContentType="image/png"/>
  <Override PartName="/ppt/media/image3.png" ContentType="image/png"/>
  <Override PartName="/ppt/media/image1.jpeg" ContentType="image/jpeg"/>
  <Override PartName="/ppt/media/image14.wmf" ContentType="image/x-wmf"/>
  <Override PartName="/ppt/media/image15.png" ContentType="image/png"/>
  <Override PartName="/ppt/media/image16.png" ContentType="image/png"/>
  <Override PartName="/ppt/media/image17.wmf" ContentType="image/x-wmf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8.jpeg" ContentType="image/jpeg"/>
  <Override PartName="/ppt/media/image23.wmf" ContentType="image/x-wmf"/>
  <Override PartName="/ppt/media/image24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2.docx" ContentType="application/vnd.openxmlformats-officedocument.wordprocessingml.documen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4E4EFF3-C2D2-4457-BB20-137879554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9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1B5BD8-D700-4B35-A4E9-4E5E2B9B9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0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1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2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3" name="PlaceHolder 1"/>
          <p:cNvSpPr>
            <a:spLocks noGrp="1"/>
          </p:cNvSpPr>
          <p:nvPr>
            <p:ph type="sldImg"/>
          </p:nvPr>
        </p:nvSpPr>
        <p:spPr>
          <a:xfrm>
            <a:off x="1293840" y="777960"/>
            <a:ext cx="4340160" cy="3254400"/>
          </a:xfrm>
          <a:prstGeom prst="rect">
            <a:avLst/>
          </a:prstGeom>
          <a:ln w="0">
            <a:noFill/>
          </a:ln>
        </p:spPr>
      </p:sp>
      <p:sp>
        <p:nvSpPr>
          <p:cNvPr id="6854" name="PlaceHolder 2"/>
          <p:cNvSpPr>
            <a:spLocks noGrp="1"/>
          </p:cNvSpPr>
          <p:nvPr>
            <p:ph type="body"/>
          </p:nvPr>
        </p:nvSpPr>
        <p:spPr>
          <a:xfrm>
            <a:off x="922320" y="4412880"/>
            <a:ext cx="50896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5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BF0A71-6A68-402B-946E-B035E288C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6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7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8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9" name="PlaceHolder 1"/>
          <p:cNvSpPr>
            <a:spLocks noGrp="1"/>
          </p:cNvSpPr>
          <p:nvPr>
            <p:ph type="sldImg"/>
          </p:nvPr>
        </p:nvSpPr>
        <p:spPr>
          <a:xfrm>
            <a:off x="1295280" y="777960"/>
            <a:ext cx="4340520" cy="3254400"/>
          </a:xfrm>
          <a:prstGeom prst="rect">
            <a:avLst/>
          </a:prstGeom>
          <a:ln w="0">
            <a:noFill/>
          </a:ln>
        </p:spPr>
      </p:sp>
      <p:sp>
        <p:nvSpPr>
          <p:cNvPr id="6860" name="PlaceHolder 2"/>
          <p:cNvSpPr>
            <a:spLocks noGrp="1"/>
          </p:cNvSpPr>
          <p:nvPr>
            <p:ph type="body"/>
          </p:nvPr>
        </p:nvSpPr>
        <p:spPr>
          <a:xfrm>
            <a:off x="922320" y="4412880"/>
            <a:ext cx="50896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9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2FD594-CF78-43E6-A12E-1A1C763C3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0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1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2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3" name="PlaceHolder 1"/>
          <p:cNvSpPr>
            <a:spLocks noGrp="1"/>
          </p:cNvSpPr>
          <p:nvPr>
            <p:ph type="sldImg"/>
          </p:nvPr>
        </p:nvSpPr>
        <p:spPr>
          <a:xfrm>
            <a:off x="1292400" y="781200"/>
            <a:ext cx="4354200" cy="3265200"/>
          </a:xfrm>
          <a:prstGeom prst="rect">
            <a:avLst/>
          </a:prstGeom>
          <a:ln w="0">
            <a:noFill/>
          </a:ln>
        </p:spPr>
      </p:sp>
      <p:sp>
        <p:nvSpPr>
          <p:cNvPr id="6824" name="PlaceHolder 2"/>
          <p:cNvSpPr>
            <a:spLocks noGrp="1"/>
          </p:cNvSpPr>
          <p:nvPr>
            <p:ph type="body"/>
          </p:nvPr>
        </p:nvSpPr>
        <p:spPr>
          <a:xfrm>
            <a:off x="922320" y="4412880"/>
            <a:ext cx="50896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1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82E51BA-0736-4DAD-B828-CBF6F0410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2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3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4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5" name="PlaceHolder 1"/>
          <p:cNvSpPr>
            <a:spLocks noGrp="1"/>
          </p:cNvSpPr>
          <p:nvPr>
            <p:ph type="sldImg"/>
          </p:nvPr>
        </p:nvSpPr>
        <p:spPr>
          <a:xfrm>
            <a:off x="1295280" y="781200"/>
            <a:ext cx="4354560" cy="3265200"/>
          </a:xfrm>
          <a:prstGeom prst="rect">
            <a:avLst/>
          </a:prstGeom>
          <a:ln w="0">
            <a:noFill/>
          </a:ln>
        </p:spPr>
      </p:sp>
      <p:sp>
        <p:nvSpPr>
          <p:cNvPr id="6866" name="PlaceHolder 2"/>
          <p:cNvSpPr>
            <a:spLocks noGrp="1"/>
          </p:cNvSpPr>
          <p:nvPr>
            <p:ph type="body"/>
          </p:nvPr>
        </p:nvSpPr>
        <p:spPr>
          <a:xfrm>
            <a:off x="922320" y="4412880"/>
            <a:ext cx="50896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7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6808712-E6B9-41BB-8733-2410AABF6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8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9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0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1" name="PlaceHolder 1"/>
          <p:cNvSpPr>
            <a:spLocks noGrp="1"/>
          </p:cNvSpPr>
          <p:nvPr>
            <p:ph type="sldImg"/>
          </p:nvPr>
        </p:nvSpPr>
        <p:spPr>
          <a:xfrm>
            <a:off x="1295280" y="781200"/>
            <a:ext cx="4354560" cy="3265200"/>
          </a:xfrm>
          <a:prstGeom prst="rect">
            <a:avLst/>
          </a:prstGeom>
          <a:ln w="0">
            <a:noFill/>
          </a:ln>
        </p:spPr>
      </p:sp>
      <p:sp>
        <p:nvSpPr>
          <p:cNvPr id="6872" name="PlaceHolder 2"/>
          <p:cNvSpPr>
            <a:spLocks noGrp="1"/>
          </p:cNvSpPr>
          <p:nvPr>
            <p:ph type="body"/>
          </p:nvPr>
        </p:nvSpPr>
        <p:spPr>
          <a:xfrm>
            <a:off x="922320" y="4412880"/>
            <a:ext cx="50896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3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BAFD68D-612D-40DD-8548-BE2FAA522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4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5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6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7" name="PlaceHolder 1"/>
          <p:cNvSpPr>
            <a:spLocks noGrp="1"/>
          </p:cNvSpPr>
          <p:nvPr>
            <p:ph type="sldImg"/>
          </p:nvPr>
        </p:nvSpPr>
        <p:spPr>
          <a:xfrm>
            <a:off x="1163520" y="70812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6878" name="PlaceHolder 2"/>
          <p:cNvSpPr>
            <a:spLocks noGrp="1"/>
          </p:cNvSpPr>
          <p:nvPr>
            <p:ph type="body"/>
          </p:nvPr>
        </p:nvSpPr>
        <p:spPr>
          <a:xfrm>
            <a:off x="918720" y="4409640"/>
            <a:ext cx="50929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9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76ADEC6-3267-4912-802B-9496110FE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0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1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2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3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B57A241-7CFE-43E7-AB3E-5513639CA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4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5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6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7" name="PlaceHolder 1"/>
          <p:cNvSpPr>
            <a:spLocks noGrp="1"/>
          </p:cNvSpPr>
          <p:nvPr>
            <p:ph type="sldImg"/>
          </p:nvPr>
        </p:nvSpPr>
        <p:spPr>
          <a:xfrm>
            <a:off x="1295280" y="781200"/>
            <a:ext cx="4354560" cy="3265200"/>
          </a:xfrm>
          <a:prstGeom prst="rect">
            <a:avLst/>
          </a:prstGeom>
          <a:ln w="0">
            <a:noFill/>
          </a:ln>
        </p:spPr>
      </p:sp>
      <p:sp>
        <p:nvSpPr>
          <p:cNvPr id="6888" name="PlaceHolder 2"/>
          <p:cNvSpPr>
            <a:spLocks noGrp="1"/>
          </p:cNvSpPr>
          <p:nvPr>
            <p:ph type="body"/>
          </p:nvPr>
        </p:nvSpPr>
        <p:spPr>
          <a:xfrm>
            <a:off x="922320" y="4413240"/>
            <a:ext cx="50896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9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609E5D9-4D4C-459B-AC84-3128E0326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0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1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2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3" name="PlaceHolder 1"/>
          <p:cNvSpPr>
            <a:spLocks noGrp="1"/>
          </p:cNvSpPr>
          <p:nvPr>
            <p:ph type="sldImg"/>
          </p:nvPr>
        </p:nvSpPr>
        <p:spPr>
          <a:xfrm>
            <a:off x="1295280" y="781200"/>
            <a:ext cx="4354560" cy="3265200"/>
          </a:xfrm>
          <a:prstGeom prst="rect">
            <a:avLst/>
          </a:prstGeom>
          <a:ln w="0">
            <a:noFill/>
          </a:ln>
        </p:spPr>
      </p:sp>
      <p:sp>
        <p:nvSpPr>
          <p:cNvPr id="6894" name="PlaceHolder 2"/>
          <p:cNvSpPr>
            <a:spLocks noGrp="1"/>
          </p:cNvSpPr>
          <p:nvPr>
            <p:ph type="body"/>
          </p:nvPr>
        </p:nvSpPr>
        <p:spPr>
          <a:xfrm>
            <a:off x="922320" y="4413240"/>
            <a:ext cx="50896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5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A8684FF-38C8-456E-888B-CC82354F4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6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7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8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9" name="PlaceHolder 1"/>
          <p:cNvSpPr>
            <a:spLocks noGrp="1"/>
          </p:cNvSpPr>
          <p:nvPr>
            <p:ph type="sldImg"/>
          </p:nvPr>
        </p:nvSpPr>
        <p:spPr>
          <a:xfrm>
            <a:off x="1293840" y="781200"/>
            <a:ext cx="4354560" cy="3265200"/>
          </a:xfrm>
          <a:prstGeom prst="rect">
            <a:avLst/>
          </a:prstGeom>
          <a:ln w="0">
            <a:noFill/>
          </a:ln>
        </p:spPr>
      </p:sp>
      <p:sp>
        <p:nvSpPr>
          <p:cNvPr id="6830" name="PlaceHolder 2"/>
          <p:cNvSpPr>
            <a:spLocks noGrp="1"/>
          </p:cNvSpPr>
          <p:nvPr>
            <p:ph type="body"/>
          </p:nvPr>
        </p:nvSpPr>
        <p:spPr>
          <a:xfrm>
            <a:off x="922320" y="4412880"/>
            <a:ext cx="50896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1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3D490CF-60A2-4B9C-92FE-C04E2E1CD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2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3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4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5" name="PlaceHolder 1"/>
          <p:cNvSpPr>
            <a:spLocks noGrp="1"/>
          </p:cNvSpPr>
          <p:nvPr>
            <p:ph type="sldImg"/>
          </p:nvPr>
        </p:nvSpPr>
        <p:spPr>
          <a:xfrm>
            <a:off x="1293840" y="781200"/>
            <a:ext cx="4354560" cy="3265200"/>
          </a:xfrm>
          <a:prstGeom prst="rect">
            <a:avLst/>
          </a:prstGeom>
          <a:ln w="0">
            <a:noFill/>
          </a:ln>
        </p:spPr>
      </p:sp>
      <p:sp>
        <p:nvSpPr>
          <p:cNvPr id="6836" name="PlaceHolder 2"/>
          <p:cNvSpPr>
            <a:spLocks noGrp="1"/>
          </p:cNvSpPr>
          <p:nvPr>
            <p:ph type="body"/>
          </p:nvPr>
        </p:nvSpPr>
        <p:spPr>
          <a:xfrm>
            <a:off x="922320" y="4412880"/>
            <a:ext cx="50896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7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BC49FD5-9639-468A-B598-B06A4BC15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8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9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0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1" name="PlaceHolder 1"/>
          <p:cNvSpPr>
            <a:spLocks noGrp="1"/>
          </p:cNvSpPr>
          <p:nvPr>
            <p:ph type="sldImg"/>
          </p:nvPr>
        </p:nvSpPr>
        <p:spPr>
          <a:xfrm>
            <a:off x="1519200" y="730080"/>
            <a:ext cx="4081680" cy="3060720"/>
          </a:xfrm>
          <a:prstGeom prst="rect">
            <a:avLst/>
          </a:prstGeom>
          <a:ln w="0">
            <a:noFill/>
          </a:ln>
        </p:spPr>
      </p:sp>
      <p:sp>
        <p:nvSpPr>
          <p:cNvPr id="684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3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A1FDD4-4D9B-45A3-95BE-96E40E6A6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4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5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6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7" name="PlaceHolder 1"/>
          <p:cNvSpPr>
            <a:spLocks noGrp="1"/>
          </p:cNvSpPr>
          <p:nvPr>
            <p:ph type="sldImg"/>
          </p:nvPr>
        </p:nvSpPr>
        <p:spPr>
          <a:xfrm>
            <a:off x="1295280" y="781200"/>
            <a:ext cx="4354560" cy="3265200"/>
          </a:xfrm>
          <a:prstGeom prst="rect">
            <a:avLst/>
          </a:prstGeom>
          <a:ln w="0">
            <a:noFill/>
          </a:ln>
        </p:spPr>
      </p:sp>
      <p:sp>
        <p:nvSpPr>
          <p:cNvPr id="6848" name="PlaceHolder 2"/>
          <p:cNvSpPr>
            <a:spLocks noGrp="1"/>
          </p:cNvSpPr>
          <p:nvPr>
            <p:ph type="body"/>
          </p:nvPr>
        </p:nvSpPr>
        <p:spPr>
          <a:xfrm>
            <a:off x="922320" y="4412880"/>
            <a:ext cx="50896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70EF-56CA-4E15-AE46-77813939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557-1AA3-48BF-AEB9-CE8525C2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EDB5-8B8E-4EE0-B55D-301074DF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04D-DB17-41E2-A7C3-C3CEB956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F3E-FFDD-406D-8ED5-7899EE54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966-F8FF-4F6B-B895-3ADCAFBE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D66-6B13-433E-98B7-E9434320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33E-DF48-41E3-A108-02BC15B9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178-A337-4178-A9D2-B017861D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B7F-9A63-49A0-A65C-351B765E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29DB-8E64-48D2-BD05-55BF36E5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25A-9353-495A-955A-8F247718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EE5FD13-93F1-4B96-BA57-C0554D0F4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23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7.wmf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wmf"/><Relationship Id="rId8" Type="http://schemas.openxmlformats.org/officeDocument/2006/relationships/image" Target="../media/image5.wmf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55F-D60D-451F-B7BD-A905BCF877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3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3" name=""/>
          <p:cNvGraphicFramePr/>
          <p:nvPr/>
        </p:nvGraphicFramePr>
        <p:xfrm>
          <a:off x="914400" y="2514600"/>
          <a:ext cx="7467480" cy="38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14600"/>
                    <a:ext cx="746748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5" name=""/>
          <p:cNvSpPr/>
          <p:nvPr/>
        </p:nvSpPr>
        <p:spPr>
          <a:xfrm>
            <a:off x="457200" y="14479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ation scope: air interface, service interfaces of the radio access system and the convergence laye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807B-EEA1-4EB9-A281-F959336AA20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6" name="platta1" descr=""/>
          <p:cNvPicPr/>
          <p:nvPr/>
        </p:nvPicPr>
        <p:blipFill>
          <a:blip r:embed="rId1"/>
          <a:stretch/>
        </p:blipFill>
        <p:spPr>
          <a:xfrm>
            <a:off x="4724280" y="990720"/>
            <a:ext cx="4038840" cy="1904760"/>
          </a:xfrm>
          <a:prstGeom prst="rect">
            <a:avLst/>
          </a:prstGeom>
          <a:ln w="0">
            <a:noFill/>
          </a:ln>
        </p:spPr>
      </p:pic>
      <p:sp>
        <p:nvSpPr>
          <p:cNvPr id="5207" name=""/>
          <p:cNvSpPr/>
          <p:nvPr/>
        </p:nvSpPr>
        <p:spPr>
          <a:xfrm>
            <a:off x="4876920" y="1066680"/>
            <a:ext cx="4038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gmentation and re-assembly to / from 48 bytes packe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mapping from IEEE 802.1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mapping from IEEE 8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ast &amp; broadcast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amount of QoS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8" name=""/>
          <p:cNvSpPr/>
          <p:nvPr/>
        </p:nvSpPr>
        <p:spPr>
          <a:xfrm flipH="1">
            <a:off x="5715000" y="2895480"/>
            <a:ext cx="990720" cy="3049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3886200" cy="5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gence L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267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convergence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ingle convergence layer active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between higher layer connections/priorities and DLC connections/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1" name=""/>
          <p:cNvGrpSpPr/>
          <p:nvPr/>
        </p:nvGrpSpPr>
        <p:grpSpPr>
          <a:xfrm>
            <a:off x="2133720" y="3276720"/>
            <a:ext cx="5409360" cy="838080"/>
            <a:chOff x="2133720" y="3276720"/>
            <a:chExt cx="5409360" cy="838080"/>
          </a:xfrm>
        </p:grpSpPr>
        <p:grpSp>
          <p:nvGrpSpPr>
            <p:cNvPr id="5212" name=""/>
            <p:cNvGrpSpPr/>
            <p:nvPr/>
          </p:nvGrpSpPr>
          <p:grpSpPr>
            <a:xfrm>
              <a:off x="2133720" y="3276720"/>
              <a:ext cx="1224720" cy="838080"/>
              <a:chOff x="2133720" y="3276720"/>
              <a:chExt cx="1224720" cy="838080"/>
            </a:xfrm>
          </p:grpSpPr>
          <p:sp>
            <p:nvSpPr>
              <p:cNvPr id="5213" name=""/>
              <p:cNvSpPr/>
              <p:nvPr/>
            </p:nvSpPr>
            <p:spPr>
              <a:xfrm>
                <a:off x="2133720" y="3800520"/>
                <a:ext cx="1224720" cy="3142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Cell bas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2133720" y="3276720"/>
                <a:ext cx="667800" cy="2617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2133720" y="3538440"/>
                <a:ext cx="667800" cy="2617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C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6" name=""/>
            <p:cNvGrpSpPr/>
            <p:nvPr/>
          </p:nvGrpSpPr>
          <p:grpSpPr>
            <a:xfrm>
              <a:off x="3358440" y="3276720"/>
              <a:ext cx="4184640" cy="838080"/>
              <a:chOff x="3358440" y="3276720"/>
              <a:chExt cx="4184640" cy="838080"/>
            </a:xfrm>
          </p:grpSpPr>
          <p:sp>
            <p:nvSpPr>
              <p:cNvPr id="5217" name=""/>
              <p:cNvSpPr/>
              <p:nvPr/>
            </p:nvSpPr>
            <p:spPr>
              <a:xfrm>
                <a:off x="3358440" y="3800520"/>
                <a:ext cx="2672280" cy="31428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acket bas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4026240" y="3276720"/>
                <a:ext cx="667800" cy="2617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P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4694400" y="3276720"/>
                <a:ext cx="667800" cy="2617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Firewi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5362560" y="3276720"/>
                <a:ext cx="667800" cy="2617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0000"/>
                    </a:solidFill>
                    <a:latin typeface="Arial"/>
                  </a:rPr>
                  <a:t>Ethern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3358440" y="3276720"/>
                <a:ext cx="667800" cy="2617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UM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3358440" y="3538440"/>
                <a:ext cx="2672280" cy="2617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3360600" y="3538440"/>
                <a:ext cx="267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Common Part (CP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6059880" y="3276720"/>
                <a:ext cx="131040" cy="261720"/>
              </a:xfrm>
              <a:custGeom>
                <a:avLst/>
                <a:gdLst>
                  <a:gd name="textAreaLeft" fmla="*/ 0 w 131040"/>
                  <a:gd name="textAreaRight" fmla="*/ 47160 w 131040"/>
                  <a:gd name="textAreaTop" fmla="*/ 6480 h 261720"/>
                  <a:gd name="textAreaBottom" fmla="*/ 255240 h 26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6307920" y="3276720"/>
                <a:ext cx="123516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Service Specif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a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26" name=""/>
          <p:cNvGrpSpPr/>
          <p:nvPr/>
        </p:nvGrpSpPr>
        <p:grpSpPr>
          <a:xfrm>
            <a:off x="380880" y="4191120"/>
            <a:ext cx="7734960" cy="2305080"/>
            <a:chOff x="380880" y="4191120"/>
            <a:chExt cx="7734960" cy="2305080"/>
          </a:xfrm>
        </p:grpSpPr>
        <p:graphicFrame>
          <p:nvGraphicFramePr>
            <p:cNvPr id="5227" name=""/>
            <p:cNvGraphicFramePr/>
            <p:nvPr/>
          </p:nvGraphicFramePr>
          <p:xfrm>
            <a:off x="380880" y="4191120"/>
            <a:ext cx="5490360" cy="2305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2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4191120"/>
                      <a:ext cx="5490360" cy="23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29" name=""/>
            <p:cNvSpPr/>
            <p:nvPr/>
          </p:nvSpPr>
          <p:spPr>
            <a:xfrm>
              <a:off x="6193080" y="4952880"/>
              <a:ext cx="1922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pping higher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s onto layers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iperLAN/2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FB0B-0D12-48EE-9C8A-C49F393B12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3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LC: Medium Access Control -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MA/TDD with a fixed frame duration of 2 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transmission possibilities: AP to MT (Downlink), MT to AP (Uplink) and MT to MT (Direct L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ized scheduling (not specifi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interface frame creation in the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allocation by the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requests from 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assignment of capacity in uplink and downlink - no fixed slot structure is mandatory, but possible for CBR typ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consider QoS and link adaptation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 of Data PDU and ARQ PDU without 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er-to-peer and multicas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A06-DBBB-4E7C-BCAD-E1682E8256A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2" name="PlaceHolder 1"/>
          <p:cNvSpPr>
            <a:spLocks noGrp="1"/>
          </p:cNvSpPr>
          <p:nvPr>
            <p:ph type="title"/>
          </p:nvPr>
        </p:nvSpPr>
        <p:spPr>
          <a:xfrm>
            <a:off x="504360" y="649440"/>
            <a:ext cx="77742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LC: Medium Access Control -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access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 and resource request transmissions from 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access in mobile stations: slotted ALOHA with exponential increase of contentio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ing random access in the AP: acknowledgements of random access in the next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or antenna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5676-6BF6-4D62-B3E0-EBDD4AE59D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4" name="PlaceHolder 1"/>
          <p:cNvSpPr>
            <a:spLocks noGrp="1"/>
          </p:cNvSpPr>
          <p:nvPr>
            <p:ph type="title"/>
          </p:nvPr>
        </p:nvSpPr>
        <p:spPr>
          <a:xfrm>
            <a:off x="380520" y="649080"/>
            <a:ext cx="7642440" cy="41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Frame Channels: Logical Channel -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and Transport channels are used to construct MAC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Chann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ric term for any distinct data path which describes a specific data transfer service offered by the MAC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 the type of information it carries and the interpretation of the value in the corresponding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important Logical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CCH (Broadcast Control CHannel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d in downlink conveying the necessary broadcast information concerning the whole radio cell e.g. scrambler seed, access point ID, network ID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FCCH (Frame Control CHannel)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sed in downlink conveying information describing the structure of the MAC frame visible at the air interface (resource grant announc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RACH (Random Access CHannel)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sed by MTs in uplink to send signalling data (resource request, association request) for DLC or RL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54B-B8F7-4BC1-81F8-255495C29AF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Frame Channels: Logical Channel -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818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important Logical Channesl: Con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RFCH (Random access Feedback CHannel)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sed in downlink to inform the MTs that have used the RACH in the previous MAC frame about the result of  their access attem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BCH (RLC Broadcast CHannel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d in downlink (when necessary) conveying broadcast CONTROL information concerning the whole radio cell, e.g. broadcast RLC message, MAC ID in the association process, encryption seed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CCH (Dedicated Control Channel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d in downlink, direct link and uplink conveying RLC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LCCH (Link Control CHannel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used bi-directional to transmit ARQ and discard messages between peer error contro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UDCH (User Data CHannel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used bi-directional to transmit us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1CA5-06A7-4BA8-8F4B-E08380B20F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Frame Channels: Transport Chann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channels are mapped onto different transport channels which describe the basic message format and are the basic elements for constructing message sequence of each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CH (Broadcast CHannel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s BCCH transmitted once per MAC frame per sector ante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CH (Frame CHannel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d in downlink for carring FCCH with variable amount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CH (Access  feedback CHannel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d in downlink for transporting RF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CH (Long Transport CHannel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d for transporting user data and contro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CH (Short CHannel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d for transporting short contro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CH (Random CHannel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d in uplink for transmitting resource request or association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42CD-38BF-4E0F-A566-696E1AF70F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0" name="PlaceHolder 1"/>
          <p:cNvSpPr>
            <a:spLocks noGrp="1"/>
          </p:cNvSpPr>
          <p:nvPr>
            <p:ph type="title"/>
          </p:nvPr>
        </p:nvSpPr>
        <p:spPr>
          <a:xfrm>
            <a:off x="457200" y="649440"/>
            <a:ext cx="77738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pping between Logical and Transport Chann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1" name=""/>
          <p:cNvGraphicFramePr/>
          <p:nvPr/>
        </p:nvGraphicFramePr>
        <p:xfrm>
          <a:off x="2430360" y="1905120"/>
          <a:ext cx="671364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360" y="1905120"/>
                    <a:ext cx="671364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3" name=""/>
          <p:cNvSpPr/>
          <p:nvPr/>
        </p:nvSpPr>
        <p:spPr>
          <a:xfrm>
            <a:off x="457200" y="251460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wn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4" name=""/>
          <p:cNvGraphicFramePr/>
          <p:nvPr/>
        </p:nvGraphicFramePr>
        <p:xfrm>
          <a:off x="1752480" y="4267080"/>
          <a:ext cx="739152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267080"/>
                    <a:ext cx="73915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6" name=""/>
          <p:cNvSpPr/>
          <p:nvPr/>
        </p:nvSpPr>
        <p:spPr>
          <a:xfrm>
            <a:off x="457200" y="4952880"/>
            <a:ext cx="1676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B79-B9B4-491E-9262-92FD0F1C9B7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7" name="PlaceHolder 1"/>
          <p:cNvSpPr>
            <a:spLocks noGrp="1"/>
          </p:cNvSpPr>
          <p:nvPr>
            <p:ph type="title"/>
          </p:nvPr>
        </p:nvSpPr>
        <p:spPr>
          <a:xfrm>
            <a:off x="510840" y="533160"/>
            <a:ext cx="6194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MAC Frame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8" name="PlaceHolder 2"/>
          <p:cNvSpPr>
            <a:spLocks noGrp="1"/>
          </p:cNvSpPr>
          <p:nvPr>
            <p:ph/>
          </p:nvPr>
        </p:nvSpPr>
        <p:spPr>
          <a:xfrm>
            <a:off x="511200" y="1143000"/>
            <a:ext cx="7772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ingle secto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9" name=""/>
          <p:cNvSpPr/>
          <p:nvPr/>
        </p:nvSpPr>
        <p:spPr>
          <a:xfrm>
            <a:off x="511200" y="4038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ultiple sector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50" name=""/>
          <p:cNvGraphicFramePr/>
          <p:nvPr/>
        </p:nvGraphicFramePr>
        <p:xfrm>
          <a:off x="1143000" y="4419720"/>
          <a:ext cx="678348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19720"/>
                    <a:ext cx="67834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2" name=""/>
          <p:cNvGraphicFramePr/>
          <p:nvPr/>
        </p:nvGraphicFramePr>
        <p:xfrm>
          <a:off x="1600200" y="1600200"/>
          <a:ext cx="5867280" cy="249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600200"/>
                    <a:ext cx="586728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5B01-8929-43D3-8B2F-58763850893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LC: Error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PlaceHolder 2"/>
          <p:cNvSpPr>
            <a:spLocks noGrp="1"/>
          </p:cNvSpPr>
          <p:nvPr>
            <p:ph/>
          </p:nvPr>
        </p:nvSpPr>
        <p:spPr>
          <a:xfrm>
            <a:off x="511200" y="1371600"/>
            <a:ext cx="86328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able Error Control: three EC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d mode for reliable transmission by using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tition mode for reliable transmission by repeating LC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cknowledged mode for transmissions with low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-ARQ with partial bit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nsmission efficiency as conventional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overhead and delay for acknowled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ments are sent not for every erroneous packet but a bitmap for several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 management of bitmap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ulative Acknowledgement and Flow Control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arding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for real tim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MAC frame (2 ms) allows re-transmission even for 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87D-BD52-480D-AF6F-1E0FF8EE5B6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15238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ystem Overview of HiperLAN Type 2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44956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0000"/>
          </a:bodyPr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mshid Khun-Ju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irman of ETSI Project BR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ricsson Eurolab Deutschland - Nürnbe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191120"/>
            <a:ext cx="5181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1337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33cc"/>
                </a:solidFill>
                <a:latin typeface="Arial"/>
              </a:rPr>
              <a:t>A Presentation t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33cc"/>
                </a:solidFill>
                <a:latin typeface="Arial"/>
              </a:rPr>
              <a:t>The Plenary of IEEE 802.15 Working Grou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GB" sz="3000" spc="-1" strike="noStrike">
                <a:solidFill>
                  <a:srgbClr val="0033cc"/>
                </a:solidFill>
                <a:latin typeface="Arial"/>
              </a:rPr>
              <a:t>July 12, 2000, San Dieg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3B0-4466-4401-BB02-4BFF5E1D2B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774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artial Bitmap Bas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518184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umbering of PDU from 0 to 1023 (Sequence Numb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ouping 8 PDUs into 1 Block, totally 127 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K of a PDU: BitMap Block (BMB) &amp; BitMap Number (BM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the ARQ C-PDU: 3 BMBs &amp; 3 BM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MN1=Block_Id1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MN2=Block_Id1 - Block_Id2, BMN3=Block_Id3 - Block_Id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8" name=""/>
          <p:cNvGraphicFramePr/>
          <p:nvPr/>
        </p:nvGraphicFramePr>
        <p:xfrm>
          <a:off x="5433840" y="1143000"/>
          <a:ext cx="371016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3840" y="1143000"/>
                    <a:ext cx="37101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0" name=""/>
          <p:cNvGraphicFramePr/>
          <p:nvPr/>
        </p:nvGraphicFramePr>
        <p:xfrm>
          <a:off x="533520" y="3657600"/>
          <a:ext cx="3876480" cy="251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657600"/>
                    <a:ext cx="3876480" cy="2514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487-3855-49BB-9E8B-5FC41B19117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162920" cy="7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ynamic Acknowled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PlaceHolder 2"/>
          <p:cNvSpPr>
            <a:spLocks noGrp="1"/>
          </p:cNvSpPr>
          <p:nvPr>
            <p:ph/>
          </p:nvPr>
        </p:nvSpPr>
        <p:spPr>
          <a:xfrm>
            <a:off x="510840" y="1219320"/>
            <a:ext cx="388620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blems with fixed 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w utilisation of channel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ttleneck of feedback 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erring re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4" name=""/>
          <p:cNvSpPr/>
          <p:nvPr/>
        </p:nvSpPr>
        <p:spPr>
          <a:xfrm>
            <a:off x="4876920" y="1219320"/>
            <a:ext cx="3979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ynamic 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# of ARQ PDUs based on receiver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BIR-bit used by receiver in 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gh utilisation of channel capacity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5" name="DynamicARQ" descr=""/>
          <p:cNvPicPr/>
          <p:nvPr/>
        </p:nvPicPr>
        <p:blipFill>
          <a:blip r:embed="rId1"/>
          <a:srcRect l="6862" t="21941" r="10293" b="22851"/>
          <a:stretch/>
        </p:blipFill>
        <p:spPr>
          <a:xfrm>
            <a:off x="990720" y="3048120"/>
            <a:ext cx="3492360" cy="3263760"/>
          </a:xfrm>
          <a:prstGeom prst="rect">
            <a:avLst/>
          </a:prstGeom>
          <a:ln w="0">
            <a:noFill/>
          </a:ln>
        </p:spPr>
      </p:pic>
      <p:pic>
        <p:nvPicPr>
          <p:cNvPr id="5266" name="DynamicARQUnused" descr=""/>
          <p:cNvPicPr/>
          <p:nvPr/>
        </p:nvPicPr>
        <p:blipFill>
          <a:blip r:embed="rId2"/>
          <a:srcRect l="6862" t="21941" r="11419" b="22851"/>
          <a:stretch/>
        </p:blipFill>
        <p:spPr>
          <a:xfrm>
            <a:off x="4952880" y="3048120"/>
            <a:ext cx="3441960" cy="32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001-D585-4E28-8DF4-220B3957BE8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7" name="PlaceHolder 1"/>
          <p:cNvSpPr>
            <a:spLocks noGrp="1"/>
          </p:cNvSpPr>
          <p:nvPr>
            <p:ph type="title"/>
          </p:nvPr>
        </p:nvSpPr>
        <p:spPr>
          <a:xfrm>
            <a:off x="151920" y="649440"/>
            <a:ext cx="77742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ink Adap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PlaceHolder 2"/>
          <p:cNvSpPr>
            <a:spLocks noGrp="1"/>
          </p:cNvSpPr>
          <p:nvPr>
            <p:ph/>
          </p:nvPr>
        </p:nvSpPr>
        <p:spPr>
          <a:xfrm>
            <a:off x="152280" y="1611360"/>
            <a:ext cx="4114800" cy="440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rate and modulation alphabet (7 modes) adaptive to current propagation and interferenc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 throughput versus C/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 quality measurements (C/I) in access point and mobile term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ms delay spread 100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ive-repeat ARQ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al link 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9" name="" descr=""/>
          <p:cNvPicPr/>
          <p:nvPr/>
        </p:nvPicPr>
        <p:blipFill>
          <a:blip r:embed="rId1"/>
          <a:srcRect l="7155" t="0" r="8697" b="0"/>
          <a:stretch/>
        </p:blipFill>
        <p:spPr>
          <a:xfrm>
            <a:off x="4267080" y="1752480"/>
            <a:ext cx="457200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4D5-FCA5-424C-ABC2-D96C5F143FF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0" name="PlaceHolder 1"/>
          <p:cNvSpPr>
            <a:spLocks noGrp="1"/>
          </p:cNvSpPr>
          <p:nvPr>
            <p:ph type="title"/>
          </p:nvPr>
        </p:nvSpPr>
        <p:spPr>
          <a:xfrm>
            <a:off x="457200" y="649080"/>
            <a:ext cx="7773840" cy="4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LC: Radio Link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1148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up / release of DL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er-to-peer (ad-ho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 key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security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PlaceHolder 3"/>
          <p:cNvSpPr>
            <a:spLocks noGrp="1"/>
          </p:cNvSpPr>
          <p:nvPr>
            <p:ph/>
          </p:nvPr>
        </p:nvSpPr>
        <p:spPr>
          <a:xfrm>
            <a:off x="4876920" y="137160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 / de-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resour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p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link and downlink power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3A5-AAEC-45BC-9642-4ACD9DE6EA1F}" type="slidenum">
              <a:t>2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PERLAN2 &amp; 802.11a PHY - Key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491760" y="1599840"/>
            <a:ext cx="7209000" cy="3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37240" indent="-237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carrier modulation b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5" name=""/>
          <p:cNvSpPr/>
          <p:nvPr/>
        </p:nvSpPr>
        <p:spPr>
          <a:xfrm>
            <a:off x="2666880" y="2973600"/>
            <a:ext cx="2210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unctured convolu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ode, based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rate-1/2 code,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onstraint length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6" name=""/>
          <p:cNvSpPr/>
          <p:nvPr/>
        </p:nvSpPr>
        <p:spPr>
          <a:xfrm>
            <a:off x="4724280" y="2989800"/>
            <a:ext cx="1752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ntra-symbol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it interlea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lock size depends on the sub-carrier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"/>
          <p:cNvSpPr/>
          <p:nvPr/>
        </p:nvSpPr>
        <p:spPr>
          <a:xfrm>
            <a:off x="492120" y="480060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spacing 2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clic prefix 800 ns  (optional 400 ns only in HIPERLAN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delay spread (at least) 25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"/>
          <p:cNvSpPr/>
          <p:nvPr/>
        </p:nvSpPr>
        <p:spPr>
          <a:xfrm>
            <a:off x="6781680" y="3131280"/>
            <a:ext cx="23623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48 (data) + 4 (pilot) sub-carr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SK/QAM (coher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9" name=""/>
          <p:cNvGrpSpPr/>
          <p:nvPr/>
        </p:nvGrpSpPr>
        <p:grpSpPr>
          <a:xfrm>
            <a:off x="380880" y="2133720"/>
            <a:ext cx="8302680" cy="718920"/>
            <a:chOff x="380880" y="2133720"/>
            <a:chExt cx="8302680" cy="718920"/>
          </a:xfrm>
        </p:grpSpPr>
        <p:sp>
          <p:nvSpPr>
            <p:cNvPr id="5280" name=""/>
            <p:cNvSpPr/>
            <p:nvPr/>
          </p:nvSpPr>
          <p:spPr>
            <a:xfrm>
              <a:off x="2682720" y="2133720"/>
              <a:ext cx="1328760" cy="718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volution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4724280" y="2133720"/>
              <a:ext cx="1328760" cy="718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leav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6783480" y="2133720"/>
              <a:ext cx="1330200" cy="718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FDM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2209680" y="2514600"/>
              <a:ext cx="49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6080040" y="2514600"/>
              <a:ext cx="70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4040280" y="2514600"/>
              <a:ext cx="70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8120160" y="2514600"/>
              <a:ext cx="56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863640" y="2133720"/>
              <a:ext cx="1328760" cy="718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cramb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380880" y="2514600"/>
              <a:ext cx="49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9" name=""/>
          <p:cNvSpPr/>
          <p:nvPr/>
        </p:nvSpPr>
        <p:spPr>
          <a:xfrm>
            <a:off x="840240" y="2973600"/>
            <a:ext cx="1489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 length-1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crambler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genera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olynomial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(x)=x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+ x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EF4-9432-40FC-93E7-E84A75F95D6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0" name=""/>
          <p:cNvSpPr/>
          <p:nvPr/>
        </p:nvSpPr>
        <p:spPr>
          <a:xfrm>
            <a:off x="511200" y="636480"/>
            <a:ext cx="83278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hysical Layer Mo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1" name=""/>
          <p:cNvGraphicFramePr/>
          <p:nvPr/>
        </p:nvGraphicFramePr>
        <p:xfrm>
          <a:off x="1143000" y="3352680"/>
          <a:ext cx="7454880" cy="327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352680"/>
                    <a:ext cx="74548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3" name=""/>
          <p:cNvSpPr/>
          <p:nvPr/>
        </p:nvSpPr>
        <p:spPr>
          <a:xfrm>
            <a:off x="511200" y="1219320"/>
            <a:ext cx="7900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difference between 802.11a and HIPERLAN/2: Preamble due to different multiple access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physical layer modes are provi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080" indent="-21924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Link 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lects the “most appropriate”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layer modes of HIPERLAN/2 &amp; IEEE 802.11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E4C7-0E0C-48AA-A523-BB8C89DB02DB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4" name="PlaceHolder 1"/>
          <p:cNvSpPr>
            <a:spLocks noGrp="1"/>
          </p:cNvSpPr>
          <p:nvPr>
            <p:ph type="title"/>
          </p:nvPr>
        </p:nvSpPr>
        <p:spPr>
          <a:xfrm>
            <a:off x="691920" y="652320"/>
            <a:ext cx="4803480" cy="65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75600" rIns="75600" tIns="37800" bIns="37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FDM Mod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5" name=""/>
          <p:cNvGrpSpPr/>
          <p:nvPr/>
        </p:nvGrpSpPr>
        <p:grpSpPr>
          <a:xfrm>
            <a:off x="533520" y="1143000"/>
            <a:ext cx="7827480" cy="2960280"/>
            <a:chOff x="533520" y="1143000"/>
            <a:chExt cx="7827480" cy="2960280"/>
          </a:xfrm>
        </p:grpSpPr>
        <p:sp>
          <p:nvSpPr>
            <p:cNvPr id="5296" name=""/>
            <p:cNvSpPr/>
            <p:nvPr/>
          </p:nvSpPr>
          <p:spPr>
            <a:xfrm flipV="1">
              <a:off x="4297320" y="371124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7" name=""/>
            <p:cNvGrpSpPr/>
            <p:nvPr/>
          </p:nvGrpSpPr>
          <p:grpSpPr>
            <a:xfrm>
              <a:off x="533520" y="1143000"/>
              <a:ext cx="7827480" cy="2952720"/>
              <a:chOff x="533520" y="1143000"/>
              <a:chExt cx="7827480" cy="2952720"/>
            </a:xfrm>
          </p:grpSpPr>
          <p:sp>
            <p:nvSpPr>
              <p:cNvPr id="5298" name=""/>
              <p:cNvSpPr/>
              <p:nvPr/>
            </p:nvSpPr>
            <p:spPr>
              <a:xfrm>
                <a:off x="663480" y="2579760"/>
                <a:ext cx="307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1847880" y="2579760"/>
                <a:ext cx="79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00" name=""/>
              <p:cNvGrpSpPr/>
              <p:nvPr/>
            </p:nvGrpSpPr>
            <p:grpSpPr>
              <a:xfrm>
                <a:off x="533520" y="1143000"/>
                <a:ext cx="7827480" cy="2952720"/>
                <a:chOff x="533520" y="1143000"/>
                <a:chExt cx="7827480" cy="2952720"/>
              </a:xfrm>
            </p:grpSpPr>
            <p:sp>
              <p:nvSpPr>
                <p:cNvPr id="5301" name=""/>
                <p:cNvSpPr/>
                <p:nvPr/>
              </p:nvSpPr>
              <p:spPr>
                <a:xfrm>
                  <a:off x="971640" y="2187360"/>
                  <a:ext cx="861480" cy="784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7800" bIns="37800" anchor="ctr">
                  <a:noAutofit/>
                </a:bodyPr>
                <a:p>
                  <a:pPr algn="ctr">
                    <a:spcBef>
                      <a:spcPts val="88"/>
                    </a:spcBef>
                    <a:tabLst>
                      <a:tab algn="l" pos="0"/>
                      <a:tab algn="l" pos="757080"/>
                      <a:tab algn="l" pos="1514520"/>
                      <a:tab algn="l" pos="2271600"/>
                      <a:tab algn="l" pos="3029040"/>
                      <a:tab algn="l" pos="3786120"/>
                      <a:tab algn="l" pos="4543560"/>
                      <a:tab algn="l" pos="5300640"/>
                      <a:tab algn="l" pos="6058080"/>
                      <a:tab algn="l" pos="6815160"/>
                      <a:tab algn="l" pos="7572240"/>
                      <a:tab algn="l" pos="8329680"/>
                      <a:tab algn="l" pos="9086760"/>
                      <a:tab algn="l" pos="9844200"/>
                      <a:tab algn="l" pos="1060128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Mapping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2" name=""/>
                <p:cNvSpPr/>
                <p:nvPr/>
              </p:nvSpPr>
              <p:spPr>
                <a:xfrm>
                  <a:off x="2635200" y="1403280"/>
                  <a:ext cx="861480" cy="2415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7800" bIns="37800" anchor="ctr">
                  <a:noAutofit/>
                </a:bodyPr>
                <a:p>
                  <a:pPr algn="ctr">
                    <a:spcBef>
                      <a:spcPts val="88"/>
                    </a:spcBef>
                    <a:tabLst>
                      <a:tab algn="l" pos="0"/>
                      <a:tab algn="l" pos="757080"/>
                      <a:tab algn="l" pos="1514520"/>
                      <a:tab algn="l" pos="2271600"/>
                      <a:tab algn="l" pos="3029040"/>
                      <a:tab algn="l" pos="3786120"/>
                      <a:tab algn="l" pos="4543560"/>
                      <a:tab algn="l" pos="5300640"/>
                      <a:tab algn="l" pos="6058080"/>
                      <a:tab algn="l" pos="6815160"/>
                      <a:tab algn="l" pos="7572240"/>
                      <a:tab algn="l" pos="8329680"/>
                      <a:tab algn="l" pos="9086760"/>
                      <a:tab algn="l" pos="9844200"/>
                      <a:tab algn="l" pos="1060128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Serial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88"/>
                    </a:spcBef>
                    <a:tabLst>
                      <a:tab algn="l" pos="0"/>
                      <a:tab algn="l" pos="757080"/>
                      <a:tab algn="l" pos="1514520"/>
                      <a:tab algn="l" pos="2271600"/>
                      <a:tab algn="l" pos="3029040"/>
                      <a:tab algn="l" pos="3786120"/>
                      <a:tab algn="l" pos="4543560"/>
                      <a:tab algn="l" pos="5300640"/>
                      <a:tab algn="l" pos="6058080"/>
                      <a:tab algn="l" pos="6815160"/>
                      <a:tab algn="l" pos="7572240"/>
                      <a:tab algn="l" pos="8329680"/>
                      <a:tab algn="l" pos="9086760"/>
                      <a:tab algn="l" pos="9844200"/>
                      <a:tab algn="l" pos="1060128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to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88"/>
                    </a:spcBef>
                    <a:tabLst>
                      <a:tab algn="l" pos="0"/>
                      <a:tab algn="l" pos="757080"/>
                      <a:tab algn="l" pos="1514520"/>
                      <a:tab algn="l" pos="2271600"/>
                      <a:tab algn="l" pos="3029040"/>
                      <a:tab algn="l" pos="3786120"/>
                      <a:tab algn="l" pos="4543560"/>
                      <a:tab algn="l" pos="5300640"/>
                      <a:tab algn="l" pos="6058080"/>
                      <a:tab algn="l" pos="6815160"/>
                      <a:tab algn="l" pos="7572240"/>
                      <a:tab algn="l" pos="8329680"/>
                      <a:tab algn="l" pos="9086760"/>
                      <a:tab algn="l" pos="9844200"/>
                      <a:tab algn="l" pos="1060128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parallel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88"/>
                    </a:spcBef>
                    <a:tabLst>
                      <a:tab algn="l" pos="0"/>
                      <a:tab algn="l" pos="757080"/>
                      <a:tab algn="l" pos="1514520"/>
                      <a:tab algn="l" pos="2271600"/>
                      <a:tab algn="l" pos="3029040"/>
                      <a:tab algn="l" pos="3786120"/>
                      <a:tab algn="l" pos="4543560"/>
                      <a:tab algn="l" pos="5300640"/>
                      <a:tab algn="l" pos="6058080"/>
                      <a:tab algn="l" pos="6815160"/>
                      <a:tab algn="l" pos="7572240"/>
                      <a:tab algn="l" pos="8329680"/>
                      <a:tab algn="l" pos="9086760"/>
                      <a:tab algn="l" pos="9844200"/>
                      <a:tab algn="l" pos="1060128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converter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3" name=""/>
                <p:cNvSpPr/>
                <p:nvPr/>
              </p:nvSpPr>
              <p:spPr>
                <a:xfrm>
                  <a:off x="6699240" y="1403280"/>
                  <a:ext cx="861480" cy="2415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7800" bIns="37800" anchor="ctr">
                  <a:noAutofit/>
                </a:bodyPr>
                <a:p>
                  <a:pPr algn="ctr">
                    <a:spcBef>
                      <a:spcPts val="88"/>
                    </a:spcBef>
                    <a:tabLst>
                      <a:tab algn="l" pos="0"/>
                      <a:tab algn="l" pos="757080"/>
                      <a:tab algn="l" pos="1514520"/>
                      <a:tab algn="l" pos="2271600"/>
                      <a:tab algn="l" pos="3029040"/>
                      <a:tab algn="l" pos="3786120"/>
                      <a:tab algn="l" pos="4543560"/>
                      <a:tab algn="l" pos="5300640"/>
                      <a:tab algn="l" pos="6058080"/>
                      <a:tab algn="l" pos="6815160"/>
                      <a:tab algn="l" pos="7572240"/>
                      <a:tab algn="l" pos="8329680"/>
                      <a:tab algn="l" pos="9086760"/>
                      <a:tab algn="l" pos="9844200"/>
                      <a:tab algn="l" pos="1060128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Multiplex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4" name=""/>
                <p:cNvSpPr/>
                <p:nvPr/>
              </p:nvSpPr>
              <p:spPr>
                <a:xfrm>
                  <a:off x="7561080" y="2579400"/>
                  <a:ext cx="799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5" name=""/>
                <p:cNvSpPr/>
                <p:nvPr/>
              </p:nvSpPr>
              <p:spPr>
                <a:xfrm>
                  <a:off x="3497040" y="1600200"/>
                  <a:ext cx="73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6" name=""/>
                <p:cNvSpPr/>
                <p:nvPr/>
              </p:nvSpPr>
              <p:spPr>
                <a:xfrm>
                  <a:off x="4235400" y="1533240"/>
                  <a:ext cx="123480" cy="131760"/>
                </a:xfrm>
                <a:prstGeom prst="flowChartSummingJunction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7" name=""/>
                <p:cNvSpPr/>
                <p:nvPr/>
              </p:nvSpPr>
              <p:spPr>
                <a:xfrm>
                  <a:off x="4419360" y="1600200"/>
                  <a:ext cx="2279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8" name=""/>
                <p:cNvSpPr/>
                <p:nvPr/>
              </p:nvSpPr>
              <p:spPr>
                <a:xfrm>
                  <a:off x="4297320" y="1143000"/>
                  <a:ext cx="0" cy="39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9" name=""/>
                <p:cNvSpPr/>
                <p:nvPr/>
              </p:nvSpPr>
              <p:spPr>
                <a:xfrm>
                  <a:off x="4375440" y="1147680"/>
                  <a:ext cx="62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7800" bIns="37800" anchor="ctr">
                  <a:spAutoFit/>
                </a:bodyPr>
                <a:p>
                  <a:pPr algn="ctr">
                    <a:tabLst>
                      <a:tab algn="l" pos="0"/>
                      <a:tab algn="l" pos="757080"/>
                      <a:tab algn="l" pos="1514520"/>
                      <a:tab algn="l" pos="2271600"/>
                      <a:tab algn="l" pos="3029040"/>
                      <a:tab algn="l" pos="3786120"/>
                      <a:tab algn="l" pos="4543560"/>
                      <a:tab algn="l" pos="5300640"/>
                      <a:tab algn="l" pos="6058080"/>
                      <a:tab algn="l" pos="6815160"/>
                      <a:tab algn="l" pos="7572240"/>
                      <a:tab algn="l" pos="8329680"/>
                      <a:tab algn="l" pos="9086760"/>
                      <a:tab algn="l" pos="9844200"/>
                      <a:tab algn="l" pos="1060128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j2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fo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0" name=""/>
                <p:cNvSpPr/>
                <p:nvPr/>
              </p:nvSpPr>
              <p:spPr>
                <a:xfrm>
                  <a:off x="3497040" y="1860480"/>
                  <a:ext cx="1230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1" name=""/>
                <p:cNvSpPr/>
                <p:nvPr/>
              </p:nvSpPr>
              <p:spPr>
                <a:xfrm>
                  <a:off x="4727520" y="1795320"/>
                  <a:ext cx="123480" cy="130320"/>
                </a:xfrm>
                <a:prstGeom prst="flowChartSummingJunction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2" name=""/>
                <p:cNvSpPr/>
                <p:nvPr/>
              </p:nvSpPr>
              <p:spPr>
                <a:xfrm>
                  <a:off x="4913280" y="1860480"/>
                  <a:ext cx="1785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3" name=""/>
                <p:cNvSpPr/>
                <p:nvPr/>
              </p:nvSpPr>
              <p:spPr>
                <a:xfrm flipV="1">
                  <a:off x="4789440" y="1925280"/>
                  <a:ext cx="0" cy="39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4" name=""/>
                <p:cNvSpPr/>
                <p:nvPr/>
              </p:nvSpPr>
              <p:spPr>
                <a:xfrm>
                  <a:off x="4877640" y="1995480"/>
                  <a:ext cx="6055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7800" bIns="37800" anchor="ctr">
                  <a:spAutoFit/>
                </a:bodyPr>
                <a:p>
                  <a:pPr algn="ctr">
                    <a:tabLst>
                      <a:tab algn="l" pos="0"/>
                      <a:tab algn="l" pos="757080"/>
                      <a:tab algn="l" pos="1514520"/>
                      <a:tab algn="l" pos="2271600"/>
                      <a:tab algn="l" pos="3029040"/>
                      <a:tab algn="l" pos="3786120"/>
                      <a:tab algn="l" pos="4543560"/>
                      <a:tab algn="l" pos="5300640"/>
                      <a:tab algn="l" pos="6058080"/>
                      <a:tab algn="l" pos="6815160"/>
                      <a:tab algn="l" pos="7572240"/>
                      <a:tab algn="l" pos="8329680"/>
                      <a:tab algn="l" pos="9086760"/>
                      <a:tab algn="l" pos="9844200"/>
                      <a:tab algn="l" pos="1060128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j2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lang="en-US" sz="15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5" name=""/>
                <p:cNvSpPr/>
                <p:nvPr/>
              </p:nvSpPr>
              <p:spPr>
                <a:xfrm>
                  <a:off x="4359240" y="2057400"/>
                  <a:ext cx="0" cy="1044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6" name=""/>
                <p:cNvSpPr/>
                <p:nvPr/>
              </p:nvSpPr>
              <p:spPr>
                <a:xfrm>
                  <a:off x="3497040" y="3624120"/>
                  <a:ext cx="73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7" name=""/>
                <p:cNvSpPr/>
                <p:nvPr/>
              </p:nvSpPr>
              <p:spPr>
                <a:xfrm flipV="1">
                  <a:off x="4235400" y="3558960"/>
                  <a:ext cx="123480" cy="130320"/>
                </a:xfrm>
                <a:prstGeom prst="flowChartSummingJunction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8" name=""/>
                <p:cNvSpPr/>
                <p:nvPr/>
              </p:nvSpPr>
              <p:spPr>
                <a:xfrm>
                  <a:off x="4419360" y="3624120"/>
                  <a:ext cx="2279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9" name=""/>
                <p:cNvSpPr/>
                <p:nvPr/>
              </p:nvSpPr>
              <p:spPr>
                <a:xfrm flipH="1">
                  <a:off x="4327920" y="3693960"/>
                  <a:ext cx="72144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7800" bIns="37800" anchor="ctr">
                  <a:spAutoFit/>
                </a:bodyPr>
                <a:p>
                  <a:pPr algn="ctr">
                    <a:tabLst>
                      <a:tab algn="l" pos="0"/>
                      <a:tab algn="l" pos="757080"/>
                      <a:tab algn="l" pos="1514520"/>
                      <a:tab algn="l" pos="2271600"/>
                      <a:tab algn="l" pos="3029040"/>
                      <a:tab algn="l" pos="3786120"/>
                      <a:tab algn="l" pos="4543560"/>
                      <a:tab algn="l" pos="5300640"/>
                      <a:tab algn="l" pos="6058080"/>
                      <a:tab algn="l" pos="6815160"/>
                      <a:tab algn="l" pos="7572240"/>
                      <a:tab algn="l" pos="8329680"/>
                      <a:tab algn="l" pos="9086760"/>
                      <a:tab algn="l" pos="9844200"/>
                      <a:tab algn="l" pos="1060128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j2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lang="en-US" sz="15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-1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0" name=""/>
                <p:cNvSpPr/>
                <p:nvPr/>
              </p:nvSpPr>
              <p:spPr>
                <a:xfrm>
                  <a:off x="3497040" y="3362040"/>
                  <a:ext cx="1230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1" name=""/>
                <p:cNvSpPr/>
                <p:nvPr/>
              </p:nvSpPr>
              <p:spPr>
                <a:xfrm flipV="1">
                  <a:off x="4727520" y="3297240"/>
                  <a:ext cx="123480" cy="131760"/>
                </a:xfrm>
                <a:prstGeom prst="flowChartSummingJunction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2" name=""/>
                <p:cNvSpPr/>
                <p:nvPr/>
              </p:nvSpPr>
              <p:spPr>
                <a:xfrm>
                  <a:off x="4913280" y="3362040"/>
                  <a:ext cx="1785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3" name=""/>
                <p:cNvSpPr/>
                <p:nvPr/>
              </p:nvSpPr>
              <p:spPr>
                <a:xfrm>
                  <a:off x="4789440" y="2904840"/>
                  <a:ext cx="0" cy="392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4" name=""/>
                <p:cNvSpPr/>
                <p:nvPr/>
              </p:nvSpPr>
              <p:spPr>
                <a:xfrm>
                  <a:off x="4820400" y="2844720"/>
                  <a:ext cx="72144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7800" bIns="37800" anchor="ctr">
                  <a:spAutoFit/>
                </a:bodyPr>
                <a:p>
                  <a:pPr algn="ctr">
                    <a:tabLst>
                      <a:tab algn="l" pos="0"/>
                      <a:tab algn="l" pos="757080"/>
                      <a:tab algn="l" pos="1514520"/>
                      <a:tab algn="l" pos="2271600"/>
                      <a:tab algn="l" pos="3029040"/>
                      <a:tab algn="l" pos="3786120"/>
                      <a:tab algn="l" pos="4543560"/>
                      <a:tab algn="l" pos="5300640"/>
                      <a:tab algn="l" pos="6058080"/>
                      <a:tab algn="l" pos="6815160"/>
                      <a:tab algn="l" pos="7572240"/>
                      <a:tab algn="l" pos="8329680"/>
                      <a:tab algn="l" pos="9086760"/>
                      <a:tab algn="l" pos="9844200"/>
                      <a:tab algn="l" pos="1060128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j2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lang="en-US" sz="15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-2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5" name=""/>
                <p:cNvSpPr/>
                <p:nvPr/>
              </p:nvSpPr>
              <p:spPr>
                <a:xfrm>
                  <a:off x="7792920" y="2192040"/>
                  <a:ext cx="5205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7800" bIns="37800" anchor="ctr">
                  <a:spAutoFit/>
                </a:bodyPr>
                <a:p>
                  <a:pPr algn="ctr">
                    <a:tabLst>
                      <a:tab algn="l" pos="0"/>
                      <a:tab algn="l" pos="757080"/>
                      <a:tab algn="l" pos="1514520"/>
                      <a:tab algn="l" pos="2271600"/>
                      <a:tab algn="l" pos="3029040"/>
                      <a:tab algn="l" pos="3786120"/>
                      <a:tab algn="l" pos="4543560"/>
                      <a:tab algn="l" pos="5300640"/>
                      <a:tab algn="l" pos="6058080"/>
                      <a:tab algn="l" pos="6815160"/>
                      <a:tab algn="l" pos="7572240"/>
                      <a:tab algn="l" pos="8329680"/>
                      <a:tab algn="l" pos="9086760"/>
                      <a:tab algn="l" pos="9844200"/>
                      <a:tab algn="l" pos="1060128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(t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6" name=""/>
                <p:cNvSpPr/>
                <p:nvPr/>
              </p:nvSpPr>
              <p:spPr>
                <a:xfrm>
                  <a:off x="533520" y="2127240"/>
                  <a:ext cx="52380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7800" bIns="37800" anchor="ctr">
                  <a:spAutoFit/>
                </a:bodyPr>
                <a:p>
                  <a:pPr algn="ctr">
                    <a:tabLst>
                      <a:tab algn="l" pos="0"/>
                      <a:tab algn="l" pos="757080"/>
                      <a:tab algn="l" pos="1514520"/>
                      <a:tab algn="l" pos="2271600"/>
                      <a:tab algn="l" pos="3029040"/>
                      <a:tab algn="l" pos="3786120"/>
                      <a:tab algn="l" pos="4543560"/>
                      <a:tab algn="l" pos="5300640"/>
                      <a:tab algn="l" pos="6058080"/>
                      <a:tab algn="l" pos="6815160"/>
                      <a:tab algn="l" pos="7572240"/>
                      <a:tab algn="l" pos="8329680"/>
                      <a:tab algn="l" pos="9086760"/>
                      <a:tab algn="l" pos="9844200"/>
                      <a:tab algn="l" pos="1060128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{d}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7" name=""/>
                <p:cNvSpPr/>
                <p:nvPr/>
              </p:nvSpPr>
              <p:spPr>
                <a:xfrm>
                  <a:off x="1772640" y="2106360"/>
                  <a:ext cx="732600" cy="42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7800" bIns="37800" anchor="ctr">
                  <a:spAutoFit/>
                </a:bodyPr>
                <a:p>
                  <a:pPr algn="ctr">
                    <a:tabLst>
                      <a:tab algn="l" pos="0"/>
                      <a:tab algn="l" pos="757080"/>
                      <a:tab algn="l" pos="1514520"/>
                      <a:tab algn="l" pos="2271600"/>
                      <a:tab algn="l" pos="3029040"/>
                      <a:tab algn="l" pos="3786120"/>
                      <a:tab algn="l" pos="4543560"/>
                      <a:tab algn="l" pos="5300640"/>
                      <a:tab algn="l" pos="6058080"/>
                      <a:tab algn="l" pos="6815160"/>
                      <a:tab algn="l" pos="7572240"/>
                      <a:tab algn="l" pos="8329680"/>
                      <a:tab algn="l" pos="9086760"/>
                      <a:tab algn="l" pos="9844200"/>
                      <a:tab algn="l" pos="1060128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{D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q,l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}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8" name=""/>
                <p:cNvSpPr/>
                <p:nvPr/>
              </p:nvSpPr>
              <p:spPr>
                <a:xfrm>
                  <a:off x="3479040" y="1191960"/>
                  <a:ext cx="766080" cy="42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7800" bIns="37800" anchor="ctr">
                  <a:spAutoFit/>
                </a:bodyPr>
                <a:p>
                  <a:pPr algn="ctr">
                    <a:tabLst>
                      <a:tab algn="l" pos="0"/>
                      <a:tab algn="l" pos="757080"/>
                      <a:tab algn="l" pos="1514520"/>
                      <a:tab algn="l" pos="2271600"/>
                      <a:tab algn="l" pos="3029040"/>
                      <a:tab algn="l" pos="3786120"/>
                      <a:tab algn="l" pos="4543560"/>
                      <a:tab algn="l" pos="5300640"/>
                      <a:tab algn="l" pos="6058080"/>
                      <a:tab algn="l" pos="6815160"/>
                      <a:tab algn="l" pos="7572240"/>
                      <a:tab algn="l" pos="8329680"/>
                      <a:tab algn="l" pos="9086760"/>
                      <a:tab algn="l" pos="9844200"/>
                      <a:tab algn="l" pos="1060128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{D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q,o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}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9" name=""/>
                <p:cNvSpPr/>
                <p:nvPr/>
              </p:nvSpPr>
              <p:spPr>
                <a:xfrm>
                  <a:off x="3402720" y="3673080"/>
                  <a:ext cx="921600" cy="42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7800" bIns="37800" anchor="ctr">
                  <a:spAutoFit/>
                </a:bodyPr>
                <a:p>
                  <a:pPr algn="ctr">
                    <a:tabLst>
                      <a:tab algn="l" pos="0"/>
                      <a:tab algn="l" pos="757080"/>
                      <a:tab algn="l" pos="1514520"/>
                      <a:tab algn="l" pos="2271600"/>
                      <a:tab algn="l" pos="3029040"/>
                      <a:tab algn="l" pos="3786120"/>
                      <a:tab algn="l" pos="4543560"/>
                      <a:tab algn="l" pos="5300640"/>
                      <a:tab algn="l" pos="6058080"/>
                      <a:tab algn="l" pos="6815160"/>
                      <a:tab algn="l" pos="7572240"/>
                      <a:tab algn="l" pos="8329680"/>
                      <a:tab algn="l" pos="9086760"/>
                      <a:tab algn="l" pos="9844200"/>
                      <a:tab algn="l" pos="1060128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{D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q,N-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}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330" name=""/>
          <p:cNvGrpSpPr/>
          <p:nvPr/>
        </p:nvGrpSpPr>
        <p:grpSpPr>
          <a:xfrm>
            <a:off x="1371600" y="4114800"/>
            <a:ext cx="6689520" cy="2352960"/>
            <a:chOff x="1371600" y="4114800"/>
            <a:chExt cx="6689520" cy="2352960"/>
          </a:xfrm>
        </p:grpSpPr>
        <p:sp>
          <p:nvSpPr>
            <p:cNvPr id="5331" name=""/>
            <p:cNvSpPr/>
            <p:nvPr/>
          </p:nvSpPr>
          <p:spPr>
            <a:xfrm>
              <a:off x="4343400" y="4343400"/>
              <a:ext cx="1440" cy="1736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 flipV="1">
              <a:off x="1371600" y="5932080"/>
              <a:ext cx="617544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7580520" y="5941080"/>
              <a:ext cx="22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2089080" y="6367320"/>
              <a:ext cx="451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3916800" y="6130440"/>
              <a:ext cx="8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20 M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6" name=""/>
            <p:cNvGrpSpPr/>
            <p:nvPr/>
          </p:nvGrpSpPr>
          <p:grpSpPr>
            <a:xfrm>
              <a:off x="2334240" y="4568760"/>
              <a:ext cx="4021200" cy="1373040"/>
              <a:chOff x="2334240" y="4568760"/>
              <a:chExt cx="4021200" cy="1373040"/>
            </a:xfrm>
          </p:grpSpPr>
          <p:grpSp>
            <p:nvGrpSpPr>
              <p:cNvPr id="5337" name=""/>
              <p:cNvGrpSpPr/>
              <p:nvPr/>
            </p:nvGrpSpPr>
            <p:grpSpPr>
              <a:xfrm>
                <a:off x="2959560" y="4598640"/>
                <a:ext cx="414360" cy="1330200"/>
                <a:chOff x="2959560" y="4598640"/>
                <a:chExt cx="414360" cy="1330200"/>
              </a:xfrm>
            </p:grpSpPr>
            <p:grpSp>
              <p:nvGrpSpPr>
                <p:cNvPr id="5338" name=""/>
                <p:cNvGrpSpPr/>
                <p:nvPr/>
              </p:nvGrpSpPr>
              <p:grpSpPr>
                <a:xfrm>
                  <a:off x="3167280" y="4598640"/>
                  <a:ext cx="206640" cy="1330200"/>
                  <a:chOff x="3167280" y="4598640"/>
                  <a:chExt cx="206640" cy="1330200"/>
                </a:xfrm>
              </p:grpSpPr>
              <p:grpSp>
                <p:nvGrpSpPr>
                  <p:cNvPr id="5339" name=""/>
                  <p:cNvGrpSpPr/>
                  <p:nvPr/>
                </p:nvGrpSpPr>
                <p:grpSpPr>
                  <a:xfrm>
                    <a:off x="3236400" y="5591520"/>
                    <a:ext cx="69120" cy="337320"/>
                    <a:chOff x="3236400" y="5591520"/>
                    <a:chExt cx="69120" cy="337320"/>
                  </a:xfrm>
                </p:grpSpPr>
                <p:sp>
                  <p:nvSpPr>
                    <p:cNvPr id="5340" name=""/>
                    <p:cNvSpPr/>
                    <p:nvPr/>
                  </p:nvSpPr>
                  <p:spPr>
                    <a:xfrm>
                      <a:off x="3236400" y="5591520"/>
                      <a:ext cx="3384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373">
                          <a:moveTo>
                            <a:pt x="0" y="373"/>
                          </a:moveTo>
                          <a:cubicBezTo>
                            <a:pt x="4" y="357"/>
                            <a:pt x="8" y="342"/>
                            <a:pt x="15" y="319"/>
                          </a:cubicBezTo>
                          <a:cubicBezTo>
                            <a:pt x="22" y="296"/>
                            <a:pt x="34" y="260"/>
                            <a:pt x="44" y="232"/>
                          </a:cubicBezTo>
                          <a:cubicBezTo>
                            <a:pt x="54" y="204"/>
                            <a:pt x="64" y="173"/>
                            <a:pt x="74" y="150"/>
                          </a:cubicBezTo>
                          <a:cubicBezTo>
                            <a:pt x="84" y="127"/>
                            <a:pt x="91" y="111"/>
                            <a:pt x="102" y="93"/>
                          </a:cubicBezTo>
                          <a:cubicBezTo>
                            <a:pt x="113" y="75"/>
                            <a:pt x="127" y="56"/>
                            <a:pt x="137" y="43"/>
                          </a:cubicBezTo>
                          <a:cubicBezTo>
                            <a:pt x="147" y="30"/>
                            <a:pt x="155" y="23"/>
                            <a:pt x="164" y="16"/>
                          </a:cubicBezTo>
                          <a:cubicBezTo>
                            <a:pt x="173" y="9"/>
                            <a:pt x="182" y="6"/>
                            <a:pt x="194" y="3"/>
                          </a:cubicBezTo>
                          <a:cubicBezTo>
                            <a:pt x="206" y="0"/>
                            <a:pt x="226" y="0"/>
                            <a:pt x="234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1" name=""/>
                    <p:cNvSpPr/>
                    <p:nvPr/>
                  </p:nvSpPr>
                  <p:spPr>
                    <a:xfrm flipH="1">
                      <a:off x="3271680" y="5591520"/>
                      <a:ext cx="3384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373">
                          <a:moveTo>
                            <a:pt x="0" y="373"/>
                          </a:moveTo>
                          <a:cubicBezTo>
                            <a:pt x="4" y="357"/>
                            <a:pt x="8" y="342"/>
                            <a:pt x="15" y="319"/>
                          </a:cubicBezTo>
                          <a:cubicBezTo>
                            <a:pt x="22" y="296"/>
                            <a:pt x="34" y="260"/>
                            <a:pt x="44" y="232"/>
                          </a:cubicBezTo>
                          <a:cubicBezTo>
                            <a:pt x="54" y="204"/>
                            <a:pt x="64" y="173"/>
                            <a:pt x="74" y="150"/>
                          </a:cubicBezTo>
                          <a:cubicBezTo>
                            <a:pt x="84" y="127"/>
                            <a:pt x="91" y="111"/>
                            <a:pt x="102" y="93"/>
                          </a:cubicBezTo>
                          <a:cubicBezTo>
                            <a:pt x="113" y="75"/>
                            <a:pt x="127" y="56"/>
                            <a:pt x="137" y="43"/>
                          </a:cubicBezTo>
                          <a:cubicBezTo>
                            <a:pt x="147" y="30"/>
                            <a:pt x="155" y="23"/>
                            <a:pt x="164" y="16"/>
                          </a:cubicBezTo>
                          <a:cubicBezTo>
                            <a:pt x="173" y="9"/>
                            <a:pt x="182" y="6"/>
                            <a:pt x="194" y="3"/>
                          </a:cubicBezTo>
                          <a:cubicBezTo>
                            <a:pt x="206" y="0"/>
                            <a:pt x="226" y="0"/>
                            <a:pt x="234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2" name=""/>
                    <p:cNvSpPr/>
                    <p:nvPr/>
                  </p:nvSpPr>
                  <p:spPr>
                    <a:xfrm>
                      <a:off x="3269160" y="5591520"/>
                      <a:ext cx="3240" cy="0"/>
                    </a:xfrm>
                    <a:prstGeom prst="line">
                      <a:avLst/>
                    </a:prstGeom>
                    <a:ln w="64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43" name=""/>
                  <p:cNvGrpSpPr/>
                  <p:nvPr/>
                </p:nvGrpSpPr>
                <p:grpSpPr>
                  <a:xfrm>
                    <a:off x="3305880" y="5783040"/>
                    <a:ext cx="68040" cy="144720"/>
                    <a:chOff x="3305880" y="5783040"/>
                    <a:chExt cx="68040" cy="144720"/>
                  </a:xfrm>
                </p:grpSpPr>
                <p:sp>
                  <p:nvSpPr>
                    <p:cNvPr id="5344" name=""/>
                    <p:cNvSpPr/>
                    <p:nvPr/>
                  </p:nvSpPr>
                  <p:spPr>
                    <a:xfrm>
                      <a:off x="3305880" y="5784120"/>
                      <a:ext cx="3276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8" h="159">
                          <a:moveTo>
                            <a:pt x="0" y="159"/>
                          </a:moveTo>
                          <a:cubicBezTo>
                            <a:pt x="15" y="139"/>
                            <a:pt x="30" y="120"/>
                            <a:pt x="45" y="103"/>
                          </a:cubicBezTo>
                          <a:cubicBezTo>
                            <a:pt x="60" y="86"/>
                            <a:pt x="76" y="68"/>
                            <a:pt x="90" y="54"/>
                          </a:cubicBezTo>
                          <a:cubicBezTo>
                            <a:pt x="104" y="40"/>
                            <a:pt x="118" y="30"/>
                            <a:pt x="130" y="22"/>
                          </a:cubicBezTo>
                          <a:cubicBezTo>
                            <a:pt x="142" y="14"/>
                            <a:pt x="150" y="10"/>
                            <a:pt x="162" y="7"/>
                          </a:cubicBezTo>
                          <a:cubicBezTo>
                            <a:pt x="174" y="4"/>
                            <a:pt x="191" y="2"/>
                            <a:pt x="202" y="1"/>
                          </a:cubicBezTo>
                          <a:cubicBezTo>
                            <a:pt x="213" y="0"/>
                            <a:pt x="220" y="0"/>
                            <a:pt x="228" y="1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5" name=""/>
                    <p:cNvSpPr/>
                    <p:nvPr/>
                  </p:nvSpPr>
                  <p:spPr>
                    <a:xfrm flipH="1">
                      <a:off x="3340800" y="5783400"/>
                      <a:ext cx="32760" cy="14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8" h="159">
                          <a:moveTo>
                            <a:pt x="0" y="159"/>
                          </a:moveTo>
                          <a:cubicBezTo>
                            <a:pt x="15" y="139"/>
                            <a:pt x="30" y="120"/>
                            <a:pt x="45" y="103"/>
                          </a:cubicBezTo>
                          <a:cubicBezTo>
                            <a:pt x="60" y="86"/>
                            <a:pt x="76" y="68"/>
                            <a:pt x="90" y="54"/>
                          </a:cubicBezTo>
                          <a:cubicBezTo>
                            <a:pt x="104" y="40"/>
                            <a:pt x="118" y="30"/>
                            <a:pt x="130" y="22"/>
                          </a:cubicBezTo>
                          <a:cubicBezTo>
                            <a:pt x="142" y="14"/>
                            <a:pt x="150" y="10"/>
                            <a:pt x="162" y="7"/>
                          </a:cubicBezTo>
                          <a:cubicBezTo>
                            <a:pt x="174" y="4"/>
                            <a:pt x="191" y="2"/>
                            <a:pt x="202" y="1"/>
                          </a:cubicBezTo>
                          <a:cubicBezTo>
                            <a:pt x="213" y="0"/>
                            <a:pt x="220" y="0"/>
                            <a:pt x="228" y="1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6" name=""/>
                    <p:cNvSpPr/>
                    <p:nvPr/>
                  </p:nvSpPr>
                  <p:spPr>
                    <a:xfrm flipV="1">
                      <a:off x="3337560" y="5783040"/>
                      <a:ext cx="4680" cy="2520"/>
                    </a:xfrm>
                    <a:prstGeom prst="line">
                      <a:avLst/>
                    </a:prstGeom>
                    <a:ln w="64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47" name=""/>
                  <p:cNvSpPr/>
                  <p:nvPr/>
                </p:nvSpPr>
                <p:spPr>
                  <a:xfrm>
                    <a:off x="3167280" y="4598640"/>
                    <a:ext cx="69120" cy="13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0" h="1467">
                        <a:moveTo>
                          <a:pt x="0" y="0"/>
                        </a:moveTo>
                        <a:cubicBezTo>
                          <a:pt x="17" y="2"/>
                          <a:pt x="34" y="4"/>
                          <a:pt x="51" y="6"/>
                        </a:cubicBezTo>
                        <a:cubicBezTo>
                          <a:pt x="68" y="8"/>
                          <a:pt x="88" y="10"/>
                          <a:pt x="102" y="15"/>
                        </a:cubicBezTo>
                        <a:cubicBezTo>
                          <a:pt x="116" y="20"/>
                          <a:pt x="122" y="23"/>
                          <a:pt x="135" y="33"/>
                        </a:cubicBezTo>
                        <a:cubicBezTo>
                          <a:pt x="148" y="43"/>
                          <a:pt x="167" y="56"/>
                          <a:pt x="180" y="78"/>
                        </a:cubicBezTo>
                        <a:cubicBezTo>
                          <a:pt x="193" y="100"/>
                          <a:pt x="204" y="120"/>
                          <a:pt x="216" y="165"/>
                        </a:cubicBezTo>
                        <a:cubicBezTo>
                          <a:pt x="228" y="210"/>
                          <a:pt x="211" y="131"/>
                          <a:pt x="255" y="348"/>
                        </a:cubicBezTo>
                        <a:cubicBezTo>
                          <a:pt x="299" y="565"/>
                          <a:pt x="389" y="1016"/>
                          <a:pt x="480" y="1467"/>
                        </a:cubicBezTo>
                      </a:path>
                    </a:pathLst>
                  </a:custGeom>
                  <a:noFill/>
                  <a:ln w="648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48" name=""/>
                <p:cNvGrpSpPr/>
                <p:nvPr/>
              </p:nvGrpSpPr>
              <p:grpSpPr>
                <a:xfrm>
                  <a:off x="2959560" y="4598640"/>
                  <a:ext cx="206640" cy="1330200"/>
                  <a:chOff x="2959560" y="4598640"/>
                  <a:chExt cx="206640" cy="1330200"/>
                </a:xfrm>
              </p:grpSpPr>
              <p:grpSp>
                <p:nvGrpSpPr>
                  <p:cNvPr id="5349" name=""/>
                  <p:cNvGrpSpPr/>
                  <p:nvPr/>
                </p:nvGrpSpPr>
                <p:grpSpPr>
                  <a:xfrm>
                    <a:off x="3027960" y="5591520"/>
                    <a:ext cx="69120" cy="337320"/>
                    <a:chOff x="3027960" y="5591520"/>
                    <a:chExt cx="69120" cy="337320"/>
                  </a:xfrm>
                </p:grpSpPr>
                <p:sp>
                  <p:nvSpPr>
                    <p:cNvPr id="5350" name=""/>
                    <p:cNvSpPr/>
                    <p:nvPr/>
                  </p:nvSpPr>
                  <p:spPr>
                    <a:xfrm flipH="1">
                      <a:off x="3063240" y="5591520"/>
                      <a:ext cx="3384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373">
                          <a:moveTo>
                            <a:pt x="0" y="373"/>
                          </a:moveTo>
                          <a:cubicBezTo>
                            <a:pt x="4" y="357"/>
                            <a:pt x="8" y="342"/>
                            <a:pt x="15" y="319"/>
                          </a:cubicBezTo>
                          <a:cubicBezTo>
                            <a:pt x="22" y="296"/>
                            <a:pt x="34" y="260"/>
                            <a:pt x="44" y="232"/>
                          </a:cubicBezTo>
                          <a:cubicBezTo>
                            <a:pt x="54" y="204"/>
                            <a:pt x="64" y="173"/>
                            <a:pt x="74" y="150"/>
                          </a:cubicBezTo>
                          <a:cubicBezTo>
                            <a:pt x="84" y="127"/>
                            <a:pt x="91" y="111"/>
                            <a:pt x="102" y="93"/>
                          </a:cubicBezTo>
                          <a:cubicBezTo>
                            <a:pt x="113" y="75"/>
                            <a:pt x="127" y="56"/>
                            <a:pt x="137" y="43"/>
                          </a:cubicBezTo>
                          <a:cubicBezTo>
                            <a:pt x="147" y="30"/>
                            <a:pt x="155" y="23"/>
                            <a:pt x="164" y="16"/>
                          </a:cubicBezTo>
                          <a:cubicBezTo>
                            <a:pt x="173" y="9"/>
                            <a:pt x="182" y="6"/>
                            <a:pt x="194" y="3"/>
                          </a:cubicBezTo>
                          <a:cubicBezTo>
                            <a:pt x="206" y="0"/>
                            <a:pt x="226" y="0"/>
                            <a:pt x="234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1" name=""/>
                    <p:cNvSpPr/>
                    <p:nvPr/>
                  </p:nvSpPr>
                  <p:spPr>
                    <a:xfrm>
                      <a:off x="3027960" y="5591520"/>
                      <a:ext cx="3384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373">
                          <a:moveTo>
                            <a:pt x="0" y="373"/>
                          </a:moveTo>
                          <a:cubicBezTo>
                            <a:pt x="4" y="357"/>
                            <a:pt x="8" y="342"/>
                            <a:pt x="15" y="319"/>
                          </a:cubicBezTo>
                          <a:cubicBezTo>
                            <a:pt x="22" y="296"/>
                            <a:pt x="34" y="260"/>
                            <a:pt x="44" y="232"/>
                          </a:cubicBezTo>
                          <a:cubicBezTo>
                            <a:pt x="54" y="204"/>
                            <a:pt x="64" y="173"/>
                            <a:pt x="74" y="150"/>
                          </a:cubicBezTo>
                          <a:cubicBezTo>
                            <a:pt x="84" y="127"/>
                            <a:pt x="91" y="111"/>
                            <a:pt x="102" y="93"/>
                          </a:cubicBezTo>
                          <a:cubicBezTo>
                            <a:pt x="113" y="75"/>
                            <a:pt x="127" y="56"/>
                            <a:pt x="137" y="43"/>
                          </a:cubicBezTo>
                          <a:cubicBezTo>
                            <a:pt x="147" y="30"/>
                            <a:pt x="155" y="23"/>
                            <a:pt x="164" y="16"/>
                          </a:cubicBezTo>
                          <a:cubicBezTo>
                            <a:pt x="173" y="9"/>
                            <a:pt x="182" y="6"/>
                            <a:pt x="194" y="3"/>
                          </a:cubicBezTo>
                          <a:cubicBezTo>
                            <a:pt x="206" y="0"/>
                            <a:pt x="226" y="0"/>
                            <a:pt x="234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2" name=""/>
                    <p:cNvSpPr/>
                    <p:nvPr/>
                  </p:nvSpPr>
                  <p:spPr>
                    <a:xfrm flipH="1">
                      <a:off x="3061080" y="5591520"/>
                      <a:ext cx="3240" cy="0"/>
                    </a:xfrm>
                    <a:prstGeom prst="line">
                      <a:avLst/>
                    </a:prstGeom>
                    <a:ln w="64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53" name=""/>
                  <p:cNvGrpSpPr/>
                  <p:nvPr/>
                </p:nvGrpSpPr>
                <p:grpSpPr>
                  <a:xfrm>
                    <a:off x="2959560" y="5783040"/>
                    <a:ext cx="68040" cy="144720"/>
                    <a:chOff x="2959560" y="5783040"/>
                    <a:chExt cx="68040" cy="144720"/>
                  </a:xfrm>
                </p:grpSpPr>
                <p:sp>
                  <p:nvSpPr>
                    <p:cNvPr id="5354" name=""/>
                    <p:cNvSpPr/>
                    <p:nvPr/>
                  </p:nvSpPr>
                  <p:spPr>
                    <a:xfrm flipH="1">
                      <a:off x="2994480" y="5784120"/>
                      <a:ext cx="3276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8" h="159">
                          <a:moveTo>
                            <a:pt x="0" y="159"/>
                          </a:moveTo>
                          <a:cubicBezTo>
                            <a:pt x="15" y="139"/>
                            <a:pt x="30" y="120"/>
                            <a:pt x="45" y="103"/>
                          </a:cubicBezTo>
                          <a:cubicBezTo>
                            <a:pt x="60" y="86"/>
                            <a:pt x="76" y="68"/>
                            <a:pt x="90" y="54"/>
                          </a:cubicBezTo>
                          <a:cubicBezTo>
                            <a:pt x="104" y="40"/>
                            <a:pt x="118" y="30"/>
                            <a:pt x="130" y="22"/>
                          </a:cubicBezTo>
                          <a:cubicBezTo>
                            <a:pt x="142" y="14"/>
                            <a:pt x="150" y="10"/>
                            <a:pt x="162" y="7"/>
                          </a:cubicBezTo>
                          <a:cubicBezTo>
                            <a:pt x="174" y="4"/>
                            <a:pt x="191" y="2"/>
                            <a:pt x="202" y="1"/>
                          </a:cubicBezTo>
                          <a:cubicBezTo>
                            <a:pt x="213" y="0"/>
                            <a:pt x="220" y="0"/>
                            <a:pt x="228" y="1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5" name=""/>
                    <p:cNvSpPr/>
                    <p:nvPr/>
                  </p:nvSpPr>
                  <p:spPr>
                    <a:xfrm>
                      <a:off x="2959560" y="5783400"/>
                      <a:ext cx="32760" cy="14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8" h="159">
                          <a:moveTo>
                            <a:pt x="0" y="159"/>
                          </a:moveTo>
                          <a:cubicBezTo>
                            <a:pt x="15" y="139"/>
                            <a:pt x="30" y="120"/>
                            <a:pt x="45" y="103"/>
                          </a:cubicBezTo>
                          <a:cubicBezTo>
                            <a:pt x="60" y="86"/>
                            <a:pt x="76" y="68"/>
                            <a:pt x="90" y="54"/>
                          </a:cubicBezTo>
                          <a:cubicBezTo>
                            <a:pt x="104" y="40"/>
                            <a:pt x="118" y="30"/>
                            <a:pt x="130" y="22"/>
                          </a:cubicBezTo>
                          <a:cubicBezTo>
                            <a:pt x="142" y="14"/>
                            <a:pt x="150" y="10"/>
                            <a:pt x="162" y="7"/>
                          </a:cubicBezTo>
                          <a:cubicBezTo>
                            <a:pt x="174" y="4"/>
                            <a:pt x="191" y="2"/>
                            <a:pt x="202" y="1"/>
                          </a:cubicBezTo>
                          <a:cubicBezTo>
                            <a:pt x="213" y="0"/>
                            <a:pt x="220" y="0"/>
                            <a:pt x="228" y="1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6" name=""/>
                    <p:cNvSpPr/>
                    <p:nvPr/>
                  </p:nvSpPr>
                  <p:spPr>
                    <a:xfrm flipH="1" flipV="1">
                      <a:off x="2991240" y="5783040"/>
                      <a:ext cx="4680" cy="2520"/>
                    </a:xfrm>
                    <a:prstGeom prst="line">
                      <a:avLst/>
                    </a:prstGeom>
                    <a:ln w="64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57" name=""/>
                  <p:cNvSpPr/>
                  <p:nvPr/>
                </p:nvSpPr>
                <p:spPr>
                  <a:xfrm flipH="1">
                    <a:off x="3097080" y="4598640"/>
                    <a:ext cx="69120" cy="13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0" h="1467">
                        <a:moveTo>
                          <a:pt x="0" y="0"/>
                        </a:moveTo>
                        <a:cubicBezTo>
                          <a:pt x="17" y="2"/>
                          <a:pt x="34" y="4"/>
                          <a:pt x="51" y="6"/>
                        </a:cubicBezTo>
                        <a:cubicBezTo>
                          <a:pt x="68" y="8"/>
                          <a:pt x="88" y="10"/>
                          <a:pt x="102" y="15"/>
                        </a:cubicBezTo>
                        <a:cubicBezTo>
                          <a:pt x="116" y="20"/>
                          <a:pt x="122" y="23"/>
                          <a:pt x="135" y="33"/>
                        </a:cubicBezTo>
                        <a:cubicBezTo>
                          <a:pt x="148" y="43"/>
                          <a:pt x="167" y="56"/>
                          <a:pt x="180" y="78"/>
                        </a:cubicBezTo>
                        <a:cubicBezTo>
                          <a:pt x="193" y="100"/>
                          <a:pt x="204" y="120"/>
                          <a:pt x="216" y="165"/>
                        </a:cubicBezTo>
                        <a:cubicBezTo>
                          <a:pt x="228" y="210"/>
                          <a:pt x="211" y="131"/>
                          <a:pt x="255" y="348"/>
                        </a:cubicBezTo>
                        <a:cubicBezTo>
                          <a:pt x="299" y="565"/>
                          <a:pt x="389" y="1016"/>
                          <a:pt x="480" y="1467"/>
                        </a:cubicBezTo>
                      </a:path>
                    </a:pathLst>
                  </a:custGeom>
                  <a:noFill/>
                  <a:ln w="648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58" name=""/>
              <p:cNvGrpSpPr/>
              <p:nvPr/>
            </p:nvGrpSpPr>
            <p:grpSpPr>
              <a:xfrm>
                <a:off x="3027960" y="4603680"/>
                <a:ext cx="414360" cy="1330200"/>
                <a:chOff x="3027960" y="4603680"/>
                <a:chExt cx="414360" cy="1330200"/>
              </a:xfrm>
            </p:grpSpPr>
            <p:grpSp>
              <p:nvGrpSpPr>
                <p:cNvPr id="5359" name=""/>
                <p:cNvGrpSpPr/>
                <p:nvPr/>
              </p:nvGrpSpPr>
              <p:grpSpPr>
                <a:xfrm>
                  <a:off x="3235680" y="4603680"/>
                  <a:ext cx="206640" cy="1330200"/>
                  <a:chOff x="3235680" y="4603680"/>
                  <a:chExt cx="206640" cy="1330200"/>
                </a:xfrm>
              </p:grpSpPr>
              <p:grpSp>
                <p:nvGrpSpPr>
                  <p:cNvPr id="5360" name=""/>
                  <p:cNvGrpSpPr/>
                  <p:nvPr/>
                </p:nvGrpSpPr>
                <p:grpSpPr>
                  <a:xfrm>
                    <a:off x="3304800" y="5596560"/>
                    <a:ext cx="69120" cy="337320"/>
                    <a:chOff x="3304800" y="5596560"/>
                    <a:chExt cx="69120" cy="337320"/>
                  </a:xfrm>
                </p:grpSpPr>
                <p:sp>
                  <p:nvSpPr>
                    <p:cNvPr id="5361" name=""/>
                    <p:cNvSpPr/>
                    <p:nvPr/>
                  </p:nvSpPr>
                  <p:spPr>
                    <a:xfrm>
                      <a:off x="3304800" y="5596560"/>
                      <a:ext cx="3384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373">
                          <a:moveTo>
                            <a:pt x="0" y="373"/>
                          </a:moveTo>
                          <a:cubicBezTo>
                            <a:pt x="4" y="357"/>
                            <a:pt x="8" y="342"/>
                            <a:pt x="15" y="319"/>
                          </a:cubicBezTo>
                          <a:cubicBezTo>
                            <a:pt x="22" y="296"/>
                            <a:pt x="34" y="260"/>
                            <a:pt x="44" y="232"/>
                          </a:cubicBezTo>
                          <a:cubicBezTo>
                            <a:pt x="54" y="204"/>
                            <a:pt x="64" y="173"/>
                            <a:pt x="74" y="150"/>
                          </a:cubicBezTo>
                          <a:cubicBezTo>
                            <a:pt x="84" y="127"/>
                            <a:pt x="91" y="111"/>
                            <a:pt x="102" y="93"/>
                          </a:cubicBezTo>
                          <a:cubicBezTo>
                            <a:pt x="113" y="75"/>
                            <a:pt x="127" y="56"/>
                            <a:pt x="137" y="43"/>
                          </a:cubicBezTo>
                          <a:cubicBezTo>
                            <a:pt x="147" y="30"/>
                            <a:pt x="155" y="23"/>
                            <a:pt x="164" y="16"/>
                          </a:cubicBezTo>
                          <a:cubicBezTo>
                            <a:pt x="173" y="9"/>
                            <a:pt x="182" y="6"/>
                            <a:pt x="194" y="3"/>
                          </a:cubicBezTo>
                          <a:cubicBezTo>
                            <a:pt x="206" y="0"/>
                            <a:pt x="226" y="0"/>
                            <a:pt x="234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2" name=""/>
                    <p:cNvSpPr/>
                    <p:nvPr/>
                  </p:nvSpPr>
                  <p:spPr>
                    <a:xfrm flipH="1">
                      <a:off x="3340080" y="5596560"/>
                      <a:ext cx="3384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373">
                          <a:moveTo>
                            <a:pt x="0" y="373"/>
                          </a:moveTo>
                          <a:cubicBezTo>
                            <a:pt x="4" y="357"/>
                            <a:pt x="8" y="342"/>
                            <a:pt x="15" y="319"/>
                          </a:cubicBezTo>
                          <a:cubicBezTo>
                            <a:pt x="22" y="296"/>
                            <a:pt x="34" y="260"/>
                            <a:pt x="44" y="232"/>
                          </a:cubicBezTo>
                          <a:cubicBezTo>
                            <a:pt x="54" y="204"/>
                            <a:pt x="64" y="173"/>
                            <a:pt x="74" y="150"/>
                          </a:cubicBezTo>
                          <a:cubicBezTo>
                            <a:pt x="84" y="127"/>
                            <a:pt x="91" y="111"/>
                            <a:pt x="102" y="93"/>
                          </a:cubicBezTo>
                          <a:cubicBezTo>
                            <a:pt x="113" y="75"/>
                            <a:pt x="127" y="56"/>
                            <a:pt x="137" y="43"/>
                          </a:cubicBezTo>
                          <a:cubicBezTo>
                            <a:pt x="147" y="30"/>
                            <a:pt x="155" y="23"/>
                            <a:pt x="164" y="16"/>
                          </a:cubicBezTo>
                          <a:cubicBezTo>
                            <a:pt x="173" y="9"/>
                            <a:pt x="182" y="6"/>
                            <a:pt x="194" y="3"/>
                          </a:cubicBezTo>
                          <a:cubicBezTo>
                            <a:pt x="206" y="0"/>
                            <a:pt x="226" y="0"/>
                            <a:pt x="234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3" name=""/>
                    <p:cNvSpPr/>
                    <p:nvPr/>
                  </p:nvSpPr>
                  <p:spPr>
                    <a:xfrm>
                      <a:off x="3337560" y="5596560"/>
                      <a:ext cx="3240" cy="0"/>
                    </a:xfrm>
                    <a:prstGeom prst="line">
                      <a:avLst/>
                    </a:prstGeom>
                    <a:ln w="64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64" name=""/>
                  <p:cNvGrpSpPr/>
                  <p:nvPr/>
                </p:nvGrpSpPr>
                <p:grpSpPr>
                  <a:xfrm>
                    <a:off x="3374280" y="5787720"/>
                    <a:ext cx="68040" cy="144720"/>
                    <a:chOff x="3374280" y="5787720"/>
                    <a:chExt cx="68040" cy="144720"/>
                  </a:xfrm>
                </p:grpSpPr>
                <p:sp>
                  <p:nvSpPr>
                    <p:cNvPr id="5365" name=""/>
                    <p:cNvSpPr/>
                    <p:nvPr/>
                  </p:nvSpPr>
                  <p:spPr>
                    <a:xfrm>
                      <a:off x="3374280" y="5788800"/>
                      <a:ext cx="3276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8" h="159">
                          <a:moveTo>
                            <a:pt x="0" y="159"/>
                          </a:moveTo>
                          <a:cubicBezTo>
                            <a:pt x="15" y="139"/>
                            <a:pt x="30" y="120"/>
                            <a:pt x="45" y="103"/>
                          </a:cubicBezTo>
                          <a:cubicBezTo>
                            <a:pt x="60" y="86"/>
                            <a:pt x="76" y="68"/>
                            <a:pt x="90" y="54"/>
                          </a:cubicBezTo>
                          <a:cubicBezTo>
                            <a:pt x="104" y="40"/>
                            <a:pt x="118" y="30"/>
                            <a:pt x="130" y="22"/>
                          </a:cubicBezTo>
                          <a:cubicBezTo>
                            <a:pt x="142" y="14"/>
                            <a:pt x="150" y="10"/>
                            <a:pt x="162" y="7"/>
                          </a:cubicBezTo>
                          <a:cubicBezTo>
                            <a:pt x="174" y="4"/>
                            <a:pt x="191" y="2"/>
                            <a:pt x="202" y="1"/>
                          </a:cubicBezTo>
                          <a:cubicBezTo>
                            <a:pt x="213" y="0"/>
                            <a:pt x="220" y="0"/>
                            <a:pt x="228" y="1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6" name=""/>
                    <p:cNvSpPr/>
                    <p:nvPr/>
                  </p:nvSpPr>
                  <p:spPr>
                    <a:xfrm flipH="1">
                      <a:off x="3409200" y="5788080"/>
                      <a:ext cx="32760" cy="14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8" h="159">
                          <a:moveTo>
                            <a:pt x="0" y="159"/>
                          </a:moveTo>
                          <a:cubicBezTo>
                            <a:pt x="15" y="139"/>
                            <a:pt x="30" y="120"/>
                            <a:pt x="45" y="103"/>
                          </a:cubicBezTo>
                          <a:cubicBezTo>
                            <a:pt x="60" y="86"/>
                            <a:pt x="76" y="68"/>
                            <a:pt x="90" y="54"/>
                          </a:cubicBezTo>
                          <a:cubicBezTo>
                            <a:pt x="104" y="40"/>
                            <a:pt x="118" y="30"/>
                            <a:pt x="130" y="22"/>
                          </a:cubicBezTo>
                          <a:cubicBezTo>
                            <a:pt x="142" y="14"/>
                            <a:pt x="150" y="10"/>
                            <a:pt x="162" y="7"/>
                          </a:cubicBezTo>
                          <a:cubicBezTo>
                            <a:pt x="174" y="4"/>
                            <a:pt x="191" y="2"/>
                            <a:pt x="202" y="1"/>
                          </a:cubicBezTo>
                          <a:cubicBezTo>
                            <a:pt x="213" y="0"/>
                            <a:pt x="220" y="0"/>
                            <a:pt x="228" y="1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7" name=""/>
                    <p:cNvSpPr/>
                    <p:nvPr/>
                  </p:nvSpPr>
                  <p:spPr>
                    <a:xfrm flipV="1">
                      <a:off x="3405960" y="5787720"/>
                      <a:ext cx="4680" cy="2520"/>
                    </a:xfrm>
                    <a:prstGeom prst="line">
                      <a:avLst/>
                    </a:prstGeom>
                    <a:ln w="64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68" name=""/>
                  <p:cNvSpPr/>
                  <p:nvPr/>
                </p:nvSpPr>
                <p:spPr>
                  <a:xfrm>
                    <a:off x="3235680" y="4603680"/>
                    <a:ext cx="69120" cy="132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0" h="1467">
                        <a:moveTo>
                          <a:pt x="0" y="0"/>
                        </a:moveTo>
                        <a:cubicBezTo>
                          <a:pt x="17" y="2"/>
                          <a:pt x="34" y="4"/>
                          <a:pt x="51" y="6"/>
                        </a:cubicBezTo>
                        <a:cubicBezTo>
                          <a:pt x="68" y="8"/>
                          <a:pt x="88" y="10"/>
                          <a:pt x="102" y="15"/>
                        </a:cubicBezTo>
                        <a:cubicBezTo>
                          <a:pt x="116" y="20"/>
                          <a:pt x="122" y="23"/>
                          <a:pt x="135" y="33"/>
                        </a:cubicBezTo>
                        <a:cubicBezTo>
                          <a:pt x="148" y="43"/>
                          <a:pt x="167" y="56"/>
                          <a:pt x="180" y="78"/>
                        </a:cubicBezTo>
                        <a:cubicBezTo>
                          <a:pt x="193" y="100"/>
                          <a:pt x="204" y="120"/>
                          <a:pt x="216" y="165"/>
                        </a:cubicBezTo>
                        <a:cubicBezTo>
                          <a:pt x="228" y="210"/>
                          <a:pt x="211" y="131"/>
                          <a:pt x="255" y="348"/>
                        </a:cubicBezTo>
                        <a:cubicBezTo>
                          <a:pt x="299" y="565"/>
                          <a:pt x="389" y="1016"/>
                          <a:pt x="480" y="1467"/>
                        </a:cubicBezTo>
                      </a:path>
                    </a:pathLst>
                  </a:custGeom>
                  <a:noFill/>
                  <a:ln w="648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69" name=""/>
                <p:cNvGrpSpPr/>
                <p:nvPr/>
              </p:nvGrpSpPr>
              <p:grpSpPr>
                <a:xfrm>
                  <a:off x="3027960" y="4603680"/>
                  <a:ext cx="206640" cy="1330200"/>
                  <a:chOff x="3027960" y="4603680"/>
                  <a:chExt cx="206640" cy="1330200"/>
                </a:xfrm>
              </p:grpSpPr>
              <p:grpSp>
                <p:nvGrpSpPr>
                  <p:cNvPr id="5370" name=""/>
                  <p:cNvGrpSpPr/>
                  <p:nvPr/>
                </p:nvGrpSpPr>
                <p:grpSpPr>
                  <a:xfrm>
                    <a:off x="3096360" y="5596560"/>
                    <a:ext cx="69120" cy="337320"/>
                    <a:chOff x="3096360" y="5596560"/>
                    <a:chExt cx="69120" cy="337320"/>
                  </a:xfrm>
                </p:grpSpPr>
                <p:sp>
                  <p:nvSpPr>
                    <p:cNvPr id="5371" name=""/>
                    <p:cNvSpPr/>
                    <p:nvPr/>
                  </p:nvSpPr>
                  <p:spPr>
                    <a:xfrm flipH="1">
                      <a:off x="3131640" y="5596560"/>
                      <a:ext cx="3384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373">
                          <a:moveTo>
                            <a:pt x="0" y="373"/>
                          </a:moveTo>
                          <a:cubicBezTo>
                            <a:pt x="4" y="357"/>
                            <a:pt x="8" y="342"/>
                            <a:pt x="15" y="319"/>
                          </a:cubicBezTo>
                          <a:cubicBezTo>
                            <a:pt x="22" y="296"/>
                            <a:pt x="34" y="260"/>
                            <a:pt x="44" y="232"/>
                          </a:cubicBezTo>
                          <a:cubicBezTo>
                            <a:pt x="54" y="204"/>
                            <a:pt x="64" y="173"/>
                            <a:pt x="74" y="150"/>
                          </a:cubicBezTo>
                          <a:cubicBezTo>
                            <a:pt x="84" y="127"/>
                            <a:pt x="91" y="111"/>
                            <a:pt x="102" y="93"/>
                          </a:cubicBezTo>
                          <a:cubicBezTo>
                            <a:pt x="113" y="75"/>
                            <a:pt x="127" y="56"/>
                            <a:pt x="137" y="43"/>
                          </a:cubicBezTo>
                          <a:cubicBezTo>
                            <a:pt x="147" y="30"/>
                            <a:pt x="155" y="23"/>
                            <a:pt x="164" y="16"/>
                          </a:cubicBezTo>
                          <a:cubicBezTo>
                            <a:pt x="173" y="9"/>
                            <a:pt x="182" y="6"/>
                            <a:pt x="194" y="3"/>
                          </a:cubicBezTo>
                          <a:cubicBezTo>
                            <a:pt x="206" y="0"/>
                            <a:pt x="226" y="0"/>
                            <a:pt x="234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2" name=""/>
                    <p:cNvSpPr/>
                    <p:nvPr/>
                  </p:nvSpPr>
                  <p:spPr>
                    <a:xfrm>
                      <a:off x="3096360" y="5596560"/>
                      <a:ext cx="3384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373">
                          <a:moveTo>
                            <a:pt x="0" y="373"/>
                          </a:moveTo>
                          <a:cubicBezTo>
                            <a:pt x="4" y="357"/>
                            <a:pt x="8" y="342"/>
                            <a:pt x="15" y="319"/>
                          </a:cubicBezTo>
                          <a:cubicBezTo>
                            <a:pt x="22" y="296"/>
                            <a:pt x="34" y="260"/>
                            <a:pt x="44" y="232"/>
                          </a:cubicBezTo>
                          <a:cubicBezTo>
                            <a:pt x="54" y="204"/>
                            <a:pt x="64" y="173"/>
                            <a:pt x="74" y="150"/>
                          </a:cubicBezTo>
                          <a:cubicBezTo>
                            <a:pt x="84" y="127"/>
                            <a:pt x="91" y="111"/>
                            <a:pt x="102" y="93"/>
                          </a:cubicBezTo>
                          <a:cubicBezTo>
                            <a:pt x="113" y="75"/>
                            <a:pt x="127" y="56"/>
                            <a:pt x="137" y="43"/>
                          </a:cubicBezTo>
                          <a:cubicBezTo>
                            <a:pt x="147" y="30"/>
                            <a:pt x="155" y="23"/>
                            <a:pt x="164" y="16"/>
                          </a:cubicBezTo>
                          <a:cubicBezTo>
                            <a:pt x="173" y="9"/>
                            <a:pt x="182" y="6"/>
                            <a:pt x="194" y="3"/>
                          </a:cubicBezTo>
                          <a:cubicBezTo>
                            <a:pt x="206" y="0"/>
                            <a:pt x="226" y="0"/>
                            <a:pt x="234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3" name=""/>
                    <p:cNvSpPr/>
                    <p:nvPr/>
                  </p:nvSpPr>
                  <p:spPr>
                    <a:xfrm flipH="1">
                      <a:off x="3129480" y="5596560"/>
                      <a:ext cx="3240" cy="0"/>
                    </a:xfrm>
                    <a:prstGeom prst="line">
                      <a:avLst/>
                    </a:prstGeom>
                    <a:ln w="64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74" name=""/>
                  <p:cNvGrpSpPr/>
                  <p:nvPr/>
                </p:nvGrpSpPr>
                <p:grpSpPr>
                  <a:xfrm>
                    <a:off x="3027960" y="5787720"/>
                    <a:ext cx="68040" cy="144720"/>
                    <a:chOff x="3027960" y="5787720"/>
                    <a:chExt cx="68040" cy="144720"/>
                  </a:xfrm>
                </p:grpSpPr>
                <p:sp>
                  <p:nvSpPr>
                    <p:cNvPr id="5375" name=""/>
                    <p:cNvSpPr/>
                    <p:nvPr/>
                  </p:nvSpPr>
                  <p:spPr>
                    <a:xfrm flipH="1">
                      <a:off x="3062880" y="5788800"/>
                      <a:ext cx="3276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8" h="159">
                          <a:moveTo>
                            <a:pt x="0" y="159"/>
                          </a:moveTo>
                          <a:cubicBezTo>
                            <a:pt x="15" y="139"/>
                            <a:pt x="30" y="120"/>
                            <a:pt x="45" y="103"/>
                          </a:cubicBezTo>
                          <a:cubicBezTo>
                            <a:pt x="60" y="86"/>
                            <a:pt x="76" y="68"/>
                            <a:pt x="90" y="54"/>
                          </a:cubicBezTo>
                          <a:cubicBezTo>
                            <a:pt x="104" y="40"/>
                            <a:pt x="118" y="30"/>
                            <a:pt x="130" y="22"/>
                          </a:cubicBezTo>
                          <a:cubicBezTo>
                            <a:pt x="142" y="14"/>
                            <a:pt x="150" y="10"/>
                            <a:pt x="162" y="7"/>
                          </a:cubicBezTo>
                          <a:cubicBezTo>
                            <a:pt x="174" y="4"/>
                            <a:pt x="191" y="2"/>
                            <a:pt x="202" y="1"/>
                          </a:cubicBezTo>
                          <a:cubicBezTo>
                            <a:pt x="213" y="0"/>
                            <a:pt x="220" y="0"/>
                            <a:pt x="228" y="1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6" name=""/>
                    <p:cNvSpPr/>
                    <p:nvPr/>
                  </p:nvSpPr>
                  <p:spPr>
                    <a:xfrm>
                      <a:off x="3027960" y="5788080"/>
                      <a:ext cx="32760" cy="14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8" h="159">
                          <a:moveTo>
                            <a:pt x="0" y="159"/>
                          </a:moveTo>
                          <a:cubicBezTo>
                            <a:pt x="15" y="139"/>
                            <a:pt x="30" y="120"/>
                            <a:pt x="45" y="103"/>
                          </a:cubicBezTo>
                          <a:cubicBezTo>
                            <a:pt x="60" y="86"/>
                            <a:pt x="76" y="68"/>
                            <a:pt x="90" y="54"/>
                          </a:cubicBezTo>
                          <a:cubicBezTo>
                            <a:pt x="104" y="40"/>
                            <a:pt x="118" y="30"/>
                            <a:pt x="130" y="22"/>
                          </a:cubicBezTo>
                          <a:cubicBezTo>
                            <a:pt x="142" y="14"/>
                            <a:pt x="150" y="10"/>
                            <a:pt x="162" y="7"/>
                          </a:cubicBezTo>
                          <a:cubicBezTo>
                            <a:pt x="174" y="4"/>
                            <a:pt x="191" y="2"/>
                            <a:pt x="202" y="1"/>
                          </a:cubicBezTo>
                          <a:cubicBezTo>
                            <a:pt x="213" y="0"/>
                            <a:pt x="220" y="0"/>
                            <a:pt x="228" y="1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7" name=""/>
                    <p:cNvSpPr/>
                    <p:nvPr/>
                  </p:nvSpPr>
                  <p:spPr>
                    <a:xfrm flipH="1" flipV="1">
                      <a:off x="3059640" y="5787720"/>
                      <a:ext cx="4680" cy="2520"/>
                    </a:xfrm>
                    <a:prstGeom prst="line">
                      <a:avLst/>
                    </a:prstGeom>
                    <a:ln w="64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78" name=""/>
                  <p:cNvSpPr/>
                  <p:nvPr/>
                </p:nvSpPr>
                <p:spPr>
                  <a:xfrm flipH="1">
                    <a:off x="3165480" y="4603680"/>
                    <a:ext cx="69120" cy="132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0" h="1467">
                        <a:moveTo>
                          <a:pt x="0" y="0"/>
                        </a:moveTo>
                        <a:cubicBezTo>
                          <a:pt x="17" y="2"/>
                          <a:pt x="34" y="4"/>
                          <a:pt x="51" y="6"/>
                        </a:cubicBezTo>
                        <a:cubicBezTo>
                          <a:pt x="68" y="8"/>
                          <a:pt x="88" y="10"/>
                          <a:pt x="102" y="15"/>
                        </a:cubicBezTo>
                        <a:cubicBezTo>
                          <a:pt x="116" y="20"/>
                          <a:pt x="122" y="23"/>
                          <a:pt x="135" y="33"/>
                        </a:cubicBezTo>
                        <a:cubicBezTo>
                          <a:pt x="148" y="43"/>
                          <a:pt x="167" y="56"/>
                          <a:pt x="180" y="78"/>
                        </a:cubicBezTo>
                        <a:cubicBezTo>
                          <a:pt x="193" y="100"/>
                          <a:pt x="204" y="120"/>
                          <a:pt x="216" y="165"/>
                        </a:cubicBezTo>
                        <a:cubicBezTo>
                          <a:pt x="228" y="210"/>
                          <a:pt x="211" y="131"/>
                          <a:pt x="255" y="348"/>
                        </a:cubicBezTo>
                        <a:cubicBezTo>
                          <a:pt x="299" y="565"/>
                          <a:pt x="389" y="1016"/>
                          <a:pt x="480" y="1467"/>
                        </a:cubicBezTo>
                      </a:path>
                    </a:pathLst>
                  </a:custGeom>
                  <a:noFill/>
                  <a:ln w="648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79" name=""/>
              <p:cNvGrpSpPr/>
              <p:nvPr/>
            </p:nvGrpSpPr>
            <p:grpSpPr>
              <a:xfrm>
                <a:off x="2473920" y="4598640"/>
                <a:ext cx="414360" cy="1330200"/>
                <a:chOff x="2473920" y="4598640"/>
                <a:chExt cx="414360" cy="1330200"/>
              </a:xfrm>
            </p:grpSpPr>
            <p:grpSp>
              <p:nvGrpSpPr>
                <p:cNvPr id="5380" name=""/>
                <p:cNvGrpSpPr/>
                <p:nvPr/>
              </p:nvGrpSpPr>
              <p:grpSpPr>
                <a:xfrm>
                  <a:off x="2681640" y="4598640"/>
                  <a:ext cx="206640" cy="1330200"/>
                  <a:chOff x="2681640" y="4598640"/>
                  <a:chExt cx="206640" cy="1330200"/>
                </a:xfrm>
              </p:grpSpPr>
              <p:grpSp>
                <p:nvGrpSpPr>
                  <p:cNvPr id="5381" name=""/>
                  <p:cNvGrpSpPr/>
                  <p:nvPr/>
                </p:nvGrpSpPr>
                <p:grpSpPr>
                  <a:xfrm>
                    <a:off x="2750760" y="5591520"/>
                    <a:ext cx="69120" cy="337320"/>
                    <a:chOff x="2750760" y="5591520"/>
                    <a:chExt cx="69120" cy="337320"/>
                  </a:xfrm>
                </p:grpSpPr>
                <p:sp>
                  <p:nvSpPr>
                    <p:cNvPr id="5382" name=""/>
                    <p:cNvSpPr/>
                    <p:nvPr/>
                  </p:nvSpPr>
                  <p:spPr>
                    <a:xfrm>
                      <a:off x="2750760" y="5591520"/>
                      <a:ext cx="3384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373">
                          <a:moveTo>
                            <a:pt x="0" y="373"/>
                          </a:moveTo>
                          <a:cubicBezTo>
                            <a:pt x="4" y="357"/>
                            <a:pt x="8" y="342"/>
                            <a:pt x="15" y="319"/>
                          </a:cubicBezTo>
                          <a:cubicBezTo>
                            <a:pt x="22" y="296"/>
                            <a:pt x="34" y="260"/>
                            <a:pt x="44" y="232"/>
                          </a:cubicBezTo>
                          <a:cubicBezTo>
                            <a:pt x="54" y="204"/>
                            <a:pt x="64" y="173"/>
                            <a:pt x="74" y="150"/>
                          </a:cubicBezTo>
                          <a:cubicBezTo>
                            <a:pt x="84" y="127"/>
                            <a:pt x="91" y="111"/>
                            <a:pt x="102" y="93"/>
                          </a:cubicBezTo>
                          <a:cubicBezTo>
                            <a:pt x="113" y="75"/>
                            <a:pt x="127" y="56"/>
                            <a:pt x="137" y="43"/>
                          </a:cubicBezTo>
                          <a:cubicBezTo>
                            <a:pt x="147" y="30"/>
                            <a:pt x="155" y="23"/>
                            <a:pt x="164" y="16"/>
                          </a:cubicBezTo>
                          <a:cubicBezTo>
                            <a:pt x="173" y="9"/>
                            <a:pt x="182" y="6"/>
                            <a:pt x="194" y="3"/>
                          </a:cubicBezTo>
                          <a:cubicBezTo>
                            <a:pt x="206" y="0"/>
                            <a:pt x="226" y="0"/>
                            <a:pt x="234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3" name=""/>
                    <p:cNvSpPr/>
                    <p:nvPr/>
                  </p:nvSpPr>
                  <p:spPr>
                    <a:xfrm flipH="1">
                      <a:off x="2786040" y="5591520"/>
                      <a:ext cx="3384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373">
                          <a:moveTo>
                            <a:pt x="0" y="373"/>
                          </a:moveTo>
                          <a:cubicBezTo>
                            <a:pt x="4" y="357"/>
                            <a:pt x="8" y="342"/>
                            <a:pt x="15" y="319"/>
                          </a:cubicBezTo>
                          <a:cubicBezTo>
                            <a:pt x="22" y="296"/>
                            <a:pt x="34" y="260"/>
                            <a:pt x="44" y="232"/>
                          </a:cubicBezTo>
                          <a:cubicBezTo>
                            <a:pt x="54" y="204"/>
                            <a:pt x="64" y="173"/>
                            <a:pt x="74" y="150"/>
                          </a:cubicBezTo>
                          <a:cubicBezTo>
                            <a:pt x="84" y="127"/>
                            <a:pt x="91" y="111"/>
                            <a:pt x="102" y="93"/>
                          </a:cubicBezTo>
                          <a:cubicBezTo>
                            <a:pt x="113" y="75"/>
                            <a:pt x="127" y="56"/>
                            <a:pt x="137" y="43"/>
                          </a:cubicBezTo>
                          <a:cubicBezTo>
                            <a:pt x="147" y="30"/>
                            <a:pt x="155" y="23"/>
                            <a:pt x="164" y="16"/>
                          </a:cubicBezTo>
                          <a:cubicBezTo>
                            <a:pt x="173" y="9"/>
                            <a:pt x="182" y="6"/>
                            <a:pt x="194" y="3"/>
                          </a:cubicBezTo>
                          <a:cubicBezTo>
                            <a:pt x="206" y="0"/>
                            <a:pt x="226" y="0"/>
                            <a:pt x="234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4" name=""/>
                    <p:cNvSpPr/>
                    <p:nvPr/>
                  </p:nvSpPr>
                  <p:spPr>
                    <a:xfrm>
                      <a:off x="2783520" y="5591520"/>
                      <a:ext cx="3240" cy="0"/>
                    </a:xfrm>
                    <a:prstGeom prst="line">
                      <a:avLst/>
                    </a:prstGeom>
                    <a:ln w="64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85" name=""/>
                  <p:cNvGrpSpPr/>
                  <p:nvPr/>
                </p:nvGrpSpPr>
                <p:grpSpPr>
                  <a:xfrm>
                    <a:off x="2820240" y="5783040"/>
                    <a:ext cx="68040" cy="144720"/>
                    <a:chOff x="2820240" y="5783040"/>
                    <a:chExt cx="68040" cy="144720"/>
                  </a:xfrm>
                </p:grpSpPr>
                <p:sp>
                  <p:nvSpPr>
                    <p:cNvPr id="5386" name=""/>
                    <p:cNvSpPr/>
                    <p:nvPr/>
                  </p:nvSpPr>
                  <p:spPr>
                    <a:xfrm>
                      <a:off x="2820240" y="5784120"/>
                      <a:ext cx="3276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8" h="159">
                          <a:moveTo>
                            <a:pt x="0" y="159"/>
                          </a:moveTo>
                          <a:cubicBezTo>
                            <a:pt x="15" y="139"/>
                            <a:pt x="30" y="120"/>
                            <a:pt x="45" y="103"/>
                          </a:cubicBezTo>
                          <a:cubicBezTo>
                            <a:pt x="60" y="86"/>
                            <a:pt x="76" y="68"/>
                            <a:pt x="90" y="54"/>
                          </a:cubicBezTo>
                          <a:cubicBezTo>
                            <a:pt x="104" y="40"/>
                            <a:pt x="118" y="30"/>
                            <a:pt x="130" y="22"/>
                          </a:cubicBezTo>
                          <a:cubicBezTo>
                            <a:pt x="142" y="14"/>
                            <a:pt x="150" y="10"/>
                            <a:pt x="162" y="7"/>
                          </a:cubicBezTo>
                          <a:cubicBezTo>
                            <a:pt x="174" y="4"/>
                            <a:pt x="191" y="2"/>
                            <a:pt x="202" y="1"/>
                          </a:cubicBezTo>
                          <a:cubicBezTo>
                            <a:pt x="213" y="0"/>
                            <a:pt x="220" y="0"/>
                            <a:pt x="228" y="1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7" name=""/>
                    <p:cNvSpPr/>
                    <p:nvPr/>
                  </p:nvSpPr>
                  <p:spPr>
                    <a:xfrm flipH="1">
                      <a:off x="2855160" y="5783400"/>
                      <a:ext cx="32760" cy="14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8" h="159">
                          <a:moveTo>
                            <a:pt x="0" y="159"/>
                          </a:moveTo>
                          <a:cubicBezTo>
                            <a:pt x="15" y="139"/>
                            <a:pt x="30" y="120"/>
                            <a:pt x="45" y="103"/>
                          </a:cubicBezTo>
                          <a:cubicBezTo>
                            <a:pt x="60" y="86"/>
                            <a:pt x="76" y="68"/>
                            <a:pt x="90" y="54"/>
                          </a:cubicBezTo>
                          <a:cubicBezTo>
                            <a:pt x="104" y="40"/>
                            <a:pt x="118" y="30"/>
                            <a:pt x="130" y="22"/>
                          </a:cubicBezTo>
                          <a:cubicBezTo>
                            <a:pt x="142" y="14"/>
                            <a:pt x="150" y="10"/>
                            <a:pt x="162" y="7"/>
                          </a:cubicBezTo>
                          <a:cubicBezTo>
                            <a:pt x="174" y="4"/>
                            <a:pt x="191" y="2"/>
                            <a:pt x="202" y="1"/>
                          </a:cubicBezTo>
                          <a:cubicBezTo>
                            <a:pt x="213" y="0"/>
                            <a:pt x="220" y="0"/>
                            <a:pt x="228" y="1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8" name=""/>
                    <p:cNvSpPr/>
                    <p:nvPr/>
                  </p:nvSpPr>
                  <p:spPr>
                    <a:xfrm flipV="1">
                      <a:off x="2851920" y="5783040"/>
                      <a:ext cx="4680" cy="2520"/>
                    </a:xfrm>
                    <a:prstGeom prst="line">
                      <a:avLst/>
                    </a:prstGeom>
                    <a:ln w="64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89" name=""/>
                  <p:cNvSpPr/>
                  <p:nvPr/>
                </p:nvSpPr>
                <p:spPr>
                  <a:xfrm>
                    <a:off x="2681640" y="4598640"/>
                    <a:ext cx="69120" cy="13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0" h="1467">
                        <a:moveTo>
                          <a:pt x="0" y="0"/>
                        </a:moveTo>
                        <a:cubicBezTo>
                          <a:pt x="17" y="2"/>
                          <a:pt x="34" y="4"/>
                          <a:pt x="51" y="6"/>
                        </a:cubicBezTo>
                        <a:cubicBezTo>
                          <a:pt x="68" y="8"/>
                          <a:pt x="88" y="10"/>
                          <a:pt x="102" y="15"/>
                        </a:cubicBezTo>
                        <a:cubicBezTo>
                          <a:pt x="116" y="20"/>
                          <a:pt x="122" y="23"/>
                          <a:pt x="135" y="33"/>
                        </a:cubicBezTo>
                        <a:cubicBezTo>
                          <a:pt x="148" y="43"/>
                          <a:pt x="167" y="56"/>
                          <a:pt x="180" y="78"/>
                        </a:cubicBezTo>
                        <a:cubicBezTo>
                          <a:pt x="193" y="100"/>
                          <a:pt x="204" y="120"/>
                          <a:pt x="216" y="165"/>
                        </a:cubicBezTo>
                        <a:cubicBezTo>
                          <a:pt x="228" y="210"/>
                          <a:pt x="211" y="131"/>
                          <a:pt x="255" y="348"/>
                        </a:cubicBezTo>
                        <a:cubicBezTo>
                          <a:pt x="299" y="565"/>
                          <a:pt x="389" y="1016"/>
                          <a:pt x="480" y="1467"/>
                        </a:cubicBezTo>
                      </a:path>
                    </a:pathLst>
                  </a:custGeom>
                  <a:noFill/>
                  <a:ln w="648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90" name=""/>
                <p:cNvGrpSpPr/>
                <p:nvPr/>
              </p:nvGrpSpPr>
              <p:grpSpPr>
                <a:xfrm>
                  <a:off x="2473920" y="4598640"/>
                  <a:ext cx="206640" cy="1330200"/>
                  <a:chOff x="2473920" y="4598640"/>
                  <a:chExt cx="206640" cy="1330200"/>
                </a:xfrm>
              </p:grpSpPr>
              <p:grpSp>
                <p:nvGrpSpPr>
                  <p:cNvPr id="5391" name=""/>
                  <p:cNvGrpSpPr/>
                  <p:nvPr/>
                </p:nvGrpSpPr>
                <p:grpSpPr>
                  <a:xfrm>
                    <a:off x="2542320" y="5591520"/>
                    <a:ext cx="69120" cy="337320"/>
                    <a:chOff x="2542320" y="5591520"/>
                    <a:chExt cx="69120" cy="337320"/>
                  </a:xfrm>
                </p:grpSpPr>
                <p:sp>
                  <p:nvSpPr>
                    <p:cNvPr id="5392" name=""/>
                    <p:cNvSpPr/>
                    <p:nvPr/>
                  </p:nvSpPr>
                  <p:spPr>
                    <a:xfrm flipH="1">
                      <a:off x="2577600" y="5591520"/>
                      <a:ext cx="3384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373">
                          <a:moveTo>
                            <a:pt x="0" y="373"/>
                          </a:moveTo>
                          <a:cubicBezTo>
                            <a:pt x="4" y="357"/>
                            <a:pt x="8" y="342"/>
                            <a:pt x="15" y="319"/>
                          </a:cubicBezTo>
                          <a:cubicBezTo>
                            <a:pt x="22" y="296"/>
                            <a:pt x="34" y="260"/>
                            <a:pt x="44" y="232"/>
                          </a:cubicBezTo>
                          <a:cubicBezTo>
                            <a:pt x="54" y="204"/>
                            <a:pt x="64" y="173"/>
                            <a:pt x="74" y="150"/>
                          </a:cubicBezTo>
                          <a:cubicBezTo>
                            <a:pt x="84" y="127"/>
                            <a:pt x="91" y="111"/>
                            <a:pt x="102" y="93"/>
                          </a:cubicBezTo>
                          <a:cubicBezTo>
                            <a:pt x="113" y="75"/>
                            <a:pt x="127" y="56"/>
                            <a:pt x="137" y="43"/>
                          </a:cubicBezTo>
                          <a:cubicBezTo>
                            <a:pt x="147" y="30"/>
                            <a:pt x="155" y="23"/>
                            <a:pt x="164" y="16"/>
                          </a:cubicBezTo>
                          <a:cubicBezTo>
                            <a:pt x="173" y="9"/>
                            <a:pt x="182" y="6"/>
                            <a:pt x="194" y="3"/>
                          </a:cubicBezTo>
                          <a:cubicBezTo>
                            <a:pt x="206" y="0"/>
                            <a:pt x="226" y="0"/>
                            <a:pt x="234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3" name=""/>
                    <p:cNvSpPr/>
                    <p:nvPr/>
                  </p:nvSpPr>
                  <p:spPr>
                    <a:xfrm>
                      <a:off x="2542320" y="5591520"/>
                      <a:ext cx="3384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373">
                          <a:moveTo>
                            <a:pt x="0" y="373"/>
                          </a:moveTo>
                          <a:cubicBezTo>
                            <a:pt x="4" y="357"/>
                            <a:pt x="8" y="342"/>
                            <a:pt x="15" y="319"/>
                          </a:cubicBezTo>
                          <a:cubicBezTo>
                            <a:pt x="22" y="296"/>
                            <a:pt x="34" y="260"/>
                            <a:pt x="44" y="232"/>
                          </a:cubicBezTo>
                          <a:cubicBezTo>
                            <a:pt x="54" y="204"/>
                            <a:pt x="64" y="173"/>
                            <a:pt x="74" y="150"/>
                          </a:cubicBezTo>
                          <a:cubicBezTo>
                            <a:pt x="84" y="127"/>
                            <a:pt x="91" y="111"/>
                            <a:pt x="102" y="93"/>
                          </a:cubicBezTo>
                          <a:cubicBezTo>
                            <a:pt x="113" y="75"/>
                            <a:pt x="127" y="56"/>
                            <a:pt x="137" y="43"/>
                          </a:cubicBezTo>
                          <a:cubicBezTo>
                            <a:pt x="147" y="30"/>
                            <a:pt x="155" y="23"/>
                            <a:pt x="164" y="16"/>
                          </a:cubicBezTo>
                          <a:cubicBezTo>
                            <a:pt x="173" y="9"/>
                            <a:pt x="182" y="6"/>
                            <a:pt x="194" y="3"/>
                          </a:cubicBezTo>
                          <a:cubicBezTo>
                            <a:pt x="206" y="0"/>
                            <a:pt x="226" y="0"/>
                            <a:pt x="234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4" name=""/>
                    <p:cNvSpPr/>
                    <p:nvPr/>
                  </p:nvSpPr>
                  <p:spPr>
                    <a:xfrm flipH="1">
                      <a:off x="2575440" y="5591520"/>
                      <a:ext cx="3240" cy="0"/>
                    </a:xfrm>
                    <a:prstGeom prst="line">
                      <a:avLst/>
                    </a:prstGeom>
                    <a:ln w="64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95" name=""/>
                  <p:cNvGrpSpPr/>
                  <p:nvPr/>
                </p:nvGrpSpPr>
                <p:grpSpPr>
                  <a:xfrm>
                    <a:off x="2473920" y="5783040"/>
                    <a:ext cx="68040" cy="144720"/>
                    <a:chOff x="2473920" y="5783040"/>
                    <a:chExt cx="68040" cy="144720"/>
                  </a:xfrm>
                </p:grpSpPr>
                <p:sp>
                  <p:nvSpPr>
                    <p:cNvPr id="5396" name=""/>
                    <p:cNvSpPr/>
                    <p:nvPr/>
                  </p:nvSpPr>
                  <p:spPr>
                    <a:xfrm flipH="1">
                      <a:off x="2508840" y="5784120"/>
                      <a:ext cx="3276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8" h="159">
                          <a:moveTo>
                            <a:pt x="0" y="159"/>
                          </a:moveTo>
                          <a:cubicBezTo>
                            <a:pt x="15" y="139"/>
                            <a:pt x="30" y="120"/>
                            <a:pt x="45" y="103"/>
                          </a:cubicBezTo>
                          <a:cubicBezTo>
                            <a:pt x="60" y="86"/>
                            <a:pt x="76" y="68"/>
                            <a:pt x="90" y="54"/>
                          </a:cubicBezTo>
                          <a:cubicBezTo>
                            <a:pt x="104" y="40"/>
                            <a:pt x="118" y="30"/>
                            <a:pt x="130" y="22"/>
                          </a:cubicBezTo>
                          <a:cubicBezTo>
                            <a:pt x="142" y="14"/>
                            <a:pt x="150" y="10"/>
                            <a:pt x="162" y="7"/>
                          </a:cubicBezTo>
                          <a:cubicBezTo>
                            <a:pt x="174" y="4"/>
                            <a:pt x="191" y="2"/>
                            <a:pt x="202" y="1"/>
                          </a:cubicBezTo>
                          <a:cubicBezTo>
                            <a:pt x="213" y="0"/>
                            <a:pt x="220" y="0"/>
                            <a:pt x="228" y="1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7" name=""/>
                    <p:cNvSpPr/>
                    <p:nvPr/>
                  </p:nvSpPr>
                  <p:spPr>
                    <a:xfrm>
                      <a:off x="2473920" y="5783400"/>
                      <a:ext cx="32760" cy="14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8" h="159">
                          <a:moveTo>
                            <a:pt x="0" y="159"/>
                          </a:moveTo>
                          <a:cubicBezTo>
                            <a:pt x="15" y="139"/>
                            <a:pt x="30" y="120"/>
                            <a:pt x="45" y="103"/>
                          </a:cubicBezTo>
                          <a:cubicBezTo>
                            <a:pt x="60" y="86"/>
                            <a:pt x="76" y="68"/>
                            <a:pt x="90" y="54"/>
                          </a:cubicBezTo>
                          <a:cubicBezTo>
                            <a:pt x="104" y="40"/>
                            <a:pt x="118" y="30"/>
                            <a:pt x="130" y="22"/>
                          </a:cubicBezTo>
                          <a:cubicBezTo>
                            <a:pt x="142" y="14"/>
                            <a:pt x="150" y="10"/>
                            <a:pt x="162" y="7"/>
                          </a:cubicBezTo>
                          <a:cubicBezTo>
                            <a:pt x="174" y="4"/>
                            <a:pt x="191" y="2"/>
                            <a:pt x="202" y="1"/>
                          </a:cubicBezTo>
                          <a:cubicBezTo>
                            <a:pt x="213" y="0"/>
                            <a:pt x="220" y="0"/>
                            <a:pt x="228" y="1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8" name=""/>
                    <p:cNvSpPr/>
                    <p:nvPr/>
                  </p:nvSpPr>
                  <p:spPr>
                    <a:xfrm flipH="1" flipV="1">
                      <a:off x="2505600" y="5783040"/>
                      <a:ext cx="4680" cy="2520"/>
                    </a:xfrm>
                    <a:prstGeom prst="line">
                      <a:avLst/>
                    </a:prstGeom>
                    <a:ln w="64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9" name=""/>
                  <p:cNvSpPr/>
                  <p:nvPr/>
                </p:nvSpPr>
                <p:spPr>
                  <a:xfrm flipH="1">
                    <a:off x="2611440" y="4598640"/>
                    <a:ext cx="69120" cy="13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0" h="1467">
                        <a:moveTo>
                          <a:pt x="0" y="0"/>
                        </a:moveTo>
                        <a:cubicBezTo>
                          <a:pt x="17" y="2"/>
                          <a:pt x="34" y="4"/>
                          <a:pt x="51" y="6"/>
                        </a:cubicBezTo>
                        <a:cubicBezTo>
                          <a:pt x="68" y="8"/>
                          <a:pt x="88" y="10"/>
                          <a:pt x="102" y="15"/>
                        </a:cubicBezTo>
                        <a:cubicBezTo>
                          <a:pt x="116" y="20"/>
                          <a:pt x="122" y="23"/>
                          <a:pt x="135" y="33"/>
                        </a:cubicBezTo>
                        <a:cubicBezTo>
                          <a:pt x="148" y="43"/>
                          <a:pt x="167" y="56"/>
                          <a:pt x="180" y="78"/>
                        </a:cubicBezTo>
                        <a:cubicBezTo>
                          <a:pt x="193" y="100"/>
                          <a:pt x="204" y="120"/>
                          <a:pt x="216" y="165"/>
                        </a:cubicBezTo>
                        <a:cubicBezTo>
                          <a:pt x="228" y="210"/>
                          <a:pt x="211" y="131"/>
                          <a:pt x="255" y="348"/>
                        </a:cubicBezTo>
                        <a:cubicBezTo>
                          <a:pt x="299" y="565"/>
                          <a:pt x="389" y="1016"/>
                          <a:pt x="480" y="1467"/>
                        </a:cubicBezTo>
                      </a:path>
                    </a:pathLst>
                  </a:custGeom>
                  <a:noFill/>
                  <a:ln w="648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00" name=""/>
              <p:cNvGrpSpPr/>
              <p:nvPr/>
            </p:nvGrpSpPr>
            <p:grpSpPr>
              <a:xfrm>
                <a:off x="2334240" y="4568760"/>
                <a:ext cx="4021200" cy="1373040"/>
                <a:chOff x="2334240" y="4568760"/>
                <a:chExt cx="4021200" cy="1373040"/>
              </a:xfrm>
            </p:grpSpPr>
            <p:grpSp>
              <p:nvGrpSpPr>
                <p:cNvPr id="5401" name=""/>
                <p:cNvGrpSpPr/>
                <p:nvPr/>
              </p:nvGrpSpPr>
              <p:grpSpPr>
                <a:xfrm>
                  <a:off x="3373920" y="4603680"/>
                  <a:ext cx="414360" cy="1330200"/>
                  <a:chOff x="3373920" y="4603680"/>
                  <a:chExt cx="414360" cy="1330200"/>
                </a:xfrm>
              </p:grpSpPr>
              <p:grpSp>
                <p:nvGrpSpPr>
                  <p:cNvPr id="5402" name=""/>
                  <p:cNvGrpSpPr/>
                  <p:nvPr/>
                </p:nvGrpSpPr>
                <p:grpSpPr>
                  <a:xfrm>
                    <a:off x="3581640" y="4603680"/>
                    <a:ext cx="206640" cy="1330200"/>
                    <a:chOff x="3581640" y="4603680"/>
                    <a:chExt cx="206640" cy="1330200"/>
                  </a:xfrm>
                </p:grpSpPr>
                <p:grpSp>
                  <p:nvGrpSpPr>
                    <p:cNvPr id="5403" name=""/>
                    <p:cNvGrpSpPr/>
                    <p:nvPr/>
                  </p:nvGrpSpPr>
                  <p:grpSpPr>
                    <a:xfrm>
                      <a:off x="3650760" y="5596560"/>
                      <a:ext cx="69120" cy="337320"/>
                      <a:chOff x="3650760" y="5596560"/>
                      <a:chExt cx="69120" cy="337320"/>
                    </a:xfrm>
                  </p:grpSpPr>
                  <p:sp>
                    <p:nvSpPr>
                      <p:cNvPr id="5404" name=""/>
                      <p:cNvSpPr/>
                      <p:nvPr/>
                    </p:nvSpPr>
                    <p:spPr>
                      <a:xfrm>
                        <a:off x="3650760" y="5596560"/>
                        <a:ext cx="33840" cy="33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4" h="373">
                            <a:moveTo>
                              <a:pt x="0" y="373"/>
                            </a:moveTo>
                            <a:cubicBezTo>
                              <a:pt x="4" y="357"/>
                              <a:pt x="8" y="342"/>
                              <a:pt x="15" y="319"/>
                            </a:cubicBezTo>
                            <a:cubicBezTo>
                              <a:pt x="22" y="296"/>
                              <a:pt x="34" y="260"/>
                              <a:pt x="44" y="232"/>
                            </a:cubicBezTo>
                            <a:cubicBezTo>
                              <a:pt x="54" y="204"/>
                              <a:pt x="64" y="173"/>
                              <a:pt x="74" y="150"/>
                            </a:cubicBezTo>
                            <a:cubicBezTo>
                              <a:pt x="84" y="127"/>
                              <a:pt x="91" y="111"/>
                              <a:pt x="102" y="93"/>
                            </a:cubicBezTo>
                            <a:cubicBezTo>
                              <a:pt x="113" y="75"/>
                              <a:pt x="127" y="56"/>
                              <a:pt x="137" y="43"/>
                            </a:cubicBezTo>
                            <a:cubicBezTo>
                              <a:pt x="147" y="30"/>
                              <a:pt x="155" y="23"/>
                              <a:pt x="164" y="16"/>
                            </a:cubicBezTo>
                            <a:cubicBezTo>
                              <a:pt x="173" y="9"/>
                              <a:pt x="182" y="6"/>
                              <a:pt x="194" y="3"/>
                            </a:cubicBezTo>
                            <a:cubicBezTo>
                              <a:pt x="206" y="0"/>
                              <a:pt x="226" y="0"/>
                              <a:pt x="234" y="0"/>
                            </a:cubicBezTo>
                          </a:path>
                        </a:pathLst>
                      </a:custGeom>
                      <a:noFill/>
                      <a:ln w="6480">
                        <a:solidFill>
                          <a:srgbClr val="3333cc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05" name=""/>
                      <p:cNvSpPr/>
                      <p:nvPr/>
                    </p:nvSpPr>
                    <p:spPr>
                      <a:xfrm flipH="1">
                        <a:off x="3686040" y="5596560"/>
                        <a:ext cx="33840" cy="33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4" h="373">
                            <a:moveTo>
                              <a:pt x="0" y="373"/>
                            </a:moveTo>
                            <a:cubicBezTo>
                              <a:pt x="4" y="357"/>
                              <a:pt x="8" y="342"/>
                              <a:pt x="15" y="319"/>
                            </a:cubicBezTo>
                            <a:cubicBezTo>
                              <a:pt x="22" y="296"/>
                              <a:pt x="34" y="260"/>
                              <a:pt x="44" y="232"/>
                            </a:cubicBezTo>
                            <a:cubicBezTo>
                              <a:pt x="54" y="204"/>
                              <a:pt x="64" y="173"/>
                              <a:pt x="74" y="150"/>
                            </a:cubicBezTo>
                            <a:cubicBezTo>
                              <a:pt x="84" y="127"/>
                              <a:pt x="91" y="111"/>
                              <a:pt x="102" y="93"/>
                            </a:cubicBezTo>
                            <a:cubicBezTo>
                              <a:pt x="113" y="75"/>
                              <a:pt x="127" y="56"/>
                              <a:pt x="137" y="43"/>
                            </a:cubicBezTo>
                            <a:cubicBezTo>
                              <a:pt x="147" y="30"/>
                              <a:pt x="155" y="23"/>
                              <a:pt x="164" y="16"/>
                            </a:cubicBezTo>
                            <a:cubicBezTo>
                              <a:pt x="173" y="9"/>
                              <a:pt x="182" y="6"/>
                              <a:pt x="194" y="3"/>
                            </a:cubicBezTo>
                            <a:cubicBezTo>
                              <a:pt x="206" y="0"/>
                              <a:pt x="226" y="0"/>
                              <a:pt x="234" y="0"/>
                            </a:cubicBezTo>
                          </a:path>
                        </a:pathLst>
                      </a:custGeom>
                      <a:noFill/>
                      <a:ln w="6480">
                        <a:solidFill>
                          <a:srgbClr val="3333cc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06" name=""/>
                      <p:cNvSpPr/>
                      <p:nvPr/>
                    </p:nvSpPr>
                    <p:spPr>
                      <a:xfrm>
                        <a:off x="3683520" y="5596560"/>
                        <a:ext cx="3240" cy="0"/>
                      </a:xfrm>
                      <a:prstGeom prst="line">
                        <a:avLst/>
                      </a:prstGeom>
                      <a:ln w="648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07" name=""/>
                    <p:cNvGrpSpPr/>
                    <p:nvPr/>
                  </p:nvGrpSpPr>
                  <p:grpSpPr>
                    <a:xfrm>
                      <a:off x="3720240" y="5787720"/>
                      <a:ext cx="68040" cy="144720"/>
                      <a:chOff x="3720240" y="5787720"/>
                      <a:chExt cx="68040" cy="144720"/>
                    </a:xfrm>
                  </p:grpSpPr>
                  <p:sp>
                    <p:nvSpPr>
                      <p:cNvPr id="5408" name=""/>
                      <p:cNvSpPr/>
                      <p:nvPr/>
                    </p:nvSpPr>
                    <p:spPr>
                      <a:xfrm>
                        <a:off x="3720240" y="5788800"/>
                        <a:ext cx="32760" cy="14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8" h="159">
                            <a:moveTo>
                              <a:pt x="0" y="159"/>
                            </a:moveTo>
                            <a:cubicBezTo>
                              <a:pt x="15" y="139"/>
                              <a:pt x="30" y="120"/>
                              <a:pt x="45" y="103"/>
                            </a:cubicBezTo>
                            <a:cubicBezTo>
                              <a:pt x="60" y="86"/>
                              <a:pt x="76" y="68"/>
                              <a:pt x="90" y="54"/>
                            </a:cubicBezTo>
                            <a:cubicBezTo>
                              <a:pt x="104" y="40"/>
                              <a:pt x="118" y="30"/>
                              <a:pt x="130" y="22"/>
                            </a:cubicBezTo>
                            <a:cubicBezTo>
                              <a:pt x="142" y="14"/>
                              <a:pt x="150" y="10"/>
                              <a:pt x="162" y="7"/>
                            </a:cubicBezTo>
                            <a:cubicBezTo>
                              <a:pt x="174" y="4"/>
                              <a:pt x="191" y="2"/>
                              <a:pt x="202" y="1"/>
                            </a:cubicBezTo>
                            <a:cubicBezTo>
                              <a:pt x="213" y="0"/>
                              <a:pt x="220" y="0"/>
                              <a:pt x="228" y="1"/>
                            </a:cubicBezTo>
                          </a:path>
                        </a:pathLst>
                      </a:custGeom>
                      <a:noFill/>
                      <a:ln w="6480">
                        <a:solidFill>
                          <a:srgbClr val="3333cc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09" name=""/>
                      <p:cNvSpPr/>
                      <p:nvPr/>
                    </p:nvSpPr>
                    <p:spPr>
                      <a:xfrm flipH="1">
                        <a:off x="3755160" y="5788080"/>
                        <a:ext cx="32760" cy="14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8" h="159">
                            <a:moveTo>
                              <a:pt x="0" y="159"/>
                            </a:moveTo>
                            <a:cubicBezTo>
                              <a:pt x="15" y="139"/>
                              <a:pt x="30" y="120"/>
                              <a:pt x="45" y="103"/>
                            </a:cubicBezTo>
                            <a:cubicBezTo>
                              <a:pt x="60" y="86"/>
                              <a:pt x="76" y="68"/>
                              <a:pt x="90" y="54"/>
                            </a:cubicBezTo>
                            <a:cubicBezTo>
                              <a:pt x="104" y="40"/>
                              <a:pt x="118" y="30"/>
                              <a:pt x="130" y="22"/>
                            </a:cubicBezTo>
                            <a:cubicBezTo>
                              <a:pt x="142" y="14"/>
                              <a:pt x="150" y="10"/>
                              <a:pt x="162" y="7"/>
                            </a:cubicBezTo>
                            <a:cubicBezTo>
                              <a:pt x="174" y="4"/>
                              <a:pt x="191" y="2"/>
                              <a:pt x="202" y="1"/>
                            </a:cubicBezTo>
                            <a:cubicBezTo>
                              <a:pt x="213" y="0"/>
                              <a:pt x="220" y="0"/>
                              <a:pt x="228" y="1"/>
                            </a:cubicBezTo>
                          </a:path>
                        </a:pathLst>
                      </a:custGeom>
                      <a:noFill/>
                      <a:ln w="6480">
                        <a:solidFill>
                          <a:srgbClr val="3333cc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0" name=""/>
                      <p:cNvSpPr/>
                      <p:nvPr/>
                    </p:nvSpPr>
                    <p:spPr>
                      <a:xfrm flipV="1">
                        <a:off x="3751920" y="5787720"/>
                        <a:ext cx="4680" cy="2520"/>
                      </a:xfrm>
                      <a:prstGeom prst="line">
                        <a:avLst/>
                      </a:prstGeom>
                      <a:ln w="648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411" name=""/>
                    <p:cNvSpPr/>
                    <p:nvPr/>
                  </p:nvSpPr>
                  <p:spPr>
                    <a:xfrm>
                      <a:off x="3581640" y="4603680"/>
                      <a:ext cx="69120" cy="13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0" h="1467">
                          <a:moveTo>
                            <a:pt x="0" y="0"/>
                          </a:moveTo>
                          <a:cubicBezTo>
                            <a:pt x="17" y="2"/>
                            <a:pt x="34" y="4"/>
                            <a:pt x="51" y="6"/>
                          </a:cubicBezTo>
                          <a:cubicBezTo>
                            <a:pt x="68" y="8"/>
                            <a:pt x="88" y="10"/>
                            <a:pt x="102" y="15"/>
                          </a:cubicBezTo>
                          <a:cubicBezTo>
                            <a:pt x="116" y="20"/>
                            <a:pt x="122" y="23"/>
                            <a:pt x="135" y="33"/>
                          </a:cubicBezTo>
                          <a:cubicBezTo>
                            <a:pt x="148" y="43"/>
                            <a:pt x="167" y="56"/>
                            <a:pt x="180" y="78"/>
                          </a:cubicBezTo>
                          <a:cubicBezTo>
                            <a:pt x="193" y="100"/>
                            <a:pt x="204" y="120"/>
                            <a:pt x="216" y="165"/>
                          </a:cubicBezTo>
                          <a:cubicBezTo>
                            <a:pt x="228" y="210"/>
                            <a:pt x="211" y="131"/>
                            <a:pt x="255" y="348"/>
                          </a:cubicBezTo>
                          <a:cubicBezTo>
                            <a:pt x="299" y="565"/>
                            <a:pt x="389" y="1016"/>
                            <a:pt x="480" y="1467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12" name=""/>
                  <p:cNvGrpSpPr/>
                  <p:nvPr/>
                </p:nvGrpSpPr>
                <p:grpSpPr>
                  <a:xfrm>
                    <a:off x="3373920" y="4603680"/>
                    <a:ext cx="206640" cy="1330200"/>
                    <a:chOff x="3373920" y="4603680"/>
                    <a:chExt cx="206640" cy="1330200"/>
                  </a:xfrm>
                </p:grpSpPr>
                <p:grpSp>
                  <p:nvGrpSpPr>
                    <p:cNvPr id="5413" name=""/>
                    <p:cNvGrpSpPr/>
                    <p:nvPr/>
                  </p:nvGrpSpPr>
                  <p:grpSpPr>
                    <a:xfrm>
                      <a:off x="3442320" y="5596560"/>
                      <a:ext cx="69120" cy="337320"/>
                      <a:chOff x="3442320" y="5596560"/>
                      <a:chExt cx="69120" cy="337320"/>
                    </a:xfrm>
                  </p:grpSpPr>
                  <p:sp>
                    <p:nvSpPr>
                      <p:cNvPr id="5414" name=""/>
                      <p:cNvSpPr/>
                      <p:nvPr/>
                    </p:nvSpPr>
                    <p:spPr>
                      <a:xfrm flipH="1">
                        <a:off x="3477600" y="5596560"/>
                        <a:ext cx="33840" cy="33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4" h="373">
                            <a:moveTo>
                              <a:pt x="0" y="373"/>
                            </a:moveTo>
                            <a:cubicBezTo>
                              <a:pt x="4" y="357"/>
                              <a:pt x="8" y="342"/>
                              <a:pt x="15" y="319"/>
                            </a:cubicBezTo>
                            <a:cubicBezTo>
                              <a:pt x="22" y="296"/>
                              <a:pt x="34" y="260"/>
                              <a:pt x="44" y="232"/>
                            </a:cubicBezTo>
                            <a:cubicBezTo>
                              <a:pt x="54" y="204"/>
                              <a:pt x="64" y="173"/>
                              <a:pt x="74" y="150"/>
                            </a:cubicBezTo>
                            <a:cubicBezTo>
                              <a:pt x="84" y="127"/>
                              <a:pt x="91" y="111"/>
                              <a:pt x="102" y="93"/>
                            </a:cubicBezTo>
                            <a:cubicBezTo>
                              <a:pt x="113" y="75"/>
                              <a:pt x="127" y="56"/>
                              <a:pt x="137" y="43"/>
                            </a:cubicBezTo>
                            <a:cubicBezTo>
                              <a:pt x="147" y="30"/>
                              <a:pt x="155" y="23"/>
                              <a:pt x="164" y="16"/>
                            </a:cubicBezTo>
                            <a:cubicBezTo>
                              <a:pt x="173" y="9"/>
                              <a:pt x="182" y="6"/>
                              <a:pt x="194" y="3"/>
                            </a:cubicBezTo>
                            <a:cubicBezTo>
                              <a:pt x="206" y="0"/>
                              <a:pt x="226" y="0"/>
                              <a:pt x="234" y="0"/>
                            </a:cubicBezTo>
                          </a:path>
                        </a:pathLst>
                      </a:custGeom>
                      <a:noFill/>
                      <a:ln w="6480">
                        <a:solidFill>
                          <a:srgbClr val="3333cc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5" name=""/>
                      <p:cNvSpPr/>
                      <p:nvPr/>
                    </p:nvSpPr>
                    <p:spPr>
                      <a:xfrm>
                        <a:off x="3442320" y="5596560"/>
                        <a:ext cx="33840" cy="33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4" h="373">
                            <a:moveTo>
                              <a:pt x="0" y="373"/>
                            </a:moveTo>
                            <a:cubicBezTo>
                              <a:pt x="4" y="357"/>
                              <a:pt x="8" y="342"/>
                              <a:pt x="15" y="319"/>
                            </a:cubicBezTo>
                            <a:cubicBezTo>
                              <a:pt x="22" y="296"/>
                              <a:pt x="34" y="260"/>
                              <a:pt x="44" y="232"/>
                            </a:cubicBezTo>
                            <a:cubicBezTo>
                              <a:pt x="54" y="204"/>
                              <a:pt x="64" y="173"/>
                              <a:pt x="74" y="150"/>
                            </a:cubicBezTo>
                            <a:cubicBezTo>
                              <a:pt x="84" y="127"/>
                              <a:pt x="91" y="111"/>
                              <a:pt x="102" y="93"/>
                            </a:cubicBezTo>
                            <a:cubicBezTo>
                              <a:pt x="113" y="75"/>
                              <a:pt x="127" y="56"/>
                              <a:pt x="137" y="43"/>
                            </a:cubicBezTo>
                            <a:cubicBezTo>
                              <a:pt x="147" y="30"/>
                              <a:pt x="155" y="23"/>
                              <a:pt x="164" y="16"/>
                            </a:cubicBezTo>
                            <a:cubicBezTo>
                              <a:pt x="173" y="9"/>
                              <a:pt x="182" y="6"/>
                              <a:pt x="194" y="3"/>
                            </a:cubicBezTo>
                            <a:cubicBezTo>
                              <a:pt x="206" y="0"/>
                              <a:pt x="226" y="0"/>
                              <a:pt x="234" y="0"/>
                            </a:cubicBezTo>
                          </a:path>
                        </a:pathLst>
                      </a:custGeom>
                      <a:noFill/>
                      <a:ln w="6480">
                        <a:solidFill>
                          <a:srgbClr val="3333cc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6" name=""/>
                      <p:cNvSpPr/>
                      <p:nvPr/>
                    </p:nvSpPr>
                    <p:spPr>
                      <a:xfrm flipH="1">
                        <a:off x="3475440" y="5596560"/>
                        <a:ext cx="3240" cy="0"/>
                      </a:xfrm>
                      <a:prstGeom prst="line">
                        <a:avLst/>
                      </a:prstGeom>
                      <a:ln w="648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17" name=""/>
                    <p:cNvGrpSpPr/>
                    <p:nvPr/>
                  </p:nvGrpSpPr>
                  <p:grpSpPr>
                    <a:xfrm>
                      <a:off x="3373920" y="5787720"/>
                      <a:ext cx="68040" cy="144720"/>
                      <a:chOff x="3373920" y="5787720"/>
                      <a:chExt cx="68040" cy="144720"/>
                    </a:xfrm>
                  </p:grpSpPr>
                  <p:sp>
                    <p:nvSpPr>
                      <p:cNvPr id="5418" name=""/>
                      <p:cNvSpPr/>
                      <p:nvPr/>
                    </p:nvSpPr>
                    <p:spPr>
                      <a:xfrm flipH="1">
                        <a:off x="3408840" y="5788800"/>
                        <a:ext cx="32760" cy="14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8" h="159">
                            <a:moveTo>
                              <a:pt x="0" y="159"/>
                            </a:moveTo>
                            <a:cubicBezTo>
                              <a:pt x="15" y="139"/>
                              <a:pt x="30" y="120"/>
                              <a:pt x="45" y="103"/>
                            </a:cubicBezTo>
                            <a:cubicBezTo>
                              <a:pt x="60" y="86"/>
                              <a:pt x="76" y="68"/>
                              <a:pt x="90" y="54"/>
                            </a:cubicBezTo>
                            <a:cubicBezTo>
                              <a:pt x="104" y="40"/>
                              <a:pt x="118" y="30"/>
                              <a:pt x="130" y="22"/>
                            </a:cubicBezTo>
                            <a:cubicBezTo>
                              <a:pt x="142" y="14"/>
                              <a:pt x="150" y="10"/>
                              <a:pt x="162" y="7"/>
                            </a:cubicBezTo>
                            <a:cubicBezTo>
                              <a:pt x="174" y="4"/>
                              <a:pt x="191" y="2"/>
                              <a:pt x="202" y="1"/>
                            </a:cubicBezTo>
                            <a:cubicBezTo>
                              <a:pt x="213" y="0"/>
                              <a:pt x="220" y="0"/>
                              <a:pt x="228" y="1"/>
                            </a:cubicBezTo>
                          </a:path>
                        </a:pathLst>
                      </a:custGeom>
                      <a:noFill/>
                      <a:ln w="6480">
                        <a:solidFill>
                          <a:srgbClr val="3333cc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9" name=""/>
                      <p:cNvSpPr/>
                      <p:nvPr/>
                    </p:nvSpPr>
                    <p:spPr>
                      <a:xfrm>
                        <a:off x="3373920" y="5788080"/>
                        <a:ext cx="32760" cy="14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8" h="159">
                            <a:moveTo>
                              <a:pt x="0" y="159"/>
                            </a:moveTo>
                            <a:cubicBezTo>
                              <a:pt x="15" y="139"/>
                              <a:pt x="30" y="120"/>
                              <a:pt x="45" y="103"/>
                            </a:cubicBezTo>
                            <a:cubicBezTo>
                              <a:pt x="60" y="86"/>
                              <a:pt x="76" y="68"/>
                              <a:pt x="90" y="54"/>
                            </a:cubicBezTo>
                            <a:cubicBezTo>
                              <a:pt x="104" y="40"/>
                              <a:pt x="118" y="30"/>
                              <a:pt x="130" y="22"/>
                            </a:cubicBezTo>
                            <a:cubicBezTo>
                              <a:pt x="142" y="14"/>
                              <a:pt x="150" y="10"/>
                              <a:pt x="162" y="7"/>
                            </a:cubicBezTo>
                            <a:cubicBezTo>
                              <a:pt x="174" y="4"/>
                              <a:pt x="191" y="2"/>
                              <a:pt x="202" y="1"/>
                            </a:cubicBezTo>
                            <a:cubicBezTo>
                              <a:pt x="213" y="0"/>
                              <a:pt x="220" y="0"/>
                              <a:pt x="228" y="1"/>
                            </a:cubicBezTo>
                          </a:path>
                        </a:pathLst>
                      </a:custGeom>
                      <a:noFill/>
                      <a:ln w="6480">
                        <a:solidFill>
                          <a:srgbClr val="3333cc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20" name=""/>
                      <p:cNvSpPr/>
                      <p:nvPr/>
                    </p:nvSpPr>
                    <p:spPr>
                      <a:xfrm flipH="1" flipV="1">
                        <a:off x="3405600" y="5787720"/>
                        <a:ext cx="4680" cy="2520"/>
                      </a:xfrm>
                      <a:prstGeom prst="line">
                        <a:avLst/>
                      </a:prstGeom>
                      <a:ln w="648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421" name=""/>
                    <p:cNvSpPr/>
                    <p:nvPr/>
                  </p:nvSpPr>
                  <p:spPr>
                    <a:xfrm flipH="1">
                      <a:off x="3511440" y="4603680"/>
                      <a:ext cx="69120" cy="13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0" h="1467">
                          <a:moveTo>
                            <a:pt x="0" y="0"/>
                          </a:moveTo>
                          <a:cubicBezTo>
                            <a:pt x="17" y="2"/>
                            <a:pt x="34" y="4"/>
                            <a:pt x="51" y="6"/>
                          </a:cubicBezTo>
                          <a:cubicBezTo>
                            <a:pt x="68" y="8"/>
                            <a:pt x="88" y="10"/>
                            <a:pt x="102" y="15"/>
                          </a:cubicBezTo>
                          <a:cubicBezTo>
                            <a:pt x="116" y="20"/>
                            <a:pt x="122" y="23"/>
                            <a:pt x="135" y="33"/>
                          </a:cubicBezTo>
                          <a:cubicBezTo>
                            <a:pt x="148" y="43"/>
                            <a:pt x="167" y="56"/>
                            <a:pt x="180" y="78"/>
                          </a:cubicBezTo>
                          <a:cubicBezTo>
                            <a:pt x="193" y="100"/>
                            <a:pt x="204" y="120"/>
                            <a:pt x="216" y="165"/>
                          </a:cubicBezTo>
                          <a:cubicBezTo>
                            <a:pt x="228" y="210"/>
                            <a:pt x="211" y="131"/>
                            <a:pt x="255" y="348"/>
                          </a:cubicBezTo>
                          <a:cubicBezTo>
                            <a:pt x="299" y="565"/>
                            <a:pt x="389" y="1016"/>
                            <a:pt x="480" y="1467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33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422" name=""/>
                <p:cNvGrpSpPr/>
                <p:nvPr/>
              </p:nvGrpSpPr>
              <p:grpSpPr>
                <a:xfrm>
                  <a:off x="2611800" y="4598640"/>
                  <a:ext cx="414720" cy="1330200"/>
                  <a:chOff x="2611800" y="4598640"/>
                  <a:chExt cx="414720" cy="1330200"/>
                </a:xfrm>
              </p:grpSpPr>
              <p:grpSp>
                <p:nvGrpSpPr>
                  <p:cNvPr id="5423" name=""/>
                  <p:cNvGrpSpPr/>
                  <p:nvPr/>
                </p:nvGrpSpPr>
                <p:grpSpPr>
                  <a:xfrm>
                    <a:off x="2819880" y="4598640"/>
                    <a:ext cx="206640" cy="1330200"/>
                    <a:chOff x="2819880" y="4598640"/>
                    <a:chExt cx="206640" cy="1330200"/>
                  </a:xfrm>
                </p:grpSpPr>
                <p:grpSp>
                  <p:nvGrpSpPr>
                    <p:cNvPr id="5424" name=""/>
                    <p:cNvGrpSpPr/>
                    <p:nvPr/>
                  </p:nvGrpSpPr>
                  <p:grpSpPr>
                    <a:xfrm>
                      <a:off x="2889000" y="5591520"/>
                      <a:ext cx="69120" cy="337320"/>
                      <a:chOff x="2889000" y="5591520"/>
                      <a:chExt cx="69120" cy="337320"/>
                    </a:xfrm>
                  </p:grpSpPr>
                  <p:sp>
                    <p:nvSpPr>
                      <p:cNvPr id="5425" name=""/>
                      <p:cNvSpPr/>
                      <p:nvPr/>
                    </p:nvSpPr>
                    <p:spPr>
                      <a:xfrm>
                        <a:off x="2889000" y="5591520"/>
                        <a:ext cx="33840" cy="33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4" h="373">
                            <a:moveTo>
                              <a:pt x="0" y="373"/>
                            </a:moveTo>
                            <a:cubicBezTo>
                              <a:pt x="4" y="357"/>
                              <a:pt x="8" y="342"/>
                              <a:pt x="15" y="319"/>
                            </a:cubicBezTo>
                            <a:cubicBezTo>
                              <a:pt x="22" y="296"/>
                              <a:pt x="34" y="260"/>
                              <a:pt x="44" y="232"/>
                            </a:cubicBezTo>
                            <a:cubicBezTo>
                              <a:pt x="54" y="204"/>
                              <a:pt x="64" y="173"/>
                              <a:pt x="74" y="150"/>
                            </a:cubicBezTo>
                            <a:cubicBezTo>
                              <a:pt x="84" y="127"/>
                              <a:pt x="91" y="111"/>
                              <a:pt x="102" y="93"/>
                            </a:cubicBezTo>
                            <a:cubicBezTo>
                              <a:pt x="113" y="75"/>
                              <a:pt x="127" y="56"/>
                              <a:pt x="137" y="43"/>
                            </a:cubicBezTo>
                            <a:cubicBezTo>
                              <a:pt x="147" y="30"/>
                              <a:pt x="155" y="23"/>
                              <a:pt x="164" y="16"/>
                            </a:cubicBezTo>
                            <a:cubicBezTo>
                              <a:pt x="173" y="9"/>
                              <a:pt x="182" y="6"/>
                              <a:pt x="194" y="3"/>
                            </a:cubicBezTo>
                            <a:cubicBezTo>
                              <a:pt x="206" y="0"/>
                              <a:pt x="226" y="0"/>
                              <a:pt x="234" y="0"/>
                            </a:cubicBezTo>
                          </a:path>
                        </a:pathLst>
                      </a:custGeom>
                      <a:noFill/>
                      <a:ln w="64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26" name=""/>
                      <p:cNvSpPr/>
                      <p:nvPr/>
                    </p:nvSpPr>
                    <p:spPr>
                      <a:xfrm flipH="1">
                        <a:off x="2924280" y="5591520"/>
                        <a:ext cx="33840" cy="33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4" h="373">
                            <a:moveTo>
                              <a:pt x="0" y="373"/>
                            </a:moveTo>
                            <a:cubicBezTo>
                              <a:pt x="4" y="357"/>
                              <a:pt x="8" y="342"/>
                              <a:pt x="15" y="319"/>
                            </a:cubicBezTo>
                            <a:cubicBezTo>
                              <a:pt x="22" y="296"/>
                              <a:pt x="34" y="260"/>
                              <a:pt x="44" y="232"/>
                            </a:cubicBezTo>
                            <a:cubicBezTo>
                              <a:pt x="54" y="204"/>
                              <a:pt x="64" y="173"/>
                              <a:pt x="74" y="150"/>
                            </a:cubicBezTo>
                            <a:cubicBezTo>
                              <a:pt x="84" y="127"/>
                              <a:pt x="91" y="111"/>
                              <a:pt x="102" y="93"/>
                            </a:cubicBezTo>
                            <a:cubicBezTo>
                              <a:pt x="113" y="75"/>
                              <a:pt x="127" y="56"/>
                              <a:pt x="137" y="43"/>
                            </a:cubicBezTo>
                            <a:cubicBezTo>
                              <a:pt x="147" y="30"/>
                              <a:pt x="155" y="23"/>
                              <a:pt x="164" y="16"/>
                            </a:cubicBezTo>
                            <a:cubicBezTo>
                              <a:pt x="173" y="9"/>
                              <a:pt x="182" y="6"/>
                              <a:pt x="194" y="3"/>
                            </a:cubicBezTo>
                            <a:cubicBezTo>
                              <a:pt x="206" y="0"/>
                              <a:pt x="226" y="0"/>
                              <a:pt x="234" y="0"/>
                            </a:cubicBezTo>
                          </a:path>
                        </a:pathLst>
                      </a:custGeom>
                      <a:noFill/>
                      <a:ln w="64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27" name=""/>
                      <p:cNvSpPr/>
                      <p:nvPr/>
                    </p:nvSpPr>
                    <p:spPr>
                      <a:xfrm>
                        <a:off x="2921760" y="5591520"/>
                        <a:ext cx="3240" cy="0"/>
                      </a:xfrm>
                      <a:prstGeom prst="line">
                        <a:avLst/>
                      </a:prstGeom>
                      <a:ln w="64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28" name=""/>
                    <p:cNvGrpSpPr/>
                    <p:nvPr/>
                  </p:nvGrpSpPr>
                  <p:grpSpPr>
                    <a:xfrm>
                      <a:off x="2958480" y="5783040"/>
                      <a:ext cx="68040" cy="144720"/>
                      <a:chOff x="2958480" y="5783040"/>
                      <a:chExt cx="68040" cy="144720"/>
                    </a:xfrm>
                  </p:grpSpPr>
                  <p:sp>
                    <p:nvSpPr>
                      <p:cNvPr id="5429" name=""/>
                      <p:cNvSpPr/>
                      <p:nvPr/>
                    </p:nvSpPr>
                    <p:spPr>
                      <a:xfrm>
                        <a:off x="2958480" y="5784120"/>
                        <a:ext cx="32760" cy="14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8" h="159">
                            <a:moveTo>
                              <a:pt x="0" y="159"/>
                            </a:moveTo>
                            <a:cubicBezTo>
                              <a:pt x="15" y="139"/>
                              <a:pt x="30" y="120"/>
                              <a:pt x="45" y="103"/>
                            </a:cubicBezTo>
                            <a:cubicBezTo>
                              <a:pt x="60" y="86"/>
                              <a:pt x="76" y="68"/>
                              <a:pt x="90" y="54"/>
                            </a:cubicBezTo>
                            <a:cubicBezTo>
                              <a:pt x="104" y="40"/>
                              <a:pt x="118" y="30"/>
                              <a:pt x="130" y="22"/>
                            </a:cubicBezTo>
                            <a:cubicBezTo>
                              <a:pt x="142" y="14"/>
                              <a:pt x="150" y="10"/>
                              <a:pt x="162" y="7"/>
                            </a:cubicBezTo>
                            <a:cubicBezTo>
                              <a:pt x="174" y="4"/>
                              <a:pt x="191" y="2"/>
                              <a:pt x="202" y="1"/>
                            </a:cubicBezTo>
                            <a:cubicBezTo>
                              <a:pt x="213" y="0"/>
                              <a:pt x="220" y="0"/>
                              <a:pt x="228" y="1"/>
                            </a:cubicBezTo>
                          </a:path>
                        </a:pathLst>
                      </a:custGeom>
                      <a:noFill/>
                      <a:ln w="64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30" name=""/>
                      <p:cNvSpPr/>
                      <p:nvPr/>
                    </p:nvSpPr>
                    <p:spPr>
                      <a:xfrm flipH="1">
                        <a:off x="2993400" y="5783400"/>
                        <a:ext cx="32760" cy="14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8" h="159">
                            <a:moveTo>
                              <a:pt x="0" y="159"/>
                            </a:moveTo>
                            <a:cubicBezTo>
                              <a:pt x="15" y="139"/>
                              <a:pt x="30" y="120"/>
                              <a:pt x="45" y="103"/>
                            </a:cubicBezTo>
                            <a:cubicBezTo>
                              <a:pt x="60" y="86"/>
                              <a:pt x="76" y="68"/>
                              <a:pt x="90" y="54"/>
                            </a:cubicBezTo>
                            <a:cubicBezTo>
                              <a:pt x="104" y="40"/>
                              <a:pt x="118" y="30"/>
                              <a:pt x="130" y="22"/>
                            </a:cubicBezTo>
                            <a:cubicBezTo>
                              <a:pt x="142" y="14"/>
                              <a:pt x="150" y="10"/>
                              <a:pt x="162" y="7"/>
                            </a:cubicBezTo>
                            <a:cubicBezTo>
                              <a:pt x="174" y="4"/>
                              <a:pt x="191" y="2"/>
                              <a:pt x="202" y="1"/>
                            </a:cubicBezTo>
                            <a:cubicBezTo>
                              <a:pt x="213" y="0"/>
                              <a:pt x="220" y="0"/>
                              <a:pt x="228" y="1"/>
                            </a:cubicBezTo>
                          </a:path>
                        </a:pathLst>
                      </a:custGeom>
                      <a:noFill/>
                      <a:ln w="64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31" name=""/>
                      <p:cNvSpPr/>
                      <p:nvPr/>
                    </p:nvSpPr>
                    <p:spPr>
                      <a:xfrm flipV="1">
                        <a:off x="2990160" y="5783040"/>
                        <a:ext cx="4680" cy="2520"/>
                      </a:xfrm>
                      <a:prstGeom prst="line">
                        <a:avLst/>
                      </a:prstGeom>
                      <a:ln w="64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432" name=""/>
                    <p:cNvSpPr/>
                    <p:nvPr/>
                  </p:nvSpPr>
                  <p:spPr>
                    <a:xfrm>
                      <a:off x="2819880" y="4598640"/>
                      <a:ext cx="69120" cy="132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0" h="1467">
                          <a:moveTo>
                            <a:pt x="0" y="0"/>
                          </a:moveTo>
                          <a:cubicBezTo>
                            <a:pt x="17" y="2"/>
                            <a:pt x="34" y="4"/>
                            <a:pt x="51" y="6"/>
                          </a:cubicBezTo>
                          <a:cubicBezTo>
                            <a:pt x="68" y="8"/>
                            <a:pt x="88" y="10"/>
                            <a:pt x="102" y="15"/>
                          </a:cubicBezTo>
                          <a:cubicBezTo>
                            <a:pt x="116" y="20"/>
                            <a:pt x="122" y="23"/>
                            <a:pt x="135" y="33"/>
                          </a:cubicBezTo>
                          <a:cubicBezTo>
                            <a:pt x="148" y="43"/>
                            <a:pt x="167" y="56"/>
                            <a:pt x="180" y="78"/>
                          </a:cubicBezTo>
                          <a:cubicBezTo>
                            <a:pt x="193" y="100"/>
                            <a:pt x="204" y="120"/>
                            <a:pt x="216" y="165"/>
                          </a:cubicBezTo>
                          <a:cubicBezTo>
                            <a:pt x="228" y="210"/>
                            <a:pt x="211" y="131"/>
                            <a:pt x="255" y="348"/>
                          </a:cubicBezTo>
                          <a:cubicBezTo>
                            <a:pt x="299" y="565"/>
                            <a:pt x="389" y="1016"/>
                            <a:pt x="480" y="1467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33" name=""/>
                  <p:cNvGrpSpPr/>
                  <p:nvPr/>
                </p:nvGrpSpPr>
                <p:grpSpPr>
                  <a:xfrm>
                    <a:off x="2611800" y="4598640"/>
                    <a:ext cx="206640" cy="1330200"/>
                    <a:chOff x="2611800" y="4598640"/>
                    <a:chExt cx="206640" cy="1330200"/>
                  </a:xfrm>
                </p:grpSpPr>
                <p:grpSp>
                  <p:nvGrpSpPr>
                    <p:cNvPr id="5434" name=""/>
                    <p:cNvGrpSpPr/>
                    <p:nvPr/>
                  </p:nvGrpSpPr>
                  <p:grpSpPr>
                    <a:xfrm>
                      <a:off x="2680200" y="5591520"/>
                      <a:ext cx="69120" cy="337320"/>
                      <a:chOff x="2680200" y="5591520"/>
                      <a:chExt cx="69120" cy="337320"/>
                    </a:xfrm>
                  </p:grpSpPr>
                  <p:sp>
                    <p:nvSpPr>
                      <p:cNvPr id="5435" name=""/>
                      <p:cNvSpPr/>
                      <p:nvPr/>
                    </p:nvSpPr>
                    <p:spPr>
                      <a:xfrm flipH="1">
                        <a:off x="2715480" y="5591520"/>
                        <a:ext cx="33840" cy="33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4" h="373">
                            <a:moveTo>
                              <a:pt x="0" y="373"/>
                            </a:moveTo>
                            <a:cubicBezTo>
                              <a:pt x="4" y="357"/>
                              <a:pt x="8" y="342"/>
                              <a:pt x="15" y="319"/>
                            </a:cubicBezTo>
                            <a:cubicBezTo>
                              <a:pt x="22" y="296"/>
                              <a:pt x="34" y="260"/>
                              <a:pt x="44" y="232"/>
                            </a:cubicBezTo>
                            <a:cubicBezTo>
                              <a:pt x="54" y="204"/>
                              <a:pt x="64" y="173"/>
                              <a:pt x="74" y="150"/>
                            </a:cubicBezTo>
                            <a:cubicBezTo>
                              <a:pt x="84" y="127"/>
                              <a:pt x="91" y="111"/>
                              <a:pt x="102" y="93"/>
                            </a:cubicBezTo>
                            <a:cubicBezTo>
                              <a:pt x="113" y="75"/>
                              <a:pt x="127" y="56"/>
                              <a:pt x="137" y="43"/>
                            </a:cubicBezTo>
                            <a:cubicBezTo>
                              <a:pt x="147" y="30"/>
                              <a:pt x="155" y="23"/>
                              <a:pt x="164" y="16"/>
                            </a:cubicBezTo>
                            <a:cubicBezTo>
                              <a:pt x="173" y="9"/>
                              <a:pt x="182" y="6"/>
                              <a:pt x="194" y="3"/>
                            </a:cubicBezTo>
                            <a:cubicBezTo>
                              <a:pt x="206" y="0"/>
                              <a:pt x="226" y="0"/>
                              <a:pt x="234" y="0"/>
                            </a:cubicBezTo>
                          </a:path>
                        </a:pathLst>
                      </a:custGeom>
                      <a:noFill/>
                      <a:ln w="64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36" name=""/>
                      <p:cNvSpPr/>
                      <p:nvPr/>
                    </p:nvSpPr>
                    <p:spPr>
                      <a:xfrm>
                        <a:off x="2680200" y="5591520"/>
                        <a:ext cx="33840" cy="33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4" h="373">
                            <a:moveTo>
                              <a:pt x="0" y="373"/>
                            </a:moveTo>
                            <a:cubicBezTo>
                              <a:pt x="4" y="357"/>
                              <a:pt x="8" y="342"/>
                              <a:pt x="15" y="319"/>
                            </a:cubicBezTo>
                            <a:cubicBezTo>
                              <a:pt x="22" y="296"/>
                              <a:pt x="34" y="260"/>
                              <a:pt x="44" y="232"/>
                            </a:cubicBezTo>
                            <a:cubicBezTo>
                              <a:pt x="54" y="204"/>
                              <a:pt x="64" y="173"/>
                              <a:pt x="74" y="150"/>
                            </a:cubicBezTo>
                            <a:cubicBezTo>
                              <a:pt x="84" y="127"/>
                              <a:pt x="91" y="111"/>
                              <a:pt x="102" y="93"/>
                            </a:cubicBezTo>
                            <a:cubicBezTo>
                              <a:pt x="113" y="75"/>
                              <a:pt x="127" y="56"/>
                              <a:pt x="137" y="43"/>
                            </a:cubicBezTo>
                            <a:cubicBezTo>
                              <a:pt x="147" y="30"/>
                              <a:pt x="155" y="23"/>
                              <a:pt x="164" y="16"/>
                            </a:cubicBezTo>
                            <a:cubicBezTo>
                              <a:pt x="173" y="9"/>
                              <a:pt x="182" y="6"/>
                              <a:pt x="194" y="3"/>
                            </a:cubicBezTo>
                            <a:cubicBezTo>
                              <a:pt x="206" y="0"/>
                              <a:pt x="226" y="0"/>
                              <a:pt x="234" y="0"/>
                            </a:cubicBezTo>
                          </a:path>
                        </a:pathLst>
                      </a:custGeom>
                      <a:noFill/>
                      <a:ln w="64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37" name=""/>
                      <p:cNvSpPr/>
                      <p:nvPr/>
                    </p:nvSpPr>
                    <p:spPr>
                      <a:xfrm flipH="1">
                        <a:off x="2713320" y="5591520"/>
                        <a:ext cx="3240" cy="0"/>
                      </a:xfrm>
                      <a:prstGeom prst="line">
                        <a:avLst/>
                      </a:prstGeom>
                      <a:ln w="64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38" name=""/>
                    <p:cNvGrpSpPr/>
                    <p:nvPr/>
                  </p:nvGrpSpPr>
                  <p:grpSpPr>
                    <a:xfrm>
                      <a:off x="2611800" y="5783040"/>
                      <a:ext cx="68040" cy="144720"/>
                      <a:chOff x="2611800" y="5783040"/>
                      <a:chExt cx="68040" cy="144720"/>
                    </a:xfrm>
                  </p:grpSpPr>
                  <p:sp>
                    <p:nvSpPr>
                      <p:cNvPr id="5439" name=""/>
                      <p:cNvSpPr/>
                      <p:nvPr/>
                    </p:nvSpPr>
                    <p:spPr>
                      <a:xfrm flipH="1">
                        <a:off x="2646720" y="5784120"/>
                        <a:ext cx="32760" cy="14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8" h="159">
                            <a:moveTo>
                              <a:pt x="0" y="159"/>
                            </a:moveTo>
                            <a:cubicBezTo>
                              <a:pt x="15" y="139"/>
                              <a:pt x="30" y="120"/>
                              <a:pt x="45" y="103"/>
                            </a:cubicBezTo>
                            <a:cubicBezTo>
                              <a:pt x="60" y="86"/>
                              <a:pt x="76" y="68"/>
                              <a:pt x="90" y="54"/>
                            </a:cubicBezTo>
                            <a:cubicBezTo>
                              <a:pt x="104" y="40"/>
                              <a:pt x="118" y="30"/>
                              <a:pt x="130" y="22"/>
                            </a:cubicBezTo>
                            <a:cubicBezTo>
                              <a:pt x="142" y="14"/>
                              <a:pt x="150" y="10"/>
                              <a:pt x="162" y="7"/>
                            </a:cubicBezTo>
                            <a:cubicBezTo>
                              <a:pt x="174" y="4"/>
                              <a:pt x="191" y="2"/>
                              <a:pt x="202" y="1"/>
                            </a:cubicBezTo>
                            <a:cubicBezTo>
                              <a:pt x="213" y="0"/>
                              <a:pt x="220" y="0"/>
                              <a:pt x="228" y="1"/>
                            </a:cubicBezTo>
                          </a:path>
                        </a:pathLst>
                      </a:custGeom>
                      <a:noFill/>
                      <a:ln w="64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40" name=""/>
                      <p:cNvSpPr/>
                      <p:nvPr/>
                    </p:nvSpPr>
                    <p:spPr>
                      <a:xfrm>
                        <a:off x="2611800" y="5783400"/>
                        <a:ext cx="32760" cy="14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8" h="159">
                            <a:moveTo>
                              <a:pt x="0" y="159"/>
                            </a:moveTo>
                            <a:cubicBezTo>
                              <a:pt x="15" y="139"/>
                              <a:pt x="30" y="120"/>
                              <a:pt x="45" y="103"/>
                            </a:cubicBezTo>
                            <a:cubicBezTo>
                              <a:pt x="60" y="86"/>
                              <a:pt x="76" y="68"/>
                              <a:pt x="90" y="54"/>
                            </a:cubicBezTo>
                            <a:cubicBezTo>
                              <a:pt x="104" y="40"/>
                              <a:pt x="118" y="30"/>
                              <a:pt x="130" y="22"/>
                            </a:cubicBezTo>
                            <a:cubicBezTo>
                              <a:pt x="142" y="14"/>
                              <a:pt x="150" y="10"/>
                              <a:pt x="162" y="7"/>
                            </a:cubicBezTo>
                            <a:cubicBezTo>
                              <a:pt x="174" y="4"/>
                              <a:pt x="191" y="2"/>
                              <a:pt x="202" y="1"/>
                            </a:cubicBezTo>
                            <a:cubicBezTo>
                              <a:pt x="213" y="0"/>
                              <a:pt x="220" y="0"/>
                              <a:pt x="228" y="1"/>
                            </a:cubicBezTo>
                          </a:path>
                        </a:pathLst>
                      </a:custGeom>
                      <a:noFill/>
                      <a:ln w="64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41" name=""/>
                      <p:cNvSpPr/>
                      <p:nvPr/>
                    </p:nvSpPr>
                    <p:spPr>
                      <a:xfrm flipH="1" flipV="1">
                        <a:off x="2643480" y="5783040"/>
                        <a:ext cx="4680" cy="2520"/>
                      </a:xfrm>
                      <a:prstGeom prst="line">
                        <a:avLst/>
                      </a:prstGeom>
                      <a:ln w="64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442" name=""/>
                    <p:cNvSpPr/>
                    <p:nvPr/>
                  </p:nvSpPr>
                  <p:spPr>
                    <a:xfrm flipH="1">
                      <a:off x="2749320" y="4598640"/>
                      <a:ext cx="69120" cy="132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0" h="1467">
                          <a:moveTo>
                            <a:pt x="0" y="0"/>
                          </a:moveTo>
                          <a:cubicBezTo>
                            <a:pt x="17" y="2"/>
                            <a:pt x="34" y="4"/>
                            <a:pt x="51" y="6"/>
                          </a:cubicBezTo>
                          <a:cubicBezTo>
                            <a:pt x="68" y="8"/>
                            <a:pt x="88" y="10"/>
                            <a:pt x="102" y="15"/>
                          </a:cubicBezTo>
                          <a:cubicBezTo>
                            <a:pt x="116" y="20"/>
                            <a:pt x="122" y="23"/>
                            <a:pt x="135" y="33"/>
                          </a:cubicBezTo>
                          <a:cubicBezTo>
                            <a:pt x="148" y="43"/>
                            <a:pt x="167" y="56"/>
                            <a:pt x="180" y="78"/>
                          </a:cubicBezTo>
                          <a:cubicBezTo>
                            <a:pt x="193" y="100"/>
                            <a:pt x="204" y="120"/>
                            <a:pt x="216" y="165"/>
                          </a:cubicBezTo>
                          <a:cubicBezTo>
                            <a:pt x="228" y="210"/>
                            <a:pt x="211" y="131"/>
                            <a:pt x="255" y="348"/>
                          </a:cubicBezTo>
                          <a:cubicBezTo>
                            <a:pt x="299" y="565"/>
                            <a:pt x="389" y="1016"/>
                            <a:pt x="480" y="1467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443" name=""/>
                <p:cNvGrpSpPr/>
                <p:nvPr/>
              </p:nvGrpSpPr>
              <p:grpSpPr>
                <a:xfrm>
                  <a:off x="2334240" y="4568760"/>
                  <a:ext cx="4021200" cy="1373040"/>
                  <a:chOff x="2334240" y="4568760"/>
                  <a:chExt cx="4021200" cy="1373040"/>
                </a:xfrm>
              </p:grpSpPr>
              <p:grpSp>
                <p:nvGrpSpPr>
                  <p:cNvPr id="5444" name=""/>
                  <p:cNvGrpSpPr/>
                  <p:nvPr/>
                </p:nvGrpSpPr>
                <p:grpSpPr>
                  <a:xfrm>
                    <a:off x="3508920" y="4598640"/>
                    <a:ext cx="414360" cy="1330200"/>
                    <a:chOff x="3508920" y="4598640"/>
                    <a:chExt cx="414360" cy="1330200"/>
                  </a:xfrm>
                </p:grpSpPr>
                <p:grpSp>
                  <p:nvGrpSpPr>
                    <p:cNvPr id="5445" name=""/>
                    <p:cNvGrpSpPr/>
                    <p:nvPr/>
                  </p:nvGrpSpPr>
                  <p:grpSpPr>
                    <a:xfrm>
                      <a:off x="3716640" y="4598640"/>
                      <a:ext cx="206640" cy="1330200"/>
                      <a:chOff x="3716640" y="4598640"/>
                      <a:chExt cx="206640" cy="1330200"/>
                    </a:xfrm>
                  </p:grpSpPr>
                  <p:grpSp>
                    <p:nvGrpSpPr>
                      <p:cNvPr id="5446" name=""/>
                      <p:cNvGrpSpPr/>
                      <p:nvPr/>
                    </p:nvGrpSpPr>
                    <p:grpSpPr>
                      <a:xfrm>
                        <a:off x="3785760" y="5591520"/>
                        <a:ext cx="69120" cy="337320"/>
                        <a:chOff x="3785760" y="5591520"/>
                        <a:chExt cx="69120" cy="337320"/>
                      </a:xfrm>
                    </p:grpSpPr>
                    <p:sp>
                      <p:nvSpPr>
                        <p:cNvPr id="5447" name=""/>
                        <p:cNvSpPr/>
                        <p:nvPr/>
                      </p:nvSpPr>
                      <p:spPr>
                        <a:xfrm>
                          <a:off x="3785760" y="5591520"/>
                          <a:ext cx="33840" cy="337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4" h="373">
                              <a:moveTo>
                                <a:pt x="0" y="373"/>
                              </a:moveTo>
                              <a:cubicBezTo>
                                <a:pt x="4" y="357"/>
                                <a:pt x="8" y="342"/>
                                <a:pt x="15" y="319"/>
                              </a:cubicBezTo>
                              <a:cubicBezTo>
                                <a:pt x="22" y="296"/>
                                <a:pt x="34" y="260"/>
                                <a:pt x="44" y="232"/>
                              </a:cubicBezTo>
                              <a:cubicBezTo>
                                <a:pt x="54" y="204"/>
                                <a:pt x="64" y="173"/>
                                <a:pt x="74" y="150"/>
                              </a:cubicBezTo>
                              <a:cubicBezTo>
                                <a:pt x="84" y="127"/>
                                <a:pt x="91" y="111"/>
                                <a:pt x="102" y="93"/>
                              </a:cubicBezTo>
                              <a:cubicBezTo>
                                <a:pt x="113" y="75"/>
                                <a:pt x="127" y="56"/>
                                <a:pt x="137" y="43"/>
                              </a:cubicBezTo>
                              <a:cubicBezTo>
                                <a:pt x="147" y="30"/>
                                <a:pt x="155" y="23"/>
                                <a:pt x="164" y="16"/>
                              </a:cubicBezTo>
                              <a:cubicBezTo>
                                <a:pt x="173" y="9"/>
                                <a:pt x="182" y="6"/>
                                <a:pt x="194" y="3"/>
                              </a:cubicBezTo>
                              <a:cubicBezTo>
                                <a:pt x="206" y="0"/>
                                <a:pt x="226" y="0"/>
                                <a:pt x="234" y="0"/>
                              </a:cubicBezTo>
                            </a:path>
                          </a:pathLst>
                        </a:custGeom>
                        <a:noFill/>
                        <a:ln w="6480">
                          <a:solidFill>
                            <a:srgbClr val="3333cc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48" name=""/>
                        <p:cNvSpPr/>
                        <p:nvPr/>
                      </p:nvSpPr>
                      <p:spPr>
                        <a:xfrm flipH="1">
                          <a:off x="3821040" y="5591520"/>
                          <a:ext cx="33840" cy="337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4" h="373">
                              <a:moveTo>
                                <a:pt x="0" y="373"/>
                              </a:moveTo>
                              <a:cubicBezTo>
                                <a:pt x="4" y="357"/>
                                <a:pt x="8" y="342"/>
                                <a:pt x="15" y="319"/>
                              </a:cubicBezTo>
                              <a:cubicBezTo>
                                <a:pt x="22" y="296"/>
                                <a:pt x="34" y="260"/>
                                <a:pt x="44" y="232"/>
                              </a:cubicBezTo>
                              <a:cubicBezTo>
                                <a:pt x="54" y="204"/>
                                <a:pt x="64" y="173"/>
                                <a:pt x="74" y="150"/>
                              </a:cubicBezTo>
                              <a:cubicBezTo>
                                <a:pt x="84" y="127"/>
                                <a:pt x="91" y="111"/>
                                <a:pt x="102" y="93"/>
                              </a:cubicBezTo>
                              <a:cubicBezTo>
                                <a:pt x="113" y="75"/>
                                <a:pt x="127" y="56"/>
                                <a:pt x="137" y="43"/>
                              </a:cubicBezTo>
                              <a:cubicBezTo>
                                <a:pt x="147" y="30"/>
                                <a:pt x="155" y="23"/>
                                <a:pt x="164" y="16"/>
                              </a:cubicBezTo>
                              <a:cubicBezTo>
                                <a:pt x="173" y="9"/>
                                <a:pt x="182" y="6"/>
                                <a:pt x="194" y="3"/>
                              </a:cubicBezTo>
                              <a:cubicBezTo>
                                <a:pt x="206" y="0"/>
                                <a:pt x="226" y="0"/>
                                <a:pt x="234" y="0"/>
                              </a:cubicBezTo>
                            </a:path>
                          </a:pathLst>
                        </a:custGeom>
                        <a:noFill/>
                        <a:ln w="6480">
                          <a:solidFill>
                            <a:srgbClr val="3333cc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49" name=""/>
                        <p:cNvSpPr/>
                        <p:nvPr/>
                      </p:nvSpPr>
                      <p:spPr>
                        <a:xfrm>
                          <a:off x="3818520" y="5591520"/>
                          <a:ext cx="3240" cy="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450" name=""/>
                      <p:cNvGrpSpPr/>
                      <p:nvPr/>
                    </p:nvGrpSpPr>
                    <p:grpSpPr>
                      <a:xfrm>
                        <a:off x="3855240" y="5783040"/>
                        <a:ext cx="68040" cy="144720"/>
                        <a:chOff x="3855240" y="5783040"/>
                        <a:chExt cx="68040" cy="144720"/>
                      </a:xfrm>
                    </p:grpSpPr>
                    <p:sp>
                      <p:nvSpPr>
                        <p:cNvPr id="5451" name=""/>
                        <p:cNvSpPr/>
                        <p:nvPr/>
                      </p:nvSpPr>
                      <p:spPr>
                        <a:xfrm>
                          <a:off x="3855240" y="5784120"/>
                          <a:ext cx="32760" cy="14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8" h="159">
                              <a:moveTo>
                                <a:pt x="0" y="159"/>
                              </a:moveTo>
                              <a:cubicBezTo>
                                <a:pt x="15" y="139"/>
                                <a:pt x="30" y="120"/>
                                <a:pt x="45" y="103"/>
                              </a:cubicBezTo>
                              <a:cubicBezTo>
                                <a:pt x="60" y="86"/>
                                <a:pt x="76" y="68"/>
                                <a:pt x="90" y="54"/>
                              </a:cubicBezTo>
                              <a:cubicBezTo>
                                <a:pt x="104" y="40"/>
                                <a:pt x="118" y="30"/>
                                <a:pt x="130" y="22"/>
                              </a:cubicBezTo>
                              <a:cubicBezTo>
                                <a:pt x="142" y="14"/>
                                <a:pt x="150" y="10"/>
                                <a:pt x="162" y="7"/>
                              </a:cubicBezTo>
                              <a:cubicBezTo>
                                <a:pt x="174" y="4"/>
                                <a:pt x="191" y="2"/>
                                <a:pt x="202" y="1"/>
                              </a:cubicBezTo>
                              <a:cubicBezTo>
                                <a:pt x="213" y="0"/>
                                <a:pt x="220" y="0"/>
                                <a:pt x="228" y="1"/>
                              </a:cubicBezTo>
                            </a:path>
                          </a:pathLst>
                        </a:custGeom>
                        <a:noFill/>
                        <a:ln w="6480">
                          <a:solidFill>
                            <a:srgbClr val="3333cc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52" name=""/>
                        <p:cNvSpPr/>
                        <p:nvPr/>
                      </p:nvSpPr>
                      <p:spPr>
                        <a:xfrm flipH="1">
                          <a:off x="3890160" y="5783400"/>
                          <a:ext cx="32760" cy="144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8" h="159">
                              <a:moveTo>
                                <a:pt x="0" y="159"/>
                              </a:moveTo>
                              <a:cubicBezTo>
                                <a:pt x="15" y="139"/>
                                <a:pt x="30" y="120"/>
                                <a:pt x="45" y="103"/>
                              </a:cubicBezTo>
                              <a:cubicBezTo>
                                <a:pt x="60" y="86"/>
                                <a:pt x="76" y="68"/>
                                <a:pt x="90" y="54"/>
                              </a:cubicBezTo>
                              <a:cubicBezTo>
                                <a:pt x="104" y="40"/>
                                <a:pt x="118" y="30"/>
                                <a:pt x="130" y="22"/>
                              </a:cubicBezTo>
                              <a:cubicBezTo>
                                <a:pt x="142" y="14"/>
                                <a:pt x="150" y="10"/>
                                <a:pt x="162" y="7"/>
                              </a:cubicBezTo>
                              <a:cubicBezTo>
                                <a:pt x="174" y="4"/>
                                <a:pt x="191" y="2"/>
                                <a:pt x="202" y="1"/>
                              </a:cubicBezTo>
                              <a:cubicBezTo>
                                <a:pt x="213" y="0"/>
                                <a:pt x="220" y="0"/>
                                <a:pt x="228" y="1"/>
                              </a:cubicBezTo>
                            </a:path>
                          </a:pathLst>
                        </a:custGeom>
                        <a:noFill/>
                        <a:ln w="6480">
                          <a:solidFill>
                            <a:srgbClr val="3333cc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53" name=""/>
                        <p:cNvSpPr/>
                        <p:nvPr/>
                      </p:nvSpPr>
                      <p:spPr>
                        <a:xfrm flipV="1">
                          <a:off x="3886920" y="5783040"/>
                          <a:ext cx="4680" cy="252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454" name=""/>
                      <p:cNvSpPr/>
                      <p:nvPr/>
                    </p:nvSpPr>
                    <p:spPr>
                      <a:xfrm>
                        <a:off x="3716640" y="4598640"/>
                        <a:ext cx="69120" cy="132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0" h="1467">
                            <a:moveTo>
                              <a:pt x="0" y="0"/>
                            </a:moveTo>
                            <a:cubicBezTo>
                              <a:pt x="17" y="2"/>
                              <a:pt x="34" y="4"/>
                              <a:pt x="51" y="6"/>
                            </a:cubicBezTo>
                            <a:cubicBezTo>
                              <a:pt x="68" y="8"/>
                              <a:pt x="88" y="10"/>
                              <a:pt x="102" y="15"/>
                            </a:cubicBezTo>
                            <a:cubicBezTo>
                              <a:pt x="116" y="20"/>
                              <a:pt x="122" y="23"/>
                              <a:pt x="135" y="33"/>
                            </a:cubicBezTo>
                            <a:cubicBezTo>
                              <a:pt x="148" y="43"/>
                              <a:pt x="167" y="56"/>
                              <a:pt x="180" y="78"/>
                            </a:cubicBezTo>
                            <a:cubicBezTo>
                              <a:pt x="193" y="100"/>
                              <a:pt x="204" y="120"/>
                              <a:pt x="216" y="165"/>
                            </a:cubicBezTo>
                            <a:cubicBezTo>
                              <a:pt x="228" y="210"/>
                              <a:pt x="211" y="131"/>
                              <a:pt x="255" y="348"/>
                            </a:cubicBezTo>
                            <a:cubicBezTo>
                              <a:pt x="299" y="565"/>
                              <a:pt x="389" y="1016"/>
                              <a:pt x="480" y="1467"/>
                            </a:cubicBezTo>
                          </a:path>
                        </a:pathLst>
                      </a:custGeom>
                      <a:noFill/>
                      <a:ln w="6480">
                        <a:solidFill>
                          <a:srgbClr val="3333cc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55" name=""/>
                    <p:cNvGrpSpPr/>
                    <p:nvPr/>
                  </p:nvGrpSpPr>
                  <p:grpSpPr>
                    <a:xfrm>
                      <a:off x="3508920" y="4598640"/>
                      <a:ext cx="206640" cy="1330200"/>
                      <a:chOff x="3508920" y="4598640"/>
                      <a:chExt cx="206640" cy="1330200"/>
                    </a:xfrm>
                  </p:grpSpPr>
                  <p:grpSp>
                    <p:nvGrpSpPr>
                      <p:cNvPr id="5456" name=""/>
                      <p:cNvGrpSpPr/>
                      <p:nvPr/>
                    </p:nvGrpSpPr>
                    <p:grpSpPr>
                      <a:xfrm>
                        <a:off x="3577320" y="5591520"/>
                        <a:ext cx="69120" cy="337320"/>
                        <a:chOff x="3577320" y="5591520"/>
                        <a:chExt cx="69120" cy="337320"/>
                      </a:xfrm>
                    </p:grpSpPr>
                    <p:sp>
                      <p:nvSpPr>
                        <p:cNvPr id="5457" name=""/>
                        <p:cNvSpPr/>
                        <p:nvPr/>
                      </p:nvSpPr>
                      <p:spPr>
                        <a:xfrm flipH="1">
                          <a:off x="3612600" y="5591520"/>
                          <a:ext cx="33840" cy="337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4" h="373">
                              <a:moveTo>
                                <a:pt x="0" y="373"/>
                              </a:moveTo>
                              <a:cubicBezTo>
                                <a:pt x="4" y="357"/>
                                <a:pt x="8" y="342"/>
                                <a:pt x="15" y="319"/>
                              </a:cubicBezTo>
                              <a:cubicBezTo>
                                <a:pt x="22" y="296"/>
                                <a:pt x="34" y="260"/>
                                <a:pt x="44" y="232"/>
                              </a:cubicBezTo>
                              <a:cubicBezTo>
                                <a:pt x="54" y="204"/>
                                <a:pt x="64" y="173"/>
                                <a:pt x="74" y="150"/>
                              </a:cubicBezTo>
                              <a:cubicBezTo>
                                <a:pt x="84" y="127"/>
                                <a:pt x="91" y="111"/>
                                <a:pt x="102" y="93"/>
                              </a:cubicBezTo>
                              <a:cubicBezTo>
                                <a:pt x="113" y="75"/>
                                <a:pt x="127" y="56"/>
                                <a:pt x="137" y="43"/>
                              </a:cubicBezTo>
                              <a:cubicBezTo>
                                <a:pt x="147" y="30"/>
                                <a:pt x="155" y="23"/>
                                <a:pt x="164" y="16"/>
                              </a:cubicBezTo>
                              <a:cubicBezTo>
                                <a:pt x="173" y="9"/>
                                <a:pt x="182" y="6"/>
                                <a:pt x="194" y="3"/>
                              </a:cubicBezTo>
                              <a:cubicBezTo>
                                <a:pt x="206" y="0"/>
                                <a:pt x="226" y="0"/>
                                <a:pt x="234" y="0"/>
                              </a:cubicBezTo>
                            </a:path>
                          </a:pathLst>
                        </a:custGeom>
                        <a:noFill/>
                        <a:ln w="6480">
                          <a:solidFill>
                            <a:srgbClr val="3333cc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58" name=""/>
                        <p:cNvSpPr/>
                        <p:nvPr/>
                      </p:nvSpPr>
                      <p:spPr>
                        <a:xfrm>
                          <a:off x="3577320" y="5591520"/>
                          <a:ext cx="33840" cy="337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4" h="373">
                              <a:moveTo>
                                <a:pt x="0" y="373"/>
                              </a:moveTo>
                              <a:cubicBezTo>
                                <a:pt x="4" y="357"/>
                                <a:pt x="8" y="342"/>
                                <a:pt x="15" y="319"/>
                              </a:cubicBezTo>
                              <a:cubicBezTo>
                                <a:pt x="22" y="296"/>
                                <a:pt x="34" y="260"/>
                                <a:pt x="44" y="232"/>
                              </a:cubicBezTo>
                              <a:cubicBezTo>
                                <a:pt x="54" y="204"/>
                                <a:pt x="64" y="173"/>
                                <a:pt x="74" y="150"/>
                              </a:cubicBezTo>
                              <a:cubicBezTo>
                                <a:pt x="84" y="127"/>
                                <a:pt x="91" y="111"/>
                                <a:pt x="102" y="93"/>
                              </a:cubicBezTo>
                              <a:cubicBezTo>
                                <a:pt x="113" y="75"/>
                                <a:pt x="127" y="56"/>
                                <a:pt x="137" y="43"/>
                              </a:cubicBezTo>
                              <a:cubicBezTo>
                                <a:pt x="147" y="30"/>
                                <a:pt x="155" y="23"/>
                                <a:pt x="164" y="16"/>
                              </a:cubicBezTo>
                              <a:cubicBezTo>
                                <a:pt x="173" y="9"/>
                                <a:pt x="182" y="6"/>
                                <a:pt x="194" y="3"/>
                              </a:cubicBezTo>
                              <a:cubicBezTo>
                                <a:pt x="206" y="0"/>
                                <a:pt x="226" y="0"/>
                                <a:pt x="234" y="0"/>
                              </a:cubicBezTo>
                            </a:path>
                          </a:pathLst>
                        </a:custGeom>
                        <a:noFill/>
                        <a:ln w="6480">
                          <a:solidFill>
                            <a:srgbClr val="3333cc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59" name=""/>
                        <p:cNvSpPr/>
                        <p:nvPr/>
                      </p:nvSpPr>
                      <p:spPr>
                        <a:xfrm flipH="1">
                          <a:off x="3610440" y="5591520"/>
                          <a:ext cx="3240" cy="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460" name=""/>
                      <p:cNvGrpSpPr/>
                      <p:nvPr/>
                    </p:nvGrpSpPr>
                    <p:grpSpPr>
                      <a:xfrm>
                        <a:off x="3508920" y="5783040"/>
                        <a:ext cx="68040" cy="144720"/>
                        <a:chOff x="3508920" y="5783040"/>
                        <a:chExt cx="68040" cy="144720"/>
                      </a:xfrm>
                    </p:grpSpPr>
                    <p:sp>
                      <p:nvSpPr>
                        <p:cNvPr id="5461" name=""/>
                        <p:cNvSpPr/>
                        <p:nvPr/>
                      </p:nvSpPr>
                      <p:spPr>
                        <a:xfrm flipH="1">
                          <a:off x="3543840" y="5784120"/>
                          <a:ext cx="32760" cy="14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8" h="159">
                              <a:moveTo>
                                <a:pt x="0" y="159"/>
                              </a:moveTo>
                              <a:cubicBezTo>
                                <a:pt x="15" y="139"/>
                                <a:pt x="30" y="120"/>
                                <a:pt x="45" y="103"/>
                              </a:cubicBezTo>
                              <a:cubicBezTo>
                                <a:pt x="60" y="86"/>
                                <a:pt x="76" y="68"/>
                                <a:pt x="90" y="54"/>
                              </a:cubicBezTo>
                              <a:cubicBezTo>
                                <a:pt x="104" y="40"/>
                                <a:pt x="118" y="30"/>
                                <a:pt x="130" y="22"/>
                              </a:cubicBezTo>
                              <a:cubicBezTo>
                                <a:pt x="142" y="14"/>
                                <a:pt x="150" y="10"/>
                                <a:pt x="162" y="7"/>
                              </a:cubicBezTo>
                              <a:cubicBezTo>
                                <a:pt x="174" y="4"/>
                                <a:pt x="191" y="2"/>
                                <a:pt x="202" y="1"/>
                              </a:cubicBezTo>
                              <a:cubicBezTo>
                                <a:pt x="213" y="0"/>
                                <a:pt x="220" y="0"/>
                                <a:pt x="228" y="1"/>
                              </a:cubicBezTo>
                            </a:path>
                          </a:pathLst>
                        </a:custGeom>
                        <a:noFill/>
                        <a:ln w="6480">
                          <a:solidFill>
                            <a:srgbClr val="3333cc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62" name=""/>
                        <p:cNvSpPr/>
                        <p:nvPr/>
                      </p:nvSpPr>
                      <p:spPr>
                        <a:xfrm>
                          <a:off x="3508920" y="5783400"/>
                          <a:ext cx="32760" cy="144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8" h="159">
                              <a:moveTo>
                                <a:pt x="0" y="159"/>
                              </a:moveTo>
                              <a:cubicBezTo>
                                <a:pt x="15" y="139"/>
                                <a:pt x="30" y="120"/>
                                <a:pt x="45" y="103"/>
                              </a:cubicBezTo>
                              <a:cubicBezTo>
                                <a:pt x="60" y="86"/>
                                <a:pt x="76" y="68"/>
                                <a:pt x="90" y="54"/>
                              </a:cubicBezTo>
                              <a:cubicBezTo>
                                <a:pt x="104" y="40"/>
                                <a:pt x="118" y="30"/>
                                <a:pt x="130" y="22"/>
                              </a:cubicBezTo>
                              <a:cubicBezTo>
                                <a:pt x="142" y="14"/>
                                <a:pt x="150" y="10"/>
                                <a:pt x="162" y="7"/>
                              </a:cubicBezTo>
                              <a:cubicBezTo>
                                <a:pt x="174" y="4"/>
                                <a:pt x="191" y="2"/>
                                <a:pt x="202" y="1"/>
                              </a:cubicBezTo>
                              <a:cubicBezTo>
                                <a:pt x="213" y="0"/>
                                <a:pt x="220" y="0"/>
                                <a:pt x="228" y="1"/>
                              </a:cubicBezTo>
                            </a:path>
                          </a:pathLst>
                        </a:custGeom>
                        <a:noFill/>
                        <a:ln w="6480">
                          <a:solidFill>
                            <a:srgbClr val="3333cc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63" name=""/>
                        <p:cNvSpPr/>
                        <p:nvPr/>
                      </p:nvSpPr>
                      <p:spPr>
                        <a:xfrm flipH="1" flipV="1">
                          <a:off x="3540600" y="5783040"/>
                          <a:ext cx="4680" cy="252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464" name=""/>
                      <p:cNvSpPr/>
                      <p:nvPr/>
                    </p:nvSpPr>
                    <p:spPr>
                      <a:xfrm flipH="1">
                        <a:off x="3646440" y="4598640"/>
                        <a:ext cx="69120" cy="132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0" h="1467">
                            <a:moveTo>
                              <a:pt x="0" y="0"/>
                            </a:moveTo>
                            <a:cubicBezTo>
                              <a:pt x="17" y="2"/>
                              <a:pt x="34" y="4"/>
                              <a:pt x="51" y="6"/>
                            </a:cubicBezTo>
                            <a:cubicBezTo>
                              <a:pt x="68" y="8"/>
                              <a:pt x="88" y="10"/>
                              <a:pt x="102" y="15"/>
                            </a:cubicBezTo>
                            <a:cubicBezTo>
                              <a:pt x="116" y="20"/>
                              <a:pt x="122" y="23"/>
                              <a:pt x="135" y="33"/>
                            </a:cubicBezTo>
                            <a:cubicBezTo>
                              <a:pt x="148" y="43"/>
                              <a:pt x="167" y="56"/>
                              <a:pt x="180" y="78"/>
                            </a:cubicBezTo>
                            <a:cubicBezTo>
                              <a:pt x="193" y="100"/>
                              <a:pt x="204" y="120"/>
                              <a:pt x="216" y="165"/>
                            </a:cubicBezTo>
                            <a:cubicBezTo>
                              <a:pt x="228" y="210"/>
                              <a:pt x="211" y="131"/>
                              <a:pt x="255" y="348"/>
                            </a:cubicBezTo>
                            <a:cubicBezTo>
                              <a:pt x="299" y="565"/>
                              <a:pt x="389" y="1016"/>
                              <a:pt x="480" y="1467"/>
                            </a:cubicBezTo>
                          </a:path>
                        </a:pathLst>
                      </a:custGeom>
                      <a:noFill/>
                      <a:ln w="6480">
                        <a:solidFill>
                          <a:srgbClr val="3333cc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465" name=""/>
                  <p:cNvGrpSpPr/>
                  <p:nvPr/>
                </p:nvGrpSpPr>
                <p:grpSpPr>
                  <a:xfrm>
                    <a:off x="2334240" y="4568760"/>
                    <a:ext cx="4021200" cy="1373040"/>
                    <a:chOff x="2334240" y="4568760"/>
                    <a:chExt cx="4021200" cy="1373040"/>
                  </a:xfrm>
                </p:grpSpPr>
                <p:grpSp>
                  <p:nvGrpSpPr>
                    <p:cNvPr id="5466" name=""/>
                    <p:cNvGrpSpPr/>
                    <p:nvPr/>
                  </p:nvGrpSpPr>
                  <p:grpSpPr>
                    <a:xfrm>
                      <a:off x="3927960" y="4598640"/>
                      <a:ext cx="414360" cy="1330200"/>
                      <a:chOff x="3927960" y="4598640"/>
                      <a:chExt cx="414360" cy="1330200"/>
                    </a:xfrm>
                  </p:grpSpPr>
                  <p:grpSp>
                    <p:nvGrpSpPr>
                      <p:cNvPr id="5467" name=""/>
                      <p:cNvGrpSpPr/>
                      <p:nvPr/>
                    </p:nvGrpSpPr>
                    <p:grpSpPr>
                      <a:xfrm>
                        <a:off x="4135680" y="4598640"/>
                        <a:ext cx="206640" cy="1330200"/>
                        <a:chOff x="4135680" y="4598640"/>
                        <a:chExt cx="206640" cy="1330200"/>
                      </a:xfrm>
                    </p:grpSpPr>
                    <p:grpSp>
                      <p:nvGrpSpPr>
                        <p:cNvPr id="5468" name=""/>
                        <p:cNvGrpSpPr/>
                        <p:nvPr/>
                      </p:nvGrpSpPr>
                      <p:grpSpPr>
                        <a:xfrm>
                          <a:off x="4204800" y="5591520"/>
                          <a:ext cx="69120" cy="337320"/>
                          <a:chOff x="4204800" y="5591520"/>
                          <a:chExt cx="69120" cy="337320"/>
                        </a:xfrm>
                      </p:grpSpPr>
                      <p:sp>
                        <p:nvSpPr>
                          <p:cNvPr id="5469" name=""/>
                          <p:cNvSpPr/>
                          <p:nvPr/>
                        </p:nvSpPr>
                        <p:spPr>
                          <a:xfrm>
                            <a:off x="4204800" y="5591520"/>
                            <a:ext cx="33840" cy="337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4" h="373">
                                <a:moveTo>
                                  <a:pt x="0" y="373"/>
                                </a:moveTo>
                                <a:cubicBezTo>
                                  <a:pt x="4" y="357"/>
                                  <a:pt x="8" y="342"/>
                                  <a:pt x="15" y="319"/>
                                </a:cubicBezTo>
                                <a:cubicBezTo>
                                  <a:pt x="22" y="296"/>
                                  <a:pt x="34" y="260"/>
                                  <a:pt x="44" y="232"/>
                                </a:cubicBezTo>
                                <a:cubicBezTo>
                                  <a:pt x="54" y="204"/>
                                  <a:pt x="64" y="173"/>
                                  <a:pt x="74" y="150"/>
                                </a:cubicBezTo>
                                <a:cubicBezTo>
                                  <a:pt x="84" y="127"/>
                                  <a:pt x="91" y="111"/>
                                  <a:pt x="102" y="93"/>
                                </a:cubicBezTo>
                                <a:cubicBezTo>
                                  <a:pt x="113" y="75"/>
                                  <a:pt x="127" y="56"/>
                                  <a:pt x="137" y="43"/>
                                </a:cubicBezTo>
                                <a:cubicBezTo>
                                  <a:pt x="147" y="30"/>
                                  <a:pt x="155" y="23"/>
                                  <a:pt x="164" y="16"/>
                                </a:cubicBezTo>
                                <a:cubicBezTo>
                                  <a:pt x="173" y="9"/>
                                  <a:pt x="182" y="6"/>
                                  <a:pt x="194" y="3"/>
                                </a:cubicBezTo>
                                <a:cubicBezTo>
                                  <a:pt x="206" y="0"/>
                                  <a:pt x="226" y="0"/>
                                  <a:pt x="234" y="0"/>
                                </a:cubicBezTo>
                              </a:path>
                            </a:pathLst>
                          </a:custGeom>
                          <a:noFill/>
                          <a:ln w="6480">
                            <a:solidFill>
                              <a:srgbClr val="3333cc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70" name=""/>
                          <p:cNvSpPr/>
                          <p:nvPr/>
                        </p:nvSpPr>
                        <p:spPr>
                          <a:xfrm flipH="1">
                            <a:off x="4240080" y="5591520"/>
                            <a:ext cx="33840" cy="337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4" h="373">
                                <a:moveTo>
                                  <a:pt x="0" y="373"/>
                                </a:moveTo>
                                <a:cubicBezTo>
                                  <a:pt x="4" y="357"/>
                                  <a:pt x="8" y="342"/>
                                  <a:pt x="15" y="319"/>
                                </a:cubicBezTo>
                                <a:cubicBezTo>
                                  <a:pt x="22" y="296"/>
                                  <a:pt x="34" y="260"/>
                                  <a:pt x="44" y="232"/>
                                </a:cubicBezTo>
                                <a:cubicBezTo>
                                  <a:pt x="54" y="204"/>
                                  <a:pt x="64" y="173"/>
                                  <a:pt x="74" y="150"/>
                                </a:cubicBezTo>
                                <a:cubicBezTo>
                                  <a:pt x="84" y="127"/>
                                  <a:pt x="91" y="111"/>
                                  <a:pt x="102" y="93"/>
                                </a:cubicBezTo>
                                <a:cubicBezTo>
                                  <a:pt x="113" y="75"/>
                                  <a:pt x="127" y="56"/>
                                  <a:pt x="137" y="43"/>
                                </a:cubicBezTo>
                                <a:cubicBezTo>
                                  <a:pt x="147" y="30"/>
                                  <a:pt x="155" y="23"/>
                                  <a:pt x="164" y="16"/>
                                </a:cubicBezTo>
                                <a:cubicBezTo>
                                  <a:pt x="173" y="9"/>
                                  <a:pt x="182" y="6"/>
                                  <a:pt x="194" y="3"/>
                                </a:cubicBezTo>
                                <a:cubicBezTo>
                                  <a:pt x="206" y="0"/>
                                  <a:pt x="226" y="0"/>
                                  <a:pt x="234" y="0"/>
                                </a:cubicBezTo>
                              </a:path>
                            </a:pathLst>
                          </a:custGeom>
                          <a:noFill/>
                          <a:ln w="6480">
                            <a:solidFill>
                              <a:srgbClr val="3333cc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71" name=""/>
                          <p:cNvSpPr/>
                          <p:nvPr/>
                        </p:nvSpPr>
                        <p:spPr>
                          <a:xfrm>
                            <a:off x="4237560" y="5591520"/>
                            <a:ext cx="3240" cy="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472" name=""/>
                        <p:cNvGrpSpPr/>
                        <p:nvPr/>
                      </p:nvGrpSpPr>
                      <p:grpSpPr>
                        <a:xfrm>
                          <a:off x="4274280" y="5783040"/>
                          <a:ext cx="68040" cy="144720"/>
                          <a:chOff x="4274280" y="5783040"/>
                          <a:chExt cx="68040" cy="144720"/>
                        </a:xfrm>
                      </p:grpSpPr>
                      <p:sp>
                        <p:nvSpPr>
                          <p:cNvPr id="5473" name=""/>
                          <p:cNvSpPr/>
                          <p:nvPr/>
                        </p:nvSpPr>
                        <p:spPr>
                          <a:xfrm>
                            <a:off x="4274280" y="5784120"/>
                            <a:ext cx="32760" cy="143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8" h="159">
                                <a:moveTo>
                                  <a:pt x="0" y="159"/>
                                </a:moveTo>
                                <a:cubicBezTo>
                                  <a:pt x="15" y="139"/>
                                  <a:pt x="30" y="120"/>
                                  <a:pt x="45" y="103"/>
                                </a:cubicBezTo>
                                <a:cubicBezTo>
                                  <a:pt x="60" y="86"/>
                                  <a:pt x="76" y="68"/>
                                  <a:pt x="90" y="54"/>
                                </a:cubicBezTo>
                                <a:cubicBezTo>
                                  <a:pt x="104" y="40"/>
                                  <a:pt x="118" y="30"/>
                                  <a:pt x="130" y="22"/>
                                </a:cubicBezTo>
                                <a:cubicBezTo>
                                  <a:pt x="142" y="14"/>
                                  <a:pt x="150" y="10"/>
                                  <a:pt x="162" y="7"/>
                                </a:cubicBezTo>
                                <a:cubicBezTo>
                                  <a:pt x="174" y="4"/>
                                  <a:pt x="191" y="2"/>
                                  <a:pt x="202" y="1"/>
                                </a:cubicBezTo>
                                <a:cubicBezTo>
                                  <a:pt x="213" y="0"/>
                                  <a:pt x="220" y="0"/>
                                  <a:pt x="228" y="1"/>
                                </a:cubicBezTo>
                              </a:path>
                            </a:pathLst>
                          </a:custGeom>
                          <a:noFill/>
                          <a:ln w="6480">
                            <a:solidFill>
                              <a:srgbClr val="3333cc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74" name=""/>
                          <p:cNvSpPr/>
                          <p:nvPr/>
                        </p:nvSpPr>
                        <p:spPr>
                          <a:xfrm flipH="1">
                            <a:off x="4309200" y="5783400"/>
                            <a:ext cx="32760" cy="144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8" h="159">
                                <a:moveTo>
                                  <a:pt x="0" y="159"/>
                                </a:moveTo>
                                <a:cubicBezTo>
                                  <a:pt x="15" y="139"/>
                                  <a:pt x="30" y="120"/>
                                  <a:pt x="45" y="103"/>
                                </a:cubicBezTo>
                                <a:cubicBezTo>
                                  <a:pt x="60" y="86"/>
                                  <a:pt x="76" y="68"/>
                                  <a:pt x="90" y="54"/>
                                </a:cubicBezTo>
                                <a:cubicBezTo>
                                  <a:pt x="104" y="40"/>
                                  <a:pt x="118" y="30"/>
                                  <a:pt x="130" y="22"/>
                                </a:cubicBezTo>
                                <a:cubicBezTo>
                                  <a:pt x="142" y="14"/>
                                  <a:pt x="150" y="10"/>
                                  <a:pt x="162" y="7"/>
                                </a:cubicBezTo>
                                <a:cubicBezTo>
                                  <a:pt x="174" y="4"/>
                                  <a:pt x="191" y="2"/>
                                  <a:pt x="202" y="1"/>
                                </a:cubicBezTo>
                                <a:cubicBezTo>
                                  <a:pt x="213" y="0"/>
                                  <a:pt x="220" y="0"/>
                                  <a:pt x="228" y="1"/>
                                </a:cubicBezTo>
                              </a:path>
                            </a:pathLst>
                          </a:custGeom>
                          <a:noFill/>
                          <a:ln w="6480">
                            <a:solidFill>
                              <a:srgbClr val="3333cc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75" name=""/>
                          <p:cNvSpPr/>
                          <p:nvPr/>
                        </p:nvSpPr>
                        <p:spPr>
                          <a:xfrm flipV="1">
                            <a:off x="4305960" y="5783040"/>
                            <a:ext cx="4680" cy="25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476" name=""/>
                        <p:cNvSpPr/>
                        <p:nvPr/>
                      </p:nvSpPr>
                      <p:spPr>
                        <a:xfrm>
                          <a:off x="4135680" y="4598640"/>
                          <a:ext cx="69120" cy="132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0" h="1467">
                              <a:moveTo>
                                <a:pt x="0" y="0"/>
                              </a:moveTo>
                              <a:cubicBezTo>
                                <a:pt x="17" y="2"/>
                                <a:pt x="34" y="4"/>
                                <a:pt x="51" y="6"/>
                              </a:cubicBezTo>
                              <a:cubicBezTo>
                                <a:pt x="68" y="8"/>
                                <a:pt x="88" y="10"/>
                                <a:pt x="102" y="15"/>
                              </a:cubicBezTo>
                              <a:cubicBezTo>
                                <a:pt x="116" y="20"/>
                                <a:pt x="122" y="23"/>
                                <a:pt x="135" y="33"/>
                              </a:cubicBezTo>
                              <a:cubicBezTo>
                                <a:pt x="148" y="43"/>
                                <a:pt x="167" y="56"/>
                                <a:pt x="180" y="78"/>
                              </a:cubicBezTo>
                              <a:cubicBezTo>
                                <a:pt x="193" y="100"/>
                                <a:pt x="204" y="120"/>
                                <a:pt x="216" y="165"/>
                              </a:cubicBezTo>
                              <a:cubicBezTo>
                                <a:pt x="228" y="210"/>
                                <a:pt x="211" y="131"/>
                                <a:pt x="255" y="348"/>
                              </a:cubicBezTo>
                              <a:cubicBezTo>
                                <a:pt x="299" y="565"/>
                                <a:pt x="389" y="1016"/>
                                <a:pt x="480" y="1467"/>
                              </a:cubicBezTo>
                            </a:path>
                          </a:pathLst>
                        </a:custGeom>
                        <a:noFill/>
                        <a:ln w="6480">
                          <a:solidFill>
                            <a:srgbClr val="3333cc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477" name=""/>
                      <p:cNvGrpSpPr/>
                      <p:nvPr/>
                    </p:nvGrpSpPr>
                    <p:grpSpPr>
                      <a:xfrm>
                        <a:off x="3927960" y="4598640"/>
                        <a:ext cx="206640" cy="1330200"/>
                        <a:chOff x="3927960" y="4598640"/>
                        <a:chExt cx="206640" cy="1330200"/>
                      </a:xfrm>
                    </p:grpSpPr>
                    <p:grpSp>
                      <p:nvGrpSpPr>
                        <p:cNvPr id="5478" name=""/>
                        <p:cNvGrpSpPr/>
                        <p:nvPr/>
                      </p:nvGrpSpPr>
                      <p:grpSpPr>
                        <a:xfrm>
                          <a:off x="3996360" y="5591520"/>
                          <a:ext cx="69120" cy="337320"/>
                          <a:chOff x="3996360" y="5591520"/>
                          <a:chExt cx="69120" cy="337320"/>
                        </a:xfrm>
                      </p:grpSpPr>
                      <p:sp>
                        <p:nvSpPr>
                          <p:cNvPr id="5479" name=""/>
                          <p:cNvSpPr/>
                          <p:nvPr/>
                        </p:nvSpPr>
                        <p:spPr>
                          <a:xfrm flipH="1">
                            <a:off x="4031640" y="5591520"/>
                            <a:ext cx="33840" cy="337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4" h="373">
                                <a:moveTo>
                                  <a:pt x="0" y="373"/>
                                </a:moveTo>
                                <a:cubicBezTo>
                                  <a:pt x="4" y="357"/>
                                  <a:pt x="8" y="342"/>
                                  <a:pt x="15" y="319"/>
                                </a:cubicBezTo>
                                <a:cubicBezTo>
                                  <a:pt x="22" y="296"/>
                                  <a:pt x="34" y="260"/>
                                  <a:pt x="44" y="232"/>
                                </a:cubicBezTo>
                                <a:cubicBezTo>
                                  <a:pt x="54" y="204"/>
                                  <a:pt x="64" y="173"/>
                                  <a:pt x="74" y="150"/>
                                </a:cubicBezTo>
                                <a:cubicBezTo>
                                  <a:pt x="84" y="127"/>
                                  <a:pt x="91" y="111"/>
                                  <a:pt x="102" y="93"/>
                                </a:cubicBezTo>
                                <a:cubicBezTo>
                                  <a:pt x="113" y="75"/>
                                  <a:pt x="127" y="56"/>
                                  <a:pt x="137" y="43"/>
                                </a:cubicBezTo>
                                <a:cubicBezTo>
                                  <a:pt x="147" y="30"/>
                                  <a:pt x="155" y="23"/>
                                  <a:pt x="164" y="16"/>
                                </a:cubicBezTo>
                                <a:cubicBezTo>
                                  <a:pt x="173" y="9"/>
                                  <a:pt x="182" y="6"/>
                                  <a:pt x="194" y="3"/>
                                </a:cubicBezTo>
                                <a:cubicBezTo>
                                  <a:pt x="206" y="0"/>
                                  <a:pt x="226" y="0"/>
                                  <a:pt x="234" y="0"/>
                                </a:cubicBezTo>
                              </a:path>
                            </a:pathLst>
                          </a:custGeom>
                          <a:noFill/>
                          <a:ln w="6480">
                            <a:solidFill>
                              <a:srgbClr val="3333cc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80" name=""/>
                          <p:cNvSpPr/>
                          <p:nvPr/>
                        </p:nvSpPr>
                        <p:spPr>
                          <a:xfrm>
                            <a:off x="3996360" y="5591520"/>
                            <a:ext cx="33840" cy="337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4" h="373">
                                <a:moveTo>
                                  <a:pt x="0" y="373"/>
                                </a:moveTo>
                                <a:cubicBezTo>
                                  <a:pt x="4" y="357"/>
                                  <a:pt x="8" y="342"/>
                                  <a:pt x="15" y="319"/>
                                </a:cubicBezTo>
                                <a:cubicBezTo>
                                  <a:pt x="22" y="296"/>
                                  <a:pt x="34" y="260"/>
                                  <a:pt x="44" y="232"/>
                                </a:cubicBezTo>
                                <a:cubicBezTo>
                                  <a:pt x="54" y="204"/>
                                  <a:pt x="64" y="173"/>
                                  <a:pt x="74" y="150"/>
                                </a:cubicBezTo>
                                <a:cubicBezTo>
                                  <a:pt x="84" y="127"/>
                                  <a:pt x="91" y="111"/>
                                  <a:pt x="102" y="93"/>
                                </a:cubicBezTo>
                                <a:cubicBezTo>
                                  <a:pt x="113" y="75"/>
                                  <a:pt x="127" y="56"/>
                                  <a:pt x="137" y="43"/>
                                </a:cubicBezTo>
                                <a:cubicBezTo>
                                  <a:pt x="147" y="30"/>
                                  <a:pt x="155" y="23"/>
                                  <a:pt x="164" y="16"/>
                                </a:cubicBezTo>
                                <a:cubicBezTo>
                                  <a:pt x="173" y="9"/>
                                  <a:pt x="182" y="6"/>
                                  <a:pt x="194" y="3"/>
                                </a:cubicBezTo>
                                <a:cubicBezTo>
                                  <a:pt x="206" y="0"/>
                                  <a:pt x="226" y="0"/>
                                  <a:pt x="234" y="0"/>
                                </a:cubicBezTo>
                              </a:path>
                            </a:pathLst>
                          </a:custGeom>
                          <a:noFill/>
                          <a:ln w="6480">
                            <a:solidFill>
                              <a:srgbClr val="3333cc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81" name=""/>
                          <p:cNvSpPr/>
                          <p:nvPr/>
                        </p:nvSpPr>
                        <p:spPr>
                          <a:xfrm flipH="1">
                            <a:off x="4029480" y="5591520"/>
                            <a:ext cx="3240" cy="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482" name=""/>
                        <p:cNvGrpSpPr/>
                        <p:nvPr/>
                      </p:nvGrpSpPr>
                      <p:grpSpPr>
                        <a:xfrm>
                          <a:off x="3927960" y="5783040"/>
                          <a:ext cx="68040" cy="144720"/>
                          <a:chOff x="3927960" y="5783040"/>
                          <a:chExt cx="68040" cy="144720"/>
                        </a:xfrm>
                      </p:grpSpPr>
                      <p:sp>
                        <p:nvSpPr>
                          <p:cNvPr id="5483" name=""/>
                          <p:cNvSpPr/>
                          <p:nvPr/>
                        </p:nvSpPr>
                        <p:spPr>
                          <a:xfrm flipH="1">
                            <a:off x="3962880" y="5784120"/>
                            <a:ext cx="32760" cy="143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8" h="159">
                                <a:moveTo>
                                  <a:pt x="0" y="159"/>
                                </a:moveTo>
                                <a:cubicBezTo>
                                  <a:pt x="15" y="139"/>
                                  <a:pt x="30" y="120"/>
                                  <a:pt x="45" y="103"/>
                                </a:cubicBezTo>
                                <a:cubicBezTo>
                                  <a:pt x="60" y="86"/>
                                  <a:pt x="76" y="68"/>
                                  <a:pt x="90" y="54"/>
                                </a:cubicBezTo>
                                <a:cubicBezTo>
                                  <a:pt x="104" y="40"/>
                                  <a:pt x="118" y="30"/>
                                  <a:pt x="130" y="22"/>
                                </a:cubicBezTo>
                                <a:cubicBezTo>
                                  <a:pt x="142" y="14"/>
                                  <a:pt x="150" y="10"/>
                                  <a:pt x="162" y="7"/>
                                </a:cubicBezTo>
                                <a:cubicBezTo>
                                  <a:pt x="174" y="4"/>
                                  <a:pt x="191" y="2"/>
                                  <a:pt x="202" y="1"/>
                                </a:cubicBezTo>
                                <a:cubicBezTo>
                                  <a:pt x="213" y="0"/>
                                  <a:pt x="220" y="0"/>
                                  <a:pt x="228" y="1"/>
                                </a:cubicBezTo>
                              </a:path>
                            </a:pathLst>
                          </a:custGeom>
                          <a:noFill/>
                          <a:ln w="6480">
                            <a:solidFill>
                              <a:srgbClr val="3333cc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84" name=""/>
                          <p:cNvSpPr/>
                          <p:nvPr/>
                        </p:nvSpPr>
                        <p:spPr>
                          <a:xfrm>
                            <a:off x="3927960" y="5783400"/>
                            <a:ext cx="32760" cy="144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8" h="159">
                                <a:moveTo>
                                  <a:pt x="0" y="159"/>
                                </a:moveTo>
                                <a:cubicBezTo>
                                  <a:pt x="15" y="139"/>
                                  <a:pt x="30" y="120"/>
                                  <a:pt x="45" y="103"/>
                                </a:cubicBezTo>
                                <a:cubicBezTo>
                                  <a:pt x="60" y="86"/>
                                  <a:pt x="76" y="68"/>
                                  <a:pt x="90" y="54"/>
                                </a:cubicBezTo>
                                <a:cubicBezTo>
                                  <a:pt x="104" y="40"/>
                                  <a:pt x="118" y="30"/>
                                  <a:pt x="130" y="22"/>
                                </a:cubicBezTo>
                                <a:cubicBezTo>
                                  <a:pt x="142" y="14"/>
                                  <a:pt x="150" y="10"/>
                                  <a:pt x="162" y="7"/>
                                </a:cubicBezTo>
                                <a:cubicBezTo>
                                  <a:pt x="174" y="4"/>
                                  <a:pt x="191" y="2"/>
                                  <a:pt x="202" y="1"/>
                                </a:cubicBezTo>
                                <a:cubicBezTo>
                                  <a:pt x="213" y="0"/>
                                  <a:pt x="220" y="0"/>
                                  <a:pt x="228" y="1"/>
                                </a:cubicBezTo>
                              </a:path>
                            </a:pathLst>
                          </a:custGeom>
                          <a:noFill/>
                          <a:ln w="6480">
                            <a:solidFill>
                              <a:srgbClr val="3333cc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85" name=""/>
                          <p:cNvSpPr/>
                          <p:nvPr/>
                        </p:nvSpPr>
                        <p:spPr>
                          <a:xfrm flipH="1" flipV="1">
                            <a:off x="3959640" y="5783040"/>
                            <a:ext cx="4680" cy="25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486" name=""/>
                        <p:cNvSpPr/>
                        <p:nvPr/>
                      </p:nvSpPr>
                      <p:spPr>
                        <a:xfrm flipH="1">
                          <a:off x="4065480" y="4598640"/>
                          <a:ext cx="69120" cy="132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0" h="1467">
                              <a:moveTo>
                                <a:pt x="0" y="0"/>
                              </a:moveTo>
                              <a:cubicBezTo>
                                <a:pt x="17" y="2"/>
                                <a:pt x="34" y="4"/>
                                <a:pt x="51" y="6"/>
                              </a:cubicBezTo>
                              <a:cubicBezTo>
                                <a:pt x="68" y="8"/>
                                <a:pt x="88" y="10"/>
                                <a:pt x="102" y="15"/>
                              </a:cubicBezTo>
                              <a:cubicBezTo>
                                <a:pt x="116" y="20"/>
                                <a:pt x="122" y="23"/>
                                <a:pt x="135" y="33"/>
                              </a:cubicBezTo>
                              <a:cubicBezTo>
                                <a:pt x="148" y="43"/>
                                <a:pt x="167" y="56"/>
                                <a:pt x="180" y="78"/>
                              </a:cubicBezTo>
                              <a:cubicBezTo>
                                <a:pt x="193" y="100"/>
                                <a:pt x="204" y="120"/>
                                <a:pt x="216" y="165"/>
                              </a:cubicBezTo>
                              <a:cubicBezTo>
                                <a:pt x="228" y="210"/>
                                <a:pt x="211" y="131"/>
                                <a:pt x="255" y="348"/>
                              </a:cubicBezTo>
                              <a:cubicBezTo>
                                <a:pt x="299" y="565"/>
                                <a:pt x="389" y="1016"/>
                                <a:pt x="480" y="1467"/>
                              </a:cubicBezTo>
                            </a:path>
                          </a:pathLst>
                        </a:custGeom>
                        <a:noFill/>
                        <a:ln w="6480">
                          <a:solidFill>
                            <a:srgbClr val="3333cc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487" name=""/>
                    <p:cNvGrpSpPr/>
                    <p:nvPr/>
                  </p:nvGrpSpPr>
                  <p:grpSpPr>
                    <a:xfrm>
                      <a:off x="2334240" y="4568760"/>
                      <a:ext cx="4021200" cy="1373040"/>
                      <a:chOff x="2334240" y="4568760"/>
                      <a:chExt cx="4021200" cy="1373040"/>
                    </a:xfrm>
                  </p:grpSpPr>
                  <p:grpSp>
                    <p:nvGrpSpPr>
                      <p:cNvPr id="5488" name=""/>
                      <p:cNvGrpSpPr/>
                      <p:nvPr/>
                    </p:nvGrpSpPr>
                    <p:grpSpPr>
                      <a:xfrm>
                        <a:off x="4347000" y="4603680"/>
                        <a:ext cx="414720" cy="1330200"/>
                        <a:chOff x="4347000" y="4603680"/>
                        <a:chExt cx="414720" cy="1330200"/>
                      </a:xfrm>
                    </p:grpSpPr>
                    <p:grpSp>
                      <p:nvGrpSpPr>
                        <p:cNvPr id="5489" name=""/>
                        <p:cNvGrpSpPr/>
                        <p:nvPr/>
                      </p:nvGrpSpPr>
                      <p:grpSpPr>
                        <a:xfrm>
                          <a:off x="4555080" y="4603680"/>
                          <a:ext cx="206640" cy="1330200"/>
                          <a:chOff x="4555080" y="4603680"/>
                          <a:chExt cx="206640" cy="1330200"/>
                        </a:xfrm>
                      </p:grpSpPr>
                      <p:grpSp>
                        <p:nvGrpSpPr>
                          <p:cNvPr id="5490" name=""/>
                          <p:cNvGrpSpPr/>
                          <p:nvPr/>
                        </p:nvGrpSpPr>
                        <p:grpSpPr>
                          <a:xfrm>
                            <a:off x="4624200" y="5596560"/>
                            <a:ext cx="69120" cy="337320"/>
                            <a:chOff x="4624200" y="5596560"/>
                            <a:chExt cx="69120" cy="337320"/>
                          </a:xfrm>
                        </p:grpSpPr>
                        <p:sp>
                          <p:nvSpPr>
                            <p:cNvPr id="5491" name=""/>
                            <p:cNvSpPr/>
                            <p:nvPr/>
                          </p:nvSpPr>
                          <p:spPr>
                            <a:xfrm>
                              <a:off x="4624200" y="5596560"/>
                              <a:ext cx="33840" cy="337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34" h="373">
                                  <a:moveTo>
                                    <a:pt x="0" y="373"/>
                                  </a:moveTo>
                                  <a:cubicBezTo>
                                    <a:pt x="4" y="357"/>
                                    <a:pt x="8" y="342"/>
                                    <a:pt x="15" y="319"/>
                                  </a:cubicBezTo>
                                  <a:cubicBezTo>
                                    <a:pt x="22" y="296"/>
                                    <a:pt x="34" y="260"/>
                                    <a:pt x="44" y="232"/>
                                  </a:cubicBezTo>
                                  <a:cubicBezTo>
                                    <a:pt x="54" y="204"/>
                                    <a:pt x="64" y="173"/>
                                    <a:pt x="74" y="150"/>
                                  </a:cubicBezTo>
                                  <a:cubicBezTo>
                                    <a:pt x="84" y="127"/>
                                    <a:pt x="91" y="111"/>
                                    <a:pt x="102" y="93"/>
                                  </a:cubicBezTo>
                                  <a:cubicBezTo>
                                    <a:pt x="113" y="75"/>
                                    <a:pt x="127" y="56"/>
                                    <a:pt x="137" y="43"/>
                                  </a:cubicBezTo>
                                  <a:cubicBezTo>
                                    <a:pt x="147" y="30"/>
                                    <a:pt x="155" y="23"/>
                                    <a:pt x="164" y="16"/>
                                  </a:cubicBezTo>
                                  <a:cubicBezTo>
                                    <a:pt x="173" y="9"/>
                                    <a:pt x="182" y="6"/>
                                    <a:pt x="194" y="3"/>
                                  </a:cubicBezTo>
                                  <a:cubicBezTo>
                                    <a:pt x="206" y="0"/>
                                    <a:pt x="226" y="0"/>
                                    <a:pt x="234" y="0"/>
                                  </a:cubicBezTo>
                                </a:path>
                              </a:pathLst>
                            </a:custGeom>
                            <a:noFill/>
                            <a:ln w="6480">
                              <a:solidFill>
                                <a:srgbClr val="3333cc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92" name=""/>
                            <p:cNvSpPr/>
                            <p:nvPr/>
                          </p:nvSpPr>
                          <p:spPr>
                            <a:xfrm flipH="1">
                              <a:off x="4659480" y="5596560"/>
                              <a:ext cx="33840" cy="337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34" h="373">
                                  <a:moveTo>
                                    <a:pt x="0" y="373"/>
                                  </a:moveTo>
                                  <a:cubicBezTo>
                                    <a:pt x="4" y="357"/>
                                    <a:pt x="8" y="342"/>
                                    <a:pt x="15" y="319"/>
                                  </a:cubicBezTo>
                                  <a:cubicBezTo>
                                    <a:pt x="22" y="296"/>
                                    <a:pt x="34" y="260"/>
                                    <a:pt x="44" y="232"/>
                                  </a:cubicBezTo>
                                  <a:cubicBezTo>
                                    <a:pt x="54" y="204"/>
                                    <a:pt x="64" y="173"/>
                                    <a:pt x="74" y="150"/>
                                  </a:cubicBezTo>
                                  <a:cubicBezTo>
                                    <a:pt x="84" y="127"/>
                                    <a:pt x="91" y="111"/>
                                    <a:pt x="102" y="93"/>
                                  </a:cubicBezTo>
                                  <a:cubicBezTo>
                                    <a:pt x="113" y="75"/>
                                    <a:pt x="127" y="56"/>
                                    <a:pt x="137" y="43"/>
                                  </a:cubicBezTo>
                                  <a:cubicBezTo>
                                    <a:pt x="147" y="30"/>
                                    <a:pt x="155" y="23"/>
                                    <a:pt x="164" y="16"/>
                                  </a:cubicBezTo>
                                  <a:cubicBezTo>
                                    <a:pt x="173" y="9"/>
                                    <a:pt x="182" y="6"/>
                                    <a:pt x="194" y="3"/>
                                  </a:cubicBezTo>
                                  <a:cubicBezTo>
                                    <a:pt x="206" y="0"/>
                                    <a:pt x="226" y="0"/>
                                    <a:pt x="234" y="0"/>
                                  </a:cubicBezTo>
                                </a:path>
                              </a:pathLst>
                            </a:custGeom>
                            <a:noFill/>
                            <a:ln w="6480">
                              <a:solidFill>
                                <a:srgbClr val="3333cc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93" name=""/>
                            <p:cNvSpPr/>
                            <p:nvPr/>
                          </p:nvSpPr>
                          <p:spPr>
                            <a:xfrm>
                              <a:off x="4656960" y="5596560"/>
                              <a:ext cx="3240" cy="0"/>
                            </a:xfrm>
                            <a:prstGeom prst="line">
                              <a:avLst/>
                            </a:prstGeom>
                            <a:ln w="6480">
                              <a:solidFill>
                                <a:srgbClr val="3333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94" name=""/>
                          <p:cNvGrpSpPr/>
                          <p:nvPr/>
                        </p:nvGrpSpPr>
                        <p:grpSpPr>
                          <a:xfrm>
                            <a:off x="4693680" y="5787720"/>
                            <a:ext cx="68040" cy="144720"/>
                            <a:chOff x="4693680" y="5787720"/>
                            <a:chExt cx="68040" cy="144720"/>
                          </a:xfrm>
                        </p:grpSpPr>
                        <p:sp>
                          <p:nvSpPr>
                            <p:cNvPr id="5495" name=""/>
                            <p:cNvSpPr/>
                            <p:nvPr/>
                          </p:nvSpPr>
                          <p:spPr>
                            <a:xfrm>
                              <a:off x="4693680" y="5788800"/>
                              <a:ext cx="32760" cy="14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8" h="159">
                                  <a:moveTo>
                                    <a:pt x="0" y="159"/>
                                  </a:moveTo>
                                  <a:cubicBezTo>
                                    <a:pt x="15" y="139"/>
                                    <a:pt x="30" y="120"/>
                                    <a:pt x="45" y="103"/>
                                  </a:cubicBezTo>
                                  <a:cubicBezTo>
                                    <a:pt x="60" y="86"/>
                                    <a:pt x="76" y="68"/>
                                    <a:pt x="90" y="54"/>
                                  </a:cubicBezTo>
                                  <a:cubicBezTo>
                                    <a:pt x="104" y="40"/>
                                    <a:pt x="118" y="30"/>
                                    <a:pt x="130" y="22"/>
                                  </a:cubicBezTo>
                                  <a:cubicBezTo>
                                    <a:pt x="142" y="14"/>
                                    <a:pt x="150" y="10"/>
                                    <a:pt x="162" y="7"/>
                                  </a:cubicBezTo>
                                  <a:cubicBezTo>
                                    <a:pt x="174" y="4"/>
                                    <a:pt x="191" y="2"/>
                                    <a:pt x="202" y="1"/>
                                  </a:cubicBezTo>
                                  <a:cubicBezTo>
                                    <a:pt x="213" y="0"/>
                                    <a:pt x="220" y="0"/>
                                    <a:pt x="228" y="1"/>
                                  </a:cubicBezTo>
                                </a:path>
                              </a:pathLst>
                            </a:custGeom>
                            <a:noFill/>
                            <a:ln w="6480">
                              <a:solidFill>
                                <a:srgbClr val="3333cc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96" name=""/>
                            <p:cNvSpPr/>
                            <p:nvPr/>
                          </p:nvSpPr>
                          <p:spPr>
                            <a:xfrm flipH="1">
                              <a:off x="4728600" y="5788080"/>
                              <a:ext cx="32760" cy="144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8" h="159">
                                  <a:moveTo>
                                    <a:pt x="0" y="159"/>
                                  </a:moveTo>
                                  <a:cubicBezTo>
                                    <a:pt x="15" y="139"/>
                                    <a:pt x="30" y="120"/>
                                    <a:pt x="45" y="103"/>
                                  </a:cubicBezTo>
                                  <a:cubicBezTo>
                                    <a:pt x="60" y="86"/>
                                    <a:pt x="76" y="68"/>
                                    <a:pt x="90" y="54"/>
                                  </a:cubicBezTo>
                                  <a:cubicBezTo>
                                    <a:pt x="104" y="40"/>
                                    <a:pt x="118" y="30"/>
                                    <a:pt x="130" y="22"/>
                                  </a:cubicBezTo>
                                  <a:cubicBezTo>
                                    <a:pt x="142" y="14"/>
                                    <a:pt x="150" y="10"/>
                                    <a:pt x="162" y="7"/>
                                  </a:cubicBezTo>
                                  <a:cubicBezTo>
                                    <a:pt x="174" y="4"/>
                                    <a:pt x="191" y="2"/>
                                    <a:pt x="202" y="1"/>
                                  </a:cubicBezTo>
                                  <a:cubicBezTo>
                                    <a:pt x="213" y="0"/>
                                    <a:pt x="220" y="0"/>
                                    <a:pt x="228" y="1"/>
                                  </a:cubicBezTo>
                                </a:path>
                              </a:pathLst>
                            </a:custGeom>
                            <a:noFill/>
                            <a:ln w="6480">
                              <a:solidFill>
                                <a:srgbClr val="3333cc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97" name=""/>
                            <p:cNvSpPr/>
                            <p:nvPr/>
                          </p:nvSpPr>
                          <p:spPr>
                            <a:xfrm flipV="1">
                              <a:off x="4725360" y="5787720"/>
                              <a:ext cx="4680" cy="2520"/>
                            </a:xfrm>
                            <a:prstGeom prst="line">
                              <a:avLst/>
                            </a:prstGeom>
                            <a:ln w="6480">
                              <a:solidFill>
                                <a:srgbClr val="3333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498" name=""/>
                          <p:cNvSpPr/>
                          <p:nvPr/>
                        </p:nvSpPr>
                        <p:spPr>
                          <a:xfrm>
                            <a:off x="4555080" y="4603680"/>
                            <a:ext cx="69120" cy="1327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80" h="1467">
                                <a:moveTo>
                                  <a:pt x="0" y="0"/>
                                </a:moveTo>
                                <a:cubicBezTo>
                                  <a:pt x="17" y="2"/>
                                  <a:pt x="34" y="4"/>
                                  <a:pt x="51" y="6"/>
                                </a:cubicBezTo>
                                <a:cubicBezTo>
                                  <a:pt x="68" y="8"/>
                                  <a:pt x="88" y="10"/>
                                  <a:pt x="102" y="15"/>
                                </a:cubicBezTo>
                                <a:cubicBezTo>
                                  <a:pt x="116" y="20"/>
                                  <a:pt x="122" y="23"/>
                                  <a:pt x="135" y="33"/>
                                </a:cubicBezTo>
                                <a:cubicBezTo>
                                  <a:pt x="148" y="43"/>
                                  <a:pt x="167" y="56"/>
                                  <a:pt x="180" y="78"/>
                                </a:cubicBezTo>
                                <a:cubicBezTo>
                                  <a:pt x="193" y="100"/>
                                  <a:pt x="204" y="120"/>
                                  <a:pt x="216" y="165"/>
                                </a:cubicBezTo>
                                <a:cubicBezTo>
                                  <a:pt x="228" y="210"/>
                                  <a:pt x="211" y="131"/>
                                  <a:pt x="255" y="348"/>
                                </a:cubicBezTo>
                                <a:cubicBezTo>
                                  <a:pt x="299" y="565"/>
                                  <a:pt x="389" y="1016"/>
                                  <a:pt x="480" y="1467"/>
                                </a:cubicBezTo>
                              </a:path>
                            </a:pathLst>
                          </a:custGeom>
                          <a:noFill/>
                          <a:ln w="6480">
                            <a:solidFill>
                              <a:srgbClr val="3333cc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499" name=""/>
                        <p:cNvGrpSpPr/>
                        <p:nvPr/>
                      </p:nvGrpSpPr>
                      <p:grpSpPr>
                        <a:xfrm>
                          <a:off x="4347000" y="4603680"/>
                          <a:ext cx="206640" cy="1330200"/>
                          <a:chOff x="4347000" y="4603680"/>
                          <a:chExt cx="206640" cy="1330200"/>
                        </a:xfrm>
                      </p:grpSpPr>
                      <p:grpSp>
                        <p:nvGrpSpPr>
                          <p:cNvPr id="5500" name=""/>
                          <p:cNvGrpSpPr/>
                          <p:nvPr/>
                        </p:nvGrpSpPr>
                        <p:grpSpPr>
                          <a:xfrm>
                            <a:off x="4415400" y="5596560"/>
                            <a:ext cx="69120" cy="337320"/>
                            <a:chOff x="4415400" y="5596560"/>
                            <a:chExt cx="69120" cy="337320"/>
                          </a:xfrm>
                        </p:grpSpPr>
                        <p:sp>
                          <p:nvSpPr>
                            <p:cNvPr id="5501" name=""/>
                            <p:cNvSpPr/>
                            <p:nvPr/>
                          </p:nvSpPr>
                          <p:spPr>
                            <a:xfrm flipH="1">
                              <a:off x="4450680" y="5596560"/>
                              <a:ext cx="33840" cy="337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34" h="373">
                                  <a:moveTo>
                                    <a:pt x="0" y="373"/>
                                  </a:moveTo>
                                  <a:cubicBezTo>
                                    <a:pt x="4" y="357"/>
                                    <a:pt x="8" y="342"/>
                                    <a:pt x="15" y="319"/>
                                  </a:cubicBezTo>
                                  <a:cubicBezTo>
                                    <a:pt x="22" y="296"/>
                                    <a:pt x="34" y="260"/>
                                    <a:pt x="44" y="232"/>
                                  </a:cubicBezTo>
                                  <a:cubicBezTo>
                                    <a:pt x="54" y="204"/>
                                    <a:pt x="64" y="173"/>
                                    <a:pt x="74" y="150"/>
                                  </a:cubicBezTo>
                                  <a:cubicBezTo>
                                    <a:pt x="84" y="127"/>
                                    <a:pt x="91" y="111"/>
                                    <a:pt x="102" y="93"/>
                                  </a:cubicBezTo>
                                  <a:cubicBezTo>
                                    <a:pt x="113" y="75"/>
                                    <a:pt x="127" y="56"/>
                                    <a:pt x="137" y="43"/>
                                  </a:cubicBezTo>
                                  <a:cubicBezTo>
                                    <a:pt x="147" y="30"/>
                                    <a:pt x="155" y="23"/>
                                    <a:pt x="164" y="16"/>
                                  </a:cubicBezTo>
                                  <a:cubicBezTo>
                                    <a:pt x="173" y="9"/>
                                    <a:pt x="182" y="6"/>
                                    <a:pt x="194" y="3"/>
                                  </a:cubicBezTo>
                                  <a:cubicBezTo>
                                    <a:pt x="206" y="0"/>
                                    <a:pt x="226" y="0"/>
                                    <a:pt x="234" y="0"/>
                                  </a:cubicBezTo>
                                </a:path>
                              </a:pathLst>
                            </a:custGeom>
                            <a:noFill/>
                            <a:ln w="6480">
                              <a:solidFill>
                                <a:srgbClr val="3333cc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502" name=""/>
                            <p:cNvSpPr/>
                            <p:nvPr/>
                          </p:nvSpPr>
                          <p:spPr>
                            <a:xfrm>
                              <a:off x="4415400" y="5596560"/>
                              <a:ext cx="33840" cy="337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34" h="373">
                                  <a:moveTo>
                                    <a:pt x="0" y="373"/>
                                  </a:moveTo>
                                  <a:cubicBezTo>
                                    <a:pt x="4" y="357"/>
                                    <a:pt x="8" y="342"/>
                                    <a:pt x="15" y="319"/>
                                  </a:cubicBezTo>
                                  <a:cubicBezTo>
                                    <a:pt x="22" y="296"/>
                                    <a:pt x="34" y="260"/>
                                    <a:pt x="44" y="232"/>
                                  </a:cubicBezTo>
                                  <a:cubicBezTo>
                                    <a:pt x="54" y="204"/>
                                    <a:pt x="64" y="173"/>
                                    <a:pt x="74" y="150"/>
                                  </a:cubicBezTo>
                                  <a:cubicBezTo>
                                    <a:pt x="84" y="127"/>
                                    <a:pt x="91" y="111"/>
                                    <a:pt x="102" y="93"/>
                                  </a:cubicBezTo>
                                  <a:cubicBezTo>
                                    <a:pt x="113" y="75"/>
                                    <a:pt x="127" y="56"/>
                                    <a:pt x="137" y="43"/>
                                  </a:cubicBezTo>
                                  <a:cubicBezTo>
                                    <a:pt x="147" y="30"/>
                                    <a:pt x="155" y="23"/>
                                    <a:pt x="164" y="16"/>
                                  </a:cubicBezTo>
                                  <a:cubicBezTo>
                                    <a:pt x="173" y="9"/>
                                    <a:pt x="182" y="6"/>
                                    <a:pt x="194" y="3"/>
                                  </a:cubicBezTo>
                                  <a:cubicBezTo>
                                    <a:pt x="206" y="0"/>
                                    <a:pt x="226" y="0"/>
                                    <a:pt x="234" y="0"/>
                                  </a:cubicBezTo>
                                </a:path>
                              </a:pathLst>
                            </a:custGeom>
                            <a:noFill/>
                            <a:ln w="6480">
                              <a:solidFill>
                                <a:srgbClr val="3333cc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503" name=""/>
                            <p:cNvSpPr/>
                            <p:nvPr/>
                          </p:nvSpPr>
                          <p:spPr>
                            <a:xfrm flipH="1">
                              <a:off x="4448520" y="5596560"/>
                              <a:ext cx="3240" cy="0"/>
                            </a:xfrm>
                            <a:prstGeom prst="line">
                              <a:avLst/>
                            </a:prstGeom>
                            <a:ln w="6480">
                              <a:solidFill>
                                <a:srgbClr val="3333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504" name=""/>
                          <p:cNvGrpSpPr/>
                          <p:nvPr/>
                        </p:nvGrpSpPr>
                        <p:grpSpPr>
                          <a:xfrm>
                            <a:off x="4347000" y="5787720"/>
                            <a:ext cx="68040" cy="144720"/>
                            <a:chOff x="4347000" y="5787720"/>
                            <a:chExt cx="68040" cy="144720"/>
                          </a:xfrm>
                        </p:grpSpPr>
                        <p:sp>
                          <p:nvSpPr>
                            <p:cNvPr id="5505" name=""/>
                            <p:cNvSpPr/>
                            <p:nvPr/>
                          </p:nvSpPr>
                          <p:spPr>
                            <a:xfrm flipH="1">
                              <a:off x="4381920" y="5788800"/>
                              <a:ext cx="32760" cy="14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8" h="159">
                                  <a:moveTo>
                                    <a:pt x="0" y="159"/>
                                  </a:moveTo>
                                  <a:cubicBezTo>
                                    <a:pt x="15" y="139"/>
                                    <a:pt x="30" y="120"/>
                                    <a:pt x="45" y="103"/>
                                  </a:cubicBezTo>
                                  <a:cubicBezTo>
                                    <a:pt x="60" y="86"/>
                                    <a:pt x="76" y="68"/>
                                    <a:pt x="90" y="54"/>
                                  </a:cubicBezTo>
                                  <a:cubicBezTo>
                                    <a:pt x="104" y="40"/>
                                    <a:pt x="118" y="30"/>
                                    <a:pt x="130" y="22"/>
                                  </a:cubicBezTo>
                                  <a:cubicBezTo>
                                    <a:pt x="142" y="14"/>
                                    <a:pt x="150" y="10"/>
                                    <a:pt x="162" y="7"/>
                                  </a:cubicBezTo>
                                  <a:cubicBezTo>
                                    <a:pt x="174" y="4"/>
                                    <a:pt x="191" y="2"/>
                                    <a:pt x="202" y="1"/>
                                  </a:cubicBezTo>
                                  <a:cubicBezTo>
                                    <a:pt x="213" y="0"/>
                                    <a:pt x="220" y="0"/>
                                    <a:pt x="228" y="1"/>
                                  </a:cubicBezTo>
                                </a:path>
                              </a:pathLst>
                            </a:custGeom>
                            <a:noFill/>
                            <a:ln w="6480">
                              <a:solidFill>
                                <a:srgbClr val="3333cc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506" name=""/>
                            <p:cNvSpPr/>
                            <p:nvPr/>
                          </p:nvSpPr>
                          <p:spPr>
                            <a:xfrm>
                              <a:off x="4347000" y="5788080"/>
                              <a:ext cx="32760" cy="144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8" h="159">
                                  <a:moveTo>
                                    <a:pt x="0" y="159"/>
                                  </a:moveTo>
                                  <a:cubicBezTo>
                                    <a:pt x="15" y="139"/>
                                    <a:pt x="30" y="120"/>
                                    <a:pt x="45" y="103"/>
                                  </a:cubicBezTo>
                                  <a:cubicBezTo>
                                    <a:pt x="60" y="86"/>
                                    <a:pt x="76" y="68"/>
                                    <a:pt x="90" y="54"/>
                                  </a:cubicBezTo>
                                  <a:cubicBezTo>
                                    <a:pt x="104" y="40"/>
                                    <a:pt x="118" y="30"/>
                                    <a:pt x="130" y="22"/>
                                  </a:cubicBezTo>
                                  <a:cubicBezTo>
                                    <a:pt x="142" y="14"/>
                                    <a:pt x="150" y="10"/>
                                    <a:pt x="162" y="7"/>
                                  </a:cubicBezTo>
                                  <a:cubicBezTo>
                                    <a:pt x="174" y="4"/>
                                    <a:pt x="191" y="2"/>
                                    <a:pt x="202" y="1"/>
                                  </a:cubicBezTo>
                                  <a:cubicBezTo>
                                    <a:pt x="213" y="0"/>
                                    <a:pt x="220" y="0"/>
                                    <a:pt x="228" y="1"/>
                                  </a:cubicBezTo>
                                </a:path>
                              </a:pathLst>
                            </a:custGeom>
                            <a:noFill/>
                            <a:ln w="6480">
                              <a:solidFill>
                                <a:srgbClr val="3333cc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507" name=""/>
                            <p:cNvSpPr/>
                            <p:nvPr/>
                          </p:nvSpPr>
                          <p:spPr>
                            <a:xfrm flipH="1" flipV="1">
                              <a:off x="4378680" y="5787720"/>
                              <a:ext cx="4680" cy="2520"/>
                            </a:xfrm>
                            <a:prstGeom prst="line">
                              <a:avLst/>
                            </a:prstGeom>
                            <a:ln w="6480">
                              <a:solidFill>
                                <a:srgbClr val="3333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508" name=""/>
                          <p:cNvSpPr/>
                          <p:nvPr/>
                        </p:nvSpPr>
                        <p:spPr>
                          <a:xfrm flipH="1">
                            <a:off x="4484520" y="4603680"/>
                            <a:ext cx="69120" cy="1327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80" h="1467">
                                <a:moveTo>
                                  <a:pt x="0" y="0"/>
                                </a:moveTo>
                                <a:cubicBezTo>
                                  <a:pt x="17" y="2"/>
                                  <a:pt x="34" y="4"/>
                                  <a:pt x="51" y="6"/>
                                </a:cubicBezTo>
                                <a:cubicBezTo>
                                  <a:pt x="68" y="8"/>
                                  <a:pt x="88" y="10"/>
                                  <a:pt x="102" y="15"/>
                                </a:cubicBezTo>
                                <a:cubicBezTo>
                                  <a:pt x="116" y="20"/>
                                  <a:pt x="122" y="23"/>
                                  <a:pt x="135" y="33"/>
                                </a:cubicBezTo>
                                <a:cubicBezTo>
                                  <a:pt x="148" y="43"/>
                                  <a:pt x="167" y="56"/>
                                  <a:pt x="180" y="78"/>
                                </a:cubicBezTo>
                                <a:cubicBezTo>
                                  <a:pt x="193" y="100"/>
                                  <a:pt x="204" y="120"/>
                                  <a:pt x="216" y="165"/>
                                </a:cubicBezTo>
                                <a:cubicBezTo>
                                  <a:pt x="228" y="210"/>
                                  <a:pt x="211" y="131"/>
                                  <a:pt x="255" y="348"/>
                                </a:cubicBezTo>
                                <a:cubicBezTo>
                                  <a:pt x="299" y="565"/>
                                  <a:pt x="389" y="1016"/>
                                  <a:pt x="480" y="1467"/>
                                </a:cubicBezTo>
                              </a:path>
                            </a:pathLst>
                          </a:custGeom>
                          <a:noFill/>
                          <a:ln w="6480">
                            <a:solidFill>
                              <a:srgbClr val="3333cc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509" name=""/>
                      <p:cNvGrpSpPr/>
                      <p:nvPr/>
                    </p:nvGrpSpPr>
                    <p:grpSpPr>
                      <a:xfrm>
                        <a:off x="2334240" y="4568760"/>
                        <a:ext cx="4021200" cy="1373040"/>
                        <a:chOff x="2334240" y="4568760"/>
                        <a:chExt cx="4021200" cy="1373040"/>
                      </a:xfrm>
                    </p:grpSpPr>
                    <p:grpSp>
                      <p:nvGrpSpPr>
                        <p:cNvPr id="5510" name=""/>
                        <p:cNvGrpSpPr/>
                        <p:nvPr/>
                      </p:nvGrpSpPr>
                      <p:grpSpPr>
                        <a:xfrm>
                          <a:off x="5175720" y="4606560"/>
                          <a:ext cx="414360" cy="1331640"/>
                          <a:chOff x="5175720" y="4606560"/>
                          <a:chExt cx="414360" cy="1331640"/>
                        </a:xfrm>
                      </p:grpSpPr>
                      <p:grpSp>
                        <p:nvGrpSpPr>
                          <p:cNvPr id="5511" name=""/>
                          <p:cNvGrpSpPr/>
                          <p:nvPr/>
                        </p:nvGrpSpPr>
                        <p:grpSpPr>
                          <a:xfrm>
                            <a:off x="5383440" y="4606560"/>
                            <a:ext cx="206640" cy="1331640"/>
                            <a:chOff x="5383440" y="4606560"/>
                            <a:chExt cx="206640" cy="1331640"/>
                          </a:xfrm>
                        </p:grpSpPr>
                        <p:grpSp>
                          <p:nvGrpSpPr>
                            <p:cNvPr id="5512" name=""/>
                            <p:cNvGrpSpPr/>
                            <p:nvPr/>
                          </p:nvGrpSpPr>
                          <p:grpSpPr>
                            <a:xfrm>
                              <a:off x="5452560" y="5600520"/>
                              <a:ext cx="69120" cy="337680"/>
                              <a:chOff x="5452560" y="5600520"/>
                              <a:chExt cx="69120" cy="337680"/>
                            </a:xfrm>
                          </p:grpSpPr>
                          <p:sp>
                            <p:nvSpPr>
                              <p:cNvPr id="5513" name=""/>
                              <p:cNvSpPr/>
                              <p:nvPr/>
                            </p:nvSpPr>
                            <p:spPr>
                              <a:xfrm>
                                <a:off x="5452560" y="5600520"/>
                                <a:ext cx="33840" cy="337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34" h="373">
                                    <a:moveTo>
                                      <a:pt x="0" y="373"/>
                                    </a:moveTo>
                                    <a:cubicBezTo>
                                      <a:pt x="4" y="357"/>
                                      <a:pt x="8" y="342"/>
                                      <a:pt x="15" y="319"/>
                                    </a:cubicBezTo>
                                    <a:cubicBezTo>
                                      <a:pt x="22" y="296"/>
                                      <a:pt x="34" y="260"/>
                                      <a:pt x="44" y="232"/>
                                    </a:cubicBezTo>
                                    <a:cubicBezTo>
                                      <a:pt x="54" y="204"/>
                                      <a:pt x="64" y="173"/>
                                      <a:pt x="74" y="150"/>
                                    </a:cubicBezTo>
                                    <a:cubicBezTo>
                                      <a:pt x="84" y="127"/>
                                      <a:pt x="91" y="111"/>
                                      <a:pt x="102" y="93"/>
                                    </a:cubicBezTo>
                                    <a:cubicBezTo>
                                      <a:pt x="113" y="75"/>
                                      <a:pt x="127" y="56"/>
                                      <a:pt x="137" y="43"/>
                                    </a:cubicBezTo>
                                    <a:cubicBezTo>
                                      <a:pt x="147" y="30"/>
                                      <a:pt x="155" y="23"/>
                                      <a:pt x="164" y="16"/>
                                    </a:cubicBezTo>
                                    <a:cubicBezTo>
                                      <a:pt x="173" y="9"/>
                                      <a:pt x="182" y="6"/>
                                      <a:pt x="194" y="3"/>
                                    </a:cubicBezTo>
                                    <a:cubicBezTo>
                                      <a:pt x="206" y="0"/>
                                      <a:pt x="226" y="0"/>
                                      <a:pt x="234" y="0"/>
                                    </a:cubicBezTo>
                                  </a:path>
                                </a:pathLst>
                              </a:custGeom>
                              <a:noFill/>
                              <a:ln w="6480">
                                <a:solidFill>
                                  <a:srgbClr val="3333cc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14" name=""/>
                              <p:cNvSpPr/>
                              <p:nvPr/>
                            </p:nvSpPr>
                            <p:spPr>
                              <a:xfrm flipH="1">
                                <a:off x="5487840" y="5600520"/>
                                <a:ext cx="33840" cy="337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34" h="373">
                                    <a:moveTo>
                                      <a:pt x="0" y="373"/>
                                    </a:moveTo>
                                    <a:cubicBezTo>
                                      <a:pt x="4" y="357"/>
                                      <a:pt x="8" y="342"/>
                                      <a:pt x="15" y="319"/>
                                    </a:cubicBezTo>
                                    <a:cubicBezTo>
                                      <a:pt x="22" y="296"/>
                                      <a:pt x="34" y="260"/>
                                      <a:pt x="44" y="232"/>
                                    </a:cubicBezTo>
                                    <a:cubicBezTo>
                                      <a:pt x="54" y="204"/>
                                      <a:pt x="64" y="173"/>
                                      <a:pt x="74" y="150"/>
                                    </a:cubicBezTo>
                                    <a:cubicBezTo>
                                      <a:pt x="84" y="127"/>
                                      <a:pt x="91" y="111"/>
                                      <a:pt x="102" y="93"/>
                                    </a:cubicBezTo>
                                    <a:cubicBezTo>
                                      <a:pt x="113" y="75"/>
                                      <a:pt x="127" y="56"/>
                                      <a:pt x="137" y="43"/>
                                    </a:cubicBezTo>
                                    <a:cubicBezTo>
                                      <a:pt x="147" y="30"/>
                                      <a:pt x="155" y="23"/>
                                      <a:pt x="164" y="16"/>
                                    </a:cubicBezTo>
                                    <a:cubicBezTo>
                                      <a:pt x="173" y="9"/>
                                      <a:pt x="182" y="6"/>
                                      <a:pt x="194" y="3"/>
                                    </a:cubicBezTo>
                                    <a:cubicBezTo>
                                      <a:pt x="206" y="0"/>
                                      <a:pt x="226" y="0"/>
                                      <a:pt x="234" y="0"/>
                                    </a:cubicBezTo>
                                  </a:path>
                                </a:pathLst>
                              </a:custGeom>
                              <a:noFill/>
                              <a:ln w="6480">
                                <a:solidFill>
                                  <a:srgbClr val="3333cc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15" name=""/>
                              <p:cNvSpPr/>
                              <p:nvPr/>
                            </p:nvSpPr>
                            <p:spPr>
                              <a:xfrm>
                                <a:off x="5485320" y="5600520"/>
                                <a:ext cx="3240" cy="0"/>
                              </a:xfrm>
                              <a:prstGeom prst="line">
                                <a:avLst/>
                              </a:prstGeom>
                              <a:ln w="6480">
                                <a:solidFill>
                                  <a:srgbClr val="3333cc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516" name=""/>
                            <p:cNvGrpSpPr/>
                            <p:nvPr/>
                          </p:nvGrpSpPr>
                          <p:grpSpPr>
                            <a:xfrm>
                              <a:off x="5522040" y="5792760"/>
                              <a:ext cx="68040" cy="144720"/>
                              <a:chOff x="5522040" y="5792760"/>
                              <a:chExt cx="68040" cy="144720"/>
                            </a:xfrm>
                          </p:grpSpPr>
                          <p:sp>
                            <p:nvSpPr>
                              <p:cNvPr id="5517" name=""/>
                              <p:cNvSpPr/>
                              <p:nvPr/>
                            </p:nvSpPr>
                            <p:spPr>
                              <a:xfrm>
                                <a:off x="5522040" y="5793480"/>
                                <a:ext cx="32760" cy="144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28" h="159">
                                    <a:moveTo>
                                      <a:pt x="0" y="159"/>
                                    </a:moveTo>
                                    <a:cubicBezTo>
                                      <a:pt x="15" y="139"/>
                                      <a:pt x="30" y="120"/>
                                      <a:pt x="45" y="103"/>
                                    </a:cubicBezTo>
                                    <a:cubicBezTo>
                                      <a:pt x="60" y="86"/>
                                      <a:pt x="76" y="68"/>
                                      <a:pt x="90" y="54"/>
                                    </a:cubicBezTo>
                                    <a:cubicBezTo>
                                      <a:pt x="104" y="40"/>
                                      <a:pt x="118" y="30"/>
                                      <a:pt x="130" y="22"/>
                                    </a:cubicBezTo>
                                    <a:cubicBezTo>
                                      <a:pt x="142" y="14"/>
                                      <a:pt x="150" y="10"/>
                                      <a:pt x="162" y="7"/>
                                    </a:cubicBezTo>
                                    <a:cubicBezTo>
                                      <a:pt x="174" y="4"/>
                                      <a:pt x="191" y="2"/>
                                      <a:pt x="202" y="1"/>
                                    </a:cubicBezTo>
                                    <a:cubicBezTo>
                                      <a:pt x="213" y="0"/>
                                      <a:pt x="220" y="0"/>
                                      <a:pt x="228" y="1"/>
                                    </a:cubicBezTo>
                                  </a:path>
                                </a:pathLst>
                              </a:custGeom>
                              <a:noFill/>
                              <a:ln w="6480">
                                <a:solidFill>
                                  <a:srgbClr val="3333cc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18" name=""/>
                              <p:cNvSpPr/>
                              <p:nvPr/>
                            </p:nvSpPr>
                            <p:spPr>
                              <a:xfrm flipH="1">
                                <a:off x="5556960" y="5792760"/>
                                <a:ext cx="32760" cy="144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28" h="159">
                                    <a:moveTo>
                                      <a:pt x="0" y="159"/>
                                    </a:moveTo>
                                    <a:cubicBezTo>
                                      <a:pt x="15" y="139"/>
                                      <a:pt x="30" y="120"/>
                                      <a:pt x="45" y="103"/>
                                    </a:cubicBezTo>
                                    <a:cubicBezTo>
                                      <a:pt x="60" y="86"/>
                                      <a:pt x="76" y="68"/>
                                      <a:pt x="90" y="54"/>
                                    </a:cubicBezTo>
                                    <a:cubicBezTo>
                                      <a:pt x="104" y="40"/>
                                      <a:pt x="118" y="30"/>
                                      <a:pt x="130" y="22"/>
                                    </a:cubicBezTo>
                                    <a:cubicBezTo>
                                      <a:pt x="142" y="14"/>
                                      <a:pt x="150" y="10"/>
                                      <a:pt x="162" y="7"/>
                                    </a:cubicBezTo>
                                    <a:cubicBezTo>
                                      <a:pt x="174" y="4"/>
                                      <a:pt x="191" y="2"/>
                                      <a:pt x="202" y="1"/>
                                    </a:cubicBezTo>
                                    <a:cubicBezTo>
                                      <a:pt x="213" y="0"/>
                                      <a:pt x="220" y="0"/>
                                      <a:pt x="228" y="1"/>
                                    </a:cubicBezTo>
                                  </a:path>
                                </a:pathLst>
                              </a:custGeom>
                              <a:noFill/>
                              <a:ln w="6480">
                                <a:solidFill>
                                  <a:srgbClr val="3333cc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19" name=""/>
                              <p:cNvSpPr/>
                              <p:nvPr/>
                            </p:nvSpPr>
                            <p:spPr>
                              <a:xfrm flipV="1">
                                <a:off x="5553720" y="5792760"/>
                                <a:ext cx="4680" cy="2880"/>
                              </a:xfrm>
                              <a:prstGeom prst="line">
                                <a:avLst/>
                              </a:prstGeom>
                              <a:ln w="6480">
                                <a:solidFill>
                                  <a:srgbClr val="3333cc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920" bIns="-4392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520" name=""/>
                            <p:cNvSpPr/>
                            <p:nvPr/>
                          </p:nvSpPr>
                          <p:spPr>
                            <a:xfrm>
                              <a:off x="5383440" y="4606560"/>
                              <a:ext cx="69120" cy="1329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80" h="1467">
                                  <a:moveTo>
                                    <a:pt x="0" y="0"/>
                                  </a:moveTo>
                                  <a:cubicBezTo>
                                    <a:pt x="17" y="2"/>
                                    <a:pt x="34" y="4"/>
                                    <a:pt x="51" y="6"/>
                                  </a:cubicBezTo>
                                  <a:cubicBezTo>
                                    <a:pt x="68" y="8"/>
                                    <a:pt x="88" y="10"/>
                                    <a:pt x="102" y="15"/>
                                  </a:cubicBezTo>
                                  <a:cubicBezTo>
                                    <a:pt x="116" y="20"/>
                                    <a:pt x="122" y="23"/>
                                    <a:pt x="135" y="33"/>
                                  </a:cubicBezTo>
                                  <a:cubicBezTo>
                                    <a:pt x="148" y="43"/>
                                    <a:pt x="167" y="56"/>
                                    <a:pt x="180" y="78"/>
                                  </a:cubicBezTo>
                                  <a:cubicBezTo>
                                    <a:pt x="193" y="100"/>
                                    <a:pt x="204" y="120"/>
                                    <a:pt x="216" y="165"/>
                                  </a:cubicBezTo>
                                  <a:cubicBezTo>
                                    <a:pt x="228" y="210"/>
                                    <a:pt x="211" y="131"/>
                                    <a:pt x="255" y="348"/>
                                  </a:cubicBezTo>
                                  <a:cubicBezTo>
                                    <a:pt x="299" y="565"/>
                                    <a:pt x="389" y="1016"/>
                                    <a:pt x="480" y="1467"/>
                                  </a:cubicBezTo>
                                </a:path>
                              </a:pathLst>
                            </a:custGeom>
                            <a:noFill/>
                            <a:ln w="6480">
                              <a:solidFill>
                                <a:srgbClr val="3333cc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521" name=""/>
                          <p:cNvGrpSpPr/>
                          <p:nvPr/>
                        </p:nvGrpSpPr>
                        <p:grpSpPr>
                          <a:xfrm>
                            <a:off x="5175720" y="4606560"/>
                            <a:ext cx="206640" cy="1331640"/>
                            <a:chOff x="5175720" y="4606560"/>
                            <a:chExt cx="206640" cy="1331640"/>
                          </a:xfrm>
                        </p:grpSpPr>
                        <p:grpSp>
                          <p:nvGrpSpPr>
                            <p:cNvPr id="5522" name=""/>
                            <p:cNvGrpSpPr/>
                            <p:nvPr/>
                          </p:nvGrpSpPr>
                          <p:grpSpPr>
                            <a:xfrm>
                              <a:off x="5244120" y="5600520"/>
                              <a:ext cx="69120" cy="337680"/>
                              <a:chOff x="5244120" y="5600520"/>
                              <a:chExt cx="69120" cy="337680"/>
                            </a:xfrm>
                          </p:grpSpPr>
                          <p:sp>
                            <p:nvSpPr>
                              <p:cNvPr id="5523" name=""/>
                              <p:cNvSpPr/>
                              <p:nvPr/>
                            </p:nvSpPr>
                            <p:spPr>
                              <a:xfrm flipH="1">
                                <a:off x="5279400" y="5600520"/>
                                <a:ext cx="33840" cy="337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34" h="373">
                                    <a:moveTo>
                                      <a:pt x="0" y="373"/>
                                    </a:moveTo>
                                    <a:cubicBezTo>
                                      <a:pt x="4" y="357"/>
                                      <a:pt x="8" y="342"/>
                                      <a:pt x="15" y="319"/>
                                    </a:cubicBezTo>
                                    <a:cubicBezTo>
                                      <a:pt x="22" y="296"/>
                                      <a:pt x="34" y="260"/>
                                      <a:pt x="44" y="232"/>
                                    </a:cubicBezTo>
                                    <a:cubicBezTo>
                                      <a:pt x="54" y="204"/>
                                      <a:pt x="64" y="173"/>
                                      <a:pt x="74" y="150"/>
                                    </a:cubicBezTo>
                                    <a:cubicBezTo>
                                      <a:pt x="84" y="127"/>
                                      <a:pt x="91" y="111"/>
                                      <a:pt x="102" y="93"/>
                                    </a:cubicBezTo>
                                    <a:cubicBezTo>
                                      <a:pt x="113" y="75"/>
                                      <a:pt x="127" y="56"/>
                                      <a:pt x="137" y="43"/>
                                    </a:cubicBezTo>
                                    <a:cubicBezTo>
                                      <a:pt x="147" y="30"/>
                                      <a:pt x="155" y="23"/>
                                      <a:pt x="164" y="16"/>
                                    </a:cubicBezTo>
                                    <a:cubicBezTo>
                                      <a:pt x="173" y="9"/>
                                      <a:pt x="182" y="6"/>
                                      <a:pt x="194" y="3"/>
                                    </a:cubicBezTo>
                                    <a:cubicBezTo>
                                      <a:pt x="206" y="0"/>
                                      <a:pt x="226" y="0"/>
                                      <a:pt x="234" y="0"/>
                                    </a:cubicBezTo>
                                  </a:path>
                                </a:pathLst>
                              </a:custGeom>
                              <a:noFill/>
                              <a:ln w="6480">
                                <a:solidFill>
                                  <a:srgbClr val="3333cc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24" name=""/>
                              <p:cNvSpPr/>
                              <p:nvPr/>
                            </p:nvSpPr>
                            <p:spPr>
                              <a:xfrm>
                                <a:off x="5244120" y="5600520"/>
                                <a:ext cx="33840" cy="337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34" h="373">
                                    <a:moveTo>
                                      <a:pt x="0" y="373"/>
                                    </a:moveTo>
                                    <a:cubicBezTo>
                                      <a:pt x="4" y="357"/>
                                      <a:pt x="8" y="342"/>
                                      <a:pt x="15" y="319"/>
                                    </a:cubicBezTo>
                                    <a:cubicBezTo>
                                      <a:pt x="22" y="296"/>
                                      <a:pt x="34" y="260"/>
                                      <a:pt x="44" y="232"/>
                                    </a:cubicBezTo>
                                    <a:cubicBezTo>
                                      <a:pt x="54" y="204"/>
                                      <a:pt x="64" y="173"/>
                                      <a:pt x="74" y="150"/>
                                    </a:cubicBezTo>
                                    <a:cubicBezTo>
                                      <a:pt x="84" y="127"/>
                                      <a:pt x="91" y="111"/>
                                      <a:pt x="102" y="93"/>
                                    </a:cubicBezTo>
                                    <a:cubicBezTo>
                                      <a:pt x="113" y="75"/>
                                      <a:pt x="127" y="56"/>
                                      <a:pt x="137" y="43"/>
                                    </a:cubicBezTo>
                                    <a:cubicBezTo>
                                      <a:pt x="147" y="30"/>
                                      <a:pt x="155" y="23"/>
                                      <a:pt x="164" y="16"/>
                                    </a:cubicBezTo>
                                    <a:cubicBezTo>
                                      <a:pt x="173" y="9"/>
                                      <a:pt x="182" y="6"/>
                                      <a:pt x="194" y="3"/>
                                    </a:cubicBezTo>
                                    <a:cubicBezTo>
                                      <a:pt x="206" y="0"/>
                                      <a:pt x="226" y="0"/>
                                      <a:pt x="234" y="0"/>
                                    </a:cubicBezTo>
                                  </a:path>
                                </a:pathLst>
                              </a:custGeom>
                              <a:noFill/>
                              <a:ln w="6480">
                                <a:solidFill>
                                  <a:srgbClr val="3333cc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25" name=""/>
                              <p:cNvSpPr/>
                              <p:nvPr/>
                            </p:nvSpPr>
                            <p:spPr>
                              <a:xfrm flipH="1">
                                <a:off x="5277240" y="5600520"/>
                                <a:ext cx="3240" cy="0"/>
                              </a:xfrm>
                              <a:prstGeom prst="line">
                                <a:avLst/>
                              </a:prstGeom>
                              <a:ln w="6480">
                                <a:solidFill>
                                  <a:srgbClr val="3333cc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526" name=""/>
                            <p:cNvGrpSpPr/>
                            <p:nvPr/>
                          </p:nvGrpSpPr>
                          <p:grpSpPr>
                            <a:xfrm>
                              <a:off x="5175720" y="5792760"/>
                              <a:ext cx="68040" cy="144720"/>
                              <a:chOff x="5175720" y="5792760"/>
                              <a:chExt cx="68040" cy="144720"/>
                            </a:xfrm>
                          </p:grpSpPr>
                          <p:sp>
                            <p:nvSpPr>
                              <p:cNvPr id="5527" name=""/>
                              <p:cNvSpPr/>
                              <p:nvPr/>
                            </p:nvSpPr>
                            <p:spPr>
                              <a:xfrm flipH="1">
                                <a:off x="5210640" y="5793480"/>
                                <a:ext cx="32760" cy="144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28" h="159">
                                    <a:moveTo>
                                      <a:pt x="0" y="159"/>
                                    </a:moveTo>
                                    <a:cubicBezTo>
                                      <a:pt x="15" y="139"/>
                                      <a:pt x="30" y="120"/>
                                      <a:pt x="45" y="103"/>
                                    </a:cubicBezTo>
                                    <a:cubicBezTo>
                                      <a:pt x="60" y="86"/>
                                      <a:pt x="76" y="68"/>
                                      <a:pt x="90" y="54"/>
                                    </a:cubicBezTo>
                                    <a:cubicBezTo>
                                      <a:pt x="104" y="40"/>
                                      <a:pt x="118" y="30"/>
                                      <a:pt x="130" y="22"/>
                                    </a:cubicBezTo>
                                    <a:cubicBezTo>
                                      <a:pt x="142" y="14"/>
                                      <a:pt x="150" y="10"/>
                                      <a:pt x="162" y="7"/>
                                    </a:cubicBezTo>
                                    <a:cubicBezTo>
                                      <a:pt x="174" y="4"/>
                                      <a:pt x="191" y="2"/>
                                      <a:pt x="202" y="1"/>
                                    </a:cubicBezTo>
                                    <a:cubicBezTo>
                                      <a:pt x="213" y="0"/>
                                      <a:pt x="220" y="0"/>
                                      <a:pt x="228" y="1"/>
                                    </a:cubicBezTo>
                                  </a:path>
                                </a:pathLst>
                              </a:custGeom>
                              <a:noFill/>
                              <a:ln w="6480">
                                <a:solidFill>
                                  <a:srgbClr val="3333cc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28" name=""/>
                              <p:cNvSpPr/>
                              <p:nvPr/>
                            </p:nvSpPr>
                            <p:spPr>
                              <a:xfrm>
                                <a:off x="5175720" y="5792760"/>
                                <a:ext cx="32760" cy="144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28" h="159">
                                    <a:moveTo>
                                      <a:pt x="0" y="159"/>
                                    </a:moveTo>
                                    <a:cubicBezTo>
                                      <a:pt x="15" y="139"/>
                                      <a:pt x="30" y="120"/>
                                      <a:pt x="45" y="103"/>
                                    </a:cubicBezTo>
                                    <a:cubicBezTo>
                                      <a:pt x="60" y="86"/>
                                      <a:pt x="76" y="68"/>
                                      <a:pt x="90" y="54"/>
                                    </a:cubicBezTo>
                                    <a:cubicBezTo>
                                      <a:pt x="104" y="40"/>
                                      <a:pt x="118" y="30"/>
                                      <a:pt x="130" y="22"/>
                                    </a:cubicBezTo>
                                    <a:cubicBezTo>
                                      <a:pt x="142" y="14"/>
                                      <a:pt x="150" y="10"/>
                                      <a:pt x="162" y="7"/>
                                    </a:cubicBezTo>
                                    <a:cubicBezTo>
                                      <a:pt x="174" y="4"/>
                                      <a:pt x="191" y="2"/>
                                      <a:pt x="202" y="1"/>
                                    </a:cubicBezTo>
                                    <a:cubicBezTo>
                                      <a:pt x="213" y="0"/>
                                      <a:pt x="220" y="0"/>
                                      <a:pt x="228" y="1"/>
                                    </a:cubicBezTo>
                                  </a:path>
                                </a:pathLst>
                              </a:custGeom>
                              <a:noFill/>
                              <a:ln w="6480">
                                <a:solidFill>
                                  <a:srgbClr val="3333cc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29" name=""/>
                              <p:cNvSpPr/>
                              <p:nvPr/>
                            </p:nvSpPr>
                            <p:spPr>
                              <a:xfrm flipH="1" flipV="1">
                                <a:off x="5207400" y="5792760"/>
                                <a:ext cx="4680" cy="2880"/>
                              </a:xfrm>
                              <a:prstGeom prst="line">
                                <a:avLst/>
                              </a:prstGeom>
                              <a:ln w="6480">
                                <a:solidFill>
                                  <a:srgbClr val="3333cc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920" bIns="-4392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530" name=""/>
                            <p:cNvSpPr/>
                            <p:nvPr/>
                          </p:nvSpPr>
                          <p:spPr>
                            <a:xfrm flipH="1">
                              <a:off x="5313240" y="4606560"/>
                              <a:ext cx="69120" cy="1329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80" h="1467">
                                  <a:moveTo>
                                    <a:pt x="0" y="0"/>
                                  </a:moveTo>
                                  <a:cubicBezTo>
                                    <a:pt x="17" y="2"/>
                                    <a:pt x="34" y="4"/>
                                    <a:pt x="51" y="6"/>
                                  </a:cubicBezTo>
                                  <a:cubicBezTo>
                                    <a:pt x="68" y="8"/>
                                    <a:pt x="88" y="10"/>
                                    <a:pt x="102" y="15"/>
                                  </a:cubicBezTo>
                                  <a:cubicBezTo>
                                    <a:pt x="116" y="20"/>
                                    <a:pt x="122" y="23"/>
                                    <a:pt x="135" y="33"/>
                                  </a:cubicBezTo>
                                  <a:cubicBezTo>
                                    <a:pt x="148" y="43"/>
                                    <a:pt x="167" y="56"/>
                                    <a:pt x="180" y="78"/>
                                  </a:cubicBezTo>
                                  <a:cubicBezTo>
                                    <a:pt x="193" y="100"/>
                                    <a:pt x="204" y="120"/>
                                    <a:pt x="216" y="165"/>
                                  </a:cubicBezTo>
                                  <a:cubicBezTo>
                                    <a:pt x="228" y="210"/>
                                    <a:pt x="211" y="131"/>
                                    <a:pt x="255" y="348"/>
                                  </a:cubicBezTo>
                                  <a:cubicBezTo>
                                    <a:pt x="299" y="565"/>
                                    <a:pt x="389" y="1016"/>
                                    <a:pt x="480" y="1467"/>
                                  </a:cubicBezTo>
                                </a:path>
                              </a:pathLst>
                            </a:custGeom>
                            <a:noFill/>
                            <a:ln w="6480">
                              <a:solidFill>
                                <a:srgbClr val="3333cc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531" name=""/>
                        <p:cNvGrpSpPr/>
                        <p:nvPr/>
                      </p:nvGrpSpPr>
                      <p:grpSpPr>
                        <a:xfrm>
                          <a:off x="2334240" y="4568760"/>
                          <a:ext cx="4021200" cy="1373040"/>
                          <a:chOff x="2334240" y="4568760"/>
                          <a:chExt cx="4021200" cy="1373040"/>
                        </a:xfrm>
                      </p:grpSpPr>
                      <p:grpSp>
                        <p:nvGrpSpPr>
                          <p:cNvPr id="5532" name=""/>
                          <p:cNvGrpSpPr/>
                          <p:nvPr/>
                        </p:nvGrpSpPr>
                        <p:grpSpPr>
                          <a:xfrm>
                            <a:off x="5594760" y="4606560"/>
                            <a:ext cx="414720" cy="1331640"/>
                            <a:chOff x="5594760" y="4606560"/>
                            <a:chExt cx="414720" cy="1331640"/>
                          </a:xfrm>
                        </p:grpSpPr>
                        <p:grpSp>
                          <p:nvGrpSpPr>
                            <p:cNvPr id="5533" name=""/>
                            <p:cNvGrpSpPr/>
                            <p:nvPr/>
                          </p:nvGrpSpPr>
                          <p:grpSpPr>
                            <a:xfrm>
                              <a:off x="5802840" y="4606560"/>
                              <a:ext cx="206640" cy="1331640"/>
                              <a:chOff x="5802840" y="4606560"/>
                              <a:chExt cx="206640" cy="1331640"/>
                            </a:xfrm>
                          </p:grpSpPr>
                          <p:grpSp>
                            <p:nvGrpSpPr>
                              <p:cNvPr id="5534" name=""/>
                              <p:cNvGrpSpPr/>
                              <p:nvPr/>
                            </p:nvGrpSpPr>
                            <p:grpSpPr>
                              <a:xfrm>
                                <a:off x="5871960" y="5600520"/>
                                <a:ext cx="69120" cy="337680"/>
                                <a:chOff x="5871960" y="5600520"/>
                                <a:chExt cx="69120" cy="337680"/>
                              </a:xfrm>
                            </p:grpSpPr>
                            <p:sp>
                              <p:nvSpPr>
                                <p:cNvPr id="5535" name=""/>
                                <p:cNvSpPr/>
                                <p:nvPr/>
                              </p:nvSpPr>
                              <p:spPr>
                                <a:xfrm>
                                  <a:off x="5871960" y="5600520"/>
                                  <a:ext cx="33840" cy="3376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34" h="373">
                                      <a:moveTo>
                                        <a:pt x="0" y="373"/>
                                      </a:moveTo>
                                      <a:cubicBezTo>
                                        <a:pt x="4" y="357"/>
                                        <a:pt x="8" y="342"/>
                                        <a:pt x="15" y="319"/>
                                      </a:cubicBezTo>
                                      <a:cubicBezTo>
                                        <a:pt x="22" y="296"/>
                                        <a:pt x="34" y="260"/>
                                        <a:pt x="44" y="232"/>
                                      </a:cubicBezTo>
                                      <a:cubicBezTo>
                                        <a:pt x="54" y="204"/>
                                        <a:pt x="64" y="173"/>
                                        <a:pt x="74" y="150"/>
                                      </a:cubicBezTo>
                                      <a:cubicBezTo>
                                        <a:pt x="84" y="127"/>
                                        <a:pt x="91" y="111"/>
                                        <a:pt x="102" y="93"/>
                                      </a:cubicBezTo>
                                      <a:cubicBezTo>
                                        <a:pt x="113" y="75"/>
                                        <a:pt x="127" y="56"/>
                                        <a:pt x="137" y="43"/>
                                      </a:cubicBezTo>
                                      <a:cubicBezTo>
                                        <a:pt x="147" y="30"/>
                                        <a:pt x="155" y="23"/>
                                        <a:pt x="164" y="16"/>
                                      </a:cubicBezTo>
                                      <a:cubicBezTo>
                                        <a:pt x="173" y="9"/>
                                        <a:pt x="182" y="6"/>
                                        <a:pt x="194" y="3"/>
                                      </a:cubicBezTo>
                                      <a:cubicBezTo>
                                        <a:pt x="206" y="0"/>
                                        <a:pt x="226" y="0"/>
                                        <a:pt x="234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6480">
                                  <a:solidFill>
                                    <a:srgbClr val="3333cc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36" name=""/>
                                <p:cNvSpPr/>
                                <p:nvPr/>
                              </p:nvSpPr>
                              <p:spPr>
                                <a:xfrm flipH="1">
                                  <a:off x="5907240" y="5600520"/>
                                  <a:ext cx="33840" cy="3376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34" h="373">
                                      <a:moveTo>
                                        <a:pt x="0" y="373"/>
                                      </a:moveTo>
                                      <a:cubicBezTo>
                                        <a:pt x="4" y="357"/>
                                        <a:pt x="8" y="342"/>
                                        <a:pt x="15" y="319"/>
                                      </a:cubicBezTo>
                                      <a:cubicBezTo>
                                        <a:pt x="22" y="296"/>
                                        <a:pt x="34" y="260"/>
                                        <a:pt x="44" y="232"/>
                                      </a:cubicBezTo>
                                      <a:cubicBezTo>
                                        <a:pt x="54" y="204"/>
                                        <a:pt x="64" y="173"/>
                                        <a:pt x="74" y="150"/>
                                      </a:cubicBezTo>
                                      <a:cubicBezTo>
                                        <a:pt x="84" y="127"/>
                                        <a:pt x="91" y="111"/>
                                        <a:pt x="102" y="93"/>
                                      </a:cubicBezTo>
                                      <a:cubicBezTo>
                                        <a:pt x="113" y="75"/>
                                        <a:pt x="127" y="56"/>
                                        <a:pt x="137" y="43"/>
                                      </a:cubicBezTo>
                                      <a:cubicBezTo>
                                        <a:pt x="147" y="30"/>
                                        <a:pt x="155" y="23"/>
                                        <a:pt x="164" y="16"/>
                                      </a:cubicBezTo>
                                      <a:cubicBezTo>
                                        <a:pt x="173" y="9"/>
                                        <a:pt x="182" y="6"/>
                                        <a:pt x="194" y="3"/>
                                      </a:cubicBezTo>
                                      <a:cubicBezTo>
                                        <a:pt x="206" y="0"/>
                                        <a:pt x="226" y="0"/>
                                        <a:pt x="234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6480">
                                  <a:solidFill>
                                    <a:srgbClr val="3333cc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37" name=""/>
                                <p:cNvSpPr/>
                                <p:nvPr/>
                              </p:nvSpPr>
                              <p:spPr>
                                <a:xfrm>
                                  <a:off x="5904720" y="5600520"/>
                                  <a:ext cx="3240" cy="0"/>
                                </a:xfrm>
                                <a:prstGeom prst="line">
                                  <a:avLst/>
                                </a:prstGeom>
                                <a:ln w="6480">
                                  <a:solidFill>
                                    <a:srgbClr val="3333cc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538" name=""/>
                              <p:cNvGrpSpPr/>
                              <p:nvPr/>
                            </p:nvGrpSpPr>
                            <p:grpSpPr>
                              <a:xfrm>
                                <a:off x="5941440" y="5792760"/>
                                <a:ext cx="68040" cy="144720"/>
                                <a:chOff x="5941440" y="5792760"/>
                                <a:chExt cx="68040" cy="144720"/>
                              </a:xfrm>
                            </p:grpSpPr>
                            <p:sp>
                              <p:nvSpPr>
                                <p:cNvPr id="5539" name=""/>
                                <p:cNvSpPr/>
                                <p:nvPr/>
                              </p:nvSpPr>
                              <p:spPr>
                                <a:xfrm>
                                  <a:off x="5941440" y="5793480"/>
                                  <a:ext cx="32760" cy="14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28" h="159">
                                      <a:moveTo>
                                        <a:pt x="0" y="159"/>
                                      </a:moveTo>
                                      <a:cubicBezTo>
                                        <a:pt x="15" y="139"/>
                                        <a:pt x="30" y="120"/>
                                        <a:pt x="45" y="103"/>
                                      </a:cubicBezTo>
                                      <a:cubicBezTo>
                                        <a:pt x="60" y="86"/>
                                        <a:pt x="76" y="68"/>
                                        <a:pt x="90" y="54"/>
                                      </a:cubicBezTo>
                                      <a:cubicBezTo>
                                        <a:pt x="104" y="40"/>
                                        <a:pt x="118" y="30"/>
                                        <a:pt x="130" y="22"/>
                                      </a:cubicBezTo>
                                      <a:cubicBezTo>
                                        <a:pt x="142" y="14"/>
                                        <a:pt x="150" y="10"/>
                                        <a:pt x="162" y="7"/>
                                      </a:cubicBezTo>
                                      <a:cubicBezTo>
                                        <a:pt x="174" y="4"/>
                                        <a:pt x="191" y="2"/>
                                        <a:pt x="202" y="1"/>
                                      </a:cubicBezTo>
                                      <a:cubicBezTo>
                                        <a:pt x="213" y="0"/>
                                        <a:pt x="220" y="0"/>
                                        <a:pt x="228" y="1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6480">
                                  <a:solidFill>
                                    <a:srgbClr val="3333cc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40" name=""/>
                                <p:cNvSpPr/>
                                <p:nvPr/>
                              </p:nvSpPr>
                              <p:spPr>
                                <a:xfrm flipH="1">
                                  <a:off x="5976360" y="5792760"/>
                                  <a:ext cx="32760" cy="1443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28" h="159">
                                      <a:moveTo>
                                        <a:pt x="0" y="159"/>
                                      </a:moveTo>
                                      <a:cubicBezTo>
                                        <a:pt x="15" y="139"/>
                                        <a:pt x="30" y="120"/>
                                        <a:pt x="45" y="103"/>
                                      </a:cubicBezTo>
                                      <a:cubicBezTo>
                                        <a:pt x="60" y="86"/>
                                        <a:pt x="76" y="68"/>
                                        <a:pt x="90" y="54"/>
                                      </a:cubicBezTo>
                                      <a:cubicBezTo>
                                        <a:pt x="104" y="40"/>
                                        <a:pt x="118" y="30"/>
                                        <a:pt x="130" y="22"/>
                                      </a:cubicBezTo>
                                      <a:cubicBezTo>
                                        <a:pt x="142" y="14"/>
                                        <a:pt x="150" y="10"/>
                                        <a:pt x="162" y="7"/>
                                      </a:cubicBezTo>
                                      <a:cubicBezTo>
                                        <a:pt x="174" y="4"/>
                                        <a:pt x="191" y="2"/>
                                        <a:pt x="202" y="1"/>
                                      </a:cubicBezTo>
                                      <a:cubicBezTo>
                                        <a:pt x="213" y="0"/>
                                        <a:pt x="220" y="0"/>
                                        <a:pt x="228" y="1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6480">
                                  <a:solidFill>
                                    <a:srgbClr val="3333cc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41" name=""/>
                                <p:cNvSpPr/>
                                <p:nvPr/>
                              </p:nvSpPr>
                              <p:spPr>
                                <a:xfrm flipV="1">
                                  <a:off x="5973120" y="5792760"/>
                                  <a:ext cx="4680" cy="2880"/>
                                </a:xfrm>
                                <a:prstGeom prst="line">
                                  <a:avLst/>
                                </a:prstGeom>
                                <a:ln w="6480">
                                  <a:solidFill>
                                    <a:srgbClr val="3333cc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920" bIns="-439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5542" name=""/>
                              <p:cNvSpPr/>
                              <p:nvPr/>
                            </p:nvSpPr>
                            <p:spPr>
                              <a:xfrm>
                                <a:off x="5802840" y="4606560"/>
                                <a:ext cx="69120" cy="1329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80" h="1467">
                                    <a:moveTo>
                                      <a:pt x="0" y="0"/>
                                    </a:moveTo>
                                    <a:cubicBezTo>
                                      <a:pt x="17" y="2"/>
                                      <a:pt x="34" y="4"/>
                                      <a:pt x="51" y="6"/>
                                    </a:cubicBezTo>
                                    <a:cubicBezTo>
                                      <a:pt x="68" y="8"/>
                                      <a:pt x="88" y="10"/>
                                      <a:pt x="102" y="15"/>
                                    </a:cubicBezTo>
                                    <a:cubicBezTo>
                                      <a:pt x="116" y="20"/>
                                      <a:pt x="122" y="23"/>
                                      <a:pt x="135" y="33"/>
                                    </a:cubicBezTo>
                                    <a:cubicBezTo>
                                      <a:pt x="148" y="43"/>
                                      <a:pt x="167" y="56"/>
                                      <a:pt x="180" y="78"/>
                                    </a:cubicBezTo>
                                    <a:cubicBezTo>
                                      <a:pt x="193" y="100"/>
                                      <a:pt x="204" y="120"/>
                                      <a:pt x="216" y="165"/>
                                    </a:cubicBezTo>
                                    <a:cubicBezTo>
                                      <a:pt x="228" y="210"/>
                                      <a:pt x="211" y="131"/>
                                      <a:pt x="255" y="348"/>
                                    </a:cubicBezTo>
                                    <a:cubicBezTo>
                                      <a:pt x="299" y="565"/>
                                      <a:pt x="389" y="1016"/>
                                      <a:pt x="480" y="1467"/>
                                    </a:cubicBezTo>
                                  </a:path>
                                </a:pathLst>
                              </a:custGeom>
                              <a:noFill/>
                              <a:ln w="6480">
                                <a:solidFill>
                                  <a:srgbClr val="3333cc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543" name=""/>
                            <p:cNvGrpSpPr/>
                            <p:nvPr/>
                          </p:nvGrpSpPr>
                          <p:grpSpPr>
                            <a:xfrm>
                              <a:off x="5594760" y="4606560"/>
                              <a:ext cx="206640" cy="1331640"/>
                              <a:chOff x="5594760" y="4606560"/>
                              <a:chExt cx="206640" cy="1331640"/>
                            </a:xfrm>
                          </p:grpSpPr>
                          <p:grpSp>
                            <p:nvGrpSpPr>
                              <p:cNvPr id="5544" name=""/>
                              <p:cNvGrpSpPr/>
                              <p:nvPr/>
                            </p:nvGrpSpPr>
                            <p:grpSpPr>
                              <a:xfrm>
                                <a:off x="5663160" y="5600520"/>
                                <a:ext cx="69120" cy="337680"/>
                                <a:chOff x="5663160" y="5600520"/>
                                <a:chExt cx="69120" cy="337680"/>
                              </a:xfrm>
                            </p:grpSpPr>
                            <p:sp>
                              <p:nvSpPr>
                                <p:cNvPr id="5545" name=""/>
                                <p:cNvSpPr/>
                                <p:nvPr/>
                              </p:nvSpPr>
                              <p:spPr>
                                <a:xfrm flipH="1">
                                  <a:off x="5698440" y="5600520"/>
                                  <a:ext cx="33840" cy="3376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34" h="373">
                                      <a:moveTo>
                                        <a:pt x="0" y="373"/>
                                      </a:moveTo>
                                      <a:cubicBezTo>
                                        <a:pt x="4" y="357"/>
                                        <a:pt x="8" y="342"/>
                                        <a:pt x="15" y="319"/>
                                      </a:cubicBezTo>
                                      <a:cubicBezTo>
                                        <a:pt x="22" y="296"/>
                                        <a:pt x="34" y="260"/>
                                        <a:pt x="44" y="232"/>
                                      </a:cubicBezTo>
                                      <a:cubicBezTo>
                                        <a:pt x="54" y="204"/>
                                        <a:pt x="64" y="173"/>
                                        <a:pt x="74" y="150"/>
                                      </a:cubicBezTo>
                                      <a:cubicBezTo>
                                        <a:pt x="84" y="127"/>
                                        <a:pt x="91" y="111"/>
                                        <a:pt x="102" y="93"/>
                                      </a:cubicBezTo>
                                      <a:cubicBezTo>
                                        <a:pt x="113" y="75"/>
                                        <a:pt x="127" y="56"/>
                                        <a:pt x="137" y="43"/>
                                      </a:cubicBezTo>
                                      <a:cubicBezTo>
                                        <a:pt x="147" y="30"/>
                                        <a:pt x="155" y="23"/>
                                        <a:pt x="164" y="16"/>
                                      </a:cubicBezTo>
                                      <a:cubicBezTo>
                                        <a:pt x="173" y="9"/>
                                        <a:pt x="182" y="6"/>
                                        <a:pt x="194" y="3"/>
                                      </a:cubicBezTo>
                                      <a:cubicBezTo>
                                        <a:pt x="206" y="0"/>
                                        <a:pt x="226" y="0"/>
                                        <a:pt x="234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6480">
                                  <a:solidFill>
                                    <a:srgbClr val="3333cc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46" name=""/>
                                <p:cNvSpPr/>
                                <p:nvPr/>
                              </p:nvSpPr>
                              <p:spPr>
                                <a:xfrm>
                                  <a:off x="5663160" y="5600520"/>
                                  <a:ext cx="33840" cy="3376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34" h="373">
                                      <a:moveTo>
                                        <a:pt x="0" y="373"/>
                                      </a:moveTo>
                                      <a:cubicBezTo>
                                        <a:pt x="4" y="357"/>
                                        <a:pt x="8" y="342"/>
                                        <a:pt x="15" y="319"/>
                                      </a:cubicBezTo>
                                      <a:cubicBezTo>
                                        <a:pt x="22" y="296"/>
                                        <a:pt x="34" y="260"/>
                                        <a:pt x="44" y="232"/>
                                      </a:cubicBezTo>
                                      <a:cubicBezTo>
                                        <a:pt x="54" y="204"/>
                                        <a:pt x="64" y="173"/>
                                        <a:pt x="74" y="150"/>
                                      </a:cubicBezTo>
                                      <a:cubicBezTo>
                                        <a:pt x="84" y="127"/>
                                        <a:pt x="91" y="111"/>
                                        <a:pt x="102" y="93"/>
                                      </a:cubicBezTo>
                                      <a:cubicBezTo>
                                        <a:pt x="113" y="75"/>
                                        <a:pt x="127" y="56"/>
                                        <a:pt x="137" y="43"/>
                                      </a:cubicBezTo>
                                      <a:cubicBezTo>
                                        <a:pt x="147" y="30"/>
                                        <a:pt x="155" y="23"/>
                                        <a:pt x="164" y="16"/>
                                      </a:cubicBezTo>
                                      <a:cubicBezTo>
                                        <a:pt x="173" y="9"/>
                                        <a:pt x="182" y="6"/>
                                        <a:pt x="194" y="3"/>
                                      </a:cubicBezTo>
                                      <a:cubicBezTo>
                                        <a:pt x="206" y="0"/>
                                        <a:pt x="226" y="0"/>
                                        <a:pt x="234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6480">
                                  <a:solidFill>
                                    <a:srgbClr val="3333cc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47" name=""/>
                                <p:cNvSpPr/>
                                <p:nvPr/>
                              </p:nvSpPr>
                              <p:spPr>
                                <a:xfrm flipH="1">
                                  <a:off x="5696280" y="5600520"/>
                                  <a:ext cx="3240" cy="0"/>
                                </a:xfrm>
                                <a:prstGeom prst="line">
                                  <a:avLst/>
                                </a:prstGeom>
                                <a:ln w="6480">
                                  <a:solidFill>
                                    <a:srgbClr val="3333cc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548" name=""/>
                              <p:cNvGrpSpPr/>
                              <p:nvPr/>
                            </p:nvGrpSpPr>
                            <p:grpSpPr>
                              <a:xfrm>
                                <a:off x="5594760" y="5792760"/>
                                <a:ext cx="68040" cy="144720"/>
                                <a:chOff x="5594760" y="5792760"/>
                                <a:chExt cx="68040" cy="144720"/>
                              </a:xfrm>
                            </p:grpSpPr>
                            <p:sp>
                              <p:nvSpPr>
                                <p:cNvPr id="5549" name=""/>
                                <p:cNvSpPr/>
                                <p:nvPr/>
                              </p:nvSpPr>
                              <p:spPr>
                                <a:xfrm flipH="1">
                                  <a:off x="5629680" y="5793480"/>
                                  <a:ext cx="32760" cy="14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28" h="159">
                                      <a:moveTo>
                                        <a:pt x="0" y="159"/>
                                      </a:moveTo>
                                      <a:cubicBezTo>
                                        <a:pt x="15" y="139"/>
                                        <a:pt x="30" y="120"/>
                                        <a:pt x="45" y="103"/>
                                      </a:cubicBezTo>
                                      <a:cubicBezTo>
                                        <a:pt x="60" y="86"/>
                                        <a:pt x="76" y="68"/>
                                        <a:pt x="90" y="54"/>
                                      </a:cubicBezTo>
                                      <a:cubicBezTo>
                                        <a:pt x="104" y="40"/>
                                        <a:pt x="118" y="30"/>
                                        <a:pt x="130" y="22"/>
                                      </a:cubicBezTo>
                                      <a:cubicBezTo>
                                        <a:pt x="142" y="14"/>
                                        <a:pt x="150" y="10"/>
                                        <a:pt x="162" y="7"/>
                                      </a:cubicBezTo>
                                      <a:cubicBezTo>
                                        <a:pt x="174" y="4"/>
                                        <a:pt x="191" y="2"/>
                                        <a:pt x="202" y="1"/>
                                      </a:cubicBezTo>
                                      <a:cubicBezTo>
                                        <a:pt x="213" y="0"/>
                                        <a:pt x="220" y="0"/>
                                        <a:pt x="228" y="1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6480">
                                  <a:solidFill>
                                    <a:srgbClr val="3333cc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50" name=""/>
                                <p:cNvSpPr/>
                                <p:nvPr/>
                              </p:nvSpPr>
                              <p:spPr>
                                <a:xfrm>
                                  <a:off x="5594760" y="5792760"/>
                                  <a:ext cx="32760" cy="1443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28" h="159">
                                      <a:moveTo>
                                        <a:pt x="0" y="159"/>
                                      </a:moveTo>
                                      <a:cubicBezTo>
                                        <a:pt x="15" y="139"/>
                                        <a:pt x="30" y="120"/>
                                        <a:pt x="45" y="103"/>
                                      </a:cubicBezTo>
                                      <a:cubicBezTo>
                                        <a:pt x="60" y="86"/>
                                        <a:pt x="76" y="68"/>
                                        <a:pt x="90" y="54"/>
                                      </a:cubicBezTo>
                                      <a:cubicBezTo>
                                        <a:pt x="104" y="40"/>
                                        <a:pt x="118" y="30"/>
                                        <a:pt x="130" y="22"/>
                                      </a:cubicBezTo>
                                      <a:cubicBezTo>
                                        <a:pt x="142" y="14"/>
                                        <a:pt x="150" y="10"/>
                                        <a:pt x="162" y="7"/>
                                      </a:cubicBezTo>
                                      <a:cubicBezTo>
                                        <a:pt x="174" y="4"/>
                                        <a:pt x="191" y="2"/>
                                        <a:pt x="202" y="1"/>
                                      </a:cubicBezTo>
                                      <a:cubicBezTo>
                                        <a:pt x="213" y="0"/>
                                        <a:pt x="220" y="0"/>
                                        <a:pt x="228" y="1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6480">
                                  <a:solidFill>
                                    <a:srgbClr val="3333cc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51" name=""/>
                                <p:cNvSpPr/>
                                <p:nvPr/>
                              </p:nvSpPr>
                              <p:spPr>
                                <a:xfrm flipH="1" flipV="1">
                                  <a:off x="5626440" y="5792760"/>
                                  <a:ext cx="4680" cy="2880"/>
                                </a:xfrm>
                                <a:prstGeom prst="line">
                                  <a:avLst/>
                                </a:prstGeom>
                                <a:ln w="6480">
                                  <a:solidFill>
                                    <a:srgbClr val="3333cc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920" bIns="-439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5552" name=""/>
                              <p:cNvSpPr/>
                              <p:nvPr/>
                            </p:nvSpPr>
                            <p:spPr>
                              <a:xfrm flipH="1">
                                <a:off x="5732280" y="4606560"/>
                                <a:ext cx="69120" cy="1329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80" h="1467">
                                    <a:moveTo>
                                      <a:pt x="0" y="0"/>
                                    </a:moveTo>
                                    <a:cubicBezTo>
                                      <a:pt x="17" y="2"/>
                                      <a:pt x="34" y="4"/>
                                      <a:pt x="51" y="6"/>
                                    </a:cubicBezTo>
                                    <a:cubicBezTo>
                                      <a:pt x="68" y="8"/>
                                      <a:pt x="88" y="10"/>
                                      <a:pt x="102" y="15"/>
                                    </a:cubicBezTo>
                                    <a:cubicBezTo>
                                      <a:pt x="116" y="20"/>
                                      <a:pt x="122" y="23"/>
                                      <a:pt x="135" y="33"/>
                                    </a:cubicBezTo>
                                    <a:cubicBezTo>
                                      <a:pt x="148" y="43"/>
                                      <a:pt x="167" y="56"/>
                                      <a:pt x="180" y="78"/>
                                    </a:cubicBezTo>
                                    <a:cubicBezTo>
                                      <a:pt x="193" y="100"/>
                                      <a:pt x="204" y="120"/>
                                      <a:pt x="216" y="165"/>
                                    </a:cubicBezTo>
                                    <a:cubicBezTo>
                                      <a:pt x="228" y="210"/>
                                      <a:pt x="211" y="131"/>
                                      <a:pt x="255" y="348"/>
                                    </a:cubicBezTo>
                                    <a:cubicBezTo>
                                      <a:pt x="299" y="565"/>
                                      <a:pt x="389" y="1016"/>
                                      <a:pt x="480" y="1467"/>
                                    </a:cubicBezTo>
                                  </a:path>
                                </a:pathLst>
                              </a:custGeom>
                              <a:noFill/>
                              <a:ln w="6480">
                                <a:solidFill>
                                  <a:srgbClr val="3333cc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553" name=""/>
                          <p:cNvGrpSpPr/>
                          <p:nvPr/>
                        </p:nvGrpSpPr>
                        <p:grpSpPr>
                          <a:xfrm>
                            <a:off x="2334240" y="4568760"/>
                            <a:ext cx="4021200" cy="1373040"/>
                            <a:chOff x="2334240" y="4568760"/>
                            <a:chExt cx="4021200" cy="1373040"/>
                          </a:xfrm>
                        </p:grpSpPr>
                        <p:grpSp>
                          <p:nvGrpSpPr>
                            <p:cNvPr id="5554" name=""/>
                            <p:cNvGrpSpPr/>
                            <p:nvPr/>
                          </p:nvGrpSpPr>
                          <p:grpSpPr>
                            <a:xfrm>
                              <a:off x="3094560" y="4603680"/>
                              <a:ext cx="414360" cy="1330200"/>
                              <a:chOff x="3094560" y="4603680"/>
                              <a:chExt cx="414360" cy="1330200"/>
                            </a:xfrm>
                          </p:grpSpPr>
                          <p:grpSp>
                            <p:nvGrpSpPr>
                              <p:cNvPr id="5555" name=""/>
                              <p:cNvGrpSpPr/>
                              <p:nvPr/>
                            </p:nvGrpSpPr>
                            <p:grpSpPr>
                              <a:xfrm>
                                <a:off x="3302280" y="4603680"/>
                                <a:ext cx="206640" cy="1330200"/>
                                <a:chOff x="3302280" y="4603680"/>
                                <a:chExt cx="206640" cy="1330200"/>
                              </a:xfrm>
                            </p:grpSpPr>
                            <p:grpSp>
                              <p:nvGrpSpPr>
                                <p:cNvPr id="5556" name=""/>
                                <p:cNvGrpSpPr/>
                                <p:nvPr/>
                              </p:nvGrpSpPr>
                              <p:grpSpPr>
                                <a:xfrm>
                                  <a:off x="3371400" y="5596560"/>
                                  <a:ext cx="69120" cy="337320"/>
                                  <a:chOff x="3371400" y="5596560"/>
                                  <a:chExt cx="69120" cy="337320"/>
                                </a:xfrm>
                              </p:grpSpPr>
                              <p:sp>
                                <p:nvSpPr>
                                  <p:cNvPr id="5557" name=""/>
                                  <p:cNvSpPr/>
                                  <p:nvPr/>
                                </p:nvSpPr>
                                <p:spPr>
                                  <a:xfrm>
                                    <a:off x="3371400" y="5596560"/>
                                    <a:ext cx="33840" cy="33732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34" h="373">
                                        <a:moveTo>
                                          <a:pt x="0" y="373"/>
                                        </a:moveTo>
                                        <a:cubicBezTo>
                                          <a:pt x="4" y="357"/>
                                          <a:pt x="8" y="342"/>
                                          <a:pt x="15" y="319"/>
                                        </a:cubicBezTo>
                                        <a:cubicBezTo>
                                          <a:pt x="22" y="296"/>
                                          <a:pt x="34" y="260"/>
                                          <a:pt x="44" y="232"/>
                                        </a:cubicBezTo>
                                        <a:cubicBezTo>
                                          <a:pt x="54" y="204"/>
                                          <a:pt x="64" y="173"/>
                                          <a:pt x="74" y="150"/>
                                        </a:cubicBezTo>
                                        <a:cubicBezTo>
                                          <a:pt x="84" y="127"/>
                                          <a:pt x="91" y="111"/>
                                          <a:pt x="102" y="93"/>
                                        </a:cubicBezTo>
                                        <a:cubicBezTo>
                                          <a:pt x="113" y="75"/>
                                          <a:pt x="127" y="56"/>
                                          <a:pt x="137" y="43"/>
                                        </a:cubicBezTo>
                                        <a:cubicBezTo>
                                          <a:pt x="147" y="30"/>
                                          <a:pt x="155" y="23"/>
                                          <a:pt x="164" y="16"/>
                                        </a:cubicBezTo>
                                        <a:cubicBezTo>
                                          <a:pt x="173" y="9"/>
                                          <a:pt x="182" y="6"/>
                                          <a:pt x="194" y="3"/>
                                        </a:cubicBezTo>
                                        <a:cubicBezTo>
                                          <a:pt x="206" y="0"/>
                                          <a:pt x="226" y="0"/>
                                          <a:pt x="234" y="0"/>
                                        </a:cubicBezTo>
                                      </a:path>
                                    </a:pathLst>
                                  </a:custGeom>
                                  <a:noFill/>
                                  <a:ln w="6480">
                                    <a:solidFill>
                                      <a:srgbClr val="3333cc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558" name=""/>
                                  <p:cNvSpPr/>
                                  <p:nvPr/>
                                </p:nvSpPr>
                                <p:spPr>
                                  <a:xfrm flipH="1">
                                    <a:off x="3406680" y="5596560"/>
                                    <a:ext cx="33840" cy="33732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34" h="373">
                                        <a:moveTo>
                                          <a:pt x="0" y="373"/>
                                        </a:moveTo>
                                        <a:cubicBezTo>
                                          <a:pt x="4" y="357"/>
                                          <a:pt x="8" y="342"/>
                                          <a:pt x="15" y="319"/>
                                        </a:cubicBezTo>
                                        <a:cubicBezTo>
                                          <a:pt x="22" y="296"/>
                                          <a:pt x="34" y="260"/>
                                          <a:pt x="44" y="232"/>
                                        </a:cubicBezTo>
                                        <a:cubicBezTo>
                                          <a:pt x="54" y="204"/>
                                          <a:pt x="64" y="173"/>
                                          <a:pt x="74" y="150"/>
                                        </a:cubicBezTo>
                                        <a:cubicBezTo>
                                          <a:pt x="84" y="127"/>
                                          <a:pt x="91" y="111"/>
                                          <a:pt x="102" y="93"/>
                                        </a:cubicBezTo>
                                        <a:cubicBezTo>
                                          <a:pt x="113" y="75"/>
                                          <a:pt x="127" y="56"/>
                                          <a:pt x="137" y="43"/>
                                        </a:cubicBezTo>
                                        <a:cubicBezTo>
                                          <a:pt x="147" y="30"/>
                                          <a:pt x="155" y="23"/>
                                          <a:pt x="164" y="16"/>
                                        </a:cubicBezTo>
                                        <a:cubicBezTo>
                                          <a:pt x="173" y="9"/>
                                          <a:pt x="182" y="6"/>
                                          <a:pt x="194" y="3"/>
                                        </a:cubicBezTo>
                                        <a:cubicBezTo>
                                          <a:pt x="206" y="0"/>
                                          <a:pt x="226" y="0"/>
                                          <a:pt x="234" y="0"/>
                                        </a:cubicBezTo>
                                      </a:path>
                                    </a:pathLst>
                                  </a:custGeom>
                                  <a:noFill/>
                                  <a:ln w="6480">
                                    <a:solidFill>
                                      <a:srgbClr val="3333cc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559" name=""/>
                                  <p:cNvSpPr/>
                                  <p:nvPr/>
                                </p:nvSpPr>
                                <p:spPr>
                                  <a:xfrm>
                                    <a:off x="3404160" y="5596560"/>
                                    <a:ext cx="3240" cy="0"/>
                                  </a:xfrm>
                                  <a:prstGeom prst="line">
                                    <a:avLst/>
                                  </a:prstGeom>
                                  <a:ln w="6480">
                                    <a:solidFill>
                                      <a:srgbClr val="3333cc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5560" name=""/>
                                <p:cNvGrpSpPr/>
                                <p:nvPr/>
                              </p:nvGrpSpPr>
                              <p:grpSpPr>
                                <a:xfrm>
                                  <a:off x="3440880" y="5787720"/>
                                  <a:ext cx="68040" cy="144720"/>
                                  <a:chOff x="3440880" y="5787720"/>
                                  <a:chExt cx="68040" cy="144720"/>
                                </a:xfrm>
                              </p:grpSpPr>
                              <p:sp>
                                <p:nvSpPr>
                                  <p:cNvPr id="5561" name=""/>
                                  <p:cNvSpPr/>
                                  <p:nvPr/>
                                </p:nvSpPr>
                                <p:spPr>
                                  <a:xfrm>
                                    <a:off x="3440880" y="5788800"/>
                                    <a:ext cx="32760" cy="14364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28" h="159">
                                        <a:moveTo>
                                          <a:pt x="0" y="159"/>
                                        </a:moveTo>
                                        <a:cubicBezTo>
                                          <a:pt x="15" y="139"/>
                                          <a:pt x="30" y="120"/>
                                          <a:pt x="45" y="103"/>
                                        </a:cubicBezTo>
                                        <a:cubicBezTo>
                                          <a:pt x="60" y="86"/>
                                          <a:pt x="76" y="68"/>
                                          <a:pt x="90" y="54"/>
                                        </a:cubicBezTo>
                                        <a:cubicBezTo>
                                          <a:pt x="104" y="40"/>
                                          <a:pt x="118" y="30"/>
                                          <a:pt x="130" y="22"/>
                                        </a:cubicBezTo>
                                        <a:cubicBezTo>
                                          <a:pt x="142" y="14"/>
                                          <a:pt x="150" y="10"/>
                                          <a:pt x="162" y="7"/>
                                        </a:cubicBezTo>
                                        <a:cubicBezTo>
                                          <a:pt x="174" y="4"/>
                                          <a:pt x="191" y="2"/>
                                          <a:pt x="202" y="1"/>
                                        </a:cubicBezTo>
                                        <a:cubicBezTo>
                                          <a:pt x="213" y="0"/>
                                          <a:pt x="220" y="0"/>
                                          <a:pt x="228" y="1"/>
                                        </a:cubicBezTo>
                                      </a:path>
                                    </a:pathLst>
                                  </a:custGeom>
                                  <a:noFill/>
                                  <a:ln w="6480">
                                    <a:solidFill>
                                      <a:srgbClr val="3333cc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562" name=""/>
                                  <p:cNvSpPr/>
                                  <p:nvPr/>
                                </p:nvSpPr>
                                <p:spPr>
                                  <a:xfrm flipH="1">
                                    <a:off x="3475800" y="5788080"/>
                                    <a:ext cx="32760" cy="1440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28" h="159">
                                        <a:moveTo>
                                          <a:pt x="0" y="159"/>
                                        </a:moveTo>
                                        <a:cubicBezTo>
                                          <a:pt x="15" y="139"/>
                                          <a:pt x="30" y="120"/>
                                          <a:pt x="45" y="103"/>
                                        </a:cubicBezTo>
                                        <a:cubicBezTo>
                                          <a:pt x="60" y="86"/>
                                          <a:pt x="76" y="68"/>
                                          <a:pt x="90" y="54"/>
                                        </a:cubicBezTo>
                                        <a:cubicBezTo>
                                          <a:pt x="104" y="40"/>
                                          <a:pt x="118" y="30"/>
                                          <a:pt x="130" y="22"/>
                                        </a:cubicBezTo>
                                        <a:cubicBezTo>
                                          <a:pt x="142" y="14"/>
                                          <a:pt x="150" y="10"/>
                                          <a:pt x="162" y="7"/>
                                        </a:cubicBezTo>
                                        <a:cubicBezTo>
                                          <a:pt x="174" y="4"/>
                                          <a:pt x="191" y="2"/>
                                          <a:pt x="202" y="1"/>
                                        </a:cubicBezTo>
                                        <a:cubicBezTo>
                                          <a:pt x="213" y="0"/>
                                          <a:pt x="220" y="0"/>
                                          <a:pt x="228" y="1"/>
                                        </a:cubicBezTo>
                                      </a:path>
                                    </a:pathLst>
                                  </a:custGeom>
                                  <a:noFill/>
                                  <a:ln w="6480">
                                    <a:solidFill>
                                      <a:srgbClr val="3333cc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563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3472560" y="5787720"/>
                                    <a:ext cx="4680" cy="2520"/>
                                  </a:xfrm>
                                  <a:prstGeom prst="line">
                                    <a:avLst/>
                                  </a:prstGeom>
                                  <a:ln w="6480">
                                    <a:solidFill>
                                      <a:srgbClr val="3333cc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4280" bIns="-4428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5564" name=""/>
                                <p:cNvSpPr/>
                                <p:nvPr/>
                              </p:nvSpPr>
                              <p:spPr>
                                <a:xfrm>
                                  <a:off x="3302280" y="4603680"/>
                                  <a:ext cx="69120" cy="13276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80" h="1467">
                                      <a:moveTo>
                                        <a:pt x="0" y="0"/>
                                      </a:moveTo>
                                      <a:cubicBezTo>
                                        <a:pt x="17" y="2"/>
                                        <a:pt x="34" y="4"/>
                                        <a:pt x="51" y="6"/>
                                      </a:cubicBezTo>
                                      <a:cubicBezTo>
                                        <a:pt x="68" y="8"/>
                                        <a:pt x="88" y="10"/>
                                        <a:pt x="102" y="15"/>
                                      </a:cubicBezTo>
                                      <a:cubicBezTo>
                                        <a:pt x="116" y="20"/>
                                        <a:pt x="122" y="23"/>
                                        <a:pt x="135" y="33"/>
                                      </a:cubicBezTo>
                                      <a:cubicBezTo>
                                        <a:pt x="148" y="43"/>
                                        <a:pt x="167" y="56"/>
                                        <a:pt x="180" y="78"/>
                                      </a:cubicBezTo>
                                      <a:cubicBezTo>
                                        <a:pt x="193" y="100"/>
                                        <a:pt x="204" y="120"/>
                                        <a:pt x="216" y="165"/>
                                      </a:cubicBezTo>
                                      <a:cubicBezTo>
                                        <a:pt x="228" y="210"/>
                                        <a:pt x="211" y="131"/>
                                        <a:pt x="255" y="348"/>
                                      </a:cubicBezTo>
                                      <a:cubicBezTo>
                                        <a:pt x="299" y="565"/>
                                        <a:pt x="389" y="1016"/>
                                        <a:pt x="480" y="1467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6480">
                                  <a:solidFill>
                                    <a:srgbClr val="3333cc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565" name=""/>
                              <p:cNvGrpSpPr/>
                              <p:nvPr/>
                            </p:nvGrpSpPr>
                            <p:grpSpPr>
                              <a:xfrm>
                                <a:off x="3094560" y="4603680"/>
                                <a:ext cx="206640" cy="1330200"/>
                                <a:chOff x="3094560" y="4603680"/>
                                <a:chExt cx="206640" cy="1330200"/>
                              </a:xfrm>
                            </p:grpSpPr>
                            <p:grpSp>
                              <p:nvGrpSpPr>
                                <p:cNvPr id="5566" name=""/>
                                <p:cNvGrpSpPr/>
                                <p:nvPr/>
                              </p:nvGrpSpPr>
                              <p:grpSpPr>
                                <a:xfrm>
                                  <a:off x="3162960" y="5596560"/>
                                  <a:ext cx="69120" cy="337320"/>
                                  <a:chOff x="3162960" y="5596560"/>
                                  <a:chExt cx="69120" cy="337320"/>
                                </a:xfrm>
                              </p:grpSpPr>
                              <p:sp>
                                <p:nvSpPr>
                                  <p:cNvPr id="5567" name=""/>
                                  <p:cNvSpPr/>
                                  <p:nvPr/>
                                </p:nvSpPr>
                                <p:spPr>
                                  <a:xfrm flipH="1">
                                    <a:off x="3198240" y="5596560"/>
                                    <a:ext cx="33840" cy="33732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34" h="373">
                                        <a:moveTo>
                                          <a:pt x="0" y="373"/>
                                        </a:moveTo>
                                        <a:cubicBezTo>
                                          <a:pt x="4" y="357"/>
                                          <a:pt x="8" y="342"/>
                                          <a:pt x="15" y="319"/>
                                        </a:cubicBezTo>
                                        <a:cubicBezTo>
                                          <a:pt x="22" y="296"/>
                                          <a:pt x="34" y="260"/>
                                          <a:pt x="44" y="232"/>
                                        </a:cubicBezTo>
                                        <a:cubicBezTo>
                                          <a:pt x="54" y="204"/>
                                          <a:pt x="64" y="173"/>
                                          <a:pt x="74" y="150"/>
                                        </a:cubicBezTo>
                                        <a:cubicBezTo>
                                          <a:pt x="84" y="127"/>
                                          <a:pt x="91" y="111"/>
                                          <a:pt x="102" y="93"/>
                                        </a:cubicBezTo>
                                        <a:cubicBezTo>
                                          <a:pt x="113" y="75"/>
                                          <a:pt x="127" y="56"/>
                                          <a:pt x="137" y="43"/>
                                        </a:cubicBezTo>
                                        <a:cubicBezTo>
                                          <a:pt x="147" y="30"/>
                                          <a:pt x="155" y="23"/>
                                          <a:pt x="164" y="16"/>
                                        </a:cubicBezTo>
                                        <a:cubicBezTo>
                                          <a:pt x="173" y="9"/>
                                          <a:pt x="182" y="6"/>
                                          <a:pt x="194" y="3"/>
                                        </a:cubicBezTo>
                                        <a:cubicBezTo>
                                          <a:pt x="206" y="0"/>
                                          <a:pt x="226" y="0"/>
                                          <a:pt x="234" y="0"/>
                                        </a:cubicBezTo>
                                      </a:path>
                                    </a:pathLst>
                                  </a:custGeom>
                                  <a:noFill/>
                                  <a:ln w="6480">
                                    <a:solidFill>
                                      <a:srgbClr val="3333cc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568" name=""/>
                                  <p:cNvSpPr/>
                                  <p:nvPr/>
                                </p:nvSpPr>
                                <p:spPr>
                                  <a:xfrm>
                                    <a:off x="3162960" y="5596560"/>
                                    <a:ext cx="33840" cy="33732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34" h="373">
                                        <a:moveTo>
                                          <a:pt x="0" y="373"/>
                                        </a:moveTo>
                                        <a:cubicBezTo>
                                          <a:pt x="4" y="357"/>
                                          <a:pt x="8" y="342"/>
                                          <a:pt x="15" y="319"/>
                                        </a:cubicBezTo>
                                        <a:cubicBezTo>
                                          <a:pt x="22" y="296"/>
                                          <a:pt x="34" y="260"/>
                                          <a:pt x="44" y="232"/>
                                        </a:cubicBezTo>
                                        <a:cubicBezTo>
                                          <a:pt x="54" y="204"/>
                                          <a:pt x="64" y="173"/>
                                          <a:pt x="74" y="150"/>
                                        </a:cubicBezTo>
                                        <a:cubicBezTo>
                                          <a:pt x="84" y="127"/>
                                          <a:pt x="91" y="111"/>
                                          <a:pt x="102" y="93"/>
                                        </a:cubicBezTo>
                                        <a:cubicBezTo>
                                          <a:pt x="113" y="75"/>
                                          <a:pt x="127" y="56"/>
                                          <a:pt x="137" y="43"/>
                                        </a:cubicBezTo>
                                        <a:cubicBezTo>
                                          <a:pt x="147" y="30"/>
                                          <a:pt x="155" y="23"/>
                                          <a:pt x="164" y="16"/>
                                        </a:cubicBezTo>
                                        <a:cubicBezTo>
                                          <a:pt x="173" y="9"/>
                                          <a:pt x="182" y="6"/>
                                          <a:pt x="194" y="3"/>
                                        </a:cubicBezTo>
                                        <a:cubicBezTo>
                                          <a:pt x="206" y="0"/>
                                          <a:pt x="226" y="0"/>
                                          <a:pt x="234" y="0"/>
                                        </a:cubicBezTo>
                                      </a:path>
                                    </a:pathLst>
                                  </a:custGeom>
                                  <a:noFill/>
                                  <a:ln w="6480">
                                    <a:solidFill>
                                      <a:srgbClr val="3333cc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569" name=""/>
                                  <p:cNvSpPr/>
                                  <p:nvPr/>
                                </p:nvSpPr>
                                <p:spPr>
                                  <a:xfrm flipH="1">
                                    <a:off x="3196080" y="5596560"/>
                                    <a:ext cx="3240" cy="0"/>
                                  </a:xfrm>
                                  <a:prstGeom prst="line">
                                    <a:avLst/>
                                  </a:prstGeom>
                                  <a:ln w="6480">
                                    <a:solidFill>
                                      <a:srgbClr val="3333cc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5570" name=""/>
                                <p:cNvGrpSpPr/>
                                <p:nvPr/>
                              </p:nvGrpSpPr>
                              <p:grpSpPr>
                                <a:xfrm>
                                  <a:off x="3094560" y="5787720"/>
                                  <a:ext cx="68040" cy="144720"/>
                                  <a:chOff x="3094560" y="5787720"/>
                                  <a:chExt cx="68040" cy="144720"/>
                                </a:xfrm>
                              </p:grpSpPr>
                              <p:sp>
                                <p:nvSpPr>
                                  <p:cNvPr id="5571" name=""/>
                                  <p:cNvSpPr/>
                                  <p:nvPr/>
                                </p:nvSpPr>
                                <p:spPr>
                                  <a:xfrm flipH="1">
                                    <a:off x="3129480" y="5788800"/>
                                    <a:ext cx="32760" cy="14364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28" h="159">
                                        <a:moveTo>
                                          <a:pt x="0" y="159"/>
                                        </a:moveTo>
                                        <a:cubicBezTo>
                                          <a:pt x="15" y="139"/>
                                          <a:pt x="30" y="120"/>
                                          <a:pt x="45" y="103"/>
                                        </a:cubicBezTo>
                                        <a:cubicBezTo>
                                          <a:pt x="60" y="86"/>
                                          <a:pt x="76" y="68"/>
                                          <a:pt x="90" y="54"/>
                                        </a:cubicBezTo>
                                        <a:cubicBezTo>
                                          <a:pt x="104" y="40"/>
                                          <a:pt x="118" y="30"/>
                                          <a:pt x="130" y="22"/>
                                        </a:cubicBezTo>
                                        <a:cubicBezTo>
                                          <a:pt x="142" y="14"/>
                                          <a:pt x="150" y="10"/>
                                          <a:pt x="162" y="7"/>
                                        </a:cubicBezTo>
                                        <a:cubicBezTo>
                                          <a:pt x="174" y="4"/>
                                          <a:pt x="191" y="2"/>
                                          <a:pt x="202" y="1"/>
                                        </a:cubicBezTo>
                                        <a:cubicBezTo>
                                          <a:pt x="213" y="0"/>
                                          <a:pt x="220" y="0"/>
                                          <a:pt x="228" y="1"/>
                                        </a:cubicBezTo>
                                      </a:path>
                                    </a:pathLst>
                                  </a:custGeom>
                                  <a:noFill/>
                                  <a:ln w="6480">
                                    <a:solidFill>
                                      <a:srgbClr val="3333cc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572" name=""/>
                                  <p:cNvSpPr/>
                                  <p:nvPr/>
                                </p:nvSpPr>
                                <p:spPr>
                                  <a:xfrm>
                                    <a:off x="3094560" y="5788080"/>
                                    <a:ext cx="32760" cy="1440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28" h="159">
                                        <a:moveTo>
                                          <a:pt x="0" y="159"/>
                                        </a:moveTo>
                                        <a:cubicBezTo>
                                          <a:pt x="15" y="139"/>
                                          <a:pt x="30" y="120"/>
                                          <a:pt x="45" y="103"/>
                                        </a:cubicBezTo>
                                        <a:cubicBezTo>
                                          <a:pt x="60" y="86"/>
                                          <a:pt x="76" y="68"/>
                                          <a:pt x="90" y="54"/>
                                        </a:cubicBezTo>
                                        <a:cubicBezTo>
                                          <a:pt x="104" y="40"/>
                                          <a:pt x="118" y="30"/>
                                          <a:pt x="130" y="22"/>
                                        </a:cubicBezTo>
                                        <a:cubicBezTo>
                                          <a:pt x="142" y="14"/>
                                          <a:pt x="150" y="10"/>
                                          <a:pt x="162" y="7"/>
                                        </a:cubicBezTo>
                                        <a:cubicBezTo>
                                          <a:pt x="174" y="4"/>
                                          <a:pt x="191" y="2"/>
                                          <a:pt x="202" y="1"/>
                                        </a:cubicBezTo>
                                        <a:cubicBezTo>
                                          <a:pt x="213" y="0"/>
                                          <a:pt x="220" y="0"/>
                                          <a:pt x="228" y="1"/>
                                        </a:cubicBezTo>
                                      </a:path>
                                    </a:pathLst>
                                  </a:custGeom>
                                  <a:noFill/>
                                  <a:ln w="6480">
                                    <a:solidFill>
                                      <a:srgbClr val="3333cc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573" name=""/>
                                  <p:cNvSpPr/>
                                  <p:nvPr/>
                                </p:nvSpPr>
                                <p:spPr>
                                  <a:xfrm flipH="1" flipV="1">
                                    <a:off x="3126240" y="5787720"/>
                                    <a:ext cx="4680" cy="2520"/>
                                  </a:xfrm>
                                  <a:prstGeom prst="line">
                                    <a:avLst/>
                                  </a:prstGeom>
                                  <a:ln w="6480">
                                    <a:solidFill>
                                      <a:srgbClr val="3333cc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4280" bIns="-4428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5574" name=""/>
                                <p:cNvSpPr/>
                                <p:nvPr/>
                              </p:nvSpPr>
                              <p:spPr>
                                <a:xfrm flipH="1">
                                  <a:off x="3232080" y="4603680"/>
                                  <a:ext cx="69120" cy="13276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80" h="1467">
                                      <a:moveTo>
                                        <a:pt x="0" y="0"/>
                                      </a:moveTo>
                                      <a:cubicBezTo>
                                        <a:pt x="17" y="2"/>
                                        <a:pt x="34" y="4"/>
                                        <a:pt x="51" y="6"/>
                                      </a:cubicBezTo>
                                      <a:cubicBezTo>
                                        <a:pt x="68" y="8"/>
                                        <a:pt x="88" y="10"/>
                                        <a:pt x="102" y="15"/>
                                      </a:cubicBezTo>
                                      <a:cubicBezTo>
                                        <a:pt x="116" y="20"/>
                                        <a:pt x="122" y="23"/>
                                        <a:pt x="135" y="33"/>
                                      </a:cubicBezTo>
                                      <a:cubicBezTo>
                                        <a:pt x="148" y="43"/>
                                        <a:pt x="167" y="56"/>
                                        <a:pt x="180" y="78"/>
                                      </a:cubicBezTo>
                                      <a:cubicBezTo>
                                        <a:pt x="193" y="100"/>
                                        <a:pt x="204" y="120"/>
                                        <a:pt x="216" y="165"/>
                                      </a:cubicBezTo>
                                      <a:cubicBezTo>
                                        <a:pt x="228" y="210"/>
                                        <a:pt x="211" y="131"/>
                                        <a:pt x="255" y="348"/>
                                      </a:cubicBezTo>
                                      <a:cubicBezTo>
                                        <a:pt x="299" y="565"/>
                                        <a:pt x="389" y="1016"/>
                                        <a:pt x="480" y="1467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6480">
                                  <a:solidFill>
                                    <a:srgbClr val="3333cc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575" name=""/>
                            <p:cNvGrpSpPr/>
                            <p:nvPr/>
                          </p:nvGrpSpPr>
                          <p:grpSpPr>
                            <a:xfrm>
                              <a:off x="2334240" y="4568760"/>
                              <a:ext cx="4021200" cy="1373040"/>
                              <a:chOff x="2334240" y="4568760"/>
                              <a:chExt cx="4021200" cy="1373040"/>
                            </a:xfrm>
                          </p:grpSpPr>
                          <p:grpSp>
                            <p:nvGrpSpPr>
                              <p:cNvPr id="5576" name=""/>
                              <p:cNvGrpSpPr/>
                              <p:nvPr/>
                            </p:nvGrpSpPr>
                            <p:grpSpPr>
                              <a:xfrm>
                                <a:off x="3302640" y="4603680"/>
                                <a:ext cx="414360" cy="1330200"/>
                                <a:chOff x="3302640" y="4603680"/>
                                <a:chExt cx="414360" cy="1330200"/>
                              </a:xfrm>
                            </p:grpSpPr>
                            <p:grpSp>
                              <p:nvGrpSpPr>
                                <p:cNvPr id="5577" name=""/>
                                <p:cNvGrpSpPr/>
                                <p:nvPr/>
                              </p:nvGrpSpPr>
                              <p:grpSpPr>
                                <a:xfrm>
                                  <a:off x="3510360" y="4603680"/>
                                  <a:ext cx="206640" cy="1330200"/>
                                  <a:chOff x="3510360" y="4603680"/>
                                  <a:chExt cx="206640" cy="1330200"/>
                                </a:xfrm>
                              </p:grpSpPr>
                              <p:grpSp>
                                <p:nvGrpSpPr>
                                  <p:cNvPr id="55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79480" y="5596560"/>
                                    <a:ext cx="69120" cy="337320"/>
                                    <a:chOff x="3579480" y="5596560"/>
                                    <a:chExt cx="69120" cy="337320"/>
                                  </a:xfrm>
                                </p:grpSpPr>
                                <p:sp>
                                  <p:nvSpPr>
                                    <p:cNvPr id="55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79480" y="5596560"/>
                                      <a:ext cx="33840" cy="3373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34" h="373">
                                          <a:moveTo>
                                            <a:pt x="0" y="373"/>
                                          </a:moveTo>
                                          <a:cubicBezTo>
                                            <a:pt x="4" y="357"/>
                                            <a:pt x="8" y="342"/>
                                            <a:pt x="15" y="319"/>
                                          </a:cubicBezTo>
                                          <a:cubicBezTo>
                                            <a:pt x="22" y="296"/>
                                            <a:pt x="34" y="260"/>
                                            <a:pt x="44" y="232"/>
                                          </a:cubicBezTo>
                                          <a:cubicBezTo>
                                            <a:pt x="54" y="204"/>
                                            <a:pt x="64" y="173"/>
                                            <a:pt x="74" y="150"/>
                                          </a:cubicBezTo>
                                          <a:cubicBezTo>
                                            <a:pt x="84" y="127"/>
                                            <a:pt x="91" y="111"/>
                                            <a:pt x="102" y="93"/>
                                          </a:cubicBezTo>
                                          <a:cubicBezTo>
                                            <a:pt x="113" y="75"/>
                                            <a:pt x="127" y="56"/>
                                            <a:pt x="137" y="43"/>
                                          </a:cubicBezTo>
                                          <a:cubicBezTo>
                                            <a:pt x="147" y="30"/>
                                            <a:pt x="155" y="23"/>
                                            <a:pt x="164" y="16"/>
                                          </a:cubicBezTo>
                                          <a:cubicBezTo>
                                            <a:pt x="173" y="9"/>
                                            <a:pt x="182" y="6"/>
                                            <a:pt x="194" y="3"/>
                                          </a:cubicBezTo>
                                          <a:cubicBezTo>
                                            <a:pt x="206" y="0"/>
                                            <a:pt x="226" y="0"/>
                                            <a:pt x="234" y="0"/>
                                          </a:cubicBezTo>
                                        </a:path>
                                      </a:pathLst>
                                    </a:custGeom>
                                    <a:noFill/>
                                    <a:ln w="6480">
                                      <a:solidFill>
                                        <a:srgbClr val="3333cc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anchor="ctr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80" name=""/>
                                    <p:cNvSpPr/>
                                    <p:nvPr/>
                                  </p:nvSpPr>
                                  <p:spPr>
                                    <a:xfrm flipH="1">
                                      <a:off x="3614760" y="5596560"/>
                                      <a:ext cx="33840" cy="3373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34" h="373">
                                          <a:moveTo>
                                            <a:pt x="0" y="373"/>
                                          </a:moveTo>
                                          <a:cubicBezTo>
                                            <a:pt x="4" y="357"/>
                                            <a:pt x="8" y="342"/>
                                            <a:pt x="15" y="319"/>
                                          </a:cubicBezTo>
                                          <a:cubicBezTo>
                                            <a:pt x="22" y="296"/>
                                            <a:pt x="34" y="260"/>
                                            <a:pt x="44" y="232"/>
                                          </a:cubicBezTo>
                                          <a:cubicBezTo>
                                            <a:pt x="54" y="204"/>
                                            <a:pt x="64" y="173"/>
                                            <a:pt x="74" y="150"/>
                                          </a:cubicBezTo>
                                          <a:cubicBezTo>
                                            <a:pt x="84" y="127"/>
                                            <a:pt x="91" y="111"/>
                                            <a:pt x="102" y="93"/>
                                          </a:cubicBezTo>
                                          <a:cubicBezTo>
                                            <a:pt x="113" y="75"/>
                                            <a:pt x="127" y="56"/>
                                            <a:pt x="137" y="43"/>
                                          </a:cubicBezTo>
                                          <a:cubicBezTo>
                                            <a:pt x="147" y="30"/>
                                            <a:pt x="155" y="23"/>
                                            <a:pt x="164" y="16"/>
                                          </a:cubicBezTo>
                                          <a:cubicBezTo>
                                            <a:pt x="173" y="9"/>
                                            <a:pt x="182" y="6"/>
                                            <a:pt x="194" y="3"/>
                                          </a:cubicBezTo>
                                          <a:cubicBezTo>
                                            <a:pt x="206" y="0"/>
                                            <a:pt x="226" y="0"/>
                                            <a:pt x="234" y="0"/>
                                          </a:cubicBezTo>
                                        </a:path>
                                      </a:pathLst>
                                    </a:custGeom>
                                    <a:noFill/>
                                    <a:ln w="6480">
                                      <a:solidFill>
                                        <a:srgbClr val="3333cc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anchor="ctr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12240" y="5596560"/>
                                      <a:ext cx="3240" cy="0"/>
                                    </a:xfrm>
                                    <a:prstGeom prst="line">
                                      <a:avLst/>
                                    </a:prstGeom>
                                    <a:ln w="6480">
                                      <a:solidFill>
                                        <a:srgbClr val="3333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ctr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5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48960" y="5787720"/>
                                    <a:ext cx="68040" cy="144720"/>
                                    <a:chOff x="3648960" y="5787720"/>
                                    <a:chExt cx="68040" cy="144720"/>
                                  </a:xfrm>
                                </p:grpSpPr>
                                <p:sp>
                                  <p:nvSpPr>
                                    <p:cNvPr id="55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48960" y="5788800"/>
                                      <a:ext cx="32760" cy="1436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28" h="159">
                                          <a:moveTo>
                                            <a:pt x="0" y="159"/>
                                          </a:moveTo>
                                          <a:cubicBezTo>
                                            <a:pt x="15" y="139"/>
                                            <a:pt x="30" y="120"/>
                                            <a:pt x="45" y="103"/>
                                          </a:cubicBezTo>
                                          <a:cubicBezTo>
                                            <a:pt x="60" y="86"/>
                                            <a:pt x="76" y="68"/>
                                            <a:pt x="90" y="54"/>
                                          </a:cubicBezTo>
                                          <a:cubicBezTo>
                                            <a:pt x="104" y="40"/>
                                            <a:pt x="118" y="30"/>
                                            <a:pt x="130" y="22"/>
                                          </a:cubicBezTo>
                                          <a:cubicBezTo>
                                            <a:pt x="142" y="14"/>
                                            <a:pt x="150" y="10"/>
                                            <a:pt x="162" y="7"/>
                                          </a:cubicBezTo>
                                          <a:cubicBezTo>
                                            <a:pt x="174" y="4"/>
                                            <a:pt x="191" y="2"/>
                                            <a:pt x="202" y="1"/>
                                          </a:cubicBezTo>
                                          <a:cubicBezTo>
                                            <a:pt x="213" y="0"/>
                                            <a:pt x="220" y="0"/>
                                            <a:pt x="228" y="1"/>
                                          </a:cubicBezTo>
                                        </a:path>
                                      </a:pathLst>
                                    </a:custGeom>
                                    <a:noFill/>
                                    <a:ln w="6480">
                                      <a:solidFill>
                                        <a:srgbClr val="3333cc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anchor="ctr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84" name=""/>
                                    <p:cNvSpPr/>
                                    <p:nvPr/>
                                  </p:nvSpPr>
                                  <p:spPr>
                                    <a:xfrm flipH="1">
                                      <a:off x="3683880" y="5788080"/>
                                      <a:ext cx="32760" cy="14400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28" h="159">
                                          <a:moveTo>
                                            <a:pt x="0" y="159"/>
                                          </a:moveTo>
                                          <a:cubicBezTo>
                                            <a:pt x="15" y="139"/>
                                            <a:pt x="30" y="120"/>
                                            <a:pt x="45" y="103"/>
                                          </a:cubicBezTo>
                                          <a:cubicBezTo>
                                            <a:pt x="60" y="86"/>
                                            <a:pt x="76" y="68"/>
                                            <a:pt x="90" y="54"/>
                                          </a:cubicBezTo>
                                          <a:cubicBezTo>
                                            <a:pt x="104" y="40"/>
                                            <a:pt x="118" y="30"/>
                                            <a:pt x="130" y="22"/>
                                          </a:cubicBezTo>
                                          <a:cubicBezTo>
                                            <a:pt x="142" y="14"/>
                                            <a:pt x="150" y="10"/>
                                            <a:pt x="162" y="7"/>
                                          </a:cubicBezTo>
                                          <a:cubicBezTo>
                                            <a:pt x="174" y="4"/>
                                            <a:pt x="191" y="2"/>
                                            <a:pt x="202" y="1"/>
                                          </a:cubicBezTo>
                                          <a:cubicBezTo>
                                            <a:pt x="213" y="0"/>
                                            <a:pt x="220" y="0"/>
                                            <a:pt x="228" y="1"/>
                                          </a:cubicBezTo>
                                        </a:path>
                                      </a:pathLst>
                                    </a:custGeom>
                                    <a:noFill/>
                                    <a:ln w="6480">
                                      <a:solidFill>
                                        <a:srgbClr val="3333cc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anchor="ctr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85" name=""/>
                                    <p:cNvSpPr/>
                                    <p:nvPr/>
                                  </p:nvSpPr>
                                  <p:spPr>
                                    <a:xfrm flipV="1">
                                      <a:off x="3680640" y="5787720"/>
                                      <a:ext cx="4680" cy="2520"/>
                                    </a:xfrm>
                                    <a:prstGeom prst="line">
                                      <a:avLst/>
                                    </a:prstGeom>
                                    <a:ln w="6480">
                                      <a:solidFill>
                                        <a:srgbClr val="3333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4280" bIns="-44280" anchor="ctr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5586" name=""/>
                                  <p:cNvSpPr/>
                                  <p:nvPr/>
                                </p:nvSpPr>
                                <p:spPr>
                                  <a:xfrm>
                                    <a:off x="3510360" y="4603680"/>
                                    <a:ext cx="69120" cy="13276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480" h="1467">
                                        <a:moveTo>
                                          <a:pt x="0" y="0"/>
                                        </a:moveTo>
                                        <a:cubicBezTo>
                                          <a:pt x="17" y="2"/>
                                          <a:pt x="34" y="4"/>
                                          <a:pt x="51" y="6"/>
                                        </a:cubicBezTo>
                                        <a:cubicBezTo>
                                          <a:pt x="68" y="8"/>
                                          <a:pt x="88" y="10"/>
                                          <a:pt x="102" y="15"/>
                                        </a:cubicBezTo>
                                        <a:cubicBezTo>
                                          <a:pt x="116" y="20"/>
                                          <a:pt x="122" y="23"/>
                                          <a:pt x="135" y="33"/>
                                        </a:cubicBezTo>
                                        <a:cubicBezTo>
                                          <a:pt x="148" y="43"/>
                                          <a:pt x="167" y="56"/>
                                          <a:pt x="180" y="78"/>
                                        </a:cubicBezTo>
                                        <a:cubicBezTo>
                                          <a:pt x="193" y="100"/>
                                          <a:pt x="204" y="120"/>
                                          <a:pt x="216" y="165"/>
                                        </a:cubicBezTo>
                                        <a:cubicBezTo>
                                          <a:pt x="228" y="210"/>
                                          <a:pt x="211" y="131"/>
                                          <a:pt x="255" y="348"/>
                                        </a:cubicBezTo>
                                        <a:cubicBezTo>
                                          <a:pt x="299" y="565"/>
                                          <a:pt x="389" y="1016"/>
                                          <a:pt x="480" y="1467"/>
                                        </a:cubicBezTo>
                                      </a:path>
                                    </a:pathLst>
                                  </a:custGeom>
                                  <a:noFill/>
                                  <a:ln w="6480">
                                    <a:solidFill>
                                      <a:srgbClr val="3333cc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5587" name=""/>
                                <p:cNvGrpSpPr/>
                                <p:nvPr/>
                              </p:nvGrpSpPr>
                              <p:grpSpPr>
                                <a:xfrm>
                                  <a:off x="3302640" y="4603680"/>
                                  <a:ext cx="206640" cy="1330200"/>
                                  <a:chOff x="3302640" y="4603680"/>
                                  <a:chExt cx="206640" cy="1330200"/>
                                </a:xfrm>
                              </p:grpSpPr>
                              <p:grpSp>
                                <p:nvGrpSpPr>
                                  <p:cNvPr id="558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71040" y="5596560"/>
                                    <a:ext cx="69120" cy="337320"/>
                                    <a:chOff x="3371040" y="5596560"/>
                                    <a:chExt cx="69120" cy="337320"/>
                                  </a:xfrm>
                                </p:grpSpPr>
                                <p:sp>
                                  <p:nvSpPr>
                                    <p:cNvPr id="5589" name=""/>
                                    <p:cNvSpPr/>
                                    <p:nvPr/>
                                  </p:nvSpPr>
                                  <p:spPr>
                                    <a:xfrm flipH="1">
                                      <a:off x="3406320" y="5596560"/>
                                      <a:ext cx="33840" cy="3373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34" h="373">
                                          <a:moveTo>
                                            <a:pt x="0" y="373"/>
                                          </a:moveTo>
                                          <a:cubicBezTo>
                                            <a:pt x="4" y="357"/>
                                            <a:pt x="8" y="342"/>
                                            <a:pt x="15" y="319"/>
                                          </a:cubicBezTo>
                                          <a:cubicBezTo>
                                            <a:pt x="22" y="296"/>
                                            <a:pt x="34" y="260"/>
                                            <a:pt x="44" y="232"/>
                                          </a:cubicBezTo>
                                          <a:cubicBezTo>
                                            <a:pt x="54" y="204"/>
                                            <a:pt x="64" y="173"/>
                                            <a:pt x="74" y="150"/>
                                          </a:cubicBezTo>
                                          <a:cubicBezTo>
                                            <a:pt x="84" y="127"/>
                                            <a:pt x="91" y="111"/>
                                            <a:pt x="102" y="93"/>
                                          </a:cubicBezTo>
                                          <a:cubicBezTo>
                                            <a:pt x="113" y="75"/>
                                            <a:pt x="127" y="56"/>
                                            <a:pt x="137" y="43"/>
                                          </a:cubicBezTo>
                                          <a:cubicBezTo>
                                            <a:pt x="147" y="30"/>
                                            <a:pt x="155" y="23"/>
                                            <a:pt x="164" y="16"/>
                                          </a:cubicBezTo>
                                          <a:cubicBezTo>
                                            <a:pt x="173" y="9"/>
                                            <a:pt x="182" y="6"/>
                                            <a:pt x="194" y="3"/>
                                          </a:cubicBezTo>
                                          <a:cubicBezTo>
                                            <a:pt x="206" y="0"/>
                                            <a:pt x="226" y="0"/>
                                            <a:pt x="234" y="0"/>
                                          </a:cubicBezTo>
                                        </a:path>
                                      </a:pathLst>
                                    </a:custGeom>
                                    <a:noFill/>
                                    <a:ln w="6480">
                                      <a:solidFill>
                                        <a:srgbClr val="3333cc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anchor="ctr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71040" y="5596560"/>
                                      <a:ext cx="33840" cy="3373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34" h="373">
                                          <a:moveTo>
                                            <a:pt x="0" y="373"/>
                                          </a:moveTo>
                                          <a:cubicBezTo>
                                            <a:pt x="4" y="357"/>
                                            <a:pt x="8" y="342"/>
                                            <a:pt x="15" y="319"/>
                                          </a:cubicBezTo>
                                          <a:cubicBezTo>
                                            <a:pt x="22" y="296"/>
                                            <a:pt x="34" y="260"/>
                                            <a:pt x="44" y="232"/>
                                          </a:cubicBezTo>
                                          <a:cubicBezTo>
                                            <a:pt x="54" y="204"/>
                                            <a:pt x="64" y="173"/>
                                            <a:pt x="74" y="150"/>
                                          </a:cubicBezTo>
                                          <a:cubicBezTo>
                                            <a:pt x="84" y="127"/>
                                            <a:pt x="91" y="111"/>
                                            <a:pt x="102" y="93"/>
                                          </a:cubicBezTo>
                                          <a:cubicBezTo>
                                            <a:pt x="113" y="75"/>
                                            <a:pt x="127" y="56"/>
                                            <a:pt x="137" y="43"/>
                                          </a:cubicBezTo>
                                          <a:cubicBezTo>
                                            <a:pt x="147" y="30"/>
                                            <a:pt x="155" y="23"/>
                                            <a:pt x="164" y="16"/>
                                          </a:cubicBezTo>
                                          <a:cubicBezTo>
                                            <a:pt x="173" y="9"/>
                                            <a:pt x="182" y="6"/>
                                            <a:pt x="194" y="3"/>
                                          </a:cubicBezTo>
                                          <a:cubicBezTo>
                                            <a:pt x="206" y="0"/>
                                            <a:pt x="226" y="0"/>
                                            <a:pt x="234" y="0"/>
                                          </a:cubicBezTo>
                                        </a:path>
                                      </a:pathLst>
                                    </a:custGeom>
                                    <a:noFill/>
                                    <a:ln w="6480">
                                      <a:solidFill>
                                        <a:srgbClr val="3333cc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anchor="ctr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91" name=""/>
                                    <p:cNvSpPr/>
                                    <p:nvPr/>
                                  </p:nvSpPr>
                                  <p:spPr>
                                    <a:xfrm flipH="1">
                                      <a:off x="3404160" y="5596560"/>
                                      <a:ext cx="3240" cy="0"/>
                                    </a:xfrm>
                                    <a:prstGeom prst="line">
                                      <a:avLst/>
                                    </a:prstGeom>
                                    <a:ln w="6480">
                                      <a:solidFill>
                                        <a:srgbClr val="3333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ctr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5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02640" y="5787720"/>
                                    <a:ext cx="68040" cy="144720"/>
                                    <a:chOff x="3302640" y="5787720"/>
                                    <a:chExt cx="68040" cy="144720"/>
                                  </a:xfrm>
                                </p:grpSpPr>
                                <p:sp>
                                  <p:nvSpPr>
                                    <p:cNvPr id="5593" name=""/>
                                    <p:cNvSpPr/>
                                    <p:nvPr/>
                                  </p:nvSpPr>
                                  <p:spPr>
                                    <a:xfrm flipH="1">
                                      <a:off x="3337560" y="5788800"/>
                                      <a:ext cx="32760" cy="1436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28" h="159">
                                          <a:moveTo>
                                            <a:pt x="0" y="159"/>
                                          </a:moveTo>
                                          <a:cubicBezTo>
                                            <a:pt x="15" y="139"/>
                                            <a:pt x="30" y="120"/>
                                            <a:pt x="45" y="103"/>
                                          </a:cubicBezTo>
                                          <a:cubicBezTo>
                                            <a:pt x="60" y="86"/>
                                            <a:pt x="76" y="68"/>
                                            <a:pt x="90" y="54"/>
                                          </a:cubicBezTo>
                                          <a:cubicBezTo>
                                            <a:pt x="104" y="40"/>
                                            <a:pt x="118" y="30"/>
                                            <a:pt x="130" y="22"/>
                                          </a:cubicBezTo>
                                          <a:cubicBezTo>
                                            <a:pt x="142" y="14"/>
                                            <a:pt x="150" y="10"/>
                                            <a:pt x="162" y="7"/>
                                          </a:cubicBezTo>
                                          <a:cubicBezTo>
                                            <a:pt x="174" y="4"/>
                                            <a:pt x="191" y="2"/>
                                            <a:pt x="202" y="1"/>
                                          </a:cubicBezTo>
                                          <a:cubicBezTo>
                                            <a:pt x="213" y="0"/>
                                            <a:pt x="220" y="0"/>
                                            <a:pt x="228" y="1"/>
                                          </a:cubicBezTo>
                                        </a:path>
                                      </a:pathLst>
                                    </a:custGeom>
                                    <a:noFill/>
                                    <a:ln w="6480">
                                      <a:solidFill>
                                        <a:srgbClr val="3333cc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anchor="ctr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02640" y="5788080"/>
                                      <a:ext cx="32760" cy="14400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28" h="159">
                                          <a:moveTo>
                                            <a:pt x="0" y="159"/>
                                          </a:moveTo>
                                          <a:cubicBezTo>
                                            <a:pt x="15" y="139"/>
                                            <a:pt x="30" y="120"/>
                                            <a:pt x="45" y="103"/>
                                          </a:cubicBezTo>
                                          <a:cubicBezTo>
                                            <a:pt x="60" y="86"/>
                                            <a:pt x="76" y="68"/>
                                            <a:pt x="90" y="54"/>
                                          </a:cubicBezTo>
                                          <a:cubicBezTo>
                                            <a:pt x="104" y="40"/>
                                            <a:pt x="118" y="30"/>
                                            <a:pt x="130" y="22"/>
                                          </a:cubicBezTo>
                                          <a:cubicBezTo>
                                            <a:pt x="142" y="14"/>
                                            <a:pt x="150" y="10"/>
                                            <a:pt x="162" y="7"/>
                                          </a:cubicBezTo>
                                          <a:cubicBezTo>
                                            <a:pt x="174" y="4"/>
                                            <a:pt x="191" y="2"/>
                                            <a:pt x="202" y="1"/>
                                          </a:cubicBezTo>
                                          <a:cubicBezTo>
                                            <a:pt x="213" y="0"/>
                                            <a:pt x="220" y="0"/>
                                            <a:pt x="228" y="1"/>
                                          </a:cubicBezTo>
                                        </a:path>
                                      </a:pathLst>
                                    </a:custGeom>
                                    <a:noFill/>
                                    <a:ln w="6480">
                                      <a:solidFill>
                                        <a:srgbClr val="3333cc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anchor="ctr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95" name=""/>
                                    <p:cNvSpPr/>
                                    <p:nvPr/>
                                  </p:nvSpPr>
                                  <p:spPr>
                                    <a:xfrm flipH="1" flipV="1">
                                      <a:off x="3334320" y="5787720"/>
                                      <a:ext cx="4680" cy="2520"/>
                                    </a:xfrm>
                                    <a:prstGeom prst="line">
                                      <a:avLst/>
                                    </a:prstGeom>
                                    <a:ln w="6480">
                                      <a:solidFill>
                                        <a:srgbClr val="3333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4280" bIns="-44280" anchor="ctr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5596" name=""/>
                                  <p:cNvSpPr/>
                                  <p:nvPr/>
                                </p:nvSpPr>
                                <p:spPr>
                                  <a:xfrm flipH="1">
                                    <a:off x="3440160" y="4603680"/>
                                    <a:ext cx="69120" cy="13276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480" h="1467">
                                        <a:moveTo>
                                          <a:pt x="0" y="0"/>
                                        </a:moveTo>
                                        <a:cubicBezTo>
                                          <a:pt x="17" y="2"/>
                                          <a:pt x="34" y="4"/>
                                          <a:pt x="51" y="6"/>
                                        </a:cubicBezTo>
                                        <a:cubicBezTo>
                                          <a:pt x="68" y="8"/>
                                          <a:pt x="88" y="10"/>
                                          <a:pt x="102" y="15"/>
                                        </a:cubicBezTo>
                                        <a:cubicBezTo>
                                          <a:pt x="116" y="20"/>
                                          <a:pt x="122" y="23"/>
                                          <a:pt x="135" y="33"/>
                                        </a:cubicBezTo>
                                        <a:cubicBezTo>
                                          <a:pt x="148" y="43"/>
                                          <a:pt x="167" y="56"/>
                                          <a:pt x="180" y="78"/>
                                        </a:cubicBezTo>
                                        <a:cubicBezTo>
                                          <a:pt x="193" y="100"/>
                                          <a:pt x="204" y="120"/>
                                          <a:pt x="216" y="165"/>
                                        </a:cubicBezTo>
                                        <a:cubicBezTo>
                                          <a:pt x="228" y="210"/>
                                          <a:pt x="211" y="131"/>
                                          <a:pt x="255" y="348"/>
                                        </a:cubicBezTo>
                                        <a:cubicBezTo>
                                          <a:pt x="299" y="565"/>
                                          <a:pt x="389" y="1016"/>
                                          <a:pt x="480" y="1467"/>
                                        </a:cubicBezTo>
                                      </a:path>
                                    </a:pathLst>
                                  </a:custGeom>
                                  <a:noFill/>
                                  <a:ln w="6480">
                                    <a:solidFill>
                                      <a:srgbClr val="3333cc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5597" name=""/>
                              <p:cNvGrpSpPr/>
                              <p:nvPr/>
                            </p:nvGrpSpPr>
                            <p:grpSpPr>
                              <a:xfrm>
                                <a:off x="2334240" y="4568760"/>
                                <a:ext cx="4021200" cy="1373040"/>
                                <a:chOff x="2334240" y="4568760"/>
                                <a:chExt cx="4021200" cy="1373040"/>
                              </a:xfrm>
                            </p:grpSpPr>
                            <p:grpSp>
                              <p:nvGrpSpPr>
                                <p:cNvPr id="5598" name=""/>
                                <p:cNvGrpSpPr/>
                                <p:nvPr/>
                              </p:nvGrpSpPr>
                              <p:grpSpPr>
                                <a:xfrm>
                                  <a:off x="4413600" y="4603680"/>
                                  <a:ext cx="414720" cy="1330200"/>
                                  <a:chOff x="4413600" y="4603680"/>
                                  <a:chExt cx="414720" cy="1330200"/>
                                </a:xfrm>
                              </p:grpSpPr>
                              <p:grpSp>
                                <p:nvGrpSpPr>
                                  <p:cNvPr id="55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4621680" y="4603680"/>
                                    <a:ext cx="206640" cy="1330200"/>
                                    <a:chOff x="4621680" y="4603680"/>
                                    <a:chExt cx="206640" cy="1330200"/>
                                  </a:xfrm>
                                </p:grpSpPr>
                                <p:grpSp>
                                  <p:nvGrpSpPr>
                                    <p:cNvPr id="5600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4690800" y="5596560"/>
                                      <a:ext cx="69120" cy="337320"/>
                                      <a:chOff x="4690800" y="5596560"/>
                                      <a:chExt cx="69120" cy="337320"/>
                                    </a:xfrm>
                                  </p:grpSpPr>
                                  <p:sp>
                                    <p:nvSpPr>
                                      <p:cNvPr id="5601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690800" y="5596560"/>
                                        <a:ext cx="33840" cy="33732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234" h="373">
                                            <a:moveTo>
                                              <a:pt x="0" y="373"/>
                                            </a:moveTo>
                                            <a:cubicBezTo>
                                              <a:pt x="4" y="357"/>
                                              <a:pt x="8" y="342"/>
                                              <a:pt x="15" y="319"/>
                                            </a:cubicBezTo>
                                            <a:cubicBezTo>
                                              <a:pt x="22" y="296"/>
                                              <a:pt x="34" y="260"/>
                                              <a:pt x="44" y="232"/>
                                            </a:cubicBezTo>
                                            <a:cubicBezTo>
                                              <a:pt x="54" y="204"/>
                                              <a:pt x="64" y="173"/>
                                              <a:pt x="74" y="150"/>
                                            </a:cubicBezTo>
                                            <a:cubicBezTo>
                                              <a:pt x="84" y="127"/>
                                              <a:pt x="91" y="111"/>
                                              <a:pt x="102" y="93"/>
                                            </a:cubicBezTo>
                                            <a:cubicBezTo>
                                              <a:pt x="113" y="75"/>
                                              <a:pt x="127" y="56"/>
                                              <a:pt x="137" y="43"/>
                                            </a:cubicBezTo>
                                            <a:cubicBezTo>
                                              <a:pt x="147" y="30"/>
                                              <a:pt x="155" y="23"/>
                                              <a:pt x="164" y="16"/>
                                            </a:cubicBezTo>
                                            <a:cubicBezTo>
                                              <a:pt x="173" y="9"/>
                                              <a:pt x="182" y="6"/>
                                              <a:pt x="194" y="3"/>
                                            </a:cubicBezTo>
                                            <a:cubicBezTo>
                                              <a:pt x="206" y="0"/>
                                              <a:pt x="226" y="0"/>
                                              <a:pt x="234" y="0"/>
                                            </a:cubicBezTo>
                                          </a:path>
                                        </a:pathLst>
                                      </a:custGeom>
                                      <a:noFill/>
                                      <a:ln w="6480">
                                        <a:solidFill>
                                          <a:srgbClr val="3333cc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anchor="ctr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5602" name="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4726080" y="5596560"/>
                                        <a:ext cx="33840" cy="33732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234" h="373">
                                            <a:moveTo>
                                              <a:pt x="0" y="373"/>
                                            </a:moveTo>
                                            <a:cubicBezTo>
                                              <a:pt x="4" y="357"/>
                                              <a:pt x="8" y="342"/>
                                              <a:pt x="15" y="319"/>
                                            </a:cubicBezTo>
                                            <a:cubicBezTo>
                                              <a:pt x="22" y="296"/>
                                              <a:pt x="34" y="260"/>
                                              <a:pt x="44" y="232"/>
                                            </a:cubicBezTo>
                                            <a:cubicBezTo>
                                              <a:pt x="54" y="204"/>
                                              <a:pt x="64" y="173"/>
                                              <a:pt x="74" y="150"/>
                                            </a:cubicBezTo>
                                            <a:cubicBezTo>
                                              <a:pt x="84" y="127"/>
                                              <a:pt x="91" y="111"/>
                                              <a:pt x="102" y="93"/>
                                            </a:cubicBezTo>
                                            <a:cubicBezTo>
                                              <a:pt x="113" y="75"/>
                                              <a:pt x="127" y="56"/>
                                              <a:pt x="137" y="43"/>
                                            </a:cubicBezTo>
                                            <a:cubicBezTo>
                                              <a:pt x="147" y="30"/>
                                              <a:pt x="155" y="23"/>
                                              <a:pt x="164" y="16"/>
                                            </a:cubicBezTo>
                                            <a:cubicBezTo>
                                              <a:pt x="173" y="9"/>
                                              <a:pt x="182" y="6"/>
                                              <a:pt x="194" y="3"/>
                                            </a:cubicBezTo>
                                            <a:cubicBezTo>
                                              <a:pt x="206" y="0"/>
                                              <a:pt x="226" y="0"/>
                                              <a:pt x="234" y="0"/>
                                            </a:cubicBezTo>
                                          </a:path>
                                        </a:pathLst>
                                      </a:custGeom>
                                      <a:noFill/>
                                      <a:ln w="6480">
                                        <a:solidFill>
                                          <a:srgbClr val="3333cc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anchor="ctr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5603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723560" y="5596560"/>
                                        <a:ext cx="3240" cy="0"/>
                                      </a:xfrm>
                                      <a:prstGeom prst="line">
                                        <a:avLst/>
                                      </a:prstGeom>
                                      <a:ln w="6480">
                                        <a:solidFill>
                                          <a:srgbClr val="3333cc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ctr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grpSp>
                                  <p:nvGrpSpPr>
                                    <p:cNvPr id="5604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4760280" y="5787720"/>
                                      <a:ext cx="68040" cy="144720"/>
                                      <a:chOff x="4760280" y="5787720"/>
                                      <a:chExt cx="68040" cy="144720"/>
                                    </a:xfrm>
                                  </p:grpSpPr>
                                  <p:sp>
                                    <p:nvSpPr>
                                      <p:cNvPr id="5605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760280" y="5788800"/>
                                        <a:ext cx="32760" cy="14364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228" h="159">
                                            <a:moveTo>
                                              <a:pt x="0" y="159"/>
                                            </a:moveTo>
                                            <a:cubicBezTo>
                                              <a:pt x="15" y="139"/>
                                              <a:pt x="30" y="120"/>
                                              <a:pt x="45" y="103"/>
                                            </a:cubicBezTo>
                                            <a:cubicBezTo>
                                              <a:pt x="60" y="86"/>
                                              <a:pt x="76" y="68"/>
                                              <a:pt x="90" y="54"/>
                                            </a:cubicBezTo>
                                            <a:cubicBezTo>
                                              <a:pt x="104" y="40"/>
                                              <a:pt x="118" y="30"/>
                                              <a:pt x="130" y="22"/>
                                            </a:cubicBezTo>
                                            <a:cubicBezTo>
                                              <a:pt x="142" y="14"/>
                                              <a:pt x="150" y="10"/>
                                              <a:pt x="162" y="7"/>
                                            </a:cubicBezTo>
                                            <a:cubicBezTo>
                                              <a:pt x="174" y="4"/>
                                              <a:pt x="191" y="2"/>
                                              <a:pt x="202" y="1"/>
                                            </a:cubicBezTo>
                                            <a:cubicBezTo>
                                              <a:pt x="213" y="0"/>
                                              <a:pt x="220" y="0"/>
                                              <a:pt x="228" y="1"/>
                                            </a:cubicBezTo>
                                          </a:path>
                                        </a:pathLst>
                                      </a:custGeom>
                                      <a:noFill/>
                                      <a:ln w="6480">
                                        <a:solidFill>
                                          <a:srgbClr val="3333cc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anchor="ctr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5606" name="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4795200" y="5788080"/>
                                        <a:ext cx="32760" cy="14400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228" h="159">
                                            <a:moveTo>
                                              <a:pt x="0" y="159"/>
                                            </a:moveTo>
                                            <a:cubicBezTo>
                                              <a:pt x="15" y="139"/>
                                              <a:pt x="30" y="120"/>
                                              <a:pt x="45" y="103"/>
                                            </a:cubicBezTo>
                                            <a:cubicBezTo>
                                              <a:pt x="60" y="86"/>
                                              <a:pt x="76" y="68"/>
                                              <a:pt x="90" y="54"/>
                                            </a:cubicBezTo>
                                            <a:cubicBezTo>
                                              <a:pt x="104" y="40"/>
                                              <a:pt x="118" y="30"/>
                                              <a:pt x="130" y="22"/>
                                            </a:cubicBezTo>
                                            <a:cubicBezTo>
                                              <a:pt x="142" y="14"/>
                                              <a:pt x="150" y="10"/>
                                              <a:pt x="162" y="7"/>
                                            </a:cubicBezTo>
                                            <a:cubicBezTo>
                                              <a:pt x="174" y="4"/>
                                              <a:pt x="191" y="2"/>
                                              <a:pt x="202" y="1"/>
                                            </a:cubicBezTo>
                                            <a:cubicBezTo>
                                              <a:pt x="213" y="0"/>
                                              <a:pt x="220" y="0"/>
                                              <a:pt x="228" y="1"/>
                                            </a:cubicBezTo>
                                          </a:path>
                                        </a:pathLst>
                                      </a:custGeom>
                                      <a:noFill/>
                                      <a:ln w="6480">
                                        <a:solidFill>
                                          <a:srgbClr val="3333cc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anchor="ctr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5607" name=""/>
                                      <p:cNvSpPr/>
                                      <p:nvPr/>
                                    </p:nvSpPr>
                                    <p:spPr>
                                      <a:xfrm flipV="1">
                                        <a:off x="4791960" y="5787720"/>
                                        <a:ext cx="4680" cy="2520"/>
                                      </a:xfrm>
                                      <a:prstGeom prst="line">
                                        <a:avLst/>
                                      </a:prstGeom>
                                      <a:ln w="6480">
                                        <a:solidFill>
                                          <a:srgbClr val="3333cc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4280" bIns="-44280" anchor="ctr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56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621680" y="4603680"/>
                                      <a:ext cx="69120" cy="13276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480" h="1467">
                                          <a:moveTo>
                                            <a:pt x="0" y="0"/>
                                          </a:moveTo>
                                          <a:cubicBezTo>
                                            <a:pt x="17" y="2"/>
                                            <a:pt x="34" y="4"/>
                                            <a:pt x="51" y="6"/>
                                          </a:cubicBezTo>
                                          <a:cubicBezTo>
                                            <a:pt x="68" y="8"/>
                                            <a:pt x="88" y="10"/>
                                            <a:pt x="102" y="15"/>
                                          </a:cubicBezTo>
                                          <a:cubicBezTo>
                                            <a:pt x="116" y="20"/>
                                            <a:pt x="122" y="23"/>
                                            <a:pt x="135" y="33"/>
                                          </a:cubicBezTo>
                                          <a:cubicBezTo>
                                            <a:pt x="148" y="43"/>
                                            <a:pt x="167" y="56"/>
                                            <a:pt x="180" y="78"/>
                                          </a:cubicBezTo>
                                          <a:cubicBezTo>
                                            <a:pt x="193" y="100"/>
                                            <a:pt x="204" y="120"/>
                                            <a:pt x="216" y="165"/>
                                          </a:cubicBezTo>
                                          <a:cubicBezTo>
                                            <a:pt x="228" y="210"/>
                                            <a:pt x="211" y="131"/>
                                            <a:pt x="255" y="348"/>
                                          </a:cubicBezTo>
                                          <a:cubicBezTo>
                                            <a:pt x="299" y="565"/>
                                            <a:pt x="389" y="1016"/>
                                            <a:pt x="480" y="1467"/>
                                          </a:cubicBezTo>
                                        </a:path>
                                      </a:pathLst>
                                    </a:custGeom>
                                    <a:noFill/>
                                    <a:ln w="6480">
                                      <a:solidFill>
                                        <a:srgbClr val="3333cc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anchor="ctr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4413600" y="4603680"/>
                                    <a:ext cx="206640" cy="1330200"/>
                                    <a:chOff x="4413600" y="4603680"/>
                                    <a:chExt cx="206640" cy="1330200"/>
                                  </a:xfrm>
                                </p:grpSpPr>
                                <p:grpSp>
                                  <p:nvGrpSpPr>
                                    <p:cNvPr id="5610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4482000" y="5596560"/>
                                      <a:ext cx="69120" cy="337320"/>
                                      <a:chOff x="4482000" y="5596560"/>
                                      <a:chExt cx="69120" cy="337320"/>
                                    </a:xfrm>
                                  </p:grpSpPr>
                                  <p:sp>
                                    <p:nvSpPr>
                                      <p:cNvPr id="5611" name="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4517280" y="5596560"/>
                                        <a:ext cx="33840" cy="33732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234" h="373">
                                            <a:moveTo>
                                              <a:pt x="0" y="373"/>
                                            </a:moveTo>
                                            <a:cubicBezTo>
                                              <a:pt x="4" y="357"/>
                                              <a:pt x="8" y="342"/>
                                              <a:pt x="15" y="319"/>
                                            </a:cubicBezTo>
                                            <a:cubicBezTo>
                                              <a:pt x="22" y="296"/>
                                              <a:pt x="34" y="260"/>
                                              <a:pt x="44" y="232"/>
                                            </a:cubicBezTo>
                                            <a:cubicBezTo>
                                              <a:pt x="54" y="204"/>
                                              <a:pt x="64" y="173"/>
                                              <a:pt x="74" y="150"/>
                                            </a:cubicBezTo>
                                            <a:cubicBezTo>
                                              <a:pt x="84" y="127"/>
                                              <a:pt x="91" y="111"/>
                                              <a:pt x="102" y="93"/>
                                            </a:cubicBezTo>
                                            <a:cubicBezTo>
                                              <a:pt x="113" y="75"/>
                                              <a:pt x="127" y="56"/>
                                              <a:pt x="137" y="43"/>
                                            </a:cubicBezTo>
                                            <a:cubicBezTo>
                                              <a:pt x="147" y="30"/>
                                              <a:pt x="155" y="23"/>
                                              <a:pt x="164" y="16"/>
                                            </a:cubicBezTo>
                                            <a:cubicBezTo>
                                              <a:pt x="173" y="9"/>
                                              <a:pt x="182" y="6"/>
                                              <a:pt x="194" y="3"/>
                                            </a:cubicBezTo>
                                            <a:cubicBezTo>
                                              <a:pt x="206" y="0"/>
                                              <a:pt x="226" y="0"/>
                                              <a:pt x="234" y="0"/>
                                            </a:cubicBezTo>
                                          </a:path>
                                        </a:pathLst>
                                      </a:custGeom>
                                      <a:noFill/>
                                      <a:ln w="6480">
                                        <a:solidFill>
                                          <a:srgbClr val="3333cc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anchor="ctr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5612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482000" y="5596560"/>
                                        <a:ext cx="33840" cy="33732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234" h="373">
                                            <a:moveTo>
                                              <a:pt x="0" y="373"/>
                                            </a:moveTo>
                                            <a:cubicBezTo>
                                              <a:pt x="4" y="357"/>
                                              <a:pt x="8" y="342"/>
                                              <a:pt x="15" y="319"/>
                                            </a:cubicBezTo>
                                            <a:cubicBezTo>
                                              <a:pt x="22" y="296"/>
                                              <a:pt x="34" y="260"/>
                                              <a:pt x="44" y="232"/>
                                            </a:cubicBezTo>
                                            <a:cubicBezTo>
                                              <a:pt x="54" y="204"/>
                                              <a:pt x="64" y="173"/>
                                              <a:pt x="74" y="150"/>
                                            </a:cubicBezTo>
                                            <a:cubicBezTo>
                                              <a:pt x="84" y="127"/>
                                              <a:pt x="91" y="111"/>
                                              <a:pt x="102" y="93"/>
                                            </a:cubicBezTo>
                                            <a:cubicBezTo>
                                              <a:pt x="113" y="75"/>
                                              <a:pt x="127" y="56"/>
                                              <a:pt x="137" y="43"/>
                                            </a:cubicBezTo>
                                            <a:cubicBezTo>
                                              <a:pt x="147" y="30"/>
                                              <a:pt x="155" y="23"/>
                                              <a:pt x="164" y="16"/>
                                            </a:cubicBezTo>
                                            <a:cubicBezTo>
                                              <a:pt x="173" y="9"/>
                                              <a:pt x="182" y="6"/>
                                              <a:pt x="194" y="3"/>
                                            </a:cubicBezTo>
                                            <a:cubicBezTo>
                                              <a:pt x="206" y="0"/>
                                              <a:pt x="226" y="0"/>
                                              <a:pt x="234" y="0"/>
                                            </a:cubicBezTo>
                                          </a:path>
                                        </a:pathLst>
                                      </a:custGeom>
                                      <a:noFill/>
                                      <a:ln w="6480">
                                        <a:solidFill>
                                          <a:srgbClr val="3333cc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anchor="ctr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5613" name="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4515120" y="5596560"/>
                                        <a:ext cx="3240" cy="0"/>
                                      </a:xfrm>
                                      <a:prstGeom prst="line">
                                        <a:avLst/>
                                      </a:prstGeom>
                                      <a:ln w="6480">
                                        <a:solidFill>
                                          <a:srgbClr val="3333cc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ctr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grpSp>
                                  <p:nvGrpSpPr>
                                    <p:cNvPr id="5614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4413600" y="5787720"/>
                                      <a:ext cx="68040" cy="144720"/>
                                      <a:chOff x="4413600" y="5787720"/>
                                      <a:chExt cx="68040" cy="144720"/>
                                    </a:xfrm>
                                  </p:grpSpPr>
                                  <p:sp>
                                    <p:nvSpPr>
                                      <p:cNvPr id="5615" name="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4448520" y="5788800"/>
                                        <a:ext cx="32760" cy="14364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228" h="159">
                                            <a:moveTo>
                                              <a:pt x="0" y="159"/>
                                            </a:moveTo>
                                            <a:cubicBezTo>
                                              <a:pt x="15" y="139"/>
                                              <a:pt x="30" y="120"/>
                                              <a:pt x="45" y="103"/>
                                            </a:cubicBezTo>
                                            <a:cubicBezTo>
                                              <a:pt x="60" y="86"/>
                                              <a:pt x="76" y="68"/>
                                              <a:pt x="90" y="54"/>
                                            </a:cubicBezTo>
                                            <a:cubicBezTo>
                                              <a:pt x="104" y="40"/>
                                              <a:pt x="118" y="30"/>
                                              <a:pt x="130" y="22"/>
                                            </a:cubicBezTo>
                                            <a:cubicBezTo>
                                              <a:pt x="142" y="14"/>
                                              <a:pt x="150" y="10"/>
                                              <a:pt x="162" y="7"/>
                                            </a:cubicBezTo>
                                            <a:cubicBezTo>
                                              <a:pt x="174" y="4"/>
                                              <a:pt x="191" y="2"/>
                                              <a:pt x="202" y="1"/>
                                            </a:cubicBezTo>
                                            <a:cubicBezTo>
                                              <a:pt x="213" y="0"/>
                                              <a:pt x="220" y="0"/>
                                              <a:pt x="228" y="1"/>
                                            </a:cubicBezTo>
                                          </a:path>
                                        </a:pathLst>
                                      </a:custGeom>
                                      <a:noFill/>
                                      <a:ln w="6480">
                                        <a:solidFill>
                                          <a:srgbClr val="3333cc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anchor="ctr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5616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413600" y="5788080"/>
                                        <a:ext cx="32760" cy="14400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228" h="159">
                                            <a:moveTo>
                                              <a:pt x="0" y="159"/>
                                            </a:moveTo>
                                            <a:cubicBezTo>
                                              <a:pt x="15" y="139"/>
                                              <a:pt x="30" y="120"/>
                                              <a:pt x="45" y="103"/>
                                            </a:cubicBezTo>
                                            <a:cubicBezTo>
                                              <a:pt x="60" y="86"/>
                                              <a:pt x="76" y="68"/>
                                              <a:pt x="90" y="54"/>
                                            </a:cubicBezTo>
                                            <a:cubicBezTo>
                                              <a:pt x="104" y="40"/>
                                              <a:pt x="118" y="30"/>
                                              <a:pt x="130" y="22"/>
                                            </a:cubicBezTo>
                                            <a:cubicBezTo>
                                              <a:pt x="142" y="14"/>
                                              <a:pt x="150" y="10"/>
                                              <a:pt x="162" y="7"/>
                                            </a:cubicBezTo>
                                            <a:cubicBezTo>
                                              <a:pt x="174" y="4"/>
                                              <a:pt x="191" y="2"/>
                                              <a:pt x="202" y="1"/>
                                            </a:cubicBezTo>
                                            <a:cubicBezTo>
                                              <a:pt x="213" y="0"/>
                                              <a:pt x="220" y="0"/>
                                              <a:pt x="228" y="1"/>
                                            </a:cubicBezTo>
                                          </a:path>
                                        </a:pathLst>
                                      </a:custGeom>
                                      <a:noFill/>
                                      <a:ln w="6480">
                                        <a:solidFill>
                                          <a:srgbClr val="3333cc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anchor="ctr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5617" name=""/>
                                      <p:cNvSpPr/>
                                      <p:nvPr/>
                                    </p:nvSpPr>
                                    <p:spPr>
                                      <a:xfrm flipH="1" flipV="1">
                                        <a:off x="4445280" y="5787720"/>
                                        <a:ext cx="4680" cy="2520"/>
                                      </a:xfrm>
                                      <a:prstGeom prst="line">
                                        <a:avLst/>
                                      </a:prstGeom>
                                      <a:ln w="6480">
                                        <a:solidFill>
                                          <a:srgbClr val="3333cc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4280" bIns="-44280" anchor="ctr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5618" name=""/>
                                    <p:cNvSpPr/>
                                    <p:nvPr/>
                                  </p:nvSpPr>
                                  <p:spPr>
                                    <a:xfrm flipH="1">
                                      <a:off x="4551120" y="4603680"/>
                                      <a:ext cx="69120" cy="13276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480" h="1467">
                                          <a:moveTo>
                                            <a:pt x="0" y="0"/>
                                          </a:moveTo>
                                          <a:cubicBezTo>
                                            <a:pt x="17" y="2"/>
                                            <a:pt x="34" y="4"/>
                                            <a:pt x="51" y="6"/>
                                          </a:cubicBezTo>
                                          <a:cubicBezTo>
                                            <a:pt x="68" y="8"/>
                                            <a:pt x="88" y="10"/>
                                            <a:pt x="102" y="15"/>
                                          </a:cubicBezTo>
                                          <a:cubicBezTo>
                                            <a:pt x="116" y="20"/>
                                            <a:pt x="122" y="23"/>
                                            <a:pt x="135" y="33"/>
                                          </a:cubicBezTo>
                                          <a:cubicBezTo>
                                            <a:pt x="148" y="43"/>
                                            <a:pt x="167" y="56"/>
                                            <a:pt x="180" y="78"/>
                                          </a:cubicBezTo>
                                          <a:cubicBezTo>
                                            <a:pt x="193" y="100"/>
                                            <a:pt x="204" y="120"/>
                                            <a:pt x="216" y="165"/>
                                          </a:cubicBezTo>
                                          <a:cubicBezTo>
                                            <a:pt x="228" y="210"/>
                                            <a:pt x="211" y="131"/>
                                            <a:pt x="255" y="348"/>
                                          </a:cubicBezTo>
                                          <a:cubicBezTo>
                                            <a:pt x="299" y="565"/>
                                            <a:pt x="389" y="1016"/>
                                            <a:pt x="480" y="1467"/>
                                          </a:cubicBezTo>
                                        </a:path>
                                      </a:pathLst>
                                    </a:custGeom>
                                    <a:noFill/>
                                    <a:ln w="6480">
                                      <a:solidFill>
                                        <a:srgbClr val="3333cc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anchor="ctr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619" name=""/>
                                <p:cNvGrpSpPr/>
                                <p:nvPr/>
                              </p:nvGrpSpPr>
                              <p:grpSpPr>
                                <a:xfrm>
                                  <a:off x="2334240" y="4568760"/>
                                  <a:ext cx="4021200" cy="1373040"/>
                                  <a:chOff x="2334240" y="4568760"/>
                                  <a:chExt cx="4021200" cy="1373040"/>
                                </a:xfrm>
                              </p:grpSpPr>
                              <p:grpSp>
                                <p:nvGrpSpPr>
                                  <p:cNvPr id="56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61360" y="4611600"/>
                                    <a:ext cx="414720" cy="1330200"/>
                                    <a:chOff x="5661360" y="4611600"/>
                                    <a:chExt cx="414720" cy="1330200"/>
                                  </a:xfrm>
                                </p:grpSpPr>
                                <p:grpSp>
                                  <p:nvGrpSpPr>
                                    <p:cNvPr id="5621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5869440" y="4611600"/>
                                      <a:ext cx="206640" cy="1330200"/>
                                      <a:chOff x="5869440" y="4611600"/>
                                      <a:chExt cx="206640" cy="1330200"/>
                                    </a:xfrm>
                                  </p:grpSpPr>
                                  <p:grpSp>
                                    <p:nvGrpSpPr>
                                      <p:cNvPr id="5622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5938560" y="5604480"/>
                                        <a:ext cx="69120" cy="337320"/>
                                        <a:chOff x="5938560" y="5604480"/>
                                        <a:chExt cx="69120" cy="337320"/>
                                      </a:xfrm>
                                    </p:grpSpPr>
                                    <p:sp>
                                      <p:nvSpPr>
                                        <p:cNvPr id="5623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5938560" y="5604480"/>
                                          <a:ext cx="33840" cy="337320"/>
                                        </a:xfrm>
                                        <a:custGeom>
                                          <a:avLst/>
                                          <a:gdLst/>
                                          <a:ahLst/>
                                          <a:rect l="l" t="t" r="r" b="b"/>
                                          <a:pathLst>
                                            <a:path w="234" h="373">
                                              <a:moveTo>
                                                <a:pt x="0" y="373"/>
                                              </a:moveTo>
                                              <a:cubicBezTo>
                                                <a:pt x="4" y="357"/>
                                                <a:pt x="8" y="342"/>
                                                <a:pt x="15" y="319"/>
                                              </a:cubicBezTo>
                                              <a:cubicBezTo>
                                                <a:pt x="22" y="296"/>
                                                <a:pt x="34" y="260"/>
                                                <a:pt x="44" y="232"/>
                                              </a:cubicBezTo>
                                              <a:cubicBezTo>
                                                <a:pt x="54" y="204"/>
                                                <a:pt x="64" y="173"/>
                                                <a:pt x="74" y="150"/>
                                              </a:cubicBezTo>
                                              <a:cubicBezTo>
                                                <a:pt x="84" y="127"/>
                                                <a:pt x="91" y="111"/>
                                                <a:pt x="102" y="93"/>
                                              </a:cubicBezTo>
                                              <a:cubicBezTo>
                                                <a:pt x="113" y="75"/>
                                                <a:pt x="127" y="56"/>
                                                <a:pt x="137" y="43"/>
                                              </a:cubicBezTo>
                                              <a:cubicBezTo>
                                                <a:pt x="147" y="30"/>
                                                <a:pt x="155" y="23"/>
                                                <a:pt x="164" y="16"/>
                                              </a:cubicBezTo>
                                              <a:cubicBezTo>
                                                <a:pt x="173" y="9"/>
                                                <a:pt x="182" y="6"/>
                                                <a:pt x="194" y="3"/>
                                              </a:cubicBezTo>
                                              <a:cubicBezTo>
                                                <a:pt x="206" y="0"/>
                                                <a:pt x="226" y="0"/>
                                                <a:pt x="234" y="0"/>
                                              </a:cubicBezTo>
                                            </a:path>
                                          </a:pathLst>
                                        </a:custGeom>
                                        <a:noFill/>
                                        <a:ln w="6480">
                                          <a:solidFill>
                                            <a:srgbClr val="ff0000"/>
                                          </a:solidFill>
                                          <a:round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wrap="none" anchor="ctr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5624" name=""/>
                                        <p:cNvSpPr/>
                                        <p:nvPr/>
                                      </p:nvSpPr>
                                      <p:spPr>
                                        <a:xfrm flipH="1">
                                          <a:off x="5973840" y="5604480"/>
                                          <a:ext cx="33840" cy="337320"/>
                                        </a:xfrm>
                                        <a:custGeom>
                                          <a:avLst/>
                                          <a:gdLst/>
                                          <a:ahLst/>
                                          <a:rect l="l" t="t" r="r" b="b"/>
                                          <a:pathLst>
                                            <a:path w="234" h="373">
                                              <a:moveTo>
                                                <a:pt x="0" y="373"/>
                                              </a:moveTo>
                                              <a:cubicBezTo>
                                                <a:pt x="4" y="357"/>
                                                <a:pt x="8" y="342"/>
                                                <a:pt x="15" y="319"/>
                                              </a:cubicBezTo>
                                              <a:cubicBezTo>
                                                <a:pt x="22" y="296"/>
                                                <a:pt x="34" y="260"/>
                                                <a:pt x="44" y="232"/>
                                              </a:cubicBezTo>
                                              <a:cubicBezTo>
                                                <a:pt x="54" y="204"/>
                                                <a:pt x="64" y="173"/>
                                                <a:pt x="74" y="150"/>
                                              </a:cubicBezTo>
                                              <a:cubicBezTo>
                                                <a:pt x="84" y="127"/>
                                                <a:pt x="91" y="111"/>
                                                <a:pt x="102" y="93"/>
                                              </a:cubicBezTo>
                                              <a:cubicBezTo>
                                                <a:pt x="113" y="75"/>
                                                <a:pt x="127" y="56"/>
                                                <a:pt x="137" y="43"/>
                                              </a:cubicBezTo>
                                              <a:cubicBezTo>
                                                <a:pt x="147" y="30"/>
                                                <a:pt x="155" y="23"/>
                                                <a:pt x="164" y="16"/>
                                              </a:cubicBezTo>
                                              <a:cubicBezTo>
                                                <a:pt x="173" y="9"/>
                                                <a:pt x="182" y="6"/>
                                                <a:pt x="194" y="3"/>
                                              </a:cubicBezTo>
                                              <a:cubicBezTo>
                                                <a:pt x="206" y="0"/>
                                                <a:pt x="226" y="0"/>
                                                <a:pt x="234" y="0"/>
                                              </a:cubicBezTo>
                                            </a:path>
                                          </a:pathLst>
                                        </a:custGeom>
                                        <a:noFill/>
                                        <a:ln w="6480">
                                          <a:solidFill>
                                            <a:srgbClr val="ff0000"/>
                                          </a:solidFill>
                                          <a:round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wrap="none" anchor="ctr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5625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5971320" y="5604480"/>
                                          <a:ext cx="324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6480">
                                          <a:solidFill>
                                            <a:srgbClr val="ff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ctr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grpSp>
                                    <p:nvGrpSpPr>
                                      <p:cNvPr id="5626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6008040" y="5795640"/>
                                        <a:ext cx="68040" cy="144720"/>
                                        <a:chOff x="6008040" y="5795640"/>
                                        <a:chExt cx="68040" cy="144720"/>
                                      </a:xfrm>
                                    </p:grpSpPr>
                                    <p:sp>
                                      <p:nvSpPr>
                                        <p:cNvPr id="5627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008040" y="5796720"/>
                                          <a:ext cx="32760" cy="143640"/>
                                        </a:xfrm>
                                        <a:custGeom>
                                          <a:avLst/>
                                          <a:gdLst/>
                                          <a:ahLst/>
                                          <a:rect l="l" t="t" r="r" b="b"/>
                                          <a:pathLst>
                                            <a:path w="228" h="159">
                                              <a:moveTo>
                                                <a:pt x="0" y="159"/>
                                              </a:moveTo>
                                              <a:cubicBezTo>
                                                <a:pt x="15" y="139"/>
                                                <a:pt x="30" y="120"/>
                                                <a:pt x="45" y="103"/>
                                              </a:cubicBezTo>
                                              <a:cubicBezTo>
                                                <a:pt x="60" y="86"/>
                                                <a:pt x="76" y="68"/>
                                                <a:pt x="90" y="54"/>
                                              </a:cubicBezTo>
                                              <a:cubicBezTo>
                                                <a:pt x="104" y="40"/>
                                                <a:pt x="118" y="30"/>
                                                <a:pt x="130" y="22"/>
                                              </a:cubicBezTo>
                                              <a:cubicBezTo>
                                                <a:pt x="142" y="14"/>
                                                <a:pt x="150" y="10"/>
                                                <a:pt x="162" y="7"/>
                                              </a:cubicBezTo>
                                              <a:cubicBezTo>
                                                <a:pt x="174" y="4"/>
                                                <a:pt x="191" y="2"/>
                                                <a:pt x="202" y="1"/>
                                              </a:cubicBezTo>
                                              <a:cubicBezTo>
                                                <a:pt x="213" y="0"/>
                                                <a:pt x="220" y="0"/>
                                                <a:pt x="228" y="1"/>
                                              </a:cubicBezTo>
                                            </a:path>
                                          </a:pathLst>
                                        </a:custGeom>
                                        <a:noFill/>
                                        <a:ln w="6480">
                                          <a:solidFill>
                                            <a:srgbClr val="ff0000"/>
                                          </a:solidFill>
                                          <a:round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wrap="none" anchor="ctr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5628" name=""/>
                                        <p:cNvSpPr/>
                                        <p:nvPr/>
                                      </p:nvSpPr>
                                      <p:spPr>
                                        <a:xfrm flipH="1">
                                          <a:off x="6042960" y="5796000"/>
                                          <a:ext cx="32760" cy="144000"/>
                                        </a:xfrm>
                                        <a:custGeom>
                                          <a:avLst/>
                                          <a:gdLst/>
                                          <a:ahLst/>
                                          <a:rect l="l" t="t" r="r" b="b"/>
                                          <a:pathLst>
                                            <a:path w="228" h="159">
                                              <a:moveTo>
                                                <a:pt x="0" y="159"/>
                                              </a:moveTo>
                                              <a:cubicBezTo>
                                                <a:pt x="15" y="139"/>
                                                <a:pt x="30" y="120"/>
                                                <a:pt x="45" y="103"/>
                                              </a:cubicBezTo>
                                              <a:cubicBezTo>
                                                <a:pt x="60" y="86"/>
                                                <a:pt x="76" y="68"/>
                                                <a:pt x="90" y="54"/>
                                              </a:cubicBezTo>
                                              <a:cubicBezTo>
                                                <a:pt x="104" y="40"/>
                                                <a:pt x="118" y="30"/>
                                                <a:pt x="130" y="22"/>
                                              </a:cubicBezTo>
                                              <a:cubicBezTo>
                                                <a:pt x="142" y="14"/>
                                                <a:pt x="150" y="10"/>
                                                <a:pt x="162" y="7"/>
                                              </a:cubicBezTo>
                                              <a:cubicBezTo>
                                                <a:pt x="174" y="4"/>
                                                <a:pt x="191" y="2"/>
                                                <a:pt x="202" y="1"/>
                                              </a:cubicBezTo>
                                              <a:cubicBezTo>
                                                <a:pt x="213" y="0"/>
                                                <a:pt x="220" y="0"/>
                                                <a:pt x="228" y="1"/>
                                              </a:cubicBezTo>
                                            </a:path>
                                          </a:pathLst>
                                        </a:custGeom>
                                        <a:noFill/>
                                        <a:ln w="6480">
                                          <a:solidFill>
                                            <a:srgbClr val="ff0000"/>
                                          </a:solidFill>
                                          <a:round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wrap="none" anchor="ctr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5629" name=""/>
                                        <p:cNvSpPr/>
                                        <p:nvPr/>
                                      </p:nvSpPr>
                                      <p:spPr>
                                        <a:xfrm flipV="1">
                                          <a:off x="6039720" y="5795640"/>
                                          <a:ext cx="4680" cy="2520"/>
                                        </a:xfrm>
                                        <a:prstGeom prst="line">
                                          <a:avLst/>
                                        </a:prstGeom>
                                        <a:ln w="6480">
                                          <a:solidFill>
                                            <a:srgbClr val="ff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4280" bIns="-44280" anchor="ctr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5630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5869440" y="4611600"/>
                                        <a:ext cx="69120" cy="132768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480" h="1467">
                                            <a:moveTo>
                                              <a:pt x="0" y="0"/>
                                            </a:moveTo>
                                            <a:cubicBezTo>
                                              <a:pt x="17" y="2"/>
                                              <a:pt x="34" y="4"/>
                                              <a:pt x="51" y="6"/>
                                            </a:cubicBezTo>
                                            <a:cubicBezTo>
                                              <a:pt x="68" y="8"/>
                                              <a:pt x="88" y="10"/>
                                              <a:pt x="102" y="15"/>
                                            </a:cubicBezTo>
                                            <a:cubicBezTo>
                                              <a:pt x="116" y="20"/>
                                              <a:pt x="122" y="23"/>
                                              <a:pt x="135" y="33"/>
                                            </a:cubicBezTo>
                                            <a:cubicBezTo>
                                              <a:pt x="148" y="43"/>
                                              <a:pt x="167" y="56"/>
                                              <a:pt x="180" y="78"/>
                                            </a:cubicBezTo>
                                            <a:cubicBezTo>
                                              <a:pt x="193" y="100"/>
                                              <a:pt x="204" y="120"/>
                                              <a:pt x="216" y="165"/>
                                            </a:cubicBezTo>
                                            <a:cubicBezTo>
                                              <a:pt x="228" y="210"/>
                                              <a:pt x="211" y="131"/>
                                              <a:pt x="255" y="348"/>
                                            </a:cubicBezTo>
                                            <a:cubicBezTo>
                                              <a:pt x="299" y="565"/>
                                              <a:pt x="389" y="1016"/>
                                              <a:pt x="480" y="1467"/>
                                            </a:cubicBezTo>
                                          </a:path>
                                        </a:pathLst>
                                      </a:custGeom>
                                      <a:noFill/>
                                      <a:ln w="6480">
                                        <a:solidFill>
                                          <a:srgbClr val="ff000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anchor="ctr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grpSp>
                                  <p:nvGrpSpPr>
                                    <p:cNvPr id="5631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5661360" y="4611600"/>
                                      <a:ext cx="206640" cy="1330200"/>
                                      <a:chOff x="5661360" y="4611600"/>
                                      <a:chExt cx="206640" cy="1330200"/>
                                    </a:xfrm>
                                  </p:grpSpPr>
                                  <p:grpSp>
                                    <p:nvGrpSpPr>
                                      <p:cNvPr id="5632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5729760" y="5604480"/>
                                        <a:ext cx="69120" cy="337320"/>
                                        <a:chOff x="5729760" y="5604480"/>
                                        <a:chExt cx="69120" cy="337320"/>
                                      </a:xfrm>
                                    </p:grpSpPr>
                                    <p:sp>
                                      <p:nvSpPr>
                                        <p:cNvPr id="5633" name=""/>
                                        <p:cNvSpPr/>
                                        <p:nvPr/>
                                      </p:nvSpPr>
                                      <p:spPr>
                                        <a:xfrm flipH="1">
                                          <a:off x="5765040" y="5604480"/>
                                          <a:ext cx="33840" cy="337320"/>
                                        </a:xfrm>
                                        <a:custGeom>
                                          <a:avLst/>
                                          <a:gdLst/>
                                          <a:ahLst/>
                                          <a:rect l="l" t="t" r="r" b="b"/>
                                          <a:pathLst>
                                            <a:path w="234" h="373">
                                              <a:moveTo>
                                                <a:pt x="0" y="373"/>
                                              </a:moveTo>
                                              <a:cubicBezTo>
                                                <a:pt x="4" y="357"/>
                                                <a:pt x="8" y="342"/>
                                                <a:pt x="15" y="319"/>
                                              </a:cubicBezTo>
                                              <a:cubicBezTo>
                                                <a:pt x="22" y="296"/>
                                                <a:pt x="34" y="260"/>
                                                <a:pt x="44" y="232"/>
                                              </a:cubicBezTo>
                                              <a:cubicBezTo>
                                                <a:pt x="54" y="204"/>
                                                <a:pt x="64" y="173"/>
                                                <a:pt x="74" y="150"/>
                                              </a:cubicBezTo>
                                              <a:cubicBezTo>
                                                <a:pt x="84" y="127"/>
                                                <a:pt x="91" y="111"/>
                                                <a:pt x="102" y="93"/>
                                              </a:cubicBezTo>
                                              <a:cubicBezTo>
                                                <a:pt x="113" y="75"/>
                                                <a:pt x="127" y="56"/>
                                                <a:pt x="137" y="43"/>
                                              </a:cubicBezTo>
                                              <a:cubicBezTo>
                                                <a:pt x="147" y="30"/>
                                                <a:pt x="155" y="23"/>
                                                <a:pt x="164" y="16"/>
                                              </a:cubicBezTo>
                                              <a:cubicBezTo>
                                                <a:pt x="173" y="9"/>
                                                <a:pt x="182" y="6"/>
                                                <a:pt x="194" y="3"/>
                                              </a:cubicBezTo>
                                              <a:cubicBezTo>
                                                <a:pt x="206" y="0"/>
                                                <a:pt x="226" y="0"/>
                                                <a:pt x="234" y="0"/>
                                              </a:cubicBezTo>
                                            </a:path>
                                          </a:pathLst>
                                        </a:custGeom>
                                        <a:noFill/>
                                        <a:ln w="6480">
                                          <a:solidFill>
                                            <a:srgbClr val="ff0000"/>
                                          </a:solidFill>
                                          <a:round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wrap="none" anchor="ctr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5634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5729760" y="5604480"/>
                                          <a:ext cx="33840" cy="337320"/>
                                        </a:xfrm>
                                        <a:custGeom>
                                          <a:avLst/>
                                          <a:gdLst/>
                                          <a:ahLst/>
                                          <a:rect l="l" t="t" r="r" b="b"/>
                                          <a:pathLst>
                                            <a:path w="234" h="373">
                                              <a:moveTo>
                                                <a:pt x="0" y="373"/>
                                              </a:moveTo>
                                              <a:cubicBezTo>
                                                <a:pt x="4" y="357"/>
                                                <a:pt x="8" y="342"/>
                                                <a:pt x="15" y="319"/>
                                              </a:cubicBezTo>
                                              <a:cubicBezTo>
                                                <a:pt x="22" y="296"/>
                                                <a:pt x="34" y="260"/>
                                                <a:pt x="44" y="232"/>
                                              </a:cubicBezTo>
                                              <a:cubicBezTo>
                                                <a:pt x="54" y="204"/>
                                                <a:pt x="64" y="173"/>
                                                <a:pt x="74" y="150"/>
                                              </a:cubicBezTo>
                                              <a:cubicBezTo>
                                                <a:pt x="84" y="127"/>
                                                <a:pt x="91" y="111"/>
                                                <a:pt x="102" y="93"/>
                                              </a:cubicBezTo>
                                              <a:cubicBezTo>
                                                <a:pt x="113" y="75"/>
                                                <a:pt x="127" y="56"/>
                                                <a:pt x="137" y="43"/>
                                              </a:cubicBezTo>
                                              <a:cubicBezTo>
                                                <a:pt x="147" y="30"/>
                                                <a:pt x="155" y="23"/>
                                                <a:pt x="164" y="16"/>
                                              </a:cubicBezTo>
                                              <a:cubicBezTo>
                                                <a:pt x="173" y="9"/>
                                                <a:pt x="182" y="6"/>
                                                <a:pt x="194" y="3"/>
                                              </a:cubicBezTo>
                                              <a:cubicBezTo>
                                                <a:pt x="206" y="0"/>
                                                <a:pt x="226" y="0"/>
                                                <a:pt x="234" y="0"/>
                                              </a:cubicBezTo>
                                            </a:path>
                                          </a:pathLst>
                                        </a:custGeom>
                                        <a:noFill/>
                                        <a:ln w="6480">
                                          <a:solidFill>
                                            <a:srgbClr val="ff0000"/>
                                          </a:solidFill>
                                          <a:round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wrap="none" anchor="ctr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5635" name=""/>
                                        <p:cNvSpPr/>
                                        <p:nvPr/>
                                      </p:nvSpPr>
                                      <p:spPr>
                                        <a:xfrm flipH="1">
                                          <a:off x="5762880" y="5604480"/>
                                          <a:ext cx="324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6480">
                                          <a:solidFill>
                                            <a:srgbClr val="ff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ctr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grpSp>
                                    <p:nvGrpSpPr>
                                      <p:cNvPr id="5636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5661360" y="5795640"/>
                                        <a:ext cx="68040" cy="144720"/>
                                        <a:chOff x="5661360" y="5795640"/>
                                        <a:chExt cx="68040" cy="144720"/>
                                      </a:xfrm>
                                    </p:grpSpPr>
                                    <p:sp>
                                      <p:nvSpPr>
                                        <p:cNvPr id="5637" name=""/>
                                        <p:cNvSpPr/>
                                        <p:nvPr/>
                                      </p:nvSpPr>
                                      <p:spPr>
                                        <a:xfrm flipH="1">
                                          <a:off x="5696280" y="5796720"/>
                                          <a:ext cx="32760" cy="143640"/>
                                        </a:xfrm>
                                        <a:custGeom>
                                          <a:avLst/>
                                          <a:gdLst/>
                                          <a:ahLst/>
                                          <a:rect l="l" t="t" r="r" b="b"/>
                                          <a:pathLst>
                                            <a:path w="228" h="159">
                                              <a:moveTo>
                                                <a:pt x="0" y="159"/>
                                              </a:moveTo>
                                              <a:cubicBezTo>
                                                <a:pt x="15" y="139"/>
                                                <a:pt x="30" y="120"/>
                                                <a:pt x="45" y="103"/>
                                              </a:cubicBezTo>
                                              <a:cubicBezTo>
                                                <a:pt x="60" y="86"/>
                                                <a:pt x="76" y="68"/>
                                                <a:pt x="90" y="54"/>
                                              </a:cubicBezTo>
                                              <a:cubicBezTo>
                                                <a:pt x="104" y="40"/>
                                                <a:pt x="118" y="30"/>
                                                <a:pt x="130" y="22"/>
                                              </a:cubicBezTo>
                                              <a:cubicBezTo>
                                                <a:pt x="142" y="14"/>
                                                <a:pt x="150" y="10"/>
                                                <a:pt x="162" y="7"/>
                                              </a:cubicBezTo>
                                              <a:cubicBezTo>
                                                <a:pt x="174" y="4"/>
                                                <a:pt x="191" y="2"/>
                                                <a:pt x="202" y="1"/>
                                              </a:cubicBezTo>
                                              <a:cubicBezTo>
                                                <a:pt x="213" y="0"/>
                                                <a:pt x="220" y="0"/>
                                                <a:pt x="228" y="1"/>
                                              </a:cubicBezTo>
                                            </a:path>
                                          </a:pathLst>
                                        </a:custGeom>
                                        <a:noFill/>
                                        <a:ln w="6480">
                                          <a:solidFill>
                                            <a:srgbClr val="ff0000"/>
                                          </a:solidFill>
                                          <a:round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wrap="none" anchor="ctr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5638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5661360" y="5796000"/>
                                          <a:ext cx="32760" cy="144000"/>
                                        </a:xfrm>
                                        <a:custGeom>
                                          <a:avLst/>
                                          <a:gdLst/>
                                          <a:ahLst/>
                                          <a:rect l="l" t="t" r="r" b="b"/>
                                          <a:pathLst>
                                            <a:path w="228" h="159">
                                              <a:moveTo>
                                                <a:pt x="0" y="159"/>
                                              </a:moveTo>
                                              <a:cubicBezTo>
                                                <a:pt x="15" y="139"/>
                                                <a:pt x="30" y="120"/>
                                                <a:pt x="45" y="103"/>
                                              </a:cubicBezTo>
                                              <a:cubicBezTo>
                                                <a:pt x="60" y="86"/>
                                                <a:pt x="76" y="68"/>
                                                <a:pt x="90" y="54"/>
                                              </a:cubicBezTo>
                                              <a:cubicBezTo>
                                                <a:pt x="104" y="40"/>
                                                <a:pt x="118" y="30"/>
                                                <a:pt x="130" y="22"/>
                                              </a:cubicBezTo>
                                              <a:cubicBezTo>
                                                <a:pt x="142" y="14"/>
                                                <a:pt x="150" y="10"/>
                                                <a:pt x="162" y="7"/>
                                              </a:cubicBezTo>
                                              <a:cubicBezTo>
                                                <a:pt x="174" y="4"/>
                                                <a:pt x="191" y="2"/>
                                                <a:pt x="202" y="1"/>
                                              </a:cubicBezTo>
                                              <a:cubicBezTo>
                                                <a:pt x="213" y="0"/>
                                                <a:pt x="220" y="0"/>
                                                <a:pt x="228" y="1"/>
                                              </a:cubicBezTo>
                                            </a:path>
                                          </a:pathLst>
                                        </a:custGeom>
                                        <a:noFill/>
                                        <a:ln w="6480">
                                          <a:solidFill>
                                            <a:srgbClr val="ff0000"/>
                                          </a:solidFill>
                                          <a:round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wrap="none" anchor="ctr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5639" name=""/>
                                        <p:cNvSpPr/>
                                        <p:nvPr/>
                                      </p:nvSpPr>
                                      <p:spPr>
                                        <a:xfrm flipH="1" flipV="1">
                                          <a:off x="5693040" y="5795640"/>
                                          <a:ext cx="4680" cy="2520"/>
                                        </a:xfrm>
                                        <a:prstGeom prst="line">
                                          <a:avLst/>
                                        </a:prstGeom>
                                        <a:ln w="6480">
                                          <a:solidFill>
                                            <a:srgbClr val="ff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4280" bIns="-44280" anchor="ctr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5640" name="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5798880" y="4611600"/>
                                        <a:ext cx="69120" cy="132768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480" h="1467">
                                            <a:moveTo>
                                              <a:pt x="0" y="0"/>
                                            </a:moveTo>
                                            <a:cubicBezTo>
                                              <a:pt x="17" y="2"/>
                                              <a:pt x="34" y="4"/>
                                              <a:pt x="51" y="6"/>
                                            </a:cubicBezTo>
                                            <a:cubicBezTo>
                                              <a:pt x="68" y="8"/>
                                              <a:pt x="88" y="10"/>
                                              <a:pt x="102" y="15"/>
                                            </a:cubicBezTo>
                                            <a:cubicBezTo>
                                              <a:pt x="116" y="20"/>
                                              <a:pt x="122" y="23"/>
                                              <a:pt x="135" y="33"/>
                                            </a:cubicBezTo>
                                            <a:cubicBezTo>
                                              <a:pt x="148" y="43"/>
                                              <a:pt x="167" y="56"/>
                                              <a:pt x="180" y="78"/>
                                            </a:cubicBezTo>
                                            <a:cubicBezTo>
                                              <a:pt x="193" y="100"/>
                                              <a:pt x="204" y="120"/>
                                              <a:pt x="216" y="165"/>
                                            </a:cubicBezTo>
                                            <a:cubicBezTo>
                                              <a:pt x="228" y="210"/>
                                              <a:pt x="211" y="131"/>
                                              <a:pt x="255" y="348"/>
                                            </a:cubicBezTo>
                                            <a:cubicBezTo>
                                              <a:pt x="299" y="565"/>
                                              <a:pt x="389" y="1016"/>
                                              <a:pt x="480" y="1467"/>
                                            </a:cubicBezTo>
                                          </a:path>
                                        </a:pathLst>
                                      </a:custGeom>
                                      <a:noFill/>
                                      <a:ln w="6480">
                                        <a:solidFill>
                                          <a:srgbClr val="ff000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anchor="ctr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  <p:grpSp>
                                <p:nvGrpSpPr>
                                  <p:cNvPr id="564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334240" y="4568760"/>
                                    <a:ext cx="4021200" cy="1373040"/>
                                    <a:chOff x="2334240" y="4568760"/>
                                    <a:chExt cx="4021200" cy="1373040"/>
                                  </a:xfrm>
                                </p:grpSpPr>
                                <p:grpSp>
                                  <p:nvGrpSpPr>
                                    <p:cNvPr id="5642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540520" y="4598640"/>
                                      <a:ext cx="414360" cy="1330200"/>
                                      <a:chOff x="2540520" y="4598640"/>
                                      <a:chExt cx="414360" cy="1330200"/>
                                    </a:xfrm>
                                  </p:grpSpPr>
                                  <p:grpSp>
                                    <p:nvGrpSpPr>
                                      <p:cNvPr id="5643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2748240" y="4598640"/>
                                        <a:ext cx="206640" cy="1330200"/>
                                        <a:chOff x="2748240" y="4598640"/>
                                        <a:chExt cx="206640" cy="1330200"/>
                                      </a:xfrm>
                                    </p:grpSpPr>
                                    <p:grpSp>
                                      <p:nvGrpSpPr>
                                        <p:cNvPr id="5644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2817360" y="5591520"/>
                                          <a:ext cx="69120" cy="337320"/>
                                          <a:chOff x="2817360" y="5591520"/>
                                          <a:chExt cx="69120" cy="337320"/>
                                        </a:xfrm>
                                      </p:grpSpPr>
                                      <p:sp>
                                        <p:nvSpPr>
                                          <p:cNvPr id="5645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817360" y="5591520"/>
                                            <a:ext cx="33840" cy="337320"/>
                                          </a:xfrm>
                                          <a:custGeom>
                                            <a:avLst/>
                                            <a:gdLst/>
                                            <a:ahLst/>
                                            <a:rect l="l" t="t" r="r" b="b"/>
                                            <a:pathLst>
                                              <a:path w="234" h="373">
                                                <a:moveTo>
                                                  <a:pt x="0" y="373"/>
                                                </a:moveTo>
                                                <a:cubicBezTo>
                                                  <a:pt x="4" y="357"/>
                                                  <a:pt x="8" y="342"/>
                                                  <a:pt x="15" y="319"/>
                                                </a:cubicBezTo>
                                                <a:cubicBezTo>
                                                  <a:pt x="22" y="296"/>
                                                  <a:pt x="34" y="260"/>
                                                  <a:pt x="44" y="232"/>
                                                </a:cubicBezTo>
                                                <a:cubicBezTo>
                                                  <a:pt x="54" y="204"/>
                                                  <a:pt x="64" y="173"/>
                                                  <a:pt x="74" y="150"/>
                                                </a:cubicBezTo>
                                                <a:cubicBezTo>
                                                  <a:pt x="84" y="127"/>
                                                  <a:pt x="91" y="111"/>
                                                  <a:pt x="102" y="93"/>
                                                </a:cubicBezTo>
                                                <a:cubicBezTo>
                                                  <a:pt x="113" y="75"/>
                                                  <a:pt x="127" y="56"/>
                                                  <a:pt x="137" y="43"/>
                                                </a:cubicBezTo>
                                                <a:cubicBezTo>
                                                  <a:pt x="147" y="30"/>
                                                  <a:pt x="155" y="23"/>
                                                  <a:pt x="164" y="16"/>
                                                </a:cubicBezTo>
                                                <a:cubicBezTo>
                                                  <a:pt x="173" y="9"/>
                                                  <a:pt x="182" y="6"/>
                                                  <a:pt x="194" y="3"/>
                                                </a:cubicBezTo>
                                                <a:cubicBezTo>
                                                  <a:pt x="206" y="0"/>
                                                  <a:pt x="226" y="0"/>
                                                  <a:pt x="234" y="0"/>
                                                </a:cubicBezTo>
                                              </a:path>
                                            </a:pathLst>
                                          </a:custGeom>
                                          <a:noFill/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round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wrap="none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5646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2852640" y="5591520"/>
                                            <a:ext cx="33840" cy="337320"/>
                                          </a:xfrm>
                                          <a:custGeom>
                                            <a:avLst/>
                                            <a:gdLst/>
                                            <a:ahLst/>
                                            <a:rect l="l" t="t" r="r" b="b"/>
                                            <a:pathLst>
                                              <a:path w="234" h="373">
                                                <a:moveTo>
                                                  <a:pt x="0" y="373"/>
                                                </a:moveTo>
                                                <a:cubicBezTo>
                                                  <a:pt x="4" y="357"/>
                                                  <a:pt x="8" y="342"/>
                                                  <a:pt x="15" y="319"/>
                                                </a:cubicBezTo>
                                                <a:cubicBezTo>
                                                  <a:pt x="22" y="296"/>
                                                  <a:pt x="34" y="260"/>
                                                  <a:pt x="44" y="232"/>
                                                </a:cubicBezTo>
                                                <a:cubicBezTo>
                                                  <a:pt x="54" y="204"/>
                                                  <a:pt x="64" y="173"/>
                                                  <a:pt x="74" y="150"/>
                                                </a:cubicBezTo>
                                                <a:cubicBezTo>
                                                  <a:pt x="84" y="127"/>
                                                  <a:pt x="91" y="111"/>
                                                  <a:pt x="102" y="93"/>
                                                </a:cubicBezTo>
                                                <a:cubicBezTo>
                                                  <a:pt x="113" y="75"/>
                                                  <a:pt x="127" y="56"/>
                                                  <a:pt x="137" y="43"/>
                                                </a:cubicBezTo>
                                                <a:cubicBezTo>
                                                  <a:pt x="147" y="30"/>
                                                  <a:pt x="155" y="23"/>
                                                  <a:pt x="164" y="16"/>
                                                </a:cubicBezTo>
                                                <a:cubicBezTo>
                                                  <a:pt x="173" y="9"/>
                                                  <a:pt x="182" y="6"/>
                                                  <a:pt x="194" y="3"/>
                                                </a:cubicBezTo>
                                                <a:cubicBezTo>
                                                  <a:pt x="206" y="0"/>
                                                  <a:pt x="226" y="0"/>
                                                  <a:pt x="234" y="0"/>
                                                </a:cubicBezTo>
                                              </a:path>
                                            </a:pathLst>
                                          </a:custGeom>
                                          <a:noFill/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round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wrap="none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5647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850120" y="5591520"/>
                                            <a:ext cx="324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grpSp>
                                      <p:nvGrpSpPr>
                                        <p:cNvPr id="5648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2886840" y="5783040"/>
                                          <a:ext cx="68040" cy="144720"/>
                                          <a:chOff x="2886840" y="5783040"/>
                                          <a:chExt cx="68040" cy="144720"/>
                                        </a:xfrm>
                                      </p:grpSpPr>
                                      <p:sp>
                                        <p:nvSpPr>
                                          <p:cNvPr id="5649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886840" y="5784120"/>
                                            <a:ext cx="32760" cy="143640"/>
                                          </a:xfrm>
                                          <a:custGeom>
                                            <a:avLst/>
                                            <a:gdLst/>
                                            <a:ahLst/>
                                            <a:rect l="l" t="t" r="r" b="b"/>
                                            <a:pathLst>
                                              <a:path w="228" h="159">
                                                <a:moveTo>
                                                  <a:pt x="0" y="159"/>
                                                </a:moveTo>
                                                <a:cubicBezTo>
                                                  <a:pt x="15" y="139"/>
                                                  <a:pt x="30" y="120"/>
                                                  <a:pt x="45" y="103"/>
                                                </a:cubicBezTo>
                                                <a:cubicBezTo>
                                                  <a:pt x="60" y="86"/>
                                                  <a:pt x="76" y="68"/>
                                                  <a:pt x="90" y="54"/>
                                                </a:cubicBezTo>
                                                <a:cubicBezTo>
                                                  <a:pt x="104" y="40"/>
                                                  <a:pt x="118" y="30"/>
                                                  <a:pt x="130" y="22"/>
                                                </a:cubicBezTo>
                                                <a:cubicBezTo>
                                                  <a:pt x="142" y="14"/>
                                                  <a:pt x="150" y="10"/>
                                                  <a:pt x="162" y="7"/>
                                                </a:cubicBezTo>
                                                <a:cubicBezTo>
                                                  <a:pt x="174" y="4"/>
                                                  <a:pt x="191" y="2"/>
                                                  <a:pt x="202" y="1"/>
                                                </a:cubicBezTo>
                                                <a:cubicBezTo>
                                                  <a:pt x="213" y="0"/>
                                                  <a:pt x="220" y="0"/>
                                                  <a:pt x="228" y="1"/>
                                                </a:cubicBezTo>
                                              </a:path>
                                            </a:pathLst>
                                          </a:custGeom>
                                          <a:noFill/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round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wrap="none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5650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2921760" y="5783400"/>
                                            <a:ext cx="32760" cy="144000"/>
                                          </a:xfrm>
                                          <a:custGeom>
                                            <a:avLst/>
                                            <a:gdLst/>
                                            <a:ahLst/>
                                            <a:rect l="l" t="t" r="r" b="b"/>
                                            <a:pathLst>
                                              <a:path w="228" h="159">
                                                <a:moveTo>
                                                  <a:pt x="0" y="159"/>
                                                </a:moveTo>
                                                <a:cubicBezTo>
                                                  <a:pt x="15" y="139"/>
                                                  <a:pt x="30" y="120"/>
                                                  <a:pt x="45" y="103"/>
                                                </a:cubicBezTo>
                                                <a:cubicBezTo>
                                                  <a:pt x="60" y="86"/>
                                                  <a:pt x="76" y="68"/>
                                                  <a:pt x="90" y="54"/>
                                                </a:cubicBezTo>
                                                <a:cubicBezTo>
                                                  <a:pt x="104" y="40"/>
                                                  <a:pt x="118" y="30"/>
                                                  <a:pt x="130" y="22"/>
                                                </a:cubicBezTo>
                                                <a:cubicBezTo>
                                                  <a:pt x="142" y="14"/>
                                                  <a:pt x="150" y="10"/>
                                                  <a:pt x="162" y="7"/>
                                                </a:cubicBezTo>
                                                <a:cubicBezTo>
                                                  <a:pt x="174" y="4"/>
                                                  <a:pt x="191" y="2"/>
                                                  <a:pt x="202" y="1"/>
                                                </a:cubicBezTo>
                                                <a:cubicBezTo>
                                                  <a:pt x="213" y="0"/>
                                                  <a:pt x="220" y="0"/>
                                                  <a:pt x="228" y="1"/>
                                                </a:cubicBezTo>
                                              </a:path>
                                            </a:pathLst>
                                          </a:custGeom>
                                          <a:noFill/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round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wrap="none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5651" name=""/>
                                          <p:cNvSpPr/>
                                          <p:nvPr/>
                                        </p:nvSpPr>
                                        <p:spPr>
                                          <a:xfrm flipV="1">
                                            <a:off x="2918520" y="5783040"/>
                                            <a:ext cx="4680" cy="252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4280" bIns="-44280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sp>
                                      <p:nvSpPr>
                                        <p:cNvPr id="5652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748240" y="4598640"/>
                                          <a:ext cx="69120" cy="1328040"/>
                                        </a:xfrm>
                                        <a:custGeom>
                                          <a:avLst/>
                                          <a:gdLst/>
                                          <a:ahLst/>
                                          <a:rect l="l" t="t" r="r" b="b"/>
                                          <a:pathLst>
                                            <a:path w="480" h="1467">
                                              <a:moveTo>
                                                <a:pt x="0" y="0"/>
                                              </a:moveTo>
                                              <a:cubicBezTo>
                                                <a:pt x="17" y="2"/>
                                                <a:pt x="34" y="4"/>
                                                <a:pt x="51" y="6"/>
                                              </a:cubicBezTo>
                                              <a:cubicBezTo>
                                                <a:pt x="68" y="8"/>
                                                <a:pt x="88" y="10"/>
                                                <a:pt x="102" y="15"/>
                                              </a:cubicBezTo>
                                              <a:cubicBezTo>
                                                <a:pt x="116" y="20"/>
                                                <a:pt x="122" y="23"/>
                                                <a:pt x="135" y="33"/>
                                              </a:cubicBezTo>
                                              <a:cubicBezTo>
                                                <a:pt x="148" y="43"/>
                                                <a:pt x="167" y="56"/>
                                                <a:pt x="180" y="78"/>
                                              </a:cubicBezTo>
                                              <a:cubicBezTo>
                                                <a:pt x="193" y="100"/>
                                                <a:pt x="204" y="120"/>
                                                <a:pt x="216" y="165"/>
                                              </a:cubicBezTo>
                                              <a:cubicBezTo>
                                                <a:pt x="228" y="210"/>
                                                <a:pt x="211" y="131"/>
                                                <a:pt x="255" y="348"/>
                                              </a:cubicBezTo>
                                              <a:cubicBezTo>
                                                <a:pt x="299" y="565"/>
                                                <a:pt x="389" y="1016"/>
                                                <a:pt x="480" y="1467"/>
                                              </a:cubicBezTo>
                                            </a:path>
                                          </a:pathLst>
                                        </a:custGeom>
                                        <a:noFill/>
                                        <a:ln w="6480">
                                          <a:solidFill>
                                            <a:srgbClr val="3333cc"/>
                                          </a:solidFill>
                                          <a:round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wrap="none" anchor="ctr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grpSp>
                                    <p:nvGrpSpPr>
                                      <p:cNvPr id="5653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2540520" y="4598640"/>
                                        <a:ext cx="206640" cy="1330200"/>
                                        <a:chOff x="2540520" y="4598640"/>
                                        <a:chExt cx="206640" cy="1330200"/>
                                      </a:xfrm>
                                    </p:grpSpPr>
                                    <p:grpSp>
                                      <p:nvGrpSpPr>
                                        <p:cNvPr id="5654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2608920" y="5591520"/>
                                          <a:ext cx="69120" cy="337320"/>
                                          <a:chOff x="2608920" y="5591520"/>
                                          <a:chExt cx="69120" cy="337320"/>
                                        </a:xfrm>
                                      </p:grpSpPr>
                                      <p:sp>
                                        <p:nvSpPr>
                                          <p:cNvPr id="5655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2644200" y="5591520"/>
                                            <a:ext cx="33840" cy="337320"/>
                                          </a:xfrm>
                                          <a:custGeom>
                                            <a:avLst/>
                                            <a:gdLst/>
                                            <a:ahLst/>
                                            <a:rect l="l" t="t" r="r" b="b"/>
                                            <a:pathLst>
                                              <a:path w="234" h="373">
                                                <a:moveTo>
                                                  <a:pt x="0" y="373"/>
                                                </a:moveTo>
                                                <a:cubicBezTo>
                                                  <a:pt x="4" y="357"/>
                                                  <a:pt x="8" y="342"/>
                                                  <a:pt x="15" y="319"/>
                                                </a:cubicBezTo>
                                                <a:cubicBezTo>
                                                  <a:pt x="22" y="296"/>
                                                  <a:pt x="34" y="260"/>
                                                  <a:pt x="44" y="232"/>
                                                </a:cubicBezTo>
                                                <a:cubicBezTo>
                                                  <a:pt x="54" y="204"/>
                                                  <a:pt x="64" y="173"/>
                                                  <a:pt x="74" y="150"/>
                                                </a:cubicBezTo>
                                                <a:cubicBezTo>
                                                  <a:pt x="84" y="127"/>
                                                  <a:pt x="91" y="111"/>
                                                  <a:pt x="102" y="93"/>
                                                </a:cubicBezTo>
                                                <a:cubicBezTo>
                                                  <a:pt x="113" y="75"/>
                                                  <a:pt x="127" y="56"/>
                                                  <a:pt x="137" y="43"/>
                                                </a:cubicBezTo>
                                                <a:cubicBezTo>
                                                  <a:pt x="147" y="30"/>
                                                  <a:pt x="155" y="23"/>
                                                  <a:pt x="164" y="16"/>
                                                </a:cubicBezTo>
                                                <a:cubicBezTo>
                                                  <a:pt x="173" y="9"/>
                                                  <a:pt x="182" y="6"/>
                                                  <a:pt x="194" y="3"/>
                                                </a:cubicBezTo>
                                                <a:cubicBezTo>
                                                  <a:pt x="206" y="0"/>
                                                  <a:pt x="226" y="0"/>
                                                  <a:pt x="234" y="0"/>
                                                </a:cubicBezTo>
                                              </a:path>
                                            </a:pathLst>
                                          </a:custGeom>
                                          <a:noFill/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round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wrap="none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5656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608920" y="5591520"/>
                                            <a:ext cx="33840" cy="337320"/>
                                          </a:xfrm>
                                          <a:custGeom>
                                            <a:avLst/>
                                            <a:gdLst/>
                                            <a:ahLst/>
                                            <a:rect l="l" t="t" r="r" b="b"/>
                                            <a:pathLst>
                                              <a:path w="234" h="373">
                                                <a:moveTo>
                                                  <a:pt x="0" y="373"/>
                                                </a:moveTo>
                                                <a:cubicBezTo>
                                                  <a:pt x="4" y="357"/>
                                                  <a:pt x="8" y="342"/>
                                                  <a:pt x="15" y="319"/>
                                                </a:cubicBezTo>
                                                <a:cubicBezTo>
                                                  <a:pt x="22" y="296"/>
                                                  <a:pt x="34" y="260"/>
                                                  <a:pt x="44" y="232"/>
                                                </a:cubicBezTo>
                                                <a:cubicBezTo>
                                                  <a:pt x="54" y="204"/>
                                                  <a:pt x="64" y="173"/>
                                                  <a:pt x="74" y="150"/>
                                                </a:cubicBezTo>
                                                <a:cubicBezTo>
                                                  <a:pt x="84" y="127"/>
                                                  <a:pt x="91" y="111"/>
                                                  <a:pt x="102" y="93"/>
                                                </a:cubicBezTo>
                                                <a:cubicBezTo>
                                                  <a:pt x="113" y="75"/>
                                                  <a:pt x="127" y="56"/>
                                                  <a:pt x="137" y="43"/>
                                                </a:cubicBezTo>
                                                <a:cubicBezTo>
                                                  <a:pt x="147" y="30"/>
                                                  <a:pt x="155" y="23"/>
                                                  <a:pt x="164" y="16"/>
                                                </a:cubicBezTo>
                                                <a:cubicBezTo>
                                                  <a:pt x="173" y="9"/>
                                                  <a:pt x="182" y="6"/>
                                                  <a:pt x="194" y="3"/>
                                                </a:cubicBezTo>
                                                <a:cubicBezTo>
                                                  <a:pt x="206" y="0"/>
                                                  <a:pt x="226" y="0"/>
                                                  <a:pt x="234" y="0"/>
                                                </a:cubicBezTo>
                                              </a:path>
                                            </a:pathLst>
                                          </a:custGeom>
                                          <a:noFill/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round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wrap="none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5657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2642040" y="5591520"/>
                                            <a:ext cx="324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grpSp>
                                      <p:nvGrpSpPr>
                                        <p:cNvPr id="5658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2540520" y="5783040"/>
                                          <a:ext cx="68040" cy="144720"/>
                                          <a:chOff x="2540520" y="5783040"/>
                                          <a:chExt cx="68040" cy="144720"/>
                                        </a:xfrm>
                                      </p:grpSpPr>
                                      <p:sp>
                                        <p:nvSpPr>
                                          <p:cNvPr id="5659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2575440" y="5784120"/>
                                            <a:ext cx="32760" cy="143640"/>
                                          </a:xfrm>
                                          <a:custGeom>
                                            <a:avLst/>
                                            <a:gdLst/>
                                            <a:ahLst/>
                                            <a:rect l="l" t="t" r="r" b="b"/>
                                            <a:pathLst>
                                              <a:path w="228" h="159">
                                                <a:moveTo>
                                                  <a:pt x="0" y="159"/>
                                                </a:moveTo>
                                                <a:cubicBezTo>
                                                  <a:pt x="15" y="139"/>
                                                  <a:pt x="30" y="120"/>
                                                  <a:pt x="45" y="103"/>
                                                </a:cubicBezTo>
                                                <a:cubicBezTo>
                                                  <a:pt x="60" y="86"/>
                                                  <a:pt x="76" y="68"/>
                                                  <a:pt x="90" y="54"/>
                                                </a:cubicBezTo>
                                                <a:cubicBezTo>
                                                  <a:pt x="104" y="40"/>
                                                  <a:pt x="118" y="30"/>
                                                  <a:pt x="130" y="22"/>
                                                </a:cubicBezTo>
                                                <a:cubicBezTo>
                                                  <a:pt x="142" y="14"/>
                                                  <a:pt x="150" y="10"/>
                                                  <a:pt x="162" y="7"/>
                                                </a:cubicBezTo>
                                                <a:cubicBezTo>
                                                  <a:pt x="174" y="4"/>
                                                  <a:pt x="191" y="2"/>
                                                  <a:pt x="202" y="1"/>
                                                </a:cubicBezTo>
                                                <a:cubicBezTo>
                                                  <a:pt x="213" y="0"/>
                                                  <a:pt x="220" y="0"/>
                                                  <a:pt x="228" y="1"/>
                                                </a:cubicBezTo>
                                              </a:path>
                                            </a:pathLst>
                                          </a:custGeom>
                                          <a:noFill/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round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wrap="none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5660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540520" y="5783400"/>
                                            <a:ext cx="32760" cy="144000"/>
                                          </a:xfrm>
                                          <a:custGeom>
                                            <a:avLst/>
                                            <a:gdLst/>
                                            <a:ahLst/>
                                            <a:rect l="l" t="t" r="r" b="b"/>
                                            <a:pathLst>
                                              <a:path w="228" h="159">
                                                <a:moveTo>
                                                  <a:pt x="0" y="159"/>
                                                </a:moveTo>
                                                <a:cubicBezTo>
                                                  <a:pt x="15" y="139"/>
                                                  <a:pt x="30" y="120"/>
                                                  <a:pt x="45" y="103"/>
                                                </a:cubicBezTo>
                                                <a:cubicBezTo>
                                                  <a:pt x="60" y="86"/>
                                                  <a:pt x="76" y="68"/>
                                                  <a:pt x="90" y="54"/>
                                                </a:cubicBezTo>
                                                <a:cubicBezTo>
                                                  <a:pt x="104" y="40"/>
                                                  <a:pt x="118" y="30"/>
                                                  <a:pt x="130" y="22"/>
                                                </a:cubicBezTo>
                                                <a:cubicBezTo>
                                                  <a:pt x="142" y="14"/>
                                                  <a:pt x="150" y="10"/>
                                                  <a:pt x="162" y="7"/>
                                                </a:cubicBezTo>
                                                <a:cubicBezTo>
                                                  <a:pt x="174" y="4"/>
                                                  <a:pt x="191" y="2"/>
                                                  <a:pt x="202" y="1"/>
                                                </a:cubicBezTo>
                                                <a:cubicBezTo>
                                                  <a:pt x="213" y="0"/>
                                                  <a:pt x="220" y="0"/>
                                                  <a:pt x="228" y="1"/>
                                                </a:cubicBezTo>
                                              </a:path>
                                            </a:pathLst>
                                          </a:custGeom>
                                          <a:noFill/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round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wrap="none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5661" name=""/>
                                          <p:cNvSpPr/>
                                          <p:nvPr/>
                                        </p:nvSpPr>
                                        <p:spPr>
                                          <a:xfrm flipH="1" flipV="1">
                                            <a:off x="2572200" y="5783040"/>
                                            <a:ext cx="4680" cy="252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4280" bIns="-44280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sp>
                                      <p:nvSpPr>
                                        <p:cNvPr id="5662" name=""/>
                                        <p:cNvSpPr/>
                                        <p:nvPr/>
                                      </p:nvSpPr>
                                      <p:spPr>
                                        <a:xfrm flipH="1">
                                          <a:off x="2678040" y="4598640"/>
                                          <a:ext cx="69120" cy="1328040"/>
                                        </a:xfrm>
                                        <a:custGeom>
                                          <a:avLst/>
                                          <a:gdLst/>
                                          <a:ahLst/>
                                          <a:rect l="l" t="t" r="r" b="b"/>
                                          <a:pathLst>
                                            <a:path w="480" h="1467">
                                              <a:moveTo>
                                                <a:pt x="0" y="0"/>
                                              </a:moveTo>
                                              <a:cubicBezTo>
                                                <a:pt x="17" y="2"/>
                                                <a:pt x="34" y="4"/>
                                                <a:pt x="51" y="6"/>
                                              </a:cubicBezTo>
                                              <a:cubicBezTo>
                                                <a:pt x="68" y="8"/>
                                                <a:pt x="88" y="10"/>
                                                <a:pt x="102" y="15"/>
                                              </a:cubicBezTo>
                                              <a:cubicBezTo>
                                                <a:pt x="116" y="20"/>
                                                <a:pt x="122" y="23"/>
                                                <a:pt x="135" y="33"/>
                                              </a:cubicBezTo>
                                              <a:cubicBezTo>
                                                <a:pt x="148" y="43"/>
                                                <a:pt x="167" y="56"/>
                                                <a:pt x="180" y="78"/>
                                              </a:cubicBezTo>
                                              <a:cubicBezTo>
                                                <a:pt x="193" y="100"/>
                                                <a:pt x="204" y="120"/>
                                                <a:pt x="216" y="165"/>
                                              </a:cubicBezTo>
                                              <a:cubicBezTo>
                                                <a:pt x="228" y="210"/>
                                                <a:pt x="211" y="131"/>
                                                <a:pt x="255" y="348"/>
                                              </a:cubicBezTo>
                                              <a:cubicBezTo>
                                                <a:pt x="299" y="565"/>
                                                <a:pt x="389" y="1016"/>
                                                <a:pt x="480" y="1467"/>
                                              </a:cubicBezTo>
                                            </a:path>
                                          </a:pathLst>
                                        </a:custGeom>
                                        <a:noFill/>
                                        <a:ln w="6480">
                                          <a:solidFill>
                                            <a:srgbClr val="3333cc"/>
                                          </a:solidFill>
                                          <a:round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wrap="none" anchor="ctr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</p:grpSp>
                                <p:grpSp>
                                  <p:nvGrpSpPr>
                                    <p:cNvPr id="5663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680200" y="4603680"/>
                                      <a:ext cx="414360" cy="1330200"/>
                                      <a:chOff x="2680200" y="4603680"/>
                                      <a:chExt cx="414360" cy="1330200"/>
                                    </a:xfrm>
                                  </p:grpSpPr>
                                  <p:grpSp>
                                    <p:nvGrpSpPr>
                                      <p:cNvPr id="5664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2887920" y="4603680"/>
                                        <a:ext cx="206640" cy="1330200"/>
                                        <a:chOff x="2887920" y="4603680"/>
                                        <a:chExt cx="206640" cy="1330200"/>
                                      </a:xfrm>
                                    </p:grpSpPr>
                                    <p:grpSp>
                                      <p:nvGrpSpPr>
                                        <p:cNvPr id="5665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2957040" y="5596560"/>
                                          <a:ext cx="69120" cy="337320"/>
                                          <a:chOff x="2957040" y="5596560"/>
                                          <a:chExt cx="69120" cy="337320"/>
                                        </a:xfrm>
                                      </p:grpSpPr>
                                      <p:sp>
                                        <p:nvSpPr>
                                          <p:cNvPr id="5666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957040" y="5596560"/>
                                            <a:ext cx="33840" cy="337320"/>
                                          </a:xfrm>
                                          <a:custGeom>
                                            <a:avLst/>
                                            <a:gdLst/>
                                            <a:ahLst/>
                                            <a:rect l="l" t="t" r="r" b="b"/>
                                            <a:pathLst>
                                              <a:path w="234" h="373">
                                                <a:moveTo>
                                                  <a:pt x="0" y="373"/>
                                                </a:moveTo>
                                                <a:cubicBezTo>
                                                  <a:pt x="4" y="357"/>
                                                  <a:pt x="8" y="342"/>
                                                  <a:pt x="15" y="319"/>
                                                </a:cubicBezTo>
                                                <a:cubicBezTo>
                                                  <a:pt x="22" y="296"/>
                                                  <a:pt x="34" y="260"/>
                                                  <a:pt x="44" y="232"/>
                                                </a:cubicBezTo>
                                                <a:cubicBezTo>
                                                  <a:pt x="54" y="204"/>
                                                  <a:pt x="64" y="173"/>
                                                  <a:pt x="74" y="150"/>
                                                </a:cubicBezTo>
                                                <a:cubicBezTo>
                                                  <a:pt x="84" y="127"/>
                                                  <a:pt x="91" y="111"/>
                                                  <a:pt x="102" y="93"/>
                                                </a:cubicBezTo>
                                                <a:cubicBezTo>
                                                  <a:pt x="113" y="75"/>
                                                  <a:pt x="127" y="56"/>
                                                  <a:pt x="137" y="43"/>
                                                </a:cubicBezTo>
                                                <a:cubicBezTo>
                                                  <a:pt x="147" y="30"/>
                                                  <a:pt x="155" y="23"/>
                                                  <a:pt x="164" y="16"/>
                                                </a:cubicBezTo>
                                                <a:cubicBezTo>
                                                  <a:pt x="173" y="9"/>
                                                  <a:pt x="182" y="6"/>
                                                  <a:pt x="194" y="3"/>
                                                </a:cubicBezTo>
                                                <a:cubicBezTo>
                                                  <a:pt x="206" y="0"/>
                                                  <a:pt x="226" y="0"/>
                                                  <a:pt x="234" y="0"/>
                                                </a:cubicBezTo>
                                              </a:path>
                                            </a:pathLst>
                                          </a:custGeom>
                                          <a:noFill/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round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wrap="none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5667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2992320" y="5596560"/>
                                            <a:ext cx="33840" cy="337320"/>
                                          </a:xfrm>
                                          <a:custGeom>
                                            <a:avLst/>
                                            <a:gdLst/>
                                            <a:ahLst/>
                                            <a:rect l="l" t="t" r="r" b="b"/>
                                            <a:pathLst>
                                              <a:path w="234" h="373">
                                                <a:moveTo>
                                                  <a:pt x="0" y="373"/>
                                                </a:moveTo>
                                                <a:cubicBezTo>
                                                  <a:pt x="4" y="357"/>
                                                  <a:pt x="8" y="342"/>
                                                  <a:pt x="15" y="319"/>
                                                </a:cubicBezTo>
                                                <a:cubicBezTo>
                                                  <a:pt x="22" y="296"/>
                                                  <a:pt x="34" y="260"/>
                                                  <a:pt x="44" y="232"/>
                                                </a:cubicBezTo>
                                                <a:cubicBezTo>
                                                  <a:pt x="54" y="204"/>
                                                  <a:pt x="64" y="173"/>
                                                  <a:pt x="74" y="150"/>
                                                </a:cubicBezTo>
                                                <a:cubicBezTo>
                                                  <a:pt x="84" y="127"/>
                                                  <a:pt x="91" y="111"/>
                                                  <a:pt x="102" y="93"/>
                                                </a:cubicBezTo>
                                                <a:cubicBezTo>
                                                  <a:pt x="113" y="75"/>
                                                  <a:pt x="127" y="56"/>
                                                  <a:pt x="137" y="43"/>
                                                </a:cubicBezTo>
                                                <a:cubicBezTo>
                                                  <a:pt x="147" y="30"/>
                                                  <a:pt x="155" y="23"/>
                                                  <a:pt x="164" y="16"/>
                                                </a:cubicBezTo>
                                                <a:cubicBezTo>
                                                  <a:pt x="173" y="9"/>
                                                  <a:pt x="182" y="6"/>
                                                  <a:pt x="194" y="3"/>
                                                </a:cubicBezTo>
                                                <a:cubicBezTo>
                                                  <a:pt x="206" y="0"/>
                                                  <a:pt x="226" y="0"/>
                                                  <a:pt x="234" y="0"/>
                                                </a:cubicBezTo>
                                              </a:path>
                                            </a:pathLst>
                                          </a:custGeom>
                                          <a:noFill/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round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wrap="none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5668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989800" y="5596560"/>
                                            <a:ext cx="324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grpSp>
                                      <p:nvGrpSpPr>
                                        <p:cNvPr id="5669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3026520" y="5787720"/>
                                          <a:ext cx="68040" cy="144720"/>
                                          <a:chOff x="3026520" y="5787720"/>
                                          <a:chExt cx="68040" cy="144720"/>
                                        </a:xfrm>
                                      </p:grpSpPr>
                                      <p:sp>
                                        <p:nvSpPr>
                                          <p:cNvPr id="5670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26520" y="5788800"/>
                                            <a:ext cx="32760" cy="143640"/>
                                          </a:xfrm>
                                          <a:custGeom>
                                            <a:avLst/>
                                            <a:gdLst/>
                                            <a:ahLst/>
                                            <a:rect l="l" t="t" r="r" b="b"/>
                                            <a:pathLst>
                                              <a:path w="228" h="159">
                                                <a:moveTo>
                                                  <a:pt x="0" y="159"/>
                                                </a:moveTo>
                                                <a:cubicBezTo>
                                                  <a:pt x="15" y="139"/>
                                                  <a:pt x="30" y="120"/>
                                                  <a:pt x="45" y="103"/>
                                                </a:cubicBezTo>
                                                <a:cubicBezTo>
                                                  <a:pt x="60" y="86"/>
                                                  <a:pt x="76" y="68"/>
                                                  <a:pt x="90" y="54"/>
                                                </a:cubicBezTo>
                                                <a:cubicBezTo>
                                                  <a:pt x="104" y="40"/>
                                                  <a:pt x="118" y="30"/>
                                                  <a:pt x="130" y="22"/>
                                                </a:cubicBezTo>
                                                <a:cubicBezTo>
                                                  <a:pt x="142" y="14"/>
                                                  <a:pt x="150" y="10"/>
                                                  <a:pt x="162" y="7"/>
                                                </a:cubicBezTo>
                                                <a:cubicBezTo>
                                                  <a:pt x="174" y="4"/>
                                                  <a:pt x="191" y="2"/>
                                                  <a:pt x="202" y="1"/>
                                                </a:cubicBezTo>
                                                <a:cubicBezTo>
                                                  <a:pt x="213" y="0"/>
                                                  <a:pt x="220" y="0"/>
                                                  <a:pt x="228" y="1"/>
                                                </a:cubicBezTo>
                                              </a:path>
                                            </a:pathLst>
                                          </a:custGeom>
                                          <a:noFill/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round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wrap="none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5671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3061440" y="5788080"/>
                                            <a:ext cx="32760" cy="144000"/>
                                          </a:xfrm>
                                          <a:custGeom>
                                            <a:avLst/>
                                            <a:gdLst/>
                                            <a:ahLst/>
                                            <a:rect l="l" t="t" r="r" b="b"/>
                                            <a:pathLst>
                                              <a:path w="228" h="159">
                                                <a:moveTo>
                                                  <a:pt x="0" y="159"/>
                                                </a:moveTo>
                                                <a:cubicBezTo>
                                                  <a:pt x="15" y="139"/>
                                                  <a:pt x="30" y="120"/>
                                                  <a:pt x="45" y="103"/>
                                                </a:cubicBezTo>
                                                <a:cubicBezTo>
                                                  <a:pt x="60" y="86"/>
                                                  <a:pt x="76" y="68"/>
                                                  <a:pt x="90" y="54"/>
                                                </a:cubicBezTo>
                                                <a:cubicBezTo>
                                                  <a:pt x="104" y="40"/>
                                                  <a:pt x="118" y="30"/>
                                                  <a:pt x="130" y="22"/>
                                                </a:cubicBezTo>
                                                <a:cubicBezTo>
                                                  <a:pt x="142" y="14"/>
                                                  <a:pt x="150" y="10"/>
                                                  <a:pt x="162" y="7"/>
                                                </a:cubicBezTo>
                                                <a:cubicBezTo>
                                                  <a:pt x="174" y="4"/>
                                                  <a:pt x="191" y="2"/>
                                                  <a:pt x="202" y="1"/>
                                                </a:cubicBezTo>
                                                <a:cubicBezTo>
                                                  <a:pt x="213" y="0"/>
                                                  <a:pt x="220" y="0"/>
                                                  <a:pt x="228" y="1"/>
                                                </a:cubicBezTo>
                                              </a:path>
                                            </a:pathLst>
                                          </a:custGeom>
                                          <a:noFill/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round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wrap="none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5672" name=""/>
                                          <p:cNvSpPr/>
                                          <p:nvPr/>
                                        </p:nvSpPr>
                                        <p:spPr>
                                          <a:xfrm flipV="1">
                                            <a:off x="3058200" y="5787720"/>
                                            <a:ext cx="4680" cy="252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4280" bIns="-44280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sp>
                                      <p:nvSpPr>
                                        <p:cNvPr id="5673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887920" y="4603680"/>
                                          <a:ext cx="69120" cy="1327680"/>
                                        </a:xfrm>
                                        <a:custGeom>
                                          <a:avLst/>
                                          <a:gdLst/>
                                          <a:ahLst/>
                                          <a:rect l="l" t="t" r="r" b="b"/>
                                          <a:pathLst>
                                            <a:path w="480" h="1467">
                                              <a:moveTo>
                                                <a:pt x="0" y="0"/>
                                              </a:moveTo>
                                              <a:cubicBezTo>
                                                <a:pt x="17" y="2"/>
                                                <a:pt x="34" y="4"/>
                                                <a:pt x="51" y="6"/>
                                              </a:cubicBezTo>
                                              <a:cubicBezTo>
                                                <a:pt x="68" y="8"/>
                                                <a:pt x="88" y="10"/>
                                                <a:pt x="102" y="15"/>
                                              </a:cubicBezTo>
                                              <a:cubicBezTo>
                                                <a:pt x="116" y="20"/>
                                                <a:pt x="122" y="23"/>
                                                <a:pt x="135" y="33"/>
                                              </a:cubicBezTo>
                                              <a:cubicBezTo>
                                                <a:pt x="148" y="43"/>
                                                <a:pt x="167" y="56"/>
                                                <a:pt x="180" y="78"/>
                                              </a:cubicBezTo>
                                              <a:cubicBezTo>
                                                <a:pt x="193" y="100"/>
                                                <a:pt x="204" y="120"/>
                                                <a:pt x="216" y="165"/>
                                              </a:cubicBezTo>
                                              <a:cubicBezTo>
                                                <a:pt x="228" y="210"/>
                                                <a:pt x="211" y="131"/>
                                                <a:pt x="255" y="348"/>
                                              </a:cubicBezTo>
                                              <a:cubicBezTo>
                                                <a:pt x="299" y="565"/>
                                                <a:pt x="389" y="1016"/>
                                                <a:pt x="480" y="1467"/>
                                              </a:cubicBezTo>
                                            </a:path>
                                          </a:pathLst>
                                        </a:custGeom>
                                        <a:noFill/>
                                        <a:ln w="6480">
                                          <a:solidFill>
                                            <a:srgbClr val="3333cc"/>
                                          </a:solidFill>
                                          <a:round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wrap="none" anchor="ctr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grpSp>
                                    <p:nvGrpSpPr>
                                      <p:cNvPr id="5674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2680200" y="4603680"/>
                                        <a:ext cx="206640" cy="1330200"/>
                                        <a:chOff x="2680200" y="4603680"/>
                                        <a:chExt cx="206640" cy="1330200"/>
                                      </a:xfrm>
                                    </p:grpSpPr>
                                    <p:grpSp>
                                      <p:nvGrpSpPr>
                                        <p:cNvPr id="5675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2748600" y="5596560"/>
                                          <a:ext cx="69120" cy="337320"/>
                                          <a:chOff x="2748600" y="5596560"/>
                                          <a:chExt cx="69120" cy="337320"/>
                                        </a:xfrm>
                                      </p:grpSpPr>
                                      <p:sp>
                                        <p:nvSpPr>
                                          <p:cNvPr id="5676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2783880" y="5596560"/>
                                            <a:ext cx="33840" cy="337320"/>
                                          </a:xfrm>
                                          <a:custGeom>
                                            <a:avLst/>
                                            <a:gdLst/>
                                            <a:ahLst/>
                                            <a:rect l="l" t="t" r="r" b="b"/>
                                            <a:pathLst>
                                              <a:path w="234" h="373">
                                                <a:moveTo>
                                                  <a:pt x="0" y="373"/>
                                                </a:moveTo>
                                                <a:cubicBezTo>
                                                  <a:pt x="4" y="357"/>
                                                  <a:pt x="8" y="342"/>
                                                  <a:pt x="15" y="319"/>
                                                </a:cubicBezTo>
                                                <a:cubicBezTo>
                                                  <a:pt x="22" y="296"/>
                                                  <a:pt x="34" y="260"/>
                                                  <a:pt x="44" y="232"/>
                                                </a:cubicBezTo>
                                                <a:cubicBezTo>
                                                  <a:pt x="54" y="204"/>
                                                  <a:pt x="64" y="173"/>
                                                  <a:pt x="74" y="150"/>
                                                </a:cubicBezTo>
                                                <a:cubicBezTo>
                                                  <a:pt x="84" y="127"/>
                                                  <a:pt x="91" y="111"/>
                                                  <a:pt x="102" y="93"/>
                                                </a:cubicBezTo>
                                                <a:cubicBezTo>
                                                  <a:pt x="113" y="75"/>
                                                  <a:pt x="127" y="56"/>
                                                  <a:pt x="137" y="43"/>
                                                </a:cubicBezTo>
                                                <a:cubicBezTo>
                                                  <a:pt x="147" y="30"/>
                                                  <a:pt x="155" y="23"/>
                                                  <a:pt x="164" y="16"/>
                                                </a:cubicBezTo>
                                                <a:cubicBezTo>
                                                  <a:pt x="173" y="9"/>
                                                  <a:pt x="182" y="6"/>
                                                  <a:pt x="194" y="3"/>
                                                </a:cubicBezTo>
                                                <a:cubicBezTo>
                                                  <a:pt x="206" y="0"/>
                                                  <a:pt x="226" y="0"/>
                                                  <a:pt x="234" y="0"/>
                                                </a:cubicBezTo>
                                              </a:path>
                                            </a:pathLst>
                                          </a:custGeom>
                                          <a:noFill/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round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wrap="none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5677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748600" y="5596560"/>
                                            <a:ext cx="33840" cy="337320"/>
                                          </a:xfrm>
                                          <a:custGeom>
                                            <a:avLst/>
                                            <a:gdLst/>
                                            <a:ahLst/>
                                            <a:rect l="l" t="t" r="r" b="b"/>
                                            <a:pathLst>
                                              <a:path w="234" h="373">
                                                <a:moveTo>
                                                  <a:pt x="0" y="373"/>
                                                </a:moveTo>
                                                <a:cubicBezTo>
                                                  <a:pt x="4" y="357"/>
                                                  <a:pt x="8" y="342"/>
                                                  <a:pt x="15" y="319"/>
                                                </a:cubicBezTo>
                                                <a:cubicBezTo>
                                                  <a:pt x="22" y="296"/>
                                                  <a:pt x="34" y="260"/>
                                                  <a:pt x="44" y="232"/>
                                                </a:cubicBezTo>
                                                <a:cubicBezTo>
                                                  <a:pt x="54" y="204"/>
                                                  <a:pt x="64" y="173"/>
                                                  <a:pt x="74" y="150"/>
                                                </a:cubicBezTo>
                                                <a:cubicBezTo>
                                                  <a:pt x="84" y="127"/>
                                                  <a:pt x="91" y="111"/>
                                                  <a:pt x="102" y="93"/>
                                                </a:cubicBezTo>
                                                <a:cubicBezTo>
                                                  <a:pt x="113" y="75"/>
                                                  <a:pt x="127" y="56"/>
                                                  <a:pt x="137" y="43"/>
                                                </a:cubicBezTo>
                                                <a:cubicBezTo>
                                                  <a:pt x="147" y="30"/>
                                                  <a:pt x="155" y="23"/>
                                                  <a:pt x="164" y="16"/>
                                                </a:cubicBezTo>
                                                <a:cubicBezTo>
                                                  <a:pt x="173" y="9"/>
                                                  <a:pt x="182" y="6"/>
                                                  <a:pt x="194" y="3"/>
                                                </a:cubicBezTo>
                                                <a:cubicBezTo>
                                                  <a:pt x="206" y="0"/>
                                                  <a:pt x="226" y="0"/>
                                                  <a:pt x="234" y="0"/>
                                                </a:cubicBezTo>
                                              </a:path>
                                            </a:pathLst>
                                          </a:custGeom>
                                          <a:noFill/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round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wrap="none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5678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2781720" y="5596560"/>
                                            <a:ext cx="324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grpSp>
                                      <p:nvGrpSpPr>
                                        <p:cNvPr id="5679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2680200" y="5787720"/>
                                          <a:ext cx="68040" cy="144720"/>
                                          <a:chOff x="2680200" y="5787720"/>
                                          <a:chExt cx="68040" cy="144720"/>
                                        </a:xfrm>
                                      </p:grpSpPr>
                                      <p:sp>
                                        <p:nvSpPr>
                                          <p:cNvPr id="5680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2715120" y="5788800"/>
                                            <a:ext cx="32760" cy="143640"/>
                                          </a:xfrm>
                                          <a:custGeom>
                                            <a:avLst/>
                                            <a:gdLst/>
                                            <a:ahLst/>
                                            <a:rect l="l" t="t" r="r" b="b"/>
                                            <a:pathLst>
                                              <a:path w="228" h="159">
                                                <a:moveTo>
                                                  <a:pt x="0" y="159"/>
                                                </a:moveTo>
                                                <a:cubicBezTo>
                                                  <a:pt x="15" y="139"/>
                                                  <a:pt x="30" y="120"/>
                                                  <a:pt x="45" y="103"/>
                                                </a:cubicBezTo>
                                                <a:cubicBezTo>
                                                  <a:pt x="60" y="86"/>
                                                  <a:pt x="76" y="68"/>
                                                  <a:pt x="90" y="54"/>
                                                </a:cubicBezTo>
                                                <a:cubicBezTo>
                                                  <a:pt x="104" y="40"/>
                                                  <a:pt x="118" y="30"/>
                                                  <a:pt x="130" y="22"/>
                                                </a:cubicBezTo>
                                                <a:cubicBezTo>
                                                  <a:pt x="142" y="14"/>
                                                  <a:pt x="150" y="10"/>
                                                  <a:pt x="162" y="7"/>
                                                </a:cubicBezTo>
                                                <a:cubicBezTo>
                                                  <a:pt x="174" y="4"/>
                                                  <a:pt x="191" y="2"/>
                                                  <a:pt x="202" y="1"/>
                                                </a:cubicBezTo>
                                                <a:cubicBezTo>
                                                  <a:pt x="213" y="0"/>
                                                  <a:pt x="220" y="0"/>
                                                  <a:pt x="228" y="1"/>
                                                </a:cubicBezTo>
                                              </a:path>
                                            </a:pathLst>
                                          </a:custGeom>
                                          <a:noFill/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round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wrap="none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5681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680200" y="5788080"/>
                                            <a:ext cx="32760" cy="144000"/>
                                          </a:xfrm>
                                          <a:custGeom>
                                            <a:avLst/>
                                            <a:gdLst/>
                                            <a:ahLst/>
                                            <a:rect l="l" t="t" r="r" b="b"/>
                                            <a:pathLst>
                                              <a:path w="228" h="159">
                                                <a:moveTo>
                                                  <a:pt x="0" y="159"/>
                                                </a:moveTo>
                                                <a:cubicBezTo>
                                                  <a:pt x="15" y="139"/>
                                                  <a:pt x="30" y="120"/>
                                                  <a:pt x="45" y="103"/>
                                                </a:cubicBezTo>
                                                <a:cubicBezTo>
                                                  <a:pt x="60" y="86"/>
                                                  <a:pt x="76" y="68"/>
                                                  <a:pt x="90" y="54"/>
                                                </a:cubicBezTo>
                                                <a:cubicBezTo>
                                                  <a:pt x="104" y="40"/>
                                                  <a:pt x="118" y="30"/>
                                                  <a:pt x="130" y="22"/>
                                                </a:cubicBezTo>
                                                <a:cubicBezTo>
                                                  <a:pt x="142" y="14"/>
                                                  <a:pt x="150" y="10"/>
                                                  <a:pt x="162" y="7"/>
                                                </a:cubicBezTo>
                                                <a:cubicBezTo>
                                                  <a:pt x="174" y="4"/>
                                                  <a:pt x="191" y="2"/>
                                                  <a:pt x="202" y="1"/>
                                                </a:cubicBezTo>
                                                <a:cubicBezTo>
                                                  <a:pt x="213" y="0"/>
                                                  <a:pt x="220" y="0"/>
                                                  <a:pt x="228" y="1"/>
                                                </a:cubicBezTo>
                                              </a:path>
                                            </a:pathLst>
                                          </a:custGeom>
                                          <a:noFill/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round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wrap="none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5682" name=""/>
                                          <p:cNvSpPr/>
                                          <p:nvPr/>
                                        </p:nvSpPr>
                                        <p:spPr>
                                          <a:xfrm flipH="1" flipV="1">
                                            <a:off x="2711880" y="5787720"/>
                                            <a:ext cx="4680" cy="252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4280" bIns="-44280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sp>
                                      <p:nvSpPr>
                                        <p:cNvPr id="5683" name=""/>
                                        <p:cNvSpPr/>
                                        <p:nvPr/>
                                      </p:nvSpPr>
                                      <p:spPr>
                                        <a:xfrm flipH="1">
                                          <a:off x="2817720" y="4603680"/>
                                          <a:ext cx="69120" cy="1327680"/>
                                        </a:xfrm>
                                        <a:custGeom>
                                          <a:avLst/>
                                          <a:gdLst/>
                                          <a:ahLst/>
                                          <a:rect l="l" t="t" r="r" b="b"/>
                                          <a:pathLst>
                                            <a:path w="480" h="1467">
                                              <a:moveTo>
                                                <a:pt x="0" y="0"/>
                                              </a:moveTo>
                                              <a:cubicBezTo>
                                                <a:pt x="17" y="2"/>
                                                <a:pt x="34" y="4"/>
                                                <a:pt x="51" y="6"/>
                                              </a:cubicBezTo>
                                              <a:cubicBezTo>
                                                <a:pt x="68" y="8"/>
                                                <a:pt x="88" y="10"/>
                                                <a:pt x="102" y="15"/>
                                              </a:cubicBezTo>
                                              <a:cubicBezTo>
                                                <a:pt x="116" y="20"/>
                                                <a:pt x="122" y="23"/>
                                                <a:pt x="135" y="33"/>
                                              </a:cubicBezTo>
                                              <a:cubicBezTo>
                                                <a:pt x="148" y="43"/>
                                                <a:pt x="167" y="56"/>
                                                <a:pt x="180" y="78"/>
                                              </a:cubicBezTo>
                                              <a:cubicBezTo>
                                                <a:pt x="193" y="100"/>
                                                <a:pt x="204" y="120"/>
                                                <a:pt x="216" y="165"/>
                                              </a:cubicBezTo>
                                              <a:cubicBezTo>
                                                <a:pt x="228" y="210"/>
                                                <a:pt x="211" y="131"/>
                                                <a:pt x="255" y="348"/>
                                              </a:cubicBezTo>
                                              <a:cubicBezTo>
                                                <a:pt x="299" y="565"/>
                                                <a:pt x="389" y="1016"/>
                                                <a:pt x="480" y="1467"/>
                                              </a:cubicBezTo>
                                            </a:path>
                                          </a:pathLst>
                                        </a:custGeom>
                                        <a:noFill/>
                                        <a:ln w="6480">
                                          <a:solidFill>
                                            <a:srgbClr val="3333cc"/>
                                          </a:solidFill>
                                          <a:round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wrap="none" anchor="ctr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</p:grpSp>
                                <p:grpSp>
                                  <p:nvGrpSpPr>
                                    <p:cNvPr id="5684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334240" y="4568760"/>
                                      <a:ext cx="4021200" cy="1373040"/>
                                      <a:chOff x="2334240" y="4568760"/>
                                      <a:chExt cx="4021200" cy="1373040"/>
                                    </a:xfrm>
                                  </p:grpSpPr>
                                  <p:grpSp>
                                    <p:nvGrpSpPr>
                                      <p:cNvPr id="5685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2748600" y="4598640"/>
                                        <a:ext cx="414360" cy="1330200"/>
                                        <a:chOff x="2748600" y="4598640"/>
                                        <a:chExt cx="414360" cy="1330200"/>
                                      </a:xfrm>
                                    </p:grpSpPr>
                                    <p:grpSp>
                                      <p:nvGrpSpPr>
                                        <p:cNvPr id="5686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2956320" y="4598640"/>
                                          <a:ext cx="206640" cy="1330200"/>
                                          <a:chOff x="2956320" y="4598640"/>
                                          <a:chExt cx="206640" cy="1330200"/>
                                        </a:xfrm>
                                      </p:grpSpPr>
                                      <p:grpSp>
                                        <p:nvGrpSpPr>
                                          <p:cNvPr id="5687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3025440" y="5591520"/>
                                            <a:ext cx="69120" cy="337320"/>
                                            <a:chOff x="3025440" y="5591520"/>
                                            <a:chExt cx="69120" cy="337320"/>
                                          </a:xfrm>
                                        </p:grpSpPr>
                                        <p:sp>
                                          <p:nvSpPr>
                                            <p:cNvPr id="5688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025440" y="5591520"/>
                                              <a:ext cx="33840" cy="337320"/>
                                            </a:xfrm>
                                            <a:custGeom>
                                              <a:avLst/>
                                              <a:gdLst/>
                                              <a:ahLst/>
                                              <a:rect l="l" t="t" r="r" b="b"/>
                                              <a:pathLst>
                                                <a:path w="234" h="373">
                                                  <a:moveTo>
                                                    <a:pt x="0" y="373"/>
                                                  </a:moveTo>
                                                  <a:cubicBezTo>
                                                    <a:pt x="4" y="357"/>
                                                    <a:pt x="8" y="342"/>
                                                    <a:pt x="15" y="319"/>
                                                  </a:cubicBezTo>
                                                  <a:cubicBezTo>
                                                    <a:pt x="22" y="296"/>
                                                    <a:pt x="34" y="260"/>
                                                    <a:pt x="44" y="232"/>
                                                  </a:cubicBezTo>
                                                  <a:cubicBezTo>
                                                    <a:pt x="54" y="204"/>
                                                    <a:pt x="64" y="173"/>
                                                    <a:pt x="74" y="150"/>
                                                  </a:cubicBezTo>
                                                  <a:cubicBezTo>
                                                    <a:pt x="84" y="127"/>
                                                    <a:pt x="91" y="111"/>
                                                    <a:pt x="102" y="93"/>
                                                  </a:cubicBezTo>
                                                  <a:cubicBezTo>
                                                    <a:pt x="113" y="75"/>
                                                    <a:pt x="127" y="56"/>
                                                    <a:pt x="137" y="43"/>
                                                  </a:cubicBezTo>
                                                  <a:cubicBezTo>
                                                    <a:pt x="147" y="30"/>
                                                    <a:pt x="155" y="23"/>
                                                    <a:pt x="164" y="16"/>
                                                  </a:cubicBezTo>
                                                  <a:cubicBezTo>
                                                    <a:pt x="173" y="9"/>
                                                    <a:pt x="182" y="6"/>
                                                    <a:pt x="194" y="3"/>
                                                  </a:cubicBezTo>
                                                  <a:cubicBezTo>
                                                    <a:pt x="206" y="0"/>
                                                    <a:pt x="226" y="0"/>
                                                    <a:pt x="234" y="0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6480">
                                              <a:solidFill>
                                                <a:srgbClr val="3333cc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wrap="none" anchor="ctr">
                                              <a:noAutofit/>
                                            </a:bodyPr>
                                            <a:p>
                                              <a:endParaRPr b="0" lang="en-US" sz="24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5689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3060720" y="5591520"/>
                                              <a:ext cx="33840" cy="337320"/>
                                            </a:xfrm>
                                            <a:custGeom>
                                              <a:avLst/>
                                              <a:gdLst/>
                                              <a:ahLst/>
                                              <a:rect l="l" t="t" r="r" b="b"/>
                                              <a:pathLst>
                                                <a:path w="234" h="373">
                                                  <a:moveTo>
                                                    <a:pt x="0" y="373"/>
                                                  </a:moveTo>
                                                  <a:cubicBezTo>
                                                    <a:pt x="4" y="357"/>
                                                    <a:pt x="8" y="342"/>
                                                    <a:pt x="15" y="319"/>
                                                  </a:cubicBezTo>
                                                  <a:cubicBezTo>
                                                    <a:pt x="22" y="296"/>
                                                    <a:pt x="34" y="260"/>
                                                    <a:pt x="44" y="232"/>
                                                  </a:cubicBezTo>
                                                  <a:cubicBezTo>
                                                    <a:pt x="54" y="204"/>
                                                    <a:pt x="64" y="173"/>
                                                    <a:pt x="74" y="150"/>
                                                  </a:cubicBezTo>
                                                  <a:cubicBezTo>
                                                    <a:pt x="84" y="127"/>
                                                    <a:pt x="91" y="111"/>
                                                    <a:pt x="102" y="93"/>
                                                  </a:cubicBezTo>
                                                  <a:cubicBezTo>
                                                    <a:pt x="113" y="75"/>
                                                    <a:pt x="127" y="56"/>
                                                    <a:pt x="137" y="43"/>
                                                  </a:cubicBezTo>
                                                  <a:cubicBezTo>
                                                    <a:pt x="147" y="30"/>
                                                    <a:pt x="155" y="23"/>
                                                    <a:pt x="164" y="16"/>
                                                  </a:cubicBezTo>
                                                  <a:cubicBezTo>
                                                    <a:pt x="173" y="9"/>
                                                    <a:pt x="182" y="6"/>
                                                    <a:pt x="194" y="3"/>
                                                  </a:cubicBezTo>
                                                  <a:cubicBezTo>
                                                    <a:pt x="206" y="0"/>
                                                    <a:pt x="226" y="0"/>
                                                    <a:pt x="234" y="0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6480">
                                              <a:solidFill>
                                                <a:srgbClr val="3333cc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wrap="none" anchor="ctr">
                                              <a:noAutofit/>
                                            </a:bodyPr>
                                            <a:p>
                                              <a:endParaRPr b="0" lang="en-US" sz="24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5690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058200" y="5591520"/>
                                              <a:ext cx="324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6480">
                                              <a:solidFill>
                                                <a:srgbClr val="3333cc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ctr">
                                              <a:noAutofit/>
                                            </a:bodyPr>
                                            <a:p>
                                              <a:endParaRPr b="0" lang="en-US" sz="24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grpSp>
                                        <p:nvGrpSpPr>
                                          <p:cNvPr id="5691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3094920" y="5783040"/>
                                            <a:ext cx="68040" cy="144720"/>
                                            <a:chOff x="3094920" y="5783040"/>
                                            <a:chExt cx="68040" cy="144720"/>
                                          </a:xfrm>
                                        </p:grpSpPr>
                                        <p:sp>
                                          <p:nvSpPr>
                                            <p:cNvPr id="5692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094920" y="5784120"/>
                                              <a:ext cx="32760" cy="143640"/>
                                            </a:xfrm>
                                            <a:custGeom>
                                              <a:avLst/>
                                              <a:gdLst/>
                                              <a:ahLst/>
                                              <a:rect l="l" t="t" r="r" b="b"/>
                                              <a:pathLst>
                                                <a:path w="228" h="159">
                                                  <a:moveTo>
                                                    <a:pt x="0" y="159"/>
                                                  </a:moveTo>
                                                  <a:cubicBezTo>
                                                    <a:pt x="15" y="139"/>
                                                    <a:pt x="30" y="120"/>
                                                    <a:pt x="45" y="103"/>
                                                  </a:cubicBezTo>
                                                  <a:cubicBezTo>
                                                    <a:pt x="60" y="86"/>
                                                    <a:pt x="76" y="68"/>
                                                    <a:pt x="90" y="54"/>
                                                  </a:cubicBezTo>
                                                  <a:cubicBezTo>
                                                    <a:pt x="104" y="40"/>
                                                    <a:pt x="118" y="30"/>
                                                    <a:pt x="130" y="22"/>
                                                  </a:cubicBezTo>
                                                  <a:cubicBezTo>
                                                    <a:pt x="142" y="14"/>
                                                    <a:pt x="150" y="10"/>
                                                    <a:pt x="162" y="7"/>
                                                  </a:cubicBezTo>
                                                  <a:cubicBezTo>
                                                    <a:pt x="174" y="4"/>
                                                    <a:pt x="191" y="2"/>
                                                    <a:pt x="202" y="1"/>
                                                  </a:cubicBezTo>
                                                  <a:cubicBezTo>
                                                    <a:pt x="213" y="0"/>
                                                    <a:pt x="220" y="0"/>
                                                    <a:pt x="228" y="1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6480">
                                              <a:solidFill>
                                                <a:srgbClr val="3333cc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wrap="none" anchor="ctr">
                                              <a:noAutofit/>
                                            </a:bodyPr>
                                            <a:p>
                                              <a:endParaRPr b="0" lang="en-US" sz="24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5693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3129840" y="5783400"/>
                                              <a:ext cx="32760" cy="144000"/>
                                            </a:xfrm>
                                            <a:custGeom>
                                              <a:avLst/>
                                              <a:gdLst/>
                                              <a:ahLst/>
                                              <a:rect l="l" t="t" r="r" b="b"/>
                                              <a:pathLst>
                                                <a:path w="228" h="159">
                                                  <a:moveTo>
                                                    <a:pt x="0" y="159"/>
                                                  </a:moveTo>
                                                  <a:cubicBezTo>
                                                    <a:pt x="15" y="139"/>
                                                    <a:pt x="30" y="120"/>
                                                    <a:pt x="45" y="103"/>
                                                  </a:cubicBezTo>
                                                  <a:cubicBezTo>
                                                    <a:pt x="60" y="86"/>
                                                    <a:pt x="76" y="68"/>
                                                    <a:pt x="90" y="54"/>
                                                  </a:cubicBezTo>
                                                  <a:cubicBezTo>
                                                    <a:pt x="104" y="40"/>
                                                    <a:pt x="118" y="30"/>
                                                    <a:pt x="130" y="22"/>
                                                  </a:cubicBezTo>
                                                  <a:cubicBezTo>
                                                    <a:pt x="142" y="14"/>
                                                    <a:pt x="150" y="10"/>
                                                    <a:pt x="162" y="7"/>
                                                  </a:cubicBezTo>
                                                  <a:cubicBezTo>
                                                    <a:pt x="174" y="4"/>
                                                    <a:pt x="191" y="2"/>
                                                    <a:pt x="202" y="1"/>
                                                  </a:cubicBezTo>
                                                  <a:cubicBezTo>
                                                    <a:pt x="213" y="0"/>
                                                    <a:pt x="220" y="0"/>
                                                    <a:pt x="228" y="1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6480">
                                              <a:solidFill>
                                                <a:srgbClr val="3333cc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wrap="none" anchor="ctr">
                                              <a:noAutofit/>
                                            </a:bodyPr>
                                            <a:p>
                                              <a:endParaRPr b="0" lang="en-US" sz="24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5694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V="1">
                                              <a:off x="3126600" y="5783040"/>
                                              <a:ext cx="4680" cy="252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6480">
                                              <a:solidFill>
                                                <a:srgbClr val="3333cc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4280" bIns="-44280" anchor="ctr">
                                              <a:noAutofit/>
                                            </a:bodyPr>
                                            <a:p>
                                              <a:endParaRPr b="0" lang="en-US" sz="24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sp>
                                        <p:nvSpPr>
                                          <p:cNvPr id="5695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956320" y="4598640"/>
                                            <a:ext cx="69120" cy="1328040"/>
                                          </a:xfrm>
                                          <a:custGeom>
                                            <a:avLst/>
                                            <a:gdLst/>
                                            <a:ahLst/>
                                            <a:rect l="l" t="t" r="r" b="b"/>
                                            <a:pathLst>
                                              <a:path w="480" h="1467">
                                                <a:moveTo>
                                                  <a:pt x="0" y="0"/>
                                                </a:moveTo>
                                                <a:cubicBezTo>
                                                  <a:pt x="17" y="2"/>
                                                  <a:pt x="34" y="4"/>
                                                  <a:pt x="51" y="6"/>
                                                </a:cubicBezTo>
                                                <a:cubicBezTo>
                                                  <a:pt x="68" y="8"/>
                                                  <a:pt x="88" y="10"/>
                                                  <a:pt x="102" y="15"/>
                                                </a:cubicBezTo>
                                                <a:cubicBezTo>
                                                  <a:pt x="116" y="20"/>
                                                  <a:pt x="122" y="23"/>
                                                  <a:pt x="135" y="33"/>
                                                </a:cubicBezTo>
                                                <a:cubicBezTo>
                                                  <a:pt x="148" y="43"/>
                                                  <a:pt x="167" y="56"/>
                                                  <a:pt x="180" y="78"/>
                                                </a:cubicBezTo>
                                                <a:cubicBezTo>
                                                  <a:pt x="193" y="100"/>
                                                  <a:pt x="204" y="120"/>
                                                  <a:pt x="216" y="165"/>
                                                </a:cubicBezTo>
                                                <a:cubicBezTo>
                                                  <a:pt x="228" y="210"/>
                                                  <a:pt x="211" y="131"/>
                                                  <a:pt x="255" y="348"/>
                                                </a:cubicBezTo>
                                                <a:cubicBezTo>
                                                  <a:pt x="299" y="565"/>
                                                  <a:pt x="389" y="1016"/>
                                                  <a:pt x="480" y="1467"/>
                                                </a:cubicBezTo>
                                              </a:path>
                                            </a:pathLst>
                                          </a:custGeom>
                                          <a:noFill/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round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wrap="none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grpSp>
                                      <p:nvGrpSpPr>
                                        <p:cNvPr id="5696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2748600" y="4598640"/>
                                          <a:ext cx="206640" cy="1330200"/>
                                          <a:chOff x="2748600" y="4598640"/>
                                          <a:chExt cx="206640" cy="1330200"/>
                                        </a:xfrm>
                                      </p:grpSpPr>
                                      <p:grpSp>
                                        <p:nvGrpSpPr>
                                          <p:cNvPr id="5697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2817000" y="5591520"/>
                                            <a:ext cx="69120" cy="337320"/>
                                            <a:chOff x="2817000" y="5591520"/>
                                            <a:chExt cx="69120" cy="337320"/>
                                          </a:xfrm>
                                        </p:grpSpPr>
                                        <p:sp>
                                          <p:nvSpPr>
                                            <p:cNvPr id="5698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2852280" y="5591520"/>
                                              <a:ext cx="33840" cy="337320"/>
                                            </a:xfrm>
                                            <a:custGeom>
                                              <a:avLst/>
                                              <a:gdLst/>
                                              <a:ahLst/>
                                              <a:rect l="l" t="t" r="r" b="b"/>
                                              <a:pathLst>
                                                <a:path w="234" h="373">
                                                  <a:moveTo>
                                                    <a:pt x="0" y="373"/>
                                                  </a:moveTo>
                                                  <a:cubicBezTo>
                                                    <a:pt x="4" y="357"/>
                                                    <a:pt x="8" y="342"/>
                                                    <a:pt x="15" y="319"/>
                                                  </a:cubicBezTo>
                                                  <a:cubicBezTo>
                                                    <a:pt x="22" y="296"/>
                                                    <a:pt x="34" y="260"/>
                                                    <a:pt x="44" y="232"/>
                                                  </a:cubicBezTo>
                                                  <a:cubicBezTo>
                                                    <a:pt x="54" y="204"/>
                                                    <a:pt x="64" y="173"/>
                                                    <a:pt x="74" y="150"/>
                                                  </a:cubicBezTo>
                                                  <a:cubicBezTo>
                                                    <a:pt x="84" y="127"/>
                                                    <a:pt x="91" y="111"/>
                                                    <a:pt x="102" y="93"/>
                                                  </a:cubicBezTo>
                                                  <a:cubicBezTo>
                                                    <a:pt x="113" y="75"/>
                                                    <a:pt x="127" y="56"/>
                                                    <a:pt x="137" y="43"/>
                                                  </a:cubicBezTo>
                                                  <a:cubicBezTo>
                                                    <a:pt x="147" y="30"/>
                                                    <a:pt x="155" y="23"/>
                                                    <a:pt x="164" y="16"/>
                                                  </a:cubicBezTo>
                                                  <a:cubicBezTo>
                                                    <a:pt x="173" y="9"/>
                                                    <a:pt x="182" y="6"/>
                                                    <a:pt x="194" y="3"/>
                                                  </a:cubicBezTo>
                                                  <a:cubicBezTo>
                                                    <a:pt x="206" y="0"/>
                                                    <a:pt x="226" y="0"/>
                                                    <a:pt x="234" y="0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6480">
                                              <a:solidFill>
                                                <a:srgbClr val="3333cc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wrap="none" anchor="ctr">
                                              <a:noAutofit/>
                                            </a:bodyPr>
                                            <a:p>
                                              <a:endParaRPr b="0" lang="en-US" sz="24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5699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2817000" y="5591520"/>
                                              <a:ext cx="33840" cy="337320"/>
                                            </a:xfrm>
                                            <a:custGeom>
                                              <a:avLst/>
                                              <a:gdLst/>
                                              <a:ahLst/>
                                              <a:rect l="l" t="t" r="r" b="b"/>
                                              <a:pathLst>
                                                <a:path w="234" h="373">
                                                  <a:moveTo>
                                                    <a:pt x="0" y="373"/>
                                                  </a:moveTo>
                                                  <a:cubicBezTo>
                                                    <a:pt x="4" y="357"/>
                                                    <a:pt x="8" y="342"/>
                                                    <a:pt x="15" y="319"/>
                                                  </a:cubicBezTo>
                                                  <a:cubicBezTo>
                                                    <a:pt x="22" y="296"/>
                                                    <a:pt x="34" y="260"/>
                                                    <a:pt x="44" y="232"/>
                                                  </a:cubicBezTo>
                                                  <a:cubicBezTo>
                                                    <a:pt x="54" y="204"/>
                                                    <a:pt x="64" y="173"/>
                                                    <a:pt x="74" y="150"/>
                                                  </a:cubicBezTo>
                                                  <a:cubicBezTo>
                                                    <a:pt x="84" y="127"/>
                                                    <a:pt x="91" y="111"/>
                                                    <a:pt x="102" y="93"/>
                                                  </a:cubicBezTo>
                                                  <a:cubicBezTo>
                                                    <a:pt x="113" y="75"/>
                                                    <a:pt x="127" y="56"/>
                                                    <a:pt x="137" y="43"/>
                                                  </a:cubicBezTo>
                                                  <a:cubicBezTo>
                                                    <a:pt x="147" y="30"/>
                                                    <a:pt x="155" y="23"/>
                                                    <a:pt x="164" y="16"/>
                                                  </a:cubicBezTo>
                                                  <a:cubicBezTo>
                                                    <a:pt x="173" y="9"/>
                                                    <a:pt x="182" y="6"/>
                                                    <a:pt x="194" y="3"/>
                                                  </a:cubicBezTo>
                                                  <a:cubicBezTo>
                                                    <a:pt x="206" y="0"/>
                                                    <a:pt x="226" y="0"/>
                                                    <a:pt x="234" y="0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6480">
                                              <a:solidFill>
                                                <a:srgbClr val="3333cc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wrap="none" anchor="ctr">
                                              <a:noAutofit/>
                                            </a:bodyPr>
                                            <a:p>
                                              <a:endParaRPr b="0" lang="en-US" sz="24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5700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2850120" y="5591520"/>
                                              <a:ext cx="324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6480">
                                              <a:solidFill>
                                                <a:srgbClr val="3333cc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ctr">
                                              <a:noAutofit/>
                                            </a:bodyPr>
                                            <a:p>
                                              <a:endParaRPr b="0" lang="en-US" sz="24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grpSp>
                                        <p:nvGrpSpPr>
                                          <p:cNvPr id="5701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2748600" y="5783040"/>
                                            <a:ext cx="68040" cy="144720"/>
                                            <a:chOff x="2748600" y="5783040"/>
                                            <a:chExt cx="68040" cy="144720"/>
                                          </a:xfrm>
                                        </p:grpSpPr>
                                        <p:sp>
                                          <p:nvSpPr>
                                            <p:cNvPr id="5702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2783520" y="5784120"/>
                                              <a:ext cx="32760" cy="143640"/>
                                            </a:xfrm>
                                            <a:custGeom>
                                              <a:avLst/>
                                              <a:gdLst/>
                                              <a:ahLst/>
                                              <a:rect l="l" t="t" r="r" b="b"/>
                                              <a:pathLst>
                                                <a:path w="228" h="159">
                                                  <a:moveTo>
                                                    <a:pt x="0" y="159"/>
                                                  </a:moveTo>
                                                  <a:cubicBezTo>
                                                    <a:pt x="15" y="139"/>
                                                    <a:pt x="30" y="120"/>
                                                    <a:pt x="45" y="103"/>
                                                  </a:cubicBezTo>
                                                  <a:cubicBezTo>
                                                    <a:pt x="60" y="86"/>
                                                    <a:pt x="76" y="68"/>
                                                    <a:pt x="90" y="54"/>
                                                  </a:cubicBezTo>
                                                  <a:cubicBezTo>
                                                    <a:pt x="104" y="40"/>
                                                    <a:pt x="118" y="30"/>
                                                    <a:pt x="130" y="22"/>
                                                  </a:cubicBezTo>
                                                  <a:cubicBezTo>
                                                    <a:pt x="142" y="14"/>
                                                    <a:pt x="150" y="10"/>
                                                    <a:pt x="162" y="7"/>
                                                  </a:cubicBezTo>
                                                  <a:cubicBezTo>
                                                    <a:pt x="174" y="4"/>
                                                    <a:pt x="191" y="2"/>
                                                    <a:pt x="202" y="1"/>
                                                  </a:cubicBezTo>
                                                  <a:cubicBezTo>
                                                    <a:pt x="213" y="0"/>
                                                    <a:pt x="220" y="0"/>
                                                    <a:pt x="228" y="1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6480">
                                              <a:solidFill>
                                                <a:srgbClr val="3333cc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wrap="none" anchor="ctr">
                                              <a:noAutofit/>
                                            </a:bodyPr>
                                            <a:p>
                                              <a:endParaRPr b="0" lang="en-US" sz="24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5703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2748600" y="5783400"/>
                                              <a:ext cx="32760" cy="144000"/>
                                            </a:xfrm>
                                            <a:custGeom>
                                              <a:avLst/>
                                              <a:gdLst/>
                                              <a:ahLst/>
                                              <a:rect l="l" t="t" r="r" b="b"/>
                                              <a:pathLst>
                                                <a:path w="228" h="159">
                                                  <a:moveTo>
                                                    <a:pt x="0" y="159"/>
                                                  </a:moveTo>
                                                  <a:cubicBezTo>
                                                    <a:pt x="15" y="139"/>
                                                    <a:pt x="30" y="120"/>
                                                    <a:pt x="45" y="103"/>
                                                  </a:cubicBezTo>
                                                  <a:cubicBezTo>
                                                    <a:pt x="60" y="86"/>
                                                    <a:pt x="76" y="68"/>
                                                    <a:pt x="90" y="54"/>
                                                  </a:cubicBezTo>
                                                  <a:cubicBezTo>
                                                    <a:pt x="104" y="40"/>
                                                    <a:pt x="118" y="30"/>
                                                    <a:pt x="130" y="22"/>
                                                  </a:cubicBezTo>
                                                  <a:cubicBezTo>
                                                    <a:pt x="142" y="14"/>
                                                    <a:pt x="150" y="10"/>
                                                    <a:pt x="162" y="7"/>
                                                  </a:cubicBezTo>
                                                  <a:cubicBezTo>
                                                    <a:pt x="174" y="4"/>
                                                    <a:pt x="191" y="2"/>
                                                    <a:pt x="202" y="1"/>
                                                  </a:cubicBezTo>
                                                  <a:cubicBezTo>
                                                    <a:pt x="213" y="0"/>
                                                    <a:pt x="220" y="0"/>
                                                    <a:pt x="228" y="1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6480">
                                              <a:solidFill>
                                                <a:srgbClr val="3333cc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wrap="none" anchor="ctr">
                                              <a:noAutofit/>
                                            </a:bodyPr>
                                            <a:p>
                                              <a:endParaRPr b="0" lang="en-US" sz="24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5704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 flipV="1">
                                              <a:off x="2780280" y="5783040"/>
                                              <a:ext cx="4680" cy="252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6480">
                                              <a:solidFill>
                                                <a:srgbClr val="3333cc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4280" bIns="-44280" anchor="ctr">
                                              <a:noAutofit/>
                                            </a:bodyPr>
                                            <a:p>
                                              <a:endParaRPr b="0" lang="en-US" sz="24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sp>
                                        <p:nvSpPr>
                                          <p:cNvPr id="5705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2886120" y="4598640"/>
                                            <a:ext cx="69120" cy="1328040"/>
                                          </a:xfrm>
                                          <a:custGeom>
                                            <a:avLst/>
                                            <a:gdLst/>
                                            <a:ahLst/>
                                            <a:rect l="l" t="t" r="r" b="b"/>
                                            <a:pathLst>
                                              <a:path w="480" h="1467">
                                                <a:moveTo>
                                                  <a:pt x="0" y="0"/>
                                                </a:moveTo>
                                                <a:cubicBezTo>
                                                  <a:pt x="17" y="2"/>
                                                  <a:pt x="34" y="4"/>
                                                  <a:pt x="51" y="6"/>
                                                </a:cubicBezTo>
                                                <a:cubicBezTo>
                                                  <a:pt x="68" y="8"/>
                                                  <a:pt x="88" y="10"/>
                                                  <a:pt x="102" y="15"/>
                                                </a:cubicBezTo>
                                                <a:cubicBezTo>
                                                  <a:pt x="116" y="20"/>
                                                  <a:pt x="122" y="23"/>
                                                  <a:pt x="135" y="33"/>
                                                </a:cubicBezTo>
                                                <a:cubicBezTo>
                                                  <a:pt x="148" y="43"/>
                                                  <a:pt x="167" y="56"/>
                                                  <a:pt x="180" y="78"/>
                                                </a:cubicBezTo>
                                                <a:cubicBezTo>
                                                  <a:pt x="193" y="100"/>
                                                  <a:pt x="204" y="120"/>
                                                  <a:pt x="216" y="165"/>
                                                </a:cubicBezTo>
                                                <a:cubicBezTo>
                                                  <a:pt x="228" y="210"/>
                                                  <a:pt x="211" y="131"/>
                                                  <a:pt x="255" y="348"/>
                                                </a:cubicBezTo>
                                                <a:cubicBezTo>
                                                  <a:pt x="299" y="565"/>
                                                  <a:pt x="389" y="1016"/>
                                                  <a:pt x="480" y="1467"/>
                                                </a:cubicBezTo>
                                              </a:path>
                                            </a:pathLst>
                                          </a:custGeom>
                                          <a:noFill/>
                                          <a:ln w="6480">
                                            <a:solidFill>
                                              <a:srgbClr val="3333cc"/>
                                            </a:solidFill>
                                            <a:round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wrap="none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  <p:grpSp>
                                    <p:nvGrpSpPr>
                                      <p:cNvPr id="5706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2334240" y="4568760"/>
                                        <a:ext cx="4021200" cy="1373040"/>
                                        <a:chOff x="2334240" y="4568760"/>
                                        <a:chExt cx="4021200" cy="1373040"/>
                                      </a:xfrm>
                                    </p:grpSpPr>
                                    <p:grpSp>
                                      <p:nvGrpSpPr>
                                        <p:cNvPr id="5707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3999240" y="4598640"/>
                                          <a:ext cx="414720" cy="1330200"/>
                                          <a:chOff x="3999240" y="4598640"/>
                                          <a:chExt cx="414720" cy="1330200"/>
                                        </a:xfrm>
                                      </p:grpSpPr>
                                      <p:grpSp>
                                        <p:nvGrpSpPr>
                                          <p:cNvPr id="5708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4207320" y="4598640"/>
                                            <a:ext cx="206640" cy="1330200"/>
                                            <a:chOff x="4207320" y="4598640"/>
                                            <a:chExt cx="206640" cy="1330200"/>
                                          </a:xfrm>
                                        </p:grpSpPr>
                                        <p:grpSp>
                                          <p:nvGrpSpPr>
                                            <p:cNvPr id="5709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276440" y="5591520"/>
                                              <a:ext cx="69120" cy="337320"/>
                                              <a:chOff x="4276440" y="5591520"/>
                                              <a:chExt cx="69120" cy="337320"/>
                                            </a:xfrm>
                                          </p:grpSpPr>
                                          <p:sp>
                                            <p:nvSpPr>
                                              <p:cNvPr id="5710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276440" y="5591520"/>
                                                <a:ext cx="33840" cy="33732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34" h="373">
                                                    <a:moveTo>
                                                      <a:pt x="0" y="373"/>
                                                    </a:moveTo>
                                                    <a:cubicBezTo>
                                                      <a:pt x="4" y="357"/>
                                                      <a:pt x="8" y="342"/>
                                                      <a:pt x="15" y="319"/>
                                                    </a:cubicBezTo>
                                                    <a:cubicBezTo>
                                                      <a:pt x="22" y="296"/>
                                                      <a:pt x="34" y="260"/>
                                                      <a:pt x="44" y="232"/>
                                                    </a:cubicBezTo>
                                                    <a:cubicBezTo>
                                                      <a:pt x="54" y="204"/>
                                                      <a:pt x="64" y="173"/>
                                                      <a:pt x="74" y="150"/>
                                                    </a:cubicBezTo>
                                                    <a:cubicBezTo>
                                                      <a:pt x="84" y="127"/>
                                                      <a:pt x="91" y="111"/>
                                                      <a:pt x="102" y="93"/>
                                                    </a:cubicBezTo>
                                                    <a:cubicBezTo>
                                                      <a:pt x="113" y="75"/>
                                                      <a:pt x="127" y="56"/>
                                                      <a:pt x="137" y="43"/>
                                                    </a:cubicBezTo>
                                                    <a:cubicBezTo>
                                                      <a:pt x="147" y="30"/>
                                                      <a:pt x="155" y="23"/>
                                                      <a:pt x="164" y="16"/>
                                                    </a:cubicBezTo>
                                                    <a:cubicBezTo>
                                                      <a:pt x="173" y="9"/>
                                                      <a:pt x="182" y="6"/>
                                                      <a:pt x="194" y="3"/>
                                                    </a:cubicBezTo>
                                                    <a:cubicBezTo>
                                                      <a:pt x="206" y="0"/>
                                                      <a:pt x="226" y="0"/>
                                                      <a:pt x="234" y="0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11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311720" y="5591520"/>
                                                <a:ext cx="33840" cy="33732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34" h="373">
                                                    <a:moveTo>
                                                      <a:pt x="0" y="373"/>
                                                    </a:moveTo>
                                                    <a:cubicBezTo>
                                                      <a:pt x="4" y="357"/>
                                                      <a:pt x="8" y="342"/>
                                                      <a:pt x="15" y="319"/>
                                                    </a:cubicBezTo>
                                                    <a:cubicBezTo>
                                                      <a:pt x="22" y="296"/>
                                                      <a:pt x="34" y="260"/>
                                                      <a:pt x="44" y="232"/>
                                                    </a:cubicBezTo>
                                                    <a:cubicBezTo>
                                                      <a:pt x="54" y="204"/>
                                                      <a:pt x="64" y="173"/>
                                                      <a:pt x="74" y="150"/>
                                                    </a:cubicBezTo>
                                                    <a:cubicBezTo>
                                                      <a:pt x="84" y="127"/>
                                                      <a:pt x="91" y="111"/>
                                                      <a:pt x="102" y="93"/>
                                                    </a:cubicBezTo>
                                                    <a:cubicBezTo>
                                                      <a:pt x="113" y="75"/>
                                                      <a:pt x="127" y="56"/>
                                                      <a:pt x="137" y="43"/>
                                                    </a:cubicBezTo>
                                                    <a:cubicBezTo>
                                                      <a:pt x="147" y="30"/>
                                                      <a:pt x="155" y="23"/>
                                                      <a:pt x="164" y="16"/>
                                                    </a:cubicBezTo>
                                                    <a:cubicBezTo>
                                                      <a:pt x="173" y="9"/>
                                                      <a:pt x="182" y="6"/>
                                                      <a:pt x="194" y="3"/>
                                                    </a:cubicBezTo>
                                                    <a:cubicBezTo>
                                                      <a:pt x="206" y="0"/>
                                                      <a:pt x="226" y="0"/>
                                                      <a:pt x="234" y="0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12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309200" y="5591520"/>
                                                <a:ext cx="324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5713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345920" y="5783040"/>
                                              <a:ext cx="68040" cy="144720"/>
                                              <a:chOff x="4345920" y="5783040"/>
                                              <a:chExt cx="68040" cy="144720"/>
                                            </a:xfrm>
                                          </p:grpSpPr>
                                          <p:sp>
                                            <p:nvSpPr>
                                              <p:cNvPr id="5714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345920" y="5784120"/>
                                                <a:ext cx="32760" cy="14364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28" h="159">
                                                    <a:moveTo>
                                                      <a:pt x="0" y="159"/>
                                                    </a:moveTo>
                                                    <a:cubicBezTo>
                                                      <a:pt x="15" y="139"/>
                                                      <a:pt x="30" y="120"/>
                                                      <a:pt x="45" y="103"/>
                                                    </a:cubicBezTo>
                                                    <a:cubicBezTo>
                                                      <a:pt x="60" y="86"/>
                                                      <a:pt x="76" y="68"/>
                                                      <a:pt x="90" y="54"/>
                                                    </a:cubicBezTo>
                                                    <a:cubicBezTo>
                                                      <a:pt x="104" y="40"/>
                                                      <a:pt x="118" y="30"/>
                                                      <a:pt x="130" y="22"/>
                                                    </a:cubicBezTo>
                                                    <a:cubicBezTo>
                                                      <a:pt x="142" y="14"/>
                                                      <a:pt x="150" y="10"/>
                                                      <a:pt x="162" y="7"/>
                                                    </a:cubicBezTo>
                                                    <a:cubicBezTo>
                                                      <a:pt x="174" y="4"/>
                                                      <a:pt x="191" y="2"/>
                                                      <a:pt x="202" y="1"/>
                                                    </a:cubicBezTo>
                                                    <a:cubicBezTo>
                                                      <a:pt x="213" y="0"/>
                                                      <a:pt x="220" y="0"/>
                                                      <a:pt x="228" y="1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15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380840" y="5783400"/>
                                                <a:ext cx="32760" cy="14400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28" h="159">
                                                    <a:moveTo>
                                                      <a:pt x="0" y="159"/>
                                                    </a:moveTo>
                                                    <a:cubicBezTo>
                                                      <a:pt x="15" y="139"/>
                                                      <a:pt x="30" y="120"/>
                                                      <a:pt x="45" y="103"/>
                                                    </a:cubicBezTo>
                                                    <a:cubicBezTo>
                                                      <a:pt x="60" y="86"/>
                                                      <a:pt x="76" y="68"/>
                                                      <a:pt x="90" y="54"/>
                                                    </a:cubicBezTo>
                                                    <a:cubicBezTo>
                                                      <a:pt x="104" y="40"/>
                                                      <a:pt x="118" y="30"/>
                                                      <a:pt x="130" y="22"/>
                                                    </a:cubicBezTo>
                                                    <a:cubicBezTo>
                                                      <a:pt x="142" y="14"/>
                                                      <a:pt x="150" y="10"/>
                                                      <a:pt x="162" y="7"/>
                                                    </a:cubicBezTo>
                                                    <a:cubicBezTo>
                                                      <a:pt x="174" y="4"/>
                                                      <a:pt x="191" y="2"/>
                                                      <a:pt x="202" y="1"/>
                                                    </a:cubicBezTo>
                                                    <a:cubicBezTo>
                                                      <a:pt x="213" y="0"/>
                                                      <a:pt x="220" y="0"/>
                                                      <a:pt x="228" y="1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16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4377600" y="5783040"/>
                                                <a:ext cx="4680" cy="252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4280" bIns="-44280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sp>
                                          <p:nvSpPr>
                                            <p:cNvPr id="5717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4207320" y="4598640"/>
                                              <a:ext cx="69120" cy="1328040"/>
                                            </a:xfrm>
                                            <a:custGeom>
                                              <a:avLst/>
                                              <a:gdLst/>
                                              <a:ahLst/>
                                              <a:rect l="l" t="t" r="r" b="b"/>
                                              <a:pathLst>
                                                <a:path w="480" h="1467">
                                                  <a:moveTo>
                                                    <a:pt x="0" y="0"/>
                                                  </a:moveTo>
                                                  <a:cubicBezTo>
                                                    <a:pt x="17" y="2"/>
                                                    <a:pt x="34" y="4"/>
                                                    <a:pt x="51" y="6"/>
                                                  </a:cubicBezTo>
                                                  <a:cubicBezTo>
                                                    <a:pt x="68" y="8"/>
                                                    <a:pt x="88" y="10"/>
                                                    <a:pt x="102" y="15"/>
                                                  </a:cubicBezTo>
                                                  <a:cubicBezTo>
                                                    <a:pt x="116" y="20"/>
                                                    <a:pt x="122" y="23"/>
                                                    <a:pt x="135" y="33"/>
                                                  </a:cubicBezTo>
                                                  <a:cubicBezTo>
                                                    <a:pt x="148" y="43"/>
                                                    <a:pt x="167" y="56"/>
                                                    <a:pt x="180" y="78"/>
                                                  </a:cubicBezTo>
                                                  <a:cubicBezTo>
                                                    <a:pt x="193" y="100"/>
                                                    <a:pt x="204" y="120"/>
                                                    <a:pt x="216" y="165"/>
                                                  </a:cubicBezTo>
                                                  <a:cubicBezTo>
                                                    <a:pt x="228" y="210"/>
                                                    <a:pt x="211" y="131"/>
                                                    <a:pt x="255" y="348"/>
                                                  </a:cubicBezTo>
                                                  <a:cubicBezTo>
                                                    <a:pt x="299" y="565"/>
                                                    <a:pt x="389" y="1016"/>
                                                    <a:pt x="480" y="1467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6480">
                                              <a:solidFill>
                                                <a:srgbClr val="3333cc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wrap="none" anchor="ctr">
                                              <a:noAutofit/>
                                            </a:bodyPr>
                                            <a:p>
                                              <a:endParaRPr b="0" lang="en-US" sz="24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grpSp>
                                        <p:nvGrpSpPr>
                                          <p:cNvPr id="5718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3999240" y="4598640"/>
                                            <a:ext cx="206640" cy="1330200"/>
                                            <a:chOff x="3999240" y="4598640"/>
                                            <a:chExt cx="206640" cy="1330200"/>
                                          </a:xfrm>
                                        </p:grpSpPr>
                                        <p:grpSp>
                                          <p:nvGrpSpPr>
                                            <p:cNvPr id="5719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067640" y="5591520"/>
                                              <a:ext cx="69120" cy="337320"/>
                                              <a:chOff x="4067640" y="5591520"/>
                                              <a:chExt cx="69120" cy="337320"/>
                                            </a:xfrm>
                                          </p:grpSpPr>
                                          <p:sp>
                                            <p:nvSpPr>
                                              <p:cNvPr id="5720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102920" y="5591520"/>
                                                <a:ext cx="33840" cy="33732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34" h="373">
                                                    <a:moveTo>
                                                      <a:pt x="0" y="373"/>
                                                    </a:moveTo>
                                                    <a:cubicBezTo>
                                                      <a:pt x="4" y="357"/>
                                                      <a:pt x="8" y="342"/>
                                                      <a:pt x="15" y="319"/>
                                                    </a:cubicBezTo>
                                                    <a:cubicBezTo>
                                                      <a:pt x="22" y="296"/>
                                                      <a:pt x="34" y="260"/>
                                                      <a:pt x="44" y="232"/>
                                                    </a:cubicBezTo>
                                                    <a:cubicBezTo>
                                                      <a:pt x="54" y="204"/>
                                                      <a:pt x="64" y="173"/>
                                                      <a:pt x="74" y="150"/>
                                                    </a:cubicBezTo>
                                                    <a:cubicBezTo>
                                                      <a:pt x="84" y="127"/>
                                                      <a:pt x="91" y="111"/>
                                                      <a:pt x="102" y="93"/>
                                                    </a:cubicBezTo>
                                                    <a:cubicBezTo>
                                                      <a:pt x="113" y="75"/>
                                                      <a:pt x="127" y="56"/>
                                                      <a:pt x="137" y="43"/>
                                                    </a:cubicBezTo>
                                                    <a:cubicBezTo>
                                                      <a:pt x="147" y="30"/>
                                                      <a:pt x="155" y="23"/>
                                                      <a:pt x="164" y="16"/>
                                                    </a:cubicBezTo>
                                                    <a:cubicBezTo>
                                                      <a:pt x="173" y="9"/>
                                                      <a:pt x="182" y="6"/>
                                                      <a:pt x="194" y="3"/>
                                                    </a:cubicBezTo>
                                                    <a:cubicBezTo>
                                                      <a:pt x="206" y="0"/>
                                                      <a:pt x="226" y="0"/>
                                                      <a:pt x="234" y="0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21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067640" y="5591520"/>
                                                <a:ext cx="33840" cy="33732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34" h="373">
                                                    <a:moveTo>
                                                      <a:pt x="0" y="373"/>
                                                    </a:moveTo>
                                                    <a:cubicBezTo>
                                                      <a:pt x="4" y="357"/>
                                                      <a:pt x="8" y="342"/>
                                                      <a:pt x="15" y="319"/>
                                                    </a:cubicBezTo>
                                                    <a:cubicBezTo>
                                                      <a:pt x="22" y="296"/>
                                                      <a:pt x="34" y="260"/>
                                                      <a:pt x="44" y="232"/>
                                                    </a:cubicBezTo>
                                                    <a:cubicBezTo>
                                                      <a:pt x="54" y="204"/>
                                                      <a:pt x="64" y="173"/>
                                                      <a:pt x="74" y="150"/>
                                                    </a:cubicBezTo>
                                                    <a:cubicBezTo>
                                                      <a:pt x="84" y="127"/>
                                                      <a:pt x="91" y="111"/>
                                                      <a:pt x="102" y="93"/>
                                                    </a:cubicBezTo>
                                                    <a:cubicBezTo>
                                                      <a:pt x="113" y="75"/>
                                                      <a:pt x="127" y="56"/>
                                                      <a:pt x="137" y="43"/>
                                                    </a:cubicBezTo>
                                                    <a:cubicBezTo>
                                                      <a:pt x="147" y="30"/>
                                                      <a:pt x="155" y="23"/>
                                                      <a:pt x="164" y="16"/>
                                                    </a:cubicBezTo>
                                                    <a:cubicBezTo>
                                                      <a:pt x="173" y="9"/>
                                                      <a:pt x="182" y="6"/>
                                                      <a:pt x="194" y="3"/>
                                                    </a:cubicBezTo>
                                                    <a:cubicBezTo>
                                                      <a:pt x="206" y="0"/>
                                                      <a:pt x="226" y="0"/>
                                                      <a:pt x="234" y="0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22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100760" y="5591520"/>
                                                <a:ext cx="324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5723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3999240" y="5783040"/>
                                              <a:ext cx="68040" cy="144720"/>
                                              <a:chOff x="3999240" y="5783040"/>
                                              <a:chExt cx="68040" cy="144720"/>
                                            </a:xfrm>
                                          </p:grpSpPr>
                                          <p:sp>
                                            <p:nvSpPr>
                                              <p:cNvPr id="5724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034160" y="5784120"/>
                                                <a:ext cx="32760" cy="14364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28" h="159">
                                                    <a:moveTo>
                                                      <a:pt x="0" y="159"/>
                                                    </a:moveTo>
                                                    <a:cubicBezTo>
                                                      <a:pt x="15" y="139"/>
                                                      <a:pt x="30" y="120"/>
                                                      <a:pt x="45" y="103"/>
                                                    </a:cubicBezTo>
                                                    <a:cubicBezTo>
                                                      <a:pt x="60" y="86"/>
                                                      <a:pt x="76" y="68"/>
                                                      <a:pt x="90" y="54"/>
                                                    </a:cubicBezTo>
                                                    <a:cubicBezTo>
                                                      <a:pt x="104" y="40"/>
                                                      <a:pt x="118" y="30"/>
                                                      <a:pt x="130" y="22"/>
                                                    </a:cubicBezTo>
                                                    <a:cubicBezTo>
                                                      <a:pt x="142" y="14"/>
                                                      <a:pt x="150" y="10"/>
                                                      <a:pt x="162" y="7"/>
                                                    </a:cubicBezTo>
                                                    <a:cubicBezTo>
                                                      <a:pt x="174" y="4"/>
                                                      <a:pt x="191" y="2"/>
                                                      <a:pt x="202" y="1"/>
                                                    </a:cubicBezTo>
                                                    <a:cubicBezTo>
                                                      <a:pt x="213" y="0"/>
                                                      <a:pt x="220" y="0"/>
                                                      <a:pt x="228" y="1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25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3999240" y="5783400"/>
                                                <a:ext cx="32760" cy="14400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28" h="159">
                                                    <a:moveTo>
                                                      <a:pt x="0" y="159"/>
                                                    </a:moveTo>
                                                    <a:cubicBezTo>
                                                      <a:pt x="15" y="139"/>
                                                      <a:pt x="30" y="120"/>
                                                      <a:pt x="45" y="103"/>
                                                    </a:cubicBezTo>
                                                    <a:cubicBezTo>
                                                      <a:pt x="60" y="86"/>
                                                      <a:pt x="76" y="68"/>
                                                      <a:pt x="90" y="54"/>
                                                    </a:cubicBezTo>
                                                    <a:cubicBezTo>
                                                      <a:pt x="104" y="40"/>
                                                      <a:pt x="118" y="30"/>
                                                      <a:pt x="130" y="22"/>
                                                    </a:cubicBezTo>
                                                    <a:cubicBezTo>
                                                      <a:pt x="142" y="14"/>
                                                      <a:pt x="150" y="10"/>
                                                      <a:pt x="162" y="7"/>
                                                    </a:cubicBezTo>
                                                    <a:cubicBezTo>
                                                      <a:pt x="174" y="4"/>
                                                      <a:pt x="191" y="2"/>
                                                      <a:pt x="202" y="1"/>
                                                    </a:cubicBezTo>
                                                    <a:cubicBezTo>
                                                      <a:pt x="213" y="0"/>
                                                      <a:pt x="220" y="0"/>
                                                      <a:pt x="228" y="1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26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 flipV="1">
                                                <a:off x="4030920" y="5783040"/>
                                                <a:ext cx="4680" cy="252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4280" bIns="-44280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sp>
                                          <p:nvSpPr>
                                            <p:cNvPr id="5727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4136760" y="4598640"/>
                                              <a:ext cx="69120" cy="1328040"/>
                                            </a:xfrm>
                                            <a:custGeom>
                                              <a:avLst/>
                                              <a:gdLst/>
                                              <a:ahLst/>
                                              <a:rect l="l" t="t" r="r" b="b"/>
                                              <a:pathLst>
                                                <a:path w="480" h="1467">
                                                  <a:moveTo>
                                                    <a:pt x="0" y="0"/>
                                                  </a:moveTo>
                                                  <a:cubicBezTo>
                                                    <a:pt x="17" y="2"/>
                                                    <a:pt x="34" y="4"/>
                                                    <a:pt x="51" y="6"/>
                                                  </a:cubicBezTo>
                                                  <a:cubicBezTo>
                                                    <a:pt x="68" y="8"/>
                                                    <a:pt x="88" y="10"/>
                                                    <a:pt x="102" y="15"/>
                                                  </a:cubicBezTo>
                                                  <a:cubicBezTo>
                                                    <a:pt x="116" y="20"/>
                                                    <a:pt x="122" y="23"/>
                                                    <a:pt x="135" y="33"/>
                                                  </a:cubicBezTo>
                                                  <a:cubicBezTo>
                                                    <a:pt x="148" y="43"/>
                                                    <a:pt x="167" y="56"/>
                                                    <a:pt x="180" y="78"/>
                                                  </a:cubicBezTo>
                                                  <a:cubicBezTo>
                                                    <a:pt x="193" y="100"/>
                                                    <a:pt x="204" y="120"/>
                                                    <a:pt x="216" y="165"/>
                                                  </a:cubicBezTo>
                                                  <a:cubicBezTo>
                                                    <a:pt x="228" y="210"/>
                                                    <a:pt x="211" y="131"/>
                                                    <a:pt x="255" y="348"/>
                                                  </a:cubicBezTo>
                                                  <a:cubicBezTo>
                                                    <a:pt x="299" y="565"/>
                                                    <a:pt x="389" y="1016"/>
                                                    <a:pt x="480" y="1467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6480">
                                              <a:solidFill>
                                                <a:srgbClr val="3333cc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wrap="none" anchor="ctr">
                                              <a:noAutofit/>
                                            </a:bodyPr>
                                            <a:p>
                                              <a:endParaRPr b="0" lang="en-US" sz="24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  <p:grpSp>
                                      <p:nvGrpSpPr>
                                        <p:cNvPr id="5728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3717000" y="4598640"/>
                                          <a:ext cx="414360" cy="1330200"/>
                                          <a:chOff x="3717000" y="4598640"/>
                                          <a:chExt cx="414360" cy="1330200"/>
                                        </a:xfrm>
                                      </p:grpSpPr>
                                      <p:grpSp>
                                        <p:nvGrpSpPr>
                                          <p:cNvPr id="5729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3924720" y="4598640"/>
                                            <a:ext cx="206640" cy="1330200"/>
                                            <a:chOff x="3924720" y="4598640"/>
                                            <a:chExt cx="206640" cy="1330200"/>
                                          </a:xfrm>
                                        </p:grpSpPr>
                                        <p:grpSp>
                                          <p:nvGrpSpPr>
                                            <p:cNvPr id="5730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3993840" y="5591520"/>
                                              <a:ext cx="69120" cy="337320"/>
                                              <a:chOff x="3993840" y="5591520"/>
                                              <a:chExt cx="69120" cy="337320"/>
                                            </a:xfrm>
                                          </p:grpSpPr>
                                          <p:sp>
                                            <p:nvSpPr>
                                              <p:cNvPr id="5731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3993840" y="5591520"/>
                                                <a:ext cx="33840" cy="33732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34" h="373">
                                                    <a:moveTo>
                                                      <a:pt x="0" y="373"/>
                                                    </a:moveTo>
                                                    <a:cubicBezTo>
                                                      <a:pt x="4" y="357"/>
                                                      <a:pt x="8" y="342"/>
                                                      <a:pt x="15" y="319"/>
                                                    </a:cubicBezTo>
                                                    <a:cubicBezTo>
                                                      <a:pt x="22" y="296"/>
                                                      <a:pt x="34" y="260"/>
                                                      <a:pt x="44" y="232"/>
                                                    </a:cubicBezTo>
                                                    <a:cubicBezTo>
                                                      <a:pt x="54" y="204"/>
                                                      <a:pt x="64" y="173"/>
                                                      <a:pt x="74" y="150"/>
                                                    </a:cubicBezTo>
                                                    <a:cubicBezTo>
                                                      <a:pt x="84" y="127"/>
                                                      <a:pt x="91" y="111"/>
                                                      <a:pt x="102" y="93"/>
                                                    </a:cubicBezTo>
                                                    <a:cubicBezTo>
                                                      <a:pt x="113" y="75"/>
                                                      <a:pt x="127" y="56"/>
                                                      <a:pt x="137" y="43"/>
                                                    </a:cubicBezTo>
                                                    <a:cubicBezTo>
                                                      <a:pt x="147" y="30"/>
                                                      <a:pt x="155" y="23"/>
                                                      <a:pt x="164" y="16"/>
                                                    </a:cubicBezTo>
                                                    <a:cubicBezTo>
                                                      <a:pt x="173" y="9"/>
                                                      <a:pt x="182" y="6"/>
                                                      <a:pt x="194" y="3"/>
                                                    </a:cubicBezTo>
                                                    <a:cubicBezTo>
                                                      <a:pt x="206" y="0"/>
                                                      <a:pt x="226" y="0"/>
                                                      <a:pt x="234" y="0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32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029120" y="5591520"/>
                                                <a:ext cx="33840" cy="33732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34" h="373">
                                                    <a:moveTo>
                                                      <a:pt x="0" y="373"/>
                                                    </a:moveTo>
                                                    <a:cubicBezTo>
                                                      <a:pt x="4" y="357"/>
                                                      <a:pt x="8" y="342"/>
                                                      <a:pt x="15" y="319"/>
                                                    </a:cubicBezTo>
                                                    <a:cubicBezTo>
                                                      <a:pt x="22" y="296"/>
                                                      <a:pt x="34" y="260"/>
                                                      <a:pt x="44" y="232"/>
                                                    </a:cubicBezTo>
                                                    <a:cubicBezTo>
                                                      <a:pt x="54" y="204"/>
                                                      <a:pt x="64" y="173"/>
                                                      <a:pt x="74" y="150"/>
                                                    </a:cubicBezTo>
                                                    <a:cubicBezTo>
                                                      <a:pt x="84" y="127"/>
                                                      <a:pt x="91" y="111"/>
                                                      <a:pt x="102" y="93"/>
                                                    </a:cubicBezTo>
                                                    <a:cubicBezTo>
                                                      <a:pt x="113" y="75"/>
                                                      <a:pt x="127" y="56"/>
                                                      <a:pt x="137" y="43"/>
                                                    </a:cubicBezTo>
                                                    <a:cubicBezTo>
                                                      <a:pt x="147" y="30"/>
                                                      <a:pt x="155" y="23"/>
                                                      <a:pt x="164" y="16"/>
                                                    </a:cubicBezTo>
                                                    <a:cubicBezTo>
                                                      <a:pt x="173" y="9"/>
                                                      <a:pt x="182" y="6"/>
                                                      <a:pt x="194" y="3"/>
                                                    </a:cubicBezTo>
                                                    <a:cubicBezTo>
                                                      <a:pt x="206" y="0"/>
                                                      <a:pt x="226" y="0"/>
                                                      <a:pt x="234" y="0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33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026600" y="5591520"/>
                                                <a:ext cx="324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5734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063320" y="5783040"/>
                                              <a:ext cx="68040" cy="144720"/>
                                              <a:chOff x="4063320" y="5783040"/>
                                              <a:chExt cx="68040" cy="144720"/>
                                            </a:xfrm>
                                          </p:grpSpPr>
                                          <p:sp>
                                            <p:nvSpPr>
                                              <p:cNvPr id="5735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063320" y="5784120"/>
                                                <a:ext cx="32760" cy="14364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28" h="159">
                                                    <a:moveTo>
                                                      <a:pt x="0" y="159"/>
                                                    </a:moveTo>
                                                    <a:cubicBezTo>
                                                      <a:pt x="15" y="139"/>
                                                      <a:pt x="30" y="120"/>
                                                      <a:pt x="45" y="103"/>
                                                    </a:cubicBezTo>
                                                    <a:cubicBezTo>
                                                      <a:pt x="60" y="86"/>
                                                      <a:pt x="76" y="68"/>
                                                      <a:pt x="90" y="54"/>
                                                    </a:cubicBezTo>
                                                    <a:cubicBezTo>
                                                      <a:pt x="104" y="40"/>
                                                      <a:pt x="118" y="30"/>
                                                      <a:pt x="130" y="22"/>
                                                    </a:cubicBezTo>
                                                    <a:cubicBezTo>
                                                      <a:pt x="142" y="14"/>
                                                      <a:pt x="150" y="10"/>
                                                      <a:pt x="162" y="7"/>
                                                    </a:cubicBezTo>
                                                    <a:cubicBezTo>
                                                      <a:pt x="174" y="4"/>
                                                      <a:pt x="191" y="2"/>
                                                      <a:pt x="202" y="1"/>
                                                    </a:cubicBezTo>
                                                    <a:cubicBezTo>
                                                      <a:pt x="213" y="0"/>
                                                      <a:pt x="220" y="0"/>
                                                      <a:pt x="228" y="1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36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098240" y="5783400"/>
                                                <a:ext cx="32760" cy="14400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28" h="159">
                                                    <a:moveTo>
                                                      <a:pt x="0" y="159"/>
                                                    </a:moveTo>
                                                    <a:cubicBezTo>
                                                      <a:pt x="15" y="139"/>
                                                      <a:pt x="30" y="120"/>
                                                      <a:pt x="45" y="103"/>
                                                    </a:cubicBezTo>
                                                    <a:cubicBezTo>
                                                      <a:pt x="60" y="86"/>
                                                      <a:pt x="76" y="68"/>
                                                      <a:pt x="90" y="54"/>
                                                    </a:cubicBezTo>
                                                    <a:cubicBezTo>
                                                      <a:pt x="104" y="40"/>
                                                      <a:pt x="118" y="30"/>
                                                      <a:pt x="130" y="22"/>
                                                    </a:cubicBezTo>
                                                    <a:cubicBezTo>
                                                      <a:pt x="142" y="14"/>
                                                      <a:pt x="150" y="10"/>
                                                      <a:pt x="162" y="7"/>
                                                    </a:cubicBezTo>
                                                    <a:cubicBezTo>
                                                      <a:pt x="174" y="4"/>
                                                      <a:pt x="191" y="2"/>
                                                      <a:pt x="202" y="1"/>
                                                    </a:cubicBezTo>
                                                    <a:cubicBezTo>
                                                      <a:pt x="213" y="0"/>
                                                      <a:pt x="220" y="0"/>
                                                      <a:pt x="228" y="1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37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4095000" y="5783040"/>
                                                <a:ext cx="4680" cy="252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4280" bIns="-44280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sp>
                                          <p:nvSpPr>
                                            <p:cNvPr id="5738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924720" y="4598640"/>
                                              <a:ext cx="69120" cy="1328040"/>
                                            </a:xfrm>
                                            <a:custGeom>
                                              <a:avLst/>
                                              <a:gdLst/>
                                              <a:ahLst/>
                                              <a:rect l="l" t="t" r="r" b="b"/>
                                              <a:pathLst>
                                                <a:path w="480" h="1467">
                                                  <a:moveTo>
                                                    <a:pt x="0" y="0"/>
                                                  </a:moveTo>
                                                  <a:cubicBezTo>
                                                    <a:pt x="17" y="2"/>
                                                    <a:pt x="34" y="4"/>
                                                    <a:pt x="51" y="6"/>
                                                  </a:cubicBezTo>
                                                  <a:cubicBezTo>
                                                    <a:pt x="68" y="8"/>
                                                    <a:pt x="88" y="10"/>
                                                    <a:pt x="102" y="15"/>
                                                  </a:cubicBezTo>
                                                  <a:cubicBezTo>
                                                    <a:pt x="116" y="20"/>
                                                    <a:pt x="122" y="23"/>
                                                    <a:pt x="135" y="33"/>
                                                  </a:cubicBezTo>
                                                  <a:cubicBezTo>
                                                    <a:pt x="148" y="43"/>
                                                    <a:pt x="167" y="56"/>
                                                    <a:pt x="180" y="78"/>
                                                  </a:cubicBezTo>
                                                  <a:cubicBezTo>
                                                    <a:pt x="193" y="100"/>
                                                    <a:pt x="204" y="120"/>
                                                    <a:pt x="216" y="165"/>
                                                  </a:cubicBezTo>
                                                  <a:cubicBezTo>
                                                    <a:pt x="228" y="210"/>
                                                    <a:pt x="211" y="131"/>
                                                    <a:pt x="255" y="348"/>
                                                  </a:cubicBezTo>
                                                  <a:cubicBezTo>
                                                    <a:pt x="299" y="565"/>
                                                    <a:pt x="389" y="1016"/>
                                                    <a:pt x="480" y="1467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6480">
                                              <a:solidFill>
                                                <a:srgbClr val="3333cc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wrap="none" anchor="ctr">
                                              <a:noAutofit/>
                                            </a:bodyPr>
                                            <a:p>
                                              <a:endParaRPr b="0" lang="en-US" sz="24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grpSp>
                                        <p:nvGrpSpPr>
                                          <p:cNvPr id="5739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3717000" y="4598640"/>
                                            <a:ext cx="206640" cy="1330200"/>
                                            <a:chOff x="3717000" y="4598640"/>
                                            <a:chExt cx="206640" cy="1330200"/>
                                          </a:xfrm>
                                        </p:grpSpPr>
                                        <p:grpSp>
                                          <p:nvGrpSpPr>
                                            <p:cNvPr id="5740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3785400" y="5591520"/>
                                              <a:ext cx="69120" cy="337320"/>
                                              <a:chOff x="3785400" y="5591520"/>
                                              <a:chExt cx="69120" cy="337320"/>
                                            </a:xfrm>
                                          </p:grpSpPr>
                                          <p:sp>
                                            <p:nvSpPr>
                                              <p:cNvPr id="5741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3820680" y="5591520"/>
                                                <a:ext cx="33840" cy="33732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34" h="373">
                                                    <a:moveTo>
                                                      <a:pt x="0" y="373"/>
                                                    </a:moveTo>
                                                    <a:cubicBezTo>
                                                      <a:pt x="4" y="357"/>
                                                      <a:pt x="8" y="342"/>
                                                      <a:pt x="15" y="319"/>
                                                    </a:cubicBezTo>
                                                    <a:cubicBezTo>
                                                      <a:pt x="22" y="296"/>
                                                      <a:pt x="34" y="260"/>
                                                      <a:pt x="44" y="232"/>
                                                    </a:cubicBezTo>
                                                    <a:cubicBezTo>
                                                      <a:pt x="54" y="204"/>
                                                      <a:pt x="64" y="173"/>
                                                      <a:pt x="74" y="150"/>
                                                    </a:cubicBezTo>
                                                    <a:cubicBezTo>
                                                      <a:pt x="84" y="127"/>
                                                      <a:pt x="91" y="111"/>
                                                      <a:pt x="102" y="93"/>
                                                    </a:cubicBezTo>
                                                    <a:cubicBezTo>
                                                      <a:pt x="113" y="75"/>
                                                      <a:pt x="127" y="56"/>
                                                      <a:pt x="137" y="43"/>
                                                    </a:cubicBezTo>
                                                    <a:cubicBezTo>
                                                      <a:pt x="147" y="30"/>
                                                      <a:pt x="155" y="23"/>
                                                      <a:pt x="164" y="16"/>
                                                    </a:cubicBezTo>
                                                    <a:cubicBezTo>
                                                      <a:pt x="173" y="9"/>
                                                      <a:pt x="182" y="6"/>
                                                      <a:pt x="194" y="3"/>
                                                    </a:cubicBezTo>
                                                    <a:cubicBezTo>
                                                      <a:pt x="206" y="0"/>
                                                      <a:pt x="226" y="0"/>
                                                      <a:pt x="234" y="0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42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3785400" y="5591520"/>
                                                <a:ext cx="33840" cy="33732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34" h="373">
                                                    <a:moveTo>
                                                      <a:pt x="0" y="373"/>
                                                    </a:moveTo>
                                                    <a:cubicBezTo>
                                                      <a:pt x="4" y="357"/>
                                                      <a:pt x="8" y="342"/>
                                                      <a:pt x="15" y="319"/>
                                                    </a:cubicBezTo>
                                                    <a:cubicBezTo>
                                                      <a:pt x="22" y="296"/>
                                                      <a:pt x="34" y="260"/>
                                                      <a:pt x="44" y="232"/>
                                                    </a:cubicBezTo>
                                                    <a:cubicBezTo>
                                                      <a:pt x="54" y="204"/>
                                                      <a:pt x="64" y="173"/>
                                                      <a:pt x="74" y="150"/>
                                                    </a:cubicBezTo>
                                                    <a:cubicBezTo>
                                                      <a:pt x="84" y="127"/>
                                                      <a:pt x="91" y="111"/>
                                                      <a:pt x="102" y="93"/>
                                                    </a:cubicBezTo>
                                                    <a:cubicBezTo>
                                                      <a:pt x="113" y="75"/>
                                                      <a:pt x="127" y="56"/>
                                                      <a:pt x="137" y="43"/>
                                                    </a:cubicBezTo>
                                                    <a:cubicBezTo>
                                                      <a:pt x="147" y="30"/>
                                                      <a:pt x="155" y="23"/>
                                                      <a:pt x="164" y="16"/>
                                                    </a:cubicBezTo>
                                                    <a:cubicBezTo>
                                                      <a:pt x="173" y="9"/>
                                                      <a:pt x="182" y="6"/>
                                                      <a:pt x="194" y="3"/>
                                                    </a:cubicBezTo>
                                                    <a:cubicBezTo>
                                                      <a:pt x="206" y="0"/>
                                                      <a:pt x="226" y="0"/>
                                                      <a:pt x="234" y="0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43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3818520" y="5591520"/>
                                                <a:ext cx="324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5744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3717000" y="5783040"/>
                                              <a:ext cx="68040" cy="144720"/>
                                              <a:chOff x="3717000" y="5783040"/>
                                              <a:chExt cx="68040" cy="144720"/>
                                            </a:xfrm>
                                          </p:grpSpPr>
                                          <p:sp>
                                            <p:nvSpPr>
                                              <p:cNvPr id="5745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3751920" y="5784120"/>
                                                <a:ext cx="32760" cy="14364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28" h="159">
                                                    <a:moveTo>
                                                      <a:pt x="0" y="159"/>
                                                    </a:moveTo>
                                                    <a:cubicBezTo>
                                                      <a:pt x="15" y="139"/>
                                                      <a:pt x="30" y="120"/>
                                                      <a:pt x="45" y="103"/>
                                                    </a:cubicBezTo>
                                                    <a:cubicBezTo>
                                                      <a:pt x="60" y="86"/>
                                                      <a:pt x="76" y="68"/>
                                                      <a:pt x="90" y="54"/>
                                                    </a:cubicBezTo>
                                                    <a:cubicBezTo>
                                                      <a:pt x="104" y="40"/>
                                                      <a:pt x="118" y="30"/>
                                                      <a:pt x="130" y="22"/>
                                                    </a:cubicBezTo>
                                                    <a:cubicBezTo>
                                                      <a:pt x="142" y="14"/>
                                                      <a:pt x="150" y="10"/>
                                                      <a:pt x="162" y="7"/>
                                                    </a:cubicBezTo>
                                                    <a:cubicBezTo>
                                                      <a:pt x="174" y="4"/>
                                                      <a:pt x="191" y="2"/>
                                                      <a:pt x="202" y="1"/>
                                                    </a:cubicBezTo>
                                                    <a:cubicBezTo>
                                                      <a:pt x="213" y="0"/>
                                                      <a:pt x="220" y="0"/>
                                                      <a:pt x="228" y="1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46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3717000" y="5783400"/>
                                                <a:ext cx="32760" cy="14400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28" h="159">
                                                    <a:moveTo>
                                                      <a:pt x="0" y="159"/>
                                                    </a:moveTo>
                                                    <a:cubicBezTo>
                                                      <a:pt x="15" y="139"/>
                                                      <a:pt x="30" y="120"/>
                                                      <a:pt x="45" y="103"/>
                                                    </a:cubicBezTo>
                                                    <a:cubicBezTo>
                                                      <a:pt x="60" y="86"/>
                                                      <a:pt x="76" y="68"/>
                                                      <a:pt x="90" y="54"/>
                                                    </a:cubicBezTo>
                                                    <a:cubicBezTo>
                                                      <a:pt x="104" y="40"/>
                                                      <a:pt x="118" y="30"/>
                                                      <a:pt x="130" y="22"/>
                                                    </a:cubicBezTo>
                                                    <a:cubicBezTo>
                                                      <a:pt x="142" y="14"/>
                                                      <a:pt x="150" y="10"/>
                                                      <a:pt x="162" y="7"/>
                                                    </a:cubicBezTo>
                                                    <a:cubicBezTo>
                                                      <a:pt x="174" y="4"/>
                                                      <a:pt x="191" y="2"/>
                                                      <a:pt x="202" y="1"/>
                                                    </a:cubicBezTo>
                                                    <a:cubicBezTo>
                                                      <a:pt x="213" y="0"/>
                                                      <a:pt x="220" y="0"/>
                                                      <a:pt x="228" y="1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47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 flipV="1">
                                                <a:off x="3748680" y="5783040"/>
                                                <a:ext cx="4680" cy="252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4280" bIns="-44280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sp>
                                          <p:nvSpPr>
                                            <p:cNvPr id="5748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3854520" y="4598640"/>
                                              <a:ext cx="69120" cy="1328040"/>
                                            </a:xfrm>
                                            <a:custGeom>
                                              <a:avLst/>
                                              <a:gdLst/>
                                              <a:ahLst/>
                                              <a:rect l="l" t="t" r="r" b="b"/>
                                              <a:pathLst>
                                                <a:path w="480" h="1467">
                                                  <a:moveTo>
                                                    <a:pt x="0" y="0"/>
                                                  </a:moveTo>
                                                  <a:cubicBezTo>
                                                    <a:pt x="17" y="2"/>
                                                    <a:pt x="34" y="4"/>
                                                    <a:pt x="51" y="6"/>
                                                  </a:cubicBezTo>
                                                  <a:cubicBezTo>
                                                    <a:pt x="68" y="8"/>
                                                    <a:pt x="88" y="10"/>
                                                    <a:pt x="102" y="15"/>
                                                  </a:cubicBezTo>
                                                  <a:cubicBezTo>
                                                    <a:pt x="116" y="20"/>
                                                    <a:pt x="122" y="23"/>
                                                    <a:pt x="135" y="33"/>
                                                  </a:cubicBezTo>
                                                  <a:cubicBezTo>
                                                    <a:pt x="148" y="43"/>
                                                    <a:pt x="167" y="56"/>
                                                    <a:pt x="180" y="78"/>
                                                  </a:cubicBezTo>
                                                  <a:cubicBezTo>
                                                    <a:pt x="193" y="100"/>
                                                    <a:pt x="204" y="120"/>
                                                    <a:pt x="216" y="165"/>
                                                  </a:cubicBezTo>
                                                  <a:cubicBezTo>
                                                    <a:pt x="228" y="210"/>
                                                    <a:pt x="211" y="131"/>
                                                    <a:pt x="255" y="348"/>
                                                  </a:cubicBezTo>
                                                  <a:cubicBezTo>
                                                    <a:pt x="299" y="565"/>
                                                    <a:pt x="389" y="1016"/>
                                                    <a:pt x="480" y="1467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6480">
                                              <a:solidFill>
                                                <a:srgbClr val="3333cc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wrap="none" anchor="ctr">
                                              <a:noAutofit/>
                                            </a:bodyPr>
                                            <a:p>
                                              <a:endParaRPr b="0" lang="en-US" sz="24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  <p:grpSp>
                                      <p:nvGrpSpPr>
                                        <p:cNvPr id="5749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3856680" y="4603680"/>
                                          <a:ext cx="414360" cy="1330200"/>
                                          <a:chOff x="3856680" y="4603680"/>
                                          <a:chExt cx="414360" cy="1330200"/>
                                        </a:xfrm>
                                      </p:grpSpPr>
                                      <p:grpSp>
                                        <p:nvGrpSpPr>
                                          <p:cNvPr id="5750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4064400" y="4603680"/>
                                            <a:ext cx="206640" cy="1330200"/>
                                            <a:chOff x="4064400" y="4603680"/>
                                            <a:chExt cx="206640" cy="1330200"/>
                                          </a:xfrm>
                                        </p:grpSpPr>
                                        <p:grpSp>
                                          <p:nvGrpSpPr>
                                            <p:cNvPr id="5751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133520" y="5596560"/>
                                              <a:ext cx="69120" cy="337320"/>
                                              <a:chOff x="4133520" y="5596560"/>
                                              <a:chExt cx="69120" cy="337320"/>
                                            </a:xfrm>
                                          </p:grpSpPr>
                                          <p:sp>
                                            <p:nvSpPr>
                                              <p:cNvPr id="5752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133520" y="5596560"/>
                                                <a:ext cx="33840" cy="33732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34" h="373">
                                                    <a:moveTo>
                                                      <a:pt x="0" y="373"/>
                                                    </a:moveTo>
                                                    <a:cubicBezTo>
                                                      <a:pt x="4" y="357"/>
                                                      <a:pt x="8" y="342"/>
                                                      <a:pt x="15" y="319"/>
                                                    </a:cubicBezTo>
                                                    <a:cubicBezTo>
                                                      <a:pt x="22" y="296"/>
                                                      <a:pt x="34" y="260"/>
                                                      <a:pt x="44" y="232"/>
                                                    </a:cubicBezTo>
                                                    <a:cubicBezTo>
                                                      <a:pt x="54" y="204"/>
                                                      <a:pt x="64" y="173"/>
                                                      <a:pt x="74" y="150"/>
                                                    </a:cubicBezTo>
                                                    <a:cubicBezTo>
                                                      <a:pt x="84" y="127"/>
                                                      <a:pt x="91" y="111"/>
                                                      <a:pt x="102" y="93"/>
                                                    </a:cubicBezTo>
                                                    <a:cubicBezTo>
                                                      <a:pt x="113" y="75"/>
                                                      <a:pt x="127" y="56"/>
                                                      <a:pt x="137" y="43"/>
                                                    </a:cubicBezTo>
                                                    <a:cubicBezTo>
                                                      <a:pt x="147" y="30"/>
                                                      <a:pt x="155" y="23"/>
                                                      <a:pt x="164" y="16"/>
                                                    </a:cubicBezTo>
                                                    <a:cubicBezTo>
                                                      <a:pt x="173" y="9"/>
                                                      <a:pt x="182" y="6"/>
                                                      <a:pt x="194" y="3"/>
                                                    </a:cubicBezTo>
                                                    <a:cubicBezTo>
                                                      <a:pt x="206" y="0"/>
                                                      <a:pt x="226" y="0"/>
                                                      <a:pt x="234" y="0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53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168800" y="5596560"/>
                                                <a:ext cx="33840" cy="33732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34" h="373">
                                                    <a:moveTo>
                                                      <a:pt x="0" y="373"/>
                                                    </a:moveTo>
                                                    <a:cubicBezTo>
                                                      <a:pt x="4" y="357"/>
                                                      <a:pt x="8" y="342"/>
                                                      <a:pt x="15" y="319"/>
                                                    </a:cubicBezTo>
                                                    <a:cubicBezTo>
                                                      <a:pt x="22" y="296"/>
                                                      <a:pt x="34" y="260"/>
                                                      <a:pt x="44" y="232"/>
                                                    </a:cubicBezTo>
                                                    <a:cubicBezTo>
                                                      <a:pt x="54" y="204"/>
                                                      <a:pt x="64" y="173"/>
                                                      <a:pt x="74" y="150"/>
                                                    </a:cubicBezTo>
                                                    <a:cubicBezTo>
                                                      <a:pt x="84" y="127"/>
                                                      <a:pt x="91" y="111"/>
                                                      <a:pt x="102" y="93"/>
                                                    </a:cubicBezTo>
                                                    <a:cubicBezTo>
                                                      <a:pt x="113" y="75"/>
                                                      <a:pt x="127" y="56"/>
                                                      <a:pt x="137" y="43"/>
                                                    </a:cubicBezTo>
                                                    <a:cubicBezTo>
                                                      <a:pt x="147" y="30"/>
                                                      <a:pt x="155" y="23"/>
                                                      <a:pt x="164" y="16"/>
                                                    </a:cubicBezTo>
                                                    <a:cubicBezTo>
                                                      <a:pt x="173" y="9"/>
                                                      <a:pt x="182" y="6"/>
                                                      <a:pt x="194" y="3"/>
                                                    </a:cubicBezTo>
                                                    <a:cubicBezTo>
                                                      <a:pt x="206" y="0"/>
                                                      <a:pt x="226" y="0"/>
                                                      <a:pt x="234" y="0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54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166280" y="5596560"/>
                                                <a:ext cx="324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5755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203000" y="5787720"/>
                                              <a:ext cx="68040" cy="144720"/>
                                              <a:chOff x="4203000" y="5787720"/>
                                              <a:chExt cx="68040" cy="144720"/>
                                            </a:xfrm>
                                          </p:grpSpPr>
                                          <p:sp>
                                            <p:nvSpPr>
                                              <p:cNvPr id="5756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203000" y="5788800"/>
                                                <a:ext cx="32760" cy="14364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28" h="159">
                                                    <a:moveTo>
                                                      <a:pt x="0" y="159"/>
                                                    </a:moveTo>
                                                    <a:cubicBezTo>
                                                      <a:pt x="15" y="139"/>
                                                      <a:pt x="30" y="120"/>
                                                      <a:pt x="45" y="103"/>
                                                    </a:cubicBezTo>
                                                    <a:cubicBezTo>
                                                      <a:pt x="60" y="86"/>
                                                      <a:pt x="76" y="68"/>
                                                      <a:pt x="90" y="54"/>
                                                    </a:cubicBezTo>
                                                    <a:cubicBezTo>
                                                      <a:pt x="104" y="40"/>
                                                      <a:pt x="118" y="30"/>
                                                      <a:pt x="130" y="22"/>
                                                    </a:cubicBezTo>
                                                    <a:cubicBezTo>
                                                      <a:pt x="142" y="14"/>
                                                      <a:pt x="150" y="10"/>
                                                      <a:pt x="162" y="7"/>
                                                    </a:cubicBezTo>
                                                    <a:cubicBezTo>
                                                      <a:pt x="174" y="4"/>
                                                      <a:pt x="191" y="2"/>
                                                      <a:pt x="202" y="1"/>
                                                    </a:cubicBezTo>
                                                    <a:cubicBezTo>
                                                      <a:pt x="213" y="0"/>
                                                      <a:pt x="220" y="0"/>
                                                      <a:pt x="228" y="1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57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237920" y="5788080"/>
                                                <a:ext cx="32760" cy="14400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28" h="159">
                                                    <a:moveTo>
                                                      <a:pt x="0" y="159"/>
                                                    </a:moveTo>
                                                    <a:cubicBezTo>
                                                      <a:pt x="15" y="139"/>
                                                      <a:pt x="30" y="120"/>
                                                      <a:pt x="45" y="103"/>
                                                    </a:cubicBezTo>
                                                    <a:cubicBezTo>
                                                      <a:pt x="60" y="86"/>
                                                      <a:pt x="76" y="68"/>
                                                      <a:pt x="90" y="54"/>
                                                    </a:cubicBezTo>
                                                    <a:cubicBezTo>
                                                      <a:pt x="104" y="40"/>
                                                      <a:pt x="118" y="30"/>
                                                      <a:pt x="130" y="22"/>
                                                    </a:cubicBezTo>
                                                    <a:cubicBezTo>
                                                      <a:pt x="142" y="14"/>
                                                      <a:pt x="150" y="10"/>
                                                      <a:pt x="162" y="7"/>
                                                    </a:cubicBezTo>
                                                    <a:cubicBezTo>
                                                      <a:pt x="174" y="4"/>
                                                      <a:pt x="191" y="2"/>
                                                      <a:pt x="202" y="1"/>
                                                    </a:cubicBezTo>
                                                    <a:cubicBezTo>
                                                      <a:pt x="213" y="0"/>
                                                      <a:pt x="220" y="0"/>
                                                      <a:pt x="228" y="1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58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4234680" y="5787720"/>
                                                <a:ext cx="4680" cy="252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4280" bIns="-44280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sp>
                                          <p:nvSpPr>
                                            <p:cNvPr id="5759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4064400" y="4603680"/>
                                              <a:ext cx="69120" cy="1327680"/>
                                            </a:xfrm>
                                            <a:custGeom>
                                              <a:avLst/>
                                              <a:gdLst/>
                                              <a:ahLst/>
                                              <a:rect l="l" t="t" r="r" b="b"/>
                                              <a:pathLst>
                                                <a:path w="480" h="1467">
                                                  <a:moveTo>
                                                    <a:pt x="0" y="0"/>
                                                  </a:moveTo>
                                                  <a:cubicBezTo>
                                                    <a:pt x="17" y="2"/>
                                                    <a:pt x="34" y="4"/>
                                                    <a:pt x="51" y="6"/>
                                                  </a:cubicBezTo>
                                                  <a:cubicBezTo>
                                                    <a:pt x="68" y="8"/>
                                                    <a:pt x="88" y="10"/>
                                                    <a:pt x="102" y="15"/>
                                                  </a:cubicBezTo>
                                                  <a:cubicBezTo>
                                                    <a:pt x="116" y="20"/>
                                                    <a:pt x="122" y="23"/>
                                                    <a:pt x="135" y="33"/>
                                                  </a:cubicBezTo>
                                                  <a:cubicBezTo>
                                                    <a:pt x="148" y="43"/>
                                                    <a:pt x="167" y="56"/>
                                                    <a:pt x="180" y="78"/>
                                                  </a:cubicBezTo>
                                                  <a:cubicBezTo>
                                                    <a:pt x="193" y="100"/>
                                                    <a:pt x="204" y="120"/>
                                                    <a:pt x="216" y="165"/>
                                                  </a:cubicBezTo>
                                                  <a:cubicBezTo>
                                                    <a:pt x="228" y="210"/>
                                                    <a:pt x="211" y="131"/>
                                                    <a:pt x="255" y="348"/>
                                                  </a:cubicBezTo>
                                                  <a:cubicBezTo>
                                                    <a:pt x="299" y="565"/>
                                                    <a:pt x="389" y="1016"/>
                                                    <a:pt x="480" y="1467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6480">
                                              <a:solidFill>
                                                <a:srgbClr val="3333cc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wrap="none" anchor="ctr">
                                              <a:noAutofit/>
                                            </a:bodyPr>
                                            <a:p>
                                              <a:endParaRPr b="0" lang="en-US" sz="24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grpSp>
                                        <p:nvGrpSpPr>
                                          <p:cNvPr id="5760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3856680" y="4603680"/>
                                            <a:ext cx="206640" cy="1330200"/>
                                            <a:chOff x="3856680" y="4603680"/>
                                            <a:chExt cx="206640" cy="1330200"/>
                                          </a:xfrm>
                                        </p:grpSpPr>
                                        <p:grpSp>
                                          <p:nvGrpSpPr>
                                            <p:cNvPr id="5761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3925080" y="5596560"/>
                                              <a:ext cx="69120" cy="337320"/>
                                              <a:chOff x="3925080" y="5596560"/>
                                              <a:chExt cx="69120" cy="337320"/>
                                            </a:xfrm>
                                          </p:grpSpPr>
                                          <p:sp>
                                            <p:nvSpPr>
                                              <p:cNvPr id="5762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3960360" y="5596560"/>
                                                <a:ext cx="33840" cy="33732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34" h="373">
                                                    <a:moveTo>
                                                      <a:pt x="0" y="373"/>
                                                    </a:moveTo>
                                                    <a:cubicBezTo>
                                                      <a:pt x="4" y="357"/>
                                                      <a:pt x="8" y="342"/>
                                                      <a:pt x="15" y="319"/>
                                                    </a:cubicBezTo>
                                                    <a:cubicBezTo>
                                                      <a:pt x="22" y="296"/>
                                                      <a:pt x="34" y="260"/>
                                                      <a:pt x="44" y="232"/>
                                                    </a:cubicBezTo>
                                                    <a:cubicBezTo>
                                                      <a:pt x="54" y="204"/>
                                                      <a:pt x="64" y="173"/>
                                                      <a:pt x="74" y="150"/>
                                                    </a:cubicBezTo>
                                                    <a:cubicBezTo>
                                                      <a:pt x="84" y="127"/>
                                                      <a:pt x="91" y="111"/>
                                                      <a:pt x="102" y="93"/>
                                                    </a:cubicBezTo>
                                                    <a:cubicBezTo>
                                                      <a:pt x="113" y="75"/>
                                                      <a:pt x="127" y="56"/>
                                                      <a:pt x="137" y="43"/>
                                                    </a:cubicBezTo>
                                                    <a:cubicBezTo>
                                                      <a:pt x="147" y="30"/>
                                                      <a:pt x="155" y="23"/>
                                                      <a:pt x="164" y="16"/>
                                                    </a:cubicBezTo>
                                                    <a:cubicBezTo>
                                                      <a:pt x="173" y="9"/>
                                                      <a:pt x="182" y="6"/>
                                                      <a:pt x="194" y="3"/>
                                                    </a:cubicBezTo>
                                                    <a:cubicBezTo>
                                                      <a:pt x="206" y="0"/>
                                                      <a:pt x="226" y="0"/>
                                                      <a:pt x="234" y="0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63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3925080" y="5596560"/>
                                                <a:ext cx="33840" cy="33732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34" h="373">
                                                    <a:moveTo>
                                                      <a:pt x="0" y="373"/>
                                                    </a:moveTo>
                                                    <a:cubicBezTo>
                                                      <a:pt x="4" y="357"/>
                                                      <a:pt x="8" y="342"/>
                                                      <a:pt x="15" y="319"/>
                                                    </a:cubicBezTo>
                                                    <a:cubicBezTo>
                                                      <a:pt x="22" y="296"/>
                                                      <a:pt x="34" y="260"/>
                                                      <a:pt x="44" y="232"/>
                                                    </a:cubicBezTo>
                                                    <a:cubicBezTo>
                                                      <a:pt x="54" y="204"/>
                                                      <a:pt x="64" y="173"/>
                                                      <a:pt x="74" y="150"/>
                                                    </a:cubicBezTo>
                                                    <a:cubicBezTo>
                                                      <a:pt x="84" y="127"/>
                                                      <a:pt x="91" y="111"/>
                                                      <a:pt x="102" y="93"/>
                                                    </a:cubicBezTo>
                                                    <a:cubicBezTo>
                                                      <a:pt x="113" y="75"/>
                                                      <a:pt x="127" y="56"/>
                                                      <a:pt x="137" y="43"/>
                                                    </a:cubicBezTo>
                                                    <a:cubicBezTo>
                                                      <a:pt x="147" y="30"/>
                                                      <a:pt x="155" y="23"/>
                                                      <a:pt x="164" y="16"/>
                                                    </a:cubicBezTo>
                                                    <a:cubicBezTo>
                                                      <a:pt x="173" y="9"/>
                                                      <a:pt x="182" y="6"/>
                                                      <a:pt x="194" y="3"/>
                                                    </a:cubicBezTo>
                                                    <a:cubicBezTo>
                                                      <a:pt x="206" y="0"/>
                                                      <a:pt x="226" y="0"/>
                                                      <a:pt x="234" y="0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64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3958200" y="5596560"/>
                                                <a:ext cx="324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5765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3856680" y="5787720"/>
                                              <a:ext cx="68040" cy="144720"/>
                                              <a:chOff x="3856680" y="5787720"/>
                                              <a:chExt cx="68040" cy="144720"/>
                                            </a:xfrm>
                                          </p:grpSpPr>
                                          <p:sp>
                                            <p:nvSpPr>
                                              <p:cNvPr id="5766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3891600" y="5788800"/>
                                                <a:ext cx="32760" cy="14364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28" h="159">
                                                    <a:moveTo>
                                                      <a:pt x="0" y="159"/>
                                                    </a:moveTo>
                                                    <a:cubicBezTo>
                                                      <a:pt x="15" y="139"/>
                                                      <a:pt x="30" y="120"/>
                                                      <a:pt x="45" y="103"/>
                                                    </a:cubicBezTo>
                                                    <a:cubicBezTo>
                                                      <a:pt x="60" y="86"/>
                                                      <a:pt x="76" y="68"/>
                                                      <a:pt x="90" y="54"/>
                                                    </a:cubicBezTo>
                                                    <a:cubicBezTo>
                                                      <a:pt x="104" y="40"/>
                                                      <a:pt x="118" y="30"/>
                                                      <a:pt x="130" y="22"/>
                                                    </a:cubicBezTo>
                                                    <a:cubicBezTo>
                                                      <a:pt x="142" y="14"/>
                                                      <a:pt x="150" y="10"/>
                                                      <a:pt x="162" y="7"/>
                                                    </a:cubicBezTo>
                                                    <a:cubicBezTo>
                                                      <a:pt x="174" y="4"/>
                                                      <a:pt x="191" y="2"/>
                                                      <a:pt x="202" y="1"/>
                                                    </a:cubicBezTo>
                                                    <a:cubicBezTo>
                                                      <a:pt x="213" y="0"/>
                                                      <a:pt x="220" y="0"/>
                                                      <a:pt x="228" y="1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67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3856680" y="5788080"/>
                                                <a:ext cx="32760" cy="14400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228" h="159">
                                                    <a:moveTo>
                                                      <a:pt x="0" y="159"/>
                                                    </a:moveTo>
                                                    <a:cubicBezTo>
                                                      <a:pt x="15" y="139"/>
                                                      <a:pt x="30" y="120"/>
                                                      <a:pt x="45" y="103"/>
                                                    </a:cubicBezTo>
                                                    <a:cubicBezTo>
                                                      <a:pt x="60" y="86"/>
                                                      <a:pt x="76" y="68"/>
                                                      <a:pt x="90" y="54"/>
                                                    </a:cubicBezTo>
                                                    <a:cubicBezTo>
                                                      <a:pt x="104" y="40"/>
                                                      <a:pt x="118" y="30"/>
                                                      <a:pt x="130" y="22"/>
                                                    </a:cubicBezTo>
                                                    <a:cubicBezTo>
                                                      <a:pt x="142" y="14"/>
                                                      <a:pt x="150" y="10"/>
                                                      <a:pt x="162" y="7"/>
                                                    </a:cubicBezTo>
                                                    <a:cubicBezTo>
                                                      <a:pt x="174" y="4"/>
                                                      <a:pt x="191" y="2"/>
                                                      <a:pt x="202" y="1"/>
                                                    </a:cubicBezTo>
                                                    <a:cubicBezTo>
                                                      <a:pt x="213" y="0"/>
                                                      <a:pt x="220" y="0"/>
                                                      <a:pt x="228" y="1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5768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 flipV="1">
                                                <a:off x="3888360" y="5787720"/>
                                                <a:ext cx="4680" cy="252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4280" bIns="-44280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sp>
                                          <p:nvSpPr>
                                            <p:cNvPr id="5769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3994200" y="4603680"/>
                                              <a:ext cx="69120" cy="1327680"/>
                                            </a:xfrm>
                                            <a:custGeom>
                                              <a:avLst/>
                                              <a:gdLst/>
                                              <a:ahLst/>
                                              <a:rect l="l" t="t" r="r" b="b"/>
                                              <a:pathLst>
                                                <a:path w="480" h="1467">
                                                  <a:moveTo>
                                                    <a:pt x="0" y="0"/>
                                                  </a:moveTo>
                                                  <a:cubicBezTo>
                                                    <a:pt x="17" y="2"/>
                                                    <a:pt x="34" y="4"/>
                                                    <a:pt x="51" y="6"/>
                                                  </a:cubicBezTo>
                                                  <a:cubicBezTo>
                                                    <a:pt x="68" y="8"/>
                                                    <a:pt x="88" y="10"/>
                                                    <a:pt x="102" y="15"/>
                                                  </a:cubicBezTo>
                                                  <a:cubicBezTo>
                                                    <a:pt x="116" y="20"/>
                                                    <a:pt x="122" y="23"/>
                                                    <a:pt x="135" y="33"/>
                                                  </a:cubicBezTo>
                                                  <a:cubicBezTo>
                                                    <a:pt x="148" y="43"/>
                                                    <a:pt x="167" y="56"/>
                                                    <a:pt x="180" y="78"/>
                                                  </a:cubicBezTo>
                                                  <a:cubicBezTo>
                                                    <a:pt x="193" y="100"/>
                                                    <a:pt x="204" y="120"/>
                                                    <a:pt x="216" y="165"/>
                                                  </a:cubicBezTo>
                                                  <a:cubicBezTo>
                                                    <a:pt x="228" y="210"/>
                                                    <a:pt x="211" y="131"/>
                                                    <a:pt x="255" y="348"/>
                                                  </a:cubicBezTo>
                                                  <a:cubicBezTo>
                                                    <a:pt x="299" y="565"/>
                                                    <a:pt x="389" y="1016"/>
                                                    <a:pt x="480" y="1467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6480">
                                              <a:solidFill>
                                                <a:srgbClr val="3333cc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wrap="none" anchor="ctr">
                                              <a:noAutofit/>
                                            </a:bodyPr>
                                            <a:p>
                                              <a:endParaRPr b="0" lang="en-US" sz="24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  <p:grpSp>
                                      <p:nvGrpSpPr>
                                        <p:cNvPr id="5770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2334240" y="4568760"/>
                                          <a:ext cx="4021200" cy="1373040"/>
                                          <a:chOff x="2334240" y="4568760"/>
                                          <a:chExt cx="4021200" cy="1373040"/>
                                        </a:xfrm>
                                      </p:grpSpPr>
                                      <p:grpSp>
                                        <p:nvGrpSpPr>
                                          <p:cNvPr id="5771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4067640" y="4603680"/>
                                            <a:ext cx="414360" cy="1330200"/>
                                            <a:chOff x="4067640" y="4603680"/>
                                            <a:chExt cx="414360" cy="1330200"/>
                                          </a:xfrm>
                                        </p:grpSpPr>
                                        <p:grpSp>
                                          <p:nvGrpSpPr>
                                            <p:cNvPr id="5772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275360" y="4603680"/>
                                              <a:ext cx="206640" cy="1330200"/>
                                              <a:chOff x="4275360" y="4603680"/>
                                              <a:chExt cx="206640" cy="133020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5773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4344480" y="5596560"/>
                                                <a:ext cx="69120" cy="337320"/>
                                                <a:chOff x="4344480" y="5596560"/>
                                                <a:chExt cx="69120" cy="337320"/>
                                              </a:xfrm>
                                            </p:grpSpPr>
                                            <p:sp>
                                              <p:nvSpPr>
                                                <p:cNvPr id="5774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4344480" y="5596560"/>
                                                  <a:ext cx="33840" cy="33732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234" h="373">
                                                      <a:moveTo>
                                                        <a:pt x="0" y="373"/>
                                                      </a:moveTo>
                                                      <a:cubicBezTo>
                                                        <a:pt x="4" y="357"/>
                                                        <a:pt x="8" y="342"/>
                                                        <a:pt x="15" y="319"/>
                                                      </a:cubicBezTo>
                                                      <a:cubicBezTo>
                                                        <a:pt x="22" y="296"/>
                                                        <a:pt x="34" y="260"/>
                                                        <a:pt x="44" y="232"/>
                                                      </a:cubicBezTo>
                                                      <a:cubicBezTo>
                                                        <a:pt x="54" y="204"/>
                                                        <a:pt x="64" y="173"/>
                                                        <a:pt x="74" y="150"/>
                                                      </a:cubicBezTo>
                                                      <a:cubicBezTo>
                                                        <a:pt x="84" y="127"/>
                                                        <a:pt x="91" y="111"/>
                                                        <a:pt x="102" y="93"/>
                                                      </a:cubicBezTo>
                                                      <a:cubicBezTo>
                                                        <a:pt x="113" y="75"/>
                                                        <a:pt x="127" y="56"/>
                                                        <a:pt x="137" y="43"/>
                                                      </a:cubicBezTo>
                                                      <a:cubicBezTo>
                                                        <a:pt x="147" y="30"/>
                                                        <a:pt x="155" y="23"/>
                                                        <a:pt x="164" y="16"/>
                                                      </a:cubicBezTo>
                                                      <a:cubicBezTo>
                                                        <a:pt x="173" y="9"/>
                                                        <a:pt x="182" y="6"/>
                                                        <a:pt x="194" y="3"/>
                                                      </a:cubicBezTo>
                                                      <a:cubicBezTo>
                                                        <a:pt x="206" y="0"/>
                                                        <a:pt x="226" y="0"/>
                                                        <a:pt x="234" y="0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5775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4379760" y="5596560"/>
                                                  <a:ext cx="33840" cy="33732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234" h="373">
                                                      <a:moveTo>
                                                        <a:pt x="0" y="373"/>
                                                      </a:moveTo>
                                                      <a:cubicBezTo>
                                                        <a:pt x="4" y="357"/>
                                                        <a:pt x="8" y="342"/>
                                                        <a:pt x="15" y="319"/>
                                                      </a:cubicBezTo>
                                                      <a:cubicBezTo>
                                                        <a:pt x="22" y="296"/>
                                                        <a:pt x="34" y="260"/>
                                                        <a:pt x="44" y="232"/>
                                                      </a:cubicBezTo>
                                                      <a:cubicBezTo>
                                                        <a:pt x="54" y="204"/>
                                                        <a:pt x="64" y="173"/>
                                                        <a:pt x="74" y="150"/>
                                                      </a:cubicBezTo>
                                                      <a:cubicBezTo>
                                                        <a:pt x="84" y="127"/>
                                                        <a:pt x="91" y="111"/>
                                                        <a:pt x="102" y="93"/>
                                                      </a:cubicBezTo>
                                                      <a:cubicBezTo>
                                                        <a:pt x="113" y="75"/>
                                                        <a:pt x="127" y="56"/>
                                                        <a:pt x="137" y="43"/>
                                                      </a:cubicBezTo>
                                                      <a:cubicBezTo>
                                                        <a:pt x="147" y="30"/>
                                                        <a:pt x="155" y="23"/>
                                                        <a:pt x="164" y="16"/>
                                                      </a:cubicBezTo>
                                                      <a:cubicBezTo>
                                                        <a:pt x="173" y="9"/>
                                                        <a:pt x="182" y="6"/>
                                                        <a:pt x="194" y="3"/>
                                                      </a:cubicBezTo>
                                                      <a:cubicBezTo>
                                                        <a:pt x="206" y="0"/>
                                                        <a:pt x="226" y="0"/>
                                                        <a:pt x="234" y="0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5776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4377240" y="5596560"/>
                                                  <a:ext cx="324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  <p:grpSp>
                                            <p:nvGrpSpPr>
                                              <p:cNvPr id="5777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4413960" y="5787720"/>
                                                <a:ext cx="68040" cy="144720"/>
                                                <a:chOff x="4413960" y="5787720"/>
                                                <a:chExt cx="68040" cy="144720"/>
                                              </a:xfrm>
                                            </p:grpSpPr>
                                            <p:sp>
                                              <p:nvSpPr>
                                                <p:cNvPr id="5778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4413960" y="5788800"/>
                                                  <a:ext cx="32760" cy="14364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228" h="159">
                                                      <a:moveTo>
                                                        <a:pt x="0" y="159"/>
                                                      </a:moveTo>
                                                      <a:cubicBezTo>
                                                        <a:pt x="15" y="139"/>
                                                        <a:pt x="30" y="120"/>
                                                        <a:pt x="45" y="103"/>
                                                      </a:cubicBezTo>
                                                      <a:cubicBezTo>
                                                        <a:pt x="60" y="86"/>
                                                        <a:pt x="76" y="68"/>
                                                        <a:pt x="90" y="54"/>
                                                      </a:cubicBezTo>
                                                      <a:cubicBezTo>
                                                        <a:pt x="104" y="40"/>
                                                        <a:pt x="118" y="30"/>
                                                        <a:pt x="130" y="22"/>
                                                      </a:cubicBezTo>
                                                      <a:cubicBezTo>
                                                        <a:pt x="142" y="14"/>
                                                        <a:pt x="150" y="10"/>
                                                        <a:pt x="162" y="7"/>
                                                      </a:cubicBezTo>
                                                      <a:cubicBezTo>
                                                        <a:pt x="174" y="4"/>
                                                        <a:pt x="191" y="2"/>
                                                        <a:pt x="202" y="1"/>
                                                      </a:cubicBezTo>
                                                      <a:cubicBezTo>
                                                        <a:pt x="213" y="0"/>
                                                        <a:pt x="220" y="0"/>
                                                        <a:pt x="228" y="1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5779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4448880" y="5788080"/>
                                                  <a:ext cx="32760" cy="14400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228" h="159">
                                                      <a:moveTo>
                                                        <a:pt x="0" y="159"/>
                                                      </a:moveTo>
                                                      <a:cubicBezTo>
                                                        <a:pt x="15" y="139"/>
                                                        <a:pt x="30" y="120"/>
                                                        <a:pt x="45" y="103"/>
                                                      </a:cubicBezTo>
                                                      <a:cubicBezTo>
                                                        <a:pt x="60" y="86"/>
                                                        <a:pt x="76" y="68"/>
                                                        <a:pt x="90" y="54"/>
                                                      </a:cubicBezTo>
                                                      <a:cubicBezTo>
                                                        <a:pt x="104" y="40"/>
                                                        <a:pt x="118" y="30"/>
                                                        <a:pt x="130" y="22"/>
                                                      </a:cubicBezTo>
                                                      <a:cubicBezTo>
                                                        <a:pt x="142" y="14"/>
                                                        <a:pt x="150" y="10"/>
                                                        <a:pt x="162" y="7"/>
                                                      </a:cubicBezTo>
                                                      <a:cubicBezTo>
                                                        <a:pt x="174" y="4"/>
                                                        <a:pt x="191" y="2"/>
                                                        <a:pt x="202" y="1"/>
                                                      </a:cubicBezTo>
                                                      <a:cubicBezTo>
                                                        <a:pt x="213" y="0"/>
                                                        <a:pt x="220" y="0"/>
                                                        <a:pt x="228" y="1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5780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V="1">
                                                  <a:off x="4445640" y="5787720"/>
                                                  <a:ext cx="4680" cy="252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4280" bIns="-44280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  <p:sp>
                                            <p:nvSpPr>
                                              <p:cNvPr id="5781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275360" y="4603680"/>
                                                <a:ext cx="69120" cy="132768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480" h="1467">
                                                    <a:moveTo>
                                                      <a:pt x="0" y="0"/>
                                                    </a:moveTo>
                                                    <a:cubicBezTo>
                                                      <a:pt x="17" y="2"/>
                                                      <a:pt x="34" y="4"/>
                                                      <a:pt x="51" y="6"/>
                                                    </a:cubicBezTo>
                                                    <a:cubicBezTo>
                                                      <a:pt x="68" y="8"/>
                                                      <a:pt x="88" y="10"/>
                                                      <a:pt x="102" y="15"/>
                                                    </a:cubicBezTo>
                                                    <a:cubicBezTo>
                                                      <a:pt x="116" y="20"/>
                                                      <a:pt x="122" y="23"/>
                                                      <a:pt x="135" y="33"/>
                                                    </a:cubicBezTo>
                                                    <a:cubicBezTo>
                                                      <a:pt x="148" y="43"/>
                                                      <a:pt x="167" y="56"/>
                                                      <a:pt x="180" y="78"/>
                                                    </a:cubicBezTo>
                                                    <a:cubicBezTo>
                                                      <a:pt x="193" y="100"/>
                                                      <a:pt x="204" y="120"/>
                                                      <a:pt x="216" y="165"/>
                                                    </a:cubicBezTo>
                                                    <a:cubicBezTo>
                                                      <a:pt x="228" y="210"/>
                                                      <a:pt x="211" y="131"/>
                                                      <a:pt x="255" y="348"/>
                                                    </a:cubicBezTo>
                                                    <a:cubicBezTo>
                                                      <a:pt x="299" y="565"/>
                                                      <a:pt x="389" y="1016"/>
                                                      <a:pt x="480" y="1467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5782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067640" y="4603680"/>
                                              <a:ext cx="206640" cy="1330200"/>
                                              <a:chOff x="4067640" y="4603680"/>
                                              <a:chExt cx="206640" cy="133020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5783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4136040" y="5596560"/>
                                                <a:ext cx="69120" cy="337320"/>
                                                <a:chOff x="4136040" y="5596560"/>
                                                <a:chExt cx="69120" cy="337320"/>
                                              </a:xfrm>
                                            </p:grpSpPr>
                                            <p:sp>
                                              <p:nvSpPr>
                                                <p:cNvPr id="5784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4171320" y="5596560"/>
                                                  <a:ext cx="33840" cy="33732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234" h="373">
                                                      <a:moveTo>
                                                        <a:pt x="0" y="373"/>
                                                      </a:moveTo>
                                                      <a:cubicBezTo>
                                                        <a:pt x="4" y="357"/>
                                                        <a:pt x="8" y="342"/>
                                                        <a:pt x="15" y="319"/>
                                                      </a:cubicBezTo>
                                                      <a:cubicBezTo>
                                                        <a:pt x="22" y="296"/>
                                                        <a:pt x="34" y="260"/>
                                                        <a:pt x="44" y="232"/>
                                                      </a:cubicBezTo>
                                                      <a:cubicBezTo>
                                                        <a:pt x="54" y="204"/>
                                                        <a:pt x="64" y="173"/>
                                                        <a:pt x="74" y="150"/>
                                                      </a:cubicBezTo>
                                                      <a:cubicBezTo>
                                                        <a:pt x="84" y="127"/>
                                                        <a:pt x="91" y="111"/>
                                                        <a:pt x="102" y="93"/>
                                                      </a:cubicBezTo>
                                                      <a:cubicBezTo>
                                                        <a:pt x="113" y="75"/>
                                                        <a:pt x="127" y="56"/>
                                                        <a:pt x="137" y="43"/>
                                                      </a:cubicBezTo>
                                                      <a:cubicBezTo>
                                                        <a:pt x="147" y="30"/>
                                                        <a:pt x="155" y="23"/>
                                                        <a:pt x="164" y="16"/>
                                                      </a:cubicBezTo>
                                                      <a:cubicBezTo>
                                                        <a:pt x="173" y="9"/>
                                                        <a:pt x="182" y="6"/>
                                                        <a:pt x="194" y="3"/>
                                                      </a:cubicBezTo>
                                                      <a:cubicBezTo>
                                                        <a:pt x="206" y="0"/>
                                                        <a:pt x="226" y="0"/>
                                                        <a:pt x="234" y="0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5785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4136040" y="5596560"/>
                                                  <a:ext cx="33840" cy="33732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234" h="373">
                                                      <a:moveTo>
                                                        <a:pt x="0" y="373"/>
                                                      </a:moveTo>
                                                      <a:cubicBezTo>
                                                        <a:pt x="4" y="357"/>
                                                        <a:pt x="8" y="342"/>
                                                        <a:pt x="15" y="319"/>
                                                      </a:cubicBezTo>
                                                      <a:cubicBezTo>
                                                        <a:pt x="22" y="296"/>
                                                        <a:pt x="34" y="260"/>
                                                        <a:pt x="44" y="232"/>
                                                      </a:cubicBezTo>
                                                      <a:cubicBezTo>
                                                        <a:pt x="54" y="204"/>
                                                        <a:pt x="64" y="173"/>
                                                        <a:pt x="74" y="150"/>
                                                      </a:cubicBezTo>
                                                      <a:cubicBezTo>
                                                        <a:pt x="84" y="127"/>
                                                        <a:pt x="91" y="111"/>
                                                        <a:pt x="102" y="93"/>
                                                      </a:cubicBezTo>
                                                      <a:cubicBezTo>
                                                        <a:pt x="113" y="75"/>
                                                        <a:pt x="127" y="56"/>
                                                        <a:pt x="137" y="43"/>
                                                      </a:cubicBezTo>
                                                      <a:cubicBezTo>
                                                        <a:pt x="147" y="30"/>
                                                        <a:pt x="155" y="23"/>
                                                        <a:pt x="164" y="16"/>
                                                      </a:cubicBezTo>
                                                      <a:cubicBezTo>
                                                        <a:pt x="173" y="9"/>
                                                        <a:pt x="182" y="6"/>
                                                        <a:pt x="194" y="3"/>
                                                      </a:cubicBezTo>
                                                      <a:cubicBezTo>
                                                        <a:pt x="206" y="0"/>
                                                        <a:pt x="226" y="0"/>
                                                        <a:pt x="234" y="0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5786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4169160" y="5596560"/>
                                                  <a:ext cx="324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  <p:grpSp>
                                            <p:nvGrpSpPr>
                                              <p:cNvPr id="5787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4067640" y="5787720"/>
                                                <a:ext cx="68040" cy="144720"/>
                                                <a:chOff x="4067640" y="5787720"/>
                                                <a:chExt cx="68040" cy="144720"/>
                                              </a:xfrm>
                                            </p:grpSpPr>
                                            <p:sp>
                                              <p:nvSpPr>
                                                <p:cNvPr id="5788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4102560" y="5788800"/>
                                                  <a:ext cx="32760" cy="14364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228" h="159">
                                                      <a:moveTo>
                                                        <a:pt x="0" y="159"/>
                                                      </a:moveTo>
                                                      <a:cubicBezTo>
                                                        <a:pt x="15" y="139"/>
                                                        <a:pt x="30" y="120"/>
                                                        <a:pt x="45" y="103"/>
                                                      </a:cubicBezTo>
                                                      <a:cubicBezTo>
                                                        <a:pt x="60" y="86"/>
                                                        <a:pt x="76" y="68"/>
                                                        <a:pt x="90" y="54"/>
                                                      </a:cubicBezTo>
                                                      <a:cubicBezTo>
                                                        <a:pt x="104" y="40"/>
                                                        <a:pt x="118" y="30"/>
                                                        <a:pt x="130" y="22"/>
                                                      </a:cubicBezTo>
                                                      <a:cubicBezTo>
                                                        <a:pt x="142" y="14"/>
                                                        <a:pt x="150" y="10"/>
                                                        <a:pt x="162" y="7"/>
                                                      </a:cubicBezTo>
                                                      <a:cubicBezTo>
                                                        <a:pt x="174" y="4"/>
                                                        <a:pt x="191" y="2"/>
                                                        <a:pt x="202" y="1"/>
                                                      </a:cubicBezTo>
                                                      <a:cubicBezTo>
                                                        <a:pt x="213" y="0"/>
                                                        <a:pt x="220" y="0"/>
                                                        <a:pt x="228" y="1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5789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4067640" y="5788080"/>
                                                  <a:ext cx="32760" cy="14400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228" h="159">
                                                      <a:moveTo>
                                                        <a:pt x="0" y="159"/>
                                                      </a:moveTo>
                                                      <a:cubicBezTo>
                                                        <a:pt x="15" y="139"/>
                                                        <a:pt x="30" y="120"/>
                                                        <a:pt x="45" y="103"/>
                                                      </a:cubicBezTo>
                                                      <a:cubicBezTo>
                                                        <a:pt x="60" y="86"/>
                                                        <a:pt x="76" y="68"/>
                                                        <a:pt x="90" y="54"/>
                                                      </a:cubicBezTo>
                                                      <a:cubicBezTo>
                                                        <a:pt x="104" y="40"/>
                                                        <a:pt x="118" y="30"/>
                                                        <a:pt x="130" y="22"/>
                                                      </a:cubicBezTo>
                                                      <a:cubicBezTo>
                                                        <a:pt x="142" y="14"/>
                                                        <a:pt x="150" y="10"/>
                                                        <a:pt x="162" y="7"/>
                                                      </a:cubicBezTo>
                                                      <a:cubicBezTo>
                                                        <a:pt x="174" y="4"/>
                                                        <a:pt x="191" y="2"/>
                                                        <a:pt x="202" y="1"/>
                                                      </a:cubicBezTo>
                                                      <a:cubicBezTo>
                                                        <a:pt x="213" y="0"/>
                                                        <a:pt x="220" y="0"/>
                                                        <a:pt x="228" y="1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5790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 flipV="1">
                                                  <a:off x="4099320" y="5787720"/>
                                                  <a:ext cx="4680" cy="252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4280" bIns="-44280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  <p:sp>
                                            <p:nvSpPr>
                                              <p:cNvPr id="5791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205160" y="4603680"/>
                                                <a:ext cx="69120" cy="1327680"/>
                                              </a:xfrm>
                                              <a:custGeom>
                                                <a:avLst/>
                                                <a:gdLst/>
                                                <a:ahLst/>
                                                <a:rect l="l" t="t" r="r" b="b"/>
                                                <a:pathLst>
                                                  <a:path w="480" h="1467">
                                                    <a:moveTo>
                                                      <a:pt x="0" y="0"/>
                                                    </a:moveTo>
                                                    <a:cubicBezTo>
                                                      <a:pt x="17" y="2"/>
                                                      <a:pt x="34" y="4"/>
                                                      <a:pt x="51" y="6"/>
                                                    </a:cubicBezTo>
                                                    <a:cubicBezTo>
                                                      <a:pt x="68" y="8"/>
                                                      <a:pt x="88" y="10"/>
                                                      <a:pt x="102" y="15"/>
                                                    </a:cubicBezTo>
                                                    <a:cubicBezTo>
                                                      <a:pt x="116" y="20"/>
                                                      <a:pt x="122" y="23"/>
                                                      <a:pt x="135" y="33"/>
                                                    </a:cubicBezTo>
                                                    <a:cubicBezTo>
                                                      <a:pt x="148" y="43"/>
                                                      <a:pt x="167" y="56"/>
                                                      <a:pt x="180" y="78"/>
                                                    </a:cubicBezTo>
                                                    <a:cubicBezTo>
                                                      <a:pt x="193" y="100"/>
                                                      <a:pt x="204" y="120"/>
                                                      <a:pt x="216" y="165"/>
                                                    </a:cubicBezTo>
                                                    <a:cubicBezTo>
                                                      <a:pt x="228" y="210"/>
                                                      <a:pt x="211" y="131"/>
                                                      <a:pt x="255" y="348"/>
                                                    </a:cubicBezTo>
                                                    <a:cubicBezTo>
                                                      <a:pt x="299" y="565"/>
                                                      <a:pt x="389" y="1016"/>
                                                      <a:pt x="480" y="1467"/>
                                                    </a:cubicBezTo>
                                                  </a:path>
                                                </a:pathLst>
                                              </a:custGeom>
                                              <a:noFill/>
                                              <a:ln w="6480">
                                                <a:solidFill>
                                                  <a:srgbClr val="3333cc"/>
                                                </a:solidFill>
                                                <a:round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wrap="none" anchor="ctr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  <p:grpSp>
                                        <p:nvGrpSpPr>
                                          <p:cNvPr id="5792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2334240" y="4568760"/>
                                            <a:ext cx="4021200" cy="1373040"/>
                                            <a:chOff x="2334240" y="4568760"/>
                                            <a:chExt cx="4021200" cy="1373040"/>
                                          </a:xfrm>
                                        </p:grpSpPr>
                                        <p:grpSp>
                                          <p:nvGrpSpPr>
                                            <p:cNvPr id="5793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3788280" y="4598640"/>
                                              <a:ext cx="414360" cy="1330200"/>
                                              <a:chOff x="3788280" y="4598640"/>
                                              <a:chExt cx="414360" cy="133020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5794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3996000" y="4598640"/>
                                                <a:ext cx="206640" cy="1330200"/>
                                                <a:chOff x="3996000" y="4598640"/>
                                                <a:chExt cx="206640" cy="133020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5795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4065120" y="5591520"/>
                                                  <a:ext cx="69120" cy="337320"/>
                                                  <a:chOff x="4065120" y="5591520"/>
                                                  <a:chExt cx="69120" cy="3373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796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4065120" y="559152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797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4100400" y="559152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798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4097880" y="5591520"/>
                                                    <a:ext cx="32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5799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4134600" y="5783040"/>
                                                  <a:ext cx="68040" cy="144720"/>
                                                  <a:chOff x="4134600" y="5783040"/>
                                                  <a:chExt cx="68040" cy="1447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800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4134600" y="5784120"/>
                                                    <a:ext cx="32760" cy="14364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01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4169520" y="5783400"/>
                                                    <a:ext cx="32760" cy="14400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02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V="1">
                                                    <a:off x="4166280" y="5783040"/>
                                                    <a:ext cx="4680" cy="252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4280" bIns="-4428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5803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3996000" y="4598640"/>
                                                  <a:ext cx="69120" cy="132804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480" h="1467">
                                                      <a:moveTo>
                                                        <a:pt x="0" y="0"/>
                                                      </a:moveTo>
                                                      <a:cubicBezTo>
                                                        <a:pt x="17" y="2"/>
                                                        <a:pt x="34" y="4"/>
                                                        <a:pt x="51" y="6"/>
                                                      </a:cubicBezTo>
                                                      <a:cubicBezTo>
                                                        <a:pt x="68" y="8"/>
                                                        <a:pt x="88" y="10"/>
                                                        <a:pt x="102" y="15"/>
                                                      </a:cubicBezTo>
                                                      <a:cubicBezTo>
                                                        <a:pt x="116" y="20"/>
                                                        <a:pt x="122" y="23"/>
                                                        <a:pt x="135" y="33"/>
                                                      </a:cubicBezTo>
                                                      <a:cubicBezTo>
                                                        <a:pt x="148" y="43"/>
                                                        <a:pt x="167" y="56"/>
                                                        <a:pt x="180" y="78"/>
                                                      </a:cubicBezTo>
                                                      <a:cubicBezTo>
                                                        <a:pt x="193" y="100"/>
                                                        <a:pt x="204" y="120"/>
                                                        <a:pt x="216" y="165"/>
                                                      </a:cubicBezTo>
                                                      <a:cubicBezTo>
                                                        <a:pt x="228" y="210"/>
                                                        <a:pt x="211" y="131"/>
                                                        <a:pt x="255" y="348"/>
                                                      </a:cubicBezTo>
                                                      <a:cubicBezTo>
                                                        <a:pt x="299" y="565"/>
                                                        <a:pt x="389" y="1016"/>
                                                        <a:pt x="480" y="1467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  <p:grpSp>
                                            <p:nvGrpSpPr>
                                              <p:cNvPr id="5804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3788280" y="4598640"/>
                                                <a:ext cx="206640" cy="1330200"/>
                                                <a:chOff x="3788280" y="4598640"/>
                                                <a:chExt cx="206640" cy="133020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5805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856680" y="5591520"/>
                                                  <a:ext cx="69120" cy="337320"/>
                                                  <a:chOff x="3856680" y="5591520"/>
                                                  <a:chExt cx="69120" cy="3373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806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891960" y="559152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07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856680" y="559152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08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889800" y="5591520"/>
                                                    <a:ext cx="32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5809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788280" y="5783040"/>
                                                  <a:ext cx="68040" cy="144720"/>
                                                  <a:chOff x="3788280" y="5783040"/>
                                                  <a:chExt cx="68040" cy="1447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810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823200" y="5784120"/>
                                                    <a:ext cx="32760" cy="14364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11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788280" y="5783400"/>
                                                    <a:ext cx="32760" cy="14400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12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 flipV="1">
                                                    <a:off x="3819960" y="5783040"/>
                                                    <a:ext cx="4680" cy="252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4280" bIns="-4428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5813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3925800" y="4598640"/>
                                                  <a:ext cx="69120" cy="132804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480" h="1467">
                                                      <a:moveTo>
                                                        <a:pt x="0" y="0"/>
                                                      </a:moveTo>
                                                      <a:cubicBezTo>
                                                        <a:pt x="17" y="2"/>
                                                        <a:pt x="34" y="4"/>
                                                        <a:pt x="51" y="6"/>
                                                      </a:cubicBezTo>
                                                      <a:cubicBezTo>
                                                        <a:pt x="68" y="8"/>
                                                        <a:pt x="88" y="10"/>
                                                        <a:pt x="102" y="15"/>
                                                      </a:cubicBezTo>
                                                      <a:cubicBezTo>
                                                        <a:pt x="116" y="20"/>
                                                        <a:pt x="122" y="23"/>
                                                        <a:pt x="135" y="33"/>
                                                      </a:cubicBezTo>
                                                      <a:cubicBezTo>
                                                        <a:pt x="148" y="43"/>
                                                        <a:pt x="167" y="56"/>
                                                        <a:pt x="180" y="78"/>
                                                      </a:cubicBezTo>
                                                      <a:cubicBezTo>
                                                        <a:pt x="193" y="100"/>
                                                        <a:pt x="204" y="120"/>
                                                        <a:pt x="216" y="165"/>
                                                      </a:cubicBezTo>
                                                      <a:cubicBezTo>
                                                        <a:pt x="228" y="210"/>
                                                        <a:pt x="211" y="131"/>
                                                        <a:pt x="255" y="348"/>
                                                      </a:cubicBezTo>
                                                      <a:cubicBezTo>
                                                        <a:pt x="299" y="565"/>
                                                        <a:pt x="389" y="1016"/>
                                                        <a:pt x="480" y="1467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grpSp>
                                          <p:nvGrpSpPr>
                                            <p:cNvPr id="5814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3582000" y="4598640"/>
                                              <a:ext cx="414360" cy="1330200"/>
                                              <a:chOff x="3582000" y="4598640"/>
                                              <a:chExt cx="414360" cy="133020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5815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3789720" y="4598640"/>
                                                <a:ext cx="206640" cy="1330200"/>
                                                <a:chOff x="3789720" y="4598640"/>
                                                <a:chExt cx="206640" cy="133020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5816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858840" y="5591520"/>
                                                  <a:ext cx="69120" cy="337320"/>
                                                  <a:chOff x="3858840" y="5591520"/>
                                                  <a:chExt cx="69120" cy="3373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817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858840" y="559152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18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894120" y="559152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19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891600" y="5591520"/>
                                                    <a:ext cx="32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5820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928320" y="5783040"/>
                                                  <a:ext cx="68040" cy="144720"/>
                                                  <a:chOff x="3928320" y="5783040"/>
                                                  <a:chExt cx="68040" cy="1447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821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928320" y="5784120"/>
                                                    <a:ext cx="32760" cy="14364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22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963240" y="5783400"/>
                                                    <a:ext cx="32760" cy="14400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23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V="1">
                                                    <a:off x="3960000" y="5783040"/>
                                                    <a:ext cx="4680" cy="252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4280" bIns="-4428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5824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3789720" y="4598640"/>
                                                  <a:ext cx="69120" cy="132804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480" h="1467">
                                                      <a:moveTo>
                                                        <a:pt x="0" y="0"/>
                                                      </a:moveTo>
                                                      <a:cubicBezTo>
                                                        <a:pt x="17" y="2"/>
                                                        <a:pt x="34" y="4"/>
                                                        <a:pt x="51" y="6"/>
                                                      </a:cubicBezTo>
                                                      <a:cubicBezTo>
                                                        <a:pt x="68" y="8"/>
                                                        <a:pt x="88" y="10"/>
                                                        <a:pt x="102" y="15"/>
                                                      </a:cubicBezTo>
                                                      <a:cubicBezTo>
                                                        <a:pt x="116" y="20"/>
                                                        <a:pt x="122" y="23"/>
                                                        <a:pt x="135" y="33"/>
                                                      </a:cubicBezTo>
                                                      <a:cubicBezTo>
                                                        <a:pt x="148" y="43"/>
                                                        <a:pt x="167" y="56"/>
                                                        <a:pt x="180" y="78"/>
                                                      </a:cubicBezTo>
                                                      <a:cubicBezTo>
                                                        <a:pt x="193" y="100"/>
                                                        <a:pt x="204" y="120"/>
                                                        <a:pt x="216" y="165"/>
                                                      </a:cubicBezTo>
                                                      <a:cubicBezTo>
                                                        <a:pt x="228" y="210"/>
                                                        <a:pt x="211" y="131"/>
                                                        <a:pt x="255" y="348"/>
                                                      </a:cubicBezTo>
                                                      <a:cubicBezTo>
                                                        <a:pt x="299" y="565"/>
                                                        <a:pt x="389" y="1016"/>
                                                        <a:pt x="480" y="1467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  <p:grpSp>
                                            <p:nvGrpSpPr>
                                              <p:cNvPr id="5825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3582000" y="4598640"/>
                                                <a:ext cx="206640" cy="1330200"/>
                                                <a:chOff x="3582000" y="4598640"/>
                                                <a:chExt cx="206640" cy="133020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5826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650400" y="5591520"/>
                                                  <a:ext cx="69120" cy="337320"/>
                                                  <a:chOff x="3650400" y="5591520"/>
                                                  <a:chExt cx="69120" cy="3373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827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685680" y="559152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28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650400" y="559152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29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683520" y="5591520"/>
                                                    <a:ext cx="32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5830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582000" y="5783040"/>
                                                  <a:ext cx="68040" cy="144720"/>
                                                  <a:chOff x="3582000" y="5783040"/>
                                                  <a:chExt cx="68040" cy="1447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831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616920" y="5784120"/>
                                                    <a:ext cx="32760" cy="14364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32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582000" y="5783400"/>
                                                    <a:ext cx="32760" cy="14400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33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 flipV="1">
                                                    <a:off x="3613680" y="5783040"/>
                                                    <a:ext cx="4680" cy="252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4280" bIns="-4428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5834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3719520" y="4598640"/>
                                                  <a:ext cx="69120" cy="132804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480" h="1467">
                                                      <a:moveTo>
                                                        <a:pt x="0" y="0"/>
                                                      </a:moveTo>
                                                      <a:cubicBezTo>
                                                        <a:pt x="17" y="2"/>
                                                        <a:pt x="34" y="4"/>
                                                        <a:pt x="51" y="6"/>
                                                      </a:cubicBezTo>
                                                      <a:cubicBezTo>
                                                        <a:pt x="68" y="8"/>
                                                        <a:pt x="88" y="10"/>
                                                        <a:pt x="102" y="15"/>
                                                      </a:cubicBezTo>
                                                      <a:cubicBezTo>
                                                        <a:pt x="116" y="20"/>
                                                        <a:pt x="122" y="23"/>
                                                        <a:pt x="135" y="33"/>
                                                      </a:cubicBezTo>
                                                      <a:cubicBezTo>
                                                        <a:pt x="148" y="43"/>
                                                        <a:pt x="167" y="56"/>
                                                        <a:pt x="180" y="78"/>
                                                      </a:cubicBezTo>
                                                      <a:cubicBezTo>
                                                        <a:pt x="193" y="100"/>
                                                        <a:pt x="204" y="120"/>
                                                        <a:pt x="216" y="165"/>
                                                      </a:cubicBezTo>
                                                      <a:cubicBezTo>
                                                        <a:pt x="228" y="210"/>
                                                        <a:pt x="211" y="131"/>
                                                        <a:pt x="255" y="348"/>
                                                      </a:cubicBezTo>
                                                      <a:cubicBezTo>
                                                        <a:pt x="299" y="565"/>
                                                        <a:pt x="389" y="1016"/>
                                                        <a:pt x="480" y="1467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grpSp>
                                          <p:nvGrpSpPr>
                                            <p:cNvPr id="5835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3648600" y="4603680"/>
                                              <a:ext cx="414360" cy="1330200"/>
                                              <a:chOff x="3648600" y="4603680"/>
                                              <a:chExt cx="414360" cy="133020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5836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3856320" y="4603680"/>
                                                <a:ext cx="206640" cy="1330200"/>
                                                <a:chOff x="3856320" y="4603680"/>
                                                <a:chExt cx="206640" cy="133020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5837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925440" y="5596560"/>
                                                  <a:ext cx="69120" cy="337320"/>
                                                  <a:chOff x="3925440" y="5596560"/>
                                                  <a:chExt cx="69120" cy="3373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838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925440" y="559656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ff0000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39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960720" y="559656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ff0000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40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958200" y="5596560"/>
                                                    <a:ext cx="32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ff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5841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994920" y="5787720"/>
                                                  <a:ext cx="68040" cy="144720"/>
                                                  <a:chOff x="3994920" y="5787720"/>
                                                  <a:chExt cx="68040" cy="1447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842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994920" y="5788800"/>
                                                    <a:ext cx="32760" cy="14364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ff0000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43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4029840" y="5788080"/>
                                                    <a:ext cx="32760" cy="14400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ff0000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44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V="1">
                                                    <a:off x="4026600" y="5787720"/>
                                                    <a:ext cx="4680" cy="252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ff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4280" bIns="-4428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5845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3856320" y="4603680"/>
                                                  <a:ext cx="69120" cy="132768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480" h="1467">
                                                      <a:moveTo>
                                                        <a:pt x="0" y="0"/>
                                                      </a:moveTo>
                                                      <a:cubicBezTo>
                                                        <a:pt x="17" y="2"/>
                                                        <a:pt x="34" y="4"/>
                                                        <a:pt x="51" y="6"/>
                                                      </a:cubicBezTo>
                                                      <a:cubicBezTo>
                                                        <a:pt x="68" y="8"/>
                                                        <a:pt x="88" y="10"/>
                                                        <a:pt x="102" y="15"/>
                                                      </a:cubicBezTo>
                                                      <a:cubicBezTo>
                                                        <a:pt x="116" y="20"/>
                                                        <a:pt x="122" y="23"/>
                                                        <a:pt x="135" y="33"/>
                                                      </a:cubicBezTo>
                                                      <a:cubicBezTo>
                                                        <a:pt x="148" y="43"/>
                                                        <a:pt x="167" y="56"/>
                                                        <a:pt x="180" y="78"/>
                                                      </a:cubicBezTo>
                                                      <a:cubicBezTo>
                                                        <a:pt x="193" y="100"/>
                                                        <a:pt x="204" y="120"/>
                                                        <a:pt x="216" y="165"/>
                                                      </a:cubicBezTo>
                                                      <a:cubicBezTo>
                                                        <a:pt x="228" y="210"/>
                                                        <a:pt x="211" y="131"/>
                                                        <a:pt x="255" y="348"/>
                                                      </a:cubicBezTo>
                                                      <a:cubicBezTo>
                                                        <a:pt x="299" y="565"/>
                                                        <a:pt x="389" y="1016"/>
                                                        <a:pt x="480" y="1467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ff0000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  <p:grpSp>
                                            <p:nvGrpSpPr>
                                              <p:cNvPr id="5846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3648600" y="4603680"/>
                                                <a:ext cx="206640" cy="1330200"/>
                                                <a:chOff x="3648600" y="4603680"/>
                                                <a:chExt cx="206640" cy="133020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5847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717000" y="5596560"/>
                                                  <a:ext cx="69120" cy="337320"/>
                                                  <a:chOff x="3717000" y="5596560"/>
                                                  <a:chExt cx="69120" cy="3373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848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752280" y="559656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ff0000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49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717000" y="559656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ff0000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50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750120" y="5596560"/>
                                                    <a:ext cx="32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ff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5851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648600" y="5787720"/>
                                                  <a:ext cx="68040" cy="144720"/>
                                                  <a:chOff x="3648600" y="5787720"/>
                                                  <a:chExt cx="68040" cy="1447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852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683520" y="5788800"/>
                                                    <a:ext cx="32760" cy="14364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ff0000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53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648600" y="5788080"/>
                                                    <a:ext cx="32760" cy="14400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ff0000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54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 flipV="1">
                                                    <a:off x="3680280" y="5787720"/>
                                                    <a:ext cx="4680" cy="252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ff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4280" bIns="-4428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5855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3786120" y="4603680"/>
                                                  <a:ext cx="69120" cy="132768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480" h="1467">
                                                      <a:moveTo>
                                                        <a:pt x="0" y="0"/>
                                                      </a:moveTo>
                                                      <a:cubicBezTo>
                                                        <a:pt x="17" y="2"/>
                                                        <a:pt x="34" y="4"/>
                                                        <a:pt x="51" y="6"/>
                                                      </a:cubicBezTo>
                                                      <a:cubicBezTo>
                                                        <a:pt x="68" y="8"/>
                                                        <a:pt x="88" y="10"/>
                                                        <a:pt x="102" y="15"/>
                                                      </a:cubicBezTo>
                                                      <a:cubicBezTo>
                                                        <a:pt x="116" y="20"/>
                                                        <a:pt x="122" y="23"/>
                                                        <a:pt x="135" y="33"/>
                                                      </a:cubicBezTo>
                                                      <a:cubicBezTo>
                                                        <a:pt x="148" y="43"/>
                                                        <a:pt x="167" y="56"/>
                                                        <a:pt x="180" y="78"/>
                                                      </a:cubicBezTo>
                                                      <a:cubicBezTo>
                                                        <a:pt x="193" y="100"/>
                                                        <a:pt x="204" y="120"/>
                                                        <a:pt x="216" y="165"/>
                                                      </a:cubicBezTo>
                                                      <a:cubicBezTo>
                                                        <a:pt x="228" y="210"/>
                                                        <a:pt x="211" y="131"/>
                                                        <a:pt x="255" y="348"/>
                                                      </a:cubicBezTo>
                                                      <a:cubicBezTo>
                                                        <a:pt x="299" y="565"/>
                                                        <a:pt x="389" y="1016"/>
                                                        <a:pt x="480" y="1467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ff0000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grpSp>
                                          <p:nvGrpSpPr>
                                            <p:cNvPr id="5856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3165840" y="4603680"/>
                                              <a:ext cx="414720" cy="1330200"/>
                                              <a:chOff x="3165840" y="4603680"/>
                                              <a:chExt cx="414720" cy="133020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5857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3373920" y="4603680"/>
                                                <a:ext cx="206640" cy="1330200"/>
                                                <a:chOff x="3373920" y="4603680"/>
                                                <a:chExt cx="206640" cy="133020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5858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443040" y="5596560"/>
                                                  <a:ext cx="69120" cy="337320"/>
                                                  <a:chOff x="3443040" y="5596560"/>
                                                  <a:chExt cx="69120" cy="3373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859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443040" y="559656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60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478320" y="559656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61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475800" y="5596560"/>
                                                    <a:ext cx="32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5862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512520" y="5787720"/>
                                                  <a:ext cx="68040" cy="144720"/>
                                                  <a:chOff x="3512520" y="5787720"/>
                                                  <a:chExt cx="68040" cy="1447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863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512520" y="5788800"/>
                                                    <a:ext cx="32760" cy="14364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64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547440" y="5788080"/>
                                                    <a:ext cx="32760" cy="14400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65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V="1">
                                                    <a:off x="3544200" y="5787720"/>
                                                    <a:ext cx="4680" cy="252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4280" bIns="-4428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5866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3373920" y="4603680"/>
                                                  <a:ext cx="69120" cy="132768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480" h="1467">
                                                      <a:moveTo>
                                                        <a:pt x="0" y="0"/>
                                                      </a:moveTo>
                                                      <a:cubicBezTo>
                                                        <a:pt x="17" y="2"/>
                                                        <a:pt x="34" y="4"/>
                                                        <a:pt x="51" y="6"/>
                                                      </a:cubicBezTo>
                                                      <a:cubicBezTo>
                                                        <a:pt x="68" y="8"/>
                                                        <a:pt x="88" y="10"/>
                                                        <a:pt x="102" y="15"/>
                                                      </a:cubicBezTo>
                                                      <a:cubicBezTo>
                                                        <a:pt x="116" y="20"/>
                                                        <a:pt x="122" y="23"/>
                                                        <a:pt x="135" y="33"/>
                                                      </a:cubicBezTo>
                                                      <a:cubicBezTo>
                                                        <a:pt x="148" y="43"/>
                                                        <a:pt x="167" y="56"/>
                                                        <a:pt x="180" y="78"/>
                                                      </a:cubicBezTo>
                                                      <a:cubicBezTo>
                                                        <a:pt x="193" y="100"/>
                                                        <a:pt x="204" y="120"/>
                                                        <a:pt x="216" y="165"/>
                                                      </a:cubicBezTo>
                                                      <a:cubicBezTo>
                                                        <a:pt x="228" y="210"/>
                                                        <a:pt x="211" y="131"/>
                                                        <a:pt x="255" y="348"/>
                                                      </a:cubicBezTo>
                                                      <a:cubicBezTo>
                                                        <a:pt x="299" y="565"/>
                                                        <a:pt x="389" y="1016"/>
                                                        <a:pt x="480" y="1467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  <p:grpSp>
                                            <p:nvGrpSpPr>
                                              <p:cNvPr id="5867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3165840" y="4603680"/>
                                                <a:ext cx="206640" cy="1330200"/>
                                                <a:chOff x="3165840" y="4603680"/>
                                                <a:chExt cx="206640" cy="133020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5868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234240" y="5596560"/>
                                                  <a:ext cx="69120" cy="337320"/>
                                                  <a:chOff x="3234240" y="5596560"/>
                                                  <a:chExt cx="69120" cy="3373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869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269520" y="559656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70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234240" y="559656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71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267360" y="5596560"/>
                                                    <a:ext cx="32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5872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165840" y="5787720"/>
                                                  <a:ext cx="68040" cy="144720"/>
                                                  <a:chOff x="3165840" y="5787720"/>
                                                  <a:chExt cx="68040" cy="1447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873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200760" y="5788800"/>
                                                    <a:ext cx="32760" cy="14364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74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165840" y="5788080"/>
                                                    <a:ext cx="32760" cy="14400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75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 flipV="1">
                                                    <a:off x="3197520" y="5787720"/>
                                                    <a:ext cx="4680" cy="252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4280" bIns="-4428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5876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3303360" y="4603680"/>
                                                  <a:ext cx="69120" cy="132768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480" h="1467">
                                                      <a:moveTo>
                                                        <a:pt x="0" y="0"/>
                                                      </a:moveTo>
                                                      <a:cubicBezTo>
                                                        <a:pt x="17" y="2"/>
                                                        <a:pt x="34" y="4"/>
                                                        <a:pt x="51" y="6"/>
                                                      </a:cubicBezTo>
                                                      <a:cubicBezTo>
                                                        <a:pt x="68" y="8"/>
                                                        <a:pt x="88" y="10"/>
                                                        <a:pt x="102" y="15"/>
                                                      </a:cubicBezTo>
                                                      <a:cubicBezTo>
                                                        <a:pt x="116" y="20"/>
                                                        <a:pt x="122" y="23"/>
                                                        <a:pt x="135" y="33"/>
                                                      </a:cubicBezTo>
                                                      <a:cubicBezTo>
                                                        <a:pt x="148" y="43"/>
                                                        <a:pt x="167" y="56"/>
                                                        <a:pt x="180" y="78"/>
                                                      </a:cubicBezTo>
                                                      <a:cubicBezTo>
                                                        <a:pt x="193" y="100"/>
                                                        <a:pt x="204" y="120"/>
                                                        <a:pt x="216" y="165"/>
                                                      </a:cubicBezTo>
                                                      <a:cubicBezTo>
                                                        <a:pt x="228" y="210"/>
                                                        <a:pt x="211" y="131"/>
                                                        <a:pt x="255" y="348"/>
                                                      </a:cubicBezTo>
                                                      <a:cubicBezTo>
                                                        <a:pt x="299" y="565"/>
                                                        <a:pt x="389" y="1016"/>
                                                        <a:pt x="480" y="1467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grpSp>
                                          <p:nvGrpSpPr>
                                            <p:cNvPr id="5877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3234240" y="4606560"/>
                                              <a:ext cx="414360" cy="1331640"/>
                                              <a:chOff x="3234240" y="4606560"/>
                                              <a:chExt cx="414360" cy="133164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5878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3441960" y="4606560"/>
                                                <a:ext cx="206640" cy="1331640"/>
                                                <a:chOff x="3441960" y="4606560"/>
                                                <a:chExt cx="206640" cy="133164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5879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511080" y="5600520"/>
                                                  <a:ext cx="69120" cy="337680"/>
                                                  <a:chOff x="3511080" y="5600520"/>
                                                  <a:chExt cx="69120" cy="33768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880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511080" y="5600520"/>
                                                    <a:ext cx="33840" cy="33768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81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546360" y="5600520"/>
                                                    <a:ext cx="33840" cy="33768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82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543840" y="5600520"/>
                                                    <a:ext cx="32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5883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580560" y="5792760"/>
                                                  <a:ext cx="68040" cy="144720"/>
                                                  <a:chOff x="3580560" y="5792760"/>
                                                  <a:chExt cx="68040" cy="1447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884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580560" y="5793480"/>
                                                    <a:ext cx="32760" cy="14400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85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615480" y="5792760"/>
                                                    <a:ext cx="32760" cy="14436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86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V="1">
                                                    <a:off x="3612240" y="5792760"/>
                                                    <a:ext cx="4680" cy="288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3920" bIns="-4392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5887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3441960" y="4606560"/>
                                                  <a:ext cx="69120" cy="132948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480" h="1467">
                                                      <a:moveTo>
                                                        <a:pt x="0" y="0"/>
                                                      </a:moveTo>
                                                      <a:cubicBezTo>
                                                        <a:pt x="17" y="2"/>
                                                        <a:pt x="34" y="4"/>
                                                        <a:pt x="51" y="6"/>
                                                      </a:cubicBezTo>
                                                      <a:cubicBezTo>
                                                        <a:pt x="68" y="8"/>
                                                        <a:pt x="88" y="10"/>
                                                        <a:pt x="102" y="15"/>
                                                      </a:cubicBezTo>
                                                      <a:cubicBezTo>
                                                        <a:pt x="116" y="20"/>
                                                        <a:pt x="122" y="23"/>
                                                        <a:pt x="135" y="33"/>
                                                      </a:cubicBezTo>
                                                      <a:cubicBezTo>
                                                        <a:pt x="148" y="43"/>
                                                        <a:pt x="167" y="56"/>
                                                        <a:pt x="180" y="78"/>
                                                      </a:cubicBezTo>
                                                      <a:cubicBezTo>
                                                        <a:pt x="193" y="100"/>
                                                        <a:pt x="204" y="120"/>
                                                        <a:pt x="216" y="165"/>
                                                      </a:cubicBezTo>
                                                      <a:cubicBezTo>
                                                        <a:pt x="228" y="210"/>
                                                        <a:pt x="211" y="131"/>
                                                        <a:pt x="255" y="348"/>
                                                      </a:cubicBezTo>
                                                      <a:cubicBezTo>
                                                        <a:pt x="299" y="565"/>
                                                        <a:pt x="389" y="1016"/>
                                                        <a:pt x="480" y="1467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  <p:grpSp>
                                            <p:nvGrpSpPr>
                                              <p:cNvPr id="5888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3234240" y="4606560"/>
                                                <a:ext cx="206640" cy="1331640"/>
                                                <a:chOff x="3234240" y="4606560"/>
                                                <a:chExt cx="206640" cy="133164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5889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302640" y="5600520"/>
                                                  <a:ext cx="69120" cy="337680"/>
                                                  <a:chOff x="3302640" y="5600520"/>
                                                  <a:chExt cx="69120" cy="33768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890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337920" y="5600520"/>
                                                    <a:ext cx="33840" cy="33768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91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302640" y="5600520"/>
                                                    <a:ext cx="33840" cy="33768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92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335760" y="5600520"/>
                                                    <a:ext cx="32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5893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234240" y="5792760"/>
                                                  <a:ext cx="68040" cy="144720"/>
                                                  <a:chOff x="3234240" y="5792760"/>
                                                  <a:chExt cx="68040" cy="1447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894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269160" y="5793480"/>
                                                    <a:ext cx="32760" cy="14400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95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234240" y="5792760"/>
                                                    <a:ext cx="32760" cy="14436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896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 flipV="1">
                                                    <a:off x="3265920" y="5792760"/>
                                                    <a:ext cx="4680" cy="288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3920" bIns="-4392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5897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3371760" y="4606560"/>
                                                  <a:ext cx="69120" cy="132948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480" h="1467">
                                                      <a:moveTo>
                                                        <a:pt x="0" y="0"/>
                                                      </a:moveTo>
                                                      <a:cubicBezTo>
                                                        <a:pt x="17" y="2"/>
                                                        <a:pt x="34" y="4"/>
                                                        <a:pt x="51" y="6"/>
                                                      </a:cubicBezTo>
                                                      <a:cubicBezTo>
                                                        <a:pt x="68" y="8"/>
                                                        <a:pt x="88" y="10"/>
                                                        <a:pt x="102" y="15"/>
                                                      </a:cubicBezTo>
                                                      <a:cubicBezTo>
                                                        <a:pt x="116" y="20"/>
                                                        <a:pt x="122" y="23"/>
                                                        <a:pt x="135" y="33"/>
                                                      </a:cubicBezTo>
                                                      <a:cubicBezTo>
                                                        <a:pt x="148" y="43"/>
                                                        <a:pt x="167" y="56"/>
                                                        <a:pt x="180" y="78"/>
                                                      </a:cubicBezTo>
                                                      <a:cubicBezTo>
                                                        <a:pt x="193" y="100"/>
                                                        <a:pt x="204" y="120"/>
                                                        <a:pt x="216" y="165"/>
                                                      </a:cubicBezTo>
                                                      <a:cubicBezTo>
                                                        <a:pt x="228" y="210"/>
                                                        <a:pt x="211" y="131"/>
                                                        <a:pt x="255" y="348"/>
                                                      </a:cubicBezTo>
                                                      <a:cubicBezTo>
                                                        <a:pt x="299" y="565"/>
                                                        <a:pt x="389" y="1016"/>
                                                        <a:pt x="480" y="1467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grpSp>
                                          <p:nvGrpSpPr>
                                            <p:cNvPr id="5898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3442320" y="4606560"/>
                                              <a:ext cx="414360" cy="1331640"/>
                                              <a:chOff x="3442320" y="4606560"/>
                                              <a:chExt cx="414360" cy="133164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5899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3650040" y="4606560"/>
                                                <a:ext cx="206640" cy="1331640"/>
                                                <a:chOff x="3650040" y="4606560"/>
                                                <a:chExt cx="206640" cy="133164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5900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719160" y="5600520"/>
                                                  <a:ext cx="69120" cy="337680"/>
                                                  <a:chOff x="3719160" y="5600520"/>
                                                  <a:chExt cx="69120" cy="33768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901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719160" y="5600520"/>
                                                    <a:ext cx="33840" cy="33768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02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754440" y="5600520"/>
                                                    <a:ext cx="33840" cy="33768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03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751920" y="5600520"/>
                                                    <a:ext cx="32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5904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788640" y="5792760"/>
                                                  <a:ext cx="68040" cy="144720"/>
                                                  <a:chOff x="3788640" y="5792760"/>
                                                  <a:chExt cx="68040" cy="1447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905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788640" y="5793480"/>
                                                    <a:ext cx="32760" cy="14400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06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823560" y="5792760"/>
                                                    <a:ext cx="32760" cy="14436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07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V="1">
                                                    <a:off x="3820320" y="5792760"/>
                                                    <a:ext cx="4680" cy="288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3920" bIns="-4392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5908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3650040" y="4606560"/>
                                                  <a:ext cx="69120" cy="132948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480" h="1467">
                                                      <a:moveTo>
                                                        <a:pt x="0" y="0"/>
                                                      </a:moveTo>
                                                      <a:cubicBezTo>
                                                        <a:pt x="17" y="2"/>
                                                        <a:pt x="34" y="4"/>
                                                        <a:pt x="51" y="6"/>
                                                      </a:cubicBezTo>
                                                      <a:cubicBezTo>
                                                        <a:pt x="68" y="8"/>
                                                        <a:pt x="88" y="10"/>
                                                        <a:pt x="102" y="15"/>
                                                      </a:cubicBezTo>
                                                      <a:cubicBezTo>
                                                        <a:pt x="116" y="20"/>
                                                        <a:pt x="122" y="23"/>
                                                        <a:pt x="135" y="33"/>
                                                      </a:cubicBezTo>
                                                      <a:cubicBezTo>
                                                        <a:pt x="148" y="43"/>
                                                        <a:pt x="167" y="56"/>
                                                        <a:pt x="180" y="78"/>
                                                      </a:cubicBezTo>
                                                      <a:cubicBezTo>
                                                        <a:pt x="193" y="100"/>
                                                        <a:pt x="204" y="120"/>
                                                        <a:pt x="216" y="165"/>
                                                      </a:cubicBezTo>
                                                      <a:cubicBezTo>
                                                        <a:pt x="228" y="210"/>
                                                        <a:pt x="211" y="131"/>
                                                        <a:pt x="255" y="348"/>
                                                      </a:cubicBezTo>
                                                      <a:cubicBezTo>
                                                        <a:pt x="299" y="565"/>
                                                        <a:pt x="389" y="1016"/>
                                                        <a:pt x="480" y="1467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  <p:grpSp>
                                            <p:nvGrpSpPr>
                                              <p:cNvPr id="5909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3442320" y="4606560"/>
                                                <a:ext cx="206640" cy="1331640"/>
                                                <a:chOff x="3442320" y="4606560"/>
                                                <a:chExt cx="206640" cy="133164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5910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510720" y="5600520"/>
                                                  <a:ext cx="69120" cy="337680"/>
                                                  <a:chOff x="3510720" y="5600520"/>
                                                  <a:chExt cx="69120" cy="33768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911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546000" y="5600520"/>
                                                    <a:ext cx="33840" cy="33768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12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510720" y="5600520"/>
                                                    <a:ext cx="33840" cy="33768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13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543840" y="5600520"/>
                                                    <a:ext cx="32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5914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442320" y="5792760"/>
                                                  <a:ext cx="68040" cy="144720"/>
                                                  <a:chOff x="3442320" y="5792760"/>
                                                  <a:chExt cx="68040" cy="1447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915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477240" y="5793480"/>
                                                    <a:ext cx="32760" cy="14400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16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442320" y="5792760"/>
                                                    <a:ext cx="32760" cy="14436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17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 flipV="1">
                                                    <a:off x="3474000" y="5792760"/>
                                                    <a:ext cx="4680" cy="288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3920" bIns="-4392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5918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3579840" y="4606560"/>
                                                  <a:ext cx="69120" cy="132948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480" h="1467">
                                                      <a:moveTo>
                                                        <a:pt x="0" y="0"/>
                                                      </a:moveTo>
                                                      <a:cubicBezTo>
                                                        <a:pt x="17" y="2"/>
                                                        <a:pt x="34" y="4"/>
                                                        <a:pt x="51" y="6"/>
                                                      </a:cubicBezTo>
                                                      <a:cubicBezTo>
                                                        <a:pt x="68" y="8"/>
                                                        <a:pt x="88" y="10"/>
                                                        <a:pt x="102" y="15"/>
                                                      </a:cubicBezTo>
                                                      <a:cubicBezTo>
                                                        <a:pt x="116" y="20"/>
                                                        <a:pt x="122" y="23"/>
                                                        <a:pt x="135" y="33"/>
                                                      </a:cubicBezTo>
                                                      <a:cubicBezTo>
                                                        <a:pt x="148" y="43"/>
                                                        <a:pt x="167" y="56"/>
                                                        <a:pt x="180" y="78"/>
                                                      </a:cubicBezTo>
                                                      <a:cubicBezTo>
                                                        <a:pt x="193" y="100"/>
                                                        <a:pt x="204" y="120"/>
                                                        <a:pt x="216" y="165"/>
                                                      </a:cubicBezTo>
                                                      <a:cubicBezTo>
                                                        <a:pt x="228" y="210"/>
                                                        <a:pt x="211" y="131"/>
                                                        <a:pt x="255" y="348"/>
                                                      </a:cubicBezTo>
                                                      <a:cubicBezTo>
                                                        <a:pt x="299" y="565"/>
                                                        <a:pt x="389" y="1016"/>
                                                        <a:pt x="480" y="1467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grpSp>
                                          <p:nvGrpSpPr>
                                            <p:cNvPr id="5919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2819880" y="4598640"/>
                                              <a:ext cx="414360" cy="1330200"/>
                                              <a:chOff x="2819880" y="4598640"/>
                                              <a:chExt cx="414360" cy="133020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5920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3027600" y="4598640"/>
                                                <a:ext cx="206640" cy="1330200"/>
                                                <a:chOff x="3027600" y="4598640"/>
                                                <a:chExt cx="206640" cy="133020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5921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096720" y="5591520"/>
                                                  <a:ext cx="69120" cy="337320"/>
                                                  <a:chOff x="3096720" y="5591520"/>
                                                  <a:chExt cx="69120" cy="3373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922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096720" y="559152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23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132000" y="559152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24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129480" y="5591520"/>
                                                    <a:ext cx="32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5925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166200" y="5783040"/>
                                                  <a:ext cx="68040" cy="144720"/>
                                                  <a:chOff x="3166200" y="5783040"/>
                                                  <a:chExt cx="68040" cy="1447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926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166200" y="5784120"/>
                                                    <a:ext cx="32760" cy="14364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27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201120" y="5783400"/>
                                                    <a:ext cx="32760" cy="14400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28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V="1">
                                                    <a:off x="3197880" y="5783040"/>
                                                    <a:ext cx="4680" cy="252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4280" bIns="-4428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5929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3027600" y="4598640"/>
                                                  <a:ext cx="69120" cy="132804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480" h="1467">
                                                      <a:moveTo>
                                                        <a:pt x="0" y="0"/>
                                                      </a:moveTo>
                                                      <a:cubicBezTo>
                                                        <a:pt x="17" y="2"/>
                                                        <a:pt x="34" y="4"/>
                                                        <a:pt x="51" y="6"/>
                                                      </a:cubicBezTo>
                                                      <a:cubicBezTo>
                                                        <a:pt x="68" y="8"/>
                                                        <a:pt x="88" y="10"/>
                                                        <a:pt x="102" y="15"/>
                                                      </a:cubicBezTo>
                                                      <a:cubicBezTo>
                                                        <a:pt x="116" y="20"/>
                                                        <a:pt x="122" y="23"/>
                                                        <a:pt x="135" y="33"/>
                                                      </a:cubicBezTo>
                                                      <a:cubicBezTo>
                                                        <a:pt x="148" y="43"/>
                                                        <a:pt x="167" y="56"/>
                                                        <a:pt x="180" y="78"/>
                                                      </a:cubicBezTo>
                                                      <a:cubicBezTo>
                                                        <a:pt x="193" y="100"/>
                                                        <a:pt x="204" y="120"/>
                                                        <a:pt x="216" y="165"/>
                                                      </a:cubicBezTo>
                                                      <a:cubicBezTo>
                                                        <a:pt x="228" y="210"/>
                                                        <a:pt x="211" y="131"/>
                                                        <a:pt x="255" y="348"/>
                                                      </a:cubicBezTo>
                                                      <a:cubicBezTo>
                                                        <a:pt x="299" y="565"/>
                                                        <a:pt x="389" y="1016"/>
                                                        <a:pt x="480" y="1467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  <p:grpSp>
                                            <p:nvGrpSpPr>
                                              <p:cNvPr id="5930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2819880" y="4598640"/>
                                                <a:ext cx="206640" cy="1330200"/>
                                                <a:chOff x="2819880" y="4598640"/>
                                                <a:chExt cx="206640" cy="133020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5931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2888280" y="5591520"/>
                                                  <a:ext cx="69120" cy="337320"/>
                                                  <a:chOff x="2888280" y="5591520"/>
                                                  <a:chExt cx="69120" cy="3373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932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2923560" y="559152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33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2888280" y="559152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34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2921400" y="5591520"/>
                                                    <a:ext cx="32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5935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2819880" y="5783040"/>
                                                  <a:ext cx="68040" cy="144720"/>
                                                  <a:chOff x="2819880" y="5783040"/>
                                                  <a:chExt cx="68040" cy="1447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936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2854800" y="5784120"/>
                                                    <a:ext cx="32760" cy="14364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37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2819880" y="5783400"/>
                                                    <a:ext cx="32760" cy="14400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38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 flipV="1">
                                                    <a:off x="2851560" y="5783040"/>
                                                    <a:ext cx="4680" cy="252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4280" bIns="-4428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5939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2957400" y="4598640"/>
                                                  <a:ext cx="69120" cy="132804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480" h="1467">
                                                      <a:moveTo>
                                                        <a:pt x="0" y="0"/>
                                                      </a:moveTo>
                                                      <a:cubicBezTo>
                                                        <a:pt x="17" y="2"/>
                                                        <a:pt x="34" y="4"/>
                                                        <a:pt x="51" y="6"/>
                                                      </a:cubicBezTo>
                                                      <a:cubicBezTo>
                                                        <a:pt x="68" y="8"/>
                                                        <a:pt x="88" y="10"/>
                                                        <a:pt x="102" y="15"/>
                                                      </a:cubicBezTo>
                                                      <a:cubicBezTo>
                                                        <a:pt x="116" y="20"/>
                                                        <a:pt x="122" y="23"/>
                                                        <a:pt x="135" y="33"/>
                                                      </a:cubicBezTo>
                                                      <a:cubicBezTo>
                                                        <a:pt x="148" y="43"/>
                                                        <a:pt x="167" y="56"/>
                                                        <a:pt x="180" y="78"/>
                                                      </a:cubicBezTo>
                                                      <a:cubicBezTo>
                                                        <a:pt x="193" y="100"/>
                                                        <a:pt x="204" y="120"/>
                                                        <a:pt x="216" y="165"/>
                                                      </a:cubicBezTo>
                                                      <a:cubicBezTo>
                                                        <a:pt x="228" y="210"/>
                                                        <a:pt x="211" y="131"/>
                                                        <a:pt x="255" y="348"/>
                                                      </a:cubicBezTo>
                                                      <a:cubicBezTo>
                                                        <a:pt x="299" y="565"/>
                                                        <a:pt x="389" y="1016"/>
                                                        <a:pt x="480" y="1467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grpSp>
                                          <p:nvGrpSpPr>
                                            <p:cNvPr id="5940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2888280" y="4603680"/>
                                              <a:ext cx="414360" cy="1330200"/>
                                              <a:chOff x="2888280" y="4603680"/>
                                              <a:chExt cx="414360" cy="133020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5941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3096000" y="4603680"/>
                                                <a:ext cx="206640" cy="1330200"/>
                                                <a:chOff x="3096000" y="4603680"/>
                                                <a:chExt cx="206640" cy="133020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5942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165120" y="5596560"/>
                                                  <a:ext cx="69120" cy="337320"/>
                                                  <a:chOff x="3165120" y="5596560"/>
                                                  <a:chExt cx="69120" cy="3373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943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165120" y="559656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44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200400" y="559656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45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197880" y="5596560"/>
                                                    <a:ext cx="32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5946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3234600" y="5787720"/>
                                                  <a:ext cx="68040" cy="144720"/>
                                                  <a:chOff x="3234600" y="5787720"/>
                                                  <a:chExt cx="68040" cy="1447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947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3234600" y="5788800"/>
                                                    <a:ext cx="32760" cy="14364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48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3269520" y="5788080"/>
                                                    <a:ext cx="32760" cy="14400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49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V="1">
                                                    <a:off x="3266280" y="5787720"/>
                                                    <a:ext cx="4680" cy="252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4280" bIns="-4428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5950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3096000" y="4603680"/>
                                                  <a:ext cx="69120" cy="132768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480" h="1467">
                                                      <a:moveTo>
                                                        <a:pt x="0" y="0"/>
                                                      </a:moveTo>
                                                      <a:cubicBezTo>
                                                        <a:pt x="17" y="2"/>
                                                        <a:pt x="34" y="4"/>
                                                        <a:pt x="51" y="6"/>
                                                      </a:cubicBezTo>
                                                      <a:cubicBezTo>
                                                        <a:pt x="68" y="8"/>
                                                        <a:pt x="88" y="10"/>
                                                        <a:pt x="102" y="15"/>
                                                      </a:cubicBezTo>
                                                      <a:cubicBezTo>
                                                        <a:pt x="116" y="20"/>
                                                        <a:pt x="122" y="23"/>
                                                        <a:pt x="135" y="33"/>
                                                      </a:cubicBezTo>
                                                      <a:cubicBezTo>
                                                        <a:pt x="148" y="43"/>
                                                        <a:pt x="167" y="56"/>
                                                        <a:pt x="180" y="78"/>
                                                      </a:cubicBezTo>
                                                      <a:cubicBezTo>
                                                        <a:pt x="193" y="100"/>
                                                        <a:pt x="204" y="120"/>
                                                        <a:pt x="216" y="165"/>
                                                      </a:cubicBezTo>
                                                      <a:cubicBezTo>
                                                        <a:pt x="228" y="210"/>
                                                        <a:pt x="211" y="131"/>
                                                        <a:pt x="255" y="348"/>
                                                      </a:cubicBezTo>
                                                      <a:cubicBezTo>
                                                        <a:pt x="299" y="565"/>
                                                        <a:pt x="389" y="1016"/>
                                                        <a:pt x="480" y="1467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  <p:grpSp>
                                            <p:nvGrpSpPr>
                                              <p:cNvPr id="5951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2888280" y="4603680"/>
                                                <a:ext cx="206640" cy="1330200"/>
                                                <a:chOff x="2888280" y="4603680"/>
                                                <a:chExt cx="206640" cy="133020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5952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2956680" y="5596560"/>
                                                  <a:ext cx="69120" cy="337320"/>
                                                  <a:chOff x="2956680" y="5596560"/>
                                                  <a:chExt cx="69120" cy="3373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953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2991960" y="559656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54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2956680" y="559656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55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2989800" y="5596560"/>
                                                    <a:ext cx="32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5956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2888280" y="5787720"/>
                                                  <a:ext cx="68040" cy="144720"/>
                                                  <a:chOff x="2888280" y="5787720"/>
                                                  <a:chExt cx="68040" cy="1447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5957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2923200" y="5788800"/>
                                                    <a:ext cx="32760" cy="14364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58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2888280" y="5788080"/>
                                                    <a:ext cx="32760" cy="14400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5959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 flipV="1">
                                                    <a:off x="2919960" y="5787720"/>
                                                    <a:ext cx="4680" cy="252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4280" bIns="-4428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5960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3025800" y="4603680"/>
                                                  <a:ext cx="69120" cy="132768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480" h="1467">
                                                      <a:moveTo>
                                                        <a:pt x="0" y="0"/>
                                                      </a:moveTo>
                                                      <a:cubicBezTo>
                                                        <a:pt x="17" y="2"/>
                                                        <a:pt x="34" y="4"/>
                                                        <a:pt x="51" y="6"/>
                                                      </a:cubicBezTo>
                                                      <a:cubicBezTo>
                                                        <a:pt x="68" y="8"/>
                                                        <a:pt x="88" y="10"/>
                                                        <a:pt x="102" y="15"/>
                                                      </a:cubicBezTo>
                                                      <a:cubicBezTo>
                                                        <a:pt x="116" y="20"/>
                                                        <a:pt x="122" y="23"/>
                                                        <a:pt x="135" y="33"/>
                                                      </a:cubicBezTo>
                                                      <a:cubicBezTo>
                                                        <a:pt x="148" y="43"/>
                                                        <a:pt x="167" y="56"/>
                                                        <a:pt x="180" y="78"/>
                                                      </a:cubicBezTo>
                                                      <a:cubicBezTo>
                                                        <a:pt x="193" y="100"/>
                                                        <a:pt x="204" y="120"/>
                                                        <a:pt x="216" y="165"/>
                                                      </a:cubicBezTo>
                                                      <a:cubicBezTo>
                                                        <a:pt x="228" y="210"/>
                                                        <a:pt x="211" y="131"/>
                                                        <a:pt x="255" y="348"/>
                                                      </a:cubicBezTo>
                                                      <a:cubicBezTo>
                                                        <a:pt x="299" y="565"/>
                                                        <a:pt x="389" y="1016"/>
                                                        <a:pt x="480" y="1467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grpSp>
                                          <p:nvGrpSpPr>
                                            <p:cNvPr id="5961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207320" y="4568760"/>
                                              <a:ext cx="2148120" cy="1373040"/>
                                              <a:chOff x="4207320" y="4568760"/>
                                              <a:chExt cx="2148120" cy="137304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5962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4761360" y="4606560"/>
                                                <a:ext cx="414720" cy="1331640"/>
                                                <a:chOff x="4761360" y="4606560"/>
                                                <a:chExt cx="414720" cy="133164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5963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4969440" y="4606560"/>
                                                  <a:ext cx="206640" cy="1331640"/>
                                                  <a:chOff x="4969440" y="4606560"/>
                                                  <a:chExt cx="206640" cy="133164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5964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5038560" y="5600520"/>
                                                    <a:ext cx="69120" cy="337680"/>
                                                    <a:chOff x="5038560" y="5600520"/>
                                                    <a:chExt cx="69120" cy="337680"/>
                                                  </a:xfrm>
                                                </p:grpSpPr>
                                                <p:sp>
                                                  <p:nvSpPr>
                                                    <p:cNvPr id="5965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5038560" y="5600520"/>
                                                      <a:ext cx="33840" cy="337680"/>
                                                    </a:xfrm>
                                                    <a:custGeom>
                                                      <a:avLst/>
                                                      <a:gdLst/>
                                                      <a:ahLst/>
                                                      <a:rect l="l" t="t" r="r" b="b"/>
                                                      <a:pathLst>
                                                        <a:path w="234" h="373">
                                                          <a:moveTo>
                                                            <a:pt x="0" y="373"/>
                                                          </a:moveTo>
                                                          <a:cubicBezTo>
                                                            <a:pt x="4" y="357"/>
                                                            <a:pt x="8" y="342"/>
                                                            <a:pt x="15" y="319"/>
                                                          </a:cubicBezTo>
                                                          <a:cubicBezTo>
                                                            <a:pt x="22" y="296"/>
                                                            <a:pt x="34" y="260"/>
                                                            <a:pt x="44" y="232"/>
                                                          </a:cubicBezTo>
                                                          <a:cubicBezTo>
                                                            <a:pt x="54" y="204"/>
                                                            <a:pt x="64" y="173"/>
                                                            <a:pt x="74" y="150"/>
                                                          </a:cubicBezTo>
                                                          <a:cubicBezTo>
                                                            <a:pt x="84" y="127"/>
                                                            <a:pt x="91" y="111"/>
                                                            <a:pt x="102" y="93"/>
                                                          </a:cubicBezTo>
                                                          <a:cubicBezTo>
                                                            <a:pt x="113" y="75"/>
                                                            <a:pt x="127" y="56"/>
                                                            <a:pt x="137" y="43"/>
                                                          </a:cubicBezTo>
                                                          <a:cubicBezTo>
                                                            <a:pt x="147" y="30"/>
                                                            <a:pt x="155" y="23"/>
                                                            <a:pt x="164" y="16"/>
                                                          </a:cubicBezTo>
                                                          <a:cubicBezTo>
                                                            <a:pt x="173" y="9"/>
                                                            <a:pt x="182" y="6"/>
                                                            <a:pt x="194" y="3"/>
                                                          </a:cubicBezTo>
                                                          <a:cubicBezTo>
                                                            <a:pt x="206" y="0"/>
                                                            <a:pt x="226" y="0"/>
                                                            <a:pt x="234" y="0"/>
                                                          </a:cubicBezTo>
                                                        </a:path>
                                                      </a:pathLst>
                                                    </a:custGeom>
                                                    <a:noFill/>
                                                    <a:ln w="6480">
                                                      <a:solidFill>
                                                        <a:srgbClr val="3333cc"/>
                                                      </a:solidFill>
                                                      <a:round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wrap="none" anchor="ctr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24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Times New Roman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5966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5073840" y="5600520"/>
                                                      <a:ext cx="33840" cy="337680"/>
                                                    </a:xfrm>
                                                    <a:custGeom>
                                                      <a:avLst/>
                                                      <a:gdLst/>
                                                      <a:ahLst/>
                                                      <a:rect l="l" t="t" r="r" b="b"/>
                                                      <a:pathLst>
                                                        <a:path w="234" h="373">
                                                          <a:moveTo>
                                                            <a:pt x="0" y="373"/>
                                                          </a:moveTo>
                                                          <a:cubicBezTo>
                                                            <a:pt x="4" y="357"/>
                                                            <a:pt x="8" y="342"/>
                                                            <a:pt x="15" y="319"/>
                                                          </a:cubicBezTo>
                                                          <a:cubicBezTo>
                                                            <a:pt x="22" y="296"/>
                                                            <a:pt x="34" y="260"/>
                                                            <a:pt x="44" y="232"/>
                                                          </a:cubicBezTo>
                                                          <a:cubicBezTo>
                                                            <a:pt x="54" y="204"/>
                                                            <a:pt x="64" y="173"/>
                                                            <a:pt x="74" y="150"/>
                                                          </a:cubicBezTo>
                                                          <a:cubicBezTo>
                                                            <a:pt x="84" y="127"/>
                                                            <a:pt x="91" y="111"/>
                                                            <a:pt x="102" y="93"/>
                                                          </a:cubicBezTo>
                                                          <a:cubicBezTo>
                                                            <a:pt x="113" y="75"/>
                                                            <a:pt x="127" y="56"/>
                                                            <a:pt x="137" y="43"/>
                                                          </a:cubicBezTo>
                                                          <a:cubicBezTo>
                                                            <a:pt x="147" y="30"/>
                                                            <a:pt x="155" y="23"/>
                                                            <a:pt x="164" y="16"/>
                                                          </a:cubicBezTo>
                                                          <a:cubicBezTo>
                                                            <a:pt x="173" y="9"/>
                                                            <a:pt x="182" y="6"/>
                                                            <a:pt x="194" y="3"/>
                                                          </a:cubicBezTo>
                                                          <a:cubicBezTo>
                                                            <a:pt x="206" y="0"/>
                                                            <a:pt x="226" y="0"/>
                                                            <a:pt x="234" y="0"/>
                                                          </a:cubicBezTo>
                                                        </a:path>
                                                      </a:pathLst>
                                                    </a:custGeom>
                                                    <a:noFill/>
                                                    <a:ln w="6480">
                                                      <a:solidFill>
                                                        <a:srgbClr val="3333cc"/>
                                                      </a:solidFill>
                                                      <a:round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wrap="none" anchor="ctr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24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Times New Roman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5967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5071320" y="5600520"/>
                                                      <a:ext cx="324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6480">
                                                      <a:solidFill>
                                                        <a:srgbClr val="3333cc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ctr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24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Times New Roman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  <p:grpSp>
                                                <p:nvGrpSpPr>
                                                  <p:cNvPr id="5968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5108040" y="5792760"/>
                                                    <a:ext cx="68040" cy="144720"/>
                                                    <a:chOff x="5108040" y="5792760"/>
                                                    <a:chExt cx="68040" cy="144720"/>
                                                  </a:xfrm>
                                                </p:grpSpPr>
                                                <p:sp>
                                                  <p:nvSpPr>
                                                    <p:cNvPr id="5969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5108040" y="5793480"/>
                                                      <a:ext cx="32760" cy="144000"/>
                                                    </a:xfrm>
                                                    <a:custGeom>
                                                      <a:avLst/>
                                                      <a:gdLst/>
                                                      <a:ahLst/>
                                                      <a:rect l="l" t="t" r="r" b="b"/>
                                                      <a:pathLst>
                                                        <a:path w="228" h="159">
                                                          <a:moveTo>
                                                            <a:pt x="0" y="159"/>
                                                          </a:moveTo>
                                                          <a:cubicBezTo>
                                                            <a:pt x="15" y="139"/>
                                                            <a:pt x="30" y="120"/>
                                                            <a:pt x="45" y="103"/>
                                                          </a:cubicBezTo>
                                                          <a:cubicBezTo>
                                                            <a:pt x="60" y="86"/>
                                                            <a:pt x="76" y="68"/>
                                                            <a:pt x="90" y="54"/>
                                                          </a:cubicBezTo>
                                                          <a:cubicBezTo>
                                                            <a:pt x="104" y="40"/>
                                                            <a:pt x="118" y="30"/>
                                                            <a:pt x="130" y="22"/>
                                                          </a:cubicBezTo>
                                                          <a:cubicBezTo>
                                                            <a:pt x="142" y="14"/>
                                                            <a:pt x="150" y="10"/>
                                                            <a:pt x="162" y="7"/>
                                                          </a:cubicBezTo>
                                                          <a:cubicBezTo>
                                                            <a:pt x="174" y="4"/>
                                                            <a:pt x="191" y="2"/>
                                                            <a:pt x="202" y="1"/>
                                                          </a:cubicBezTo>
                                                          <a:cubicBezTo>
                                                            <a:pt x="213" y="0"/>
                                                            <a:pt x="220" y="0"/>
                                                            <a:pt x="228" y="1"/>
                                                          </a:cubicBezTo>
                                                        </a:path>
                                                      </a:pathLst>
                                                    </a:custGeom>
                                                    <a:noFill/>
                                                    <a:ln w="6480">
                                                      <a:solidFill>
                                                        <a:srgbClr val="3333cc"/>
                                                      </a:solidFill>
                                                      <a:round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wrap="none" anchor="ctr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24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Times New Roman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5970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5142960" y="5792760"/>
                                                      <a:ext cx="32760" cy="144360"/>
                                                    </a:xfrm>
                                                    <a:custGeom>
                                                      <a:avLst/>
                                                      <a:gdLst/>
                                                      <a:ahLst/>
                                                      <a:rect l="l" t="t" r="r" b="b"/>
                                                      <a:pathLst>
                                                        <a:path w="228" h="159">
                                                          <a:moveTo>
                                                            <a:pt x="0" y="159"/>
                                                          </a:moveTo>
                                                          <a:cubicBezTo>
                                                            <a:pt x="15" y="139"/>
                                                            <a:pt x="30" y="120"/>
                                                            <a:pt x="45" y="103"/>
                                                          </a:cubicBezTo>
                                                          <a:cubicBezTo>
                                                            <a:pt x="60" y="86"/>
                                                            <a:pt x="76" y="68"/>
                                                            <a:pt x="90" y="54"/>
                                                          </a:cubicBezTo>
                                                          <a:cubicBezTo>
                                                            <a:pt x="104" y="40"/>
                                                            <a:pt x="118" y="30"/>
                                                            <a:pt x="130" y="22"/>
                                                          </a:cubicBezTo>
                                                          <a:cubicBezTo>
                                                            <a:pt x="142" y="14"/>
                                                            <a:pt x="150" y="10"/>
                                                            <a:pt x="162" y="7"/>
                                                          </a:cubicBezTo>
                                                          <a:cubicBezTo>
                                                            <a:pt x="174" y="4"/>
                                                            <a:pt x="191" y="2"/>
                                                            <a:pt x="202" y="1"/>
                                                          </a:cubicBezTo>
                                                          <a:cubicBezTo>
                                                            <a:pt x="213" y="0"/>
                                                            <a:pt x="220" y="0"/>
                                                            <a:pt x="228" y="1"/>
                                                          </a:cubicBezTo>
                                                        </a:path>
                                                      </a:pathLst>
                                                    </a:custGeom>
                                                    <a:noFill/>
                                                    <a:ln w="6480">
                                                      <a:solidFill>
                                                        <a:srgbClr val="3333cc"/>
                                                      </a:solidFill>
                                                      <a:round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wrap="none" anchor="ctr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24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Times New Roman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5971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V="1">
                                                      <a:off x="5139720" y="5792760"/>
                                                      <a:ext cx="4680" cy="288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6480">
                                                      <a:solidFill>
                                                        <a:srgbClr val="3333cc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3920" bIns="-43920" anchor="ctr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24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Times New Roman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  <p:sp>
                                                <p:nvSpPr>
                                                  <p:cNvPr id="5972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4969440" y="4606560"/>
                                                    <a:ext cx="69120" cy="132948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480" h="1467">
                                                        <a:moveTo>
                                                          <a:pt x="0" y="0"/>
                                                        </a:moveTo>
                                                        <a:cubicBezTo>
                                                          <a:pt x="17" y="2"/>
                                                          <a:pt x="34" y="4"/>
                                                          <a:pt x="51" y="6"/>
                                                        </a:cubicBezTo>
                                                        <a:cubicBezTo>
                                                          <a:pt x="68" y="8"/>
                                                          <a:pt x="88" y="10"/>
                                                          <a:pt x="102" y="15"/>
                                                        </a:cubicBezTo>
                                                        <a:cubicBezTo>
                                                          <a:pt x="116" y="20"/>
                                                          <a:pt x="122" y="23"/>
                                                          <a:pt x="135" y="33"/>
                                                        </a:cubicBezTo>
                                                        <a:cubicBezTo>
                                                          <a:pt x="148" y="43"/>
                                                          <a:pt x="167" y="56"/>
                                                          <a:pt x="180" y="78"/>
                                                        </a:cubicBezTo>
                                                        <a:cubicBezTo>
                                                          <a:pt x="193" y="100"/>
                                                          <a:pt x="204" y="120"/>
                                                          <a:pt x="216" y="165"/>
                                                        </a:cubicBezTo>
                                                        <a:cubicBezTo>
                                                          <a:pt x="228" y="210"/>
                                                          <a:pt x="211" y="131"/>
                                                          <a:pt x="255" y="348"/>
                                                        </a:cubicBezTo>
                                                        <a:cubicBezTo>
                                                          <a:pt x="299" y="565"/>
                                                          <a:pt x="389" y="1016"/>
                                                          <a:pt x="480" y="1467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5973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4761360" y="4606560"/>
                                                  <a:ext cx="206640" cy="1331640"/>
                                                  <a:chOff x="4761360" y="4606560"/>
                                                  <a:chExt cx="206640" cy="133164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5974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4829760" y="5600520"/>
                                                    <a:ext cx="69120" cy="337680"/>
                                                    <a:chOff x="4829760" y="5600520"/>
                                                    <a:chExt cx="69120" cy="337680"/>
                                                  </a:xfrm>
                                                </p:grpSpPr>
                                                <p:sp>
                                                  <p:nvSpPr>
                                                    <p:cNvPr id="5975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4865040" y="5600520"/>
                                                      <a:ext cx="33840" cy="337680"/>
                                                    </a:xfrm>
                                                    <a:custGeom>
                                                      <a:avLst/>
                                                      <a:gdLst/>
                                                      <a:ahLst/>
                                                      <a:rect l="l" t="t" r="r" b="b"/>
                                                      <a:pathLst>
                                                        <a:path w="234" h="373">
                                                          <a:moveTo>
                                                            <a:pt x="0" y="373"/>
                                                          </a:moveTo>
                                                          <a:cubicBezTo>
                                                            <a:pt x="4" y="357"/>
                                                            <a:pt x="8" y="342"/>
                                                            <a:pt x="15" y="319"/>
                                                          </a:cubicBezTo>
                                                          <a:cubicBezTo>
                                                            <a:pt x="22" y="296"/>
                                                            <a:pt x="34" y="260"/>
                                                            <a:pt x="44" y="232"/>
                                                          </a:cubicBezTo>
                                                          <a:cubicBezTo>
                                                            <a:pt x="54" y="204"/>
                                                            <a:pt x="64" y="173"/>
                                                            <a:pt x="74" y="150"/>
                                                          </a:cubicBezTo>
                                                          <a:cubicBezTo>
                                                            <a:pt x="84" y="127"/>
                                                            <a:pt x="91" y="111"/>
                                                            <a:pt x="102" y="93"/>
                                                          </a:cubicBezTo>
                                                          <a:cubicBezTo>
                                                            <a:pt x="113" y="75"/>
                                                            <a:pt x="127" y="56"/>
                                                            <a:pt x="137" y="43"/>
                                                          </a:cubicBezTo>
                                                          <a:cubicBezTo>
                                                            <a:pt x="147" y="30"/>
                                                            <a:pt x="155" y="23"/>
                                                            <a:pt x="164" y="16"/>
                                                          </a:cubicBezTo>
                                                          <a:cubicBezTo>
                                                            <a:pt x="173" y="9"/>
                                                            <a:pt x="182" y="6"/>
                                                            <a:pt x="194" y="3"/>
                                                          </a:cubicBezTo>
                                                          <a:cubicBezTo>
                                                            <a:pt x="206" y="0"/>
                                                            <a:pt x="226" y="0"/>
                                                            <a:pt x="234" y="0"/>
                                                          </a:cubicBezTo>
                                                        </a:path>
                                                      </a:pathLst>
                                                    </a:custGeom>
                                                    <a:noFill/>
                                                    <a:ln w="6480">
                                                      <a:solidFill>
                                                        <a:srgbClr val="3333cc"/>
                                                      </a:solidFill>
                                                      <a:round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wrap="none" anchor="ctr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24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Times New Roman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5976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4829760" y="5600520"/>
                                                      <a:ext cx="33840" cy="337680"/>
                                                    </a:xfrm>
                                                    <a:custGeom>
                                                      <a:avLst/>
                                                      <a:gdLst/>
                                                      <a:ahLst/>
                                                      <a:rect l="l" t="t" r="r" b="b"/>
                                                      <a:pathLst>
                                                        <a:path w="234" h="373">
                                                          <a:moveTo>
                                                            <a:pt x="0" y="373"/>
                                                          </a:moveTo>
                                                          <a:cubicBezTo>
                                                            <a:pt x="4" y="357"/>
                                                            <a:pt x="8" y="342"/>
                                                            <a:pt x="15" y="319"/>
                                                          </a:cubicBezTo>
                                                          <a:cubicBezTo>
                                                            <a:pt x="22" y="296"/>
                                                            <a:pt x="34" y="260"/>
                                                            <a:pt x="44" y="232"/>
                                                          </a:cubicBezTo>
                                                          <a:cubicBezTo>
                                                            <a:pt x="54" y="204"/>
                                                            <a:pt x="64" y="173"/>
                                                            <a:pt x="74" y="150"/>
                                                          </a:cubicBezTo>
                                                          <a:cubicBezTo>
                                                            <a:pt x="84" y="127"/>
                                                            <a:pt x="91" y="111"/>
                                                            <a:pt x="102" y="93"/>
                                                          </a:cubicBezTo>
                                                          <a:cubicBezTo>
                                                            <a:pt x="113" y="75"/>
                                                            <a:pt x="127" y="56"/>
                                                            <a:pt x="137" y="43"/>
                                                          </a:cubicBezTo>
                                                          <a:cubicBezTo>
                                                            <a:pt x="147" y="30"/>
                                                            <a:pt x="155" y="23"/>
                                                            <a:pt x="164" y="16"/>
                                                          </a:cubicBezTo>
                                                          <a:cubicBezTo>
                                                            <a:pt x="173" y="9"/>
                                                            <a:pt x="182" y="6"/>
                                                            <a:pt x="194" y="3"/>
                                                          </a:cubicBezTo>
                                                          <a:cubicBezTo>
                                                            <a:pt x="206" y="0"/>
                                                            <a:pt x="226" y="0"/>
                                                            <a:pt x="234" y="0"/>
                                                          </a:cubicBezTo>
                                                        </a:path>
                                                      </a:pathLst>
                                                    </a:custGeom>
                                                    <a:noFill/>
                                                    <a:ln w="6480">
                                                      <a:solidFill>
                                                        <a:srgbClr val="3333cc"/>
                                                      </a:solidFill>
                                                      <a:round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wrap="none" anchor="ctr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24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Times New Roman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5977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4862880" y="5600520"/>
                                                      <a:ext cx="324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6480">
                                                      <a:solidFill>
                                                        <a:srgbClr val="3333cc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ctr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24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Times New Roman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  <p:grpSp>
                                                <p:nvGrpSpPr>
                                                  <p:cNvPr id="5978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4761360" y="5792760"/>
                                                    <a:ext cx="68040" cy="144720"/>
                                                    <a:chOff x="4761360" y="5792760"/>
                                                    <a:chExt cx="68040" cy="144720"/>
                                                  </a:xfrm>
                                                </p:grpSpPr>
                                                <p:sp>
                                                  <p:nvSpPr>
                                                    <p:cNvPr id="5979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4796280" y="5793480"/>
                                                      <a:ext cx="32760" cy="144000"/>
                                                    </a:xfrm>
                                                    <a:custGeom>
                                                      <a:avLst/>
                                                      <a:gdLst/>
                                                      <a:ahLst/>
                                                      <a:rect l="l" t="t" r="r" b="b"/>
                                                      <a:pathLst>
                                                        <a:path w="228" h="159">
                                                          <a:moveTo>
                                                            <a:pt x="0" y="159"/>
                                                          </a:moveTo>
                                                          <a:cubicBezTo>
                                                            <a:pt x="15" y="139"/>
                                                            <a:pt x="30" y="120"/>
                                                            <a:pt x="45" y="103"/>
                                                          </a:cubicBezTo>
                                                          <a:cubicBezTo>
                                                            <a:pt x="60" y="86"/>
                                                            <a:pt x="76" y="68"/>
                                                            <a:pt x="90" y="54"/>
                                                          </a:cubicBezTo>
                                                          <a:cubicBezTo>
                                                            <a:pt x="104" y="40"/>
                                                            <a:pt x="118" y="30"/>
                                                            <a:pt x="130" y="22"/>
                                                          </a:cubicBezTo>
                                                          <a:cubicBezTo>
                                                            <a:pt x="142" y="14"/>
                                                            <a:pt x="150" y="10"/>
                                                            <a:pt x="162" y="7"/>
                                                          </a:cubicBezTo>
                                                          <a:cubicBezTo>
                                                            <a:pt x="174" y="4"/>
                                                            <a:pt x="191" y="2"/>
                                                            <a:pt x="202" y="1"/>
                                                          </a:cubicBezTo>
                                                          <a:cubicBezTo>
                                                            <a:pt x="213" y="0"/>
                                                            <a:pt x="220" y="0"/>
                                                            <a:pt x="228" y="1"/>
                                                          </a:cubicBezTo>
                                                        </a:path>
                                                      </a:pathLst>
                                                    </a:custGeom>
                                                    <a:noFill/>
                                                    <a:ln w="6480">
                                                      <a:solidFill>
                                                        <a:srgbClr val="3333cc"/>
                                                      </a:solidFill>
                                                      <a:round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wrap="none" anchor="ctr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24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Times New Roman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5980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4761360" y="5792760"/>
                                                      <a:ext cx="32760" cy="144360"/>
                                                    </a:xfrm>
                                                    <a:custGeom>
                                                      <a:avLst/>
                                                      <a:gdLst/>
                                                      <a:ahLst/>
                                                      <a:rect l="l" t="t" r="r" b="b"/>
                                                      <a:pathLst>
                                                        <a:path w="228" h="159">
                                                          <a:moveTo>
                                                            <a:pt x="0" y="159"/>
                                                          </a:moveTo>
                                                          <a:cubicBezTo>
                                                            <a:pt x="15" y="139"/>
                                                            <a:pt x="30" y="120"/>
                                                            <a:pt x="45" y="103"/>
                                                          </a:cubicBezTo>
                                                          <a:cubicBezTo>
                                                            <a:pt x="60" y="86"/>
                                                            <a:pt x="76" y="68"/>
                                                            <a:pt x="90" y="54"/>
                                                          </a:cubicBezTo>
                                                          <a:cubicBezTo>
                                                            <a:pt x="104" y="40"/>
                                                            <a:pt x="118" y="30"/>
                                                            <a:pt x="130" y="22"/>
                                                          </a:cubicBezTo>
                                                          <a:cubicBezTo>
                                                            <a:pt x="142" y="14"/>
                                                            <a:pt x="150" y="10"/>
                                                            <a:pt x="162" y="7"/>
                                                          </a:cubicBezTo>
                                                          <a:cubicBezTo>
                                                            <a:pt x="174" y="4"/>
                                                            <a:pt x="191" y="2"/>
                                                            <a:pt x="202" y="1"/>
                                                          </a:cubicBezTo>
                                                          <a:cubicBezTo>
                                                            <a:pt x="213" y="0"/>
                                                            <a:pt x="220" y="0"/>
                                                            <a:pt x="228" y="1"/>
                                                          </a:cubicBezTo>
                                                        </a:path>
                                                      </a:pathLst>
                                                    </a:custGeom>
                                                    <a:noFill/>
                                                    <a:ln w="6480">
                                                      <a:solidFill>
                                                        <a:srgbClr val="3333cc"/>
                                                      </a:solidFill>
                                                      <a:round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wrap="none" anchor="ctr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24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Times New Roman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5981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 flipV="1">
                                                      <a:off x="4793040" y="5792760"/>
                                                      <a:ext cx="4680" cy="288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6480">
                                                      <a:solidFill>
                                                        <a:srgbClr val="3333cc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3920" bIns="-43920" anchor="ctr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24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Times New Roman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  <p:sp>
                                                <p:nvSpPr>
                                                  <p:cNvPr id="5982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4898880" y="4606560"/>
                                                    <a:ext cx="69120" cy="132948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480" h="1467">
                                                        <a:moveTo>
                                                          <a:pt x="0" y="0"/>
                                                        </a:moveTo>
                                                        <a:cubicBezTo>
                                                          <a:pt x="17" y="2"/>
                                                          <a:pt x="34" y="4"/>
                                                          <a:pt x="51" y="6"/>
                                                        </a:cubicBezTo>
                                                        <a:cubicBezTo>
                                                          <a:pt x="68" y="8"/>
                                                          <a:pt x="88" y="10"/>
                                                          <a:pt x="102" y="15"/>
                                                        </a:cubicBezTo>
                                                        <a:cubicBezTo>
                                                          <a:pt x="116" y="20"/>
                                                          <a:pt x="122" y="23"/>
                                                          <a:pt x="135" y="33"/>
                                                        </a:cubicBezTo>
                                                        <a:cubicBezTo>
                                                          <a:pt x="148" y="43"/>
                                                          <a:pt x="167" y="56"/>
                                                          <a:pt x="180" y="78"/>
                                                        </a:cubicBezTo>
                                                        <a:cubicBezTo>
                                                          <a:pt x="193" y="100"/>
                                                          <a:pt x="204" y="120"/>
                                                          <a:pt x="216" y="165"/>
                                                        </a:cubicBezTo>
                                                        <a:cubicBezTo>
                                                          <a:pt x="228" y="210"/>
                                                          <a:pt x="211" y="131"/>
                                                          <a:pt x="255" y="348"/>
                                                        </a:cubicBezTo>
                                                        <a:cubicBezTo>
                                                          <a:pt x="299" y="565"/>
                                                          <a:pt x="389" y="1016"/>
                                                          <a:pt x="480" y="1467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</p:grpSp>
                                          <p:grpSp>
                                            <p:nvGrpSpPr>
                                              <p:cNvPr id="5983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4207320" y="4568760"/>
                                                <a:ext cx="2148120" cy="1373040"/>
                                                <a:chOff x="4207320" y="4568760"/>
                                                <a:chExt cx="2148120" cy="137304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5984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4833000" y="4603680"/>
                                                  <a:ext cx="414360" cy="1330200"/>
                                                  <a:chOff x="4833000" y="4603680"/>
                                                  <a:chExt cx="414360" cy="133020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5985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5040720" y="4603680"/>
                                                    <a:ext cx="206640" cy="1330200"/>
                                                    <a:chOff x="5040720" y="4603680"/>
                                                    <a:chExt cx="206640" cy="133020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5986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109840" y="5596560"/>
                                                      <a:ext cx="69120" cy="337320"/>
                                                      <a:chOff x="5109840" y="5596560"/>
                                                      <a:chExt cx="69120" cy="33732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5987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>
                                                        <a:off x="5109840" y="5596560"/>
                                                        <a:ext cx="33840" cy="337320"/>
                                                      </a:xfrm>
                                                      <a:custGeom>
                                                        <a:avLst/>
                                                        <a:gdLst/>
                                                        <a:ahLst/>
                                                        <a:rect l="l" t="t" r="r" b="b"/>
                                                        <a:pathLst>
                                                          <a:path w="234" h="373">
                                                            <a:moveTo>
                                                              <a:pt x="0" y="373"/>
                                                            </a:moveTo>
                                                            <a:cubicBezTo>
                                                              <a:pt x="4" y="357"/>
                                                              <a:pt x="8" y="342"/>
                                                              <a:pt x="15" y="319"/>
                                                            </a:cubicBezTo>
                                                            <a:cubicBezTo>
                                                              <a:pt x="22" y="296"/>
                                                              <a:pt x="34" y="260"/>
                                                              <a:pt x="44" y="232"/>
                                                            </a:cubicBezTo>
                                                            <a:cubicBezTo>
                                                              <a:pt x="54" y="204"/>
                                                              <a:pt x="64" y="173"/>
                                                              <a:pt x="74" y="150"/>
                                                            </a:cubicBezTo>
                                                            <a:cubicBezTo>
                                                              <a:pt x="84" y="127"/>
                                                              <a:pt x="91" y="111"/>
                                                              <a:pt x="102" y="93"/>
                                                            </a:cubicBezTo>
                                                            <a:cubicBezTo>
                                                              <a:pt x="113" y="75"/>
                                                              <a:pt x="127" y="56"/>
                                                              <a:pt x="137" y="43"/>
                                                            </a:cubicBezTo>
                                                            <a:cubicBezTo>
                                                              <a:pt x="147" y="30"/>
                                                              <a:pt x="155" y="23"/>
                                                              <a:pt x="164" y="16"/>
                                                            </a:cubicBezTo>
                                                            <a:cubicBezTo>
                                                              <a:pt x="173" y="9"/>
                                                              <a:pt x="182" y="6"/>
                                                              <a:pt x="194" y="3"/>
                                                            </a:cubicBezTo>
                                                            <a:cubicBezTo>
                                                              <a:pt x="206" y="0"/>
                                                              <a:pt x="226" y="0"/>
                                                              <a:pt x="234" y="0"/>
                                                            </a:cubicBezTo>
                                                          </a:path>
                                                        </a:pathLst>
                                                      </a:custGeom>
                                                      <a:noFill/>
                                                      <a:ln w="6480">
                                                        <a:solidFill>
                                                          <a:srgbClr val="3333cc"/>
                                                        </a:solidFill>
                                                        <a:round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wrap="none" anchor="ctr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24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Times New Roman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5988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145120" y="5596560"/>
                                                        <a:ext cx="33840" cy="337320"/>
                                                      </a:xfrm>
                                                      <a:custGeom>
                                                        <a:avLst/>
                                                        <a:gdLst/>
                                                        <a:ahLst/>
                                                        <a:rect l="l" t="t" r="r" b="b"/>
                                                        <a:pathLst>
                                                          <a:path w="234" h="373">
                                                            <a:moveTo>
                                                              <a:pt x="0" y="373"/>
                                                            </a:moveTo>
                                                            <a:cubicBezTo>
                                                              <a:pt x="4" y="357"/>
                                                              <a:pt x="8" y="342"/>
                                                              <a:pt x="15" y="319"/>
                                                            </a:cubicBezTo>
                                                            <a:cubicBezTo>
                                                              <a:pt x="22" y="296"/>
                                                              <a:pt x="34" y="260"/>
                                                              <a:pt x="44" y="232"/>
                                                            </a:cubicBezTo>
                                                            <a:cubicBezTo>
                                                              <a:pt x="54" y="204"/>
                                                              <a:pt x="64" y="173"/>
                                                              <a:pt x="74" y="150"/>
                                                            </a:cubicBezTo>
                                                            <a:cubicBezTo>
                                                              <a:pt x="84" y="127"/>
                                                              <a:pt x="91" y="111"/>
                                                              <a:pt x="102" y="93"/>
                                                            </a:cubicBezTo>
                                                            <a:cubicBezTo>
                                                              <a:pt x="113" y="75"/>
                                                              <a:pt x="127" y="56"/>
                                                              <a:pt x="137" y="43"/>
                                                            </a:cubicBezTo>
                                                            <a:cubicBezTo>
                                                              <a:pt x="147" y="30"/>
                                                              <a:pt x="155" y="23"/>
                                                              <a:pt x="164" y="16"/>
                                                            </a:cubicBezTo>
                                                            <a:cubicBezTo>
                                                              <a:pt x="173" y="9"/>
                                                              <a:pt x="182" y="6"/>
                                                              <a:pt x="194" y="3"/>
                                                            </a:cubicBezTo>
                                                            <a:cubicBezTo>
                                                              <a:pt x="206" y="0"/>
                                                              <a:pt x="226" y="0"/>
                                                              <a:pt x="234" y="0"/>
                                                            </a:cubicBezTo>
                                                          </a:path>
                                                        </a:pathLst>
                                                      </a:custGeom>
                                                      <a:noFill/>
                                                      <a:ln w="6480">
                                                        <a:solidFill>
                                                          <a:srgbClr val="3333cc"/>
                                                        </a:solidFill>
                                                        <a:round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wrap="none" anchor="ctr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24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Times New Roman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5989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>
                                                        <a:off x="5142600" y="5596560"/>
                                                        <a:ext cx="324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6480">
                                                        <a:solidFill>
                                                          <a:srgbClr val="3333cc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ctr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24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Times New Roman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grpSp>
                                                  <p:nvGrpSpPr>
                                                    <p:cNvPr id="5990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179320" y="5787720"/>
                                                      <a:ext cx="68040" cy="144720"/>
                                                      <a:chOff x="5179320" y="5787720"/>
                                                      <a:chExt cx="68040" cy="14472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5991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>
                                                        <a:off x="5179320" y="5788800"/>
                                                        <a:ext cx="32760" cy="143640"/>
                                                      </a:xfrm>
                                                      <a:custGeom>
                                                        <a:avLst/>
                                                        <a:gdLst/>
                                                        <a:ahLst/>
                                                        <a:rect l="l" t="t" r="r" b="b"/>
                                                        <a:pathLst>
                                                          <a:path w="228" h="159">
                                                            <a:moveTo>
                                                              <a:pt x="0" y="159"/>
                                                            </a:moveTo>
                                                            <a:cubicBezTo>
                                                              <a:pt x="15" y="139"/>
                                                              <a:pt x="30" y="120"/>
                                                              <a:pt x="45" y="103"/>
                                                            </a:cubicBezTo>
                                                            <a:cubicBezTo>
                                                              <a:pt x="60" y="86"/>
                                                              <a:pt x="76" y="68"/>
                                                              <a:pt x="90" y="54"/>
                                                            </a:cubicBezTo>
                                                            <a:cubicBezTo>
                                                              <a:pt x="104" y="40"/>
                                                              <a:pt x="118" y="30"/>
                                                              <a:pt x="130" y="22"/>
                                                            </a:cubicBezTo>
                                                            <a:cubicBezTo>
                                                              <a:pt x="142" y="14"/>
                                                              <a:pt x="150" y="10"/>
                                                              <a:pt x="162" y="7"/>
                                                            </a:cubicBezTo>
                                                            <a:cubicBezTo>
                                                              <a:pt x="174" y="4"/>
                                                              <a:pt x="191" y="2"/>
                                                              <a:pt x="202" y="1"/>
                                                            </a:cubicBezTo>
                                                            <a:cubicBezTo>
                                                              <a:pt x="213" y="0"/>
                                                              <a:pt x="220" y="0"/>
                                                              <a:pt x="228" y="1"/>
                                                            </a:cubicBezTo>
                                                          </a:path>
                                                        </a:pathLst>
                                                      </a:custGeom>
                                                      <a:noFill/>
                                                      <a:ln w="6480">
                                                        <a:solidFill>
                                                          <a:srgbClr val="3333cc"/>
                                                        </a:solidFill>
                                                        <a:round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wrap="none" anchor="ctr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24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Times New Roman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5992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214240" y="5788080"/>
                                                        <a:ext cx="32760" cy="144000"/>
                                                      </a:xfrm>
                                                      <a:custGeom>
                                                        <a:avLst/>
                                                        <a:gdLst/>
                                                        <a:ahLst/>
                                                        <a:rect l="l" t="t" r="r" b="b"/>
                                                        <a:pathLst>
                                                          <a:path w="228" h="159">
                                                            <a:moveTo>
                                                              <a:pt x="0" y="159"/>
                                                            </a:moveTo>
                                                            <a:cubicBezTo>
                                                              <a:pt x="15" y="139"/>
                                                              <a:pt x="30" y="120"/>
                                                              <a:pt x="45" y="103"/>
                                                            </a:cubicBezTo>
                                                            <a:cubicBezTo>
                                                              <a:pt x="60" y="86"/>
                                                              <a:pt x="76" y="68"/>
                                                              <a:pt x="90" y="54"/>
                                                            </a:cubicBezTo>
                                                            <a:cubicBezTo>
                                                              <a:pt x="104" y="40"/>
                                                              <a:pt x="118" y="30"/>
                                                              <a:pt x="130" y="22"/>
                                                            </a:cubicBezTo>
                                                            <a:cubicBezTo>
                                                              <a:pt x="142" y="14"/>
                                                              <a:pt x="150" y="10"/>
                                                              <a:pt x="162" y="7"/>
                                                            </a:cubicBezTo>
                                                            <a:cubicBezTo>
                                                              <a:pt x="174" y="4"/>
                                                              <a:pt x="191" y="2"/>
                                                              <a:pt x="202" y="1"/>
                                                            </a:cubicBezTo>
                                                            <a:cubicBezTo>
                                                              <a:pt x="213" y="0"/>
                                                              <a:pt x="220" y="0"/>
                                                              <a:pt x="228" y="1"/>
                                                            </a:cubicBezTo>
                                                          </a:path>
                                                        </a:pathLst>
                                                      </a:custGeom>
                                                      <a:noFill/>
                                                      <a:ln w="6480">
                                                        <a:solidFill>
                                                          <a:srgbClr val="3333cc"/>
                                                        </a:solidFill>
                                                        <a:round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wrap="none" anchor="ctr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24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Times New Roman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5993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V="1">
                                                        <a:off x="5211000" y="5787720"/>
                                                        <a:ext cx="4680" cy="252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6480">
                                                        <a:solidFill>
                                                          <a:srgbClr val="3333cc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4280" bIns="-44280" anchor="ctr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24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Times New Roman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sp>
                                                  <p:nvSpPr>
                                                    <p:cNvPr id="5994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5040720" y="4603680"/>
                                                      <a:ext cx="69120" cy="1327680"/>
                                                    </a:xfrm>
                                                    <a:custGeom>
                                                      <a:avLst/>
                                                      <a:gdLst/>
                                                      <a:ahLst/>
                                                      <a:rect l="l" t="t" r="r" b="b"/>
                                                      <a:pathLst>
                                                        <a:path w="480" h="1467">
                                                          <a:moveTo>
                                                            <a:pt x="0" y="0"/>
                                                          </a:moveTo>
                                                          <a:cubicBezTo>
                                                            <a:pt x="17" y="2"/>
                                                            <a:pt x="34" y="4"/>
                                                            <a:pt x="51" y="6"/>
                                                          </a:cubicBezTo>
                                                          <a:cubicBezTo>
                                                            <a:pt x="68" y="8"/>
                                                            <a:pt x="88" y="10"/>
                                                            <a:pt x="102" y="15"/>
                                                          </a:cubicBezTo>
                                                          <a:cubicBezTo>
                                                            <a:pt x="116" y="20"/>
                                                            <a:pt x="122" y="23"/>
                                                            <a:pt x="135" y="33"/>
                                                          </a:cubicBezTo>
                                                          <a:cubicBezTo>
                                                            <a:pt x="148" y="43"/>
                                                            <a:pt x="167" y="56"/>
                                                            <a:pt x="180" y="78"/>
                                                          </a:cubicBezTo>
                                                          <a:cubicBezTo>
                                                            <a:pt x="193" y="100"/>
                                                            <a:pt x="204" y="120"/>
                                                            <a:pt x="216" y="165"/>
                                                          </a:cubicBezTo>
                                                          <a:cubicBezTo>
                                                            <a:pt x="228" y="210"/>
                                                            <a:pt x="211" y="131"/>
                                                            <a:pt x="255" y="348"/>
                                                          </a:cubicBezTo>
                                                          <a:cubicBezTo>
                                                            <a:pt x="299" y="565"/>
                                                            <a:pt x="389" y="1016"/>
                                                            <a:pt x="480" y="1467"/>
                                                          </a:cubicBezTo>
                                                        </a:path>
                                                      </a:pathLst>
                                                    </a:custGeom>
                                                    <a:noFill/>
                                                    <a:ln w="6480">
                                                      <a:solidFill>
                                                        <a:srgbClr val="3333cc"/>
                                                      </a:solidFill>
                                                      <a:round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wrap="none" anchor="ctr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24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Times New Roman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  <p:grpSp>
                                                <p:nvGrpSpPr>
                                                  <p:cNvPr id="5995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4833000" y="4603680"/>
                                                    <a:ext cx="206640" cy="1330200"/>
                                                    <a:chOff x="4833000" y="4603680"/>
                                                    <a:chExt cx="206640" cy="133020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5996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4901400" y="5596560"/>
                                                      <a:ext cx="69120" cy="337320"/>
                                                      <a:chOff x="4901400" y="5596560"/>
                                                      <a:chExt cx="69120" cy="33732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5997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4936680" y="5596560"/>
                                                        <a:ext cx="33840" cy="337320"/>
                                                      </a:xfrm>
                                                      <a:custGeom>
                                                        <a:avLst/>
                                                        <a:gdLst/>
                                                        <a:ahLst/>
                                                        <a:rect l="l" t="t" r="r" b="b"/>
                                                        <a:pathLst>
                                                          <a:path w="234" h="373">
                                                            <a:moveTo>
                                                              <a:pt x="0" y="373"/>
                                                            </a:moveTo>
                                                            <a:cubicBezTo>
                                                              <a:pt x="4" y="357"/>
                                                              <a:pt x="8" y="342"/>
                                                              <a:pt x="15" y="319"/>
                                                            </a:cubicBezTo>
                                                            <a:cubicBezTo>
                                                              <a:pt x="22" y="296"/>
                                                              <a:pt x="34" y="260"/>
                                                              <a:pt x="44" y="232"/>
                                                            </a:cubicBezTo>
                                                            <a:cubicBezTo>
                                                              <a:pt x="54" y="204"/>
                                                              <a:pt x="64" y="173"/>
                                                              <a:pt x="74" y="150"/>
                                                            </a:cubicBezTo>
                                                            <a:cubicBezTo>
                                                              <a:pt x="84" y="127"/>
                                                              <a:pt x="91" y="111"/>
                                                              <a:pt x="102" y="93"/>
                                                            </a:cubicBezTo>
                                                            <a:cubicBezTo>
                                                              <a:pt x="113" y="75"/>
                                                              <a:pt x="127" y="56"/>
                                                              <a:pt x="137" y="43"/>
                                                            </a:cubicBezTo>
                                                            <a:cubicBezTo>
                                                              <a:pt x="147" y="30"/>
                                                              <a:pt x="155" y="23"/>
                                                              <a:pt x="164" y="16"/>
                                                            </a:cubicBezTo>
                                                            <a:cubicBezTo>
                                                              <a:pt x="173" y="9"/>
                                                              <a:pt x="182" y="6"/>
                                                              <a:pt x="194" y="3"/>
                                                            </a:cubicBezTo>
                                                            <a:cubicBezTo>
                                                              <a:pt x="206" y="0"/>
                                                              <a:pt x="226" y="0"/>
                                                              <a:pt x="234" y="0"/>
                                                            </a:cubicBezTo>
                                                          </a:path>
                                                        </a:pathLst>
                                                      </a:custGeom>
                                                      <a:noFill/>
                                                      <a:ln w="6480">
                                                        <a:solidFill>
                                                          <a:srgbClr val="3333cc"/>
                                                        </a:solidFill>
                                                        <a:round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wrap="none" anchor="ctr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24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Times New Roman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5998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>
                                                        <a:off x="4901400" y="5596560"/>
                                                        <a:ext cx="33840" cy="337320"/>
                                                      </a:xfrm>
                                                      <a:custGeom>
                                                        <a:avLst/>
                                                        <a:gdLst/>
                                                        <a:ahLst/>
                                                        <a:rect l="l" t="t" r="r" b="b"/>
                                                        <a:pathLst>
                                                          <a:path w="234" h="373">
                                                            <a:moveTo>
                                                              <a:pt x="0" y="373"/>
                                                            </a:moveTo>
                                                            <a:cubicBezTo>
                                                              <a:pt x="4" y="357"/>
                                                              <a:pt x="8" y="342"/>
                                                              <a:pt x="15" y="319"/>
                                                            </a:cubicBezTo>
                                                            <a:cubicBezTo>
                                                              <a:pt x="22" y="296"/>
                                                              <a:pt x="34" y="260"/>
                                                              <a:pt x="44" y="232"/>
                                                            </a:cubicBezTo>
                                                            <a:cubicBezTo>
                                                              <a:pt x="54" y="204"/>
                                                              <a:pt x="64" y="173"/>
                                                              <a:pt x="74" y="150"/>
                                                            </a:cubicBezTo>
                                                            <a:cubicBezTo>
                                                              <a:pt x="84" y="127"/>
                                                              <a:pt x="91" y="111"/>
                                                              <a:pt x="102" y="93"/>
                                                            </a:cubicBezTo>
                                                            <a:cubicBezTo>
                                                              <a:pt x="113" y="75"/>
                                                              <a:pt x="127" y="56"/>
                                                              <a:pt x="137" y="43"/>
                                                            </a:cubicBezTo>
                                                            <a:cubicBezTo>
                                                              <a:pt x="147" y="30"/>
                                                              <a:pt x="155" y="23"/>
                                                              <a:pt x="164" y="16"/>
                                                            </a:cubicBezTo>
                                                            <a:cubicBezTo>
                                                              <a:pt x="173" y="9"/>
                                                              <a:pt x="182" y="6"/>
                                                              <a:pt x="194" y="3"/>
                                                            </a:cubicBezTo>
                                                            <a:cubicBezTo>
                                                              <a:pt x="206" y="0"/>
                                                              <a:pt x="226" y="0"/>
                                                              <a:pt x="234" y="0"/>
                                                            </a:cubicBezTo>
                                                          </a:path>
                                                        </a:pathLst>
                                                      </a:custGeom>
                                                      <a:noFill/>
                                                      <a:ln w="6480">
                                                        <a:solidFill>
                                                          <a:srgbClr val="3333cc"/>
                                                        </a:solidFill>
                                                        <a:round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wrap="none" anchor="ctr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24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Times New Roman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5999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4934520" y="5596560"/>
                                                        <a:ext cx="324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6480">
                                                        <a:solidFill>
                                                          <a:srgbClr val="3333cc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ctr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24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Times New Roman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grpSp>
                                                  <p:nvGrpSpPr>
                                                    <p:cNvPr id="6000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4833000" y="5787720"/>
                                                      <a:ext cx="68040" cy="144720"/>
                                                      <a:chOff x="4833000" y="5787720"/>
                                                      <a:chExt cx="68040" cy="14472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6001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4867920" y="5788800"/>
                                                        <a:ext cx="32760" cy="143640"/>
                                                      </a:xfrm>
                                                      <a:custGeom>
                                                        <a:avLst/>
                                                        <a:gdLst/>
                                                        <a:ahLst/>
                                                        <a:rect l="l" t="t" r="r" b="b"/>
                                                        <a:pathLst>
                                                          <a:path w="228" h="159">
                                                            <a:moveTo>
                                                              <a:pt x="0" y="159"/>
                                                            </a:moveTo>
                                                            <a:cubicBezTo>
                                                              <a:pt x="15" y="139"/>
                                                              <a:pt x="30" y="120"/>
                                                              <a:pt x="45" y="103"/>
                                                            </a:cubicBezTo>
                                                            <a:cubicBezTo>
                                                              <a:pt x="60" y="86"/>
                                                              <a:pt x="76" y="68"/>
                                                              <a:pt x="90" y="54"/>
                                                            </a:cubicBezTo>
                                                            <a:cubicBezTo>
                                                              <a:pt x="104" y="40"/>
                                                              <a:pt x="118" y="30"/>
                                                              <a:pt x="130" y="22"/>
                                                            </a:cubicBezTo>
                                                            <a:cubicBezTo>
                                                              <a:pt x="142" y="14"/>
                                                              <a:pt x="150" y="10"/>
                                                              <a:pt x="162" y="7"/>
                                                            </a:cubicBezTo>
                                                            <a:cubicBezTo>
                                                              <a:pt x="174" y="4"/>
                                                              <a:pt x="191" y="2"/>
                                                              <a:pt x="202" y="1"/>
                                                            </a:cubicBezTo>
                                                            <a:cubicBezTo>
                                                              <a:pt x="213" y="0"/>
                                                              <a:pt x="220" y="0"/>
                                                              <a:pt x="228" y="1"/>
                                                            </a:cubicBezTo>
                                                          </a:path>
                                                        </a:pathLst>
                                                      </a:custGeom>
                                                      <a:noFill/>
                                                      <a:ln w="6480">
                                                        <a:solidFill>
                                                          <a:srgbClr val="3333cc"/>
                                                        </a:solidFill>
                                                        <a:round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wrap="none" anchor="ctr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24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Times New Roman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6002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>
                                                        <a:off x="4833000" y="5788080"/>
                                                        <a:ext cx="32760" cy="144000"/>
                                                      </a:xfrm>
                                                      <a:custGeom>
                                                        <a:avLst/>
                                                        <a:gdLst/>
                                                        <a:ahLst/>
                                                        <a:rect l="l" t="t" r="r" b="b"/>
                                                        <a:pathLst>
                                                          <a:path w="228" h="159">
                                                            <a:moveTo>
                                                              <a:pt x="0" y="159"/>
                                                            </a:moveTo>
                                                            <a:cubicBezTo>
                                                              <a:pt x="15" y="139"/>
                                                              <a:pt x="30" y="120"/>
                                                              <a:pt x="45" y="103"/>
                                                            </a:cubicBezTo>
                                                            <a:cubicBezTo>
                                                              <a:pt x="60" y="86"/>
                                                              <a:pt x="76" y="68"/>
                                                              <a:pt x="90" y="54"/>
                                                            </a:cubicBezTo>
                                                            <a:cubicBezTo>
                                                              <a:pt x="104" y="40"/>
                                                              <a:pt x="118" y="30"/>
                                                              <a:pt x="130" y="22"/>
                                                            </a:cubicBezTo>
                                                            <a:cubicBezTo>
                                                              <a:pt x="142" y="14"/>
                                                              <a:pt x="150" y="10"/>
                                                              <a:pt x="162" y="7"/>
                                                            </a:cubicBezTo>
                                                            <a:cubicBezTo>
                                                              <a:pt x="174" y="4"/>
                                                              <a:pt x="191" y="2"/>
                                                              <a:pt x="202" y="1"/>
                                                            </a:cubicBezTo>
                                                            <a:cubicBezTo>
                                                              <a:pt x="213" y="0"/>
                                                              <a:pt x="220" y="0"/>
                                                              <a:pt x="228" y="1"/>
                                                            </a:cubicBezTo>
                                                          </a:path>
                                                        </a:pathLst>
                                                      </a:custGeom>
                                                      <a:noFill/>
                                                      <a:ln w="6480">
                                                        <a:solidFill>
                                                          <a:srgbClr val="3333cc"/>
                                                        </a:solidFill>
                                                        <a:round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wrap="none" anchor="ctr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24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Times New Roman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6003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 flipV="1">
                                                        <a:off x="4864680" y="5787720"/>
                                                        <a:ext cx="4680" cy="252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6480">
                                                        <a:solidFill>
                                                          <a:srgbClr val="3333cc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4280" bIns="-44280" anchor="ctr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24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Times New Roman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sp>
                                                  <p:nvSpPr>
                                                    <p:cNvPr id="6004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4970520" y="4603680"/>
                                                      <a:ext cx="69120" cy="1327680"/>
                                                    </a:xfrm>
                                                    <a:custGeom>
                                                      <a:avLst/>
                                                      <a:gdLst/>
                                                      <a:ahLst/>
                                                      <a:rect l="l" t="t" r="r" b="b"/>
                                                      <a:pathLst>
                                                        <a:path w="480" h="1467">
                                                          <a:moveTo>
                                                            <a:pt x="0" y="0"/>
                                                          </a:moveTo>
                                                          <a:cubicBezTo>
                                                            <a:pt x="17" y="2"/>
                                                            <a:pt x="34" y="4"/>
                                                            <a:pt x="51" y="6"/>
                                                          </a:cubicBezTo>
                                                          <a:cubicBezTo>
                                                            <a:pt x="68" y="8"/>
                                                            <a:pt x="88" y="10"/>
                                                            <a:pt x="102" y="15"/>
                                                          </a:cubicBezTo>
                                                          <a:cubicBezTo>
                                                            <a:pt x="116" y="20"/>
                                                            <a:pt x="122" y="23"/>
                                                            <a:pt x="135" y="33"/>
                                                          </a:cubicBezTo>
                                                          <a:cubicBezTo>
                                                            <a:pt x="148" y="43"/>
                                                            <a:pt x="167" y="56"/>
                                                            <a:pt x="180" y="78"/>
                                                          </a:cubicBezTo>
                                                          <a:cubicBezTo>
                                                            <a:pt x="193" y="100"/>
                                                            <a:pt x="204" y="120"/>
                                                            <a:pt x="216" y="165"/>
                                                          </a:cubicBezTo>
                                                          <a:cubicBezTo>
                                                            <a:pt x="228" y="210"/>
                                                            <a:pt x="211" y="131"/>
                                                            <a:pt x="255" y="348"/>
                                                          </a:cubicBezTo>
                                                          <a:cubicBezTo>
                                                            <a:pt x="299" y="565"/>
                                                            <a:pt x="389" y="1016"/>
                                                            <a:pt x="480" y="1467"/>
                                                          </a:cubicBezTo>
                                                        </a:path>
                                                      </a:pathLst>
                                                    </a:custGeom>
                                                    <a:noFill/>
                                                    <a:ln w="6480">
                                                      <a:solidFill>
                                                        <a:srgbClr val="3333cc"/>
                                                      </a:solidFill>
                                                      <a:round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wrap="none" anchor="ctr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24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Times New Roman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</p:grpSp>
                                            <p:grpSp>
                                              <p:nvGrpSpPr>
                                                <p:cNvPr id="6005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4207320" y="4568760"/>
                                                  <a:ext cx="2148120" cy="1373040"/>
                                                  <a:chOff x="4207320" y="4568760"/>
                                                  <a:chExt cx="2148120" cy="137304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6006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5315400" y="4611600"/>
                                                    <a:ext cx="414360" cy="1330200"/>
                                                    <a:chOff x="5315400" y="4611600"/>
                                                    <a:chExt cx="414360" cy="133020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6007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523120" y="4611600"/>
                                                      <a:ext cx="206640" cy="1330200"/>
                                                      <a:chOff x="5523120" y="4611600"/>
                                                      <a:chExt cx="206640" cy="133020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6008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592240" y="5604480"/>
                                                        <a:ext cx="69120" cy="337320"/>
                                                        <a:chOff x="5592240" y="5604480"/>
                                                        <a:chExt cx="69120" cy="33732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6009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5592240" y="5604480"/>
                                                          <a:ext cx="33840" cy="337320"/>
                                                        </a:xfrm>
                                                        <a:custGeom>
                                                          <a:avLst/>
                                                          <a:gdLst/>
                                                          <a:ahLst/>
                                                          <a:rect l="l" t="t" r="r" b="b"/>
                                                          <a:pathLst>
                                                            <a:path w="234" h="373">
                                                              <a:moveTo>
                                                                <a:pt x="0" y="373"/>
                                                              </a:moveTo>
                                                              <a:cubicBezTo>
                                                                <a:pt x="4" y="357"/>
                                                                <a:pt x="8" y="342"/>
                                                                <a:pt x="15" y="319"/>
                                                              </a:cubicBezTo>
                                                              <a:cubicBezTo>
                                                                <a:pt x="22" y="296"/>
                                                                <a:pt x="34" y="260"/>
                                                                <a:pt x="44" y="232"/>
                                                              </a:cubicBezTo>
                                                              <a:cubicBezTo>
                                                                <a:pt x="54" y="204"/>
                                                                <a:pt x="64" y="173"/>
                                                                <a:pt x="74" y="150"/>
                                                              </a:cubicBezTo>
                                                              <a:cubicBezTo>
                                                                <a:pt x="84" y="127"/>
                                                                <a:pt x="91" y="111"/>
                                                                <a:pt x="102" y="93"/>
                                                              </a:cubicBezTo>
                                                              <a:cubicBezTo>
                                                                <a:pt x="113" y="75"/>
                                                                <a:pt x="127" y="56"/>
                                                                <a:pt x="137" y="43"/>
                                                              </a:cubicBezTo>
                                                              <a:cubicBezTo>
                                                                <a:pt x="147" y="30"/>
                                                                <a:pt x="155" y="23"/>
                                                                <a:pt x="164" y="16"/>
                                                              </a:cubicBezTo>
                                                              <a:cubicBezTo>
                                                                <a:pt x="173" y="9"/>
                                                                <a:pt x="182" y="6"/>
                                                                <a:pt x="194" y="3"/>
                                                              </a:cubicBezTo>
                                                              <a:cubicBezTo>
                                                                <a:pt x="206" y="0"/>
                                                                <a:pt x="226" y="0"/>
                                                                <a:pt x="234" y="0"/>
                                                              </a:cubicBezTo>
                                                            </a:path>
                                                          </a:pathLst>
                                                        </a:custGeom>
                                                        <a:noFill/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round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wrap="none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6010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5627520" y="5604480"/>
                                                          <a:ext cx="33840" cy="337320"/>
                                                        </a:xfrm>
                                                        <a:custGeom>
                                                          <a:avLst/>
                                                          <a:gdLst/>
                                                          <a:ahLst/>
                                                          <a:rect l="l" t="t" r="r" b="b"/>
                                                          <a:pathLst>
                                                            <a:path w="234" h="373">
                                                              <a:moveTo>
                                                                <a:pt x="0" y="373"/>
                                                              </a:moveTo>
                                                              <a:cubicBezTo>
                                                                <a:pt x="4" y="357"/>
                                                                <a:pt x="8" y="342"/>
                                                                <a:pt x="15" y="319"/>
                                                              </a:cubicBezTo>
                                                              <a:cubicBezTo>
                                                                <a:pt x="22" y="296"/>
                                                                <a:pt x="34" y="260"/>
                                                                <a:pt x="44" y="232"/>
                                                              </a:cubicBezTo>
                                                              <a:cubicBezTo>
                                                                <a:pt x="54" y="204"/>
                                                                <a:pt x="64" y="173"/>
                                                                <a:pt x="74" y="150"/>
                                                              </a:cubicBezTo>
                                                              <a:cubicBezTo>
                                                                <a:pt x="84" y="127"/>
                                                                <a:pt x="91" y="111"/>
                                                                <a:pt x="102" y="93"/>
                                                              </a:cubicBezTo>
                                                              <a:cubicBezTo>
                                                                <a:pt x="113" y="75"/>
                                                                <a:pt x="127" y="56"/>
                                                                <a:pt x="137" y="43"/>
                                                              </a:cubicBezTo>
                                                              <a:cubicBezTo>
                                                                <a:pt x="147" y="30"/>
                                                                <a:pt x="155" y="23"/>
                                                                <a:pt x="164" y="16"/>
                                                              </a:cubicBezTo>
                                                              <a:cubicBezTo>
                                                                <a:pt x="173" y="9"/>
                                                                <a:pt x="182" y="6"/>
                                                                <a:pt x="194" y="3"/>
                                                              </a:cubicBezTo>
                                                              <a:cubicBezTo>
                                                                <a:pt x="206" y="0"/>
                                                                <a:pt x="226" y="0"/>
                                                                <a:pt x="234" y="0"/>
                                                              </a:cubicBezTo>
                                                            </a:path>
                                                          </a:pathLst>
                                                        </a:custGeom>
                                                        <a:noFill/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round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wrap="none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6011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5625000" y="5604480"/>
                                                          <a:ext cx="324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grpSp>
                                                    <p:nvGrpSpPr>
                                                      <p:cNvPr id="6012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661720" y="5795640"/>
                                                        <a:ext cx="68040" cy="144720"/>
                                                        <a:chOff x="5661720" y="5795640"/>
                                                        <a:chExt cx="68040" cy="14472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6013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5661720" y="5796720"/>
                                                          <a:ext cx="32760" cy="143640"/>
                                                        </a:xfrm>
                                                        <a:custGeom>
                                                          <a:avLst/>
                                                          <a:gdLst/>
                                                          <a:ahLst/>
                                                          <a:rect l="l" t="t" r="r" b="b"/>
                                                          <a:pathLst>
                                                            <a:path w="228" h="159">
                                                              <a:moveTo>
                                                                <a:pt x="0" y="159"/>
                                                              </a:moveTo>
                                                              <a:cubicBezTo>
                                                                <a:pt x="15" y="139"/>
                                                                <a:pt x="30" y="120"/>
                                                                <a:pt x="45" y="103"/>
                                                              </a:cubicBezTo>
                                                              <a:cubicBezTo>
                                                                <a:pt x="60" y="86"/>
                                                                <a:pt x="76" y="68"/>
                                                                <a:pt x="90" y="54"/>
                                                              </a:cubicBezTo>
                                                              <a:cubicBezTo>
                                                                <a:pt x="104" y="40"/>
                                                                <a:pt x="118" y="30"/>
                                                                <a:pt x="130" y="22"/>
                                                              </a:cubicBezTo>
                                                              <a:cubicBezTo>
                                                                <a:pt x="142" y="14"/>
                                                                <a:pt x="150" y="10"/>
                                                                <a:pt x="162" y="7"/>
                                                              </a:cubicBezTo>
                                                              <a:cubicBezTo>
                                                                <a:pt x="174" y="4"/>
                                                                <a:pt x="191" y="2"/>
                                                                <a:pt x="202" y="1"/>
                                                              </a:cubicBezTo>
                                                              <a:cubicBezTo>
                                                                <a:pt x="213" y="0"/>
                                                                <a:pt x="220" y="0"/>
                                                                <a:pt x="228" y="1"/>
                                                              </a:cubicBezTo>
                                                            </a:path>
                                                          </a:pathLst>
                                                        </a:custGeom>
                                                        <a:noFill/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round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wrap="none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6014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5696640" y="5796000"/>
                                                          <a:ext cx="32760" cy="144000"/>
                                                        </a:xfrm>
                                                        <a:custGeom>
                                                          <a:avLst/>
                                                          <a:gdLst/>
                                                          <a:ahLst/>
                                                          <a:rect l="l" t="t" r="r" b="b"/>
                                                          <a:pathLst>
                                                            <a:path w="228" h="159">
                                                              <a:moveTo>
                                                                <a:pt x="0" y="159"/>
                                                              </a:moveTo>
                                                              <a:cubicBezTo>
                                                                <a:pt x="15" y="139"/>
                                                                <a:pt x="30" y="120"/>
                                                                <a:pt x="45" y="103"/>
                                                              </a:cubicBezTo>
                                                              <a:cubicBezTo>
                                                                <a:pt x="60" y="86"/>
                                                                <a:pt x="76" y="68"/>
                                                                <a:pt x="90" y="54"/>
                                                              </a:cubicBezTo>
                                                              <a:cubicBezTo>
                                                                <a:pt x="104" y="40"/>
                                                                <a:pt x="118" y="30"/>
                                                                <a:pt x="130" y="22"/>
                                                              </a:cubicBezTo>
                                                              <a:cubicBezTo>
                                                                <a:pt x="142" y="14"/>
                                                                <a:pt x="150" y="10"/>
                                                                <a:pt x="162" y="7"/>
                                                              </a:cubicBezTo>
                                                              <a:cubicBezTo>
                                                                <a:pt x="174" y="4"/>
                                                                <a:pt x="191" y="2"/>
                                                                <a:pt x="202" y="1"/>
                                                              </a:cubicBezTo>
                                                              <a:cubicBezTo>
                                                                <a:pt x="213" y="0"/>
                                                                <a:pt x="220" y="0"/>
                                                                <a:pt x="228" y="1"/>
                                                              </a:cubicBezTo>
                                                            </a:path>
                                                          </a:pathLst>
                                                        </a:custGeom>
                                                        <a:noFill/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round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wrap="none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6015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V="1">
                                                          <a:off x="5693400" y="5795640"/>
                                                          <a:ext cx="4680" cy="252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4280" bIns="-44280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sp>
                                                    <p:nvSpPr>
                                                      <p:cNvPr id="6016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>
                                                        <a:off x="5523120" y="4611600"/>
                                                        <a:ext cx="69120" cy="1327680"/>
                                                      </a:xfrm>
                                                      <a:custGeom>
                                                        <a:avLst/>
                                                        <a:gdLst/>
                                                        <a:ahLst/>
                                                        <a:rect l="l" t="t" r="r" b="b"/>
                                                        <a:pathLst>
                                                          <a:path w="480" h="1467">
                                                            <a:moveTo>
                                                              <a:pt x="0" y="0"/>
                                                            </a:moveTo>
                                                            <a:cubicBezTo>
                                                              <a:pt x="17" y="2"/>
                                                              <a:pt x="34" y="4"/>
                                                              <a:pt x="51" y="6"/>
                                                            </a:cubicBezTo>
                                                            <a:cubicBezTo>
                                                              <a:pt x="68" y="8"/>
                                                              <a:pt x="88" y="10"/>
                                                              <a:pt x="102" y="15"/>
                                                            </a:cubicBezTo>
                                                            <a:cubicBezTo>
                                                              <a:pt x="116" y="20"/>
                                                              <a:pt x="122" y="23"/>
                                                              <a:pt x="135" y="33"/>
                                                            </a:cubicBezTo>
                                                            <a:cubicBezTo>
                                                              <a:pt x="148" y="43"/>
                                                              <a:pt x="167" y="56"/>
                                                              <a:pt x="180" y="78"/>
                                                            </a:cubicBezTo>
                                                            <a:cubicBezTo>
                                                              <a:pt x="193" y="100"/>
                                                              <a:pt x="204" y="120"/>
                                                              <a:pt x="216" y="165"/>
                                                            </a:cubicBezTo>
                                                            <a:cubicBezTo>
                                                              <a:pt x="228" y="210"/>
                                                              <a:pt x="211" y="131"/>
                                                              <a:pt x="255" y="348"/>
                                                            </a:cubicBezTo>
                                                            <a:cubicBezTo>
                                                              <a:pt x="299" y="565"/>
                                                              <a:pt x="389" y="1016"/>
                                                              <a:pt x="480" y="1467"/>
                                                            </a:cubicBezTo>
                                                          </a:path>
                                                        </a:pathLst>
                                                      </a:custGeom>
                                                      <a:noFill/>
                                                      <a:ln w="6480">
                                                        <a:solidFill>
                                                          <a:srgbClr val="3333cc"/>
                                                        </a:solidFill>
                                                        <a:round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wrap="none" anchor="ctr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24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Times New Roman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grpSp>
                                                  <p:nvGrpSpPr>
                                                    <p:cNvPr id="6017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315400" y="4611600"/>
                                                      <a:ext cx="206640" cy="1330200"/>
                                                      <a:chOff x="5315400" y="4611600"/>
                                                      <a:chExt cx="206640" cy="133020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6018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383800" y="5604480"/>
                                                        <a:ext cx="69120" cy="337320"/>
                                                        <a:chOff x="5383800" y="5604480"/>
                                                        <a:chExt cx="69120" cy="33732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6019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5419080" y="5604480"/>
                                                          <a:ext cx="33840" cy="337320"/>
                                                        </a:xfrm>
                                                        <a:custGeom>
                                                          <a:avLst/>
                                                          <a:gdLst/>
                                                          <a:ahLst/>
                                                          <a:rect l="l" t="t" r="r" b="b"/>
                                                          <a:pathLst>
                                                            <a:path w="234" h="373">
                                                              <a:moveTo>
                                                                <a:pt x="0" y="373"/>
                                                              </a:moveTo>
                                                              <a:cubicBezTo>
                                                                <a:pt x="4" y="357"/>
                                                                <a:pt x="8" y="342"/>
                                                                <a:pt x="15" y="319"/>
                                                              </a:cubicBezTo>
                                                              <a:cubicBezTo>
                                                                <a:pt x="22" y="296"/>
                                                                <a:pt x="34" y="260"/>
                                                                <a:pt x="44" y="232"/>
                                                              </a:cubicBezTo>
                                                              <a:cubicBezTo>
                                                                <a:pt x="54" y="204"/>
                                                                <a:pt x="64" y="173"/>
                                                                <a:pt x="74" y="150"/>
                                                              </a:cubicBezTo>
                                                              <a:cubicBezTo>
                                                                <a:pt x="84" y="127"/>
                                                                <a:pt x="91" y="111"/>
                                                                <a:pt x="102" y="93"/>
                                                              </a:cubicBezTo>
                                                              <a:cubicBezTo>
                                                                <a:pt x="113" y="75"/>
                                                                <a:pt x="127" y="56"/>
                                                                <a:pt x="137" y="43"/>
                                                              </a:cubicBezTo>
                                                              <a:cubicBezTo>
                                                                <a:pt x="147" y="30"/>
                                                                <a:pt x="155" y="23"/>
                                                                <a:pt x="164" y="16"/>
                                                              </a:cubicBezTo>
                                                              <a:cubicBezTo>
                                                                <a:pt x="173" y="9"/>
                                                                <a:pt x="182" y="6"/>
                                                                <a:pt x="194" y="3"/>
                                                              </a:cubicBezTo>
                                                              <a:cubicBezTo>
                                                                <a:pt x="206" y="0"/>
                                                                <a:pt x="226" y="0"/>
                                                                <a:pt x="234" y="0"/>
                                                              </a:cubicBezTo>
                                                            </a:path>
                                                          </a:pathLst>
                                                        </a:custGeom>
                                                        <a:noFill/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round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wrap="none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6020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5383800" y="5604480"/>
                                                          <a:ext cx="33840" cy="337320"/>
                                                        </a:xfrm>
                                                        <a:custGeom>
                                                          <a:avLst/>
                                                          <a:gdLst/>
                                                          <a:ahLst/>
                                                          <a:rect l="l" t="t" r="r" b="b"/>
                                                          <a:pathLst>
                                                            <a:path w="234" h="373">
                                                              <a:moveTo>
                                                                <a:pt x="0" y="373"/>
                                                              </a:moveTo>
                                                              <a:cubicBezTo>
                                                                <a:pt x="4" y="357"/>
                                                                <a:pt x="8" y="342"/>
                                                                <a:pt x="15" y="319"/>
                                                              </a:cubicBezTo>
                                                              <a:cubicBezTo>
                                                                <a:pt x="22" y="296"/>
                                                                <a:pt x="34" y="260"/>
                                                                <a:pt x="44" y="232"/>
                                                              </a:cubicBezTo>
                                                              <a:cubicBezTo>
                                                                <a:pt x="54" y="204"/>
                                                                <a:pt x="64" y="173"/>
                                                                <a:pt x="74" y="150"/>
                                                              </a:cubicBezTo>
                                                              <a:cubicBezTo>
                                                                <a:pt x="84" y="127"/>
                                                                <a:pt x="91" y="111"/>
                                                                <a:pt x="102" y="93"/>
                                                              </a:cubicBezTo>
                                                              <a:cubicBezTo>
                                                                <a:pt x="113" y="75"/>
                                                                <a:pt x="127" y="56"/>
                                                                <a:pt x="137" y="43"/>
                                                              </a:cubicBezTo>
                                                              <a:cubicBezTo>
                                                                <a:pt x="147" y="30"/>
                                                                <a:pt x="155" y="23"/>
                                                                <a:pt x="164" y="16"/>
                                                              </a:cubicBezTo>
                                                              <a:cubicBezTo>
                                                                <a:pt x="173" y="9"/>
                                                                <a:pt x="182" y="6"/>
                                                                <a:pt x="194" y="3"/>
                                                              </a:cubicBezTo>
                                                              <a:cubicBezTo>
                                                                <a:pt x="206" y="0"/>
                                                                <a:pt x="226" y="0"/>
                                                                <a:pt x="234" y="0"/>
                                                              </a:cubicBezTo>
                                                            </a:path>
                                                          </a:pathLst>
                                                        </a:custGeom>
                                                        <a:noFill/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round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wrap="none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6021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5416920" y="5604480"/>
                                                          <a:ext cx="324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grpSp>
                                                    <p:nvGrpSpPr>
                                                      <p:cNvPr id="6022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315400" y="5795640"/>
                                                        <a:ext cx="68040" cy="144720"/>
                                                        <a:chOff x="5315400" y="5795640"/>
                                                        <a:chExt cx="68040" cy="14472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6023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5350320" y="5796720"/>
                                                          <a:ext cx="32760" cy="143640"/>
                                                        </a:xfrm>
                                                        <a:custGeom>
                                                          <a:avLst/>
                                                          <a:gdLst/>
                                                          <a:ahLst/>
                                                          <a:rect l="l" t="t" r="r" b="b"/>
                                                          <a:pathLst>
                                                            <a:path w="228" h="159">
                                                              <a:moveTo>
                                                                <a:pt x="0" y="159"/>
                                                              </a:moveTo>
                                                              <a:cubicBezTo>
                                                                <a:pt x="15" y="139"/>
                                                                <a:pt x="30" y="120"/>
                                                                <a:pt x="45" y="103"/>
                                                              </a:cubicBezTo>
                                                              <a:cubicBezTo>
                                                                <a:pt x="60" y="86"/>
                                                                <a:pt x="76" y="68"/>
                                                                <a:pt x="90" y="54"/>
                                                              </a:cubicBezTo>
                                                              <a:cubicBezTo>
                                                                <a:pt x="104" y="40"/>
                                                                <a:pt x="118" y="30"/>
                                                                <a:pt x="130" y="22"/>
                                                              </a:cubicBezTo>
                                                              <a:cubicBezTo>
                                                                <a:pt x="142" y="14"/>
                                                                <a:pt x="150" y="10"/>
                                                                <a:pt x="162" y="7"/>
                                                              </a:cubicBezTo>
                                                              <a:cubicBezTo>
                                                                <a:pt x="174" y="4"/>
                                                                <a:pt x="191" y="2"/>
                                                                <a:pt x="202" y="1"/>
                                                              </a:cubicBezTo>
                                                              <a:cubicBezTo>
                                                                <a:pt x="213" y="0"/>
                                                                <a:pt x="220" y="0"/>
                                                                <a:pt x="228" y="1"/>
                                                              </a:cubicBezTo>
                                                            </a:path>
                                                          </a:pathLst>
                                                        </a:custGeom>
                                                        <a:noFill/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round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wrap="none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6024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5315400" y="5796000"/>
                                                          <a:ext cx="32760" cy="144000"/>
                                                        </a:xfrm>
                                                        <a:custGeom>
                                                          <a:avLst/>
                                                          <a:gdLst/>
                                                          <a:ahLst/>
                                                          <a:rect l="l" t="t" r="r" b="b"/>
                                                          <a:pathLst>
                                                            <a:path w="228" h="159">
                                                              <a:moveTo>
                                                                <a:pt x="0" y="159"/>
                                                              </a:moveTo>
                                                              <a:cubicBezTo>
                                                                <a:pt x="15" y="139"/>
                                                                <a:pt x="30" y="120"/>
                                                                <a:pt x="45" y="103"/>
                                                              </a:cubicBezTo>
                                                              <a:cubicBezTo>
                                                                <a:pt x="60" y="86"/>
                                                                <a:pt x="76" y="68"/>
                                                                <a:pt x="90" y="54"/>
                                                              </a:cubicBezTo>
                                                              <a:cubicBezTo>
                                                                <a:pt x="104" y="40"/>
                                                                <a:pt x="118" y="30"/>
                                                                <a:pt x="130" y="22"/>
                                                              </a:cubicBezTo>
                                                              <a:cubicBezTo>
                                                                <a:pt x="142" y="14"/>
                                                                <a:pt x="150" y="10"/>
                                                                <a:pt x="162" y="7"/>
                                                              </a:cubicBezTo>
                                                              <a:cubicBezTo>
                                                                <a:pt x="174" y="4"/>
                                                                <a:pt x="191" y="2"/>
                                                                <a:pt x="202" y="1"/>
                                                              </a:cubicBezTo>
                                                              <a:cubicBezTo>
                                                                <a:pt x="213" y="0"/>
                                                                <a:pt x="220" y="0"/>
                                                                <a:pt x="228" y="1"/>
                                                              </a:cubicBezTo>
                                                            </a:path>
                                                          </a:pathLst>
                                                        </a:custGeom>
                                                        <a:noFill/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round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wrap="none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6025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 flipV="1">
                                                          <a:off x="5347080" y="5795640"/>
                                                          <a:ext cx="4680" cy="252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4280" bIns="-44280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sp>
                                                    <p:nvSpPr>
                                                      <p:cNvPr id="6026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452920" y="4611600"/>
                                                        <a:ext cx="69120" cy="1327680"/>
                                                      </a:xfrm>
                                                      <a:custGeom>
                                                        <a:avLst/>
                                                        <a:gdLst/>
                                                        <a:ahLst/>
                                                        <a:rect l="l" t="t" r="r" b="b"/>
                                                        <a:pathLst>
                                                          <a:path w="480" h="1467">
                                                            <a:moveTo>
                                                              <a:pt x="0" y="0"/>
                                                            </a:moveTo>
                                                            <a:cubicBezTo>
                                                              <a:pt x="17" y="2"/>
                                                              <a:pt x="34" y="4"/>
                                                              <a:pt x="51" y="6"/>
                                                            </a:cubicBezTo>
                                                            <a:cubicBezTo>
                                                              <a:pt x="68" y="8"/>
                                                              <a:pt x="88" y="10"/>
                                                              <a:pt x="102" y="15"/>
                                                            </a:cubicBezTo>
                                                            <a:cubicBezTo>
                                                              <a:pt x="116" y="20"/>
                                                              <a:pt x="122" y="23"/>
                                                              <a:pt x="135" y="33"/>
                                                            </a:cubicBezTo>
                                                            <a:cubicBezTo>
                                                              <a:pt x="148" y="43"/>
                                                              <a:pt x="167" y="56"/>
                                                              <a:pt x="180" y="78"/>
                                                            </a:cubicBezTo>
                                                            <a:cubicBezTo>
                                                              <a:pt x="193" y="100"/>
                                                              <a:pt x="204" y="120"/>
                                                              <a:pt x="216" y="165"/>
                                                            </a:cubicBezTo>
                                                            <a:cubicBezTo>
                                                              <a:pt x="228" y="210"/>
                                                              <a:pt x="211" y="131"/>
                                                              <a:pt x="255" y="348"/>
                                                            </a:cubicBezTo>
                                                            <a:cubicBezTo>
                                                              <a:pt x="299" y="565"/>
                                                              <a:pt x="389" y="1016"/>
                                                              <a:pt x="480" y="1467"/>
                                                            </a:cubicBezTo>
                                                          </a:path>
                                                        </a:pathLst>
                                                      </a:custGeom>
                                                      <a:noFill/>
                                                      <a:ln w="6480">
                                                        <a:solidFill>
                                                          <a:srgbClr val="3333cc"/>
                                                        </a:solidFill>
                                                        <a:round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wrap="none" anchor="ctr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24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Times New Roman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</p:grpSp>
                                              <p:grpSp>
                                                <p:nvGrpSpPr>
                                                  <p:cNvPr id="6027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5729760" y="4606560"/>
                                                    <a:ext cx="414360" cy="1331640"/>
                                                    <a:chOff x="5729760" y="4606560"/>
                                                    <a:chExt cx="414360" cy="133164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6028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937480" y="4606560"/>
                                                      <a:ext cx="206640" cy="1331640"/>
                                                      <a:chOff x="5937480" y="4606560"/>
                                                      <a:chExt cx="206640" cy="133164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6029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6006600" y="5600520"/>
                                                        <a:ext cx="69120" cy="337680"/>
                                                        <a:chOff x="6006600" y="5600520"/>
                                                        <a:chExt cx="69120" cy="33768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6030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6006600" y="5600520"/>
                                                          <a:ext cx="33840" cy="337680"/>
                                                        </a:xfrm>
                                                        <a:custGeom>
                                                          <a:avLst/>
                                                          <a:gdLst/>
                                                          <a:ahLst/>
                                                          <a:rect l="l" t="t" r="r" b="b"/>
                                                          <a:pathLst>
                                                            <a:path w="234" h="373">
                                                              <a:moveTo>
                                                                <a:pt x="0" y="373"/>
                                                              </a:moveTo>
                                                              <a:cubicBezTo>
                                                                <a:pt x="4" y="357"/>
                                                                <a:pt x="8" y="342"/>
                                                                <a:pt x="15" y="319"/>
                                                              </a:cubicBezTo>
                                                              <a:cubicBezTo>
                                                                <a:pt x="22" y="296"/>
                                                                <a:pt x="34" y="260"/>
                                                                <a:pt x="44" y="232"/>
                                                              </a:cubicBezTo>
                                                              <a:cubicBezTo>
                                                                <a:pt x="54" y="204"/>
                                                                <a:pt x="64" y="173"/>
                                                                <a:pt x="74" y="150"/>
                                                              </a:cubicBezTo>
                                                              <a:cubicBezTo>
                                                                <a:pt x="84" y="127"/>
                                                                <a:pt x="91" y="111"/>
                                                                <a:pt x="102" y="93"/>
                                                              </a:cubicBezTo>
                                                              <a:cubicBezTo>
                                                                <a:pt x="113" y="75"/>
                                                                <a:pt x="127" y="56"/>
                                                                <a:pt x="137" y="43"/>
                                                              </a:cubicBezTo>
                                                              <a:cubicBezTo>
                                                                <a:pt x="147" y="30"/>
                                                                <a:pt x="155" y="23"/>
                                                                <a:pt x="164" y="16"/>
                                                              </a:cubicBezTo>
                                                              <a:cubicBezTo>
                                                                <a:pt x="173" y="9"/>
                                                                <a:pt x="182" y="6"/>
                                                                <a:pt x="194" y="3"/>
                                                              </a:cubicBezTo>
                                                              <a:cubicBezTo>
                                                                <a:pt x="206" y="0"/>
                                                                <a:pt x="226" y="0"/>
                                                                <a:pt x="234" y="0"/>
                                                              </a:cubicBezTo>
                                                            </a:path>
                                                          </a:pathLst>
                                                        </a:custGeom>
                                                        <a:noFill/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round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wrap="none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6031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6041880" y="5600520"/>
                                                          <a:ext cx="33840" cy="337680"/>
                                                        </a:xfrm>
                                                        <a:custGeom>
                                                          <a:avLst/>
                                                          <a:gdLst/>
                                                          <a:ahLst/>
                                                          <a:rect l="l" t="t" r="r" b="b"/>
                                                          <a:pathLst>
                                                            <a:path w="234" h="373">
                                                              <a:moveTo>
                                                                <a:pt x="0" y="373"/>
                                                              </a:moveTo>
                                                              <a:cubicBezTo>
                                                                <a:pt x="4" y="357"/>
                                                                <a:pt x="8" y="342"/>
                                                                <a:pt x="15" y="319"/>
                                                              </a:cubicBezTo>
                                                              <a:cubicBezTo>
                                                                <a:pt x="22" y="296"/>
                                                                <a:pt x="34" y="260"/>
                                                                <a:pt x="44" y="232"/>
                                                              </a:cubicBezTo>
                                                              <a:cubicBezTo>
                                                                <a:pt x="54" y="204"/>
                                                                <a:pt x="64" y="173"/>
                                                                <a:pt x="74" y="150"/>
                                                              </a:cubicBezTo>
                                                              <a:cubicBezTo>
                                                                <a:pt x="84" y="127"/>
                                                                <a:pt x="91" y="111"/>
                                                                <a:pt x="102" y="93"/>
                                                              </a:cubicBezTo>
                                                              <a:cubicBezTo>
                                                                <a:pt x="113" y="75"/>
                                                                <a:pt x="127" y="56"/>
                                                                <a:pt x="137" y="43"/>
                                                              </a:cubicBezTo>
                                                              <a:cubicBezTo>
                                                                <a:pt x="147" y="30"/>
                                                                <a:pt x="155" y="23"/>
                                                                <a:pt x="164" y="16"/>
                                                              </a:cubicBezTo>
                                                              <a:cubicBezTo>
                                                                <a:pt x="173" y="9"/>
                                                                <a:pt x="182" y="6"/>
                                                                <a:pt x="194" y="3"/>
                                                              </a:cubicBezTo>
                                                              <a:cubicBezTo>
                                                                <a:pt x="206" y="0"/>
                                                                <a:pt x="226" y="0"/>
                                                                <a:pt x="234" y="0"/>
                                                              </a:cubicBezTo>
                                                            </a:path>
                                                          </a:pathLst>
                                                        </a:custGeom>
                                                        <a:noFill/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round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wrap="none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6032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6039360" y="5600520"/>
                                                          <a:ext cx="324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grpSp>
                                                    <p:nvGrpSpPr>
                                                      <p:cNvPr id="6033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6076080" y="5792760"/>
                                                        <a:ext cx="68040" cy="144720"/>
                                                        <a:chOff x="6076080" y="5792760"/>
                                                        <a:chExt cx="68040" cy="14472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6034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6076080" y="5793480"/>
                                                          <a:ext cx="32760" cy="144000"/>
                                                        </a:xfrm>
                                                        <a:custGeom>
                                                          <a:avLst/>
                                                          <a:gdLst/>
                                                          <a:ahLst/>
                                                          <a:rect l="l" t="t" r="r" b="b"/>
                                                          <a:pathLst>
                                                            <a:path w="228" h="159">
                                                              <a:moveTo>
                                                                <a:pt x="0" y="159"/>
                                                              </a:moveTo>
                                                              <a:cubicBezTo>
                                                                <a:pt x="15" y="139"/>
                                                                <a:pt x="30" y="120"/>
                                                                <a:pt x="45" y="103"/>
                                                              </a:cubicBezTo>
                                                              <a:cubicBezTo>
                                                                <a:pt x="60" y="86"/>
                                                                <a:pt x="76" y="68"/>
                                                                <a:pt x="90" y="54"/>
                                                              </a:cubicBezTo>
                                                              <a:cubicBezTo>
                                                                <a:pt x="104" y="40"/>
                                                                <a:pt x="118" y="30"/>
                                                                <a:pt x="130" y="22"/>
                                                              </a:cubicBezTo>
                                                              <a:cubicBezTo>
                                                                <a:pt x="142" y="14"/>
                                                                <a:pt x="150" y="10"/>
                                                                <a:pt x="162" y="7"/>
                                                              </a:cubicBezTo>
                                                              <a:cubicBezTo>
                                                                <a:pt x="174" y="4"/>
                                                                <a:pt x="191" y="2"/>
                                                                <a:pt x="202" y="1"/>
                                                              </a:cubicBezTo>
                                                              <a:cubicBezTo>
                                                                <a:pt x="213" y="0"/>
                                                                <a:pt x="220" y="0"/>
                                                                <a:pt x="228" y="1"/>
                                                              </a:cubicBezTo>
                                                            </a:path>
                                                          </a:pathLst>
                                                        </a:custGeom>
                                                        <a:noFill/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round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wrap="none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6035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6111000" y="5792760"/>
                                                          <a:ext cx="32760" cy="144360"/>
                                                        </a:xfrm>
                                                        <a:custGeom>
                                                          <a:avLst/>
                                                          <a:gdLst/>
                                                          <a:ahLst/>
                                                          <a:rect l="l" t="t" r="r" b="b"/>
                                                          <a:pathLst>
                                                            <a:path w="228" h="159">
                                                              <a:moveTo>
                                                                <a:pt x="0" y="159"/>
                                                              </a:moveTo>
                                                              <a:cubicBezTo>
                                                                <a:pt x="15" y="139"/>
                                                                <a:pt x="30" y="120"/>
                                                                <a:pt x="45" y="103"/>
                                                              </a:cubicBezTo>
                                                              <a:cubicBezTo>
                                                                <a:pt x="60" y="86"/>
                                                                <a:pt x="76" y="68"/>
                                                                <a:pt x="90" y="54"/>
                                                              </a:cubicBezTo>
                                                              <a:cubicBezTo>
                                                                <a:pt x="104" y="40"/>
                                                                <a:pt x="118" y="30"/>
                                                                <a:pt x="130" y="22"/>
                                                              </a:cubicBezTo>
                                                              <a:cubicBezTo>
                                                                <a:pt x="142" y="14"/>
                                                                <a:pt x="150" y="10"/>
                                                                <a:pt x="162" y="7"/>
                                                              </a:cubicBezTo>
                                                              <a:cubicBezTo>
                                                                <a:pt x="174" y="4"/>
                                                                <a:pt x="191" y="2"/>
                                                                <a:pt x="202" y="1"/>
                                                              </a:cubicBezTo>
                                                              <a:cubicBezTo>
                                                                <a:pt x="213" y="0"/>
                                                                <a:pt x="220" y="0"/>
                                                                <a:pt x="228" y="1"/>
                                                              </a:cubicBezTo>
                                                            </a:path>
                                                          </a:pathLst>
                                                        </a:custGeom>
                                                        <a:noFill/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round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wrap="none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6036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V="1">
                                                          <a:off x="6107760" y="5792760"/>
                                                          <a:ext cx="4680" cy="288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3920" bIns="-43920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sp>
                                                    <p:nvSpPr>
                                                      <p:cNvPr id="6037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>
                                                        <a:off x="5937480" y="4606560"/>
                                                        <a:ext cx="69120" cy="1329480"/>
                                                      </a:xfrm>
                                                      <a:custGeom>
                                                        <a:avLst/>
                                                        <a:gdLst/>
                                                        <a:ahLst/>
                                                        <a:rect l="l" t="t" r="r" b="b"/>
                                                        <a:pathLst>
                                                          <a:path w="480" h="1467">
                                                            <a:moveTo>
                                                              <a:pt x="0" y="0"/>
                                                            </a:moveTo>
                                                            <a:cubicBezTo>
                                                              <a:pt x="17" y="2"/>
                                                              <a:pt x="34" y="4"/>
                                                              <a:pt x="51" y="6"/>
                                                            </a:cubicBezTo>
                                                            <a:cubicBezTo>
                                                              <a:pt x="68" y="8"/>
                                                              <a:pt x="88" y="10"/>
                                                              <a:pt x="102" y="15"/>
                                                            </a:cubicBezTo>
                                                            <a:cubicBezTo>
                                                              <a:pt x="116" y="20"/>
                                                              <a:pt x="122" y="23"/>
                                                              <a:pt x="135" y="33"/>
                                                            </a:cubicBezTo>
                                                            <a:cubicBezTo>
                                                              <a:pt x="148" y="43"/>
                                                              <a:pt x="167" y="56"/>
                                                              <a:pt x="180" y="78"/>
                                                            </a:cubicBezTo>
                                                            <a:cubicBezTo>
                                                              <a:pt x="193" y="100"/>
                                                              <a:pt x="204" y="120"/>
                                                              <a:pt x="216" y="165"/>
                                                            </a:cubicBezTo>
                                                            <a:cubicBezTo>
                                                              <a:pt x="228" y="210"/>
                                                              <a:pt x="211" y="131"/>
                                                              <a:pt x="255" y="348"/>
                                                            </a:cubicBezTo>
                                                            <a:cubicBezTo>
                                                              <a:pt x="299" y="565"/>
                                                              <a:pt x="389" y="1016"/>
                                                              <a:pt x="480" y="1467"/>
                                                            </a:cubicBezTo>
                                                          </a:path>
                                                        </a:pathLst>
                                                      </a:custGeom>
                                                      <a:noFill/>
                                                      <a:ln w="6480">
                                                        <a:solidFill>
                                                          <a:srgbClr val="3333cc"/>
                                                        </a:solidFill>
                                                        <a:round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wrap="none" anchor="ctr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24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Times New Roman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grpSp>
                                                  <p:nvGrpSpPr>
                                                    <p:cNvPr id="6038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729760" y="4606560"/>
                                                      <a:ext cx="206640" cy="1331640"/>
                                                      <a:chOff x="5729760" y="4606560"/>
                                                      <a:chExt cx="206640" cy="133164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6039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798160" y="5600520"/>
                                                        <a:ext cx="69120" cy="337680"/>
                                                        <a:chOff x="5798160" y="5600520"/>
                                                        <a:chExt cx="69120" cy="33768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6040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5833440" y="5600520"/>
                                                          <a:ext cx="33840" cy="337680"/>
                                                        </a:xfrm>
                                                        <a:custGeom>
                                                          <a:avLst/>
                                                          <a:gdLst/>
                                                          <a:ahLst/>
                                                          <a:rect l="l" t="t" r="r" b="b"/>
                                                          <a:pathLst>
                                                            <a:path w="234" h="373">
                                                              <a:moveTo>
                                                                <a:pt x="0" y="373"/>
                                                              </a:moveTo>
                                                              <a:cubicBezTo>
                                                                <a:pt x="4" y="357"/>
                                                                <a:pt x="8" y="342"/>
                                                                <a:pt x="15" y="319"/>
                                                              </a:cubicBezTo>
                                                              <a:cubicBezTo>
                                                                <a:pt x="22" y="296"/>
                                                                <a:pt x="34" y="260"/>
                                                                <a:pt x="44" y="232"/>
                                                              </a:cubicBezTo>
                                                              <a:cubicBezTo>
                                                                <a:pt x="54" y="204"/>
                                                                <a:pt x="64" y="173"/>
                                                                <a:pt x="74" y="150"/>
                                                              </a:cubicBezTo>
                                                              <a:cubicBezTo>
                                                                <a:pt x="84" y="127"/>
                                                                <a:pt x="91" y="111"/>
                                                                <a:pt x="102" y="93"/>
                                                              </a:cubicBezTo>
                                                              <a:cubicBezTo>
                                                                <a:pt x="113" y="75"/>
                                                                <a:pt x="127" y="56"/>
                                                                <a:pt x="137" y="43"/>
                                                              </a:cubicBezTo>
                                                              <a:cubicBezTo>
                                                                <a:pt x="147" y="30"/>
                                                                <a:pt x="155" y="23"/>
                                                                <a:pt x="164" y="16"/>
                                                              </a:cubicBezTo>
                                                              <a:cubicBezTo>
                                                                <a:pt x="173" y="9"/>
                                                                <a:pt x="182" y="6"/>
                                                                <a:pt x="194" y="3"/>
                                                              </a:cubicBezTo>
                                                              <a:cubicBezTo>
                                                                <a:pt x="206" y="0"/>
                                                                <a:pt x="226" y="0"/>
                                                                <a:pt x="234" y="0"/>
                                                              </a:cubicBezTo>
                                                            </a:path>
                                                          </a:pathLst>
                                                        </a:custGeom>
                                                        <a:noFill/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round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wrap="none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6041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5798160" y="5600520"/>
                                                          <a:ext cx="33840" cy="337680"/>
                                                        </a:xfrm>
                                                        <a:custGeom>
                                                          <a:avLst/>
                                                          <a:gdLst/>
                                                          <a:ahLst/>
                                                          <a:rect l="l" t="t" r="r" b="b"/>
                                                          <a:pathLst>
                                                            <a:path w="234" h="373">
                                                              <a:moveTo>
                                                                <a:pt x="0" y="373"/>
                                                              </a:moveTo>
                                                              <a:cubicBezTo>
                                                                <a:pt x="4" y="357"/>
                                                                <a:pt x="8" y="342"/>
                                                                <a:pt x="15" y="319"/>
                                                              </a:cubicBezTo>
                                                              <a:cubicBezTo>
                                                                <a:pt x="22" y="296"/>
                                                                <a:pt x="34" y="260"/>
                                                                <a:pt x="44" y="232"/>
                                                              </a:cubicBezTo>
                                                              <a:cubicBezTo>
                                                                <a:pt x="54" y="204"/>
                                                                <a:pt x="64" y="173"/>
                                                                <a:pt x="74" y="150"/>
                                                              </a:cubicBezTo>
                                                              <a:cubicBezTo>
                                                                <a:pt x="84" y="127"/>
                                                                <a:pt x="91" y="111"/>
                                                                <a:pt x="102" y="93"/>
                                                              </a:cubicBezTo>
                                                              <a:cubicBezTo>
                                                                <a:pt x="113" y="75"/>
                                                                <a:pt x="127" y="56"/>
                                                                <a:pt x="137" y="43"/>
                                                              </a:cubicBezTo>
                                                              <a:cubicBezTo>
                                                                <a:pt x="147" y="30"/>
                                                                <a:pt x="155" y="23"/>
                                                                <a:pt x="164" y="16"/>
                                                              </a:cubicBezTo>
                                                              <a:cubicBezTo>
                                                                <a:pt x="173" y="9"/>
                                                                <a:pt x="182" y="6"/>
                                                                <a:pt x="194" y="3"/>
                                                              </a:cubicBezTo>
                                                              <a:cubicBezTo>
                                                                <a:pt x="206" y="0"/>
                                                                <a:pt x="226" y="0"/>
                                                                <a:pt x="234" y="0"/>
                                                              </a:cubicBezTo>
                                                            </a:path>
                                                          </a:pathLst>
                                                        </a:custGeom>
                                                        <a:noFill/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round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wrap="none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6042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5831280" y="5600520"/>
                                                          <a:ext cx="324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grpSp>
                                                    <p:nvGrpSpPr>
                                                      <p:cNvPr id="6043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729760" y="5792760"/>
                                                        <a:ext cx="68040" cy="144720"/>
                                                        <a:chOff x="5729760" y="5792760"/>
                                                        <a:chExt cx="68040" cy="14472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6044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5764680" y="5793480"/>
                                                          <a:ext cx="32760" cy="144000"/>
                                                        </a:xfrm>
                                                        <a:custGeom>
                                                          <a:avLst/>
                                                          <a:gdLst/>
                                                          <a:ahLst/>
                                                          <a:rect l="l" t="t" r="r" b="b"/>
                                                          <a:pathLst>
                                                            <a:path w="228" h="159">
                                                              <a:moveTo>
                                                                <a:pt x="0" y="159"/>
                                                              </a:moveTo>
                                                              <a:cubicBezTo>
                                                                <a:pt x="15" y="139"/>
                                                                <a:pt x="30" y="120"/>
                                                                <a:pt x="45" y="103"/>
                                                              </a:cubicBezTo>
                                                              <a:cubicBezTo>
                                                                <a:pt x="60" y="86"/>
                                                                <a:pt x="76" y="68"/>
                                                                <a:pt x="90" y="54"/>
                                                              </a:cubicBezTo>
                                                              <a:cubicBezTo>
                                                                <a:pt x="104" y="40"/>
                                                                <a:pt x="118" y="30"/>
                                                                <a:pt x="130" y="22"/>
                                                              </a:cubicBezTo>
                                                              <a:cubicBezTo>
                                                                <a:pt x="142" y="14"/>
                                                                <a:pt x="150" y="10"/>
                                                                <a:pt x="162" y="7"/>
                                                              </a:cubicBezTo>
                                                              <a:cubicBezTo>
                                                                <a:pt x="174" y="4"/>
                                                                <a:pt x="191" y="2"/>
                                                                <a:pt x="202" y="1"/>
                                                              </a:cubicBezTo>
                                                              <a:cubicBezTo>
                                                                <a:pt x="213" y="0"/>
                                                                <a:pt x="220" y="0"/>
                                                                <a:pt x="228" y="1"/>
                                                              </a:cubicBezTo>
                                                            </a:path>
                                                          </a:pathLst>
                                                        </a:custGeom>
                                                        <a:noFill/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round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wrap="none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6045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5729760" y="5792760"/>
                                                          <a:ext cx="32760" cy="144360"/>
                                                        </a:xfrm>
                                                        <a:custGeom>
                                                          <a:avLst/>
                                                          <a:gdLst/>
                                                          <a:ahLst/>
                                                          <a:rect l="l" t="t" r="r" b="b"/>
                                                          <a:pathLst>
                                                            <a:path w="228" h="159">
                                                              <a:moveTo>
                                                                <a:pt x="0" y="159"/>
                                                              </a:moveTo>
                                                              <a:cubicBezTo>
                                                                <a:pt x="15" y="139"/>
                                                                <a:pt x="30" y="120"/>
                                                                <a:pt x="45" y="103"/>
                                                              </a:cubicBezTo>
                                                              <a:cubicBezTo>
                                                                <a:pt x="60" y="86"/>
                                                                <a:pt x="76" y="68"/>
                                                                <a:pt x="90" y="54"/>
                                                              </a:cubicBezTo>
                                                              <a:cubicBezTo>
                                                                <a:pt x="104" y="40"/>
                                                                <a:pt x="118" y="30"/>
                                                                <a:pt x="130" y="22"/>
                                                              </a:cubicBezTo>
                                                              <a:cubicBezTo>
                                                                <a:pt x="142" y="14"/>
                                                                <a:pt x="150" y="10"/>
                                                                <a:pt x="162" y="7"/>
                                                              </a:cubicBezTo>
                                                              <a:cubicBezTo>
                                                                <a:pt x="174" y="4"/>
                                                                <a:pt x="191" y="2"/>
                                                                <a:pt x="202" y="1"/>
                                                              </a:cubicBezTo>
                                                              <a:cubicBezTo>
                                                                <a:pt x="213" y="0"/>
                                                                <a:pt x="220" y="0"/>
                                                                <a:pt x="228" y="1"/>
                                                              </a:cubicBezTo>
                                                            </a:path>
                                                          </a:pathLst>
                                                        </a:custGeom>
                                                        <a:noFill/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round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wrap="none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6046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 flipV="1">
                                                          <a:off x="5761440" y="5792760"/>
                                                          <a:ext cx="4680" cy="288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3920" bIns="-43920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sp>
                                                    <p:nvSpPr>
                                                      <p:cNvPr id="6047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867280" y="4606560"/>
                                                        <a:ext cx="69120" cy="1329480"/>
                                                      </a:xfrm>
                                                      <a:custGeom>
                                                        <a:avLst/>
                                                        <a:gdLst/>
                                                        <a:ahLst/>
                                                        <a:rect l="l" t="t" r="r" b="b"/>
                                                        <a:pathLst>
                                                          <a:path w="480" h="1467">
                                                            <a:moveTo>
                                                              <a:pt x="0" y="0"/>
                                                            </a:moveTo>
                                                            <a:cubicBezTo>
                                                              <a:pt x="17" y="2"/>
                                                              <a:pt x="34" y="4"/>
                                                              <a:pt x="51" y="6"/>
                                                            </a:cubicBezTo>
                                                            <a:cubicBezTo>
                                                              <a:pt x="68" y="8"/>
                                                              <a:pt x="88" y="10"/>
                                                              <a:pt x="102" y="15"/>
                                                            </a:cubicBezTo>
                                                            <a:cubicBezTo>
                                                              <a:pt x="116" y="20"/>
                                                              <a:pt x="122" y="23"/>
                                                              <a:pt x="135" y="33"/>
                                                            </a:cubicBezTo>
                                                            <a:cubicBezTo>
                                                              <a:pt x="148" y="43"/>
                                                              <a:pt x="167" y="56"/>
                                                              <a:pt x="180" y="78"/>
                                                            </a:cubicBezTo>
                                                            <a:cubicBezTo>
                                                              <a:pt x="193" y="100"/>
                                                              <a:pt x="204" y="120"/>
                                                              <a:pt x="216" y="165"/>
                                                            </a:cubicBezTo>
                                                            <a:cubicBezTo>
                                                              <a:pt x="228" y="210"/>
                                                              <a:pt x="211" y="131"/>
                                                              <a:pt x="255" y="348"/>
                                                            </a:cubicBezTo>
                                                            <a:cubicBezTo>
                                                              <a:pt x="299" y="565"/>
                                                              <a:pt x="389" y="1016"/>
                                                              <a:pt x="480" y="1467"/>
                                                            </a:cubicBezTo>
                                                          </a:path>
                                                        </a:pathLst>
                                                      </a:custGeom>
                                                      <a:noFill/>
                                                      <a:ln w="6480">
                                                        <a:solidFill>
                                                          <a:srgbClr val="3333cc"/>
                                                        </a:solidFill>
                                                        <a:round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wrap="none" anchor="ctr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24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Times New Roman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</p:grpSp>
                                              <p:grpSp>
                                                <p:nvGrpSpPr>
                                                  <p:cNvPr id="6048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4207320" y="4568760"/>
                                                    <a:ext cx="2148120" cy="1373040"/>
                                                    <a:chOff x="4207320" y="4568760"/>
                                                    <a:chExt cx="2148120" cy="137304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6049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4486680" y="4603680"/>
                                                      <a:ext cx="414720" cy="1330200"/>
                                                      <a:chOff x="4486680" y="4603680"/>
                                                      <a:chExt cx="414720" cy="133020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6050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4694760" y="4603680"/>
                                                        <a:ext cx="206640" cy="1330200"/>
                                                        <a:chOff x="4694760" y="4603680"/>
                                                        <a:chExt cx="206640" cy="133020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6051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4763880" y="5596560"/>
                                                          <a:ext cx="69120" cy="337320"/>
                                                          <a:chOff x="4763880" y="5596560"/>
                                                          <a:chExt cx="69120" cy="33732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6052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4763880" y="5596560"/>
                                                            <a:ext cx="33840" cy="33732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34" h="373">
                                                                <a:moveTo>
                                                                  <a:pt x="0" y="373"/>
                                                                </a:moveTo>
                                                                <a:cubicBezTo>
                                                                  <a:pt x="4" y="357"/>
                                                                  <a:pt x="8" y="342"/>
                                                                  <a:pt x="15" y="319"/>
                                                                </a:cubicBezTo>
                                                                <a:cubicBezTo>
                                                                  <a:pt x="22" y="296"/>
                                                                  <a:pt x="34" y="260"/>
                                                                  <a:pt x="44" y="232"/>
                                                                </a:cubicBezTo>
                                                                <a:cubicBezTo>
                                                                  <a:pt x="54" y="204"/>
                                                                  <a:pt x="64" y="173"/>
                                                                  <a:pt x="74" y="150"/>
                                                                </a:cubicBezTo>
                                                                <a:cubicBezTo>
                                                                  <a:pt x="84" y="127"/>
                                                                  <a:pt x="91" y="111"/>
                                                                  <a:pt x="102" y="93"/>
                                                                </a:cubicBezTo>
                                                                <a:cubicBezTo>
                                                                  <a:pt x="113" y="75"/>
                                                                  <a:pt x="127" y="56"/>
                                                                  <a:pt x="137" y="43"/>
                                                                </a:cubicBezTo>
                                                                <a:cubicBezTo>
                                                                  <a:pt x="147" y="30"/>
                                                                  <a:pt x="155" y="23"/>
                                                                  <a:pt x="164" y="16"/>
                                                                </a:cubicBezTo>
                                                                <a:cubicBezTo>
                                                                  <a:pt x="173" y="9"/>
                                                                  <a:pt x="182" y="6"/>
                                                                  <a:pt x="194" y="3"/>
                                                                </a:cubicBezTo>
                                                                <a:cubicBezTo>
                                                                  <a:pt x="206" y="0"/>
                                                                  <a:pt x="226" y="0"/>
                                                                  <a:pt x="234" y="0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05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4799160" y="5596560"/>
                                                            <a:ext cx="33840" cy="33732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34" h="373">
                                                                <a:moveTo>
                                                                  <a:pt x="0" y="373"/>
                                                                </a:moveTo>
                                                                <a:cubicBezTo>
                                                                  <a:pt x="4" y="357"/>
                                                                  <a:pt x="8" y="342"/>
                                                                  <a:pt x="15" y="319"/>
                                                                </a:cubicBezTo>
                                                                <a:cubicBezTo>
                                                                  <a:pt x="22" y="296"/>
                                                                  <a:pt x="34" y="260"/>
                                                                  <a:pt x="44" y="232"/>
                                                                </a:cubicBezTo>
                                                                <a:cubicBezTo>
                                                                  <a:pt x="54" y="204"/>
                                                                  <a:pt x="64" y="173"/>
                                                                  <a:pt x="74" y="150"/>
                                                                </a:cubicBezTo>
                                                                <a:cubicBezTo>
                                                                  <a:pt x="84" y="127"/>
                                                                  <a:pt x="91" y="111"/>
                                                                  <a:pt x="102" y="93"/>
                                                                </a:cubicBezTo>
                                                                <a:cubicBezTo>
                                                                  <a:pt x="113" y="75"/>
                                                                  <a:pt x="127" y="56"/>
                                                                  <a:pt x="137" y="43"/>
                                                                </a:cubicBezTo>
                                                                <a:cubicBezTo>
                                                                  <a:pt x="147" y="30"/>
                                                                  <a:pt x="155" y="23"/>
                                                                  <a:pt x="164" y="16"/>
                                                                </a:cubicBezTo>
                                                                <a:cubicBezTo>
                                                                  <a:pt x="173" y="9"/>
                                                                  <a:pt x="182" y="6"/>
                                                                  <a:pt x="194" y="3"/>
                                                                </a:cubicBezTo>
                                                                <a:cubicBezTo>
                                                                  <a:pt x="206" y="0"/>
                                                                  <a:pt x="226" y="0"/>
                                                                  <a:pt x="234" y="0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05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4796640" y="5596560"/>
                                                            <a:ext cx="324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6055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4833360" y="5787720"/>
                                                          <a:ext cx="68040" cy="144720"/>
                                                          <a:chOff x="4833360" y="5787720"/>
                                                          <a:chExt cx="68040" cy="14472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6056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4833360" y="5788800"/>
                                                            <a:ext cx="32760" cy="14364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28" h="159">
                                                                <a:moveTo>
                                                                  <a:pt x="0" y="159"/>
                                                                </a:moveTo>
                                                                <a:cubicBezTo>
                                                                  <a:pt x="15" y="139"/>
                                                                  <a:pt x="30" y="120"/>
                                                                  <a:pt x="45" y="103"/>
                                                                </a:cubicBezTo>
                                                                <a:cubicBezTo>
                                                                  <a:pt x="60" y="86"/>
                                                                  <a:pt x="76" y="68"/>
                                                                  <a:pt x="90" y="54"/>
                                                                </a:cubicBezTo>
                                                                <a:cubicBezTo>
                                                                  <a:pt x="104" y="40"/>
                                                                  <a:pt x="118" y="30"/>
                                                                  <a:pt x="130" y="22"/>
                                                                </a:cubicBezTo>
                                                                <a:cubicBezTo>
                                                                  <a:pt x="142" y="14"/>
                                                                  <a:pt x="150" y="10"/>
                                                                  <a:pt x="162" y="7"/>
                                                                </a:cubicBezTo>
                                                                <a:cubicBezTo>
                                                                  <a:pt x="174" y="4"/>
                                                                  <a:pt x="191" y="2"/>
                                                                  <a:pt x="202" y="1"/>
                                                                </a:cubicBezTo>
                                                                <a:cubicBezTo>
                                                                  <a:pt x="213" y="0"/>
                                                                  <a:pt x="220" y="0"/>
                                                                  <a:pt x="228" y="1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057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4868280" y="5788080"/>
                                                            <a:ext cx="32760" cy="14400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28" h="159">
                                                                <a:moveTo>
                                                                  <a:pt x="0" y="159"/>
                                                                </a:moveTo>
                                                                <a:cubicBezTo>
                                                                  <a:pt x="15" y="139"/>
                                                                  <a:pt x="30" y="120"/>
                                                                  <a:pt x="45" y="103"/>
                                                                </a:cubicBezTo>
                                                                <a:cubicBezTo>
                                                                  <a:pt x="60" y="86"/>
                                                                  <a:pt x="76" y="68"/>
                                                                  <a:pt x="90" y="54"/>
                                                                </a:cubicBezTo>
                                                                <a:cubicBezTo>
                                                                  <a:pt x="104" y="40"/>
                                                                  <a:pt x="118" y="30"/>
                                                                  <a:pt x="130" y="22"/>
                                                                </a:cubicBezTo>
                                                                <a:cubicBezTo>
                                                                  <a:pt x="142" y="14"/>
                                                                  <a:pt x="150" y="10"/>
                                                                  <a:pt x="162" y="7"/>
                                                                </a:cubicBezTo>
                                                                <a:cubicBezTo>
                                                                  <a:pt x="174" y="4"/>
                                                                  <a:pt x="191" y="2"/>
                                                                  <a:pt x="202" y="1"/>
                                                                </a:cubicBezTo>
                                                                <a:cubicBezTo>
                                                                  <a:pt x="213" y="0"/>
                                                                  <a:pt x="220" y="0"/>
                                                                  <a:pt x="228" y="1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05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4865040" y="5787720"/>
                                                            <a:ext cx="4680" cy="252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4280" bIns="-44280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sp>
                                                      <p:nvSpPr>
                                                        <p:cNvPr id="6059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4694760" y="4603680"/>
                                                          <a:ext cx="69120" cy="1327680"/>
                                                        </a:xfrm>
                                                        <a:custGeom>
                                                          <a:avLst/>
                                                          <a:gdLst/>
                                                          <a:ahLst/>
                                                          <a:rect l="l" t="t" r="r" b="b"/>
                                                          <a:pathLst>
                                                            <a:path w="480" h="1467">
                                                              <a:moveTo>
                                                                <a:pt x="0" y="0"/>
                                                              </a:moveTo>
                                                              <a:cubicBezTo>
                                                                <a:pt x="17" y="2"/>
                                                                <a:pt x="34" y="4"/>
                                                                <a:pt x="51" y="6"/>
                                                              </a:cubicBezTo>
                                                              <a:cubicBezTo>
                                                                <a:pt x="68" y="8"/>
                                                                <a:pt x="88" y="10"/>
                                                                <a:pt x="102" y="15"/>
                                                              </a:cubicBezTo>
                                                              <a:cubicBezTo>
                                                                <a:pt x="116" y="20"/>
                                                                <a:pt x="122" y="23"/>
                                                                <a:pt x="135" y="33"/>
                                                              </a:cubicBezTo>
                                                              <a:cubicBezTo>
                                                                <a:pt x="148" y="43"/>
                                                                <a:pt x="167" y="56"/>
                                                                <a:pt x="180" y="78"/>
                                                              </a:cubicBezTo>
                                                              <a:cubicBezTo>
                                                                <a:pt x="193" y="100"/>
                                                                <a:pt x="204" y="120"/>
                                                                <a:pt x="216" y="165"/>
                                                              </a:cubicBezTo>
                                                              <a:cubicBezTo>
                                                                <a:pt x="228" y="210"/>
                                                                <a:pt x="211" y="131"/>
                                                                <a:pt x="255" y="348"/>
                                                              </a:cubicBezTo>
                                                              <a:cubicBezTo>
                                                                <a:pt x="299" y="565"/>
                                                                <a:pt x="389" y="1016"/>
                                                                <a:pt x="480" y="1467"/>
                                                              </a:cubicBezTo>
                                                            </a:path>
                                                          </a:pathLst>
                                                        </a:custGeom>
                                                        <a:noFill/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round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wrap="none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grpSp>
                                                    <p:nvGrpSpPr>
                                                      <p:cNvPr id="6060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4486680" y="4603680"/>
                                                        <a:ext cx="206640" cy="1330200"/>
                                                        <a:chOff x="4486680" y="4603680"/>
                                                        <a:chExt cx="206640" cy="133020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6061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4555080" y="5596560"/>
                                                          <a:ext cx="69120" cy="337320"/>
                                                          <a:chOff x="4555080" y="5596560"/>
                                                          <a:chExt cx="69120" cy="33732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6062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4590360" y="5596560"/>
                                                            <a:ext cx="33840" cy="33732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34" h="373">
                                                                <a:moveTo>
                                                                  <a:pt x="0" y="373"/>
                                                                </a:moveTo>
                                                                <a:cubicBezTo>
                                                                  <a:pt x="4" y="357"/>
                                                                  <a:pt x="8" y="342"/>
                                                                  <a:pt x="15" y="319"/>
                                                                </a:cubicBezTo>
                                                                <a:cubicBezTo>
                                                                  <a:pt x="22" y="296"/>
                                                                  <a:pt x="34" y="260"/>
                                                                  <a:pt x="44" y="232"/>
                                                                </a:cubicBezTo>
                                                                <a:cubicBezTo>
                                                                  <a:pt x="54" y="204"/>
                                                                  <a:pt x="64" y="173"/>
                                                                  <a:pt x="74" y="150"/>
                                                                </a:cubicBezTo>
                                                                <a:cubicBezTo>
                                                                  <a:pt x="84" y="127"/>
                                                                  <a:pt x="91" y="111"/>
                                                                  <a:pt x="102" y="93"/>
                                                                </a:cubicBezTo>
                                                                <a:cubicBezTo>
                                                                  <a:pt x="113" y="75"/>
                                                                  <a:pt x="127" y="56"/>
                                                                  <a:pt x="137" y="43"/>
                                                                </a:cubicBezTo>
                                                                <a:cubicBezTo>
                                                                  <a:pt x="147" y="30"/>
                                                                  <a:pt x="155" y="23"/>
                                                                  <a:pt x="164" y="16"/>
                                                                </a:cubicBezTo>
                                                                <a:cubicBezTo>
                                                                  <a:pt x="173" y="9"/>
                                                                  <a:pt x="182" y="6"/>
                                                                  <a:pt x="194" y="3"/>
                                                                </a:cubicBezTo>
                                                                <a:cubicBezTo>
                                                                  <a:pt x="206" y="0"/>
                                                                  <a:pt x="226" y="0"/>
                                                                  <a:pt x="234" y="0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06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4555080" y="5596560"/>
                                                            <a:ext cx="33840" cy="33732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34" h="373">
                                                                <a:moveTo>
                                                                  <a:pt x="0" y="373"/>
                                                                </a:moveTo>
                                                                <a:cubicBezTo>
                                                                  <a:pt x="4" y="357"/>
                                                                  <a:pt x="8" y="342"/>
                                                                  <a:pt x="15" y="319"/>
                                                                </a:cubicBezTo>
                                                                <a:cubicBezTo>
                                                                  <a:pt x="22" y="296"/>
                                                                  <a:pt x="34" y="260"/>
                                                                  <a:pt x="44" y="232"/>
                                                                </a:cubicBezTo>
                                                                <a:cubicBezTo>
                                                                  <a:pt x="54" y="204"/>
                                                                  <a:pt x="64" y="173"/>
                                                                  <a:pt x="74" y="150"/>
                                                                </a:cubicBezTo>
                                                                <a:cubicBezTo>
                                                                  <a:pt x="84" y="127"/>
                                                                  <a:pt x="91" y="111"/>
                                                                  <a:pt x="102" y="93"/>
                                                                </a:cubicBezTo>
                                                                <a:cubicBezTo>
                                                                  <a:pt x="113" y="75"/>
                                                                  <a:pt x="127" y="56"/>
                                                                  <a:pt x="137" y="43"/>
                                                                </a:cubicBezTo>
                                                                <a:cubicBezTo>
                                                                  <a:pt x="147" y="30"/>
                                                                  <a:pt x="155" y="23"/>
                                                                  <a:pt x="164" y="16"/>
                                                                </a:cubicBezTo>
                                                                <a:cubicBezTo>
                                                                  <a:pt x="173" y="9"/>
                                                                  <a:pt x="182" y="6"/>
                                                                  <a:pt x="194" y="3"/>
                                                                </a:cubicBezTo>
                                                                <a:cubicBezTo>
                                                                  <a:pt x="206" y="0"/>
                                                                  <a:pt x="226" y="0"/>
                                                                  <a:pt x="234" y="0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06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4588200" y="5596560"/>
                                                            <a:ext cx="324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6065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4486680" y="5787720"/>
                                                          <a:ext cx="68040" cy="144720"/>
                                                          <a:chOff x="4486680" y="5787720"/>
                                                          <a:chExt cx="68040" cy="14472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6066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4521600" y="5788800"/>
                                                            <a:ext cx="32760" cy="14364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28" h="159">
                                                                <a:moveTo>
                                                                  <a:pt x="0" y="159"/>
                                                                </a:moveTo>
                                                                <a:cubicBezTo>
                                                                  <a:pt x="15" y="139"/>
                                                                  <a:pt x="30" y="120"/>
                                                                  <a:pt x="45" y="103"/>
                                                                </a:cubicBezTo>
                                                                <a:cubicBezTo>
                                                                  <a:pt x="60" y="86"/>
                                                                  <a:pt x="76" y="68"/>
                                                                  <a:pt x="90" y="54"/>
                                                                </a:cubicBezTo>
                                                                <a:cubicBezTo>
                                                                  <a:pt x="104" y="40"/>
                                                                  <a:pt x="118" y="30"/>
                                                                  <a:pt x="130" y="22"/>
                                                                </a:cubicBezTo>
                                                                <a:cubicBezTo>
                                                                  <a:pt x="142" y="14"/>
                                                                  <a:pt x="150" y="10"/>
                                                                  <a:pt x="162" y="7"/>
                                                                </a:cubicBezTo>
                                                                <a:cubicBezTo>
                                                                  <a:pt x="174" y="4"/>
                                                                  <a:pt x="191" y="2"/>
                                                                  <a:pt x="202" y="1"/>
                                                                </a:cubicBezTo>
                                                                <a:cubicBezTo>
                                                                  <a:pt x="213" y="0"/>
                                                                  <a:pt x="220" y="0"/>
                                                                  <a:pt x="228" y="1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067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4486680" y="5788080"/>
                                                            <a:ext cx="32760" cy="14400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28" h="159">
                                                                <a:moveTo>
                                                                  <a:pt x="0" y="159"/>
                                                                </a:moveTo>
                                                                <a:cubicBezTo>
                                                                  <a:pt x="15" y="139"/>
                                                                  <a:pt x="30" y="120"/>
                                                                  <a:pt x="45" y="103"/>
                                                                </a:cubicBezTo>
                                                                <a:cubicBezTo>
                                                                  <a:pt x="60" y="86"/>
                                                                  <a:pt x="76" y="68"/>
                                                                  <a:pt x="90" y="54"/>
                                                                </a:cubicBezTo>
                                                                <a:cubicBezTo>
                                                                  <a:pt x="104" y="40"/>
                                                                  <a:pt x="118" y="30"/>
                                                                  <a:pt x="130" y="22"/>
                                                                </a:cubicBezTo>
                                                                <a:cubicBezTo>
                                                                  <a:pt x="142" y="14"/>
                                                                  <a:pt x="150" y="10"/>
                                                                  <a:pt x="162" y="7"/>
                                                                </a:cubicBezTo>
                                                                <a:cubicBezTo>
                                                                  <a:pt x="174" y="4"/>
                                                                  <a:pt x="191" y="2"/>
                                                                  <a:pt x="202" y="1"/>
                                                                </a:cubicBezTo>
                                                                <a:cubicBezTo>
                                                                  <a:pt x="213" y="0"/>
                                                                  <a:pt x="220" y="0"/>
                                                                  <a:pt x="228" y="1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06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 flipV="1">
                                                            <a:off x="4518360" y="5787720"/>
                                                            <a:ext cx="4680" cy="252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4280" bIns="-44280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sp>
                                                      <p:nvSpPr>
                                                        <p:cNvPr id="6069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4624200" y="4603680"/>
                                                          <a:ext cx="69120" cy="1327680"/>
                                                        </a:xfrm>
                                                        <a:custGeom>
                                                          <a:avLst/>
                                                          <a:gdLst/>
                                                          <a:ahLst/>
                                                          <a:rect l="l" t="t" r="r" b="b"/>
                                                          <a:pathLst>
                                                            <a:path w="480" h="1467">
                                                              <a:moveTo>
                                                                <a:pt x="0" y="0"/>
                                                              </a:moveTo>
                                                              <a:cubicBezTo>
                                                                <a:pt x="17" y="2"/>
                                                                <a:pt x="34" y="4"/>
                                                                <a:pt x="51" y="6"/>
                                                              </a:cubicBezTo>
                                                              <a:cubicBezTo>
                                                                <a:pt x="68" y="8"/>
                                                                <a:pt x="88" y="10"/>
                                                                <a:pt x="102" y="15"/>
                                                              </a:cubicBezTo>
                                                              <a:cubicBezTo>
                                                                <a:pt x="116" y="20"/>
                                                                <a:pt x="122" y="23"/>
                                                                <a:pt x="135" y="33"/>
                                                              </a:cubicBezTo>
                                                              <a:cubicBezTo>
                                                                <a:pt x="148" y="43"/>
                                                                <a:pt x="167" y="56"/>
                                                                <a:pt x="180" y="78"/>
                                                              </a:cubicBezTo>
                                                              <a:cubicBezTo>
                                                                <a:pt x="193" y="100"/>
                                                                <a:pt x="204" y="120"/>
                                                                <a:pt x="216" y="165"/>
                                                              </a:cubicBezTo>
                                                              <a:cubicBezTo>
                                                                <a:pt x="228" y="210"/>
                                                                <a:pt x="211" y="131"/>
                                                                <a:pt x="255" y="348"/>
                                                              </a:cubicBezTo>
                                                              <a:cubicBezTo>
                                                                <a:pt x="299" y="565"/>
                                                                <a:pt x="389" y="1016"/>
                                                                <a:pt x="480" y="1467"/>
                                                              </a:cubicBezTo>
                                                            </a:path>
                                                          </a:pathLst>
                                                        </a:custGeom>
                                                        <a:noFill/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round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wrap="none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</p:grpSp>
                                                <p:grpSp>
                                                  <p:nvGrpSpPr>
                                                    <p:cNvPr id="6070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4901040" y="4606560"/>
                                                      <a:ext cx="414720" cy="1331640"/>
                                                      <a:chOff x="4901040" y="4606560"/>
                                                      <a:chExt cx="414720" cy="133164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6071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109120" y="4606560"/>
                                                        <a:ext cx="206640" cy="1331640"/>
                                                        <a:chOff x="5109120" y="4606560"/>
                                                        <a:chExt cx="206640" cy="133164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6072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178240" y="5600520"/>
                                                          <a:ext cx="69120" cy="337680"/>
                                                          <a:chOff x="5178240" y="5600520"/>
                                                          <a:chExt cx="69120" cy="33768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607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178240" y="5600520"/>
                                                            <a:ext cx="33840" cy="3376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34" h="373">
                                                                <a:moveTo>
                                                                  <a:pt x="0" y="373"/>
                                                                </a:moveTo>
                                                                <a:cubicBezTo>
                                                                  <a:pt x="4" y="357"/>
                                                                  <a:pt x="8" y="342"/>
                                                                  <a:pt x="15" y="319"/>
                                                                </a:cubicBezTo>
                                                                <a:cubicBezTo>
                                                                  <a:pt x="22" y="296"/>
                                                                  <a:pt x="34" y="260"/>
                                                                  <a:pt x="44" y="232"/>
                                                                </a:cubicBezTo>
                                                                <a:cubicBezTo>
                                                                  <a:pt x="54" y="204"/>
                                                                  <a:pt x="64" y="173"/>
                                                                  <a:pt x="74" y="150"/>
                                                                </a:cubicBezTo>
                                                                <a:cubicBezTo>
                                                                  <a:pt x="84" y="127"/>
                                                                  <a:pt x="91" y="111"/>
                                                                  <a:pt x="102" y="93"/>
                                                                </a:cubicBezTo>
                                                                <a:cubicBezTo>
                                                                  <a:pt x="113" y="75"/>
                                                                  <a:pt x="127" y="56"/>
                                                                  <a:pt x="137" y="43"/>
                                                                </a:cubicBezTo>
                                                                <a:cubicBezTo>
                                                                  <a:pt x="147" y="30"/>
                                                                  <a:pt x="155" y="23"/>
                                                                  <a:pt x="164" y="16"/>
                                                                </a:cubicBezTo>
                                                                <a:cubicBezTo>
                                                                  <a:pt x="173" y="9"/>
                                                                  <a:pt x="182" y="6"/>
                                                                  <a:pt x="194" y="3"/>
                                                                </a:cubicBezTo>
                                                                <a:cubicBezTo>
                                                                  <a:pt x="206" y="0"/>
                                                                  <a:pt x="226" y="0"/>
                                                                  <a:pt x="234" y="0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07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213520" y="5600520"/>
                                                            <a:ext cx="33840" cy="3376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34" h="373">
                                                                <a:moveTo>
                                                                  <a:pt x="0" y="373"/>
                                                                </a:moveTo>
                                                                <a:cubicBezTo>
                                                                  <a:pt x="4" y="357"/>
                                                                  <a:pt x="8" y="342"/>
                                                                  <a:pt x="15" y="319"/>
                                                                </a:cubicBezTo>
                                                                <a:cubicBezTo>
                                                                  <a:pt x="22" y="296"/>
                                                                  <a:pt x="34" y="260"/>
                                                                  <a:pt x="44" y="232"/>
                                                                </a:cubicBezTo>
                                                                <a:cubicBezTo>
                                                                  <a:pt x="54" y="204"/>
                                                                  <a:pt x="64" y="173"/>
                                                                  <a:pt x="74" y="150"/>
                                                                </a:cubicBezTo>
                                                                <a:cubicBezTo>
                                                                  <a:pt x="84" y="127"/>
                                                                  <a:pt x="91" y="111"/>
                                                                  <a:pt x="102" y="93"/>
                                                                </a:cubicBezTo>
                                                                <a:cubicBezTo>
                                                                  <a:pt x="113" y="75"/>
                                                                  <a:pt x="127" y="56"/>
                                                                  <a:pt x="137" y="43"/>
                                                                </a:cubicBezTo>
                                                                <a:cubicBezTo>
                                                                  <a:pt x="147" y="30"/>
                                                                  <a:pt x="155" y="23"/>
                                                                  <a:pt x="164" y="16"/>
                                                                </a:cubicBezTo>
                                                                <a:cubicBezTo>
                                                                  <a:pt x="173" y="9"/>
                                                                  <a:pt x="182" y="6"/>
                                                                  <a:pt x="194" y="3"/>
                                                                </a:cubicBezTo>
                                                                <a:cubicBezTo>
                                                                  <a:pt x="206" y="0"/>
                                                                  <a:pt x="226" y="0"/>
                                                                  <a:pt x="234" y="0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07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211000" y="5600520"/>
                                                            <a:ext cx="324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6076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247720" y="5792760"/>
                                                          <a:ext cx="68040" cy="144720"/>
                                                          <a:chOff x="5247720" y="5792760"/>
                                                          <a:chExt cx="68040" cy="14472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6077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247720" y="5793480"/>
                                                            <a:ext cx="32760" cy="14400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28" h="159">
                                                                <a:moveTo>
                                                                  <a:pt x="0" y="159"/>
                                                                </a:moveTo>
                                                                <a:cubicBezTo>
                                                                  <a:pt x="15" y="139"/>
                                                                  <a:pt x="30" y="120"/>
                                                                  <a:pt x="45" y="103"/>
                                                                </a:cubicBezTo>
                                                                <a:cubicBezTo>
                                                                  <a:pt x="60" y="86"/>
                                                                  <a:pt x="76" y="68"/>
                                                                  <a:pt x="90" y="54"/>
                                                                </a:cubicBezTo>
                                                                <a:cubicBezTo>
                                                                  <a:pt x="104" y="40"/>
                                                                  <a:pt x="118" y="30"/>
                                                                  <a:pt x="130" y="22"/>
                                                                </a:cubicBezTo>
                                                                <a:cubicBezTo>
                                                                  <a:pt x="142" y="14"/>
                                                                  <a:pt x="150" y="10"/>
                                                                  <a:pt x="162" y="7"/>
                                                                </a:cubicBezTo>
                                                                <a:cubicBezTo>
                                                                  <a:pt x="174" y="4"/>
                                                                  <a:pt x="191" y="2"/>
                                                                  <a:pt x="202" y="1"/>
                                                                </a:cubicBezTo>
                                                                <a:cubicBezTo>
                                                                  <a:pt x="213" y="0"/>
                                                                  <a:pt x="220" y="0"/>
                                                                  <a:pt x="228" y="1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07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282640" y="5792760"/>
                                                            <a:ext cx="32760" cy="14436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28" h="159">
                                                                <a:moveTo>
                                                                  <a:pt x="0" y="159"/>
                                                                </a:moveTo>
                                                                <a:cubicBezTo>
                                                                  <a:pt x="15" y="139"/>
                                                                  <a:pt x="30" y="120"/>
                                                                  <a:pt x="45" y="103"/>
                                                                </a:cubicBezTo>
                                                                <a:cubicBezTo>
                                                                  <a:pt x="60" y="86"/>
                                                                  <a:pt x="76" y="68"/>
                                                                  <a:pt x="90" y="54"/>
                                                                </a:cubicBezTo>
                                                                <a:cubicBezTo>
                                                                  <a:pt x="104" y="40"/>
                                                                  <a:pt x="118" y="30"/>
                                                                  <a:pt x="130" y="22"/>
                                                                </a:cubicBezTo>
                                                                <a:cubicBezTo>
                                                                  <a:pt x="142" y="14"/>
                                                                  <a:pt x="150" y="10"/>
                                                                  <a:pt x="162" y="7"/>
                                                                </a:cubicBezTo>
                                                                <a:cubicBezTo>
                                                                  <a:pt x="174" y="4"/>
                                                                  <a:pt x="191" y="2"/>
                                                                  <a:pt x="202" y="1"/>
                                                                </a:cubicBezTo>
                                                                <a:cubicBezTo>
                                                                  <a:pt x="213" y="0"/>
                                                                  <a:pt x="220" y="0"/>
                                                                  <a:pt x="228" y="1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079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5279400" y="5792760"/>
                                                            <a:ext cx="4680" cy="288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3920" bIns="-43920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sp>
                                                      <p:nvSpPr>
                                                        <p:cNvPr id="6080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5109120" y="4606560"/>
                                                          <a:ext cx="69120" cy="1329480"/>
                                                        </a:xfrm>
                                                        <a:custGeom>
                                                          <a:avLst/>
                                                          <a:gdLst/>
                                                          <a:ahLst/>
                                                          <a:rect l="l" t="t" r="r" b="b"/>
                                                          <a:pathLst>
                                                            <a:path w="480" h="1467">
                                                              <a:moveTo>
                                                                <a:pt x="0" y="0"/>
                                                              </a:moveTo>
                                                              <a:cubicBezTo>
                                                                <a:pt x="17" y="2"/>
                                                                <a:pt x="34" y="4"/>
                                                                <a:pt x="51" y="6"/>
                                                              </a:cubicBezTo>
                                                              <a:cubicBezTo>
                                                                <a:pt x="68" y="8"/>
                                                                <a:pt x="88" y="10"/>
                                                                <a:pt x="102" y="15"/>
                                                              </a:cubicBezTo>
                                                              <a:cubicBezTo>
                                                                <a:pt x="116" y="20"/>
                                                                <a:pt x="122" y="23"/>
                                                                <a:pt x="135" y="33"/>
                                                              </a:cubicBezTo>
                                                              <a:cubicBezTo>
                                                                <a:pt x="148" y="43"/>
                                                                <a:pt x="167" y="56"/>
                                                                <a:pt x="180" y="78"/>
                                                              </a:cubicBezTo>
                                                              <a:cubicBezTo>
                                                                <a:pt x="193" y="100"/>
                                                                <a:pt x="204" y="120"/>
                                                                <a:pt x="216" y="165"/>
                                                              </a:cubicBezTo>
                                                              <a:cubicBezTo>
                                                                <a:pt x="228" y="210"/>
                                                                <a:pt x="211" y="131"/>
                                                                <a:pt x="255" y="348"/>
                                                              </a:cubicBezTo>
                                                              <a:cubicBezTo>
                                                                <a:pt x="299" y="565"/>
                                                                <a:pt x="389" y="1016"/>
                                                                <a:pt x="480" y="1467"/>
                                                              </a:cubicBezTo>
                                                            </a:path>
                                                          </a:pathLst>
                                                        </a:custGeom>
                                                        <a:noFill/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round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wrap="none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grpSp>
                                                    <p:nvGrpSpPr>
                                                      <p:cNvPr id="6081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4901040" y="4606560"/>
                                                        <a:ext cx="206640" cy="1331640"/>
                                                        <a:chOff x="4901040" y="4606560"/>
                                                        <a:chExt cx="206640" cy="133164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6082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4969440" y="5600520"/>
                                                          <a:ext cx="69120" cy="337680"/>
                                                          <a:chOff x="4969440" y="5600520"/>
                                                          <a:chExt cx="69120" cy="33768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608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004720" y="5600520"/>
                                                            <a:ext cx="33840" cy="3376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34" h="373">
                                                                <a:moveTo>
                                                                  <a:pt x="0" y="373"/>
                                                                </a:moveTo>
                                                                <a:cubicBezTo>
                                                                  <a:pt x="4" y="357"/>
                                                                  <a:pt x="8" y="342"/>
                                                                  <a:pt x="15" y="319"/>
                                                                </a:cubicBezTo>
                                                                <a:cubicBezTo>
                                                                  <a:pt x="22" y="296"/>
                                                                  <a:pt x="34" y="260"/>
                                                                  <a:pt x="44" y="232"/>
                                                                </a:cubicBezTo>
                                                                <a:cubicBezTo>
                                                                  <a:pt x="54" y="204"/>
                                                                  <a:pt x="64" y="173"/>
                                                                  <a:pt x="74" y="150"/>
                                                                </a:cubicBezTo>
                                                                <a:cubicBezTo>
                                                                  <a:pt x="84" y="127"/>
                                                                  <a:pt x="91" y="111"/>
                                                                  <a:pt x="102" y="93"/>
                                                                </a:cubicBezTo>
                                                                <a:cubicBezTo>
                                                                  <a:pt x="113" y="75"/>
                                                                  <a:pt x="127" y="56"/>
                                                                  <a:pt x="137" y="43"/>
                                                                </a:cubicBezTo>
                                                                <a:cubicBezTo>
                                                                  <a:pt x="147" y="30"/>
                                                                  <a:pt x="155" y="23"/>
                                                                  <a:pt x="164" y="16"/>
                                                                </a:cubicBezTo>
                                                                <a:cubicBezTo>
                                                                  <a:pt x="173" y="9"/>
                                                                  <a:pt x="182" y="6"/>
                                                                  <a:pt x="194" y="3"/>
                                                                </a:cubicBezTo>
                                                                <a:cubicBezTo>
                                                                  <a:pt x="206" y="0"/>
                                                                  <a:pt x="226" y="0"/>
                                                                  <a:pt x="234" y="0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08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4969440" y="5600520"/>
                                                            <a:ext cx="33840" cy="3376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34" h="373">
                                                                <a:moveTo>
                                                                  <a:pt x="0" y="373"/>
                                                                </a:moveTo>
                                                                <a:cubicBezTo>
                                                                  <a:pt x="4" y="357"/>
                                                                  <a:pt x="8" y="342"/>
                                                                  <a:pt x="15" y="319"/>
                                                                </a:cubicBezTo>
                                                                <a:cubicBezTo>
                                                                  <a:pt x="22" y="296"/>
                                                                  <a:pt x="34" y="260"/>
                                                                  <a:pt x="44" y="232"/>
                                                                </a:cubicBezTo>
                                                                <a:cubicBezTo>
                                                                  <a:pt x="54" y="204"/>
                                                                  <a:pt x="64" y="173"/>
                                                                  <a:pt x="74" y="150"/>
                                                                </a:cubicBezTo>
                                                                <a:cubicBezTo>
                                                                  <a:pt x="84" y="127"/>
                                                                  <a:pt x="91" y="111"/>
                                                                  <a:pt x="102" y="93"/>
                                                                </a:cubicBezTo>
                                                                <a:cubicBezTo>
                                                                  <a:pt x="113" y="75"/>
                                                                  <a:pt x="127" y="56"/>
                                                                  <a:pt x="137" y="43"/>
                                                                </a:cubicBezTo>
                                                                <a:cubicBezTo>
                                                                  <a:pt x="147" y="30"/>
                                                                  <a:pt x="155" y="23"/>
                                                                  <a:pt x="164" y="16"/>
                                                                </a:cubicBezTo>
                                                                <a:cubicBezTo>
                                                                  <a:pt x="173" y="9"/>
                                                                  <a:pt x="182" y="6"/>
                                                                  <a:pt x="194" y="3"/>
                                                                </a:cubicBezTo>
                                                                <a:cubicBezTo>
                                                                  <a:pt x="206" y="0"/>
                                                                  <a:pt x="226" y="0"/>
                                                                  <a:pt x="234" y="0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08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002560" y="5600520"/>
                                                            <a:ext cx="324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6086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4901040" y="5792760"/>
                                                          <a:ext cx="68040" cy="144720"/>
                                                          <a:chOff x="4901040" y="5792760"/>
                                                          <a:chExt cx="68040" cy="14472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6087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4935960" y="5793480"/>
                                                            <a:ext cx="32760" cy="14400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28" h="159">
                                                                <a:moveTo>
                                                                  <a:pt x="0" y="159"/>
                                                                </a:moveTo>
                                                                <a:cubicBezTo>
                                                                  <a:pt x="15" y="139"/>
                                                                  <a:pt x="30" y="120"/>
                                                                  <a:pt x="45" y="103"/>
                                                                </a:cubicBezTo>
                                                                <a:cubicBezTo>
                                                                  <a:pt x="60" y="86"/>
                                                                  <a:pt x="76" y="68"/>
                                                                  <a:pt x="90" y="54"/>
                                                                </a:cubicBezTo>
                                                                <a:cubicBezTo>
                                                                  <a:pt x="104" y="40"/>
                                                                  <a:pt x="118" y="30"/>
                                                                  <a:pt x="130" y="22"/>
                                                                </a:cubicBezTo>
                                                                <a:cubicBezTo>
                                                                  <a:pt x="142" y="14"/>
                                                                  <a:pt x="150" y="10"/>
                                                                  <a:pt x="162" y="7"/>
                                                                </a:cubicBezTo>
                                                                <a:cubicBezTo>
                                                                  <a:pt x="174" y="4"/>
                                                                  <a:pt x="191" y="2"/>
                                                                  <a:pt x="202" y="1"/>
                                                                </a:cubicBezTo>
                                                                <a:cubicBezTo>
                                                                  <a:pt x="213" y="0"/>
                                                                  <a:pt x="220" y="0"/>
                                                                  <a:pt x="228" y="1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08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4901040" y="5792760"/>
                                                            <a:ext cx="32760" cy="14436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28" h="159">
                                                                <a:moveTo>
                                                                  <a:pt x="0" y="159"/>
                                                                </a:moveTo>
                                                                <a:cubicBezTo>
                                                                  <a:pt x="15" y="139"/>
                                                                  <a:pt x="30" y="120"/>
                                                                  <a:pt x="45" y="103"/>
                                                                </a:cubicBezTo>
                                                                <a:cubicBezTo>
                                                                  <a:pt x="60" y="86"/>
                                                                  <a:pt x="76" y="68"/>
                                                                  <a:pt x="90" y="54"/>
                                                                </a:cubicBezTo>
                                                                <a:cubicBezTo>
                                                                  <a:pt x="104" y="40"/>
                                                                  <a:pt x="118" y="30"/>
                                                                  <a:pt x="130" y="22"/>
                                                                </a:cubicBezTo>
                                                                <a:cubicBezTo>
                                                                  <a:pt x="142" y="14"/>
                                                                  <a:pt x="150" y="10"/>
                                                                  <a:pt x="162" y="7"/>
                                                                </a:cubicBezTo>
                                                                <a:cubicBezTo>
                                                                  <a:pt x="174" y="4"/>
                                                                  <a:pt x="191" y="2"/>
                                                                  <a:pt x="202" y="1"/>
                                                                </a:cubicBezTo>
                                                                <a:cubicBezTo>
                                                                  <a:pt x="213" y="0"/>
                                                                  <a:pt x="220" y="0"/>
                                                                  <a:pt x="228" y="1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089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 flipV="1">
                                                            <a:off x="4932720" y="5792760"/>
                                                            <a:ext cx="4680" cy="288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3920" bIns="-43920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sp>
                                                      <p:nvSpPr>
                                                        <p:cNvPr id="6090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5038560" y="4606560"/>
                                                          <a:ext cx="69120" cy="1329480"/>
                                                        </a:xfrm>
                                                        <a:custGeom>
                                                          <a:avLst/>
                                                          <a:gdLst/>
                                                          <a:ahLst/>
                                                          <a:rect l="l" t="t" r="r" b="b"/>
                                                          <a:pathLst>
                                                            <a:path w="480" h="1467">
                                                              <a:moveTo>
                                                                <a:pt x="0" y="0"/>
                                                              </a:moveTo>
                                                              <a:cubicBezTo>
                                                                <a:pt x="17" y="2"/>
                                                                <a:pt x="34" y="4"/>
                                                                <a:pt x="51" y="6"/>
                                                              </a:cubicBezTo>
                                                              <a:cubicBezTo>
                                                                <a:pt x="68" y="8"/>
                                                                <a:pt x="88" y="10"/>
                                                                <a:pt x="102" y="15"/>
                                                              </a:cubicBezTo>
                                                              <a:cubicBezTo>
                                                                <a:pt x="116" y="20"/>
                                                                <a:pt x="122" y="23"/>
                                                                <a:pt x="135" y="33"/>
                                                              </a:cubicBezTo>
                                                              <a:cubicBezTo>
                                                                <a:pt x="148" y="43"/>
                                                                <a:pt x="167" y="56"/>
                                                                <a:pt x="180" y="78"/>
                                                              </a:cubicBezTo>
                                                              <a:cubicBezTo>
                                                                <a:pt x="193" y="100"/>
                                                                <a:pt x="204" y="120"/>
                                                                <a:pt x="216" y="165"/>
                                                              </a:cubicBezTo>
                                                              <a:cubicBezTo>
                                                                <a:pt x="228" y="210"/>
                                                                <a:pt x="211" y="131"/>
                                                                <a:pt x="255" y="348"/>
                                                              </a:cubicBezTo>
                                                              <a:cubicBezTo>
                                                                <a:pt x="299" y="565"/>
                                                                <a:pt x="389" y="1016"/>
                                                                <a:pt x="480" y="1467"/>
                                                              </a:cubicBezTo>
                                                            </a:path>
                                                          </a:pathLst>
                                                        </a:custGeom>
                                                        <a:noFill/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round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wrap="none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</p:grpSp>
                                                <p:grpSp>
                                                  <p:nvGrpSpPr>
                                                    <p:cNvPr id="6091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247360" y="4606560"/>
                                                      <a:ext cx="414360" cy="1331640"/>
                                                      <a:chOff x="5247360" y="4606560"/>
                                                      <a:chExt cx="414360" cy="133164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6092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455080" y="4606560"/>
                                                        <a:ext cx="206640" cy="1331640"/>
                                                        <a:chOff x="5455080" y="4606560"/>
                                                        <a:chExt cx="206640" cy="133164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6093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524200" y="5600520"/>
                                                          <a:ext cx="69120" cy="337680"/>
                                                          <a:chOff x="5524200" y="5600520"/>
                                                          <a:chExt cx="69120" cy="33768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609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524200" y="5600520"/>
                                                            <a:ext cx="33840" cy="3376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34" h="373">
                                                                <a:moveTo>
                                                                  <a:pt x="0" y="373"/>
                                                                </a:moveTo>
                                                                <a:cubicBezTo>
                                                                  <a:pt x="4" y="357"/>
                                                                  <a:pt x="8" y="342"/>
                                                                  <a:pt x="15" y="319"/>
                                                                </a:cubicBezTo>
                                                                <a:cubicBezTo>
                                                                  <a:pt x="22" y="296"/>
                                                                  <a:pt x="34" y="260"/>
                                                                  <a:pt x="44" y="232"/>
                                                                </a:cubicBezTo>
                                                                <a:cubicBezTo>
                                                                  <a:pt x="54" y="204"/>
                                                                  <a:pt x="64" y="173"/>
                                                                  <a:pt x="74" y="150"/>
                                                                </a:cubicBezTo>
                                                                <a:cubicBezTo>
                                                                  <a:pt x="84" y="127"/>
                                                                  <a:pt x="91" y="111"/>
                                                                  <a:pt x="102" y="93"/>
                                                                </a:cubicBezTo>
                                                                <a:cubicBezTo>
                                                                  <a:pt x="113" y="75"/>
                                                                  <a:pt x="127" y="56"/>
                                                                  <a:pt x="137" y="43"/>
                                                                </a:cubicBezTo>
                                                                <a:cubicBezTo>
                                                                  <a:pt x="147" y="30"/>
                                                                  <a:pt x="155" y="23"/>
                                                                  <a:pt x="164" y="16"/>
                                                                </a:cubicBezTo>
                                                                <a:cubicBezTo>
                                                                  <a:pt x="173" y="9"/>
                                                                  <a:pt x="182" y="6"/>
                                                                  <a:pt x="194" y="3"/>
                                                                </a:cubicBezTo>
                                                                <a:cubicBezTo>
                                                                  <a:pt x="206" y="0"/>
                                                                  <a:pt x="226" y="0"/>
                                                                  <a:pt x="234" y="0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09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559480" y="5600520"/>
                                                            <a:ext cx="33840" cy="3376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34" h="373">
                                                                <a:moveTo>
                                                                  <a:pt x="0" y="373"/>
                                                                </a:moveTo>
                                                                <a:cubicBezTo>
                                                                  <a:pt x="4" y="357"/>
                                                                  <a:pt x="8" y="342"/>
                                                                  <a:pt x="15" y="319"/>
                                                                </a:cubicBezTo>
                                                                <a:cubicBezTo>
                                                                  <a:pt x="22" y="296"/>
                                                                  <a:pt x="34" y="260"/>
                                                                  <a:pt x="44" y="232"/>
                                                                </a:cubicBezTo>
                                                                <a:cubicBezTo>
                                                                  <a:pt x="54" y="204"/>
                                                                  <a:pt x="64" y="173"/>
                                                                  <a:pt x="74" y="150"/>
                                                                </a:cubicBezTo>
                                                                <a:cubicBezTo>
                                                                  <a:pt x="84" y="127"/>
                                                                  <a:pt x="91" y="111"/>
                                                                  <a:pt x="102" y="93"/>
                                                                </a:cubicBezTo>
                                                                <a:cubicBezTo>
                                                                  <a:pt x="113" y="75"/>
                                                                  <a:pt x="127" y="56"/>
                                                                  <a:pt x="137" y="43"/>
                                                                </a:cubicBezTo>
                                                                <a:cubicBezTo>
                                                                  <a:pt x="147" y="30"/>
                                                                  <a:pt x="155" y="23"/>
                                                                  <a:pt x="164" y="16"/>
                                                                </a:cubicBezTo>
                                                                <a:cubicBezTo>
                                                                  <a:pt x="173" y="9"/>
                                                                  <a:pt x="182" y="6"/>
                                                                  <a:pt x="194" y="3"/>
                                                                </a:cubicBezTo>
                                                                <a:cubicBezTo>
                                                                  <a:pt x="206" y="0"/>
                                                                  <a:pt x="226" y="0"/>
                                                                  <a:pt x="234" y="0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096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556960" y="5600520"/>
                                                            <a:ext cx="324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6097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593680" y="5792760"/>
                                                          <a:ext cx="68040" cy="144720"/>
                                                          <a:chOff x="5593680" y="5792760"/>
                                                          <a:chExt cx="68040" cy="14472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609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593680" y="5793480"/>
                                                            <a:ext cx="32760" cy="14400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28" h="159">
                                                                <a:moveTo>
                                                                  <a:pt x="0" y="159"/>
                                                                </a:moveTo>
                                                                <a:cubicBezTo>
                                                                  <a:pt x="15" y="139"/>
                                                                  <a:pt x="30" y="120"/>
                                                                  <a:pt x="45" y="103"/>
                                                                </a:cubicBezTo>
                                                                <a:cubicBezTo>
                                                                  <a:pt x="60" y="86"/>
                                                                  <a:pt x="76" y="68"/>
                                                                  <a:pt x="90" y="54"/>
                                                                </a:cubicBezTo>
                                                                <a:cubicBezTo>
                                                                  <a:pt x="104" y="40"/>
                                                                  <a:pt x="118" y="30"/>
                                                                  <a:pt x="130" y="22"/>
                                                                </a:cubicBezTo>
                                                                <a:cubicBezTo>
                                                                  <a:pt x="142" y="14"/>
                                                                  <a:pt x="150" y="10"/>
                                                                  <a:pt x="162" y="7"/>
                                                                </a:cubicBezTo>
                                                                <a:cubicBezTo>
                                                                  <a:pt x="174" y="4"/>
                                                                  <a:pt x="191" y="2"/>
                                                                  <a:pt x="202" y="1"/>
                                                                </a:cubicBezTo>
                                                                <a:cubicBezTo>
                                                                  <a:pt x="213" y="0"/>
                                                                  <a:pt x="220" y="0"/>
                                                                  <a:pt x="228" y="1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099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628600" y="5792760"/>
                                                            <a:ext cx="32760" cy="14436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28" h="159">
                                                                <a:moveTo>
                                                                  <a:pt x="0" y="159"/>
                                                                </a:moveTo>
                                                                <a:cubicBezTo>
                                                                  <a:pt x="15" y="139"/>
                                                                  <a:pt x="30" y="120"/>
                                                                  <a:pt x="45" y="103"/>
                                                                </a:cubicBezTo>
                                                                <a:cubicBezTo>
                                                                  <a:pt x="60" y="86"/>
                                                                  <a:pt x="76" y="68"/>
                                                                  <a:pt x="90" y="54"/>
                                                                </a:cubicBezTo>
                                                                <a:cubicBezTo>
                                                                  <a:pt x="104" y="40"/>
                                                                  <a:pt x="118" y="30"/>
                                                                  <a:pt x="130" y="22"/>
                                                                </a:cubicBezTo>
                                                                <a:cubicBezTo>
                                                                  <a:pt x="142" y="14"/>
                                                                  <a:pt x="150" y="10"/>
                                                                  <a:pt x="162" y="7"/>
                                                                </a:cubicBezTo>
                                                                <a:cubicBezTo>
                                                                  <a:pt x="174" y="4"/>
                                                                  <a:pt x="191" y="2"/>
                                                                  <a:pt x="202" y="1"/>
                                                                </a:cubicBezTo>
                                                                <a:cubicBezTo>
                                                                  <a:pt x="213" y="0"/>
                                                                  <a:pt x="220" y="0"/>
                                                                  <a:pt x="228" y="1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100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5625360" y="5792760"/>
                                                            <a:ext cx="4680" cy="288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3920" bIns="-43920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sp>
                                                      <p:nvSpPr>
                                                        <p:cNvPr id="6101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5455080" y="4606560"/>
                                                          <a:ext cx="69120" cy="1329480"/>
                                                        </a:xfrm>
                                                        <a:custGeom>
                                                          <a:avLst/>
                                                          <a:gdLst/>
                                                          <a:ahLst/>
                                                          <a:rect l="l" t="t" r="r" b="b"/>
                                                          <a:pathLst>
                                                            <a:path w="480" h="1467">
                                                              <a:moveTo>
                                                                <a:pt x="0" y="0"/>
                                                              </a:moveTo>
                                                              <a:cubicBezTo>
                                                                <a:pt x="17" y="2"/>
                                                                <a:pt x="34" y="4"/>
                                                                <a:pt x="51" y="6"/>
                                                              </a:cubicBezTo>
                                                              <a:cubicBezTo>
                                                                <a:pt x="68" y="8"/>
                                                                <a:pt x="88" y="10"/>
                                                                <a:pt x="102" y="15"/>
                                                              </a:cubicBezTo>
                                                              <a:cubicBezTo>
                                                                <a:pt x="116" y="20"/>
                                                                <a:pt x="122" y="23"/>
                                                                <a:pt x="135" y="33"/>
                                                              </a:cubicBezTo>
                                                              <a:cubicBezTo>
                                                                <a:pt x="148" y="43"/>
                                                                <a:pt x="167" y="56"/>
                                                                <a:pt x="180" y="78"/>
                                                              </a:cubicBezTo>
                                                              <a:cubicBezTo>
                                                                <a:pt x="193" y="100"/>
                                                                <a:pt x="204" y="120"/>
                                                                <a:pt x="216" y="165"/>
                                                              </a:cubicBezTo>
                                                              <a:cubicBezTo>
                                                                <a:pt x="228" y="210"/>
                                                                <a:pt x="211" y="131"/>
                                                                <a:pt x="255" y="348"/>
                                                              </a:cubicBezTo>
                                                              <a:cubicBezTo>
                                                                <a:pt x="299" y="565"/>
                                                                <a:pt x="389" y="1016"/>
                                                                <a:pt x="480" y="1467"/>
                                                              </a:cubicBezTo>
                                                            </a:path>
                                                          </a:pathLst>
                                                        </a:custGeom>
                                                        <a:noFill/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round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wrap="none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grpSp>
                                                    <p:nvGrpSpPr>
                                                      <p:cNvPr id="6102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247360" y="4606560"/>
                                                        <a:ext cx="206640" cy="1331640"/>
                                                        <a:chOff x="5247360" y="4606560"/>
                                                        <a:chExt cx="206640" cy="133164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6103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315760" y="5600520"/>
                                                          <a:ext cx="69120" cy="337680"/>
                                                          <a:chOff x="5315760" y="5600520"/>
                                                          <a:chExt cx="69120" cy="33768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610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351040" y="5600520"/>
                                                            <a:ext cx="33840" cy="3376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34" h="373">
                                                                <a:moveTo>
                                                                  <a:pt x="0" y="373"/>
                                                                </a:moveTo>
                                                                <a:cubicBezTo>
                                                                  <a:pt x="4" y="357"/>
                                                                  <a:pt x="8" y="342"/>
                                                                  <a:pt x="15" y="319"/>
                                                                </a:cubicBezTo>
                                                                <a:cubicBezTo>
                                                                  <a:pt x="22" y="296"/>
                                                                  <a:pt x="34" y="260"/>
                                                                  <a:pt x="44" y="232"/>
                                                                </a:cubicBezTo>
                                                                <a:cubicBezTo>
                                                                  <a:pt x="54" y="204"/>
                                                                  <a:pt x="64" y="173"/>
                                                                  <a:pt x="74" y="150"/>
                                                                </a:cubicBezTo>
                                                                <a:cubicBezTo>
                                                                  <a:pt x="84" y="127"/>
                                                                  <a:pt x="91" y="111"/>
                                                                  <a:pt x="102" y="93"/>
                                                                </a:cubicBezTo>
                                                                <a:cubicBezTo>
                                                                  <a:pt x="113" y="75"/>
                                                                  <a:pt x="127" y="56"/>
                                                                  <a:pt x="137" y="43"/>
                                                                </a:cubicBezTo>
                                                                <a:cubicBezTo>
                                                                  <a:pt x="147" y="30"/>
                                                                  <a:pt x="155" y="23"/>
                                                                  <a:pt x="164" y="16"/>
                                                                </a:cubicBezTo>
                                                                <a:cubicBezTo>
                                                                  <a:pt x="173" y="9"/>
                                                                  <a:pt x="182" y="6"/>
                                                                  <a:pt x="194" y="3"/>
                                                                </a:cubicBezTo>
                                                                <a:cubicBezTo>
                                                                  <a:pt x="206" y="0"/>
                                                                  <a:pt x="226" y="0"/>
                                                                  <a:pt x="234" y="0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10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315760" y="5600520"/>
                                                            <a:ext cx="33840" cy="3376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34" h="373">
                                                                <a:moveTo>
                                                                  <a:pt x="0" y="373"/>
                                                                </a:moveTo>
                                                                <a:cubicBezTo>
                                                                  <a:pt x="4" y="357"/>
                                                                  <a:pt x="8" y="342"/>
                                                                  <a:pt x="15" y="319"/>
                                                                </a:cubicBezTo>
                                                                <a:cubicBezTo>
                                                                  <a:pt x="22" y="296"/>
                                                                  <a:pt x="34" y="260"/>
                                                                  <a:pt x="44" y="232"/>
                                                                </a:cubicBezTo>
                                                                <a:cubicBezTo>
                                                                  <a:pt x="54" y="204"/>
                                                                  <a:pt x="64" y="173"/>
                                                                  <a:pt x="74" y="150"/>
                                                                </a:cubicBezTo>
                                                                <a:cubicBezTo>
                                                                  <a:pt x="84" y="127"/>
                                                                  <a:pt x="91" y="111"/>
                                                                  <a:pt x="102" y="93"/>
                                                                </a:cubicBezTo>
                                                                <a:cubicBezTo>
                                                                  <a:pt x="113" y="75"/>
                                                                  <a:pt x="127" y="56"/>
                                                                  <a:pt x="137" y="43"/>
                                                                </a:cubicBezTo>
                                                                <a:cubicBezTo>
                                                                  <a:pt x="147" y="30"/>
                                                                  <a:pt x="155" y="23"/>
                                                                  <a:pt x="164" y="16"/>
                                                                </a:cubicBezTo>
                                                                <a:cubicBezTo>
                                                                  <a:pt x="173" y="9"/>
                                                                  <a:pt x="182" y="6"/>
                                                                  <a:pt x="194" y="3"/>
                                                                </a:cubicBezTo>
                                                                <a:cubicBezTo>
                                                                  <a:pt x="206" y="0"/>
                                                                  <a:pt x="226" y="0"/>
                                                                  <a:pt x="234" y="0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106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348880" y="5600520"/>
                                                            <a:ext cx="324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6107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247360" y="5792760"/>
                                                          <a:ext cx="68040" cy="144720"/>
                                                          <a:chOff x="5247360" y="5792760"/>
                                                          <a:chExt cx="68040" cy="14472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610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282280" y="5793480"/>
                                                            <a:ext cx="32760" cy="14400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28" h="159">
                                                                <a:moveTo>
                                                                  <a:pt x="0" y="159"/>
                                                                </a:moveTo>
                                                                <a:cubicBezTo>
                                                                  <a:pt x="15" y="139"/>
                                                                  <a:pt x="30" y="120"/>
                                                                  <a:pt x="45" y="103"/>
                                                                </a:cubicBezTo>
                                                                <a:cubicBezTo>
                                                                  <a:pt x="60" y="86"/>
                                                                  <a:pt x="76" y="68"/>
                                                                  <a:pt x="90" y="54"/>
                                                                </a:cubicBezTo>
                                                                <a:cubicBezTo>
                                                                  <a:pt x="104" y="40"/>
                                                                  <a:pt x="118" y="30"/>
                                                                  <a:pt x="130" y="22"/>
                                                                </a:cubicBezTo>
                                                                <a:cubicBezTo>
                                                                  <a:pt x="142" y="14"/>
                                                                  <a:pt x="150" y="10"/>
                                                                  <a:pt x="162" y="7"/>
                                                                </a:cubicBezTo>
                                                                <a:cubicBezTo>
                                                                  <a:pt x="174" y="4"/>
                                                                  <a:pt x="191" y="2"/>
                                                                  <a:pt x="202" y="1"/>
                                                                </a:cubicBezTo>
                                                                <a:cubicBezTo>
                                                                  <a:pt x="213" y="0"/>
                                                                  <a:pt x="220" y="0"/>
                                                                  <a:pt x="228" y="1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109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247360" y="5792760"/>
                                                            <a:ext cx="32760" cy="14436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228" h="159">
                                                                <a:moveTo>
                                                                  <a:pt x="0" y="159"/>
                                                                </a:moveTo>
                                                                <a:cubicBezTo>
                                                                  <a:pt x="15" y="139"/>
                                                                  <a:pt x="30" y="120"/>
                                                                  <a:pt x="45" y="103"/>
                                                                </a:cubicBezTo>
                                                                <a:cubicBezTo>
                                                                  <a:pt x="60" y="86"/>
                                                                  <a:pt x="76" y="68"/>
                                                                  <a:pt x="90" y="54"/>
                                                                </a:cubicBezTo>
                                                                <a:cubicBezTo>
                                                                  <a:pt x="104" y="40"/>
                                                                  <a:pt x="118" y="30"/>
                                                                  <a:pt x="130" y="22"/>
                                                                </a:cubicBezTo>
                                                                <a:cubicBezTo>
                                                                  <a:pt x="142" y="14"/>
                                                                  <a:pt x="150" y="10"/>
                                                                  <a:pt x="162" y="7"/>
                                                                </a:cubicBezTo>
                                                                <a:cubicBezTo>
                                                                  <a:pt x="174" y="4"/>
                                                                  <a:pt x="191" y="2"/>
                                                                  <a:pt x="202" y="1"/>
                                                                </a:cubicBezTo>
                                                                <a:cubicBezTo>
                                                                  <a:pt x="213" y="0"/>
                                                                  <a:pt x="220" y="0"/>
                                                                  <a:pt x="228" y="1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6110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 flipV="1">
                                                            <a:off x="5279040" y="5792760"/>
                                                            <a:ext cx="4680" cy="288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3920" bIns="-43920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sp>
                                                      <p:nvSpPr>
                                                        <p:cNvPr id="6111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5384880" y="4606560"/>
                                                          <a:ext cx="69120" cy="1329480"/>
                                                        </a:xfrm>
                                                        <a:custGeom>
                                                          <a:avLst/>
                                                          <a:gdLst/>
                                                          <a:ahLst/>
                                                          <a:rect l="l" t="t" r="r" b="b"/>
                                                          <a:pathLst>
                                                            <a:path w="480" h="1467">
                                                              <a:moveTo>
                                                                <a:pt x="0" y="0"/>
                                                              </a:moveTo>
                                                              <a:cubicBezTo>
                                                                <a:pt x="17" y="2"/>
                                                                <a:pt x="34" y="4"/>
                                                                <a:pt x="51" y="6"/>
                                                              </a:cubicBezTo>
                                                              <a:cubicBezTo>
                                                                <a:pt x="68" y="8"/>
                                                                <a:pt x="88" y="10"/>
                                                                <a:pt x="102" y="15"/>
                                                              </a:cubicBezTo>
                                                              <a:cubicBezTo>
                                                                <a:pt x="116" y="20"/>
                                                                <a:pt x="122" y="23"/>
                                                                <a:pt x="135" y="33"/>
                                                              </a:cubicBezTo>
                                                              <a:cubicBezTo>
                                                                <a:pt x="148" y="43"/>
                                                                <a:pt x="167" y="56"/>
                                                                <a:pt x="180" y="78"/>
                                                              </a:cubicBezTo>
                                                              <a:cubicBezTo>
                                                                <a:pt x="193" y="100"/>
                                                                <a:pt x="204" y="120"/>
                                                                <a:pt x="216" y="165"/>
                                                              </a:cubicBezTo>
                                                              <a:cubicBezTo>
                                                                <a:pt x="228" y="210"/>
                                                                <a:pt x="211" y="131"/>
                                                                <a:pt x="255" y="348"/>
                                                              </a:cubicBezTo>
                                                              <a:cubicBezTo>
                                                                <a:pt x="299" y="565"/>
                                                                <a:pt x="389" y="1016"/>
                                                                <a:pt x="480" y="1467"/>
                                                              </a:cubicBezTo>
                                                            </a:path>
                                                          </a:pathLst>
                                                        </a:custGeom>
                                                        <a:noFill/>
                                                        <a:ln w="6480">
                                                          <a:solidFill>
                                                            <a:srgbClr val="3333cc"/>
                                                          </a:solidFill>
                                                          <a:round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wrap="none" anchor="ctr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24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Times New Roman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</p:grpSp>
                                                <p:grpSp>
                                                  <p:nvGrpSpPr>
                                                    <p:cNvPr id="6112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4207320" y="4568760"/>
                                                      <a:ext cx="2148120" cy="1373040"/>
                                                      <a:chOff x="4207320" y="4568760"/>
                                                      <a:chExt cx="2148120" cy="137304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6113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4207320" y="4598640"/>
                                                        <a:ext cx="414720" cy="1330200"/>
                                                        <a:chOff x="4207320" y="4598640"/>
                                                        <a:chExt cx="414720" cy="133020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6114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4415400" y="4598640"/>
                                                          <a:ext cx="206640" cy="1330200"/>
                                                          <a:chOff x="4415400" y="4598640"/>
                                                          <a:chExt cx="206640" cy="133020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115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4484520" y="5591520"/>
                                                            <a:ext cx="69120" cy="337320"/>
                                                            <a:chOff x="4484520" y="5591520"/>
                                                            <a:chExt cx="69120" cy="3373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11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484520" y="559152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1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4519800" y="559152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1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517280" y="559152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119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4554000" y="5783040"/>
                                                            <a:ext cx="68040" cy="144720"/>
                                                            <a:chOff x="4554000" y="578304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12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554000" y="5784120"/>
                                                              <a:ext cx="32760" cy="14364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2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4588920" y="578340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2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4585680" y="5783040"/>
                                                              <a:ext cx="4680" cy="252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4280" bIns="-4428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12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4415400" y="4598640"/>
                                                            <a:ext cx="69120" cy="132804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6124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4207320" y="4598640"/>
                                                          <a:ext cx="206640" cy="1330200"/>
                                                          <a:chOff x="4207320" y="4598640"/>
                                                          <a:chExt cx="206640" cy="133020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125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4275720" y="5591520"/>
                                                            <a:ext cx="69120" cy="337320"/>
                                                            <a:chOff x="4275720" y="5591520"/>
                                                            <a:chExt cx="69120" cy="3373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12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4311000" y="559152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2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275720" y="559152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2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4308840" y="559152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129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4207320" y="5783040"/>
                                                            <a:ext cx="68040" cy="144720"/>
                                                            <a:chOff x="4207320" y="578304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13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4242240" y="5784120"/>
                                                              <a:ext cx="32760" cy="14364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3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207320" y="578340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3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 flipV="1">
                                                              <a:off x="4239000" y="5783040"/>
                                                              <a:ext cx="4680" cy="252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4280" bIns="-4428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13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4344840" y="4598640"/>
                                                            <a:ext cx="69120" cy="132804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  <p:grpSp>
                                                    <p:nvGrpSpPr>
                                                      <p:cNvPr id="6134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4278960" y="4598640"/>
                                                        <a:ext cx="414360" cy="1330200"/>
                                                        <a:chOff x="4278960" y="4598640"/>
                                                        <a:chExt cx="414360" cy="133020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6135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4486680" y="4598640"/>
                                                          <a:ext cx="206640" cy="1330200"/>
                                                          <a:chOff x="4486680" y="4598640"/>
                                                          <a:chExt cx="206640" cy="133020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136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4555800" y="5591520"/>
                                                            <a:ext cx="69120" cy="337320"/>
                                                            <a:chOff x="4555800" y="5591520"/>
                                                            <a:chExt cx="69120" cy="3373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13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555800" y="559152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3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4591080" y="559152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3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588560" y="559152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140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4625280" y="5783040"/>
                                                            <a:ext cx="68040" cy="144720"/>
                                                            <a:chOff x="4625280" y="578304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14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625280" y="5784120"/>
                                                              <a:ext cx="32760" cy="14364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4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4660200" y="578340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4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4656960" y="5783040"/>
                                                              <a:ext cx="4680" cy="252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4280" bIns="-4428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14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4486680" y="4598640"/>
                                                            <a:ext cx="69120" cy="132804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6145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4278960" y="4598640"/>
                                                          <a:ext cx="206640" cy="1330200"/>
                                                          <a:chOff x="4278960" y="4598640"/>
                                                          <a:chExt cx="206640" cy="133020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146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4347360" y="5591520"/>
                                                            <a:ext cx="69120" cy="337320"/>
                                                            <a:chOff x="4347360" y="5591520"/>
                                                            <a:chExt cx="69120" cy="3373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14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4382640" y="559152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4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347360" y="559152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4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4380480" y="559152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150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4278960" y="5783040"/>
                                                            <a:ext cx="68040" cy="144720"/>
                                                            <a:chOff x="4278960" y="578304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15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4313880" y="5784120"/>
                                                              <a:ext cx="32760" cy="14364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5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278960" y="578340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5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 flipV="1">
                                                              <a:off x="4310640" y="5783040"/>
                                                              <a:ext cx="4680" cy="252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4280" bIns="-4428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15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4416480" y="4598640"/>
                                                            <a:ext cx="69120" cy="132804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  <p:grpSp>
                                                    <p:nvGrpSpPr>
                                                      <p:cNvPr id="6155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4553280" y="4606560"/>
                                                        <a:ext cx="414720" cy="1331640"/>
                                                        <a:chOff x="4553280" y="4606560"/>
                                                        <a:chExt cx="414720" cy="133164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6156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4761360" y="4606560"/>
                                                          <a:ext cx="206640" cy="1331640"/>
                                                          <a:chOff x="4761360" y="4606560"/>
                                                          <a:chExt cx="206640" cy="133164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157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4830480" y="5600520"/>
                                                            <a:ext cx="69120" cy="337680"/>
                                                            <a:chOff x="4830480" y="5600520"/>
                                                            <a:chExt cx="69120" cy="33768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15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830480" y="560052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5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4865760" y="560052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6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863240" y="560052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161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4899960" y="5792760"/>
                                                            <a:ext cx="68040" cy="144720"/>
                                                            <a:chOff x="4899960" y="579276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16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899960" y="579348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6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4934880" y="5792760"/>
                                                              <a:ext cx="32760" cy="14436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64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4931640" y="5792760"/>
                                                              <a:ext cx="4680" cy="288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3920" bIns="-4392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16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4761360" y="4606560"/>
                                                            <a:ext cx="69120" cy="13294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6166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4553280" y="4606560"/>
                                                          <a:ext cx="206640" cy="1331640"/>
                                                          <a:chOff x="4553280" y="4606560"/>
                                                          <a:chExt cx="206640" cy="133164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167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4621680" y="5600520"/>
                                                            <a:ext cx="69120" cy="337680"/>
                                                            <a:chOff x="4621680" y="5600520"/>
                                                            <a:chExt cx="69120" cy="33768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16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4656960" y="560052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6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621680" y="560052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7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4654800" y="560052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171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4553280" y="5792760"/>
                                                            <a:ext cx="68040" cy="144720"/>
                                                            <a:chOff x="4553280" y="579276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17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4588200" y="579348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7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553280" y="5792760"/>
                                                              <a:ext cx="32760" cy="14436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74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 flipV="1">
                                                              <a:off x="4584960" y="5792760"/>
                                                              <a:ext cx="4680" cy="288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3920" bIns="-4392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17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4690800" y="4606560"/>
                                                            <a:ext cx="69120" cy="13294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  <p:grpSp>
                                                    <p:nvGrpSpPr>
                                                      <p:cNvPr id="6176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4621680" y="4603680"/>
                                                        <a:ext cx="414360" cy="1330200"/>
                                                        <a:chOff x="4621680" y="4603680"/>
                                                        <a:chExt cx="414360" cy="133020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6177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4829400" y="4603680"/>
                                                          <a:ext cx="206640" cy="1330200"/>
                                                          <a:chOff x="4829400" y="4603680"/>
                                                          <a:chExt cx="206640" cy="133020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178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4898520" y="5596560"/>
                                                            <a:ext cx="69120" cy="337320"/>
                                                            <a:chOff x="4898520" y="5596560"/>
                                                            <a:chExt cx="69120" cy="3373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17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898520" y="559656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ff0000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8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4933800" y="559656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ff0000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8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931280" y="559656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ff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182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4968000" y="5787720"/>
                                                            <a:ext cx="68040" cy="144720"/>
                                                            <a:chOff x="4968000" y="578772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18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968000" y="5788800"/>
                                                              <a:ext cx="32760" cy="14364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ff0000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84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002920" y="578808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ff0000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85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4999680" y="5787720"/>
                                                              <a:ext cx="4680" cy="252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ff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4280" bIns="-4428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186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4829400" y="4603680"/>
                                                            <a:ext cx="69120" cy="13276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ff0000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6187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4621680" y="4603680"/>
                                                          <a:ext cx="206640" cy="1330200"/>
                                                          <a:chOff x="4621680" y="4603680"/>
                                                          <a:chExt cx="206640" cy="133020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188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4690080" y="5596560"/>
                                                            <a:ext cx="69120" cy="337320"/>
                                                            <a:chOff x="4690080" y="5596560"/>
                                                            <a:chExt cx="69120" cy="3373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18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4725360" y="559656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ff0000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9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690080" y="559656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ff0000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9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4723200" y="559656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ff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192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4621680" y="5787720"/>
                                                            <a:ext cx="68040" cy="144720"/>
                                                            <a:chOff x="4621680" y="578772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19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4656600" y="5788800"/>
                                                              <a:ext cx="32760" cy="14364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ff0000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94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621680" y="578808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ff0000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195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 flipV="1">
                                                              <a:off x="4653360" y="5787720"/>
                                                              <a:ext cx="4680" cy="252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ff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4280" bIns="-4428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196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4759200" y="4603680"/>
                                                            <a:ext cx="69120" cy="13276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ff0000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  <p:grpSp>
                                                    <p:nvGrpSpPr>
                                                      <p:cNvPr id="6197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4693320" y="4603680"/>
                                                        <a:ext cx="414360" cy="1330200"/>
                                                        <a:chOff x="4693320" y="4603680"/>
                                                        <a:chExt cx="414360" cy="133020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6198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4901040" y="4603680"/>
                                                          <a:ext cx="206640" cy="1330200"/>
                                                          <a:chOff x="4901040" y="4603680"/>
                                                          <a:chExt cx="206640" cy="133020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199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4970160" y="5596560"/>
                                                            <a:ext cx="69120" cy="337320"/>
                                                            <a:chOff x="4970160" y="5596560"/>
                                                            <a:chExt cx="69120" cy="3373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20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970160" y="559656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0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005440" y="559656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0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002920" y="559656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203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039640" y="5787720"/>
                                                            <a:ext cx="68040" cy="144720"/>
                                                            <a:chOff x="5039640" y="578772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204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039640" y="5788800"/>
                                                              <a:ext cx="32760" cy="14364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05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074560" y="578808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0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5071320" y="5787720"/>
                                                              <a:ext cx="4680" cy="252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4280" bIns="-4428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207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4901040" y="4603680"/>
                                                            <a:ext cx="69120" cy="13276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6208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4693320" y="4603680"/>
                                                          <a:ext cx="206640" cy="1330200"/>
                                                          <a:chOff x="4693320" y="4603680"/>
                                                          <a:chExt cx="206640" cy="133020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209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4761720" y="5596560"/>
                                                            <a:ext cx="69120" cy="337320"/>
                                                            <a:chOff x="4761720" y="5596560"/>
                                                            <a:chExt cx="69120" cy="3373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21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4797000" y="559656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1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761720" y="559656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1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4794840" y="559656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213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4693320" y="5787720"/>
                                                            <a:ext cx="68040" cy="144720"/>
                                                            <a:chOff x="4693320" y="578772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214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4728240" y="5788800"/>
                                                              <a:ext cx="32760" cy="14364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15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693320" y="578808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1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 flipV="1">
                                                              <a:off x="4725000" y="5787720"/>
                                                              <a:ext cx="4680" cy="252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4280" bIns="-4428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217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4830840" y="4603680"/>
                                                            <a:ext cx="69120" cy="13276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  <p:grpSp>
                                                    <p:nvGrpSpPr>
                                                      <p:cNvPr id="6218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4967640" y="4606560"/>
                                                        <a:ext cx="414720" cy="1331640"/>
                                                        <a:chOff x="4967640" y="4606560"/>
                                                        <a:chExt cx="414720" cy="133164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6219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175720" y="4606560"/>
                                                          <a:ext cx="206640" cy="1331640"/>
                                                          <a:chOff x="5175720" y="4606560"/>
                                                          <a:chExt cx="206640" cy="133164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220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244840" y="5600520"/>
                                                            <a:ext cx="69120" cy="337680"/>
                                                            <a:chOff x="5244840" y="5600520"/>
                                                            <a:chExt cx="69120" cy="33768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22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244840" y="560052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2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280120" y="560052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2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277600" y="560052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224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314320" y="5792760"/>
                                                            <a:ext cx="68040" cy="144720"/>
                                                            <a:chOff x="5314320" y="579276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225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314320" y="579348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2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349240" y="5792760"/>
                                                              <a:ext cx="32760" cy="14436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2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5346000" y="5792760"/>
                                                              <a:ext cx="4680" cy="288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3920" bIns="-4392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22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175720" y="4606560"/>
                                                            <a:ext cx="69120" cy="13294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6229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4967640" y="4606560"/>
                                                          <a:ext cx="206640" cy="1331640"/>
                                                          <a:chOff x="4967640" y="4606560"/>
                                                          <a:chExt cx="206640" cy="133164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230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036040" y="5600520"/>
                                                            <a:ext cx="69120" cy="337680"/>
                                                            <a:chOff x="5036040" y="5600520"/>
                                                            <a:chExt cx="69120" cy="33768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23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071320" y="560052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3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036040" y="560052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3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069160" y="560052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234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4967640" y="5792760"/>
                                                            <a:ext cx="68040" cy="144720"/>
                                                            <a:chOff x="4967640" y="579276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235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002560" y="579348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3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4967640" y="5792760"/>
                                                              <a:ext cx="32760" cy="14436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3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 flipV="1">
                                                              <a:off x="4999320" y="5792760"/>
                                                              <a:ext cx="4680" cy="288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3920" bIns="-4392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23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105160" y="4606560"/>
                                                            <a:ext cx="69120" cy="13294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  <p:grpSp>
                                                    <p:nvGrpSpPr>
                                                      <p:cNvPr id="6239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040720" y="4606560"/>
                                                        <a:ext cx="414720" cy="1331640"/>
                                                        <a:chOff x="5040720" y="4606560"/>
                                                        <a:chExt cx="414720" cy="133164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6240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248800" y="4606560"/>
                                                          <a:ext cx="206640" cy="1331640"/>
                                                          <a:chOff x="5248800" y="4606560"/>
                                                          <a:chExt cx="206640" cy="133164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241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317920" y="5600520"/>
                                                            <a:ext cx="69120" cy="337680"/>
                                                            <a:chOff x="5317920" y="5600520"/>
                                                            <a:chExt cx="69120" cy="33768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24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317920" y="560052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4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353200" y="560052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44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350680" y="560052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245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387400" y="5792760"/>
                                                            <a:ext cx="68040" cy="144720"/>
                                                            <a:chOff x="5387400" y="579276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24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387400" y="579348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4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422320" y="5792760"/>
                                                              <a:ext cx="32760" cy="14436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4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5419080" y="5792760"/>
                                                              <a:ext cx="4680" cy="288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3920" bIns="-4392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249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248800" y="4606560"/>
                                                            <a:ext cx="69120" cy="13294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6250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040720" y="4606560"/>
                                                          <a:ext cx="206640" cy="1331640"/>
                                                          <a:chOff x="5040720" y="4606560"/>
                                                          <a:chExt cx="206640" cy="133164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251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109120" y="5600520"/>
                                                            <a:ext cx="69120" cy="337680"/>
                                                            <a:chOff x="5109120" y="5600520"/>
                                                            <a:chExt cx="69120" cy="33768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25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144400" y="560052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5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109120" y="560052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54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142240" y="560052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255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040720" y="5792760"/>
                                                            <a:ext cx="68040" cy="144720"/>
                                                            <a:chOff x="5040720" y="579276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25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075640" y="579348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5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040720" y="5792760"/>
                                                              <a:ext cx="32760" cy="14436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5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 flipV="1">
                                                              <a:off x="5072400" y="5792760"/>
                                                              <a:ext cx="4680" cy="288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3920" bIns="-4392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259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178240" y="4606560"/>
                                                            <a:ext cx="69120" cy="13294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  <p:grpSp>
                                                    <p:nvGrpSpPr>
                                                      <p:cNvPr id="6260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107320" y="4611600"/>
                                                        <a:ext cx="414720" cy="1330200"/>
                                                        <a:chOff x="5107320" y="4611600"/>
                                                        <a:chExt cx="414720" cy="133020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6261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315400" y="4611600"/>
                                                          <a:ext cx="206640" cy="1330200"/>
                                                          <a:chOff x="5315400" y="4611600"/>
                                                          <a:chExt cx="206640" cy="133020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262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384520" y="5604480"/>
                                                            <a:ext cx="69120" cy="337320"/>
                                                            <a:chOff x="5384520" y="5604480"/>
                                                            <a:chExt cx="69120" cy="3373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26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384520" y="560448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64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419800" y="560448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65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417280" y="560448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266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454000" y="5795640"/>
                                                            <a:ext cx="68040" cy="144720"/>
                                                            <a:chOff x="5454000" y="579564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26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454000" y="5796720"/>
                                                              <a:ext cx="32760" cy="14364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6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488920" y="579600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6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5485680" y="5795640"/>
                                                              <a:ext cx="4680" cy="252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4280" bIns="-4428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270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315400" y="4611600"/>
                                                            <a:ext cx="69120" cy="13276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6271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107320" y="4611600"/>
                                                          <a:ext cx="206640" cy="1330200"/>
                                                          <a:chOff x="5107320" y="4611600"/>
                                                          <a:chExt cx="206640" cy="133020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272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175720" y="5604480"/>
                                                            <a:ext cx="69120" cy="337320"/>
                                                            <a:chOff x="5175720" y="5604480"/>
                                                            <a:chExt cx="69120" cy="3373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27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211000" y="560448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74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175720" y="560448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75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208840" y="560448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276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107320" y="5795640"/>
                                                            <a:ext cx="68040" cy="144720"/>
                                                            <a:chOff x="5107320" y="579564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27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142240" y="5796720"/>
                                                              <a:ext cx="32760" cy="14364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7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107320" y="579600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7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 flipV="1">
                                                              <a:off x="5139000" y="5795640"/>
                                                              <a:ext cx="4680" cy="252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4280" bIns="-4428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280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244840" y="4611600"/>
                                                            <a:ext cx="69120" cy="13276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  <p:grpSp>
                                                    <p:nvGrpSpPr>
                                                      <p:cNvPr id="6281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387040" y="4603680"/>
                                                        <a:ext cx="414360" cy="1330200"/>
                                                        <a:chOff x="5387040" y="4603680"/>
                                                        <a:chExt cx="414360" cy="133020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6282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594760" y="4603680"/>
                                                          <a:ext cx="206640" cy="1330200"/>
                                                          <a:chOff x="5594760" y="4603680"/>
                                                          <a:chExt cx="206640" cy="133020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283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663880" y="5596560"/>
                                                            <a:ext cx="69120" cy="337320"/>
                                                            <a:chOff x="5663880" y="5596560"/>
                                                            <a:chExt cx="69120" cy="3373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284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663880" y="559656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85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699160" y="559656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8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696640" y="559656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287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733360" y="5787720"/>
                                                            <a:ext cx="68040" cy="144720"/>
                                                            <a:chOff x="5733360" y="578772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28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733360" y="5788800"/>
                                                              <a:ext cx="32760" cy="14364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8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768280" y="578808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9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5765040" y="5787720"/>
                                                              <a:ext cx="4680" cy="252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4280" bIns="-4428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291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594760" y="4603680"/>
                                                            <a:ext cx="69120" cy="13276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6292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387040" y="4603680"/>
                                                          <a:ext cx="206640" cy="1330200"/>
                                                          <a:chOff x="5387040" y="4603680"/>
                                                          <a:chExt cx="206640" cy="133020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293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455440" y="5596560"/>
                                                            <a:ext cx="69120" cy="337320"/>
                                                            <a:chOff x="5455440" y="5596560"/>
                                                            <a:chExt cx="69120" cy="3373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294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490720" y="559656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95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455440" y="5596560"/>
                                                              <a:ext cx="3384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9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488560" y="559656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297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387040" y="5787720"/>
                                                            <a:ext cx="68040" cy="144720"/>
                                                            <a:chOff x="5387040" y="578772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29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421960" y="5788800"/>
                                                              <a:ext cx="32760" cy="14364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29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387040" y="578808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0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 flipV="1">
                                                              <a:off x="5418720" y="5787720"/>
                                                              <a:ext cx="4680" cy="252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4280" bIns="-4428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301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524560" y="4603680"/>
                                                            <a:ext cx="69120" cy="13276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  <p:grpSp>
                                                    <p:nvGrpSpPr>
                                                      <p:cNvPr id="6302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455080" y="4606560"/>
                                                        <a:ext cx="414720" cy="1331640"/>
                                                        <a:chOff x="5455080" y="4606560"/>
                                                        <a:chExt cx="414720" cy="133164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6303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663160" y="4606560"/>
                                                          <a:ext cx="206640" cy="1331640"/>
                                                          <a:chOff x="5663160" y="4606560"/>
                                                          <a:chExt cx="206640" cy="133164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304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732280" y="5600520"/>
                                                            <a:ext cx="69120" cy="337680"/>
                                                            <a:chOff x="5732280" y="5600520"/>
                                                            <a:chExt cx="69120" cy="33768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305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732280" y="560052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0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767560" y="560052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0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765040" y="560052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308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801760" y="5792760"/>
                                                            <a:ext cx="68040" cy="144720"/>
                                                            <a:chOff x="5801760" y="579276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30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801760" y="579348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1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836680" y="5792760"/>
                                                              <a:ext cx="32760" cy="14436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1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5833440" y="5792760"/>
                                                              <a:ext cx="4680" cy="288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3920" bIns="-4392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312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663160" y="4606560"/>
                                                            <a:ext cx="69120" cy="13294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6313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455080" y="4606560"/>
                                                          <a:ext cx="206640" cy="1331640"/>
                                                          <a:chOff x="5455080" y="4606560"/>
                                                          <a:chExt cx="206640" cy="133164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314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523480" y="5600520"/>
                                                            <a:ext cx="69120" cy="337680"/>
                                                            <a:chOff x="5523480" y="5600520"/>
                                                            <a:chExt cx="69120" cy="33768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315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558760" y="560052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1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523480" y="560052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1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556600" y="560052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318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455080" y="5792760"/>
                                                            <a:ext cx="68040" cy="144720"/>
                                                            <a:chOff x="5455080" y="579276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31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490000" y="579348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2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455080" y="5792760"/>
                                                              <a:ext cx="32760" cy="14436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2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 flipV="1">
                                                              <a:off x="5486760" y="5792760"/>
                                                              <a:ext cx="4680" cy="288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3920" bIns="-4392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322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592600" y="4606560"/>
                                                            <a:ext cx="69120" cy="13294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  <p:grpSp>
                                                    <p:nvGrpSpPr>
                                                      <p:cNvPr id="6323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520240" y="4571640"/>
                                                        <a:ext cx="414360" cy="1331640"/>
                                                        <a:chOff x="5520240" y="4571640"/>
                                                        <a:chExt cx="414360" cy="133164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6324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727960" y="4571640"/>
                                                          <a:ext cx="206640" cy="1331640"/>
                                                          <a:chOff x="5727960" y="4571640"/>
                                                          <a:chExt cx="206640" cy="133164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325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797080" y="5565600"/>
                                                            <a:ext cx="69120" cy="337680"/>
                                                            <a:chOff x="5797080" y="5565600"/>
                                                            <a:chExt cx="69120" cy="33768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32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797080" y="556560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2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832360" y="556560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2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829840" y="556560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329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866560" y="5757840"/>
                                                            <a:ext cx="68040" cy="144720"/>
                                                            <a:chOff x="5866560" y="575784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33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866560" y="575856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3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901480" y="5757840"/>
                                                              <a:ext cx="32760" cy="14436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3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5898240" y="5757840"/>
                                                              <a:ext cx="4680" cy="288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3920" bIns="-4392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33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727960" y="4571640"/>
                                                            <a:ext cx="69120" cy="13294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6334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520240" y="4571640"/>
                                                          <a:ext cx="206640" cy="1331640"/>
                                                          <a:chOff x="5520240" y="4571640"/>
                                                          <a:chExt cx="206640" cy="133164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335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588640" y="5565600"/>
                                                            <a:ext cx="69120" cy="337680"/>
                                                            <a:chOff x="5588640" y="5565600"/>
                                                            <a:chExt cx="69120" cy="33768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33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623920" y="556560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3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588640" y="556560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3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621760" y="556560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339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520240" y="5757840"/>
                                                            <a:ext cx="68040" cy="144720"/>
                                                            <a:chOff x="5520240" y="575784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34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555160" y="575856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4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520240" y="5757840"/>
                                                              <a:ext cx="32760" cy="14436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4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 flipV="1">
                                                              <a:off x="5551920" y="5757840"/>
                                                              <a:ext cx="4680" cy="288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3920" bIns="-4392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34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657760" y="4571640"/>
                                                            <a:ext cx="69120" cy="13294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  <p:grpSp>
                                                    <p:nvGrpSpPr>
                                                      <p:cNvPr id="6344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801400" y="4571640"/>
                                                        <a:ext cx="414360" cy="1331640"/>
                                                        <a:chOff x="5801400" y="4571640"/>
                                                        <a:chExt cx="414360" cy="133164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6345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6009120" y="4571640"/>
                                                          <a:ext cx="206640" cy="1331640"/>
                                                          <a:chOff x="6009120" y="4571640"/>
                                                          <a:chExt cx="206640" cy="133164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346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6078240" y="5565600"/>
                                                            <a:ext cx="69120" cy="337680"/>
                                                            <a:chOff x="6078240" y="5565600"/>
                                                            <a:chExt cx="69120" cy="33768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34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6078240" y="556560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4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113520" y="556560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4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6111000" y="556560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350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6147720" y="5757840"/>
                                                            <a:ext cx="68040" cy="144720"/>
                                                            <a:chOff x="6147720" y="575784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35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6147720" y="575856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5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182640" y="5757840"/>
                                                              <a:ext cx="32760" cy="14436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5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6179400" y="5757840"/>
                                                              <a:ext cx="4680" cy="288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3920" bIns="-4392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35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6009120" y="4571640"/>
                                                            <a:ext cx="69120" cy="13294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6355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801400" y="4571640"/>
                                                          <a:ext cx="206640" cy="1331640"/>
                                                          <a:chOff x="5801400" y="4571640"/>
                                                          <a:chExt cx="206640" cy="133164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356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869800" y="5565600"/>
                                                            <a:ext cx="69120" cy="337680"/>
                                                            <a:chOff x="5869800" y="5565600"/>
                                                            <a:chExt cx="69120" cy="33768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35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905080" y="556560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5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869800" y="556560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5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902920" y="556560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360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801400" y="5757840"/>
                                                            <a:ext cx="68040" cy="144720"/>
                                                            <a:chOff x="5801400" y="575784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36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836320" y="575856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6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801400" y="5757840"/>
                                                              <a:ext cx="32760" cy="14436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6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 flipV="1">
                                                              <a:off x="5833080" y="5757840"/>
                                                              <a:ext cx="4680" cy="288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3920" bIns="-4392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36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938920" y="4571640"/>
                                                            <a:ext cx="69120" cy="13294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  <p:grpSp>
                                                    <p:nvGrpSpPr>
                                                      <p:cNvPr id="6365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873760" y="4568760"/>
                                                        <a:ext cx="413640" cy="1330200"/>
                                                        <a:chOff x="5873760" y="4568760"/>
                                                        <a:chExt cx="413640" cy="133020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6366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6081120" y="4568760"/>
                                                          <a:ext cx="206280" cy="1330200"/>
                                                          <a:chOff x="6081120" y="4568760"/>
                                                          <a:chExt cx="206280" cy="133020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367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6149880" y="5561640"/>
                                                            <a:ext cx="68400" cy="337320"/>
                                                            <a:chOff x="6149880" y="5561640"/>
                                                            <a:chExt cx="68400" cy="3373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36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6149880" y="5561640"/>
                                                              <a:ext cx="3348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6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184440" y="5561640"/>
                                                              <a:ext cx="3348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7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6182640" y="556164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371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6219360" y="5752800"/>
                                                            <a:ext cx="68040" cy="144720"/>
                                                            <a:chOff x="6219360" y="575280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37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6219360" y="5753880"/>
                                                              <a:ext cx="32760" cy="14364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7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254280" y="575316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74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6251040" y="5752800"/>
                                                              <a:ext cx="4680" cy="252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4280" bIns="-4428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37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6081120" y="4568760"/>
                                                            <a:ext cx="68760" cy="13276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6376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873760" y="4568760"/>
                                                          <a:ext cx="206280" cy="1330200"/>
                                                          <a:chOff x="5873760" y="4568760"/>
                                                          <a:chExt cx="206280" cy="133020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377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942880" y="5561640"/>
                                                            <a:ext cx="68400" cy="337320"/>
                                                            <a:chOff x="5942880" y="5561640"/>
                                                            <a:chExt cx="68400" cy="3373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37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977440" y="5561640"/>
                                                              <a:ext cx="3348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7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942880" y="5561640"/>
                                                              <a:ext cx="33480" cy="33732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8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975280" y="556164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381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873760" y="5752800"/>
                                                            <a:ext cx="68040" cy="144720"/>
                                                            <a:chOff x="5873760" y="575280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38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908680" y="5753880"/>
                                                              <a:ext cx="32760" cy="14364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8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873760" y="575316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84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 flipV="1">
                                                              <a:off x="5905440" y="5752800"/>
                                                              <a:ext cx="4680" cy="252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4280" bIns="-4428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38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010920" y="4568760"/>
                                                            <a:ext cx="68760" cy="13276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  <p:grpSp>
                                                    <p:nvGrpSpPr>
                                                      <p:cNvPr id="6386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941080" y="4571640"/>
                                                        <a:ext cx="414360" cy="1331640"/>
                                                        <a:chOff x="5941080" y="4571640"/>
                                                        <a:chExt cx="414360" cy="133164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6387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6148800" y="4571640"/>
                                                          <a:ext cx="206640" cy="1331640"/>
                                                          <a:chOff x="6148800" y="4571640"/>
                                                          <a:chExt cx="206640" cy="133164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388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6217920" y="5565600"/>
                                                            <a:ext cx="69120" cy="337680"/>
                                                            <a:chOff x="6217920" y="5565600"/>
                                                            <a:chExt cx="69120" cy="33768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38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6217920" y="556560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9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253200" y="556560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9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6250680" y="556560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392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6287400" y="5757840"/>
                                                            <a:ext cx="68040" cy="144720"/>
                                                            <a:chOff x="6287400" y="575784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39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6287400" y="575856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94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322320" y="5757840"/>
                                                              <a:ext cx="32760" cy="14436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395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6319080" y="5757840"/>
                                                              <a:ext cx="4680" cy="288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3920" bIns="-4392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396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6148800" y="4571640"/>
                                                            <a:ext cx="69120" cy="13294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6397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941080" y="4571640"/>
                                                          <a:ext cx="206640" cy="1331640"/>
                                                          <a:chOff x="5941080" y="4571640"/>
                                                          <a:chExt cx="206640" cy="133164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6398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6009480" y="5565600"/>
                                                            <a:ext cx="69120" cy="337680"/>
                                                            <a:chOff x="6009480" y="5565600"/>
                                                            <a:chExt cx="69120" cy="33768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39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044760" y="556560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40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6009480" y="5565600"/>
                                                              <a:ext cx="33840" cy="33768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34" h="373">
                                                                  <a:moveTo>
                                                                    <a:pt x="0" y="373"/>
                                                                  </a:moveTo>
                                                                  <a:cubicBezTo>
                                                                    <a:pt x="4" y="357"/>
                                                                    <a:pt x="8" y="342"/>
                                                                    <a:pt x="15" y="319"/>
                                                                  </a:cubicBezTo>
                                                                  <a:cubicBezTo>
                                                                    <a:pt x="22" y="296"/>
                                                                    <a:pt x="34" y="260"/>
                                                                    <a:pt x="44" y="232"/>
                                                                  </a:cubicBezTo>
                                                                  <a:cubicBezTo>
                                                                    <a:pt x="54" y="204"/>
                                                                    <a:pt x="64" y="173"/>
                                                                    <a:pt x="74" y="150"/>
                                                                  </a:cubicBezTo>
                                                                  <a:cubicBezTo>
                                                                    <a:pt x="84" y="127"/>
                                                                    <a:pt x="91" y="111"/>
                                                                    <a:pt x="102" y="93"/>
                                                                  </a:cubicBezTo>
                                                                  <a:cubicBezTo>
                                                                    <a:pt x="113" y="75"/>
                                                                    <a:pt x="127" y="56"/>
                                                                    <a:pt x="137" y="43"/>
                                                                  </a:cubicBezTo>
                                                                  <a:cubicBezTo>
                                                                    <a:pt x="147" y="30"/>
                                                                    <a:pt x="155" y="23"/>
                                                                    <a:pt x="164" y="16"/>
                                                                  </a:cubicBezTo>
                                                                  <a:cubicBezTo>
                                                                    <a:pt x="173" y="9"/>
                                                                    <a:pt x="182" y="6"/>
                                                                    <a:pt x="194" y="3"/>
                                                                  </a:cubicBezTo>
                                                                  <a:cubicBezTo>
                                                                    <a:pt x="206" y="0"/>
                                                                    <a:pt x="226" y="0"/>
                                                                    <a:pt x="234" y="0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40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042600" y="5565600"/>
                                                              <a:ext cx="324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6402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941080" y="5757840"/>
                                                            <a:ext cx="68040" cy="144720"/>
                                                            <a:chOff x="5941080" y="5757840"/>
                                                            <a:chExt cx="68040" cy="14472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640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976000" y="5758560"/>
                                                              <a:ext cx="32760" cy="14400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404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941080" y="5757840"/>
                                                              <a:ext cx="32760" cy="144360"/>
                                                            </a:xfrm>
                                                            <a:custGeom>
                                                              <a:avLst/>
                                                              <a:gdLst/>
                                                              <a:ahLst/>
                                                              <a:rect l="l" t="t" r="r" b="b"/>
                                                              <a:pathLst>
                                                                <a:path w="228" h="159">
                                                                  <a:moveTo>
                                                                    <a:pt x="0" y="159"/>
                                                                  </a:moveTo>
                                                                  <a:cubicBezTo>
                                                                    <a:pt x="15" y="139"/>
                                                                    <a:pt x="30" y="120"/>
                                                                    <a:pt x="45" y="103"/>
                                                                  </a:cubicBezTo>
                                                                  <a:cubicBezTo>
                                                                    <a:pt x="60" y="86"/>
                                                                    <a:pt x="76" y="68"/>
                                                                    <a:pt x="90" y="54"/>
                                                                  </a:cubicBezTo>
                                                                  <a:cubicBezTo>
                                                                    <a:pt x="104" y="40"/>
                                                                    <a:pt x="118" y="30"/>
                                                                    <a:pt x="130" y="22"/>
                                                                  </a:cubicBezTo>
                                                                  <a:cubicBezTo>
                                                                    <a:pt x="142" y="14"/>
                                                                    <a:pt x="150" y="10"/>
                                                                    <a:pt x="162" y="7"/>
                                                                  </a:cubicBezTo>
                                                                  <a:cubicBezTo>
                                                                    <a:pt x="174" y="4"/>
                                                                    <a:pt x="191" y="2"/>
                                                                    <a:pt x="202" y="1"/>
                                                                  </a:cubicBezTo>
                                                                  <a:cubicBezTo>
                                                                    <a:pt x="213" y="0"/>
                                                                    <a:pt x="220" y="0"/>
                                                                    <a:pt x="228" y="1"/>
                                                                  </a:cubicBezTo>
                                                                </a:path>
                                                              </a:pathLst>
                                                            </a:custGeom>
                                                            <a:noFill/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round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wrap="none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6405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 flipV="1">
                                                              <a:off x="5972760" y="5757840"/>
                                                              <a:ext cx="4680" cy="288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6480">
                                                              <a:solidFill>
                                                                <a:srgbClr val="3333cc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3920" bIns="-43920" anchor="ctr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24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Times New Roman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6406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078600" y="4571640"/>
                                                            <a:ext cx="69120" cy="1329480"/>
                                                          </a:xfrm>
                                                          <a:custGeom>
                                                            <a:avLst/>
                                                            <a:gdLst/>
                                                            <a:ahLst/>
                                                            <a:rect l="l" t="t" r="r" b="b"/>
                                                            <a:pathLst>
                                                              <a:path w="480" h="1467">
                                                                <a:moveTo>
                                                                  <a:pt x="0" y="0"/>
                                                                </a:moveTo>
                                                                <a:cubicBezTo>
                                                                  <a:pt x="17" y="2"/>
                                                                  <a:pt x="34" y="4"/>
                                                                  <a:pt x="51" y="6"/>
                                                                </a:cubicBezTo>
                                                                <a:cubicBezTo>
                                                                  <a:pt x="68" y="8"/>
                                                                  <a:pt x="88" y="10"/>
                                                                  <a:pt x="102" y="15"/>
                                                                </a:cubicBezTo>
                                                                <a:cubicBezTo>
                                                                  <a:pt x="116" y="20"/>
                                                                  <a:pt x="122" y="23"/>
                                                                  <a:pt x="135" y="33"/>
                                                                </a:cubicBezTo>
                                                                <a:cubicBezTo>
                                                                  <a:pt x="148" y="43"/>
                                                                  <a:pt x="167" y="56"/>
                                                                  <a:pt x="180" y="78"/>
                                                                </a:cubicBezTo>
                                                                <a:cubicBezTo>
                                                                  <a:pt x="193" y="100"/>
                                                                  <a:pt x="204" y="120"/>
                                                                  <a:pt x="216" y="165"/>
                                                                </a:cubicBezTo>
                                                                <a:cubicBezTo>
                                                                  <a:pt x="228" y="210"/>
                                                                  <a:pt x="211" y="131"/>
                                                                  <a:pt x="255" y="348"/>
                                                                </a:cubicBezTo>
                                                                <a:cubicBezTo>
                                                                  <a:pt x="299" y="565"/>
                                                                  <a:pt x="389" y="1016"/>
                                                                  <a:pt x="480" y="1467"/>
                                                                </a:cubicBezTo>
                                                              </a:path>
                                                            </a:pathLst>
                                                          </a:custGeom>
                                                          <a:noFill/>
                                                          <a:ln w="6480">
                                                            <a:solidFill>
                                                              <a:srgbClr val="3333cc"/>
                                                            </a:solidFill>
                                                            <a:round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wrap="none" anchor="ctr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24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Times New Roman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</p:grpSp>
                                              </p:grpSp>
                                            </p:grpSp>
                                          </p:grpSp>
                                        </p:grpSp>
                                        <p:grpSp>
                                          <p:nvGrpSpPr>
                                            <p:cNvPr id="6407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2334240" y="4598640"/>
                                              <a:ext cx="414360" cy="1330200"/>
                                              <a:chOff x="2334240" y="4598640"/>
                                              <a:chExt cx="414360" cy="133020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6408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2541960" y="4598640"/>
                                                <a:ext cx="206640" cy="1330200"/>
                                                <a:chOff x="2541960" y="4598640"/>
                                                <a:chExt cx="206640" cy="133020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6409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2611080" y="5591520"/>
                                                  <a:ext cx="69120" cy="337320"/>
                                                  <a:chOff x="2611080" y="5591520"/>
                                                  <a:chExt cx="69120" cy="3373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6410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2611080" y="559152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6411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2646360" y="559152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6412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2643840" y="5591520"/>
                                                    <a:ext cx="32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6413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2680560" y="5783040"/>
                                                  <a:ext cx="68040" cy="144720"/>
                                                  <a:chOff x="2680560" y="5783040"/>
                                                  <a:chExt cx="68040" cy="1447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6414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2680560" y="5784120"/>
                                                    <a:ext cx="32760" cy="14364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6415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2715480" y="5783400"/>
                                                    <a:ext cx="32760" cy="14400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6416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V="1">
                                                    <a:off x="2712240" y="5783040"/>
                                                    <a:ext cx="4680" cy="252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4280" bIns="-4428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6417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2541960" y="4598640"/>
                                                  <a:ext cx="69120" cy="132804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480" h="1467">
                                                      <a:moveTo>
                                                        <a:pt x="0" y="0"/>
                                                      </a:moveTo>
                                                      <a:cubicBezTo>
                                                        <a:pt x="17" y="2"/>
                                                        <a:pt x="34" y="4"/>
                                                        <a:pt x="51" y="6"/>
                                                      </a:cubicBezTo>
                                                      <a:cubicBezTo>
                                                        <a:pt x="68" y="8"/>
                                                        <a:pt x="88" y="10"/>
                                                        <a:pt x="102" y="15"/>
                                                      </a:cubicBezTo>
                                                      <a:cubicBezTo>
                                                        <a:pt x="116" y="20"/>
                                                        <a:pt x="122" y="23"/>
                                                        <a:pt x="135" y="33"/>
                                                      </a:cubicBezTo>
                                                      <a:cubicBezTo>
                                                        <a:pt x="148" y="43"/>
                                                        <a:pt x="167" y="56"/>
                                                        <a:pt x="180" y="78"/>
                                                      </a:cubicBezTo>
                                                      <a:cubicBezTo>
                                                        <a:pt x="193" y="100"/>
                                                        <a:pt x="204" y="120"/>
                                                        <a:pt x="216" y="165"/>
                                                      </a:cubicBezTo>
                                                      <a:cubicBezTo>
                                                        <a:pt x="228" y="210"/>
                                                        <a:pt x="211" y="131"/>
                                                        <a:pt x="255" y="348"/>
                                                      </a:cubicBezTo>
                                                      <a:cubicBezTo>
                                                        <a:pt x="299" y="565"/>
                                                        <a:pt x="389" y="1016"/>
                                                        <a:pt x="480" y="1467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  <p:grpSp>
                                            <p:nvGrpSpPr>
                                              <p:cNvPr id="6418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2334240" y="4598640"/>
                                                <a:ext cx="206640" cy="1330200"/>
                                                <a:chOff x="2334240" y="4598640"/>
                                                <a:chExt cx="206640" cy="133020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6419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2402640" y="5591520"/>
                                                  <a:ext cx="69120" cy="337320"/>
                                                  <a:chOff x="2402640" y="5591520"/>
                                                  <a:chExt cx="69120" cy="3373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6420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2437920" y="559152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6421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2402640" y="559152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6422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2435760" y="5591520"/>
                                                    <a:ext cx="32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6423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2334240" y="5783040"/>
                                                  <a:ext cx="68040" cy="144720"/>
                                                  <a:chOff x="2334240" y="5783040"/>
                                                  <a:chExt cx="68040" cy="1447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6424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2369160" y="5784120"/>
                                                    <a:ext cx="32760" cy="14364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6425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2334240" y="5783400"/>
                                                    <a:ext cx="32760" cy="14400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6426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 flipV="1">
                                                    <a:off x="2365920" y="5783040"/>
                                                    <a:ext cx="4680" cy="252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4280" bIns="-4428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6427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2471760" y="4598640"/>
                                                  <a:ext cx="69120" cy="132804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480" h="1467">
                                                      <a:moveTo>
                                                        <a:pt x="0" y="0"/>
                                                      </a:moveTo>
                                                      <a:cubicBezTo>
                                                        <a:pt x="17" y="2"/>
                                                        <a:pt x="34" y="4"/>
                                                        <a:pt x="51" y="6"/>
                                                      </a:cubicBezTo>
                                                      <a:cubicBezTo>
                                                        <a:pt x="68" y="8"/>
                                                        <a:pt x="88" y="10"/>
                                                        <a:pt x="102" y="15"/>
                                                      </a:cubicBezTo>
                                                      <a:cubicBezTo>
                                                        <a:pt x="116" y="20"/>
                                                        <a:pt x="122" y="23"/>
                                                        <a:pt x="135" y="33"/>
                                                      </a:cubicBezTo>
                                                      <a:cubicBezTo>
                                                        <a:pt x="148" y="43"/>
                                                        <a:pt x="167" y="56"/>
                                                        <a:pt x="180" y="78"/>
                                                      </a:cubicBezTo>
                                                      <a:cubicBezTo>
                                                        <a:pt x="193" y="100"/>
                                                        <a:pt x="204" y="120"/>
                                                        <a:pt x="216" y="165"/>
                                                      </a:cubicBezTo>
                                                      <a:cubicBezTo>
                                                        <a:pt x="228" y="210"/>
                                                        <a:pt x="211" y="131"/>
                                                        <a:pt x="255" y="348"/>
                                                      </a:cubicBezTo>
                                                      <a:cubicBezTo>
                                                        <a:pt x="299" y="565"/>
                                                        <a:pt x="389" y="1016"/>
                                                        <a:pt x="480" y="1467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grpSp>
                                          <p:nvGrpSpPr>
                                            <p:cNvPr id="6428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2400840" y="4598640"/>
                                              <a:ext cx="414360" cy="1330200"/>
                                              <a:chOff x="2400840" y="4598640"/>
                                              <a:chExt cx="414360" cy="133020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6429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2608560" y="4598640"/>
                                                <a:ext cx="206640" cy="1330200"/>
                                                <a:chOff x="2608560" y="4598640"/>
                                                <a:chExt cx="206640" cy="133020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6430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2677680" y="5591520"/>
                                                  <a:ext cx="69120" cy="337320"/>
                                                  <a:chOff x="2677680" y="5591520"/>
                                                  <a:chExt cx="69120" cy="3373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6431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2677680" y="559152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6432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2712960" y="559152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6433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2710440" y="5591520"/>
                                                    <a:ext cx="32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6434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2747160" y="5783040"/>
                                                  <a:ext cx="68040" cy="144720"/>
                                                  <a:chOff x="2747160" y="5783040"/>
                                                  <a:chExt cx="68040" cy="1447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6435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2747160" y="5784120"/>
                                                    <a:ext cx="32760" cy="14364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6436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2782080" y="5783400"/>
                                                    <a:ext cx="32760" cy="14400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6437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V="1">
                                                    <a:off x="2778840" y="5783040"/>
                                                    <a:ext cx="4680" cy="252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4280" bIns="-4428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6438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2608560" y="4598640"/>
                                                  <a:ext cx="69120" cy="132804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480" h="1467">
                                                      <a:moveTo>
                                                        <a:pt x="0" y="0"/>
                                                      </a:moveTo>
                                                      <a:cubicBezTo>
                                                        <a:pt x="17" y="2"/>
                                                        <a:pt x="34" y="4"/>
                                                        <a:pt x="51" y="6"/>
                                                      </a:cubicBezTo>
                                                      <a:cubicBezTo>
                                                        <a:pt x="68" y="8"/>
                                                        <a:pt x="88" y="10"/>
                                                        <a:pt x="102" y="15"/>
                                                      </a:cubicBezTo>
                                                      <a:cubicBezTo>
                                                        <a:pt x="116" y="20"/>
                                                        <a:pt x="122" y="23"/>
                                                        <a:pt x="135" y="33"/>
                                                      </a:cubicBezTo>
                                                      <a:cubicBezTo>
                                                        <a:pt x="148" y="43"/>
                                                        <a:pt x="167" y="56"/>
                                                        <a:pt x="180" y="78"/>
                                                      </a:cubicBezTo>
                                                      <a:cubicBezTo>
                                                        <a:pt x="193" y="100"/>
                                                        <a:pt x="204" y="120"/>
                                                        <a:pt x="216" y="165"/>
                                                      </a:cubicBezTo>
                                                      <a:cubicBezTo>
                                                        <a:pt x="228" y="210"/>
                                                        <a:pt x="211" y="131"/>
                                                        <a:pt x="255" y="348"/>
                                                      </a:cubicBezTo>
                                                      <a:cubicBezTo>
                                                        <a:pt x="299" y="565"/>
                                                        <a:pt x="389" y="1016"/>
                                                        <a:pt x="480" y="1467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  <p:grpSp>
                                            <p:nvGrpSpPr>
                                              <p:cNvPr id="6439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2400840" y="4598640"/>
                                                <a:ext cx="206640" cy="1330200"/>
                                                <a:chOff x="2400840" y="4598640"/>
                                                <a:chExt cx="206640" cy="133020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6440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2469240" y="5591520"/>
                                                  <a:ext cx="69120" cy="337320"/>
                                                  <a:chOff x="2469240" y="5591520"/>
                                                  <a:chExt cx="69120" cy="3373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6441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2504520" y="559152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6442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2469240" y="5591520"/>
                                                    <a:ext cx="33840" cy="33732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34" h="373">
                                                        <a:moveTo>
                                                          <a:pt x="0" y="373"/>
                                                        </a:moveTo>
                                                        <a:cubicBezTo>
                                                          <a:pt x="4" y="357"/>
                                                          <a:pt x="8" y="342"/>
                                                          <a:pt x="15" y="319"/>
                                                        </a:cubicBezTo>
                                                        <a:cubicBezTo>
                                                          <a:pt x="22" y="296"/>
                                                          <a:pt x="34" y="260"/>
                                                          <a:pt x="44" y="232"/>
                                                        </a:cubicBezTo>
                                                        <a:cubicBezTo>
                                                          <a:pt x="54" y="204"/>
                                                          <a:pt x="64" y="173"/>
                                                          <a:pt x="74" y="150"/>
                                                        </a:cubicBezTo>
                                                        <a:cubicBezTo>
                                                          <a:pt x="84" y="127"/>
                                                          <a:pt x="91" y="111"/>
                                                          <a:pt x="102" y="93"/>
                                                        </a:cubicBezTo>
                                                        <a:cubicBezTo>
                                                          <a:pt x="113" y="75"/>
                                                          <a:pt x="127" y="56"/>
                                                          <a:pt x="137" y="43"/>
                                                        </a:cubicBezTo>
                                                        <a:cubicBezTo>
                                                          <a:pt x="147" y="30"/>
                                                          <a:pt x="155" y="23"/>
                                                          <a:pt x="164" y="16"/>
                                                        </a:cubicBezTo>
                                                        <a:cubicBezTo>
                                                          <a:pt x="173" y="9"/>
                                                          <a:pt x="182" y="6"/>
                                                          <a:pt x="194" y="3"/>
                                                        </a:cubicBezTo>
                                                        <a:cubicBezTo>
                                                          <a:pt x="206" y="0"/>
                                                          <a:pt x="226" y="0"/>
                                                          <a:pt x="234" y="0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6443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2502360" y="5591520"/>
                                                    <a:ext cx="32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6444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2400840" y="5783040"/>
                                                  <a:ext cx="68040" cy="144720"/>
                                                  <a:chOff x="2400840" y="5783040"/>
                                                  <a:chExt cx="68040" cy="14472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6445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2435760" y="5784120"/>
                                                    <a:ext cx="32760" cy="14364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6446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2400840" y="5783400"/>
                                                    <a:ext cx="32760" cy="144000"/>
                                                  </a:xfrm>
                                                  <a:custGeom>
                                                    <a:avLst/>
                                                    <a:gdLst/>
                                                    <a:ahLst/>
                                                    <a:rect l="l" t="t" r="r" b="b"/>
                                                    <a:pathLst>
                                                      <a:path w="228" h="159">
                                                        <a:moveTo>
                                                          <a:pt x="0" y="159"/>
                                                        </a:moveTo>
                                                        <a:cubicBezTo>
                                                          <a:pt x="15" y="139"/>
                                                          <a:pt x="30" y="120"/>
                                                          <a:pt x="45" y="103"/>
                                                        </a:cubicBezTo>
                                                        <a:cubicBezTo>
                                                          <a:pt x="60" y="86"/>
                                                          <a:pt x="76" y="68"/>
                                                          <a:pt x="90" y="54"/>
                                                        </a:cubicBezTo>
                                                        <a:cubicBezTo>
                                                          <a:pt x="104" y="40"/>
                                                          <a:pt x="118" y="30"/>
                                                          <a:pt x="130" y="22"/>
                                                        </a:cubicBezTo>
                                                        <a:cubicBezTo>
                                                          <a:pt x="142" y="14"/>
                                                          <a:pt x="150" y="10"/>
                                                          <a:pt x="162" y="7"/>
                                                        </a:cubicBezTo>
                                                        <a:cubicBezTo>
                                                          <a:pt x="174" y="4"/>
                                                          <a:pt x="191" y="2"/>
                                                          <a:pt x="202" y="1"/>
                                                        </a:cubicBezTo>
                                                        <a:cubicBezTo>
                                                          <a:pt x="213" y="0"/>
                                                          <a:pt x="220" y="0"/>
                                                          <a:pt x="228" y="1"/>
                                                        </a:cubicBezTo>
                                                      </a:path>
                                                    </a:pathLst>
                                                  </a:custGeom>
                                                  <a:noFill/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round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wrap="none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6447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 flipV="1">
                                                    <a:off x="2432520" y="5783040"/>
                                                    <a:ext cx="4680" cy="252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6480">
                                                    <a:solidFill>
                                                      <a:srgbClr val="3333cc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4280" bIns="-44280" anchor="ctr">
                                                    <a:noAutofit/>
                                                  </a:bodyPr>
                                                  <a:p>
                                                    <a:endParaRPr b="0" lang="en-US" sz="24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Times New Roman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6448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2538360" y="4598640"/>
                                                  <a:ext cx="69120" cy="1328040"/>
                                                </a:xfrm>
                                                <a:custGeom>
                                                  <a:avLst/>
                                                  <a:gdLst/>
                                                  <a:ahLst/>
                                                  <a:rect l="l" t="t" r="r" b="b"/>
                                                  <a:pathLst>
                                                    <a:path w="480" h="1467">
                                                      <a:moveTo>
                                                        <a:pt x="0" y="0"/>
                                                      </a:moveTo>
                                                      <a:cubicBezTo>
                                                        <a:pt x="17" y="2"/>
                                                        <a:pt x="34" y="4"/>
                                                        <a:pt x="51" y="6"/>
                                                      </a:cubicBezTo>
                                                      <a:cubicBezTo>
                                                        <a:pt x="68" y="8"/>
                                                        <a:pt x="88" y="10"/>
                                                        <a:pt x="102" y="15"/>
                                                      </a:cubicBezTo>
                                                      <a:cubicBezTo>
                                                        <a:pt x="116" y="20"/>
                                                        <a:pt x="122" y="23"/>
                                                        <a:pt x="135" y="33"/>
                                                      </a:cubicBezTo>
                                                      <a:cubicBezTo>
                                                        <a:pt x="148" y="43"/>
                                                        <a:pt x="167" y="56"/>
                                                        <a:pt x="180" y="78"/>
                                                      </a:cubicBezTo>
                                                      <a:cubicBezTo>
                                                        <a:pt x="193" y="100"/>
                                                        <a:pt x="204" y="120"/>
                                                        <a:pt x="216" y="165"/>
                                                      </a:cubicBezTo>
                                                      <a:cubicBezTo>
                                                        <a:pt x="228" y="210"/>
                                                        <a:pt x="211" y="131"/>
                                                        <a:pt x="255" y="348"/>
                                                      </a:cubicBezTo>
                                                      <a:cubicBezTo>
                                                        <a:pt x="299" y="565"/>
                                                        <a:pt x="389" y="1016"/>
                                                        <a:pt x="480" y="1467"/>
                                                      </a:cubicBezTo>
                                                    </a:path>
                                                  </a:pathLst>
                                                </a:custGeom>
                                                <a:noFill/>
                                                <a:ln w="6480">
                                                  <a:solidFill>
                                                    <a:srgbClr val="3333cc"/>
                                                  </a:solidFill>
                                                  <a:round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wrap="none" anchor="ctr">
                                                  <a:noAutofit/>
                                                </a:bodyPr>
                                                <a:p>
                                                  <a:endParaRPr b="0" lang="en-US" sz="24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Times New Roman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</p:grp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  <p:sp>
          <p:nvSpPr>
            <p:cNvPr id="6449" name=""/>
            <p:cNvSpPr/>
            <p:nvPr/>
          </p:nvSpPr>
          <p:spPr>
            <a:xfrm>
              <a:off x="6480000" y="4114800"/>
              <a:ext cx="1581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4 pilot carri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 flipH="1">
              <a:off x="4834080" y="4343400"/>
              <a:ext cx="164304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A5C8-5C01-4ECF-A3FC-B0AA767050D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1" name=""/>
          <p:cNvSpPr/>
          <p:nvPr/>
        </p:nvSpPr>
        <p:spPr>
          <a:xfrm flipH="1">
            <a:off x="2466720" y="4572000"/>
            <a:ext cx="2485800" cy="739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2" name="" descr=""/>
          <p:cNvPicPr/>
          <p:nvPr/>
        </p:nvPicPr>
        <p:blipFill>
          <a:blip r:embed="rId1"/>
          <a:stretch/>
        </p:blipFill>
        <p:spPr>
          <a:xfrm>
            <a:off x="1157400" y="4886280"/>
            <a:ext cx="1371600" cy="1600200"/>
          </a:xfrm>
          <a:prstGeom prst="rect">
            <a:avLst/>
          </a:prstGeom>
          <a:ln w="0">
            <a:noFill/>
          </a:ln>
        </p:spPr>
      </p:pic>
      <p:sp>
        <p:nvSpPr>
          <p:cNvPr id="6453" name=""/>
          <p:cNvSpPr/>
          <p:nvPr/>
        </p:nvSpPr>
        <p:spPr>
          <a:xfrm>
            <a:off x="1907640" y="441972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o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4" name=""/>
          <p:cNvSpPr/>
          <p:nvPr/>
        </p:nvSpPr>
        <p:spPr>
          <a:xfrm>
            <a:off x="2629080" y="6086520"/>
            <a:ext cx="5688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5" name=""/>
          <p:cNvSpPr/>
          <p:nvPr/>
        </p:nvSpPr>
        <p:spPr>
          <a:xfrm>
            <a:off x="3007440" y="5727600"/>
            <a:ext cx="46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 &amp; encryption in public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6" name=""/>
          <p:cNvSpPr/>
          <p:nvPr/>
        </p:nvSpPr>
        <p:spPr>
          <a:xfrm>
            <a:off x="5054760" y="4987800"/>
            <a:ext cx="328428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7" name=""/>
          <p:cNvSpPr/>
          <p:nvPr/>
        </p:nvSpPr>
        <p:spPr>
          <a:xfrm>
            <a:off x="5207040" y="46036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 &amp; encry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8" name=""/>
          <p:cNvSpPr/>
          <p:nvPr/>
        </p:nvSpPr>
        <p:spPr>
          <a:xfrm>
            <a:off x="4597560" y="3289320"/>
            <a:ext cx="4314600" cy="2268360"/>
          </a:xfrm>
          <a:prstGeom prst="ellipse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9" name=""/>
          <p:cNvSpPr/>
          <p:nvPr/>
        </p:nvSpPr>
        <p:spPr>
          <a:xfrm>
            <a:off x="380880" y="1143000"/>
            <a:ext cx="6743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d equival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fficient in business, residential and public access 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negotiation of different security levels inclu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(data confidentiality) and authentication (user confidentia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mobility (H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/moderate processing over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0" name="PlaceHolder 1"/>
          <p:cNvSpPr>
            <a:spLocks noGrp="1"/>
          </p:cNvSpPr>
          <p:nvPr>
            <p:ph type="title"/>
          </p:nvPr>
        </p:nvSpPr>
        <p:spPr>
          <a:xfrm>
            <a:off x="380520" y="649080"/>
            <a:ext cx="777420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urity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61" name=""/>
          <p:cNvGraphicFramePr/>
          <p:nvPr/>
        </p:nvGraphicFramePr>
        <p:xfrm>
          <a:off x="7402680" y="3154320"/>
          <a:ext cx="1344600" cy="96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02680" y="3154320"/>
                    <a:ext cx="13446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63" name=""/>
          <p:cNvGrpSpPr/>
          <p:nvPr/>
        </p:nvGrpSpPr>
        <p:grpSpPr>
          <a:xfrm>
            <a:off x="2955960" y="4656240"/>
            <a:ext cx="1567440" cy="798120"/>
            <a:chOff x="2955960" y="4656240"/>
            <a:chExt cx="1567440" cy="798120"/>
          </a:xfrm>
        </p:grpSpPr>
        <p:grpSp>
          <p:nvGrpSpPr>
            <p:cNvPr id="6464" name=""/>
            <p:cNvGrpSpPr/>
            <p:nvPr/>
          </p:nvGrpSpPr>
          <p:grpSpPr>
            <a:xfrm>
              <a:off x="2955960" y="4656240"/>
              <a:ext cx="1567440" cy="798120"/>
              <a:chOff x="2955960" y="4656240"/>
              <a:chExt cx="1567440" cy="798120"/>
            </a:xfrm>
          </p:grpSpPr>
          <p:grpSp>
            <p:nvGrpSpPr>
              <p:cNvPr id="6465" name=""/>
              <p:cNvGrpSpPr/>
              <p:nvPr/>
            </p:nvGrpSpPr>
            <p:grpSpPr>
              <a:xfrm>
                <a:off x="3877200" y="4728240"/>
                <a:ext cx="646200" cy="690480"/>
                <a:chOff x="3877200" y="4728240"/>
                <a:chExt cx="646200" cy="690480"/>
              </a:xfrm>
            </p:grpSpPr>
            <p:grpSp>
              <p:nvGrpSpPr>
                <p:cNvPr id="6466" name=""/>
                <p:cNvGrpSpPr/>
                <p:nvPr/>
              </p:nvGrpSpPr>
              <p:grpSpPr>
                <a:xfrm>
                  <a:off x="4121640" y="4728240"/>
                  <a:ext cx="401760" cy="556920"/>
                  <a:chOff x="4121640" y="4728240"/>
                  <a:chExt cx="401760" cy="556920"/>
                </a:xfrm>
              </p:grpSpPr>
              <p:grpSp>
                <p:nvGrpSpPr>
                  <p:cNvPr id="6467" name=""/>
                  <p:cNvGrpSpPr/>
                  <p:nvPr/>
                </p:nvGrpSpPr>
                <p:grpSpPr>
                  <a:xfrm>
                    <a:off x="4230000" y="4799880"/>
                    <a:ext cx="293400" cy="412920"/>
                    <a:chOff x="4230000" y="4799880"/>
                    <a:chExt cx="293400" cy="412920"/>
                  </a:xfrm>
                </p:grpSpPr>
                <p:grpSp>
                  <p:nvGrpSpPr>
                    <p:cNvPr id="6468" name=""/>
                    <p:cNvGrpSpPr/>
                    <p:nvPr/>
                  </p:nvGrpSpPr>
                  <p:grpSpPr>
                    <a:xfrm>
                      <a:off x="4230000" y="4799880"/>
                      <a:ext cx="293400" cy="412920"/>
                      <a:chOff x="4230000" y="4799880"/>
                      <a:chExt cx="293400" cy="412920"/>
                    </a:xfrm>
                  </p:grpSpPr>
                  <p:grpSp>
                    <p:nvGrpSpPr>
                      <p:cNvPr id="6469" name=""/>
                      <p:cNvGrpSpPr/>
                      <p:nvPr/>
                    </p:nvGrpSpPr>
                    <p:grpSpPr>
                      <a:xfrm>
                        <a:off x="4297680" y="4825800"/>
                        <a:ext cx="225720" cy="332280"/>
                        <a:chOff x="4297680" y="4825800"/>
                        <a:chExt cx="225720" cy="332280"/>
                      </a:xfrm>
                    </p:grpSpPr>
                    <p:grpSp>
                      <p:nvGrpSpPr>
                        <p:cNvPr id="6470" name=""/>
                        <p:cNvGrpSpPr/>
                        <p:nvPr/>
                      </p:nvGrpSpPr>
                      <p:grpSpPr>
                        <a:xfrm>
                          <a:off x="4326840" y="4825800"/>
                          <a:ext cx="196560" cy="332280"/>
                          <a:chOff x="4326840" y="4825800"/>
                          <a:chExt cx="196560" cy="332280"/>
                        </a:xfrm>
                      </p:grpSpPr>
                      <p:sp>
                        <p:nvSpPr>
                          <p:cNvPr id="6471" name=""/>
                          <p:cNvSpPr/>
                          <p:nvPr/>
                        </p:nvSpPr>
                        <p:spPr>
                          <a:xfrm>
                            <a:off x="4424040" y="5022000"/>
                            <a:ext cx="99360" cy="9216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8720" bIns="18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72" name=""/>
                          <p:cNvSpPr/>
                          <p:nvPr/>
                        </p:nvSpPr>
                        <p:spPr>
                          <a:xfrm>
                            <a:off x="4345920" y="5039640"/>
                            <a:ext cx="128520" cy="11844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7080" bIns="37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73" name=""/>
                          <p:cNvSpPr/>
                          <p:nvPr/>
                        </p:nvSpPr>
                        <p:spPr>
                          <a:xfrm>
                            <a:off x="4405320" y="4897440"/>
                            <a:ext cx="88560" cy="9216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8720" bIns="18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74" name=""/>
                          <p:cNvSpPr/>
                          <p:nvPr/>
                        </p:nvSpPr>
                        <p:spPr>
                          <a:xfrm>
                            <a:off x="4326840" y="4825800"/>
                            <a:ext cx="118080" cy="11844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7080" bIns="37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75" name=""/>
                          <p:cNvSpPr/>
                          <p:nvPr/>
                        </p:nvSpPr>
                        <p:spPr>
                          <a:xfrm>
                            <a:off x="4401720" y="4894560"/>
                            <a:ext cx="88560" cy="196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1" h="134">
                                <a:moveTo>
                                  <a:pt x="50" y="133"/>
                                </a:moveTo>
                                <a:lnTo>
                                  <a:pt x="28" y="133"/>
                                </a:lnTo>
                                <a:lnTo>
                                  <a:pt x="0" y="0"/>
                                </a:lnTo>
                                <a:lnTo>
                                  <a:pt x="28" y="12"/>
                                </a:lnTo>
                                <a:lnTo>
                                  <a:pt x="33" y="79"/>
                                </a:lnTo>
                                <a:lnTo>
                                  <a:pt x="50" y="133"/>
                                </a:lnTo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476" name=""/>
                        <p:cNvSpPr/>
                        <p:nvPr/>
                      </p:nvSpPr>
                      <p:spPr>
                        <a:xfrm>
                          <a:off x="4297680" y="4923720"/>
                          <a:ext cx="177120" cy="1627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d5e9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77" name=""/>
                        <p:cNvSpPr/>
                        <p:nvPr/>
                      </p:nvSpPr>
                      <p:spPr>
                        <a:xfrm>
                          <a:off x="4297680" y="5022000"/>
                          <a:ext cx="128520" cy="11844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d5e9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7080" bIns="37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78" name=""/>
                        <p:cNvSpPr/>
                        <p:nvPr/>
                      </p:nvSpPr>
                      <p:spPr>
                        <a:xfrm>
                          <a:off x="4332240" y="4875480"/>
                          <a:ext cx="90360" cy="206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" h="141">
                              <a:moveTo>
                                <a:pt x="51" y="24"/>
                              </a:moveTo>
                              <a:lnTo>
                                <a:pt x="45" y="55"/>
                              </a:lnTo>
                              <a:lnTo>
                                <a:pt x="51" y="122"/>
                              </a:lnTo>
                              <a:lnTo>
                                <a:pt x="34" y="140"/>
                              </a:lnTo>
                              <a:lnTo>
                                <a:pt x="0" y="61"/>
                              </a:lnTo>
                              <a:lnTo>
                                <a:pt x="28" y="0"/>
                              </a:lnTo>
                              <a:lnTo>
                                <a:pt x="51" y="24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5e9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479" name=""/>
                      <p:cNvSpPr/>
                      <p:nvPr/>
                    </p:nvSpPr>
                    <p:spPr>
                      <a:xfrm>
                        <a:off x="4297680" y="5120640"/>
                        <a:ext cx="99000" cy="921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5e9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720" bIns="18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80" name=""/>
                      <p:cNvSpPr/>
                      <p:nvPr/>
                    </p:nvSpPr>
                    <p:spPr>
                      <a:xfrm>
                        <a:off x="4230000" y="4799880"/>
                        <a:ext cx="119880" cy="118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5e9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7080" bIns="37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81" name=""/>
                      <p:cNvSpPr/>
                      <p:nvPr/>
                    </p:nvSpPr>
                    <p:spPr>
                      <a:xfrm>
                        <a:off x="4323960" y="5091480"/>
                        <a:ext cx="69480" cy="4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31">
                            <a:moveTo>
                              <a:pt x="39" y="18"/>
                            </a:moveTo>
                            <a:lnTo>
                              <a:pt x="28" y="30"/>
                            </a:lnTo>
                            <a:lnTo>
                              <a:pt x="0" y="18"/>
                            </a:lnTo>
                            <a:lnTo>
                              <a:pt x="28" y="0"/>
                            </a:lnTo>
                            <a:lnTo>
                              <a:pt x="39" y="18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5e9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482" name=""/>
                    <p:cNvSpPr/>
                    <p:nvPr/>
                  </p:nvSpPr>
                  <p:spPr>
                    <a:xfrm>
                      <a:off x="4313160" y="4851000"/>
                      <a:ext cx="4176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49">
                          <a:moveTo>
                            <a:pt x="11" y="0"/>
                          </a:moveTo>
                          <a:lnTo>
                            <a:pt x="23" y="6"/>
                          </a:lnTo>
                          <a:lnTo>
                            <a:pt x="23" y="48"/>
                          </a:lnTo>
                          <a:lnTo>
                            <a:pt x="0" y="4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83" name=""/>
                  <p:cNvGrpSpPr/>
                  <p:nvPr/>
                </p:nvGrpSpPr>
                <p:grpSpPr>
                  <a:xfrm>
                    <a:off x="4121640" y="4728240"/>
                    <a:ext cx="275400" cy="502560"/>
                    <a:chOff x="4121640" y="4728240"/>
                    <a:chExt cx="275400" cy="502560"/>
                  </a:xfrm>
                </p:grpSpPr>
                <p:sp>
                  <p:nvSpPr>
                    <p:cNvPr id="6484" name=""/>
                    <p:cNvSpPr/>
                    <p:nvPr/>
                  </p:nvSpPr>
                  <p:spPr>
                    <a:xfrm>
                      <a:off x="4151160" y="5022720"/>
                      <a:ext cx="226440" cy="208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85" name=""/>
                    <p:cNvSpPr/>
                    <p:nvPr/>
                  </p:nvSpPr>
                  <p:spPr>
                    <a:xfrm>
                      <a:off x="4170600" y="4879080"/>
                      <a:ext cx="226440" cy="20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86" name=""/>
                    <p:cNvSpPr/>
                    <p:nvPr/>
                  </p:nvSpPr>
                  <p:spPr>
                    <a:xfrm>
                      <a:off x="4121640" y="4728240"/>
                      <a:ext cx="177840" cy="163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87" name=""/>
                    <p:cNvSpPr/>
                    <p:nvPr/>
                  </p:nvSpPr>
                  <p:spPr>
                    <a:xfrm>
                      <a:off x="4227840" y="4826160"/>
                      <a:ext cx="90360" cy="92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720" bIns="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88" name=""/>
                    <p:cNvSpPr/>
                    <p:nvPr/>
                  </p:nvSpPr>
                  <p:spPr>
                    <a:xfrm>
                      <a:off x="4167000" y="4805640"/>
                      <a:ext cx="156960" cy="18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" h="129">
                          <a:moveTo>
                            <a:pt x="61" y="6"/>
                          </a:moveTo>
                          <a:lnTo>
                            <a:pt x="61" y="18"/>
                          </a:lnTo>
                          <a:lnTo>
                            <a:pt x="83" y="49"/>
                          </a:lnTo>
                          <a:lnTo>
                            <a:pt x="89" y="55"/>
                          </a:lnTo>
                          <a:lnTo>
                            <a:pt x="56" y="128"/>
                          </a:lnTo>
                          <a:lnTo>
                            <a:pt x="0" y="0"/>
                          </a:lnTo>
                          <a:lnTo>
                            <a:pt x="61" y="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89" name=""/>
                    <p:cNvSpPr/>
                    <p:nvPr/>
                  </p:nvSpPr>
                  <p:spPr>
                    <a:xfrm>
                      <a:off x="4245120" y="5055120"/>
                      <a:ext cx="97560" cy="6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44">
                          <a:moveTo>
                            <a:pt x="49" y="6"/>
                          </a:moveTo>
                          <a:lnTo>
                            <a:pt x="55" y="18"/>
                          </a:lnTo>
                          <a:lnTo>
                            <a:pt x="0" y="43"/>
                          </a:lnTo>
                          <a:lnTo>
                            <a:pt x="0" y="0"/>
                          </a:lnTo>
                          <a:lnTo>
                            <a:pt x="49" y="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490" name=""/>
                  <p:cNvSpPr/>
                  <p:nvPr/>
                </p:nvSpPr>
                <p:spPr>
                  <a:xfrm>
                    <a:off x="4121640" y="5166720"/>
                    <a:ext cx="120240" cy="118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1" name=""/>
                  <p:cNvSpPr/>
                  <p:nvPr/>
                </p:nvSpPr>
                <p:spPr>
                  <a:xfrm>
                    <a:off x="4196880" y="5154840"/>
                    <a:ext cx="694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3">
                        <a:moveTo>
                          <a:pt x="17" y="42"/>
                        </a:moveTo>
                        <a:lnTo>
                          <a:pt x="39" y="30"/>
                        </a:lnTo>
                        <a:lnTo>
                          <a:pt x="11" y="0"/>
                        </a:lnTo>
                        <a:lnTo>
                          <a:pt x="0" y="12"/>
                        </a:lnTo>
                        <a:lnTo>
                          <a:pt x="17" y="4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92" name=""/>
                <p:cNvSpPr/>
                <p:nvPr/>
              </p:nvSpPr>
              <p:spPr>
                <a:xfrm>
                  <a:off x="3877200" y="5272560"/>
                  <a:ext cx="150120" cy="14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3" name=""/>
                <p:cNvSpPr/>
                <p:nvPr/>
              </p:nvSpPr>
              <p:spPr>
                <a:xfrm>
                  <a:off x="3993840" y="5272560"/>
                  <a:ext cx="13104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4" name=""/>
                <p:cNvSpPr/>
                <p:nvPr/>
              </p:nvSpPr>
              <p:spPr>
                <a:xfrm>
                  <a:off x="4062240" y="5237280"/>
                  <a:ext cx="131040" cy="11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5" name=""/>
                <p:cNvSpPr/>
                <p:nvPr/>
              </p:nvSpPr>
              <p:spPr>
                <a:xfrm>
                  <a:off x="3960720" y="5216760"/>
                  <a:ext cx="246240" cy="162720"/>
                </a:xfrm>
                <a:custGeom>
                  <a:avLst/>
                  <a:gdLst/>
                  <a:ahLst/>
                  <a:rect l="l" t="t" r="r" b="b"/>
                  <a:pathLst>
                    <a:path w="141" h="111">
                      <a:moveTo>
                        <a:pt x="134" y="31"/>
                      </a:moveTo>
                      <a:lnTo>
                        <a:pt x="118" y="37"/>
                      </a:lnTo>
                      <a:lnTo>
                        <a:pt x="78" y="79"/>
                      </a:lnTo>
                      <a:lnTo>
                        <a:pt x="73" y="98"/>
                      </a:lnTo>
                      <a:lnTo>
                        <a:pt x="28" y="98"/>
                      </a:lnTo>
                      <a:lnTo>
                        <a:pt x="22" y="110"/>
                      </a:lnTo>
                      <a:lnTo>
                        <a:pt x="0" y="73"/>
                      </a:lnTo>
                      <a:lnTo>
                        <a:pt x="95" y="0"/>
                      </a:lnTo>
                      <a:lnTo>
                        <a:pt x="140" y="18"/>
                      </a:lnTo>
                      <a:lnTo>
                        <a:pt x="134" y="31"/>
                      </a:lnTo>
                    </a:path>
                  </a:pathLst>
                </a:cu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6" name=""/>
              <p:cNvGrpSpPr/>
              <p:nvPr/>
            </p:nvGrpSpPr>
            <p:grpSpPr>
              <a:xfrm>
                <a:off x="2955960" y="4736880"/>
                <a:ext cx="393840" cy="476280"/>
                <a:chOff x="2955960" y="4736880"/>
                <a:chExt cx="393840" cy="476280"/>
              </a:xfrm>
            </p:grpSpPr>
            <p:grpSp>
              <p:nvGrpSpPr>
                <p:cNvPr id="6497" name=""/>
                <p:cNvGrpSpPr/>
                <p:nvPr/>
              </p:nvGrpSpPr>
              <p:grpSpPr>
                <a:xfrm>
                  <a:off x="2955960" y="4799880"/>
                  <a:ext cx="217800" cy="288360"/>
                  <a:chOff x="2955960" y="4799880"/>
                  <a:chExt cx="217800" cy="288360"/>
                </a:xfrm>
              </p:grpSpPr>
              <p:sp>
                <p:nvSpPr>
                  <p:cNvPr id="6498" name=""/>
                  <p:cNvSpPr/>
                  <p:nvPr/>
                </p:nvSpPr>
                <p:spPr>
                  <a:xfrm>
                    <a:off x="2955960" y="4897800"/>
                    <a:ext cx="101160" cy="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9" name=""/>
                  <p:cNvSpPr/>
                  <p:nvPr/>
                </p:nvSpPr>
                <p:spPr>
                  <a:xfrm>
                    <a:off x="2974680" y="4969800"/>
                    <a:ext cx="120600" cy="118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0" name=""/>
                  <p:cNvSpPr/>
                  <p:nvPr/>
                </p:nvSpPr>
                <p:spPr>
                  <a:xfrm>
                    <a:off x="2994120" y="4799880"/>
                    <a:ext cx="179640" cy="17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1" name=""/>
                  <p:cNvSpPr/>
                  <p:nvPr/>
                </p:nvSpPr>
                <p:spPr>
                  <a:xfrm>
                    <a:off x="2981880" y="4903920"/>
                    <a:ext cx="6948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68">
                        <a:moveTo>
                          <a:pt x="22" y="0"/>
                        </a:moveTo>
                        <a:lnTo>
                          <a:pt x="0" y="12"/>
                        </a:lnTo>
                        <a:lnTo>
                          <a:pt x="0" y="55"/>
                        </a:lnTo>
                        <a:lnTo>
                          <a:pt x="11" y="67"/>
                        </a:lnTo>
                        <a:lnTo>
                          <a:pt x="39" y="55"/>
                        </a:lnTo>
                        <a:lnTo>
                          <a:pt x="22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02" name=""/>
                <p:cNvGrpSpPr/>
                <p:nvPr/>
              </p:nvGrpSpPr>
              <p:grpSpPr>
                <a:xfrm>
                  <a:off x="3024000" y="4736880"/>
                  <a:ext cx="325800" cy="476280"/>
                  <a:chOff x="3024000" y="4736880"/>
                  <a:chExt cx="325800" cy="476280"/>
                </a:xfrm>
              </p:grpSpPr>
              <p:sp>
                <p:nvSpPr>
                  <p:cNvPr id="6503" name=""/>
                  <p:cNvSpPr/>
                  <p:nvPr/>
                </p:nvSpPr>
                <p:spPr>
                  <a:xfrm>
                    <a:off x="3132000" y="4754160"/>
                    <a:ext cx="217800" cy="218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4" name=""/>
                  <p:cNvSpPr/>
                  <p:nvPr/>
                </p:nvSpPr>
                <p:spPr>
                  <a:xfrm>
                    <a:off x="3024000" y="4898160"/>
                    <a:ext cx="120240" cy="118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5" name=""/>
                  <p:cNvSpPr/>
                  <p:nvPr/>
                </p:nvSpPr>
                <p:spPr>
                  <a:xfrm>
                    <a:off x="3053520" y="4968720"/>
                    <a:ext cx="169200" cy="17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6" name=""/>
                  <p:cNvSpPr/>
                  <p:nvPr/>
                </p:nvSpPr>
                <p:spPr>
                  <a:xfrm>
                    <a:off x="3102120" y="5040360"/>
                    <a:ext cx="179640" cy="17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7" name=""/>
                  <p:cNvSpPr/>
                  <p:nvPr/>
                </p:nvSpPr>
                <p:spPr>
                  <a:xfrm>
                    <a:off x="3112920" y="4852440"/>
                    <a:ext cx="158400" cy="146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8" name=""/>
                  <p:cNvSpPr/>
                  <p:nvPr/>
                </p:nvSpPr>
                <p:spPr>
                  <a:xfrm>
                    <a:off x="3240360" y="4736880"/>
                    <a:ext cx="99000" cy="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9" name=""/>
                  <p:cNvSpPr/>
                  <p:nvPr/>
                </p:nvSpPr>
                <p:spPr>
                  <a:xfrm>
                    <a:off x="3157920" y="4823280"/>
                    <a:ext cx="11844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12"/>
                        </a:moveTo>
                        <a:lnTo>
                          <a:pt x="11" y="37"/>
                        </a:lnTo>
                        <a:lnTo>
                          <a:pt x="67" y="55"/>
                        </a:lnTo>
                        <a:lnTo>
                          <a:pt x="67" y="18"/>
                        </a:lnTo>
                        <a:lnTo>
                          <a:pt x="6" y="0"/>
                        </a:lnTo>
                        <a:lnTo>
                          <a:pt x="0" y="1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0" name=""/>
                  <p:cNvSpPr/>
                  <p:nvPr/>
                </p:nvSpPr>
                <p:spPr>
                  <a:xfrm>
                    <a:off x="3058560" y="4947840"/>
                    <a:ext cx="1306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05">
                        <a:moveTo>
                          <a:pt x="46" y="0"/>
                        </a:moveTo>
                        <a:lnTo>
                          <a:pt x="0" y="24"/>
                        </a:lnTo>
                        <a:lnTo>
                          <a:pt x="17" y="49"/>
                        </a:lnTo>
                        <a:lnTo>
                          <a:pt x="17" y="98"/>
                        </a:lnTo>
                        <a:lnTo>
                          <a:pt x="28" y="104"/>
                        </a:lnTo>
                        <a:lnTo>
                          <a:pt x="68" y="73"/>
                        </a:lnTo>
                        <a:lnTo>
                          <a:pt x="74" y="12"/>
                        </a:lnTo>
                        <a:lnTo>
                          <a:pt x="4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11" name=""/>
                <p:cNvSpPr/>
                <p:nvPr/>
              </p:nvSpPr>
              <p:spPr>
                <a:xfrm>
                  <a:off x="3226320" y="4777560"/>
                  <a:ext cx="80280" cy="82080"/>
                </a:xfrm>
                <a:custGeom>
                  <a:avLst/>
                  <a:gdLst/>
                  <a:ahLst/>
                  <a:rect l="l" t="t" r="r" b="b"/>
                  <a:pathLst>
                    <a:path w="46" h="56">
                      <a:moveTo>
                        <a:pt x="0" y="31"/>
                      </a:moveTo>
                      <a:lnTo>
                        <a:pt x="22" y="0"/>
                      </a:lnTo>
                      <a:lnTo>
                        <a:pt x="45" y="31"/>
                      </a:lnTo>
                      <a:lnTo>
                        <a:pt x="22" y="55"/>
                      </a:lnTo>
                      <a:lnTo>
                        <a:pt x="0" y="31"/>
                      </a:lnTo>
                    </a:path>
                  </a:pathLst>
                </a:cu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2" name=""/>
              <p:cNvGrpSpPr/>
              <p:nvPr/>
            </p:nvGrpSpPr>
            <p:grpSpPr>
              <a:xfrm>
                <a:off x="3151800" y="4656240"/>
                <a:ext cx="1148040" cy="798120"/>
                <a:chOff x="3151800" y="4656240"/>
                <a:chExt cx="1148040" cy="798120"/>
              </a:xfrm>
            </p:grpSpPr>
            <p:sp>
              <p:nvSpPr>
                <p:cNvPr id="6513" name=""/>
                <p:cNvSpPr/>
                <p:nvPr/>
              </p:nvSpPr>
              <p:spPr>
                <a:xfrm>
                  <a:off x="3504240" y="4682520"/>
                  <a:ext cx="286920" cy="26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4" name=""/>
                <p:cNvSpPr/>
                <p:nvPr/>
              </p:nvSpPr>
              <p:spPr>
                <a:xfrm>
                  <a:off x="3738600" y="4656240"/>
                  <a:ext cx="22896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5" name=""/>
                <p:cNvSpPr/>
                <p:nvPr/>
              </p:nvSpPr>
              <p:spPr>
                <a:xfrm>
                  <a:off x="3945240" y="4879440"/>
                  <a:ext cx="354600" cy="33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6" name=""/>
                <p:cNvSpPr/>
                <p:nvPr/>
              </p:nvSpPr>
              <p:spPr>
                <a:xfrm>
                  <a:off x="3279240" y="5023080"/>
                  <a:ext cx="403200" cy="38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7" name=""/>
                <p:cNvSpPr/>
                <p:nvPr/>
              </p:nvSpPr>
              <p:spPr>
                <a:xfrm>
                  <a:off x="3836520" y="5067000"/>
                  <a:ext cx="306000" cy="2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8" name=""/>
                <p:cNvSpPr/>
                <p:nvPr/>
              </p:nvSpPr>
              <p:spPr>
                <a:xfrm>
                  <a:off x="3181320" y="5093640"/>
                  <a:ext cx="218160" cy="21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9" name=""/>
                <p:cNvSpPr/>
                <p:nvPr/>
              </p:nvSpPr>
              <p:spPr>
                <a:xfrm>
                  <a:off x="3151800" y="4924800"/>
                  <a:ext cx="22680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0" name=""/>
                <p:cNvSpPr/>
                <p:nvPr/>
              </p:nvSpPr>
              <p:spPr>
                <a:xfrm>
                  <a:off x="3249360" y="4728240"/>
                  <a:ext cx="354600" cy="34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1" name=""/>
                <p:cNvSpPr/>
                <p:nvPr/>
              </p:nvSpPr>
              <p:spPr>
                <a:xfrm>
                  <a:off x="3562200" y="5121360"/>
                  <a:ext cx="356400" cy="33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2" name=""/>
                <p:cNvSpPr/>
                <p:nvPr/>
              </p:nvSpPr>
              <p:spPr>
                <a:xfrm>
                  <a:off x="3993840" y="4754520"/>
                  <a:ext cx="276120" cy="26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3" name=""/>
                <p:cNvSpPr/>
                <p:nvPr/>
              </p:nvSpPr>
              <p:spPr>
                <a:xfrm>
                  <a:off x="3915360" y="4656240"/>
                  <a:ext cx="256680" cy="23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4" name=""/>
                <p:cNvSpPr/>
                <p:nvPr/>
              </p:nvSpPr>
              <p:spPr>
                <a:xfrm>
                  <a:off x="3235320" y="4716360"/>
                  <a:ext cx="1001520" cy="635400"/>
                </a:xfrm>
                <a:custGeom>
                  <a:avLst/>
                  <a:gdLst/>
                  <a:ahLst/>
                  <a:rect l="l" t="t" r="r" b="b"/>
                  <a:pathLst>
                    <a:path w="573" h="433">
                      <a:moveTo>
                        <a:pt x="179" y="43"/>
                      </a:moveTo>
                      <a:lnTo>
                        <a:pt x="202" y="12"/>
                      </a:lnTo>
                      <a:lnTo>
                        <a:pt x="308" y="12"/>
                      </a:lnTo>
                      <a:lnTo>
                        <a:pt x="381" y="0"/>
                      </a:lnTo>
                      <a:lnTo>
                        <a:pt x="477" y="55"/>
                      </a:lnTo>
                      <a:lnTo>
                        <a:pt x="527" y="37"/>
                      </a:lnTo>
                      <a:lnTo>
                        <a:pt x="550" y="43"/>
                      </a:lnTo>
                      <a:lnTo>
                        <a:pt x="555" y="170"/>
                      </a:lnTo>
                      <a:lnTo>
                        <a:pt x="572" y="195"/>
                      </a:lnTo>
                      <a:lnTo>
                        <a:pt x="527" y="292"/>
                      </a:lnTo>
                      <a:lnTo>
                        <a:pt x="477" y="219"/>
                      </a:lnTo>
                      <a:lnTo>
                        <a:pt x="465" y="256"/>
                      </a:lnTo>
                      <a:lnTo>
                        <a:pt x="398" y="395"/>
                      </a:lnTo>
                      <a:lnTo>
                        <a:pt x="174" y="432"/>
                      </a:lnTo>
                      <a:lnTo>
                        <a:pt x="56" y="402"/>
                      </a:lnTo>
                      <a:lnTo>
                        <a:pt x="22" y="316"/>
                      </a:lnTo>
                      <a:lnTo>
                        <a:pt x="22" y="231"/>
                      </a:lnTo>
                      <a:lnTo>
                        <a:pt x="0" y="164"/>
                      </a:lnTo>
                      <a:lnTo>
                        <a:pt x="179" y="43"/>
                      </a:lnTo>
                    </a:path>
                  </a:pathLst>
                </a:cu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25" name=""/>
            <p:cNvSpPr/>
            <p:nvPr/>
          </p:nvSpPr>
          <p:spPr>
            <a:xfrm>
              <a:off x="3229920" y="4869360"/>
              <a:ext cx="93384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6" name=""/>
          <p:cNvSpPr/>
          <p:nvPr/>
        </p:nvSpPr>
        <p:spPr>
          <a:xfrm rot="2184000">
            <a:off x="6253200" y="3429000"/>
            <a:ext cx="822240" cy="982800"/>
          </a:xfrm>
          <a:custGeom>
            <a:avLst/>
            <a:gdLst/>
            <a:ahLst/>
            <a:rect l="l" t="t" r="r" b="b"/>
            <a:pathLst>
              <a:path w="1567" h="1498">
                <a:moveTo>
                  <a:pt x="0" y="1498"/>
                </a:moveTo>
                <a:lnTo>
                  <a:pt x="799" y="618"/>
                </a:lnTo>
                <a:lnTo>
                  <a:pt x="762" y="808"/>
                </a:lnTo>
                <a:lnTo>
                  <a:pt x="1567" y="0"/>
                </a:lnTo>
                <a:lnTo>
                  <a:pt x="645" y="1043"/>
                </a:lnTo>
                <a:lnTo>
                  <a:pt x="653" y="857"/>
                </a:lnTo>
                <a:lnTo>
                  <a:pt x="0" y="1498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7" name="" descr=""/>
          <p:cNvPicPr/>
          <p:nvPr/>
        </p:nvPicPr>
        <p:blipFill>
          <a:blip r:embed="rId4"/>
          <a:stretch/>
        </p:blipFill>
        <p:spPr>
          <a:xfrm>
            <a:off x="5257800" y="4114800"/>
            <a:ext cx="590400" cy="44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A16-0F4A-497F-8FD2-D2E058412CB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2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urity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9" name="PlaceHolder 2"/>
          <p:cNvSpPr>
            <a:spLocks noGrp="1"/>
          </p:cNvSpPr>
          <p:nvPr>
            <p:ph/>
          </p:nvPr>
        </p:nvSpPr>
        <p:spPr>
          <a:xfrm>
            <a:off x="511200" y="1295280"/>
            <a:ext cx="784872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identity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ed to the radio acces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level security not provided, e.g. user authentication through the Internet to corporate network Link level encry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, multicast, broad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oth user data and sign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bit and 168 bit key encryption based on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ual authentication based on challenge/respo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al pre-shared key or 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ken based handover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generation based on Diffie-Hellman exch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key refr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01D-E683-4A9A-9743-6AF5A144907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7772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incipals of HiperLAN/2 Ad-hoc Networking  -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1" name=""/>
          <p:cNvGrpSpPr/>
          <p:nvPr/>
        </p:nvGrpSpPr>
        <p:grpSpPr>
          <a:xfrm>
            <a:off x="4131720" y="1355760"/>
            <a:ext cx="3945600" cy="1450800"/>
            <a:chOff x="4131720" y="1355760"/>
            <a:chExt cx="3945600" cy="1450800"/>
          </a:xfrm>
        </p:grpSpPr>
        <p:sp>
          <p:nvSpPr>
            <p:cNvPr id="6532" name=""/>
            <p:cNvSpPr/>
            <p:nvPr/>
          </p:nvSpPr>
          <p:spPr>
            <a:xfrm>
              <a:off x="4131720" y="1355760"/>
              <a:ext cx="3621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Case 2: two CC-capable WTs are 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           switched on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3" name=""/>
            <p:cNvGrpSpPr/>
            <p:nvPr/>
          </p:nvGrpSpPr>
          <p:grpSpPr>
            <a:xfrm>
              <a:off x="4724280" y="2133360"/>
              <a:ext cx="685800" cy="673200"/>
              <a:chOff x="4724280" y="2133360"/>
              <a:chExt cx="685800" cy="673200"/>
            </a:xfrm>
          </p:grpSpPr>
          <p:sp>
            <p:nvSpPr>
              <p:cNvPr id="6534" name=""/>
              <p:cNvSpPr/>
              <p:nvPr/>
            </p:nvSpPr>
            <p:spPr>
              <a:xfrm>
                <a:off x="4724280" y="2412720"/>
                <a:ext cx="685800" cy="39384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WT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35" name=""/>
              <p:cNvGrpSpPr/>
              <p:nvPr/>
            </p:nvGrpSpPr>
            <p:grpSpPr>
              <a:xfrm>
                <a:off x="4920120" y="2133360"/>
                <a:ext cx="312840" cy="279360"/>
                <a:chOff x="4920120" y="2133360"/>
                <a:chExt cx="312840" cy="279360"/>
              </a:xfrm>
            </p:grpSpPr>
            <p:sp>
              <p:nvSpPr>
                <p:cNvPr id="6536" name=""/>
                <p:cNvSpPr/>
                <p:nvPr/>
              </p:nvSpPr>
              <p:spPr>
                <a:xfrm flipV="1">
                  <a:off x="5076360" y="2133360"/>
                  <a:ext cx="0" cy="27936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7" name=""/>
                <p:cNvSpPr/>
                <p:nvPr/>
              </p:nvSpPr>
              <p:spPr>
                <a:xfrm flipH="1" flipV="1">
                  <a:off x="4920120" y="2158200"/>
                  <a:ext cx="156240" cy="12708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8" name=""/>
                <p:cNvSpPr/>
                <p:nvPr/>
              </p:nvSpPr>
              <p:spPr>
                <a:xfrm flipV="1">
                  <a:off x="5076360" y="2145960"/>
                  <a:ext cx="156600" cy="12672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39" name=""/>
            <p:cNvGrpSpPr/>
            <p:nvPr/>
          </p:nvGrpSpPr>
          <p:grpSpPr>
            <a:xfrm>
              <a:off x="7467480" y="2133360"/>
              <a:ext cx="609840" cy="673200"/>
              <a:chOff x="7467480" y="2133360"/>
              <a:chExt cx="609840" cy="673200"/>
            </a:xfrm>
          </p:grpSpPr>
          <p:sp>
            <p:nvSpPr>
              <p:cNvPr id="6540" name=""/>
              <p:cNvSpPr/>
              <p:nvPr/>
            </p:nvSpPr>
            <p:spPr>
              <a:xfrm>
                <a:off x="7467480" y="2412720"/>
                <a:ext cx="609840" cy="39384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WT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41" name=""/>
              <p:cNvGrpSpPr/>
              <p:nvPr/>
            </p:nvGrpSpPr>
            <p:grpSpPr>
              <a:xfrm>
                <a:off x="7641720" y="2133360"/>
                <a:ext cx="278280" cy="279360"/>
                <a:chOff x="7641720" y="2133360"/>
                <a:chExt cx="278280" cy="279360"/>
              </a:xfrm>
            </p:grpSpPr>
            <p:sp>
              <p:nvSpPr>
                <p:cNvPr id="6542" name=""/>
                <p:cNvSpPr/>
                <p:nvPr/>
              </p:nvSpPr>
              <p:spPr>
                <a:xfrm flipV="1">
                  <a:off x="7780680" y="2133360"/>
                  <a:ext cx="0" cy="27936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3" name=""/>
                <p:cNvSpPr/>
                <p:nvPr/>
              </p:nvSpPr>
              <p:spPr>
                <a:xfrm flipH="1" flipV="1">
                  <a:off x="7641720" y="2158200"/>
                  <a:ext cx="138960" cy="12708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4" name=""/>
                <p:cNvSpPr/>
                <p:nvPr/>
              </p:nvSpPr>
              <p:spPr>
                <a:xfrm flipV="1">
                  <a:off x="7780680" y="2145960"/>
                  <a:ext cx="139320" cy="12672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45" name=""/>
          <p:cNvGrpSpPr/>
          <p:nvPr/>
        </p:nvGrpSpPr>
        <p:grpSpPr>
          <a:xfrm>
            <a:off x="892080" y="2896560"/>
            <a:ext cx="2863440" cy="655920"/>
            <a:chOff x="892080" y="2896560"/>
            <a:chExt cx="2863440" cy="655920"/>
          </a:xfrm>
        </p:grpSpPr>
        <p:sp>
          <p:nvSpPr>
            <p:cNvPr id="6546" name=""/>
            <p:cNvSpPr/>
            <p:nvPr/>
          </p:nvSpPr>
          <p:spPr>
            <a:xfrm>
              <a:off x="1412280" y="2896560"/>
              <a:ext cx="234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96600"/>
                  </a:solidFill>
                  <a:latin typeface="Comic Sans MS"/>
                </a:rPr>
                <a:t>No beacon detec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96600"/>
                  </a:solidFill>
                  <a:latin typeface="Comic Sans MS"/>
                </a:rPr>
                <a:t>start prob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892080" y="3019320"/>
              <a:ext cx="304920" cy="533160"/>
            </a:xfrm>
            <a:prstGeom prst="downArrow">
              <a:avLst>
                <a:gd name="adj1" fmla="val 50000"/>
                <a:gd name="adj2" fmla="val 43713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8" name=""/>
          <p:cNvGrpSpPr/>
          <p:nvPr/>
        </p:nvGrpSpPr>
        <p:grpSpPr>
          <a:xfrm>
            <a:off x="4800600" y="2849040"/>
            <a:ext cx="3352680" cy="1265760"/>
            <a:chOff x="4800600" y="2849040"/>
            <a:chExt cx="3352680" cy="1265760"/>
          </a:xfrm>
        </p:grpSpPr>
        <p:sp>
          <p:nvSpPr>
            <p:cNvPr id="6549" name=""/>
            <p:cNvSpPr/>
            <p:nvPr/>
          </p:nvSpPr>
          <p:spPr>
            <a:xfrm>
              <a:off x="5222160" y="2849040"/>
              <a:ext cx="234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96600"/>
                  </a:solidFill>
                  <a:latin typeface="Comic Sans MS"/>
                </a:rPr>
                <a:t>No beacon detec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96600"/>
                  </a:solidFill>
                  <a:latin typeface="Comic Sans MS"/>
                </a:rPr>
                <a:t>start prob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4800600" y="3552840"/>
              <a:ext cx="3352680" cy="5619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Collision Resol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4905360" y="2971800"/>
              <a:ext cx="304920" cy="457200"/>
            </a:xfrm>
            <a:prstGeom prst="downArrow">
              <a:avLst>
                <a:gd name="adj1" fmla="val 50000"/>
                <a:gd name="adj2" fmla="val 37485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7664400" y="2971800"/>
              <a:ext cx="304920" cy="457200"/>
            </a:xfrm>
            <a:prstGeom prst="downArrow">
              <a:avLst>
                <a:gd name="adj1" fmla="val 50000"/>
                <a:gd name="adj2" fmla="val 37485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3" name=""/>
          <p:cNvGrpSpPr/>
          <p:nvPr/>
        </p:nvGrpSpPr>
        <p:grpSpPr>
          <a:xfrm>
            <a:off x="3225960" y="4190760"/>
            <a:ext cx="5262480" cy="1431720"/>
            <a:chOff x="3225960" y="4190760"/>
            <a:chExt cx="5262480" cy="1431720"/>
          </a:xfrm>
        </p:grpSpPr>
        <p:grpSp>
          <p:nvGrpSpPr>
            <p:cNvPr id="6554" name=""/>
            <p:cNvGrpSpPr/>
            <p:nvPr/>
          </p:nvGrpSpPr>
          <p:grpSpPr>
            <a:xfrm>
              <a:off x="4876920" y="4191120"/>
              <a:ext cx="609480" cy="882360"/>
              <a:chOff x="4876920" y="4191120"/>
              <a:chExt cx="609480" cy="882360"/>
            </a:xfrm>
          </p:grpSpPr>
          <p:sp>
            <p:nvSpPr>
              <p:cNvPr id="6555" name=""/>
              <p:cNvSpPr/>
              <p:nvPr/>
            </p:nvSpPr>
            <p:spPr>
              <a:xfrm>
                <a:off x="4876920" y="4464000"/>
                <a:ext cx="609480" cy="609480"/>
              </a:xfrm>
              <a:prstGeom prst="smileyFace">
                <a:avLst>
                  <a:gd name="adj" fmla="val 9282"/>
                </a:avLst>
              </a:prstGeom>
              <a:solidFill>
                <a:srgbClr val="33cc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56" name=""/>
              <p:cNvGrpSpPr/>
              <p:nvPr/>
            </p:nvGrpSpPr>
            <p:grpSpPr>
              <a:xfrm>
                <a:off x="5048280" y="4191120"/>
                <a:ext cx="276840" cy="279360"/>
                <a:chOff x="5048280" y="4191120"/>
                <a:chExt cx="276840" cy="279360"/>
              </a:xfrm>
            </p:grpSpPr>
            <p:sp>
              <p:nvSpPr>
                <p:cNvPr id="6557" name=""/>
                <p:cNvSpPr/>
                <p:nvPr/>
              </p:nvSpPr>
              <p:spPr>
                <a:xfrm flipV="1">
                  <a:off x="5186520" y="4191120"/>
                  <a:ext cx="0" cy="27936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8" name=""/>
                <p:cNvSpPr/>
                <p:nvPr/>
              </p:nvSpPr>
              <p:spPr>
                <a:xfrm flipH="1" flipV="1">
                  <a:off x="5048280" y="4215960"/>
                  <a:ext cx="138240" cy="12708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9" name=""/>
                <p:cNvSpPr/>
                <p:nvPr/>
              </p:nvSpPr>
              <p:spPr>
                <a:xfrm flipV="1">
                  <a:off x="5186520" y="4203720"/>
                  <a:ext cx="138600" cy="12672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0" name=""/>
            <p:cNvSpPr/>
            <p:nvPr/>
          </p:nvSpPr>
          <p:spPr>
            <a:xfrm>
              <a:off x="7467480" y="4464000"/>
              <a:ext cx="609840" cy="609120"/>
            </a:xfrm>
            <a:prstGeom prst="smileyFace">
              <a:avLst>
                <a:gd name="adj" fmla="val -4652"/>
              </a:avLst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1" name=""/>
            <p:cNvGrpSpPr/>
            <p:nvPr/>
          </p:nvGrpSpPr>
          <p:grpSpPr>
            <a:xfrm>
              <a:off x="7638840" y="4190760"/>
              <a:ext cx="277920" cy="279000"/>
              <a:chOff x="7638840" y="4190760"/>
              <a:chExt cx="277920" cy="279000"/>
            </a:xfrm>
          </p:grpSpPr>
          <p:sp>
            <p:nvSpPr>
              <p:cNvPr id="6562" name=""/>
              <p:cNvSpPr/>
              <p:nvPr/>
            </p:nvSpPr>
            <p:spPr>
              <a:xfrm flipV="1">
                <a:off x="7777800" y="4190760"/>
                <a:ext cx="0" cy="2790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 flipH="1" flipV="1">
                <a:off x="7638840" y="4216320"/>
                <a:ext cx="138600" cy="1267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 flipV="1">
                <a:off x="7777800" y="4203720"/>
                <a:ext cx="138960" cy="1267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5" name=""/>
            <p:cNvSpPr/>
            <p:nvPr/>
          </p:nvSpPr>
          <p:spPr>
            <a:xfrm>
              <a:off x="3225960" y="5162400"/>
              <a:ext cx="2209680" cy="456840"/>
            </a:xfrm>
            <a:prstGeom prst="wedgeEllipseCallout">
              <a:avLst>
                <a:gd name="adj1" fmla="val 25574"/>
                <a:gd name="adj2" fmla="val -9687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3613680" y="5207760"/>
              <a:ext cx="14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 am the 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6064200" y="5165640"/>
              <a:ext cx="2394000" cy="456840"/>
            </a:xfrm>
            <a:prstGeom prst="wedgeEllipseCallout">
              <a:avLst>
                <a:gd name="adj1" fmla="val 11472"/>
                <a:gd name="adj2" fmla="val -8680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6095880" y="5226840"/>
              <a:ext cx="239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 am a W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9" name=""/>
          <p:cNvGrpSpPr/>
          <p:nvPr/>
        </p:nvGrpSpPr>
        <p:grpSpPr>
          <a:xfrm>
            <a:off x="771480" y="3763800"/>
            <a:ext cx="2793960" cy="882720"/>
            <a:chOff x="771480" y="3763800"/>
            <a:chExt cx="2793960" cy="882720"/>
          </a:xfrm>
        </p:grpSpPr>
        <p:grpSp>
          <p:nvGrpSpPr>
            <p:cNvPr id="6570" name=""/>
            <p:cNvGrpSpPr/>
            <p:nvPr/>
          </p:nvGrpSpPr>
          <p:grpSpPr>
            <a:xfrm>
              <a:off x="771480" y="3763800"/>
              <a:ext cx="609840" cy="882720"/>
              <a:chOff x="771480" y="3763800"/>
              <a:chExt cx="609840" cy="882720"/>
            </a:xfrm>
          </p:grpSpPr>
          <p:sp>
            <p:nvSpPr>
              <p:cNvPr id="6571" name=""/>
              <p:cNvSpPr/>
              <p:nvPr/>
            </p:nvSpPr>
            <p:spPr>
              <a:xfrm>
                <a:off x="771480" y="4036680"/>
                <a:ext cx="609840" cy="609840"/>
              </a:xfrm>
              <a:prstGeom prst="smileyFace">
                <a:avLst>
                  <a:gd name="adj" fmla="val 9282"/>
                </a:avLst>
              </a:prstGeom>
              <a:solidFill>
                <a:srgbClr val="33cc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2" name=""/>
              <p:cNvGrpSpPr/>
              <p:nvPr/>
            </p:nvGrpSpPr>
            <p:grpSpPr>
              <a:xfrm>
                <a:off x="942480" y="3763800"/>
                <a:ext cx="277920" cy="279360"/>
                <a:chOff x="942480" y="3763800"/>
                <a:chExt cx="277920" cy="279360"/>
              </a:xfrm>
            </p:grpSpPr>
            <p:sp>
              <p:nvSpPr>
                <p:cNvPr id="6573" name=""/>
                <p:cNvSpPr/>
                <p:nvPr/>
              </p:nvSpPr>
              <p:spPr>
                <a:xfrm flipV="1">
                  <a:off x="1081440" y="3763800"/>
                  <a:ext cx="0" cy="27936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4" name=""/>
                <p:cNvSpPr/>
                <p:nvPr/>
              </p:nvSpPr>
              <p:spPr>
                <a:xfrm flipH="1" flipV="1">
                  <a:off x="942480" y="3788640"/>
                  <a:ext cx="138600" cy="12708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5" name=""/>
                <p:cNvSpPr/>
                <p:nvPr/>
              </p:nvSpPr>
              <p:spPr>
                <a:xfrm flipV="1">
                  <a:off x="1081440" y="3776400"/>
                  <a:ext cx="138960" cy="12672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6" name=""/>
            <p:cNvSpPr/>
            <p:nvPr/>
          </p:nvSpPr>
          <p:spPr>
            <a:xfrm>
              <a:off x="1355760" y="3871800"/>
              <a:ext cx="2209680" cy="457200"/>
            </a:xfrm>
            <a:prstGeom prst="wedgeEllipseCallout">
              <a:avLst>
                <a:gd name="adj1" fmla="val -55888"/>
                <a:gd name="adj2" fmla="val 10625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1683360" y="3917160"/>
              <a:ext cx="14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 am the 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8" name=""/>
          <p:cNvGrpSpPr/>
          <p:nvPr/>
        </p:nvGrpSpPr>
        <p:grpSpPr>
          <a:xfrm>
            <a:off x="386640" y="1371600"/>
            <a:ext cx="2994840" cy="3994560"/>
            <a:chOff x="386640" y="1371600"/>
            <a:chExt cx="2994840" cy="3994560"/>
          </a:xfrm>
        </p:grpSpPr>
        <p:grpSp>
          <p:nvGrpSpPr>
            <p:cNvPr id="6579" name=""/>
            <p:cNvGrpSpPr/>
            <p:nvPr/>
          </p:nvGrpSpPr>
          <p:grpSpPr>
            <a:xfrm>
              <a:off x="582480" y="1371600"/>
              <a:ext cx="2799000" cy="1482480"/>
              <a:chOff x="582480" y="1371600"/>
              <a:chExt cx="2799000" cy="1482480"/>
            </a:xfrm>
          </p:grpSpPr>
          <p:sp>
            <p:nvSpPr>
              <p:cNvPr id="6580" name=""/>
              <p:cNvSpPr/>
              <p:nvPr/>
            </p:nvSpPr>
            <p:spPr>
              <a:xfrm>
                <a:off x="582480" y="1371600"/>
                <a:ext cx="2799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Case 1: one CC-capable WT 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          is switched on fir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685800" y="2460600"/>
                <a:ext cx="685800" cy="39348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82" name=""/>
              <p:cNvGrpSpPr/>
              <p:nvPr/>
            </p:nvGrpSpPr>
            <p:grpSpPr>
              <a:xfrm>
                <a:off x="936360" y="2181240"/>
                <a:ext cx="277920" cy="279360"/>
                <a:chOff x="936360" y="2181240"/>
                <a:chExt cx="277920" cy="279360"/>
              </a:xfrm>
            </p:grpSpPr>
            <p:sp>
              <p:nvSpPr>
                <p:cNvPr id="6583" name=""/>
                <p:cNvSpPr/>
                <p:nvPr/>
              </p:nvSpPr>
              <p:spPr>
                <a:xfrm flipV="1">
                  <a:off x="1075320" y="2181240"/>
                  <a:ext cx="0" cy="27936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4" name=""/>
                <p:cNvSpPr/>
                <p:nvPr/>
              </p:nvSpPr>
              <p:spPr>
                <a:xfrm flipH="1" flipV="1">
                  <a:off x="936360" y="2206080"/>
                  <a:ext cx="138600" cy="12708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5" name=""/>
                <p:cNvSpPr/>
                <p:nvPr/>
              </p:nvSpPr>
              <p:spPr>
                <a:xfrm flipV="1">
                  <a:off x="1075320" y="2193840"/>
                  <a:ext cx="138960" cy="12672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86" name=""/>
            <p:cNvSpPr/>
            <p:nvPr/>
          </p:nvSpPr>
          <p:spPr>
            <a:xfrm>
              <a:off x="386640" y="5028840"/>
              <a:ext cx="231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cc"/>
                  </a:solidFill>
                  <a:latin typeface="Arial"/>
                </a:rPr>
                <a:t>CC: Central Control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7" name=""/>
          <p:cNvSpPr/>
          <p:nvPr/>
        </p:nvSpPr>
        <p:spPr>
          <a:xfrm>
            <a:off x="380880" y="9907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twork 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853A-58D3-4726-8E5B-579DFE0CB7D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68580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“Data” 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erLAN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rum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c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03F7-CFAE-4950-BFF2-5A6BDEB64F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incipals of HiperLAN/2 Ad-hoc Networking  -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9" name=""/>
          <p:cNvGrpSpPr/>
          <p:nvPr/>
        </p:nvGrpSpPr>
        <p:grpSpPr>
          <a:xfrm>
            <a:off x="771480" y="2290680"/>
            <a:ext cx="685800" cy="709200"/>
            <a:chOff x="771480" y="2290680"/>
            <a:chExt cx="685800" cy="709200"/>
          </a:xfrm>
        </p:grpSpPr>
        <p:sp>
          <p:nvSpPr>
            <p:cNvPr id="6590" name=""/>
            <p:cNvSpPr/>
            <p:nvPr/>
          </p:nvSpPr>
          <p:spPr>
            <a:xfrm>
              <a:off x="771480" y="2585160"/>
              <a:ext cx="685800" cy="4147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W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1" name=""/>
            <p:cNvGrpSpPr/>
            <p:nvPr/>
          </p:nvGrpSpPr>
          <p:grpSpPr>
            <a:xfrm>
              <a:off x="1022040" y="2290680"/>
              <a:ext cx="277920" cy="294480"/>
              <a:chOff x="1022040" y="2290680"/>
              <a:chExt cx="277920" cy="294480"/>
            </a:xfrm>
          </p:grpSpPr>
          <p:sp>
            <p:nvSpPr>
              <p:cNvPr id="6592" name=""/>
              <p:cNvSpPr/>
              <p:nvPr/>
            </p:nvSpPr>
            <p:spPr>
              <a:xfrm flipV="1">
                <a:off x="1161000" y="2290680"/>
                <a:ext cx="0" cy="29448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 flipH="1" flipV="1">
                <a:off x="1022040" y="2317320"/>
                <a:ext cx="138600" cy="1339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 flipV="1">
                <a:off x="1161000" y="2303640"/>
                <a:ext cx="138960" cy="1335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95" name=""/>
          <p:cNvGrpSpPr/>
          <p:nvPr/>
        </p:nvGrpSpPr>
        <p:grpSpPr>
          <a:xfrm>
            <a:off x="2089800" y="2503080"/>
            <a:ext cx="3999960" cy="507960"/>
            <a:chOff x="2089800" y="2503080"/>
            <a:chExt cx="3999960" cy="507960"/>
          </a:xfrm>
        </p:grpSpPr>
        <p:sp>
          <p:nvSpPr>
            <p:cNvPr id="6596" name=""/>
            <p:cNvSpPr/>
            <p:nvPr/>
          </p:nvSpPr>
          <p:spPr>
            <a:xfrm>
              <a:off x="2307960" y="3009600"/>
              <a:ext cx="3657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2089800" y="2503080"/>
              <a:ext cx="399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SSOCIATE(</a:t>
              </a: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random No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) @ </a:t>
              </a: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random ac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8" name=""/>
          <p:cNvSpPr/>
          <p:nvPr/>
        </p:nvSpPr>
        <p:spPr>
          <a:xfrm>
            <a:off x="2718720" y="4266720"/>
            <a:ext cx="296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uthentication (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user profile, etc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9" name=""/>
          <p:cNvGrpSpPr/>
          <p:nvPr/>
        </p:nvGrpSpPr>
        <p:grpSpPr>
          <a:xfrm>
            <a:off x="1150920" y="3451320"/>
            <a:ext cx="5688360" cy="2257200"/>
            <a:chOff x="1150920" y="3451320"/>
            <a:chExt cx="5688360" cy="2257200"/>
          </a:xfrm>
        </p:grpSpPr>
        <p:grpSp>
          <p:nvGrpSpPr>
            <p:cNvPr id="6600" name=""/>
            <p:cNvGrpSpPr/>
            <p:nvPr/>
          </p:nvGrpSpPr>
          <p:grpSpPr>
            <a:xfrm>
              <a:off x="1150920" y="3451320"/>
              <a:ext cx="5688360" cy="1766160"/>
              <a:chOff x="1150920" y="3451320"/>
              <a:chExt cx="5688360" cy="1766160"/>
            </a:xfrm>
          </p:grpSpPr>
          <p:grpSp>
            <p:nvGrpSpPr>
              <p:cNvPr id="6601" name=""/>
              <p:cNvGrpSpPr/>
              <p:nvPr/>
            </p:nvGrpSpPr>
            <p:grpSpPr>
              <a:xfrm>
                <a:off x="1456560" y="3559680"/>
                <a:ext cx="5069880" cy="474840"/>
                <a:chOff x="1456560" y="3559680"/>
                <a:chExt cx="5069880" cy="474840"/>
              </a:xfrm>
            </p:grpSpPr>
            <p:sp>
              <p:nvSpPr>
                <p:cNvPr id="6602" name=""/>
                <p:cNvSpPr/>
                <p:nvPr/>
              </p:nvSpPr>
              <p:spPr>
                <a:xfrm flipH="1">
                  <a:off x="2033280" y="4032720"/>
                  <a:ext cx="387468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3" name=""/>
                <p:cNvSpPr/>
                <p:nvPr/>
              </p:nvSpPr>
              <p:spPr>
                <a:xfrm>
                  <a:off x="1456560" y="3559680"/>
                  <a:ext cx="5069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ASSOCIATE_ACK (</a:t>
                  </a:r>
                  <a:r>
                    <a:rPr b="1" i="1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MAC_ID, random No</a:t>
                  </a: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) @ </a:t>
                  </a:r>
                  <a:r>
                    <a:rPr b="1" lang="en-GB" sz="1600" spc="-1" strike="noStrike">
                      <a:solidFill>
                        <a:srgbClr val="ff0000"/>
                      </a:solidFill>
                      <a:latin typeface="Times New Roman"/>
                    </a:rPr>
                    <a:t>broadcas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4" name=""/>
              <p:cNvGrpSpPr/>
              <p:nvPr/>
            </p:nvGrpSpPr>
            <p:grpSpPr>
              <a:xfrm>
                <a:off x="1150920" y="3451320"/>
                <a:ext cx="5688360" cy="1766160"/>
                <a:chOff x="1150920" y="3451320"/>
                <a:chExt cx="5688360" cy="1766160"/>
              </a:xfrm>
            </p:grpSpPr>
            <p:sp>
              <p:nvSpPr>
                <p:cNvPr id="6605" name=""/>
                <p:cNvSpPr/>
                <p:nvPr/>
              </p:nvSpPr>
              <p:spPr>
                <a:xfrm>
                  <a:off x="6839280" y="3544200"/>
                  <a:ext cx="0" cy="16732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prstDash val="sysDot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6" name=""/>
                <p:cNvSpPr/>
                <p:nvPr/>
              </p:nvSpPr>
              <p:spPr>
                <a:xfrm>
                  <a:off x="1150920" y="5217480"/>
                  <a:ext cx="5688360" cy="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7" name=""/>
                <p:cNvSpPr/>
                <p:nvPr/>
              </p:nvSpPr>
              <p:spPr>
                <a:xfrm flipV="1">
                  <a:off x="1150920" y="3451320"/>
                  <a:ext cx="0" cy="176616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08" name=""/>
            <p:cNvSpPr/>
            <p:nvPr/>
          </p:nvSpPr>
          <p:spPr>
            <a:xfrm>
              <a:off x="1797840" y="5371200"/>
              <a:ext cx="420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dedicated control channel (DCCH) establis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9" name=""/>
          <p:cNvGrpSpPr/>
          <p:nvPr/>
        </p:nvGrpSpPr>
        <p:grpSpPr>
          <a:xfrm>
            <a:off x="4572000" y="1479600"/>
            <a:ext cx="4419360" cy="1804320"/>
            <a:chOff x="4572000" y="1479600"/>
            <a:chExt cx="4419360" cy="1804320"/>
          </a:xfrm>
        </p:grpSpPr>
        <p:grpSp>
          <p:nvGrpSpPr>
            <p:cNvPr id="6610" name=""/>
            <p:cNvGrpSpPr/>
            <p:nvPr/>
          </p:nvGrpSpPr>
          <p:grpSpPr>
            <a:xfrm>
              <a:off x="6553080" y="2353320"/>
              <a:ext cx="609840" cy="930600"/>
              <a:chOff x="6553080" y="2353320"/>
              <a:chExt cx="609840" cy="930600"/>
            </a:xfrm>
          </p:grpSpPr>
          <p:sp>
            <p:nvSpPr>
              <p:cNvPr id="6611" name=""/>
              <p:cNvSpPr/>
              <p:nvPr/>
            </p:nvSpPr>
            <p:spPr>
              <a:xfrm>
                <a:off x="6553080" y="2640960"/>
                <a:ext cx="609840" cy="642960"/>
              </a:xfrm>
              <a:prstGeom prst="smileyFace">
                <a:avLst>
                  <a:gd name="adj" fmla="val 9282"/>
                </a:avLst>
              </a:prstGeom>
              <a:solidFill>
                <a:srgbClr val="33cc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12" name=""/>
              <p:cNvGrpSpPr/>
              <p:nvPr/>
            </p:nvGrpSpPr>
            <p:grpSpPr>
              <a:xfrm>
                <a:off x="6724080" y="2353320"/>
                <a:ext cx="277920" cy="294480"/>
                <a:chOff x="6724080" y="2353320"/>
                <a:chExt cx="277920" cy="294480"/>
              </a:xfrm>
            </p:grpSpPr>
            <p:sp>
              <p:nvSpPr>
                <p:cNvPr id="6613" name=""/>
                <p:cNvSpPr/>
                <p:nvPr/>
              </p:nvSpPr>
              <p:spPr>
                <a:xfrm flipV="1">
                  <a:off x="6863040" y="2353320"/>
                  <a:ext cx="0" cy="29448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4" name=""/>
                <p:cNvSpPr/>
                <p:nvPr/>
              </p:nvSpPr>
              <p:spPr>
                <a:xfrm flipH="1" flipV="1">
                  <a:off x="6724080" y="2379960"/>
                  <a:ext cx="138600" cy="13392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5" name=""/>
                <p:cNvSpPr/>
                <p:nvPr/>
              </p:nvSpPr>
              <p:spPr>
                <a:xfrm flipV="1">
                  <a:off x="6863040" y="2366280"/>
                  <a:ext cx="138960" cy="13356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16" name=""/>
            <p:cNvGrpSpPr/>
            <p:nvPr/>
          </p:nvGrpSpPr>
          <p:grpSpPr>
            <a:xfrm>
              <a:off x="4572000" y="1479600"/>
              <a:ext cx="4419360" cy="963720"/>
              <a:chOff x="4572000" y="1479600"/>
              <a:chExt cx="4419360" cy="963720"/>
            </a:xfrm>
          </p:grpSpPr>
          <p:sp>
            <p:nvSpPr>
              <p:cNvPr id="6617" name=""/>
              <p:cNvSpPr/>
              <p:nvPr/>
            </p:nvSpPr>
            <p:spPr>
              <a:xfrm>
                <a:off x="4572000" y="1479600"/>
                <a:ext cx="4419360" cy="963720"/>
              </a:xfrm>
              <a:prstGeom prst="irregularSeal1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5190840" y="1744920"/>
                <a:ext cx="3093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996600"/>
                    </a:solidFill>
                    <a:latin typeface="Comic Sans MS"/>
                  </a:rPr>
                  <a:t>Beacon every 2 m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9" name=""/>
            <p:cNvSpPr/>
            <p:nvPr/>
          </p:nvSpPr>
          <p:spPr>
            <a:xfrm>
              <a:off x="6980040" y="239256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0" name=""/>
          <p:cNvSpPr/>
          <p:nvPr/>
        </p:nvSpPr>
        <p:spPr>
          <a:xfrm>
            <a:off x="304920" y="14479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Terminal associ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96D-B8E6-40AA-A238-4703CF81429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incipals of HiperLAN/2 Ad-hoc Networking  - II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2" name=""/>
          <p:cNvGrpSpPr/>
          <p:nvPr/>
        </p:nvGrpSpPr>
        <p:grpSpPr>
          <a:xfrm>
            <a:off x="720720" y="1558800"/>
            <a:ext cx="7829640" cy="695160"/>
            <a:chOff x="720720" y="1558800"/>
            <a:chExt cx="7829640" cy="695160"/>
          </a:xfrm>
        </p:grpSpPr>
        <p:grpSp>
          <p:nvGrpSpPr>
            <p:cNvPr id="6623" name=""/>
            <p:cNvGrpSpPr/>
            <p:nvPr/>
          </p:nvGrpSpPr>
          <p:grpSpPr>
            <a:xfrm>
              <a:off x="7864560" y="1581120"/>
              <a:ext cx="685800" cy="672840"/>
              <a:chOff x="7864560" y="1581120"/>
              <a:chExt cx="685800" cy="672840"/>
            </a:xfrm>
          </p:grpSpPr>
          <p:sp>
            <p:nvSpPr>
              <p:cNvPr id="6624" name=""/>
              <p:cNvSpPr/>
              <p:nvPr/>
            </p:nvSpPr>
            <p:spPr>
              <a:xfrm>
                <a:off x="7864560" y="1860480"/>
                <a:ext cx="685800" cy="39348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WT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25" name=""/>
              <p:cNvGrpSpPr/>
              <p:nvPr/>
            </p:nvGrpSpPr>
            <p:grpSpPr>
              <a:xfrm>
                <a:off x="8115120" y="1581120"/>
                <a:ext cx="277920" cy="279360"/>
                <a:chOff x="8115120" y="1581120"/>
                <a:chExt cx="277920" cy="279360"/>
              </a:xfrm>
            </p:grpSpPr>
            <p:sp>
              <p:nvSpPr>
                <p:cNvPr id="6626" name=""/>
                <p:cNvSpPr/>
                <p:nvPr/>
              </p:nvSpPr>
              <p:spPr>
                <a:xfrm flipV="1">
                  <a:off x="8254080" y="1581120"/>
                  <a:ext cx="0" cy="27936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7" name=""/>
                <p:cNvSpPr/>
                <p:nvPr/>
              </p:nvSpPr>
              <p:spPr>
                <a:xfrm flipH="1" flipV="1">
                  <a:off x="8115120" y="1605960"/>
                  <a:ext cx="138600" cy="12708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8" name=""/>
                <p:cNvSpPr/>
                <p:nvPr/>
              </p:nvSpPr>
              <p:spPr>
                <a:xfrm flipV="1">
                  <a:off x="8254080" y="1593720"/>
                  <a:ext cx="138960" cy="12672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29" name=""/>
            <p:cNvGrpSpPr/>
            <p:nvPr/>
          </p:nvGrpSpPr>
          <p:grpSpPr>
            <a:xfrm>
              <a:off x="720720" y="1558800"/>
              <a:ext cx="685800" cy="672840"/>
              <a:chOff x="720720" y="1558800"/>
              <a:chExt cx="685800" cy="672840"/>
            </a:xfrm>
          </p:grpSpPr>
          <p:sp>
            <p:nvSpPr>
              <p:cNvPr id="6630" name=""/>
              <p:cNvSpPr/>
              <p:nvPr/>
            </p:nvSpPr>
            <p:spPr>
              <a:xfrm>
                <a:off x="720720" y="1838160"/>
                <a:ext cx="685800" cy="39348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WT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1" name=""/>
              <p:cNvGrpSpPr/>
              <p:nvPr/>
            </p:nvGrpSpPr>
            <p:grpSpPr>
              <a:xfrm>
                <a:off x="971280" y="1558800"/>
                <a:ext cx="277920" cy="279360"/>
                <a:chOff x="971280" y="1558800"/>
                <a:chExt cx="277920" cy="279360"/>
              </a:xfrm>
            </p:grpSpPr>
            <p:sp>
              <p:nvSpPr>
                <p:cNvPr id="6632" name=""/>
                <p:cNvSpPr/>
                <p:nvPr/>
              </p:nvSpPr>
              <p:spPr>
                <a:xfrm flipV="1">
                  <a:off x="1110240" y="1558800"/>
                  <a:ext cx="0" cy="27936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3" name=""/>
                <p:cNvSpPr/>
                <p:nvPr/>
              </p:nvSpPr>
              <p:spPr>
                <a:xfrm flipH="1" flipV="1">
                  <a:off x="971280" y="1583640"/>
                  <a:ext cx="138600" cy="12708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4" name=""/>
                <p:cNvSpPr/>
                <p:nvPr/>
              </p:nvSpPr>
              <p:spPr>
                <a:xfrm flipV="1">
                  <a:off x="1110240" y="1571400"/>
                  <a:ext cx="138960" cy="12672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635" name=""/>
          <p:cNvGrpSpPr/>
          <p:nvPr/>
        </p:nvGrpSpPr>
        <p:grpSpPr>
          <a:xfrm>
            <a:off x="1279440" y="2334960"/>
            <a:ext cx="3124440" cy="392400"/>
            <a:chOff x="1279440" y="2334960"/>
            <a:chExt cx="3124440" cy="392400"/>
          </a:xfrm>
        </p:grpSpPr>
        <p:sp>
          <p:nvSpPr>
            <p:cNvPr id="6636" name=""/>
            <p:cNvSpPr/>
            <p:nvPr/>
          </p:nvSpPr>
          <p:spPr>
            <a:xfrm>
              <a:off x="1478880" y="2334960"/>
              <a:ext cx="274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ETUP (</a:t>
              </a: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) @ </a:t>
              </a: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DC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1279440" y="2727360"/>
              <a:ext cx="312444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8" name=""/>
          <p:cNvGrpSpPr/>
          <p:nvPr/>
        </p:nvGrpSpPr>
        <p:grpSpPr>
          <a:xfrm>
            <a:off x="4773960" y="2528640"/>
            <a:ext cx="3227040" cy="519480"/>
            <a:chOff x="4773960" y="2528640"/>
            <a:chExt cx="3227040" cy="519480"/>
          </a:xfrm>
        </p:grpSpPr>
        <p:sp>
          <p:nvSpPr>
            <p:cNvPr id="6639" name=""/>
            <p:cNvSpPr/>
            <p:nvPr/>
          </p:nvSpPr>
          <p:spPr>
            <a:xfrm>
              <a:off x="4876920" y="3048120"/>
              <a:ext cx="312408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4773960" y="2528640"/>
              <a:ext cx="309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ONNECT (</a:t>
              </a: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DLCC-ID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) @ </a:t>
              </a: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DC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1" name=""/>
          <p:cNvGrpSpPr/>
          <p:nvPr/>
        </p:nvGrpSpPr>
        <p:grpSpPr>
          <a:xfrm>
            <a:off x="1222920" y="3611160"/>
            <a:ext cx="3290040" cy="506880"/>
            <a:chOff x="1222920" y="3611160"/>
            <a:chExt cx="3290040" cy="506880"/>
          </a:xfrm>
        </p:grpSpPr>
        <p:sp>
          <p:nvSpPr>
            <p:cNvPr id="6642" name=""/>
            <p:cNvSpPr/>
            <p:nvPr/>
          </p:nvSpPr>
          <p:spPr>
            <a:xfrm>
              <a:off x="1222920" y="3611160"/>
              <a:ext cx="329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ETUP_ACK (</a:t>
              </a: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DLCC-ID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) @ </a:t>
              </a: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DC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1295280" y="4118040"/>
              <a:ext cx="312444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4" name=""/>
          <p:cNvGrpSpPr/>
          <p:nvPr/>
        </p:nvGrpSpPr>
        <p:grpSpPr>
          <a:xfrm>
            <a:off x="4267080" y="1427760"/>
            <a:ext cx="934920" cy="896400"/>
            <a:chOff x="4267080" y="1427760"/>
            <a:chExt cx="934920" cy="896400"/>
          </a:xfrm>
        </p:grpSpPr>
        <p:grpSp>
          <p:nvGrpSpPr>
            <p:cNvPr id="6645" name=""/>
            <p:cNvGrpSpPr/>
            <p:nvPr/>
          </p:nvGrpSpPr>
          <p:grpSpPr>
            <a:xfrm>
              <a:off x="4267080" y="1441440"/>
              <a:ext cx="609840" cy="882720"/>
              <a:chOff x="4267080" y="1441440"/>
              <a:chExt cx="609840" cy="882720"/>
            </a:xfrm>
          </p:grpSpPr>
          <p:sp>
            <p:nvSpPr>
              <p:cNvPr id="6646" name=""/>
              <p:cNvSpPr/>
              <p:nvPr/>
            </p:nvSpPr>
            <p:spPr>
              <a:xfrm>
                <a:off x="4267080" y="1714320"/>
                <a:ext cx="609840" cy="609840"/>
              </a:xfrm>
              <a:prstGeom prst="smileyFace">
                <a:avLst>
                  <a:gd name="adj" fmla="val 9282"/>
                </a:avLst>
              </a:prstGeom>
              <a:solidFill>
                <a:srgbClr val="33cc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47" name=""/>
              <p:cNvGrpSpPr/>
              <p:nvPr/>
            </p:nvGrpSpPr>
            <p:grpSpPr>
              <a:xfrm>
                <a:off x="4438080" y="1441440"/>
                <a:ext cx="277920" cy="279360"/>
                <a:chOff x="4438080" y="1441440"/>
                <a:chExt cx="277920" cy="279360"/>
              </a:xfrm>
            </p:grpSpPr>
            <p:sp>
              <p:nvSpPr>
                <p:cNvPr id="6648" name=""/>
                <p:cNvSpPr/>
                <p:nvPr/>
              </p:nvSpPr>
              <p:spPr>
                <a:xfrm flipV="1">
                  <a:off x="4577040" y="1441440"/>
                  <a:ext cx="0" cy="27936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9" name=""/>
                <p:cNvSpPr/>
                <p:nvPr/>
              </p:nvSpPr>
              <p:spPr>
                <a:xfrm flipH="1" flipV="1">
                  <a:off x="4438080" y="1466280"/>
                  <a:ext cx="138600" cy="12708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0" name=""/>
                <p:cNvSpPr/>
                <p:nvPr/>
              </p:nvSpPr>
              <p:spPr>
                <a:xfrm flipV="1">
                  <a:off x="4577040" y="1454040"/>
                  <a:ext cx="138960" cy="12672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51" name=""/>
            <p:cNvSpPr/>
            <p:nvPr/>
          </p:nvSpPr>
          <p:spPr>
            <a:xfrm>
              <a:off x="4652640" y="142776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2" name=""/>
          <p:cNvGrpSpPr/>
          <p:nvPr/>
        </p:nvGrpSpPr>
        <p:grpSpPr>
          <a:xfrm>
            <a:off x="4599720" y="3160440"/>
            <a:ext cx="3649680" cy="506520"/>
            <a:chOff x="4599720" y="3160440"/>
            <a:chExt cx="3649680" cy="506520"/>
          </a:xfrm>
        </p:grpSpPr>
        <p:sp>
          <p:nvSpPr>
            <p:cNvPr id="6653" name=""/>
            <p:cNvSpPr/>
            <p:nvPr/>
          </p:nvSpPr>
          <p:spPr>
            <a:xfrm>
              <a:off x="4599720" y="3160440"/>
              <a:ext cx="364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ONNECT_ACK (</a:t>
              </a: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DLCC-ID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) @ </a:t>
              </a: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DC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4851360" y="3666960"/>
              <a:ext cx="312408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5" name=""/>
          <p:cNvGrpSpPr/>
          <p:nvPr/>
        </p:nvGrpSpPr>
        <p:grpSpPr>
          <a:xfrm>
            <a:off x="999360" y="4322520"/>
            <a:ext cx="3649680" cy="459000"/>
            <a:chOff x="999360" y="4322520"/>
            <a:chExt cx="3649680" cy="459000"/>
          </a:xfrm>
        </p:grpSpPr>
        <p:sp>
          <p:nvSpPr>
            <p:cNvPr id="6656" name=""/>
            <p:cNvSpPr/>
            <p:nvPr/>
          </p:nvSpPr>
          <p:spPr>
            <a:xfrm>
              <a:off x="999360" y="4322520"/>
              <a:ext cx="364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ONNECT_ACK (</a:t>
              </a: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DLCC-ID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) @ </a:t>
              </a: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DC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1346040" y="4781520"/>
              <a:ext cx="312444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8" name=""/>
          <p:cNvGrpSpPr/>
          <p:nvPr/>
        </p:nvGrpSpPr>
        <p:grpSpPr>
          <a:xfrm>
            <a:off x="4667400" y="4887720"/>
            <a:ext cx="3342960" cy="459000"/>
            <a:chOff x="4667400" y="4887720"/>
            <a:chExt cx="3342960" cy="459000"/>
          </a:xfrm>
        </p:grpSpPr>
        <p:sp>
          <p:nvSpPr>
            <p:cNvPr id="6659" name=""/>
            <p:cNvSpPr/>
            <p:nvPr/>
          </p:nvSpPr>
          <p:spPr>
            <a:xfrm>
              <a:off x="4667400" y="4887720"/>
              <a:ext cx="33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ONNECT_COMPLETE @ </a:t>
              </a: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DC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4861080" y="5346720"/>
              <a:ext cx="312408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1" name=""/>
          <p:cNvSpPr/>
          <p:nvPr/>
        </p:nvSpPr>
        <p:spPr>
          <a:xfrm>
            <a:off x="304920" y="106668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 setu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82C-18B6-4775-8F53-E35C4F830AD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2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774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incipals of HiperLAN/2 Ad-hoc Networking  -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3" name=""/>
          <p:cNvGrpSpPr/>
          <p:nvPr/>
        </p:nvGrpSpPr>
        <p:grpSpPr>
          <a:xfrm>
            <a:off x="228600" y="1935000"/>
            <a:ext cx="8356680" cy="4057560"/>
            <a:chOff x="228600" y="1935000"/>
            <a:chExt cx="8356680" cy="4057560"/>
          </a:xfrm>
        </p:grpSpPr>
        <p:sp>
          <p:nvSpPr>
            <p:cNvPr id="6664" name=""/>
            <p:cNvSpPr/>
            <p:nvPr/>
          </p:nvSpPr>
          <p:spPr>
            <a:xfrm>
              <a:off x="6447240" y="4098240"/>
              <a:ext cx="1598040" cy="352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6447240" y="4096800"/>
              <a:ext cx="1598040" cy="352800"/>
            </a:xfrm>
            <a:prstGeom prst="rect">
              <a:avLst/>
            </a:pr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5589720" y="4440240"/>
              <a:ext cx="2121840" cy="1063440"/>
            </a:xfrm>
            <a:custGeom>
              <a:avLst/>
              <a:gdLst/>
              <a:ahLst/>
              <a:rect l="l" t="t" r="r" b="b"/>
              <a:pathLst>
                <a:path w="1152" h="648">
                  <a:moveTo>
                    <a:pt x="0" y="0"/>
                  </a:moveTo>
                  <a:lnTo>
                    <a:pt x="1008" y="648"/>
                  </a:lnTo>
                  <a:lnTo>
                    <a:pt x="1152" y="648"/>
                  </a:lnTo>
                  <a:lnTo>
                    <a:pt x="4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5589720" y="4456440"/>
              <a:ext cx="2121840" cy="1063440"/>
            </a:xfrm>
            <a:custGeom>
              <a:avLst/>
              <a:gdLst/>
              <a:ahLst/>
              <a:rect l="l" t="t" r="r" b="b"/>
              <a:pathLst>
                <a:path w="1152" h="648">
                  <a:moveTo>
                    <a:pt x="0" y="0"/>
                  </a:moveTo>
                  <a:lnTo>
                    <a:pt x="1008" y="648"/>
                  </a:lnTo>
                  <a:lnTo>
                    <a:pt x="1152" y="648"/>
                  </a:lnTo>
                  <a:lnTo>
                    <a:pt x="432" y="0"/>
                  </a:lnTo>
                  <a:lnTo>
                    <a:pt x="1152" y="648"/>
                  </a:lnTo>
                  <a:lnTo>
                    <a:pt x="1008" y="648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1858680" y="4456440"/>
              <a:ext cx="3715200" cy="1063440"/>
            </a:xfrm>
            <a:custGeom>
              <a:avLst/>
              <a:gdLst/>
              <a:ahLst/>
              <a:rect l="l" t="t" r="r" b="b"/>
              <a:pathLst>
                <a:path w="2017" h="648">
                  <a:moveTo>
                    <a:pt x="1440" y="0"/>
                  </a:moveTo>
                  <a:lnTo>
                    <a:pt x="0" y="648"/>
                  </a:lnTo>
                  <a:lnTo>
                    <a:pt x="144" y="648"/>
                  </a:lnTo>
                  <a:lnTo>
                    <a:pt x="2017" y="0"/>
                  </a:lnTo>
                  <a:lnTo>
                    <a:pt x="144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1858680" y="4456440"/>
              <a:ext cx="3715200" cy="1063440"/>
            </a:xfrm>
            <a:custGeom>
              <a:avLst/>
              <a:gdLst/>
              <a:ahLst/>
              <a:rect l="l" t="t" r="r" b="b"/>
              <a:pathLst>
                <a:path w="2017" h="648">
                  <a:moveTo>
                    <a:pt x="1440" y="0"/>
                  </a:moveTo>
                  <a:lnTo>
                    <a:pt x="0" y="648"/>
                  </a:lnTo>
                  <a:lnTo>
                    <a:pt x="144" y="648"/>
                  </a:lnTo>
                  <a:lnTo>
                    <a:pt x="2017" y="0"/>
                  </a:lnTo>
                  <a:lnTo>
                    <a:pt x="144" y="648"/>
                  </a:lnTo>
                  <a:lnTo>
                    <a:pt x="0" y="648"/>
                  </a:lnTo>
                  <a:lnTo>
                    <a:pt x="1440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4510800" y="4456440"/>
              <a:ext cx="2918520" cy="1063440"/>
            </a:xfrm>
            <a:custGeom>
              <a:avLst/>
              <a:gdLst/>
              <a:ahLst/>
              <a:rect l="l" t="t" r="r" b="b"/>
              <a:pathLst>
                <a:path w="1585" h="648">
                  <a:moveTo>
                    <a:pt x="0" y="0"/>
                  </a:moveTo>
                  <a:lnTo>
                    <a:pt x="1441" y="648"/>
                  </a:lnTo>
                  <a:lnTo>
                    <a:pt x="1585" y="648"/>
                  </a:lnTo>
                  <a:lnTo>
                    <a:pt x="57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4510800" y="4456440"/>
              <a:ext cx="2918520" cy="1063440"/>
            </a:xfrm>
            <a:custGeom>
              <a:avLst/>
              <a:gdLst/>
              <a:ahLst/>
              <a:rect l="l" t="t" r="r" b="b"/>
              <a:pathLst>
                <a:path w="1585" h="648">
                  <a:moveTo>
                    <a:pt x="0" y="0"/>
                  </a:moveTo>
                  <a:lnTo>
                    <a:pt x="1441" y="648"/>
                  </a:lnTo>
                  <a:lnTo>
                    <a:pt x="1585" y="648"/>
                  </a:lnTo>
                  <a:lnTo>
                    <a:pt x="577" y="0"/>
                  </a:lnTo>
                  <a:lnTo>
                    <a:pt x="1585" y="648"/>
                  </a:lnTo>
                  <a:lnTo>
                    <a:pt x="1441" y="648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1063440" y="4456440"/>
              <a:ext cx="1325160" cy="1063440"/>
            </a:xfrm>
            <a:custGeom>
              <a:avLst/>
              <a:gdLst/>
              <a:ahLst/>
              <a:rect l="l" t="t" r="r" b="b"/>
              <a:pathLst>
                <a:path w="720" h="648">
                  <a:moveTo>
                    <a:pt x="0" y="0"/>
                  </a:moveTo>
                  <a:lnTo>
                    <a:pt x="0" y="648"/>
                  </a:lnTo>
                  <a:lnTo>
                    <a:pt x="144" y="648"/>
                  </a:lnTo>
                  <a:lnTo>
                    <a:pt x="7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1063440" y="4456440"/>
              <a:ext cx="1325160" cy="1063440"/>
            </a:xfrm>
            <a:custGeom>
              <a:avLst/>
              <a:gdLst/>
              <a:ahLst/>
              <a:rect l="l" t="t" r="r" b="b"/>
              <a:pathLst>
                <a:path w="720" h="648">
                  <a:moveTo>
                    <a:pt x="0" y="0"/>
                  </a:moveTo>
                  <a:lnTo>
                    <a:pt x="0" y="648"/>
                  </a:lnTo>
                  <a:lnTo>
                    <a:pt x="144" y="648"/>
                  </a:lnTo>
                  <a:lnTo>
                    <a:pt x="720" y="0"/>
                  </a:lnTo>
                  <a:lnTo>
                    <a:pt x="144" y="648"/>
                  </a:lnTo>
                  <a:lnTo>
                    <a:pt x="0" y="648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1858680" y="4456440"/>
              <a:ext cx="3715200" cy="1063440"/>
            </a:xfrm>
            <a:custGeom>
              <a:avLst/>
              <a:gdLst/>
              <a:ahLst/>
              <a:rect l="l" t="t" r="r" b="b"/>
              <a:pathLst>
                <a:path w="2017" h="648">
                  <a:moveTo>
                    <a:pt x="1440" y="0"/>
                  </a:moveTo>
                  <a:lnTo>
                    <a:pt x="0" y="648"/>
                  </a:lnTo>
                  <a:lnTo>
                    <a:pt x="144" y="648"/>
                  </a:lnTo>
                  <a:lnTo>
                    <a:pt x="2017" y="0"/>
                  </a:lnTo>
                  <a:lnTo>
                    <a:pt x="144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1858680" y="4456440"/>
              <a:ext cx="3715200" cy="1063440"/>
            </a:xfrm>
            <a:custGeom>
              <a:avLst/>
              <a:gdLst/>
              <a:ahLst/>
              <a:rect l="l" t="t" r="r" b="b"/>
              <a:pathLst>
                <a:path w="2017" h="648">
                  <a:moveTo>
                    <a:pt x="1440" y="0"/>
                  </a:moveTo>
                  <a:lnTo>
                    <a:pt x="0" y="648"/>
                  </a:lnTo>
                  <a:lnTo>
                    <a:pt x="144" y="648"/>
                  </a:lnTo>
                  <a:lnTo>
                    <a:pt x="2017" y="0"/>
                  </a:lnTo>
                  <a:lnTo>
                    <a:pt x="144" y="648"/>
                  </a:lnTo>
                  <a:lnTo>
                    <a:pt x="0" y="648"/>
                  </a:lnTo>
                  <a:lnTo>
                    <a:pt x="1440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1063440" y="4456440"/>
              <a:ext cx="5835600" cy="1063440"/>
            </a:xfrm>
            <a:custGeom>
              <a:avLst/>
              <a:gdLst/>
              <a:ahLst/>
              <a:rect l="l" t="t" r="r" b="b"/>
              <a:pathLst>
                <a:path w="3169" h="648">
                  <a:moveTo>
                    <a:pt x="0" y="0"/>
                  </a:moveTo>
                  <a:lnTo>
                    <a:pt x="3025" y="648"/>
                  </a:lnTo>
                  <a:lnTo>
                    <a:pt x="3169" y="648"/>
                  </a:lnTo>
                  <a:lnTo>
                    <a:pt x="7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1063440" y="4456440"/>
              <a:ext cx="5835600" cy="1063440"/>
            </a:xfrm>
            <a:custGeom>
              <a:avLst/>
              <a:gdLst/>
              <a:ahLst/>
              <a:rect l="l" t="t" r="r" b="b"/>
              <a:pathLst>
                <a:path w="3169" h="648">
                  <a:moveTo>
                    <a:pt x="0" y="0"/>
                  </a:moveTo>
                  <a:lnTo>
                    <a:pt x="3025" y="648"/>
                  </a:lnTo>
                  <a:lnTo>
                    <a:pt x="3169" y="648"/>
                  </a:lnTo>
                  <a:lnTo>
                    <a:pt x="720" y="0"/>
                  </a:lnTo>
                  <a:lnTo>
                    <a:pt x="3169" y="648"/>
                  </a:lnTo>
                  <a:lnTo>
                    <a:pt x="3025" y="648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3981960" y="2683440"/>
              <a:ext cx="2388600" cy="1419840"/>
            </a:xfrm>
            <a:custGeom>
              <a:avLst/>
              <a:gdLst/>
              <a:ahLst/>
              <a:rect l="l" t="t" r="r" b="b"/>
              <a:pathLst>
                <a:path w="1297" h="865">
                  <a:moveTo>
                    <a:pt x="1297" y="865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865" y="865"/>
                  </a:lnTo>
                  <a:lnTo>
                    <a:pt x="1297" y="86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3981960" y="2683440"/>
              <a:ext cx="2388600" cy="1419840"/>
            </a:xfrm>
            <a:custGeom>
              <a:avLst/>
              <a:gdLst/>
              <a:ahLst/>
              <a:rect l="l" t="t" r="r" b="b"/>
              <a:pathLst>
                <a:path w="1297" h="865">
                  <a:moveTo>
                    <a:pt x="1297" y="865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865" y="865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297" y="865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1063440" y="2683440"/>
              <a:ext cx="2651760" cy="1419840"/>
            </a:xfrm>
            <a:custGeom>
              <a:avLst/>
              <a:gdLst/>
              <a:ahLst/>
              <a:rect l="l" t="t" r="r" b="b"/>
              <a:pathLst>
                <a:path w="1440" h="865">
                  <a:moveTo>
                    <a:pt x="0" y="865"/>
                  </a:moveTo>
                  <a:lnTo>
                    <a:pt x="1296" y="0"/>
                  </a:lnTo>
                  <a:lnTo>
                    <a:pt x="1440" y="0"/>
                  </a:lnTo>
                  <a:lnTo>
                    <a:pt x="720" y="865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87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1063440" y="2683440"/>
              <a:ext cx="2651760" cy="1419840"/>
            </a:xfrm>
            <a:custGeom>
              <a:avLst/>
              <a:gdLst/>
              <a:ahLst/>
              <a:rect l="l" t="t" r="r" b="b"/>
              <a:pathLst>
                <a:path w="1440" h="865">
                  <a:moveTo>
                    <a:pt x="0" y="865"/>
                  </a:moveTo>
                  <a:lnTo>
                    <a:pt x="1296" y="0"/>
                  </a:lnTo>
                  <a:lnTo>
                    <a:pt x="1440" y="0"/>
                  </a:lnTo>
                  <a:lnTo>
                    <a:pt x="720" y="865"/>
                  </a:lnTo>
                  <a:lnTo>
                    <a:pt x="1440" y="0"/>
                  </a:lnTo>
                  <a:lnTo>
                    <a:pt x="1296" y="0"/>
                  </a:lnTo>
                  <a:lnTo>
                    <a:pt x="0" y="865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3715200" y="4456440"/>
              <a:ext cx="3448800" cy="1063440"/>
            </a:xfrm>
            <a:custGeom>
              <a:avLst/>
              <a:gdLst/>
              <a:ahLst/>
              <a:rect l="l" t="t" r="r" b="b"/>
              <a:pathLst>
                <a:path w="1873" h="648">
                  <a:moveTo>
                    <a:pt x="0" y="0"/>
                  </a:moveTo>
                  <a:lnTo>
                    <a:pt x="1729" y="648"/>
                  </a:lnTo>
                  <a:lnTo>
                    <a:pt x="1873" y="648"/>
                  </a:lnTo>
                  <a:lnTo>
                    <a:pt x="4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3715200" y="4456440"/>
              <a:ext cx="3448800" cy="1063440"/>
            </a:xfrm>
            <a:custGeom>
              <a:avLst/>
              <a:gdLst/>
              <a:ahLst/>
              <a:rect l="l" t="t" r="r" b="b"/>
              <a:pathLst>
                <a:path w="1873" h="648">
                  <a:moveTo>
                    <a:pt x="0" y="0"/>
                  </a:moveTo>
                  <a:lnTo>
                    <a:pt x="1729" y="648"/>
                  </a:lnTo>
                  <a:lnTo>
                    <a:pt x="1873" y="648"/>
                  </a:lnTo>
                  <a:lnTo>
                    <a:pt x="432" y="0"/>
                  </a:lnTo>
                  <a:lnTo>
                    <a:pt x="1873" y="648"/>
                  </a:lnTo>
                  <a:lnTo>
                    <a:pt x="1729" y="648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1595160" y="4456440"/>
              <a:ext cx="2915640" cy="1063440"/>
            </a:xfrm>
            <a:custGeom>
              <a:avLst/>
              <a:gdLst/>
              <a:ahLst/>
              <a:rect l="l" t="t" r="r" b="b"/>
              <a:pathLst>
                <a:path w="1584" h="648">
                  <a:moveTo>
                    <a:pt x="1152" y="0"/>
                  </a:moveTo>
                  <a:lnTo>
                    <a:pt x="0" y="648"/>
                  </a:lnTo>
                  <a:lnTo>
                    <a:pt x="144" y="648"/>
                  </a:lnTo>
                  <a:lnTo>
                    <a:pt x="1584" y="0"/>
                  </a:lnTo>
                  <a:lnTo>
                    <a:pt x="1152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1595160" y="4456440"/>
              <a:ext cx="2915640" cy="1063440"/>
            </a:xfrm>
            <a:custGeom>
              <a:avLst/>
              <a:gdLst/>
              <a:ahLst/>
              <a:rect l="l" t="t" r="r" b="b"/>
              <a:pathLst>
                <a:path w="1584" h="648">
                  <a:moveTo>
                    <a:pt x="1152" y="0"/>
                  </a:moveTo>
                  <a:lnTo>
                    <a:pt x="0" y="648"/>
                  </a:lnTo>
                  <a:lnTo>
                    <a:pt x="144" y="648"/>
                  </a:lnTo>
                  <a:lnTo>
                    <a:pt x="1584" y="0"/>
                  </a:lnTo>
                  <a:lnTo>
                    <a:pt x="144" y="648"/>
                  </a:lnTo>
                  <a:lnTo>
                    <a:pt x="0" y="648"/>
                  </a:lnTo>
                  <a:lnTo>
                    <a:pt x="1152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1330200" y="4456440"/>
              <a:ext cx="2385000" cy="1063440"/>
            </a:xfrm>
            <a:custGeom>
              <a:avLst/>
              <a:gdLst/>
              <a:ahLst/>
              <a:rect l="l" t="t" r="r" b="b"/>
              <a:pathLst>
                <a:path w="1296" h="648">
                  <a:moveTo>
                    <a:pt x="576" y="0"/>
                  </a:moveTo>
                  <a:lnTo>
                    <a:pt x="0" y="648"/>
                  </a:lnTo>
                  <a:lnTo>
                    <a:pt x="144" y="648"/>
                  </a:lnTo>
                  <a:lnTo>
                    <a:pt x="1296" y="0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1330200" y="4456440"/>
              <a:ext cx="2385000" cy="1063440"/>
            </a:xfrm>
            <a:custGeom>
              <a:avLst/>
              <a:gdLst/>
              <a:ahLst/>
              <a:rect l="l" t="t" r="r" b="b"/>
              <a:pathLst>
                <a:path w="1296" h="648">
                  <a:moveTo>
                    <a:pt x="576" y="0"/>
                  </a:moveTo>
                  <a:lnTo>
                    <a:pt x="0" y="648"/>
                  </a:lnTo>
                  <a:lnTo>
                    <a:pt x="144" y="648"/>
                  </a:lnTo>
                  <a:lnTo>
                    <a:pt x="1296" y="0"/>
                  </a:lnTo>
                  <a:lnTo>
                    <a:pt x="144" y="648"/>
                  </a:lnTo>
                  <a:lnTo>
                    <a:pt x="0" y="648"/>
                  </a:lnTo>
                  <a:lnTo>
                    <a:pt x="576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2388600" y="2683440"/>
              <a:ext cx="1593360" cy="1419840"/>
            </a:xfrm>
            <a:custGeom>
              <a:avLst/>
              <a:gdLst/>
              <a:ahLst/>
              <a:rect l="l" t="t" r="r" b="b"/>
              <a:pathLst>
                <a:path w="864" h="865">
                  <a:moveTo>
                    <a:pt x="0" y="865"/>
                  </a:moveTo>
                  <a:lnTo>
                    <a:pt x="720" y="0"/>
                  </a:lnTo>
                  <a:lnTo>
                    <a:pt x="864" y="0"/>
                  </a:lnTo>
                  <a:lnTo>
                    <a:pt x="720" y="865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2388600" y="2683440"/>
              <a:ext cx="1593360" cy="1419840"/>
            </a:xfrm>
            <a:custGeom>
              <a:avLst/>
              <a:gdLst/>
              <a:ahLst/>
              <a:rect l="l" t="t" r="r" b="b"/>
              <a:pathLst>
                <a:path w="864" h="865">
                  <a:moveTo>
                    <a:pt x="0" y="865"/>
                  </a:moveTo>
                  <a:lnTo>
                    <a:pt x="720" y="0"/>
                  </a:lnTo>
                  <a:lnTo>
                    <a:pt x="864" y="0"/>
                  </a:lnTo>
                  <a:lnTo>
                    <a:pt x="720" y="865"/>
                  </a:lnTo>
                  <a:lnTo>
                    <a:pt x="864" y="0"/>
                  </a:lnTo>
                  <a:lnTo>
                    <a:pt x="720" y="0"/>
                  </a:lnTo>
                  <a:lnTo>
                    <a:pt x="0" y="865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4380480" y="2683440"/>
              <a:ext cx="3315600" cy="1419840"/>
            </a:xfrm>
            <a:custGeom>
              <a:avLst/>
              <a:gdLst/>
              <a:ahLst/>
              <a:rect l="l" t="t" r="r" b="b"/>
              <a:pathLst>
                <a:path w="1800" h="865">
                  <a:moveTo>
                    <a:pt x="1656" y="865"/>
                  </a:moveTo>
                  <a:lnTo>
                    <a:pt x="0" y="0"/>
                  </a:lnTo>
                  <a:lnTo>
                    <a:pt x="71" y="0"/>
                  </a:lnTo>
                  <a:lnTo>
                    <a:pt x="1800" y="865"/>
                  </a:lnTo>
                  <a:lnTo>
                    <a:pt x="1656" y="8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4380480" y="2683440"/>
              <a:ext cx="3315600" cy="1419840"/>
            </a:xfrm>
            <a:custGeom>
              <a:avLst/>
              <a:gdLst/>
              <a:ahLst/>
              <a:rect l="l" t="t" r="r" b="b"/>
              <a:pathLst>
                <a:path w="1800" h="865">
                  <a:moveTo>
                    <a:pt x="1656" y="865"/>
                  </a:moveTo>
                  <a:lnTo>
                    <a:pt x="0" y="0"/>
                  </a:lnTo>
                  <a:lnTo>
                    <a:pt x="71" y="0"/>
                  </a:lnTo>
                  <a:lnTo>
                    <a:pt x="1800" y="865"/>
                  </a:lnTo>
                  <a:lnTo>
                    <a:pt x="71" y="0"/>
                  </a:lnTo>
                  <a:lnTo>
                    <a:pt x="0" y="0"/>
                  </a:lnTo>
                  <a:lnTo>
                    <a:pt x="1656" y="865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4245480" y="2683440"/>
              <a:ext cx="2918880" cy="1419840"/>
            </a:xfrm>
            <a:custGeom>
              <a:avLst/>
              <a:gdLst/>
              <a:ahLst/>
              <a:rect l="l" t="t" r="r" b="b"/>
              <a:pathLst>
                <a:path w="1585" h="865">
                  <a:moveTo>
                    <a:pt x="1441" y="865"/>
                  </a:moveTo>
                  <a:lnTo>
                    <a:pt x="0" y="0"/>
                  </a:lnTo>
                  <a:lnTo>
                    <a:pt x="73" y="0"/>
                  </a:lnTo>
                  <a:lnTo>
                    <a:pt x="1585" y="865"/>
                  </a:lnTo>
                  <a:lnTo>
                    <a:pt x="1441" y="8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4245480" y="2683440"/>
              <a:ext cx="2918880" cy="1419840"/>
            </a:xfrm>
            <a:custGeom>
              <a:avLst/>
              <a:gdLst/>
              <a:ahLst/>
              <a:rect l="l" t="t" r="r" b="b"/>
              <a:pathLst>
                <a:path w="1585" h="865">
                  <a:moveTo>
                    <a:pt x="1441" y="865"/>
                  </a:moveTo>
                  <a:lnTo>
                    <a:pt x="0" y="0"/>
                  </a:lnTo>
                  <a:lnTo>
                    <a:pt x="73" y="0"/>
                  </a:lnTo>
                  <a:lnTo>
                    <a:pt x="1585" y="865"/>
                  </a:lnTo>
                  <a:lnTo>
                    <a:pt x="73" y="0"/>
                  </a:lnTo>
                  <a:lnTo>
                    <a:pt x="0" y="0"/>
                  </a:lnTo>
                  <a:lnTo>
                    <a:pt x="1441" y="865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7429320" y="4456440"/>
              <a:ext cx="531720" cy="1063440"/>
            </a:xfrm>
            <a:custGeom>
              <a:avLst/>
              <a:gdLst/>
              <a:ahLst/>
              <a:rect l="l" t="t" r="r" b="b"/>
              <a:pathLst>
                <a:path w="288" h="648">
                  <a:moveTo>
                    <a:pt x="0" y="0"/>
                  </a:moveTo>
                  <a:lnTo>
                    <a:pt x="144" y="648"/>
                  </a:lnTo>
                  <a:lnTo>
                    <a:pt x="288" y="648"/>
                  </a:lnTo>
                  <a:lnTo>
                    <a:pt x="1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7429320" y="4456440"/>
              <a:ext cx="531720" cy="1063440"/>
            </a:xfrm>
            <a:custGeom>
              <a:avLst/>
              <a:gdLst/>
              <a:ahLst/>
              <a:rect l="l" t="t" r="r" b="b"/>
              <a:pathLst>
                <a:path w="288" h="648">
                  <a:moveTo>
                    <a:pt x="0" y="0"/>
                  </a:moveTo>
                  <a:lnTo>
                    <a:pt x="144" y="648"/>
                  </a:lnTo>
                  <a:lnTo>
                    <a:pt x="288" y="648"/>
                  </a:lnTo>
                  <a:lnTo>
                    <a:pt x="144" y="0"/>
                  </a:lnTo>
                  <a:lnTo>
                    <a:pt x="288" y="648"/>
                  </a:lnTo>
                  <a:lnTo>
                    <a:pt x="144" y="648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2123640" y="4456440"/>
              <a:ext cx="5105520" cy="1063440"/>
            </a:xfrm>
            <a:custGeom>
              <a:avLst/>
              <a:gdLst/>
              <a:ahLst/>
              <a:rect l="l" t="t" r="r" b="b"/>
              <a:pathLst>
                <a:path w="2772" h="648">
                  <a:moveTo>
                    <a:pt x="2593" y="0"/>
                  </a:moveTo>
                  <a:lnTo>
                    <a:pt x="0" y="648"/>
                  </a:lnTo>
                  <a:lnTo>
                    <a:pt x="144" y="648"/>
                  </a:lnTo>
                  <a:lnTo>
                    <a:pt x="2772" y="0"/>
                  </a:lnTo>
                  <a:lnTo>
                    <a:pt x="259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2123640" y="4456440"/>
              <a:ext cx="5105520" cy="1063440"/>
            </a:xfrm>
            <a:custGeom>
              <a:avLst/>
              <a:gdLst/>
              <a:ahLst/>
              <a:rect l="l" t="t" r="r" b="b"/>
              <a:pathLst>
                <a:path w="2772" h="648">
                  <a:moveTo>
                    <a:pt x="2593" y="0"/>
                  </a:moveTo>
                  <a:lnTo>
                    <a:pt x="0" y="648"/>
                  </a:lnTo>
                  <a:lnTo>
                    <a:pt x="144" y="648"/>
                  </a:lnTo>
                  <a:lnTo>
                    <a:pt x="2772" y="0"/>
                  </a:lnTo>
                  <a:lnTo>
                    <a:pt x="144" y="648"/>
                  </a:lnTo>
                  <a:lnTo>
                    <a:pt x="0" y="648"/>
                  </a:lnTo>
                  <a:lnTo>
                    <a:pt x="2593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2123640" y="4456440"/>
              <a:ext cx="5105520" cy="1063440"/>
            </a:xfrm>
            <a:custGeom>
              <a:avLst/>
              <a:gdLst/>
              <a:ahLst/>
              <a:rect l="l" t="t" r="r" b="b"/>
              <a:pathLst>
                <a:path w="2772" h="648">
                  <a:moveTo>
                    <a:pt x="2593" y="0"/>
                  </a:moveTo>
                  <a:lnTo>
                    <a:pt x="0" y="648"/>
                  </a:lnTo>
                  <a:lnTo>
                    <a:pt x="144" y="648"/>
                  </a:lnTo>
                  <a:lnTo>
                    <a:pt x="2772" y="0"/>
                  </a:lnTo>
                  <a:lnTo>
                    <a:pt x="144" y="648"/>
                  </a:lnTo>
                  <a:lnTo>
                    <a:pt x="0" y="648"/>
                  </a:lnTo>
                  <a:lnTo>
                    <a:pt x="2593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3715200" y="4456440"/>
              <a:ext cx="3448800" cy="1063440"/>
            </a:xfrm>
            <a:custGeom>
              <a:avLst/>
              <a:gdLst/>
              <a:ahLst/>
              <a:rect l="l" t="t" r="r" b="b"/>
              <a:pathLst>
                <a:path w="1873" h="648">
                  <a:moveTo>
                    <a:pt x="0" y="0"/>
                  </a:moveTo>
                  <a:lnTo>
                    <a:pt x="1729" y="648"/>
                  </a:lnTo>
                  <a:lnTo>
                    <a:pt x="1873" y="648"/>
                  </a:lnTo>
                  <a:lnTo>
                    <a:pt x="432" y="0"/>
                  </a:lnTo>
                  <a:lnTo>
                    <a:pt x="1873" y="648"/>
                  </a:lnTo>
                  <a:lnTo>
                    <a:pt x="1729" y="648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4510800" y="4456440"/>
              <a:ext cx="2918520" cy="1063440"/>
            </a:xfrm>
            <a:custGeom>
              <a:avLst/>
              <a:gdLst/>
              <a:ahLst/>
              <a:rect l="l" t="t" r="r" b="b"/>
              <a:pathLst>
                <a:path w="1585" h="648">
                  <a:moveTo>
                    <a:pt x="0" y="0"/>
                  </a:moveTo>
                  <a:lnTo>
                    <a:pt x="1441" y="648"/>
                  </a:lnTo>
                  <a:lnTo>
                    <a:pt x="1585" y="648"/>
                  </a:lnTo>
                  <a:lnTo>
                    <a:pt x="577" y="0"/>
                  </a:lnTo>
                  <a:lnTo>
                    <a:pt x="1585" y="648"/>
                  </a:lnTo>
                  <a:lnTo>
                    <a:pt x="1441" y="648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1595160" y="4456440"/>
              <a:ext cx="2915640" cy="1063440"/>
            </a:xfrm>
            <a:custGeom>
              <a:avLst/>
              <a:gdLst/>
              <a:ahLst/>
              <a:rect l="l" t="t" r="r" b="b"/>
              <a:pathLst>
                <a:path w="1584" h="648">
                  <a:moveTo>
                    <a:pt x="1152" y="0"/>
                  </a:moveTo>
                  <a:lnTo>
                    <a:pt x="0" y="648"/>
                  </a:lnTo>
                  <a:lnTo>
                    <a:pt x="144" y="648"/>
                  </a:lnTo>
                  <a:lnTo>
                    <a:pt x="1584" y="0"/>
                  </a:lnTo>
                  <a:lnTo>
                    <a:pt x="144" y="648"/>
                  </a:lnTo>
                  <a:lnTo>
                    <a:pt x="0" y="648"/>
                  </a:lnTo>
                  <a:lnTo>
                    <a:pt x="1152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1063440" y="4453200"/>
              <a:ext cx="5835600" cy="1063440"/>
            </a:xfrm>
            <a:custGeom>
              <a:avLst/>
              <a:gdLst/>
              <a:ahLst/>
              <a:rect l="l" t="t" r="r" b="b"/>
              <a:pathLst>
                <a:path w="3169" h="648">
                  <a:moveTo>
                    <a:pt x="0" y="0"/>
                  </a:moveTo>
                  <a:lnTo>
                    <a:pt x="3025" y="648"/>
                  </a:lnTo>
                  <a:lnTo>
                    <a:pt x="3169" y="648"/>
                  </a:lnTo>
                  <a:lnTo>
                    <a:pt x="722" y="0"/>
                  </a:lnTo>
                  <a:lnTo>
                    <a:pt x="3169" y="648"/>
                  </a:lnTo>
                  <a:lnTo>
                    <a:pt x="3025" y="648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1063440" y="4456440"/>
              <a:ext cx="1325160" cy="1063440"/>
            </a:xfrm>
            <a:custGeom>
              <a:avLst/>
              <a:gdLst/>
              <a:ahLst/>
              <a:rect l="l" t="t" r="r" b="b"/>
              <a:pathLst>
                <a:path w="720" h="648">
                  <a:moveTo>
                    <a:pt x="0" y="0"/>
                  </a:moveTo>
                  <a:lnTo>
                    <a:pt x="0" y="648"/>
                  </a:lnTo>
                  <a:lnTo>
                    <a:pt x="144" y="648"/>
                  </a:lnTo>
                  <a:lnTo>
                    <a:pt x="720" y="0"/>
                  </a:lnTo>
                  <a:lnTo>
                    <a:pt x="144" y="648"/>
                  </a:lnTo>
                  <a:lnTo>
                    <a:pt x="0" y="648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4712400" y="4635000"/>
              <a:ext cx="1191960" cy="472680"/>
            </a:xfrm>
            <a:custGeom>
              <a:avLst/>
              <a:gdLst/>
              <a:ahLst/>
              <a:rect l="l" t="t" r="r" b="b"/>
              <a:pathLst>
                <a:path w="647" h="288">
                  <a:moveTo>
                    <a:pt x="0" y="0"/>
                  </a:moveTo>
                  <a:lnTo>
                    <a:pt x="647" y="288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5438880" y="4635000"/>
              <a:ext cx="1062000" cy="528480"/>
            </a:xfrm>
            <a:custGeom>
              <a:avLst/>
              <a:gdLst/>
              <a:ahLst/>
              <a:rect l="l" t="t" r="r" b="b"/>
              <a:pathLst>
                <a:path w="576" h="322">
                  <a:moveTo>
                    <a:pt x="576" y="322"/>
                  </a:moveTo>
                  <a:lnTo>
                    <a:pt x="0" y="0"/>
                  </a:lnTo>
                  <a:lnTo>
                    <a:pt x="576" y="322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2986920" y="4692960"/>
              <a:ext cx="1258560" cy="470880"/>
            </a:xfrm>
            <a:custGeom>
              <a:avLst/>
              <a:gdLst/>
              <a:ahLst/>
              <a:rect l="l" t="t" r="r" b="b"/>
              <a:pathLst>
                <a:path w="684" h="287">
                  <a:moveTo>
                    <a:pt x="684" y="0"/>
                  </a:moveTo>
                  <a:lnTo>
                    <a:pt x="0" y="287"/>
                  </a:lnTo>
                  <a:lnTo>
                    <a:pt x="684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2986920" y="5149080"/>
              <a:ext cx="41040" cy="144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0"/>
                  </a:moveTo>
                  <a:lnTo>
                    <a:pt x="0" y="9"/>
                  </a:lnTo>
                  <a:lnTo>
                    <a:pt x="23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3028320" y="5015880"/>
              <a:ext cx="258480" cy="133200"/>
            </a:xfrm>
            <a:custGeom>
              <a:avLst/>
              <a:gdLst/>
              <a:ahLst/>
              <a:rect l="l" t="t" r="r" b="b"/>
              <a:pathLst>
                <a:path w="140" h="81">
                  <a:moveTo>
                    <a:pt x="140" y="54"/>
                  </a:moveTo>
                  <a:lnTo>
                    <a:pt x="0" y="81"/>
                  </a:lnTo>
                  <a:lnTo>
                    <a:pt x="117" y="0"/>
                  </a:lnTo>
                  <a:lnTo>
                    <a:pt x="108" y="37"/>
                  </a:lnTo>
                  <a:lnTo>
                    <a:pt x="14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3028320" y="5015880"/>
              <a:ext cx="258480" cy="133200"/>
            </a:xfrm>
            <a:custGeom>
              <a:avLst/>
              <a:gdLst/>
              <a:ahLst/>
              <a:rect l="l" t="t" r="r" b="b"/>
              <a:pathLst>
                <a:path w="140" h="81">
                  <a:moveTo>
                    <a:pt x="140" y="54"/>
                  </a:moveTo>
                  <a:lnTo>
                    <a:pt x="0" y="81"/>
                  </a:lnTo>
                  <a:lnTo>
                    <a:pt x="117" y="0"/>
                  </a:lnTo>
                  <a:lnTo>
                    <a:pt x="108" y="37"/>
                  </a:lnTo>
                  <a:lnTo>
                    <a:pt x="140" y="54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5438880" y="4635000"/>
              <a:ext cx="45720" cy="2304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5" y="14"/>
                  </a:moveTo>
                  <a:lnTo>
                    <a:pt x="0" y="0"/>
                  </a:lnTo>
                  <a:lnTo>
                    <a:pt x="25" y="14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5482080" y="4654800"/>
              <a:ext cx="248760" cy="154440"/>
            </a:xfrm>
            <a:custGeom>
              <a:avLst/>
              <a:gdLst/>
              <a:ahLst/>
              <a:rect l="l" t="t" r="r" b="b"/>
              <a:pathLst>
                <a:path w="135" h="94">
                  <a:moveTo>
                    <a:pt x="106" y="94"/>
                  </a:moveTo>
                  <a:lnTo>
                    <a:pt x="0" y="0"/>
                  </a:lnTo>
                  <a:lnTo>
                    <a:pt x="135" y="42"/>
                  </a:lnTo>
                  <a:lnTo>
                    <a:pt x="100" y="57"/>
                  </a:lnTo>
                  <a:lnTo>
                    <a:pt x="106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5482080" y="4654800"/>
              <a:ext cx="248760" cy="154440"/>
            </a:xfrm>
            <a:custGeom>
              <a:avLst/>
              <a:gdLst/>
              <a:ahLst/>
              <a:rect l="l" t="t" r="r" b="b"/>
              <a:pathLst>
                <a:path w="135" h="94">
                  <a:moveTo>
                    <a:pt x="106" y="94"/>
                  </a:moveTo>
                  <a:lnTo>
                    <a:pt x="0" y="0"/>
                  </a:lnTo>
                  <a:lnTo>
                    <a:pt x="135" y="42"/>
                  </a:lnTo>
                  <a:lnTo>
                    <a:pt x="100" y="57"/>
                  </a:lnTo>
                  <a:lnTo>
                    <a:pt x="106" y="94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5858280" y="5088240"/>
              <a:ext cx="45720" cy="1944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0"/>
                  </a:move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5607360" y="4953600"/>
              <a:ext cx="253440" cy="134280"/>
            </a:xfrm>
            <a:custGeom>
              <a:avLst/>
              <a:gdLst/>
              <a:ahLst/>
              <a:rect l="l" t="t" r="r" b="b"/>
              <a:pathLst>
                <a:path w="138" h="82">
                  <a:moveTo>
                    <a:pt x="23" y="0"/>
                  </a:moveTo>
                  <a:lnTo>
                    <a:pt x="138" y="82"/>
                  </a:lnTo>
                  <a:lnTo>
                    <a:pt x="0" y="54"/>
                  </a:lnTo>
                  <a:lnTo>
                    <a:pt x="32" y="3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5607360" y="4953600"/>
              <a:ext cx="253440" cy="134280"/>
            </a:xfrm>
            <a:custGeom>
              <a:avLst/>
              <a:gdLst/>
              <a:ahLst/>
              <a:rect l="l" t="t" r="r" b="b"/>
              <a:pathLst>
                <a:path w="138" h="82">
                  <a:moveTo>
                    <a:pt x="23" y="0"/>
                  </a:moveTo>
                  <a:lnTo>
                    <a:pt x="138" y="82"/>
                  </a:lnTo>
                  <a:lnTo>
                    <a:pt x="0" y="54"/>
                  </a:lnTo>
                  <a:lnTo>
                    <a:pt x="32" y="36"/>
                  </a:lnTo>
                  <a:lnTo>
                    <a:pt x="23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3739320" y="4576320"/>
              <a:ext cx="40680" cy="176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11"/>
                  </a:moveTo>
                  <a:lnTo>
                    <a:pt x="23" y="0"/>
                  </a:lnTo>
                  <a:lnTo>
                    <a:pt x="0" y="11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3493440" y="4594320"/>
              <a:ext cx="245880" cy="150840"/>
            </a:xfrm>
            <a:custGeom>
              <a:avLst/>
              <a:gdLst/>
              <a:ahLst/>
              <a:rect l="l" t="t" r="r" b="b"/>
              <a:pathLst>
                <a:path w="134" h="92">
                  <a:moveTo>
                    <a:pt x="0" y="42"/>
                  </a:moveTo>
                  <a:lnTo>
                    <a:pt x="134" y="0"/>
                  </a:lnTo>
                  <a:lnTo>
                    <a:pt x="27" y="92"/>
                  </a:lnTo>
                  <a:lnTo>
                    <a:pt x="32" y="5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3493440" y="4594320"/>
              <a:ext cx="245880" cy="150840"/>
            </a:xfrm>
            <a:custGeom>
              <a:avLst/>
              <a:gdLst/>
              <a:ahLst/>
              <a:rect l="l" t="t" r="r" b="b"/>
              <a:pathLst>
                <a:path w="134" h="92">
                  <a:moveTo>
                    <a:pt x="0" y="42"/>
                  </a:moveTo>
                  <a:lnTo>
                    <a:pt x="134" y="0"/>
                  </a:lnTo>
                  <a:lnTo>
                    <a:pt x="27" y="92"/>
                  </a:lnTo>
                  <a:lnTo>
                    <a:pt x="32" y="56"/>
                  </a:lnTo>
                  <a:lnTo>
                    <a:pt x="0" y="42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3450600" y="2210760"/>
              <a:ext cx="1060200" cy="4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3450600" y="2210760"/>
              <a:ext cx="1060200" cy="472680"/>
            </a:xfrm>
            <a:prstGeom prst="rect">
              <a:avLst/>
            </a:pr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533160" y="4103640"/>
              <a:ext cx="529920" cy="352800"/>
            </a:xfrm>
            <a:custGeom>
              <a:avLst/>
              <a:gdLst/>
              <a:ahLst/>
              <a:rect l="l" t="t" r="r" b="b"/>
              <a:pathLst>
                <a:path w="288" h="215">
                  <a:moveTo>
                    <a:pt x="0" y="0"/>
                  </a:moveTo>
                  <a:lnTo>
                    <a:pt x="288" y="0"/>
                  </a:lnTo>
                  <a:lnTo>
                    <a:pt x="288" y="215"/>
                  </a:lnTo>
                  <a:lnTo>
                    <a:pt x="0" y="215"/>
                  </a:lnTo>
                  <a:lnTo>
                    <a:pt x="288" y="215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1063440" y="5519880"/>
              <a:ext cx="1325160" cy="4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1063440" y="5519880"/>
              <a:ext cx="1325160" cy="472680"/>
            </a:xfrm>
            <a:prstGeom prst="rect">
              <a:avLst/>
            </a:pr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6635880" y="5519880"/>
              <a:ext cx="1325520" cy="4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6635880" y="5519880"/>
              <a:ext cx="1325520" cy="472680"/>
            </a:xfrm>
            <a:prstGeom prst="rect">
              <a:avLst/>
            </a:pr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2455200" y="4576320"/>
              <a:ext cx="1325160" cy="648000"/>
            </a:xfrm>
            <a:custGeom>
              <a:avLst/>
              <a:gdLst/>
              <a:ahLst/>
              <a:rect l="l" t="t" r="r" b="b"/>
              <a:pathLst>
                <a:path w="720" h="395">
                  <a:moveTo>
                    <a:pt x="0" y="395"/>
                  </a:moveTo>
                  <a:lnTo>
                    <a:pt x="720" y="0"/>
                  </a:lnTo>
                  <a:lnTo>
                    <a:pt x="0" y="395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2388600" y="4103640"/>
              <a:ext cx="1326600" cy="352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2388600" y="4103640"/>
              <a:ext cx="1326600" cy="352800"/>
            </a:xfrm>
            <a:prstGeom prst="rect">
              <a:avLst/>
            </a:pr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1063440" y="4103640"/>
              <a:ext cx="1325160" cy="352800"/>
            </a:xfrm>
            <a:prstGeom prst="rect">
              <a:avLst/>
            </a:prstGeom>
            <a:solidFill>
              <a:srgbClr val="87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1063440" y="4103640"/>
              <a:ext cx="1325160" cy="352800"/>
            </a:xfrm>
            <a:prstGeom prst="rect">
              <a:avLst/>
            </a:pr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3715200" y="4101840"/>
              <a:ext cx="1922040" cy="354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3710520" y="4101840"/>
              <a:ext cx="1923480" cy="352800"/>
            </a:xfrm>
            <a:prstGeom prst="rect">
              <a:avLst/>
            </a:pr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5637600" y="4103640"/>
              <a:ext cx="833040" cy="352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5637600" y="4101840"/>
              <a:ext cx="833040" cy="352800"/>
            </a:xfrm>
            <a:prstGeom prst="rect">
              <a:avLst/>
            </a:pr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3801960" y="231408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4164480" y="2314080"/>
              <a:ext cx="3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1063440" y="3627360"/>
              <a:ext cx="1080" cy="1185120"/>
            </a:xfrm>
            <a:custGeom>
              <a:avLst/>
              <a:gdLst/>
              <a:ahLst/>
              <a:rect l="l" t="t" r="r" b="b"/>
              <a:pathLst>
                <a:path w="0" h="722">
                  <a:moveTo>
                    <a:pt x="0" y="0"/>
                  </a:moveTo>
                  <a:lnTo>
                    <a:pt x="0" y="722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1377000" y="561852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W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9" name=""/>
            <p:cNvSpPr/>
            <p:nvPr/>
          </p:nvSpPr>
          <p:spPr>
            <a:xfrm>
              <a:off x="1834920" y="5618520"/>
              <a:ext cx="3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2098080" y="5618520"/>
              <a:ext cx="3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6944400" y="561852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W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2" name=""/>
            <p:cNvSpPr/>
            <p:nvPr/>
          </p:nvSpPr>
          <p:spPr>
            <a:xfrm>
              <a:off x="7410240" y="5618520"/>
              <a:ext cx="3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7667640" y="5618520"/>
              <a:ext cx="3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8051760" y="3627360"/>
              <a:ext cx="1080" cy="1185120"/>
            </a:xfrm>
            <a:custGeom>
              <a:avLst/>
              <a:gdLst/>
              <a:ahLst/>
              <a:rect l="l" t="t" r="r" b="b"/>
              <a:pathLst>
                <a:path w="0" h="722">
                  <a:moveTo>
                    <a:pt x="0" y="0"/>
                  </a:moveTo>
                  <a:lnTo>
                    <a:pt x="0" y="722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5" name=""/>
            <p:cNvSpPr/>
            <p:nvPr/>
          </p:nvSpPr>
          <p:spPr>
            <a:xfrm>
              <a:off x="1202760" y="410472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Broadca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2512440" y="41094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Down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4040280" y="4104720"/>
              <a:ext cx="11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Direct 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5645880" y="410472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Up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6487200" y="4104720"/>
              <a:ext cx="155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Random Ac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5043960" y="3391200"/>
              <a:ext cx="529920" cy="416880"/>
            </a:xfrm>
            <a:custGeom>
              <a:avLst/>
              <a:gdLst/>
              <a:ahLst/>
              <a:rect l="l" t="t" r="r" b="b"/>
              <a:pathLst>
                <a:path w="288" h="254">
                  <a:moveTo>
                    <a:pt x="288" y="254"/>
                  </a:moveTo>
                  <a:lnTo>
                    <a:pt x="0" y="0"/>
                  </a:lnTo>
                  <a:lnTo>
                    <a:pt x="288" y="2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6104160" y="3627360"/>
              <a:ext cx="464760" cy="236160"/>
            </a:xfrm>
            <a:custGeom>
              <a:avLst/>
              <a:gdLst/>
              <a:ahLst/>
              <a:rect l="l" t="t" r="r" b="b"/>
              <a:pathLst>
                <a:path w="252" h="144">
                  <a:moveTo>
                    <a:pt x="252" y="144"/>
                  </a:moveTo>
                  <a:lnTo>
                    <a:pt x="0" y="0"/>
                  </a:lnTo>
                  <a:lnTo>
                    <a:pt x="252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6501240" y="3627360"/>
              <a:ext cx="529560" cy="2361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0" y="0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3" name=""/>
            <p:cNvGrpSpPr/>
            <p:nvPr/>
          </p:nvGrpSpPr>
          <p:grpSpPr>
            <a:xfrm>
              <a:off x="5713200" y="2911680"/>
              <a:ext cx="2872080" cy="1032120"/>
              <a:chOff x="5713200" y="2911680"/>
              <a:chExt cx="2872080" cy="1032120"/>
            </a:xfrm>
          </p:grpSpPr>
          <p:sp>
            <p:nvSpPr>
              <p:cNvPr id="6754" name=""/>
              <p:cNvSpPr/>
              <p:nvPr/>
            </p:nvSpPr>
            <p:spPr>
              <a:xfrm>
                <a:off x="6805800" y="2911680"/>
                <a:ext cx="1779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Resource Request </a:t>
                </a:r>
                <a:br>
                  <a:rPr sz="1600"/>
                </a:b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LCC-ID, #Slots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 flipH="1">
                <a:off x="6014880" y="3156120"/>
                <a:ext cx="840960" cy="315000"/>
              </a:xfrm>
              <a:prstGeom prst="line">
                <a:avLst/>
              </a:prstGeom>
              <a:ln w="38160">
                <a:solidFill>
                  <a:srgbClr val="000066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 flipH="1">
                <a:off x="5713200" y="3313800"/>
                <a:ext cx="1066680" cy="630000"/>
              </a:xfrm>
              <a:prstGeom prst="line">
                <a:avLst/>
              </a:prstGeom>
              <a:ln w="38160">
                <a:solidFill>
                  <a:srgbClr val="000066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7" name=""/>
            <p:cNvSpPr/>
            <p:nvPr/>
          </p:nvSpPr>
          <p:spPr>
            <a:xfrm flipH="1" flipV="1">
              <a:off x="5104440" y="3438360"/>
              <a:ext cx="685440" cy="55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8" name=""/>
            <p:cNvSpPr/>
            <p:nvPr/>
          </p:nvSpPr>
          <p:spPr>
            <a:xfrm flipH="1" flipV="1">
              <a:off x="5637600" y="3359880"/>
              <a:ext cx="990000" cy="55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9" name=""/>
            <p:cNvSpPr/>
            <p:nvPr/>
          </p:nvSpPr>
          <p:spPr>
            <a:xfrm flipH="1" flipV="1">
              <a:off x="5751720" y="3271320"/>
              <a:ext cx="838080" cy="39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0" name=""/>
            <p:cNvGrpSpPr/>
            <p:nvPr/>
          </p:nvGrpSpPr>
          <p:grpSpPr>
            <a:xfrm>
              <a:off x="228600" y="1935000"/>
              <a:ext cx="2971080" cy="1929960"/>
              <a:chOff x="228600" y="1935000"/>
              <a:chExt cx="2971080" cy="1929960"/>
            </a:xfrm>
          </p:grpSpPr>
          <p:sp>
            <p:nvSpPr>
              <p:cNvPr id="6761" name=""/>
              <p:cNvSpPr/>
              <p:nvPr/>
            </p:nvSpPr>
            <p:spPr>
              <a:xfrm>
                <a:off x="228600" y="1935000"/>
                <a:ext cx="2971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Resource Gra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LCC-ID, #Slots, Pointer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1752120" y="2683440"/>
                <a:ext cx="304200" cy="1181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3" name=""/>
            <p:cNvSpPr/>
            <p:nvPr/>
          </p:nvSpPr>
          <p:spPr>
            <a:xfrm flipH="1">
              <a:off x="2361600" y="3044520"/>
              <a:ext cx="761760" cy="55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4" name=""/>
            <p:cNvSpPr/>
            <p:nvPr/>
          </p:nvSpPr>
          <p:spPr>
            <a:xfrm flipH="1">
              <a:off x="3123720" y="2966040"/>
              <a:ext cx="609120" cy="78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5" name=""/>
            <p:cNvGrpSpPr/>
            <p:nvPr/>
          </p:nvGrpSpPr>
          <p:grpSpPr>
            <a:xfrm>
              <a:off x="4782960" y="2067840"/>
              <a:ext cx="2183400" cy="2229840"/>
              <a:chOff x="4782960" y="2067840"/>
              <a:chExt cx="2183400" cy="2229840"/>
            </a:xfrm>
          </p:grpSpPr>
          <p:sp>
            <p:nvSpPr>
              <p:cNvPr id="6766" name=""/>
              <p:cNvSpPr/>
              <p:nvPr/>
            </p:nvSpPr>
            <p:spPr>
              <a:xfrm flipV="1">
                <a:off x="5301000" y="2565000"/>
                <a:ext cx="0" cy="1732680"/>
              </a:xfrm>
              <a:prstGeom prst="line">
                <a:avLst/>
              </a:prstGeom>
              <a:ln w="12600">
                <a:solidFill>
                  <a:srgbClr val="000066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 flipV="1">
                <a:off x="5376960" y="2565000"/>
                <a:ext cx="0" cy="1732680"/>
              </a:xfrm>
              <a:prstGeom prst="line">
                <a:avLst/>
              </a:prstGeom>
              <a:ln w="12600">
                <a:solidFill>
                  <a:srgbClr val="000066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 flipV="1">
                <a:off x="5453280" y="2565000"/>
                <a:ext cx="0" cy="1732680"/>
              </a:xfrm>
              <a:prstGeom prst="line">
                <a:avLst/>
              </a:prstGeom>
              <a:ln w="12600">
                <a:solidFill>
                  <a:srgbClr val="000066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9" name=""/>
              <p:cNvSpPr/>
              <p:nvPr/>
            </p:nvSpPr>
            <p:spPr>
              <a:xfrm>
                <a:off x="4782960" y="2067840"/>
                <a:ext cx="21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Fixed Slot Allo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70" name=""/>
          <p:cNvSpPr/>
          <p:nvPr/>
        </p:nvSpPr>
        <p:spPr>
          <a:xfrm>
            <a:off x="304920" y="129528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Resource request &amp; resource grant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7F7-1423-440F-9325-091FF88E532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1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3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C Responsibility Handover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2" name=""/>
          <p:cNvGrpSpPr/>
          <p:nvPr/>
        </p:nvGrpSpPr>
        <p:grpSpPr>
          <a:xfrm>
            <a:off x="623880" y="1371600"/>
            <a:ext cx="6510240" cy="882720"/>
            <a:chOff x="623880" y="1371600"/>
            <a:chExt cx="6510240" cy="882720"/>
          </a:xfrm>
        </p:grpSpPr>
        <p:grpSp>
          <p:nvGrpSpPr>
            <p:cNvPr id="6773" name=""/>
            <p:cNvGrpSpPr/>
            <p:nvPr/>
          </p:nvGrpSpPr>
          <p:grpSpPr>
            <a:xfrm>
              <a:off x="1752480" y="1371600"/>
              <a:ext cx="5381640" cy="882720"/>
              <a:chOff x="1752480" y="1371600"/>
              <a:chExt cx="5381640" cy="882720"/>
            </a:xfrm>
          </p:grpSpPr>
          <p:grpSp>
            <p:nvGrpSpPr>
              <p:cNvPr id="6774" name=""/>
              <p:cNvGrpSpPr/>
              <p:nvPr/>
            </p:nvGrpSpPr>
            <p:grpSpPr>
              <a:xfrm>
                <a:off x="1752480" y="1371600"/>
                <a:ext cx="609840" cy="882720"/>
                <a:chOff x="1752480" y="1371600"/>
                <a:chExt cx="609840" cy="882720"/>
              </a:xfrm>
            </p:grpSpPr>
            <p:sp>
              <p:nvSpPr>
                <p:cNvPr id="6775" name=""/>
                <p:cNvSpPr/>
                <p:nvPr/>
              </p:nvSpPr>
              <p:spPr>
                <a:xfrm>
                  <a:off x="1752480" y="1644480"/>
                  <a:ext cx="609840" cy="60984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33cc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76" name=""/>
                <p:cNvGrpSpPr/>
                <p:nvPr/>
              </p:nvGrpSpPr>
              <p:grpSpPr>
                <a:xfrm>
                  <a:off x="1923480" y="1371600"/>
                  <a:ext cx="277920" cy="279360"/>
                  <a:chOff x="1923480" y="1371600"/>
                  <a:chExt cx="277920" cy="279360"/>
                </a:xfrm>
              </p:grpSpPr>
              <p:sp>
                <p:nvSpPr>
                  <p:cNvPr id="6777" name=""/>
                  <p:cNvSpPr/>
                  <p:nvPr/>
                </p:nvSpPr>
                <p:spPr>
                  <a:xfrm flipV="1">
                    <a:off x="2062440" y="1371600"/>
                    <a:ext cx="0" cy="27936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8" name=""/>
                  <p:cNvSpPr/>
                  <p:nvPr/>
                </p:nvSpPr>
                <p:spPr>
                  <a:xfrm flipH="1" flipV="1">
                    <a:off x="1923480" y="1396440"/>
                    <a:ext cx="138600" cy="12708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9" name=""/>
                  <p:cNvSpPr/>
                  <p:nvPr/>
                </p:nvSpPr>
                <p:spPr>
                  <a:xfrm flipV="1">
                    <a:off x="2062440" y="1384200"/>
                    <a:ext cx="138960" cy="12672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80" name=""/>
              <p:cNvGrpSpPr/>
              <p:nvPr/>
            </p:nvGrpSpPr>
            <p:grpSpPr>
              <a:xfrm>
                <a:off x="6448320" y="1492200"/>
                <a:ext cx="685800" cy="672840"/>
                <a:chOff x="6448320" y="1492200"/>
                <a:chExt cx="685800" cy="672840"/>
              </a:xfrm>
            </p:grpSpPr>
            <p:sp>
              <p:nvSpPr>
                <p:cNvPr id="6781" name=""/>
                <p:cNvSpPr/>
                <p:nvPr/>
              </p:nvSpPr>
              <p:spPr>
                <a:xfrm>
                  <a:off x="6448320" y="1771560"/>
                  <a:ext cx="685800" cy="39348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WT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82" name=""/>
                <p:cNvGrpSpPr/>
                <p:nvPr/>
              </p:nvGrpSpPr>
              <p:grpSpPr>
                <a:xfrm>
                  <a:off x="6698880" y="1492200"/>
                  <a:ext cx="277920" cy="279360"/>
                  <a:chOff x="6698880" y="1492200"/>
                  <a:chExt cx="277920" cy="279360"/>
                </a:xfrm>
              </p:grpSpPr>
              <p:sp>
                <p:nvSpPr>
                  <p:cNvPr id="6783" name=""/>
                  <p:cNvSpPr/>
                  <p:nvPr/>
                </p:nvSpPr>
                <p:spPr>
                  <a:xfrm flipV="1">
                    <a:off x="6837840" y="1492200"/>
                    <a:ext cx="0" cy="27936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4" name=""/>
                  <p:cNvSpPr/>
                  <p:nvPr/>
                </p:nvSpPr>
                <p:spPr>
                  <a:xfrm flipH="1" flipV="1">
                    <a:off x="6698880" y="1517040"/>
                    <a:ext cx="138600" cy="12708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5" name=""/>
                  <p:cNvSpPr/>
                  <p:nvPr/>
                </p:nvSpPr>
                <p:spPr>
                  <a:xfrm flipV="1">
                    <a:off x="6837840" y="1504800"/>
                    <a:ext cx="138960" cy="12672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786" name=""/>
            <p:cNvSpPr/>
            <p:nvPr/>
          </p:nvSpPr>
          <p:spPr>
            <a:xfrm>
              <a:off x="623880" y="138564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ld 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7" name=""/>
          <p:cNvGrpSpPr/>
          <p:nvPr/>
        </p:nvGrpSpPr>
        <p:grpSpPr>
          <a:xfrm>
            <a:off x="152280" y="1918800"/>
            <a:ext cx="5721120" cy="1599120"/>
            <a:chOff x="152280" y="1918800"/>
            <a:chExt cx="5721120" cy="1599120"/>
          </a:xfrm>
        </p:grpSpPr>
        <p:grpSp>
          <p:nvGrpSpPr>
            <p:cNvPr id="6788" name=""/>
            <p:cNvGrpSpPr/>
            <p:nvPr/>
          </p:nvGrpSpPr>
          <p:grpSpPr>
            <a:xfrm>
              <a:off x="2749320" y="1918800"/>
              <a:ext cx="3124080" cy="392400"/>
              <a:chOff x="2749320" y="1918800"/>
              <a:chExt cx="3124080" cy="392400"/>
            </a:xfrm>
          </p:grpSpPr>
          <p:sp>
            <p:nvSpPr>
              <p:cNvPr id="6789" name=""/>
              <p:cNvSpPr/>
              <p:nvPr/>
            </p:nvSpPr>
            <p:spPr>
              <a:xfrm>
                <a:off x="3154680" y="1918800"/>
                <a:ext cx="232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You are my successor!“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2749320" y="2311200"/>
                <a:ext cx="31240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1" name=""/>
            <p:cNvSpPr/>
            <p:nvPr/>
          </p:nvSpPr>
          <p:spPr>
            <a:xfrm>
              <a:off x="152280" y="2450880"/>
              <a:ext cx="3809880" cy="1067040"/>
            </a:xfrm>
            <a:prstGeom prst="horizontalScroll">
              <a:avLst>
                <a:gd name="adj" fmla="val 12500"/>
              </a:avLst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- No new resource 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- Fixed slot allocation rem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2" name=""/>
          <p:cNvGrpSpPr/>
          <p:nvPr/>
        </p:nvGrpSpPr>
        <p:grpSpPr>
          <a:xfrm>
            <a:off x="2754360" y="3498120"/>
            <a:ext cx="3124080" cy="407160"/>
            <a:chOff x="2754360" y="3498120"/>
            <a:chExt cx="3124080" cy="407160"/>
          </a:xfrm>
        </p:grpSpPr>
        <p:sp>
          <p:nvSpPr>
            <p:cNvPr id="6793" name=""/>
            <p:cNvSpPr/>
            <p:nvPr/>
          </p:nvSpPr>
          <p:spPr>
            <a:xfrm>
              <a:off x="3278160" y="3498120"/>
              <a:ext cx="20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„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ake my database!“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2754360" y="3905280"/>
              <a:ext cx="312408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5" name=""/>
          <p:cNvGrpSpPr/>
          <p:nvPr/>
        </p:nvGrpSpPr>
        <p:grpSpPr>
          <a:xfrm>
            <a:off x="2895480" y="4494960"/>
            <a:ext cx="3124440" cy="381960"/>
            <a:chOff x="2895480" y="4494960"/>
            <a:chExt cx="3124440" cy="381960"/>
          </a:xfrm>
        </p:grpSpPr>
        <p:sp>
          <p:nvSpPr>
            <p:cNvPr id="6796" name=""/>
            <p:cNvSpPr/>
            <p:nvPr/>
          </p:nvSpPr>
          <p:spPr>
            <a:xfrm>
              <a:off x="3093840" y="4494960"/>
              <a:ext cx="283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„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Generate next MAC frame!“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2895480" y="4876920"/>
              <a:ext cx="312444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8" name=""/>
          <p:cNvGrpSpPr/>
          <p:nvPr/>
        </p:nvGrpSpPr>
        <p:grpSpPr>
          <a:xfrm>
            <a:off x="1679400" y="1371600"/>
            <a:ext cx="6463440" cy="990000"/>
            <a:chOff x="1679400" y="1371600"/>
            <a:chExt cx="6463440" cy="990000"/>
          </a:xfrm>
        </p:grpSpPr>
        <p:grpSp>
          <p:nvGrpSpPr>
            <p:cNvPr id="6799" name=""/>
            <p:cNvGrpSpPr/>
            <p:nvPr/>
          </p:nvGrpSpPr>
          <p:grpSpPr>
            <a:xfrm>
              <a:off x="1679400" y="1371600"/>
              <a:ext cx="685800" cy="672840"/>
              <a:chOff x="1679400" y="1371600"/>
              <a:chExt cx="685800" cy="672840"/>
            </a:xfrm>
          </p:grpSpPr>
          <p:sp>
            <p:nvSpPr>
              <p:cNvPr id="6800" name=""/>
              <p:cNvSpPr/>
              <p:nvPr/>
            </p:nvSpPr>
            <p:spPr>
              <a:xfrm>
                <a:off x="1679400" y="1650960"/>
                <a:ext cx="685800" cy="39348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WT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1" name=""/>
              <p:cNvGrpSpPr/>
              <p:nvPr/>
            </p:nvGrpSpPr>
            <p:grpSpPr>
              <a:xfrm>
                <a:off x="1929960" y="1371600"/>
                <a:ext cx="277920" cy="279360"/>
                <a:chOff x="1929960" y="1371600"/>
                <a:chExt cx="277920" cy="279360"/>
              </a:xfrm>
            </p:grpSpPr>
            <p:sp>
              <p:nvSpPr>
                <p:cNvPr id="6802" name=""/>
                <p:cNvSpPr/>
                <p:nvPr/>
              </p:nvSpPr>
              <p:spPr>
                <a:xfrm flipV="1">
                  <a:off x="2068920" y="1371600"/>
                  <a:ext cx="0" cy="27936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3" name=""/>
                <p:cNvSpPr/>
                <p:nvPr/>
              </p:nvSpPr>
              <p:spPr>
                <a:xfrm flipH="1" flipV="1">
                  <a:off x="1929960" y="1396440"/>
                  <a:ext cx="138600" cy="12708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4" name=""/>
                <p:cNvSpPr/>
                <p:nvPr/>
              </p:nvSpPr>
              <p:spPr>
                <a:xfrm flipV="1">
                  <a:off x="2068920" y="1384200"/>
                  <a:ext cx="138960" cy="12672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05" name=""/>
            <p:cNvGrpSpPr/>
            <p:nvPr/>
          </p:nvGrpSpPr>
          <p:grpSpPr>
            <a:xfrm>
              <a:off x="6537240" y="1417320"/>
              <a:ext cx="1605600" cy="944280"/>
              <a:chOff x="6537240" y="1417320"/>
              <a:chExt cx="1605600" cy="944280"/>
            </a:xfrm>
          </p:grpSpPr>
          <p:grpSp>
            <p:nvGrpSpPr>
              <p:cNvPr id="6806" name=""/>
              <p:cNvGrpSpPr/>
              <p:nvPr/>
            </p:nvGrpSpPr>
            <p:grpSpPr>
              <a:xfrm>
                <a:off x="6537240" y="1479240"/>
                <a:ext cx="609480" cy="882360"/>
                <a:chOff x="6537240" y="1479240"/>
                <a:chExt cx="609480" cy="882360"/>
              </a:xfrm>
            </p:grpSpPr>
            <p:sp>
              <p:nvSpPr>
                <p:cNvPr id="6807" name=""/>
                <p:cNvSpPr/>
                <p:nvPr/>
              </p:nvSpPr>
              <p:spPr>
                <a:xfrm>
                  <a:off x="6537240" y="1752120"/>
                  <a:ext cx="609480" cy="60948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33cc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08" name=""/>
                <p:cNvGrpSpPr/>
                <p:nvPr/>
              </p:nvGrpSpPr>
              <p:grpSpPr>
                <a:xfrm>
                  <a:off x="6707880" y="1479240"/>
                  <a:ext cx="277920" cy="279000"/>
                  <a:chOff x="6707880" y="1479240"/>
                  <a:chExt cx="277920" cy="279000"/>
                </a:xfrm>
              </p:grpSpPr>
              <p:sp>
                <p:nvSpPr>
                  <p:cNvPr id="6809" name=""/>
                  <p:cNvSpPr/>
                  <p:nvPr/>
                </p:nvSpPr>
                <p:spPr>
                  <a:xfrm flipV="1">
                    <a:off x="6846840" y="1479240"/>
                    <a:ext cx="0" cy="27900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0" name=""/>
                  <p:cNvSpPr/>
                  <p:nvPr/>
                </p:nvSpPr>
                <p:spPr>
                  <a:xfrm flipH="1" flipV="1">
                    <a:off x="6707880" y="1504800"/>
                    <a:ext cx="138600" cy="12672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1" name=""/>
                  <p:cNvSpPr/>
                  <p:nvPr/>
                </p:nvSpPr>
                <p:spPr>
                  <a:xfrm flipV="1">
                    <a:off x="6846840" y="1492200"/>
                    <a:ext cx="138960" cy="12672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812" name=""/>
              <p:cNvSpPr/>
              <p:nvPr/>
            </p:nvSpPr>
            <p:spPr>
              <a:xfrm>
                <a:off x="7197120" y="141732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New C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98E-6B94-47D6-8788-B0888CE83EC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3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38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/2 for Emerging Nomadic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le User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 LAN and Wireless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Data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base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-hoc”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53E-209B-4E8D-B7F1-9DC075C47FB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perLAN/2 as WPAN: Some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services and user scenarios are envisioned for WPAN in 5 GH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envisioned services/scenarios be accommodated with HIPERLAN/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can HIPERLAN/2 support “ad-hoc connectivity”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HIPERLAN/2 “cost-effective” (compared to Bluetooth technology) for such applic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, can a low-cost mode in HIPERLAN/2 be defi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regulatory issues/probl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could WPAN in 5 GHz jeopardize the current regulatory activities in relation to M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8519-80B8-4388-99CB-B0133202137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7" name="PlaceHolder 1"/>
          <p:cNvSpPr>
            <a:spLocks noGrp="1"/>
          </p:cNvSpPr>
          <p:nvPr>
            <p:ph type="title"/>
          </p:nvPr>
        </p:nvSpPr>
        <p:spPr>
          <a:xfrm>
            <a:off x="504360" y="649080"/>
            <a:ext cx="777420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AN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8" name="PlaceHolder 2"/>
          <p:cNvSpPr>
            <a:spLocks noGrp="1"/>
          </p:cNvSpPr>
          <p:nvPr>
            <p:ph/>
          </p:nvPr>
        </p:nvSpPr>
        <p:spPr>
          <a:xfrm>
            <a:off x="504360" y="1371240"/>
            <a:ext cx="8334360" cy="492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perLAN/2 Technical Spec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 of charge @ http://www.etsi.org/bran (click on work ite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HY: ts_101475v0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LC (basic functions): ts_10176101v0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LC: ts_10176102v0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cket based CL Common Part: ts_10149301v0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cket based CL Ethernet part: ts_10149302v0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ell based CL Common Part: ts_10176301v0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ell based CL UNI Part: ts_10176302v0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c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shid.khun-jush@eed.ericsson.se (BRAN Chair &amp; HiperLAN2 Coordin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96AF-EE3C-4FC5-A7A8-2FDB5E346FA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“Data”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968560" y="2133720"/>
            <a:ext cx="0" cy="318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35640" rIns="35640" tIns="17640" bIns="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81160" y="5327640"/>
            <a:ext cx="452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35640" rIns="35640" tIns="-17640" bIns="-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4120" y="5410080"/>
            <a:ext cx="6958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0560" y="5376960"/>
            <a:ext cx="2145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5376960"/>
            <a:ext cx="356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81520" y="5376960"/>
            <a:ext cx="4978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30080" y="5376960"/>
            <a:ext cx="426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295280" y="2263680"/>
            <a:ext cx="1523880" cy="3116160"/>
            <a:chOff x="1295280" y="2263680"/>
            <a:chExt cx="1523880" cy="3116160"/>
          </a:xfrm>
        </p:grpSpPr>
        <p:sp>
          <p:nvSpPr>
            <p:cNvPr id="70" name=""/>
            <p:cNvSpPr/>
            <p:nvPr/>
          </p:nvSpPr>
          <p:spPr>
            <a:xfrm rot="16200000">
              <a:off x="621720" y="2936880"/>
              <a:ext cx="1868400" cy="52164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480" rIns="2448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utdo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20880" y="3511440"/>
              <a:ext cx="998280" cy="62064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480" rIns="2448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tionar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20880" y="2887560"/>
              <a:ext cx="998280" cy="62064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480" rIns="2448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al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20880" y="2263680"/>
              <a:ext cx="998280" cy="62064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480" rIns="2448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ehic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933840" y="4496400"/>
              <a:ext cx="1244520" cy="52164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480" rIns="2448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do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20880" y="4759200"/>
              <a:ext cx="998280" cy="62064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480" rIns="2448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tionary/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esk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20880" y="4135320"/>
              <a:ext cx="998280" cy="62064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480" rIns="2448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al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 rot="16200000">
            <a:off x="367200" y="3840120"/>
            <a:ext cx="10159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971800" y="3352680"/>
            <a:ext cx="3352680" cy="1981440"/>
            <a:chOff x="2971800" y="3352680"/>
            <a:chExt cx="3352680" cy="1981440"/>
          </a:xfrm>
        </p:grpSpPr>
        <p:sp>
          <p:nvSpPr>
            <p:cNvPr id="79" name=""/>
            <p:cNvSpPr/>
            <p:nvPr/>
          </p:nvSpPr>
          <p:spPr>
            <a:xfrm>
              <a:off x="2971800" y="3352680"/>
              <a:ext cx="3343320" cy="198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48320" y="4038480"/>
              <a:ext cx="16761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HiperLAN/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IEEE802.11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951720" y="5791320"/>
            <a:ext cx="16254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Bit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971800" y="4724280"/>
            <a:ext cx="4267080" cy="609840"/>
            <a:chOff x="2971800" y="4724280"/>
            <a:chExt cx="4267080" cy="609840"/>
          </a:xfrm>
        </p:grpSpPr>
        <p:sp>
          <p:nvSpPr>
            <p:cNvPr id="83" name=""/>
            <p:cNvSpPr/>
            <p:nvPr/>
          </p:nvSpPr>
          <p:spPr>
            <a:xfrm>
              <a:off x="2971800" y="4724280"/>
              <a:ext cx="4267080" cy="609840"/>
            </a:xfrm>
            <a:prstGeom prst="rect">
              <a:avLst/>
            </a:prstGeom>
            <a:gradFill rotWithShape="0">
              <a:gsLst>
                <a:gs pos="0">
                  <a:srgbClr val="5e7517"/>
                </a:gs>
                <a:gs pos="50000">
                  <a:srgbClr val="ccff33"/>
                </a:gs>
                <a:gs pos="100000">
                  <a:srgbClr val="5e751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02240" y="4844880"/>
              <a:ext cx="65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971800" y="2286000"/>
            <a:ext cx="1828800" cy="3048120"/>
          </a:xfrm>
          <a:custGeom>
            <a:avLst/>
            <a:gdLst/>
            <a:ahLst/>
            <a:rect l="l" t="t" r="r" b="b"/>
            <a:pathLst>
              <a:path w="1152" h="1920">
                <a:moveTo>
                  <a:pt x="0" y="0"/>
                </a:moveTo>
                <a:lnTo>
                  <a:pt x="384" y="0"/>
                </a:lnTo>
                <a:lnTo>
                  <a:pt x="432" y="48"/>
                </a:lnTo>
                <a:lnTo>
                  <a:pt x="1104" y="1488"/>
                </a:lnTo>
                <a:lnTo>
                  <a:pt x="1152" y="1920"/>
                </a:lnTo>
                <a:lnTo>
                  <a:pt x="0" y="19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596400"/>
            <a:ext cx="9907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09840" y="4533840"/>
            <a:ext cx="1371600" cy="80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luetoo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971800" y="2286000"/>
            <a:ext cx="518040" cy="3012840"/>
            <a:chOff x="2971800" y="2286000"/>
            <a:chExt cx="518040" cy="3012840"/>
          </a:xfrm>
        </p:grpSpPr>
        <p:grpSp>
          <p:nvGrpSpPr>
            <p:cNvPr id="89" name=""/>
            <p:cNvGrpSpPr/>
            <p:nvPr/>
          </p:nvGrpSpPr>
          <p:grpSpPr>
            <a:xfrm>
              <a:off x="2971800" y="2286000"/>
              <a:ext cx="518040" cy="3012840"/>
              <a:chOff x="2971800" y="2286000"/>
              <a:chExt cx="518040" cy="301284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2971800" y="2286000"/>
                <a:ext cx="518040" cy="3012840"/>
                <a:chOff x="2971800" y="2286000"/>
                <a:chExt cx="518040" cy="30128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971800" y="2286000"/>
                  <a:ext cx="5040" cy="3012840"/>
                </a:xfrm>
                <a:prstGeom prst="rect">
                  <a:avLst/>
                </a:prstGeom>
                <a:solidFill>
                  <a:srgbClr val="b24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976840" y="2286000"/>
                  <a:ext cx="7200" cy="3012840"/>
                </a:xfrm>
                <a:prstGeom prst="rect">
                  <a:avLst/>
                </a:prstGeom>
                <a:solidFill>
                  <a:srgbClr val="b24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984400" y="2286000"/>
                  <a:ext cx="3600" cy="3012840"/>
                </a:xfrm>
                <a:prstGeom prst="rect">
                  <a:avLst/>
                </a:prstGeom>
                <a:solidFill>
                  <a:srgbClr val="b34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988000" y="2286000"/>
                  <a:ext cx="5040" cy="3012840"/>
                </a:xfrm>
                <a:prstGeom prst="rect">
                  <a:avLst/>
                </a:prstGeom>
                <a:solidFill>
                  <a:srgbClr val="b34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993400" y="2286000"/>
                  <a:ext cx="6840" cy="3012840"/>
                </a:xfrm>
                <a:prstGeom prst="rect">
                  <a:avLst/>
                </a:prstGeom>
                <a:solidFill>
                  <a:srgbClr val="b44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000240" y="2286000"/>
                  <a:ext cx="3600" cy="3012840"/>
                </a:xfrm>
                <a:prstGeom prst="rect">
                  <a:avLst/>
                </a:prstGeom>
                <a:solidFill>
                  <a:srgbClr val="b54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003840" y="2286000"/>
                  <a:ext cx="5400" cy="3012840"/>
                </a:xfrm>
                <a:prstGeom prst="rect">
                  <a:avLst/>
                </a:prstGeom>
                <a:solidFill>
                  <a:srgbClr val="b64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009600" y="2286000"/>
                  <a:ext cx="6840" cy="3012840"/>
                </a:xfrm>
                <a:prstGeom prst="rect">
                  <a:avLst/>
                </a:prstGeom>
                <a:solidFill>
                  <a:srgbClr val="b74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016440" y="2286000"/>
                  <a:ext cx="3600" cy="3012840"/>
                </a:xfrm>
                <a:prstGeom prst="rect">
                  <a:avLst/>
                </a:prstGeom>
                <a:solidFill>
                  <a:srgbClr val="b94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020040" y="2286000"/>
                  <a:ext cx="3600" cy="3012840"/>
                </a:xfrm>
                <a:prstGeom prst="rect">
                  <a:avLst/>
                </a:prstGeom>
                <a:solidFill>
                  <a:srgbClr val="ba4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024000" y="2286000"/>
                  <a:ext cx="8640" cy="3012840"/>
                </a:xfrm>
                <a:prstGeom prst="rect">
                  <a:avLst/>
                </a:prstGeom>
                <a:solidFill>
                  <a:srgbClr val="bc4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033000" y="2286000"/>
                  <a:ext cx="3600" cy="3012840"/>
                </a:xfrm>
                <a:prstGeom prst="rect">
                  <a:avLst/>
                </a:prstGeom>
                <a:solidFill>
                  <a:srgbClr val="bd4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036600" y="2286000"/>
                  <a:ext cx="3600" cy="3012840"/>
                </a:xfrm>
                <a:prstGeom prst="rect">
                  <a:avLst/>
                </a:prstGeom>
                <a:solidFill>
                  <a:srgbClr val="bf4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040200" y="2286000"/>
                  <a:ext cx="8640" cy="3012840"/>
                </a:xfrm>
                <a:prstGeom prst="rect">
                  <a:avLst/>
                </a:prstGeom>
                <a:solidFill>
                  <a:srgbClr val="c14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9200" y="2286000"/>
                  <a:ext cx="3240" cy="3012840"/>
                </a:xfrm>
                <a:prstGeom prst="rect">
                  <a:avLst/>
                </a:prstGeom>
                <a:solidFill>
                  <a:srgbClr val="c34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052440" y="2286000"/>
                  <a:ext cx="3600" cy="3012840"/>
                </a:xfrm>
                <a:prstGeom prst="rect">
                  <a:avLst/>
                </a:prstGeom>
                <a:solidFill>
                  <a:srgbClr val="c54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56040" y="2286000"/>
                  <a:ext cx="8640" cy="3012840"/>
                </a:xfrm>
                <a:prstGeom prst="rect">
                  <a:avLst/>
                </a:prstGeom>
                <a:solidFill>
                  <a:srgbClr val="c84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065040" y="2286000"/>
                  <a:ext cx="3600" cy="3012840"/>
                </a:xfrm>
                <a:prstGeom prst="rect">
                  <a:avLst/>
                </a:prstGeom>
                <a:solidFill>
                  <a:srgbClr val="ca5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068640" y="2286000"/>
                  <a:ext cx="3600" cy="3012840"/>
                </a:xfrm>
                <a:prstGeom prst="rect">
                  <a:avLst/>
                </a:prstGeom>
                <a:solidFill>
                  <a:srgbClr val="cc5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072600" y="2286000"/>
                  <a:ext cx="8640" cy="3012840"/>
                </a:xfrm>
                <a:prstGeom prst="rect">
                  <a:avLst/>
                </a:prstGeom>
                <a:solidFill>
                  <a:srgbClr val="cf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081240" y="2286000"/>
                  <a:ext cx="3600" cy="3012840"/>
                </a:xfrm>
                <a:prstGeom prst="rect">
                  <a:avLst/>
                </a:prstGeom>
                <a:solidFill>
                  <a:srgbClr val="d2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085200" y="2286000"/>
                  <a:ext cx="3600" cy="3012840"/>
                </a:xfrm>
                <a:prstGeom prst="rect">
                  <a:avLst/>
                </a:prstGeom>
                <a:solidFill>
                  <a:srgbClr val="d4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088800" y="2286000"/>
                  <a:ext cx="8640" cy="3012840"/>
                </a:xfrm>
                <a:prstGeom prst="rect">
                  <a:avLst/>
                </a:prstGeom>
                <a:solidFill>
                  <a:srgbClr val="d75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97800" y="2286000"/>
                  <a:ext cx="3240" cy="3012840"/>
                </a:xfrm>
                <a:prstGeom prst="rect">
                  <a:avLst/>
                </a:prstGeom>
                <a:solidFill>
                  <a:srgbClr val="da5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101040" y="2286000"/>
                  <a:ext cx="3600" cy="3012840"/>
                </a:xfrm>
                <a:prstGeom prst="rect">
                  <a:avLst/>
                </a:prstGeom>
                <a:solidFill>
                  <a:srgbClr val="dc5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104640" y="2286000"/>
                  <a:ext cx="8640" cy="3012840"/>
                </a:xfrm>
                <a:prstGeom prst="rect">
                  <a:avLst/>
                </a:prstGeom>
                <a:solidFill>
                  <a:srgbClr val="df5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113640" y="2286000"/>
                  <a:ext cx="3600" cy="3012840"/>
                </a:xfrm>
                <a:prstGeom prst="rect">
                  <a:avLst/>
                </a:prstGeom>
                <a:solidFill>
                  <a:srgbClr val="e25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117240" y="2286000"/>
                  <a:ext cx="3600" cy="3012840"/>
                </a:xfrm>
                <a:prstGeom prst="rect">
                  <a:avLst/>
                </a:prstGeom>
                <a:solidFill>
                  <a:srgbClr val="e45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120840" y="2286000"/>
                  <a:ext cx="8640" cy="3012840"/>
                </a:xfrm>
                <a:prstGeom prst="rect">
                  <a:avLst/>
                </a:prstGeom>
                <a:solidFill>
                  <a:srgbClr val="e7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129840" y="2286000"/>
                  <a:ext cx="3600" cy="3012840"/>
                </a:xfrm>
                <a:prstGeom prst="rect">
                  <a:avLst/>
                </a:prstGeom>
                <a:solidFill>
                  <a:srgbClr val="e95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133800" y="2286000"/>
                  <a:ext cx="3600" cy="3012840"/>
                </a:xfrm>
                <a:prstGeom prst="rect">
                  <a:avLst/>
                </a:prstGeom>
                <a:solidFill>
                  <a:srgbClr val="eb5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137400" y="2286000"/>
                  <a:ext cx="8640" cy="3012840"/>
                </a:xfrm>
                <a:prstGeom prst="rect">
                  <a:avLst/>
                </a:prstGeom>
                <a:solidFill>
                  <a:srgbClr val="ed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146400" y="2286000"/>
                  <a:ext cx="3240" cy="3012840"/>
                </a:xfrm>
                <a:prstGeom prst="rect">
                  <a:avLst/>
                </a:prstGeom>
                <a:solidFill>
                  <a:srgbClr val="e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149640" y="2286000"/>
                  <a:ext cx="3600" cy="3012840"/>
                </a:xfrm>
                <a:prstGeom prst="rect">
                  <a:avLst/>
                </a:prstGeom>
                <a:solidFill>
                  <a:srgbClr val="f1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153240" y="2286000"/>
                  <a:ext cx="8640" cy="3012840"/>
                </a:xfrm>
                <a:prstGeom prst="rect">
                  <a:avLst/>
                </a:prstGeom>
                <a:solidFill>
                  <a:srgbClr val="f3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162240" y="2286000"/>
                  <a:ext cx="3600" cy="3012840"/>
                </a:xfrm>
                <a:prstGeom prst="rect">
                  <a:avLst/>
                </a:prstGeom>
                <a:solidFill>
                  <a:srgbClr val="f4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165840" y="2286000"/>
                  <a:ext cx="3600" cy="3012840"/>
                </a:xfrm>
                <a:prstGeom prst="rect">
                  <a:avLst/>
                </a:prstGeom>
                <a:solidFill>
                  <a:srgbClr val="f56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169440" y="2286000"/>
                  <a:ext cx="8640" cy="3012840"/>
                </a:xfrm>
                <a:prstGeom prst="rect">
                  <a:avLst/>
                </a:prstGeom>
                <a:solidFill>
                  <a:srgbClr val="f76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178440" y="2286000"/>
                  <a:ext cx="3600" cy="3012840"/>
                </a:xfrm>
                <a:prstGeom prst="rect">
                  <a:avLst/>
                </a:prstGeom>
                <a:solidFill>
                  <a:srgbClr val="f86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182400" y="2286000"/>
                  <a:ext cx="3600" cy="3012840"/>
                </a:xfrm>
                <a:prstGeom prst="rect">
                  <a:avLst/>
                </a:prstGeom>
                <a:solidFill>
                  <a:srgbClr val="f96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186000" y="2286000"/>
                  <a:ext cx="8640" cy="3012840"/>
                </a:xfrm>
                <a:prstGeom prst="rect">
                  <a:avLst/>
                </a:prstGeom>
                <a:solidFill>
                  <a:srgbClr val="fa6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195000" y="2286000"/>
                  <a:ext cx="3600" cy="3012840"/>
                </a:xfrm>
                <a:prstGeom prst="rect">
                  <a:avLst/>
                </a:prstGeom>
                <a:solidFill>
                  <a:srgbClr val="fb6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198600" y="2286000"/>
                  <a:ext cx="3240" cy="3012840"/>
                </a:xfrm>
                <a:prstGeom prst="rect">
                  <a:avLst/>
                </a:prstGeom>
                <a:solidFill>
                  <a:srgbClr val="fc6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201840" y="2286000"/>
                  <a:ext cx="8640" cy="3012840"/>
                </a:xfrm>
                <a:prstGeom prst="rect">
                  <a:avLst/>
                </a:prstGeom>
                <a:solidFill>
                  <a:srgbClr val="fc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210840" y="2286000"/>
                  <a:ext cx="3600" cy="3012840"/>
                </a:xfrm>
                <a:prstGeom prst="rect">
                  <a:avLst/>
                </a:prstGeom>
                <a:solidFill>
                  <a:srgbClr val="fd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214440" y="2286000"/>
                  <a:ext cx="3600" cy="3012840"/>
                </a:xfrm>
                <a:prstGeom prst="rect">
                  <a:avLst/>
                </a:prstGeom>
                <a:solidFill>
                  <a:srgbClr val="fd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218040" y="2286000"/>
                  <a:ext cx="8640" cy="3012840"/>
                </a:xfrm>
                <a:prstGeom prst="rect">
                  <a:avLst/>
                </a:prstGeom>
                <a:solidFill>
                  <a:srgbClr val="fe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227040" y="2286000"/>
                  <a:ext cx="3600" cy="3012840"/>
                </a:xfrm>
                <a:prstGeom prst="rect">
                  <a:avLst/>
                </a:prstGeom>
                <a:solidFill>
                  <a:srgbClr val="fe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230640" y="2286000"/>
                  <a:ext cx="3600" cy="3012840"/>
                </a:xfrm>
                <a:prstGeom prst="rect">
                  <a:avLst/>
                </a:prstGeom>
                <a:solidFill>
                  <a:srgbClr val="fe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234600" y="2286000"/>
                  <a:ext cx="8640" cy="3012840"/>
                </a:xfrm>
                <a:prstGeom prst="rect">
                  <a:avLst/>
                </a:prstGeom>
                <a:solidFill>
                  <a:srgbClr val="fe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243600" y="2286000"/>
                  <a:ext cx="3600" cy="3012840"/>
                </a:xfrm>
                <a:prstGeom prst="rect">
                  <a:avLst/>
                </a:prstGeom>
                <a:solidFill>
                  <a:srgbClr val="fd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47200" y="2286000"/>
                  <a:ext cx="3240" cy="3012840"/>
                </a:xfrm>
                <a:prstGeom prst="rect">
                  <a:avLst/>
                </a:prstGeom>
                <a:solidFill>
                  <a:srgbClr val="fd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250440" y="2286000"/>
                  <a:ext cx="8640" cy="3012840"/>
                </a:xfrm>
                <a:prstGeom prst="rect">
                  <a:avLst/>
                </a:prstGeom>
                <a:solidFill>
                  <a:srgbClr val="fc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259440" y="2286000"/>
                  <a:ext cx="3600" cy="3012840"/>
                </a:xfrm>
                <a:prstGeom prst="rect">
                  <a:avLst/>
                </a:prstGeom>
                <a:solidFill>
                  <a:srgbClr val="fc6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263040" y="2286000"/>
                  <a:ext cx="3600" cy="3012840"/>
                </a:xfrm>
                <a:prstGeom prst="rect">
                  <a:avLst/>
                </a:prstGeom>
                <a:solidFill>
                  <a:srgbClr val="fb6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266640" y="2286000"/>
                  <a:ext cx="8640" cy="3012840"/>
                </a:xfrm>
                <a:prstGeom prst="rect">
                  <a:avLst/>
                </a:prstGeom>
                <a:solidFill>
                  <a:srgbClr val="fa6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275640" y="2286000"/>
                  <a:ext cx="3600" cy="3012840"/>
                </a:xfrm>
                <a:prstGeom prst="rect">
                  <a:avLst/>
                </a:prstGeom>
                <a:solidFill>
                  <a:srgbClr val="f96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279240" y="2286000"/>
                  <a:ext cx="3600" cy="3012840"/>
                </a:xfrm>
                <a:prstGeom prst="rect">
                  <a:avLst/>
                </a:prstGeom>
                <a:solidFill>
                  <a:srgbClr val="f86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283200" y="2286000"/>
                  <a:ext cx="8640" cy="3012840"/>
                </a:xfrm>
                <a:prstGeom prst="rect">
                  <a:avLst/>
                </a:prstGeom>
                <a:solidFill>
                  <a:srgbClr val="f76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291840" y="2286000"/>
                  <a:ext cx="3600" cy="3012840"/>
                </a:xfrm>
                <a:prstGeom prst="rect">
                  <a:avLst/>
                </a:prstGeom>
                <a:solidFill>
                  <a:srgbClr val="f56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295800" y="2286000"/>
                  <a:ext cx="3600" cy="3012840"/>
                </a:xfrm>
                <a:prstGeom prst="rect">
                  <a:avLst/>
                </a:prstGeom>
                <a:solidFill>
                  <a:srgbClr val="f4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299400" y="2286000"/>
                  <a:ext cx="8640" cy="3012840"/>
                </a:xfrm>
                <a:prstGeom prst="rect">
                  <a:avLst/>
                </a:prstGeom>
                <a:solidFill>
                  <a:srgbClr val="f3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308400" y="2286000"/>
                  <a:ext cx="3240" cy="3012840"/>
                </a:xfrm>
                <a:prstGeom prst="rect">
                  <a:avLst/>
                </a:prstGeom>
                <a:solidFill>
                  <a:srgbClr val="f1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311640" y="2286000"/>
                  <a:ext cx="3600" cy="3012840"/>
                </a:xfrm>
                <a:prstGeom prst="rect">
                  <a:avLst/>
                </a:prstGeom>
                <a:solidFill>
                  <a:srgbClr val="e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315240" y="2286000"/>
                  <a:ext cx="8640" cy="3012840"/>
                </a:xfrm>
                <a:prstGeom prst="rect">
                  <a:avLst/>
                </a:prstGeom>
                <a:solidFill>
                  <a:srgbClr val="ed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324240" y="2286000"/>
                  <a:ext cx="3600" cy="3012840"/>
                </a:xfrm>
                <a:prstGeom prst="rect">
                  <a:avLst/>
                </a:prstGeom>
                <a:solidFill>
                  <a:srgbClr val="eb5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327840" y="2286000"/>
                  <a:ext cx="3600" cy="3012840"/>
                </a:xfrm>
                <a:prstGeom prst="rect">
                  <a:avLst/>
                </a:prstGeom>
                <a:solidFill>
                  <a:srgbClr val="e95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331440" y="2286000"/>
                  <a:ext cx="8640" cy="3012840"/>
                </a:xfrm>
                <a:prstGeom prst="rect">
                  <a:avLst/>
                </a:prstGeom>
                <a:solidFill>
                  <a:srgbClr val="e7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340440" y="2286000"/>
                  <a:ext cx="3600" cy="3012840"/>
                </a:xfrm>
                <a:prstGeom prst="rect">
                  <a:avLst/>
                </a:prstGeom>
                <a:solidFill>
                  <a:srgbClr val="e45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344400" y="2286000"/>
                  <a:ext cx="3600" cy="3012840"/>
                </a:xfrm>
                <a:prstGeom prst="rect">
                  <a:avLst/>
                </a:prstGeom>
                <a:solidFill>
                  <a:srgbClr val="e25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348000" y="2286000"/>
                  <a:ext cx="8640" cy="3012840"/>
                </a:xfrm>
                <a:prstGeom prst="rect">
                  <a:avLst/>
                </a:prstGeom>
                <a:solidFill>
                  <a:srgbClr val="df5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57000" y="2286000"/>
                  <a:ext cx="3240" cy="3012840"/>
                </a:xfrm>
                <a:prstGeom prst="rect">
                  <a:avLst/>
                </a:prstGeom>
                <a:solidFill>
                  <a:srgbClr val="dc5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60240" y="2286000"/>
                  <a:ext cx="3600" cy="3012840"/>
                </a:xfrm>
                <a:prstGeom prst="rect">
                  <a:avLst/>
                </a:prstGeom>
                <a:solidFill>
                  <a:srgbClr val="da5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363840" y="2286000"/>
                  <a:ext cx="8640" cy="3012840"/>
                </a:xfrm>
                <a:prstGeom prst="rect">
                  <a:avLst/>
                </a:prstGeom>
                <a:solidFill>
                  <a:srgbClr val="d75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372840" y="2286000"/>
                  <a:ext cx="3600" cy="3012840"/>
                </a:xfrm>
                <a:prstGeom prst="rect">
                  <a:avLst/>
                </a:prstGeom>
                <a:solidFill>
                  <a:srgbClr val="d4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376440" y="2286000"/>
                  <a:ext cx="3600" cy="3012840"/>
                </a:xfrm>
                <a:prstGeom prst="rect">
                  <a:avLst/>
                </a:prstGeom>
                <a:solidFill>
                  <a:srgbClr val="d2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380040" y="2286000"/>
                  <a:ext cx="8640" cy="3012840"/>
                </a:xfrm>
                <a:prstGeom prst="rect">
                  <a:avLst/>
                </a:prstGeom>
                <a:solidFill>
                  <a:srgbClr val="cf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389040" y="2286000"/>
                  <a:ext cx="3600" cy="3012840"/>
                </a:xfrm>
                <a:prstGeom prst="rect">
                  <a:avLst/>
                </a:prstGeom>
                <a:solidFill>
                  <a:srgbClr val="cc5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393000" y="2286000"/>
                  <a:ext cx="3600" cy="3012840"/>
                </a:xfrm>
                <a:prstGeom prst="rect">
                  <a:avLst/>
                </a:prstGeom>
                <a:solidFill>
                  <a:srgbClr val="ca5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396600" y="2286000"/>
                  <a:ext cx="8640" cy="3012840"/>
                </a:xfrm>
                <a:prstGeom prst="rect">
                  <a:avLst/>
                </a:prstGeom>
                <a:solidFill>
                  <a:srgbClr val="c84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05600" y="2286000"/>
                  <a:ext cx="3240" cy="3012840"/>
                </a:xfrm>
                <a:prstGeom prst="rect">
                  <a:avLst/>
                </a:prstGeom>
                <a:solidFill>
                  <a:srgbClr val="c54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408840" y="2286000"/>
                  <a:ext cx="3600" cy="3012840"/>
                </a:xfrm>
                <a:prstGeom prst="rect">
                  <a:avLst/>
                </a:prstGeom>
                <a:solidFill>
                  <a:srgbClr val="c34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12440" y="2286000"/>
                  <a:ext cx="7200" cy="3012840"/>
                </a:xfrm>
                <a:prstGeom prst="rect">
                  <a:avLst/>
                </a:prstGeom>
                <a:solidFill>
                  <a:srgbClr val="c14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419640" y="2286000"/>
                  <a:ext cx="5040" cy="3012840"/>
                </a:xfrm>
                <a:prstGeom prst="rect">
                  <a:avLst/>
                </a:prstGeom>
                <a:solidFill>
                  <a:srgbClr val="bf4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425040" y="2286000"/>
                  <a:ext cx="3600" cy="3012840"/>
                </a:xfrm>
                <a:prstGeom prst="rect">
                  <a:avLst/>
                </a:prstGeom>
                <a:solidFill>
                  <a:srgbClr val="bd4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28640" y="2286000"/>
                  <a:ext cx="7200" cy="3012840"/>
                </a:xfrm>
                <a:prstGeom prst="rect">
                  <a:avLst/>
                </a:prstGeom>
                <a:solidFill>
                  <a:srgbClr val="bc4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436200" y="2286000"/>
                  <a:ext cx="5040" cy="3012840"/>
                </a:xfrm>
                <a:prstGeom prst="rect">
                  <a:avLst/>
                </a:prstGeom>
                <a:solidFill>
                  <a:srgbClr val="ba4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441240" y="2286000"/>
                  <a:ext cx="3600" cy="3012840"/>
                </a:xfrm>
                <a:prstGeom prst="rect">
                  <a:avLst/>
                </a:prstGeom>
                <a:solidFill>
                  <a:srgbClr val="b94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445200" y="2286000"/>
                  <a:ext cx="6840" cy="3012840"/>
                </a:xfrm>
                <a:prstGeom prst="rect">
                  <a:avLst/>
                </a:prstGeom>
                <a:solidFill>
                  <a:srgbClr val="b74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452040" y="2286000"/>
                  <a:ext cx="5400" cy="3012840"/>
                </a:xfrm>
                <a:prstGeom prst="rect">
                  <a:avLst/>
                </a:prstGeom>
                <a:solidFill>
                  <a:srgbClr val="b64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457800" y="2286000"/>
                  <a:ext cx="3240" cy="3012840"/>
                </a:xfrm>
                <a:prstGeom prst="rect">
                  <a:avLst/>
                </a:prstGeom>
                <a:solidFill>
                  <a:srgbClr val="b54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61040" y="2286000"/>
                  <a:ext cx="7200" cy="3012840"/>
                </a:xfrm>
                <a:prstGeom prst="rect">
                  <a:avLst/>
                </a:prstGeom>
                <a:solidFill>
                  <a:srgbClr val="b44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468240" y="2286000"/>
                  <a:ext cx="5040" cy="3012840"/>
                </a:xfrm>
                <a:prstGeom prst="rect">
                  <a:avLst/>
                </a:prstGeom>
                <a:solidFill>
                  <a:srgbClr val="b34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473640" y="2286000"/>
                  <a:ext cx="3600" cy="3012840"/>
                </a:xfrm>
                <a:prstGeom prst="rect">
                  <a:avLst/>
                </a:prstGeom>
                <a:solidFill>
                  <a:srgbClr val="b34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477240" y="2286000"/>
                  <a:ext cx="7200" cy="3012840"/>
                </a:xfrm>
                <a:prstGeom prst="rect">
                  <a:avLst/>
                </a:prstGeom>
                <a:solidFill>
                  <a:srgbClr val="b24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484800" y="2286000"/>
                  <a:ext cx="5040" cy="3012840"/>
                </a:xfrm>
                <a:prstGeom prst="rect">
                  <a:avLst/>
                </a:prstGeom>
                <a:solidFill>
                  <a:srgbClr val="b24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976840" y="2286000"/>
                  <a:ext cx="504000" cy="3004920"/>
                </a:xfrm>
                <a:custGeom>
                  <a:avLst/>
                  <a:gdLst/>
                  <a:ahLst/>
                  <a:rect l="l" t="t" r="r" b="b"/>
                  <a:pathLst>
                    <a:path w="280" h="1893">
                      <a:moveTo>
                        <a:pt x="0" y="949"/>
                      </a:moveTo>
                      <a:lnTo>
                        <a:pt x="2" y="1046"/>
                      </a:lnTo>
                      <a:lnTo>
                        <a:pt x="6" y="1140"/>
                      </a:lnTo>
                      <a:lnTo>
                        <a:pt x="11" y="1231"/>
                      </a:lnTo>
                      <a:lnTo>
                        <a:pt x="18" y="1319"/>
                      </a:lnTo>
                      <a:lnTo>
                        <a:pt x="24" y="1400"/>
                      </a:lnTo>
                      <a:lnTo>
                        <a:pt x="33" y="1479"/>
                      </a:lnTo>
                      <a:lnTo>
                        <a:pt x="42" y="1551"/>
                      </a:lnTo>
                      <a:lnTo>
                        <a:pt x="53" y="1618"/>
                      </a:lnTo>
                      <a:lnTo>
                        <a:pt x="65" y="1679"/>
                      </a:lnTo>
                      <a:lnTo>
                        <a:pt x="76" y="1733"/>
                      </a:lnTo>
                      <a:lnTo>
                        <a:pt x="89" y="1781"/>
                      </a:lnTo>
                      <a:lnTo>
                        <a:pt x="101" y="1821"/>
                      </a:lnTo>
                      <a:lnTo>
                        <a:pt x="114" y="1853"/>
                      </a:lnTo>
                      <a:lnTo>
                        <a:pt x="121" y="1864"/>
                      </a:lnTo>
                      <a:lnTo>
                        <a:pt x="128" y="1875"/>
                      </a:lnTo>
                      <a:lnTo>
                        <a:pt x="136" y="1882"/>
                      </a:lnTo>
                      <a:lnTo>
                        <a:pt x="143" y="1889"/>
                      </a:lnTo>
                      <a:lnTo>
                        <a:pt x="150" y="1893"/>
                      </a:lnTo>
                      <a:lnTo>
                        <a:pt x="157" y="1893"/>
                      </a:lnTo>
                      <a:lnTo>
                        <a:pt x="163" y="1891"/>
                      </a:lnTo>
                      <a:lnTo>
                        <a:pt x="170" y="1889"/>
                      </a:lnTo>
                      <a:lnTo>
                        <a:pt x="177" y="1882"/>
                      </a:lnTo>
                      <a:lnTo>
                        <a:pt x="184" y="1873"/>
                      </a:lnTo>
                      <a:lnTo>
                        <a:pt x="197" y="1851"/>
                      </a:lnTo>
                      <a:lnTo>
                        <a:pt x="211" y="1817"/>
                      </a:lnTo>
                      <a:lnTo>
                        <a:pt x="222" y="1778"/>
                      </a:lnTo>
                      <a:lnTo>
                        <a:pt x="231" y="1731"/>
                      </a:lnTo>
                      <a:lnTo>
                        <a:pt x="242" y="1675"/>
                      </a:lnTo>
                      <a:lnTo>
                        <a:pt x="251" y="1614"/>
                      </a:lnTo>
                      <a:lnTo>
                        <a:pt x="258" y="1546"/>
                      </a:lnTo>
                      <a:lnTo>
                        <a:pt x="264" y="1474"/>
                      </a:lnTo>
                      <a:lnTo>
                        <a:pt x="271" y="1395"/>
                      </a:lnTo>
                      <a:lnTo>
                        <a:pt x="276" y="1314"/>
                      </a:lnTo>
                      <a:lnTo>
                        <a:pt x="278" y="1226"/>
                      </a:lnTo>
                      <a:lnTo>
                        <a:pt x="280" y="1136"/>
                      </a:lnTo>
                      <a:lnTo>
                        <a:pt x="280" y="1041"/>
                      </a:lnTo>
                      <a:lnTo>
                        <a:pt x="280" y="944"/>
                      </a:lnTo>
                      <a:lnTo>
                        <a:pt x="278" y="847"/>
                      </a:lnTo>
                      <a:lnTo>
                        <a:pt x="273" y="753"/>
                      </a:lnTo>
                      <a:lnTo>
                        <a:pt x="269" y="663"/>
                      </a:lnTo>
                      <a:lnTo>
                        <a:pt x="262" y="577"/>
                      </a:lnTo>
                      <a:lnTo>
                        <a:pt x="255" y="494"/>
                      </a:lnTo>
                      <a:lnTo>
                        <a:pt x="246" y="417"/>
                      </a:lnTo>
                      <a:lnTo>
                        <a:pt x="238" y="342"/>
                      </a:lnTo>
                      <a:lnTo>
                        <a:pt x="229" y="277"/>
                      </a:lnTo>
                      <a:lnTo>
                        <a:pt x="217" y="216"/>
                      </a:lnTo>
                      <a:lnTo>
                        <a:pt x="206" y="160"/>
                      </a:lnTo>
                      <a:lnTo>
                        <a:pt x="193" y="113"/>
                      </a:lnTo>
                      <a:lnTo>
                        <a:pt x="179" y="74"/>
                      </a:lnTo>
                      <a:lnTo>
                        <a:pt x="166" y="43"/>
                      </a:lnTo>
                      <a:lnTo>
                        <a:pt x="152" y="20"/>
                      </a:lnTo>
                      <a:lnTo>
                        <a:pt x="145" y="11"/>
                      </a:lnTo>
                      <a:lnTo>
                        <a:pt x="139" y="4"/>
                      </a:lnTo>
                      <a:lnTo>
                        <a:pt x="130" y="2"/>
                      </a:lnTo>
                      <a:lnTo>
                        <a:pt x="123" y="0"/>
                      </a:lnTo>
                      <a:lnTo>
                        <a:pt x="116" y="2"/>
                      </a:lnTo>
                      <a:lnTo>
                        <a:pt x="110" y="4"/>
                      </a:lnTo>
                      <a:lnTo>
                        <a:pt x="103" y="11"/>
                      </a:lnTo>
                      <a:lnTo>
                        <a:pt x="96" y="20"/>
                      </a:lnTo>
                      <a:lnTo>
                        <a:pt x="83" y="43"/>
                      </a:lnTo>
                      <a:lnTo>
                        <a:pt x="71" y="76"/>
                      </a:lnTo>
                      <a:lnTo>
                        <a:pt x="58" y="115"/>
                      </a:lnTo>
                      <a:lnTo>
                        <a:pt x="49" y="164"/>
                      </a:lnTo>
                      <a:lnTo>
                        <a:pt x="38" y="218"/>
                      </a:lnTo>
                      <a:lnTo>
                        <a:pt x="29" y="279"/>
                      </a:lnTo>
                      <a:lnTo>
                        <a:pt x="22" y="347"/>
                      </a:lnTo>
                      <a:lnTo>
                        <a:pt x="15" y="419"/>
                      </a:lnTo>
                      <a:lnTo>
                        <a:pt x="9" y="498"/>
                      </a:lnTo>
                      <a:lnTo>
                        <a:pt x="4" y="581"/>
                      </a:lnTo>
                      <a:lnTo>
                        <a:pt x="2" y="667"/>
                      </a:lnTo>
                      <a:lnTo>
                        <a:pt x="0" y="757"/>
                      </a:lnTo>
                      <a:lnTo>
                        <a:pt x="0" y="852"/>
                      </a:lnTo>
                      <a:lnTo>
                        <a:pt x="0" y="949"/>
                      </a:lnTo>
                      <a:close/>
                    </a:path>
                  </a:pathLst>
                </a:custGeom>
                <a:solidFill>
                  <a:srgbClr val="b24700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976840" y="2286000"/>
                  <a:ext cx="504000" cy="3004920"/>
                </a:xfrm>
                <a:custGeom>
                  <a:avLst/>
                  <a:gdLst/>
                  <a:ahLst/>
                  <a:rect l="l" t="t" r="r" b="b"/>
                  <a:pathLst>
                    <a:path w="280" h="1893">
                      <a:moveTo>
                        <a:pt x="0" y="949"/>
                      </a:moveTo>
                      <a:lnTo>
                        <a:pt x="2" y="1046"/>
                      </a:lnTo>
                      <a:lnTo>
                        <a:pt x="6" y="1140"/>
                      </a:lnTo>
                      <a:lnTo>
                        <a:pt x="11" y="1231"/>
                      </a:lnTo>
                      <a:lnTo>
                        <a:pt x="18" y="1319"/>
                      </a:lnTo>
                      <a:lnTo>
                        <a:pt x="24" y="1400"/>
                      </a:lnTo>
                      <a:lnTo>
                        <a:pt x="33" y="1479"/>
                      </a:lnTo>
                      <a:lnTo>
                        <a:pt x="42" y="1551"/>
                      </a:lnTo>
                      <a:lnTo>
                        <a:pt x="53" y="1618"/>
                      </a:lnTo>
                      <a:lnTo>
                        <a:pt x="65" y="1679"/>
                      </a:lnTo>
                      <a:lnTo>
                        <a:pt x="76" y="1733"/>
                      </a:lnTo>
                      <a:lnTo>
                        <a:pt x="89" y="1781"/>
                      </a:lnTo>
                      <a:lnTo>
                        <a:pt x="101" y="1821"/>
                      </a:lnTo>
                      <a:lnTo>
                        <a:pt x="114" y="1853"/>
                      </a:lnTo>
                      <a:lnTo>
                        <a:pt x="121" y="1864"/>
                      </a:lnTo>
                      <a:lnTo>
                        <a:pt x="128" y="1875"/>
                      </a:lnTo>
                      <a:lnTo>
                        <a:pt x="136" y="1882"/>
                      </a:lnTo>
                      <a:lnTo>
                        <a:pt x="143" y="1889"/>
                      </a:lnTo>
                      <a:lnTo>
                        <a:pt x="150" y="1893"/>
                      </a:lnTo>
                      <a:lnTo>
                        <a:pt x="157" y="1893"/>
                      </a:lnTo>
                      <a:lnTo>
                        <a:pt x="163" y="1891"/>
                      </a:lnTo>
                      <a:lnTo>
                        <a:pt x="170" y="1889"/>
                      </a:lnTo>
                      <a:lnTo>
                        <a:pt x="177" y="1882"/>
                      </a:lnTo>
                      <a:lnTo>
                        <a:pt x="184" y="1873"/>
                      </a:lnTo>
                      <a:lnTo>
                        <a:pt x="197" y="1851"/>
                      </a:lnTo>
                      <a:lnTo>
                        <a:pt x="211" y="1817"/>
                      </a:lnTo>
                      <a:lnTo>
                        <a:pt x="222" y="1778"/>
                      </a:lnTo>
                      <a:lnTo>
                        <a:pt x="231" y="1731"/>
                      </a:lnTo>
                      <a:lnTo>
                        <a:pt x="242" y="1675"/>
                      </a:lnTo>
                      <a:lnTo>
                        <a:pt x="251" y="1614"/>
                      </a:lnTo>
                      <a:lnTo>
                        <a:pt x="258" y="1546"/>
                      </a:lnTo>
                      <a:lnTo>
                        <a:pt x="264" y="1474"/>
                      </a:lnTo>
                      <a:lnTo>
                        <a:pt x="271" y="1395"/>
                      </a:lnTo>
                      <a:lnTo>
                        <a:pt x="276" y="1314"/>
                      </a:lnTo>
                      <a:lnTo>
                        <a:pt x="278" y="1226"/>
                      </a:lnTo>
                      <a:lnTo>
                        <a:pt x="280" y="1136"/>
                      </a:lnTo>
                      <a:lnTo>
                        <a:pt x="280" y="1041"/>
                      </a:lnTo>
                      <a:lnTo>
                        <a:pt x="280" y="944"/>
                      </a:lnTo>
                      <a:lnTo>
                        <a:pt x="278" y="847"/>
                      </a:lnTo>
                      <a:lnTo>
                        <a:pt x="273" y="753"/>
                      </a:lnTo>
                      <a:lnTo>
                        <a:pt x="269" y="663"/>
                      </a:lnTo>
                      <a:lnTo>
                        <a:pt x="262" y="577"/>
                      </a:lnTo>
                      <a:lnTo>
                        <a:pt x="255" y="494"/>
                      </a:lnTo>
                      <a:lnTo>
                        <a:pt x="246" y="417"/>
                      </a:lnTo>
                      <a:lnTo>
                        <a:pt x="238" y="342"/>
                      </a:lnTo>
                      <a:lnTo>
                        <a:pt x="229" y="277"/>
                      </a:lnTo>
                      <a:lnTo>
                        <a:pt x="217" y="216"/>
                      </a:lnTo>
                      <a:lnTo>
                        <a:pt x="206" y="160"/>
                      </a:lnTo>
                      <a:lnTo>
                        <a:pt x="193" y="113"/>
                      </a:lnTo>
                      <a:lnTo>
                        <a:pt x="179" y="74"/>
                      </a:lnTo>
                      <a:lnTo>
                        <a:pt x="166" y="43"/>
                      </a:lnTo>
                      <a:lnTo>
                        <a:pt x="152" y="20"/>
                      </a:lnTo>
                      <a:lnTo>
                        <a:pt x="145" y="11"/>
                      </a:lnTo>
                      <a:lnTo>
                        <a:pt x="139" y="4"/>
                      </a:lnTo>
                      <a:lnTo>
                        <a:pt x="130" y="2"/>
                      </a:lnTo>
                      <a:lnTo>
                        <a:pt x="123" y="0"/>
                      </a:lnTo>
                      <a:lnTo>
                        <a:pt x="116" y="2"/>
                      </a:lnTo>
                      <a:lnTo>
                        <a:pt x="110" y="4"/>
                      </a:lnTo>
                      <a:lnTo>
                        <a:pt x="103" y="11"/>
                      </a:lnTo>
                      <a:lnTo>
                        <a:pt x="96" y="20"/>
                      </a:lnTo>
                      <a:lnTo>
                        <a:pt x="83" y="43"/>
                      </a:lnTo>
                      <a:lnTo>
                        <a:pt x="71" y="76"/>
                      </a:lnTo>
                      <a:lnTo>
                        <a:pt x="58" y="115"/>
                      </a:lnTo>
                      <a:lnTo>
                        <a:pt x="49" y="164"/>
                      </a:lnTo>
                      <a:lnTo>
                        <a:pt x="38" y="218"/>
                      </a:lnTo>
                      <a:lnTo>
                        <a:pt x="29" y="279"/>
                      </a:lnTo>
                      <a:lnTo>
                        <a:pt x="22" y="347"/>
                      </a:lnTo>
                      <a:lnTo>
                        <a:pt x="15" y="419"/>
                      </a:lnTo>
                      <a:lnTo>
                        <a:pt x="9" y="498"/>
                      </a:lnTo>
                      <a:lnTo>
                        <a:pt x="4" y="581"/>
                      </a:lnTo>
                      <a:lnTo>
                        <a:pt x="2" y="667"/>
                      </a:lnTo>
                      <a:lnTo>
                        <a:pt x="0" y="757"/>
                      </a:lnTo>
                      <a:lnTo>
                        <a:pt x="0" y="852"/>
                      </a:lnTo>
                      <a:lnTo>
                        <a:pt x="0" y="9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971800" y="2286000"/>
                  <a:ext cx="5040" cy="3012840"/>
                </a:xfrm>
                <a:prstGeom prst="rect">
                  <a:avLst/>
                </a:prstGeom>
                <a:solidFill>
                  <a:srgbClr val="b24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976840" y="2286000"/>
                  <a:ext cx="7200" cy="3012840"/>
                </a:xfrm>
                <a:prstGeom prst="rect">
                  <a:avLst/>
                </a:prstGeom>
                <a:solidFill>
                  <a:srgbClr val="b24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984400" y="2286000"/>
                  <a:ext cx="3600" cy="3012840"/>
                </a:xfrm>
                <a:prstGeom prst="rect">
                  <a:avLst/>
                </a:prstGeom>
                <a:solidFill>
                  <a:srgbClr val="b34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988000" y="2286000"/>
                  <a:ext cx="5040" cy="3012840"/>
                </a:xfrm>
                <a:prstGeom prst="rect">
                  <a:avLst/>
                </a:prstGeom>
                <a:solidFill>
                  <a:srgbClr val="b34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993400" y="2286000"/>
                  <a:ext cx="6840" cy="3012840"/>
                </a:xfrm>
                <a:prstGeom prst="rect">
                  <a:avLst/>
                </a:prstGeom>
                <a:solidFill>
                  <a:srgbClr val="b44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000240" y="2286000"/>
                  <a:ext cx="3600" cy="3012840"/>
                </a:xfrm>
                <a:prstGeom prst="rect">
                  <a:avLst/>
                </a:prstGeom>
                <a:solidFill>
                  <a:srgbClr val="b54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003840" y="2286000"/>
                  <a:ext cx="5400" cy="3012840"/>
                </a:xfrm>
                <a:prstGeom prst="rect">
                  <a:avLst/>
                </a:prstGeom>
                <a:solidFill>
                  <a:srgbClr val="b64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009600" y="2286000"/>
                  <a:ext cx="6840" cy="3012840"/>
                </a:xfrm>
                <a:prstGeom prst="rect">
                  <a:avLst/>
                </a:prstGeom>
                <a:solidFill>
                  <a:srgbClr val="b74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016440" y="2286000"/>
                  <a:ext cx="3600" cy="3012840"/>
                </a:xfrm>
                <a:prstGeom prst="rect">
                  <a:avLst/>
                </a:prstGeom>
                <a:solidFill>
                  <a:srgbClr val="b94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020040" y="2286000"/>
                  <a:ext cx="3600" cy="3012840"/>
                </a:xfrm>
                <a:prstGeom prst="rect">
                  <a:avLst/>
                </a:prstGeom>
                <a:solidFill>
                  <a:srgbClr val="ba4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024000" y="2286000"/>
                  <a:ext cx="8640" cy="3012840"/>
                </a:xfrm>
                <a:prstGeom prst="rect">
                  <a:avLst/>
                </a:prstGeom>
                <a:solidFill>
                  <a:srgbClr val="bc4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033000" y="2286000"/>
                  <a:ext cx="3600" cy="3012840"/>
                </a:xfrm>
                <a:prstGeom prst="rect">
                  <a:avLst/>
                </a:prstGeom>
                <a:solidFill>
                  <a:srgbClr val="bd4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036600" y="2286000"/>
                  <a:ext cx="3600" cy="3012840"/>
                </a:xfrm>
                <a:prstGeom prst="rect">
                  <a:avLst/>
                </a:prstGeom>
                <a:solidFill>
                  <a:srgbClr val="bf4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040200" y="2286000"/>
                  <a:ext cx="8640" cy="3012840"/>
                </a:xfrm>
                <a:prstGeom prst="rect">
                  <a:avLst/>
                </a:prstGeom>
                <a:solidFill>
                  <a:srgbClr val="c14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049200" y="2286000"/>
                  <a:ext cx="3240" cy="3012840"/>
                </a:xfrm>
                <a:prstGeom prst="rect">
                  <a:avLst/>
                </a:prstGeom>
                <a:solidFill>
                  <a:srgbClr val="c34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052440" y="2286000"/>
                  <a:ext cx="3600" cy="3012840"/>
                </a:xfrm>
                <a:prstGeom prst="rect">
                  <a:avLst/>
                </a:prstGeom>
                <a:solidFill>
                  <a:srgbClr val="c54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056040" y="2286000"/>
                  <a:ext cx="8640" cy="3012840"/>
                </a:xfrm>
                <a:prstGeom prst="rect">
                  <a:avLst/>
                </a:prstGeom>
                <a:solidFill>
                  <a:srgbClr val="c84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065040" y="2286000"/>
                  <a:ext cx="3600" cy="3012840"/>
                </a:xfrm>
                <a:prstGeom prst="rect">
                  <a:avLst/>
                </a:prstGeom>
                <a:solidFill>
                  <a:srgbClr val="ca5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068640" y="2286000"/>
                  <a:ext cx="3600" cy="3012840"/>
                </a:xfrm>
                <a:prstGeom prst="rect">
                  <a:avLst/>
                </a:prstGeom>
                <a:solidFill>
                  <a:srgbClr val="cc5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072600" y="2286000"/>
                  <a:ext cx="8640" cy="3012840"/>
                </a:xfrm>
                <a:prstGeom prst="rect">
                  <a:avLst/>
                </a:prstGeom>
                <a:solidFill>
                  <a:srgbClr val="cf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81240" y="2286000"/>
                  <a:ext cx="3600" cy="3012840"/>
                </a:xfrm>
                <a:prstGeom prst="rect">
                  <a:avLst/>
                </a:prstGeom>
                <a:solidFill>
                  <a:srgbClr val="d2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085200" y="2286000"/>
                  <a:ext cx="3600" cy="3012840"/>
                </a:xfrm>
                <a:prstGeom prst="rect">
                  <a:avLst/>
                </a:prstGeom>
                <a:solidFill>
                  <a:srgbClr val="d4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088800" y="2286000"/>
                  <a:ext cx="8640" cy="3012840"/>
                </a:xfrm>
                <a:prstGeom prst="rect">
                  <a:avLst/>
                </a:prstGeom>
                <a:solidFill>
                  <a:srgbClr val="d75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097800" y="2286000"/>
                  <a:ext cx="3240" cy="3012840"/>
                </a:xfrm>
                <a:prstGeom prst="rect">
                  <a:avLst/>
                </a:prstGeom>
                <a:solidFill>
                  <a:srgbClr val="da5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101040" y="2286000"/>
                  <a:ext cx="3600" cy="3012840"/>
                </a:xfrm>
                <a:prstGeom prst="rect">
                  <a:avLst/>
                </a:prstGeom>
                <a:solidFill>
                  <a:srgbClr val="dc5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104640" y="2286000"/>
                  <a:ext cx="8640" cy="3012840"/>
                </a:xfrm>
                <a:prstGeom prst="rect">
                  <a:avLst/>
                </a:prstGeom>
                <a:solidFill>
                  <a:srgbClr val="df5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113640" y="2286000"/>
                  <a:ext cx="3600" cy="3012840"/>
                </a:xfrm>
                <a:prstGeom prst="rect">
                  <a:avLst/>
                </a:prstGeom>
                <a:solidFill>
                  <a:srgbClr val="e25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117240" y="2286000"/>
                  <a:ext cx="3600" cy="3012840"/>
                </a:xfrm>
                <a:prstGeom prst="rect">
                  <a:avLst/>
                </a:prstGeom>
                <a:solidFill>
                  <a:srgbClr val="e45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120840" y="2286000"/>
                  <a:ext cx="8640" cy="3012840"/>
                </a:xfrm>
                <a:prstGeom prst="rect">
                  <a:avLst/>
                </a:prstGeom>
                <a:solidFill>
                  <a:srgbClr val="e7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129840" y="2286000"/>
                  <a:ext cx="3600" cy="3012840"/>
                </a:xfrm>
                <a:prstGeom prst="rect">
                  <a:avLst/>
                </a:prstGeom>
                <a:solidFill>
                  <a:srgbClr val="e95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133800" y="2286000"/>
                  <a:ext cx="3600" cy="3012840"/>
                </a:xfrm>
                <a:prstGeom prst="rect">
                  <a:avLst/>
                </a:prstGeom>
                <a:solidFill>
                  <a:srgbClr val="eb5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137400" y="2286000"/>
                  <a:ext cx="8640" cy="3012840"/>
                </a:xfrm>
                <a:prstGeom prst="rect">
                  <a:avLst/>
                </a:prstGeom>
                <a:solidFill>
                  <a:srgbClr val="ed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46400" y="2286000"/>
                  <a:ext cx="3240" cy="3012840"/>
                </a:xfrm>
                <a:prstGeom prst="rect">
                  <a:avLst/>
                </a:prstGeom>
                <a:solidFill>
                  <a:srgbClr val="e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149640" y="2286000"/>
                  <a:ext cx="3600" cy="3012840"/>
                </a:xfrm>
                <a:prstGeom prst="rect">
                  <a:avLst/>
                </a:prstGeom>
                <a:solidFill>
                  <a:srgbClr val="f1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153240" y="2286000"/>
                  <a:ext cx="8640" cy="3012840"/>
                </a:xfrm>
                <a:prstGeom prst="rect">
                  <a:avLst/>
                </a:prstGeom>
                <a:solidFill>
                  <a:srgbClr val="f3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162240" y="2286000"/>
                  <a:ext cx="3600" cy="3012840"/>
                </a:xfrm>
                <a:prstGeom prst="rect">
                  <a:avLst/>
                </a:prstGeom>
                <a:solidFill>
                  <a:srgbClr val="f4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165840" y="2286000"/>
                  <a:ext cx="3600" cy="3012840"/>
                </a:xfrm>
                <a:prstGeom prst="rect">
                  <a:avLst/>
                </a:prstGeom>
                <a:solidFill>
                  <a:srgbClr val="f56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69440" y="2286000"/>
                  <a:ext cx="8640" cy="3012840"/>
                </a:xfrm>
                <a:prstGeom prst="rect">
                  <a:avLst/>
                </a:prstGeom>
                <a:solidFill>
                  <a:srgbClr val="f76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78440" y="2286000"/>
                  <a:ext cx="3600" cy="3012840"/>
                </a:xfrm>
                <a:prstGeom prst="rect">
                  <a:avLst/>
                </a:prstGeom>
                <a:solidFill>
                  <a:srgbClr val="f86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182400" y="2286000"/>
                  <a:ext cx="3600" cy="3012840"/>
                </a:xfrm>
                <a:prstGeom prst="rect">
                  <a:avLst/>
                </a:prstGeom>
                <a:solidFill>
                  <a:srgbClr val="f96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186000" y="2286000"/>
                  <a:ext cx="8640" cy="3012840"/>
                </a:xfrm>
                <a:prstGeom prst="rect">
                  <a:avLst/>
                </a:prstGeom>
                <a:solidFill>
                  <a:srgbClr val="fa6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195000" y="2286000"/>
                  <a:ext cx="3600" cy="3012840"/>
                </a:xfrm>
                <a:prstGeom prst="rect">
                  <a:avLst/>
                </a:prstGeom>
                <a:solidFill>
                  <a:srgbClr val="fb6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198600" y="2286000"/>
                  <a:ext cx="3240" cy="3012840"/>
                </a:xfrm>
                <a:prstGeom prst="rect">
                  <a:avLst/>
                </a:prstGeom>
                <a:solidFill>
                  <a:srgbClr val="fc6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201840" y="2286000"/>
                  <a:ext cx="8640" cy="3012840"/>
                </a:xfrm>
                <a:prstGeom prst="rect">
                  <a:avLst/>
                </a:prstGeom>
                <a:solidFill>
                  <a:srgbClr val="fc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10840" y="2286000"/>
                  <a:ext cx="3600" cy="3012840"/>
                </a:xfrm>
                <a:prstGeom prst="rect">
                  <a:avLst/>
                </a:prstGeom>
                <a:solidFill>
                  <a:srgbClr val="fd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214440" y="2286000"/>
                  <a:ext cx="3600" cy="3012840"/>
                </a:xfrm>
                <a:prstGeom prst="rect">
                  <a:avLst/>
                </a:prstGeom>
                <a:solidFill>
                  <a:srgbClr val="fd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218040" y="2286000"/>
                  <a:ext cx="8640" cy="3012840"/>
                </a:xfrm>
                <a:prstGeom prst="rect">
                  <a:avLst/>
                </a:prstGeom>
                <a:solidFill>
                  <a:srgbClr val="fe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227040" y="2286000"/>
                  <a:ext cx="3600" cy="3012840"/>
                </a:xfrm>
                <a:prstGeom prst="rect">
                  <a:avLst/>
                </a:prstGeom>
                <a:solidFill>
                  <a:srgbClr val="fe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230640" y="2286000"/>
                  <a:ext cx="3600" cy="3012840"/>
                </a:xfrm>
                <a:prstGeom prst="rect">
                  <a:avLst/>
                </a:prstGeom>
                <a:solidFill>
                  <a:srgbClr val="fe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34600" y="2286000"/>
                  <a:ext cx="8640" cy="3012840"/>
                </a:xfrm>
                <a:prstGeom prst="rect">
                  <a:avLst/>
                </a:prstGeom>
                <a:solidFill>
                  <a:srgbClr val="fe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243600" y="2286000"/>
                  <a:ext cx="3600" cy="3012840"/>
                </a:xfrm>
                <a:prstGeom prst="rect">
                  <a:avLst/>
                </a:prstGeom>
                <a:solidFill>
                  <a:srgbClr val="fd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247200" y="2286000"/>
                  <a:ext cx="3240" cy="3012840"/>
                </a:xfrm>
                <a:prstGeom prst="rect">
                  <a:avLst/>
                </a:prstGeom>
                <a:solidFill>
                  <a:srgbClr val="fd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250440" y="2286000"/>
                  <a:ext cx="8640" cy="3012840"/>
                </a:xfrm>
                <a:prstGeom prst="rect">
                  <a:avLst/>
                </a:prstGeom>
                <a:solidFill>
                  <a:srgbClr val="fc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259440" y="2286000"/>
                  <a:ext cx="3600" cy="3012840"/>
                </a:xfrm>
                <a:prstGeom prst="rect">
                  <a:avLst/>
                </a:prstGeom>
                <a:solidFill>
                  <a:srgbClr val="fc6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263040" y="2286000"/>
                  <a:ext cx="3600" cy="3012840"/>
                </a:xfrm>
                <a:prstGeom prst="rect">
                  <a:avLst/>
                </a:prstGeom>
                <a:solidFill>
                  <a:srgbClr val="fb6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266640" y="2286000"/>
                  <a:ext cx="8640" cy="3012840"/>
                </a:xfrm>
                <a:prstGeom prst="rect">
                  <a:avLst/>
                </a:prstGeom>
                <a:solidFill>
                  <a:srgbClr val="fa6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275640" y="2286000"/>
                  <a:ext cx="3600" cy="3012840"/>
                </a:xfrm>
                <a:prstGeom prst="rect">
                  <a:avLst/>
                </a:prstGeom>
                <a:solidFill>
                  <a:srgbClr val="f96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79240" y="2286000"/>
                  <a:ext cx="3600" cy="3012840"/>
                </a:xfrm>
                <a:prstGeom prst="rect">
                  <a:avLst/>
                </a:prstGeom>
                <a:solidFill>
                  <a:srgbClr val="f86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283200" y="2286000"/>
                  <a:ext cx="8640" cy="3012840"/>
                </a:xfrm>
                <a:prstGeom prst="rect">
                  <a:avLst/>
                </a:prstGeom>
                <a:solidFill>
                  <a:srgbClr val="f76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91840" y="2286000"/>
                  <a:ext cx="3600" cy="3012840"/>
                </a:xfrm>
                <a:prstGeom prst="rect">
                  <a:avLst/>
                </a:prstGeom>
                <a:solidFill>
                  <a:srgbClr val="f56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295800" y="2286000"/>
                  <a:ext cx="3600" cy="3012840"/>
                </a:xfrm>
                <a:prstGeom prst="rect">
                  <a:avLst/>
                </a:prstGeom>
                <a:solidFill>
                  <a:srgbClr val="f4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299400" y="2286000"/>
                  <a:ext cx="8640" cy="3012840"/>
                </a:xfrm>
                <a:prstGeom prst="rect">
                  <a:avLst/>
                </a:prstGeom>
                <a:solidFill>
                  <a:srgbClr val="f3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308400" y="2286000"/>
                  <a:ext cx="3240" cy="3012840"/>
                </a:xfrm>
                <a:prstGeom prst="rect">
                  <a:avLst/>
                </a:prstGeom>
                <a:solidFill>
                  <a:srgbClr val="f1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311640" y="2286000"/>
                  <a:ext cx="3600" cy="3012840"/>
                </a:xfrm>
                <a:prstGeom prst="rect">
                  <a:avLst/>
                </a:prstGeom>
                <a:solidFill>
                  <a:srgbClr val="e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315240" y="2286000"/>
                  <a:ext cx="8640" cy="3012840"/>
                </a:xfrm>
                <a:prstGeom prst="rect">
                  <a:avLst/>
                </a:prstGeom>
                <a:solidFill>
                  <a:srgbClr val="ed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324240" y="2286000"/>
                  <a:ext cx="3600" cy="3012840"/>
                </a:xfrm>
                <a:prstGeom prst="rect">
                  <a:avLst/>
                </a:prstGeom>
                <a:solidFill>
                  <a:srgbClr val="eb5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327840" y="2286000"/>
                  <a:ext cx="3600" cy="3012840"/>
                </a:xfrm>
                <a:prstGeom prst="rect">
                  <a:avLst/>
                </a:prstGeom>
                <a:solidFill>
                  <a:srgbClr val="e95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331440" y="2286000"/>
                  <a:ext cx="8640" cy="3012840"/>
                </a:xfrm>
                <a:prstGeom prst="rect">
                  <a:avLst/>
                </a:prstGeom>
                <a:solidFill>
                  <a:srgbClr val="e7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340440" y="2286000"/>
                  <a:ext cx="3600" cy="3012840"/>
                </a:xfrm>
                <a:prstGeom prst="rect">
                  <a:avLst/>
                </a:prstGeom>
                <a:solidFill>
                  <a:srgbClr val="e45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344400" y="2286000"/>
                  <a:ext cx="3600" cy="3012840"/>
                </a:xfrm>
                <a:prstGeom prst="rect">
                  <a:avLst/>
                </a:prstGeom>
                <a:solidFill>
                  <a:srgbClr val="e25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348000" y="2286000"/>
                  <a:ext cx="8640" cy="3012840"/>
                </a:xfrm>
                <a:prstGeom prst="rect">
                  <a:avLst/>
                </a:prstGeom>
                <a:solidFill>
                  <a:srgbClr val="df5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357000" y="2286000"/>
                  <a:ext cx="3240" cy="3012840"/>
                </a:xfrm>
                <a:prstGeom prst="rect">
                  <a:avLst/>
                </a:prstGeom>
                <a:solidFill>
                  <a:srgbClr val="dc5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360240" y="2286000"/>
                  <a:ext cx="3600" cy="3012840"/>
                </a:xfrm>
                <a:prstGeom prst="rect">
                  <a:avLst/>
                </a:prstGeom>
                <a:solidFill>
                  <a:srgbClr val="da5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363840" y="2286000"/>
                  <a:ext cx="8640" cy="3012840"/>
                </a:xfrm>
                <a:prstGeom prst="rect">
                  <a:avLst/>
                </a:prstGeom>
                <a:solidFill>
                  <a:srgbClr val="d75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372840" y="2286000"/>
                  <a:ext cx="3600" cy="3012840"/>
                </a:xfrm>
                <a:prstGeom prst="rect">
                  <a:avLst/>
                </a:prstGeom>
                <a:solidFill>
                  <a:srgbClr val="d4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376440" y="2286000"/>
                  <a:ext cx="3600" cy="3012840"/>
                </a:xfrm>
                <a:prstGeom prst="rect">
                  <a:avLst/>
                </a:prstGeom>
                <a:solidFill>
                  <a:srgbClr val="d2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380040" y="2286000"/>
                  <a:ext cx="8640" cy="3012840"/>
                </a:xfrm>
                <a:prstGeom prst="rect">
                  <a:avLst/>
                </a:prstGeom>
                <a:solidFill>
                  <a:srgbClr val="cf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389040" y="2286000"/>
                  <a:ext cx="3600" cy="3012840"/>
                </a:xfrm>
                <a:prstGeom prst="rect">
                  <a:avLst/>
                </a:prstGeom>
                <a:solidFill>
                  <a:srgbClr val="cc5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393000" y="2286000"/>
                  <a:ext cx="3600" cy="3012840"/>
                </a:xfrm>
                <a:prstGeom prst="rect">
                  <a:avLst/>
                </a:prstGeom>
                <a:solidFill>
                  <a:srgbClr val="ca5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396600" y="2286000"/>
                  <a:ext cx="8640" cy="3012840"/>
                </a:xfrm>
                <a:prstGeom prst="rect">
                  <a:avLst/>
                </a:prstGeom>
                <a:solidFill>
                  <a:srgbClr val="c84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405600" y="2286000"/>
                  <a:ext cx="3240" cy="3012840"/>
                </a:xfrm>
                <a:prstGeom prst="rect">
                  <a:avLst/>
                </a:prstGeom>
                <a:solidFill>
                  <a:srgbClr val="c54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408840" y="2286000"/>
                  <a:ext cx="3600" cy="3012840"/>
                </a:xfrm>
                <a:prstGeom prst="rect">
                  <a:avLst/>
                </a:prstGeom>
                <a:solidFill>
                  <a:srgbClr val="c34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412440" y="2286000"/>
                  <a:ext cx="7200" cy="3012840"/>
                </a:xfrm>
                <a:prstGeom prst="rect">
                  <a:avLst/>
                </a:prstGeom>
                <a:solidFill>
                  <a:srgbClr val="c14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419640" y="2286000"/>
                  <a:ext cx="5040" cy="3012840"/>
                </a:xfrm>
                <a:prstGeom prst="rect">
                  <a:avLst/>
                </a:prstGeom>
                <a:solidFill>
                  <a:srgbClr val="bf4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425040" y="2286000"/>
                  <a:ext cx="3600" cy="3012840"/>
                </a:xfrm>
                <a:prstGeom prst="rect">
                  <a:avLst/>
                </a:prstGeom>
                <a:solidFill>
                  <a:srgbClr val="bd4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428640" y="2286000"/>
                  <a:ext cx="7200" cy="3012840"/>
                </a:xfrm>
                <a:prstGeom prst="rect">
                  <a:avLst/>
                </a:prstGeom>
                <a:solidFill>
                  <a:srgbClr val="bc4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436200" y="2286000"/>
                  <a:ext cx="5040" cy="3012840"/>
                </a:xfrm>
                <a:prstGeom prst="rect">
                  <a:avLst/>
                </a:prstGeom>
                <a:solidFill>
                  <a:srgbClr val="ba4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441240" y="2286000"/>
                  <a:ext cx="3600" cy="3012840"/>
                </a:xfrm>
                <a:prstGeom prst="rect">
                  <a:avLst/>
                </a:prstGeom>
                <a:solidFill>
                  <a:srgbClr val="b94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45200" y="2286000"/>
                  <a:ext cx="6840" cy="3012840"/>
                </a:xfrm>
                <a:prstGeom prst="rect">
                  <a:avLst/>
                </a:prstGeom>
                <a:solidFill>
                  <a:srgbClr val="b74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452040" y="2286000"/>
                  <a:ext cx="5400" cy="3012840"/>
                </a:xfrm>
                <a:prstGeom prst="rect">
                  <a:avLst/>
                </a:prstGeom>
                <a:solidFill>
                  <a:srgbClr val="b64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457800" y="2286000"/>
                  <a:ext cx="3240" cy="3012840"/>
                </a:xfrm>
                <a:prstGeom prst="rect">
                  <a:avLst/>
                </a:prstGeom>
                <a:solidFill>
                  <a:srgbClr val="b54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461040" y="2286000"/>
                  <a:ext cx="7200" cy="3012840"/>
                </a:xfrm>
                <a:prstGeom prst="rect">
                  <a:avLst/>
                </a:prstGeom>
                <a:solidFill>
                  <a:srgbClr val="b44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468240" y="2286000"/>
                  <a:ext cx="5040" cy="3012840"/>
                </a:xfrm>
                <a:prstGeom prst="rect">
                  <a:avLst/>
                </a:prstGeom>
                <a:solidFill>
                  <a:srgbClr val="b34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473640" y="2286000"/>
                  <a:ext cx="3600" cy="3012840"/>
                </a:xfrm>
                <a:prstGeom prst="rect">
                  <a:avLst/>
                </a:prstGeom>
                <a:solidFill>
                  <a:srgbClr val="b34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477240" y="2286000"/>
                  <a:ext cx="7200" cy="3012840"/>
                </a:xfrm>
                <a:prstGeom prst="rect">
                  <a:avLst/>
                </a:prstGeom>
                <a:solidFill>
                  <a:srgbClr val="b24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484800" y="2286000"/>
                  <a:ext cx="5040" cy="3012840"/>
                </a:xfrm>
                <a:prstGeom prst="rect">
                  <a:avLst/>
                </a:prstGeom>
                <a:solidFill>
                  <a:srgbClr val="b24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2976840" y="2286000"/>
                <a:ext cx="504360" cy="3004920"/>
              </a:xfrm>
              <a:custGeom>
                <a:avLst/>
                <a:gdLst/>
                <a:ahLst/>
                <a:rect l="l" t="t" r="r" b="b"/>
                <a:pathLst>
                  <a:path w="280" h="1893">
                    <a:moveTo>
                      <a:pt x="0" y="949"/>
                    </a:moveTo>
                    <a:lnTo>
                      <a:pt x="2" y="1046"/>
                    </a:lnTo>
                    <a:lnTo>
                      <a:pt x="6" y="1140"/>
                    </a:lnTo>
                    <a:lnTo>
                      <a:pt x="11" y="1231"/>
                    </a:lnTo>
                    <a:lnTo>
                      <a:pt x="18" y="1319"/>
                    </a:lnTo>
                    <a:lnTo>
                      <a:pt x="24" y="1400"/>
                    </a:lnTo>
                    <a:lnTo>
                      <a:pt x="33" y="1479"/>
                    </a:lnTo>
                    <a:lnTo>
                      <a:pt x="42" y="1551"/>
                    </a:lnTo>
                    <a:lnTo>
                      <a:pt x="53" y="1618"/>
                    </a:lnTo>
                    <a:lnTo>
                      <a:pt x="65" y="1679"/>
                    </a:lnTo>
                    <a:lnTo>
                      <a:pt x="76" y="1733"/>
                    </a:lnTo>
                    <a:lnTo>
                      <a:pt x="89" y="1781"/>
                    </a:lnTo>
                    <a:lnTo>
                      <a:pt x="101" y="1821"/>
                    </a:lnTo>
                    <a:lnTo>
                      <a:pt x="114" y="1853"/>
                    </a:lnTo>
                    <a:lnTo>
                      <a:pt x="121" y="1864"/>
                    </a:lnTo>
                    <a:lnTo>
                      <a:pt x="128" y="1875"/>
                    </a:lnTo>
                    <a:lnTo>
                      <a:pt x="136" y="1882"/>
                    </a:lnTo>
                    <a:lnTo>
                      <a:pt x="143" y="1889"/>
                    </a:lnTo>
                    <a:lnTo>
                      <a:pt x="150" y="1893"/>
                    </a:lnTo>
                    <a:lnTo>
                      <a:pt x="157" y="1893"/>
                    </a:lnTo>
                    <a:lnTo>
                      <a:pt x="163" y="1891"/>
                    </a:lnTo>
                    <a:lnTo>
                      <a:pt x="170" y="1889"/>
                    </a:lnTo>
                    <a:lnTo>
                      <a:pt x="177" y="1882"/>
                    </a:lnTo>
                    <a:lnTo>
                      <a:pt x="184" y="1873"/>
                    </a:lnTo>
                    <a:lnTo>
                      <a:pt x="197" y="1851"/>
                    </a:lnTo>
                    <a:lnTo>
                      <a:pt x="211" y="1817"/>
                    </a:lnTo>
                    <a:lnTo>
                      <a:pt x="222" y="1778"/>
                    </a:lnTo>
                    <a:lnTo>
                      <a:pt x="231" y="1731"/>
                    </a:lnTo>
                    <a:lnTo>
                      <a:pt x="242" y="1675"/>
                    </a:lnTo>
                    <a:lnTo>
                      <a:pt x="251" y="1614"/>
                    </a:lnTo>
                    <a:lnTo>
                      <a:pt x="258" y="1546"/>
                    </a:lnTo>
                    <a:lnTo>
                      <a:pt x="264" y="1474"/>
                    </a:lnTo>
                    <a:lnTo>
                      <a:pt x="271" y="1395"/>
                    </a:lnTo>
                    <a:lnTo>
                      <a:pt x="276" y="1314"/>
                    </a:lnTo>
                    <a:lnTo>
                      <a:pt x="278" y="1226"/>
                    </a:lnTo>
                    <a:lnTo>
                      <a:pt x="280" y="1136"/>
                    </a:lnTo>
                    <a:lnTo>
                      <a:pt x="280" y="1041"/>
                    </a:lnTo>
                    <a:lnTo>
                      <a:pt x="280" y="944"/>
                    </a:lnTo>
                    <a:lnTo>
                      <a:pt x="278" y="847"/>
                    </a:lnTo>
                    <a:lnTo>
                      <a:pt x="273" y="753"/>
                    </a:lnTo>
                    <a:lnTo>
                      <a:pt x="269" y="663"/>
                    </a:lnTo>
                    <a:lnTo>
                      <a:pt x="262" y="577"/>
                    </a:lnTo>
                    <a:lnTo>
                      <a:pt x="255" y="494"/>
                    </a:lnTo>
                    <a:lnTo>
                      <a:pt x="246" y="417"/>
                    </a:lnTo>
                    <a:lnTo>
                      <a:pt x="238" y="342"/>
                    </a:lnTo>
                    <a:lnTo>
                      <a:pt x="229" y="277"/>
                    </a:lnTo>
                    <a:lnTo>
                      <a:pt x="217" y="216"/>
                    </a:lnTo>
                    <a:lnTo>
                      <a:pt x="206" y="160"/>
                    </a:lnTo>
                    <a:lnTo>
                      <a:pt x="193" y="113"/>
                    </a:lnTo>
                    <a:lnTo>
                      <a:pt x="179" y="74"/>
                    </a:lnTo>
                    <a:lnTo>
                      <a:pt x="166" y="43"/>
                    </a:lnTo>
                    <a:lnTo>
                      <a:pt x="152" y="20"/>
                    </a:lnTo>
                    <a:lnTo>
                      <a:pt x="145" y="11"/>
                    </a:lnTo>
                    <a:lnTo>
                      <a:pt x="139" y="4"/>
                    </a:lnTo>
                    <a:lnTo>
                      <a:pt x="130" y="2"/>
                    </a:lnTo>
                    <a:lnTo>
                      <a:pt x="123" y="0"/>
                    </a:lnTo>
                    <a:lnTo>
                      <a:pt x="116" y="2"/>
                    </a:lnTo>
                    <a:lnTo>
                      <a:pt x="110" y="4"/>
                    </a:lnTo>
                    <a:lnTo>
                      <a:pt x="103" y="11"/>
                    </a:lnTo>
                    <a:lnTo>
                      <a:pt x="96" y="20"/>
                    </a:lnTo>
                    <a:lnTo>
                      <a:pt x="83" y="43"/>
                    </a:lnTo>
                    <a:lnTo>
                      <a:pt x="71" y="76"/>
                    </a:lnTo>
                    <a:lnTo>
                      <a:pt x="58" y="115"/>
                    </a:lnTo>
                    <a:lnTo>
                      <a:pt x="49" y="164"/>
                    </a:lnTo>
                    <a:lnTo>
                      <a:pt x="38" y="218"/>
                    </a:lnTo>
                    <a:lnTo>
                      <a:pt x="29" y="279"/>
                    </a:lnTo>
                    <a:lnTo>
                      <a:pt x="22" y="347"/>
                    </a:lnTo>
                    <a:lnTo>
                      <a:pt x="15" y="419"/>
                    </a:lnTo>
                    <a:lnTo>
                      <a:pt x="9" y="498"/>
                    </a:lnTo>
                    <a:lnTo>
                      <a:pt x="4" y="581"/>
                    </a:lnTo>
                    <a:lnTo>
                      <a:pt x="2" y="667"/>
                    </a:lnTo>
                    <a:lnTo>
                      <a:pt x="0" y="757"/>
                    </a:lnTo>
                    <a:lnTo>
                      <a:pt x="0" y="852"/>
                    </a:lnTo>
                    <a:lnTo>
                      <a:pt x="0" y="949"/>
                    </a:lnTo>
                    <a:close/>
                  </a:path>
                </a:pathLst>
              </a:custGeom>
              <a:noFill/>
              <a:ln w="144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 rot="5400000">
              <a:off x="2626200" y="3525120"/>
              <a:ext cx="1169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G cel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733920" y="157176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e Area Network (W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arge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High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504960" y="243828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885840" y="243828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02000" y="2209680"/>
            <a:ext cx="267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sonal Area Network (P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ble replac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w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885840" y="3276720"/>
            <a:ext cx="243828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79720" y="3429000"/>
            <a:ext cx="2477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al Area Network/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Hot Spo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igh sp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oderate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6324120" y="3962520"/>
            <a:ext cx="304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78BB-9ED2-4CC5-B45B-3A64C715E6A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56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quirements -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network independent with QoS support for real time services (VoIP, Vide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IP transporting networks, ATM networks,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neration, Firewir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network based on connection-oriented wireless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access network specifications (physical layer, data link control layer and convergence l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ility standard with conformance test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requency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le of handling different interference and propagation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Adaptation” with multiple modulation and channel coding schemes Supporting asymmetrical traffic load fluctuating in uplink and downlink as well as for diffe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8DF-112C-4096-ADE6-3A0C26F9F9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quirements -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11200" y="1447920"/>
            <a:ext cx="82296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ellular multi-cell radio network capable of offering access, switching and management functions within a large coverag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int-to-multipoint topology with mandatory centralized mode and optional direc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link power control, downlink power setting, sleep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age in indoor and outdoor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and broad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le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key encryption: 56 bit and 168 b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: Optional pre-shared or public k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A40-B918-42F9-822F-92AB3B54D6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latta1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6705720" cy="44193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7775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trum Allocation at 5 GH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12960" y="5029200"/>
            <a:ext cx="1463760" cy="372960"/>
          </a:xfrm>
          <a:custGeom>
            <a:avLst/>
            <a:gdLst/>
            <a:ahLst/>
            <a:rect l="l" t="t" r="r" b="b"/>
            <a:pathLst>
              <a:path w="1041" h="282">
                <a:moveTo>
                  <a:pt x="0" y="0"/>
                </a:moveTo>
                <a:lnTo>
                  <a:pt x="1040" y="0"/>
                </a:lnTo>
                <a:lnTo>
                  <a:pt x="1040" y="281"/>
                </a:lnTo>
                <a:lnTo>
                  <a:pt x="0" y="281"/>
                </a:lnTo>
                <a:lnTo>
                  <a:pt x="0" y="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38680" y="5029200"/>
            <a:ext cx="712800" cy="384120"/>
          </a:xfrm>
          <a:custGeom>
            <a:avLst/>
            <a:gdLst/>
            <a:ahLst/>
            <a:rect l="l" t="t" r="r" b="b"/>
            <a:pathLst>
              <a:path w="465" h="282">
                <a:moveTo>
                  <a:pt x="0" y="0"/>
                </a:moveTo>
                <a:lnTo>
                  <a:pt x="464" y="0"/>
                </a:lnTo>
                <a:lnTo>
                  <a:pt x="464" y="281"/>
                </a:lnTo>
                <a:lnTo>
                  <a:pt x="0" y="281"/>
                </a:lnTo>
                <a:lnTo>
                  <a:pt x="0" y="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12960" y="2909880"/>
            <a:ext cx="1463760" cy="366840"/>
          </a:xfrm>
          <a:custGeom>
            <a:avLst/>
            <a:gdLst/>
            <a:ahLst/>
            <a:rect l="l" t="t" r="r" b="b"/>
            <a:pathLst>
              <a:path w="625" h="272">
                <a:moveTo>
                  <a:pt x="0" y="0"/>
                </a:moveTo>
                <a:lnTo>
                  <a:pt x="624" y="0"/>
                </a:lnTo>
                <a:lnTo>
                  <a:pt x="624" y="271"/>
                </a:lnTo>
                <a:lnTo>
                  <a:pt x="0" y="271"/>
                </a:lnTo>
                <a:lnTo>
                  <a:pt x="0" y="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44200" y="5052960"/>
            <a:ext cx="532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4200" y="3975120"/>
            <a:ext cx="874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5400" y="2895480"/>
            <a:ext cx="100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0360" y="2286000"/>
            <a:ext cx="1093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per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08960" y="4419720"/>
            <a:ext cx="71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-N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2209680"/>
            <a:ext cx="0" cy="357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637960" y="4419720"/>
            <a:ext cx="71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-N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298160" y="5748120"/>
            <a:ext cx="5198040" cy="441000"/>
            <a:chOff x="1298160" y="5748120"/>
            <a:chExt cx="5198040" cy="441000"/>
          </a:xfrm>
        </p:grpSpPr>
        <p:sp>
          <p:nvSpPr>
            <p:cNvPr id="311" name=""/>
            <p:cNvSpPr/>
            <p:nvPr/>
          </p:nvSpPr>
          <p:spPr>
            <a:xfrm flipV="1">
              <a:off x="161280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174780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188100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01564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213516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26980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40228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53800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67156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80656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94120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07584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20940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34296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47868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61224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374688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86640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99996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13460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26960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40280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53744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67208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480564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94064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7528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20884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34492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46408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59872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73228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86728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00192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13548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71560" y="5799600"/>
              <a:ext cx="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2269800" y="5748120"/>
              <a:ext cx="0" cy="8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3612240" y="5748120"/>
              <a:ext cx="0" cy="8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4940640" y="5748120"/>
              <a:ext cx="0" cy="8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271560" y="5748120"/>
              <a:ext cx="0" cy="8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4880" y="5905800"/>
              <a:ext cx="53064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120" rIns="24120" tIns="11880" bIns="11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52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07680" y="5905800"/>
              <a:ext cx="53064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120" rIns="24120" tIns="11880" bIns="11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54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39680" y="5905800"/>
              <a:ext cx="53064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120" rIns="24120" tIns="11880" bIns="11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56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65560" y="5905800"/>
              <a:ext cx="53064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120" rIns="24120" tIns="11880" bIns="11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58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98160" y="5905800"/>
              <a:ext cx="53064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120" rIns="24120" tIns="11880" bIns="11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5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32680" y="5905800"/>
              <a:ext cx="53064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120" rIns="24120" tIns="11880" bIns="11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53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66120" y="5905800"/>
              <a:ext cx="53064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120" rIns="24120" tIns="11880" bIns="11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55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02080" y="5905800"/>
              <a:ext cx="53064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120" rIns="24120" tIns="11880" bIns="11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57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98680" y="5783400"/>
              <a:ext cx="476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828800" y="3352680"/>
            <a:ext cx="330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gh Speed Wireless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05120" y="2590920"/>
            <a:ext cx="13777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15 - 5.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05120" y="4724280"/>
            <a:ext cx="1295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15 - 5.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4724280"/>
            <a:ext cx="1468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725 -5.8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14800" y="2590920"/>
            <a:ext cx="15238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470 - 5.7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8480" y="2895480"/>
            <a:ext cx="1600200" cy="371520"/>
          </a:xfrm>
          <a:custGeom>
            <a:avLst/>
            <a:gdLst/>
            <a:ahLst/>
            <a:rect l="l" t="t" r="r" b="b"/>
            <a:pathLst>
              <a:path w="625" h="272">
                <a:moveTo>
                  <a:pt x="0" y="0"/>
                </a:moveTo>
                <a:lnTo>
                  <a:pt x="624" y="0"/>
                </a:lnTo>
                <a:lnTo>
                  <a:pt x="624" y="271"/>
                </a:lnTo>
                <a:lnTo>
                  <a:pt x="0" y="271"/>
                </a:lnTo>
                <a:lnTo>
                  <a:pt x="0" y="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3962520"/>
            <a:ext cx="727200" cy="371520"/>
          </a:xfrm>
          <a:custGeom>
            <a:avLst/>
            <a:gdLst/>
            <a:ahLst/>
            <a:rect l="l" t="t" r="r" b="b"/>
            <a:pathLst>
              <a:path w="625" h="272">
                <a:moveTo>
                  <a:pt x="0" y="0"/>
                </a:moveTo>
                <a:lnTo>
                  <a:pt x="624" y="0"/>
                </a:lnTo>
                <a:lnTo>
                  <a:pt x="624" y="271"/>
                </a:lnTo>
                <a:lnTo>
                  <a:pt x="0" y="271"/>
                </a:lnTo>
                <a:lnTo>
                  <a:pt x="0" y="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42680" y="2286000"/>
            <a:ext cx="1093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per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05120" y="3657600"/>
            <a:ext cx="13777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15 - 5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514600" y="50292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latta1" descr=""/>
          <p:cNvPicPr/>
          <p:nvPr/>
        </p:nvPicPr>
        <p:blipFill>
          <a:blip r:embed="rId2"/>
          <a:stretch/>
        </p:blipFill>
        <p:spPr>
          <a:xfrm>
            <a:off x="7439040" y="4687920"/>
            <a:ext cx="1523880" cy="8380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7545960" y="4800600"/>
            <a:ext cx="1309680" cy="6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icen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MH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6857640" y="487656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4952520" y="3809520"/>
            <a:ext cx="2210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platta1" descr=""/>
          <p:cNvPicPr/>
          <p:nvPr/>
        </p:nvPicPr>
        <p:blipFill>
          <a:blip r:embed="rId3"/>
          <a:stretch/>
        </p:blipFill>
        <p:spPr>
          <a:xfrm>
            <a:off x="7010280" y="2666880"/>
            <a:ext cx="1524240" cy="10670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7162920" y="2666880"/>
            <a:ext cx="1218960" cy="9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censed exem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5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5714640" y="281916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latta1" descr=""/>
          <p:cNvPicPr/>
          <p:nvPr/>
        </p:nvPicPr>
        <p:blipFill>
          <a:blip r:embed="rId4"/>
          <a:stretch/>
        </p:blipFill>
        <p:spPr>
          <a:xfrm>
            <a:off x="7210440" y="3925800"/>
            <a:ext cx="1523880" cy="5698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392240" y="4038480"/>
            <a:ext cx="116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MH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8DE6-4DC0-4390-8789-3A39026271A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77420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peration Mo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2360" y="129456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frastructure based networ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303640" y="3351240"/>
            <a:ext cx="1936080" cy="821520"/>
            <a:chOff x="2303640" y="3351240"/>
            <a:chExt cx="1936080" cy="821520"/>
          </a:xfrm>
        </p:grpSpPr>
        <p:grpSp>
          <p:nvGrpSpPr>
            <p:cNvPr id="382" name=""/>
            <p:cNvGrpSpPr/>
            <p:nvPr/>
          </p:nvGrpSpPr>
          <p:grpSpPr>
            <a:xfrm>
              <a:off x="2303640" y="3351240"/>
              <a:ext cx="1503720" cy="821520"/>
              <a:chOff x="2303640" y="3351240"/>
              <a:chExt cx="1503720" cy="821520"/>
            </a:xfrm>
          </p:grpSpPr>
          <p:sp>
            <p:nvSpPr>
              <p:cNvPr id="383" name=""/>
              <p:cNvSpPr/>
              <p:nvPr/>
            </p:nvSpPr>
            <p:spPr>
              <a:xfrm>
                <a:off x="3266280" y="335124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253680" y="335124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239640" y="3351240"/>
                <a:ext cx="900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5"/>
                    </a:moveTo>
                    <a:lnTo>
                      <a:pt x="6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227400" y="335124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214440" y="335124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200760" y="33512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86720" y="335124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72320" y="335124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158640" y="335448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44600" y="335448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30200" y="335448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17960" y="335592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03920" y="335592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89880" y="335592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075840" y="335952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061800" y="335952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047760" y="336132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035160" y="33645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021480" y="336456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07080" y="33663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93040" y="336636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979360" y="336996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964960" y="337140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952720" y="3375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938680" y="3375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24280" y="3376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10600" y="337860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896560" y="338184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882160" y="338364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869920" y="33868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855880" y="338868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843280" y="339192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831040" y="339372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817000" y="3396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02600" y="3402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788920" y="34041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774880" y="340740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60480" y="341244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49680" y="341424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736000" y="341964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721600" y="342252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707560" y="342612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694960" y="3429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682720" y="343440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668680" y="343944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656080" y="344160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642040" y="344664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629800" y="345168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17200" y="345708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603160" y="346212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590920" y="346716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576520" y="347400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565720" y="347904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551320" y="348408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540520" y="3492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526840" y="34974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15680" y="35046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1640" y="350964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490480" y="3517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78240" y="352512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464200" y="353196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453400" y="3540600"/>
                <a:ext cx="57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42600" y="354708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429640" y="355572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419200" y="3566160"/>
                <a:ext cx="57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406600" y="357264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398680" y="3583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86080" y="359316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376720" y="36036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365920" y="361368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356560" y="36219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347200" y="363600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341080" y="36475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331720" y="3661560"/>
                <a:ext cx="57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324160" y="367344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17680" y="368496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313000" y="369900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307960" y="371268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306520" y="37278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303640" y="374292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303640" y="375840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303640" y="377388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06520" y="3789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307960" y="380304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13000" y="381636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317680" y="3831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324160" y="384408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333160" y="385560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341080" y="38692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347200" y="388152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356560" y="3891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367360" y="390348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376720" y="39135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386080" y="392400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398680" y="393408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409480" y="3942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419200" y="395100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429640" y="395964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442600" y="397008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453400" y="397692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464200" y="398556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478240" y="399204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490480" y="399888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501640" y="40075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515680" y="40125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526840" y="401940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540520" y="402444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551320" y="403308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565720" y="403632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576520" y="404136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590920" y="405000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603160" y="4055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617200" y="4060440"/>
                <a:ext cx="57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29800" y="406548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642040" y="40705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656080" y="4071960"/>
                <a:ext cx="57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668680" y="407736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682720" y="408240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694960" y="4087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707560" y="408924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721600" y="409428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736000" y="409788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749680" y="41029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760480" y="410436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774880" y="4109400"/>
                <a:ext cx="756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788920" y="4113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02600" y="41148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817000" y="41184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31040" y="4123440"/>
                <a:ext cx="57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843280" y="412488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855880" y="4128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869920" y="4129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82160" y="413208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896560" y="413532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910600" y="413712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924280" y="4140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938680" y="41421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952720" y="41421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964960" y="414540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979360" y="414756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993040" y="415044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007080" y="4150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021480" y="415260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35160" y="41526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047760" y="415584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061800" y="415728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75840" y="415728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089880" y="4160880"/>
                <a:ext cx="57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103920" y="41608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117960" y="41608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30200" y="416232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144600" y="416232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158640" y="416232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72320" y="4165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86720" y="4165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200760" y="41659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214440" y="4165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27400" y="416592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241080" y="416592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255120" y="4165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269520" y="41659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283560" y="41659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297240" y="4165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309840" y="416592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323880" y="416592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337920" y="41659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352320" y="41659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366000" y="4165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76800" y="416232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391200" y="416232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404880" y="416232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418920" y="41608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431520" y="416088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445560" y="416088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459600" y="415728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473640" y="415728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487680" y="4155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501720" y="41526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516120" y="415260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528360" y="415044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542400" y="415044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556440" y="41475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570480" y="41454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584520" y="41421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598560" y="41421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611160" y="414036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624840" y="413712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639240" y="41353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653280" y="413208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666960" y="4129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81360" y="4128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692160" y="412488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706200" y="4123440"/>
                <a:ext cx="57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720240" y="41184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732840" y="411480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746520" y="411300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760920" y="4109400"/>
                <a:ext cx="756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774960" y="41043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788640" y="41029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99800" y="409788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3813840" y="409464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27880" y="4089600"/>
              <a:ext cx="61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1920" y="408780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52720" y="408276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867120" y="4077720"/>
              <a:ext cx="576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880800" y="4072320"/>
              <a:ext cx="612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894840" y="407088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906000" y="406584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920040" y="4060800"/>
              <a:ext cx="576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933720" y="405540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944880" y="405036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58920" y="4041720"/>
              <a:ext cx="61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70080" y="4036680"/>
              <a:ext cx="756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983760" y="403344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94560" y="4024800"/>
              <a:ext cx="756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08960" y="4019760"/>
              <a:ext cx="756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021200" y="401292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34160" y="4007880"/>
              <a:ext cx="756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46400" y="399924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057200" y="3992400"/>
              <a:ext cx="756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071240" y="398556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082040" y="3977280"/>
              <a:ext cx="756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095000" y="3970080"/>
              <a:ext cx="57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105440" y="3959640"/>
              <a:ext cx="756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16600" y="3951360"/>
              <a:ext cx="756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25960" y="3942720"/>
              <a:ext cx="756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138200" y="3934440"/>
              <a:ext cx="61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149360" y="3924360"/>
              <a:ext cx="61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158360" y="3913920"/>
              <a:ext cx="61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68080" y="390384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178880" y="3891600"/>
              <a:ext cx="756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88240" y="3881520"/>
              <a:ext cx="756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96160" y="386964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03720" y="3855600"/>
              <a:ext cx="756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11640" y="384408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218120" y="3832200"/>
              <a:ext cx="756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22440" y="3816720"/>
              <a:ext cx="756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227120" y="3803040"/>
              <a:ext cx="756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230360" y="378936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32160" y="3774240"/>
              <a:ext cx="756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32160" y="3758760"/>
              <a:ext cx="756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232160" y="3743280"/>
              <a:ext cx="756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230360" y="3728160"/>
              <a:ext cx="61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27120" y="3712680"/>
              <a:ext cx="756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22440" y="3699000"/>
              <a:ext cx="756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218120" y="3685320"/>
              <a:ext cx="756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211640" y="367344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203720" y="3661560"/>
              <a:ext cx="756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96160" y="3647520"/>
              <a:ext cx="612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88240" y="3636000"/>
              <a:ext cx="756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178880" y="3622320"/>
              <a:ext cx="756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169520" y="3613680"/>
              <a:ext cx="756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158360" y="360360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49360" y="359316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138200" y="358308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29200" y="3572640"/>
              <a:ext cx="57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116600" y="3566160"/>
              <a:ext cx="756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05440" y="3555720"/>
              <a:ext cx="756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095000" y="354708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82040" y="3540600"/>
              <a:ext cx="756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071240" y="3531960"/>
              <a:ext cx="61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057200" y="3525120"/>
              <a:ext cx="756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046400" y="3518280"/>
              <a:ext cx="57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034160" y="3509640"/>
              <a:ext cx="756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021200" y="3504600"/>
              <a:ext cx="61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008960" y="3497760"/>
              <a:ext cx="756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94560" y="3492720"/>
              <a:ext cx="756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983760" y="3484080"/>
              <a:ext cx="61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970080" y="3479040"/>
              <a:ext cx="756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958920" y="3474000"/>
              <a:ext cx="61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44880" y="346716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33720" y="3462120"/>
              <a:ext cx="61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920040" y="345708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06000" y="3451680"/>
              <a:ext cx="61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94840" y="3446640"/>
              <a:ext cx="61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80800" y="3441600"/>
              <a:ext cx="61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67120" y="3439800"/>
              <a:ext cx="57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852720" y="343476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41920" y="342972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27880" y="3426120"/>
              <a:ext cx="61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13840" y="3422520"/>
              <a:ext cx="57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799800" y="3419640"/>
              <a:ext cx="756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785760" y="3414240"/>
              <a:ext cx="756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774960" y="3412440"/>
              <a:ext cx="57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760920" y="3407400"/>
              <a:ext cx="756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746520" y="3404160"/>
              <a:ext cx="756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732840" y="3402000"/>
              <a:ext cx="756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720240" y="339696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706200" y="339372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92160" y="3391920"/>
              <a:ext cx="57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681360" y="3388680"/>
              <a:ext cx="61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666960" y="338688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53280" y="338364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639240" y="338184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624840" y="3378600"/>
              <a:ext cx="756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11160" y="3376440"/>
              <a:ext cx="756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598560" y="337500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584520" y="3375000"/>
              <a:ext cx="57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570480" y="337140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56440" y="336996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542400" y="3366360"/>
              <a:ext cx="756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528360" y="3366360"/>
              <a:ext cx="756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16120" y="3364560"/>
              <a:ext cx="57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01720" y="336456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487680" y="3361680"/>
              <a:ext cx="61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73640" y="335952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459600" y="3359520"/>
              <a:ext cx="756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445560" y="3355920"/>
              <a:ext cx="756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431520" y="3355920"/>
              <a:ext cx="756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418920" y="3355920"/>
              <a:ext cx="61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404880" y="335448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391200" y="3354480"/>
              <a:ext cx="57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76800" y="3354480"/>
              <a:ext cx="756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62760" y="3351240"/>
              <a:ext cx="756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49080" y="3351240"/>
              <a:ext cx="756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36120" y="3351240"/>
              <a:ext cx="61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322440" y="335124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08400" y="3351240"/>
              <a:ext cx="936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94000" y="3351240"/>
              <a:ext cx="936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80320" y="3351240"/>
              <a:ext cx="900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69520" y="3351240"/>
              <a:ext cx="432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 flipH="1" rot="20192400">
            <a:off x="1463400" y="3637080"/>
            <a:ext cx="367920" cy="51588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rot="20192400">
            <a:off x="3485880" y="3692520"/>
            <a:ext cx="366480" cy="51624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1579680" y="4148280"/>
          <a:ext cx="734760" cy="59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9680" y="4148280"/>
                    <a:ext cx="73476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"/>
          <p:cNvSpPr/>
          <p:nvPr/>
        </p:nvSpPr>
        <p:spPr>
          <a:xfrm rot="20191800">
            <a:off x="857160" y="3684240"/>
            <a:ext cx="217440" cy="24444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447920" y="30481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3200400" y="3048120"/>
            <a:ext cx="92160" cy="311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87440" y="3257640"/>
            <a:ext cx="1955520" cy="707400"/>
            <a:chOff x="487440" y="3257640"/>
            <a:chExt cx="1955520" cy="707400"/>
          </a:xfrm>
        </p:grpSpPr>
        <p:grpSp>
          <p:nvGrpSpPr>
            <p:cNvPr id="712" name=""/>
            <p:cNvGrpSpPr/>
            <p:nvPr/>
          </p:nvGrpSpPr>
          <p:grpSpPr>
            <a:xfrm>
              <a:off x="487440" y="3257640"/>
              <a:ext cx="1518480" cy="707400"/>
              <a:chOff x="487440" y="3257640"/>
              <a:chExt cx="1518480" cy="707400"/>
            </a:xfrm>
          </p:grpSpPr>
          <p:sp>
            <p:nvSpPr>
              <p:cNvPr id="713" name=""/>
              <p:cNvSpPr/>
              <p:nvPr/>
            </p:nvSpPr>
            <p:spPr>
              <a:xfrm>
                <a:off x="1459440" y="325764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46840" y="325764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432800" y="3257640"/>
                <a:ext cx="9000" cy="72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5"/>
                    </a:moveTo>
                    <a:lnTo>
                      <a:pt x="6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420200" y="325764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407240" y="325764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93200" y="325764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379160" y="325764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364760" y="325764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50720" y="326052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36680" y="326052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322280" y="326052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309680" y="326196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295280" y="326196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281600" y="326196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267200" y="326484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252800" y="326484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239120" y="326628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226160" y="326916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212120" y="326916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198080" y="327060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183680" y="327060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169640" y="327384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155240" y="32752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143000" y="327816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128600" y="327816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114200" y="327960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100520" y="328104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086120" y="328392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071720" y="328536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059120" y="328860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045080" y="328968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032480" y="329292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019880" y="329400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005840" y="329724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991440" y="330156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977400" y="330300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963000" y="330624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948960" y="331056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937800" y="331164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923760" y="331632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909720" y="331920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95320" y="332208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82720" y="332496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70120" y="33292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56080" y="333360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43480" y="333540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29080" y="333972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16840" y="334404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04240" y="334872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89840" y="335304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77240" y="335736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3200" y="336348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52040" y="336780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37640" y="337212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26480" y="337932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12800" y="338364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01640" y="338976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87240" y="339408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76440" y="34012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63840" y="340740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49440" y="341316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38640" y="342072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27840" y="342612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14880" y="34336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04080" y="344268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91120" y="34480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83200" y="34570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70960" y="346572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61240" y="347472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50440" y="348336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40720" y="349092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31720" y="350280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25240" y="3512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15880" y="352476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07960" y="353520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01480" y="3545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6800" y="355716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91760" y="356868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90320" y="358200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87440" y="359496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87440" y="36082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87440" y="362160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90320" y="363456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91760" y="364680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96800" y="365832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01480" y="367164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07960" y="368208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17320" y="369180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25240" y="370404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31720" y="371412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40720" y="372276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51880" y="373320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1240" y="37418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70960" y="375084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83200" y="375948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4360" y="37666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04080" y="377424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4880" y="378144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27840" y="379044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38640" y="379656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49440" y="380376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63840" y="380952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76440" y="381528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87240" y="382284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01640" y="382716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12800" y="383292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26480" y="383724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37640" y="384480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52040" y="384768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3200" y="385200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77240" y="385920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89840" y="38638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04240" y="386820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16840" y="387252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29080" y="387720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43480" y="387828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56080" y="388296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70120" y="38872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82720" y="389160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95320" y="389340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909720" y="389772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923760" y="390060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937800" y="390492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948960" y="390636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963000" y="391068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977400" y="391356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991440" y="391536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005840" y="391824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019880" y="392256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032480" y="392400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045080" y="39268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059120" y="392832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71720" y="393012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086120" y="393300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100520" y="393444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114200" y="393732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128600" y="393876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143000" y="393876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155240" y="394164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169640" y="394344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183680" y="394596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198080" y="394596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212120" y="394776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226160" y="394776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239120" y="395064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252800" y="395208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267200" y="395208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281600" y="395496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295280" y="395496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309680" y="395496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322280" y="395640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336680" y="395640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350720" y="395640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364760" y="39592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379160" y="39592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393200" y="395928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407240" y="39592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420200" y="39592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434240" y="39592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448280" y="39592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462680" y="395928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477080" y="395928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490760" y="39592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503360" y="395928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517760" y="39592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531800" y="395928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546200" y="395928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60240" y="39592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571400" y="395640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585440" y="395640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599480" y="395640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613880" y="395496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626480" y="395496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640520" y="395496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654920" y="395208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668960" y="395208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683000" y="395064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697400" y="394776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711800" y="394776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724040" y="394596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738440" y="394596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752480" y="394344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766880" y="394164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780920" y="393876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794960" y="393876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807920" y="393732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821600" y="393444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836000" y="393300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850400" y="393012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864080" y="392832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878480" y="39268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889640" y="392400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904040" y="392256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917720" y="391824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930680" y="391536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944720" y="391356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959120" y="391068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973160" y="390636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87200" y="390492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998360" y="390060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>
              <a:off x="2012760" y="3897720"/>
              <a:ext cx="57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26800" y="3893400"/>
              <a:ext cx="612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41200" y="389160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52360" y="388728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66400" y="3882960"/>
              <a:ext cx="57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80440" y="3878280"/>
              <a:ext cx="612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094840" y="387720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05640" y="3872520"/>
              <a:ext cx="612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20040" y="3868200"/>
              <a:ext cx="57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4080" y="386388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45240" y="385920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59280" y="3852000"/>
              <a:ext cx="612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70440" y="3847680"/>
              <a:ext cx="756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84480" y="384480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95640" y="3837240"/>
              <a:ext cx="756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209680" y="3832920"/>
              <a:ext cx="756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222280" y="382716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235240" y="3822840"/>
              <a:ext cx="756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247840" y="3815280"/>
              <a:ext cx="57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258640" y="3809520"/>
              <a:ext cx="756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272680" y="3803760"/>
              <a:ext cx="612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283840" y="3796560"/>
              <a:ext cx="756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296800" y="379044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307240" y="3781440"/>
              <a:ext cx="756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318400" y="3774240"/>
              <a:ext cx="756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328120" y="3766680"/>
              <a:ext cx="756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340720" y="3759480"/>
              <a:ext cx="612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351520" y="3750840"/>
              <a:ext cx="612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360880" y="3741840"/>
              <a:ext cx="612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370600" y="3733200"/>
              <a:ext cx="57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81760" y="3722760"/>
              <a:ext cx="756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391120" y="3714120"/>
              <a:ext cx="756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398680" y="3704040"/>
              <a:ext cx="612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06600" y="3691800"/>
              <a:ext cx="756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14520" y="3682080"/>
              <a:ext cx="612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21000" y="3671640"/>
              <a:ext cx="756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25680" y="3658320"/>
              <a:ext cx="756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30360" y="3646800"/>
              <a:ext cx="756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33600" y="363456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35400" y="3621600"/>
              <a:ext cx="756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5400" y="3608280"/>
              <a:ext cx="756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35400" y="3594960"/>
              <a:ext cx="756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33600" y="3582000"/>
              <a:ext cx="612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30360" y="3568680"/>
              <a:ext cx="756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25680" y="3557160"/>
              <a:ext cx="756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21000" y="3545280"/>
              <a:ext cx="756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14520" y="3535200"/>
              <a:ext cx="612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06600" y="3524760"/>
              <a:ext cx="756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98680" y="3512880"/>
              <a:ext cx="612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91120" y="3502800"/>
              <a:ext cx="756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381760" y="3490920"/>
              <a:ext cx="756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72040" y="3483360"/>
              <a:ext cx="756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360880" y="3474720"/>
              <a:ext cx="612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351520" y="346572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340720" y="345708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31360" y="344808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318400" y="3442680"/>
              <a:ext cx="756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07240" y="3433680"/>
              <a:ext cx="756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96800" y="3426120"/>
              <a:ext cx="57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283840" y="3420720"/>
              <a:ext cx="756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72680" y="3413160"/>
              <a:ext cx="612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58640" y="3407400"/>
              <a:ext cx="756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247840" y="340128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235240" y="3394080"/>
              <a:ext cx="756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22280" y="3389760"/>
              <a:ext cx="612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209680" y="3383640"/>
              <a:ext cx="756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195640" y="3379320"/>
              <a:ext cx="756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184480" y="3372120"/>
              <a:ext cx="612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170440" y="3367800"/>
              <a:ext cx="756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59280" y="3363480"/>
              <a:ext cx="612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45240" y="335736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134080" y="3353040"/>
              <a:ext cx="612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20040" y="3348720"/>
              <a:ext cx="57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05640" y="3344040"/>
              <a:ext cx="612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94840" y="3339720"/>
              <a:ext cx="612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080440" y="3335400"/>
              <a:ext cx="612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066400" y="333360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52360" y="332928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41200" y="332496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26800" y="3322080"/>
              <a:ext cx="612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12760" y="331920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998720" y="3316320"/>
              <a:ext cx="756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984320" y="3311640"/>
              <a:ext cx="756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973520" y="331056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959120" y="3306240"/>
              <a:ext cx="756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945080" y="3303000"/>
              <a:ext cx="756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931040" y="3301560"/>
              <a:ext cx="756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918080" y="329724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904400" y="3294000"/>
              <a:ext cx="57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90000" y="329292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878840" y="3289680"/>
              <a:ext cx="612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864440" y="3288600"/>
              <a:ext cx="612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850760" y="3285360"/>
              <a:ext cx="57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36360" y="3283920"/>
              <a:ext cx="612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821960" y="3281040"/>
              <a:ext cx="756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807920" y="3279600"/>
              <a:ext cx="756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95320" y="327816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781280" y="327816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766880" y="327528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52840" y="3273840"/>
              <a:ext cx="612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738800" y="3270600"/>
              <a:ext cx="756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24400" y="3270600"/>
              <a:ext cx="756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711800" y="326916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97760" y="326916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683360" y="3266280"/>
              <a:ext cx="612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668960" y="326484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655280" y="3264840"/>
              <a:ext cx="756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40880" y="3261960"/>
              <a:ext cx="756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626480" y="3261960"/>
              <a:ext cx="756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613880" y="3261960"/>
              <a:ext cx="612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599840" y="326052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585800" y="326052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571400" y="3260520"/>
              <a:ext cx="756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557360" y="3257640"/>
              <a:ext cx="756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543320" y="3257640"/>
              <a:ext cx="756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530360" y="3257640"/>
              <a:ext cx="612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16320" y="3257640"/>
              <a:ext cx="57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502280" y="3257640"/>
              <a:ext cx="9360" cy="720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487880" y="3257640"/>
              <a:ext cx="9360" cy="720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473840" y="3257640"/>
              <a:ext cx="9000" cy="720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463040" y="3257640"/>
              <a:ext cx="4320" cy="72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4" name="" descr=""/>
          <p:cNvPicPr/>
          <p:nvPr/>
        </p:nvPicPr>
        <p:blipFill>
          <a:blip r:embed="rId3"/>
          <a:stretch/>
        </p:blipFill>
        <p:spPr>
          <a:xfrm>
            <a:off x="266760" y="3992400"/>
            <a:ext cx="665280" cy="597240"/>
          </a:xfrm>
          <a:prstGeom prst="rect">
            <a:avLst/>
          </a:prstGeom>
          <a:ln w="0">
            <a:noFill/>
          </a:ln>
        </p:spPr>
      </p:pic>
      <p:grpSp>
        <p:nvGrpSpPr>
          <p:cNvPr id="1035" name=""/>
          <p:cNvGrpSpPr/>
          <p:nvPr/>
        </p:nvGrpSpPr>
        <p:grpSpPr>
          <a:xfrm>
            <a:off x="5330880" y="1294560"/>
            <a:ext cx="3813120" cy="4420080"/>
            <a:chOff x="5330880" y="1294560"/>
            <a:chExt cx="3813120" cy="4420080"/>
          </a:xfrm>
        </p:grpSpPr>
        <p:grpSp>
          <p:nvGrpSpPr>
            <p:cNvPr id="1036" name=""/>
            <p:cNvGrpSpPr/>
            <p:nvPr/>
          </p:nvGrpSpPr>
          <p:grpSpPr>
            <a:xfrm>
              <a:off x="5330880" y="1294560"/>
              <a:ext cx="3544920" cy="3456720"/>
              <a:chOff x="5330880" y="1294560"/>
              <a:chExt cx="3544920" cy="3456720"/>
            </a:xfrm>
          </p:grpSpPr>
          <p:sp>
            <p:nvSpPr>
              <p:cNvPr id="1037" name=""/>
              <p:cNvSpPr/>
              <p:nvPr/>
            </p:nvSpPr>
            <p:spPr>
              <a:xfrm>
                <a:off x="6138360" y="1294560"/>
                <a:ext cx="1829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Ad-hoc network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3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970760" y="2714400"/>
                <a:ext cx="905040" cy="41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73760" y="1984320"/>
                <a:ext cx="668520" cy="45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0" name=""/>
              <p:cNvSpPr/>
              <p:nvPr/>
            </p:nvSpPr>
            <p:spPr>
              <a:xfrm rot="18856800">
                <a:off x="5533200" y="3286800"/>
                <a:ext cx="420480" cy="345960"/>
              </a:xfrm>
              <a:custGeom>
                <a:avLst/>
                <a:gdLst/>
                <a:ahLst/>
                <a:rect l="l" t="t" r="r" b="b"/>
                <a:pathLst>
                  <a:path w="1254" h="1200">
                    <a:moveTo>
                      <a:pt x="0" y="1200"/>
                    </a:moveTo>
                    <a:lnTo>
                      <a:pt x="639" y="495"/>
                    </a:lnTo>
                    <a:lnTo>
                      <a:pt x="610" y="647"/>
                    </a:lnTo>
                    <a:lnTo>
                      <a:pt x="1254" y="0"/>
                    </a:lnTo>
                    <a:lnTo>
                      <a:pt x="516" y="836"/>
                    </a:lnTo>
                    <a:lnTo>
                      <a:pt x="523" y="687"/>
                    </a:lnTo>
                    <a:lnTo>
                      <a:pt x="0" y="1200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 rot="18857400">
                <a:off x="7018200" y="3678120"/>
                <a:ext cx="642960" cy="611280"/>
              </a:xfrm>
              <a:custGeom>
                <a:avLst/>
                <a:gdLst/>
                <a:ahLst/>
                <a:rect l="l" t="t" r="r" b="b"/>
                <a:pathLst>
                  <a:path w="1254" h="1200">
                    <a:moveTo>
                      <a:pt x="0" y="1200"/>
                    </a:moveTo>
                    <a:lnTo>
                      <a:pt x="639" y="495"/>
                    </a:lnTo>
                    <a:lnTo>
                      <a:pt x="610" y="647"/>
                    </a:lnTo>
                    <a:lnTo>
                      <a:pt x="1254" y="0"/>
                    </a:lnTo>
                    <a:lnTo>
                      <a:pt x="516" y="836"/>
                    </a:lnTo>
                    <a:lnTo>
                      <a:pt x="523" y="687"/>
                    </a:lnTo>
                    <a:lnTo>
                      <a:pt x="0" y="1200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9754400">
                <a:off x="7831080" y="3150720"/>
                <a:ext cx="285840" cy="314280"/>
              </a:xfrm>
              <a:custGeom>
                <a:avLst/>
                <a:gdLst/>
                <a:ahLst/>
                <a:rect l="l" t="t" r="r" b="b"/>
                <a:pathLst>
                  <a:path w="1254" h="1200">
                    <a:moveTo>
                      <a:pt x="0" y="1200"/>
                    </a:moveTo>
                    <a:lnTo>
                      <a:pt x="639" y="495"/>
                    </a:lnTo>
                    <a:lnTo>
                      <a:pt x="610" y="647"/>
                    </a:lnTo>
                    <a:lnTo>
                      <a:pt x="1254" y="0"/>
                    </a:lnTo>
                    <a:lnTo>
                      <a:pt x="516" y="836"/>
                    </a:lnTo>
                    <a:lnTo>
                      <a:pt x="523" y="687"/>
                    </a:lnTo>
                    <a:lnTo>
                      <a:pt x="0" y="1200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3" name=""/>
              <p:cNvGrpSpPr/>
              <p:nvPr/>
            </p:nvGrpSpPr>
            <p:grpSpPr>
              <a:xfrm>
                <a:off x="5443560" y="3814560"/>
                <a:ext cx="434880" cy="339840"/>
                <a:chOff x="5443560" y="3814560"/>
                <a:chExt cx="434880" cy="339840"/>
              </a:xfrm>
            </p:grpSpPr>
            <p:graphicFrame>
              <p:nvGraphicFramePr>
                <p:cNvPr id="1044" name=""/>
                <p:cNvGraphicFramePr/>
                <p:nvPr/>
              </p:nvGraphicFramePr>
              <p:xfrm>
                <a:off x="5443560" y="3814560"/>
                <a:ext cx="434880" cy="339840"/>
              </p:xfrm>
              <a:graphic>
                <a:graphicData uri="http://schemas.openxmlformats.org/presentationml/2006/ole">
                  <p:oleObj r:id="rId6" spid="">
                    <p:embed/>
                    <p:pic>
                      <p:nvPicPr>
                        <p:cNvPr id="1045" name="" descr=""/>
                        <p:cNvPicPr/>
                        <p:nvPr/>
                      </p:nvPicPr>
                      <p:blipFill>
                        <a:blip r:embed="rId7"/>
                        <a:stretch/>
                      </p:blipFill>
                      <p:spPr>
                        <a:xfrm>
                          <a:off x="5443560" y="3814560"/>
                          <a:ext cx="434880" cy="339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46" name=""/>
                <p:cNvGraphicFramePr/>
                <p:nvPr/>
              </p:nvGraphicFramePr>
              <p:xfrm>
                <a:off x="5495040" y="3846600"/>
                <a:ext cx="339480" cy="205920"/>
              </p:xfrm>
              <a:graphic>
                <a:graphicData uri="http://schemas.openxmlformats.org/presentationml/2006/ole">
                  <p:oleObj r:id="rId8" spid="">
                    <p:embed/>
                    <p:pic>
                      <p:nvPicPr>
                        <p:cNvPr id="1047" name="" descr=""/>
                        <p:cNvPicPr/>
                        <p:nvPr/>
                      </p:nvPicPr>
                      <p:blipFill>
                        <a:blip r:embed="rId9"/>
                        <a:stretch/>
                      </p:blipFill>
                      <p:spPr>
                        <a:xfrm>
                          <a:off x="5495040" y="3846600"/>
                          <a:ext cx="339480" cy="205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048" name=""/>
              <p:cNvGrpSpPr/>
              <p:nvPr/>
            </p:nvGrpSpPr>
            <p:grpSpPr>
              <a:xfrm>
                <a:off x="5440320" y="4228920"/>
                <a:ext cx="476280" cy="168480"/>
                <a:chOff x="5440320" y="4228920"/>
                <a:chExt cx="476280" cy="168480"/>
              </a:xfrm>
            </p:grpSpPr>
            <p:grpSp>
              <p:nvGrpSpPr>
                <p:cNvPr id="1049" name=""/>
                <p:cNvGrpSpPr/>
                <p:nvPr/>
              </p:nvGrpSpPr>
              <p:grpSpPr>
                <a:xfrm>
                  <a:off x="5448600" y="4392720"/>
                  <a:ext cx="455040" cy="4680"/>
                  <a:chOff x="5448600" y="4392720"/>
                  <a:chExt cx="455040" cy="4680"/>
                </a:xfrm>
              </p:grpSpPr>
              <p:sp>
                <p:nvSpPr>
                  <p:cNvPr id="1050" name=""/>
                  <p:cNvSpPr/>
                  <p:nvPr/>
                </p:nvSpPr>
                <p:spPr>
                  <a:xfrm>
                    <a:off x="5448600" y="4392720"/>
                    <a:ext cx="26640" cy="4680"/>
                  </a:xfrm>
                  <a:prstGeom prst="roundRect">
                    <a:avLst>
                      <a:gd name="adj" fmla="val 47995"/>
                    </a:avLst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5877000" y="4392720"/>
                    <a:ext cx="26640" cy="4680"/>
                  </a:xfrm>
                  <a:prstGeom prst="roundRect">
                    <a:avLst>
                      <a:gd name="adj" fmla="val 47995"/>
                    </a:avLst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2" name=""/>
                <p:cNvSpPr/>
                <p:nvPr/>
              </p:nvSpPr>
              <p:spPr>
                <a:xfrm>
                  <a:off x="5440320" y="4228920"/>
                  <a:ext cx="476280" cy="62640"/>
                </a:xfrm>
                <a:custGeom>
                  <a:avLst/>
                  <a:gdLst/>
                  <a:ahLst/>
                  <a:rect l="l" t="t" r="r" b="b"/>
                  <a:pathLst>
                    <a:path w="691" h="94">
                      <a:moveTo>
                        <a:pt x="0" y="93"/>
                      </a:moveTo>
                      <a:lnTo>
                        <a:pt x="101" y="0"/>
                      </a:lnTo>
                      <a:lnTo>
                        <a:pt x="588" y="0"/>
                      </a:lnTo>
                      <a:lnTo>
                        <a:pt x="690" y="93"/>
                      </a:lnTo>
                      <a:lnTo>
                        <a:pt x="0" y="93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3" name=""/>
                <p:cNvGrpSpPr/>
                <p:nvPr/>
              </p:nvGrpSpPr>
              <p:grpSpPr>
                <a:xfrm>
                  <a:off x="5443560" y="4294440"/>
                  <a:ext cx="465840" cy="96120"/>
                  <a:chOff x="5443560" y="4294440"/>
                  <a:chExt cx="465840" cy="9612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5443560" y="4294440"/>
                    <a:ext cx="465840" cy="961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5" name=""/>
                  <p:cNvGrpSpPr/>
                  <p:nvPr/>
                </p:nvGrpSpPr>
                <p:grpSpPr>
                  <a:xfrm>
                    <a:off x="5450400" y="4299840"/>
                    <a:ext cx="452160" cy="85320"/>
                    <a:chOff x="5450400" y="4299840"/>
                    <a:chExt cx="452160" cy="85320"/>
                  </a:xfrm>
                </p:grpSpPr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5450400" y="4299840"/>
                      <a:ext cx="452160" cy="8532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520" bIns="38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>
                      <a:off x="5461200" y="4313160"/>
                      <a:ext cx="25920" cy="2592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880" bIns="-20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5461200" y="4367880"/>
                      <a:ext cx="12240" cy="3240"/>
                    </a:xfrm>
                    <a:prstGeom prst="rect">
                      <a:avLst/>
                    </a:prstGeom>
                    <a:solidFill>
                      <a:srgbClr val="008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059" name=""/>
              <p:cNvSpPr/>
              <p:nvPr/>
            </p:nvSpPr>
            <p:spPr>
              <a:xfrm flipH="1">
                <a:off x="6057360" y="4135320"/>
                <a:ext cx="312840" cy="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064200" y="4135320"/>
                <a:ext cx="0" cy="35892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>
                <a:off x="5800680" y="4494240"/>
                <a:ext cx="263520" cy="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5800680" y="4494240"/>
                <a:ext cx="0" cy="8712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670360" y="4403520"/>
                <a:ext cx="0" cy="17784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670360" y="4140000"/>
                <a:ext cx="0" cy="8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5" name=""/>
              <p:cNvGrpSpPr/>
              <p:nvPr/>
            </p:nvGrpSpPr>
            <p:grpSpPr>
              <a:xfrm>
                <a:off x="5330880" y="4591080"/>
                <a:ext cx="677880" cy="160200"/>
                <a:chOff x="5330880" y="4591080"/>
                <a:chExt cx="677880" cy="160200"/>
              </a:xfrm>
            </p:grpSpPr>
            <p:pic>
              <p:nvPicPr>
                <p:cNvPr id="10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330880" y="4591080"/>
                  <a:ext cx="67788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5347080" y="4599000"/>
                  <a:ext cx="55440" cy="504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1068" name=""/>
              <p:cNvGraphicFramePr/>
              <p:nvPr/>
            </p:nvGraphicFramePr>
            <p:xfrm>
              <a:off x="6357960" y="4013280"/>
              <a:ext cx="415800" cy="1760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069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357960" y="4013280"/>
                        <a:ext cx="415800" cy="17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70" name=""/>
              <p:cNvGraphicFramePr/>
              <p:nvPr/>
            </p:nvGraphicFramePr>
            <p:xfrm>
              <a:off x="7799400" y="3662280"/>
              <a:ext cx="555480" cy="5205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071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7799400" y="3662280"/>
                        <a:ext cx="555480" cy="52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72" name=""/>
              <p:cNvGraphicFramePr/>
              <p:nvPr/>
            </p:nvGraphicFramePr>
            <p:xfrm>
              <a:off x="7284960" y="4203720"/>
              <a:ext cx="474840" cy="2077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073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284960" y="4203720"/>
                        <a:ext cx="474840" cy="207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74" name=""/>
              <p:cNvSpPr/>
              <p:nvPr/>
            </p:nvSpPr>
            <p:spPr>
              <a:xfrm>
                <a:off x="7759800" y="4348080"/>
                <a:ext cx="198360" cy="0"/>
              </a:xfrm>
              <a:prstGeom prst="line">
                <a:avLst/>
              </a:prstGeom>
              <a:ln w="284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7958160" y="4174560"/>
                <a:ext cx="0" cy="173160"/>
              </a:xfrm>
              <a:prstGeom prst="line">
                <a:avLst/>
              </a:prstGeom>
              <a:ln w="284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20191800">
                <a:off x="5968800" y="3472920"/>
                <a:ext cx="401400" cy="317520"/>
              </a:xfrm>
              <a:custGeom>
                <a:avLst/>
                <a:gdLst/>
                <a:ahLst/>
                <a:rect l="l" t="t" r="r" b="b"/>
                <a:pathLst>
                  <a:path w="1254" h="1200">
                    <a:moveTo>
                      <a:pt x="0" y="1200"/>
                    </a:moveTo>
                    <a:lnTo>
                      <a:pt x="639" y="495"/>
                    </a:lnTo>
                    <a:lnTo>
                      <a:pt x="610" y="647"/>
                    </a:lnTo>
                    <a:lnTo>
                      <a:pt x="1254" y="0"/>
                    </a:lnTo>
                    <a:lnTo>
                      <a:pt x="516" y="836"/>
                    </a:lnTo>
                    <a:lnTo>
                      <a:pt x="523" y="687"/>
                    </a:lnTo>
                    <a:lnTo>
                      <a:pt x="0" y="1200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20191800">
                <a:off x="6760800" y="2587680"/>
                <a:ext cx="210960" cy="312480"/>
              </a:xfrm>
              <a:custGeom>
                <a:avLst/>
                <a:gdLst/>
                <a:ahLst/>
                <a:rect l="l" t="t" r="r" b="b"/>
                <a:pathLst>
                  <a:path w="1254" h="1200">
                    <a:moveTo>
                      <a:pt x="0" y="1200"/>
                    </a:moveTo>
                    <a:lnTo>
                      <a:pt x="639" y="495"/>
                    </a:lnTo>
                    <a:lnTo>
                      <a:pt x="610" y="647"/>
                    </a:lnTo>
                    <a:lnTo>
                      <a:pt x="1254" y="0"/>
                    </a:lnTo>
                    <a:lnTo>
                      <a:pt x="516" y="836"/>
                    </a:lnTo>
                    <a:lnTo>
                      <a:pt x="523" y="687"/>
                    </a:lnTo>
                    <a:lnTo>
                      <a:pt x="0" y="1200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78" name=""/>
              <p:cNvGraphicFramePr/>
              <p:nvPr/>
            </p:nvGraphicFramePr>
            <p:xfrm>
              <a:off x="6559560" y="3033720"/>
              <a:ext cx="725400" cy="5698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079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6559560" y="3033720"/>
                        <a:ext cx="725400" cy="569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8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5402160" y="2587680"/>
                <a:ext cx="655560" cy="583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1" name=""/>
            <p:cNvSpPr/>
            <p:nvPr/>
          </p:nvSpPr>
          <p:spPr>
            <a:xfrm>
              <a:off x="5346720" y="4950360"/>
              <a:ext cx="3797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200" spc="-1" strike="noStrike">
                  <a:solidFill>
                    <a:srgbClr val="cc0000"/>
                  </a:solidFill>
                  <a:latin typeface="Comic Sans MS"/>
                </a:rPr>
                <a:t>No compromise on QoS</a:t>
              </a:r>
              <a:br>
                <a:rPr sz="2200"/>
              </a:br>
              <a:r>
                <a:rPr b="0" i="1" lang="de-DE" sz="2200" spc="-1" strike="noStrike">
                  <a:solidFill>
                    <a:srgbClr val="cc0000"/>
                  </a:solidFill>
                  <a:latin typeface="Comic Sans MS"/>
                </a:rPr>
                <a:t>in ad-hoc mode!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2" name="" descr=""/>
          <p:cNvPicPr/>
          <p:nvPr/>
        </p:nvPicPr>
        <p:blipFill>
          <a:blip r:embed="rId20"/>
          <a:stretch/>
        </p:blipFill>
        <p:spPr>
          <a:xfrm>
            <a:off x="1066680" y="3352680"/>
            <a:ext cx="590760" cy="44316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/>
          <p:nvPr/>
        </p:nvSpPr>
        <p:spPr>
          <a:xfrm rot="18000000">
            <a:off x="1006200" y="3870360"/>
            <a:ext cx="455760" cy="33516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3886200" y="4114800"/>
            <a:ext cx="380520" cy="468360"/>
            <a:chOff x="3886200" y="4114800"/>
            <a:chExt cx="380520" cy="468360"/>
          </a:xfrm>
        </p:grpSpPr>
        <p:grpSp>
          <p:nvGrpSpPr>
            <p:cNvPr id="1085" name=""/>
            <p:cNvGrpSpPr/>
            <p:nvPr/>
          </p:nvGrpSpPr>
          <p:grpSpPr>
            <a:xfrm>
              <a:off x="4062240" y="4114800"/>
              <a:ext cx="204120" cy="397080"/>
              <a:chOff x="4062240" y="4114800"/>
              <a:chExt cx="204120" cy="397080"/>
            </a:xfrm>
          </p:grpSpPr>
          <p:sp>
            <p:nvSpPr>
              <p:cNvPr id="1086" name=""/>
              <p:cNvSpPr/>
              <p:nvPr/>
            </p:nvSpPr>
            <p:spPr>
              <a:xfrm>
                <a:off x="4062240" y="4114800"/>
                <a:ext cx="202680" cy="392040"/>
              </a:xfrm>
              <a:custGeom>
                <a:avLst/>
                <a:gdLst/>
                <a:ahLst/>
                <a:rect l="l" t="t" r="r" b="b"/>
                <a:pathLst>
                  <a:path w="1155" h="1975">
                    <a:moveTo>
                      <a:pt x="804" y="1960"/>
                    </a:moveTo>
                    <a:lnTo>
                      <a:pt x="782" y="1975"/>
                    </a:lnTo>
                    <a:lnTo>
                      <a:pt x="0" y="1250"/>
                    </a:lnTo>
                    <a:lnTo>
                      <a:pt x="264" y="51"/>
                    </a:lnTo>
                    <a:lnTo>
                      <a:pt x="299" y="15"/>
                    </a:lnTo>
                    <a:lnTo>
                      <a:pt x="335" y="0"/>
                    </a:lnTo>
                    <a:lnTo>
                      <a:pt x="370" y="8"/>
                    </a:lnTo>
                    <a:lnTo>
                      <a:pt x="1119" y="342"/>
                    </a:lnTo>
                    <a:lnTo>
                      <a:pt x="1144" y="360"/>
                    </a:lnTo>
                    <a:lnTo>
                      <a:pt x="1152" y="363"/>
                    </a:lnTo>
                    <a:lnTo>
                      <a:pt x="1155" y="381"/>
                    </a:lnTo>
                    <a:lnTo>
                      <a:pt x="824" y="1972"/>
                    </a:lnTo>
                    <a:lnTo>
                      <a:pt x="804" y="196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183920" y="4175280"/>
                <a:ext cx="82440" cy="336600"/>
              </a:xfrm>
              <a:custGeom>
                <a:avLst/>
                <a:gdLst/>
                <a:ahLst/>
                <a:rect l="l" t="t" r="r" b="b"/>
                <a:pathLst>
                  <a:path w="465" h="1692">
                    <a:moveTo>
                      <a:pt x="465" y="73"/>
                    </a:moveTo>
                    <a:lnTo>
                      <a:pt x="460" y="113"/>
                    </a:lnTo>
                    <a:lnTo>
                      <a:pt x="126" y="1644"/>
                    </a:lnTo>
                    <a:lnTo>
                      <a:pt x="123" y="1672"/>
                    </a:lnTo>
                    <a:lnTo>
                      <a:pt x="113" y="1686"/>
                    </a:lnTo>
                    <a:lnTo>
                      <a:pt x="102" y="1692"/>
                    </a:lnTo>
                    <a:lnTo>
                      <a:pt x="90" y="1688"/>
                    </a:lnTo>
                    <a:lnTo>
                      <a:pt x="70" y="1672"/>
                    </a:lnTo>
                    <a:lnTo>
                      <a:pt x="0" y="1607"/>
                    </a:lnTo>
                    <a:lnTo>
                      <a:pt x="344" y="33"/>
                    </a:lnTo>
                    <a:lnTo>
                      <a:pt x="340" y="23"/>
                    </a:lnTo>
                    <a:lnTo>
                      <a:pt x="321" y="0"/>
                    </a:lnTo>
                    <a:lnTo>
                      <a:pt x="360" y="16"/>
                    </a:lnTo>
                    <a:lnTo>
                      <a:pt x="438" y="51"/>
                    </a:lnTo>
                    <a:lnTo>
                      <a:pt x="453" y="63"/>
                    </a:lnTo>
                    <a:lnTo>
                      <a:pt x="465" y="73"/>
                    </a:lnTo>
                    <a:close/>
                  </a:path>
                </a:pathLst>
              </a:custGeom>
              <a:solidFill>
                <a:srgbClr val="202020"/>
              </a:solidFill>
              <a:ln w="144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8" name=""/>
            <p:cNvSpPr/>
            <p:nvPr/>
          </p:nvSpPr>
          <p:spPr>
            <a:xfrm>
              <a:off x="4117680" y="4114800"/>
              <a:ext cx="149040" cy="76320"/>
            </a:xfrm>
            <a:custGeom>
              <a:avLst/>
              <a:gdLst/>
              <a:ahLst/>
              <a:rect l="l" t="t" r="r" b="b"/>
              <a:pathLst>
                <a:path w="847" h="378">
                  <a:moveTo>
                    <a:pt x="0" y="0"/>
                  </a:moveTo>
                  <a:lnTo>
                    <a:pt x="26" y="1"/>
                  </a:lnTo>
                  <a:lnTo>
                    <a:pt x="50" y="9"/>
                  </a:lnTo>
                  <a:lnTo>
                    <a:pt x="815" y="350"/>
                  </a:lnTo>
                  <a:lnTo>
                    <a:pt x="840" y="365"/>
                  </a:lnTo>
                  <a:lnTo>
                    <a:pt x="847" y="3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02020"/>
            </a:solidFill>
            <a:ln w="1440">
              <a:solidFill>
                <a:srgbClr val="202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"/>
            <p:cNvGrpSpPr/>
            <p:nvPr/>
          </p:nvGrpSpPr>
          <p:grpSpPr>
            <a:xfrm>
              <a:off x="4060440" y="4114800"/>
              <a:ext cx="159840" cy="336600"/>
              <a:chOff x="4060440" y="4114800"/>
              <a:chExt cx="159840" cy="336600"/>
            </a:xfrm>
          </p:grpSpPr>
          <p:sp>
            <p:nvSpPr>
              <p:cNvPr id="1090" name=""/>
              <p:cNvSpPr/>
              <p:nvPr/>
            </p:nvSpPr>
            <p:spPr>
              <a:xfrm>
                <a:off x="4084200" y="4159440"/>
                <a:ext cx="136080" cy="291960"/>
              </a:xfrm>
              <a:custGeom>
                <a:avLst/>
                <a:gdLst/>
                <a:ahLst/>
                <a:rect l="l" t="t" r="r" b="b"/>
                <a:pathLst>
                  <a:path w="775" h="1470">
                    <a:moveTo>
                      <a:pt x="502" y="1470"/>
                    </a:moveTo>
                    <a:lnTo>
                      <a:pt x="0" y="1036"/>
                    </a:lnTo>
                    <a:lnTo>
                      <a:pt x="236" y="0"/>
                    </a:lnTo>
                    <a:lnTo>
                      <a:pt x="775" y="267"/>
                    </a:lnTo>
                    <a:lnTo>
                      <a:pt x="502" y="147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090320" y="4170600"/>
                <a:ext cx="122040" cy="268200"/>
              </a:xfrm>
              <a:custGeom>
                <a:avLst/>
                <a:gdLst/>
                <a:ahLst/>
                <a:rect l="l" t="t" r="r" b="b"/>
                <a:pathLst>
                  <a:path w="698" h="1358">
                    <a:moveTo>
                      <a:pt x="442" y="1358"/>
                    </a:moveTo>
                    <a:lnTo>
                      <a:pt x="0" y="969"/>
                    </a:lnTo>
                    <a:lnTo>
                      <a:pt x="220" y="0"/>
                    </a:lnTo>
                    <a:lnTo>
                      <a:pt x="698" y="229"/>
                    </a:lnTo>
                    <a:lnTo>
                      <a:pt x="442" y="1358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060440" y="4114800"/>
                <a:ext cx="56880" cy="250920"/>
              </a:xfrm>
              <a:custGeom>
                <a:avLst/>
                <a:gdLst/>
                <a:ahLst/>
                <a:rect l="l" t="t" r="r" b="b"/>
                <a:pathLst>
                  <a:path w="330" h="1265">
                    <a:moveTo>
                      <a:pt x="319" y="0"/>
                    </a:moveTo>
                    <a:lnTo>
                      <a:pt x="300" y="9"/>
                    </a:lnTo>
                    <a:lnTo>
                      <a:pt x="289" y="17"/>
                    </a:lnTo>
                    <a:lnTo>
                      <a:pt x="274" y="32"/>
                    </a:lnTo>
                    <a:lnTo>
                      <a:pt x="263" y="51"/>
                    </a:lnTo>
                    <a:lnTo>
                      <a:pt x="259" y="66"/>
                    </a:lnTo>
                    <a:lnTo>
                      <a:pt x="0" y="1248"/>
                    </a:lnTo>
                    <a:lnTo>
                      <a:pt x="10" y="1265"/>
                    </a:lnTo>
                    <a:lnTo>
                      <a:pt x="273" y="66"/>
                    </a:lnTo>
                    <a:lnTo>
                      <a:pt x="280" y="48"/>
                    </a:lnTo>
                    <a:lnTo>
                      <a:pt x="288" y="36"/>
                    </a:lnTo>
                    <a:lnTo>
                      <a:pt x="298" y="25"/>
                    </a:lnTo>
                    <a:lnTo>
                      <a:pt x="311" y="17"/>
                    </a:lnTo>
                    <a:lnTo>
                      <a:pt x="324" y="10"/>
                    </a:lnTo>
                    <a:lnTo>
                      <a:pt x="330" y="4"/>
                    </a:lnTo>
                    <a:lnTo>
                      <a:pt x="319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3886200" y="4373640"/>
              <a:ext cx="318600" cy="209520"/>
              <a:chOff x="3886200" y="4373640"/>
              <a:chExt cx="318600" cy="209520"/>
            </a:xfrm>
          </p:grpSpPr>
          <p:grpSp>
            <p:nvGrpSpPr>
              <p:cNvPr id="1094" name=""/>
              <p:cNvGrpSpPr/>
              <p:nvPr/>
            </p:nvGrpSpPr>
            <p:grpSpPr>
              <a:xfrm>
                <a:off x="3886200" y="4375080"/>
                <a:ext cx="318600" cy="208080"/>
                <a:chOff x="3886200" y="4375080"/>
                <a:chExt cx="318600" cy="20808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4051080" y="4375080"/>
                  <a:ext cx="151920" cy="163800"/>
                </a:xfrm>
                <a:custGeom>
                  <a:avLst/>
                  <a:gdLst/>
                  <a:ahLst/>
                  <a:rect l="l" t="t" r="r" b="b"/>
                  <a:pathLst>
                    <a:path w="863" h="823">
                      <a:moveTo>
                        <a:pt x="863" y="823"/>
                      </a:moveTo>
                      <a:lnTo>
                        <a:pt x="848" y="713"/>
                      </a:lnTo>
                      <a:lnTo>
                        <a:pt x="823" y="663"/>
                      </a:lnTo>
                      <a:lnTo>
                        <a:pt x="111" y="2"/>
                      </a:lnTo>
                      <a:lnTo>
                        <a:pt x="78" y="0"/>
                      </a:lnTo>
                      <a:lnTo>
                        <a:pt x="48" y="2"/>
                      </a:lnTo>
                      <a:lnTo>
                        <a:pt x="26" y="36"/>
                      </a:lnTo>
                      <a:lnTo>
                        <a:pt x="0" y="124"/>
                      </a:lnTo>
                      <a:lnTo>
                        <a:pt x="701" y="816"/>
                      </a:lnTo>
                      <a:lnTo>
                        <a:pt x="863" y="823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890880" y="4395960"/>
                  <a:ext cx="282240" cy="146160"/>
                </a:xfrm>
                <a:custGeom>
                  <a:avLst/>
                  <a:gdLst/>
                  <a:ahLst/>
                  <a:rect l="l" t="t" r="r" b="b"/>
                  <a:pathLst>
                    <a:path w="1595" h="738">
                      <a:moveTo>
                        <a:pt x="0" y="0"/>
                      </a:moveTo>
                      <a:lnTo>
                        <a:pt x="908" y="21"/>
                      </a:lnTo>
                      <a:lnTo>
                        <a:pt x="1595" y="696"/>
                      </a:lnTo>
                      <a:lnTo>
                        <a:pt x="388" y="7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3951000" y="4532400"/>
                  <a:ext cx="253800" cy="50760"/>
                </a:xfrm>
                <a:custGeom>
                  <a:avLst/>
                  <a:gdLst/>
                  <a:ahLst/>
                  <a:rect l="l" t="t" r="r" b="b"/>
                  <a:pathLst>
                    <a:path w="1440" h="254">
                      <a:moveTo>
                        <a:pt x="43" y="45"/>
                      </a:moveTo>
                      <a:lnTo>
                        <a:pt x="0" y="254"/>
                      </a:lnTo>
                      <a:lnTo>
                        <a:pt x="1425" y="220"/>
                      </a:lnTo>
                      <a:lnTo>
                        <a:pt x="1440" y="148"/>
                      </a:lnTo>
                      <a:lnTo>
                        <a:pt x="1436" y="64"/>
                      </a:lnTo>
                      <a:lnTo>
                        <a:pt x="1432" y="0"/>
                      </a:lnTo>
                      <a:lnTo>
                        <a:pt x="43" y="45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3886200" y="4395960"/>
                  <a:ext cx="72720" cy="187200"/>
                </a:xfrm>
                <a:custGeom>
                  <a:avLst/>
                  <a:gdLst/>
                  <a:ahLst/>
                  <a:rect l="l" t="t" r="r" b="b"/>
                  <a:pathLst>
                    <a:path w="415" h="946">
                      <a:moveTo>
                        <a:pt x="30" y="0"/>
                      </a:moveTo>
                      <a:lnTo>
                        <a:pt x="0" y="171"/>
                      </a:lnTo>
                      <a:lnTo>
                        <a:pt x="371" y="946"/>
                      </a:lnTo>
                      <a:lnTo>
                        <a:pt x="415" y="73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052520" y="4533840"/>
                  <a:ext cx="37800" cy="3240"/>
                </a:xfrm>
                <a:custGeom>
                  <a:avLst/>
                  <a:gdLst/>
                  <a:ahLst/>
                  <a:rect l="l" t="t" r="r" b="b"/>
                  <a:pathLst>
                    <a:path w="213" h="22">
                      <a:moveTo>
                        <a:pt x="2" y="22"/>
                      </a:moveTo>
                      <a:lnTo>
                        <a:pt x="0" y="0"/>
                      </a:lnTo>
                      <a:lnTo>
                        <a:pt x="202" y="0"/>
                      </a:lnTo>
                      <a:lnTo>
                        <a:pt x="213" y="17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3973320" y="4395960"/>
                  <a:ext cx="78840" cy="142920"/>
                </a:xfrm>
                <a:custGeom>
                  <a:avLst/>
                  <a:gdLst/>
                  <a:ahLst/>
                  <a:rect l="l" t="t" r="r" b="b"/>
                  <a:pathLst>
                    <a:path w="455" h="714">
                      <a:moveTo>
                        <a:pt x="452" y="685"/>
                      </a:moveTo>
                      <a:lnTo>
                        <a:pt x="0" y="0"/>
                      </a:lnTo>
                      <a:lnTo>
                        <a:pt x="455" y="714"/>
                      </a:lnTo>
                      <a:lnTo>
                        <a:pt x="452" y="685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3908160" y="4399200"/>
                <a:ext cx="146880" cy="136440"/>
                <a:chOff x="3908160" y="4399200"/>
                <a:chExt cx="146880" cy="136440"/>
              </a:xfrm>
            </p:grpSpPr>
            <p:grpSp>
              <p:nvGrpSpPr>
                <p:cNvPr id="1102" name=""/>
                <p:cNvGrpSpPr/>
                <p:nvPr/>
              </p:nvGrpSpPr>
              <p:grpSpPr>
                <a:xfrm>
                  <a:off x="3917520" y="4402080"/>
                  <a:ext cx="13320" cy="12960"/>
                  <a:chOff x="3917520" y="4402080"/>
                  <a:chExt cx="13320" cy="12960"/>
                </a:xfrm>
              </p:grpSpPr>
              <p:sp>
                <p:nvSpPr>
                  <p:cNvPr id="1103" name=""/>
                  <p:cNvSpPr/>
                  <p:nvPr/>
                </p:nvSpPr>
                <p:spPr>
                  <a:xfrm>
                    <a:off x="3917520" y="4402080"/>
                    <a:ext cx="25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8" y="26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3918600" y="440388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4" y="10"/>
                        </a:lnTo>
                        <a:lnTo>
                          <a:pt x="58" y="25"/>
                        </a:lnTo>
                        <a:lnTo>
                          <a:pt x="14" y="25"/>
                        </a:lnTo>
                        <a:lnTo>
                          <a:pt x="6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3920040" y="440856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5" y="7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6" name=""/>
                <p:cNvGrpSpPr/>
                <p:nvPr/>
              </p:nvGrpSpPr>
              <p:grpSpPr>
                <a:xfrm>
                  <a:off x="3920400" y="4410360"/>
                  <a:ext cx="13680" cy="10800"/>
                  <a:chOff x="3920400" y="4410360"/>
                  <a:chExt cx="13680" cy="1080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>
                    <a:off x="3920400" y="4410360"/>
                    <a:ext cx="46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1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3921840" y="441036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39" y="0"/>
                        </a:lnTo>
                        <a:lnTo>
                          <a:pt x="40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7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3923280" y="4415040"/>
                    <a:ext cx="10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4" y="7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0" name=""/>
                <p:cNvSpPr/>
                <p:nvPr/>
              </p:nvSpPr>
              <p:spPr>
                <a:xfrm>
                  <a:off x="3979440" y="4405320"/>
                  <a:ext cx="10440" cy="5040"/>
                </a:xfrm>
                <a:custGeom>
                  <a:avLst/>
                  <a:gdLst/>
                  <a:ahLst/>
                  <a:rect l="l" t="t" r="r" b="b"/>
                  <a:pathLst>
                    <a:path w="63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3" y="31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3953880" y="4403880"/>
                  <a:ext cx="2880" cy="11160"/>
                </a:xfrm>
                <a:custGeom>
                  <a:avLst/>
                  <a:gdLst/>
                  <a:ahLst/>
                  <a:rect l="l" t="t" r="r" b="b"/>
                  <a:pathLst>
                    <a:path w="20" h="58">
                      <a:moveTo>
                        <a:pt x="12" y="58"/>
                      </a:moveTo>
                      <a:lnTo>
                        <a:pt x="0" y="23"/>
                      </a:lnTo>
                      <a:lnTo>
                        <a:pt x="9" y="0"/>
                      </a:lnTo>
                      <a:lnTo>
                        <a:pt x="20" y="26"/>
                      </a:lnTo>
                      <a:lnTo>
                        <a:pt x="12" y="58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955320" y="440388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57" h="25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41" y="2"/>
                      </a:lnTo>
                      <a:lnTo>
                        <a:pt x="44" y="11"/>
                      </a:lnTo>
                      <a:lnTo>
                        <a:pt x="57" y="25"/>
                      </a:lnTo>
                      <a:lnTo>
                        <a:pt x="13" y="25"/>
                      </a:lnTo>
                      <a:lnTo>
                        <a:pt x="5" y="17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3955320" y="440856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7" h="31">
                      <a:moveTo>
                        <a:pt x="0" y="31"/>
                      </a:moveTo>
                      <a:lnTo>
                        <a:pt x="1" y="17"/>
                      </a:lnTo>
                      <a:lnTo>
                        <a:pt x="6" y="7"/>
                      </a:lnTo>
                      <a:lnTo>
                        <a:pt x="9" y="0"/>
                      </a:lnTo>
                      <a:lnTo>
                        <a:pt x="55" y="0"/>
                      </a:lnTo>
                      <a:lnTo>
                        <a:pt x="67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4" name=""/>
                <p:cNvGrpSpPr/>
                <p:nvPr/>
              </p:nvGrpSpPr>
              <p:grpSpPr>
                <a:xfrm>
                  <a:off x="3957120" y="4410360"/>
                  <a:ext cx="13320" cy="10800"/>
                  <a:chOff x="3957120" y="4410360"/>
                  <a:chExt cx="13320" cy="10800"/>
                </a:xfrm>
              </p:grpSpPr>
              <p:sp>
                <p:nvSpPr>
                  <p:cNvPr id="1115" name=""/>
                  <p:cNvSpPr/>
                  <p:nvPr/>
                </p:nvSpPr>
                <p:spPr>
                  <a:xfrm>
                    <a:off x="3957120" y="4410360"/>
                    <a:ext cx="28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1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1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3958200" y="441036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9"/>
                        </a:lnTo>
                        <a:lnTo>
                          <a:pt x="59" y="25"/>
                        </a:lnTo>
                        <a:lnTo>
                          <a:pt x="15" y="25"/>
                        </a:lnTo>
                        <a:lnTo>
                          <a:pt x="8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3958200" y="441504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1">
                        <a:moveTo>
                          <a:pt x="0" y="31"/>
                        </a:moveTo>
                        <a:lnTo>
                          <a:pt x="3" y="16"/>
                        </a:lnTo>
                        <a:lnTo>
                          <a:pt x="6" y="6"/>
                        </a:lnTo>
                        <a:lnTo>
                          <a:pt x="10" y="0"/>
                        </a:lnTo>
                        <a:lnTo>
                          <a:pt x="55" y="0"/>
                        </a:lnTo>
                        <a:lnTo>
                          <a:pt x="68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8" name=""/>
                <p:cNvGrpSpPr/>
                <p:nvPr/>
              </p:nvGrpSpPr>
              <p:grpSpPr>
                <a:xfrm>
                  <a:off x="3960360" y="4416480"/>
                  <a:ext cx="13320" cy="11160"/>
                  <a:chOff x="3960360" y="4416480"/>
                  <a:chExt cx="13320" cy="11160"/>
                </a:xfrm>
              </p:grpSpPr>
              <p:sp>
                <p:nvSpPr>
                  <p:cNvPr id="1119" name=""/>
                  <p:cNvSpPr/>
                  <p:nvPr/>
                </p:nvSpPr>
                <p:spPr>
                  <a:xfrm>
                    <a:off x="3960360" y="4416480"/>
                    <a:ext cx="25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9" y="0"/>
                        </a:lnTo>
                        <a:lnTo>
                          <a:pt x="20" y="27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3961440" y="441648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3" y="0"/>
                        </a:moveTo>
                        <a:lnTo>
                          <a:pt x="40" y="0"/>
                        </a:lnTo>
                        <a:lnTo>
                          <a:pt x="42" y="3"/>
                        </a:lnTo>
                        <a:lnTo>
                          <a:pt x="46" y="10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3962880" y="442116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2" name=""/>
                <p:cNvGrpSpPr/>
                <p:nvPr/>
              </p:nvGrpSpPr>
              <p:grpSpPr>
                <a:xfrm>
                  <a:off x="3963240" y="4421160"/>
                  <a:ext cx="13680" cy="12960"/>
                  <a:chOff x="3963240" y="4421160"/>
                  <a:chExt cx="13680" cy="1296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3963240" y="4421160"/>
                    <a:ext cx="46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3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3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3964680" y="442296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5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966120" y="442764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7"/>
                        </a:lnTo>
                        <a:lnTo>
                          <a:pt x="4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3968280" y="4429080"/>
                  <a:ext cx="13320" cy="11160"/>
                  <a:chOff x="3968280" y="4429080"/>
                  <a:chExt cx="13320" cy="1116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3968280" y="4429080"/>
                    <a:ext cx="25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2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2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3969360" y="442908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5">
                        <a:moveTo>
                          <a:pt x="2" y="0"/>
                        </a:moveTo>
                        <a:lnTo>
                          <a:pt x="41" y="0"/>
                        </a:lnTo>
                        <a:lnTo>
                          <a:pt x="42" y="2"/>
                        </a:lnTo>
                        <a:lnTo>
                          <a:pt x="46" y="10"/>
                        </a:lnTo>
                        <a:lnTo>
                          <a:pt x="61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969360" y="443412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7"/>
                        </a:lnTo>
                        <a:lnTo>
                          <a:pt x="6" y="7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0" name=""/>
                <p:cNvGrpSpPr/>
                <p:nvPr/>
              </p:nvGrpSpPr>
              <p:grpSpPr>
                <a:xfrm>
                  <a:off x="3971160" y="4435560"/>
                  <a:ext cx="27720" cy="38160"/>
                  <a:chOff x="3971160" y="4435560"/>
                  <a:chExt cx="27720" cy="38160"/>
                </a:xfrm>
              </p:grpSpPr>
              <p:grpSp>
                <p:nvGrpSpPr>
                  <p:cNvPr id="1131" name=""/>
                  <p:cNvGrpSpPr/>
                  <p:nvPr/>
                </p:nvGrpSpPr>
                <p:grpSpPr>
                  <a:xfrm>
                    <a:off x="3971160" y="4435560"/>
                    <a:ext cx="13680" cy="12600"/>
                    <a:chOff x="3971160" y="4435560"/>
                    <a:chExt cx="13680" cy="12600"/>
                  </a:xfrm>
                </p:grpSpPr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3971160" y="4435560"/>
                      <a:ext cx="28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0">
                          <a:moveTo>
                            <a:pt x="10" y="60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7"/>
                          </a:lnTo>
                          <a:lnTo>
                            <a:pt x="10" y="6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3972600" y="443700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6" y="10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8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972600" y="4442040"/>
                      <a:ext cx="122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2">
                          <a:moveTo>
                            <a:pt x="0" y="32"/>
                          </a:moveTo>
                          <a:lnTo>
                            <a:pt x="2" y="18"/>
                          </a:lnTo>
                          <a:lnTo>
                            <a:pt x="7" y="6"/>
                          </a:lnTo>
                          <a:lnTo>
                            <a:pt x="11" y="0"/>
                          </a:lnTo>
                          <a:lnTo>
                            <a:pt x="57" y="0"/>
                          </a:lnTo>
                          <a:lnTo>
                            <a:pt x="67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35" name=""/>
                  <p:cNvGrpSpPr/>
                  <p:nvPr/>
                </p:nvGrpSpPr>
                <p:grpSpPr>
                  <a:xfrm>
                    <a:off x="3974040" y="4442040"/>
                    <a:ext cx="13680" cy="12600"/>
                    <a:chOff x="3974040" y="4442040"/>
                    <a:chExt cx="13680" cy="12600"/>
                  </a:xfrm>
                </p:grpSpPr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3974040" y="4442040"/>
                      <a:ext cx="28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4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3975480" y="444348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7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3" y="2"/>
                          </a:lnTo>
                          <a:lnTo>
                            <a:pt x="46" y="11"/>
                          </a:lnTo>
                          <a:lnTo>
                            <a:pt x="61" y="27"/>
                          </a:lnTo>
                          <a:lnTo>
                            <a:pt x="15" y="27"/>
                          </a:lnTo>
                          <a:lnTo>
                            <a:pt x="8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8" name=""/>
                    <p:cNvSpPr/>
                    <p:nvPr/>
                  </p:nvSpPr>
                  <p:spPr>
                    <a:xfrm>
                      <a:off x="3976920" y="444816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4" y="6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39" name=""/>
                  <p:cNvGrpSpPr/>
                  <p:nvPr/>
                </p:nvGrpSpPr>
                <p:grpSpPr>
                  <a:xfrm>
                    <a:off x="3977280" y="4449960"/>
                    <a:ext cx="13680" cy="11160"/>
                    <a:chOff x="3977280" y="4449960"/>
                    <a:chExt cx="13680" cy="11160"/>
                  </a:xfrm>
                </p:grpSpPr>
                <p:sp>
                  <p:nvSpPr>
                    <p:cNvPr id="1140" name=""/>
                    <p:cNvSpPr/>
                    <p:nvPr/>
                  </p:nvSpPr>
                  <p:spPr>
                    <a:xfrm>
                      <a:off x="3977280" y="4449960"/>
                      <a:ext cx="43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2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0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1" name=""/>
                    <p:cNvSpPr/>
                    <p:nvPr/>
                  </p:nvSpPr>
                  <p:spPr>
                    <a:xfrm>
                      <a:off x="3978720" y="4449960"/>
                      <a:ext cx="104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58" y="25"/>
                          </a:lnTo>
                          <a:lnTo>
                            <a:pt x="14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2" name=""/>
                    <p:cNvSpPr/>
                    <p:nvPr/>
                  </p:nvSpPr>
                  <p:spPr>
                    <a:xfrm>
                      <a:off x="3980160" y="44546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2" y="17"/>
                          </a:lnTo>
                          <a:lnTo>
                            <a:pt x="5" y="7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43" name=""/>
                  <p:cNvGrpSpPr/>
                  <p:nvPr/>
                </p:nvGrpSpPr>
                <p:grpSpPr>
                  <a:xfrm>
                    <a:off x="3981960" y="4454640"/>
                    <a:ext cx="13680" cy="12600"/>
                    <a:chOff x="3981960" y="4454640"/>
                    <a:chExt cx="13680" cy="12600"/>
                  </a:xfrm>
                </p:grpSpPr>
                <p:sp>
                  <p:nvSpPr>
                    <p:cNvPr id="1144" name=""/>
                    <p:cNvSpPr/>
                    <p:nvPr/>
                  </p:nvSpPr>
                  <p:spPr>
                    <a:xfrm>
                      <a:off x="3981960" y="4454640"/>
                      <a:ext cx="28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9">
                          <a:moveTo>
                            <a:pt x="13" y="59"/>
                          </a:moveTo>
                          <a:lnTo>
                            <a:pt x="0" y="23"/>
                          </a:lnTo>
                          <a:lnTo>
                            <a:pt x="10" y="0"/>
                          </a:lnTo>
                          <a:lnTo>
                            <a:pt x="21" y="27"/>
                          </a:lnTo>
                          <a:lnTo>
                            <a:pt x="13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5" name=""/>
                    <p:cNvSpPr/>
                    <p:nvPr/>
                  </p:nvSpPr>
                  <p:spPr>
                    <a:xfrm>
                      <a:off x="3983400" y="4456080"/>
                      <a:ext cx="90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25">
                          <a:moveTo>
                            <a:pt x="2" y="0"/>
                          </a:moveTo>
                          <a:lnTo>
                            <a:pt x="39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59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4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6" name=""/>
                    <p:cNvSpPr/>
                    <p:nvPr/>
                  </p:nvSpPr>
                  <p:spPr>
                    <a:xfrm>
                      <a:off x="3983400" y="4461120"/>
                      <a:ext cx="122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5" y="7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47" name=""/>
                  <p:cNvGrpSpPr/>
                  <p:nvPr/>
                </p:nvGrpSpPr>
                <p:grpSpPr>
                  <a:xfrm>
                    <a:off x="3985200" y="4462560"/>
                    <a:ext cx="13680" cy="11160"/>
                    <a:chOff x="3985200" y="4462560"/>
                    <a:chExt cx="13680" cy="11160"/>
                  </a:xfrm>
                </p:grpSpPr>
                <p:sp>
                  <p:nvSpPr>
                    <p:cNvPr id="1148" name=""/>
                    <p:cNvSpPr/>
                    <p:nvPr/>
                  </p:nvSpPr>
                  <p:spPr>
                    <a:xfrm>
                      <a:off x="3985200" y="446256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2" y="58"/>
                          </a:moveTo>
                          <a:lnTo>
                            <a:pt x="0" y="22"/>
                          </a:lnTo>
                          <a:lnTo>
                            <a:pt x="8" y="0"/>
                          </a:lnTo>
                          <a:lnTo>
                            <a:pt x="20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3986640" y="4462560"/>
                      <a:ext cx="104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8" y="17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>
                      <a:off x="3986640" y="4467240"/>
                      <a:ext cx="122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2" y="17"/>
                          </a:lnTo>
                          <a:lnTo>
                            <a:pt x="5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51" name=""/>
                <p:cNvGrpSpPr/>
                <p:nvPr/>
              </p:nvGrpSpPr>
              <p:grpSpPr>
                <a:xfrm>
                  <a:off x="3988800" y="4469040"/>
                  <a:ext cx="27360" cy="37800"/>
                  <a:chOff x="3988800" y="4469040"/>
                  <a:chExt cx="27360" cy="37800"/>
                </a:xfrm>
              </p:grpSpPr>
              <p:grpSp>
                <p:nvGrpSpPr>
                  <p:cNvPr id="1152" name=""/>
                  <p:cNvGrpSpPr/>
                  <p:nvPr/>
                </p:nvGrpSpPr>
                <p:grpSpPr>
                  <a:xfrm>
                    <a:off x="3988800" y="4469040"/>
                    <a:ext cx="13680" cy="12600"/>
                    <a:chOff x="3988800" y="4469040"/>
                    <a:chExt cx="13680" cy="12600"/>
                  </a:xfrm>
                </p:grpSpPr>
                <p:sp>
                  <p:nvSpPr>
                    <p:cNvPr id="1153" name=""/>
                    <p:cNvSpPr/>
                    <p:nvPr/>
                  </p:nvSpPr>
                  <p:spPr>
                    <a:xfrm>
                      <a:off x="3988800" y="4469040"/>
                      <a:ext cx="28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>
                      <a:off x="3989880" y="447048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3" y="3"/>
                          </a:lnTo>
                          <a:lnTo>
                            <a:pt x="46" y="11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9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>
                      <a:off x="3991680" y="447516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8"/>
                          </a:lnTo>
                          <a:lnTo>
                            <a:pt x="5" y="7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56" name=""/>
                  <p:cNvGrpSpPr/>
                  <p:nvPr/>
                </p:nvGrpSpPr>
                <p:grpSpPr>
                  <a:xfrm>
                    <a:off x="3991680" y="4475160"/>
                    <a:ext cx="13320" cy="12960"/>
                    <a:chOff x="3991680" y="4475160"/>
                    <a:chExt cx="13320" cy="12960"/>
                  </a:xfrm>
                </p:grpSpPr>
                <p:sp>
                  <p:nvSpPr>
                    <p:cNvPr id="1157" name=""/>
                    <p:cNvSpPr/>
                    <p:nvPr/>
                  </p:nvSpPr>
                  <p:spPr>
                    <a:xfrm>
                      <a:off x="3991680" y="4475160"/>
                      <a:ext cx="432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1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>
                      <a:off x="3992760" y="447516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2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9" y="17"/>
                          </a:lnTo>
                          <a:lnTo>
                            <a:pt x="0" y="5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9" name=""/>
                    <p:cNvSpPr/>
                    <p:nvPr/>
                  </p:nvSpPr>
                  <p:spPr>
                    <a:xfrm>
                      <a:off x="3994560" y="4481640"/>
                      <a:ext cx="104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2">
                          <a:moveTo>
                            <a:pt x="0" y="32"/>
                          </a:moveTo>
                          <a:lnTo>
                            <a:pt x="3" y="17"/>
                          </a:lnTo>
                          <a:lnTo>
                            <a:pt x="6" y="7"/>
                          </a:lnTo>
                          <a:lnTo>
                            <a:pt x="10" y="0"/>
                          </a:lnTo>
                          <a:lnTo>
                            <a:pt x="55" y="0"/>
                          </a:lnTo>
                          <a:lnTo>
                            <a:pt x="67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60" name=""/>
                  <p:cNvGrpSpPr/>
                  <p:nvPr/>
                </p:nvGrpSpPr>
                <p:grpSpPr>
                  <a:xfrm>
                    <a:off x="3996360" y="4481640"/>
                    <a:ext cx="11880" cy="12600"/>
                    <a:chOff x="3996360" y="4481640"/>
                    <a:chExt cx="11880" cy="12600"/>
                  </a:xfrm>
                </p:grpSpPr>
                <p:sp>
                  <p:nvSpPr>
                    <p:cNvPr id="1161" name=""/>
                    <p:cNvSpPr/>
                    <p:nvPr/>
                  </p:nvSpPr>
                  <p:spPr>
                    <a:xfrm>
                      <a:off x="3996360" y="4481640"/>
                      <a:ext cx="28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4"/>
                          </a:lnTo>
                          <a:lnTo>
                            <a:pt x="8" y="0"/>
                          </a:lnTo>
                          <a:lnTo>
                            <a:pt x="20" y="27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2" name=""/>
                    <p:cNvSpPr/>
                    <p:nvPr/>
                  </p:nvSpPr>
                  <p:spPr>
                    <a:xfrm>
                      <a:off x="3996360" y="44816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2" y="2"/>
                          </a:lnTo>
                          <a:lnTo>
                            <a:pt x="45" y="10"/>
                          </a:lnTo>
                          <a:lnTo>
                            <a:pt x="60" y="26"/>
                          </a:lnTo>
                          <a:lnTo>
                            <a:pt x="15" y="26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3" name=""/>
                    <p:cNvSpPr/>
                    <p:nvPr/>
                  </p:nvSpPr>
                  <p:spPr>
                    <a:xfrm>
                      <a:off x="3997440" y="448812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6" y="7"/>
                          </a:lnTo>
                          <a:lnTo>
                            <a:pt x="10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64" name=""/>
                  <p:cNvGrpSpPr/>
                  <p:nvPr/>
                </p:nvGrpSpPr>
                <p:grpSpPr>
                  <a:xfrm>
                    <a:off x="3999600" y="4488120"/>
                    <a:ext cx="13680" cy="12600"/>
                    <a:chOff x="3999600" y="4488120"/>
                    <a:chExt cx="13680" cy="12600"/>
                  </a:xfrm>
                </p:grpSpPr>
                <p:sp>
                  <p:nvSpPr>
                    <p:cNvPr id="1165" name=""/>
                    <p:cNvSpPr/>
                    <p:nvPr/>
                  </p:nvSpPr>
                  <p:spPr>
                    <a:xfrm>
                      <a:off x="3999600" y="4488120"/>
                      <a:ext cx="28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0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6" name=""/>
                    <p:cNvSpPr/>
                    <p:nvPr/>
                  </p:nvSpPr>
                  <p:spPr>
                    <a:xfrm>
                      <a:off x="4000680" y="44895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2" y="2"/>
                          </a:lnTo>
                          <a:lnTo>
                            <a:pt x="46" y="9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>
                      <a:off x="4000680" y="449424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2" y="16"/>
                          </a:lnTo>
                          <a:lnTo>
                            <a:pt x="6" y="7"/>
                          </a:lnTo>
                          <a:lnTo>
                            <a:pt x="11" y="0"/>
                          </a:lnTo>
                          <a:lnTo>
                            <a:pt x="57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68" name=""/>
                  <p:cNvGrpSpPr/>
                  <p:nvPr/>
                </p:nvGrpSpPr>
                <p:grpSpPr>
                  <a:xfrm>
                    <a:off x="4002840" y="4496040"/>
                    <a:ext cx="13320" cy="10800"/>
                    <a:chOff x="4002840" y="4496040"/>
                    <a:chExt cx="13320" cy="10800"/>
                  </a:xfrm>
                </p:grpSpPr>
                <p:sp>
                  <p:nvSpPr>
                    <p:cNvPr id="1169" name=""/>
                    <p:cNvSpPr/>
                    <p:nvPr/>
                  </p:nvSpPr>
                  <p:spPr>
                    <a:xfrm>
                      <a:off x="4002840" y="4496040"/>
                      <a:ext cx="252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8">
                          <a:moveTo>
                            <a:pt x="10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8" y="26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>
                      <a:off x="4003920" y="449604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2" y="0"/>
                          </a:moveTo>
                          <a:lnTo>
                            <a:pt x="42" y="0"/>
                          </a:lnTo>
                          <a:lnTo>
                            <a:pt x="43" y="2"/>
                          </a:lnTo>
                          <a:lnTo>
                            <a:pt x="46" y="9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8" y="17"/>
                          </a:lnTo>
                          <a:lnTo>
                            <a:pt x="0" y="4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1" name=""/>
                    <p:cNvSpPr/>
                    <p:nvPr/>
                  </p:nvSpPr>
                  <p:spPr>
                    <a:xfrm>
                      <a:off x="4005360" y="450072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5" y="6"/>
                          </a:lnTo>
                          <a:lnTo>
                            <a:pt x="8" y="0"/>
                          </a:lnTo>
                          <a:lnTo>
                            <a:pt x="55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72" name=""/>
                <p:cNvGrpSpPr/>
                <p:nvPr/>
              </p:nvGrpSpPr>
              <p:grpSpPr>
                <a:xfrm>
                  <a:off x="4006080" y="4500720"/>
                  <a:ext cx="13680" cy="12600"/>
                  <a:chOff x="4006080" y="4500720"/>
                  <a:chExt cx="13680" cy="12600"/>
                </a:xfrm>
              </p:grpSpPr>
              <p:sp>
                <p:nvSpPr>
                  <p:cNvPr id="1173" name=""/>
                  <p:cNvSpPr/>
                  <p:nvPr/>
                </p:nvSpPr>
                <p:spPr>
                  <a:xfrm>
                    <a:off x="4006080" y="4500720"/>
                    <a:ext cx="2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9" y="27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4007520" y="4500720"/>
                    <a:ext cx="10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1"/>
                        </a:lnTo>
                        <a:lnTo>
                          <a:pt x="59" y="26"/>
                        </a:lnTo>
                        <a:lnTo>
                          <a:pt x="14" y="26"/>
                        </a:lnTo>
                        <a:lnTo>
                          <a:pt x="8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4008960" y="450684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9">
                        <a:moveTo>
                          <a:pt x="0" y="29"/>
                        </a:moveTo>
                        <a:lnTo>
                          <a:pt x="1" y="16"/>
                        </a:lnTo>
                        <a:lnTo>
                          <a:pt x="5" y="5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6" name=""/>
                <p:cNvGrpSpPr/>
                <p:nvPr/>
              </p:nvGrpSpPr>
              <p:grpSpPr>
                <a:xfrm>
                  <a:off x="4009320" y="4506840"/>
                  <a:ext cx="13680" cy="11160"/>
                  <a:chOff x="4009320" y="4506840"/>
                  <a:chExt cx="13680" cy="11160"/>
                </a:xfrm>
              </p:grpSpPr>
              <p:sp>
                <p:nvSpPr>
                  <p:cNvPr id="1177" name=""/>
                  <p:cNvSpPr/>
                  <p:nvPr/>
                </p:nvSpPr>
                <p:spPr>
                  <a:xfrm>
                    <a:off x="4009320" y="450684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4010760" y="450684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2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4" y="25"/>
                        </a:lnTo>
                        <a:lnTo>
                          <a:pt x="8" y="17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4012200" y="45133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7"/>
                        </a:lnTo>
                        <a:lnTo>
                          <a:pt x="4" y="7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0" name=""/>
                <p:cNvGrpSpPr/>
                <p:nvPr/>
              </p:nvGrpSpPr>
              <p:grpSpPr>
                <a:xfrm>
                  <a:off x="4014360" y="4513320"/>
                  <a:ext cx="11880" cy="12600"/>
                  <a:chOff x="4014360" y="4513320"/>
                  <a:chExt cx="11880" cy="12600"/>
                </a:xfrm>
              </p:grpSpPr>
              <p:sp>
                <p:nvSpPr>
                  <p:cNvPr id="1181" name=""/>
                  <p:cNvSpPr/>
                  <p:nvPr/>
                </p:nvSpPr>
                <p:spPr>
                  <a:xfrm>
                    <a:off x="4014360" y="4513320"/>
                    <a:ext cx="25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015440" y="451512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1"/>
                        </a:lnTo>
                        <a:lnTo>
                          <a:pt x="59" y="26"/>
                        </a:lnTo>
                        <a:lnTo>
                          <a:pt x="15" y="26"/>
                        </a:lnTo>
                        <a:lnTo>
                          <a:pt x="8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015440" y="4519800"/>
                    <a:ext cx="10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2" y="18"/>
                        </a:lnTo>
                        <a:lnTo>
                          <a:pt x="5" y="7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4" name=""/>
                <p:cNvSpPr/>
                <p:nvPr/>
              </p:nvSpPr>
              <p:spPr>
                <a:xfrm>
                  <a:off x="3941280" y="4403880"/>
                  <a:ext cx="4320" cy="11160"/>
                </a:xfrm>
                <a:custGeom>
                  <a:avLst/>
                  <a:gdLst/>
                  <a:ahLst/>
                  <a:rect l="l" t="t" r="r" b="b"/>
                  <a:pathLst>
                    <a:path w="20" h="58">
                      <a:moveTo>
                        <a:pt x="12" y="58"/>
                      </a:moveTo>
                      <a:lnTo>
                        <a:pt x="0" y="23"/>
                      </a:lnTo>
                      <a:lnTo>
                        <a:pt x="8" y="0"/>
                      </a:lnTo>
                      <a:lnTo>
                        <a:pt x="20" y="26"/>
                      </a:lnTo>
                      <a:lnTo>
                        <a:pt x="12" y="58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3942720" y="4403880"/>
                  <a:ext cx="10800" cy="4680"/>
                </a:xfrm>
                <a:custGeom>
                  <a:avLst/>
                  <a:gdLst/>
                  <a:ahLst/>
                  <a:rect l="l" t="t" r="r" b="b"/>
                  <a:pathLst>
                    <a:path w="57" h="23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41" y="1"/>
                      </a:lnTo>
                      <a:lnTo>
                        <a:pt x="45" y="10"/>
                      </a:lnTo>
                      <a:lnTo>
                        <a:pt x="57" y="23"/>
                      </a:lnTo>
                      <a:lnTo>
                        <a:pt x="14" y="23"/>
                      </a:lnTo>
                      <a:lnTo>
                        <a:pt x="6" y="16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3944520" y="4408560"/>
                  <a:ext cx="10440" cy="6480"/>
                </a:xfrm>
                <a:custGeom>
                  <a:avLst/>
                  <a:gdLst/>
                  <a:ahLst/>
                  <a:rect l="l" t="t" r="r" b="b"/>
                  <a:pathLst>
                    <a:path w="66" h="31">
                      <a:moveTo>
                        <a:pt x="0" y="31"/>
                      </a:moveTo>
                      <a:lnTo>
                        <a:pt x="1" y="18"/>
                      </a:lnTo>
                      <a:lnTo>
                        <a:pt x="4" y="7"/>
                      </a:lnTo>
                      <a:lnTo>
                        <a:pt x="9" y="0"/>
                      </a:lnTo>
                      <a:lnTo>
                        <a:pt x="55" y="0"/>
                      </a:lnTo>
                      <a:lnTo>
                        <a:pt x="66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7" name=""/>
                <p:cNvGrpSpPr/>
                <p:nvPr/>
              </p:nvGrpSpPr>
              <p:grpSpPr>
                <a:xfrm>
                  <a:off x="3945960" y="4410360"/>
                  <a:ext cx="11880" cy="10800"/>
                  <a:chOff x="3945960" y="4410360"/>
                  <a:chExt cx="11880" cy="10800"/>
                </a:xfrm>
              </p:grpSpPr>
              <p:sp>
                <p:nvSpPr>
                  <p:cNvPr id="1188" name=""/>
                  <p:cNvSpPr/>
                  <p:nvPr/>
                </p:nvSpPr>
                <p:spPr>
                  <a:xfrm>
                    <a:off x="3945960" y="4410360"/>
                    <a:ext cx="28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9" y="26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3945960" y="441036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10"/>
                        </a:lnTo>
                        <a:lnTo>
                          <a:pt x="59" y="25"/>
                        </a:lnTo>
                        <a:lnTo>
                          <a:pt x="14" y="25"/>
                        </a:lnTo>
                        <a:lnTo>
                          <a:pt x="8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3947040" y="4415040"/>
                    <a:ext cx="10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6" y="7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7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1" name=""/>
                <p:cNvGrpSpPr/>
                <p:nvPr/>
              </p:nvGrpSpPr>
              <p:grpSpPr>
                <a:xfrm>
                  <a:off x="3949200" y="4416480"/>
                  <a:ext cx="13320" cy="11160"/>
                  <a:chOff x="3949200" y="4416480"/>
                  <a:chExt cx="13320" cy="11160"/>
                </a:xfrm>
              </p:grpSpPr>
              <p:sp>
                <p:nvSpPr>
                  <p:cNvPr id="1192" name=""/>
                  <p:cNvSpPr/>
                  <p:nvPr/>
                </p:nvSpPr>
                <p:spPr>
                  <a:xfrm>
                    <a:off x="3949200" y="441648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3950280" y="441648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0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950280" y="4421160"/>
                    <a:ext cx="12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4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5" name=""/>
                <p:cNvGrpSpPr/>
                <p:nvPr/>
              </p:nvGrpSpPr>
              <p:grpSpPr>
                <a:xfrm>
                  <a:off x="3952440" y="4422960"/>
                  <a:ext cx="13320" cy="11160"/>
                  <a:chOff x="3952440" y="4422960"/>
                  <a:chExt cx="13320" cy="11160"/>
                </a:xfrm>
              </p:grpSpPr>
              <p:sp>
                <p:nvSpPr>
                  <p:cNvPr id="1196" name=""/>
                  <p:cNvSpPr/>
                  <p:nvPr/>
                </p:nvSpPr>
                <p:spPr>
                  <a:xfrm>
                    <a:off x="3952440" y="4422960"/>
                    <a:ext cx="25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19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953520" y="442296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5" y="10"/>
                        </a:lnTo>
                        <a:lnTo>
                          <a:pt x="59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3954960" y="442764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9" name=""/>
                <p:cNvGrpSpPr/>
                <p:nvPr/>
              </p:nvGrpSpPr>
              <p:grpSpPr>
                <a:xfrm>
                  <a:off x="3955320" y="4429080"/>
                  <a:ext cx="13680" cy="11160"/>
                  <a:chOff x="3955320" y="4429080"/>
                  <a:chExt cx="13680" cy="11160"/>
                </a:xfrm>
              </p:grpSpPr>
              <p:sp>
                <p:nvSpPr>
                  <p:cNvPr id="1200" name=""/>
                  <p:cNvSpPr/>
                  <p:nvPr/>
                </p:nvSpPr>
                <p:spPr>
                  <a:xfrm>
                    <a:off x="3955320" y="442908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21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956760" y="4429080"/>
                    <a:ext cx="108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2" y="2"/>
                        </a:lnTo>
                        <a:lnTo>
                          <a:pt x="46" y="10"/>
                        </a:lnTo>
                        <a:lnTo>
                          <a:pt x="61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958200" y="4434120"/>
                    <a:ext cx="10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6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5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3" name=""/>
                <p:cNvGrpSpPr/>
                <p:nvPr/>
              </p:nvGrpSpPr>
              <p:grpSpPr>
                <a:xfrm>
                  <a:off x="3960360" y="4437000"/>
                  <a:ext cx="25920" cy="36720"/>
                  <a:chOff x="3960360" y="4437000"/>
                  <a:chExt cx="25920" cy="36720"/>
                </a:xfrm>
              </p:grpSpPr>
              <p:grpSp>
                <p:nvGrpSpPr>
                  <p:cNvPr id="1204" name=""/>
                  <p:cNvGrpSpPr/>
                  <p:nvPr/>
                </p:nvGrpSpPr>
                <p:grpSpPr>
                  <a:xfrm>
                    <a:off x="3960360" y="4437000"/>
                    <a:ext cx="11880" cy="11160"/>
                    <a:chOff x="3960360" y="4437000"/>
                    <a:chExt cx="11880" cy="11160"/>
                  </a:xfrm>
                </p:grpSpPr>
                <p:sp>
                  <p:nvSpPr>
                    <p:cNvPr id="1205" name=""/>
                    <p:cNvSpPr/>
                    <p:nvPr/>
                  </p:nvSpPr>
                  <p:spPr>
                    <a:xfrm>
                      <a:off x="3960360" y="4437000"/>
                      <a:ext cx="25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61">
                          <a:moveTo>
                            <a:pt x="10" y="61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9" y="27"/>
                          </a:lnTo>
                          <a:lnTo>
                            <a:pt x="10" y="61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3960360" y="4437000"/>
                      <a:ext cx="104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6" y="10"/>
                          </a:lnTo>
                          <a:lnTo>
                            <a:pt x="60" y="26"/>
                          </a:lnTo>
                          <a:lnTo>
                            <a:pt x="15" y="26"/>
                          </a:lnTo>
                          <a:lnTo>
                            <a:pt x="8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3961440" y="444204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3">
                          <a:moveTo>
                            <a:pt x="0" y="33"/>
                          </a:moveTo>
                          <a:lnTo>
                            <a:pt x="1" y="18"/>
                          </a:lnTo>
                          <a:lnTo>
                            <a:pt x="7" y="6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7" y="3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8" name=""/>
                  <p:cNvGrpSpPr/>
                  <p:nvPr/>
                </p:nvGrpSpPr>
                <p:grpSpPr>
                  <a:xfrm>
                    <a:off x="3962880" y="4443480"/>
                    <a:ext cx="13680" cy="11160"/>
                    <a:chOff x="3962880" y="4443480"/>
                    <a:chExt cx="13680" cy="11160"/>
                  </a:xfrm>
                </p:grpSpPr>
                <p:sp>
                  <p:nvSpPr>
                    <p:cNvPr id="1209" name=""/>
                    <p:cNvSpPr/>
                    <p:nvPr/>
                  </p:nvSpPr>
                  <p:spPr>
                    <a:xfrm>
                      <a:off x="3962880" y="444348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4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0" name=""/>
                    <p:cNvSpPr/>
                    <p:nvPr/>
                  </p:nvSpPr>
                  <p:spPr>
                    <a:xfrm>
                      <a:off x="3964320" y="444348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8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2"/>
                          </a:lnTo>
                          <a:lnTo>
                            <a:pt x="61" y="28"/>
                          </a:lnTo>
                          <a:lnTo>
                            <a:pt x="15" y="28"/>
                          </a:lnTo>
                          <a:lnTo>
                            <a:pt x="8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1" name=""/>
                    <p:cNvSpPr/>
                    <p:nvPr/>
                  </p:nvSpPr>
                  <p:spPr>
                    <a:xfrm>
                      <a:off x="3964320" y="4448160"/>
                      <a:ext cx="122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7"/>
                          </a:lnTo>
                          <a:lnTo>
                            <a:pt x="4" y="6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2" name=""/>
                  <p:cNvGrpSpPr/>
                  <p:nvPr/>
                </p:nvGrpSpPr>
                <p:grpSpPr>
                  <a:xfrm>
                    <a:off x="3966120" y="4449960"/>
                    <a:ext cx="13680" cy="11160"/>
                    <a:chOff x="3966120" y="4449960"/>
                    <a:chExt cx="13680" cy="11160"/>
                  </a:xfrm>
                </p:grpSpPr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3966120" y="444996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8">
                          <a:moveTo>
                            <a:pt x="12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19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4" name=""/>
                    <p:cNvSpPr/>
                    <p:nvPr/>
                  </p:nvSpPr>
                  <p:spPr>
                    <a:xfrm>
                      <a:off x="3967560" y="444996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58" y="25"/>
                          </a:lnTo>
                          <a:lnTo>
                            <a:pt x="13" y="25"/>
                          </a:lnTo>
                          <a:lnTo>
                            <a:pt x="7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5" name=""/>
                    <p:cNvSpPr/>
                    <p:nvPr/>
                  </p:nvSpPr>
                  <p:spPr>
                    <a:xfrm>
                      <a:off x="3967560" y="4454640"/>
                      <a:ext cx="122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5" y="6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7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6" name=""/>
                  <p:cNvGrpSpPr/>
                  <p:nvPr/>
                </p:nvGrpSpPr>
                <p:grpSpPr>
                  <a:xfrm>
                    <a:off x="3969360" y="4456080"/>
                    <a:ext cx="13680" cy="11160"/>
                    <a:chOff x="3969360" y="4456080"/>
                    <a:chExt cx="13680" cy="11160"/>
                  </a:xfrm>
                </p:grpSpPr>
                <p:sp>
                  <p:nvSpPr>
                    <p:cNvPr id="1217" name=""/>
                    <p:cNvSpPr/>
                    <p:nvPr/>
                  </p:nvSpPr>
                  <p:spPr>
                    <a:xfrm>
                      <a:off x="3969360" y="445608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8" name=""/>
                    <p:cNvSpPr/>
                    <p:nvPr/>
                  </p:nvSpPr>
                  <p:spPr>
                    <a:xfrm>
                      <a:off x="3970440" y="445608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59" y="25"/>
                          </a:lnTo>
                          <a:lnTo>
                            <a:pt x="15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9" name=""/>
                    <p:cNvSpPr/>
                    <p:nvPr/>
                  </p:nvSpPr>
                  <p:spPr>
                    <a:xfrm>
                      <a:off x="3972240" y="446112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4" y="7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0" name=""/>
                  <p:cNvGrpSpPr/>
                  <p:nvPr/>
                </p:nvGrpSpPr>
                <p:grpSpPr>
                  <a:xfrm>
                    <a:off x="3974040" y="4462560"/>
                    <a:ext cx="12240" cy="11160"/>
                    <a:chOff x="3974040" y="4462560"/>
                    <a:chExt cx="12240" cy="11160"/>
                  </a:xfrm>
                </p:grpSpPr>
                <p:sp>
                  <p:nvSpPr>
                    <p:cNvPr id="1221" name=""/>
                    <p:cNvSpPr/>
                    <p:nvPr/>
                  </p:nvSpPr>
                  <p:spPr>
                    <a:xfrm>
                      <a:off x="3974040" y="446256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8">
                          <a:moveTo>
                            <a:pt x="11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19" y="26"/>
                          </a:lnTo>
                          <a:lnTo>
                            <a:pt x="11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2" name=""/>
                    <p:cNvSpPr/>
                    <p:nvPr/>
                  </p:nvSpPr>
                  <p:spPr>
                    <a:xfrm>
                      <a:off x="3975480" y="446256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1" y="2"/>
                          </a:lnTo>
                          <a:lnTo>
                            <a:pt x="46" y="10"/>
                          </a:lnTo>
                          <a:lnTo>
                            <a:pt x="59" y="25"/>
                          </a:lnTo>
                          <a:lnTo>
                            <a:pt x="15" y="25"/>
                          </a:lnTo>
                          <a:lnTo>
                            <a:pt x="8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>
                      <a:off x="3975480" y="44672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2" y="17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24" name=""/>
                <p:cNvGrpSpPr/>
                <p:nvPr/>
              </p:nvGrpSpPr>
              <p:grpSpPr>
                <a:xfrm>
                  <a:off x="3977640" y="4470480"/>
                  <a:ext cx="27360" cy="36360"/>
                  <a:chOff x="3977640" y="4470480"/>
                  <a:chExt cx="27360" cy="36360"/>
                </a:xfrm>
              </p:grpSpPr>
              <p:grpSp>
                <p:nvGrpSpPr>
                  <p:cNvPr id="1225" name=""/>
                  <p:cNvGrpSpPr/>
                  <p:nvPr/>
                </p:nvGrpSpPr>
                <p:grpSpPr>
                  <a:xfrm>
                    <a:off x="3977640" y="4470480"/>
                    <a:ext cx="13680" cy="11160"/>
                    <a:chOff x="3977640" y="4470480"/>
                    <a:chExt cx="13680" cy="11160"/>
                  </a:xfrm>
                </p:grpSpPr>
                <p:sp>
                  <p:nvSpPr>
                    <p:cNvPr id="1226" name=""/>
                    <p:cNvSpPr/>
                    <p:nvPr/>
                  </p:nvSpPr>
                  <p:spPr>
                    <a:xfrm>
                      <a:off x="3977640" y="447048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3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3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7" name=""/>
                    <p:cNvSpPr/>
                    <p:nvPr/>
                  </p:nvSpPr>
                  <p:spPr>
                    <a:xfrm>
                      <a:off x="3979080" y="447048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7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4"/>
                          </a:lnTo>
                          <a:lnTo>
                            <a:pt x="46" y="11"/>
                          </a:lnTo>
                          <a:lnTo>
                            <a:pt x="61" y="27"/>
                          </a:lnTo>
                          <a:lnTo>
                            <a:pt x="15" y="27"/>
                          </a:lnTo>
                          <a:lnTo>
                            <a:pt x="9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8" name=""/>
                    <p:cNvSpPr/>
                    <p:nvPr/>
                  </p:nvSpPr>
                  <p:spPr>
                    <a:xfrm>
                      <a:off x="3979080" y="4475160"/>
                      <a:ext cx="122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4" y="5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9" name=""/>
                  <p:cNvGrpSpPr/>
                  <p:nvPr/>
                </p:nvGrpSpPr>
                <p:grpSpPr>
                  <a:xfrm>
                    <a:off x="3980520" y="4475160"/>
                    <a:ext cx="13680" cy="12960"/>
                    <a:chOff x="3980520" y="4475160"/>
                    <a:chExt cx="13680" cy="12960"/>
                  </a:xfrm>
                </p:grpSpPr>
                <p:sp>
                  <p:nvSpPr>
                    <p:cNvPr id="1230" name=""/>
                    <p:cNvSpPr/>
                    <p:nvPr/>
                  </p:nvSpPr>
                  <p:spPr>
                    <a:xfrm>
                      <a:off x="3980520" y="4475160"/>
                      <a:ext cx="288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9">
                          <a:moveTo>
                            <a:pt x="11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9" y="26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1" name=""/>
                    <p:cNvSpPr/>
                    <p:nvPr/>
                  </p:nvSpPr>
                  <p:spPr>
                    <a:xfrm>
                      <a:off x="3981600" y="447696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5" y="11"/>
                          </a:lnTo>
                          <a:lnTo>
                            <a:pt x="60" y="26"/>
                          </a:lnTo>
                          <a:lnTo>
                            <a:pt x="15" y="26"/>
                          </a:lnTo>
                          <a:lnTo>
                            <a:pt x="9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2" name=""/>
                    <p:cNvSpPr/>
                    <p:nvPr/>
                  </p:nvSpPr>
                  <p:spPr>
                    <a:xfrm>
                      <a:off x="3981600" y="448164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2">
                          <a:moveTo>
                            <a:pt x="0" y="32"/>
                          </a:moveTo>
                          <a:lnTo>
                            <a:pt x="2" y="18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3" name=""/>
                  <p:cNvGrpSpPr/>
                  <p:nvPr/>
                </p:nvGrpSpPr>
                <p:grpSpPr>
                  <a:xfrm>
                    <a:off x="3983760" y="4481640"/>
                    <a:ext cx="13320" cy="12600"/>
                    <a:chOff x="3983760" y="4481640"/>
                    <a:chExt cx="13320" cy="12600"/>
                  </a:xfrm>
                </p:grpSpPr>
                <p:sp>
                  <p:nvSpPr>
                    <p:cNvPr id="1234" name=""/>
                    <p:cNvSpPr/>
                    <p:nvPr/>
                  </p:nvSpPr>
                  <p:spPr>
                    <a:xfrm>
                      <a:off x="3983760" y="4481640"/>
                      <a:ext cx="28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4"/>
                          </a:lnTo>
                          <a:lnTo>
                            <a:pt x="8" y="0"/>
                          </a:lnTo>
                          <a:lnTo>
                            <a:pt x="20" y="27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>
                      <a:off x="3984840" y="448308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60" y="26"/>
                          </a:lnTo>
                          <a:lnTo>
                            <a:pt x="15" y="26"/>
                          </a:lnTo>
                          <a:lnTo>
                            <a:pt x="7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6" name=""/>
                    <p:cNvSpPr/>
                    <p:nvPr/>
                  </p:nvSpPr>
                  <p:spPr>
                    <a:xfrm>
                      <a:off x="3986640" y="4488120"/>
                      <a:ext cx="104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5" y="7"/>
                          </a:lnTo>
                          <a:lnTo>
                            <a:pt x="10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7" name=""/>
                  <p:cNvGrpSpPr/>
                  <p:nvPr/>
                </p:nvGrpSpPr>
                <p:grpSpPr>
                  <a:xfrm>
                    <a:off x="3988440" y="4489560"/>
                    <a:ext cx="11880" cy="11160"/>
                    <a:chOff x="3988440" y="4489560"/>
                    <a:chExt cx="11880" cy="11160"/>
                  </a:xfrm>
                </p:grpSpPr>
                <p:sp>
                  <p:nvSpPr>
                    <p:cNvPr id="1238" name=""/>
                    <p:cNvSpPr/>
                    <p:nvPr/>
                  </p:nvSpPr>
                  <p:spPr>
                    <a:xfrm>
                      <a:off x="3988440" y="448956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0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9" name=""/>
                    <p:cNvSpPr/>
                    <p:nvPr/>
                  </p:nvSpPr>
                  <p:spPr>
                    <a:xfrm>
                      <a:off x="3988440" y="44895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0" name=""/>
                    <p:cNvSpPr/>
                    <p:nvPr/>
                  </p:nvSpPr>
                  <p:spPr>
                    <a:xfrm>
                      <a:off x="3989520" y="44942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6" y="7"/>
                          </a:lnTo>
                          <a:lnTo>
                            <a:pt x="11" y="0"/>
                          </a:lnTo>
                          <a:lnTo>
                            <a:pt x="56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41" name=""/>
                  <p:cNvGrpSpPr/>
                  <p:nvPr/>
                </p:nvGrpSpPr>
                <p:grpSpPr>
                  <a:xfrm>
                    <a:off x="3991680" y="4496040"/>
                    <a:ext cx="13320" cy="10800"/>
                    <a:chOff x="3991680" y="4496040"/>
                    <a:chExt cx="13320" cy="10800"/>
                  </a:xfrm>
                </p:grpSpPr>
                <p:sp>
                  <p:nvSpPr>
                    <p:cNvPr id="1242" name=""/>
                    <p:cNvSpPr/>
                    <p:nvPr/>
                  </p:nvSpPr>
                  <p:spPr>
                    <a:xfrm>
                      <a:off x="3991680" y="4496040"/>
                      <a:ext cx="288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8">
                          <a:moveTo>
                            <a:pt x="11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9" y="26"/>
                          </a:lnTo>
                          <a:lnTo>
                            <a:pt x="11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3" name=""/>
                    <p:cNvSpPr/>
                    <p:nvPr/>
                  </p:nvSpPr>
                  <p:spPr>
                    <a:xfrm>
                      <a:off x="3992760" y="449604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3" y="2"/>
                          </a:lnTo>
                          <a:lnTo>
                            <a:pt x="46" y="10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8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4" name=""/>
                    <p:cNvSpPr/>
                    <p:nvPr/>
                  </p:nvSpPr>
                  <p:spPr>
                    <a:xfrm>
                      <a:off x="3992760" y="4500720"/>
                      <a:ext cx="122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4" y="7"/>
                          </a:lnTo>
                          <a:lnTo>
                            <a:pt x="8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45" name=""/>
                <p:cNvGrpSpPr/>
                <p:nvPr/>
              </p:nvGrpSpPr>
              <p:grpSpPr>
                <a:xfrm>
                  <a:off x="3995280" y="4500720"/>
                  <a:ext cx="13320" cy="12600"/>
                  <a:chOff x="3995280" y="4500720"/>
                  <a:chExt cx="13320" cy="12600"/>
                </a:xfrm>
              </p:grpSpPr>
              <p:sp>
                <p:nvSpPr>
                  <p:cNvPr id="1246" name=""/>
                  <p:cNvSpPr/>
                  <p:nvPr/>
                </p:nvSpPr>
                <p:spPr>
                  <a:xfrm>
                    <a:off x="3995280" y="4500720"/>
                    <a:ext cx="25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2" y="59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8"/>
                        </a:lnTo>
                        <a:lnTo>
                          <a:pt x="12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3996360" y="450216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7">
                        <a:moveTo>
                          <a:pt x="2" y="0"/>
                        </a:moveTo>
                        <a:lnTo>
                          <a:pt x="40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7"/>
                        </a:lnTo>
                        <a:lnTo>
                          <a:pt x="15" y="27"/>
                        </a:lnTo>
                        <a:lnTo>
                          <a:pt x="8" y="19"/>
                        </a:lnTo>
                        <a:lnTo>
                          <a:pt x="0" y="6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3996360" y="4506840"/>
                    <a:ext cx="12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5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9" name=""/>
                <p:cNvGrpSpPr/>
                <p:nvPr/>
              </p:nvGrpSpPr>
              <p:grpSpPr>
                <a:xfrm>
                  <a:off x="3998160" y="4506840"/>
                  <a:ext cx="13680" cy="12960"/>
                  <a:chOff x="3998160" y="4506840"/>
                  <a:chExt cx="13680" cy="12960"/>
                </a:xfrm>
              </p:grpSpPr>
              <p:sp>
                <p:nvSpPr>
                  <p:cNvPr id="1250" name=""/>
                  <p:cNvSpPr/>
                  <p:nvPr/>
                </p:nvSpPr>
                <p:spPr>
                  <a:xfrm>
                    <a:off x="3998160" y="4506840"/>
                    <a:ext cx="2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3999600" y="450864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6">
                        <a:moveTo>
                          <a:pt x="3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7" y="11"/>
                        </a:lnTo>
                        <a:lnTo>
                          <a:pt x="61" y="26"/>
                        </a:lnTo>
                        <a:lnTo>
                          <a:pt x="15" y="26"/>
                        </a:lnTo>
                        <a:lnTo>
                          <a:pt x="9" y="19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001040" y="451332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8"/>
                        </a:lnTo>
                        <a:lnTo>
                          <a:pt x="4" y="7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3" name=""/>
                <p:cNvGrpSpPr/>
                <p:nvPr/>
              </p:nvGrpSpPr>
              <p:grpSpPr>
                <a:xfrm>
                  <a:off x="4001400" y="4515120"/>
                  <a:ext cx="13680" cy="10800"/>
                  <a:chOff x="4001400" y="4515120"/>
                  <a:chExt cx="13680" cy="10800"/>
                </a:xfrm>
              </p:grpSpPr>
              <p:sp>
                <p:nvSpPr>
                  <p:cNvPr id="1254" name=""/>
                  <p:cNvSpPr/>
                  <p:nvPr/>
                </p:nvSpPr>
                <p:spPr>
                  <a:xfrm>
                    <a:off x="4001400" y="4515120"/>
                    <a:ext cx="28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7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002840" y="4515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2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9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004280" y="4519800"/>
                    <a:ext cx="10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7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7" name=""/>
                <p:cNvSpPr/>
                <p:nvPr/>
              </p:nvSpPr>
              <p:spPr>
                <a:xfrm>
                  <a:off x="3930120" y="4403880"/>
                  <a:ext cx="2880" cy="11160"/>
                </a:xfrm>
                <a:custGeom>
                  <a:avLst/>
                  <a:gdLst/>
                  <a:ahLst/>
                  <a:rect l="l" t="t" r="r" b="b"/>
                  <a:pathLst>
                    <a:path w="20" h="58">
                      <a:moveTo>
                        <a:pt x="11" y="58"/>
                      </a:moveTo>
                      <a:lnTo>
                        <a:pt x="0" y="23"/>
                      </a:lnTo>
                      <a:lnTo>
                        <a:pt x="8" y="0"/>
                      </a:lnTo>
                      <a:lnTo>
                        <a:pt x="20" y="26"/>
                      </a:lnTo>
                      <a:lnTo>
                        <a:pt x="11" y="58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3931560" y="440388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58" h="26">
                      <a:moveTo>
                        <a:pt x="1" y="0"/>
                      </a:moveTo>
                      <a:lnTo>
                        <a:pt x="40" y="0"/>
                      </a:lnTo>
                      <a:lnTo>
                        <a:pt x="41" y="3"/>
                      </a:lnTo>
                      <a:lnTo>
                        <a:pt x="46" y="11"/>
                      </a:lnTo>
                      <a:lnTo>
                        <a:pt x="58" y="26"/>
                      </a:lnTo>
                      <a:lnTo>
                        <a:pt x="15" y="26"/>
                      </a:lnTo>
                      <a:lnTo>
                        <a:pt x="7" y="19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3931560" y="440856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7" h="31">
                      <a:moveTo>
                        <a:pt x="0" y="31"/>
                      </a:moveTo>
                      <a:lnTo>
                        <a:pt x="2" y="18"/>
                      </a:lnTo>
                      <a:lnTo>
                        <a:pt x="5" y="7"/>
                      </a:lnTo>
                      <a:lnTo>
                        <a:pt x="10" y="0"/>
                      </a:lnTo>
                      <a:lnTo>
                        <a:pt x="54" y="0"/>
                      </a:lnTo>
                      <a:lnTo>
                        <a:pt x="67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0" name=""/>
                <p:cNvGrpSpPr/>
                <p:nvPr/>
              </p:nvGrpSpPr>
              <p:grpSpPr>
                <a:xfrm>
                  <a:off x="3933360" y="4410360"/>
                  <a:ext cx="13320" cy="10800"/>
                  <a:chOff x="3933360" y="4410360"/>
                  <a:chExt cx="13320" cy="10800"/>
                </a:xfrm>
              </p:grpSpPr>
              <p:sp>
                <p:nvSpPr>
                  <p:cNvPr id="1261" name=""/>
                  <p:cNvSpPr/>
                  <p:nvPr/>
                </p:nvSpPr>
                <p:spPr>
                  <a:xfrm>
                    <a:off x="3933360" y="4410360"/>
                    <a:ext cx="252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1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3934440" y="441036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39" y="0"/>
                        </a:lnTo>
                        <a:lnTo>
                          <a:pt x="40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7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3934440" y="441504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6" y="7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4" name=""/>
                <p:cNvGrpSpPr/>
                <p:nvPr/>
              </p:nvGrpSpPr>
              <p:grpSpPr>
                <a:xfrm>
                  <a:off x="3936240" y="4416480"/>
                  <a:ext cx="13680" cy="11160"/>
                  <a:chOff x="3936240" y="4416480"/>
                  <a:chExt cx="13680" cy="11160"/>
                </a:xfrm>
              </p:grpSpPr>
              <p:sp>
                <p:nvSpPr>
                  <p:cNvPr id="1265" name=""/>
                  <p:cNvSpPr/>
                  <p:nvPr/>
                </p:nvSpPr>
                <p:spPr>
                  <a:xfrm>
                    <a:off x="3936240" y="441648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3937680" y="441648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0"/>
                        </a:lnTo>
                        <a:lnTo>
                          <a:pt x="59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3939120" y="442116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8" name=""/>
                <p:cNvGrpSpPr/>
                <p:nvPr/>
              </p:nvGrpSpPr>
              <p:grpSpPr>
                <a:xfrm>
                  <a:off x="3941280" y="4422960"/>
                  <a:ext cx="13320" cy="11160"/>
                  <a:chOff x="3941280" y="4422960"/>
                  <a:chExt cx="13320" cy="11160"/>
                </a:xfrm>
              </p:grpSpPr>
              <p:sp>
                <p:nvSpPr>
                  <p:cNvPr id="1269" name=""/>
                  <p:cNvSpPr/>
                  <p:nvPr/>
                </p:nvSpPr>
                <p:spPr>
                  <a:xfrm>
                    <a:off x="3941280" y="442296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7" y="0"/>
                        </a:lnTo>
                        <a:lnTo>
                          <a:pt x="20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3941280" y="442296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5">
                        <a:moveTo>
                          <a:pt x="2" y="0"/>
                        </a:moveTo>
                        <a:lnTo>
                          <a:pt x="41" y="0"/>
                        </a:lnTo>
                        <a:lnTo>
                          <a:pt x="43" y="2"/>
                        </a:lnTo>
                        <a:lnTo>
                          <a:pt x="46" y="10"/>
                        </a:lnTo>
                        <a:lnTo>
                          <a:pt x="61" y="25"/>
                        </a:lnTo>
                        <a:lnTo>
                          <a:pt x="15" y="25"/>
                        </a:lnTo>
                        <a:lnTo>
                          <a:pt x="9" y="18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>
                    <a:off x="3942360" y="4427640"/>
                    <a:ext cx="12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2" name=""/>
                <p:cNvGrpSpPr/>
                <p:nvPr/>
              </p:nvGrpSpPr>
              <p:grpSpPr>
                <a:xfrm>
                  <a:off x="3944520" y="4429080"/>
                  <a:ext cx="13320" cy="11160"/>
                  <a:chOff x="3944520" y="4429080"/>
                  <a:chExt cx="13320" cy="11160"/>
                </a:xfrm>
              </p:grpSpPr>
              <p:sp>
                <p:nvSpPr>
                  <p:cNvPr id="1273" name=""/>
                  <p:cNvSpPr/>
                  <p:nvPr/>
                </p:nvSpPr>
                <p:spPr>
                  <a:xfrm>
                    <a:off x="3944520" y="4429080"/>
                    <a:ext cx="25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21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3945600" y="4429080"/>
                    <a:ext cx="90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3945600" y="443412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4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5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6" name=""/>
                <p:cNvGrpSpPr/>
                <p:nvPr/>
              </p:nvGrpSpPr>
              <p:grpSpPr>
                <a:xfrm>
                  <a:off x="3947400" y="4437000"/>
                  <a:ext cx="27720" cy="36720"/>
                  <a:chOff x="3947400" y="4437000"/>
                  <a:chExt cx="27720" cy="36720"/>
                </a:xfrm>
              </p:grpSpPr>
              <p:grpSp>
                <p:nvGrpSpPr>
                  <p:cNvPr id="1277" name=""/>
                  <p:cNvGrpSpPr/>
                  <p:nvPr/>
                </p:nvGrpSpPr>
                <p:grpSpPr>
                  <a:xfrm>
                    <a:off x="3947400" y="4437000"/>
                    <a:ext cx="13680" cy="11160"/>
                    <a:chOff x="3947400" y="4437000"/>
                    <a:chExt cx="13680" cy="11160"/>
                  </a:xfrm>
                </p:grpSpPr>
                <p:sp>
                  <p:nvSpPr>
                    <p:cNvPr id="1278" name=""/>
                    <p:cNvSpPr/>
                    <p:nvPr/>
                  </p:nvSpPr>
                  <p:spPr>
                    <a:xfrm>
                      <a:off x="3947400" y="443700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61">
                          <a:moveTo>
                            <a:pt x="12" y="61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1" y="27"/>
                          </a:lnTo>
                          <a:lnTo>
                            <a:pt x="12" y="61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9" name=""/>
                    <p:cNvSpPr/>
                    <p:nvPr/>
                  </p:nvSpPr>
                  <p:spPr>
                    <a:xfrm>
                      <a:off x="3948840" y="443700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3" y="3"/>
                          </a:lnTo>
                          <a:lnTo>
                            <a:pt x="46" y="10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7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0" name=""/>
                    <p:cNvSpPr/>
                    <p:nvPr/>
                  </p:nvSpPr>
                  <p:spPr>
                    <a:xfrm>
                      <a:off x="3948840" y="4442040"/>
                      <a:ext cx="122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3">
                          <a:moveTo>
                            <a:pt x="0" y="33"/>
                          </a:moveTo>
                          <a:lnTo>
                            <a:pt x="1" y="18"/>
                          </a:lnTo>
                          <a:lnTo>
                            <a:pt x="7" y="6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6" y="3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1" name=""/>
                  <p:cNvGrpSpPr/>
                  <p:nvPr/>
                </p:nvGrpSpPr>
                <p:grpSpPr>
                  <a:xfrm>
                    <a:off x="3950280" y="4443480"/>
                    <a:ext cx="13680" cy="11160"/>
                    <a:chOff x="3950280" y="4443480"/>
                    <a:chExt cx="13680" cy="11160"/>
                  </a:xfrm>
                </p:grpSpPr>
                <p:sp>
                  <p:nvSpPr>
                    <p:cNvPr id="1282" name=""/>
                    <p:cNvSpPr/>
                    <p:nvPr/>
                  </p:nvSpPr>
                  <p:spPr>
                    <a:xfrm>
                      <a:off x="3950280" y="4443480"/>
                      <a:ext cx="43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0" y="59"/>
                          </a:moveTo>
                          <a:lnTo>
                            <a:pt x="0" y="24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0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3" name=""/>
                    <p:cNvSpPr/>
                    <p:nvPr/>
                  </p:nvSpPr>
                  <p:spPr>
                    <a:xfrm>
                      <a:off x="3951720" y="4443480"/>
                      <a:ext cx="104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8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2"/>
                          </a:lnTo>
                          <a:lnTo>
                            <a:pt x="60" y="28"/>
                          </a:lnTo>
                          <a:lnTo>
                            <a:pt x="15" y="28"/>
                          </a:lnTo>
                          <a:lnTo>
                            <a:pt x="8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4" name=""/>
                    <p:cNvSpPr/>
                    <p:nvPr/>
                  </p:nvSpPr>
                  <p:spPr>
                    <a:xfrm>
                      <a:off x="3953160" y="444816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30">
                          <a:moveTo>
                            <a:pt x="0" y="30"/>
                          </a:moveTo>
                          <a:lnTo>
                            <a:pt x="1" y="17"/>
                          </a:lnTo>
                          <a:lnTo>
                            <a:pt x="6" y="6"/>
                          </a:lnTo>
                          <a:lnTo>
                            <a:pt x="11" y="0"/>
                          </a:lnTo>
                          <a:lnTo>
                            <a:pt x="56" y="0"/>
                          </a:lnTo>
                          <a:lnTo>
                            <a:pt x="68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5" name=""/>
                  <p:cNvGrpSpPr/>
                  <p:nvPr/>
                </p:nvGrpSpPr>
                <p:grpSpPr>
                  <a:xfrm>
                    <a:off x="3953520" y="4449960"/>
                    <a:ext cx="13680" cy="11160"/>
                    <a:chOff x="3953520" y="4449960"/>
                    <a:chExt cx="13680" cy="11160"/>
                  </a:xfrm>
                </p:grpSpPr>
                <p:sp>
                  <p:nvSpPr>
                    <p:cNvPr id="1286" name=""/>
                    <p:cNvSpPr/>
                    <p:nvPr/>
                  </p:nvSpPr>
                  <p:spPr>
                    <a:xfrm>
                      <a:off x="3953520" y="4449960"/>
                      <a:ext cx="43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7" name=""/>
                    <p:cNvSpPr/>
                    <p:nvPr/>
                  </p:nvSpPr>
                  <p:spPr>
                    <a:xfrm>
                      <a:off x="3954600" y="44499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3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8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8" name=""/>
                    <p:cNvSpPr/>
                    <p:nvPr/>
                  </p:nvSpPr>
                  <p:spPr>
                    <a:xfrm>
                      <a:off x="3956400" y="44546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5" y="6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9" name=""/>
                  <p:cNvGrpSpPr/>
                  <p:nvPr/>
                </p:nvGrpSpPr>
                <p:grpSpPr>
                  <a:xfrm>
                    <a:off x="3958200" y="4456080"/>
                    <a:ext cx="13680" cy="11160"/>
                    <a:chOff x="3958200" y="4456080"/>
                    <a:chExt cx="13680" cy="11160"/>
                  </a:xfrm>
                </p:grpSpPr>
                <p:sp>
                  <p:nvSpPr>
                    <p:cNvPr id="1290" name=""/>
                    <p:cNvSpPr/>
                    <p:nvPr/>
                  </p:nvSpPr>
                  <p:spPr>
                    <a:xfrm>
                      <a:off x="3958200" y="445608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1" name=""/>
                    <p:cNvSpPr/>
                    <p:nvPr/>
                  </p:nvSpPr>
                  <p:spPr>
                    <a:xfrm>
                      <a:off x="3959640" y="4456080"/>
                      <a:ext cx="90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58" y="25"/>
                          </a:lnTo>
                          <a:lnTo>
                            <a:pt x="15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2" name=""/>
                    <p:cNvSpPr/>
                    <p:nvPr/>
                  </p:nvSpPr>
                  <p:spPr>
                    <a:xfrm>
                      <a:off x="3959640" y="4461120"/>
                      <a:ext cx="122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4" y="7"/>
                          </a:lnTo>
                          <a:lnTo>
                            <a:pt x="9" y="0"/>
                          </a:lnTo>
                          <a:lnTo>
                            <a:pt x="53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3" name=""/>
                  <p:cNvGrpSpPr/>
                  <p:nvPr/>
                </p:nvGrpSpPr>
                <p:grpSpPr>
                  <a:xfrm>
                    <a:off x="3961440" y="4462560"/>
                    <a:ext cx="13680" cy="11160"/>
                    <a:chOff x="3961440" y="4462560"/>
                    <a:chExt cx="13680" cy="11160"/>
                  </a:xfrm>
                </p:grpSpPr>
                <p:sp>
                  <p:nvSpPr>
                    <p:cNvPr id="1294" name=""/>
                    <p:cNvSpPr/>
                    <p:nvPr/>
                  </p:nvSpPr>
                  <p:spPr>
                    <a:xfrm>
                      <a:off x="3961440" y="446256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10" y="0"/>
                          </a:lnTo>
                          <a:lnTo>
                            <a:pt x="21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5" name=""/>
                    <p:cNvSpPr/>
                    <p:nvPr/>
                  </p:nvSpPr>
                  <p:spPr>
                    <a:xfrm>
                      <a:off x="3962520" y="44625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2" y="0"/>
                          </a:moveTo>
                          <a:lnTo>
                            <a:pt x="39" y="0"/>
                          </a:lnTo>
                          <a:lnTo>
                            <a:pt x="41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6" name=""/>
                    <p:cNvSpPr/>
                    <p:nvPr/>
                  </p:nvSpPr>
                  <p:spPr>
                    <a:xfrm>
                      <a:off x="3964320" y="44672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97" name=""/>
                <p:cNvGrpSpPr/>
                <p:nvPr/>
              </p:nvGrpSpPr>
              <p:grpSpPr>
                <a:xfrm>
                  <a:off x="3965040" y="4470480"/>
                  <a:ext cx="27360" cy="36360"/>
                  <a:chOff x="3965040" y="4470480"/>
                  <a:chExt cx="27360" cy="36360"/>
                </a:xfrm>
              </p:grpSpPr>
              <p:grpSp>
                <p:nvGrpSpPr>
                  <p:cNvPr id="1298" name=""/>
                  <p:cNvGrpSpPr/>
                  <p:nvPr/>
                </p:nvGrpSpPr>
                <p:grpSpPr>
                  <a:xfrm>
                    <a:off x="3965040" y="4470480"/>
                    <a:ext cx="13680" cy="11160"/>
                    <a:chOff x="3965040" y="4470480"/>
                    <a:chExt cx="13680" cy="11160"/>
                  </a:xfrm>
                </p:grpSpPr>
                <p:sp>
                  <p:nvSpPr>
                    <p:cNvPr id="1299" name=""/>
                    <p:cNvSpPr/>
                    <p:nvPr/>
                  </p:nvSpPr>
                  <p:spPr>
                    <a:xfrm>
                      <a:off x="3965040" y="4470480"/>
                      <a:ext cx="43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0" name=""/>
                    <p:cNvSpPr/>
                    <p:nvPr/>
                  </p:nvSpPr>
                  <p:spPr>
                    <a:xfrm>
                      <a:off x="3966120" y="447048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7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4"/>
                          </a:lnTo>
                          <a:lnTo>
                            <a:pt x="46" y="11"/>
                          </a:lnTo>
                          <a:lnTo>
                            <a:pt x="60" y="27"/>
                          </a:lnTo>
                          <a:lnTo>
                            <a:pt x="15" y="27"/>
                          </a:lnTo>
                          <a:lnTo>
                            <a:pt x="9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1" name=""/>
                    <p:cNvSpPr/>
                    <p:nvPr/>
                  </p:nvSpPr>
                  <p:spPr>
                    <a:xfrm>
                      <a:off x="3967920" y="447516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0">
                          <a:moveTo>
                            <a:pt x="0" y="30"/>
                          </a:moveTo>
                          <a:lnTo>
                            <a:pt x="2" y="16"/>
                          </a:lnTo>
                          <a:lnTo>
                            <a:pt x="5" y="5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7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02" name=""/>
                  <p:cNvGrpSpPr/>
                  <p:nvPr/>
                </p:nvGrpSpPr>
                <p:grpSpPr>
                  <a:xfrm>
                    <a:off x="3967920" y="4475160"/>
                    <a:ext cx="13320" cy="12960"/>
                    <a:chOff x="3967920" y="4475160"/>
                    <a:chExt cx="13320" cy="12960"/>
                  </a:xfrm>
                </p:grpSpPr>
                <p:sp>
                  <p:nvSpPr>
                    <p:cNvPr id="1303" name=""/>
                    <p:cNvSpPr/>
                    <p:nvPr/>
                  </p:nvSpPr>
                  <p:spPr>
                    <a:xfrm>
                      <a:off x="3967920" y="4475160"/>
                      <a:ext cx="432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4" name=""/>
                    <p:cNvSpPr/>
                    <p:nvPr/>
                  </p:nvSpPr>
                  <p:spPr>
                    <a:xfrm>
                      <a:off x="3969000" y="44769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6" y="11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9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5" name=""/>
                    <p:cNvSpPr/>
                    <p:nvPr/>
                  </p:nvSpPr>
                  <p:spPr>
                    <a:xfrm>
                      <a:off x="3970440" y="44816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2">
                          <a:moveTo>
                            <a:pt x="0" y="32"/>
                          </a:moveTo>
                          <a:lnTo>
                            <a:pt x="2" y="18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6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06" name=""/>
                  <p:cNvGrpSpPr/>
                  <p:nvPr/>
                </p:nvGrpSpPr>
                <p:grpSpPr>
                  <a:xfrm>
                    <a:off x="3972600" y="4481640"/>
                    <a:ext cx="13680" cy="12600"/>
                    <a:chOff x="3972600" y="4481640"/>
                    <a:chExt cx="13680" cy="12600"/>
                  </a:xfrm>
                </p:grpSpPr>
                <p:sp>
                  <p:nvSpPr>
                    <p:cNvPr id="1307" name=""/>
                    <p:cNvSpPr/>
                    <p:nvPr/>
                  </p:nvSpPr>
                  <p:spPr>
                    <a:xfrm>
                      <a:off x="3972600" y="4481640"/>
                      <a:ext cx="28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1" y="59"/>
                          </a:moveTo>
                          <a:lnTo>
                            <a:pt x="0" y="24"/>
                          </a:lnTo>
                          <a:lnTo>
                            <a:pt x="8" y="0"/>
                          </a:lnTo>
                          <a:lnTo>
                            <a:pt x="20" y="27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8" name=""/>
                    <p:cNvSpPr/>
                    <p:nvPr/>
                  </p:nvSpPr>
                  <p:spPr>
                    <a:xfrm>
                      <a:off x="3973680" y="4483080"/>
                      <a:ext cx="93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60" y="26"/>
                          </a:lnTo>
                          <a:lnTo>
                            <a:pt x="14" y="26"/>
                          </a:lnTo>
                          <a:lnTo>
                            <a:pt x="7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9" name=""/>
                    <p:cNvSpPr/>
                    <p:nvPr/>
                  </p:nvSpPr>
                  <p:spPr>
                    <a:xfrm>
                      <a:off x="3973680" y="4488120"/>
                      <a:ext cx="126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2" y="17"/>
                          </a:lnTo>
                          <a:lnTo>
                            <a:pt x="6" y="7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0" name=""/>
                  <p:cNvGrpSpPr/>
                  <p:nvPr/>
                </p:nvGrpSpPr>
                <p:grpSpPr>
                  <a:xfrm>
                    <a:off x="3975840" y="4489560"/>
                    <a:ext cx="13320" cy="11160"/>
                    <a:chOff x="3975840" y="4489560"/>
                    <a:chExt cx="13320" cy="11160"/>
                  </a:xfrm>
                </p:grpSpPr>
                <p:sp>
                  <p:nvSpPr>
                    <p:cNvPr id="1311" name=""/>
                    <p:cNvSpPr/>
                    <p:nvPr/>
                  </p:nvSpPr>
                  <p:spPr>
                    <a:xfrm>
                      <a:off x="3975840" y="448956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8">
                          <a:moveTo>
                            <a:pt x="12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1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2" name=""/>
                    <p:cNvSpPr/>
                    <p:nvPr/>
                  </p:nvSpPr>
                  <p:spPr>
                    <a:xfrm>
                      <a:off x="3976920" y="44895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3" name=""/>
                    <p:cNvSpPr/>
                    <p:nvPr/>
                  </p:nvSpPr>
                  <p:spPr>
                    <a:xfrm>
                      <a:off x="3976920" y="4494240"/>
                      <a:ext cx="122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5" y="7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4" name=""/>
                  <p:cNvGrpSpPr/>
                  <p:nvPr/>
                </p:nvGrpSpPr>
                <p:grpSpPr>
                  <a:xfrm>
                    <a:off x="3979080" y="4496040"/>
                    <a:ext cx="13320" cy="10800"/>
                    <a:chOff x="3979080" y="4496040"/>
                    <a:chExt cx="13320" cy="10800"/>
                  </a:xfrm>
                </p:grpSpPr>
                <p:sp>
                  <p:nvSpPr>
                    <p:cNvPr id="1315" name=""/>
                    <p:cNvSpPr/>
                    <p:nvPr/>
                  </p:nvSpPr>
                  <p:spPr>
                    <a:xfrm>
                      <a:off x="3979080" y="4496040"/>
                      <a:ext cx="432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8">
                          <a:moveTo>
                            <a:pt x="11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9" y="26"/>
                          </a:lnTo>
                          <a:lnTo>
                            <a:pt x="11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6" name=""/>
                    <p:cNvSpPr/>
                    <p:nvPr/>
                  </p:nvSpPr>
                  <p:spPr>
                    <a:xfrm>
                      <a:off x="3980160" y="449604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8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7" name=""/>
                    <p:cNvSpPr/>
                    <p:nvPr/>
                  </p:nvSpPr>
                  <p:spPr>
                    <a:xfrm>
                      <a:off x="3981600" y="450072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5" y="7"/>
                          </a:lnTo>
                          <a:lnTo>
                            <a:pt x="9" y="0"/>
                          </a:lnTo>
                          <a:lnTo>
                            <a:pt x="56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18" name=""/>
                <p:cNvGrpSpPr/>
                <p:nvPr/>
              </p:nvGrpSpPr>
              <p:grpSpPr>
                <a:xfrm>
                  <a:off x="3982320" y="4500720"/>
                  <a:ext cx="13680" cy="12600"/>
                  <a:chOff x="3982320" y="4500720"/>
                  <a:chExt cx="13680" cy="12600"/>
                </a:xfrm>
              </p:grpSpPr>
              <p:sp>
                <p:nvSpPr>
                  <p:cNvPr id="1319" name=""/>
                  <p:cNvSpPr/>
                  <p:nvPr/>
                </p:nvSpPr>
                <p:spPr>
                  <a:xfrm>
                    <a:off x="3982320" y="4500720"/>
                    <a:ext cx="2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2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8"/>
                        </a:lnTo>
                        <a:lnTo>
                          <a:pt x="12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3983760" y="450216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7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1"/>
                        </a:lnTo>
                        <a:lnTo>
                          <a:pt x="60" y="27"/>
                        </a:lnTo>
                        <a:lnTo>
                          <a:pt x="15" y="27"/>
                        </a:lnTo>
                        <a:lnTo>
                          <a:pt x="8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3985200" y="450684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5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2" name=""/>
                <p:cNvGrpSpPr/>
                <p:nvPr/>
              </p:nvGrpSpPr>
              <p:grpSpPr>
                <a:xfrm>
                  <a:off x="3987360" y="4506840"/>
                  <a:ext cx="11880" cy="12960"/>
                  <a:chOff x="3987360" y="4506840"/>
                  <a:chExt cx="11880" cy="12960"/>
                </a:xfrm>
              </p:grpSpPr>
              <p:sp>
                <p:nvSpPr>
                  <p:cNvPr id="1323" name=""/>
                  <p:cNvSpPr/>
                  <p:nvPr/>
                </p:nvSpPr>
                <p:spPr>
                  <a:xfrm>
                    <a:off x="3987360" y="4506840"/>
                    <a:ext cx="25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9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3987360" y="4508640"/>
                    <a:ext cx="10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6">
                        <a:moveTo>
                          <a:pt x="4" y="0"/>
                        </a:moveTo>
                        <a:lnTo>
                          <a:pt x="42" y="0"/>
                        </a:lnTo>
                        <a:lnTo>
                          <a:pt x="43" y="3"/>
                        </a:lnTo>
                        <a:lnTo>
                          <a:pt x="48" y="11"/>
                        </a:lnTo>
                        <a:lnTo>
                          <a:pt x="61" y="26"/>
                        </a:lnTo>
                        <a:lnTo>
                          <a:pt x="15" y="26"/>
                        </a:lnTo>
                        <a:lnTo>
                          <a:pt x="10" y="19"/>
                        </a:lnTo>
                        <a:lnTo>
                          <a:pt x="0" y="5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3988440" y="451332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1">
                        <a:moveTo>
                          <a:pt x="0" y="31"/>
                        </a:moveTo>
                        <a:lnTo>
                          <a:pt x="1" y="18"/>
                        </a:lnTo>
                        <a:lnTo>
                          <a:pt x="5" y="7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6" name=""/>
                <p:cNvGrpSpPr/>
                <p:nvPr/>
              </p:nvGrpSpPr>
              <p:grpSpPr>
                <a:xfrm>
                  <a:off x="3925440" y="4416480"/>
                  <a:ext cx="13320" cy="11160"/>
                  <a:chOff x="3925440" y="4416480"/>
                  <a:chExt cx="13320" cy="11160"/>
                </a:xfrm>
              </p:grpSpPr>
              <p:sp>
                <p:nvSpPr>
                  <p:cNvPr id="1327" name=""/>
                  <p:cNvSpPr/>
                  <p:nvPr/>
                </p:nvSpPr>
                <p:spPr>
                  <a:xfrm>
                    <a:off x="3925440" y="4416480"/>
                    <a:ext cx="25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7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3926520" y="441648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5" y="10"/>
                        </a:lnTo>
                        <a:lnTo>
                          <a:pt x="59" y="26"/>
                        </a:lnTo>
                        <a:lnTo>
                          <a:pt x="14" y="26"/>
                        </a:lnTo>
                        <a:lnTo>
                          <a:pt x="7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3926520" y="4421160"/>
                    <a:ext cx="12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6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8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0" name=""/>
                <p:cNvGrpSpPr/>
                <p:nvPr/>
              </p:nvGrpSpPr>
              <p:grpSpPr>
                <a:xfrm>
                  <a:off x="3928320" y="4422960"/>
                  <a:ext cx="13680" cy="11160"/>
                  <a:chOff x="3928320" y="4422960"/>
                  <a:chExt cx="13680" cy="11160"/>
                </a:xfrm>
              </p:grpSpPr>
              <p:sp>
                <p:nvSpPr>
                  <p:cNvPr id="1331" name=""/>
                  <p:cNvSpPr/>
                  <p:nvPr/>
                </p:nvSpPr>
                <p:spPr>
                  <a:xfrm>
                    <a:off x="3928320" y="442296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7" y="0"/>
                        </a:lnTo>
                        <a:lnTo>
                          <a:pt x="20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>
                    <a:off x="3929760" y="442296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5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2" y="2"/>
                        </a:lnTo>
                        <a:lnTo>
                          <a:pt x="46" y="10"/>
                        </a:lnTo>
                        <a:lnTo>
                          <a:pt x="61" y="25"/>
                        </a:lnTo>
                        <a:lnTo>
                          <a:pt x="15" y="25"/>
                        </a:lnTo>
                        <a:lnTo>
                          <a:pt x="9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3931200" y="442764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4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4" name=""/>
                <p:cNvGrpSpPr/>
                <p:nvPr/>
              </p:nvGrpSpPr>
              <p:grpSpPr>
                <a:xfrm>
                  <a:off x="3931560" y="4429080"/>
                  <a:ext cx="13680" cy="11160"/>
                  <a:chOff x="3931560" y="4429080"/>
                  <a:chExt cx="13680" cy="11160"/>
                </a:xfrm>
              </p:grpSpPr>
              <p:sp>
                <p:nvSpPr>
                  <p:cNvPr id="1335" name=""/>
                  <p:cNvSpPr/>
                  <p:nvPr/>
                </p:nvSpPr>
                <p:spPr>
                  <a:xfrm>
                    <a:off x="3931560" y="4429080"/>
                    <a:ext cx="43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19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3933000" y="4429080"/>
                    <a:ext cx="108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4" y="10"/>
                        </a:lnTo>
                        <a:lnTo>
                          <a:pt x="59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3934440" y="4434120"/>
                    <a:ext cx="10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8" name=""/>
                <p:cNvGrpSpPr/>
                <p:nvPr/>
              </p:nvGrpSpPr>
              <p:grpSpPr>
                <a:xfrm>
                  <a:off x="3936240" y="4437000"/>
                  <a:ext cx="25920" cy="36720"/>
                  <a:chOff x="3936240" y="4437000"/>
                  <a:chExt cx="25920" cy="36720"/>
                </a:xfrm>
              </p:grpSpPr>
              <p:grpSp>
                <p:nvGrpSpPr>
                  <p:cNvPr id="1339" name=""/>
                  <p:cNvGrpSpPr/>
                  <p:nvPr/>
                </p:nvGrpSpPr>
                <p:grpSpPr>
                  <a:xfrm>
                    <a:off x="3936240" y="4437000"/>
                    <a:ext cx="12240" cy="11160"/>
                    <a:chOff x="3936240" y="4437000"/>
                    <a:chExt cx="12240" cy="11160"/>
                  </a:xfrm>
                </p:grpSpPr>
                <p:sp>
                  <p:nvSpPr>
                    <p:cNvPr id="1340" name=""/>
                    <p:cNvSpPr/>
                    <p:nvPr/>
                  </p:nvSpPr>
                  <p:spPr>
                    <a:xfrm>
                      <a:off x="3936240" y="443700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61">
                          <a:moveTo>
                            <a:pt x="12" y="61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1" y="27"/>
                          </a:lnTo>
                          <a:lnTo>
                            <a:pt x="12" y="61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1" name=""/>
                    <p:cNvSpPr/>
                    <p:nvPr/>
                  </p:nvSpPr>
                  <p:spPr>
                    <a:xfrm>
                      <a:off x="3936240" y="443700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3"/>
                          </a:lnTo>
                          <a:lnTo>
                            <a:pt x="46" y="10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7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2" name=""/>
                    <p:cNvSpPr/>
                    <p:nvPr/>
                  </p:nvSpPr>
                  <p:spPr>
                    <a:xfrm>
                      <a:off x="3937680" y="444204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3">
                          <a:moveTo>
                            <a:pt x="0" y="33"/>
                          </a:moveTo>
                          <a:lnTo>
                            <a:pt x="1" y="18"/>
                          </a:lnTo>
                          <a:lnTo>
                            <a:pt x="5" y="6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6" y="3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43" name=""/>
                  <p:cNvGrpSpPr/>
                  <p:nvPr/>
                </p:nvGrpSpPr>
                <p:grpSpPr>
                  <a:xfrm>
                    <a:off x="3939120" y="4443480"/>
                    <a:ext cx="12240" cy="11160"/>
                    <a:chOff x="3939120" y="4443480"/>
                    <a:chExt cx="12240" cy="11160"/>
                  </a:xfrm>
                </p:grpSpPr>
                <p:sp>
                  <p:nvSpPr>
                    <p:cNvPr id="1344" name=""/>
                    <p:cNvSpPr/>
                    <p:nvPr/>
                  </p:nvSpPr>
                  <p:spPr>
                    <a:xfrm>
                      <a:off x="3939120" y="444348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1" y="59"/>
                          </a:moveTo>
                          <a:lnTo>
                            <a:pt x="0" y="24"/>
                          </a:lnTo>
                          <a:lnTo>
                            <a:pt x="8" y="0"/>
                          </a:lnTo>
                          <a:lnTo>
                            <a:pt x="20" y="28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5" name=""/>
                    <p:cNvSpPr/>
                    <p:nvPr/>
                  </p:nvSpPr>
                  <p:spPr>
                    <a:xfrm>
                      <a:off x="3940560" y="444348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8">
                          <a:moveTo>
                            <a:pt x="2" y="0"/>
                          </a:moveTo>
                          <a:lnTo>
                            <a:pt x="42" y="0"/>
                          </a:lnTo>
                          <a:lnTo>
                            <a:pt x="43" y="2"/>
                          </a:lnTo>
                          <a:lnTo>
                            <a:pt x="46" y="12"/>
                          </a:lnTo>
                          <a:lnTo>
                            <a:pt x="61" y="28"/>
                          </a:lnTo>
                          <a:lnTo>
                            <a:pt x="15" y="28"/>
                          </a:lnTo>
                          <a:lnTo>
                            <a:pt x="7" y="19"/>
                          </a:lnTo>
                          <a:lnTo>
                            <a:pt x="0" y="6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6" name=""/>
                    <p:cNvSpPr/>
                    <p:nvPr/>
                  </p:nvSpPr>
                  <p:spPr>
                    <a:xfrm>
                      <a:off x="3940560" y="444816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7"/>
                          </a:lnTo>
                          <a:lnTo>
                            <a:pt x="6" y="6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47" name=""/>
                  <p:cNvGrpSpPr/>
                  <p:nvPr/>
                </p:nvGrpSpPr>
                <p:grpSpPr>
                  <a:xfrm>
                    <a:off x="3942360" y="4449960"/>
                    <a:ext cx="13680" cy="11160"/>
                    <a:chOff x="3942360" y="4449960"/>
                    <a:chExt cx="13680" cy="11160"/>
                  </a:xfrm>
                </p:grpSpPr>
                <p:sp>
                  <p:nvSpPr>
                    <p:cNvPr id="1348" name=""/>
                    <p:cNvSpPr/>
                    <p:nvPr/>
                  </p:nvSpPr>
                  <p:spPr>
                    <a:xfrm>
                      <a:off x="3942360" y="444996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3943800" y="4449960"/>
                      <a:ext cx="104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8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>
                      <a:off x="3945240" y="44546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4" y="6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1" name=""/>
                  <p:cNvGrpSpPr/>
                  <p:nvPr/>
                </p:nvGrpSpPr>
                <p:grpSpPr>
                  <a:xfrm>
                    <a:off x="3945600" y="4456080"/>
                    <a:ext cx="13680" cy="11160"/>
                    <a:chOff x="3945600" y="4456080"/>
                    <a:chExt cx="13680" cy="11160"/>
                  </a:xfrm>
                </p:grpSpPr>
                <p:sp>
                  <p:nvSpPr>
                    <p:cNvPr id="1352" name=""/>
                    <p:cNvSpPr/>
                    <p:nvPr/>
                  </p:nvSpPr>
                  <p:spPr>
                    <a:xfrm>
                      <a:off x="3945600" y="445608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10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3" name=""/>
                    <p:cNvSpPr/>
                    <p:nvPr/>
                  </p:nvSpPr>
                  <p:spPr>
                    <a:xfrm>
                      <a:off x="3946680" y="445608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1" y="2"/>
                          </a:lnTo>
                          <a:lnTo>
                            <a:pt x="44" y="10"/>
                          </a:lnTo>
                          <a:lnTo>
                            <a:pt x="58" y="25"/>
                          </a:lnTo>
                          <a:lnTo>
                            <a:pt x="13" y="25"/>
                          </a:lnTo>
                          <a:lnTo>
                            <a:pt x="6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4" name=""/>
                    <p:cNvSpPr/>
                    <p:nvPr/>
                  </p:nvSpPr>
                  <p:spPr>
                    <a:xfrm>
                      <a:off x="3948480" y="446112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5" y="7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5" name=""/>
                  <p:cNvGrpSpPr/>
                  <p:nvPr/>
                </p:nvGrpSpPr>
                <p:grpSpPr>
                  <a:xfrm>
                    <a:off x="3950280" y="4462560"/>
                    <a:ext cx="11880" cy="11160"/>
                    <a:chOff x="3950280" y="4462560"/>
                    <a:chExt cx="11880" cy="11160"/>
                  </a:xfrm>
                </p:grpSpPr>
                <p:sp>
                  <p:nvSpPr>
                    <p:cNvPr id="1356" name=""/>
                    <p:cNvSpPr/>
                    <p:nvPr/>
                  </p:nvSpPr>
                  <p:spPr>
                    <a:xfrm>
                      <a:off x="3950280" y="446256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1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7" name=""/>
                    <p:cNvSpPr/>
                    <p:nvPr/>
                  </p:nvSpPr>
                  <p:spPr>
                    <a:xfrm>
                      <a:off x="3951720" y="446256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0" y="2"/>
                          </a:lnTo>
                          <a:lnTo>
                            <a:pt x="46" y="10"/>
                          </a:lnTo>
                          <a:lnTo>
                            <a:pt x="59" y="25"/>
                          </a:lnTo>
                          <a:lnTo>
                            <a:pt x="15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8" name=""/>
                    <p:cNvSpPr/>
                    <p:nvPr/>
                  </p:nvSpPr>
                  <p:spPr>
                    <a:xfrm>
                      <a:off x="3951720" y="4467240"/>
                      <a:ext cx="104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4" y="7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59" name=""/>
                <p:cNvGrpSpPr/>
                <p:nvPr/>
              </p:nvGrpSpPr>
              <p:grpSpPr>
                <a:xfrm>
                  <a:off x="3953880" y="4470480"/>
                  <a:ext cx="27360" cy="36360"/>
                  <a:chOff x="3953880" y="4470480"/>
                  <a:chExt cx="27360" cy="36360"/>
                </a:xfrm>
              </p:grpSpPr>
              <p:grpSp>
                <p:nvGrpSpPr>
                  <p:cNvPr id="1360" name=""/>
                  <p:cNvGrpSpPr/>
                  <p:nvPr/>
                </p:nvGrpSpPr>
                <p:grpSpPr>
                  <a:xfrm>
                    <a:off x="3953880" y="4470480"/>
                    <a:ext cx="13680" cy="11160"/>
                    <a:chOff x="3953880" y="4470480"/>
                    <a:chExt cx="13680" cy="11160"/>
                  </a:xfrm>
                </p:grpSpPr>
                <p:sp>
                  <p:nvSpPr>
                    <p:cNvPr id="1361" name=""/>
                    <p:cNvSpPr/>
                    <p:nvPr/>
                  </p:nvSpPr>
                  <p:spPr>
                    <a:xfrm>
                      <a:off x="3953880" y="447048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9">
                          <a:moveTo>
                            <a:pt x="13" y="59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1" y="28"/>
                          </a:lnTo>
                          <a:lnTo>
                            <a:pt x="13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2" name=""/>
                    <p:cNvSpPr/>
                    <p:nvPr/>
                  </p:nvSpPr>
                  <p:spPr>
                    <a:xfrm>
                      <a:off x="3954960" y="447048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7">
                          <a:moveTo>
                            <a:pt x="2" y="0"/>
                          </a:moveTo>
                          <a:lnTo>
                            <a:pt x="41" y="0"/>
                          </a:lnTo>
                          <a:lnTo>
                            <a:pt x="43" y="4"/>
                          </a:lnTo>
                          <a:lnTo>
                            <a:pt x="46" y="11"/>
                          </a:lnTo>
                          <a:lnTo>
                            <a:pt x="61" y="27"/>
                          </a:lnTo>
                          <a:lnTo>
                            <a:pt x="15" y="27"/>
                          </a:lnTo>
                          <a:lnTo>
                            <a:pt x="8" y="19"/>
                          </a:lnTo>
                          <a:lnTo>
                            <a:pt x="0" y="6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3" name=""/>
                    <p:cNvSpPr/>
                    <p:nvPr/>
                  </p:nvSpPr>
                  <p:spPr>
                    <a:xfrm>
                      <a:off x="3954960" y="447516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6" y="5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64" name=""/>
                  <p:cNvGrpSpPr/>
                  <p:nvPr/>
                </p:nvGrpSpPr>
                <p:grpSpPr>
                  <a:xfrm>
                    <a:off x="3956760" y="4475160"/>
                    <a:ext cx="13320" cy="12960"/>
                    <a:chOff x="3956760" y="4475160"/>
                    <a:chExt cx="13320" cy="12960"/>
                  </a:xfrm>
                </p:grpSpPr>
                <p:sp>
                  <p:nvSpPr>
                    <p:cNvPr id="1365" name=""/>
                    <p:cNvSpPr/>
                    <p:nvPr/>
                  </p:nvSpPr>
                  <p:spPr>
                    <a:xfrm>
                      <a:off x="3956760" y="4475160"/>
                      <a:ext cx="288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0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0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6" name=""/>
                    <p:cNvSpPr/>
                    <p:nvPr/>
                  </p:nvSpPr>
                  <p:spPr>
                    <a:xfrm>
                      <a:off x="3957840" y="44769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6" y="11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9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7" name=""/>
                    <p:cNvSpPr/>
                    <p:nvPr/>
                  </p:nvSpPr>
                  <p:spPr>
                    <a:xfrm>
                      <a:off x="3957840" y="4481640"/>
                      <a:ext cx="122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32">
                          <a:moveTo>
                            <a:pt x="0" y="32"/>
                          </a:moveTo>
                          <a:lnTo>
                            <a:pt x="4" y="18"/>
                          </a:lnTo>
                          <a:lnTo>
                            <a:pt x="7" y="7"/>
                          </a:lnTo>
                          <a:lnTo>
                            <a:pt x="11" y="0"/>
                          </a:lnTo>
                          <a:lnTo>
                            <a:pt x="57" y="0"/>
                          </a:lnTo>
                          <a:lnTo>
                            <a:pt x="68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68" name=""/>
                  <p:cNvGrpSpPr/>
                  <p:nvPr/>
                </p:nvGrpSpPr>
                <p:grpSpPr>
                  <a:xfrm>
                    <a:off x="3960000" y="4481640"/>
                    <a:ext cx="13320" cy="12600"/>
                    <a:chOff x="3960000" y="4481640"/>
                    <a:chExt cx="13320" cy="12600"/>
                  </a:xfrm>
                </p:grpSpPr>
                <p:sp>
                  <p:nvSpPr>
                    <p:cNvPr id="1369" name=""/>
                    <p:cNvSpPr/>
                    <p:nvPr/>
                  </p:nvSpPr>
                  <p:spPr>
                    <a:xfrm>
                      <a:off x="3960000" y="4481640"/>
                      <a:ext cx="25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9">
                          <a:moveTo>
                            <a:pt x="11" y="59"/>
                          </a:moveTo>
                          <a:lnTo>
                            <a:pt x="0" y="24"/>
                          </a:lnTo>
                          <a:lnTo>
                            <a:pt x="7" y="0"/>
                          </a:lnTo>
                          <a:lnTo>
                            <a:pt x="19" y="27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0" name=""/>
                    <p:cNvSpPr/>
                    <p:nvPr/>
                  </p:nvSpPr>
                  <p:spPr>
                    <a:xfrm>
                      <a:off x="3961080" y="448308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3" y="0"/>
                          </a:moveTo>
                          <a:lnTo>
                            <a:pt x="42" y="0"/>
                          </a:lnTo>
                          <a:lnTo>
                            <a:pt x="43" y="2"/>
                          </a:lnTo>
                          <a:lnTo>
                            <a:pt x="46" y="10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8" y="18"/>
                          </a:lnTo>
                          <a:lnTo>
                            <a:pt x="0" y="5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1" name=""/>
                    <p:cNvSpPr/>
                    <p:nvPr/>
                  </p:nvSpPr>
                  <p:spPr>
                    <a:xfrm>
                      <a:off x="3962520" y="448812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2" name=""/>
                  <p:cNvGrpSpPr/>
                  <p:nvPr/>
                </p:nvGrpSpPr>
                <p:grpSpPr>
                  <a:xfrm>
                    <a:off x="3964680" y="4489560"/>
                    <a:ext cx="11880" cy="11160"/>
                    <a:chOff x="3964680" y="4489560"/>
                    <a:chExt cx="11880" cy="11160"/>
                  </a:xfrm>
                </p:grpSpPr>
                <p:sp>
                  <p:nvSpPr>
                    <p:cNvPr id="1373" name=""/>
                    <p:cNvSpPr/>
                    <p:nvPr/>
                  </p:nvSpPr>
                  <p:spPr>
                    <a:xfrm>
                      <a:off x="3964680" y="448956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2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0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4" name=""/>
                    <p:cNvSpPr/>
                    <p:nvPr/>
                  </p:nvSpPr>
                  <p:spPr>
                    <a:xfrm>
                      <a:off x="3964680" y="44895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5" name=""/>
                    <p:cNvSpPr/>
                    <p:nvPr/>
                  </p:nvSpPr>
                  <p:spPr>
                    <a:xfrm>
                      <a:off x="3965760" y="44942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4" y="7"/>
                          </a:lnTo>
                          <a:lnTo>
                            <a:pt x="10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6" name=""/>
                  <p:cNvGrpSpPr/>
                  <p:nvPr/>
                </p:nvGrpSpPr>
                <p:grpSpPr>
                  <a:xfrm>
                    <a:off x="3967920" y="4496040"/>
                    <a:ext cx="13320" cy="10800"/>
                    <a:chOff x="3967920" y="4496040"/>
                    <a:chExt cx="13320" cy="10800"/>
                  </a:xfrm>
                </p:grpSpPr>
                <p:sp>
                  <p:nvSpPr>
                    <p:cNvPr id="1377" name=""/>
                    <p:cNvSpPr/>
                    <p:nvPr/>
                  </p:nvSpPr>
                  <p:spPr>
                    <a:xfrm>
                      <a:off x="3967920" y="4496040"/>
                      <a:ext cx="252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8">
                          <a:moveTo>
                            <a:pt x="10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8" y="26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8" name=""/>
                    <p:cNvSpPr/>
                    <p:nvPr/>
                  </p:nvSpPr>
                  <p:spPr>
                    <a:xfrm>
                      <a:off x="3969000" y="449604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2" y="2"/>
                          </a:lnTo>
                          <a:lnTo>
                            <a:pt x="45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6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9" name=""/>
                    <p:cNvSpPr/>
                    <p:nvPr/>
                  </p:nvSpPr>
                  <p:spPr>
                    <a:xfrm>
                      <a:off x="3969000" y="4500720"/>
                      <a:ext cx="122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6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80" name=""/>
                <p:cNvGrpSpPr/>
                <p:nvPr/>
              </p:nvGrpSpPr>
              <p:grpSpPr>
                <a:xfrm>
                  <a:off x="3971160" y="4500720"/>
                  <a:ext cx="13680" cy="12600"/>
                  <a:chOff x="3971160" y="4500720"/>
                  <a:chExt cx="13680" cy="1260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3971160" y="4500720"/>
                    <a:ext cx="2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1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9" y="28"/>
                        </a:lnTo>
                        <a:lnTo>
                          <a:pt x="11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3972600" y="450216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7">
                        <a:moveTo>
                          <a:pt x="1" y="0"/>
                        </a:moveTo>
                        <a:lnTo>
                          <a:pt x="39" y="0"/>
                        </a:lnTo>
                        <a:lnTo>
                          <a:pt x="41" y="3"/>
                        </a:lnTo>
                        <a:lnTo>
                          <a:pt x="46" y="11"/>
                        </a:lnTo>
                        <a:lnTo>
                          <a:pt x="59" y="27"/>
                        </a:lnTo>
                        <a:lnTo>
                          <a:pt x="15" y="27"/>
                        </a:lnTo>
                        <a:lnTo>
                          <a:pt x="7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3972600" y="4506840"/>
                    <a:ext cx="12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6" y="5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4" name=""/>
                <p:cNvGrpSpPr/>
                <p:nvPr/>
              </p:nvGrpSpPr>
              <p:grpSpPr>
                <a:xfrm>
                  <a:off x="3963240" y="4399200"/>
                  <a:ext cx="12240" cy="11160"/>
                  <a:chOff x="3963240" y="4399200"/>
                  <a:chExt cx="12240" cy="11160"/>
                </a:xfrm>
              </p:grpSpPr>
              <p:sp>
                <p:nvSpPr>
                  <p:cNvPr id="1385" name=""/>
                  <p:cNvSpPr/>
                  <p:nvPr/>
                </p:nvSpPr>
                <p:spPr>
                  <a:xfrm>
                    <a:off x="3963240" y="439920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9">
                        <a:moveTo>
                          <a:pt x="18" y="59"/>
                        </a:moveTo>
                        <a:lnTo>
                          <a:pt x="0" y="28"/>
                        </a:lnTo>
                        <a:lnTo>
                          <a:pt x="9" y="0"/>
                        </a:lnTo>
                        <a:lnTo>
                          <a:pt x="31" y="28"/>
                        </a:lnTo>
                        <a:lnTo>
                          <a:pt x="18" y="59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3964680" y="439920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9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2" y="29"/>
                        </a:lnTo>
                        <a:lnTo>
                          <a:pt x="19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3966120" y="440532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6">
                        <a:moveTo>
                          <a:pt x="0" y="26"/>
                        </a:moveTo>
                        <a:lnTo>
                          <a:pt x="11" y="0"/>
                        </a:lnTo>
                        <a:lnTo>
                          <a:pt x="44" y="0"/>
                        </a:lnTo>
                        <a:lnTo>
                          <a:pt x="52" y="26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8" name=""/>
                <p:cNvGrpSpPr/>
                <p:nvPr/>
              </p:nvGrpSpPr>
              <p:grpSpPr>
                <a:xfrm>
                  <a:off x="3966480" y="4405320"/>
                  <a:ext cx="12240" cy="11160"/>
                  <a:chOff x="3966480" y="4405320"/>
                  <a:chExt cx="12240" cy="11160"/>
                </a:xfrm>
              </p:grpSpPr>
              <p:sp>
                <p:nvSpPr>
                  <p:cNvPr id="1389" name=""/>
                  <p:cNvSpPr/>
                  <p:nvPr/>
                </p:nvSpPr>
                <p:spPr>
                  <a:xfrm>
                    <a:off x="3966480" y="4405320"/>
                    <a:ext cx="6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18" y="58"/>
                        </a:moveTo>
                        <a:lnTo>
                          <a:pt x="0" y="28"/>
                        </a:lnTo>
                        <a:lnTo>
                          <a:pt x="10" y="0"/>
                        </a:lnTo>
                        <a:lnTo>
                          <a:pt x="32" y="28"/>
                        </a:lnTo>
                        <a:lnTo>
                          <a:pt x="18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>
                    <a:off x="3967920" y="440532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8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2" y="28"/>
                        </a:lnTo>
                        <a:lnTo>
                          <a:pt x="20" y="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3969360" y="441180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5">
                        <a:moveTo>
                          <a:pt x="0" y="25"/>
                        </a:moveTo>
                        <a:lnTo>
                          <a:pt x="10" y="0"/>
                        </a:lnTo>
                        <a:lnTo>
                          <a:pt x="44" y="0"/>
                        </a:lnTo>
                        <a:lnTo>
                          <a:pt x="54" y="25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2" name=""/>
                <p:cNvGrpSpPr/>
                <p:nvPr/>
              </p:nvGrpSpPr>
              <p:grpSpPr>
                <a:xfrm>
                  <a:off x="3969720" y="4413240"/>
                  <a:ext cx="13680" cy="11160"/>
                  <a:chOff x="3969720" y="4413240"/>
                  <a:chExt cx="13680" cy="11160"/>
                </a:xfrm>
              </p:grpSpPr>
              <p:sp>
                <p:nvSpPr>
                  <p:cNvPr id="1393" name=""/>
                  <p:cNvSpPr/>
                  <p:nvPr/>
                </p:nvSpPr>
                <p:spPr>
                  <a:xfrm>
                    <a:off x="3969720" y="4413240"/>
                    <a:ext cx="6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58">
                        <a:moveTo>
                          <a:pt x="19" y="58"/>
                        </a:moveTo>
                        <a:lnTo>
                          <a:pt x="0" y="27"/>
                        </a:lnTo>
                        <a:lnTo>
                          <a:pt x="11" y="0"/>
                        </a:lnTo>
                        <a:lnTo>
                          <a:pt x="33" y="27"/>
                        </a:lnTo>
                        <a:lnTo>
                          <a:pt x="19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3972600" y="4413240"/>
                    <a:ext cx="75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9">
                        <a:moveTo>
                          <a:pt x="0" y="0"/>
                        </a:moveTo>
                        <a:lnTo>
                          <a:pt x="32" y="0"/>
                        </a:lnTo>
                        <a:lnTo>
                          <a:pt x="51" y="29"/>
                        </a:lnTo>
                        <a:lnTo>
                          <a:pt x="19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3974040" y="441972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5">
                        <a:moveTo>
                          <a:pt x="0" y="25"/>
                        </a:moveTo>
                        <a:lnTo>
                          <a:pt x="9" y="0"/>
                        </a:lnTo>
                        <a:lnTo>
                          <a:pt x="42" y="0"/>
                        </a:lnTo>
                        <a:lnTo>
                          <a:pt x="53" y="25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6" name=""/>
                <p:cNvGrpSpPr/>
                <p:nvPr/>
              </p:nvGrpSpPr>
              <p:grpSpPr>
                <a:xfrm>
                  <a:off x="3974400" y="4419720"/>
                  <a:ext cx="12240" cy="11160"/>
                  <a:chOff x="3974400" y="4419720"/>
                  <a:chExt cx="12240" cy="11160"/>
                </a:xfrm>
              </p:grpSpPr>
              <p:sp>
                <p:nvSpPr>
                  <p:cNvPr id="1397" name=""/>
                  <p:cNvSpPr/>
                  <p:nvPr/>
                </p:nvSpPr>
                <p:spPr>
                  <a:xfrm>
                    <a:off x="3974400" y="441972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18" y="58"/>
                        </a:moveTo>
                        <a:lnTo>
                          <a:pt x="0" y="28"/>
                        </a:lnTo>
                        <a:lnTo>
                          <a:pt x="9" y="0"/>
                        </a:lnTo>
                        <a:lnTo>
                          <a:pt x="32" y="28"/>
                        </a:lnTo>
                        <a:lnTo>
                          <a:pt x="18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3975840" y="441972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0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3" y="30"/>
                        </a:lnTo>
                        <a:lnTo>
                          <a:pt x="21" y="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3977280" y="442620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4">
                        <a:moveTo>
                          <a:pt x="0" y="24"/>
                        </a:moveTo>
                        <a:lnTo>
                          <a:pt x="11" y="0"/>
                        </a:lnTo>
                        <a:lnTo>
                          <a:pt x="44" y="0"/>
                        </a:lnTo>
                        <a:lnTo>
                          <a:pt x="53" y="24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0" name=""/>
                <p:cNvGrpSpPr/>
                <p:nvPr/>
              </p:nvGrpSpPr>
              <p:grpSpPr>
                <a:xfrm>
                  <a:off x="3979440" y="4426200"/>
                  <a:ext cx="22680" cy="31680"/>
                  <a:chOff x="3979440" y="4426200"/>
                  <a:chExt cx="22680" cy="31680"/>
                </a:xfrm>
              </p:grpSpPr>
              <p:grpSp>
                <p:nvGrpSpPr>
                  <p:cNvPr id="1401" name=""/>
                  <p:cNvGrpSpPr/>
                  <p:nvPr/>
                </p:nvGrpSpPr>
                <p:grpSpPr>
                  <a:xfrm>
                    <a:off x="3979440" y="4426200"/>
                    <a:ext cx="11880" cy="10800"/>
                    <a:chOff x="3979440" y="4426200"/>
                    <a:chExt cx="11880" cy="10800"/>
                  </a:xfrm>
                </p:grpSpPr>
                <p:sp>
                  <p:nvSpPr>
                    <p:cNvPr id="1402" name=""/>
                    <p:cNvSpPr/>
                    <p:nvPr/>
                  </p:nvSpPr>
                  <p:spPr>
                    <a:xfrm>
                      <a:off x="3979440" y="4426200"/>
                      <a:ext cx="432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58">
                          <a:moveTo>
                            <a:pt x="17" y="58"/>
                          </a:moveTo>
                          <a:lnTo>
                            <a:pt x="0" y="27"/>
                          </a:lnTo>
                          <a:lnTo>
                            <a:pt x="9" y="0"/>
                          </a:lnTo>
                          <a:lnTo>
                            <a:pt x="31" y="27"/>
                          </a:lnTo>
                          <a:lnTo>
                            <a:pt x="17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3" name=""/>
                    <p:cNvSpPr/>
                    <p:nvPr/>
                  </p:nvSpPr>
                  <p:spPr>
                    <a:xfrm>
                      <a:off x="3980520" y="442620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7">
                          <a:moveTo>
                            <a:pt x="0" y="0"/>
                          </a:moveTo>
                          <a:lnTo>
                            <a:pt x="34" y="0"/>
                          </a:lnTo>
                          <a:lnTo>
                            <a:pt x="53" y="27"/>
                          </a:lnTo>
                          <a:lnTo>
                            <a:pt x="20" y="2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4" name=""/>
                    <p:cNvSpPr/>
                    <p:nvPr/>
                  </p:nvSpPr>
                  <p:spPr>
                    <a:xfrm>
                      <a:off x="3981960" y="443232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7">
                          <a:moveTo>
                            <a:pt x="0" y="27"/>
                          </a:moveTo>
                          <a:lnTo>
                            <a:pt x="12" y="0"/>
                          </a:lnTo>
                          <a:lnTo>
                            <a:pt x="45" y="0"/>
                          </a:lnTo>
                          <a:lnTo>
                            <a:pt x="54" y="27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05" name=""/>
                  <p:cNvGrpSpPr/>
                  <p:nvPr/>
                </p:nvGrpSpPr>
                <p:grpSpPr>
                  <a:xfrm>
                    <a:off x="3981960" y="4432320"/>
                    <a:ext cx="12240" cy="11160"/>
                    <a:chOff x="3981960" y="4432320"/>
                    <a:chExt cx="12240" cy="11160"/>
                  </a:xfrm>
                </p:grpSpPr>
                <p:sp>
                  <p:nvSpPr>
                    <p:cNvPr id="1406" name=""/>
                    <p:cNvSpPr/>
                    <p:nvPr/>
                  </p:nvSpPr>
                  <p:spPr>
                    <a:xfrm>
                      <a:off x="3981960" y="4432320"/>
                      <a:ext cx="46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9">
                          <a:moveTo>
                            <a:pt x="19" y="59"/>
                          </a:moveTo>
                          <a:lnTo>
                            <a:pt x="0" y="28"/>
                          </a:lnTo>
                          <a:lnTo>
                            <a:pt x="10" y="0"/>
                          </a:lnTo>
                          <a:lnTo>
                            <a:pt x="32" y="28"/>
                          </a:lnTo>
                          <a:lnTo>
                            <a:pt x="19" y="59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7" name=""/>
                    <p:cNvSpPr/>
                    <p:nvPr/>
                  </p:nvSpPr>
                  <p:spPr>
                    <a:xfrm>
                      <a:off x="3983400" y="4432320"/>
                      <a:ext cx="90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9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3" y="29"/>
                          </a:lnTo>
                          <a:lnTo>
                            <a:pt x="19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8" name=""/>
                    <p:cNvSpPr/>
                    <p:nvPr/>
                  </p:nvSpPr>
                  <p:spPr>
                    <a:xfrm>
                      <a:off x="3984840" y="443880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5">
                          <a:moveTo>
                            <a:pt x="0" y="25"/>
                          </a:moveTo>
                          <a:lnTo>
                            <a:pt x="10" y="0"/>
                          </a:lnTo>
                          <a:lnTo>
                            <a:pt x="44" y="0"/>
                          </a:lnTo>
                          <a:lnTo>
                            <a:pt x="53" y="25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09" name=""/>
                  <p:cNvGrpSpPr/>
                  <p:nvPr/>
                </p:nvGrpSpPr>
                <p:grpSpPr>
                  <a:xfrm>
                    <a:off x="3985200" y="4438800"/>
                    <a:ext cx="11880" cy="12600"/>
                    <a:chOff x="3985200" y="4438800"/>
                    <a:chExt cx="11880" cy="12600"/>
                  </a:xfrm>
                </p:grpSpPr>
                <p:sp>
                  <p:nvSpPr>
                    <p:cNvPr id="1410" name=""/>
                    <p:cNvSpPr/>
                    <p:nvPr/>
                  </p:nvSpPr>
                  <p:spPr>
                    <a:xfrm>
                      <a:off x="3985200" y="4438800"/>
                      <a:ext cx="61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8">
                          <a:moveTo>
                            <a:pt x="19" y="58"/>
                          </a:moveTo>
                          <a:lnTo>
                            <a:pt x="0" y="29"/>
                          </a:lnTo>
                          <a:lnTo>
                            <a:pt x="9" y="0"/>
                          </a:lnTo>
                          <a:lnTo>
                            <a:pt x="32" y="29"/>
                          </a:lnTo>
                          <a:lnTo>
                            <a:pt x="19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1" name=""/>
                    <p:cNvSpPr/>
                    <p:nvPr/>
                  </p:nvSpPr>
                  <p:spPr>
                    <a:xfrm>
                      <a:off x="3986640" y="4440240"/>
                      <a:ext cx="90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9">
                          <a:moveTo>
                            <a:pt x="0" y="0"/>
                          </a:moveTo>
                          <a:lnTo>
                            <a:pt x="34" y="0"/>
                          </a:lnTo>
                          <a:lnTo>
                            <a:pt x="52" y="29"/>
                          </a:lnTo>
                          <a:lnTo>
                            <a:pt x="21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2" name=""/>
                    <p:cNvSpPr/>
                    <p:nvPr/>
                  </p:nvSpPr>
                  <p:spPr>
                    <a:xfrm>
                      <a:off x="3988080" y="444672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4">
                          <a:moveTo>
                            <a:pt x="0" y="24"/>
                          </a:moveTo>
                          <a:lnTo>
                            <a:pt x="9" y="0"/>
                          </a:lnTo>
                          <a:lnTo>
                            <a:pt x="42" y="0"/>
                          </a:lnTo>
                          <a:lnTo>
                            <a:pt x="52" y="24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13" name=""/>
                  <p:cNvGrpSpPr/>
                  <p:nvPr/>
                </p:nvGrpSpPr>
                <p:grpSpPr>
                  <a:xfrm>
                    <a:off x="3989880" y="4446720"/>
                    <a:ext cx="12240" cy="11160"/>
                    <a:chOff x="3989880" y="4446720"/>
                    <a:chExt cx="12240" cy="11160"/>
                  </a:xfrm>
                </p:grpSpPr>
                <p:sp>
                  <p:nvSpPr>
                    <p:cNvPr id="1414" name=""/>
                    <p:cNvSpPr/>
                    <p:nvPr/>
                  </p:nvSpPr>
                  <p:spPr>
                    <a:xfrm>
                      <a:off x="3989880" y="4446720"/>
                      <a:ext cx="46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8">
                          <a:moveTo>
                            <a:pt x="18" y="58"/>
                          </a:moveTo>
                          <a:lnTo>
                            <a:pt x="0" y="28"/>
                          </a:lnTo>
                          <a:lnTo>
                            <a:pt x="10" y="0"/>
                          </a:lnTo>
                          <a:lnTo>
                            <a:pt x="32" y="28"/>
                          </a:lnTo>
                          <a:lnTo>
                            <a:pt x="18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5" name=""/>
                    <p:cNvSpPr/>
                    <p:nvPr/>
                  </p:nvSpPr>
                  <p:spPr>
                    <a:xfrm>
                      <a:off x="3991320" y="444672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8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2" y="28"/>
                          </a:lnTo>
                          <a:lnTo>
                            <a:pt x="20" y="2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6" name=""/>
                    <p:cNvSpPr/>
                    <p:nvPr/>
                  </p:nvSpPr>
                  <p:spPr>
                    <a:xfrm>
                      <a:off x="3992760" y="445320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5">
                          <a:moveTo>
                            <a:pt x="0" y="25"/>
                          </a:moveTo>
                          <a:lnTo>
                            <a:pt x="12" y="0"/>
                          </a:lnTo>
                          <a:lnTo>
                            <a:pt x="44" y="0"/>
                          </a:lnTo>
                          <a:lnTo>
                            <a:pt x="53" y="25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17" name=""/>
                <p:cNvGrpSpPr/>
                <p:nvPr/>
              </p:nvGrpSpPr>
              <p:grpSpPr>
                <a:xfrm>
                  <a:off x="3993480" y="4453200"/>
                  <a:ext cx="22680" cy="31680"/>
                  <a:chOff x="3993480" y="4453200"/>
                  <a:chExt cx="22680" cy="31680"/>
                </a:xfrm>
              </p:grpSpPr>
              <p:grpSp>
                <p:nvGrpSpPr>
                  <p:cNvPr id="1418" name=""/>
                  <p:cNvGrpSpPr/>
                  <p:nvPr/>
                </p:nvGrpSpPr>
                <p:grpSpPr>
                  <a:xfrm>
                    <a:off x="3993480" y="4453200"/>
                    <a:ext cx="11880" cy="10800"/>
                    <a:chOff x="3993480" y="4453200"/>
                    <a:chExt cx="11880" cy="10800"/>
                  </a:xfrm>
                </p:grpSpPr>
                <p:sp>
                  <p:nvSpPr>
                    <p:cNvPr id="1419" name=""/>
                    <p:cNvSpPr/>
                    <p:nvPr/>
                  </p:nvSpPr>
                  <p:spPr>
                    <a:xfrm>
                      <a:off x="3993480" y="4453200"/>
                      <a:ext cx="612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58">
                          <a:moveTo>
                            <a:pt x="17" y="58"/>
                          </a:moveTo>
                          <a:lnTo>
                            <a:pt x="0" y="28"/>
                          </a:lnTo>
                          <a:lnTo>
                            <a:pt x="9" y="0"/>
                          </a:lnTo>
                          <a:lnTo>
                            <a:pt x="31" y="28"/>
                          </a:lnTo>
                          <a:lnTo>
                            <a:pt x="17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0" name=""/>
                    <p:cNvSpPr/>
                    <p:nvPr/>
                  </p:nvSpPr>
                  <p:spPr>
                    <a:xfrm>
                      <a:off x="3994920" y="4453200"/>
                      <a:ext cx="90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9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3" y="29"/>
                          </a:lnTo>
                          <a:lnTo>
                            <a:pt x="20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1" name=""/>
                    <p:cNvSpPr/>
                    <p:nvPr/>
                  </p:nvSpPr>
                  <p:spPr>
                    <a:xfrm>
                      <a:off x="3996360" y="445932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5">
                          <a:moveTo>
                            <a:pt x="0" y="25"/>
                          </a:moveTo>
                          <a:lnTo>
                            <a:pt x="10" y="0"/>
                          </a:lnTo>
                          <a:lnTo>
                            <a:pt x="44" y="0"/>
                          </a:lnTo>
                          <a:lnTo>
                            <a:pt x="53" y="25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22" name=""/>
                  <p:cNvGrpSpPr/>
                  <p:nvPr/>
                </p:nvGrpSpPr>
                <p:grpSpPr>
                  <a:xfrm>
                    <a:off x="3996360" y="4459320"/>
                    <a:ext cx="11880" cy="11160"/>
                    <a:chOff x="3996360" y="4459320"/>
                    <a:chExt cx="11880" cy="11160"/>
                  </a:xfrm>
                </p:grpSpPr>
                <p:sp>
                  <p:nvSpPr>
                    <p:cNvPr id="1423" name=""/>
                    <p:cNvSpPr/>
                    <p:nvPr/>
                  </p:nvSpPr>
                  <p:spPr>
                    <a:xfrm>
                      <a:off x="3996360" y="4459320"/>
                      <a:ext cx="61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8">
                          <a:moveTo>
                            <a:pt x="19" y="58"/>
                          </a:moveTo>
                          <a:lnTo>
                            <a:pt x="0" y="28"/>
                          </a:lnTo>
                          <a:lnTo>
                            <a:pt x="10" y="0"/>
                          </a:lnTo>
                          <a:lnTo>
                            <a:pt x="32" y="28"/>
                          </a:lnTo>
                          <a:lnTo>
                            <a:pt x="19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4" name=""/>
                    <p:cNvSpPr/>
                    <p:nvPr/>
                  </p:nvSpPr>
                  <p:spPr>
                    <a:xfrm>
                      <a:off x="3999240" y="4459320"/>
                      <a:ext cx="75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28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1" y="28"/>
                          </a:lnTo>
                          <a:lnTo>
                            <a:pt x="20" y="2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5" name=""/>
                    <p:cNvSpPr/>
                    <p:nvPr/>
                  </p:nvSpPr>
                  <p:spPr>
                    <a:xfrm>
                      <a:off x="4000680" y="4465800"/>
                      <a:ext cx="75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6">
                          <a:moveTo>
                            <a:pt x="0" y="26"/>
                          </a:moveTo>
                          <a:lnTo>
                            <a:pt x="9" y="0"/>
                          </a:lnTo>
                          <a:lnTo>
                            <a:pt x="42" y="0"/>
                          </a:lnTo>
                          <a:lnTo>
                            <a:pt x="52" y="26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26" name=""/>
                  <p:cNvGrpSpPr/>
                  <p:nvPr/>
                </p:nvGrpSpPr>
                <p:grpSpPr>
                  <a:xfrm>
                    <a:off x="4001040" y="4465800"/>
                    <a:ext cx="12240" cy="12600"/>
                    <a:chOff x="4001040" y="4465800"/>
                    <a:chExt cx="12240" cy="12600"/>
                  </a:xfrm>
                </p:grpSpPr>
                <p:sp>
                  <p:nvSpPr>
                    <p:cNvPr id="1427" name=""/>
                    <p:cNvSpPr/>
                    <p:nvPr/>
                  </p:nvSpPr>
                  <p:spPr>
                    <a:xfrm>
                      <a:off x="4001040" y="4465800"/>
                      <a:ext cx="43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60">
                          <a:moveTo>
                            <a:pt x="18" y="60"/>
                          </a:moveTo>
                          <a:lnTo>
                            <a:pt x="0" y="29"/>
                          </a:lnTo>
                          <a:lnTo>
                            <a:pt x="10" y="0"/>
                          </a:lnTo>
                          <a:lnTo>
                            <a:pt x="32" y="29"/>
                          </a:lnTo>
                          <a:lnTo>
                            <a:pt x="18" y="6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8" name=""/>
                    <p:cNvSpPr/>
                    <p:nvPr/>
                  </p:nvSpPr>
                  <p:spPr>
                    <a:xfrm>
                      <a:off x="4002480" y="4465800"/>
                      <a:ext cx="90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9">
                          <a:moveTo>
                            <a:pt x="0" y="0"/>
                          </a:moveTo>
                          <a:lnTo>
                            <a:pt x="32" y="0"/>
                          </a:lnTo>
                          <a:lnTo>
                            <a:pt x="52" y="29"/>
                          </a:lnTo>
                          <a:lnTo>
                            <a:pt x="20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9" name=""/>
                    <p:cNvSpPr/>
                    <p:nvPr/>
                  </p:nvSpPr>
                  <p:spPr>
                    <a:xfrm>
                      <a:off x="4003920" y="447192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6">
                          <a:moveTo>
                            <a:pt x="0" y="26"/>
                          </a:moveTo>
                          <a:lnTo>
                            <a:pt x="10" y="0"/>
                          </a:lnTo>
                          <a:lnTo>
                            <a:pt x="44" y="0"/>
                          </a:lnTo>
                          <a:lnTo>
                            <a:pt x="53" y="26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30" name=""/>
                  <p:cNvGrpSpPr/>
                  <p:nvPr/>
                </p:nvGrpSpPr>
                <p:grpSpPr>
                  <a:xfrm>
                    <a:off x="4004280" y="4473720"/>
                    <a:ext cx="11880" cy="11160"/>
                    <a:chOff x="4004280" y="4473720"/>
                    <a:chExt cx="11880" cy="11160"/>
                  </a:xfrm>
                </p:grpSpPr>
                <p:sp>
                  <p:nvSpPr>
                    <p:cNvPr id="1431" name=""/>
                    <p:cNvSpPr/>
                    <p:nvPr/>
                  </p:nvSpPr>
                  <p:spPr>
                    <a:xfrm>
                      <a:off x="4004280" y="4473720"/>
                      <a:ext cx="61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59">
                          <a:moveTo>
                            <a:pt x="19" y="59"/>
                          </a:moveTo>
                          <a:lnTo>
                            <a:pt x="0" y="29"/>
                          </a:lnTo>
                          <a:lnTo>
                            <a:pt x="11" y="0"/>
                          </a:lnTo>
                          <a:lnTo>
                            <a:pt x="33" y="29"/>
                          </a:lnTo>
                          <a:lnTo>
                            <a:pt x="19" y="59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2" name=""/>
                    <p:cNvSpPr/>
                    <p:nvPr/>
                  </p:nvSpPr>
                  <p:spPr>
                    <a:xfrm>
                      <a:off x="4005360" y="447372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9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2" y="29"/>
                          </a:lnTo>
                          <a:lnTo>
                            <a:pt x="19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3" name=""/>
                    <p:cNvSpPr/>
                    <p:nvPr/>
                  </p:nvSpPr>
                  <p:spPr>
                    <a:xfrm>
                      <a:off x="4007160" y="448020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5">
                          <a:moveTo>
                            <a:pt x="0" y="25"/>
                          </a:moveTo>
                          <a:lnTo>
                            <a:pt x="10" y="0"/>
                          </a:lnTo>
                          <a:lnTo>
                            <a:pt x="44" y="0"/>
                          </a:lnTo>
                          <a:lnTo>
                            <a:pt x="54" y="25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34" name=""/>
                <p:cNvGrpSpPr/>
                <p:nvPr/>
              </p:nvGrpSpPr>
              <p:grpSpPr>
                <a:xfrm>
                  <a:off x="4009320" y="4480200"/>
                  <a:ext cx="12240" cy="10800"/>
                  <a:chOff x="4009320" y="4480200"/>
                  <a:chExt cx="12240" cy="10800"/>
                </a:xfrm>
              </p:grpSpPr>
              <p:sp>
                <p:nvSpPr>
                  <p:cNvPr id="1435" name=""/>
                  <p:cNvSpPr/>
                  <p:nvPr/>
                </p:nvSpPr>
                <p:spPr>
                  <a:xfrm>
                    <a:off x="4009320" y="4480200"/>
                    <a:ext cx="46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61">
                        <a:moveTo>
                          <a:pt x="19" y="61"/>
                        </a:moveTo>
                        <a:lnTo>
                          <a:pt x="0" y="30"/>
                        </a:lnTo>
                        <a:lnTo>
                          <a:pt x="10" y="0"/>
                        </a:lnTo>
                        <a:lnTo>
                          <a:pt x="32" y="30"/>
                        </a:lnTo>
                        <a:lnTo>
                          <a:pt x="19" y="6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4010760" y="4480200"/>
                    <a:ext cx="75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9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1" y="29"/>
                        </a:lnTo>
                        <a:lnTo>
                          <a:pt x="19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4012200" y="448632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6">
                        <a:moveTo>
                          <a:pt x="0" y="26"/>
                        </a:moveTo>
                        <a:lnTo>
                          <a:pt x="10" y="0"/>
                        </a:lnTo>
                        <a:lnTo>
                          <a:pt x="42" y="0"/>
                        </a:lnTo>
                        <a:lnTo>
                          <a:pt x="52" y="26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8" name=""/>
                <p:cNvGrpSpPr/>
                <p:nvPr/>
              </p:nvGrpSpPr>
              <p:grpSpPr>
                <a:xfrm>
                  <a:off x="4012560" y="4486320"/>
                  <a:ext cx="11880" cy="11160"/>
                  <a:chOff x="4012560" y="4486320"/>
                  <a:chExt cx="11880" cy="1116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>
                    <a:off x="4012560" y="4486320"/>
                    <a:ext cx="43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9">
                        <a:moveTo>
                          <a:pt x="18" y="59"/>
                        </a:moveTo>
                        <a:lnTo>
                          <a:pt x="0" y="29"/>
                        </a:lnTo>
                        <a:lnTo>
                          <a:pt x="9" y="0"/>
                        </a:lnTo>
                        <a:lnTo>
                          <a:pt x="32" y="29"/>
                        </a:lnTo>
                        <a:lnTo>
                          <a:pt x="18" y="59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4014000" y="448632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8">
                        <a:moveTo>
                          <a:pt x="0" y="0"/>
                        </a:moveTo>
                        <a:lnTo>
                          <a:pt x="31" y="0"/>
                        </a:lnTo>
                        <a:lnTo>
                          <a:pt x="52" y="28"/>
                        </a:lnTo>
                        <a:lnTo>
                          <a:pt x="20" y="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4015440" y="449280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6">
                        <a:moveTo>
                          <a:pt x="0" y="26"/>
                        </a:moveTo>
                        <a:lnTo>
                          <a:pt x="10" y="0"/>
                        </a:lnTo>
                        <a:lnTo>
                          <a:pt x="44" y="0"/>
                        </a:lnTo>
                        <a:lnTo>
                          <a:pt x="53" y="26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2" name=""/>
                <p:cNvGrpSpPr/>
                <p:nvPr/>
              </p:nvGrpSpPr>
              <p:grpSpPr>
                <a:xfrm>
                  <a:off x="4015800" y="4494240"/>
                  <a:ext cx="11880" cy="11160"/>
                  <a:chOff x="4015800" y="4494240"/>
                  <a:chExt cx="11880" cy="11160"/>
                </a:xfrm>
              </p:grpSpPr>
              <p:sp>
                <p:nvSpPr>
                  <p:cNvPr id="1443" name=""/>
                  <p:cNvSpPr/>
                  <p:nvPr/>
                </p:nvSpPr>
                <p:spPr>
                  <a:xfrm>
                    <a:off x="4015800" y="4494240"/>
                    <a:ext cx="6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58">
                        <a:moveTo>
                          <a:pt x="19" y="58"/>
                        </a:moveTo>
                        <a:lnTo>
                          <a:pt x="0" y="27"/>
                        </a:lnTo>
                        <a:lnTo>
                          <a:pt x="11" y="0"/>
                        </a:lnTo>
                        <a:lnTo>
                          <a:pt x="33" y="27"/>
                        </a:lnTo>
                        <a:lnTo>
                          <a:pt x="19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4016880" y="449424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7">
                        <a:moveTo>
                          <a:pt x="0" y="0"/>
                        </a:moveTo>
                        <a:lnTo>
                          <a:pt x="32" y="0"/>
                        </a:lnTo>
                        <a:lnTo>
                          <a:pt x="51" y="27"/>
                        </a:lnTo>
                        <a:lnTo>
                          <a:pt x="18" y="2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4018680" y="449892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7">
                        <a:moveTo>
                          <a:pt x="0" y="27"/>
                        </a:moveTo>
                        <a:lnTo>
                          <a:pt x="10" y="0"/>
                        </a:lnTo>
                        <a:lnTo>
                          <a:pt x="43" y="0"/>
                        </a:lnTo>
                        <a:lnTo>
                          <a:pt x="51" y="27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6" name=""/>
                <p:cNvGrpSpPr/>
                <p:nvPr/>
              </p:nvGrpSpPr>
              <p:grpSpPr>
                <a:xfrm>
                  <a:off x="4020480" y="4500720"/>
                  <a:ext cx="11880" cy="11160"/>
                  <a:chOff x="4020480" y="4500720"/>
                  <a:chExt cx="11880" cy="11160"/>
                </a:xfrm>
              </p:grpSpPr>
              <p:sp>
                <p:nvSpPr>
                  <p:cNvPr id="1447" name=""/>
                  <p:cNvSpPr/>
                  <p:nvPr/>
                </p:nvSpPr>
                <p:spPr>
                  <a:xfrm>
                    <a:off x="4020480" y="4500720"/>
                    <a:ext cx="43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20" y="58"/>
                        </a:moveTo>
                        <a:lnTo>
                          <a:pt x="0" y="28"/>
                        </a:lnTo>
                        <a:lnTo>
                          <a:pt x="10" y="0"/>
                        </a:lnTo>
                        <a:lnTo>
                          <a:pt x="32" y="28"/>
                        </a:lnTo>
                        <a:lnTo>
                          <a:pt x="20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>
                    <a:off x="4021920" y="450072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9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2" y="29"/>
                        </a:lnTo>
                        <a:lnTo>
                          <a:pt x="20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4023360" y="4506840"/>
                    <a:ext cx="90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4">
                        <a:moveTo>
                          <a:pt x="0" y="24"/>
                        </a:moveTo>
                        <a:lnTo>
                          <a:pt x="9" y="0"/>
                        </a:lnTo>
                        <a:lnTo>
                          <a:pt x="42" y="0"/>
                        </a:lnTo>
                        <a:lnTo>
                          <a:pt x="52" y="24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4023720" y="4506840"/>
                  <a:ext cx="11880" cy="12960"/>
                  <a:chOff x="4023720" y="4506840"/>
                  <a:chExt cx="11880" cy="1296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>
                    <a:off x="4023720" y="4506840"/>
                    <a:ext cx="61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9">
                        <a:moveTo>
                          <a:pt x="18" y="59"/>
                        </a:moveTo>
                        <a:lnTo>
                          <a:pt x="0" y="29"/>
                        </a:lnTo>
                        <a:lnTo>
                          <a:pt x="10" y="0"/>
                        </a:lnTo>
                        <a:lnTo>
                          <a:pt x="32" y="29"/>
                        </a:lnTo>
                        <a:lnTo>
                          <a:pt x="18" y="59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4024800" y="450684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0">
                        <a:moveTo>
                          <a:pt x="0" y="0"/>
                        </a:moveTo>
                        <a:lnTo>
                          <a:pt x="34" y="0"/>
                        </a:lnTo>
                        <a:lnTo>
                          <a:pt x="52" y="30"/>
                        </a:lnTo>
                        <a:lnTo>
                          <a:pt x="20" y="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4026600" y="451332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5">
                        <a:moveTo>
                          <a:pt x="0" y="25"/>
                        </a:moveTo>
                        <a:lnTo>
                          <a:pt x="12" y="0"/>
                        </a:lnTo>
                        <a:lnTo>
                          <a:pt x="44" y="0"/>
                        </a:lnTo>
                        <a:lnTo>
                          <a:pt x="53" y="25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4" name=""/>
                <p:cNvGrpSpPr/>
                <p:nvPr/>
              </p:nvGrpSpPr>
              <p:grpSpPr>
                <a:xfrm>
                  <a:off x="4028400" y="4515120"/>
                  <a:ext cx="11880" cy="10800"/>
                  <a:chOff x="4028400" y="4515120"/>
                  <a:chExt cx="11880" cy="10800"/>
                </a:xfrm>
              </p:grpSpPr>
              <p:sp>
                <p:nvSpPr>
                  <p:cNvPr id="1455" name=""/>
                  <p:cNvSpPr/>
                  <p:nvPr/>
                </p:nvSpPr>
                <p:spPr>
                  <a:xfrm>
                    <a:off x="4028400" y="4515120"/>
                    <a:ext cx="432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18" y="58"/>
                        </a:moveTo>
                        <a:lnTo>
                          <a:pt x="0" y="29"/>
                        </a:lnTo>
                        <a:lnTo>
                          <a:pt x="10" y="0"/>
                        </a:lnTo>
                        <a:lnTo>
                          <a:pt x="32" y="29"/>
                        </a:lnTo>
                        <a:lnTo>
                          <a:pt x="18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>
                    <a:off x="4029840" y="451512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0">
                        <a:moveTo>
                          <a:pt x="0" y="0"/>
                        </a:moveTo>
                        <a:lnTo>
                          <a:pt x="32" y="0"/>
                        </a:lnTo>
                        <a:lnTo>
                          <a:pt x="52" y="30"/>
                        </a:lnTo>
                        <a:lnTo>
                          <a:pt x="19" y="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4031280" y="452124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4">
                        <a:moveTo>
                          <a:pt x="0" y="24"/>
                        </a:moveTo>
                        <a:lnTo>
                          <a:pt x="10" y="0"/>
                        </a:lnTo>
                        <a:lnTo>
                          <a:pt x="44" y="0"/>
                        </a:lnTo>
                        <a:lnTo>
                          <a:pt x="54" y="24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8" name=""/>
                <p:cNvGrpSpPr/>
                <p:nvPr/>
              </p:nvGrpSpPr>
              <p:grpSpPr>
                <a:xfrm>
                  <a:off x="4031640" y="4521240"/>
                  <a:ext cx="11880" cy="11160"/>
                  <a:chOff x="4031640" y="4521240"/>
                  <a:chExt cx="11880" cy="11160"/>
                </a:xfrm>
              </p:grpSpPr>
              <p:sp>
                <p:nvSpPr>
                  <p:cNvPr id="1459" name=""/>
                  <p:cNvSpPr/>
                  <p:nvPr/>
                </p:nvSpPr>
                <p:spPr>
                  <a:xfrm>
                    <a:off x="4031640" y="4521240"/>
                    <a:ext cx="43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9">
                        <a:moveTo>
                          <a:pt x="20" y="59"/>
                        </a:moveTo>
                        <a:lnTo>
                          <a:pt x="0" y="28"/>
                        </a:lnTo>
                        <a:lnTo>
                          <a:pt x="10" y="0"/>
                        </a:lnTo>
                        <a:lnTo>
                          <a:pt x="32" y="28"/>
                        </a:lnTo>
                        <a:lnTo>
                          <a:pt x="20" y="59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>
                    <a:off x="4032720" y="452124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8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2" y="28"/>
                        </a:lnTo>
                        <a:lnTo>
                          <a:pt x="19" y="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4034520" y="452772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6">
                        <a:moveTo>
                          <a:pt x="0" y="26"/>
                        </a:moveTo>
                        <a:lnTo>
                          <a:pt x="9" y="0"/>
                        </a:lnTo>
                        <a:lnTo>
                          <a:pt x="42" y="0"/>
                        </a:lnTo>
                        <a:lnTo>
                          <a:pt x="51" y="26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2" name=""/>
                <p:cNvSpPr/>
                <p:nvPr/>
              </p:nvSpPr>
              <p:spPr>
                <a:xfrm>
                  <a:off x="3985560" y="4415040"/>
                  <a:ext cx="10800" cy="4680"/>
                </a:xfrm>
                <a:custGeom>
                  <a:avLst/>
                  <a:gdLst/>
                  <a:ahLst/>
                  <a:rect l="l" t="t" r="r" b="b"/>
                  <a:pathLst>
                    <a:path w="63" h="30">
                      <a:moveTo>
                        <a:pt x="0" y="0"/>
                      </a:moveTo>
                      <a:lnTo>
                        <a:pt x="22" y="30"/>
                      </a:lnTo>
                      <a:lnTo>
                        <a:pt x="63" y="30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3992040" y="4424400"/>
                  <a:ext cx="10800" cy="6480"/>
                </a:xfrm>
                <a:custGeom>
                  <a:avLst/>
                  <a:gdLst/>
                  <a:ahLst/>
                  <a:rect l="l" t="t" r="r" b="b"/>
                  <a:pathLst>
                    <a:path w="63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3" y="31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3996720" y="4434120"/>
                  <a:ext cx="10800" cy="4680"/>
                </a:xfrm>
                <a:custGeom>
                  <a:avLst/>
                  <a:gdLst/>
                  <a:ahLst/>
                  <a:rect l="l" t="t" r="r" b="b"/>
                  <a:pathLst>
                    <a:path w="64" h="31">
                      <a:moveTo>
                        <a:pt x="0" y="0"/>
                      </a:moveTo>
                      <a:lnTo>
                        <a:pt x="23" y="31"/>
                      </a:lnTo>
                      <a:lnTo>
                        <a:pt x="64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4003200" y="4443480"/>
                  <a:ext cx="10800" cy="6480"/>
                </a:xfrm>
                <a:custGeom>
                  <a:avLst/>
                  <a:gdLst/>
                  <a:ahLst/>
                  <a:rect l="l" t="t" r="r" b="b"/>
                  <a:pathLst>
                    <a:path w="64" h="31">
                      <a:moveTo>
                        <a:pt x="0" y="0"/>
                      </a:moveTo>
                      <a:lnTo>
                        <a:pt x="23" y="31"/>
                      </a:lnTo>
                      <a:lnTo>
                        <a:pt x="64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4007880" y="445320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64" h="30">
                      <a:moveTo>
                        <a:pt x="0" y="0"/>
                      </a:moveTo>
                      <a:lnTo>
                        <a:pt x="23" y="30"/>
                      </a:lnTo>
                      <a:lnTo>
                        <a:pt x="64" y="30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4014360" y="4462560"/>
                  <a:ext cx="10440" cy="6480"/>
                </a:xfrm>
                <a:custGeom>
                  <a:avLst/>
                  <a:gdLst/>
                  <a:ahLst/>
                  <a:rect l="l" t="t" r="r" b="b"/>
                  <a:pathLst>
                    <a:path w="64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4" y="31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4020480" y="4471920"/>
                  <a:ext cx="10800" cy="648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5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4026960" y="4481640"/>
                  <a:ext cx="10800" cy="648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5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4031640" y="4491000"/>
                  <a:ext cx="10800" cy="6480"/>
                </a:xfrm>
                <a:custGeom>
                  <a:avLst/>
                  <a:gdLst/>
                  <a:ahLst/>
                  <a:rect l="l" t="t" r="r" b="b"/>
                  <a:pathLst>
                    <a:path w="63" h="30">
                      <a:moveTo>
                        <a:pt x="0" y="0"/>
                      </a:moveTo>
                      <a:lnTo>
                        <a:pt x="22" y="30"/>
                      </a:lnTo>
                      <a:lnTo>
                        <a:pt x="63" y="30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4038120" y="450072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5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4042800" y="4510080"/>
                  <a:ext cx="12240" cy="648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5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3" name=""/>
                <p:cNvGrpSpPr/>
                <p:nvPr/>
              </p:nvGrpSpPr>
              <p:grpSpPr>
                <a:xfrm>
                  <a:off x="3908160" y="4403880"/>
                  <a:ext cx="13680" cy="11160"/>
                  <a:chOff x="3908160" y="4403880"/>
                  <a:chExt cx="13680" cy="11160"/>
                </a:xfrm>
              </p:grpSpPr>
              <p:sp>
                <p:nvSpPr>
                  <p:cNvPr id="1474" name=""/>
                  <p:cNvSpPr/>
                  <p:nvPr/>
                </p:nvSpPr>
                <p:spPr>
                  <a:xfrm>
                    <a:off x="3908160" y="440388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1" y="59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9" y="27"/>
                        </a:lnTo>
                        <a:lnTo>
                          <a:pt x="11" y="59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3909240" y="440388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3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9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3909240" y="440856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7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7" name=""/>
                <p:cNvGrpSpPr/>
                <p:nvPr/>
              </p:nvGrpSpPr>
              <p:grpSpPr>
                <a:xfrm>
                  <a:off x="3911040" y="4411800"/>
                  <a:ext cx="13680" cy="11160"/>
                  <a:chOff x="3911040" y="4411800"/>
                  <a:chExt cx="13680" cy="11160"/>
                </a:xfrm>
              </p:grpSpPr>
              <p:sp>
                <p:nvSpPr>
                  <p:cNvPr id="1478" name=""/>
                  <p:cNvSpPr/>
                  <p:nvPr/>
                </p:nvSpPr>
                <p:spPr>
                  <a:xfrm>
                    <a:off x="3911040" y="441180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9" y="27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3912120" y="441180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3913920" y="441648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4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1" name=""/>
                <p:cNvGrpSpPr/>
                <p:nvPr/>
              </p:nvGrpSpPr>
              <p:grpSpPr>
                <a:xfrm>
                  <a:off x="3915720" y="4418280"/>
                  <a:ext cx="13680" cy="10800"/>
                  <a:chOff x="3915720" y="4418280"/>
                  <a:chExt cx="13680" cy="10800"/>
                </a:xfrm>
              </p:grpSpPr>
              <p:sp>
                <p:nvSpPr>
                  <p:cNvPr id="1482" name=""/>
                  <p:cNvSpPr/>
                  <p:nvPr/>
                </p:nvSpPr>
                <p:spPr>
                  <a:xfrm>
                    <a:off x="3915720" y="4418280"/>
                    <a:ext cx="28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8" y="27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3917160" y="441828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7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4"/>
                        </a:lnTo>
                        <a:lnTo>
                          <a:pt x="46" y="11"/>
                        </a:lnTo>
                        <a:lnTo>
                          <a:pt x="58" y="27"/>
                        </a:lnTo>
                        <a:lnTo>
                          <a:pt x="15" y="27"/>
                        </a:lnTo>
                        <a:lnTo>
                          <a:pt x="7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3917160" y="442296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7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5" name=""/>
                <p:cNvGrpSpPr/>
                <p:nvPr/>
              </p:nvGrpSpPr>
              <p:grpSpPr>
                <a:xfrm>
                  <a:off x="3918960" y="4427640"/>
                  <a:ext cx="13680" cy="11160"/>
                  <a:chOff x="3918960" y="4427640"/>
                  <a:chExt cx="13680" cy="11160"/>
                </a:xfrm>
              </p:grpSpPr>
              <p:sp>
                <p:nvSpPr>
                  <p:cNvPr id="1486" name=""/>
                  <p:cNvSpPr/>
                  <p:nvPr/>
                </p:nvSpPr>
                <p:spPr>
                  <a:xfrm>
                    <a:off x="3918960" y="442764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1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19" y="27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3920040" y="442764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0"/>
                        </a:lnTo>
                        <a:lnTo>
                          <a:pt x="59" y="26"/>
                        </a:lnTo>
                        <a:lnTo>
                          <a:pt x="14" y="26"/>
                        </a:lnTo>
                        <a:lnTo>
                          <a:pt x="7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3921840" y="443232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6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8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9" name=""/>
                <p:cNvGrpSpPr/>
                <p:nvPr/>
              </p:nvGrpSpPr>
              <p:grpSpPr>
                <a:xfrm>
                  <a:off x="3922200" y="4435560"/>
                  <a:ext cx="37440" cy="54000"/>
                  <a:chOff x="3922200" y="4435560"/>
                  <a:chExt cx="37440" cy="54000"/>
                </a:xfrm>
              </p:grpSpPr>
              <p:sp>
                <p:nvSpPr>
                  <p:cNvPr id="1490" name=""/>
                  <p:cNvSpPr/>
                  <p:nvPr/>
                </p:nvSpPr>
                <p:spPr>
                  <a:xfrm>
                    <a:off x="3922200" y="4435560"/>
                    <a:ext cx="266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269">
                        <a:moveTo>
                          <a:pt x="138" y="269"/>
                        </a:moveTo>
                        <a:lnTo>
                          <a:pt x="0" y="23"/>
                        </a:lnTo>
                        <a:lnTo>
                          <a:pt x="10" y="0"/>
                        </a:lnTo>
                        <a:lnTo>
                          <a:pt x="147" y="238"/>
                        </a:lnTo>
                        <a:lnTo>
                          <a:pt x="138" y="26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>
                    <a:off x="3923280" y="4435560"/>
                    <a:ext cx="3456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240">
                        <a:moveTo>
                          <a:pt x="2" y="0"/>
                        </a:moveTo>
                        <a:lnTo>
                          <a:pt x="46" y="0"/>
                        </a:lnTo>
                        <a:lnTo>
                          <a:pt x="47" y="0"/>
                        </a:lnTo>
                        <a:lnTo>
                          <a:pt x="54" y="9"/>
                        </a:lnTo>
                        <a:lnTo>
                          <a:pt x="191" y="240"/>
                        </a:lnTo>
                        <a:lnTo>
                          <a:pt x="135" y="237"/>
                        </a:lnTo>
                        <a:lnTo>
                          <a:pt x="8" y="16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3947040" y="448308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7" y="6"/>
                        </a:lnTo>
                        <a:lnTo>
                          <a:pt x="10" y="0"/>
                        </a:lnTo>
                        <a:lnTo>
                          <a:pt x="62" y="0"/>
                        </a:lnTo>
                        <a:lnTo>
                          <a:pt x="77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3" name=""/>
                <p:cNvGrpSpPr/>
                <p:nvPr/>
              </p:nvGrpSpPr>
              <p:grpSpPr>
                <a:xfrm>
                  <a:off x="3949200" y="4484880"/>
                  <a:ext cx="11880" cy="11160"/>
                  <a:chOff x="3949200" y="4484880"/>
                  <a:chExt cx="11880" cy="11160"/>
                </a:xfrm>
              </p:grpSpPr>
              <p:sp>
                <p:nvSpPr>
                  <p:cNvPr id="1494" name=""/>
                  <p:cNvSpPr/>
                  <p:nvPr/>
                </p:nvSpPr>
                <p:spPr>
                  <a:xfrm>
                    <a:off x="3949200" y="448488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9" y="27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5" name=""/>
                  <p:cNvSpPr/>
                  <p:nvPr/>
                </p:nvSpPr>
                <p:spPr>
                  <a:xfrm>
                    <a:off x="3949200" y="448488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>
                    <a:off x="3950280" y="448956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7"/>
                        </a:lnTo>
                        <a:lnTo>
                          <a:pt x="4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7" name=""/>
                <p:cNvGrpSpPr/>
                <p:nvPr/>
              </p:nvGrpSpPr>
              <p:grpSpPr>
                <a:xfrm>
                  <a:off x="3952440" y="4492800"/>
                  <a:ext cx="13320" cy="11160"/>
                  <a:chOff x="3952440" y="4492800"/>
                  <a:chExt cx="13320" cy="1116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3952440" y="4492800"/>
                    <a:ext cx="25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8" y="26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3953520" y="449280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5" y="10"/>
                        </a:lnTo>
                        <a:lnTo>
                          <a:pt x="58" y="25"/>
                        </a:lnTo>
                        <a:lnTo>
                          <a:pt x="13" y="25"/>
                        </a:lnTo>
                        <a:lnTo>
                          <a:pt x="7" y="18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3953520" y="4497480"/>
                    <a:ext cx="12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1" name=""/>
                <p:cNvGrpSpPr/>
                <p:nvPr/>
              </p:nvGrpSpPr>
              <p:grpSpPr>
                <a:xfrm>
                  <a:off x="4017240" y="4521240"/>
                  <a:ext cx="13680" cy="11160"/>
                  <a:chOff x="4017240" y="4521240"/>
                  <a:chExt cx="13680" cy="11160"/>
                </a:xfrm>
              </p:grpSpPr>
              <p:sp>
                <p:nvSpPr>
                  <p:cNvPr id="1502" name=""/>
                  <p:cNvSpPr/>
                  <p:nvPr/>
                </p:nvSpPr>
                <p:spPr>
                  <a:xfrm>
                    <a:off x="4017240" y="452124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9">
                        <a:moveTo>
                          <a:pt x="10" y="59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8" y="27"/>
                        </a:lnTo>
                        <a:lnTo>
                          <a:pt x="10" y="59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>
                    <a:off x="4018680" y="452124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2" y="0"/>
                        </a:moveTo>
                        <a:lnTo>
                          <a:pt x="42" y="0"/>
                        </a:lnTo>
                        <a:lnTo>
                          <a:pt x="43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9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4020120" y="452592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1">
                        <a:moveTo>
                          <a:pt x="0" y="31"/>
                        </a:moveTo>
                        <a:lnTo>
                          <a:pt x="2" y="17"/>
                        </a:lnTo>
                        <a:lnTo>
                          <a:pt x="6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8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5" name=""/>
                <p:cNvGrpSpPr/>
                <p:nvPr/>
              </p:nvGrpSpPr>
              <p:grpSpPr>
                <a:xfrm>
                  <a:off x="3974400" y="4508640"/>
                  <a:ext cx="13680" cy="11160"/>
                  <a:chOff x="3974400" y="4508640"/>
                  <a:chExt cx="13680" cy="11160"/>
                </a:xfrm>
              </p:grpSpPr>
              <p:sp>
                <p:nvSpPr>
                  <p:cNvPr id="1506" name=""/>
                  <p:cNvSpPr/>
                  <p:nvPr/>
                </p:nvSpPr>
                <p:spPr>
                  <a:xfrm>
                    <a:off x="3974400" y="450864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1" y="59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9" y="27"/>
                        </a:lnTo>
                        <a:lnTo>
                          <a:pt x="11" y="59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3975840" y="450864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3975840" y="4513320"/>
                    <a:ext cx="12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5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9" name=""/>
                <p:cNvGrpSpPr/>
                <p:nvPr/>
              </p:nvGrpSpPr>
              <p:grpSpPr>
                <a:xfrm>
                  <a:off x="3977640" y="4515120"/>
                  <a:ext cx="11880" cy="10800"/>
                  <a:chOff x="3977640" y="4515120"/>
                  <a:chExt cx="11880" cy="10800"/>
                </a:xfrm>
              </p:grpSpPr>
              <p:sp>
                <p:nvSpPr>
                  <p:cNvPr id="1510" name=""/>
                  <p:cNvSpPr/>
                  <p:nvPr/>
                </p:nvSpPr>
                <p:spPr>
                  <a:xfrm>
                    <a:off x="3977640" y="4515120"/>
                    <a:ext cx="28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2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20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3977640" y="4515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3979080" y="4519800"/>
                    <a:ext cx="104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3" name=""/>
                <p:cNvSpPr/>
                <p:nvPr/>
              </p:nvSpPr>
              <p:spPr>
                <a:xfrm>
                  <a:off x="3988800" y="4515120"/>
                  <a:ext cx="7560" cy="20520"/>
                </a:xfrm>
                <a:custGeom>
                  <a:avLst/>
                  <a:gdLst/>
                  <a:ahLst/>
                  <a:rect l="l" t="t" r="r" b="b"/>
                  <a:pathLst>
                    <a:path w="41" h="110">
                      <a:moveTo>
                        <a:pt x="33" y="110"/>
                      </a:moveTo>
                      <a:lnTo>
                        <a:pt x="0" y="25"/>
                      </a:lnTo>
                      <a:lnTo>
                        <a:pt x="0" y="17"/>
                      </a:lnTo>
                      <a:lnTo>
                        <a:pt x="2" y="10"/>
                      </a:lnTo>
                      <a:lnTo>
                        <a:pt x="8" y="0"/>
                      </a:lnTo>
                      <a:lnTo>
                        <a:pt x="41" y="78"/>
                      </a:lnTo>
                      <a:lnTo>
                        <a:pt x="33" y="11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3990240" y="4515120"/>
                  <a:ext cx="26640" cy="14040"/>
                </a:xfrm>
                <a:custGeom>
                  <a:avLst/>
                  <a:gdLst/>
                  <a:ahLst/>
                  <a:rect l="l" t="t" r="r" b="b"/>
                  <a:pathLst>
                    <a:path w="149" h="72">
                      <a:moveTo>
                        <a:pt x="0" y="0"/>
                      </a:moveTo>
                      <a:lnTo>
                        <a:pt x="53" y="0"/>
                      </a:lnTo>
                      <a:lnTo>
                        <a:pt x="55" y="11"/>
                      </a:lnTo>
                      <a:lnTo>
                        <a:pt x="61" y="24"/>
                      </a:lnTo>
                      <a:lnTo>
                        <a:pt x="69" y="36"/>
                      </a:lnTo>
                      <a:lnTo>
                        <a:pt x="128" y="36"/>
                      </a:lnTo>
                      <a:lnTo>
                        <a:pt x="133" y="47"/>
                      </a:lnTo>
                      <a:lnTo>
                        <a:pt x="140" y="57"/>
                      </a:lnTo>
                      <a:lnTo>
                        <a:pt x="149" y="72"/>
                      </a:lnTo>
                      <a:lnTo>
                        <a:pt x="53" y="72"/>
                      </a:lnTo>
                      <a:lnTo>
                        <a:pt x="33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3995280" y="4529160"/>
                  <a:ext cx="23400" cy="6480"/>
                </a:xfrm>
                <a:custGeom>
                  <a:avLst/>
                  <a:gdLst/>
                  <a:ahLst/>
                  <a:rect l="l" t="t" r="r" b="b"/>
                  <a:pathLst>
                    <a:path w="130" h="30">
                      <a:moveTo>
                        <a:pt x="0" y="30"/>
                      </a:moveTo>
                      <a:lnTo>
                        <a:pt x="1" y="16"/>
                      </a:lnTo>
                      <a:lnTo>
                        <a:pt x="5" y="6"/>
                      </a:lnTo>
                      <a:lnTo>
                        <a:pt x="9" y="0"/>
                      </a:lnTo>
                      <a:lnTo>
                        <a:pt x="122" y="0"/>
                      </a:lnTo>
                      <a:lnTo>
                        <a:pt x="130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6" name=""/>
              <p:cNvGrpSpPr/>
              <p:nvPr/>
            </p:nvGrpSpPr>
            <p:grpSpPr>
              <a:xfrm>
                <a:off x="3970080" y="4548240"/>
                <a:ext cx="118800" cy="27000"/>
                <a:chOff x="3970080" y="4548240"/>
                <a:chExt cx="118800" cy="27000"/>
              </a:xfrm>
            </p:grpSpPr>
            <p:sp>
              <p:nvSpPr>
                <p:cNvPr id="1517" name=""/>
                <p:cNvSpPr/>
                <p:nvPr/>
              </p:nvSpPr>
              <p:spPr>
                <a:xfrm>
                  <a:off x="3970080" y="4548240"/>
                  <a:ext cx="118800" cy="27000"/>
                </a:xfrm>
                <a:custGeom>
                  <a:avLst/>
                  <a:gdLst/>
                  <a:ahLst/>
                  <a:rect l="l" t="t" r="r" b="b"/>
                  <a:pathLst>
                    <a:path w="669" h="130">
                      <a:moveTo>
                        <a:pt x="29" y="11"/>
                      </a:moveTo>
                      <a:lnTo>
                        <a:pt x="14" y="23"/>
                      </a:lnTo>
                      <a:lnTo>
                        <a:pt x="8" y="42"/>
                      </a:lnTo>
                      <a:lnTo>
                        <a:pt x="0" y="84"/>
                      </a:lnTo>
                      <a:lnTo>
                        <a:pt x="4" y="107"/>
                      </a:lnTo>
                      <a:lnTo>
                        <a:pt x="11" y="119"/>
                      </a:lnTo>
                      <a:lnTo>
                        <a:pt x="22" y="130"/>
                      </a:lnTo>
                      <a:lnTo>
                        <a:pt x="635" y="122"/>
                      </a:lnTo>
                      <a:lnTo>
                        <a:pt x="654" y="110"/>
                      </a:lnTo>
                      <a:lnTo>
                        <a:pt x="662" y="92"/>
                      </a:lnTo>
                      <a:lnTo>
                        <a:pt x="669" y="53"/>
                      </a:lnTo>
                      <a:lnTo>
                        <a:pt x="666" y="23"/>
                      </a:lnTo>
                      <a:lnTo>
                        <a:pt x="653" y="8"/>
                      </a:lnTo>
                      <a:lnTo>
                        <a:pt x="636" y="0"/>
                      </a:lnTo>
                      <a:lnTo>
                        <a:pt x="2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3985560" y="4554720"/>
                  <a:ext cx="93240" cy="14040"/>
                </a:xfrm>
                <a:custGeom>
                  <a:avLst/>
                  <a:gdLst/>
                  <a:ahLst/>
                  <a:rect l="l" t="t" r="r" b="b"/>
                  <a:pathLst>
                    <a:path w="533" h="68">
                      <a:moveTo>
                        <a:pt x="3" y="20"/>
                      </a:moveTo>
                      <a:lnTo>
                        <a:pt x="0" y="43"/>
                      </a:lnTo>
                      <a:lnTo>
                        <a:pt x="124" y="43"/>
                      </a:lnTo>
                      <a:lnTo>
                        <a:pt x="124" y="68"/>
                      </a:lnTo>
                      <a:lnTo>
                        <a:pt x="405" y="62"/>
                      </a:lnTo>
                      <a:lnTo>
                        <a:pt x="405" y="43"/>
                      </a:lnTo>
                      <a:lnTo>
                        <a:pt x="531" y="43"/>
                      </a:lnTo>
                      <a:lnTo>
                        <a:pt x="533" y="20"/>
                      </a:lnTo>
                      <a:lnTo>
                        <a:pt x="409" y="20"/>
                      </a:lnTo>
                      <a:lnTo>
                        <a:pt x="409" y="0"/>
                      </a:lnTo>
                      <a:lnTo>
                        <a:pt x="124" y="7"/>
                      </a:lnTo>
                      <a:lnTo>
                        <a:pt x="124" y="20"/>
                      </a:lnTo>
                      <a:lnTo>
                        <a:pt x="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3987360" y="4567320"/>
                  <a:ext cx="7560" cy="3240"/>
                </a:xfrm>
                <a:prstGeom prst="rect">
                  <a:avLst/>
                </a:prstGeom>
                <a:solidFill>
                  <a:srgbClr val="00a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4060080" y="4565880"/>
                  <a:ext cx="15840" cy="4680"/>
                </a:xfrm>
                <a:prstGeom prst="rect">
                  <a:avLst/>
                </a:prstGeom>
                <a:solidFill>
                  <a:srgbClr val="20202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1" name=""/>
              <p:cNvGrpSpPr/>
              <p:nvPr/>
            </p:nvGrpSpPr>
            <p:grpSpPr>
              <a:xfrm>
                <a:off x="4059000" y="4373640"/>
                <a:ext cx="143640" cy="163440"/>
                <a:chOff x="4059000" y="4373640"/>
                <a:chExt cx="143640" cy="16344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4176000" y="4502160"/>
                  <a:ext cx="26640" cy="34920"/>
                </a:xfrm>
                <a:custGeom>
                  <a:avLst/>
                  <a:gdLst/>
                  <a:ahLst/>
                  <a:rect l="l" t="t" r="r" b="b"/>
                  <a:pathLst>
                    <a:path w="154" h="171">
                      <a:moveTo>
                        <a:pt x="102" y="8"/>
                      </a:moveTo>
                      <a:lnTo>
                        <a:pt x="75" y="0"/>
                      </a:lnTo>
                      <a:lnTo>
                        <a:pt x="48" y="4"/>
                      </a:lnTo>
                      <a:lnTo>
                        <a:pt x="25" y="14"/>
                      </a:lnTo>
                      <a:lnTo>
                        <a:pt x="7" y="38"/>
                      </a:lnTo>
                      <a:lnTo>
                        <a:pt x="0" y="80"/>
                      </a:lnTo>
                      <a:lnTo>
                        <a:pt x="0" y="117"/>
                      </a:lnTo>
                      <a:lnTo>
                        <a:pt x="0" y="171"/>
                      </a:lnTo>
                      <a:lnTo>
                        <a:pt x="154" y="171"/>
                      </a:lnTo>
                      <a:lnTo>
                        <a:pt x="147" y="69"/>
                      </a:lnTo>
                      <a:lnTo>
                        <a:pt x="126" y="25"/>
                      </a:lnTo>
                      <a:lnTo>
                        <a:pt x="102" y="8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4059000" y="4373640"/>
                  <a:ext cx="122040" cy="135000"/>
                </a:xfrm>
                <a:custGeom>
                  <a:avLst/>
                  <a:gdLst/>
                  <a:ahLst/>
                  <a:rect l="l" t="t" r="r" b="b"/>
                  <a:pathLst>
                    <a:path w="696" h="676">
                      <a:moveTo>
                        <a:pt x="0" y="0"/>
                      </a:moveTo>
                      <a:lnTo>
                        <a:pt x="696" y="653"/>
                      </a:lnTo>
                      <a:lnTo>
                        <a:pt x="688" y="664"/>
                      </a:lnTo>
                      <a:lnTo>
                        <a:pt x="678" y="6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4142880" y="4461120"/>
                  <a:ext cx="39240" cy="63360"/>
                </a:xfrm>
                <a:custGeom>
                  <a:avLst/>
                  <a:gdLst/>
                  <a:ahLst/>
                  <a:rect l="l" t="t" r="r" b="b"/>
                  <a:pathLst>
                    <a:path w="228" h="313">
                      <a:moveTo>
                        <a:pt x="3" y="81"/>
                      </a:moveTo>
                      <a:lnTo>
                        <a:pt x="19" y="53"/>
                      </a:lnTo>
                      <a:lnTo>
                        <a:pt x="44" y="37"/>
                      </a:lnTo>
                      <a:lnTo>
                        <a:pt x="63" y="36"/>
                      </a:lnTo>
                      <a:lnTo>
                        <a:pt x="103" y="37"/>
                      </a:lnTo>
                      <a:lnTo>
                        <a:pt x="106" y="0"/>
                      </a:lnTo>
                      <a:lnTo>
                        <a:pt x="228" y="111"/>
                      </a:lnTo>
                      <a:lnTo>
                        <a:pt x="220" y="153"/>
                      </a:lnTo>
                      <a:lnTo>
                        <a:pt x="184" y="145"/>
                      </a:lnTo>
                      <a:lnTo>
                        <a:pt x="154" y="157"/>
                      </a:lnTo>
                      <a:lnTo>
                        <a:pt x="128" y="179"/>
                      </a:lnTo>
                      <a:lnTo>
                        <a:pt x="121" y="198"/>
                      </a:lnTo>
                      <a:lnTo>
                        <a:pt x="120" y="252"/>
                      </a:lnTo>
                      <a:lnTo>
                        <a:pt x="120" y="289"/>
                      </a:lnTo>
                      <a:lnTo>
                        <a:pt x="121" y="313"/>
                      </a:lnTo>
                      <a:lnTo>
                        <a:pt x="0" y="196"/>
                      </a:lnTo>
                      <a:lnTo>
                        <a:pt x="0" y="119"/>
                      </a:lnTo>
                      <a:lnTo>
                        <a:pt x="3" y="8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4160160" y="4469040"/>
                  <a:ext cx="21960" cy="219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4061880" y="4378320"/>
                  <a:ext cx="31320" cy="49320"/>
                </a:xfrm>
                <a:custGeom>
                  <a:avLst/>
                  <a:gdLst/>
                  <a:ahLst/>
                  <a:rect l="l" t="t" r="r" b="b"/>
                  <a:pathLst>
                    <a:path w="180" h="247">
                      <a:moveTo>
                        <a:pt x="9" y="84"/>
                      </a:moveTo>
                      <a:lnTo>
                        <a:pt x="23" y="55"/>
                      </a:lnTo>
                      <a:lnTo>
                        <a:pt x="44" y="38"/>
                      </a:lnTo>
                      <a:lnTo>
                        <a:pt x="66" y="35"/>
                      </a:lnTo>
                      <a:lnTo>
                        <a:pt x="107" y="36"/>
                      </a:lnTo>
                      <a:lnTo>
                        <a:pt x="110" y="0"/>
                      </a:lnTo>
                      <a:lnTo>
                        <a:pt x="180" y="69"/>
                      </a:lnTo>
                      <a:lnTo>
                        <a:pt x="177" y="103"/>
                      </a:lnTo>
                      <a:lnTo>
                        <a:pt x="155" y="101"/>
                      </a:lnTo>
                      <a:lnTo>
                        <a:pt x="137" y="99"/>
                      </a:lnTo>
                      <a:lnTo>
                        <a:pt x="110" y="107"/>
                      </a:lnTo>
                      <a:lnTo>
                        <a:pt x="96" y="117"/>
                      </a:lnTo>
                      <a:lnTo>
                        <a:pt x="83" y="138"/>
                      </a:lnTo>
                      <a:lnTo>
                        <a:pt x="80" y="164"/>
                      </a:lnTo>
                      <a:lnTo>
                        <a:pt x="76" y="247"/>
                      </a:lnTo>
                      <a:lnTo>
                        <a:pt x="0" y="169"/>
                      </a:lnTo>
                      <a:lnTo>
                        <a:pt x="3" y="118"/>
                      </a:lnTo>
                      <a:lnTo>
                        <a:pt x="9" y="84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4123800" y="4449960"/>
                  <a:ext cx="16920" cy="31680"/>
                </a:xfrm>
                <a:custGeom>
                  <a:avLst/>
                  <a:gdLst/>
                  <a:ahLst/>
                  <a:rect l="l" t="t" r="r" b="b"/>
                  <a:pathLst>
                    <a:path w="104" h="159">
                      <a:moveTo>
                        <a:pt x="104" y="5"/>
                      </a:moveTo>
                      <a:lnTo>
                        <a:pt x="48" y="0"/>
                      </a:lnTo>
                      <a:lnTo>
                        <a:pt x="25" y="12"/>
                      </a:lnTo>
                      <a:lnTo>
                        <a:pt x="8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4119120" y="4443480"/>
                  <a:ext cx="16920" cy="31680"/>
                </a:xfrm>
                <a:custGeom>
                  <a:avLst/>
                  <a:gdLst/>
                  <a:ahLst/>
                  <a:rect l="l" t="t" r="r" b="b"/>
                  <a:pathLst>
                    <a:path w="102" h="159">
                      <a:moveTo>
                        <a:pt x="102" y="3"/>
                      </a:moveTo>
                      <a:lnTo>
                        <a:pt x="48" y="0"/>
                      </a:lnTo>
                      <a:lnTo>
                        <a:pt x="20" y="13"/>
                      </a:lnTo>
                      <a:lnTo>
                        <a:pt x="7" y="34"/>
                      </a:lnTo>
                      <a:lnTo>
                        <a:pt x="0" y="75"/>
                      </a:lnTo>
                      <a:lnTo>
                        <a:pt x="0" y="159"/>
                      </a:lnTo>
                      <a:lnTo>
                        <a:pt x="0" y="15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4114080" y="4438800"/>
                  <a:ext cx="17280" cy="3168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5"/>
                      </a:moveTo>
                      <a:lnTo>
                        <a:pt x="48" y="0"/>
                      </a:lnTo>
                      <a:lnTo>
                        <a:pt x="25" y="12"/>
                      </a:lnTo>
                      <a:lnTo>
                        <a:pt x="7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4107960" y="4432320"/>
                  <a:ext cx="18720" cy="3168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4"/>
                      </a:moveTo>
                      <a:lnTo>
                        <a:pt x="48" y="0"/>
                      </a:lnTo>
                      <a:lnTo>
                        <a:pt x="26" y="9"/>
                      </a:lnTo>
                      <a:lnTo>
                        <a:pt x="7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4102920" y="4427640"/>
                  <a:ext cx="17280" cy="3168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3"/>
                      </a:moveTo>
                      <a:lnTo>
                        <a:pt x="48" y="0"/>
                      </a:lnTo>
                      <a:lnTo>
                        <a:pt x="26" y="11"/>
                      </a:lnTo>
                      <a:lnTo>
                        <a:pt x="8" y="34"/>
                      </a:lnTo>
                      <a:lnTo>
                        <a:pt x="0" y="75"/>
                      </a:lnTo>
                      <a:lnTo>
                        <a:pt x="0" y="159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4098240" y="4421160"/>
                  <a:ext cx="17280" cy="3204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3"/>
                      </a:moveTo>
                      <a:lnTo>
                        <a:pt x="47" y="0"/>
                      </a:lnTo>
                      <a:lnTo>
                        <a:pt x="26" y="12"/>
                      </a:lnTo>
                      <a:lnTo>
                        <a:pt x="7" y="34"/>
                      </a:lnTo>
                      <a:lnTo>
                        <a:pt x="0" y="75"/>
                      </a:lnTo>
                      <a:lnTo>
                        <a:pt x="0" y="159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4093560" y="4415040"/>
                  <a:ext cx="17280" cy="3168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4"/>
                      </a:moveTo>
                      <a:lnTo>
                        <a:pt x="48" y="0"/>
                      </a:lnTo>
                      <a:lnTo>
                        <a:pt x="26" y="13"/>
                      </a:lnTo>
                      <a:lnTo>
                        <a:pt x="7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4087080" y="4410360"/>
                  <a:ext cx="18720" cy="31680"/>
                </a:xfrm>
                <a:custGeom>
                  <a:avLst/>
                  <a:gdLst/>
                  <a:ahLst/>
                  <a:rect l="l" t="t" r="r" b="b"/>
                  <a:pathLst>
                    <a:path w="102" h="159">
                      <a:moveTo>
                        <a:pt x="102" y="3"/>
                      </a:moveTo>
                      <a:lnTo>
                        <a:pt x="48" y="0"/>
                      </a:lnTo>
                      <a:lnTo>
                        <a:pt x="26" y="11"/>
                      </a:lnTo>
                      <a:lnTo>
                        <a:pt x="7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4080960" y="4386240"/>
                  <a:ext cx="13680" cy="12960"/>
                </a:xfrm>
                <a:custGeom>
                  <a:avLst/>
                  <a:gdLst/>
                  <a:ahLst/>
                  <a:rect l="l" t="t" r="r" b="b"/>
                  <a:pathLst>
                    <a:path w="77" h="64">
                      <a:moveTo>
                        <a:pt x="0" y="0"/>
                      </a:moveTo>
                      <a:lnTo>
                        <a:pt x="72" y="64"/>
                      </a:lnTo>
                      <a:lnTo>
                        <a:pt x="77" y="64"/>
                      </a:lnTo>
                      <a:lnTo>
                        <a:pt x="75" y="6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4090320" y="4524480"/>
                  <a:ext cx="21960" cy="126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4117320" y="4523040"/>
                  <a:ext cx="21960" cy="126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139640" y="4530960"/>
                  <a:ext cx="26640" cy="2880"/>
                </a:xfrm>
                <a:custGeom>
                  <a:avLst/>
                  <a:gdLst/>
                  <a:ahLst/>
                  <a:rect l="l" t="t" r="r" b="b"/>
                  <a:pathLst>
                    <a:path w="152" h="22">
                      <a:moveTo>
                        <a:pt x="0" y="22"/>
                      </a:moveTo>
                      <a:lnTo>
                        <a:pt x="4" y="0"/>
                      </a:lnTo>
                      <a:lnTo>
                        <a:pt x="142" y="0"/>
                      </a:lnTo>
                      <a:lnTo>
                        <a:pt x="152" y="16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4090320" y="4521240"/>
                  <a:ext cx="21960" cy="14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4115880" y="4521240"/>
                  <a:ext cx="21600" cy="126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541" name="" descr=""/>
          <p:cNvPicPr/>
          <p:nvPr/>
        </p:nvPicPr>
        <p:blipFill>
          <a:blip r:embed="rId21"/>
          <a:stretch/>
        </p:blipFill>
        <p:spPr>
          <a:xfrm>
            <a:off x="3048120" y="3429000"/>
            <a:ext cx="590400" cy="442800"/>
          </a:xfrm>
          <a:prstGeom prst="rect">
            <a:avLst/>
          </a:prstGeom>
          <a:ln w="0">
            <a:noFill/>
          </a:ln>
        </p:spPr>
      </p:pic>
      <p:sp>
        <p:nvSpPr>
          <p:cNvPr id="1542" name=""/>
          <p:cNvSpPr/>
          <p:nvPr/>
        </p:nvSpPr>
        <p:spPr>
          <a:xfrm>
            <a:off x="685800" y="1828800"/>
            <a:ext cx="3505320" cy="129528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x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3" name=""/>
          <p:cNvGrpSpPr/>
          <p:nvPr/>
        </p:nvGrpSpPr>
        <p:grpSpPr>
          <a:xfrm>
            <a:off x="2112120" y="4084200"/>
            <a:ext cx="1137600" cy="615960"/>
            <a:chOff x="2112120" y="4084200"/>
            <a:chExt cx="1137600" cy="615960"/>
          </a:xfrm>
        </p:grpSpPr>
        <p:sp>
          <p:nvSpPr>
            <p:cNvPr id="1544" name=""/>
            <p:cNvSpPr/>
            <p:nvPr/>
          </p:nvSpPr>
          <p:spPr>
            <a:xfrm rot="19800000">
              <a:off x="2121840" y="4647600"/>
              <a:ext cx="25920" cy="47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7" y="0"/>
                  </a:moveTo>
                  <a:lnTo>
                    <a:pt x="12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1"/>
                  </a:lnTo>
                  <a:lnTo>
                    <a:pt x="23" y="16"/>
                  </a:lnTo>
                  <a:lnTo>
                    <a:pt x="23" y="12"/>
                  </a:lnTo>
                  <a:lnTo>
                    <a:pt x="23" y="7"/>
                  </a:lnTo>
                  <a:lnTo>
                    <a:pt x="20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19800000">
              <a:off x="2183400" y="4646160"/>
              <a:ext cx="27000" cy="493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7" y="1"/>
                  </a:moveTo>
                  <a:lnTo>
                    <a:pt x="11" y="0"/>
                  </a:lnTo>
                  <a:lnTo>
                    <a:pt x="7" y="1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2" y="22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1" y="25"/>
                  </a:lnTo>
                  <a:lnTo>
                    <a:pt x="17" y="23"/>
                  </a:lnTo>
                  <a:lnTo>
                    <a:pt x="20" y="22"/>
                  </a:lnTo>
                  <a:lnTo>
                    <a:pt x="23" y="17"/>
                  </a:lnTo>
                  <a:lnTo>
                    <a:pt x="24" y="13"/>
                  </a:lnTo>
                  <a:lnTo>
                    <a:pt x="23" y="7"/>
                  </a:lnTo>
                  <a:lnTo>
                    <a:pt x="20" y="4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rot="19800000">
              <a:off x="2243880" y="4647240"/>
              <a:ext cx="28080" cy="48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8" y="0"/>
                  </a:moveTo>
                  <a:lnTo>
                    <a:pt x="13" y="0"/>
                  </a:lnTo>
                  <a:lnTo>
                    <a:pt x="7" y="0"/>
                  </a:lnTo>
                  <a:lnTo>
                    <a:pt x="5" y="3"/>
                  </a:lnTo>
                  <a:lnTo>
                    <a:pt x="2" y="7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5" y="20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13" y="25"/>
                  </a:lnTo>
                  <a:lnTo>
                    <a:pt x="18" y="23"/>
                  </a:lnTo>
                  <a:lnTo>
                    <a:pt x="22" y="20"/>
                  </a:lnTo>
                  <a:lnTo>
                    <a:pt x="24" y="16"/>
                  </a:lnTo>
                  <a:lnTo>
                    <a:pt x="25" y="11"/>
                  </a:lnTo>
                  <a:lnTo>
                    <a:pt x="24" y="7"/>
                  </a:lnTo>
                  <a:lnTo>
                    <a:pt x="22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rot="19800000">
              <a:off x="2304000" y="4644360"/>
              <a:ext cx="28080" cy="48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7" y="2"/>
                  </a:moveTo>
                  <a:lnTo>
                    <a:pt x="13" y="0"/>
                  </a:lnTo>
                  <a:lnTo>
                    <a:pt x="9" y="2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4" y="22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3" y="25"/>
                  </a:lnTo>
                  <a:lnTo>
                    <a:pt x="17" y="24"/>
                  </a:lnTo>
                  <a:lnTo>
                    <a:pt x="22" y="22"/>
                  </a:lnTo>
                  <a:lnTo>
                    <a:pt x="25" y="18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2" y="5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rot="19800000">
              <a:off x="2366640" y="4644360"/>
              <a:ext cx="28080" cy="48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7" y="0"/>
                  </a:moveTo>
                  <a:lnTo>
                    <a:pt x="12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12" y="25"/>
                  </a:lnTo>
                  <a:lnTo>
                    <a:pt x="17" y="24"/>
                  </a:lnTo>
                  <a:lnTo>
                    <a:pt x="20" y="21"/>
                  </a:lnTo>
                  <a:lnTo>
                    <a:pt x="23" y="16"/>
                  </a:lnTo>
                  <a:lnTo>
                    <a:pt x="25" y="12"/>
                  </a:lnTo>
                  <a:lnTo>
                    <a:pt x="23" y="8"/>
                  </a:lnTo>
                  <a:lnTo>
                    <a:pt x="20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19800000">
              <a:off x="2427840" y="4643640"/>
              <a:ext cx="27000" cy="493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7" y="0"/>
                  </a:moveTo>
                  <a:lnTo>
                    <a:pt x="13" y="0"/>
                  </a:lnTo>
                  <a:lnTo>
                    <a:pt x="7" y="0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4" y="20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13" y="25"/>
                  </a:lnTo>
                  <a:lnTo>
                    <a:pt x="17" y="23"/>
                  </a:lnTo>
                  <a:lnTo>
                    <a:pt x="21" y="20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4" y="7"/>
                  </a:lnTo>
                  <a:lnTo>
                    <a:pt x="21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19800000">
              <a:off x="2487600" y="4638600"/>
              <a:ext cx="27000" cy="48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7" y="2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1" y="25"/>
                  </a:lnTo>
                  <a:lnTo>
                    <a:pt x="17" y="25"/>
                  </a:lnTo>
                  <a:lnTo>
                    <a:pt x="20" y="22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19800000">
              <a:off x="2548800" y="4636800"/>
              <a:ext cx="28440" cy="47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0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0" y="20"/>
                  </a:lnTo>
                  <a:lnTo>
                    <a:pt x="23" y="17"/>
                  </a:lnTo>
                  <a:lnTo>
                    <a:pt x="25" y="11"/>
                  </a:lnTo>
                  <a:lnTo>
                    <a:pt x="23" y="7"/>
                  </a:lnTo>
                  <a:lnTo>
                    <a:pt x="20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19800000">
              <a:off x="2607120" y="4632840"/>
              <a:ext cx="28440" cy="48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8" y="1"/>
                  </a:moveTo>
                  <a:lnTo>
                    <a:pt x="14" y="0"/>
                  </a:lnTo>
                  <a:lnTo>
                    <a:pt x="8" y="1"/>
                  </a:lnTo>
                  <a:lnTo>
                    <a:pt x="5" y="4"/>
                  </a:lnTo>
                  <a:lnTo>
                    <a:pt x="2" y="7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5" y="22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4" y="25"/>
                  </a:lnTo>
                  <a:lnTo>
                    <a:pt x="18" y="23"/>
                  </a:lnTo>
                  <a:lnTo>
                    <a:pt x="22" y="22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5" y="7"/>
                  </a:lnTo>
                  <a:lnTo>
                    <a:pt x="22" y="4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rot="19800000">
              <a:off x="2668320" y="4627080"/>
              <a:ext cx="27000" cy="493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7" y="1"/>
                  </a:moveTo>
                  <a:lnTo>
                    <a:pt x="13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2" y="22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3" y="25"/>
                  </a:lnTo>
                  <a:lnTo>
                    <a:pt x="17" y="23"/>
                  </a:lnTo>
                  <a:lnTo>
                    <a:pt x="21" y="22"/>
                  </a:lnTo>
                  <a:lnTo>
                    <a:pt x="23" y="17"/>
                  </a:lnTo>
                  <a:lnTo>
                    <a:pt x="24" y="13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19800000">
              <a:off x="2728080" y="4622400"/>
              <a:ext cx="27000" cy="48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7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11" y="25"/>
                  </a:lnTo>
                  <a:lnTo>
                    <a:pt x="17" y="23"/>
                  </a:lnTo>
                  <a:lnTo>
                    <a:pt x="20" y="20"/>
                  </a:lnTo>
                  <a:lnTo>
                    <a:pt x="23" y="18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0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rot="19800000">
              <a:off x="2785320" y="4612320"/>
              <a:ext cx="27000" cy="48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3" y="0"/>
                  </a:moveTo>
                  <a:lnTo>
                    <a:pt x="7" y="2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4" y="22"/>
                  </a:lnTo>
                  <a:lnTo>
                    <a:pt x="7" y="24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7" y="24"/>
                  </a:lnTo>
                  <a:lnTo>
                    <a:pt x="22" y="22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2" y="5"/>
                  </a:lnTo>
                  <a:lnTo>
                    <a:pt x="17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19800000">
              <a:off x="2841840" y="4601880"/>
              <a:ext cx="28440" cy="48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9" y="2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4" y="22"/>
                  </a:lnTo>
                  <a:lnTo>
                    <a:pt x="9" y="24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7" y="24"/>
                  </a:lnTo>
                  <a:lnTo>
                    <a:pt x="22" y="22"/>
                  </a:lnTo>
                  <a:lnTo>
                    <a:pt x="25" y="18"/>
                  </a:lnTo>
                  <a:lnTo>
                    <a:pt x="25" y="14"/>
                  </a:lnTo>
                  <a:lnTo>
                    <a:pt x="25" y="8"/>
                  </a:lnTo>
                  <a:lnTo>
                    <a:pt x="22" y="5"/>
                  </a:lnTo>
                  <a:lnTo>
                    <a:pt x="17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rot="19800000">
              <a:off x="2894760" y="4582800"/>
              <a:ext cx="28440" cy="48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8" y="1"/>
                  </a:lnTo>
                  <a:lnTo>
                    <a:pt x="5" y="4"/>
                  </a:lnTo>
                  <a:lnTo>
                    <a:pt x="2" y="9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5" y="22"/>
                  </a:lnTo>
                  <a:lnTo>
                    <a:pt x="8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8" y="25"/>
                  </a:lnTo>
                  <a:lnTo>
                    <a:pt x="22" y="22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5" y="9"/>
                  </a:lnTo>
                  <a:lnTo>
                    <a:pt x="22" y="4"/>
                  </a:lnTo>
                  <a:lnTo>
                    <a:pt x="18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19800000">
              <a:off x="2950920" y="4566240"/>
              <a:ext cx="28080" cy="48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0"/>
                  </a:moveTo>
                  <a:lnTo>
                    <a:pt x="7" y="0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7" y="23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5" y="12"/>
                  </a:lnTo>
                  <a:lnTo>
                    <a:pt x="23" y="7"/>
                  </a:lnTo>
                  <a:lnTo>
                    <a:pt x="20" y="3"/>
                  </a:lnTo>
                  <a:lnTo>
                    <a:pt x="17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19800000">
              <a:off x="2998800" y="4538520"/>
              <a:ext cx="28080" cy="48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0"/>
                  </a:moveTo>
                  <a:lnTo>
                    <a:pt x="8" y="2"/>
                  </a:lnTo>
                  <a:lnTo>
                    <a:pt x="3" y="4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8" y="25"/>
                  </a:lnTo>
                  <a:lnTo>
                    <a:pt x="21" y="22"/>
                  </a:lnTo>
                  <a:lnTo>
                    <a:pt x="24" y="18"/>
                  </a:lnTo>
                  <a:lnTo>
                    <a:pt x="25" y="13"/>
                  </a:lnTo>
                  <a:lnTo>
                    <a:pt x="24" y="9"/>
                  </a:lnTo>
                  <a:lnTo>
                    <a:pt x="21" y="4"/>
                  </a:lnTo>
                  <a:lnTo>
                    <a:pt x="18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rot="19800000">
              <a:off x="3043080" y="4503960"/>
              <a:ext cx="27000" cy="48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7" y="0"/>
                  </a:moveTo>
                  <a:lnTo>
                    <a:pt x="4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0"/>
                  </a:lnTo>
                  <a:lnTo>
                    <a:pt x="8" y="23"/>
                  </a:lnTo>
                  <a:lnTo>
                    <a:pt x="13" y="25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21" y="20"/>
                  </a:lnTo>
                  <a:lnTo>
                    <a:pt x="24" y="17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1" y="3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19800000">
              <a:off x="3070440" y="4447080"/>
              <a:ext cx="28080" cy="48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7" y="0"/>
                  </a:moveTo>
                  <a:lnTo>
                    <a:pt x="5" y="3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5" y="21"/>
                  </a:lnTo>
                  <a:lnTo>
                    <a:pt x="7" y="24"/>
                  </a:lnTo>
                  <a:lnTo>
                    <a:pt x="13" y="25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2" y="21"/>
                  </a:lnTo>
                  <a:lnTo>
                    <a:pt x="23" y="16"/>
                  </a:lnTo>
                  <a:lnTo>
                    <a:pt x="25" y="12"/>
                  </a:lnTo>
                  <a:lnTo>
                    <a:pt x="23" y="8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9800000">
              <a:off x="3089160" y="4379400"/>
              <a:ext cx="28080" cy="48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7" y="0"/>
                  </a:moveTo>
                  <a:lnTo>
                    <a:pt x="3" y="3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3" y="21"/>
                  </a:lnTo>
                  <a:lnTo>
                    <a:pt x="7" y="24"/>
                  </a:lnTo>
                  <a:lnTo>
                    <a:pt x="12" y="25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5" y="12"/>
                  </a:lnTo>
                  <a:lnTo>
                    <a:pt x="23" y="8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rot="19800000">
              <a:off x="3097440" y="4306680"/>
              <a:ext cx="28080" cy="493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4" y="3"/>
                  </a:moveTo>
                  <a:lnTo>
                    <a:pt x="1" y="7"/>
                  </a:lnTo>
                  <a:lnTo>
                    <a:pt x="0" y="12"/>
                  </a:lnTo>
                  <a:lnTo>
                    <a:pt x="1" y="17"/>
                  </a:lnTo>
                  <a:lnTo>
                    <a:pt x="4" y="20"/>
                  </a:lnTo>
                  <a:lnTo>
                    <a:pt x="9" y="23"/>
                  </a:lnTo>
                  <a:lnTo>
                    <a:pt x="13" y="25"/>
                  </a:lnTo>
                  <a:lnTo>
                    <a:pt x="17" y="23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25" y="12"/>
                  </a:lnTo>
                  <a:lnTo>
                    <a:pt x="25" y="7"/>
                  </a:lnTo>
                  <a:lnTo>
                    <a:pt x="22" y="3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9" y="1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19800000">
              <a:off x="3026880" y="4104000"/>
              <a:ext cx="159480" cy="294480"/>
            </a:xfrm>
            <a:custGeom>
              <a:avLst/>
              <a:gdLst/>
              <a:ahLst/>
              <a:rect l="l" t="t" r="r" b="b"/>
              <a:pathLst>
                <a:path w="141" h="150">
                  <a:moveTo>
                    <a:pt x="72" y="150"/>
                  </a:moveTo>
                  <a:lnTo>
                    <a:pt x="141" y="0"/>
                  </a:lnTo>
                  <a:lnTo>
                    <a:pt x="0" y="84"/>
                  </a:lnTo>
                  <a:lnTo>
                    <a:pt x="68" y="80"/>
                  </a:lnTo>
                  <a:lnTo>
                    <a:pt x="72" y="1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5" name=""/>
          <p:cNvSpPr/>
          <p:nvPr/>
        </p:nvSpPr>
        <p:spPr>
          <a:xfrm>
            <a:off x="1756440" y="4724280"/>
            <a:ext cx="20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 - AP Mobility (link lev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08920" y="3048120"/>
            <a:ext cx="133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ss Point (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H="1">
            <a:off x="3581280" y="3352680"/>
            <a:ext cx="457200" cy="304920"/>
          </a:xfrm>
          <a:prstGeom prst="line">
            <a:avLst/>
          </a:prstGeom>
          <a:ln cap="sq" w="22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08880" y="5334120"/>
            <a:ext cx="166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bile Terminal (M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219320" y="4952880"/>
            <a:ext cx="0" cy="381240"/>
          </a:xfrm>
          <a:prstGeom prst="line">
            <a:avLst/>
          </a:prstGeom>
          <a:ln cap="sq" w="22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1066680" y="4343400"/>
            <a:ext cx="381240" cy="468360"/>
            <a:chOff x="1066680" y="4343400"/>
            <a:chExt cx="381240" cy="468360"/>
          </a:xfrm>
        </p:grpSpPr>
        <p:grpSp>
          <p:nvGrpSpPr>
            <p:cNvPr id="1571" name=""/>
            <p:cNvGrpSpPr/>
            <p:nvPr/>
          </p:nvGrpSpPr>
          <p:grpSpPr>
            <a:xfrm>
              <a:off x="1243080" y="4343400"/>
              <a:ext cx="204840" cy="397080"/>
              <a:chOff x="1243080" y="4343400"/>
              <a:chExt cx="204840" cy="397080"/>
            </a:xfrm>
          </p:grpSpPr>
          <p:sp>
            <p:nvSpPr>
              <p:cNvPr id="1572" name=""/>
              <p:cNvSpPr/>
              <p:nvPr/>
            </p:nvSpPr>
            <p:spPr>
              <a:xfrm>
                <a:off x="1243080" y="4343400"/>
                <a:ext cx="203040" cy="392040"/>
              </a:xfrm>
              <a:custGeom>
                <a:avLst/>
                <a:gdLst/>
                <a:ahLst/>
                <a:rect l="l" t="t" r="r" b="b"/>
                <a:pathLst>
                  <a:path w="1155" h="1975">
                    <a:moveTo>
                      <a:pt x="804" y="1960"/>
                    </a:moveTo>
                    <a:lnTo>
                      <a:pt x="782" y="1975"/>
                    </a:lnTo>
                    <a:lnTo>
                      <a:pt x="0" y="1250"/>
                    </a:lnTo>
                    <a:lnTo>
                      <a:pt x="264" y="51"/>
                    </a:lnTo>
                    <a:lnTo>
                      <a:pt x="299" y="15"/>
                    </a:lnTo>
                    <a:lnTo>
                      <a:pt x="335" y="0"/>
                    </a:lnTo>
                    <a:lnTo>
                      <a:pt x="370" y="8"/>
                    </a:lnTo>
                    <a:lnTo>
                      <a:pt x="1119" y="342"/>
                    </a:lnTo>
                    <a:lnTo>
                      <a:pt x="1144" y="360"/>
                    </a:lnTo>
                    <a:lnTo>
                      <a:pt x="1152" y="363"/>
                    </a:lnTo>
                    <a:lnTo>
                      <a:pt x="1155" y="381"/>
                    </a:lnTo>
                    <a:lnTo>
                      <a:pt x="824" y="1972"/>
                    </a:lnTo>
                    <a:lnTo>
                      <a:pt x="804" y="196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365120" y="4403880"/>
                <a:ext cx="82800" cy="336600"/>
              </a:xfrm>
              <a:custGeom>
                <a:avLst/>
                <a:gdLst/>
                <a:ahLst/>
                <a:rect l="l" t="t" r="r" b="b"/>
                <a:pathLst>
                  <a:path w="465" h="1692">
                    <a:moveTo>
                      <a:pt x="465" y="73"/>
                    </a:moveTo>
                    <a:lnTo>
                      <a:pt x="460" y="113"/>
                    </a:lnTo>
                    <a:lnTo>
                      <a:pt x="126" y="1644"/>
                    </a:lnTo>
                    <a:lnTo>
                      <a:pt x="123" y="1672"/>
                    </a:lnTo>
                    <a:lnTo>
                      <a:pt x="113" y="1686"/>
                    </a:lnTo>
                    <a:lnTo>
                      <a:pt x="102" y="1692"/>
                    </a:lnTo>
                    <a:lnTo>
                      <a:pt x="90" y="1688"/>
                    </a:lnTo>
                    <a:lnTo>
                      <a:pt x="70" y="1672"/>
                    </a:lnTo>
                    <a:lnTo>
                      <a:pt x="0" y="1607"/>
                    </a:lnTo>
                    <a:lnTo>
                      <a:pt x="344" y="33"/>
                    </a:lnTo>
                    <a:lnTo>
                      <a:pt x="340" y="23"/>
                    </a:lnTo>
                    <a:lnTo>
                      <a:pt x="321" y="0"/>
                    </a:lnTo>
                    <a:lnTo>
                      <a:pt x="360" y="16"/>
                    </a:lnTo>
                    <a:lnTo>
                      <a:pt x="438" y="51"/>
                    </a:lnTo>
                    <a:lnTo>
                      <a:pt x="453" y="63"/>
                    </a:lnTo>
                    <a:lnTo>
                      <a:pt x="465" y="73"/>
                    </a:lnTo>
                    <a:close/>
                  </a:path>
                </a:pathLst>
              </a:custGeom>
              <a:solidFill>
                <a:srgbClr val="202020"/>
              </a:solidFill>
              <a:ln w="144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4" name=""/>
            <p:cNvSpPr/>
            <p:nvPr/>
          </p:nvSpPr>
          <p:spPr>
            <a:xfrm>
              <a:off x="1298520" y="4343400"/>
              <a:ext cx="149400" cy="76320"/>
            </a:xfrm>
            <a:custGeom>
              <a:avLst/>
              <a:gdLst/>
              <a:ahLst/>
              <a:rect l="l" t="t" r="r" b="b"/>
              <a:pathLst>
                <a:path w="847" h="378">
                  <a:moveTo>
                    <a:pt x="0" y="0"/>
                  </a:moveTo>
                  <a:lnTo>
                    <a:pt x="26" y="1"/>
                  </a:lnTo>
                  <a:lnTo>
                    <a:pt x="50" y="9"/>
                  </a:lnTo>
                  <a:lnTo>
                    <a:pt x="815" y="350"/>
                  </a:lnTo>
                  <a:lnTo>
                    <a:pt x="840" y="365"/>
                  </a:lnTo>
                  <a:lnTo>
                    <a:pt x="847" y="3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02020"/>
            </a:solidFill>
            <a:ln w="1440">
              <a:solidFill>
                <a:srgbClr val="202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241280" y="4343400"/>
              <a:ext cx="160560" cy="336600"/>
              <a:chOff x="1241280" y="4343400"/>
              <a:chExt cx="160560" cy="33660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65400" y="4388040"/>
                <a:ext cx="136440" cy="291960"/>
              </a:xfrm>
              <a:custGeom>
                <a:avLst/>
                <a:gdLst/>
                <a:ahLst/>
                <a:rect l="l" t="t" r="r" b="b"/>
                <a:pathLst>
                  <a:path w="775" h="1470">
                    <a:moveTo>
                      <a:pt x="502" y="1470"/>
                    </a:moveTo>
                    <a:lnTo>
                      <a:pt x="0" y="1036"/>
                    </a:lnTo>
                    <a:lnTo>
                      <a:pt x="236" y="0"/>
                    </a:lnTo>
                    <a:lnTo>
                      <a:pt x="775" y="267"/>
                    </a:lnTo>
                    <a:lnTo>
                      <a:pt x="502" y="147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71520" y="4399200"/>
                <a:ext cx="122400" cy="268200"/>
              </a:xfrm>
              <a:custGeom>
                <a:avLst/>
                <a:gdLst/>
                <a:ahLst/>
                <a:rect l="l" t="t" r="r" b="b"/>
                <a:pathLst>
                  <a:path w="698" h="1358">
                    <a:moveTo>
                      <a:pt x="442" y="1358"/>
                    </a:moveTo>
                    <a:lnTo>
                      <a:pt x="0" y="969"/>
                    </a:lnTo>
                    <a:lnTo>
                      <a:pt x="220" y="0"/>
                    </a:lnTo>
                    <a:lnTo>
                      <a:pt x="698" y="229"/>
                    </a:lnTo>
                    <a:lnTo>
                      <a:pt x="442" y="1358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241280" y="4343400"/>
                <a:ext cx="57240" cy="250920"/>
              </a:xfrm>
              <a:custGeom>
                <a:avLst/>
                <a:gdLst/>
                <a:ahLst/>
                <a:rect l="l" t="t" r="r" b="b"/>
                <a:pathLst>
                  <a:path w="330" h="1265">
                    <a:moveTo>
                      <a:pt x="319" y="0"/>
                    </a:moveTo>
                    <a:lnTo>
                      <a:pt x="300" y="9"/>
                    </a:lnTo>
                    <a:lnTo>
                      <a:pt x="289" y="17"/>
                    </a:lnTo>
                    <a:lnTo>
                      <a:pt x="274" y="32"/>
                    </a:lnTo>
                    <a:lnTo>
                      <a:pt x="263" y="51"/>
                    </a:lnTo>
                    <a:lnTo>
                      <a:pt x="259" y="66"/>
                    </a:lnTo>
                    <a:lnTo>
                      <a:pt x="0" y="1248"/>
                    </a:lnTo>
                    <a:lnTo>
                      <a:pt x="10" y="1265"/>
                    </a:lnTo>
                    <a:lnTo>
                      <a:pt x="273" y="66"/>
                    </a:lnTo>
                    <a:lnTo>
                      <a:pt x="280" y="48"/>
                    </a:lnTo>
                    <a:lnTo>
                      <a:pt x="288" y="36"/>
                    </a:lnTo>
                    <a:lnTo>
                      <a:pt x="298" y="25"/>
                    </a:lnTo>
                    <a:lnTo>
                      <a:pt x="311" y="17"/>
                    </a:lnTo>
                    <a:lnTo>
                      <a:pt x="324" y="10"/>
                    </a:lnTo>
                    <a:lnTo>
                      <a:pt x="330" y="4"/>
                    </a:lnTo>
                    <a:lnTo>
                      <a:pt x="319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1066680" y="4602240"/>
              <a:ext cx="319320" cy="209520"/>
              <a:chOff x="1066680" y="4602240"/>
              <a:chExt cx="319320" cy="209520"/>
            </a:xfrm>
          </p:grpSpPr>
          <p:grpSp>
            <p:nvGrpSpPr>
              <p:cNvPr id="1580" name=""/>
              <p:cNvGrpSpPr/>
              <p:nvPr/>
            </p:nvGrpSpPr>
            <p:grpSpPr>
              <a:xfrm>
                <a:off x="1066680" y="4603680"/>
                <a:ext cx="319320" cy="208080"/>
                <a:chOff x="1066680" y="4603680"/>
                <a:chExt cx="319320" cy="208080"/>
              </a:xfrm>
            </p:grpSpPr>
            <p:sp>
              <p:nvSpPr>
                <p:cNvPr id="1581" name=""/>
                <p:cNvSpPr/>
                <p:nvPr/>
              </p:nvSpPr>
              <p:spPr>
                <a:xfrm>
                  <a:off x="1231920" y="4603680"/>
                  <a:ext cx="152280" cy="163800"/>
                </a:xfrm>
                <a:custGeom>
                  <a:avLst/>
                  <a:gdLst/>
                  <a:ahLst/>
                  <a:rect l="l" t="t" r="r" b="b"/>
                  <a:pathLst>
                    <a:path w="863" h="823">
                      <a:moveTo>
                        <a:pt x="863" y="823"/>
                      </a:moveTo>
                      <a:lnTo>
                        <a:pt x="848" y="713"/>
                      </a:lnTo>
                      <a:lnTo>
                        <a:pt x="823" y="663"/>
                      </a:lnTo>
                      <a:lnTo>
                        <a:pt x="111" y="2"/>
                      </a:lnTo>
                      <a:lnTo>
                        <a:pt x="78" y="0"/>
                      </a:lnTo>
                      <a:lnTo>
                        <a:pt x="48" y="2"/>
                      </a:lnTo>
                      <a:lnTo>
                        <a:pt x="26" y="36"/>
                      </a:lnTo>
                      <a:lnTo>
                        <a:pt x="0" y="124"/>
                      </a:lnTo>
                      <a:lnTo>
                        <a:pt x="701" y="816"/>
                      </a:lnTo>
                      <a:lnTo>
                        <a:pt x="863" y="823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1071720" y="4624560"/>
                  <a:ext cx="282600" cy="146160"/>
                </a:xfrm>
                <a:custGeom>
                  <a:avLst/>
                  <a:gdLst/>
                  <a:ahLst/>
                  <a:rect l="l" t="t" r="r" b="b"/>
                  <a:pathLst>
                    <a:path w="1595" h="738">
                      <a:moveTo>
                        <a:pt x="0" y="0"/>
                      </a:moveTo>
                      <a:lnTo>
                        <a:pt x="908" y="21"/>
                      </a:lnTo>
                      <a:lnTo>
                        <a:pt x="1595" y="696"/>
                      </a:lnTo>
                      <a:lnTo>
                        <a:pt x="388" y="7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1131840" y="4761000"/>
                  <a:ext cx="254160" cy="50760"/>
                </a:xfrm>
                <a:custGeom>
                  <a:avLst/>
                  <a:gdLst/>
                  <a:ahLst/>
                  <a:rect l="l" t="t" r="r" b="b"/>
                  <a:pathLst>
                    <a:path w="1440" h="254">
                      <a:moveTo>
                        <a:pt x="43" y="45"/>
                      </a:moveTo>
                      <a:lnTo>
                        <a:pt x="0" y="254"/>
                      </a:lnTo>
                      <a:lnTo>
                        <a:pt x="1425" y="220"/>
                      </a:lnTo>
                      <a:lnTo>
                        <a:pt x="1440" y="148"/>
                      </a:lnTo>
                      <a:lnTo>
                        <a:pt x="1436" y="64"/>
                      </a:lnTo>
                      <a:lnTo>
                        <a:pt x="1432" y="0"/>
                      </a:lnTo>
                      <a:lnTo>
                        <a:pt x="43" y="45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1066680" y="4624560"/>
                  <a:ext cx="73080" cy="187200"/>
                </a:xfrm>
                <a:custGeom>
                  <a:avLst/>
                  <a:gdLst/>
                  <a:ahLst/>
                  <a:rect l="l" t="t" r="r" b="b"/>
                  <a:pathLst>
                    <a:path w="415" h="946">
                      <a:moveTo>
                        <a:pt x="30" y="0"/>
                      </a:moveTo>
                      <a:lnTo>
                        <a:pt x="0" y="171"/>
                      </a:lnTo>
                      <a:lnTo>
                        <a:pt x="371" y="946"/>
                      </a:lnTo>
                      <a:lnTo>
                        <a:pt x="415" y="73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1233360" y="4762440"/>
                  <a:ext cx="38160" cy="3240"/>
                </a:xfrm>
                <a:custGeom>
                  <a:avLst/>
                  <a:gdLst/>
                  <a:ahLst/>
                  <a:rect l="l" t="t" r="r" b="b"/>
                  <a:pathLst>
                    <a:path w="213" h="22">
                      <a:moveTo>
                        <a:pt x="2" y="22"/>
                      </a:moveTo>
                      <a:lnTo>
                        <a:pt x="0" y="0"/>
                      </a:lnTo>
                      <a:lnTo>
                        <a:pt x="202" y="0"/>
                      </a:lnTo>
                      <a:lnTo>
                        <a:pt x="213" y="17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1154160" y="4624560"/>
                  <a:ext cx="79200" cy="142920"/>
                </a:xfrm>
                <a:custGeom>
                  <a:avLst/>
                  <a:gdLst/>
                  <a:ahLst/>
                  <a:rect l="l" t="t" r="r" b="b"/>
                  <a:pathLst>
                    <a:path w="455" h="714">
                      <a:moveTo>
                        <a:pt x="452" y="685"/>
                      </a:moveTo>
                      <a:lnTo>
                        <a:pt x="0" y="0"/>
                      </a:lnTo>
                      <a:lnTo>
                        <a:pt x="455" y="714"/>
                      </a:lnTo>
                      <a:lnTo>
                        <a:pt x="452" y="685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7" name=""/>
              <p:cNvGrpSpPr/>
              <p:nvPr/>
            </p:nvGrpSpPr>
            <p:grpSpPr>
              <a:xfrm>
                <a:off x="1089000" y="4627800"/>
                <a:ext cx="147600" cy="136440"/>
                <a:chOff x="1089000" y="4627800"/>
                <a:chExt cx="147600" cy="136440"/>
              </a:xfrm>
            </p:grpSpPr>
            <p:grpSp>
              <p:nvGrpSpPr>
                <p:cNvPr id="1588" name=""/>
                <p:cNvGrpSpPr/>
                <p:nvPr/>
              </p:nvGrpSpPr>
              <p:grpSpPr>
                <a:xfrm>
                  <a:off x="1098720" y="4630680"/>
                  <a:ext cx="14040" cy="12960"/>
                  <a:chOff x="1098720" y="4630680"/>
                  <a:chExt cx="14040" cy="12960"/>
                </a:xfrm>
              </p:grpSpPr>
              <p:sp>
                <p:nvSpPr>
                  <p:cNvPr id="1589" name=""/>
                  <p:cNvSpPr/>
                  <p:nvPr/>
                </p:nvSpPr>
                <p:spPr>
                  <a:xfrm>
                    <a:off x="1098720" y="4630680"/>
                    <a:ext cx="2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8" y="26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>
                    <a:off x="1100160" y="463248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4" y="10"/>
                        </a:lnTo>
                        <a:lnTo>
                          <a:pt x="58" y="25"/>
                        </a:lnTo>
                        <a:lnTo>
                          <a:pt x="14" y="25"/>
                        </a:lnTo>
                        <a:lnTo>
                          <a:pt x="6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1101600" y="463716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5" y="7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2" name=""/>
                <p:cNvGrpSpPr/>
                <p:nvPr/>
              </p:nvGrpSpPr>
              <p:grpSpPr>
                <a:xfrm>
                  <a:off x="1101600" y="4638960"/>
                  <a:ext cx="14400" cy="10800"/>
                  <a:chOff x="1101600" y="4638960"/>
                  <a:chExt cx="14400" cy="10800"/>
                </a:xfrm>
              </p:grpSpPr>
              <p:sp>
                <p:nvSpPr>
                  <p:cNvPr id="1593" name=""/>
                  <p:cNvSpPr/>
                  <p:nvPr/>
                </p:nvSpPr>
                <p:spPr>
                  <a:xfrm>
                    <a:off x="1101600" y="4638960"/>
                    <a:ext cx="50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1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>
                    <a:off x="1103400" y="46389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39" y="0"/>
                        </a:lnTo>
                        <a:lnTo>
                          <a:pt x="40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7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>
                    <a:off x="1104840" y="464364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4" y="7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6" name=""/>
                <p:cNvSpPr/>
                <p:nvPr/>
              </p:nvSpPr>
              <p:spPr>
                <a:xfrm>
                  <a:off x="1160640" y="4633920"/>
                  <a:ext cx="10800" cy="5040"/>
                </a:xfrm>
                <a:custGeom>
                  <a:avLst/>
                  <a:gdLst/>
                  <a:ahLst/>
                  <a:rect l="l" t="t" r="r" b="b"/>
                  <a:pathLst>
                    <a:path w="63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3" y="31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1135080" y="463248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20" h="58">
                      <a:moveTo>
                        <a:pt x="12" y="58"/>
                      </a:moveTo>
                      <a:lnTo>
                        <a:pt x="0" y="23"/>
                      </a:lnTo>
                      <a:lnTo>
                        <a:pt x="9" y="0"/>
                      </a:lnTo>
                      <a:lnTo>
                        <a:pt x="20" y="26"/>
                      </a:lnTo>
                      <a:lnTo>
                        <a:pt x="12" y="58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1136520" y="463248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57" h="25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41" y="2"/>
                      </a:lnTo>
                      <a:lnTo>
                        <a:pt x="44" y="11"/>
                      </a:lnTo>
                      <a:lnTo>
                        <a:pt x="57" y="25"/>
                      </a:lnTo>
                      <a:lnTo>
                        <a:pt x="13" y="25"/>
                      </a:lnTo>
                      <a:lnTo>
                        <a:pt x="5" y="17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1136520" y="4637160"/>
                  <a:ext cx="12960" cy="6480"/>
                </a:xfrm>
                <a:custGeom>
                  <a:avLst/>
                  <a:gdLst/>
                  <a:ahLst/>
                  <a:rect l="l" t="t" r="r" b="b"/>
                  <a:pathLst>
                    <a:path w="67" h="31">
                      <a:moveTo>
                        <a:pt x="0" y="31"/>
                      </a:moveTo>
                      <a:lnTo>
                        <a:pt x="1" y="17"/>
                      </a:lnTo>
                      <a:lnTo>
                        <a:pt x="6" y="7"/>
                      </a:lnTo>
                      <a:lnTo>
                        <a:pt x="9" y="0"/>
                      </a:lnTo>
                      <a:lnTo>
                        <a:pt x="55" y="0"/>
                      </a:lnTo>
                      <a:lnTo>
                        <a:pt x="67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0" name=""/>
                <p:cNvGrpSpPr/>
                <p:nvPr/>
              </p:nvGrpSpPr>
              <p:grpSpPr>
                <a:xfrm>
                  <a:off x="1138320" y="4638960"/>
                  <a:ext cx="14040" cy="10800"/>
                  <a:chOff x="1138320" y="4638960"/>
                  <a:chExt cx="14040" cy="10800"/>
                </a:xfrm>
              </p:grpSpPr>
              <p:sp>
                <p:nvSpPr>
                  <p:cNvPr id="1601" name=""/>
                  <p:cNvSpPr/>
                  <p:nvPr/>
                </p:nvSpPr>
                <p:spPr>
                  <a:xfrm>
                    <a:off x="1138320" y="4638960"/>
                    <a:ext cx="32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1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1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1139760" y="463896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9"/>
                        </a:lnTo>
                        <a:lnTo>
                          <a:pt x="59" y="25"/>
                        </a:lnTo>
                        <a:lnTo>
                          <a:pt x="15" y="25"/>
                        </a:lnTo>
                        <a:lnTo>
                          <a:pt x="8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1139760" y="464364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1">
                        <a:moveTo>
                          <a:pt x="0" y="31"/>
                        </a:moveTo>
                        <a:lnTo>
                          <a:pt x="3" y="16"/>
                        </a:lnTo>
                        <a:lnTo>
                          <a:pt x="6" y="6"/>
                        </a:lnTo>
                        <a:lnTo>
                          <a:pt x="10" y="0"/>
                        </a:lnTo>
                        <a:lnTo>
                          <a:pt x="55" y="0"/>
                        </a:lnTo>
                        <a:lnTo>
                          <a:pt x="68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4" name=""/>
                <p:cNvGrpSpPr/>
                <p:nvPr/>
              </p:nvGrpSpPr>
              <p:grpSpPr>
                <a:xfrm>
                  <a:off x="1141560" y="4645080"/>
                  <a:ext cx="14040" cy="11160"/>
                  <a:chOff x="1141560" y="4645080"/>
                  <a:chExt cx="14040" cy="11160"/>
                </a:xfrm>
              </p:grpSpPr>
              <p:sp>
                <p:nvSpPr>
                  <p:cNvPr id="1605" name=""/>
                  <p:cNvSpPr/>
                  <p:nvPr/>
                </p:nvSpPr>
                <p:spPr>
                  <a:xfrm>
                    <a:off x="1141560" y="464508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9" y="0"/>
                        </a:lnTo>
                        <a:lnTo>
                          <a:pt x="20" y="27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1143000" y="464508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3" y="0"/>
                        </a:moveTo>
                        <a:lnTo>
                          <a:pt x="40" y="0"/>
                        </a:lnTo>
                        <a:lnTo>
                          <a:pt x="42" y="3"/>
                        </a:lnTo>
                        <a:lnTo>
                          <a:pt x="46" y="10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1144440" y="464976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8" name=""/>
                <p:cNvGrpSpPr/>
                <p:nvPr/>
              </p:nvGrpSpPr>
              <p:grpSpPr>
                <a:xfrm>
                  <a:off x="1144440" y="4649760"/>
                  <a:ext cx="14400" cy="12960"/>
                  <a:chOff x="1144440" y="4649760"/>
                  <a:chExt cx="14400" cy="12960"/>
                </a:xfrm>
              </p:grpSpPr>
              <p:sp>
                <p:nvSpPr>
                  <p:cNvPr id="1609" name=""/>
                  <p:cNvSpPr/>
                  <p:nvPr/>
                </p:nvSpPr>
                <p:spPr>
                  <a:xfrm>
                    <a:off x="1144440" y="4649760"/>
                    <a:ext cx="50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3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3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1146240" y="46515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5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1147680" y="465624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7"/>
                        </a:lnTo>
                        <a:lnTo>
                          <a:pt x="4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2" name=""/>
                <p:cNvGrpSpPr/>
                <p:nvPr/>
              </p:nvGrpSpPr>
              <p:grpSpPr>
                <a:xfrm>
                  <a:off x="1149480" y="4657680"/>
                  <a:ext cx="14040" cy="11160"/>
                  <a:chOff x="1149480" y="4657680"/>
                  <a:chExt cx="14040" cy="11160"/>
                </a:xfrm>
              </p:grpSpPr>
              <p:sp>
                <p:nvSpPr>
                  <p:cNvPr id="1613" name=""/>
                  <p:cNvSpPr/>
                  <p:nvPr/>
                </p:nvSpPr>
                <p:spPr>
                  <a:xfrm>
                    <a:off x="1149480" y="465768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2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2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1150920" y="4657680"/>
                    <a:ext cx="97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5">
                        <a:moveTo>
                          <a:pt x="2" y="0"/>
                        </a:moveTo>
                        <a:lnTo>
                          <a:pt x="41" y="0"/>
                        </a:lnTo>
                        <a:lnTo>
                          <a:pt x="42" y="2"/>
                        </a:lnTo>
                        <a:lnTo>
                          <a:pt x="46" y="10"/>
                        </a:lnTo>
                        <a:lnTo>
                          <a:pt x="61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>
                    <a:off x="1150920" y="466272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7"/>
                        </a:lnTo>
                        <a:lnTo>
                          <a:pt x="6" y="7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6" name=""/>
                <p:cNvGrpSpPr/>
                <p:nvPr/>
              </p:nvGrpSpPr>
              <p:grpSpPr>
                <a:xfrm>
                  <a:off x="1152360" y="4664160"/>
                  <a:ext cx="28800" cy="38160"/>
                  <a:chOff x="1152360" y="4664160"/>
                  <a:chExt cx="28800" cy="38160"/>
                </a:xfrm>
              </p:grpSpPr>
              <p:grpSp>
                <p:nvGrpSpPr>
                  <p:cNvPr id="1617" name=""/>
                  <p:cNvGrpSpPr/>
                  <p:nvPr/>
                </p:nvGrpSpPr>
                <p:grpSpPr>
                  <a:xfrm>
                    <a:off x="1152360" y="4664160"/>
                    <a:ext cx="14400" cy="12600"/>
                    <a:chOff x="1152360" y="4664160"/>
                    <a:chExt cx="14400" cy="12600"/>
                  </a:xfrm>
                </p:grpSpPr>
                <p:sp>
                  <p:nvSpPr>
                    <p:cNvPr id="1618" name=""/>
                    <p:cNvSpPr/>
                    <p:nvPr/>
                  </p:nvSpPr>
                  <p:spPr>
                    <a:xfrm>
                      <a:off x="1152360" y="4664160"/>
                      <a:ext cx="32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0">
                          <a:moveTo>
                            <a:pt x="10" y="60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7"/>
                          </a:lnTo>
                          <a:lnTo>
                            <a:pt x="10" y="6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9" name=""/>
                    <p:cNvSpPr/>
                    <p:nvPr/>
                  </p:nvSpPr>
                  <p:spPr>
                    <a:xfrm>
                      <a:off x="1154160" y="4665600"/>
                      <a:ext cx="111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6" y="10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8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0" name=""/>
                    <p:cNvSpPr/>
                    <p:nvPr/>
                  </p:nvSpPr>
                  <p:spPr>
                    <a:xfrm>
                      <a:off x="1154160" y="4670640"/>
                      <a:ext cx="126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2">
                          <a:moveTo>
                            <a:pt x="0" y="32"/>
                          </a:moveTo>
                          <a:lnTo>
                            <a:pt x="2" y="18"/>
                          </a:lnTo>
                          <a:lnTo>
                            <a:pt x="7" y="6"/>
                          </a:lnTo>
                          <a:lnTo>
                            <a:pt x="11" y="0"/>
                          </a:lnTo>
                          <a:lnTo>
                            <a:pt x="57" y="0"/>
                          </a:lnTo>
                          <a:lnTo>
                            <a:pt x="67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21" name=""/>
                  <p:cNvGrpSpPr/>
                  <p:nvPr/>
                </p:nvGrpSpPr>
                <p:grpSpPr>
                  <a:xfrm>
                    <a:off x="1155600" y="4670640"/>
                    <a:ext cx="14400" cy="12600"/>
                    <a:chOff x="1155600" y="4670640"/>
                    <a:chExt cx="14400" cy="12600"/>
                  </a:xfrm>
                </p:grpSpPr>
                <p:sp>
                  <p:nvSpPr>
                    <p:cNvPr id="1622" name=""/>
                    <p:cNvSpPr/>
                    <p:nvPr/>
                  </p:nvSpPr>
                  <p:spPr>
                    <a:xfrm>
                      <a:off x="1155600" y="4670640"/>
                      <a:ext cx="32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4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3" name=""/>
                    <p:cNvSpPr/>
                    <p:nvPr/>
                  </p:nvSpPr>
                  <p:spPr>
                    <a:xfrm>
                      <a:off x="1157400" y="467208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7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3" y="2"/>
                          </a:lnTo>
                          <a:lnTo>
                            <a:pt x="46" y="11"/>
                          </a:lnTo>
                          <a:lnTo>
                            <a:pt x="61" y="27"/>
                          </a:lnTo>
                          <a:lnTo>
                            <a:pt x="15" y="27"/>
                          </a:lnTo>
                          <a:lnTo>
                            <a:pt x="8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4" name=""/>
                    <p:cNvSpPr/>
                    <p:nvPr/>
                  </p:nvSpPr>
                  <p:spPr>
                    <a:xfrm>
                      <a:off x="1158840" y="467676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4" y="6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25" name=""/>
                  <p:cNvGrpSpPr/>
                  <p:nvPr/>
                </p:nvGrpSpPr>
                <p:grpSpPr>
                  <a:xfrm>
                    <a:off x="1158840" y="4678560"/>
                    <a:ext cx="14400" cy="11160"/>
                    <a:chOff x="1158840" y="4678560"/>
                    <a:chExt cx="14400" cy="11160"/>
                  </a:xfrm>
                </p:grpSpPr>
                <p:sp>
                  <p:nvSpPr>
                    <p:cNvPr id="1626" name=""/>
                    <p:cNvSpPr/>
                    <p:nvPr/>
                  </p:nvSpPr>
                  <p:spPr>
                    <a:xfrm>
                      <a:off x="1158840" y="4678560"/>
                      <a:ext cx="46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2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0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7" name=""/>
                    <p:cNvSpPr/>
                    <p:nvPr/>
                  </p:nvSpPr>
                  <p:spPr>
                    <a:xfrm>
                      <a:off x="1160640" y="46785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58" y="25"/>
                          </a:lnTo>
                          <a:lnTo>
                            <a:pt x="14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8" name=""/>
                    <p:cNvSpPr/>
                    <p:nvPr/>
                  </p:nvSpPr>
                  <p:spPr>
                    <a:xfrm>
                      <a:off x="1162080" y="468324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2" y="17"/>
                          </a:lnTo>
                          <a:lnTo>
                            <a:pt x="5" y="7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29" name=""/>
                  <p:cNvGrpSpPr/>
                  <p:nvPr/>
                </p:nvGrpSpPr>
                <p:grpSpPr>
                  <a:xfrm>
                    <a:off x="1163520" y="4683240"/>
                    <a:ext cx="14400" cy="12600"/>
                    <a:chOff x="1163520" y="4683240"/>
                    <a:chExt cx="14400" cy="12600"/>
                  </a:xfrm>
                </p:grpSpPr>
                <p:sp>
                  <p:nvSpPr>
                    <p:cNvPr id="1630" name=""/>
                    <p:cNvSpPr/>
                    <p:nvPr/>
                  </p:nvSpPr>
                  <p:spPr>
                    <a:xfrm>
                      <a:off x="1163520" y="4683240"/>
                      <a:ext cx="32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9">
                          <a:moveTo>
                            <a:pt x="13" y="59"/>
                          </a:moveTo>
                          <a:lnTo>
                            <a:pt x="0" y="23"/>
                          </a:lnTo>
                          <a:lnTo>
                            <a:pt x="10" y="0"/>
                          </a:lnTo>
                          <a:lnTo>
                            <a:pt x="21" y="27"/>
                          </a:lnTo>
                          <a:lnTo>
                            <a:pt x="13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1" name=""/>
                    <p:cNvSpPr/>
                    <p:nvPr/>
                  </p:nvSpPr>
                  <p:spPr>
                    <a:xfrm>
                      <a:off x="1165320" y="4684680"/>
                      <a:ext cx="93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25">
                          <a:moveTo>
                            <a:pt x="2" y="0"/>
                          </a:moveTo>
                          <a:lnTo>
                            <a:pt x="39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59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4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2" name=""/>
                    <p:cNvSpPr/>
                    <p:nvPr/>
                  </p:nvSpPr>
                  <p:spPr>
                    <a:xfrm>
                      <a:off x="1165320" y="4689720"/>
                      <a:ext cx="126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5" y="7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33" name=""/>
                  <p:cNvGrpSpPr/>
                  <p:nvPr/>
                </p:nvGrpSpPr>
                <p:grpSpPr>
                  <a:xfrm>
                    <a:off x="1166760" y="4691160"/>
                    <a:ext cx="14400" cy="11160"/>
                    <a:chOff x="1166760" y="4691160"/>
                    <a:chExt cx="14400" cy="11160"/>
                  </a:xfrm>
                </p:grpSpPr>
                <p:sp>
                  <p:nvSpPr>
                    <p:cNvPr id="1634" name=""/>
                    <p:cNvSpPr/>
                    <p:nvPr/>
                  </p:nvSpPr>
                  <p:spPr>
                    <a:xfrm>
                      <a:off x="1166760" y="469116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2" y="58"/>
                          </a:moveTo>
                          <a:lnTo>
                            <a:pt x="0" y="22"/>
                          </a:lnTo>
                          <a:lnTo>
                            <a:pt x="8" y="0"/>
                          </a:lnTo>
                          <a:lnTo>
                            <a:pt x="20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5" name=""/>
                    <p:cNvSpPr/>
                    <p:nvPr/>
                  </p:nvSpPr>
                  <p:spPr>
                    <a:xfrm>
                      <a:off x="1168560" y="46911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8" y="17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6" name=""/>
                    <p:cNvSpPr/>
                    <p:nvPr/>
                  </p:nvSpPr>
                  <p:spPr>
                    <a:xfrm>
                      <a:off x="1168560" y="469584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2" y="17"/>
                          </a:lnTo>
                          <a:lnTo>
                            <a:pt x="5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37" name=""/>
                <p:cNvGrpSpPr/>
                <p:nvPr/>
              </p:nvGrpSpPr>
              <p:grpSpPr>
                <a:xfrm>
                  <a:off x="1170000" y="4697640"/>
                  <a:ext cx="28440" cy="37800"/>
                  <a:chOff x="1170000" y="4697640"/>
                  <a:chExt cx="28440" cy="37800"/>
                </a:xfrm>
              </p:grpSpPr>
              <p:grpSp>
                <p:nvGrpSpPr>
                  <p:cNvPr id="1638" name=""/>
                  <p:cNvGrpSpPr/>
                  <p:nvPr/>
                </p:nvGrpSpPr>
                <p:grpSpPr>
                  <a:xfrm>
                    <a:off x="1170000" y="4697640"/>
                    <a:ext cx="14400" cy="12600"/>
                    <a:chOff x="1170000" y="4697640"/>
                    <a:chExt cx="14400" cy="12600"/>
                  </a:xfrm>
                </p:grpSpPr>
                <p:sp>
                  <p:nvSpPr>
                    <p:cNvPr id="1639" name=""/>
                    <p:cNvSpPr/>
                    <p:nvPr/>
                  </p:nvSpPr>
                  <p:spPr>
                    <a:xfrm>
                      <a:off x="1170000" y="4697640"/>
                      <a:ext cx="32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0" name=""/>
                    <p:cNvSpPr/>
                    <p:nvPr/>
                  </p:nvSpPr>
                  <p:spPr>
                    <a:xfrm>
                      <a:off x="1171440" y="469908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3" y="3"/>
                          </a:lnTo>
                          <a:lnTo>
                            <a:pt x="46" y="11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9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1" name=""/>
                    <p:cNvSpPr/>
                    <p:nvPr/>
                  </p:nvSpPr>
                  <p:spPr>
                    <a:xfrm>
                      <a:off x="1173240" y="470376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8"/>
                          </a:lnTo>
                          <a:lnTo>
                            <a:pt x="5" y="7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42" name=""/>
                  <p:cNvGrpSpPr/>
                  <p:nvPr/>
                </p:nvGrpSpPr>
                <p:grpSpPr>
                  <a:xfrm>
                    <a:off x="1173240" y="4703760"/>
                    <a:ext cx="14040" cy="12960"/>
                    <a:chOff x="1173240" y="4703760"/>
                    <a:chExt cx="14040" cy="12960"/>
                  </a:xfrm>
                </p:grpSpPr>
                <p:sp>
                  <p:nvSpPr>
                    <p:cNvPr id="1643" name=""/>
                    <p:cNvSpPr/>
                    <p:nvPr/>
                  </p:nvSpPr>
                  <p:spPr>
                    <a:xfrm>
                      <a:off x="1173240" y="4703760"/>
                      <a:ext cx="468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1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4" name=""/>
                    <p:cNvSpPr/>
                    <p:nvPr/>
                  </p:nvSpPr>
                  <p:spPr>
                    <a:xfrm>
                      <a:off x="1174680" y="470376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2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9" y="17"/>
                          </a:lnTo>
                          <a:lnTo>
                            <a:pt x="0" y="5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5" name=""/>
                    <p:cNvSpPr/>
                    <p:nvPr/>
                  </p:nvSpPr>
                  <p:spPr>
                    <a:xfrm>
                      <a:off x="1176480" y="47102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2">
                          <a:moveTo>
                            <a:pt x="0" y="32"/>
                          </a:moveTo>
                          <a:lnTo>
                            <a:pt x="3" y="17"/>
                          </a:lnTo>
                          <a:lnTo>
                            <a:pt x="6" y="7"/>
                          </a:lnTo>
                          <a:lnTo>
                            <a:pt x="10" y="0"/>
                          </a:lnTo>
                          <a:lnTo>
                            <a:pt x="55" y="0"/>
                          </a:lnTo>
                          <a:lnTo>
                            <a:pt x="67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46" name=""/>
                  <p:cNvGrpSpPr/>
                  <p:nvPr/>
                </p:nvGrpSpPr>
                <p:grpSpPr>
                  <a:xfrm>
                    <a:off x="1177920" y="4710240"/>
                    <a:ext cx="12600" cy="12600"/>
                    <a:chOff x="1177920" y="4710240"/>
                    <a:chExt cx="12600" cy="12600"/>
                  </a:xfrm>
                </p:grpSpPr>
                <p:sp>
                  <p:nvSpPr>
                    <p:cNvPr id="1647" name=""/>
                    <p:cNvSpPr/>
                    <p:nvPr/>
                  </p:nvSpPr>
                  <p:spPr>
                    <a:xfrm>
                      <a:off x="1177920" y="4710240"/>
                      <a:ext cx="32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4"/>
                          </a:lnTo>
                          <a:lnTo>
                            <a:pt x="8" y="0"/>
                          </a:lnTo>
                          <a:lnTo>
                            <a:pt x="20" y="27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8" name=""/>
                    <p:cNvSpPr/>
                    <p:nvPr/>
                  </p:nvSpPr>
                  <p:spPr>
                    <a:xfrm>
                      <a:off x="1177920" y="471024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2" y="2"/>
                          </a:lnTo>
                          <a:lnTo>
                            <a:pt x="45" y="10"/>
                          </a:lnTo>
                          <a:lnTo>
                            <a:pt x="60" y="26"/>
                          </a:lnTo>
                          <a:lnTo>
                            <a:pt x="15" y="26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9" name=""/>
                    <p:cNvSpPr/>
                    <p:nvPr/>
                  </p:nvSpPr>
                  <p:spPr>
                    <a:xfrm>
                      <a:off x="1179360" y="471672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6" y="7"/>
                          </a:lnTo>
                          <a:lnTo>
                            <a:pt x="10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0" name=""/>
                  <p:cNvGrpSpPr/>
                  <p:nvPr/>
                </p:nvGrpSpPr>
                <p:grpSpPr>
                  <a:xfrm>
                    <a:off x="1181160" y="4716720"/>
                    <a:ext cx="14400" cy="12600"/>
                    <a:chOff x="1181160" y="4716720"/>
                    <a:chExt cx="14400" cy="12600"/>
                  </a:xfrm>
                </p:grpSpPr>
                <p:sp>
                  <p:nvSpPr>
                    <p:cNvPr id="1651" name=""/>
                    <p:cNvSpPr/>
                    <p:nvPr/>
                  </p:nvSpPr>
                  <p:spPr>
                    <a:xfrm>
                      <a:off x="1181160" y="4716720"/>
                      <a:ext cx="32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0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2" name=""/>
                    <p:cNvSpPr/>
                    <p:nvPr/>
                  </p:nvSpPr>
                  <p:spPr>
                    <a:xfrm>
                      <a:off x="1182600" y="471816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2" y="2"/>
                          </a:lnTo>
                          <a:lnTo>
                            <a:pt x="46" y="9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3" name=""/>
                    <p:cNvSpPr/>
                    <p:nvPr/>
                  </p:nvSpPr>
                  <p:spPr>
                    <a:xfrm>
                      <a:off x="1182600" y="4722840"/>
                      <a:ext cx="129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2" y="16"/>
                          </a:lnTo>
                          <a:lnTo>
                            <a:pt x="6" y="7"/>
                          </a:lnTo>
                          <a:lnTo>
                            <a:pt x="11" y="0"/>
                          </a:lnTo>
                          <a:lnTo>
                            <a:pt x="57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4" name=""/>
                  <p:cNvGrpSpPr/>
                  <p:nvPr/>
                </p:nvGrpSpPr>
                <p:grpSpPr>
                  <a:xfrm>
                    <a:off x="1184400" y="4724640"/>
                    <a:ext cx="14040" cy="10800"/>
                    <a:chOff x="1184400" y="4724640"/>
                    <a:chExt cx="14040" cy="10800"/>
                  </a:xfrm>
                </p:grpSpPr>
                <p:sp>
                  <p:nvSpPr>
                    <p:cNvPr id="1655" name=""/>
                    <p:cNvSpPr/>
                    <p:nvPr/>
                  </p:nvSpPr>
                  <p:spPr>
                    <a:xfrm>
                      <a:off x="1184400" y="4724640"/>
                      <a:ext cx="288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8">
                          <a:moveTo>
                            <a:pt x="10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8" y="26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6" name=""/>
                    <p:cNvSpPr/>
                    <p:nvPr/>
                  </p:nvSpPr>
                  <p:spPr>
                    <a:xfrm>
                      <a:off x="1185840" y="472464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2" y="0"/>
                          </a:moveTo>
                          <a:lnTo>
                            <a:pt x="42" y="0"/>
                          </a:lnTo>
                          <a:lnTo>
                            <a:pt x="43" y="2"/>
                          </a:lnTo>
                          <a:lnTo>
                            <a:pt x="46" y="9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8" y="17"/>
                          </a:lnTo>
                          <a:lnTo>
                            <a:pt x="0" y="4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7" name=""/>
                    <p:cNvSpPr/>
                    <p:nvPr/>
                  </p:nvSpPr>
                  <p:spPr>
                    <a:xfrm>
                      <a:off x="1187280" y="472932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5" y="6"/>
                          </a:lnTo>
                          <a:lnTo>
                            <a:pt x="8" y="0"/>
                          </a:lnTo>
                          <a:lnTo>
                            <a:pt x="55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58" name=""/>
                <p:cNvGrpSpPr/>
                <p:nvPr/>
              </p:nvGrpSpPr>
              <p:grpSpPr>
                <a:xfrm>
                  <a:off x="1187280" y="4729320"/>
                  <a:ext cx="14400" cy="12600"/>
                  <a:chOff x="1187280" y="4729320"/>
                  <a:chExt cx="14400" cy="12600"/>
                </a:xfrm>
              </p:grpSpPr>
              <p:sp>
                <p:nvSpPr>
                  <p:cNvPr id="1659" name=""/>
                  <p:cNvSpPr/>
                  <p:nvPr/>
                </p:nvSpPr>
                <p:spPr>
                  <a:xfrm>
                    <a:off x="1187280" y="4729320"/>
                    <a:ext cx="3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9" y="27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0" name=""/>
                  <p:cNvSpPr/>
                  <p:nvPr/>
                </p:nvSpPr>
                <p:spPr>
                  <a:xfrm>
                    <a:off x="1189080" y="472932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1"/>
                        </a:lnTo>
                        <a:lnTo>
                          <a:pt x="59" y="26"/>
                        </a:lnTo>
                        <a:lnTo>
                          <a:pt x="14" y="26"/>
                        </a:lnTo>
                        <a:lnTo>
                          <a:pt x="8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>
                    <a:off x="1190520" y="473544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9">
                        <a:moveTo>
                          <a:pt x="0" y="29"/>
                        </a:moveTo>
                        <a:lnTo>
                          <a:pt x="1" y="16"/>
                        </a:lnTo>
                        <a:lnTo>
                          <a:pt x="5" y="5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2" name=""/>
                <p:cNvGrpSpPr/>
                <p:nvPr/>
              </p:nvGrpSpPr>
              <p:grpSpPr>
                <a:xfrm>
                  <a:off x="1190520" y="4735440"/>
                  <a:ext cx="14400" cy="11160"/>
                  <a:chOff x="1190520" y="4735440"/>
                  <a:chExt cx="14400" cy="11160"/>
                </a:xfrm>
              </p:grpSpPr>
              <p:sp>
                <p:nvSpPr>
                  <p:cNvPr id="1663" name=""/>
                  <p:cNvSpPr/>
                  <p:nvPr/>
                </p:nvSpPr>
                <p:spPr>
                  <a:xfrm>
                    <a:off x="1190520" y="4735440"/>
                    <a:ext cx="5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1192320" y="473544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2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4" y="25"/>
                        </a:lnTo>
                        <a:lnTo>
                          <a:pt x="8" y="17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1193760" y="474192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7"/>
                        </a:lnTo>
                        <a:lnTo>
                          <a:pt x="4" y="7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6" name=""/>
                <p:cNvGrpSpPr/>
                <p:nvPr/>
              </p:nvGrpSpPr>
              <p:grpSpPr>
                <a:xfrm>
                  <a:off x="1195560" y="4741920"/>
                  <a:ext cx="12600" cy="12600"/>
                  <a:chOff x="1195560" y="4741920"/>
                  <a:chExt cx="12600" cy="12600"/>
                </a:xfrm>
              </p:grpSpPr>
              <p:sp>
                <p:nvSpPr>
                  <p:cNvPr id="1667" name=""/>
                  <p:cNvSpPr/>
                  <p:nvPr/>
                </p:nvSpPr>
                <p:spPr>
                  <a:xfrm>
                    <a:off x="1195560" y="4741920"/>
                    <a:ext cx="2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>
                    <a:off x="1197000" y="474372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1"/>
                        </a:lnTo>
                        <a:lnTo>
                          <a:pt x="59" y="26"/>
                        </a:lnTo>
                        <a:lnTo>
                          <a:pt x="15" y="26"/>
                        </a:lnTo>
                        <a:lnTo>
                          <a:pt x="8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>
                    <a:off x="1197000" y="474840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2" y="18"/>
                        </a:lnTo>
                        <a:lnTo>
                          <a:pt x="5" y="7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0" name=""/>
                <p:cNvSpPr/>
                <p:nvPr/>
              </p:nvSpPr>
              <p:spPr>
                <a:xfrm>
                  <a:off x="1122480" y="463248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58">
                      <a:moveTo>
                        <a:pt x="12" y="58"/>
                      </a:moveTo>
                      <a:lnTo>
                        <a:pt x="0" y="23"/>
                      </a:lnTo>
                      <a:lnTo>
                        <a:pt x="8" y="0"/>
                      </a:lnTo>
                      <a:lnTo>
                        <a:pt x="20" y="26"/>
                      </a:lnTo>
                      <a:lnTo>
                        <a:pt x="12" y="58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1123920" y="463248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7" h="23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41" y="1"/>
                      </a:lnTo>
                      <a:lnTo>
                        <a:pt x="45" y="10"/>
                      </a:lnTo>
                      <a:lnTo>
                        <a:pt x="57" y="23"/>
                      </a:lnTo>
                      <a:lnTo>
                        <a:pt x="14" y="23"/>
                      </a:lnTo>
                      <a:lnTo>
                        <a:pt x="6" y="16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1125720" y="4637160"/>
                  <a:ext cx="10800" cy="6480"/>
                </a:xfrm>
                <a:custGeom>
                  <a:avLst/>
                  <a:gdLst/>
                  <a:ahLst/>
                  <a:rect l="l" t="t" r="r" b="b"/>
                  <a:pathLst>
                    <a:path w="66" h="31">
                      <a:moveTo>
                        <a:pt x="0" y="31"/>
                      </a:moveTo>
                      <a:lnTo>
                        <a:pt x="1" y="18"/>
                      </a:lnTo>
                      <a:lnTo>
                        <a:pt x="4" y="7"/>
                      </a:lnTo>
                      <a:lnTo>
                        <a:pt x="9" y="0"/>
                      </a:lnTo>
                      <a:lnTo>
                        <a:pt x="55" y="0"/>
                      </a:lnTo>
                      <a:lnTo>
                        <a:pt x="66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3" name=""/>
                <p:cNvGrpSpPr/>
                <p:nvPr/>
              </p:nvGrpSpPr>
              <p:grpSpPr>
                <a:xfrm>
                  <a:off x="1127160" y="4638960"/>
                  <a:ext cx="12600" cy="10800"/>
                  <a:chOff x="1127160" y="4638960"/>
                  <a:chExt cx="12600" cy="10800"/>
                </a:xfrm>
              </p:grpSpPr>
              <p:sp>
                <p:nvSpPr>
                  <p:cNvPr id="1674" name=""/>
                  <p:cNvSpPr/>
                  <p:nvPr/>
                </p:nvSpPr>
                <p:spPr>
                  <a:xfrm>
                    <a:off x="1127160" y="4638960"/>
                    <a:ext cx="32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9" y="26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1127160" y="46389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10"/>
                        </a:lnTo>
                        <a:lnTo>
                          <a:pt x="59" y="25"/>
                        </a:lnTo>
                        <a:lnTo>
                          <a:pt x="14" y="25"/>
                        </a:lnTo>
                        <a:lnTo>
                          <a:pt x="8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1128600" y="464364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6" y="7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7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7" name=""/>
                <p:cNvGrpSpPr/>
                <p:nvPr/>
              </p:nvGrpSpPr>
              <p:grpSpPr>
                <a:xfrm>
                  <a:off x="1130400" y="4645080"/>
                  <a:ext cx="14040" cy="11160"/>
                  <a:chOff x="1130400" y="4645080"/>
                  <a:chExt cx="14040" cy="11160"/>
                </a:xfrm>
              </p:grpSpPr>
              <p:sp>
                <p:nvSpPr>
                  <p:cNvPr id="1678" name=""/>
                  <p:cNvSpPr/>
                  <p:nvPr/>
                </p:nvSpPr>
                <p:spPr>
                  <a:xfrm>
                    <a:off x="1130400" y="464508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>
                    <a:off x="1131840" y="464508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0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1131840" y="464976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4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1" name=""/>
                <p:cNvGrpSpPr/>
                <p:nvPr/>
              </p:nvGrpSpPr>
              <p:grpSpPr>
                <a:xfrm>
                  <a:off x="1133640" y="4651560"/>
                  <a:ext cx="14040" cy="11160"/>
                  <a:chOff x="1133640" y="4651560"/>
                  <a:chExt cx="14040" cy="11160"/>
                </a:xfrm>
              </p:grpSpPr>
              <p:sp>
                <p:nvSpPr>
                  <p:cNvPr id="1682" name=""/>
                  <p:cNvSpPr/>
                  <p:nvPr/>
                </p:nvSpPr>
                <p:spPr>
                  <a:xfrm>
                    <a:off x="1133640" y="465156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19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1135080" y="46515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5" y="10"/>
                        </a:lnTo>
                        <a:lnTo>
                          <a:pt x="59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1136520" y="465624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5" name=""/>
                <p:cNvGrpSpPr/>
                <p:nvPr/>
              </p:nvGrpSpPr>
              <p:grpSpPr>
                <a:xfrm>
                  <a:off x="1136520" y="4657680"/>
                  <a:ext cx="14400" cy="11160"/>
                  <a:chOff x="1136520" y="4657680"/>
                  <a:chExt cx="14400" cy="11160"/>
                </a:xfrm>
              </p:grpSpPr>
              <p:sp>
                <p:nvSpPr>
                  <p:cNvPr id="1686" name=""/>
                  <p:cNvSpPr/>
                  <p:nvPr/>
                </p:nvSpPr>
                <p:spPr>
                  <a:xfrm>
                    <a:off x="1136520" y="4657680"/>
                    <a:ext cx="5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21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>
                    <a:off x="1138320" y="4657680"/>
                    <a:ext cx="111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2" y="2"/>
                        </a:lnTo>
                        <a:lnTo>
                          <a:pt x="46" y="10"/>
                        </a:lnTo>
                        <a:lnTo>
                          <a:pt x="61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>
                    <a:off x="1139760" y="466272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6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5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9" name=""/>
                <p:cNvGrpSpPr/>
                <p:nvPr/>
              </p:nvGrpSpPr>
              <p:grpSpPr>
                <a:xfrm>
                  <a:off x="1141560" y="4665600"/>
                  <a:ext cx="27000" cy="36720"/>
                  <a:chOff x="1141560" y="4665600"/>
                  <a:chExt cx="27000" cy="36720"/>
                </a:xfrm>
              </p:grpSpPr>
              <p:grpSp>
                <p:nvGrpSpPr>
                  <p:cNvPr id="1690" name=""/>
                  <p:cNvGrpSpPr/>
                  <p:nvPr/>
                </p:nvGrpSpPr>
                <p:grpSpPr>
                  <a:xfrm>
                    <a:off x="1141560" y="4665600"/>
                    <a:ext cx="12600" cy="11160"/>
                    <a:chOff x="1141560" y="4665600"/>
                    <a:chExt cx="12600" cy="11160"/>
                  </a:xfrm>
                </p:grpSpPr>
                <p:sp>
                  <p:nvSpPr>
                    <p:cNvPr id="1691" name=""/>
                    <p:cNvSpPr/>
                    <p:nvPr/>
                  </p:nvSpPr>
                  <p:spPr>
                    <a:xfrm>
                      <a:off x="1141560" y="466560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61">
                          <a:moveTo>
                            <a:pt x="10" y="61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9" y="27"/>
                          </a:lnTo>
                          <a:lnTo>
                            <a:pt x="10" y="61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2" name=""/>
                    <p:cNvSpPr/>
                    <p:nvPr/>
                  </p:nvSpPr>
                  <p:spPr>
                    <a:xfrm>
                      <a:off x="1141560" y="466560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6" y="10"/>
                          </a:lnTo>
                          <a:lnTo>
                            <a:pt x="60" y="26"/>
                          </a:lnTo>
                          <a:lnTo>
                            <a:pt x="15" y="26"/>
                          </a:lnTo>
                          <a:lnTo>
                            <a:pt x="8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3" name=""/>
                    <p:cNvSpPr/>
                    <p:nvPr/>
                  </p:nvSpPr>
                  <p:spPr>
                    <a:xfrm>
                      <a:off x="1143000" y="467064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3">
                          <a:moveTo>
                            <a:pt x="0" y="33"/>
                          </a:moveTo>
                          <a:lnTo>
                            <a:pt x="1" y="18"/>
                          </a:lnTo>
                          <a:lnTo>
                            <a:pt x="7" y="6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7" y="3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94" name=""/>
                  <p:cNvGrpSpPr/>
                  <p:nvPr/>
                </p:nvGrpSpPr>
                <p:grpSpPr>
                  <a:xfrm>
                    <a:off x="1144440" y="4672080"/>
                    <a:ext cx="14400" cy="11160"/>
                    <a:chOff x="1144440" y="4672080"/>
                    <a:chExt cx="14400" cy="11160"/>
                  </a:xfrm>
                </p:grpSpPr>
                <p:sp>
                  <p:nvSpPr>
                    <p:cNvPr id="1695" name=""/>
                    <p:cNvSpPr/>
                    <p:nvPr/>
                  </p:nvSpPr>
                  <p:spPr>
                    <a:xfrm>
                      <a:off x="1144440" y="467208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4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6" name=""/>
                    <p:cNvSpPr/>
                    <p:nvPr/>
                  </p:nvSpPr>
                  <p:spPr>
                    <a:xfrm>
                      <a:off x="1146240" y="467208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8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2"/>
                          </a:lnTo>
                          <a:lnTo>
                            <a:pt x="61" y="28"/>
                          </a:lnTo>
                          <a:lnTo>
                            <a:pt x="15" y="28"/>
                          </a:lnTo>
                          <a:lnTo>
                            <a:pt x="8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7" name=""/>
                    <p:cNvSpPr/>
                    <p:nvPr/>
                  </p:nvSpPr>
                  <p:spPr>
                    <a:xfrm>
                      <a:off x="1146240" y="467676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7"/>
                          </a:lnTo>
                          <a:lnTo>
                            <a:pt x="4" y="6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98" name=""/>
                  <p:cNvGrpSpPr/>
                  <p:nvPr/>
                </p:nvGrpSpPr>
                <p:grpSpPr>
                  <a:xfrm>
                    <a:off x="1147680" y="4678560"/>
                    <a:ext cx="14400" cy="11160"/>
                    <a:chOff x="1147680" y="4678560"/>
                    <a:chExt cx="14400" cy="11160"/>
                  </a:xfrm>
                </p:grpSpPr>
                <p:sp>
                  <p:nvSpPr>
                    <p:cNvPr id="1699" name=""/>
                    <p:cNvSpPr/>
                    <p:nvPr/>
                  </p:nvSpPr>
                  <p:spPr>
                    <a:xfrm>
                      <a:off x="1147680" y="467856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8">
                          <a:moveTo>
                            <a:pt x="12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19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0" name=""/>
                    <p:cNvSpPr/>
                    <p:nvPr/>
                  </p:nvSpPr>
                  <p:spPr>
                    <a:xfrm>
                      <a:off x="1149480" y="467856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58" y="25"/>
                          </a:lnTo>
                          <a:lnTo>
                            <a:pt x="13" y="25"/>
                          </a:lnTo>
                          <a:lnTo>
                            <a:pt x="7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1" name=""/>
                    <p:cNvSpPr/>
                    <p:nvPr/>
                  </p:nvSpPr>
                  <p:spPr>
                    <a:xfrm>
                      <a:off x="1149480" y="468324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5" y="6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7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02" name=""/>
                  <p:cNvGrpSpPr/>
                  <p:nvPr/>
                </p:nvGrpSpPr>
                <p:grpSpPr>
                  <a:xfrm>
                    <a:off x="1150920" y="4684680"/>
                    <a:ext cx="14400" cy="11160"/>
                    <a:chOff x="1150920" y="4684680"/>
                    <a:chExt cx="14400" cy="11160"/>
                  </a:xfrm>
                </p:grpSpPr>
                <p:sp>
                  <p:nvSpPr>
                    <p:cNvPr id="1703" name=""/>
                    <p:cNvSpPr/>
                    <p:nvPr/>
                  </p:nvSpPr>
                  <p:spPr>
                    <a:xfrm>
                      <a:off x="1150920" y="468468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4" name=""/>
                    <p:cNvSpPr/>
                    <p:nvPr/>
                  </p:nvSpPr>
                  <p:spPr>
                    <a:xfrm>
                      <a:off x="1152360" y="4684680"/>
                      <a:ext cx="111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59" y="25"/>
                          </a:lnTo>
                          <a:lnTo>
                            <a:pt x="15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5" name=""/>
                    <p:cNvSpPr/>
                    <p:nvPr/>
                  </p:nvSpPr>
                  <p:spPr>
                    <a:xfrm>
                      <a:off x="1154160" y="468972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4" y="7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06" name=""/>
                  <p:cNvGrpSpPr/>
                  <p:nvPr/>
                </p:nvGrpSpPr>
                <p:grpSpPr>
                  <a:xfrm>
                    <a:off x="1155600" y="4691160"/>
                    <a:ext cx="12960" cy="11160"/>
                    <a:chOff x="1155600" y="4691160"/>
                    <a:chExt cx="12960" cy="11160"/>
                  </a:xfrm>
                </p:grpSpPr>
                <p:sp>
                  <p:nvSpPr>
                    <p:cNvPr id="1707" name=""/>
                    <p:cNvSpPr/>
                    <p:nvPr/>
                  </p:nvSpPr>
                  <p:spPr>
                    <a:xfrm>
                      <a:off x="1155600" y="469116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8">
                          <a:moveTo>
                            <a:pt x="11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19" y="26"/>
                          </a:lnTo>
                          <a:lnTo>
                            <a:pt x="11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8" name=""/>
                    <p:cNvSpPr/>
                    <p:nvPr/>
                  </p:nvSpPr>
                  <p:spPr>
                    <a:xfrm>
                      <a:off x="1157400" y="469116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1" y="2"/>
                          </a:lnTo>
                          <a:lnTo>
                            <a:pt x="46" y="10"/>
                          </a:lnTo>
                          <a:lnTo>
                            <a:pt x="59" y="25"/>
                          </a:lnTo>
                          <a:lnTo>
                            <a:pt x="15" y="25"/>
                          </a:lnTo>
                          <a:lnTo>
                            <a:pt x="8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9" name=""/>
                    <p:cNvSpPr/>
                    <p:nvPr/>
                  </p:nvSpPr>
                  <p:spPr>
                    <a:xfrm>
                      <a:off x="1157400" y="469584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2" y="17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10" name=""/>
                <p:cNvGrpSpPr/>
                <p:nvPr/>
              </p:nvGrpSpPr>
              <p:grpSpPr>
                <a:xfrm>
                  <a:off x="1158840" y="4699080"/>
                  <a:ext cx="28440" cy="36360"/>
                  <a:chOff x="1158840" y="4699080"/>
                  <a:chExt cx="28440" cy="36360"/>
                </a:xfrm>
              </p:grpSpPr>
              <p:grpSp>
                <p:nvGrpSpPr>
                  <p:cNvPr id="1711" name=""/>
                  <p:cNvGrpSpPr/>
                  <p:nvPr/>
                </p:nvGrpSpPr>
                <p:grpSpPr>
                  <a:xfrm>
                    <a:off x="1158840" y="4699080"/>
                    <a:ext cx="14400" cy="11160"/>
                    <a:chOff x="1158840" y="4699080"/>
                    <a:chExt cx="14400" cy="11160"/>
                  </a:xfrm>
                </p:grpSpPr>
                <p:sp>
                  <p:nvSpPr>
                    <p:cNvPr id="1712" name=""/>
                    <p:cNvSpPr/>
                    <p:nvPr/>
                  </p:nvSpPr>
                  <p:spPr>
                    <a:xfrm>
                      <a:off x="1158840" y="469908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3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3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3" name=""/>
                    <p:cNvSpPr/>
                    <p:nvPr/>
                  </p:nvSpPr>
                  <p:spPr>
                    <a:xfrm>
                      <a:off x="1160640" y="469908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7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4"/>
                          </a:lnTo>
                          <a:lnTo>
                            <a:pt x="46" y="11"/>
                          </a:lnTo>
                          <a:lnTo>
                            <a:pt x="61" y="27"/>
                          </a:lnTo>
                          <a:lnTo>
                            <a:pt x="15" y="27"/>
                          </a:lnTo>
                          <a:lnTo>
                            <a:pt x="9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4" name=""/>
                    <p:cNvSpPr/>
                    <p:nvPr/>
                  </p:nvSpPr>
                  <p:spPr>
                    <a:xfrm>
                      <a:off x="1160640" y="470376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4" y="5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15" name=""/>
                  <p:cNvGrpSpPr/>
                  <p:nvPr/>
                </p:nvGrpSpPr>
                <p:grpSpPr>
                  <a:xfrm>
                    <a:off x="1162080" y="4703760"/>
                    <a:ext cx="14400" cy="12960"/>
                    <a:chOff x="1162080" y="4703760"/>
                    <a:chExt cx="14400" cy="12960"/>
                  </a:xfrm>
                </p:grpSpPr>
                <p:sp>
                  <p:nvSpPr>
                    <p:cNvPr id="1716" name=""/>
                    <p:cNvSpPr/>
                    <p:nvPr/>
                  </p:nvSpPr>
                  <p:spPr>
                    <a:xfrm>
                      <a:off x="1162080" y="4703760"/>
                      <a:ext cx="324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9">
                          <a:moveTo>
                            <a:pt x="11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9" y="26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7" name=""/>
                    <p:cNvSpPr/>
                    <p:nvPr/>
                  </p:nvSpPr>
                  <p:spPr>
                    <a:xfrm>
                      <a:off x="1163520" y="4705560"/>
                      <a:ext cx="97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5" y="11"/>
                          </a:lnTo>
                          <a:lnTo>
                            <a:pt x="60" y="26"/>
                          </a:lnTo>
                          <a:lnTo>
                            <a:pt x="15" y="26"/>
                          </a:lnTo>
                          <a:lnTo>
                            <a:pt x="9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8" name=""/>
                    <p:cNvSpPr/>
                    <p:nvPr/>
                  </p:nvSpPr>
                  <p:spPr>
                    <a:xfrm>
                      <a:off x="1163520" y="4710240"/>
                      <a:ext cx="129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2">
                          <a:moveTo>
                            <a:pt x="0" y="32"/>
                          </a:moveTo>
                          <a:lnTo>
                            <a:pt x="2" y="18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19" name=""/>
                  <p:cNvGrpSpPr/>
                  <p:nvPr/>
                </p:nvGrpSpPr>
                <p:grpSpPr>
                  <a:xfrm>
                    <a:off x="1165320" y="4710240"/>
                    <a:ext cx="14040" cy="12600"/>
                    <a:chOff x="1165320" y="4710240"/>
                    <a:chExt cx="14040" cy="12600"/>
                  </a:xfrm>
                </p:grpSpPr>
                <p:sp>
                  <p:nvSpPr>
                    <p:cNvPr id="1720" name=""/>
                    <p:cNvSpPr/>
                    <p:nvPr/>
                  </p:nvSpPr>
                  <p:spPr>
                    <a:xfrm>
                      <a:off x="1165320" y="4710240"/>
                      <a:ext cx="32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4"/>
                          </a:lnTo>
                          <a:lnTo>
                            <a:pt x="8" y="0"/>
                          </a:lnTo>
                          <a:lnTo>
                            <a:pt x="20" y="27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1" name=""/>
                    <p:cNvSpPr/>
                    <p:nvPr/>
                  </p:nvSpPr>
                  <p:spPr>
                    <a:xfrm>
                      <a:off x="1166760" y="4711680"/>
                      <a:ext cx="111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60" y="26"/>
                          </a:lnTo>
                          <a:lnTo>
                            <a:pt x="15" y="26"/>
                          </a:lnTo>
                          <a:lnTo>
                            <a:pt x="7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2" name=""/>
                    <p:cNvSpPr/>
                    <p:nvPr/>
                  </p:nvSpPr>
                  <p:spPr>
                    <a:xfrm>
                      <a:off x="1168560" y="471672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5" y="7"/>
                          </a:lnTo>
                          <a:lnTo>
                            <a:pt x="10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23" name=""/>
                  <p:cNvGrpSpPr/>
                  <p:nvPr/>
                </p:nvGrpSpPr>
                <p:grpSpPr>
                  <a:xfrm>
                    <a:off x="1170000" y="4718160"/>
                    <a:ext cx="12600" cy="11160"/>
                    <a:chOff x="1170000" y="4718160"/>
                    <a:chExt cx="12600" cy="11160"/>
                  </a:xfrm>
                </p:grpSpPr>
                <p:sp>
                  <p:nvSpPr>
                    <p:cNvPr id="1724" name=""/>
                    <p:cNvSpPr/>
                    <p:nvPr/>
                  </p:nvSpPr>
                  <p:spPr>
                    <a:xfrm>
                      <a:off x="1170000" y="471816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0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5" name=""/>
                    <p:cNvSpPr/>
                    <p:nvPr/>
                  </p:nvSpPr>
                  <p:spPr>
                    <a:xfrm>
                      <a:off x="1170000" y="471816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6" name=""/>
                    <p:cNvSpPr/>
                    <p:nvPr/>
                  </p:nvSpPr>
                  <p:spPr>
                    <a:xfrm>
                      <a:off x="1171440" y="472284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6" y="7"/>
                          </a:lnTo>
                          <a:lnTo>
                            <a:pt x="11" y="0"/>
                          </a:lnTo>
                          <a:lnTo>
                            <a:pt x="56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27" name=""/>
                  <p:cNvGrpSpPr/>
                  <p:nvPr/>
                </p:nvGrpSpPr>
                <p:grpSpPr>
                  <a:xfrm>
                    <a:off x="1173240" y="4724640"/>
                    <a:ext cx="14040" cy="10800"/>
                    <a:chOff x="1173240" y="4724640"/>
                    <a:chExt cx="14040" cy="10800"/>
                  </a:xfrm>
                </p:grpSpPr>
                <p:sp>
                  <p:nvSpPr>
                    <p:cNvPr id="1728" name=""/>
                    <p:cNvSpPr/>
                    <p:nvPr/>
                  </p:nvSpPr>
                  <p:spPr>
                    <a:xfrm>
                      <a:off x="1173240" y="4724640"/>
                      <a:ext cx="324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8">
                          <a:moveTo>
                            <a:pt x="11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9" y="26"/>
                          </a:lnTo>
                          <a:lnTo>
                            <a:pt x="11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9" name=""/>
                    <p:cNvSpPr/>
                    <p:nvPr/>
                  </p:nvSpPr>
                  <p:spPr>
                    <a:xfrm>
                      <a:off x="1174680" y="4724640"/>
                      <a:ext cx="97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3" y="2"/>
                          </a:lnTo>
                          <a:lnTo>
                            <a:pt x="46" y="10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8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0" name=""/>
                    <p:cNvSpPr/>
                    <p:nvPr/>
                  </p:nvSpPr>
                  <p:spPr>
                    <a:xfrm>
                      <a:off x="1174680" y="4729320"/>
                      <a:ext cx="126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4" y="7"/>
                          </a:lnTo>
                          <a:lnTo>
                            <a:pt x="8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1176480" y="4729320"/>
                  <a:ext cx="14040" cy="12600"/>
                  <a:chOff x="1176480" y="4729320"/>
                  <a:chExt cx="14040" cy="1260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1176480" y="4729320"/>
                    <a:ext cx="2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2" y="59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8"/>
                        </a:lnTo>
                        <a:lnTo>
                          <a:pt x="12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1177920" y="473076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7">
                        <a:moveTo>
                          <a:pt x="2" y="0"/>
                        </a:moveTo>
                        <a:lnTo>
                          <a:pt x="40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7"/>
                        </a:lnTo>
                        <a:lnTo>
                          <a:pt x="15" y="27"/>
                        </a:lnTo>
                        <a:lnTo>
                          <a:pt x="8" y="19"/>
                        </a:lnTo>
                        <a:lnTo>
                          <a:pt x="0" y="6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1177920" y="473544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5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5" name=""/>
                <p:cNvGrpSpPr/>
                <p:nvPr/>
              </p:nvGrpSpPr>
              <p:grpSpPr>
                <a:xfrm>
                  <a:off x="1179360" y="4735440"/>
                  <a:ext cx="14400" cy="12960"/>
                  <a:chOff x="1179360" y="4735440"/>
                  <a:chExt cx="14400" cy="12960"/>
                </a:xfrm>
              </p:grpSpPr>
              <p:sp>
                <p:nvSpPr>
                  <p:cNvPr id="1736" name=""/>
                  <p:cNvSpPr/>
                  <p:nvPr/>
                </p:nvSpPr>
                <p:spPr>
                  <a:xfrm>
                    <a:off x="1179360" y="4735440"/>
                    <a:ext cx="3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1181160" y="473724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6">
                        <a:moveTo>
                          <a:pt x="3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7" y="11"/>
                        </a:lnTo>
                        <a:lnTo>
                          <a:pt x="61" y="26"/>
                        </a:lnTo>
                        <a:lnTo>
                          <a:pt x="15" y="26"/>
                        </a:lnTo>
                        <a:lnTo>
                          <a:pt x="9" y="19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1182600" y="474192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8"/>
                        </a:lnTo>
                        <a:lnTo>
                          <a:pt x="4" y="7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9" name=""/>
                <p:cNvGrpSpPr/>
                <p:nvPr/>
              </p:nvGrpSpPr>
              <p:grpSpPr>
                <a:xfrm>
                  <a:off x="1182600" y="4743720"/>
                  <a:ext cx="14400" cy="10800"/>
                  <a:chOff x="1182600" y="4743720"/>
                  <a:chExt cx="14400" cy="10800"/>
                </a:xfrm>
              </p:grpSpPr>
              <p:sp>
                <p:nvSpPr>
                  <p:cNvPr id="1740" name=""/>
                  <p:cNvSpPr/>
                  <p:nvPr/>
                </p:nvSpPr>
                <p:spPr>
                  <a:xfrm>
                    <a:off x="1182600" y="4743720"/>
                    <a:ext cx="32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7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1184400" y="474372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2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9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>
                    <a:off x="1185840" y="474840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7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3" name=""/>
                <p:cNvSpPr/>
                <p:nvPr/>
              </p:nvSpPr>
              <p:spPr>
                <a:xfrm>
                  <a:off x="1111320" y="463248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20" h="58">
                      <a:moveTo>
                        <a:pt x="11" y="58"/>
                      </a:moveTo>
                      <a:lnTo>
                        <a:pt x="0" y="23"/>
                      </a:lnTo>
                      <a:lnTo>
                        <a:pt x="8" y="0"/>
                      </a:lnTo>
                      <a:lnTo>
                        <a:pt x="20" y="26"/>
                      </a:lnTo>
                      <a:lnTo>
                        <a:pt x="11" y="58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1112760" y="463248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58" h="26">
                      <a:moveTo>
                        <a:pt x="1" y="0"/>
                      </a:moveTo>
                      <a:lnTo>
                        <a:pt x="40" y="0"/>
                      </a:lnTo>
                      <a:lnTo>
                        <a:pt x="41" y="3"/>
                      </a:lnTo>
                      <a:lnTo>
                        <a:pt x="46" y="11"/>
                      </a:lnTo>
                      <a:lnTo>
                        <a:pt x="58" y="26"/>
                      </a:lnTo>
                      <a:lnTo>
                        <a:pt x="15" y="26"/>
                      </a:lnTo>
                      <a:lnTo>
                        <a:pt x="7" y="19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1112760" y="4637160"/>
                  <a:ext cx="12960" cy="6480"/>
                </a:xfrm>
                <a:custGeom>
                  <a:avLst/>
                  <a:gdLst/>
                  <a:ahLst/>
                  <a:rect l="l" t="t" r="r" b="b"/>
                  <a:pathLst>
                    <a:path w="67" h="31">
                      <a:moveTo>
                        <a:pt x="0" y="31"/>
                      </a:moveTo>
                      <a:lnTo>
                        <a:pt x="2" y="18"/>
                      </a:lnTo>
                      <a:lnTo>
                        <a:pt x="5" y="7"/>
                      </a:lnTo>
                      <a:lnTo>
                        <a:pt x="10" y="0"/>
                      </a:lnTo>
                      <a:lnTo>
                        <a:pt x="54" y="0"/>
                      </a:lnTo>
                      <a:lnTo>
                        <a:pt x="67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6" name=""/>
                <p:cNvGrpSpPr/>
                <p:nvPr/>
              </p:nvGrpSpPr>
              <p:grpSpPr>
                <a:xfrm>
                  <a:off x="1114560" y="4638960"/>
                  <a:ext cx="14040" cy="10800"/>
                  <a:chOff x="1114560" y="4638960"/>
                  <a:chExt cx="14040" cy="10800"/>
                </a:xfrm>
              </p:grpSpPr>
              <p:sp>
                <p:nvSpPr>
                  <p:cNvPr id="1747" name=""/>
                  <p:cNvSpPr/>
                  <p:nvPr/>
                </p:nvSpPr>
                <p:spPr>
                  <a:xfrm>
                    <a:off x="1114560" y="4638960"/>
                    <a:ext cx="28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1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1116000" y="46389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39" y="0"/>
                        </a:lnTo>
                        <a:lnTo>
                          <a:pt x="40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7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1116000" y="464364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6" y="7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0" name=""/>
                <p:cNvGrpSpPr/>
                <p:nvPr/>
              </p:nvGrpSpPr>
              <p:grpSpPr>
                <a:xfrm>
                  <a:off x="1117440" y="4645080"/>
                  <a:ext cx="14400" cy="11160"/>
                  <a:chOff x="1117440" y="4645080"/>
                  <a:chExt cx="14400" cy="11160"/>
                </a:xfrm>
              </p:grpSpPr>
              <p:sp>
                <p:nvSpPr>
                  <p:cNvPr id="1751" name=""/>
                  <p:cNvSpPr/>
                  <p:nvPr/>
                </p:nvSpPr>
                <p:spPr>
                  <a:xfrm>
                    <a:off x="1117440" y="4645080"/>
                    <a:ext cx="5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1119240" y="464508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0"/>
                        </a:lnTo>
                        <a:lnTo>
                          <a:pt x="59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1120680" y="464976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4" name=""/>
                <p:cNvGrpSpPr/>
                <p:nvPr/>
              </p:nvGrpSpPr>
              <p:grpSpPr>
                <a:xfrm>
                  <a:off x="1122480" y="4651560"/>
                  <a:ext cx="14040" cy="11160"/>
                  <a:chOff x="1122480" y="4651560"/>
                  <a:chExt cx="14040" cy="11160"/>
                </a:xfrm>
              </p:grpSpPr>
              <p:sp>
                <p:nvSpPr>
                  <p:cNvPr id="1755" name=""/>
                  <p:cNvSpPr/>
                  <p:nvPr/>
                </p:nvSpPr>
                <p:spPr>
                  <a:xfrm>
                    <a:off x="1122480" y="465156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7" y="0"/>
                        </a:lnTo>
                        <a:lnTo>
                          <a:pt x="20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1122480" y="46515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5">
                        <a:moveTo>
                          <a:pt x="2" y="0"/>
                        </a:moveTo>
                        <a:lnTo>
                          <a:pt x="41" y="0"/>
                        </a:lnTo>
                        <a:lnTo>
                          <a:pt x="43" y="2"/>
                        </a:lnTo>
                        <a:lnTo>
                          <a:pt x="46" y="10"/>
                        </a:lnTo>
                        <a:lnTo>
                          <a:pt x="61" y="25"/>
                        </a:lnTo>
                        <a:lnTo>
                          <a:pt x="15" y="25"/>
                        </a:lnTo>
                        <a:lnTo>
                          <a:pt x="9" y="18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1123920" y="465624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8" name=""/>
                <p:cNvGrpSpPr/>
                <p:nvPr/>
              </p:nvGrpSpPr>
              <p:grpSpPr>
                <a:xfrm>
                  <a:off x="1125720" y="4657680"/>
                  <a:ext cx="14040" cy="11160"/>
                  <a:chOff x="1125720" y="4657680"/>
                  <a:chExt cx="14040" cy="11160"/>
                </a:xfrm>
              </p:grpSpPr>
              <p:sp>
                <p:nvSpPr>
                  <p:cNvPr id="1759" name=""/>
                  <p:cNvSpPr/>
                  <p:nvPr/>
                </p:nvSpPr>
                <p:spPr>
                  <a:xfrm>
                    <a:off x="1125720" y="465768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21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1127160" y="465768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>
                    <a:off x="1127160" y="466272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4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5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2" name=""/>
                <p:cNvGrpSpPr/>
                <p:nvPr/>
              </p:nvGrpSpPr>
              <p:grpSpPr>
                <a:xfrm>
                  <a:off x="1128600" y="4665600"/>
                  <a:ext cx="28800" cy="36720"/>
                  <a:chOff x="1128600" y="4665600"/>
                  <a:chExt cx="28800" cy="36720"/>
                </a:xfrm>
              </p:grpSpPr>
              <p:grpSp>
                <p:nvGrpSpPr>
                  <p:cNvPr id="1763" name=""/>
                  <p:cNvGrpSpPr/>
                  <p:nvPr/>
                </p:nvGrpSpPr>
                <p:grpSpPr>
                  <a:xfrm>
                    <a:off x="1128600" y="4665600"/>
                    <a:ext cx="14400" cy="11160"/>
                    <a:chOff x="1128600" y="4665600"/>
                    <a:chExt cx="14400" cy="11160"/>
                  </a:xfrm>
                </p:grpSpPr>
                <p:sp>
                  <p:nvSpPr>
                    <p:cNvPr id="1764" name=""/>
                    <p:cNvSpPr/>
                    <p:nvPr/>
                  </p:nvSpPr>
                  <p:spPr>
                    <a:xfrm>
                      <a:off x="1128600" y="466560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61">
                          <a:moveTo>
                            <a:pt x="12" y="61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1" y="27"/>
                          </a:lnTo>
                          <a:lnTo>
                            <a:pt x="12" y="61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5" name=""/>
                    <p:cNvSpPr/>
                    <p:nvPr/>
                  </p:nvSpPr>
                  <p:spPr>
                    <a:xfrm>
                      <a:off x="1130400" y="4665600"/>
                      <a:ext cx="111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3" y="3"/>
                          </a:lnTo>
                          <a:lnTo>
                            <a:pt x="46" y="10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7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6" name=""/>
                    <p:cNvSpPr/>
                    <p:nvPr/>
                  </p:nvSpPr>
                  <p:spPr>
                    <a:xfrm>
                      <a:off x="1130400" y="4670640"/>
                      <a:ext cx="126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3">
                          <a:moveTo>
                            <a:pt x="0" y="33"/>
                          </a:moveTo>
                          <a:lnTo>
                            <a:pt x="1" y="18"/>
                          </a:lnTo>
                          <a:lnTo>
                            <a:pt x="7" y="6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6" y="3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67" name=""/>
                  <p:cNvGrpSpPr/>
                  <p:nvPr/>
                </p:nvGrpSpPr>
                <p:grpSpPr>
                  <a:xfrm>
                    <a:off x="1131840" y="4672080"/>
                    <a:ext cx="14400" cy="11160"/>
                    <a:chOff x="1131840" y="4672080"/>
                    <a:chExt cx="14400" cy="11160"/>
                  </a:xfrm>
                </p:grpSpPr>
                <p:sp>
                  <p:nvSpPr>
                    <p:cNvPr id="1768" name=""/>
                    <p:cNvSpPr/>
                    <p:nvPr/>
                  </p:nvSpPr>
                  <p:spPr>
                    <a:xfrm>
                      <a:off x="1131840" y="4672080"/>
                      <a:ext cx="46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0" y="59"/>
                          </a:moveTo>
                          <a:lnTo>
                            <a:pt x="0" y="24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0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9" name=""/>
                    <p:cNvSpPr/>
                    <p:nvPr/>
                  </p:nvSpPr>
                  <p:spPr>
                    <a:xfrm>
                      <a:off x="1133640" y="467208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8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2"/>
                          </a:lnTo>
                          <a:lnTo>
                            <a:pt x="60" y="28"/>
                          </a:lnTo>
                          <a:lnTo>
                            <a:pt x="15" y="28"/>
                          </a:lnTo>
                          <a:lnTo>
                            <a:pt x="8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0" name=""/>
                    <p:cNvSpPr/>
                    <p:nvPr/>
                  </p:nvSpPr>
                  <p:spPr>
                    <a:xfrm>
                      <a:off x="1135080" y="467676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30">
                          <a:moveTo>
                            <a:pt x="0" y="30"/>
                          </a:moveTo>
                          <a:lnTo>
                            <a:pt x="1" y="17"/>
                          </a:lnTo>
                          <a:lnTo>
                            <a:pt x="6" y="6"/>
                          </a:lnTo>
                          <a:lnTo>
                            <a:pt x="11" y="0"/>
                          </a:lnTo>
                          <a:lnTo>
                            <a:pt x="56" y="0"/>
                          </a:lnTo>
                          <a:lnTo>
                            <a:pt x="68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71" name=""/>
                  <p:cNvGrpSpPr/>
                  <p:nvPr/>
                </p:nvGrpSpPr>
                <p:grpSpPr>
                  <a:xfrm>
                    <a:off x="1135080" y="4678560"/>
                    <a:ext cx="14400" cy="11160"/>
                    <a:chOff x="1135080" y="4678560"/>
                    <a:chExt cx="14400" cy="11160"/>
                  </a:xfrm>
                </p:grpSpPr>
                <p:sp>
                  <p:nvSpPr>
                    <p:cNvPr id="1772" name=""/>
                    <p:cNvSpPr/>
                    <p:nvPr/>
                  </p:nvSpPr>
                  <p:spPr>
                    <a:xfrm>
                      <a:off x="1135080" y="4678560"/>
                      <a:ext cx="46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3" name=""/>
                    <p:cNvSpPr/>
                    <p:nvPr/>
                  </p:nvSpPr>
                  <p:spPr>
                    <a:xfrm>
                      <a:off x="1136520" y="467856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3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8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4" name=""/>
                    <p:cNvSpPr/>
                    <p:nvPr/>
                  </p:nvSpPr>
                  <p:spPr>
                    <a:xfrm>
                      <a:off x="1138320" y="468324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5" y="6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75" name=""/>
                  <p:cNvGrpSpPr/>
                  <p:nvPr/>
                </p:nvGrpSpPr>
                <p:grpSpPr>
                  <a:xfrm>
                    <a:off x="1139760" y="4684680"/>
                    <a:ext cx="14400" cy="11160"/>
                    <a:chOff x="1139760" y="4684680"/>
                    <a:chExt cx="14400" cy="11160"/>
                  </a:xfrm>
                </p:grpSpPr>
                <p:sp>
                  <p:nvSpPr>
                    <p:cNvPr id="1776" name=""/>
                    <p:cNvSpPr/>
                    <p:nvPr/>
                  </p:nvSpPr>
                  <p:spPr>
                    <a:xfrm>
                      <a:off x="1139760" y="468468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7" name=""/>
                    <p:cNvSpPr/>
                    <p:nvPr/>
                  </p:nvSpPr>
                  <p:spPr>
                    <a:xfrm>
                      <a:off x="1141560" y="4684680"/>
                      <a:ext cx="93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58" y="25"/>
                          </a:lnTo>
                          <a:lnTo>
                            <a:pt x="15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8" name=""/>
                    <p:cNvSpPr/>
                    <p:nvPr/>
                  </p:nvSpPr>
                  <p:spPr>
                    <a:xfrm>
                      <a:off x="1141560" y="4689720"/>
                      <a:ext cx="126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4" y="7"/>
                          </a:lnTo>
                          <a:lnTo>
                            <a:pt x="9" y="0"/>
                          </a:lnTo>
                          <a:lnTo>
                            <a:pt x="53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79" name=""/>
                  <p:cNvGrpSpPr/>
                  <p:nvPr/>
                </p:nvGrpSpPr>
                <p:grpSpPr>
                  <a:xfrm>
                    <a:off x="1143000" y="4691160"/>
                    <a:ext cx="14400" cy="11160"/>
                    <a:chOff x="1143000" y="4691160"/>
                    <a:chExt cx="14400" cy="11160"/>
                  </a:xfrm>
                </p:grpSpPr>
                <p:sp>
                  <p:nvSpPr>
                    <p:cNvPr id="1780" name=""/>
                    <p:cNvSpPr/>
                    <p:nvPr/>
                  </p:nvSpPr>
                  <p:spPr>
                    <a:xfrm>
                      <a:off x="1143000" y="469116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10" y="0"/>
                          </a:lnTo>
                          <a:lnTo>
                            <a:pt x="21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1" name=""/>
                    <p:cNvSpPr/>
                    <p:nvPr/>
                  </p:nvSpPr>
                  <p:spPr>
                    <a:xfrm>
                      <a:off x="1144440" y="469116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2" y="0"/>
                          </a:moveTo>
                          <a:lnTo>
                            <a:pt x="39" y="0"/>
                          </a:lnTo>
                          <a:lnTo>
                            <a:pt x="41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2" name=""/>
                    <p:cNvSpPr/>
                    <p:nvPr/>
                  </p:nvSpPr>
                  <p:spPr>
                    <a:xfrm>
                      <a:off x="1146240" y="469584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83" name=""/>
                <p:cNvGrpSpPr/>
                <p:nvPr/>
              </p:nvGrpSpPr>
              <p:grpSpPr>
                <a:xfrm>
                  <a:off x="1146240" y="4699080"/>
                  <a:ext cx="28440" cy="36360"/>
                  <a:chOff x="1146240" y="4699080"/>
                  <a:chExt cx="28440" cy="36360"/>
                </a:xfrm>
              </p:grpSpPr>
              <p:grpSp>
                <p:nvGrpSpPr>
                  <p:cNvPr id="1784" name=""/>
                  <p:cNvGrpSpPr/>
                  <p:nvPr/>
                </p:nvGrpSpPr>
                <p:grpSpPr>
                  <a:xfrm>
                    <a:off x="1146240" y="4699080"/>
                    <a:ext cx="14400" cy="11160"/>
                    <a:chOff x="1146240" y="4699080"/>
                    <a:chExt cx="14400" cy="11160"/>
                  </a:xfrm>
                </p:grpSpPr>
                <p:sp>
                  <p:nvSpPr>
                    <p:cNvPr id="1785" name=""/>
                    <p:cNvSpPr/>
                    <p:nvPr/>
                  </p:nvSpPr>
                  <p:spPr>
                    <a:xfrm>
                      <a:off x="1146240" y="4699080"/>
                      <a:ext cx="46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6" name=""/>
                    <p:cNvSpPr/>
                    <p:nvPr/>
                  </p:nvSpPr>
                  <p:spPr>
                    <a:xfrm>
                      <a:off x="1147680" y="469908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7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4"/>
                          </a:lnTo>
                          <a:lnTo>
                            <a:pt x="46" y="11"/>
                          </a:lnTo>
                          <a:lnTo>
                            <a:pt x="60" y="27"/>
                          </a:lnTo>
                          <a:lnTo>
                            <a:pt x="15" y="27"/>
                          </a:lnTo>
                          <a:lnTo>
                            <a:pt x="9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7" name=""/>
                    <p:cNvSpPr/>
                    <p:nvPr/>
                  </p:nvSpPr>
                  <p:spPr>
                    <a:xfrm>
                      <a:off x="1149480" y="470376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0">
                          <a:moveTo>
                            <a:pt x="0" y="30"/>
                          </a:moveTo>
                          <a:lnTo>
                            <a:pt x="2" y="16"/>
                          </a:lnTo>
                          <a:lnTo>
                            <a:pt x="5" y="5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7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88" name=""/>
                  <p:cNvGrpSpPr/>
                  <p:nvPr/>
                </p:nvGrpSpPr>
                <p:grpSpPr>
                  <a:xfrm>
                    <a:off x="1149480" y="4703760"/>
                    <a:ext cx="14040" cy="12960"/>
                    <a:chOff x="1149480" y="4703760"/>
                    <a:chExt cx="14040" cy="12960"/>
                  </a:xfrm>
                </p:grpSpPr>
                <p:sp>
                  <p:nvSpPr>
                    <p:cNvPr id="1789" name=""/>
                    <p:cNvSpPr/>
                    <p:nvPr/>
                  </p:nvSpPr>
                  <p:spPr>
                    <a:xfrm>
                      <a:off x="1149480" y="4703760"/>
                      <a:ext cx="468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0" name=""/>
                    <p:cNvSpPr/>
                    <p:nvPr/>
                  </p:nvSpPr>
                  <p:spPr>
                    <a:xfrm>
                      <a:off x="1150920" y="470556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6" y="11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9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1" name=""/>
                    <p:cNvSpPr/>
                    <p:nvPr/>
                  </p:nvSpPr>
                  <p:spPr>
                    <a:xfrm>
                      <a:off x="1152360" y="471024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2">
                          <a:moveTo>
                            <a:pt x="0" y="32"/>
                          </a:moveTo>
                          <a:lnTo>
                            <a:pt x="2" y="18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6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92" name=""/>
                  <p:cNvGrpSpPr/>
                  <p:nvPr/>
                </p:nvGrpSpPr>
                <p:grpSpPr>
                  <a:xfrm>
                    <a:off x="1154160" y="4710240"/>
                    <a:ext cx="14400" cy="12600"/>
                    <a:chOff x="1154160" y="4710240"/>
                    <a:chExt cx="14400" cy="12600"/>
                  </a:xfrm>
                </p:grpSpPr>
                <p:sp>
                  <p:nvSpPr>
                    <p:cNvPr id="1793" name=""/>
                    <p:cNvSpPr/>
                    <p:nvPr/>
                  </p:nvSpPr>
                  <p:spPr>
                    <a:xfrm>
                      <a:off x="1154160" y="4710240"/>
                      <a:ext cx="32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1" y="59"/>
                          </a:moveTo>
                          <a:lnTo>
                            <a:pt x="0" y="24"/>
                          </a:lnTo>
                          <a:lnTo>
                            <a:pt x="8" y="0"/>
                          </a:lnTo>
                          <a:lnTo>
                            <a:pt x="20" y="27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4" name=""/>
                    <p:cNvSpPr/>
                    <p:nvPr/>
                  </p:nvSpPr>
                  <p:spPr>
                    <a:xfrm>
                      <a:off x="1155600" y="4711680"/>
                      <a:ext cx="972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60" y="26"/>
                          </a:lnTo>
                          <a:lnTo>
                            <a:pt x="14" y="26"/>
                          </a:lnTo>
                          <a:lnTo>
                            <a:pt x="7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5" name=""/>
                    <p:cNvSpPr/>
                    <p:nvPr/>
                  </p:nvSpPr>
                  <p:spPr>
                    <a:xfrm>
                      <a:off x="1155600" y="4716720"/>
                      <a:ext cx="129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2" y="17"/>
                          </a:lnTo>
                          <a:lnTo>
                            <a:pt x="6" y="7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96" name=""/>
                  <p:cNvGrpSpPr/>
                  <p:nvPr/>
                </p:nvGrpSpPr>
                <p:grpSpPr>
                  <a:xfrm>
                    <a:off x="1157400" y="4718160"/>
                    <a:ext cx="14040" cy="11160"/>
                    <a:chOff x="1157400" y="4718160"/>
                    <a:chExt cx="14040" cy="11160"/>
                  </a:xfrm>
                </p:grpSpPr>
                <p:sp>
                  <p:nvSpPr>
                    <p:cNvPr id="1797" name=""/>
                    <p:cNvSpPr/>
                    <p:nvPr/>
                  </p:nvSpPr>
                  <p:spPr>
                    <a:xfrm>
                      <a:off x="1157400" y="471816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8">
                          <a:moveTo>
                            <a:pt x="12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1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8" name=""/>
                    <p:cNvSpPr/>
                    <p:nvPr/>
                  </p:nvSpPr>
                  <p:spPr>
                    <a:xfrm>
                      <a:off x="1158840" y="471816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9" name=""/>
                    <p:cNvSpPr/>
                    <p:nvPr/>
                  </p:nvSpPr>
                  <p:spPr>
                    <a:xfrm>
                      <a:off x="1158840" y="472284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5" y="7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00" name=""/>
                  <p:cNvGrpSpPr/>
                  <p:nvPr/>
                </p:nvGrpSpPr>
                <p:grpSpPr>
                  <a:xfrm>
                    <a:off x="1160640" y="4724640"/>
                    <a:ext cx="14040" cy="10800"/>
                    <a:chOff x="1160640" y="4724640"/>
                    <a:chExt cx="14040" cy="10800"/>
                  </a:xfrm>
                </p:grpSpPr>
                <p:sp>
                  <p:nvSpPr>
                    <p:cNvPr id="1801" name=""/>
                    <p:cNvSpPr/>
                    <p:nvPr/>
                  </p:nvSpPr>
                  <p:spPr>
                    <a:xfrm>
                      <a:off x="1160640" y="4724640"/>
                      <a:ext cx="468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8">
                          <a:moveTo>
                            <a:pt x="11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9" y="26"/>
                          </a:lnTo>
                          <a:lnTo>
                            <a:pt x="11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2" name=""/>
                    <p:cNvSpPr/>
                    <p:nvPr/>
                  </p:nvSpPr>
                  <p:spPr>
                    <a:xfrm>
                      <a:off x="1162080" y="472464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8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3" name=""/>
                    <p:cNvSpPr/>
                    <p:nvPr/>
                  </p:nvSpPr>
                  <p:spPr>
                    <a:xfrm>
                      <a:off x="1163520" y="472932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5" y="7"/>
                          </a:lnTo>
                          <a:lnTo>
                            <a:pt x="9" y="0"/>
                          </a:lnTo>
                          <a:lnTo>
                            <a:pt x="56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04" name=""/>
                <p:cNvGrpSpPr/>
                <p:nvPr/>
              </p:nvGrpSpPr>
              <p:grpSpPr>
                <a:xfrm>
                  <a:off x="1163520" y="4729320"/>
                  <a:ext cx="14400" cy="12600"/>
                  <a:chOff x="1163520" y="4729320"/>
                  <a:chExt cx="14400" cy="12600"/>
                </a:xfrm>
              </p:grpSpPr>
              <p:sp>
                <p:nvSpPr>
                  <p:cNvPr id="1805" name=""/>
                  <p:cNvSpPr/>
                  <p:nvPr/>
                </p:nvSpPr>
                <p:spPr>
                  <a:xfrm>
                    <a:off x="1163520" y="4729320"/>
                    <a:ext cx="3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2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8"/>
                        </a:lnTo>
                        <a:lnTo>
                          <a:pt x="12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>
                    <a:off x="1165320" y="47307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7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1"/>
                        </a:lnTo>
                        <a:lnTo>
                          <a:pt x="60" y="27"/>
                        </a:lnTo>
                        <a:lnTo>
                          <a:pt x="15" y="27"/>
                        </a:lnTo>
                        <a:lnTo>
                          <a:pt x="8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7" name=""/>
                  <p:cNvSpPr/>
                  <p:nvPr/>
                </p:nvSpPr>
                <p:spPr>
                  <a:xfrm>
                    <a:off x="1166760" y="473544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5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8" name=""/>
                <p:cNvGrpSpPr/>
                <p:nvPr/>
              </p:nvGrpSpPr>
              <p:grpSpPr>
                <a:xfrm>
                  <a:off x="1168560" y="4735440"/>
                  <a:ext cx="12600" cy="12960"/>
                  <a:chOff x="1168560" y="4735440"/>
                  <a:chExt cx="12600" cy="12960"/>
                </a:xfrm>
              </p:grpSpPr>
              <p:sp>
                <p:nvSpPr>
                  <p:cNvPr id="1809" name=""/>
                  <p:cNvSpPr/>
                  <p:nvPr/>
                </p:nvSpPr>
                <p:spPr>
                  <a:xfrm>
                    <a:off x="1168560" y="4735440"/>
                    <a:ext cx="2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9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0" name=""/>
                  <p:cNvSpPr/>
                  <p:nvPr/>
                </p:nvSpPr>
                <p:spPr>
                  <a:xfrm>
                    <a:off x="1168560" y="473724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6">
                        <a:moveTo>
                          <a:pt x="4" y="0"/>
                        </a:moveTo>
                        <a:lnTo>
                          <a:pt x="42" y="0"/>
                        </a:lnTo>
                        <a:lnTo>
                          <a:pt x="43" y="3"/>
                        </a:lnTo>
                        <a:lnTo>
                          <a:pt x="48" y="11"/>
                        </a:lnTo>
                        <a:lnTo>
                          <a:pt x="61" y="26"/>
                        </a:lnTo>
                        <a:lnTo>
                          <a:pt x="15" y="26"/>
                        </a:lnTo>
                        <a:lnTo>
                          <a:pt x="10" y="19"/>
                        </a:lnTo>
                        <a:lnTo>
                          <a:pt x="0" y="5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1" name=""/>
                  <p:cNvSpPr/>
                  <p:nvPr/>
                </p:nvSpPr>
                <p:spPr>
                  <a:xfrm>
                    <a:off x="1170000" y="474192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1">
                        <a:moveTo>
                          <a:pt x="0" y="31"/>
                        </a:moveTo>
                        <a:lnTo>
                          <a:pt x="1" y="18"/>
                        </a:lnTo>
                        <a:lnTo>
                          <a:pt x="5" y="7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2" name=""/>
                <p:cNvGrpSpPr/>
                <p:nvPr/>
              </p:nvGrpSpPr>
              <p:grpSpPr>
                <a:xfrm>
                  <a:off x="1106640" y="4645080"/>
                  <a:ext cx="14040" cy="11160"/>
                  <a:chOff x="1106640" y="4645080"/>
                  <a:chExt cx="14040" cy="11160"/>
                </a:xfrm>
              </p:grpSpPr>
              <p:sp>
                <p:nvSpPr>
                  <p:cNvPr id="1813" name=""/>
                  <p:cNvSpPr/>
                  <p:nvPr/>
                </p:nvSpPr>
                <p:spPr>
                  <a:xfrm>
                    <a:off x="1106640" y="464508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7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4" name=""/>
                  <p:cNvSpPr/>
                  <p:nvPr/>
                </p:nvSpPr>
                <p:spPr>
                  <a:xfrm>
                    <a:off x="1108080" y="464508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5" y="10"/>
                        </a:lnTo>
                        <a:lnTo>
                          <a:pt x="59" y="26"/>
                        </a:lnTo>
                        <a:lnTo>
                          <a:pt x="14" y="26"/>
                        </a:lnTo>
                        <a:lnTo>
                          <a:pt x="7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5" name=""/>
                  <p:cNvSpPr/>
                  <p:nvPr/>
                </p:nvSpPr>
                <p:spPr>
                  <a:xfrm>
                    <a:off x="1108080" y="464976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6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8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6" name=""/>
                <p:cNvGrpSpPr/>
                <p:nvPr/>
              </p:nvGrpSpPr>
              <p:grpSpPr>
                <a:xfrm>
                  <a:off x="1109520" y="4651560"/>
                  <a:ext cx="14400" cy="11160"/>
                  <a:chOff x="1109520" y="4651560"/>
                  <a:chExt cx="14400" cy="11160"/>
                </a:xfrm>
              </p:grpSpPr>
              <p:sp>
                <p:nvSpPr>
                  <p:cNvPr id="1817" name=""/>
                  <p:cNvSpPr/>
                  <p:nvPr/>
                </p:nvSpPr>
                <p:spPr>
                  <a:xfrm>
                    <a:off x="1109520" y="465156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7" y="0"/>
                        </a:lnTo>
                        <a:lnTo>
                          <a:pt x="20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>
                    <a:off x="1111320" y="46515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5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2" y="2"/>
                        </a:lnTo>
                        <a:lnTo>
                          <a:pt x="46" y="10"/>
                        </a:lnTo>
                        <a:lnTo>
                          <a:pt x="61" y="25"/>
                        </a:lnTo>
                        <a:lnTo>
                          <a:pt x="15" y="25"/>
                        </a:lnTo>
                        <a:lnTo>
                          <a:pt x="9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>
                    <a:off x="1112760" y="465624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4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20" name=""/>
                <p:cNvGrpSpPr/>
                <p:nvPr/>
              </p:nvGrpSpPr>
              <p:grpSpPr>
                <a:xfrm>
                  <a:off x="1112760" y="4657680"/>
                  <a:ext cx="14400" cy="11160"/>
                  <a:chOff x="1112760" y="4657680"/>
                  <a:chExt cx="14400" cy="11160"/>
                </a:xfrm>
              </p:grpSpPr>
              <p:sp>
                <p:nvSpPr>
                  <p:cNvPr id="1821" name=""/>
                  <p:cNvSpPr/>
                  <p:nvPr/>
                </p:nvSpPr>
                <p:spPr>
                  <a:xfrm>
                    <a:off x="1112760" y="465768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19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>
                    <a:off x="1114560" y="4657680"/>
                    <a:ext cx="111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4" y="10"/>
                        </a:lnTo>
                        <a:lnTo>
                          <a:pt x="59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3" name=""/>
                  <p:cNvSpPr/>
                  <p:nvPr/>
                </p:nvSpPr>
                <p:spPr>
                  <a:xfrm>
                    <a:off x="1116000" y="466272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24" name=""/>
                <p:cNvGrpSpPr/>
                <p:nvPr/>
              </p:nvGrpSpPr>
              <p:grpSpPr>
                <a:xfrm>
                  <a:off x="1117440" y="4665600"/>
                  <a:ext cx="27000" cy="36720"/>
                  <a:chOff x="1117440" y="4665600"/>
                  <a:chExt cx="27000" cy="36720"/>
                </a:xfrm>
              </p:grpSpPr>
              <p:grpSp>
                <p:nvGrpSpPr>
                  <p:cNvPr id="1825" name=""/>
                  <p:cNvGrpSpPr/>
                  <p:nvPr/>
                </p:nvGrpSpPr>
                <p:grpSpPr>
                  <a:xfrm>
                    <a:off x="1117440" y="4665600"/>
                    <a:ext cx="12960" cy="11160"/>
                    <a:chOff x="1117440" y="4665600"/>
                    <a:chExt cx="12960" cy="11160"/>
                  </a:xfrm>
                </p:grpSpPr>
                <p:sp>
                  <p:nvSpPr>
                    <p:cNvPr id="1826" name=""/>
                    <p:cNvSpPr/>
                    <p:nvPr/>
                  </p:nvSpPr>
                  <p:spPr>
                    <a:xfrm>
                      <a:off x="1117440" y="466560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61">
                          <a:moveTo>
                            <a:pt x="12" y="61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1" y="27"/>
                          </a:lnTo>
                          <a:lnTo>
                            <a:pt x="12" y="61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7" name=""/>
                    <p:cNvSpPr/>
                    <p:nvPr/>
                  </p:nvSpPr>
                  <p:spPr>
                    <a:xfrm>
                      <a:off x="1117440" y="4665600"/>
                      <a:ext cx="111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3"/>
                          </a:lnTo>
                          <a:lnTo>
                            <a:pt x="46" y="10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7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8" name=""/>
                    <p:cNvSpPr/>
                    <p:nvPr/>
                  </p:nvSpPr>
                  <p:spPr>
                    <a:xfrm>
                      <a:off x="1119240" y="467064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3">
                          <a:moveTo>
                            <a:pt x="0" y="33"/>
                          </a:moveTo>
                          <a:lnTo>
                            <a:pt x="1" y="18"/>
                          </a:lnTo>
                          <a:lnTo>
                            <a:pt x="5" y="6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6" y="3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29" name=""/>
                  <p:cNvGrpSpPr/>
                  <p:nvPr/>
                </p:nvGrpSpPr>
                <p:grpSpPr>
                  <a:xfrm>
                    <a:off x="1120680" y="4672080"/>
                    <a:ext cx="12960" cy="11160"/>
                    <a:chOff x="1120680" y="4672080"/>
                    <a:chExt cx="12960" cy="11160"/>
                  </a:xfrm>
                </p:grpSpPr>
                <p:sp>
                  <p:nvSpPr>
                    <p:cNvPr id="1830" name=""/>
                    <p:cNvSpPr/>
                    <p:nvPr/>
                  </p:nvSpPr>
                  <p:spPr>
                    <a:xfrm>
                      <a:off x="1120680" y="467208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1" y="59"/>
                          </a:moveTo>
                          <a:lnTo>
                            <a:pt x="0" y="24"/>
                          </a:lnTo>
                          <a:lnTo>
                            <a:pt x="8" y="0"/>
                          </a:lnTo>
                          <a:lnTo>
                            <a:pt x="20" y="28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1" name=""/>
                    <p:cNvSpPr/>
                    <p:nvPr/>
                  </p:nvSpPr>
                  <p:spPr>
                    <a:xfrm>
                      <a:off x="1122480" y="467208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8">
                          <a:moveTo>
                            <a:pt x="2" y="0"/>
                          </a:moveTo>
                          <a:lnTo>
                            <a:pt x="42" y="0"/>
                          </a:lnTo>
                          <a:lnTo>
                            <a:pt x="43" y="2"/>
                          </a:lnTo>
                          <a:lnTo>
                            <a:pt x="46" y="12"/>
                          </a:lnTo>
                          <a:lnTo>
                            <a:pt x="61" y="28"/>
                          </a:lnTo>
                          <a:lnTo>
                            <a:pt x="15" y="28"/>
                          </a:lnTo>
                          <a:lnTo>
                            <a:pt x="7" y="19"/>
                          </a:lnTo>
                          <a:lnTo>
                            <a:pt x="0" y="6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2" name=""/>
                    <p:cNvSpPr/>
                    <p:nvPr/>
                  </p:nvSpPr>
                  <p:spPr>
                    <a:xfrm>
                      <a:off x="1122480" y="467676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7"/>
                          </a:lnTo>
                          <a:lnTo>
                            <a:pt x="6" y="6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33" name=""/>
                  <p:cNvGrpSpPr/>
                  <p:nvPr/>
                </p:nvGrpSpPr>
                <p:grpSpPr>
                  <a:xfrm>
                    <a:off x="1123920" y="4678560"/>
                    <a:ext cx="14400" cy="11160"/>
                    <a:chOff x="1123920" y="4678560"/>
                    <a:chExt cx="14400" cy="11160"/>
                  </a:xfrm>
                </p:grpSpPr>
                <p:sp>
                  <p:nvSpPr>
                    <p:cNvPr id="1834" name=""/>
                    <p:cNvSpPr/>
                    <p:nvPr/>
                  </p:nvSpPr>
                  <p:spPr>
                    <a:xfrm>
                      <a:off x="1123920" y="467856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5" name=""/>
                    <p:cNvSpPr/>
                    <p:nvPr/>
                  </p:nvSpPr>
                  <p:spPr>
                    <a:xfrm>
                      <a:off x="1125720" y="46785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8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6" name=""/>
                    <p:cNvSpPr/>
                    <p:nvPr/>
                  </p:nvSpPr>
                  <p:spPr>
                    <a:xfrm>
                      <a:off x="1127160" y="468324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4" y="6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37" name=""/>
                  <p:cNvGrpSpPr/>
                  <p:nvPr/>
                </p:nvGrpSpPr>
                <p:grpSpPr>
                  <a:xfrm>
                    <a:off x="1127160" y="4684680"/>
                    <a:ext cx="14400" cy="11160"/>
                    <a:chOff x="1127160" y="4684680"/>
                    <a:chExt cx="14400" cy="11160"/>
                  </a:xfrm>
                </p:grpSpPr>
                <p:sp>
                  <p:nvSpPr>
                    <p:cNvPr id="1838" name=""/>
                    <p:cNvSpPr/>
                    <p:nvPr/>
                  </p:nvSpPr>
                  <p:spPr>
                    <a:xfrm>
                      <a:off x="1127160" y="468468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10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9" name=""/>
                    <p:cNvSpPr/>
                    <p:nvPr/>
                  </p:nvSpPr>
                  <p:spPr>
                    <a:xfrm>
                      <a:off x="1128600" y="4684680"/>
                      <a:ext cx="111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1" y="2"/>
                          </a:lnTo>
                          <a:lnTo>
                            <a:pt x="44" y="10"/>
                          </a:lnTo>
                          <a:lnTo>
                            <a:pt x="58" y="25"/>
                          </a:lnTo>
                          <a:lnTo>
                            <a:pt x="13" y="25"/>
                          </a:lnTo>
                          <a:lnTo>
                            <a:pt x="6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0" name=""/>
                    <p:cNvSpPr/>
                    <p:nvPr/>
                  </p:nvSpPr>
                  <p:spPr>
                    <a:xfrm>
                      <a:off x="1130400" y="468972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5" y="7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41" name=""/>
                  <p:cNvGrpSpPr/>
                  <p:nvPr/>
                </p:nvGrpSpPr>
                <p:grpSpPr>
                  <a:xfrm>
                    <a:off x="1131840" y="4691160"/>
                    <a:ext cx="12600" cy="11160"/>
                    <a:chOff x="1131840" y="4691160"/>
                    <a:chExt cx="12600" cy="11160"/>
                  </a:xfrm>
                </p:grpSpPr>
                <p:sp>
                  <p:nvSpPr>
                    <p:cNvPr id="1842" name=""/>
                    <p:cNvSpPr/>
                    <p:nvPr/>
                  </p:nvSpPr>
                  <p:spPr>
                    <a:xfrm>
                      <a:off x="1131840" y="469116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1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3" name=""/>
                    <p:cNvSpPr/>
                    <p:nvPr/>
                  </p:nvSpPr>
                  <p:spPr>
                    <a:xfrm>
                      <a:off x="1133640" y="469116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0" y="2"/>
                          </a:lnTo>
                          <a:lnTo>
                            <a:pt x="46" y="10"/>
                          </a:lnTo>
                          <a:lnTo>
                            <a:pt x="59" y="25"/>
                          </a:lnTo>
                          <a:lnTo>
                            <a:pt x="15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4" name=""/>
                    <p:cNvSpPr/>
                    <p:nvPr/>
                  </p:nvSpPr>
                  <p:spPr>
                    <a:xfrm>
                      <a:off x="1133640" y="46958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4" y="7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45" name=""/>
                <p:cNvGrpSpPr/>
                <p:nvPr/>
              </p:nvGrpSpPr>
              <p:grpSpPr>
                <a:xfrm>
                  <a:off x="1135080" y="4699080"/>
                  <a:ext cx="28440" cy="36360"/>
                  <a:chOff x="1135080" y="4699080"/>
                  <a:chExt cx="28440" cy="36360"/>
                </a:xfrm>
              </p:grpSpPr>
              <p:grpSp>
                <p:nvGrpSpPr>
                  <p:cNvPr id="1846" name=""/>
                  <p:cNvGrpSpPr/>
                  <p:nvPr/>
                </p:nvGrpSpPr>
                <p:grpSpPr>
                  <a:xfrm>
                    <a:off x="1135080" y="4699080"/>
                    <a:ext cx="14400" cy="11160"/>
                    <a:chOff x="1135080" y="4699080"/>
                    <a:chExt cx="14400" cy="11160"/>
                  </a:xfrm>
                </p:grpSpPr>
                <p:sp>
                  <p:nvSpPr>
                    <p:cNvPr id="1847" name=""/>
                    <p:cNvSpPr/>
                    <p:nvPr/>
                  </p:nvSpPr>
                  <p:spPr>
                    <a:xfrm>
                      <a:off x="1135080" y="469908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9">
                          <a:moveTo>
                            <a:pt x="13" y="59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1" y="28"/>
                          </a:lnTo>
                          <a:lnTo>
                            <a:pt x="13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8" name=""/>
                    <p:cNvSpPr/>
                    <p:nvPr/>
                  </p:nvSpPr>
                  <p:spPr>
                    <a:xfrm>
                      <a:off x="1136520" y="4699080"/>
                      <a:ext cx="97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7">
                          <a:moveTo>
                            <a:pt x="2" y="0"/>
                          </a:moveTo>
                          <a:lnTo>
                            <a:pt x="41" y="0"/>
                          </a:lnTo>
                          <a:lnTo>
                            <a:pt x="43" y="4"/>
                          </a:lnTo>
                          <a:lnTo>
                            <a:pt x="46" y="11"/>
                          </a:lnTo>
                          <a:lnTo>
                            <a:pt x="61" y="27"/>
                          </a:lnTo>
                          <a:lnTo>
                            <a:pt x="15" y="27"/>
                          </a:lnTo>
                          <a:lnTo>
                            <a:pt x="8" y="19"/>
                          </a:lnTo>
                          <a:lnTo>
                            <a:pt x="0" y="6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9" name=""/>
                    <p:cNvSpPr/>
                    <p:nvPr/>
                  </p:nvSpPr>
                  <p:spPr>
                    <a:xfrm>
                      <a:off x="1136520" y="4703760"/>
                      <a:ext cx="129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6" y="5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0" name=""/>
                  <p:cNvGrpSpPr/>
                  <p:nvPr/>
                </p:nvGrpSpPr>
                <p:grpSpPr>
                  <a:xfrm>
                    <a:off x="1138320" y="4703760"/>
                    <a:ext cx="14040" cy="12960"/>
                    <a:chOff x="1138320" y="4703760"/>
                    <a:chExt cx="14040" cy="12960"/>
                  </a:xfrm>
                </p:grpSpPr>
                <p:sp>
                  <p:nvSpPr>
                    <p:cNvPr id="1851" name=""/>
                    <p:cNvSpPr/>
                    <p:nvPr/>
                  </p:nvSpPr>
                  <p:spPr>
                    <a:xfrm>
                      <a:off x="1138320" y="4703760"/>
                      <a:ext cx="324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0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0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2" name=""/>
                    <p:cNvSpPr/>
                    <p:nvPr/>
                  </p:nvSpPr>
                  <p:spPr>
                    <a:xfrm>
                      <a:off x="1139760" y="470556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6" y="11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9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3" name=""/>
                    <p:cNvSpPr/>
                    <p:nvPr/>
                  </p:nvSpPr>
                  <p:spPr>
                    <a:xfrm>
                      <a:off x="1139760" y="471024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32">
                          <a:moveTo>
                            <a:pt x="0" y="32"/>
                          </a:moveTo>
                          <a:lnTo>
                            <a:pt x="4" y="18"/>
                          </a:lnTo>
                          <a:lnTo>
                            <a:pt x="7" y="7"/>
                          </a:lnTo>
                          <a:lnTo>
                            <a:pt x="11" y="0"/>
                          </a:lnTo>
                          <a:lnTo>
                            <a:pt x="57" y="0"/>
                          </a:lnTo>
                          <a:lnTo>
                            <a:pt x="68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4" name=""/>
                  <p:cNvGrpSpPr/>
                  <p:nvPr/>
                </p:nvGrpSpPr>
                <p:grpSpPr>
                  <a:xfrm>
                    <a:off x="1141560" y="4710240"/>
                    <a:ext cx="14040" cy="12600"/>
                    <a:chOff x="1141560" y="4710240"/>
                    <a:chExt cx="14040" cy="12600"/>
                  </a:xfrm>
                </p:grpSpPr>
                <p:sp>
                  <p:nvSpPr>
                    <p:cNvPr id="1855" name=""/>
                    <p:cNvSpPr/>
                    <p:nvPr/>
                  </p:nvSpPr>
                  <p:spPr>
                    <a:xfrm>
                      <a:off x="1141560" y="4710240"/>
                      <a:ext cx="28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9">
                          <a:moveTo>
                            <a:pt x="11" y="59"/>
                          </a:moveTo>
                          <a:lnTo>
                            <a:pt x="0" y="24"/>
                          </a:lnTo>
                          <a:lnTo>
                            <a:pt x="7" y="0"/>
                          </a:lnTo>
                          <a:lnTo>
                            <a:pt x="19" y="27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6" name=""/>
                    <p:cNvSpPr/>
                    <p:nvPr/>
                  </p:nvSpPr>
                  <p:spPr>
                    <a:xfrm>
                      <a:off x="1143000" y="4711680"/>
                      <a:ext cx="111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3" y="0"/>
                          </a:moveTo>
                          <a:lnTo>
                            <a:pt x="42" y="0"/>
                          </a:lnTo>
                          <a:lnTo>
                            <a:pt x="43" y="2"/>
                          </a:lnTo>
                          <a:lnTo>
                            <a:pt x="46" y="10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8" y="18"/>
                          </a:lnTo>
                          <a:lnTo>
                            <a:pt x="0" y="5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7" name=""/>
                    <p:cNvSpPr/>
                    <p:nvPr/>
                  </p:nvSpPr>
                  <p:spPr>
                    <a:xfrm>
                      <a:off x="1144440" y="471672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8" name=""/>
                  <p:cNvGrpSpPr/>
                  <p:nvPr/>
                </p:nvGrpSpPr>
                <p:grpSpPr>
                  <a:xfrm>
                    <a:off x="1146240" y="4718160"/>
                    <a:ext cx="12600" cy="11160"/>
                    <a:chOff x="1146240" y="4718160"/>
                    <a:chExt cx="12600" cy="11160"/>
                  </a:xfrm>
                </p:grpSpPr>
                <p:sp>
                  <p:nvSpPr>
                    <p:cNvPr id="1859" name=""/>
                    <p:cNvSpPr/>
                    <p:nvPr/>
                  </p:nvSpPr>
                  <p:spPr>
                    <a:xfrm>
                      <a:off x="1146240" y="471816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2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0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0" name=""/>
                    <p:cNvSpPr/>
                    <p:nvPr/>
                  </p:nvSpPr>
                  <p:spPr>
                    <a:xfrm>
                      <a:off x="1146240" y="471816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1" name=""/>
                    <p:cNvSpPr/>
                    <p:nvPr/>
                  </p:nvSpPr>
                  <p:spPr>
                    <a:xfrm>
                      <a:off x="1147680" y="472284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4" y="7"/>
                          </a:lnTo>
                          <a:lnTo>
                            <a:pt x="10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62" name=""/>
                  <p:cNvGrpSpPr/>
                  <p:nvPr/>
                </p:nvGrpSpPr>
                <p:grpSpPr>
                  <a:xfrm>
                    <a:off x="1149480" y="4724640"/>
                    <a:ext cx="14040" cy="10800"/>
                    <a:chOff x="1149480" y="4724640"/>
                    <a:chExt cx="14040" cy="10800"/>
                  </a:xfrm>
                </p:grpSpPr>
                <p:sp>
                  <p:nvSpPr>
                    <p:cNvPr id="1863" name=""/>
                    <p:cNvSpPr/>
                    <p:nvPr/>
                  </p:nvSpPr>
                  <p:spPr>
                    <a:xfrm>
                      <a:off x="1149480" y="4724640"/>
                      <a:ext cx="288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8">
                          <a:moveTo>
                            <a:pt x="10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8" y="26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4" name=""/>
                    <p:cNvSpPr/>
                    <p:nvPr/>
                  </p:nvSpPr>
                  <p:spPr>
                    <a:xfrm>
                      <a:off x="1150920" y="4724640"/>
                      <a:ext cx="97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2" y="2"/>
                          </a:lnTo>
                          <a:lnTo>
                            <a:pt x="45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6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5" name=""/>
                    <p:cNvSpPr/>
                    <p:nvPr/>
                  </p:nvSpPr>
                  <p:spPr>
                    <a:xfrm>
                      <a:off x="1150920" y="4729320"/>
                      <a:ext cx="126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6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66" name=""/>
                <p:cNvGrpSpPr/>
                <p:nvPr/>
              </p:nvGrpSpPr>
              <p:grpSpPr>
                <a:xfrm>
                  <a:off x="1152360" y="4729320"/>
                  <a:ext cx="14400" cy="12600"/>
                  <a:chOff x="1152360" y="4729320"/>
                  <a:chExt cx="14400" cy="12600"/>
                </a:xfrm>
              </p:grpSpPr>
              <p:sp>
                <p:nvSpPr>
                  <p:cNvPr id="1867" name=""/>
                  <p:cNvSpPr/>
                  <p:nvPr/>
                </p:nvSpPr>
                <p:spPr>
                  <a:xfrm>
                    <a:off x="1152360" y="4729320"/>
                    <a:ext cx="3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1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9" y="28"/>
                        </a:lnTo>
                        <a:lnTo>
                          <a:pt x="11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8" name=""/>
                  <p:cNvSpPr/>
                  <p:nvPr/>
                </p:nvSpPr>
                <p:spPr>
                  <a:xfrm>
                    <a:off x="1154160" y="473076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7">
                        <a:moveTo>
                          <a:pt x="1" y="0"/>
                        </a:moveTo>
                        <a:lnTo>
                          <a:pt x="39" y="0"/>
                        </a:lnTo>
                        <a:lnTo>
                          <a:pt x="41" y="3"/>
                        </a:lnTo>
                        <a:lnTo>
                          <a:pt x="46" y="11"/>
                        </a:lnTo>
                        <a:lnTo>
                          <a:pt x="59" y="27"/>
                        </a:lnTo>
                        <a:lnTo>
                          <a:pt x="15" y="27"/>
                        </a:lnTo>
                        <a:lnTo>
                          <a:pt x="7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9" name=""/>
                  <p:cNvSpPr/>
                  <p:nvPr/>
                </p:nvSpPr>
                <p:spPr>
                  <a:xfrm>
                    <a:off x="1154160" y="473544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6" y="5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0" name=""/>
                <p:cNvGrpSpPr/>
                <p:nvPr/>
              </p:nvGrpSpPr>
              <p:grpSpPr>
                <a:xfrm>
                  <a:off x="1144440" y="4627800"/>
                  <a:ext cx="12960" cy="11160"/>
                  <a:chOff x="1144440" y="4627800"/>
                  <a:chExt cx="12960" cy="11160"/>
                </a:xfrm>
              </p:grpSpPr>
              <p:sp>
                <p:nvSpPr>
                  <p:cNvPr id="1871" name=""/>
                  <p:cNvSpPr/>
                  <p:nvPr/>
                </p:nvSpPr>
                <p:spPr>
                  <a:xfrm>
                    <a:off x="1144440" y="4627800"/>
                    <a:ext cx="5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9">
                        <a:moveTo>
                          <a:pt x="18" y="59"/>
                        </a:moveTo>
                        <a:lnTo>
                          <a:pt x="0" y="28"/>
                        </a:lnTo>
                        <a:lnTo>
                          <a:pt x="9" y="0"/>
                        </a:lnTo>
                        <a:lnTo>
                          <a:pt x="31" y="28"/>
                        </a:lnTo>
                        <a:lnTo>
                          <a:pt x="18" y="59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2" name=""/>
                  <p:cNvSpPr/>
                  <p:nvPr/>
                </p:nvSpPr>
                <p:spPr>
                  <a:xfrm>
                    <a:off x="1146240" y="462780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9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2" y="29"/>
                        </a:lnTo>
                        <a:lnTo>
                          <a:pt x="19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3" name=""/>
                  <p:cNvSpPr/>
                  <p:nvPr/>
                </p:nvSpPr>
                <p:spPr>
                  <a:xfrm>
                    <a:off x="1147680" y="4633920"/>
                    <a:ext cx="97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6">
                        <a:moveTo>
                          <a:pt x="0" y="26"/>
                        </a:moveTo>
                        <a:lnTo>
                          <a:pt x="11" y="0"/>
                        </a:lnTo>
                        <a:lnTo>
                          <a:pt x="44" y="0"/>
                        </a:lnTo>
                        <a:lnTo>
                          <a:pt x="52" y="26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4" name=""/>
                <p:cNvGrpSpPr/>
                <p:nvPr/>
              </p:nvGrpSpPr>
              <p:grpSpPr>
                <a:xfrm>
                  <a:off x="1147680" y="4633920"/>
                  <a:ext cx="12960" cy="11160"/>
                  <a:chOff x="1147680" y="4633920"/>
                  <a:chExt cx="12960" cy="11160"/>
                </a:xfrm>
              </p:grpSpPr>
              <p:sp>
                <p:nvSpPr>
                  <p:cNvPr id="1875" name=""/>
                  <p:cNvSpPr/>
                  <p:nvPr/>
                </p:nvSpPr>
                <p:spPr>
                  <a:xfrm>
                    <a:off x="1147680" y="4633920"/>
                    <a:ext cx="64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18" y="58"/>
                        </a:moveTo>
                        <a:lnTo>
                          <a:pt x="0" y="28"/>
                        </a:lnTo>
                        <a:lnTo>
                          <a:pt x="10" y="0"/>
                        </a:lnTo>
                        <a:lnTo>
                          <a:pt x="32" y="28"/>
                        </a:lnTo>
                        <a:lnTo>
                          <a:pt x="18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6" name=""/>
                  <p:cNvSpPr/>
                  <p:nvPr/>
                </p:nvSpPr>
                <p:spPr>
                  <a:xfrm>
                    <a:off x="1149480" y="46339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8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2" y="28"/>
                        </a:lnTo>
                        <a:lnTo>
                          <a:pt x="20" y="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>
                    <a:off x="1150920" y="464040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5">
                        <a:moveTo>
                          <a:pt x="0" y="25"/>
                        </a:moveTo>
                        <a:lnTo>
                          <a:pt x="10" y="0"/>
                        </a:lnTo>
                        <a:lnTo>
                          <a:pt x="44" y="0"/>
                        </a:lnTo>
                        <a:lnTo>
                          <a:pt x="54" y="25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8" name=""/>
                <p:cNvGrpSpPr/>
                <p:nvPr/>
              </p:nvGrpSpPr>
              <p:grpSpPr>
                <a:xfrm>
                  <a:off x="1150920" y="4641840"/>
                  <a:ext cx="14400" cy="11160"/>
                  <a:chOff x="1150920" y="4641840"/>
                  <a:chExt cx="14400" cy="11160"/>
                </a:xfrm>
              </p:grpSpPr>
              <p:sp>
                <p:nvSpPr>
                  <p:cNvPr id="1879" name=""/>
                  <p:cNvSpPr/>
                  <p:nvPr/>
                </p:nvSpPr>
                <p:spPr>
                  <a:xfrm>
                    <a:off x="1150920" y="4641840"/>
                    <a:ext cx="64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58">
                        <a:moveTo>
                          <a:pt x="19" y="58"/>
                        </a:moveTo>
                        <a:lnTo>
                          <a:pt x="0" y="27"/>
                        </a:lnTo>
                        <a:lnTo>
                          <a:pt x="11" y="0"/>
                        </a:lnTo>
                        <a:lnTo>
                          <a:pt x="33" y="27"/>
                        </a:lnTo>
                        <a:lnTo>
                          <a:pt x="19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0" name=""/>
                  <p:cNvSpPr/>
                  <p:nvPr/>
                </p:nvSpPr>
                <p:spPr>
                  <a:xfrm>
                    <a:off x="1154160" y="4641840"/>
                    <a:ext cx="79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9">
                        <a:moveTo>
                          <a:pt x="0" y="0"/>
                        </a:moveTo>
                        <a:lnTo>
                          <a:pt x="32" y="0"/>
                        </a:lnTo>
                        <a:lnTo>
                          <a:pt x="51" y="29"/>
                        </a:lnTo>
                        <a:lnTo>
                          <a:pt x="19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1" name=""/>
                  <p:cNvSpPr/>
                  <p:nvPr/>
                </p:nvSpPr>
                <p:spPr>
                  <a:xfrm>
                    <a:off x="1155600" y="464832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5">
                        <a:moveTo>
                          <a:pt x="0" y="25"/>
                        </a:moveTo>
                        <a:lnTo>
                          <a:pt x="9" y="0"/>
                        </a:lnTo>
                        <a:lnTo>
                          <a:pt x="42" y="0"/>
                        </a:lnTo>
                        <a:lnTo>
                          <a:pt x="53" y="25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2" name=""/>
                <p:cNvGrpSpPr/>
                <p:nvPr/>
              </p:nvGrpSpPr>
              <p:grpSpPr>
                <a:xfrm>
                  <a:off x="1155600" y="4648320"/>
                  <a:ext cx="12960" cy="11160"/>
                  <a:chOff x="1155600" y="4648320"/>
                  <a:chExt cx="12960" cy="11160"/>
                </a:xfrm>
              </p:grpSpPr>
              <p:sp>
                <p:nvSpPr>
                  <p:cNvPr id="1883" name=""/>
                  <p:cNvSpPr/>
                  <p:nvPr/>
                </p:nvSpPr>
                <p:spPr>
                  <a:xfrm>
                    <a:off x="1155600" y="4648320"/>
                    <a:ext cx="5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18" y="58"/>
                        </a:moveTo>
                        <a:lnTo>
                          <a:pt x="0" y="28"/>
                        </a:lnTo>
                        <a:lnTo>
                          <a:pt x="9" y="0"/>
                        </a:lnTo>
                        <a:lnTo>
                          <a:pt x="32" y="28"/>
                        </a:lnTo>
                        <a:lnTo>
                          <a:pt x="18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>
                    <a:off x="1157400" y="46483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0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3" y="30"/>
                        </a:lnTo>
                        <a:lnTo>
                          <a:pt x="21" y="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>
                    <a:off x="1158840" y="465480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4">
                        <a:moveTo>
                          <a:pt x="0" y="24"/>
                        </a:moveTo>
                        <a:lnTo>
                          <a:pt x="11" y="0"/>
                        </a:lnTo>
                        <a:lnTo>
                          <a:pt x="44" y="0"/>
                        </a:lnTo>
                        <a:lnTo>
                          <a:pt x="53" y="24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6" name=""/>
                <p:cNvGrpSpPr/>
                <p:nvPr/>
              </p:nvGrpSpPr>
              <p:grpSpPr>
                <a:xfrm>
                  <a:off x="1160640" y="4654800"/>
                  <a:ext cx="23760" cy="31680"/>
                  <a:chOff x="1160640" y="4654800"/>
                  <a:chExt cx="23760" cy="31680"/>
                </a:xfrm>
              </p:grpSpPr>
              <p:grpSp>
                <p:nvGrpSpPr>
                  <p:cNvPr id="1887" name=""/>
                  <p:cNvGrpSpPr/>
                  <p:nvPr/>
                </p:nvGrpSpPr>
                <p:grpSpPr>
                  <a:xfrm>
                    <a:off x="1160640" y="4654800"/>
                    <a:ext cx="12600" cy="10800"/>
                    <a:chOff x="1160640" y="4654800"/>
                    <a:chExt cx="12600" cy="10800"/>
                  </a:xfrm>
                </p:grpSpPr>
                <p:sp>
                  <p:nvSpPr>
                    <p:cNvPr id="1888" name=""/>
                    <p:cNvSpPr/>
                    <p:nvPr/>
                  </p:nvSpPr>
                  <p:spPr>
                    <a:xfrm>
                      <a:off x="1160640" y="4654800"/>
                      <a:ext cx="468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58">
                          <a:moveTo>
                            <a:pt x="17" y="58"/>
                          </a:moveTo>
                          <a:lnTo>
                            <a:pt x="0" y="27"/>
                          </a:lnTo>
                          <a:lnTo>
                            <a:pt x="9" y="0"/>
                          </a:lnTo>
                          <a:lnTo>
                            <a:pt x="31" y="27"/>
                          </a:lnTo>
                          <a:lnTo>
                            <a:pt x="17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9" name=""/>
                    <p:cNvSpPr/>
                    <p:nvPr/>
                  </p:nvSpPr>
                  <p:spPr>
                    <a:xfrm>
                      <a:off x="1162080" y="465480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7">
                          <a:moveTo>
                            <a:pt x="0" y="0"/>
                          </a:moveTo>
                          <a:lnTo>
                            <a:pt x="34" y="0"/>
                          </a:lnTo>
                          <a:lnTo>
                            <a:pt x="53" y="27"/>
                          </a:lnTo>
                          <a:lnTo>
                            <a:pt x="20" y="2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0" name=""/>
                    <p:cNvSpPr/>
                    <p:nvPr/>
                  </p:nvSpPr>
                  <p:spPr>
                    <a:xfrm>
                      <a:off x="1163520" y="4660920"/>
                      <a:ext cx="97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7">
                          <a:moveTo>
                            <a:pt x="0" y="27"/>
                          </a:moveTo>
                          <a:lnTo>
                            <a:pt x="12" y="0"/>
                          </a:lnTo>
                          <a:lnTo>
                            <a:pt x="45" y="0"/>
                          </a:lnTo>
                          <a:lnTo>
                            <a:pt x="54" y="27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1" name=""/>
                  <p:cNvGrpSpPr/>
                  <p:nvPr/>
                </p:nvGrpSpPr>
                <p:grpSpPr>
                  <a:xfrm>
                    <a:off x="1163520" y="4660920"/>
                    <a:ext cx="12960" cy="11160"/>
                    <a:chOff x="1163520" y="4660920"/>
                    <a:chExt cx="12960" cy="11160"/>
                  </a:xfrm>
                </p:grpSpPr>
                <p:sp>
                  <p:nvSpPr>
                    <p:cNvPr id="1892" name=""/>
                    <p:cNvSpPr/>
                    <p:nvPr/>
                  </p:nvSpPr>
                  <p:spPr>
                    <a:xfrm>
                      <a:off x="1163520" y="4660920"/>
                      <a:ext cx="50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9">
                          <a:moveTo>
                            <a:pt x="19" y="59"/>
                          </a:moveTo>
                          <a:lnTo>
                            <a:pt x="0" y="28"/>
                          </a:lnTo>
                          <a:lnTo>
                            <a:pt x="10" y="0"/>
                          </a:lnTo>
                          <a:lnTo>
                            <a:pt x="32" y="28"/>
                          </a:lnTo>
                          <a:lnTo>
                            <a:pt x="19" y="59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3" name=""/>
                    <p:cNvSpPr/>
                    <p:nvPr/>
                  </p:nvSpPr>
                  <p:spPr>
                    <a:xfrm>
                      <a:off x="1165320" y="466092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9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3" y="29"/>
                          </a:lnTo>
                          <a:lnTo>
                            <a:pt x="19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4" name=""/>
                    <p:cNvSpPr/>
                    <p:nvPr/>
                  </p:nvSpPr>
                  <p:spPr>
                    <a:xfrm>
                      <a:off x="1166760" y="4667400"/>
                      <a:ext cx="97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5">
                          <a:moveTo>
                            <a:pt x="0" y="25"/>
                          </a:moveTo>
                          <a:lnTo>
                            <a:pt x="10" y="0"/>
                          </a:lnTo>
                          <a:lnTo>
                            <a:pt x="44" y="0"/>
                          </a:lnTo>
                          <a:lnTo>
                            <a:pt x="53" y="25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5" name=""/>
                  <p:cNvGrpSpPr/>
                  <p:nvPr/>
                </p:nvGrpSpPr>
                <p:grpSpPr>
                  <a:xfrm>
                    <a:off x="1166760" y="4667400"/>
                    <a:ext cx="12600" cy="12600"/>
                    <a:chOff x="1166760" y="4667400"/>
                    <a:chExt cx="12600" cy="12600"/>
                  </a:xfrm>
                </p:grpSpPr>
                <p:sp>
                  <p:nvSpPr>
                    <p:cNvPr id="1896" name=""/>
                    <p:cNvSpPr/>
                    <p:nvPr/>
                  </p:nvSpPr>
                  <p:spPr>
                    <a:xfrm>
                      <a:off x="1166760" y="4667400"/>
                      <a:ext cx="64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8">
                          <a:moveTo>
                            <a:pt x="19" y="58"/>
                          </a:moveTo>
                          <a:lnTo>
                            <a:pt x="0" y="29"/>
                          </a:lnTo>
                          <a:lnTo>
                            <a:pt x="9" y="0"/>
                          </a:lnTo>
                          <a:lnTo>
                            <a:pt x="32" y="29"/>
                          </a:lnTo>
                          <a:lnTo>
                            <a:pt x="19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7" name=""/>
                    <p:cNvSpPr/>
                    <p:nvPr/>
                  </p:nvSpPr>
                  <p:spPr>
                    <a:xfrm>
                      <a:off x="1168560" y="4668840"/>
                      <a:ext cx="93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9">
                          <a:moveTo>
                            <a:pt x="0" y="0"/>
                          </a:moveTo>
                          <a:lnTo>
                            <a:pt x="34" y="0"/>
                          </a:lnTo>
                          <a:lnTo>
                            <a:pt x="52" y="29"/>
                          </a:lnTo>
                          <a:lnTo>
                            <a:pt x="21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8" name=""/>
                    <p:cNvSpPr/>
                    <p:nvPr/>
                  </p:nvSpPr>
                  <p:spPr>
                    <a:xfrm>
                      <a:off x="1170000" y="467532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4">
                          <a:moveTo>
                            <a:pt x="0" y="24"/>
                          </a:moveTo>
                          <a:lnTo>
                            <a:pt x="9" y="0"/>
                          </a:lnTo>
                          <a:lnTo>
                            <a:pt x="42" y="0"/>
                          </a:lnTo>
                          <a:lnTo>
                            <a:pt x="52" y="24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9" name=""/>
                  <p:cNvGrpSpPr/>
                  <p:nvPr/>
                </p:nvGrpSpPr>
                <p:grpSpPr>
                  <a:xfrm>
                    <a:off x="1171440" y="4675320"/>
                    <a:ext cx="12960" cy="11160"/>
                    <a:chOff x="1171440" y="4675320"/>
                    <a:chExt cx="12960" cy="11160"/>
                  </a:xfrm>
                </p:grpSpPr>
                <p:sp>
                  <p:nvSpPr>
                    <p:cNvPr id="1900" name=""/>
                    <p:cNvSpPr/>
                    <p:nvPr/>
                  </p:nvSpPr>
                  <p:spPr>
                    <a:xfrm>
                      <a:off x="1171440" y="4675320"/>
                      <a:ext cx="50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8">
                          <a:moveTo>
                            <a:pt x="18" y="58"/>
                          </a:moveTo>
                          <a:lnTo>
                            <a:pt x="0" y="28"/>
                          </a:lnTo>
                          <a:lnTo>
                            <a:pt x="10" y="0"/>
                          </a:lnTo>
                          <a:lnTo>
                            <a:pt x="32" y="28"/>
                          </a:lnTo>
                          <a:lnTo>
                            <a:pt x="18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1" name=""/>
                    <p:cNvSpPr/>
                    <p:nvPr/>
                  </p:nvSpPr>
                  <p:spPr>
                    <a:xfrm>
                      <a:off x="1173240" y="467532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8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2" y="28"/>
                          </a:lnTo>
                          <a:lnTo>
                            <a:pt x="20" y="2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2" name=""/>
                    <p:cNvSpPr/>
                    <p:nvPr/>
                  </p:nvSpPr>
                  <p:spPr>
                    <a:xfrm>
                      <a:off x="1174680" y="4681800"/>
                      <a:ext cx="97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5">
                          <a:moveTo>
                            <a:pt x="0" y="25"/>
                          </a:moveTo>
                          <a:lnTo>
                            <a:pt x="12" y="0"/>
                          </a:lnTo>
                          <a:lnTo>
                            <a:pt x="44" y="0"/>
                          </a:lnTo>
                          <a:lnTo>
                            <a:pt x="53" y="25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903" name=""/>
                <p:cNvGrpSpPr/>
                <p:nvPr/>
              </p:nvGrpSpPr>
              <p:grpSpPr>
                <a:xfrm>
                  <a:off x="1174680" y="4681800"/>
                  <a:ext cx="23760" cy="31680"/>
                  <a:chOff x="1174680" y="4681800"/>
                  <a:chExt cx="23760" cy="31680"/>
                </a:xfrm>
              </p:grpSpPr>
              <p:grpSp>
                <p:nvGrpSpPr>
                  <p:cNvPr id="1904" name=""/>
                  <p:cNvGrpSpPr/>
                  <p:nvPr/>
                </p:nvGrpSpPr>
                <p:grpSpPr>
                  <a:xfrm>
                    <a:off x="1174680" y="4681800"/>
                    <a:ext cx="12600" cy="10800"/>
                    <a:chOff x="1174680" y="4681800"/>
                    <a:chExt cx="12600" cy="10800"/>
                  </a:xfrm>
                </p:grpSpPr>
                <p:sp>
                  <p:nvSpPr>
                    <p:cNvPr id="1905" name=""/>
                    <p:cNvSpPr/>
                    <p:nvPr/>
                  </p:nvSpPr>
                  <p:spPr>
                    <a:xfrm>
                      <a:off x="1174680" y="4681800"/>
                      <a:ext cx="648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58">
                          <a:moveTo>
                            <a:pt x="17" y="58"/>
                          </a:moveTo>
                          <a:lnTo>
                            <a:pt x="0" y="28"/>
                          </a:lnTo>
                          <a:lnTo>
                            <a:pt x="9" y="0"/>
                          </a:lnTo>
                          <a:lnTo>
                            <a:pt x="31" y="28"/>
                          </a:lnTo>
                          <a:lnTo>
                            <a:pt x="17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6" name=""/>
                    <p:cNvSpPr/>
                    <p:nvPr/>
                  </p:nvSpPr>
                  <p:spPr>
                    <a:xfrm>
                      <a:off x="1176480" y="4681800"/>
                      <a:ext cx="93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9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3" y="29"/>
                          </a:lnTo>
                          <a:lnTo>
                            <a:pt x="20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7" name=""/>
                    <p:cNvSpPr/>
                    <p:nvPr/>
                  </p:nvSpPr>
                  <p:spPr>
                    <a:xfrm>
                      <a:off x="1177920" y="468792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5">
                          <a:moveTo>
                            <a:pt x="0" y="25"/>
                          </a:moveTo>
                          <a:lnTo>
                            <a:pt x="10" y="0"/>
                          </a:lnTo>
                          <a:lnTo>
                            <a:pt x="44" y="0"/>
                          </a:lnTo>
                          <a:lnTo>
                            <a:pt x="53" y="25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08" name=""/>
                  <p:cNvGrpSpPr/>
                  <p:nvPr/>
                </p:nvGrpSpPr>
                <p:grpSpPr>
                  <a:xfrm>
                    <a:off x="1177920" y="4687920"/>
                    <a:ext cx="12600" cy="11160"/>
                    <a:chOff x="1177920" y="4687920"/>
                    <a:chExt cx="12600" cy="11160"/>
                  </a:xfrm>
                </p:grpSpPr>
                <p:sp>
                  <p:nvSpPr>
                    <p:cNvPr id="1909" name=""/>
                    <p:cNvSpPr/>
                    <p:nvPr/>
                  </p:nvSpPr>
                  <p:spPr>
                    <a:xfrm>
                      <a:off x="1177920" y="4687920"/>
                      <a:ext cx="64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8">
                          <a:moveTo>
                            <a:pt x="19" y="58"/>
                          </a:moveTo>
                          <a:lnTo>
                            <a:pt x="0" y="28"/>
                          </a:lnTo>
                          <a:lnTo>
                            <a:pt x="10" y="0"/>
                          </a:lnTo>
                          <a:lnTo>
                            <a:pt x="32" y="28"/>
                          </a:lnTo>
                          <a:lnTo>
                            <a:pt x="19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0" name=""/>
                    <p:cNvSpPr/>
                    <p:nvPr/>
                  </p:nvSpPr>
                  <p:spPr>
                    <a:xfrm>
                      <a:off x="1181160" y="4687920"/>
                      <a:ext cx="79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28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1" y="28"/>
                          </a:lnTo>
                          <a:lnTo>
                            <a:pt x="20" y="2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1" name=""/>
                    <p:cNvSpPr/>
                    <p:nvPr/>
                  </p:nvSpPr>
                  <p:spPr>
                    <a:xfrm>
                      <a:off x="1182600" y="4694400"/>
                      <a:ext cx="79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6">
                          <a:moveTo>
                            <a:pt x="0" y="26"/>
                          </a:moveTo>
                          <a:lnTo>
                            <a:pt x="9" y="0"/>
                          </a:lnTo>
                          <a:lnTo>
                            <a:pt x="42" y="0"/>
                          </a:lnTo>
                          <a:lnTo>
                            <a:pt x="52" y="26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12" name=""/>
                  <p:cNvGrpSpPr/>
                  <p:nvPr/>
                </p:nvGrpSpPr>
                <p:grpSpPr>
                  <a:xfrm>
                    <a:off x="1182600" y="4694400"/>
                    <a:ext cx="12960" cy="12600"/>
                    <a:chOff x="1182600" y="4694400"/>
                    <a:chExt cx="12960" cy="12600"/>
                  </a:xfrm>
                </p:grpSpPr>
                <p:sp>
                  <p:nvSpPr>
                    <p:cNvPr id="1913" name=""/>
                    <p:cNvSpPr/>
                    <p:nvPr/>
                  </p:nvSpPr>
                  <p:spPr>
                    <a:xfrm>
                      <a:off x="1182600" y="4694400"/>
                      <a:ext cx="46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60">
                          <a:moveTo>
                            <a:pt x="18" y="60"/>
                          </a:moveTo>
                          <a:lnTo>
                            <a:pt x="0" y="29"/>
                          </a:lnTo>
                          <a:lnTo>
                            <a:pt x="10" y="0"/>
                          </a:lnTo>
                          <a:lnTo>
                            <a:pt x="32" y="29"/>
                          </a:lnTo>
                          <a:lnTo>
                            <a:pt x="18" y="6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4" name=""/>
                    <p:cNvSpPr/>
                    <p:nvPr/>
                  </p:nvSpPr>
                  <p:spPr>
                    <a:xfrm>
                      <a:off x="1184400" y="4694400"/>
                      <a:ext cx="93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9">
                          <a:moveTo>
                            <a:pt x="0" y="0"/>
                          </a:moveTo>
                          <a:lnTo>
                            <a:pt x="32" y="0"/>
                          </a:lnTo>
                          <a:lnTo>
                            <a:pt x="52" y="29"/>
                          </a:lnTo>
                          <a:lnTo>
                            <a:pt x="20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5" name=""/>
                    <p:cNvSpPr/>
                    <p:nvPr/>
                  </p:nvSpPr>
                  <p:spPr>
                    <a:xfrm>
                      <a:off x="1185840" y="4700520"/>
                      <a:ext cx="97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6">
                          <a:moveTo>
                            <a:pt x="0" y="26"/>
                          </a:moveTo>
                          <a:lnTo>
                            <a:pt x="10" y="0"/>
                          </a:lnTo>
                          <a:lnTo>
                            <a:pt x="44" y="0"/>
                          </a:lnTo>
                          <a:lnTo>
                            <a:pt x="53" y="26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16" name=""/>
                  <p:cNvGrpSpPr/>
                  <p:nvPr/>
                </p:nvGrpSpPr>
                <p:grpSpPr>
                  <a:xfrm>
                    <a:off x="1185840" y="4702320"/>
                    <a:ext cx="12600" cy="11160"/>
                    <a:chOff x="1185840" y="4702320"/>
                    <a:chExt cx="12600" cy="11160"/>
                  </a:xfrm>
                </p:grpSpPr>
                <p:sp>
                  <p:nvSpPr>
                    <p:cNvPr id="1917" name=""/>
                    <p:cNvSpPr/>
                    <p:nvPr/>
                  </p:nvSpPr>
                  <p:spPr>
                    <a:xfrm>
                      <a:off x="1185840" y="4702320"/>
                      <a:ext cx="64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59">
                          <a:moveTo>
                            <a:pt x="19" y="59"/>
                          </a:moveTo>
                          <a:lnTo>
                            <a:pt x="0" y="29"/>
                          </a:lnTo>
                          <a:lnTo>
                            <a:pt x="11" y="0"/>
                          </a:lnTo>
                          <a:lnTo>
                            <a:pt x="33" y="29"/>
                          </a:lnTo>
                          <a:lnTo>
                            <a:pt x="19" y="59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8" name=""/>
                    <p:cNvSpPr/>
                    <p:nvPr/>
                  </p:nvSpPr>
                  <p:spPr>
                    <a:xfrm>
                      <a:off x="1187280" y="4702320"/>
                      <a:ext cx="97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9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2" y="29"/>
                          </a:lnTo>
                          <a:lnTo>
                            <a:pt x="19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9" name=""/>
                    <p:cNvSpPr/>
                    <p:nvPr/>
                  </p:nvSpPr>
                  <p:spPr>
                    <a:xfrm>
                      <a:off x="1189080" y="470880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5">
                          <a:moveTo>
                            <a:pt x="0" y="25"/>
                          </a:moveTo>
                          <a:lnTo>
                            <a:pt x="10" y="0"/>
                          </a:lnTo>
                          <a:lnTo>
                            <a:pt x="44" y="0"/>
                          </a:lnTo>
                          <a:lnTo>
                            <a:pt x="54" y="25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920" name=""/>
                <p:cNvGrpSpPr/>
                <p:nvPr/>
              </p:nvGrpSpPr>
              <p:grpSpPr>
                <a:xfrm>
                  <a:off x="1190520" y="4708800"/>
                  <a:ext cx="12960" cy="10800"/>
                  <a:chOff x="1190520" y="4708800"/>
                  <a:chExt cx="12960" cy="10800"/>
                </a:xfrm>
              </p:grpSpPr>
              <p:sp>
                <p:nvSpPr>
                  <p:cNvPr id="1921" name=""/>
                  <p:cNvSpPr/>
                  <p:nvPr/>
                </p:nvSpPr>
                <p:spPr>
                  <a:xfrm>
                    <a:off x="1190520" y="4708800"/>
                    <a:ext cx="50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61">
                        <a:moveTo>
                          <a:pt x="19" y="61"/>
                        </a:moveTo>
                        <a:lnTo>
                          <a:pt x="0" y="30"/>
                        </a:lnTo>
                        <a:lnTo>
                          <a:pt x="10" y="0"/>
                        </a:lnTo>
                        <a:lnTo>
                          <a:pt x="32" y="30"/>
                        </a:lnTo>
                        <a:lnTo>
                          <a:pt x="19" y="6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>
                    <a:off x="1192320" y="470880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9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1" y="29"/>
                        </a:lnTo>
                        <a:lnTo>
                          <a:pt x="19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>
                    <a:off x="1193760" y="471492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6">
                        <a:moveTo>
                          <a:pt x="0" y="26"/>
                        </a:moveTo>
                        <a:lnTo>
                          <a:pt x="10" y="0"/>
                        </a:lnTo>
                        <a:lnTo>
                          <a:pt x="42" y="0"/>
                        </a:lnTo>
                        <a:lnTo>
                          <a:pt x="52" y="26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4" name=""/>
                <p:cNvGrpSpPr/>
                <p:nvPr/>
              </p:nvGrpSpPr>
              <p:grpSpPr>
                <a:xfrm>
                  <a:off x="1193760" y="4714920"/>
                  <a:ext cx="12600" cy="11160"/>
                  <a:chOff x="1193760" y="4714920"/>
                  <a:chExt cx="12600" cy="11160"/>
                </a:xfrm>
              </p:grpSpPr>
              <p:sp>
                <p:nvSpPr>
                  <p:cNvPr id="1925" name=""/>
                  <p:cNvSpPr/>
                  <p:nvPr/>
                </p:nvSpPr>
                <p:spPr>
                  <a:xfrm>
                    <a:off x="1193760" y="471492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9">
                        <a:moveTo>
                          <a:pt x="18" y="59"/>
                        </a:moveTo>
                        <a:lnTo>
                          <a:pt x="0" y="29"/>
                        </a:lnTo>
                        <a:lnTo>
                          <a:pt x="9" y="0"/>
                        </a:lnTo>
                        <a:lnTo>
                          <a:pt x="32" y="29"/>
                        </a:lnTo>
                        <a:lnTo>
                          <a:pt x="18" y="59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>
                    <a:off x="1195560" y="47149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8">
                        <a:moveTo>
                          <a:pt x="0" y="0"/>
                        </a:moveTo>
                        <a:lnTo>
                          <a:pt x="31" y="0"/>
                        </a:lnTo>
                        <a:lnTo>
                          <a:pt x="52" y="28"/>
                        </a:lnTo>
                        <a:lnTo>
                          <a:pt x="20" y="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7" name=""/>
                  <p:cNvSpPr/>
                  <p:nvPr/>
                </p:nvSpPr>
                <p:spPr>
                  <a:xfrm>
                    <a:off x="1197000" y="472140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6">
                        <a:moveTo>
                          <a:pt x="0" y="26"/>
                        </a:moveTo>
                        <a:lnTo>
                          <a:pt x="10" y="0"/>
                        </a:lnTo>
                        <a:lnTo>
                          <a:pt x="44" y="0"/>
                        </a:lnTo>
                        <a:lnTo>
                          <a:pt x="53" y="26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8" name=""/>
                <p:cNvGrpSpPr/>
                <p:nvPr/>
              </p:nvGrpSpPr>
              <p:grpSpPr>
                <a:xfrm>
                  <a:off x="1197000" y="4722840"/>
                  <a:ext cx="12600" cy="11160"/>
                  <a:chOff x="1197000" y="4722840"/>
                  <a:chExt cx="12600" cy="11160"/>
                </a:xfrm>
              </p:grpSpPr>
              <p:sp>
                <p:nvSpPr>
                  <p:cNvPr id="1929" name=""/>
                  <p:cNvSpPr/>
                  <p:nvPr/>
                </p:nvSpPr>
                <p:spPr>
                  <a:xfrm>
                    <a:off x="1197000" y="4722840"/>
                    <a:ext cx="64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58">
                        <a:moveTo>
                          <a:pt x="19" y="58"/>
                        </a:moveTo>
                        <a:lnTo>
                          <a:pt x="0" y="27"/>
                        </a:lnTo>
                        <a:lnTo>
                          <a:pt x="11" y="0"/>
                        </a:lnTo>
                        <a:lnTo>
                          <a:pt x="33" y="27"/>
                        </a:lnTo>
                        <a:lnTo>
                          <a:pt x="19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0" name=""/>
                  <p:cNvSpPr/>
                  <p:nvPr/>
                </p:nvSpPr>
                <p:spPr>
                  <a:xfrm>
                    <a:off x="1198440" y="472284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7">
                        <a:moveTo>
                          <a:pt x="0" y="0"/>
                        </a:moveTo>
                        <a:lnTo>
                          <a:pt x="32" y="0"/>
                        </a:lnTo>
                        <a:lnTo>
                          <a:pt x="51" y="27"/>
                        </a:lnTo>
                        <a:lnTo>
                          <a:pt x="18" y="2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1" name=""/>
                  <p:cNvSpPr/>
                  <p:nvPr/>
                </p:nvSpPr>
                <p:spPr>
                  <a:xfrm>
                    <a:off x="1200240" y="47275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7">
                        <a:moveTo>
                          <a:pt x="0" y="27"/>
                        </a:moveTo>
                        <a:lnTo>
                          <a:pt x="10" y="0"/>
                        </a:lnTo>
                        <a:lnTo>
                          <a:pt x="43" y="0"/>
                        </a:lnTo>
                        <a:lnTo>
                          <a:pt x="51" y="27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2" name=""/>
                <p:cNvGrpSpPr/>
                <p:nvPr/>
              </p:nvGrpSpPr>
              <p:grpSpPr>
                <a:xfrm>
                  <a:off x="1201680" y="4729320"/>
                  <a:ext cx="12600" cy="11160"/>
                  <a:chOff x="1201680" y="4729320"/>
                  <a:chExt cx="12600" cy="11160"/>
                </a:xfrm>
              </p:grpSpPr>
              <p:sp>
                <p:nvSpPr>
                  <p:cNvPr id="1933" name=""/>
                  <p:cNvSpPr/>
                  <p:nvPr/>
                </p:nvSpPr>
                <p:spPr>
                  <a:xfrm>
                    <a:off x="1201680" y="472932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20" y="58"/>
                        </a:moveTo>
                        <a:lnTo>
                          <a:pt x="0" y="28"/>
                        </a:lnTo>
                        <a:lnTo>
                          <a:pt x="10" y="0"/>
                        </a:lnTo>
                        <a:lnTo>
                          <a:pt x="32" y="28"/>
                        </a:lnTo>
                        <a:lnTo>
                          <a:pt x="20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4" name=""/>
                  <p:cNvSpPr/>
                  <p:nvPr/>
                </p:nvSpPr>
                <p:spPr>
                  <a:xfrm>
                    <a:off x="1203480" y="472932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9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2" y="29"/>
                        </a:lnTo>
                        <a:lnTo>
                          <a:pt x="20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5" name=""/>
                  <p:cNvSpPr/>
                  <p:nvPr/>
                </p:nvSpPr>
                <p:spPr>
                  <a:xfrm>
                    <a:off x="1204920" y="473544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4">
                        <a:moveTo>
                          <a:pt x="0" y="24"/>
                        </a:moveTo>
                        <a:lnTo>
                          <a:pt x="9" y="0"/>
                        </a:lnTo>
                        <a:lnTo>
                          <a:pt x="42" y="0"/>
                        </a:lnTo>
                        <a:lnTo>
                          <a:pt x="52" y="24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6" name=""/>
                <p:cNvGrpSpPr/>
                <p:nvPr/>
              </p:nvGrpSpPr>
              <p:grpSpPr>
                <a:xfrm>
                  <a:off x="1204920" y="4735440"/>
                  <a:ext cx="12600" cy="12960"/>
                  <a:chOff x="1204920" y="4735440"/>
                  <a:chExt cx="12600" cy="12960"/>
                </a:xfrm>
              </p:grpSpPr>
              <p:sp>
                <p:nvSpPr>
                  <p:cNvPr id="1937" name=""/>
                  <p:cNvSpPr/>
                  <p:nvPr/>
                </p:nvSpPr>
                <p:spPr>
                  <a:xfrm>
                    <a:off x="1204920" y="4735440"/>
                    <a:ext cx="64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9">
                        <a:moveTo>
                          <a:pt x="18" y="59"/>
                        </a:moveTo>
                        <a:lnTo>
                          <a:pt x="0" y="29"/>
                        </a:lnTo>
                        <a:lnTo>
                          <a:pt x="10" y="0"/>
                        </a:lnTo>
                        <a:lnTo>
                          <a:pt x="32" y="29"/>
                        </a:lnTo>
                        <a:lnTo>
                          <a:pt x="18" y="59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>
                    <a:off x="1206360" y="473544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0">
                        <a:moveTo>
                          <a:pt x="0" y="0"/>
                        </a:moveTo>
                        <a:lnTo>
                          <a:pt x="34" y="0"/>
                        </a:lnTo>
                        <a:lnTo>
                          <a:pt x="52" y="30"/>
                        </a:lnTo>
                        <a:lnTo>
                          <a:pt x="20" y="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9" name=""/>
                  <p:cNvSpPr/>
                  <p:nvPr/>
                </p:nvSpPr>
                <p:spPr>
                  <a:xfrm>
                    <a:off x="1208160" y="474192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5">
                        <a:moveTo>
                          <a:pt x="0" y="25"/>
                        </a:moveTo>
                        <a:lnTo>
                          <a:pt x="12" y="0"/>
                        </a:lnTo>
                        <a:lnTo>
                          <a:pt x="44" y="0"/>
                        </a:lnTo>
                        <a:lnTo>
                          <a:pt x="53" y="25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0" name=""/>
                <p:cNvGrpSpPr/>
                <p:nvPr/>
              </p:nvGrpSpPr>
              <p:grpSpPr>
                <a:xfrm>
                  <a:off x="1209600" y="4743720"/>
                  <a:ext cx="12600" cy="10800"/>
                  <a:chOff x="1209600" y="4743720"/>
                  <a:chExt cx="12600" cy="10800"/>
                </a:xfrm>
              </p:grpSpPr>
              <p:sp>
                <p:nvSpPr>
                  <p:cNvPr id="1941" name=""/>
                  <p:cNvSpPr/>
                  <p:nvPr/>
                </p:nvSpPr>
                <p:spPr>
                  <a:xfrm>
                    <a:off x="1209600" y="4743720"/>
                    <a:ext cx="46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18" y="58"/>
                        </a:moveTo>
                        <a:lnTo>
                          <a:pt x="0" y="29"/>
                        </a:lnTo>
                        <a:lnTo>
                          <a:pt x="10" y="0"/>
                        </a:lnTo>
                        <a:lnTo>
                          <a:pt x="32" y="29"/>
                        </a:lnTo>
                        <a:lnTo>
                          <a:pt x="18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2" name=""/>
                  <p:cNvSpPr/>
                  <p:nvPr/>
                </p:nvSpPr>
                <p:spPr>
                  <a:xfrm>
                    <a:off x="1211400" y="474372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0">
                        <a:moveTo>
                          <a:pt x="0" y="0"/>
                        </a:moveTo>
                        <a:lnTo>
                          <a:pt x="32" y="0"/>
                        </a:lnTo>
                        <a:lnTo>
                          <a:pt x="52" y="30"/>
                        </a:lnTo>
                        <a:lnTo>
                          <a:pt x="19" y="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3" name=""/>
                  <p:cNvSpPr/>
                  <p:nvPr/>
                </p:nvSpPr>
                <p:spPr>
                  <a:xfrm>
                    <a:off x="1212840" y="474984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4">
                        <a:moveTo>
                          <a:pt x="0" y="24"/>
                        </a:moveTo>
                        <a:lnTo>
                          <a:pt x="10" y="0"/>
                        </a:lnTo>
                        <a:lnTo>
                          <a:pt x="44" y="0"/>
                        </a:lnTo>
                        <a:lnTo>
                          <a:pt x="54" y="24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4" name=""/>
                <p:cNvGrpSpPr/>
                <p:nvPr/>
              </p:nvGrpSpPr>
              <p:grpSpPr>
                <a:xfrm>
                  <a:off x="1212840" y="4749840"/>
                  <a:ext cx="12600" cy="11160"/>
                  <a:chOff x="1212840" y="4749840"/>
                  <a:chExt cx="12600" cy="11160"/>
                </a:xfrm>
              </p:grpSpPr>
              <p:sp>
                <p:nvSpPr>
                  <p:cNvPr id="1945" name=""/>
                  <p:cNvSpPr/>
                  <p:nvPr/>
                </p:nvSpPr>
                <p:spPr>
                  <a:xfrm>
                    <a:off x="1212840" y="474984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9">
                        <a:moveTo>
                          <a:pt x="20" y="59"/>
                        </a:moveTo>
                        <a:lnTo>
                          <a:pt x="0" y="28"/>
                        </a:lnTo>
                        <a:lnTo>
                          <a:pt x="10" y="0"/>
                        </a:lnTo>
                        <a:lnTo>
                          <a:pt x="32" y="28"/>
                        </a:lnTo>
                        <a:lnTo>
                          <a:pt x="20" y="59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>
                    <a:off x="1214280" y="474984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8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2" y="28"/>
                        </a:lnTo>
                        <a:lnTo>
                          <a:pt x="19" y="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>
                    <a:off x="1216080" y="475632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6">
                        <a:moveTo>
                          <a:pt x="0" y="26"/>
                        </a:moveTo>
                        <a:lnTo>
                          <a:pt x="9" y="0"/>
                        </a:lnTo>
                        <a:lnTo>
                          <a:pt x="42" y="0"/>
                        </a:lnTo>
                        <a:lnTo>
                          <a:pt x="51" y="26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48" name=""/>
                <p:cNvSpPr/>
                <p:nvPr/>
              </p:nvSpPr>
              <p:spPr>
                <a:xfrm>
                  <a:off x="1166760" y="464364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63" h="30">
                      <a:moveTo>
                        <a:pt x="0" y="0"/>
                      </a:moveTo>
                      <a:lnTo>
                        <a:pt x="22" y="30"/>
                      </a:lnTo>
                      <a:lnTo>
                        <a:pt x="63" y="30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1173240" y="465300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63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3" y="31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1177920" y="466272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64" h="31">
                      <a:moveTo>
                        <a:pt x="0" y="0"/>
                      </a:moveTo>
                      <a:lnTo>
                        <a:pt x="23" y="31"/>
                      </a:lnTo>
                      <a:lnTo>
                        <a:pt x="64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1184400" y="467208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64" h="31">
                      <a:moveTo>
                        <a:pt x="0" y="0"/>
                      </a:moveTo>
                      <a:lnTo>
                        <a:pt x="23" y="31"/>
                      </a:lnTo>
                      <a:lnTo>
                        <a:pt x="64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1189080" y="4681800"/>
                  <a:ext cx="11160" cy="6120"/>
                </a:xfrm>
                <a:custGeom>
                  <a:avLst/>
                  <a:gdLst/>
                  <a:ahLst/>
                  <a:rect l="l" t="t" r="r" b="b"/>
                  <a:pathLst>
                    <a:path w="64" h="30">
                      <a:moveTo>
                        <a:pt x="0" y="0"/>
                      </a:moveTo>
                      <a:lnTo>
                        <a:pt x="23" y="30"/>
                      </a:lnTo>
                      <a:lnTo>
                        <a:pt x="64" y="30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1195560" y="4691160"/>
                  <a:ext cx="10800" cy="6480"/>
                </a:xfrm>
                <a:custGeom>
                  <a:avLst/>
                  <a:gdLst/>
                  <a:ahLst/>
                  <a:rect l="l" t="t" r="r" b="b"/>
                  <a:pathLst>
                    <a:path w="64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4" y="31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1201680" y="470052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5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1208160" y="471024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5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1212840" y="471960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63" h="30">
                      <a:moveTo>
                        <a:pt x="0" y="0"/>
                      </a:moveTo>
                      <a:lnTo>
                        <a:pt x="22" y="30"/>
                      </a:lnTo>
                      <a:lnTo>
                        <a:pt x="63" y="30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1219320" y="4729320"/>
                  <a:ext cx="11160" cy="612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5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1224000" y="47386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5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9" name=""/>
                <p:cNvGrpSpPr/>
                <p:nvPr/>
              </p:nvGrpSpPr>
              <p:grpSpPr>
                <a:xfrm>
                  <a:off x="1089000" y="4632480"/>
                  <a:ext cx="14400" cy="11160"/>
                  <a:chOff x="1089000" y="4632480"/>
                  <a:chExt cx="14400" cy="11160"/>
                </a:xfrm>
              </p:grpSpPr>
              <p:sp>
                <p:nvSpPr>
                  <p:cNvPr id="1960" name=""/>
                  <p:cNvSpPr/>
                  <p:nvPr/>
                </p:nvSpPr>
                <p:spPr>
                  <a:xfrm>
                    <a:off x="1089000" y="463248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1" y="59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9" y="27"/>
                        </a:lnTo>
                        <a:lnTo>
                          <a:pt x="11" y="59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1" name=""/>
                  <p:cNvSpPr/>
                  <p:nvPr/>
                </p:nvSpPr>
                <p:spPr>
                  <a:xfrm>
                    <a:off x="1090440" y="463248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3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9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>
                    <a:off x="1090440" y="4637160"/>
                    <a:ext cx="129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7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3" name=""/>
                <p:cNvGrpSpPr/>
                <p:nvPr/>
              </p:nvGrpSpPr>
              <p:grpSpPr>
                <a:xfrm>
                  <a:off x="1092240" y="4640400"/>
                  <a:ext cx="14400" cy="11160"/>
                  <a:chOff x="1092240" y="4640400"/>
                  <a:chExt cx="14400" cy="11160"/>
                </a:xfrm>
              </p:grpSpPr>
              <p:sp>
                <p:nvSpPr>
                  <p:cNvPr id="1964" name=""/>
                  <p:cNvSpPr/>
                  <p:nvPr/>
                </p:nvSpPr>
                <p:spPr>
                  <a:xfrm>
                    <a:off x="1092240" y="464040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9" y="27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1093680" y="464040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1095480" y="464508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4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7" name=""/>
                <p:cNvGrpSpPr/>
                <p:nvPr/>
              </p:nvGrpSpPr>
              <p:grpSpPr>
                <a:xfrm>
                  <a:off x="1096920" y="4646880"/>
                  <a:ext cx="14400" cy="10800"/>
                  <a:chOff x="1096920" y="4646880"/>
                  <a:chExt cx="14400" cy="10800"/>
                </a:xfrm>
              </p:grpSpPr>
              <p:sp>
                <p:nvSpPr>
                  <p:cNvPr id="1968" name=""/>
                  <p:cNvSpPr/>
                  <p:nvPr/>
                </p:nvSpPr>
                <p:spPr>
                  <a:xfrm>
                    <a:off x="1096920" y="4646880"/>
                    <a:ext cx="32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8" y="27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1098720" y="464688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7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4"/>
                        </a:lnTo>
                        <a:lnTo>
                          <a:pt x="46" y="11"/>
                        </a:lnTo>
                        <a:lnTo>
                          <a:pt x="58" y="27"/>
                        </a:lnTo>
                        <a:lnTo>
                          <a:pt x="15" y="27"/>
                        </a:lnTo>
                        <a:lnTo>
                          <a:pt x="7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1098720" y="465156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7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1" name=""/>
                <p:cNvGrpSpPr/>
                <p:nvPr/>
              </p:nvGrpSpPr>
              <p:grpSpPr>
                <a:xfrm>
                  <a:off x="1100160" y="4656240"/>
                  <a:ext cx="14400" cy="11160"/>
                  <a:chOff x="1100160" y="4656240"/>
                  <a:chExt cx="14400" cy="11160"/>
                </a:xfrm>
              </p:grpSpPr>
              <p:sp>
                <p:nvSpPr>
                  <p:cNvPr id="1972" name=""/>
                  <p:cNvSpPr/>
                  <p:nvPr/>
                </p:nvSpPr>
                <p:spPr>
                  <a:xfrm>
                    <a:off x="1100160" y="465624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1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19" y="27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1101600" y="465624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0"/>
                        </a:lnTo>
                        <a:lnTo>
                          <a:pt x="59" y="26"/>
                        </a:lnTo>
                        <a:lnTo>
                          <a:pt x="14" y="26"/>
                        </a:lnTo>
                        <a:lnTo>
                          <a:pt x="7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>
                    <a:off x="1103400" y="466092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6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8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5" name=""/>
                <p:cNvGrpSpPr/>
                <p:nvPr/>
              </p:nvGrpSpPr>
              <p:grpSpPr>
                <a:xfrm>
                  <a:off x="1103400" y="4664160"/>
                  <a:ext cx="38160" cy="54000"/>
                  <a:chOff x="1103400" y="4664160"/>
                  <a:chExt cx="38160" cy="54000"/>
                </a:xfrm>
              </p:grpSpPr>
              <p:sp>
                <p:nvSpPr>
                  <p:cNvPr id="1976" name=""/>
                  <p:cNvSpPr/>
                  <p:nvPr/>
                </p:nvSpPr>
                <p:spPr>
                  <a:xfrm>
                    <a:off x="1103400" y="4664160"/>
                    <a:ext cx="270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269">
                        <a:moveTo>
                          <a:pt x="138" y="269"/>
                        </a:moveTo>
                        <a:lnTo>
                          <a:pt x="0" y="23"/>
                        </a:lnTo>
                        <a:lnTo>
                          <a:pt x="10" y="0"/>
                        </a:lnTo>
                        <a:lnTo>
                          <a:pt x="147" y="238"/>
                        </a:lnTo>
                        <a:lnTo>
                          <a:pt x="138" y="26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1104840" y="4664160"/>
                    <a:ext cx="349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240">
                        <a:moveTo>
                          <a:pt x="2" y="0"/>
                        </a:moveTo>
                        <a:lnTo>
                          <a:pt x="46" y="0"/>
                        </a:lnTo>
                        <a:lnTo>
                          <a:pt x="47" y="0"/>
                        </a:lnTo>
                        <a:lnTo>
                          <a:pt x="54" y="9"/>
                        </a:lnTo>
                        <a:lnTo>
                          <a:pt x="191" y="240"/>
                        </a:lnTo>
                        <a:lnTo>
                          <a:pt x="135" y="237"/>
                        </a:lnTo>
                        <a:lnTo>
                          <a:pt x="8" y="16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1128600" y="4711680"/>
                    <a:ext cx="12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7" y="6"/>
                        </a:lnTo>
                        <a:lnTo>
                          <a:pt x="10" y="0"/>
                        </a:lnTo>
                        <a:lnTo>
                          <a:pt x="62" y="0"/>
                        </a:lnTo>
                        <a:lnTo>
                          <a:pt x="77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9" name=""/>
                <p:cNvGrpSpPr/>
                <p:nvPr/>
              </p:nvGrpSpPr>
              <p:grpSpPr>
                <a:xfrm>
                  <a:off x="1130400" y="4713480"/>
                  <a:ext cx="12600" cy="11160"/>
                  <a:chOff x="1130400" y="4713480"/>
                  <a:chExt cx="12600" cy="11160"/>
                </a:xfrm>
              </p:grpSpPr>
              <p:sp>
                <p:nvSpPr>
                  <p:cNvPr id="1980" name=""/>
                  <p:cNvSpPr/>
                  <p:nvPr/>
                </p:nvSpPr>
                <p:spPr>
                  <a:xfrm>
                    <a:off x="1130400" y="471348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9" y="27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1130400" y="471348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>
                    <a:off x="1131840" y="471816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7"/>
                        </a:lnTo>
                        <a:lnTo>
                          <a:pt x="4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3" name=""/>
                <p:cNvGrpSpPr/>
                <p:nvPr/>
              </p:nvGrpSpPr>
              <p:grpSpPr>
                <a:xfrm>
                  <a:off x="1133640" y="4721400"/>
                  <a:ext cx="14040" cy="11160"/>
                  <a:chOff x="1133640" y="4721400"/>
                  <a:chExt cx="14040" cy="11160"/>
                </a:xfrm>
              </p:grpSpPr>
              <p:sp>
                <p:nvSpPr>
                  <p:cNvPr id="1984" name=""/>
                  <p:cNvSpPr/>
                  <p:nvPr/>
                </p:nvSpPr>
                <p:spPr>
                  <a:xfrm>
                    <a:off x="1133640" y="472140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8" y="26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1135080" y="472140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5" y="10"/>
                        </a:lnTo>
                        <a:lnTo>
                          <a:pt x="58" y="25"/>
                        </a:lnTo>
                        <a:lnTo>
                          <a:pt x="13" y="25"/>
                        </a:lnTo>
                        <a:lnTo>
                          <a:pt x="7" y="18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1135080" y="472608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7" name=""/>
                <p:cNvGrpSpPr/>
                <p:nvPr/>
              </p:nvGrpSpPr>
              <p:grpSpPr>
                <a:xfrm>
                  <a:off x="1198440" y="4749840"/>
                  <a:ext cx="14400" cy="11160"/>
                  <a:chOff x="1198440" y="4749840"/>
                  <a:chExt cx="14400" cy="11160"/>
                </a:xfrm>
              </p:grpSpPr>
              <p:sp>
                <p:nvSpPr>
                  <p:cNvPr id="1988" name=""/>
                  <p:cNvSpPr/>
                  <p:nvPr/>
                </p:nvSpPr>
                <p:spPr>
                  <a:xfrm>
                    <a:off x="1198440" y="474984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9">
                        <a:moveTo>
                          <a:pt x="10" y="59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8" y="27"/>
                        </a:lnTo>
                        <a:lnTo>
                          <a:pt x="10" y="59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1200240" y="474984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2" y="0"/>
                        </a:moveTo>
                        <a:lnTo>
                          <a:pt x="42" y="0"/>
                        </a:lnTo>
                        <a:lnTo>
                          <a:pt x="43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9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1201680" y="475452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1">
                        <a:moveTo>
                          <a:pt x="0" y="31"/>
                        </a:moveTo>
                        <a:lnTo>
                          <a:pt x="2" y="17"/>
                        </a:lnTo>
                        <a:lnTo>
                          <a:pt x="6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8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1" name=""/>
                <p:cNvGrpSpPr/>
                <p:nvPr/>
              </p:nvGrpSpPr>
              <p:grpSpPr>
                <a:xfrm>
                  <a:off x="1155600" y="4737240"/>
                  <a:ext cx="14400" cy="11160"/>
                  <a:chOff x="1155600" y="4737240"/>
                  <a:chExt cx="14400" cy="11160"/>
                </a:xfrm>
              </p:grpSpPr>
              <p:sp>
                <p:nvSpPr>
                  <p:cNvPr id="1992" name=""/>
                  <p:cNvSpPr/>
                  <p:nvPr/>
                </p:nvSpPr>
                <p:spPr>
                  <a:xfrm>
                    <a:off x="1155600" y="473724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1" y="59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9" y="27"/>
                        </a:lnTo>
                        <a:lnTo>
                          <a:pt x="11" y="59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1157400" y="473724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>
                    <a:off x="1157400" y="474192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5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5" name=""/>
                <p:cNvGrpSpPr/>
                <p:nvPr/>
              </p:nvGrpSpPr>
              <p:grpSpPr>
                <a:xfrm>
                  <a:off x="1158840" y="4743720"/>
                  <a:ext cx="12600" cy="10800"/>
                  <a:chOff x="1158840" y="4743720"/>
                  <a:chExt cx="12600" cy="10800"/>
                </a:xfrm>
              </p:grpSpPr>
              <p:sp>
                <p:nvSpPr>
                  <p:cNvPr id="1996" name=""/>
                  <p:cNvSpPr/>
                  <p:nvPr/>
                </p:nvSpPr>
                <p:spPr>
                  <a:xfrm>
                    <a:off x="1158840" y="4743720"/>
                    <a:ext cx="32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2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20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1158840" y="474372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1160640" y="4748400"/>
                    <a:ext cx="10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9" name=""/>
                <p:cNvSpPr/>
                <p:nvPr/>
              </p:nvSpPr>
              <p:spPr>
                <a:xfrm>
                  <a:off x="1170000" y="4743720"/>
                  <a:ext cx="7920" cy="20520"/>
                </a:xfrm>
                <a:custGeom>
                  <a:avLst/>
                  <a:gdLst/>
                  <a:ahLst/>
                  <a:rect l="l" t="t" r="r" b="b"/>
                  <a:pathLst>
                    <a:path w="41" h="110">
                      <a:moveTo>
                        <a:pt x="33" y="110"/>
                      </a:moveTo>
                      <a:lnTo>
                        <a:pt x="0" y="25"/>
                      </a:lnTo>
                      <a:lnTo>
                        <a:pt x="0" y="17"/>
                      </a:lnTo>
                      <a:lnTo>
                        <a:pt x="2" y="10"/>
                      </a:lnTo>
                      <a:lnTo>
                        <a:pt x="8" y="0"/>
                      </a:lnTo>
                      <a:lnTo>
                        <a:pt x="41" y="78"/>
                      </a:lnTo>
                      <a:lnTo>
                        <a:pt x="33" y="11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1171440" y="4743720"/>
                  <a:ext cx="27000" cy="14040"/>
                </a:xfrm>
                <a:custGeom>
                  <a:avLst/>
                  <a:gdLst/>
                  <a:ahLst/>
                  <a:rect l="l" t="t" r="r" b="b"/>
                  <a:pathLst>
                    <a:path w="149" h="72">
                      <a:moveTo>
                        <a:pt x="0" y="0"/>
                      </a:moveTo>
                      <a:lnTo>
                        <a:pt x="53" y="0"/>
                      </a:lnTo>
                      <a:lnTo>
                        <a:pt x="55" y="11"/>
                      </a:lnTo>
                      <a:lnTo>
                        <a:pt x="61" y="24"/>
                      </a:lnTo>
                      <a:lnTo>
                        <a:pt x="69" y="36"/>
                      </a:lnTo>
                      <a:lnTo>
                        <a:pt x="128" y="36"/>
                      </a:lnTo>
                      <a:lnTo>
                        <a:pt x="133" y="47"/>
                      </a:lnTo>
                      <a:lnTo>
                        <a:pt x="140" y="57"/>
                      </a:lnTo>
                      <a:lnTo>
                        <a:pt x="149" y="72"/>
                      </a:lnTo>
                      <a:lnTo>
                        <a:pt x="53" y="72"/>
                      </a:lnTo>
                      <a:lnTo>
                        <a:pt x="33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1176480" y="4757760"/>
                  <a:ext cx="23760" cy="6480"/>
                </a:xfrm>
                <a:custGeom>
                  <a:avLst/>
                  <a:gdLst/>
                  <a:ahLst/>
                  <a:rect l="l" t="t" r="r" b="b"/>
                  <a:pathLst>
                    <a:path w="130" h="30">
                      <a:moveTo>
                        <a:pt x="0" y="30"/>
                      </a:moveTo>
                      <a:lnTo>
                        <a:pt x="1" y="16"/>
                      </a:lnTo>
                      <a:lnTo>
                        <a:pt x="5" y="6"/>
                      </a:lnTo>
                      <a:lnTo>
                        <a:pt x="9" y="0"/>
                      </a:lnTo>
                      <a:lnTo>
                        <a:pt x="122" y="0"/>
                      </a:lnTo>
                      <a:lnTo>
                        <a:pt x="130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2" name=""/>
              <p:cNvGrpSpPr/>
              <p:nvPr/>
            </p:nvGrpSpPr>
            <p:grpSpPr>
              <a:xfrm>
                <a:off x="1150920" y="4776840"/>
                <a:ext cx="119160" cy="27000"/>
                <a:chOff x="1150920" y="4776840"/>
                <a:chExt cx="119160" cy="27000"/>
              </a:xfrm>
            </p:grpSpPr>
            <p:sp>
              <p:nvSpPr>
                <p:cNvPr id="2003" name=""/>
                <p:cNvSpPr/>
                <p:nvPr/>
              </p:nvSpPr>
              <p:spPr>
                <a:xfrm>
                  <a:off x="1150920" y="4776840"/>
                  <a:ext cx="119160" cy="27000"/>
                </a:xfrm>
                <a:custGeom>
                  <a:avLst/>
                  <a:gdLst/>
                  <a:ahLst/>
                  <a:rect l="l" t="t" r="r" b="b"/>
                  <a:pathLst>
                    <a:path w="669" h="130">
                      <a:moveTo>
                        <a:pt x="29" y="11"/>
                      </a:moveTo>
                      <a:lnTo>
                        <a:pt x="14" y="23"/>
                      </a:lnTo>
                      <a:lnTo>
                        <a:pt x="8" y="42"/>
                      </a:lnTo>
                      <a:lnTo>
                        <a:pt x="0" y="84"/>
                      </a:lnTo>
                      <a:lnTo>
                        <a:pt x="4" y="107"/>
                      </a:lnTo>
                      <a:lnTo>
                        <a:pt x="11" y="119"/>
                      </a:lnTo>
                      <a:lnTo>
                        <a:pt x="22" y="130"/>
                      </a:lnTo>
                      <a:lnTo>
                        <a:pt x="635" y="122"/>
                      </a:lnTo>
                      <a:lnTo>
                        <a:pt x="654" y="110"/>
                      </a:lnTo>
                      <a:lnTo>
                        <a:pt x="662" y="92"/>
                      </a:lnTo>
                      <a:lnTo>
                        <a:pt x="669" y="53"/>
                      </a:lnTo>
                      <a:lnTo>
                        <a:pt x="666" y="23"/>
                      </a:lnTo>
                      <a:lnTo>
                        <a:pt x="653" y="8"/>
                      </a:lnTo>
                      <a:lnTo>
                        <a:pt x="636" y="0"/>
                      </a:lnTo>
                      <a:lnTo>
                        <a:pt x="2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1166760" y="4783320"/>
                  <a:ext cx="93600" cy="14040"/>
                </a:xfrm>
                <a:custGeom>
                  <a:avLst/>
                  <a:gdLst/>
                  <a:ahLst/>
                  <a:rect l="l" t="t" r="r" b="b"/>
                  <a:pathLst>
                    <a:path w="533" h="68">
                      <a:moveTo>
                        <a:pt x="3" y="20"/>
                      </a:moveTo>
                      <a:lnTo>
                        <a:pt x="0" y="43"/>
                      </a:lnTo>
                      <a:lnTo>
                        <a:pt x="124" y="43"/>
                      </a:lnTo>
                      <a:lnTo>
                        <a:pt x="124" y="68"/>
                      </a:lnTo>
                      <a:lnTo>
                        <a:pt x="405" y="62"/>
                      </a:lnTo>
                      <a:lnTo>
                        <a:pt x="405" y="43"/>
                      </a:lnTo>
                      <a:lnTo>
                        <a:pt x="531" y="43"/>
                      </a:lnTo>
                      <a:lnTo>
                        <a:pt x="533" y="20"/>
                      </a:lnTo>
                      <a:lnTo>
                        <a:pt x="409" y="20"/>
                      </a:lnTo>
                      <a:lnTo>
                        <a:pt x="409" y="0"/>
                      </a:lnTo>
                      <a:lnTo>
                        <a:pt x="124" y="7"/>
                      </a:lnTo>
                      <a:lnTo>
                        <a:pt x="124" y="20"/>
                      </a:lnTo>
                      <a:lnTo>
                        <a:pt x="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1168560" y="4795920"/>
                  <a:ext cx="7920" cy="3240"/>
                </a:xfrm>
                <a:prstGeom prst="rect">
                  <a:avLst/>
                </a:prstGeom>
                <a:solidFill>
                  <a:srgbClr val="00a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1241280" y="4794480"/>
                  <a:ext cx="16200" cy="4680"/>
                </a:xfrm>
                <a:prstGeom prst="rect">
                  <a:avLst/>
                </a:prstGeom>
                <a:solidFill>
                  <a:srgbClr val="20202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7" name=""/>
              <p:cNvGrpSpPr/>
              <p:nvPr/>
            </p:nvGrpSpPr>
            <p:grpSpPr>
              <a:xfrm>
                <a:off x="1239840" y="4602240"/>
                <a:ext cx="144360" cy="163440"/>
                <a:chOff x="1239840" y="4602240"/>
                <a:chExt cx="144360" cy="163440"/>
              </a:xfrm>
            </p:grpSpPr>
            <p:sp>
              <p:nvSpPr>
                <p:cNvPr id="2008" name=""/>
                <p:cNvSpPr/>
                <p:nvPr/>
              </p:nvSpPr>
              <p:spPr>
                <a:xfrm>
                  <a:off x="1357200" y="473076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154" h="171">
                      <a:moveTo>
                        <a:pt x="102" y="8"/>
                      </a:moveTo>
                      <a:lnTo>
                        <a:pt x="75" y="0"/>
                      </a:lnTo>
                      <a:lnTo>
                        <a:pt x="48" y="4"/>
                      </a:lnTo>
                      <a:lnTo>
                        <a:pt x="25" y="14"/>
                      </a:lnTo>
                      <a:lnTo>
                        <a:pt x="7" y="38"/>
                      </a:lnTo>
                      <a:lnTo>
                        <a:pt x="0" y="80"/>
                      </a:lnTo>
                      <a:lnTo>
                        <a:pt x="0" y="117"/>
                      </a:lnTo>
                      <a:lnTo>
                        <a:pt x="0" y="171"/>
                      </a:lnTo>
                      <a:lnTo>
                        <a:pt x="154" y="171"/>
                      </a:lnTo>
                      <a:lnTo>
                        <a:pt x="147" y="69"/>
                      </a:lnTo>
                      <a:lnTo>
                        <a:pt x="126" y="25"/>
                      </a:lnTo>
                      <a:lnTo>
                        <a:pt x="102" y="8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1239840" y="4602240"/>
                  <a:ext cx="122400" cy="135000"/>
                </a:xfrm>
                <a:custGeom>
                  <a:avLst/>
                  <a:gdLst/>
                  <a:ahLst/>
                  <a:rect l="l" t="t" r="r" b="b"/>
                  <a:pathLst>
                    <a:path w="696" h="676">
                      <a:moveTo>
                        <a:pt x="0" y="0"/>
                      </a:moveTo>
                      <a:lnTo>
                        <a:pt x="696" y="653"/>
                      </a:lnTo>
                      <a:lnTo>
                        <a:pt x="688" y="664"/>
                      </a:lnTo>
                      <a:lnTo>
                        <a:pt x="678" y="6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1324080" y="4689720"/>
                  <a:ext cx="39600" cy="63360"/>
                </a:xfrm>
                <a:custGeom>
                  <a:avLst/>
                  <a:gdLst/>
                  <a:ahLst/>
                  <a:rect l="l" t="t" r="r" b="b"/>
                  <a:pathLst>
                    <a:path w="228" h="313">
                      <a:moveTo>
                        <a:pt x="3" y="81"/>
                      </a:moveTo>
                      <a:lnTo>
                        <a:pt x="19" y="53"/>
                      </a:lnTo>
                      <a:lnTo>
                        <a:pt x="44" y="37"/>
                      </a:lnTo>
                      <a:lnTo>
                        <a:pt x="63" y="36"/>
                      </a:lnTo>
                      <a:lnTo>
                        <a:pt x="103" y="37"/>
                      </a:lnTo>
                      <a:lnTo>
                        <a:pt x="106" y="0"/>
                      </a:lnTo>
                      <a:lnTo>
                        <a:pt x="228" y="111"/>
                      </a:lnTo>
                      <a:lnTo>
                        <a:pt x="220" y="153"/>
                      </a:lnTo>
                      <a:lnTo>
                        <a:pt x="184" y="145"/>
                      </a:lnTo>
                      <a:lnTo>
                        <a:pt x="154" y="157"/>
                      </a:lnTo>
                      <a:lnTo>
                        <a:pt x="128" y="179"/>
                      </a:lnTo>
                      <a:lnTo>
                        <a:pt x="121" y="198"/>
                      </a:lnTo>
                      <a:lnTo>
                        <a:pt x="120" y="252"/>
                      </a:lnTo>
                      <a:lnTo>
                        <a:pt x="120" y="289"/>
                      </a:lnTo>
                      <a:lnTo>
                        <a:pt x="121" y="313"/>
                      </a:lnTo>
                      <a:lnTo>
                        <a:pt x="0" y="196"/>
                      </a:lnTo>
                      <a:lnTo>
                        <a:pt x="0" y="119"/>
                      </a:lnTo>
                      <a:lnTo>
                        <a:pt x="3" y="8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1341360" y="4697640"/>
                  <a:ext cx="22320" cy="219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1243080" y="4606920"/>
                  <a:ext cx="31680" cy="49320"/>
                </a:xfrm>
                <a:custGeom>
                  <a:avLst/>
                  <a:gdLst/>
                  <a:ahLst/>
                  <a:rect l="l" t="t" r="r" b="b"/>
                  <a:pathLst>
                    <a:path w="180" h="247">
                      <a:moveTo>
                        <a:pt x="9" y="84"/>
                      </a:moveTo>
                      <a:lnTo>
                        <a:pt x="23" y="55"/>
                      </a:lnTo>
                      <a:lnTo>
                        <a:pt x="44" y="38"/>
                      </a:lnTo>
                      <a:lnTo>
                        <a:pt x="66" y="35"/>
                      </a:lnTo>
                      <a:lnTo>
                        <a:pt x="107" y="36"/>
                      </a:lnTo>
                      <a:lnTo>
                        <a:pt x="110" y="0"/>
                      </a:lnTo>
                      <a:lnTo>
                        <a:pt x="180" y="69"/>
                      </a:lnTo>
                      <a:lnTo>
                        <a:pt x="177" y="103"/>
                      </a:lnTo>
                      <a:lnTo>
                        <a:pt x="155" y="101"/>
                      </a:lnTo>
                      <a:lnTo>
                        <a:pt x="137" y="99"/>
                      </a:lnTo>
                      <a:lnTo>
                        <a:pt x="110" y="107"/>
                      </a:lnTo>
                      <a:lnTo>
                        <a:pt x="96" y="117"/>
                      </a:lnTo>
                      <a:lnTo>
                        <a:pt x="83" y="138"/>
                      </a:lnTo>
                      <a:lnTo>
                        <a:pt x="80" y="164"/>
                      </a:lnTo>
                      <a:lnTo>
                        <a:pt x="76" y="247"/>
                      </a:lnTo>
                      <a:lnTo>
                        <a:pt x="0" y="169"/>
                      </a:lnTo>
                      <a:lnTo>
                        <a:pt x="3" y="118"/>
                      </a:lnTo>
                      <a:lnTo>
                        <a:pt x="9" y="84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1305000" y="4678560"/>
                  <a:ext cx="17280" cy="31680"/>
                </a:xfrm>
                <a:custGeom>
                  <a:avLst/>
                  <a:gdLst/>
                  <a:ahLst/>
                  <a:rect l="l" t="t" r="r" b="b"/>
                  <a:pathLst>
                    <a:path w="104" h="159">
                      <a:moveTo>
                        <a:pt x="104" y="5"/>
                      </a:moveTo>
                      <a:lnTo>
                        <a:pt x="48" y="0"/>
                      </a:lnTo>
                      <a:lnTo>
                        <a:pt x="25" y="12"/>
                      </a:lnTo>
                      <a:lnTo>
                        <a:pt x="8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1300320" y="4672080"/>
                  <a:ext cx="17280" cy="31680"/>
                </a:xfrm>
                <a:custGeom>
                  <a:avLst/>
                  <a:gdLst/>
                  <a:ahLst/>
                  <a:rect l="l" t="t" r="r" b="b"/>
                  <a:pathLst>
                    <a:path w="102" h="159">
                      <a:moveTo>
                        <a:pt x="102" y="3"/>
                      </a:moveTo>
                      <a:lnTo>
                        <a:pt x="48" y="0"/>
                      </a:lnTo>
                      <a:lnTo>
                        <a:pt x="20" y="13"/>
                      </a:lnTo>
                      <a:lnTo>
                        <a:pt x="7" y="34"/>
                      </a:lnTo>
                      <a:lnTo>
                        <a:pt x="0" y="75"/>
                      </a:lnTo>
                      <a:lnTo>
                        <a:pt x="0" y="159"/>
                      </a:lnTo>
                      <a:lnTo>
                        <a:pt x="0" y="15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1295280" y="4667400"/>
                  <a:ext cx="17640" cy="3168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5"/>
                      </a:moveTo>
                      <a:lnTo>
                        <a:pt x="48" y="0"/>
                      </a:lnTo>
                      <a:lnTo>
                        <a:pt x="25" y="12"/>
                      </a:lnTo>
                      <a:lnTo>
                        <a:pt x="7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1289160" y="4660920"/>
                  <a:ext cx="19080" cy="3168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4"/>
                      </a:moveTo>
                      <a:lnTo>
                        <a:pt x="48" y="0"/>
                      </a:lnTo>
                      <a:lnTo>
                        <a:pt x="26" y="9"/>
                      </a:lnTo>
                      <a:lnTo>
                        <a:pt x="7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1284120" y="4656240"/>
                  <a:ext cx="17640" cy="3168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3"/>
                      </a:moveTo>
                      <a:lnTo>
                        <a:pt x="48" y="0"/>
                      </a:lnTo>
                      <a:lnTo>
                        <a:pt x="26" y="11"/>
                      </a:lnTo>
                      <a:lnTo>
                        <a:pt x="8" y="34"/>
                      </a:lnTo>
                      <a:lnTo>
                        <a:pt x="0" y="75"/>
                      </a:lnTo>
                      <a:lnTo>
                        <a:pt x="0" y="159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1279440" y="4649760"/>
                  <a:ext cx="17640" cy="3204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3"/>
                      </a:moveTo>
                      <a:lnTo>
                        <a:pt x="47" y="0"/>
                      </a:lnTo>
                      <a:lnTo>
                        <a:pt x="26" y="12"/>
                      </a:lnTo>
                      <a:lnTo>
                        <a:pt x="7" y="34"/>
                      </a:lnTo>
                      <a:lnTo>
                        <a:pt x="0" y="75"/>
                      </a:lnTo>
                      <a:lnTo>
                        <a:pt x="0" y="159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1274760" y="4643640"/>
                  <a:ext cx="17640" cy="3168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4"/>
                      </a:moveTo>
                      <a:lnTo>
                        <a:pt x="48" y="0"/>
                      </a:lnTo>
                      <a:lnTo>
                        <a:pt x="26" y="13"/>
                      </a:lnTo>
                      <a:lnTo>
                        <a:pt x="7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1268280" y="4638960"/>
                  <a:ext cx="19080" cy="31680"/>
                </a:xfrm>
                <a:custGeom>
                  <a:avLst/>
                  <a:gdLst/>
                  <a:ahLst/>
                  <a:rect l="l" t="t" r="r" b="b"/>
                  <a:pathLst>
                    <a:path w="102" h="159">
                      <a:moveTo>
                        <a:pt x="102" y="3"/>
                      </a:moveTo>
                      <a:lnTo>
                        <a:pt x="48" y="0"/>
                      </a:lnTo>
                      <a:lnTo>
                        <a:pt x="26" y="11"/>
                      </a:lnTo>
                      <a:lnTo>
                        <a:pt x="7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1262160" y="4614840"/>
                  <a:ext cx="14040" cy="12960"/>
                </a:xfrm>
                <a:custGeom>
                  <a:avLst/>
                  <a:gdLst/>
                  <a:ahLst/>
                  <a:rect l="l" t="t" r="r" b="b"/>
                  <a:pathLst>
                    <a:path w="77" h="64">
                      <a:moveTo>
                        <a:pt x="0" y="0"/>
                      </a:moveTo>
                      <a:lnTo>
                        <a:pt x="72" y="64"/>
                      </a:lnTo>
                      <a:lnTo>
                        <a:pt x="77" y="64"/>
                      </a:lnTo>
                      <a:lnTo>
                        <a:pt x="75" y="6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1271520" y="4753080"/>
                  <a:ext cx="22320" cy="126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1298520" y="4751640"/>
                  <a:ext cx="22320" cy="126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1320840" y="4759560"/>
                  <a:ext cx="27000" cy="2880"/>
                </a:xfrm>
                <a:custGeom>
                  <a:avLst/>
                  <a:gdLst/>
                  <a:ahLst/>
                  <a:rect l="l" t="t" r="r" b="b"/>
                  <a:pathLst>
                    <a:path w="152" h="22">
                      <a:moveTo>
                        <a:pt x="0" y="22"/>
                      </a:moveTo>
                      <a:lnTo>
                        <a:pt x="4" y="0"/>
                      </a:lnTo>
                      <a:lnTo>
                        <a:pt x="142" y="0"/>
                      </a:lnTo>
                      <a:lnTo>
                        <a:pt x="152" y="16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1271520" y="4749840"/>
                  <a:ext cx="22320" cy="14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1297080" y="4749840"/>
                  <a:ext cx="21960" cy="126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A3C-25C3-4BA5-AAE4-9DB5881F4B9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"/>
          <p:cNvSpPr/>
          <p:nvPr/>
        </p:nvSpPr>
        <p:spPr>
          <a:xfrm>
            <a:off x="838080" y="1523880"/>
            <a:ext cx="3124440" cy="20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29520" rIns="29520" tIns="14760" bIns="14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1143000" y="27432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 rot="21247200">
            <a:off x="5013000" y="3429000"/>
            <a:ext cx="3886200" cy="2819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80880" y="3886200"/>
            <a:ext cx="4068720" cy="251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5486400" y="685800"/>
            <a:ext cx="3505320" cy="2057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2" name=""/>
          <p:cNvGrpSpPr/>
          <p:nvPr/>
        </p:nvGrpSpPr>
        <p:grpSpPr>
          <a:xfrm>
            <a:off x="2362320" y="2133720"/>
            <a:ext cx="909360" cy="724680"/>
            <a:chOff x="2362320" y="2133720"/>
            <a:chExt cx="909360" cy="724680"/>
          </a:xfrm>
        </p:grpSpPr>
        <p:sp>
          <p:nvSpPr>
            <p:cNvPr id="2033" name=""/>
            <p:cNvSpPr/>
            <p:nvPr/>
          </p:nvSpPr>
          <p:spPr>
            <a:xfrm>
              <a:off x="2362320" y="2133720"/>
              <a:ext cx="909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9880" rIns="29880" tIns="14760" bIns="1476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GS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4" name=""/>
            <p:cNvGrpSpPr/>
            <p:nvPr/>
          </p:nvGrpSpPr>
          <p:grpSpPr>
            <a:xfrm>
              <a:off x="2405880" y="2329200"/>
              <a:ext cx="395280" cy="529200"/>
              <a:chOff x="2405880" y="2329200"/>
              <a:chExt cx="395280" cy="529200"/>
            </a:xfrm>
          </p:grpSpPr>
          <p:sp>
            <p:nvSpPr>
              <p:cNvPr id="2035" name=""/>
              <p:cNvSpPr/>
              <p:nvPr/>
            </p:nvSpPr>
            <p:spPr>
              <a:xfrm>
                <a:off x="2719080" y="2790720"/>
                <a:ext cx="42120" cy="67680"/>
              </a:xfrm>
              <a:custGeom>
                <a:avLst/>
                <a:gdLst/>
                <a:ahLst/>
                <a:rect l="l" t="t" r="r" b="b"/>
                <a:pathLst>
                  <a:path w="33" h="50">
                    <a:moveTo>
                      <a:pt x="0" y="24"/>
                    </a:moveTo>
                    <a:lnTo>
                      <a:pt x="32" y="0"/>
                    </a:lnTo>
                    <a:lnTo>
                      <a:pt x="32" y="24"/>
                    </a:lnTo>
                    <a:lnTo>
                      <a:pt x="0" y="49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410920" y="2367360"/>
                <a:ext cx="344880" cy="4518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720520" y="2363040"/>
                <a:ext cx="0" cy="46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445480" y="2363040"/>
                <a:ext cx="0" cy="46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83360" y="2363040"/>
                <a:ext cx="0" cy="46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646000" y="2367360"/>
                <a:ext cx="29160" cy="568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2761200" y="2329200"/>
                <a:ext cx="39600" cy="496800"/>
              </a:xfrm>
              <a:custGeom>
                <a:avLst/>
                <a:gdLst/>
                <a:ahLst/>
                <a:rect l="l" t="t" r="r" b="b"/>
                <a:pathLst>
                  <a:path w="31" h="366">
                    <a:moveTo>
                      <a:pt x="0" y="24"/>
                    </a:moveTo>
                    <a:lnTo>
                      <a:pt x="30" y="0"/>
                    </a:lnTo>
                    <a:lnTo>
                      <a:pt x="30" y="340"/>
                    </a:lnTo>
                    <a:lnTo>
                      <a:pt x="0" y="365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405880" y="2329200"/>
                <a:ext cx="395280" cy="33840"/>
              </a:xfrm>
              <a:custGeom>
                <a:avLst/>
                <a:gdLst/>
                <a:ahLst/>
                <a:rect l="l" t="t" r="r" b="b"/>
                <a:pathLst>
                  <a:path w="309" h="25">
                    <a:moveTo>
                      <a:pt x="276" y="24"/>
                    </a:moveTo>
                    <a:lnTo>
                      <a:pt x="308" y="0"/>
                    </a:lnTo>
                    <a:lnTo>
                      <a:pt x="30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450520" y="2829960"/>
                <a:ext cx="264600" cy="21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6840" bIns="68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44" name=""/>
          <p:cNvGrpSpPr/>
          <p:nvPr/>
        </p:nvGrpSpPr>
        <p:grpSpPr>
          <a:xfrm>
            <a:off x="3124080" y="2133720"/>
            <a:ext cx="909720" cy="726120"/>
            <a:chOff x="3124080" y="2133720"/>
            <a:chExt cx="909720" cy="726120"/>
          </a:xfrm>
        </p:grpSpPr>
        <p:sp>
          <p:nvSpPr>
            <p:cNvPr id="2045" name=""/>
            <p:cNvSpPr/>
            <p:nvPr/>
          </p:nvSpPr>
          <p:spPr>
            <a:xfrm>
              <a:off x="3124080" y="2133720"/>
              <a:ext cx="9097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9880" rIns="29880" tIns="14760" bIns="1476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GS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6" name=""/>
            <p:cNvGrpSpPr/>
            <p:nvPr/>
          </p:nvGrpSpPr>
          <p:grpSpPr>
            <a:xfrm>
              <a:off x="3167640" y="2329560"/>
              <a:ext cx="396360" cy="530280"/>
              <a:chOff x="3167640" y="2329560"/>
              <a:chExt cx="396360" cy="530280"/>
            </a:xfrm>
          </p:grpSpPr>
          <p:sp>
            <p:nvSpPr>
              <p:cNvPr id="2047" name=""/>
              <p:cNvSpPr/>
              <p:nvPr/>
            </p:nvSpPr>
            <p:spPr>
              <a:xfrm>
                <a:off x="3481560" y="2792160"/>
                <a:ext cx="42120" cy="67680"/>
              </a:xfrm>
              <a:custGeom>
                <a:avLst/>
                <a:gdLst/>
                <a:ahLst/>
                <a:rect l="l" t="t" r="r" b="b"/>
                <a:pathLst>
                  <a:path w="33" h="50">
                    <a:moveTo>
                      <a:pt x="0" y="24"/>
                    </a:moveTo>
                    <a:lnTo>
                      <a:pt x="32" y="0"/>
                    </a:lnTo>
                    <a:lnTo>
                      <a:pt x="32" y="24"/>
                    </a:lnTo>
                    <a:lnTo>
                      <a:pt x="0" y="49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172680" y="2367720"/>
                <a:ext cx="345960" cy="4528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483000" y="2363760"/>
                <a:ext cx="0" cy="46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207240" y="2363760"/>
                <a:ext cx="0" cy="46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345840" y="2363760"/>
                <a:ext cx="0" cy="46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408480" y="2367720"/>
                <a:ext cx="29160" cy="568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524040" y="2329560"/>
                <a:ext cx="39600" cy="497880"/>
              </a:xfrm>
              <a:custGeom>
                <a:avLst/>
                <a:gdLst/>
                <a:ahLst/>
                <a:rect l="l" t="t" r="r" b="b"/>
                <a:pathLst>
                  <a:path w="31" h="366">
                    <a:moveTo>
                      <a:pt x="0" y="24"/>
                    </a:moveTo>
                    <a:lnTo>
                      <a:pt x="30" y="0"/>
                    </a:lnTo>
                    <a:lnTo>
                      <a:pt x="30" y="340"/>
                    </a:lnTo>
                    <a:lnTo>
                      <a:pt x="0" y="365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67640" y="2329560"/>
                <a:ext cx="396360" cy="34200"/>
              </a:xfrm>
              <a:custGeom>
                <a:avLst/>
                <a:gdLst/>
                <a:ahLst/>
                <a:rect l="l" t="t" r="r" b="b"/>
                <a:pathLst>
                  <a:path w="309" h="25">
                    <a:moveTo>
                      <a:pt x="276" y="24"/>
                    </a:moveTo>
                    <a:lnTo>
                      <a:pt x="308" y="0"/>
                    </a:lnTo>
                    <a:lnTo>
                      <a:pt x="30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212280" y="2831400"/>
                <a:ext cx="265320" cy="21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6840" bIns="68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6" name=""/>
          <p:cNvGrpSpPr/>
          <p:nvPr/>
        </p:nvGrpSpPr>
        <p:grpSpPr>
          <a:xfrm>
            <a:off x="1600200" y="2133720"/>
            <a:ext cx="909720" cy="724680"/>
            <a:chOff x="1600200" y="2133720"/>
            <a:chExt cx="909720" cy="724680"/>
          </a:xfrm>
        </p:grpSpPr>
        <p:sp>
          <p:nvSpPr>
            <p:cNvPr id="2057" name=""/>
            <p:cNvSpPr/>
            <p:nvPr/>
          </p:nvSpPr>
          <p:spPr>
            <a:xfrm>
              <a:off x="1600200" y="2133720"/>
              <a:ext cx="9097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9880" rIns="29880" tIns="14760" bIns="1476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W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8" name=""/>
            <p:cNvGrpSpPr/>
            <p:nvPr/>
          </p:nvGrpSpPr>
          <p:grpSpPr>
            <a:xfrm>
              <a:off x="1643760" y="2329200"/>
              <a:ext cx="396360" cy="529200"/>
              <a:chOff x="1643760" y="2329200"/>
              <a:chExt cx="396360" cy="529200"/>
            </a:xfrm>
          </p:grpSpPr>
          <p:sp>
            <p:nvSpPr>
              <p:cNvPr id="2059" name=""/>
              <p:cNvSpPr/>
              <p:nvPr/>
            </p:nvSpPr>
            <p:spPr>
              <a:xfrm>
                <a:off x="1957680" y="2790720"/>
                <a:ext cx="42120" cy="67680"/>
              </a:xfrm>
              <a:custGeom>
                <a:avLst/>
                <a:gdLst/>
                <a:ahLst/>
                <a:rect l="l" t="t" r="r" b="b"/>
                <a:pathLst>
                  <a:path w="33" h="50">
                    <a:moveTo>
                      <a:pt x="0" y="24"/>
                    </a:moveTo>
                    <a:lnTo>
                      <a:pt x="32" y="0"/>
                    </a:lnTo>
                    <a:lnTo>
                      <a:pt x="32" y="24"/>
                    </a:lnTo>
                    <a:lnTo>
                      <a:pt x="0" y="49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648800" y="2367360"/>
                <a:ext cx="345960" cy="4518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1959120" y="2363040"/>
                <a:ext cx="0" cy="46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1683360" y="2363040"/>
                <a:ext cx="0" cy="46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1821960" y="2363040"/>
                <a:ext cx="0" cy="46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1884600" y="2367360"/>
                <a:ext cx="29160" cy="568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000160" y="2329200"/>
                <a:ext cx="39600" cy="496800"/>
              </a:xfrm>
              <a:custGeom>
                <a:avLst/>
                <a:gdLst/>
                <a:ahLst/>
                <a:rect l="l" t="t" r="r" b="b"/>
                <a:pathLst>
                  <a:path w="31" h="366">
                    <a:moveTo>
                      <a:pt x="0" y="24"/>
                    </a:moveTo>
                    <a:lnTo>
                      <a:pt x="30" y="0"/>
                    </a:lnTo>
                    <a:lnTo>
                      <a:pt x="30" y="340"/>
                    </a:lnTo>
                    <a:lnTo>
                      <a:pt x="0" y="365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1643760" y="2329200"/>
                <a:ext cx="396360" cy="33840"/>
              </a:xfrm>
              <a:custGeom>
                <a:avLst/>
                <a:gdLst/>
                <a:ahLst/>
                <a:rect l="l" t="t" r="r" b="b"/>
                <a:pathLst>
                  <a:path w="309" h="25">
                    <a:moveTo>
                      <a:pt x="276" y="24"/>
                    </a:moveTo>
                    <a:lnTo>
                      <a:pt x="308" y="0"/>
                    </a:lnTo>
                    <a:lnTo>
                      <a:pt x="30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1688400" y="2829960"/>
                <a:ext cx="265320" cy="21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6840" bIns="68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8" name=""/>
          <p:cNvSpPr/>
          <p:nvPr/>
        </p:nvSpPr>
        <p:spPr>
          <a:xfrm>
            <a:off x="7110360" y="4343400"/>
            <a:ext cx="1354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-31320" bIns="-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5694480" y="4343400"/>
            <a:ext cx="86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-31320" bIns="-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 flipH="1" flipV="1">
            <a:off x="5409720" y="3657600"/>
            <a:ext cx="11430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6476400" y="3505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f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907280" y="3962520"/>
            <a:ext cx="5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7545240" y="83808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1601640" y="1676520"/>
            <a:ext cx="16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PRS/UM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 flipH="1">
            <a:off x="2590560" y="3581280"/>
            <a:ext cx="190476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 flipH="1">
            <a:off x="5638680" y="2590920"/>
            <a:ext cx="6098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846560" y="4038480"/>
            <a:ext cx="85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8" name=""/>
          <p:cNvGrpSpPr/>
          <p:nvPr/>
        </p:nvGrpSpPr>
        <p:grpSpPr>
          <a:xfrm>
            <a:off x="4343400" y="2895480"/>
            <a:ext cx="1567440" cy="798120"/>
            <a:chOff x="4343400" y="2895480"/>
            <a:chExt cx="1567440" cy="798120"/>
          </a:xfrm>
        </p:grpSpPr>
        <p:grpSp>
          <p:nvGrpSpPr>
            <p:cNvPr id="2079" name=""/>
            <p:cNvGrpSpPr/>
            <p:nvPr/>
          </p:nvGrpSpPr>
          <p:grpSpPr>
            <a:xfrm>
              <a:off x="4343400" y="2895480"/>
              <a:ext cx="1567440" cy="798120"/>
              <a:chOff x="4343400" y="2895480"/>
              <a:chExt cx="1567440" cy="798120"/>
            </a:xfrm>
          </p:grpSpPr>
          <p:grpSp>
            <p:nvGrpSpPr>
              <p:cNvPr id="2080" name=""/>
              <p:cNvGrpSpPr/>
              <p:nvPr/>
            </p:nvGrpSpPr>
            <p:grpSpPr>
              <a:xfrm>
                <a:off x="5264640" y="2967480"/>
                <a:ext cx="646200" cy="690480"/>
                <a:chOff x="5264640" y="2967480"/>
                <a:chExt cx="646200" cy="690480"/>
              </a:xfrm>
            </p:grpSpPr>
            <p:grpSp>
              <p:nvGrpSpPr>
                <p:cNvPr id="2081" name=""/>
                <p:cNvGrpSpPr/>
                <p:nvPr/>
              </p:nvGrpSpPr>
              <p:grpSpPr>
                <a:xfrm>
                  <a:off x="5509080" y="2967480"/>
                  <a:ext cx="401760" cy="556920"/>
                  <a:chOff x="5509080" y="2967480"/>
                  <a:chExt cx="401760" cy="556920"/>
                </a:xfrm>
              </p:grpSpPr>
              <p:grpSp>
                <p:nvGrpSpPr>
                  <p:cNvPr id="2082" name=""/>
                  <p:cNvGrpSpPr/>
                  <p:nvPr/>
                </p:nvGrpSpPr>
                <p:grpSpPr>
                  <a:xfrm>
                    <a:off x="5617440" y="3039120"/>
                    <a:ext cx="293400" cy="412920"/>
                    <a:chOff x="5617440" y="3039120"/>
                    <a:chExt cx="293400" cy="412920"/>
                  </a:xfrm>
                </p:grpSpPr>
                <p:grpSp>
                  <p:nvGrpSpPr>
                    <p:cNvPr id="2083" name=""/>
                    <p:cNvGrpSpPr/>
                    <p:nvPr/>
                  </p:nvGrpSpPr>
                  <p:grpSpPr>
                    <a:xfrm>
                      <a:off x="5617440" y="3039120"/>
                      <a:ext cx="293400" cy="412920"/>
                      <a:chOff x="5617440" y="3039120"/>
                      <a:chExt cx="293400" cy="412920"/>
                    </a:xfrm>
                  </p:grpSpPr>
                  <p:grpSp>
                    <p:nvGrpSpPr>
                      <p:cNvPr id="2084" name=""/>
                      <p:cNvGrpSpPr/>
                      <p:nvPr/>
                    </p:nvGrpSpPr>
                    <p:grpSpPr>
                      <a:xfrm>
                        <a:off x="5685120" y="3065040"/>
                        <a:ext cx="225720" cy="332280"/>
                        <a:chOff x="5685120" y="3065040"/>
                        <a:chExt cx="225720" cy="332280"/>
                      </a:xfrm>
                    </p:grpSpPr>
                    <p:grpSp>
                      <p:nvGrpSpPr>
                        <p:cNvPr id="2085" name=""/>
                        <p:cNvGrpSpPr/>
                        <p:nvPr/>
                      </p:nvGrpSpPr>
                      <p:grpSpPr>
                        <a:xfrm>
                          <a:off x="5714280" y="3065040"/>
                          <a:ext cx="196560" cy="332280"/>
                          <a:chOff x="5714280" y="3065040"/>
                          <a:chExt cx="196560" cy="332280"/>
                        </a:xfrm>
                      </p:grpSpPr>
                      <p:sp>
                        <p:nvSpPr>
                          <p:cNvPr id="2086" name=""/>
                          <p:cNvSpPr/>
                          <p:nvPr/>
                        </p:nvSpPr>
                        <p:spPr>
                          <a:xfrm>
                            <a:off x="5811480" y="3261240"/>
                            <a:ext cx="99360" cy="9216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8720" bIns="18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87" name=""/>
                          <p:cNvSpPr/>
                          <p:nvPr/>
                        </p:nvSpPr>
                        <p:spPr>
                          <a:xfrm>
                            <a:off x="5733360" y="3278880"/>
                            <a:ext cx="128520" cy="11844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7080" bIns="37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88" name=""/>
                          <p:cNvSpPr/>
                          <p:nvPr/>
                        </p:nvSpPr>
                        <p:spPr>
                          <a:xfrm>
                            <a:off x="5792760" y="3136680"/>
                            <a:ext cx="88560" cy="9216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8720" bIns="18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89" name=""/>
                          <p:cNvSpPr/>
                          <p:nvPr/>
                        </p:nvSpPr>
                        <p:spPr>
                          <a:xfrm>
                            <a:off x="5714280" y="3065040"/>
                            <a:ext cx="118080" cy="11844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7080" bIns="37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90" name=""/>
                          <p:cNvSpPr/>
                          <p:nvPr/>
                        </p:nvSpPr>
                        <p:spPr>
                          <a:xfrm>
                            <a:off x="5789160" y="3133800"/>
                            <a:ext cx="88560" cy="196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1" h="134">
                                <a:moveTo>
                                  <a:pt x="50" y="133"/>
                                </a:moveTo>
                                <a:lnTo>
                                  <a:pt x="28" y="133"/>
                                </a:lnTo>
                                <a:lnTo>
                                  <a:pt x="0" y="0"/>
                                </a:lnTo>
                                <a:lnTo>
                                  <a:pt x="28" y="12"/>
                                </a:lnTo>
                                <a:lnTo>
                                  <a:pt x="33" y="79"/>
                                </a:lnTo>
                                <a:lnTo>
                                  <a:pt x="50" y="133"/>
                                </a:lnTo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091" name=""/>
                        <p:cNvSpPr/>
                        <p:nvPr/>
                      </p:nvSpPr>
                      <p:spPr>
                        <a:xfrm>
                          <a:off x="5685120" y="3162960"/>
                          <a:ext cx="177120" cy="1627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d5e9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2" name=""/>
                        <p:cNvSpPr/>
                        <p:nvPr/>
                      </p:nvSpPr>
                      <p:spPr>
                        <a:xfrm>
                          <a:off x="5685120" y="3261240"/>
                          <a:ext cx="128520" cy="11844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d5e9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7080" bIns="37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3" name=""/>
                        <p:cNvSpPr/>
                        <p:nvPr/>
                      </p:nvSpPr>
                      <p:spPr>
                        <a:xfrm>
                          <a:off x="5719680" y="3114720"/>
                          <a:ext cx="90360" cy="206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" h="141">
                              <a:moveTo>
                                <a:pt x="51" y="24"/>
                              </a:moveTo>
                              <a:lnTo>
                                <a:pt x="45" y="55"/>
                              </a:lnTo>
                              <a:lnTo>
                                <a:pt x="51" y="122"/>
                              </a:lnTo>
                              <a:lnTo>
                                <a:pt x="34" y="140"/>
                              </a:lnTo>
                              <a:lnTo>
                                <a:pt x="0" y="61"/>
                              </a:lnTo>
                              <a:lnTo>
                                <a:pt x="28" y="0"/>
                              </a:lnTo>
                              <a:lnTo>
                                <a:pt x="51" y="24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5e9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094" name=""/>
                      <p:cNvSpPr/>
                      <p:nvPr/>
                    </p:nvSpPr>
                    <p:spPr>
                      <a:xfrm>
                        <a:off x="5685120" y="3359880"/>
                        <a:ext cx="99000" cy="921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5e9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720" bIns="18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5" name=""/>
                      <p:cNvSpPr/>
                      <p:nvPr/>
                    </p:nvSpPr>
                    <p:spPr>
                      <a:xfrm>
                        <a:off x="5617440" y="3039120"/>
                        <a:ext cx="119880" cy="118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5e9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7080" bIns="37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6" name=""/>
                      <p:cNvSpPr/>
                      <p:nvPr/>
                    </p:nvSpPr>
                    <p:spPr>
                      <a:xfrm>
                        <a:off x="5711400" y="3330720"/>
                        <a:ext cx="69480" cy="4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31">
                            <a:moveTo>
                              <a:pt x="39" y="18"/>
                            </a:moveTo>
                            <a:lnTo>
                              <a:pt x="28" y="30"/>
                            </a:lnTo>
                            <a:lnTo>
                              <a:pt x="0" y="18"/>
                            </a:lnTo>
                            <a:lnTo>
                              <a:pt x="28" y="0"/>
                            </a:lnTo>
                            <a:lnTo>
                              <a:pt x="39" y="18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5e9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97" name=""/>
                    <p:cNvSpPr/>
                    <p:nvPr/>
                  </p:nvSpPr>
                  <p:spPr>
                    <a:xfrm>
                      <a:off x="5700600" y="3090240"/>
                      <a:ext cx="4176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49">
                          <a:moveTo>
                            <a:pt x="11" y="0"/>
                          </a:moveTo>
                          <a:lnTo>
                            <a:pt x="23" y="6"/>
                          </a:lnTo>
                          <a:lnTo>
                            <a:pt x="23" y="48"/>
                          </a:lnTo>
                          <a:lnTo>
                            <a:pt x="0" y="4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8" name=""/>
                  <p:cNvGrpSpPr/>
                  <p:nvPr/>
                </p:nvGrpSpPr>
                <p:grpSpPr>
                  <a:xfrm>
                    <a:off x="5509080" y="2967480"/>
                    <a:ext cx="275400" cy="502560"/>
                    <a:chOff x="5509080" y="2967480"/>
                    <a:chExt cx="275400" cy="502560"/>
                  </a:xfrm>
                </p:grpSpPr>
                <p:sp>
                  <p:nvSpPr>
                    <p:cNvPr id="2099" name=""/>
                    <p:cNvSpPr/>
                    <p:nvPr/>
                  </p:nvSpPr>
                  <p:spPr>
                    <a:xfrm>
                      <a:off x="5538600" y="3261960"/>
                      <a:ext cx="226440" cy="208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0" name=""/>
                    <p:cNvSpPr/>
                    <p:nvPr/>
                  </p:nvSpPr>
                  <p:spPr>
                    <a:xfrm>
                      <a:off x="5558040" y="3118320"/>
                      <a:ext cx="226440" cy="20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1" name=""/>
                    <p:cNvSpPr/>
                    <p:nvPr/>
                  </p:nvSpPr>
                  <p:spPr>
                    <a:xfrm>
                      <a:off x="5509080" y="2967480"/>
                      <a:ext cx="177840" cy="163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2" name=""/>
                    <p:cNvSpPr/>
                    <p:nvPr/>
                  </p:nvSpPr>
                  <p:spPr>
                    <a:xfrm>
                      <a:off x="5615280" y="3065400"/>
                      <a:ext cx="90360" cy="92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720" bIns="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3" name=""/>
                    <p:cNvSpPr/>
                    <p:nvPr/>
                  </p:nvSpPr>
                  <p:spPr>
                    <a:xfrm>
                      <a:off x="5554440" y="3044880"/>
                      <a:ext cx="156960" cy="18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" h="129">
                          <a:moveTo>
                            <a:pt x="61" y="6"/>
                          </a:moveTo>
                          <a:lnTo>
                            <a:pt x="61" y="18"/>
                          </a:lnTo>
                          <a:lnTo>
                            <a:pt x="83" y="49"/>
                          </a:lnTo>
                          <a:lnTo>
                            <a:pt x="89" y="55"/>
                          </a:lnTo>
                          <a:lnTo>
                            <a:pt x="56" y="128"/>
                          </a:lnTo>
                          <a:lnTo>
                            <a:pt x="0" y="0"/>
                          </a:lnTo>
                          <a:lnTo>
                            <a:pt x="61" y="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4" name=""/>
                    <p:cNvSpPr/>
                    <p:nvPr/>
                  </p:nvSpPr>
                  <p:spPr>
                    <a:xfrm>
                      <a:off x="5632560" y="3294360"/>
                      <a:ext cx="97560" cy="6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44">
                          <a:moveTo>
                            <a:pt x="49" y="6"/>
                          </a:moveTo>
                          <a:lnTo>
                            <a:pt x="55" y="18"/>
                          </a:lnTo>
                          <a:lnTo>
                            <a:pt x="0" y="43"/>
                          </a:lnTo>
                          <a:lnTo>
                            <a:pt x="0" y="0"/>
                          </a:lnTo>
                          <a:lnTo>
                            <a:pt x="49" y="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05" name=""/>
                  <p:cNvSpPr/>
                  <p:nvPr/>
                </p:nvSpPr>
                <p:spPr>
                  <a:xfrm>
                    <a:off x="5509080" y="3405960"/>
                    <a:ext cx="120240" cy="118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6" name=""/>
                  <p:cNvSpPr/>
                  <p:nvPr/>
                </p:nvSpPr>
                <p:spPr>
                  <a:xfrm>
                    <a:off x="5584320" y="3394080"/>
                    <a:ext cx="694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3">
                        <a:moveTo>
                          <a:pt x="17" y="42"/>
                        </a:moveTo>
                        <a:lnTo>
                          <a:pt x="39" y="30"/>
                        </a:lnTo>
                        <a:lnTo>
                          <a:pt x="11" y="0"/>
                        </a:lnTo>
                        <a:lnTo>
                          <a:pt x="0" y="12"/>
                        </a:lnTo>
                        <a:lnTo>
                          <a:pt x="17" y="4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07" name=""/>
                <p:cNvSpPr/>
                <p:nvPr/>
              </p:nvSpPr>
              <p:spPr>
                <a:xfrm>
                  <a:off x="5264640" y="3511800"/>
                  <a:ext cx="150120" cy="14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5381280" y="3511800"/>
                  <a:ext cx="13104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5449680" y="3476520"/>
                  <a:ext cx="131040" cy="11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5348160" y="3456000"/>
                  <a:ext cx="246240" cy="162720"/>
                </a:xfrm>
                <a:custGeom>
                  <a:avLst/>
                  <a:gdLst/>
                  <a:ahLst/>
                  <a:rect l="l" t="t" r="r" b="b"/>
                  <a:pathLst>
                    <a:path w="141" h="111">
                      <a:moveTo>
                        <a:pt x="134" y="31"/>
                      </a:moveTo>
                      <a:lnTo>
                        <a:pt x="118" y="37"/>
                      </a:lnTo>
                      <a:lnTo>
                        <a:pt x="78" y="79"/>
                      </a:lnTo>
                      <a:lnTo>
                        <a:pt x="73" y="98"/>
                      </a:lnTo>
                      <a:lnTo>
                        <a:pt x="28" y="98"/>
                      </a:lnTo>
                      <a:lnTo>
                        <a:pt x="22" y="110"/>
                      </a:lnTo>
                      <a:lnTo>
                        <a:pt x="0" y="73"/>
                      </a:lnTo>
                      <a:lnTo>
                        <a:pt x="95" y="0"/>
                      </a:lnTo>
                      <a:lnTo>
                        <a:pt x="140" y="18"/>
                      </a:lnTo>
                      <a:lnTo>
                        <a:pt x="134" y="31"/>
                      </a:lnTo>
                    </a:path>
                  </a:pathLst>
                </a:cu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1" name=""/>
              <p:cNvGrpSpPr/>
              <p:nvPr/>
            </p:nvGrpSpPr>
            <p:grpSpPr>
              <a:xfrm>
                <a:off x="4343400" y="2976120"/>
                <a:ext cx="393840" cy="476280"/>
                <a:chOff x="4343400" y="2976120"/>
                <a:chExt cx="393840" cy="476280"/>
              </a:xfrm>
            </p:grpSpPr>
            <p:grpSp>
              <p:nvGrpSpPr>
                <p:cNvPr id="2112" name=""/>
                <p:cNvGrpSpPr/>
                <p:nvPr/>
              </p:nvGrpSpPr>
              <p:grpSpPr>
                <a:xfrm>
                  <a:off x="4343400" y="3039120"/>
                  <a:ext cx="217800" cy="288360"/>
                  <a:chOff x="4343400" y="3039120"/>
                  <a:chExt cx="217800" cy="288360"/>
                </a:xfrm>
              </p:grpSpPr>
              <p:sp>
                <p:nvSpPr>
                  <p:cNvPr id="2113" name=""/>
                  <p:cNvSpPr/>
                  <p:nvPr/>
                </p:nvSpPr>
                <p:spPr>
                  <a:xfrm>
                    <a:off x="4343400" y="3137040"/>
                    <a:ext cx="101160" cy="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>
                    <a:off x="4362120" y="3209040"/>
                    <a:ext cx="120600" cy="118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5" name=""/>
                  <p:cNvSpPr/>
                  <p:nvPr/>
                </p:nvSpPr>
                <p:spPr>
                  <a:xfrm>
                    <a:off x="4381560" y="3039120"/>
                    <a:ext cx="179640" cy="17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6" name=""/>
                  <p:cNvSpPr/>
                  <p:nvPr/>
                </p:nvSpPr>
                <p:spPr>
                  <a:xfrm>
                    <a:off x="4369320" y="3143160"/>
                    <a:ext cx="6948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68">
                        <a:moveTo>
                          <a:pt x="22" y="0"/>
                        </a:moveTo>
                        <a:lnTo>
                          <a:pt x="0" y="12"/>
                        </a:lnTo>
                        <a:lnTo>
                          <a:pt x="0" y="55"/>
                        </a:lnTo>
                        <a:lnTo>
                          <a:pt x="11" y="67"/>
                        </a:lnTo>
                        <a:lnTo>
                          <a:pt x="39" y="55"/>
                        </a:lnTo>
                        <a:lnTo>
                          <a:pt x="22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7" name=""/>
                <p:cNvGrpSpPr/>
                <p:nvPr/>
              </p:nvGrpSpPr>
              <p:grpSpPr>
                <a:xfrm>
                  <a:off x="4411440" y="2976120"/>
                  <a:ext cx="325800" cy="476280"/>
                  <a:chOff x="4411440" y="2976120"/>
                  <a:chExt cx="325800" cy="476280"/>
                </a:xfrm>
              </p:grpSpPr>
              <p:sp>
                <p:nvSpPr>
                  <p:cNvPr id="2118" name=""/>
                  <p:cNvSpPr/>
                  <p:nvPr/>
                </p:nvSpPr>
                <p:spPr>
                  <a:xfrm>
                    <a:off x="4519440" y="2993400"/>
                    <a:ext cx="217800" cy="218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9" name=""/>
                  <p:cNvSpPr/>
                  <p:nvPr/>
                </p:nvSpPr>
                <p:spPr>
                  <a:xfrm>
                    <a:off x="4411440" y="3137400"/>
                    <a:ext cx="120240" cy="118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0" name=""/>
                  <p:cNvSpPr/>
                  <p:nvPr/>
                </p:nvSpPr>
                <p:spPr>
                  <a:xfrm>
                    <a:off x="4440960" y="3207960"/>
                    <a:ext cx="169200" cy="17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1" name=""/>
                  <p:cNvSpPr/>
                  <p:nvPr/>
                </p:nvSpPr>
                <p:spPr>
                  <a:xfrm>
                    <a:off x="4489560" y="3279600"/>
                    <a:ext cx="179640" cy="17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2" name=""/>
                  <p:cNvSpPr/>
                  <p:nvPr/>
                </p:nvSpPr>
                <p:spPr>
                  <a:xfrm>
                    <a:off x="4500360" y="3091680"/>
                    <a:ext cx="158400" cy="146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3" name=""/>
                  <p:cNvSpPr/>
                  <p:nvPr/>
                </p:nvSpPr>
                <p:spPr>
                  <a:xfrm>
                    <a:off x="4627800" y="2976120"/>
                    <a:ext cx="99000" cy="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4" name=""/>
                  <p:cNvSpPr/>
                  <p:nvPr/>
                </p:nvSpPr>
                <p:spPr>
                  <a:xfrm>
                    <a:off x="4545360" y="3062520"/>
                    <a:ext cx="11844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12"/>
                        </a:moveTo>
                        <a:lnTo>
                          <a:pt x="11" y="37"/>
                        </a:lnTo>
                        <a:lnTo>
                          <a:pt x="67" y="55"/>
                        </a:lnTo>
                        <a:lnTo>
                          <a:pt x="67" y="18"/>
                        </a:lnTo>
                        <a:lnTo>
                          <a:pt x="6" y="0"/>
                        </a:lnTo>
                        <a:lnTo>
                          <a:pt x="0" y="1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>
                    <a:off x="4446000" y="3187080"/>
                    <a:ext cx="1306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05">
                        <a:moveTo>
                          <a:pt x="46" y="0"/>
                        </a:moveTo>
                        <a:lnTo>
                          <a:pt x="0" y="24"/>
                        </a:lnTo>
                        <a:lnTo>
                          <a:pt x="17" y="49"/>
                        </a:lnTo>
                        <a:lnTo>
                          <a:pt x="17" y="98"/>
                        </a:lnTo>
                        <a:lnTo>
                          <a:pt x="28" y="104"/>
                        </a:lnTo>
                        <a:lnTo>
                          <a:pt x="68" y="73"/>
                        </a:lnTo>
                        <a:lnTo>
                          <a:pt x="74" y="12"/>
                        </a:lnTo>
                        <a:lnTo>
                          <a:pt x="4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6" name=""/>
                <p:cNvSpPr/>
                <p:nvPr/>
              </p:nvSpPr>
              <p:spPr>
                <a:xfrm>
                  <a:off x="4613760" y="3016800"/>
                  <a:ext cx="80280" cy="82080"/>
                </a:xfrm>
                <a:custGeom>
                  <a:avLst/>
                  <a:gdLst/>
                  <a:ahLst/>
                  <a:rect l="l" t="t" r="r" b="b"/>
                  <a:pathLst>
                    <a:path w="46" h="56">
                      <a:moveTo>
                        <a:pt x="0" y="31"/>
                      </a:moveTo>
                      <a:lnTo>
                        <a:pt x="22" y="0"/>
                      </a:lnTo>
                      <a:lnTo>
                        <a:pt x="45" y="31"/>
                      </a:lnTo>
                      <a:lnTo>
                        <a:pt x="22" y="55"/>
                      </a:lnTo>
                      <a:lnTo>
                        <a:pt x="0" y="31"/>
                      </a:lnTo>
                    </a:path>
                  </a:pathLst>
                </a:cu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7" name=""/>
              <p:cNvGrpSpPr/>
              <p:nvPr/>
            </p:nvGrpSpPr>
            <p:grpSpPr>
              <a:xfrm>
                <a:off x="4539240" y="2895480"/>
                <a:ext cx="1148040" cy="798120"/>
                <a:chOff x="4539240" y="2895480"/>
                <a:chExt cx="1148040" cy="798120"/>
              </a:xfrm>
            </p:grpSpPr>
            <p:sp>
              <p:nvSpPr>
                <p:cNvPr id="2128" name=""/>
                <p:cNvSpPr/>
                <p:nvPr/>
              </p:nvSpPr>
              <p:spPr>
                <a:xfrm>
                  <a:off x="4891680" y="2921760"/>
                  <a:ext cx="286920" cy="26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5126040" y="2895480"/>
                  <a:ext cx="22896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5332680" y="3118680"/>
                  <a:ext cx="354600" cy="33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4666680" y="3262320"/>
                  <a:ext cx="403200" cy="38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5223960" y="3306240"/>
                  <a:ext cx="306000" cy="2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4568760" y="3332880"/>
                  <a:ext cx="218160" cy="21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4539240" y="3164040"/>
                  <a:ext cx="22680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4636800" y="2967480"/>
                  <a:ext cx="354600" cy="34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4949640" y="3360600"/>
                  <a:ext cx="356400" cy="33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5381280" y="2993760"/>
                  <a:ext cx="276120" cy="26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5302800" y="2895480"/>
                  <a:ext cx="256680" cy="23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4622760" y="2955600"/>
                  <a:ext cx="1001520" cy="635400"/>
                </a:xfrm>
                <a:custGeom>
                  <a:avLst/>
                  <a:gdLst/>
                  <a:ahLst/>
                  <a:rect l="l" t="t" r="r" b="b"/>
                  <a:pathLst>
                    <a:path w="573" h="433">
                      <a:moveTo>
                        <a:pt x="179" y="43"/>
                      </a:moveTo>
                      <a:lnTo>
                        <a:pt x="202" y="12"/>
                      </a:lnTo>
                      <a:lnTo>
                        <a:pt x="308" y="12"/>
                      </a:lnTo>
                      <a:lnTo>
                        <a:pt x="381" y="0"/>
                      </a:lnTo>
                      <a:lnTo>
                        <a:pt x="477" y="55"/>
                      </a:lnTo>
                      <a:lnTo>
                        <a:pt x="527" y="37"/>
                      </a:lnTo>
                      <a:lnTo>
                        <a:pt x="550" y="43"/>
                      </a:lnTo>
                      <a:lnTo>
                        <a:pt x="555" y="170"/>
                      </a:lnTo>
                      <a:lnTo>
                        <a:pt x="572" y="195"/>
                      </a:lnTo>
                      <a:lnTo>
                        <a:pt x="527" y="292"/>
                      </a:lnTo>
                      <a:lnTo>
                        <a:pt x="477" y="219"/>
                      </a:lnTo>
                      <a:lnTo>
                        <a:pt x="465" y="256"/>
                      </a:lnTo>
                      <a:lnTo>
                        <a:pt x="398" y="395"/>
                      </a:lnTo>
                      <a:lnTo>
                        <a:pt x="174" y="432"/>
                      </a:lnTo>
                      <a:lnTo>
                        <a:pt x="56" y="402"/>
                      </a:lnTo>
                      <a:lnTo>
                        <a:pt x="22" y="316"/>
                      </a:lnTo>
                      <a:lnTo>
                        <a:pt x="22" y="231"/>
                      </a:lnTo>
                      <a:lnTo>
                        <a:pt x="0" y="164"/>
                      </a:lnTo>
                      <a:lnTo>
                        <a:pt x="179" y="43"/>
                      </a:lnTo>
                    </a:path>
                  </a:pathLst>
                </a:cu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0" name=""/>
            <p:cNvSpPr/>
            <p:nvPr/>
          </p:nvSpPr>
          <p:spPr>
            <a:xfrm>
              <a:off x="4617360" y="3108600"/>
              <a:ext cx="93384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41" name="" descr=""/>
          <p:cNvPicPr/>
          <p:nvPr/>
        </p:nvPicPr>
        <p:blipFill>
          <a:blip r:embed="rId1"/>
          <a:stretch/>
        </p:blipFill>
        <p:spPr>
          <a:xfrm>
            <a:off x="5791320" y="3581280"/>
            <a:ext cx="436320" cy="609840"/>
          </a:xfrm>
          <a:prstGeom prst="rect">
            <a:avLst/>
          </a:prstGeom>
          <a:ln w="0">
            <a:noFill/>
          </a:ln>
        </p:spPr>
      </p:pic>
      <p:grpSp>
        <p:nvGrpSpPr>
          <p:cNvPr id="2142" name=""/>
          <p:cNvGrpSpPr/>
          <p:nvPr/>
        </p:nvGrpSpPr>
        <p:grpSpPr>
          <a:xfrm>
            <a:off x="6705720" y="4648320"/>
            <a:ext cx="1294920" cy="685440"/>
            <a:chOff x="6705720" y="4648320"/>
            <a:chExt cx="1294920" cy="685440"/>
          </a:xfrm>
        </p:grpSpPr>
        <p:grpSp>
          <p:nvGrpSpPr>
            <p:cNvPr id="2143" name=""/>
            <p:cNvGrpSpPr/>
            <p:nvPr/>
          </p:nvGrpSpPr>
          <p:grpSpPr>
            <a:xfrm>
              <a:off x="6705720" y="4648320"/>
              <a:ext cx="1005480" cy="685440"/>
              <a:chOff x="6705720" y="4648320"/>
              <a:chExt cx="1005480" cy="685440"/>
            </a:xfrm>
          </p:grpSpPr>
          <p:sp>
            <p:nvSpPr>
              <p:cNvPr id="2144" name=""/>
              <p:cNvSpPr/>
              <p:nvPr/>
            </p:nvSpPr>
            <p:spPr>
              <a:xfrm>
                <a:off x="7349400" y="4648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341120" y="4648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7331760" y="4648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5"/>
                    </a:moveTo>
                    <a:lnTo>
                      <a:pt x="6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7323480" y="4648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314840" y="4648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305840" y="4648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296120" y="4648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286760" y="4648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277400" y="4651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7268040" y="4651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258680" y="4651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250400" y="4652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240680" y="4652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7231680" y="4652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7221960" y="46551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7212600" y="46551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203600" y="46569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194960" y="4659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185600" y="4659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176240" y="46609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7166880" y="4660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7157520" y="46638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148160" y="46652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7139880" y="4668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7130160" y="4668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7120800" y="4669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7111440" y="4671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102080" y="46738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092720" y="4675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084440" y="46782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075080" y="4679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066800" y="46821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7058520" y="46836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7048800" y="4686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7039440" y="4690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7030080" y="46922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7020720" y="46951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7011360" y="46994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7003800" y="4700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6994800" y="47052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6985080" y="47077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6975720" y="47106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6967440" y="4713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6959160" y="4717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6949800" y="47221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941520" y="47235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6932160" y="4727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923880" y="47318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6915600" y="47365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905880" y="4740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897600" y="474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888240" y="47505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881040" y="4754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871320" y="4759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864120" y="4766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6854760" y="4770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847560" y="4776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6838200" y="47804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6830640" y="4787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6822360" y="4793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6813000" y="4799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6805800" y="48063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6798600" y="4811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6789960" y="4818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6782760" y="4827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6774480" y="4833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769080" y="4841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760800" y="48499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754680" y="485892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747480" y="48672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741000" y="4874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734880" y="48859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730560" y="489564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724440" y="49071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719400" y="49172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715080" y="49269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711840" y="49384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708600" y="49496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707520" y="49626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705720" y="4975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705720" y="49881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705720" y="50011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707520" y="50137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708600" y="50252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711840" y="5036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715080" y="50493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719400" y="50594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725520" y="5069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730560" y="50806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734880" y="5090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741000" y="5099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748200" y="5109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754680" y="5117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760800" y="5126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769080" y="5134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76640" y="5141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782760" y="5148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789960" y="51559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798600" y="5164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805800" y="5170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813000" y="51775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6822360" y="51829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6830640" y="5188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6838200" y="5195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6847560" y="52002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6854760" y="52059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864120" y="5210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6871320" y="52171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881040" y="5220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6888240" y="5224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6897600" y="52315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6905880" y="5235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915600" y="52401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923880" y="52441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932160" y="5248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941520" y="524988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949800" y="52542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959160" y="52585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967440" y="52628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6975720" y="52642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985080" y="52686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994800" y="52714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7003800" y="52754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011360" y="5276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020720" y="528120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7030080" y="52840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039440" y="52855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048800" y="52884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058520" y="52927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7066800" y="5293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075080" y="5297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084440" y="5298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092720" y="5299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102080" y="53028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111440" y="5303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120800" y="53067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130160" y="5308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139880" y="5308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148160" y="5311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157520" y="53125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166880" y="5315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176240" y="53154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185600" y="531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194960" y="531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203600" y="53197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212600" y="5321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221960" y="5321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231680" y="5324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240680" y="5324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250400" y="5324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258680" y="532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268040" y="532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277400" y="532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28676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29612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30584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31484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323480" y="5328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332480" y="5328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34220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35156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736092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37028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378560" y="53280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387920" y="5328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39764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40700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41600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423560" y="532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432920" y="5325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442280" y="5325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451640" y="5324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459920" y="53240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469280" y="53240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479000" y="5321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488000" y="5321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497720" y="53197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507080" y="531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516440" y="531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524720" y="5315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534080" y="5315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543440" y="53125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552800" y="53110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562520" y="5308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571520" y="5308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580160" y="53067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589520" y="5303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598880" y="53028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608240" y="52999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617600" y="5298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626960" y="5297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634520" y="5293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643880" y="52927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652880" y="52884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661520" y="52855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670880" y="5284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680240" y="528120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689600" y="5276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698960" y="52754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706160" y="52714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7715880" y="52686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725240" y="5264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734600" y="52628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742160" y="5258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751520" y="52542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760880" y="524988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770240" y="52484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777440" y="52441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786800" y="524016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7796160" y="5235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803720" y="5231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813080" y="5224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820280" y="52200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7829640" y="5217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7836840" y="52102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7846560" y="52059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854840" y="52002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863120" y="51958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7871400" y="51886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878960" y="51829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887960" y="51775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7895520" y="51703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903800" y="51645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911000" y="51559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7918200" y="51487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924680" y="51418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932960" y="51346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940520" y="5126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946640" y="5117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952760" y="51091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7960320" y="50990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966440" y="50907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971480" y="50806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976880" y="50691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981920" y="505944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986240" y="50493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989480" y="50364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992360" y="50252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7994520" y="50137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995600" y="50011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995600" y="49881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995600" y="4975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994520" y="49626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992360" y="49496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7989480" y="493848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986240" y="4926960"/>
              <a:ext cx="50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981920" y="491724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976880" y="49071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7971480" y="489564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966440" y="48859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960320" y="48744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7953840" y="48672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946640" y="48589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940520" y="48499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7932960" y="48416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926840" y="4833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918200" y="48276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911000" y="48189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903800" y="48117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7895520" y="48063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887960" y="4799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878960" y="47934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871400" y="47876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863120" y="47804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854840" y="47761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846560" y="47703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836840" y="47660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829640" y="4759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820280" y="4754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813080" y="47505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803720" y="47448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7796160" y="47408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786800" y="47365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777440" y="47318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770240" y="47278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760880" y="47235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7751520" y="4722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7742160" y="47178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7734600" y="4713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725240" y="47106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7715880" y="47077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706520" y="47052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697160" y="4700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7689960" y="46994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680600" y="46951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670880" y="46922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661880" y="46908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653240" y="4686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643880" y="46836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634520" y="46821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627320" y="4679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7617600" y="46782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608600" y="4675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598880" y="46738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589520" y="46710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7580520" y="46695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571880" y="4668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562520" y="4668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553160" y="46652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543800" y="46638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534440" y="46609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525080" y="46609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516800" y="4659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507080" y="4659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497720" y="46569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488360" y="46551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479000" y="46551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469640" y="46522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460280" y="46522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452000" y="4652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442280" y="46512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7433280" y="46512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7423560" y="46512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7414200" y="46483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404840" y="46483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396560" y="4648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7387200" y="4648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377840" y="464832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368120" y="464832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359120" y="464832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7351560" y="4648320"/>
              <a:ext cx="2880" cy="68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5" name=""/>
          <p:cNvSpPr/>
          <p:nvPr/>
        </p:nvSpPr>
        <p:spPr>
          <a:xfrm flipV="1">
            <a:off x="7543800" y="4343040"/>
            <a:ext cx="30780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2590920" y="4724280"/>
            <a:ext cx="135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-31320" bIns="-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1174680" y="4724280"/>
            <a:ext cx="86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-31320" bIns="-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8" name=""/>
          <p:cNvGrpSpPr/>
          <p:nvPr/>
        </p:nvGrpSpPr>
        <p:grpSpPr>
          <a:xfrm>
            <a:off x="2414520" y="5029200"/>
            <a:ext cx="1295280" cy="685440"/>
            <a:chOff x="2414520" y="5029200"/>
            <a:chExt cx="1295280" cy="685440"/>
          </a:xfrm>
        </p:grpSpPr>
        <p:grpSp>
          <p:nvGrpSpPr>
            <p:cNvPr id="2469" name=""/>
            <p:cNvGrpSpPr/>
            <p:nvPr/>
          </p:nvGrpSpPr>
          <p:grpSpPr>
            <a:xfrm>
              <a:off x="2414520" y="5029200"/>
              <a:ext cx="1005840" cy="685440"/>
              <a:chOff x="2414520" y="5029200"/>
              <a:chExt cx="1005840" cy="685440"/>
            </a:xfrm>
          </p:grpSpPr>
          <p:sp>
            <p:nvSpPr>
              <p:cNvPr id="2470" name=""/>
              <p:cNvSpPr/>
              <p:nvPr/>
            </p:nvSpPr>
            <p:spPr>
              <a:xfrm>
                <a:off x="3058560" y="5029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3050280" y="5029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3040560" y="5029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5"/>
                    </a:moveTo>
                    <a:lnTo>
                      <a:pt x="6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3032280" y="5029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3024000" y="5029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3014640" y="5029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3005280" y="5029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2995560" y="5029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2986560" y="5032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2977200" y="5032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2967480" y="5032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2959200" y="5033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2949840" y="5033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2940480" y="5033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2931120" y="5036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2921760" y="5036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2912400" y="50378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2903760" y="5040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2894760" y="5040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2885040" y="50418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2875680" y="50418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2866320" y="50446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2856960" y="50461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2848680" y="5049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2839320" y="5049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2829960" y="5050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2820600" y="5051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2811240" y="50547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2801520" y="5056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2793240" y="50590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2783880" y="5060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2775600" y="5063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2767320" y="50644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2757960" y="5067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2748240" y="5071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2739240" y="5073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2729520" y="50760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2720160" y="50803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2712960" y="5081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2703600" y="50860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2694240" y="50886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2684520" y="50914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2676240" y="5094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2667960" y="50986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2658600" y="5103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2650320" y="51044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2640960" y="5108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2632680" y="51127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2624400" y="5117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2614680" y="5121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2606400" y="51256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2597040" y="51314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2589840" y="5135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2580120" y="51400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2572920" y="5146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2563560" y="51512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2556360" y="5157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2547000" y="5161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2539440" y="51685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2531160" y="5174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2521800" y="5180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2514600" y="51872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2507400" y="51926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2498760" y="51998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2491920" y="52084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2483280" y="5213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2477880" y="52225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2469600" y="5230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2463480" y="523980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2456280" y="52480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2449800" y="5255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2443680" y="52668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2439360" y="527652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2433240" y="5288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2428200" y="52981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2423880" y="530784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2420640" y="53193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2417400" y="53305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2416320" y="53434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2414520" y="53560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2414520" y="5369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2414520" y="53820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2416320" y="53946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2417400" y="5406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2420640" y="5417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2423880" y="54302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2428200" y="54403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2434320" y="5450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2439360" y="54615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2443680" y="54716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2449800" y="5479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2457360" y="5490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2463480" y="5498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2469600" y="55072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2477880" y="55155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485440" y="55227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2491920" y="55296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2498760" y="5536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2507400" y="5545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2514600" y="5551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521800" y="55584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2531160" y="5563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2539440" y="55695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2547000" y="55767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2556360" y="55810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2563560" y="558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2572920" y="5591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2580120" y="5598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2589840" y="5600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2597040" y="5605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2606400" y="5612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2614680" y="5616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2624400" y="5621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2632680" y="56250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2640960" y="56293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2650320" y="56307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2658600" y="56350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2667960" y="5639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2676240" y="56437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2684520" y="5645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2694240" y="56494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2703600" y="56523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2712960" y="56563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2720160" y="5657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2729520" y="56620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2739240" y="56649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2748240" y="5666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2757960" y="56692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2767320" y="5673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2775600" y="56746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2783880" y="5677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2793240" y="5679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2801520" y="56808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2811240" y="56836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2820600" y="5684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2829960" y="5687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2839320" y="5689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2848680" y="5689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2856960" y="5691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2866320" y="5693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2875680" y="5696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2885040" y="56962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2894760" y="5697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2903760" y="5697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2912400" y="57006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2921760" y="5702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2931120" y="5702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940480" y="57049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2949840" y="57049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2959200" y="57049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2967480" y="5706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2977200" y="5706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2986560" y="5706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299556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300528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301464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302400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3032280" y="5708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3041640" y="5708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305100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306072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307008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307944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3087720" y="570888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3097080" y="5708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10644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311616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312516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3132720" y="5706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142080" y="5706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151440" y="5706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160800" y="57049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169080" y="57049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3178440" y="57049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3187800" y="5702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197160" y="57020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206520" y="5700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216240" y="5697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225600" y="5697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233880" y="5696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3243240" y="5696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3252600" y="5693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3261960" y="56919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3271680" y="5689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3280680" y="5689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3289320" y="56876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3298680" y="5684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3308040" y="56836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3317400" y="56808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3326760" y="5679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3336120" y="5677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3343320" y="5674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3353040" y="5673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3362040" y="56692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3370680" y="5666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3380040" y="5664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3389400" y="56620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3398760" y="5657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3408120" y="56563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3415320" y="56523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0" name=""/>
            <p:cNvSpPr/>
            <p:nvPr/>
          </p:nvSpPr>
          <p:spPr>
            <a:xfrm>
              <a:off x="3425040" y="5649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3434400" y="5645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443760" y="56437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3450960" y="56394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460680" y="56350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469680" y="563076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479400" y="56293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486600" y="56250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495960" y="562104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505320" y="5616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512520" y="56124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522240" y="5605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529440" y="5600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538800" y="5598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546000" y="55911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555360" y="55868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3563640" y="55810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3572280" y="55767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580560" y="55695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587760" y="55638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597120" y="55584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604680" y="5551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612960" y="55454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620160" y="55368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627360" y="55296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633840" y="55227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642120" y="55155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649320" y="5507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655800" y="5498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661920" y="54900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669480" y="54799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675600" y="54716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680640" y="546156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686040" y="54500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691080" y="54403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3695400" y="543024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698640" y="54172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3701520" y="54061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3703680" y="53946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3704760" y="53820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3704760" y="53690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3704760" y="53560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3703680" y="5343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3701520" y="53305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698640" y="53193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3695400" y="5307840"/>
              <a:ext cx="50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3691080" y="52981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686040" y="528804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680640" y="527652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3675600" y="52668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669480" y="52552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663000" y="52480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3655800" y="52398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649320" y="52308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3642120" y="5222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3636000" y="52138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627360" y="520848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3620160" y="51998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612960" y="51926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3604680" y="518724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3597120" y="51800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3587760" y="51742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3580560" y="5168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3572280" y="51613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3563640" y="51570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3555360" y="51512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3546000" y="51469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3538800" y="51400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3529440" y="51357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3522240" y="51314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3512520" y="51256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3505320" y="51217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495960" y="5117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3486600" y="51127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3479400" y="51087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3469680" y="51044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3460680" y="5103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3450960" y="50986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3443760" y="5094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3434400" y="5091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3425040" y="50886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3415680" y="508608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3405960" y="50817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3399120" y="50803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3389400" y="50760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3380040" y="50731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3370680" y="50716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3362400" y="5067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3353040" y="5064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3343680" y="50630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3336120" y="5060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3326760" y="50590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3317400" y="5056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3308040" y="505476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3298680" y="5051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3289320" y="50504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3281040" y="5049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3271680" y="5049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3262320" y="5046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252600" y="50446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3243600" y="50418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3233880" y="50418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3225600" y="5040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3216240" y="5040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3206880" y="50378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3197160" y="50360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3188160" y="50360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3178440" y="50331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3169080" y="50331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3160800" y="5033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3151440" y="50320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3142080" y="50320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3132720" y="50320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3123360" y="5029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3114000" y="5029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105360" y="5029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3096360" y="5029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3086640" y="502920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077280" y="502920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3067920" y="502920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3060720" y="5029200"/>
              <a:ext cx="2880" cy="68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1" name=""/>
          <p:cNvSpPr/>
          <p:nvPr/>
        </p:nvSpPr>
        <p:spPr>
          <a:xfrm flipV="1">
            <a:off x="3252960" y="4723920"/>
            <a:ext cx="30780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2" name=""/>
          <p:cNvGrpSpPr/>
          <p:nvPr/>
        </p:nvGrpSpPr>
        <p:grpSpPr>
          <a:xfrm>
            <a:off x="762120" y="4952880"/>
            <a:ext cx="1294920" cy="685440"/>
            <a:chOff x="762120" y="4952880"/>
            <a:chExt cx="1294920" cy="685440"/>
          </a:xfrm>
        </p:grpSpPr>
        <p:grpSp>
          <p:nvGrpSpPr>
            <p:cNvPr id="2793" name=""/>
            <p:cNvGrpSpPr/>
            <p:nvPr/>
          </p:nvGrpSpPr>
          <p:grpSpPr>
            <a:xfrm>
              <a:off x="762120" y="4952880"/>
              <a:ext cx="1005480" cy="685440"/>
              <a:chOff x="762120" y="4952880"/>
              <a:chExt cx="1005480" cy="685440"/>
            </a:xfrm>
          </p:grpSpPr>
          <p:sp>
            <p:nvSpPr>
              <p:cNvPr id="2794" name=""/>
              <p:cNvSpPr/>
              <p:nvPr/>
            </p:nvSpPr>
            <p:spPr>
              <a:xfrm>
                <a:off x="1405800" y="4952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1397520" y="4952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1388160" y="4952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5"/>
                    </a:moveTo>
                    <a:lnTo>
                      <a:pt x="6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1379880" y="4952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1371240" y="4952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1362240" y="4952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1352520" y="4952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1343160" y="4952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1333800" y="49557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1324440" y="49557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1315080" y="49557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1306800" y="495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1297080" y="495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1288080" y="495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1278360" y="49597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1269000" y="49597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1260000" y="49615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1251360" y="4964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1242000" y="4964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1232640" y="49654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1223280" y="49654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1213920" y="49683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1204560" y="4969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1196280" y="4972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1186560" y="4972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1177200" y="4974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1167840" y="49755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1158480" y="49784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1149120" y="4979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1140840" y="49827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1131480" y="4983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1123200" y="49867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1114920" y="4988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1105200" y="4991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1095840" y="4995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1086480" y="49968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1077120" y="49996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1067760" y="5004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1060200" y="50054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1051200" y="50097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1041480" y="5012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1032120" y="5015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1023840" y="5018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1015560" y="50223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1006200" y="50266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997920" y="5028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988560" y="50324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980280" y="5036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972000" y="5041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962280" y="5045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954000" y="50493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944640" y="505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937440" y="50594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927720" y="5063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920520" y="50706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911160" y="5074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903960" y="5080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894600" y="5085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887040" y="50922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878760" y="5097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869400" y="51037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862200" y="51109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855000" y="5116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846360" y="51235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839160" y="51321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830880" y="51375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825480" y="51462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817200" y="51544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811080" y="516348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803880" y="51717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797400" y="51789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791280" y="51904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786960" y="520020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780840" y="52117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775800" y="52218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771480" y="523152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768240" y="52430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765000" y="5254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63920" y="5267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62120" y="5279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62120" y="52927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62120" y="53056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763920" y="53182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65000" y="53298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68240" y="5340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71480" y="53539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75800" y="53640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81920" y="53737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86960" y="53852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91280" y="5395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97400" y="54036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804600" y="54136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811080" y="5421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817200" y="54309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825480" y="54392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833040" y="5446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839160" y="5453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846360" y="54604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855000" y="5469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862200" y="5474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869400" y="54820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878760" y="54874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887040" y="54932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894600" y="5500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903960" y="55047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911160" y="55105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920520" y="5514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927720" y="55216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937440" y="55245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944640" y="5528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954000" y="5536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962280" y="5540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972000" y="55447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980280" y="55486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988560" y="5553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997920" y="555444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1006200" y="55587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1015560" y="5563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1023840" y="55674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1032120" y="55688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1041480" y="5573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1051200" y="55760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1060200" y="55800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1067760" y="55814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1077120" y="558576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1086480" y="5588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1095840" y="5590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1105200" y="55929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1114920" y="55972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1123200" y="55983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1131480" y="56016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1140840" y="5602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1149120" y="56044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1158480" y="56073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1167840" y="56084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1177200" y="56113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1186560" y="5612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1196280" y="5612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1204560" y="56156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213920" y="56170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1223280" y="5619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232640" y="56199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1242000" y="5621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1251360" y="5621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1260000" y="56242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1269000" y="56257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1278360" y="56257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1288080" y="5628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1297080" y="5628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306800" y="5628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1315080" y="56296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324440" y="56296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1333800" y="56296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1343160" y="5632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1352520" y="5632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1362240" y="5632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1371240" y="5632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1379880" y="56325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1388880" y="56325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1398600" y="5632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1407960" y="5632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1417320" y="5632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1426680" y="5632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1434960" y="563256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1444320" y="56325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1454040" y="5632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1463400" y="5632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1472400" y="5632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1479960" y="56296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1489320" y="5629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1498680" y="5629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1508040" y="5628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1516320" y="56286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1525680" y="56286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1535400" y="56257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1544400" y="5625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1554120" y="56242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1563480" y="5621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1572840" y="5621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1581120" y="5619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1590480" y="5619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1599840" y="5617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1609200" y="5615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1618920" y="5612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1627920" y="5612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1636560" y="56113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1645920" y="56084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655280" y="56073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1664640" y="56044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1674000" y="5602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1683360" y="56016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1690920" y="5598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1700280" y="55972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709280" y="55929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717920" y="55900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1727280" y="55886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1736640" y="558576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746000" y="55814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1755360" y="55800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1762560" y="55760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4" name=""/>
            <p:cNvSpPr/>
            <p:nvPr/>
          </p:nvSpPr>
          <p:spPr>
            <a:xfrm>
              <a:off x="1772280" y="5573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1781640" y="55688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1791000" y="55674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1798560" y="55630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1807920" y="555876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1817280" y="555444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1826640" y="5553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1833840" y="55486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1843200" y="55447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1852560" y="55400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1860120" y="55360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1869480" y="55288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1876680" y="55245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1886040" y="55216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1893240" y="55148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1902960" y="55105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1911240" y="55047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1919520" y="55004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1927800" y="54932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1935360" y="54874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1944360" y="54820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1951920" y="5474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1960200" y="5469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1967400" y="54604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1974600" y="54532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1981080" y="54464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1989360" y="54392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1996920" y="54309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2003040" y="54219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2009160" y="54136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2016720" y="54036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2022840" y="53953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2027880" y="538524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2033280" y="53737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2038320" y="53640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2042640" y="53539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2045880" y="53409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2048760" y="53298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2050920" y="53182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2052000" y="530568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2052000" y="52927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2052000" y="52797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2050920" y="5267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2048760" y="5254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2045880" y="524304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2042640" y="5231520"/>
              <a:ext cx="50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2038320" y="52218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2033280" y="52117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2027880" y="520020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2022840" y="519048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2016720" y="51789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2010240" y="51717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2003040" y="51634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1996920" y="5154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1989360" y="51462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1983240" y="51375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1974600" y="51321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1967400" y="51235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1960200" y="5116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1951920" y="51109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1944360" y="51037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935360" y="50979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1927800" y="50922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1919520" y="50850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1911240" y="50806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902960" y="50749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893240" y="50706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886040" y="50637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1876680" y="50594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1869480" y="50551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1860120" y="5049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1852560" y="5045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1843200" y="50410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1833840" y="5036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1826640" y="50324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1817280" y="50281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1807920" y="50266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1798560" y="5022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1791000" y="50180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1781640" y="5015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1772280" y="50122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1762920" y="50097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1753560" y="50054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1746360" y="5004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1737000" y="499968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1727280" y="49968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1718280" y="49953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1709640" y="49910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1700280" y="4988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1690920" y="49867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683720" y="49838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674000" y="498276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1665000" y="49798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1655280" y="497844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1645920" y="49755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1636920" y="49741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1628280" y="49726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1618920" y="49726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609560" y="49698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1600200" y="496836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590840" y="49654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581480" y="49654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1573200" y="49640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1563480" y="49640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1554120" y="49615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1544760" y="49597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1535400" y="49597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1526040" y="49568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1516680" y="49568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1508400" y="49568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1498680" y="49557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1489680" y="49557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1479960" y="49557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1470600" y="4952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1461240" y="4952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1452960" y="49528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1443600" y="49528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434240" y="495288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424520" y="495288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1415520" y="495288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1407960" y="4952880"/>
              <a:ext cx="2880" cy="68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5" name=""/>
          <p:cNvSpPr/>
          <p:nvPr/>
        </p:nvSpPr>
        <p:spPr>
          <a:xfrm flipV="1">
            <a:off x="1600200" y="4723920"/>
            <a:ext cx="30780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6" name=""/>
          <p:cNvGrpSpPr/>
          <p:nvPr/>
        </p:nvGrpSpPr>
        <p:grpSpPr>
          <a:xfrm>
            <a:off x="5334120" y="4648320"/>
            <a:ext cx="1294920" cy="837360"/>
            <a:chOff x="5334120" y="4648320"/>
            <a:chExt cx="1294920" cy="837360"/>
          </a:xfrm>
        </p:grpSpPr>
        <p:grpSp>
          <p:nvGrpSpPr>
            <p:cNvPr id="3117" name=""/>
            <p:cNvGrpSpPr/>
            <p:nvPr/>
          </p:nvGrpSpPr>
          <p:grpSpPr>
            <a:xfrm>
              <a:off x="5334120" y="4648320"/>
              <a:ext cx="1005480" cy="837360"/>
              <a:chOff x="5334120" y="4648320"/>
              <a:chExt cx="1005480" cy="837360"/>
            </a:xfrm>
          </p:grpSpPr>
          <p:sp>
            <p:nvSpPr>
              <p:cNvPr id="3118" name=""/>
              <p:cNvSpPr/>
              <p:nvPr/>
            </p:nvSpPr>
            <p:spPr>
              <a:xfrm>
                <a:off x="5977800" y="46483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969520" y="46483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5960160" y="46483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5"/>
                    </a:moveTo>
                    <a:lnTo>
                      <a:pt x="6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5951880" y="46483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5943240" y="464832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5934240" y="464832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5924520" y="464832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5915160" y="464832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5905800" y="46515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5896440" y="46515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5887080" y="46515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5878800" y="465336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5869080" y="465336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5860080" y="465336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5850360" y="46569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5841000" y="46569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5832000" y="46587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5823360" y="4662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5814000" y="4662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5804640" y="466380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5795280" y="466380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5785920" y="46674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5776560" y="4669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5768280" y="46724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5758560" y="46724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5749200" y="46742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5739840" y="46760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5730480" y="46796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5721120" y="468108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5712840" y="468468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5703480" y="468648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5695200" y="46900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5686920" y="469152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5677200" y="4695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5667840" y="4700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5658480" y="470196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5649120" y="470556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5639760" y="47109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5632200" y="471240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5623200" y="47178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5613480" y="4721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5604120" y="47246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5595840" y="47282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5587560" y="47332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5578200" y="4738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5569920" y="474048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5560560" y="474552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5552280" y="47505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544000" y="475596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5534280" y="476136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5526000" y="4766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516640" y="477360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509440" y="47786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499720" y="478368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5492520" y="4792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5483160" y="47973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5475960" y="480456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5466600" y="480960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5459040" y="48182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5450760" y="48254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5441400" y="48326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5434200" y="484128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5427000" y="484776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5418360" y="4856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5411160" y="486720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5402880" y="4874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5397480" y="48844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5389200" y="4894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5383080" y="49053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5375880" y="49158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5369400" y="492444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5363280" y="493848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358960" y="4950360"/>
                <a:ext cx="3960" cy="90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5352840" y="496440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347800" y="49766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343480" y="4988520"/>
                <a:ext cx="3960" cy="90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5340240" y="500292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5337000" y="501660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5335920" y="503244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5334120" y="50475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334120" y="5063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334120" y="50792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5335920" y="5094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337000" y="51087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5340240" y="51224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5343480" y="513828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5347800" y="515052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5353920" y="516240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5358960" y="517644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5363280" y="518868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5369400" y="5199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5376600" y="52113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5383080" y="522144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5389200" y="52322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5397480" y="524232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5405040" y="52509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5411160" y="525960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5418360" y="52682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5427000" y="52790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5434200" y="528588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5441400" y="529488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5450760" y="53013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5459040" y="530856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5466600" y="5317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5475960" y="53222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5483160" y="532944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5492520" y="533448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5499720" y="5343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5509440" y="53467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5516640" y="53517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5526000" y="5360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5534280" y="53658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5544000" y="537120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5552280" y="53762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5560560" y="5381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5569920" y="5383080"/>
                <a:ext cx="3960" cy="90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5578200" y="538848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5587560" y="53935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5595840" y="53989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5604120" y="54007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5613480" y="54057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5623200" y="540936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5632200" y="541440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5639760" y="541620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5649120" y="5421240"/>
                <a:ext cx="5040" cy="90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5658480" y="5424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5667840" y="542664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5677200" y="543024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5686920" y="543528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5695200" y="54370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5703480" y="5440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5712840" y="5442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5721120" y="54439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5730480" y="544752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5739840" y="54493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5749200" y="54525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758560" y="545436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768280" y="545436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776560" y="54579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785920" y="54597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795280" y="5463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804640" y="5463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814000" y="546480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823360" y="546480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832000" y="54684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841000" y="547020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5850360" y="547020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5860080" y="547344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5869080" y="547344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5878800" y="547344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5887080" y="54752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5896440" y="54752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5905800" y="54752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5915160" y="5478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5924520" y="5478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934240" y="5478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943240" y="5478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951880" y="54788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960880" y="54788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5970600" y="5478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979960" y="5478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5989320" y="5478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5998680" y="5478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6006960" y="54788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6016320" y="54788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6026040" y="5478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6035400" y="5478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6044400" y="5478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6051960" y="54752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6061320" y="547524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6070680" y="547524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6080040" y="547344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6088320" y="54734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6097680" y="54734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6107400" y="547020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6116400" y="547020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6126120" y="546840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6135480" y="546480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6144840" y="546480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6153120" y="5463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6162480" y="5463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171840" y="545976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6181200" y="54579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6190920" y="545436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6199920" y="545436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6208560" y="54525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6217920" y="54493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6227280" y="544752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6236640" y="544392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6246000" y="5442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6255360" y="5440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6262920" y="5437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6272280" y="543528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6281280" y="543024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6289920" y="54266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6299280" y="54248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6308640" y="5421240"/>
                <a:ext cx="5040" cy="90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6318000" y="541620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6327360" y="541440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6334560" y="540936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8" name=""/>
            <p:cNvSpPr/>
            <p:nvPr/>
          </p:nvSpPr>
          <p:spPr>
            <a:xfrm>
              <a:off x="6344280" y="540612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6353640" y="540108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6363000" y="539892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6370560" y="539388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6379920" y="5388840"/>
              <a:ext cx="396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6389280" y="5383440"/>
              <a:ext cx="3960" cy="90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6398640" y="538164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6405840" y="5376600"/>
              <a:ext cx="396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6415200" y="5371560"/>
              <a:ext cx="396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6424560" y="536580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6432120" y="536076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6441480" y="535212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6448680" y="5347080"/>
              <a:ext cx="504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6458040" y="534348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6465240" y="5334840"/>
              <a:ext cx="504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6474960" y="5329800"/>
              <a:ext cx="504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6483240" y="532260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6491520" y="5317560"/>
              <a:ext cx="504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499800" y="530892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6507360" y="5301720"/>
              <a:ext cx="504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6516360" y="5294880"/>
              <a:ext cx="396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6523920" y="5286240"/>
              <a:ext cx="504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6532200" y="527940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6539400" y="5268600"/>
              <a:ext cx="504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546600" y="5259960"/>
              <a:ext cx="504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6553080" y="5251320"/>
              <a:ext cx="504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6561360" y="524268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6568920" y="523224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6575040" y="522180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6581160" y="521136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6588720" y="5199120"/>
              <a:ext cx="504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6594840" y="5189040"/>
              <a:ext cx="504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6599880" y="5176800"/>
              <a:ext cx="396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6605280" y="5162400"/>
              <a:ext cx="504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6610320" y="5150880"/>
              <a:ext cx="396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6614640" y="5138640"/>
              <a:ext cx="504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6617880" y="5122800"/>
              <a:ext cx="504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6620760" y="5109120"/>
              <a:ext cx="504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6622920" y="509472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6624000" y="5079240"/>
              <a:ext cx="504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6624000" y="5063760"/>
              <a:ext cx="504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6624000" y="5047920"/>
              <a:ext cx="504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6622920" y="503244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6620760" y="5016600"/>
              <a:ext cx="504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6617880" y="5002920"/>
              <a:ext cx="504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6614640" y="4988880"/>
              <a:ext cx="5040" cy="90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6610320" y="4977000"/>
              <a:ext cx="396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605280" y="4964760"/>
              <a:ext cx="504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6599880" y="4950360"/>
              <a:ext cx="3960" cy="90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594840" y="4938480"/>
              <a:ext cx="504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588720" y="4924440"/>
              <a:ext cx="504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6582240" y="4915800"/>
              <a:ext cx="504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6575040" y="4905720"/>
              <a:ext cx="396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6568920" y="489492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6561360" y="488448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6555240" y="487404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6546600" y="4867200"/>
              <a:ext cx="504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6539400" y="4856760"/>
              <a:ext cx="504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6532200" y="484812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6523920" y="4841280"/>
              <a:ext cx="504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6516360" y="483264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6507360" y="4825440"/>
              <a:ext cx="504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6499800" y="481860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6491520" y="4809600"/>
              <a:ext cx="504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6483240" y="480456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6474960" y="4797360"/>
              <a:ext cx="504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6465240" y="4792320"/>
              <a:ext cx="504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6458040" y="478368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6448680" y="4778640"/>
              <a:ext cx="504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6441480" y="477360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6432120" y="476640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6424560" y="476136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6415200" y="475632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6405840" y="475056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6398640" y="474552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6389280" y="474048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6379920" y="473832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6370560" y="473328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6363000" y="472824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6353640" y="472464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6344280" y="472104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6334920" y="4717800"/>
              <a:ext cx="504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6325560" y="4712400"/>
              <a:ext cx="504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6318360" y="471096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6309000" y="4705560"/>
              <a:ext cx="504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6299280" y="4702320"/>
              <a:ext cx="504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6290280" y="4700160"/>
              <a:ext cx="504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6281640" y="469512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6272280" y="469152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6262920" y="469008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6255720" y="468648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6246000" y="4684680"/>
              <a:ext cx="396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6237000" y="468108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6227280" y="4679640"/>
              <a:ext cx="396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6217920" y="4676040"/>
              <a:ext cx="504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6208920" y="4674240"/>
              <a:ext cx="504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6200280" y="467244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6190920" y="467244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6181560" y="466920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6172200" y="4667400"/>
              <a:ext cx="396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6162840" y="4663800"/>
              <a:ext cx="504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6153480" y="4663800"/>
              <a:ext cx="504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6145200" y="466200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6135480" y="466200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126120" y="465876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116760" y="465696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6107400" y="4656960"/>
              <a:ext cx="504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6098040" y="4653360"/>
              <a:ext cx="504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6088680" y="4653360"/>
              <a:ext cx="504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6080400" y="465336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6070680" y="465156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6061680" y="4651560"/>
              <a:ext cx="396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051960" y="4651560"/>
              <a:ext cx="504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042600" y="4648320"/>
              <a:ext cx="504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033240" y="4648320"/>
              <a:ext cx="5040" cy="8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024960" y="464832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015600" y="4648320"/>
              <a:ext cx="396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006240" y="4648320"/>
              <a:ext cx="6120" cy="8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5996520" y="4648320"/>
              <a:ext cx="6120" cy="8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5987520" y="4648320"/>
              <a:ext cx="6120" cy="8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5979960" y="4648320"/>
              <a:ext cx="2880" cy="86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9" name=""/>
          <p:cNvSpPr/>
          <p:nvPr/>
        </p:nvSpPr>
        <p:spPr>
          <a:xfrm flipV="1">
            <a:off x="6172200" y="4343040"/>
            <a:ext cx="30780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0" name=""/>
          <p:cNvGrpSpPr/>
          <p:nvPr/>
        </p:nvGrpSpPr>
        <p:grpSpPr>
          <a:xfrm>
            <a:off x="304920" y="3048120"/>
            <a:ext cx="1294920" cy="913680"/>
            <a:chOff x="304920" y="3048120"/>
            <a:chExt cx="1294920" cy="913680"/>
          </a:xfrm>
        </p:grpSpPr>
        <p:grpSp>
          <p:nvGrpSpPr>
            <p:cNvPr id="3441" name=""/>
            <p:cNvGrpSpPr/>
            <p:nvPr/>
          </p:nvGrpSpPr>
          <p:grpSpPr>
            <a:xfrm>
              <a:off x="304920" y="3048120"/>
              <a:ext cx="1005480" cy="913680"/>
              <a:chOff x="304920" y="3048120"/>
              <a:chExt cx="1005480" cy="913680"/>
            </a:xfrm>
          </p:grpSpPr>
          <p:sp>
            <p:nvSpPr>
              <p:cNvPr id="3442" name=""/>
              <p:cNvSpPr/>
              <p:nvPr/>
            </p:nvSpPr>
            <p:spPr>
              <a:xfrm>
                <a:off x="948600" y="304812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940320" y="304812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930960" y="30481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5"/>
                    </a:moveTo>
                    <a:lnTo>
                      <a:pt x="6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922680" y="304812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914040" y="304812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905040" y="304812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895320" y="304812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885960" y="304812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876600" y="305172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867240" y="305172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857880" y="305172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849600" y="305352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839880" y="305352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830880" y="305352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821160" y="305748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811800" y="305748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802800" y="305964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794160" y="306288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84800" y="306288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775440" y="306504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766080" y="306504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756720" y="306900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747360" y="307080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739080" y="307476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729360" y="307476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720000" y="307620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710640" y="307836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701280" y="308232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691920" y="308412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83640" y="308808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674280" y="308952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666000" y="309348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57720" y="309528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648000" y="309924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638640" y="310464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629280" y="310680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619920" y="311076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610560" y="311616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603000" y="311796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594000" y="31240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584280" y="312732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574920" y="313128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566640" y="313524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558360" y="314064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549000" y="314640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540720" y="314856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531360" y="315396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523080" y="315972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514800" y="316584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505080" y="317124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496800" y="317700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487440" y="318456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480240" y="319032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470520" y="319572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463320" y="320544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453960" y="321084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446760" y="321876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437400" y="322416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429840" y="323352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421560" y="324144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412200" y="324900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405000" y="325872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397800" y="326592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389160" y="327528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381960" y="328680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373680" y="329436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368280" y="330588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360000" y="331704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353880" y="332856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346680" y="333972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340200" y="334944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334080" y="336492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329760" y="3377520"/>
                <a:ext cx="3960" cy="97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323640" y="339300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318600" y="340632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314280" y="3419280"/>
                <a:ext cx="3960" cy="97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311040" y="343476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307800" y="344988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306720" y="346716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304920" y="348372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304920" y="350100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304920" y="35182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306720" y="353484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307800" y="355032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311040" y="356544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314280" y="358272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318600" y="359604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324720" y="360900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329760" y="362448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334080" y="363780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340200" y="364896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347400" y="366228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353880" y="36734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360000" y="368496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368280" y="369612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375840" y="370584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381960" y="371520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389160" y="372456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397800" y="373608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405000" y="374400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412200" y="375336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421560" y="376056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429840" y="376848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437400" y="377784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446760" y="378360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453960" y="379116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463320" y="379692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470520" y="380628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480240" y="381024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487440" y="381564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496800" y="382536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505080" y="383076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514800" y="383688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523080" y="38422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531360" y="384804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540720" y="3849840"/>
                <a:ext cx="3960" cy="97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549000" y="385560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558360" y="386136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566640" y="386676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574920" y="386892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584280" y="387468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594000" y="387864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603000" y="388404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610560" y="388584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619920" y="389124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629280" y="389520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638640" y="389736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648000" y="390132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657720" y="390672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666000" y="390852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674280" y="391248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683640" y="391428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691920" y="391644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701280" y="392004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710640" y="392184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720000" y="392580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729360" y="392760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739080" y="392760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747360" y="393156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756720" y="393336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766080" y="393696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775440" y="393696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784800" y="393912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794160" y="393912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802800" y="39430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811800" y="394488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821160" y="394488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830880" y="394848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839880" y="394848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849600" y="394848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857880" y="395028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867240" y="395028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876600" y="395028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885960" y="395424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895320" y="395424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905040" y="395424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914040" y="395424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922680" y="395424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931680" y="395424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941400" y="395424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950760" y="395424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960120" y="395424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969480" y="395424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977760" y="3954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987120" y="395424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996840" y="395424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1006200" y="395424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1015200" y="395424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1022760" y="395028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1032120" y="395028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1041480" y="395028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1050840" y="394848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1059120" y="39484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1068480" y="39484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1078200" y="394488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1087200" y="394488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1096920" y="394308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1106280" y="393912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1115640" y="393912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1123920" y="393696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1133280" y="393696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1142640" y="393336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1152000" y="393156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1161720" y="392760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1170720" y="392760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1179360" y="392580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1188720" y="392184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1198080" y="392004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1207440" y="391644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1216800" y="391428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1226160" y="391248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1233720" y="390852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1243080" y="390672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1252080" y="390132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1260720" y="389736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1270080" y="389520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1279440" y="389124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1288800" y="388584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1298160" y="388404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1305360" y="387864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2" name=""/>
            <p:cNvSpPr/>
            <p:nvPr/>
          </p:nvSpPr>
          <p:spPr>
            <a:xfrm>
              <a:off x="1315080" y="387504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1324440" y="386928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1333800" y="386712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1341360" y="386172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1350720" y="3855960"/>
              <a:ext cx="3960" cy="72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1360080" y="3850200"/>
              <a:ext cx="3960" cy="97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1369440" y="384840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1376640" y="3842640"/>
              <a:ext cx="3960" cy="72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1386000" y="3837240"/>
              <a:ext cx="3960" cy="72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1395360" y="383112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1402920" y="382536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1412280" y="381600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1419480" y="3810600"/>
              <a:ext cx="504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1428840" y="380664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1436040" y="3797280"/>
              <a:ext cx="504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1445760" y="3791520"/>
              <a:ext cx="504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1454040" y="378396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1462320" y="3778200"/>
              <a:ext cx="5040" cy="75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1470600" y="376884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1478160" y="3760920"/>
              <a:ext cx="5040" cy="75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1487160" y="3753720"/>
              <a:ext cx="3960" cy="72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1494720" y="3744360"/>
              <a:ext cx="504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1503000" y="373644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1510200" y="3724920"/>
              <a:ext cx="5040" cy="75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1517400" y="3715560"/>
              <a:ext cx="504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1523880" y="3705840"/>
              <a:ext cx="5040" cy="75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1532160" y="369648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1539720" y="368532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1545840" y="367380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1551960" y="366264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1559520" y="3649320"/>
              <a:ext cx="5040" cy="75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1565640" y="3638160"/>
              <a:ext cx="504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1570680" y="3624840"/>
              <a:ext cx="3960" cy="72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1576080" y="3609360"/>
              <a:ext cx="504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1581120" y="3596400"/>
              <a:ext cx="3960" cy="72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1585440" y="3583080"/>
              <a:ext cx="5040" cy="72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1588680" y="3565800"/>
              <a:ext cx="5040" cy="75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1591560" y="3550680"/>
              <a:ext cx="504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1593720" y="353520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1594800" y="3518280"/>
              <a:ext cx="5040" cy="72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1594800" y="3501360"/>
              <a:ext cx="5040" cy="75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1594800" y="3484080"/>
              <a:ext cx="504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1593720" y="346716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1591560" y="3449880"/>
              <a:ext cx="504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1588680" y="3435120"/>
              <a:ext cx="5040" cy="72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1585440" y="3419640"/>
              <a:ext cx="5040" cy="97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1581120" y="3406680"/>
              <a:ext cx="3960" cy="72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1576080" y="3393360"/>
              <a:ext cx="5040" cy="72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1570680" y="3377880"/>
              <a:ext cx="3960" cy="97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1565640" y="3364920"/>
              <a:ext cx="5040" cy="72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1559520" y="3349440"/>
              <a:ext cx="504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1553040" y="3340080"/>
              <a:ext cx="5040" cy="75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1545840" y="3328920"/>
              <a:ext cx="3960" cy="72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1539720" y="331704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1532160" y="330588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1526040" y="329436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1517400" y="3287160"/>
              <a:ext cx="5040" cy="72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1510200" y="3275280"/>
              <a:ext cx="5040" cy="75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1503000" y="326592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1494720" y="3258720"/>
              <a:ext cx="5040" cy="72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1487160" y="324936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1478160" y="3241440"/>
              <a:ext cx="5040" cy="75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1470600" y="323388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1462320" y="3224160"/>
              <a:ext cx="504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1454040" y="321876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1445760" y="3210840"/>
              <a:ext cx="5040" cy="75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1436040" y="3205440"/>
              <a:ext cx="5040" cy="75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1428840" y="319572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1419480" y="3190320"/>
              <a:ext cx="504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1412280" y="318456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1402920" y="317700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1395360" y="317124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1386000" y="316584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1376640" y="315972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1369440" y="315432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1360080" y="314856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1350720" y="314640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1341360" y="314100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1333800" y="313524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324440" y="313128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1315080" y="312768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1305720" y="3124080"/>
              <a:ext cx="5040" cy="72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1296360" y="3117960"/>
              <a:ext cx="504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1289160" y="311616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1279800" y="3110760"/>
              <a:ext cx="5040" cy="72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1270080" y="3106800"/>
              <a:ext cx="504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1261080" y="3104640"/>
              <a:ext cx="5040" cy="75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1252440" y="309924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1243080" y="309528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1233720" y="309348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1226520" y="308952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1216800" y="3088080"/>
              <a:ext cx="3960" cy="72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207800" y="308412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1198080" y="3082320"/>
              <a:ext cx="3960" cy="72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188720" y="3078360"/>
              <a:ext cx="504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179720" y="3076200"/>
              <a:ext cx="5040" cy="75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1171080" y="307476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1161720" y="307476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152360" y="307080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1143000" y="3069000"/>
              <a:ext cx="3960" cy="72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133640" y="3065040"/>
              <a:ext cx="504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1124280" y="3065040"/>
              <a:ext cx="504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1116000" y="306288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1106280" y="306288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1096920" y="305964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1087560" y="305748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1078200" y="3057480"/>
              <a:ext cx="5040" cy="75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1068840" y="3053520"/>
              <a:ext cx="504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1059480" y="3053520"/>
              <a:ext cx="504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1051200" y="305352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1041480" y="305172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1032480" y="3051720"/>
              <a:ext cx="3960" cy="7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1022760" y="3051720"/>
              <a:ext cx="5040" cy="75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1013400" y="3048120"/>
              <a:ext cx="504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1004040" y="3048120"/>
              <a:ext cx="504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995760" y="304812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986400" y="3048120"/>
              <a:ext cx="396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977040" y="3048120"/>
              <a:ext cx="61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967320" y="3048120"/>
              <a:ext cx="61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958320" y="3048120"/>
              <a:ext cx="61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950760" y="3048120"/>
              <a:ext cx="2880" cy="93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3" name=""/>
          <p:cNvSpPr/>
          <p:nvPr/>
        </p:nvSpPr>
        <p:spPr>
          <a:xfrm flipV="1">
            <a:off x="1143000" y="2742840"/>
            <a:ext cx="30780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64" name=""/>
          <p:cNvGraphicFramePr/>
          <p:nvPr/>
        </p:nvGraphicFramePr>
        <p:xfrm>
          <a:off x="5867280" y="990720"/>
          <a:ext cx="838440" cy="6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990720"/>
                    <a:ext cx="8384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6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6324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 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3657600" y="281952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68" name=""/>
          <p:cNvGraphicFramePr/>
          <p:nvPr/>
        </p:nvGraphicFramePr>
        <p:xfrm>
          <a:off x="990720" y="1523880"/>
          <a:ext cx="465120" cy="119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1523880"/>
                    <a:ext cx="4651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70" name="" descr=""/>
          <p:cNvPicPr/>
          <p:nvPr/>
        </p:nvPicPr>
        <p:blipFill>
          <a:blip r:embed="rId6"/>
          <a:stretch/>
        </p:blipFill>
        <p:spPr>
          <a:xfrm>
            <a:off x="3429000" y="2971800"/>
            <a:ext cx="1019160" cy="990720"/>
          </a:xfrm>
          <a:prstGeom prst="rect">
            <a:avLst/>
          </a:prstGeom>
          <a:ln w="0">
            <a:noFill/>
          </a:ln>
        </p:spPr>
      </p:pic>
      <p:pic>
        <p:nvPicPr>
          <p:cNvPr id="3771" name="" descr=""/>
          <p:cNvPicPr/>
          <p:nvPr/>
        </p:nvPicPr>
        <p:blipFill>
          <a:blip r:embed="rId7"/>
          <a:stretch/>
        </p:blipFill>
        <p:spPr>
          <a:xfrm>
            <a:off x="7924680" y="1752480"/>
            <a:ext cx="576360" cy="586080"/>
          </a:xfrm>
          <a:prstGeom prst="rect">
            <a:avLst/>
          </a:prstGeom>
          <a:ln w="0">
            <a:noFill/>
          </a:ln>
        </p:spPr>
      </p:pic>
      <p:pic>
        <p:nvPicPr>
          <p:cNvPr id="3772" name="" descr=""/>
          <p:cNvPicPr/>
          <p:nvPr/>
        </p:nvPicPr>
        <p:blipFill>
          <a:blip r:embed="rId8"/>
          <a:stretch/>
        </p:blipFill>
        <p:spPr>
          <a:xfrm>
            <a:off x="7010280" y="990720"/>
            <a:ext cx="631800" cy="436320"/>
          </a:xfrm>
          <a:prstGeom prst="rect">
            <a:avLst/>
          </a:prstGeom>
          <a:ln w="0">
            <a:noFill/>
          </a:ln>
        </p:spPr>
      </p:pic>
      <p:sp>
        <p:nvSpPr>
          <p:cNvPr id="3773" name=""/>
          <p:cNvSpPr/>
          <p:nvPr/>
        </p:nvSpPr>
        <p:spPr>
          <a:xfrm rot="18856800">
            <a:off x="6101280" y="1670400"/>
            <a:ext cx="468360" cy="47952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 flipH="1" rot="18857400">
            <a:off x="7003440" y="2028600"/>
            <a:ext cx="716040" cy="49680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 flipH="1" rot="20100000">
            <a:off x="7391160" y="1371600"/>
            <a:ext cx="339840" cy="75096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 rot="20191800">
            <a:off x="6029280" y="5198760"/>
            <a:ext cx="220680" cy="74916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 flipH="1" rot="20192400">
            <a:off x="1722600" y="5419440"/>
            <a:ext cx="403200" cy="75996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8" name=""/>
          <p:cNvGrpSpPr/>
          <p:nvPr/>
        </p:nvGrpSpPr>
        <p:grpSpPr>
          <a:xfrm>
            <a:off x="2089080" y="4624560"/>
            <a:ext cx="430200" cy="177480"/>
            <a:chOff x="2089080" y="4624560"/>
            <a:chExt cx="430200" cy="177480"/>
          </a:xfrm>
        </p:grpSpPr>
        <p:sp>
          <p:nvSpPr>
            <p:cNvPr id="3779" name=""/>
            <p:cNvSpPr/>
            <p:nvPr/>
          </p:nvSpPr>
          <p:spPr>
            <a:xfrm>
              <a:off x="2089080" y="4624560"/>
              <a:ext cx="430200" cy="17748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 flipV="1">
              <a:off x="2190240" y="4668840"/>
              <a:ext cx="245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 flipH="1" flipV="1">
              <a:off x="2192040" y="4672440"/>
              <a:ext cx="245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2" name=""/>
          <p:cNvGrpSpPr/>
          <p:nvPr/>
        </p:nvGrpSpPr>
        <p:grpSpPr>
          <a:xfrm>
            <a:off x="6600960" y="4243320"/>
            <a:ext cx="430200" cy="177840"/>
            <a:chOff x="6600960" y="4243320"/>
            <a:chExt cx="430200" cy="177840"/>
          </a:xfrm>
        </p:grpSpPr>
        <p:sp>
          <p:nvSpPr>
            <p:cNvPr id="3783" name=""/>
            <p:cNvSpPr/>
            <p:nvPr/>
          </p:nvSpPr>
          <p:spPr>
            <a:xfrm>
              <a:off x="6600960" y="4243320"/>
              <a:ext cx="430200" cy="1778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V="1">
              <a:off x="6702120" y="4287600"/>
              <a:ext cx="245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 flipH="1" flipV="1">
              <a:off x="6703920" y="4291560"/>
              <a:ext cx="245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6" name=""/>
          <p:cNvSpPr/>
          <p:nvPr/>
        </p:nvSpPr>
        <p:spPr>
          <a:xfrm rot="4800000">
            <a:off x="5350320" y="5610960"/>
            <a:ext cx="1126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ERLAN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 rot="1920000">
            <a:off x="1598760" y="5638680"/>
            <a:ext cx="1065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ERLAN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7009200" y="2362320"/>
            <a:ext cx="1065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ERLAN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 rot="2700000">
            <a:off x="6836760" y="1695960"/>
            <a:ext cx="1065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ERLAN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0" name="" descr=""/>
          <p:cNvPicPr/>
          <p:nvPr/>
        </p:nvPicPr>
        <p:blipFill>
          <a:blip r:embed="rId9"/>
          <a:stretch/>
        </p:blipFill>
        <p:spPr>
          <a:xfrm>
            <a:off x="7086600" y="4800600"/>
            <a:ext cx="590400" cy="442800"/>
          </a:xfrm>
          <a:prstGeom prst="rect">
            <a:avLst/>
          </a:prstGeom>
          <a:ln w="0">
            <a:noFill/>
          </a:ln>
        </p:spPr>
      </p:pic>
      <p:pic>
        <p:nvPicPr>
          <p:cNvPr id="3791" name="" descr=""/>
          <p:cNvPicPr/>
          <p:nvPr/>
        </p:nvPicPr>
        <p:blipFill>
          <a:blip r:embed="rId10"/>
          <a:stretch/>
        </p:blipFill>
        <p:spPr>
          <a:xfrm>
            <a:off x="5638680" y="4800600"/>
            <a:ext cx="590760" cy="442800"/>
          </a:xfrm>
          <a:prstGeom prst="rect">
            <a:avLst/>
          </a:prstGeom>
          <a:ln w="0">
            <a:noFill/>
          </a:ln>
        </p:spPr>
      </p:pic>
      <p:pic>
        <p:nvPicPr>
          <p:cNvPr id="3792" name="" descr=""/>
          <p:cNvPicPr/>
          <p:nvPr/>
        </p:nvPicPr>
        <p:blipFill>
          <a:blip r:embed="rId11"/>
          <a:stretch/>
        </p:blipFill>
        <p:spPr>
          <a:xfrm>
            <a:off x="6248520" y="2209680"/>
            <a:ext cx="590400" cy="443160"/>
          </a:xfrm>
          <a:prstGeom prst="rect">
            <a:avLst/>
          </a:prstGeom>
          <a:ln w="0">
            <a:noFill/>
          </a:ln>
        </p:spPr>
      </p:pic>
      <p:pic>
        <p:nvPicPr>
          <p:cNvPr id="3793" name="" descr=""/>
          <p:cNvPicPr/>
          <p:nvPr/>
        </p:nvPicPr>
        <p:blipFill>
          <a:blip r:embed="rId12"/>
          <a:stretch/>
        </p:blipFill>
        <p:spPr>
          <a:xfrm>
            <a:off x="2819520" y="5181480"/>
            <a:ext cx="590400" cy="443160"/>
          </a:xfrm>
          <a:prstGeom prst="rect">
            <a:avLst/>
          </a:prstGeom>
          <a:ln w="0">
            <a:noFill/>
          </a:ln>
        </p:spPr>
      </p:pic>
      <p:pic>
        <p:nvPicPr>
          <p:cNvPr id="3794" name="" descr=""/>
          <p:cNvPicPr/>
          <p:nvPr/>
        </p:nvPicPr>
        <p:blipFill>
          <a:blip r:embed="rId13"/>
          <a:stretch/>
        </p:blipFill>
        <p:spPr>
          <a:xfrm>
            <a:off x="1143000" y="5029200"/>
            <a:ext cx="590400" cy="442800"/>
          </a:xfrm>
          <a:prstGeom prst="rect">
            <a:avLst/>
          </a:prstGeom>
          <a:ln w="0">
            <a:noFill/>
          </a:ln>
        </p:spPr>
      </p:pic>
      <p:pic>
        <p:nvPicPr>
          <p:cNvPr id="3795" name="" descr=""/>
          <p:cNvPicPr/>
          <p:nvPr/>
        </p:nvPicPr>
        <p:blipFill>
          <a:blip r:embed="rId14"/>
          <a:stretch/>
        </p:blipFill>
        <p:spPr>
          <a:xfrm>
            <a:off x="762120" y="3200400"/>
            <a:ext cx="590400" cy="442800"/>
          </a:xfrm>
          <a:prstGeom prst="rect">
            <a:avLst/>
          </a:prstGeom>
          <a:ln w="0">
            <a:noFill/>
          </a:ln>
        </p:spPr>
      </p:pic>
      <p:grpSp>
        <p:nvGrpSpPr>
          <p:cNvPr id="3796" name=""/>
          <p:cNvGrpSpPr/>
          <p:nvPr/>
        </p:nvGrpSpPr>
        <p:grpSpPr>
          <a:xfrm>
            <a:off x="2362320" y="5943600"/>
            <a:ext cx="380520" cy="468360"/>
            <a:chOff x="2362320" y="5943600"/>
            <a:chExt cx="380520" cy="468360"/>
          </a:xfrm>
        </p:grpSpPr>
        <p:grpSp>
          <p:nvGrpSpPr>
            <p:cNvPr id="3797" name=""/>
            <p:cNvGrpSpPr/>
            <p:nvPr/>
          </p:nvGrpSpPr>
          <p:grpSpPr>
            <a:xfrm>
              <a:off x="2538360" y="5943600"/>
              <a:ext cx="204120" cy="397080"/>
              <a:chOff x="2538360" y="5943600"/>
              <a:chExt cx="204120" cy="397080"/>
            </a:xfrm>
          </p:grpSpPr>
          <p:sp>
            <p:nvSpPr>
              <p:cNvPr id="3798" name=""/>
              <p:cNvSpPr/>
              <p:nvPr/>
            </p:nvSpPr>
            <p:spPr>
              <a:xfrm>
                <a:off x="2538360" y="5943600"/>
                <a:ext cx="202680" cy="392040"/>
              </a:xfrm>
              <a:custGeom>
                <a:avLst/>
                <a:gdLst/>
                <a:ahLst/>
                <a:rect l="l" t="t" r="r" b="b"/>
                <a:pathLst>
                  <a:path w="1155" h="1975">
                    <a:moveTo>
                      <a:pt x="804" y="1960"/>
                    </a:moveTo>
                    <a:lnTo>
                      <a:pt x="782" y="1975"/>
                    </a:lnTo>
                    <a:lnTo>
                      <a:pt x="0" y="1250"/>
                    </a:lnTo>
                    <a:lnTo>
                      <a:pt x="264" y="51"/>
                    </a:lnTo>
                    <a:lnTo>
                      <a:pt x="299" y="15"/>
                    </a:lnTo>
                    <a:lnTo>
                      <a:pt x="335" y="0"/>
                    </a:lnTo>
                    <a:lnTo>
                      <a:pt x="370" y="8"/>
                    </a:lnTo>
                    <a:lnTo>
                      <a:pt x="1119" y="342"/>
                    </a:lnTo>
                    <a:lnTo>
                      <a:pt x="1144" y="360"/>
                    </a:lnTo>
                    <a:lnTo>
                      <a:pt x="1152" y="363"/>
                    </a:lnTo>
                    <a:lnTo>
                      <a:pt x="1155" y="381"/>
                    </a:lnTo>
                    <a:lnTo>
                      <a:pt x="824" y="1972"/>
                    </a:lnTo>
                    <a:lnTo>
                      <a:pt x="804" y="196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2660040" y="6004080"/>
                <a:ext cx="82440" cy="336600"/>
              </a:xfrm>
              <a:custGeom>
                <a:avLst/>
                <a:gdLst/>
                <a:ahLst/>
                <a:rect l="l" t="t" r="r" b="b"/>
                <a:pathLst>
                  <a:path w="465" h="1692">
                    <a:moveTo>
                      <a:pt x="465" y="73"/>
                    </a:moveTo>
                    <a:lnTo>
                      <a:pt x="460" y="113"/>
                    </a:lnTo>
                    <a:lnTo>
                      <a:pt x="126" y="1644"/>
                    </a:lnTo>
                    <a:lnTo>
                      <a:pt x="123" y="1672"/>
                    </a:lnTo>
                    <a:lnTo>
                      <a:pt x="113" y="1686"/>
                    </a:lnTo>
                    <a:lnTo>
                      <a:pt x="102" y="1692"/>
                    </a:lnTo>
                    <a:lnTo>
                      <a:pt x="90" y="1688"/>
                    </a:lnTo>
                    <a:lnTo>
                      <a:pt x="70" y="1672"/>
                    </a:lnTo>
                    <a:lnTo>
                      <a:pt x="0" y="1607"/>
                    </a:lnTo>
                    <a:lnTo>
                      <a:pt x="344" y="33"/>
                    </a:lnTo>
                    <a:lnTo>
                      <a:pt x="340" y="23"/>
                    </a:lnTo>
                    <a:lnTo>
                      <a:pt x="321" y="0"/>
                    </a:lnTo>
                    <a:lnTo>
                      <a:pt x="360" y="16"/>
                    </a:lnTo>
                    <a:lnTo>
                      <a:pt x="438" y="51"/>
                    </a:lnTo>
                    <a:lnTo>
                      <a:pt x="453" y="63"/>
                    </a:lnTo>
                    <a:lnTo>
                      <a:pt x="465" y="73"/>
                    </a:lnTo>
                    <a:close/>
                  </a:path>
                </a:pathLst>
              </a:custGeom>
              <a:solidFill>
                <a:srgbClr val="202020"/>
              </a:solidFill>
              <a:ln w="144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0" name=""/>
            <p:cNvSpPr/>
            <p:nvPr/>
          </p:nvSpPr>
          <p:spPr>
            <a:xfrm>
              <a:off x="2593800" y="5943600"/>
              <a:ext cx="149040" cy="76320"/>
            </a:xfrm>
            <a:custGeom>
              <a:avLst/>
              <a:gdLst/>
              <a:ahLst/>
              <a:rect l="l" t="t" r="r" b="b"/>
              <a:pathLst>
                <a:path w="847" h="378">
                  <a:moveTo>
                    <a:pt x="0" y="0"/>
                  </a:moveTo>
                  <a:lnTo>
                    <a:pt x="26" y="1"/>
                  </a:lnTo>
                  <a:lnTo>
                    <a:pt x="50" y="9"/>
                  </a:lnTo>
                  <a:lnTo>
                    <a:pt x="815" y="350"/>
                  </a:lnTo>
                  <a:lnTo>
                    <a:pt x="840" y="365"/>
                  </a:lnTo>
                  <a:lnTo>
                    <a:pt x="847" y="3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02020"/>
            </a:solidFill>
            <a:ln w="1440">
              <a:solidFill>
                <a:srgbClr val="202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1" name=""/>
            <p:cNvGrpSpPr/>
            <p:nvPr/>
          </p:nvGrpSpPr>
          <p:grpSpPr>
            <a:xfrm>
              <a:off x="2536560" y="5943600"/>
              <a:ext cx="159840" cy="336600"/>
              <a:chOff x="2536560" y="5943600"/>
              <a:chExt cx="159840" cy="336600"/>
            </a:xfrm>
          </p:grpSpPr>
          <p:sp>
            <p:nvSpPr>
              <p:cNvPr id="3802" name=""/>
              <p:cNvSpPr/>
              <p:nvPr/>
            </p:nvSpPr>
            <p:spPr>
              <a:xfrm>
                <a:off x="2560320" y="5988240"/>
                <a:ext cx="136080" cy="291960"/>
              </a:xfrm>
              <a:custGeom>
                <a:avLst/>
                <a:gdLst/>
                <a:ahLst/>
                <a:rect l="l" t="t" r="r" b="b"/>
                <a:pathLst>
                  <a:path w="775" h="1470">
                    <a:moveTo>
                      <a:pt x="502" y="1470"/>
                    </a:moveTo>
                    <a:lnTo>
                      <a:pt x="0" y="1036"/>
                    </a:lnTo>
                    <a:lnTo>
                      <a:pt x="236" y="0"/>
                    </a:lnTo>
                    <a:lnTo>
                      <a:pt x="775" y="267"/>
                    </a:lnTo>
                    <a:lnTo>
                      <a:pt x="502" y="147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2566440" y="5999400"/>
                <a:ext cx="122040" cy="268200"/>
              </a:xfrm>
              <a:custGeom>
                <a:avLst/>
                <a:gdLst/>
                <a:ahLst/>
                <a:rect l="l" t="t" r="r" b="b"/>
                <a:pathLst>
                  <a:path w="698" h="1358">
                    <a:moveTo>
                      <a:pt x="442" y="1358"/>
                    </a:moveTo>
                    <a:lnTo>
                      <a:pt x="0" y="969"/>
                    </a:lnTo>
                    <a:lnTo>
                      <a:pt x="220" y="0"/>
                    </a:lnTo>
                    <a:lnTo>
                      <a:pt x="698" y="229"/>
                    </a:lnTo>
                    <a:lnTo>
                      <a:pt x="442" y="1358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2536560" y="5943600"/>
                <a:ext cx="56880" cy="250920"/>
              </a:xfrm>
              <a:custGeom>
                <a:avLst/>
                <a:gdLst/>
                <a:ahLst/>
                <a:rect l="l" t="t" r="r" b="b"/>
                <a:pathLst>
                  <a:path w="330" h="1265">
                    <a:moveTo>
                      <a:pt x="319" y="0"/>
                    </a:moveTo>
                    <a:lnTo>
                      <a:pt x="300" y="9"/>
                    </a:lnTo>
                    <a:lnTo>
                      <a:pt x="289" y="17"/>
                    </a:lnTo>
                    <a:lnTo>
                      <a:pt x="274" y="32"/>
                    </a:lnTo>
                    <a:lnTo>
                      <a:pt x="263" y="51"/>
                    </a:lnTo>
                    <a:lnTo>
                      <a:pt x="259" y="66"/>
                    </a:lnTo>
                    <a:lnTo>
                      <a:pt x="0" y="1248"/>
                    </a:lnTo>
                    <a:lnTo>
                      <a:pt x="10" y="1265"/>
                    </a:lnTo>
                    <a:lnTo>
                      <a:pt x="273" y="66"/>
                    </a:lnTo>
                    <a:lnTo>
                      <a:pt x="280" y="48"/>
                    </a:lnTo>
                    <a:lnTo>
                      <a:pt x="288" y="36"/>
                    </a:lnTo>
                    <a:lnTo>
                      <a:pt x="298" y="25"/>
                    </a:lnTo>
                    <a:lnTo>
                      <a:pt x="311" y="17"/>
                    </a:lnTo>
                    <a:lnTo>
                      <a:pt x="324" y="10"/>
                    </a:lnTo>
                    <a:lnTo>
                      <a:pt x="330" y="4"/>
                    </a:lnTo>
                    <a:lnTo>
                      <a:pt x="319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5" name=""/>
            <p:cNvGrpSpPr/>
            <p:nvPr/>
          </p:nvGrpSpPr>
          <p:grpSpPr>
            <a:xfrm>
              <a:off x="2362320" y="6202440"/>
              <a:ext cx="318600" cy="209520"/>
              <a:chOff x="2362320" y="6202440"/>
              <a:chExt cx="318600" cy="209520"/>
            </a:xfrm>
          </p:grpSpPr>
          <p:grpSp>
            <p:nvGrpSpPr>
              <p:cNvPr id="3806" name=""/>
              <p:cNvGrpSpPr/>
              <p:nvPr/>
            </p:nvGrpSpPr>
            <p:grpSpPr>
              <a:xfrm>
                <a:off x="2362320" y="6203880"/>
                <a:ext cx="318600" cy="208080"/>
                <a:chOff x="2362320" y="6203880"/>
                <a:chExt cx="318600" cy="208080"/>
              </a:xfrm>
            </p:grpSpPr>
            <p:sp>
              <p:nvSpPr>
                <p:cNvPr id="3807" name=""/>
                <p:cNvSpPr/>
                <p:nvPr/>
              </p:nvSpPr>
              <p:spPr>
                <a:xfrm>
                  <a:off x="2527200" y="6203880"/>
                  <a:ext cx="151920" cy="163800"/>
                </a:xfrm>
                <a:custGeom>
                  <a:avLst/>
                  <a:gdLst/>
                  <a:ahLst/>
                  <a:rect l="l" t="t" r="r" b="b"/>
                  <a:pathLst>
                    <a:path w="863" h="823">
                      <a:moveTo>
                        <a:pt x="863" y="823"/>
                      </a:moveTo>
                      <a:lnTo>
                        <a:pt x="848" y="713"/>
                      </a:lnTo>
                      <a:lnTo>
                        <a:pt x="823" y="663"/>
                      </a:lnTo>
                      <a:lnTo>
                        <a:pt x="111" y="2"/>
                      </a:lnTo>
                      <a:lnTo>
                        <a:pt x="78" y="0"/>
                      </a:lnTo>
                      <a:lnTo>
                        <a:pt x="48" y="2"/>
                      </a:lnTo>
                      <a:lnTo>
                        <a:pt x="26" y="36"/>
                      </a:lnTo>
                      <a:lnTo>
                        <a:pt x="0" y="124"/>
                      </a:lnTo>
                      <a:lnTo>
                        <a:pt x="701" y="816"/>
                      </a:lnTo>
                      <a:lnTo>
                        <a:pt x="863" y="823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8" name=""/>
                <p:cNvSpPr/>
                <p:nvPr/>
              </p:nvSpPr>
              <p:spPr>
                <a:xfrm>
                  <a:off x="2367000" y="6224760"/>
                  <a:ext cx="282240" cy="146160"/>
                </a:xfrm>
                <a:custGeom>
                  <a:avLst/>
                  <a:gdLst/>
                  <a:ahLst/>
                  <a:rect l="l" t="t" r="r" b="b"/>
                  <a:pathLst>
                    <a:path w="1595" h="738">
                      <a:moveTo>
                        <a:pt x="0" y="0"/>
                      </a:moveTo>
                      <a:lnTo>
                        <a:pt x="908" y="21"/>
                      </a:lnTo>
                      <a:lnTo>
                        <a:pt x="1595" y="696"/>
                      </a:lnTo>
                      <a:lnTo>
                        <a:pt x="388" y="7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9" name=""/>
                <p:cNvSpPr/>
                <p:nvPr/>
              </p:nvSpPr>
              <p:spPr>
                <a:xfrm>
                  <a:off x="2427120" y="6361200"/>
                  <a:ext cx="253800" cy="50760"/>
                </a:xfrm>
                <a:custGeom>
                  <a:avLst/>
                  <a:gdLst/>
                  <a:ahLst/>
                  <a:rect l="l" t="t" r="r" b="b"/>
                  <a:pathLst>
                    <a:path w="1440" h="254">
                      <a:moveTo>
                        <a:pt x="43" y="45"/>
                      </a:moveTo>
                      <a:lnTo>
                        <a:pt x="0" y="254"/>
                      </a:lnTo>
                      <a:lnTo>
                        <a:pt x="1425" y="220"/>
                      </a:lnTo>
                      <a:lnTo>
                        <a:pt x="1440" y="148"/>
                      </a:lnTo>
                      <a:lnTo>
                        <a:pt x="1436" y="64"/>
                      </a:lnTo>
                      <a:lnTo>
                        <a:pt x="1432" y="0"/>
                      </a:lnTo>
                      <a:lnTo>
                        <a:pt x="43" y="45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0" name=""/>
                <p:cNvSpPr/>
                <p:nvPr/>
              </p:nvSpPr>
              <p:spPr>
                <a:xfrm>
                  <a:off x="2362320" y="6224760"/>
                  <a:ext cx="72720" cy="187200"/>
                </a:xfrm>
                <a:custGeom>
                  <a:avLst/>
                  <a:gdLst/>
                  <a:ahLst/>
                  <a:rect l="l" t="t" r="r" b="b"/>
                  <a:pathLst>
                    <a:path w="415" h="946">
                      <a:moveTo>
                        <a:pt x="30" y="0"/>
                      </a:moveTo>
                      <a:lnTo>
                        <a:pt x="0" y="171"/>
                      </a:lnTo>
                      <a:lnTo>
                        <a:pt x="371" y="946"/>
                      </a:lnTo>
                      <a:lnTo>
                        <a:pt x="415" y="73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1" name=""/>
                <p:cNvSpPr/>
                <p:nvPr/>
              </p:nvSpPr>
              <p:spPr>
                <a:xfrm>
                  <a:off x="2528640" y="6362640"/>
                  <a:ext cx="37800" cy="3240"/>
                </a:xfrm>
                <a:custGeom>
                  <a:avLst/>
                  <a:gdLst/>
                  <a:ahLst/>
                  <a:rect l="l" t="t" r="r" b="b"/>
                  <a:pathLst>
                    <a:path w="213" h="22">
                      <a:moveTo>
                        <a:pt x="2" y="22"/>
                      </a:moveTo>
                      <a:lnTo>
                        <a:pt x="0" y="0"/>
                      </a:lnTo>
                      <a:lnTo>
                        <a:pt x="202" y="0"/>
                      </a:lnTo>
                      <a:lnTo>
                        <a:pt x="213" y="17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2" name=""/>
                <p:cNvSpPr/>
                <p:nvPr/>
              </p:nvSpPr>
              <p:spPr>
                <a:xfrm>
                  <a:off x="2449440" y="6224760"/>
                  <a:ext cx="78840" cy="142920"/>
                </a:xfrm>
                <a:custGeom>
                  <a:avLst/>
                  <a:gdLst/>
                  <a:ahLst/>
                  <a:rect l="l" t="t" r="r" b="b"/>
                  <a:pathLst>
                    <a:path w="455" h="714">
                      <a:moveTo>
                        <a:pt x="452" y="685"/>
                      </a:moveTo>
                      <a:lnTo>
                        <a:pt x="0" y="0"/>
                      </a:lnTo>
                      <a:lnTo>
                        <a:pt x="455" y="714"/>
                      </a:lnTo>
                      <a:lnTo>
                        <a:pt x="452" y="685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3" name=""/>
              <p:cNvGrpSpPr/>
              <p:nvPr/>
            </p:nvGrpSpPr>
            <p:grpSpPr>
              <a:xfrm>
                <a:off x="2384280" y="6228000"/>
                <a:ext cx="146880" cy="136440"/>
                <a:chOff x="2384280" y="6228000"/>
                <a:chExt cx="146880" cy="136440"/>
              </a:xfrm>
            </p:grpSpPr>
            <p:grpSp>
              <p:nvGrpSpPr>
                <p:cNvPr id="3814" name=""/>
                <p:cNvGrpSpPr/>
                <p:nvPr/>
              </p:nvGrpSpPr>
              <p:grpSpPr>
                <a:xfrm>
                  <a:off x="2393640" y="6230880"/>
                  <a:ext cx="13320" cy="12960"/>
                  <a:chOff x="2393640" y="6230880"/>
                  <a:chExt cx="13320" cy="12960"/>
                </a:xfrm>
              </p:grpSpPr>
              <p:sp>
                <p:nvSpPr>
                  <p:cNvPr id="3815" name=""/>
                  <p:cNvSpPr/>
                  <p:nvPr/>
                </p:nvSpPr>
                <p:spPr>
                  <a:xfrm>
                    <a:off x="2393640" y="6230880"/>
                    <a:ext cx="25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8" y="26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6" name=""/>
                  <p:cNvSpPr/>
                  <p:nvPr/>
                </p:nvSpPr>
                <p:spPr>
                  <a:xfrm>
                    <a:off x="2394720" y="623268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4" y="10"/>
                        </a:lnTo>
                        <a:lnTo>
                          <a:pt x="58" y="25"/>
                        </a:lnTo>
                        <a:lnTo>
                          <a:pt x="14" y="25"/>
                        </a:lnTo>
                        <a:lnTo>
                          <a:pt x="6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7" name=""/>
                  <p:cNvSpPr/>
                  <p:nvPr/>
                </p:nvSpPr>
                <p:spPr>
                  <a:xfrm>
                    <a:off x="2396160" y="623736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5" y="7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18" name=""/>
                <p:cNvGrpSpPr/>
                <p:nvPr/>
              </p:nvGrpSpPr>
              <p:grpSpPr>
                <a:xfrm>
                  <a:off x="2396520" y="6239160"/>
                  <a:ext cx="13680" cy="10800"/>
                  <a:chOff x="2396520" y="6239160"/>
                  <a:chExt cx="13680" cy="10800"/>
                </a:xfrm>
              </p:grpSpPr>
              <p:sp>
                <p:nvSpPr>
                  <p:cNvPr id="3819" name=""/>
                  <p:cNvSpPr/>
                  <p:nvPr/>
                </p:nvSpPr>
                <p:spPr>
                  <a:xfrm>
                    <a:off x="2396520" y="6239160"/>
                    <a:ext cx="46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1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0" name=""/>
                  <p:cNvSpPr/>
                  <p:nvPr/>
                </p:nvSpPr>
                <p:spPr>
                  <a:xfrm>
                    <a:off x="2397960" y="623916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39" y="0"/>
                        </a:lnTo>
                        <a:lnTo>
                          <a:pt x="40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7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1" name=""/>
                  <p:cNvSpPr/>
                  <p:nvPr/>
                </p:nvSpPr>
                <p:spPr>
                  <a:xfrm>
                    <a:off x="2399400" y="6243840"/>
                    <a:ext cx="10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4" y="7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22" name=""/>
                <p:cNvSpPr/>
                <p:nvPr/>
              </p:nvSpPr>
              <p:spPr>
                <a:xfrm>
                  <a:off x="2455560" y="6234120"/>
                  <a:ext cx="10440" cy="5040"/>
                </a:xfrm>
                <a:custGeom>
                  <a:avLst/>
                  <a:gdLst/>
                  <a:ahLst/>
                  <a:rect l="l" t="t" r="r" b="b"/>
                  <a:pathLst>
                    <a:path w="63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3" y="31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3" name=""/>
                <p:cNvSpPr/>
                <p:nvPr/>
              </p:nvSpPr>
              <p:spPr>
                <a:xfrm>
                  <a:off x="2430000" y="6232680"/>
                  <a:ext cx="2880" cy="11160"/>
                </a:xfrm>
                <a:custGeom>
                  <a:avLst/>
                  <a:gdLst/>
                  <a:ahLst/>
                  <a:rect l="l" t="t" r="r" b="b"/>
                  <a:pathLst>
                    <a:path w="20" h="58">
                      <a:moveTo>
                        <a:pt x="12" y="58"/>
                      </a:moveTo>
                      <a:lnTo>
                        <a:pt x="0" y="23"/>
                      </a:lnTo>
                      <a:lnTo>
                        <a:pt x="9" y="0"/>
                      </a:lnTo>
                      <a:lnTo>
                        <a:pt x="20" y="26"/>
                      </a:lnTo>
                      <a:lnTo>
                        <a:pt x="12" y="58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4" name=""/>
                <p:cNvSpPr/>
                <p:nvPr/>
              </p:nvSpPr>
              <p:spPr>
                <a:xfrm>
                  <a:off x="2431440" y="623268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57" h="25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41" y="2"/>
                      </a:lnTo>
                      <a:lnTo>
                        <a:pt x="44" y="11"/>
                      </a:lnTo>
                      <a:lnTo>
                        <a:pt x="57" y="25"/>
                      </a:lnTo>
                      <a:lnTo>
                        <a:pt x="13" y="25"/>
                      </a:lnTo>
                      <a:lnTo>
                        <a:pt x="5" y="17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5" name=""/>
                <p:cNvSpPr/>
                <p:nvPr/>
              </p:nvSpPr>
              <p:spPr>
                <a:xfrm>
                  <a:off x="2431440" y="623736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7" h="31">
                      <a:moveTo>
                        <a:pt x="0" y="31"/>
                      </a:moveTo>
                      <a:lnTo>
                        <a:pt x="1" y="17"/>
                      </a:lnTo>
                      <a:lnTo>
                        <a:pt x="6" y="7"/>
                      </a:lnTo>
                      <a:lnTo>
                        <a:pt x="9" y="0"/>
                      </a:lnTo>
                      <a:lnTo>
                        <a:pt x="55" y="0"/>
                      </a:lnTo>
                      <a:lnTo>
                        <a:pt x="67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26" name=""/>
                <p:cNvGrpSpPr/>
                <p:nvPr/>
              </p:nvGrpSpPr>
              <p:grpSpPr>
                <a:xfrm>
                  <a:off x="2433240" y="6239160"/>
                  <a:ext cx="13320" cy="10800"/>
                  <a:chOff x="2433240" y="6239160"/>
                  <a:chExt cx="13320" cy="10800"/>
                </a:xfrm>
              </p:grpSpPr>
              <p:sp>
                <p:nvSpPr>
                  <p:cNvPr id="3827" name=""/>
                  <p:cNvSpPr/>
                  <p:nvPr/>
                </p:nvSpPr>
                <p:spPr>
                  <a:xfrm>
                    <a:off x="2433240" y="6239160"/>
                    <a:ext cx="28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1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1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8" name=""/>
                  <p:cNvSpPr/>
                  <p:nvPr/>
                </p:nvSpPr>
                <p:spPr>
                  <a:xfrm>
                    <a:off x="2434320" y="623916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9"/>
                        </a:lnTo>
                        <a:lnTo>
                          <a:pt x="59" y="25"/>
                        </a:lnTo>
                        <a:lnTo>
                          <a:pt x="15" y="25"/>
                        </a:lnTo>
                        <a:lnTo>
                          <a:pt x="8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9" name=""/>
                  <p:cNvSpPr/>
                  <p:nvPr/>
                </p:nvSpPr>
                <p:spPr>
                  <a:xfrm>
                    <a:off x="2434320" y="624384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1">
                        <a:moveTo>
                          <a:pt x="0" y="31"/>
                        </a:moveTo>
                        <a:lnTo>
                          <a:pt x="3" y="16"/>
                        </a:lnTo>
                        <a:lnTo>
                          <a:pt x="6" y="6"/>
                        </a:lnTo>
                        <a:lnTo>
                          <a:pt x="10" y="0"/>
                        </a:lnTo>
                        <a:lnTo>
                          <a:pt x="55" y="0"/>
                        </a:lnTo>
                        <a:lnTo>
                          <a:pt x="68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30" name=""/>
                <p:cNvGrpSpPr/>
                <p:nvPr/>
              </p:nvGrpSpPr>
              <p:grpSpPr>
                <a:xfrm>
                  <a:off x="2436480" y="6245280"/>
                  <a:ext cx="13320" cy="11160"/>
                  <a:chOff x="2436480" y="6245280"/>
                  <a:chExt cx="13320" cy="11160"/>
                </a:xfrm>
              </p:grpSpPr>
              <p:sp>
                <p:nvSpPr>
                  <p:cNvPr id="3831" name=""/>
                  <p:cNvSpPr/>
                  <p:nvPr/>
                </p:nvSpPr>
                <p:spPr>
                  <a:xfrm>
                    <a:off x="2436480" y="6245280"/>
                    <a:ext cx="25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9" y="0"/>
                        </a:lnTo>
                        <a:lnTo>
                          <a:pt x="20" y="27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2" name=""/>
                  <p:cNvSpPr/>
                  <p:nvPr/>
                </p:nvSpPr>
                <p:spPr>
                  <a:xfrm>
                    <a:off x="2437560" y="624528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3" y="0"/>
                        </a:moveTo>
                        <a:lnTo>
                          <a:pt x="40" y="0"/>
                        </a:lnTo>
                        <a:lnTo>
                          <a:pt x="42" y="3"/>
                        </a:lnTo>
                        <a:lnTo>
                          <a:pt x="46" y="10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3" name=""/>
                  <p:cNvSpPr/>
                  <p:nvPr/>
                </p:nvSpPr>
                <p:spPr>
                  <a:xfrm>
                    <a:off x="2439000" y="624996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34" name=""/>
                <p:cNvGrpSpPr/>
                <p:nvPr/>
              </p:nvGrpSpPr>
              <p:grpSpPr>
                <a:xfrm>
                  <a:off x="2439360" y="6249960"/>
                  <a:ext cx="13680" cy="12960"/>
                  <a:chOff x="2439360" y="6249960"/>
                  <a:chExt cx="13680" cy="12960"/>
                </a:xfrm>
              </p:grpSpPr>
              <p:sp>
                <p:nvSpPr>
                  <p:cNvPr id="3835" name=""/>
                  <p:cNvSpPr/>
                  <p:nvPr/>
                </p:nvSpPr>
                <p:spPr>
                  <a:xfrm>
                    <a:off x="2439360" y="6249960"/>
                    <a:ext cx="46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3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3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6" name=""/>
                  <p:cNvSpPr/>
                  <p:nvPr/>
                </p:nvSpPr>
                <p:spPr>
                  <a:xfrm>
                    <a:off x="2440800" y="625176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5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7" name=""/>
                  <p:cNvSpPr/>
                  <p:nvPr/>
                </p:nvSpPr>
                <p:spPr>
                  <a:xfrm>
                    <a:off x="2442240" y="625644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7"/>
                        </a:lnTo>
                        <a:lnTo>
                          <a:pt x="4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38" name=""/>
                <p:cNvGrpSpPr/>
                <p:nvPr/>
              </p:nvGrpSpPr>
              <p:grpSpPr>
                <a:xfrm>
                  <a:off x="2444400" y="6257880"/>
                  <a:ext cx="13320" cy="11160"/>
                  <a:chOff x="2444400" y="6257880"/>
                  <a:chExt cx="13320" cy="11160"/>
                </a:xfrm>
              </p:grpSpPr>
              <p:sp>
                <p:nvSpPr>
                  <p:cNvPr id="3839" name=""/>
                  <p:cNvSpPr/>
                  <p:nvPr/>
                </p:nvSpPr>
                <p:spPr>
                  <a:xfrm>
                    <a:off x="2444400" y="6257880"/>
                    <a:ext cx="25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2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2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0" name=""/>
                  <p:cNvSpPr/>
                  <p:nvPr/>
                </p:nvSpPr>
                <p:spPr>
                  <a:xfrm>
                    <a:off x="2445480" y="625788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5">
                        <a:moveTo>
                          <a:pt x="2" y="0"/>
                        </a:moveTo>
                        <a:lnTo>
                          <a:pt x="41" y="0"/>
                        </a:lnTo>
                        <a:lnTo>
                          <a:pt x="42" y="2"/>
                        </a:lnTo>
                        <a:lnTo>
                          <a:pt x="46" y="10"/>
                        </a:lnTo>
                        <a:lnTo>
                          <a:pt x="61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1" name=""/>
                  <p:cNvSpPr/>
                  <p:nvPr/>
                </p:nvSpPr>
                <p:spPr>
                  <a:xfrm>
                    <a:off x="2445480" y="626292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7"/>
                        </a:lnTo>
                        <a:lnTo>
                          <a:pt x="6" y="7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42" name=""/>
                <p:cNvGrpSpPr/>
                <p:nvPr/>
              </p:nvGrpSpPr>
              <p:grpSpPr>
                <a:xfrm>
                  <a:off x="2447280" y="6264360"/>
                  <a:ext cx="27720" cy="38160"/>
                  <a:chOff x="2447280" y="6264360"/>
                  <a:chExt cx="27720" cy="38160"/>
                </a:xfrm>
              </p:grpSpPr>
              <p:grpSp>
                <p:nvGrpSpPr>
                  <p:cNvPr id="3843" name=""/>
                  <p:cNvGrpSpPr/>
                  <p:nvPr/>
                </p:nvGrpSpPr>
                <p:grpSpPr>
                  <a:xfrm>
                    <a:off x="2447280" y="6264360"/>
                    <a:ext cx="13680" cy="12600"/>
                    <a:chOff x="2447280" y="6264360"/>
                    <a:chExt cx="13680" cy="12600"/>
                  </a:xfrm>
                </p:grpSpPr>
                <p:sp>
                  <p:nvSpPr>
                    <p:cNvPr id="3844" name=""/>
                    <p:cNvSpPr/>
                    <p:nvPr/>
                  </p:nvSpPr>
                  <p:spPr>
                    <a:xfrm>
                      <a:off x="2447280" y="6264360"/>
                      <a:ext cx="28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0">
                          <a:moveTo>
                            <a:pt x="10" y="60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7"/>
                          </a:lnTo>
                          <a:lnTo>
                            <a:pt x="10" y="6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5" name=""/>
                    <p:cNvSpPr/>
                    <p:nvPr/>
                  </p:nvSpPr>
                  <p:spPr>
                    <a:xfrm>
                      <a:off x="2448720" y="626580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6" y="10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8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6" name=""/>
                    <p:cNvSpPr/>
                    <p:nvPr/>
                  </p:nvSpPr>
                  <p:spPr>
                    <a:xfrm>
                      <a:off x="2448720" y="6270840"/>
                      <a:ext cx="122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2">
                          <a:moveTo>
                            <a:pt x="0" y="32"/>
                          </a:moveTo>
                          <a:lnTo>
                            <a:pt x="2" y="18"/>
                          </a:lnTo>
                          <a:lnTo>
                            <a:pt x="7" y="6"/>
                          </a:lnTo>
                          <a:lnTo>
                            <a:pt x="11" y="0"/>
                          </a:lnTo>
                          <a:lnTo>
                            <a:pt x="57" y="0"/>
                          </a:lnTo>
                          <a:lnTo>
                            <a:pt x="67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47" name=""/>
                  <p:cNvGrpSpPr/>
                  <p:nvPr/>
                </p:nvGrpSpPr>
                <p:grpSpPr>
                  <a:xfrm>
                    <a:off x="2450160" y="6270840"/>
                    <a:ext cx="13680" cy="12600"/>
                    <a:chOff x="2450160" y="6270840"/>
                    <a:chExt cx="13680" cy="12600"/>
                  </a:xfrm>
                </p:grpSpPr>
                <p:sp>
                  <p:nvSpPr>
                    <p:cNvPr id="3848" name=""/>
                    <p:cNvSpPr/>
                    <p:nvPr/>
                  </p:nvSpPr>
                  <p:spPr>
                    <a:xfrm>
                      <a:off x="2450160" y="6270840"/>
                      <a:ext cx="28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4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9" name=""/>
                    <p:cNvSpPr/>
                    <p:nvPr/>
                  </p:nvSpPr>
                  <p:spPr>
                    <a:xfrm>
                      <a:off x="2451600" y="627228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7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3" y="2"/>
                          </a:lnTo>
                          <a:lnTo>
                            <a:pt x="46" y="11"/>
                          </a:lnTo>
                          <a:lnTo>
                            <a:pt x="61" y="27"/>
                          </a:lnTo>
                          <a:lnTo>
                            <a:pt x="15" y="27"/>
                          </a:lnTo>
                          <a:lnTo>
                            <a:pt x="8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0" name=""/>
                    <p:cNvSpPr/>
                    <p:nvPr/>
                  </p:nvSpPr>
                  <p:spPr>
                    <a:xfrm>
                      <a:off x="2453040" y="627696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4" y="6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51" name=""/>
                  <p:cNvGrpSpPr/>
                  <p:nvPr/>
                </p:nvGrpSpPr>
                <p:grpSpPr>
                  <a:xfrm>
                    <a:off x="2453400" y="6278760"/>
                    <a:ext cx="13680" cy="11160"/>
                    <a:chOff x="2453400" y="6278760"/>
                    <a:chExt cx="13680" cy="11160"/>
                  </a:xfrm>
                </p:grpSpPr>
                <p:sp>
                  <p:nvSpPr>
                    <p:cNvPr id="3852" name=""/>
                    <p:cNvSpPr/>
                    <p:nvPr/>
                  </p:nvSpPr>
                  <p:spPr>
                    <a:xfrm>
                      <a:off x="2453400" y="6278760"/>
                      <a:ext cx="43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2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0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3" name=""/>
                    <p:cNvSpPr/>
                    <p:nvPr/>
                  </p:nvSpPr>
                  <p:spPr>
                    <a:xfrm>
                      <a:off x="2454840" y="6278760"/>
                      <a:ext cx="104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58" y="25"/>
                          </a:lnTo>
                          <a:lnTo>
                            <a:pt x="14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4" name=""/>
                    <p:cNvSpPr/>
                    <p:nvPr/>
                  </p:nvSpPr>
                  <p:spPr>
                    <a:xfrm>
                      <a:off x="2456280" y="62834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2" y="17"/>
                          </a:lnTo>
                          <a:lnTo>
                            <a:pt x="5" y="7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55" name=""/>
                  <p:cNvGrpSpPr/>
                  <p:nvPr/>
                </p:nvGrpSpPr>
                <p:grpSpPr>
                  <a:xfrm>
                    <a:off x="2458080" y="6283440"/>
                    <a:ext cx="13680" cy="12600"/>
                    <a:chOff x="2458080" y="6283440"/>
                    <a:chExt cx="13680" cy="12600"/>
                  </a:xfrm>
                </p:grpSpPr>
                <p:sp>
                  <p:nvSpPr>
                    <p:cNvPr id="3856" name=""/>
                    <p:cNvSpPr/>
                    <p:nvPr/>
                  </p:nvSpPr>
                  <p:spPr>
                    <a:xfrm>
                      <a:off x="2458080" y="6283440"/>
                      <a:ext cx="28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9">
                          <a:moveTo>
                            <a:pt x="13" y="59"/>
                          </a:moveTo>
                          <a:lnTo>
                            <a:pt x="0" y="23"/>
                          </a:lnTo>
                          <a:lnTo>
                            <a:pt x="10" y="0"/>
                          </a:lnTo>
                          <a:lnTo>
                            <a:pt x="21" y="27"/>
                          </a:lnTo>
                          <a:lnTo>
                            <a:pt x="13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7" name=""/>
                    <p:cNvSpPr/>
                    <p:nvPr/>
                  </p:nvSpPr>
                  <p:spPr>
                    <a:xfrm>
                      <a:off x="2459520" y="6284880"/>
                      <a:ext cx="90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25">
                          <a:moveTo>
                            <a:pt x="2" y="0"/>
                          </a:moveTo>
                          <a:lnTo>
                            <a:pt x="39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59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4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8" name=""/>
                    <p:cNvSpPr/>
                    <p:nvPr/>
                  </p:nvSpPr>
                  <p:spPr>
                    <a:xfrm>
                      <a:off x="2459520" y="6289920"/>
                      <a:ext cx="122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5" y="7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59" name=""/>
                  <p:cNvGrpSpPr/>
                  <p:nvPr/>
                </p:nvGrpSpPr>
                <p:grpSpPr>
                  <a:xfrm>
                    <a:off x="2461320" y="6291360"/>
                    <a:ext cx="13680" cy="11160"/>
                    <a:chOff x="2461320" y="6291360"/>
                    <a:chExt cx="13680" cy="11160"/>
                  </a:xfrm>
                </p:grpSpPr>
                <p:sp>
                  <p:nvSpPr>
                    <p:cNvPr id="3860" name=""/>
                    <p:cNvSpPr/>
                    <p:nvPr/>
                  </p:nvSpPr>
                  <p:spPr>
                    <a:xfrm>
                      <a:off x="2461320" y="629136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2" y="58"/>
                          </a:moveTo>
                          <a:lnTo>
                            <a:pt x="0" y="22"/>
                          </a:lnTo>
                          <a:lnTo>
                            <a:pt x="8" y="0"/>
                          </a:lnTo>
                          <a:lnTo>
                            <a:pt x="20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1" name=""/>
                    <p:cNvSpPr/>
                    <p:nvPr/>
                  </p:nvSpPr>
                  <p:spPr>
                    <a:xfrm>
                      <a:off x="2462760" y="6291360"/>
                      <a:ext cx="104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8" y="17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2" name=""/>
                    <p:cNvSpPr/>
                    <p:nvPr/>
                  </p:nvSpPr>
                  <p:spPr>
                    <a:xfrm>
                      <a:off x="2462760" y="6296040"/>
                      <a:ext cx="122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2" y="17"/>
                          </a:lnTo>
                          <a:lnTo>
                            <a:pt x="5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863" name=""/>
                <p:cNvGrpSpPr/>
                <p:nvPr/>
              </p:nvGrpSpPr>
              <p:grpSpPr>
                <a:xfrm>
                  <a:off x="2464920" y="6297840"/>
                  <a:ext cx="27360" cy="37800"/>
                  <a:chOff x="2464920" y="6297840"/>
                  <a:chExt cx="27360" cy="37800"/>
                </a:xfrm>
              </p:grpSpPr>
              <p:grpSp>
                <p:nvGrpSpPr>
                  <p:cNvPr id="3864" name=""/>
                  <p:cNvGrpSpPr/>
                  <p:nvPr/>
                </p:nvGrpSpPr>
                <p:grpSpPr>
                  <a:xfrm>
                    <a:off x="2464920" y="6297840"/>
                    <a:ext cx="13680" cy="12600"/>
                    <a:chOff x="2464920" y="6297840"/>
                    <a:chExt cx="13680" cy="12600"/>
                  </a:xfrm>
                </p:grpSpPr>
                <p:sp>
                  <p:nvSpPr>
                    <p:cNvPr id="3865" name=""/>
                    <p:cNvSpPr/>
                    <p:nvPr/>
                  </p:nvSpPr>
                  <p:spPr>
                    <a:xfrm>
                      <a:off x="2464920" y="6297840"/>
                      <a:ext cx="28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6" name=""/>
                    <p:cNvSpPr/>
                    <p:nvPr/>
                  </p:nvSpPr>
                  <p:spPr>
                    <a:xfrm>
                      <a:off x="2466000" y="629928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3" y="3"/>
                          </a:lnTo>
                          <a:lnTo>
                            <a:pt x="46" y="11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9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7" name=""/>
                    <p:cNvSpPr/>
                    <p:nvPr/>
                  </p:nvSpPr>
                  <p:spPr>
                    <a:xfrm>
                      <a:off x="2467800" y="630396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8"/>
                          </a:lnTo>
                          <a:lnTo>
                            <a:pt x="5" y="7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68" name=""/>
                  <p:cNvGrpSpPr/>
                  <p:nvPr/>
                </p:nvGrpSpPr>
                <p:grpSpPr>
                  <a:xfrm>
                    <a:off x="2467800" y="6303960"/>
                    <a:ext cx="13320" cy="12960"/>
                    <a:chOff x="2467800" y="6303960"/>
                    <a:chExt cx="13320" cy="12960"/>
                  </a:xfrm>
                </p:grpSpPr>
                <p:sp>
                  <p:nvSpPr>
                    <p:cNvPr id="3869" name=""/>
                    <p:cNvSpPr/>
                    <p:nvPr/>
                  </p:nvSpPr>
                  <p:spPr>
                    <a:xfrm>
                      <a:off x="2467800" y="6303960"/>
                      <a:ext cx="432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1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0" name=""/>
                    <p:cNvSpPr/>
                    <p:nvPr/>
                  </p:nvSpPr>
                  <p:spPr>
                    <a:xfrm>
                      <a:off x="2468880" y="630396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2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9" y="17"/>
                          </a:lnTo>
                          <a:lnTo>
                            <a:pt x="0" y="5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1" name=""/>
                    <p:cNvSpPr/>
                    <p:nvPr/>
                  </p:nvSpPr>
                  <p:spPr>
                    <a:xfrm>
                      <a:off x="2470680" y="6310440"/>
                      <a:ext cx="104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2">
                          <a:moveTo>
                            <a:pt x="0" y="32"/>
                          </a:moveTo>
                          <a:lnTo>
                            <a:pt x="3" y="17"/>
                          </a:lnTo>
                          <a:lnTo>
                            <a:pt x="6" y="7"/>
                          </a:lnTo>
                          <a:lnTo>
                            <a:pt x="10" y="0"/>
                          </a:lnTo>
                          <a:lnTo>
                            <a:pt x="55" y="0"/>
                          </a:lnTo>
                          <a:lnTo>
                            <a:pt x="67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72" name=""/>
                  <p:cNvGrpSpPr/>
                  <p:nvPr/>
                </p:nvGrpSpPr>
                <p:grpSpPr>
                  <a:xfrm>
                    <a:off x="2472480" y="6310440"/>
                    <a:ext cx="11880" cy="12600"/>
                    <a:chOff x="2472480" y="6310440"/>
                    <a:chExt cx="11880" cy="12600"/>
                  </a:xfrm>
                </p:grpSpPr>
                <p:sp>
                  <p:nvSpPr>
                    <p:cNvPr id="3873" name=""/>
                    <p:cNvSpPr/>
                    <p:nvPr/>
                  </p:nvSpPr>
                  <p:spPr>
                    <a:xfrm>
                      <a:off x="2472480" y="6310440"/>
                      <a:ext cx="28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4"/>
                          </a:lnTo>
                          <a:lnTo>
                            <a:pt x="8" y="0"/>
                          </a:lnTo>
                          <a:lnTo>
                            <a:pt x="20" y="27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4" name=""/>
                    <p:cNvSpPr/>
                    <p:nvPr/>
                  </p:nvSpPr>
                  <p:spPr>
                    <a:xfrm>
                      <a:off x="2472480" y="63104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2" y="2"/>
                          </a:lnTo>
                          <a:lnTo>
                            <a:pt x="45" y="10"/>
                          </a:lnTo>
                          <a:lnTo>
                            <a:pt x="60" y="26"/>
                          </a:lnTo>
                          <a:lnTo>
                            <a:pt x="15" y="26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5" name=""/>
                    <p:cNvSpPr/>
                    <p:nvPr/>
                  </p:nvSpPr>
                  <p:spPr>
                    <a:xfrm>
                      <a:off x="2473560" y="631692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6" y="7"/>
                          </a:lnTo>
                          <a:lnTo>
                            <a:pt x="10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76" name=""/>
                  <p:cNvGrpSpPr/>
                  <p:nvPr/>
                </p:nvGrpSpPr>
                <p:grpSpPr>
                  <a:xfrm>
                    <a:off x="2475720" y="6316920"/>
                    <a:ext cx="13680" cy="12600"/>
                    <a:chOff x="2475720" y="6316920"/>
                    <a:chExt cx="13680" cy="12600"/>
                  </a:xfrm>
                </p:grpSpPr>
                <p:sp>
                  <p:nvSpPr>
                    <p:cNvPr id="3877" name=""/>
                    <p:cNvSpPr/>
                    <p:nvPr/>
                  </p:nvSpPr>
                  <p:spPr>
                    <a:xfrm>
                      <a:off x="2475720" y="6316920"/>
                      <a:ext cx="28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0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8" name=""/>
                    <p:cNvSpPr/>
                    <p:nvPr/>
                  </p:nvSpPr>
                  <p:spPr>
                    <a:xfrm>
                      <a:off x="2476800" y="63183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2" y="2"/>
                          </a:lnTo>
                          <a:lnTo>
                            <a:pt x="46" y="9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9" name=""/>
                    <p:cNvSpPr/>
                    <p:nvPr/>
                  </p:nvSpPr>
                  <p:spPr>
                    <a:xfrm>
                      <a:off x="2476800" y="632304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2" y="16"/>
                          </a:lnTo>
                          <a:lnTo>
                            <a:pt x="6" y="7"/>
                          </a:lnTo>
                          <a:lnTo>
                            <a:pt x="11" y="0"/>
                          </a:lnTo>
                          <a:lnTo>
                            <a:pt x="57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80" name=""/>
                  <p:cNvGrpSpPr/>
                  <p:nvPr/>
                </p:nvGrpSpPr>
                <p:grpSpPr>
                  <a:xfrm>
                    <a:off x="2478960" y="6324840"/>
                    <a:ext cx="13320" cy="10800"/>
                    <a:chOff x="2478960" y="6324840"/>
                    <a:chExt cx="13320" cy="10800"/>
                  </a:xfrm>
                </p:grpSpPr>
                <p:sp>
                  <p:nvSpPr>
                    <p:cNvPr id="3881" name=""/>
                    <p:cNvSpPr/>
                    <p:nvPr/>
                  </p:nvSpPr>
                  <p:spPr>
                    <a:xfrm>
                      <a:off x="2478960" y="6324840"/>
                      <a:ext cx="252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8">
                          <a:moveTo>
                            <a:pt x="10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8" y="26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2" name=""/>
                    <p:cNvSpPr/>
                    <p:nvPr/>
                  </p:nvSpPr>
                  <p:spPr>
                    <a:xfrm>
                      <a:off x="2480040" y="632484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2" y="0"/>
                          </a:moveTo>
                          <a:lnTo>
                            <a:pt x="42" y="0"/>
                          </a:lnTo>
                          <a:lnTo>
                            <a:pt x="43" y="2"/>
                          </a:lnTo>
                          <a:lnTo>
                            <a:pt x="46" y="9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8" y="17"/>
                          </a:lnTo>
                          <a:lnTo>
                            <a:pt x="0" y="4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3" name=""/>
                    <p:cNvSpPr/>
                    <p:nvPr/>
                  </p:nvSpPr>
                  <p:spPr>
                    <a:xfrm>
                      <a:off x="2481480" y="632952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5" y="6"/>
                          </a:lnTo>
                          <a:lnTo>
                            <a:pt x="8" y="0"/>
                          </a:lnTo>
                          <a:lnTo>
                            <a:pt x="55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884" name=""/>
                <p:cNvGrpSpPr/>
                <p:nvPr/>
              </p:nvGrpSpPr>
              <p:grpSpPr>
                <a:xfrm>
                  <a:off x="2482200" y="6329520"/>
                  <a:ext cx="13680" cy="12600"/>
                  <a:chOff x="2482200" y="6329520"/>
                  <a:chExt cx="13680" cy="12600"/>
                </a:xfrm>
              </p:grpSpPr>
              <p:sp>
                <p:nvSpPr>
                  <p:cNvPr id="3885" name=""/>
                  <p:cNvSpPr/>
                  <p:nvPr/>
                </p:nvSpPr>
                <p:spPr>
                  <a:xfrm>
                    <a:off x="2482200" y="6329520"/>
                    <a:ext cx="2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9" y="27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6" name=""/>
                  <p:cNvSpPr/>
                  <p:nvPr/>
                </p:nvSpPr>
                <p:spPr>
                  <a:xfrm>
                    <a:off x="2483640" y="6329520"/>
                    <a:ext cx="10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1"/>
                        </a:lnTo>
                        <a:lnTo>
                          <a:pt x="59" y="26"/>
                        </a:lnTo>
                        <a:lnTo>
                          <a:pt x="14" y="26"/>
                        </a:lnTo>
                        <a:lnTo>
                          <a:pt x="8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7" name=""/>
                  <p:cNvSpPr/>
                  <p:nvPr/>
                </p:nvSpPr>
                <p:spPr>
                  <a:xfrm>
                    <a:off x="2485080" y="633564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9">
                        <a:moveTo>
                          <a:pt x="0" y="29"/>
                        </a:moveTo>
                        <a:lnTo>
                          <a:pt x="1" y="16"/>
                        </a:lnTo>
                        <a:lnTo>
                          <a:pt x="5" y="5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8" name=""/>
                <p:cNvGrpSpPr/>
                <p:nvPr/>
              </p:nvGrpSpPr>
              <p:grpSpPr>
                <a:xfrm>
                  <a:off x="2485440" y="6335640"/>
                  <a:ext cx="13680" cy="11160"/>
                  <a:chOff x="2485440" y="6335640"/>
                  <a:chExt cx="13680" cy="11160"/>
                </a:xfrm>
              </p:grpSpPr>
              <p:sp>
                <p:nvSpPr>
                  <p:cNvPr id="3889" name=""/>
                  <p:cNvSpPr/>
                  <p:nvPr/>
                </p:nvSpPr>
                <p:spPr>
                  <a:xfrm>
                    <a:off x="2485440" y="633564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0" name=""/>
                  <p:cNvSpPr/>
                  <p:nvPr/>
                </p:nvSpPr>
                <p:spPr>
                  <a:xfrm>
                    <a:off x="2486880" y="633564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2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4" y="25"/>
                        </a:lnTo>
                        <a:lnTo>
                          <a:pt x="8" y="17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1" name=""/>
                  <p:cNvSpPr/>
                  <p:nvPr/>
                </p:nvSpPr>
                <p:spPr>
                  <a:xfrm>
                    <a:off x="2488320" y="6342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7"/>
                        </a:lnTo>
                        <a:lnTo>
                          <a:pt x="4" y="7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92" name=""/>
                <p:cNvGrpSpPr/>
                <p:nvPr/>
              </p:nvGrpSpPr>
              <p:grpSpPr>
                <a:xfrm>
                  <a:off x="2490480" y="6342120"/>
                  <a:ext cx="11880" cy="12600"/>
                  <a:chOff x="2490480" y="6342120"/>
                  <a:chExt cx="11880" cy="12600"/>
                </a:xfrm>
              </p:grpSpPr>
              <p:sp>
                <p:nvSpPr>
                  <p:cNvPr id="3893" name=""/>
                  <p:cNvSpPr/>
                  <p:nvPr/>
                </p:nvSpPr>
                <p:spPr>
                  <a:xfrm>
                    <a:off x="2490480" y="6342120"/>
                    <a:ext cx="25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4" name=""/>
                  <p:cNvSpPr/>
                  <p:nvPr/>
                </p:nvSpPr>
                <p:spPr>
                  <a:xfrm>
                    <a:off x="2491560" y="634392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1"/>
                        </a:lnTo>
                        <a:lnTo>
                          <a:pt x="59" y="26"/>
                        </a:lnTo>
                        <a:lnTo>
                          <a:pt x="15" y="26"/>
                        </a:lnTo>
                        <a:lnTo>
                          <a:pt x="8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5" name=""/>
                  <p:cNvSpPr/>
                  <p:nvPr/>
                </p:nvSpPr>
                <p:spPr>
                  <a:xfrm>
                    <a:off x="2491560" y="6348600"/>
                    <a:ext cx="10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2" y="18"/>
                        </a:lnTo>
                        <a:lnTo>
                          <a:pt x="5" y="7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96" name=""/>
                <p:cNvSpPr/>
                <p:nvPr/>
              </p:nvSpPr>
              <p:spPr>
                <a:xfrm>
                  <a:off x="2417400" y="6232680"/>
                  <a:ext cx="4320" cy="11160"/>
                </a:xfrm>
                <a:custGeom>
                  <a:avLst/>
                  <a:gdLst/>
                  <a:ahLst/>
                  <a:rect l="l" t="t" r="r" b="b"/>
                  <a:pathLst>
                    <a:path w="20" h="58">
                      <a:moveTo>
                        <a:pt x="12" y="58"/>
                      </a:moveTo>
                      <a:lnTo>
                        <a:pt x="0" y="23"/>
                      </a:lnTo>
                      <a:lnTo>
                        <a:pt x="8" y="0"/>
                      </a:lnTo>
                      <a:lnTo>
                        <a:pt x="20" y="26"/>
                      </a:lnTo>
                      <a:lnTo>
                        <a:pt x="12" y="58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7" name=""/>
                <p:cNvSpPr/>
                <p:nvPr/>
              </p:nvSpPr>
              <p:spPr>
                <a:xfrm>
                  <a:off x="2418840" y="6232680"/>
                  <a:ext cx="10800" cy="4680"/>
                </a:xfrm>
                <a:custGeom>
                  <a:avLst/>
                  <a:gdLst/>
                  <a:ahLst/>
                  <a:rect l="l" t="t" r="r" b="b"/>
                  <a:pathLst>
                    <a:path w="57" h="23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41" y="1"/>
                      </a:lnTo>
                      <a:lnTo>
                        <a:pt x="45" y="10"/>
                      </a:lnTo>
                      <a:lnTo>
                        <a:pt x="57" y="23"/>
                      </a:lnTo>
                      <a:lnTo>
                        <a:pt x="14" y="23"/>
                      </a:lnTo>
                      <a:lnTo>
                        <a:pt x="6" y="16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8" name=""/>
                <p:cNvSpPr/>
                <p:nvPr/>
              </p:nvSpPr>
              <p:spPr>
                <a:xfrm>
                  <a:off x="2420640" y="6237360"/>
                  <a:ext cx="10440" cy="6480"/>
                </a:xfrm>
                <a:custGeom>
                  <a:avLst/>
                  <a:gdLst/>
                  <a:ahLst/>
                  <a:rect l="l" t="t" r="r" b="b"/>
                  <a:pathLst>
                    <a:path w="66" h="31">
                      <a:moveTo>
                        <a:pt x="0" y="31"/>
                      </a:moveTo>
                      <a:lnTo>
                        <a:pt x="1" y="18"/>
                      </a:lnTo>
                      <a:lnTo>
                        <a:pt x="4" y="7"/>
                      </a:lnTo>
                      <a:lnTo>
                        <a:pt x="9" y="0"/>
                      </a:lnTo>
                      <a:lnTo>
                        <a:pt x="55" y="0"/>
                      </a:lnTo>
                      <a:lnTo>
                        <a:pt x="66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99" name=""/>
                <p:cNvGrpSpPr/>
                <p:nvPr/>
              </p:nvGrpSpPr>
              <p:grpSpPr>
                <a:xfrm>
                  <a:off x="2422080" y="6239160"/>
                  <a:ext cx="11880" cy="10800"/>
                  <a:chOff x="2422080" y="6239160"/>
                  <a:chExt cx="11880" cy="10800"/>
                </a:xfrm>
              </p:grpSpPr>
              <p:sp>
                <p:nvSpPr>
                  <p:cNvPr id="3900" name=""/>
                  <p:cNvSpPr/>
                  <p:nvPr/>
                </p:nvSpPr>
                <p:spPr>
                  <a:xfrm>
                    <a:off x="2422080" y="6239160"/>
                    <a:ext cx="28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9" y="26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1" name=""/>
                  <p:cNvSpPr/>
                  <p:nvPr/>
                </p:nvSpPr>
                <p:spPr>
                  <a:xfrm>
                    <a:off x="2422080" y="623916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10"/>
                        </a:lnTo>
                        <a:lnTo>
                          <a:pt x="59" y="25"/>
                        </a:lnTo>
                        <a:lnTo>
                          <a:pt x="14" y="25"/>
                        </a:lnTo>
                        <a:lnTo>
                          <a:pt x="8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2" name=""/>
                  <p:cNvSpPr/>
                  <p:nvPr/>
                </p:nvSpPr>
                <p:spPr>
                  <a:xfrm>
                    <a:off x="2423160" y="6243840"/>
                    <a:ext cx="10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6" y="7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7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3" name=""/>
                <p:cNvGrpSpPr/>
                <p:nvPr/>
              </p:nvGrpSpPr>
              <p:grpSpPr>
                <a:xfrm>
                  <a:off x="2425320" y="6245280"/>
                  <a:ext cx="13320" cy="11160"/>
                  <a:chOff x="2425320" y="6245280"/>
                  <a:chExt cx="13320" cy="11160"/>
                </a:xfrm>
              </p:grpSpPr>
              <p:sp>
                <p:nvSpPr>
                  <p:cNvPr id="3904" name=""/>
                  <p:cNvSpPr/>
                  <p:nvPr/>
                </p:nvSpPr>
                <p:spPr>
                  <a:xfrm>
                    <a:off x="2425320" y="624528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5" name=""/>
                  <p:cNvSpPr/>
                  <p:nvPr/>
                </p:nvSpPr>
                <p:spPr>
                  <a:xfrm>
                    <a:off x="2426400" y="624528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0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6" name=""/>
                  <p:cNvSpPr/>
                  <p:nvPr/>
                </p:nvSpPr>
                <p:spPr>
                  <a:xfrm>
                    <a:off x="2426400" y="6249960"/>
                    <a:ext cx="12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4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7" name=""/>
                <p:cNvGrpSpPr/>
                <p:nvPr/>
              </p:nvGrpSpPr>
              <p:grpSpPr>
                <a:xfrm>
                  <a:off x="2428560" y="6251760"/>
                  <a:ext cx="13320" cy="11160"/>
                  <a:chOff x="2428560" y="6251760"/>
                  <a:chExt cx="13320" cy="11160"/>
                </a:xfrm>
              </p:grpSpPr>
              <p:sp>
                <p:nvSpPr>
                  <p:cNvPr id="3908" name=""/>
                  <p:cNvSpPr/>
                  <p:nvPr/>
                </p:nvSpPr>
                <p:spPr>
                  <a:xfrm>
                    <a:off x="2428560" y="6251760"/>
                    <a:ext cx="25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19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9" name=""/>
                  <p:cNvSpPr/>
                  <p:nvPr/>
                </p:nvSpPr>
                <p:spPr>
                  <a:xfrm>
                    <a:off x="2429640" y="625176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5" y="10"/>
                        </a:lnTo>
                        <a:lnTo>
                          <a:pt x="59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0" name=""/>
                  <p:cNvSpPr/>
                  <p:nvPr/>
                </p:nvSpPr>
                <p:spPr>
                  <a:xfrm>
                    <a:off x="2431080" y="625644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11" name=""/>
                <p:cNvGrpSpPr/>
                <p:nvPr/>
              </p:nvGrpSpPr>
              <p:grpSpPr>
                <a:xfrm>
                  <a:off x="2431440" y="6257880"/>
                  <a:ext cx="13680" cy="11160"/>
                  <a:chOff x="2431440" y="6257880"/>
                  <a:chExt cx="13680" cy="11160"/>
                </a:xfrm>
              </p:grpSpPr>
              <p:sp>
                <p:nvSpPr>
                  <p:cNvPr id="3912" name=""/>
                  <p:cNvSpPr/>
                  <p:nvPr/>
                </p:nvSpPr>
                <p:spPr>
                  <a:xfrm>
                    <a:off x="2431440" y="625788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21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3" name=""/>
                  <p:cNvSpPr/>
                  <p:nvPr/>
                </p:nvSpPr>
                <p:spPr>
                  <a:xfrm>
                    <a:off x="2432880" y="6257880"/>
                    <a:ext cx="108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2" y="2"/>
                        </a:lnTo>
                        <a:lnTo>
                          <a:pt x="46" y="10"/>
                        </a:lnTo>
                        <a:lnTo>
                          <a:pt x="61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4" name=""/>
                  <p:cNvSpPr/>
                  <p:nvPr/>
                </p:nvSpPr>
                <p:spPr>
                  <a:xfrm>
                    <a:off x="2434320" y="6262920"/>
                    <a:ext cx="10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6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5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15" name=""/>
                <p:cNvGrpSpPr/>
                <p:nvPr/>
              </p:nvGrpSpPr>
              <p:grpSpPr>
                <a:xfrm>
                  <a:off x="2436480" y="6265800"/>
                  <a:ext cx="25920" cy="36720"/>
                  <a:chOff x="2436480" y="6265800"/>
                  <a:chExt cx="25920" cy="36720"/>
                </a:xfrm>
              </p:grpSpPr>
              <p:grpSp>
                <p:nvGrpSpPr>
                  <p:cNvPr id="3916" name=""/>
                  <p:cNvGrpSpPr/>
                  <p:nvPr/>
                </p:nvGrpSpPr>
                <p:grpSpPr>
                  <a:xfrm>
                    <a:off x="2436480" y="6265800"/>
                    <a:ext cx="11880" cy="11160"/>
                    <a:chOff x="2436480" y="6265800"/>
                    <a:chExt cx="11880" cy="11160"/>
                  </a:xfrm>
                </p:grpSpPr>
                <p:sp>
                  <p:nvSpPr>
                    <p:cNvPr id="3917" name=""/>
                    <p:cNvSpPr/>
                    <p:nvPr/>
                  </p:nvSpPr>
                  <p:spPr>
                    <a:xfrm>
                      <a:off x="2436480" y="6265800"/>
                      <a:ext cx="25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61">
                          <a:moveTo>
                            <a:pt x="10" y="61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9" y="27"/>
                          </a:lnTo>
                          <a:lnTo>
                            <a:pt x="10" y="61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8" name=""/>
                    <p:cNvSpPr/>
                    <p:nvPr/>
                  </p:nvSpPr>
                  <p:spPr>
                    <a:xfrm>
                      <a:off x="2436480" y="6265800"/>
                      <a:ext cx="104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6" y="10"/>
                          </a:lnTo>
                          <a:lnTo>
                            <a:pt x="60" y="26"/>
                          </a:lnTo>
                          <a:lnTo>
                            <a:pt x="15" y="26"/>
                          </a:lnTo>
                          <a:lnTo>
                            <a:pt x="8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9" name=""/>
                    <p:cNvSpPr/>
                    <p:nvPr/>
                  </p:nvSpPr>
                  <p:spPr>
                    <a:xfrm>
                      <a:off x="2437560" y="627084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3">
                          <a:moveTo>
                            <a:pt x="0" y="33"/>
                          </a:moveTo>
                          <a:lnTo>
                            <a:pt x="1" y="18"/>
                          </a:lnTo>
                          <a:lnTo>
                            <a:pt x="7" y="6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7" y="3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0" name=""/>
                  <p:cNvGrpSpPr/>
                  <p:nvPr/>
                </p:nvGrpSpPr>
                <p:grpSpPr>
                  <a:xfrm>
                    <a:off x="2439000" y="6272280"/>
                    <a:ext cx="13680" cy="11160"/>
                    <a:chOff x="2439000" y="6272280"/>
                    <a:chExt cx="13680" cy="11160"/>
                  </a:xfrm>
                </p:grpSpPr>
                <p:sp>
                  <p:nvSpPr>
                    <p:cNvPr id="3921" name=""/>
                    <p:cNvSpPr/>
                    <p:nvPr/>
                  </p:nvSpPr>
                  <p:spPr>
                    <a:xfrm>
                      <a:off x="2439000" y="627228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4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2" name=""/>
                    <p:cNvSpPr/>
                    <p:nvPr/>
                  </p:nvSpPr>
                  <p:spPr>
                    <a:xfrm>
                      <a:off x="2440440" y="627228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8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2"/>
                          </a:lnTo>
                          <a:lnTo>
                            <a:pt x="61" y="28"/>
                          </a:lnTo>
                          <a:lnTo>
                            <a:pt x="15" y="28"/>
                          </a:lnTo>
                          <a:lnTo>
                            <a:pt x="8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3" name=""/>
                    <p:cNvSpPr/>
                    <p:nvPr/>
                  </p:nvSpPr>
                  <p:spPr>
                    <a:xfrm>
                      <a:off x="2440440" y="6276960"/>
                      <a:ext cx="122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7"/>
                          </a:lnTo>
                          <a:lnTo>
                            <a:pt x="4" y="6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4" name=""/>
                  <p:cNvGrpSpPr/>
                  <p:nvPr/>
                </p:nvGrpSpPr>
                <p:grpSpPr>
                  <a:xfrm>
                    <a:off x="2442240" y="6278760"/>
                    <a:ext cx="13680" cy="11160"/>
                    <a:chOff x="2442240" y="6278760"/>
                    <a:chExt cx="13680" cy="11160"/>
                  </a:xfrm>
                </p:grpSpPr>
                <p:sp>
                  <p:nvSpPr>
                    <p:cNvPr id="3925" name=""/>
                    <p:cNvSpPr/>
                    <p:nvPr/>
                  </p:nvSpPr>
                  <p:spPr>
                    <a:xfrm>
                      <a:off x="2442240" y="627876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8">
                          <a:moveTo>
                            <a:pt x="12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19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6" name=""/>
                    <p:cNvSpPr/>
                    <p:nvPr/>
                  </p:nvSpPr>
                  <p:spPr>
                    <a:xfrm>
                      <a:off x="2443680" y="627876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58" y="25"/>
                          </a:lnTo>
                          <a:lnTo>
                            <a:pt x="13" y="25"/>
                          </a:lnTo>
                          <a:lnTo>
                            <a:pt x="7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7" name=""/>
                    <p:cNvSpPr/>
                    <p:nvPr/>
                  </p:nvSpPr>
                  <p:spPr>
                    <a:xfrm>
                      <a:off x="2443680" y="6283440"/>
                      <a:ext cx="122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5" y="6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7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8" name=""/>
                  <p:cNvGrpSpPr/>
                  <p:nvPr/>
                </p:nvGrpSpPr>
                <p:grpSpPr>
                  <a:xfrm>
                    <a:off x="2445480" y="6284880"/>
                    <a:ext cx="13680" cy="11160"/>
                    <a:chOff x="2445480" y="6284880"/>
                    <a:chExt cx="13680" cy="11160"/>
                  </a:xfrm>
                </p:grpSpPr>
                <p:sp>
                  <p:nvSpPr>
                    <p:cNvPr id="3929" name=""/>
                    <p:cNvSpPr/>
                    <p:nvPr/>
                  </p:nvSpPr>
                  <p:spPr>
                    <a:xfrm>
                      <a:off x="2445480" y="628488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0" name=""/>
                    <p:cNvSpPr/>
                    <p:nvPr/>
                  </p:nvSpPr>
                  <p:spPr>
                    <a:xfrm>
                      <a:off x="2446560" y="628488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59" y="25"/>
                          </a:lnTo>
                          <a:lnTo>
                            <a:pt x="15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1" name=""/>
                    <p:cNvSpPr/>
                    <p:nvPr/>
                  </p:nvSpPr>
                  <p:spPr>
                    <a:xfrm>
                      <a:off x="2448360" y="628992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4" y="7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32" name=""/>
                  <p:cNvGrpSpPr/>
                  <p:nvPr/>
                </p:nvGrpSpPr>
                <p:grpSpPr>
                  <a:xfrm>
                    <a:off x="2450160" y="6291360"/>
                    <a:ext cx="12240" cy="11160"/>
                    <a:chOff x="2450160" y="6291360"/>
                    <a:chExt cx="12240" cy="11160"/>
                  </a:xfrm>
                </p:grpSpPr>
                <p:sp>
                  <p:nvSpPr>
                    <p:cNvPr id="3933" name=""/>
                    <p:cNvSpPr/>
                    <p:nvPr/>
                  </p:nvSpPr>
                  <p:spPr>
                    <a:xfrm>
                      <a:off x="2450160" y="629136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8">
                          <a:moveTo>
                            <a:pt x="11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19" y="26"/>
                          </a:lnTo>
                          <a:lnTo>
                            <a:pt x="11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4" name=""/>
                    <p:cNvSpPr/>
                    <p:nvPr/>
                  </p:nvSpPr>
                  <p:spPr>
                    <a:xfrm>
                      <a:off x="2451600" y="629136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1" y="2"/>
                          </a:lnTo>
                          <a:lnTo>
                            <a:pt x="46" y="10"/>
                          </a:lnTo>
                          <a:lnTo>
                            <a:pt x="59" y="25"/>
                          </a:lnTo>
                          <a:lnTo>
                            <a:pt x="15" y="25"/>
                          </a:lnTo>
                          <a:lnTo>
                            <a:pt x="8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5" name=""/>
                    <p:cNvSpPr/>
                    <p:nvPr/>
                  </p:nvSpPr>
                  <p:spPr>
                    <a:xfrm>
                      <a:off x="2451600" y="62960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2" y="17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936" name=""/>
                <p:cNvGrpSpPr/>
                <p:nvPr/>
              </p:nvGrpSpPr>
              <p:grpSpPr>
                <a:xfrm>
                  <a:off x="2453760" y="6299280"/>
                  <a:ext cx="27360" cy="36360"/>
                  <a:chOff x="2453760" y="6299280"/>
                  <a:chExt cx="27360" cy="36360"/>
                </a:xfrm>
              </p:grpSpPr>
              <p:grpSp>
                <p:nvGrpSpPr>
                  <p:cNvPr id="3937" name=""/>
                  <p:cNvGrpSpPr/>
                  <p:nvPr/>
                </p:nvGrpSpPr>
                <p:grpSpPr>
                  <a:xfrm>
                    <a:off x="2453760" y="6299280"/>
                    <a:ext cx="13680" cy="11160"/>
                    <a:chOff x="2453760" y="6299280"/>
                    <a:chExt cx="13680" cy="11160"/>
                  </a:xfrm>
                </p:grpSpPr>
                <p:sp>
                  <p:nvSpPr>
                    <p:cNvPr id="3938" name=""/>
                    <p:cNvSpPr/>
                    <p:nvPr/>
                  </p:nvSpPr>
                  <p:spPr>
                    <a:xfrm>
                      <a:off x="2453760" y="629928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3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3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9" name=""/>
                    <p:cNvSpPr/>
                    <p:nvPr/>
                  </p:nvSpPr>
                  <p:spPr>
                    <a:xfrm>
                      <a:off x="2455200" y="629928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7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4"/>
                          </a:lnTo>
                          <a:lnTo>
                            <a:pt x="46" y="11"/>
                          </a:lnTo>
                          <a:lnTo>
                            <a:pt x="61" y="27"/>
                          </a:lnTo>
                          <a:lnTo>
                            <a:pt x="15" y="27"/>
                          </a:lnTo>
                          <a:lnTo>
                            <a:pt x="9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0" name=""/>
                    <p:cNvSpPr/>
                    <p:nvPr/>
                  </p:nvSpPr>
                  <p:spPr>
                    <a:xfrm>
                      <a:off x="2455200" y="6303960"/>
                      <a:ext cx="122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4" y="5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41" name=""/>
                  <p:cNvGrpSpPr/>
                  <p:nvPr/>
                </p:nvGrpSpPr>
                <p:grpSpPr>
                  <a:xfrm>
                    <a:off x="2456640" y="6303960"/>
                    <a:ext cx="13680" cy="12960"/>
                    <a:chOff x="2456640" y="6303960"/>
                    <a:chExt cx="13680" cy="12960"/>
                  </a:xfrm>
                </p:grpSpPr>
                <p:sp>
                  <p:nvSpPr>
                    <p:cNvPr id="3942" name=""/>
                    <p:cNvSpPr/>
                    <p:nvPr/>
                  </p:nvSpPr>
                  <p:spPr>
                    <a:xfrm>
                      <a:off x="2456640" y="6303960"/>
                      <a:ext cx="288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9">
                          <a:moveTo>
                            <a:pt x="11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9" y="26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3" name=""/>
                    <p:cNvSpPr/>
                    <p:nvPr/>
                  </p:nvSpPr>
                  <p:spPr>
                    <a:xfrm>
                      <a:off x="2457720" y="630576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5" y="11"/>
                          </a:lnTo>
                          <a:lnTo>
                            <a:pt x="60" y="26"/>
                          </a:lnTo>
                          <a:lnTo>
                            <a:pt x="15" y="26"/>
                          </a:lnTo>
                          <a:lnTo>
                            <a:pt x="9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4" name=""/>
                    <p:cNvSpPr/>
                    <p:nvPr/>
                  </p:nvSpPr>
                  <p:spPr>
                    <a:xfrm>
                      <a:off x="2457720" y="631044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2">
                          <a:moveTo>
                            <a:pt x="0" y="32"/>
                          </a:moveTo>
                          <a:lnTo>
                            <a:pt x="2" y="18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45" name=""/>
                  <p:cNvGrpSpPr/>
                  <p:nvPr/>
                </p:nvGrpSpPr>
                <p:grpSpPr>
                  <a:xfrm>
                    <a:off x="2459880" y="6310440"/>
                    <a:ext cx="13320" cy="12600"/>
                    <a:chOff x="2459880" y="6310440"/>
                    <a:chExt cx="13320" cy="12600"/>
                  </a:xfrm>
                </p:grpSpPr>
                <p:sp>
                  <p:nvSpPr>
                    <p:cNvPr id="3946" name=""/>
                    <p:cNvSpPr/>
                    <p:nvPr/>
                  </p:nvSpPr>
                  <p:spPr>
                    <a:xfrm>
                      <a:off x="2459880" y="6310440"/>
                      <a:ext cx="28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4"/>
                          </a:lnTo>
                          <a:lnTo>
                            <a:pt x="8" y="0"/>
                          </a:lnTo>
                          <a:lnTo>
                            <a:pt x="20" y="27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7" name=""/>
                    <p:cNvSpPr/>
                    <p:nvPr/>
                  </p:nvSpPr>
                  <p:spPr>
                    <a:xfrm>
                      <a:off x="2460960" y="631188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60" y="26"/>
                          </a:lnTo>
                          <a:lnTo>
                            <a:pt x="15" y="26"/>
                          </a:lnTo>
                          <a:lnTo>
                            <a:pt x="7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8" name=""/>
                    <p:cNvSpPr/>
                    <p:nvPr/>
                  </p:nvSpPr>
                  <p:spPr>
                    <a:xfrm>
                      <a:off x="2462760" y="6316920"/>
                      <a:ext cx="104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5" y="7"/>
                          </a:lnTo>
                          <a:lnTo>
                            <a:pt x="10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49" name=""/>
                  <p:cNvGrpSpPr/>
                  <p:nvPr/>
                </p:nvGrpSpPr>
                <p:grpSpPr>
                  <a:xfrm>
                    <a:off x="2464560" y="6318360"/>
                    <a:ext cx="11880" cy="11160"/>
                    <a:chOff x="2464560" y="6318360"/>
                    <a:chExt cx="11880" cy="11160"/>
                  </a:xfrm>
                </p:grpSpPr>
                <p:sp>
                  <p:nvSpPr>
                    <p:cNvPr id="3950" name=""/>
                    <p:cNvSpPr/>
                    <p:nvPr/>
                  </p:nvSpPr>
                  <p:spPr>
                    <a:xfrm>
                      <a:off x="2464560" y="631836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0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1" name=""/>
                    <p:cNvSpPr/>
                    <p:nvPr/>
                  </p:nvSpPr>
                  <p:spPr>
                    <a:xfrm>
                      <a:off x="2464560" y="63183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2" name=""/>
                    <p:cNvSpPr/>
                    <p:nvPr/>
                  </p:nvSpPr>
                  <p:spPr>
                    <a:xfrm>
                      <a:off x="2465640" y="63230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6" y="7"/>
                          </a:lnTo>
                          <a:lnTo>
                            <a:pt x="11" y="0"/>
                          </a:lnTo>
                          <a:lnTo>
                            <a:pt x="56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3" name=""/>
                  <p:cNvGrpSpPr/>
                  <p:nvPr/>
                </p:nvGrpSpPr>
                <p:grpSpPr>
                  <a:xfrm>
                    <a:off x="2467800" y="6324840"/>
                    <a:ext cx="13320" cy="10800"/>
                    <a:chOff x="2467800" y="6324840"/>
                    <a:chExt cx="13320" cy="10800"/>
                  </a:xfrm>
                </p:grpSpPr>
                <p:sp>
                  <p:nvSpPr>
                    <p:cNvPr id="3954" name=""/>
                    <p:cNvSpPr/>
                    <p:nvPr/>
                  </p:nvSpPr>
                  <p:spPr>
                    <a:xfrm>
                      <a:off x="2467800" y="6324840"/>
                      <a:ext cx="288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8">
                          <a:moveTo>
                            <a:pt x="11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9" y="26"/>
                          </a:lnTo>
                          <a:lnTo>
                            <a:pt x="11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5" name=""/>
                    <p:cNvSpPr/>
                    <p:nvPr/>
                  </p:nvSpPr>
                  <p:spPr>
                    <a:xfrm>
                      <a:off x="2468880" y="632484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3" y="2"/>
                          </a:lnTo>
                          <a:lnTo>
                            <a:pt x="46" y="10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8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6" name=""/>
                    <p:cNvSpPr/>
                    <p:nvPr/>
                  </p:nvSpPr>
                  <p:spPr>
                    <a:xfrm>
                      <a:off x="2468880" y="6329520"/>
                      <a:ext cx="122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4" y="7"/>
                          </a:lnTo>
                          <a:lnTo>
                            <a:pt x="8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957" name=""/>
                <p:cNvGrpSpPr/>
                <p:nvPr/>
              </p:nvGrpSpPr>
              <p:grpSpPr>
                <a:xfrm>
                  <a:off x="2471400" y="6329520"/>
                  <a:ext cx="13320" cy="12600"/>
                  <a:chOff x="2471400" y="6329520"/>
                  <a:chExt cx="13320" cy="12600"/>
                </a:xfrm>
              </p:grpSpPr>
              <p:sp>
                <p:nvSpPr>
                  <p:cNvPr id="3958" name=""/>
                  <p:cNvSpPr/>
                  <p:nvPr/>
                </p:nvSpPr>
                <p:spPr>
                  <a:xfrm>
                    <a:off x="2471400" y="6329520"/>
                    <a:ext cx="25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2" y="59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8"/>
                        </a:lnTo>
                        <a:lnTo>
                          <a:pt x="12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9" name=""/>
                  <p:cNvSpPr/>
                  <p:nvPr/>
                </p:nvSpPr>
                <p:spPr>
                  <a:xfrm>
                    <a:off x="2472480" y="633096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7">
                        <a:moveTo>
                          <a:pt x="2" y="0"/>
                        </a:moveTo>
                        <a:lnTo>
                          <a:pt x="40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7"/>
                        </a:lnTo>
                        <a:lnTo>
                          <a:pt x="15" y="27"/>
                        </a:lnTo>
                        <a:lnTo>
                          <a:pt x="8" y="19"/>
                        </a:lnTo>
                        <a:lnTo>
                          <a:pt x="0" y="6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0" name=""/>
                  <p:cNvSpPr/>
                  <p:nvPr/>
                </p:nvSpPr>
                <p:spPr>
                  <a:xfrm>
                    <a:off x="2472480" y="6335640"/>
                    <a:ext cx="12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5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61" name=""/>
                <p:cNvGrpSpPr/>
                <p:nvPr/>
              </p:nvGrpSpPr>
              <p:grpSpPr>
                <a:xfrm>
                  <a:off x="2474280" y="6335640"/>
                  <a:ext cx="13680" cy="12960"/>
                  <a:chOff x="2474280" y="6335640"/>
                  <a:chExt cx="13680" cy="12960"/>
                </a:xfrm>
              </p:grpSpPr>
              <p:sp>
                <p:nvSpPr>
                  <p:cNvPr id="3962" name=""/>
                  <p:cNvSpPr/>
                  <p:nvPr/>
                </p:nvSpPr>
                <p:spPr>
                  <a:xfrm>
                    <a:off x="2474280" y="6335640"/>
                    <a:ext cx="2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3" name=""/>
                  <p:cNvSpPr/>
                  <p:nvPr/>
                </p:nvSpPr>
                <p:spPr>
                  <a:xfrm>
                    <a:off x="2475720" y="633744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6">
                        <a:moveTo>
                          <a:pt x="3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7" y="11"/>
                        </a:lnTo>
                        <a:lnTo>
                          <a:pt x="61" y="26"/>
                        </a:lnTo>
                        <a:lnTo>
                          <a:pt x="15" y="26"/>
                        </a:lnTo>
                        <a:lnTo>
                          <a:pt x="9" y="19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4" name=""/>
                  <p:cNvSpPr/>
                  <p:nvPr/>
                </p:nvSpPr>
                <p:spPr>
                  <a:xfrm>
                    <a:off x="2477160" y="634212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8"/>
                        </a:lnTo>
                        <a:lnTo>
                          <a:pt x="4" y="7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65" name=""/>
                <p:cNvGrpSpPr/>
                <p:nvPr/>
              </p:nvGrpSpPr>
              <p:grpSpPr>
                <a:xfrm>
                  <a:off x="2477520" y="6343920"/>
                  <a:ext cx="13680" cy="10800"/>
                  <a:chOff x="2477520" y="6343920"/>
                  <a:chExt cx="13680" cy="10800"/>
                </a:xfrm>
              </p:grpSpPr>
              <p:sp>
                <p:nvSpPr>
                  <p:cNvPr id="3966" name=""/>
                  <p:cNvSpPr/>
                  <p:nvPr/>
                </p:nvSpPr>
                <p:spPr>
                  <a:xfrm>
                    <a:off x="2477520" y="6343920"/>
                    <a:ext cx="28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7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7" name=""/>
                  <p:cNvSpPr/>
                  <p:nvPr/>
                </p:nvSpPr>
                <p:spPr>
                  <a:xfrm>
                    <a:off x="2478960" y="63439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2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9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8" name=""/>
                  <p:cNvSpPr/>
                  <p:nvPr/>
                </p:nvSpPr>
                <p:spPr>
                  <a:xfrm>
                    <a:off x="2480400" y="6348600"/>
                    <a:ext cx="10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7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69" name=""/>
                <p:cNvSpPr/>
                <p:nvPr/>
              </p:nvSpPr>
              <p:spPr>
                <a:xfrm>
                  <a:off x="2406240" y="6232680"/>
                  <a:ext cx="2880" cy="11160"/>
                </a:xfrm>
                <a:custGeom>
                  <a:avLst/>
                  <a:gdLst/>
                  <a:ahLst/>
                  <a:rect l="l" t="t" r="r" b="b"/>
                  <a:pathLst>
                    <a:path w="20" h="58">
                      <a:moveTo>
                        <a:pt x="11" y="58"/>
                      </a:moveTo>
                      <a:lnTo>
                        <a:pt x="0" y="23"/>
                      </a:lnTo>
                      <a:lnTo>
                        <a:pt x="8" y="0"/>
                      </a:lnTo>
                      <a:lnTo>
                        <a:pt x="20" y="26"/>
                      </a:lnTo>
                      <a:lnTo>
                        <a:pt x="11" y="58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0" name=""/>
                <p:cNvSpPr/>
                <p:nvPr/>
              </p:nvSpPr>
              <p:spPr>
                <a:xfrm>
                  <a:off x="2407680" y="623268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58" h="26">
                      <a:moveTo>
                        <a:pt x="1" y="0"/>
                      </a:moveTo>
                      <a:lnTo>
                        <a:pt x="40" y="0"/>
                      </a:lnTo>
                      <a:lnTo>
                        <a:pt x="41" y="3"/>
                      </a:lnTo>
                      <a:lnTo>
                        <a:pt x="46" y="11"/>
                      </a:lnTo>
                      <a:lnTo>
                        <a:pt x="58" y="26"/>
                      </a:lnTo>
                      <a:lnTo>
                        <a:pt x="15" y="26"/>
                      </a:lnTo>
                      <a:lnTo>
                        <a:pt x="7" y="19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>
                  <a:off x="2407680" y="623736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7" h="31">
                      <a:moveTo>
                        <a:pt x="0" y="31"/>
                      </a:moveTo>
                      <a:lnTo>
                        <a:pt x="2" y="18"/>
                      </a:lnTo>
                      <a:lnTo>
                        <a:pt x="5" y="7"/>
                      </a:lnTo>
                      <a:lnTo>
                        <a:pt x="10" y="0"/>
                      </a:lnTo>
                      <a:lnTo>
                        <a:pt x="54" y="0"/>
                      </a:lnTo>
                      <a:lnTo>
                        <a:pt x="67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72" name=""/>
                <p:cNvGrpSpPr/>
                <p:nvPr/>
              </p:nvGrpSpPr>
              <p:grpSpPr>
                <a:xfrm>
                  <a:off x="2409480" y="6239160"/>
                  <a:ext cx="13320" cy="10800"/>
                  <a:chOff x="2409480" y="6239160"/>
                  <a:chExt cx="13320" cy="10800"/>
                </a:xfrm>
              </p:grpSpPr>
              <p:sp>
                <p:nvSpPr>
                  <p:cNvPr id="3973" name=""/>
                  <p:cNvSpPr/>
                  <p:nvPr/>
                </p:nvSpPr>
                <p:spPr>
                  <a:xfrm>
                    <a:off x="2409480" y="6239160"/>
                    <a:ext cx="252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1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4" name=""/>
                  <p:cNvSpPr/>
                  <p:nvPr/>
                </p:nvSpPr>
                <p:spPr>
                  <a:xfrm>
                    <a:off x="2410560" y="623916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39" y="0"/>
                        </a:lnTo>
                        <a:lnTo>
                          <a:pt x="40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7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5" name=""/>
                  <p:cNvSpPr/>
                  <p:nvPr/>
                </p:nvSpPr>
                <p:spPr>
                  <a:xfrm>
                    <a:off x="2410560" y="624384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6" y="7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76" name=""/>
                <p:cNvGrpSpPr/>
                <p:nvPr/>
              </p:nvGrpSpPr>
              <p:grpSpPr>
                <a:xfrm>
                  <a:off x="2412360" y="6245280"/>
                  <a:ext cx="13680" cy="11160"/>
                  <a:chOff x="2412360" y="6245280"/>
                  <a:chExt cx="13680" cy="11160"/>
                </a:xfrm>
              </p:grpSpPr>
              <p:sp>
                <p:nvSpPr>
                  <p:cNvPr id="3977" name=""/>
                  <p:cNvSpPr/>
                  <p:nvPr/>
                </p:nvSpPr>
                <p:spPr>
                  <a:xfrm>
                    <a:off x="2412360" y="624528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8" name=""/>
                  <p:cNvSpPr/>
                  <p:nvPr/>
                </p:nvSpPr>
                <p:spPr>
                  <a:xfrm>
                    <a:off x="2413800" y="624528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0"/>
                        </a:lnTo>
                        <a:lnTo>
                          <a:pt x="59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9" name=""/>
                  <p:cNvSpPr/>
                  <p:nvPr/>
                </p:nvSpPr>
                <p:spPr>
                  <a:xfrm>
                    <a:off x="2415240" y="624996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80" name=""/>
                <p:cNvGrpSpPr/>
                <p:nvPr/>
              </p:nvGrpSpPr>
              <p:grpSpPr>
                <a:xfrm>
                  <a:off x="2417400" y="6251760"/>
                  <a:ext cx="13320" cy="11160"/>
                  <a:chOff x="2417400" y="6251760"/>
                  <a:chExt cx="13320" cy="11160"/>
                </a:xfrm>
              </p:grpSpPr>
              <p:sp>
                <p:nvSpPr>
                  <p:cNvPr id="3981" name=""/>
                  <p:cNvSpPr/>
                  <p:nvPr/>
                </p:nvSpPr>
                <p:spPr>
                  <a:xfrm>
                    <a:off x="2417400" y="625176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7" y="0"/>
                        </a:lnTo>
                        <a:lnTo>
                          <a:pt x="20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2" name=""/>
                  <p:cNvSpPr/>
                  <p:nvPr/>
                </p:nvSpPr>
                <p:spPr>
                  <a:xfrm>
                    <a:off x="2417400" y="625176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5">
                        <a:moveTo>
                          <a:pt x="2" y="0"/>
                        </a:moveTo>
                        <a:lnTo>
                          <a:pt x="41" y="0"/>
                        </a:lnTo>
                        <a:lnTo>
                          <a:pt x="43" y="2"/>
                        </a:lnTo>
                        <a:lnTo>
                          <a:pt x="46" y="10"/>
                        </a:lnTo>
                        <a:lnTo>
                          <a:pt x="61" y="25"/>
                        </a:lnTo>
                        <a:lnTo>
                          <a:pt x="15" y="25"/>
                        </a:lnTo>
                        <a:lnTo>
                          <a:pt x="9" y="18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3" name=""/>
                  <p:cNvSpPr/>
                  <p:nvPr/>
                </p:nvSpPr>
                <p:spPr>
                  <a:xfrm>
                    <a:off x="2418480" y="6256440"/>
                    <a:ext cx="12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84" name=""/>
                <p:cNvGrpSpPr/>
                <p:nvPr/>
              </p:nvGrpSpPr>
              <p:grpSpPr>
                <a:xfrm>
                  <a:off x="2420640" y="6257880"/>
                  <a:ext cx="13320" cy="11160"/>
                  <a:chOff x="2420640" y="6257880"/>
                  <a:chExt cx="13320" cy="11160"/>
                </a:xfrm>
              </p:grpSpPr>
              <p:sp>
                <p:nvSpPr>
                  <p:cNvPr id="3985" name=""/>
                  <p:cNvSpPr/>
                  <p:nvPr/>
                </p:nvSpPr>
                <p:spPr>
                  <a:xfrm>
                    <a:off x="2420640" y="6257880"/>
                    <a:ext cx="25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21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6" name=""/>
                  <p:cNvSpPr/>
                  <p:nvPr/>
                </p:nvSpPr>
                <p:spPr>
                  <a:xfrm>
                    <a:off x="2421720" y="6257880"/>
                    <a:ext cx="90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7" name=""/>
                  <p:cNvSpPr/>
                  <p:nvPr/>
                </p:nvSpPr>
                <p:spPr>
                  <a:xfrm>
                    <a:off x="2421720" y="626292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4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5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88" name=""/>
                <p:cNvGrpSpPr/>
                <p:nvPr/>
              </p:nvGrpSpPr>
              <p:grpSpPr>
                <a:xfrm>
                  <a:off x="2423520" y="6265800"/>
                  <a:ext cx="27720" cy="36720"/>
                  <a:chOff x="2423520" y="6265800"/>
                  <a:chExt cx="27720" cy="36720"/>
                </a:xfrm>
              </p:grpSpPr>
              <p:grpSp>
                <p:nvGrpSpPr>
                  <p:cNvPr id="3989" name=""/>
                  <p:cNvGrpSpPr/>
                  <p:nvPr/>
                </p:nvGrpSpPr>
                <p:grpSpPr>
                  <a:xfrm>
                    <a:off x="2423520" y="6265800"/>
                    <a:ext cx="13680" cy="11160"/>
                    <a:chOff x="2423520" y="6265800"/>
                    <a:chExt cx="13680" cy="11160"/>
                  </a:xfrm>
                </p:grpSpPr>
                <p:sp>
                  <p:nvSpPr>
                    <p:cNvPr id="3990" name=""/>
                    <p:cNvSpPr/>
                    <p:nvPr/>
                  </p:nvSpPr>
                  <p:spPr>
                    <a:xfrm>
                      <a:off x="2423520" y="626580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61">
                          <a:moveTo>
                            <a:pt x="12" y="61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1" y="27"/>
                          </a:lnTo>
                          <a:lnTo>
                            <a:pt x="12" y="61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1" name=""/>
                    <p:cNvSpPr/>
                    <p:nvPr/>
                  </p:nvSpPr>
                  <p:spPr>
                    <a:xfrm>
                      <a:off x="2424960" y="626580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3" y="3"/>
                          </a:lnTo>
                          <a:lnTo>
                            <a:pt x="46" y="10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7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2" name=""/>
                    <p:cNvSpPr/>
                    <p:nvPr/>
                  </p:nvSpPr>
                  <p:spPr>
                    <a:xfrm>
                      <a:off x="2424960" y="6270840"/>
                      <a:ext cx="122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3">
                          <a:moveTo>
                            <a:pt x="0" y="33"/>
                          </a:moveTo>
                          <a:lnTo>
                            <a:pt x="1" y="18"/>
                          </a:lnTo>
                          <a:lnTo>
                            <a:pt x="7" y="6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6" y="3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3" name=""/>
                  <p:cNvGrpSpPr/>
                  <p:nvPr/>
                </p:nvGrpSpPr>
                <p:grpSpPr>
                  <a:xfrm>
                    <a:off x="2426400" y="6272280"/>
                    <a:ext cx="13680" cy="11160"/>
                    <a:chOff x="2426400" y="6272280"/>
                    <a:chExt cx="13680" cy="11160"/>
                  </a:xfrm>
                </p:grpSpPr>
                <p:sp>
                  <p:nvSpPr>
                    <p:cNvPr id="3994" name=""/>
                    <p:cNvSpPr/>
                    <p:nvPr/>
                  </p:nvSpPr>
                  <p:spPr>
                    <a:xfrm>
                      <a:off x="2426400" y="6272280"/>
                      <a:ext cx="43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0" y="59"/>
                          </a:moveTo>
                          <a:lnTo>
                            <a:pt x="0" y="24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0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5" name=""/>
                    <p:cNvSpPr/>
                    <p:nvPr/>
                  </p:nvSpPr>
                  <p:spPr>
                    <a:xfrm>
                      <a:off x="2427840" y="6272280"/>
                      <a:ext cx="104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8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2"/>
                          </a:lnTo>
                          <a:lnTo>
                            <a:pt x="60" y="28"/>
                          </a:lnTo>
                          <a:lnTo>
                            <a:pt x="15" y="28"/>
                          </a:lnTo>
                          <a:lnTo>
                            <a:pt x="8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6" name=""/>
                    <p:cNvSpPr/>
                    <p:nvPr/>
                  </p:nvSpPr>
                  <p:spPr>
                    <a:xfrm>
                      <a:off x="2429280" y="627696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30">
                          <a:moveTo>
                            <a:pt x="0" y="30"/>
                          </a:moveTo>
                          <a:lnTo>
                            <a:pt x="1" y="17"/>
                          </a:lnTo>
                          <a:lnTo>
                            <a:pt x="6" y="6"/>
                          </a:lnTo>
                          <a:lnTo>
                            <a:pt x="11" y="0"/>
                          </a:lnTo>
                          <a:lnTo>
                            <a:pt x="56" y="0"/>
                          </a:lnTo>
                          <a:lnTo>
                            <a:pt x="68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7" name=""/>
                  <p:cNvGrpSpPr/>
                  <p:nvPr/>
                </p:nvGrpSpPr>
                <p:grpSpPr>
                  <a:xfrm>
                    <a:off x="2429640" y="6278760"/>
                    <a:ext cx="13680" cy="11160"/>
                    <a:chOff x="2429640" y="6278760"/>
                    <a:chExt cx="13680" cy="11160"/>
                  </a:xfrm>
                </p:grpSpPr>
                <p:sp>
                  <p:nvSpPr>
                    <p:cNvPr id="3998" name=""/>
                    <p:cNvSpPr/>
                    <p:nvPr/>
                  </p:nvSpPr>
                  <p:spPr>
                    <a:xfrm>
                      <a:off x="2429640" y="6278760"/>
                      <a:ext cx="43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9" name=""/>
                    <p:cNvSpPr/>
                    <p:nvPr/>
                  </p:nvSpPr>
                  <p:spPr>
                    <a:xfrm>
                      <a:off x="2430720" y="62787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3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8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0" name=""/>
                    <p:cNvSpPr/>
                    <p:nvPr/>
                  </p:nvSpPr>
                  <p:spPr>
                    <a:xfrm>
                      <a:off x="2432520" y="62834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5" y="6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01" name=""/>
                  <p:cNvGrpSpPr/>
                  <p:nvPr/>
                </p:nvGrpSpPr>
                <p:grpSpPr>
                  <a:xfrm>
                    <a:off x="2434320" y="6284880"/>
                    <a:ext cx="13680" cy="11160"/>
                    <a:chOff x="2434320" y="6284880"/>
                    <a:chExt cx="13680" cy="11160"/>
                  </a:xfrm>
                </p:grpSpPr>
                <p:sp>
                  <p:nvSpPr>
                    <p:cNvPr id="4002" name=""/>
                    <p:cNvSpPr/>
                    <p:nvPr/>
                  </p:nvSpPr>
                  <p:spPr>
                    <a:xfrm>
                      <a:off x="2434320" y="628488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3" name=""/>
                    <p:cNvSpPr/>
                    <p:nvPr/>
                  </p:nvSpPr>
                  <p:spPr>
                    <a:xfrm>
                      <a:off x="2435760" y="6284880"/>
                      <a:ext cx="90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58" y="25"/>
                          </a:lnTo>
                          <a:lnTo>
                            <a:pt x="15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4" name=""/>
                    <p:cNvSpPr/>
                    <p:nvPr/>
                  </p:nvSpPr>
                  <p:spPr>
                    <a:xfrm>
                      <a:off x="2435760" y="6289920"/>
                      <a:ext cx="122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4" y="7"/>
                          </a:lnTo>
                          <a:lnTo>
                            <a:pt x="9" y="0"/>
                          </a:lnTo>
                          <a:lnTo>
                            <a:pt x="53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05" name=""/>
                  <p:cNvGrpSpPr/>
                  <p:nvPr/>
                </p:nvGrpSpPr>
                <p:grpSpPr>
                  <a:xfrm>
                    <a:off x="2437560" y="6291360"/>
                    <a:ext cx="13680" cy="11160"/>
                    <a:chOff x="2437560" y="6291360"/>
                    <a:chExt cx="13680" cy="11160"/>
                  </a:xfrm>
                </p:grpSpPr>
                <p:sp>
                  <p:nvSpPr>
                    <p:cNvPr id="4006" name=""/>
                    <p:cNvSpPr/>
                    <p:nvPr/>
                  </p:nvSpPr>
                  <p:spPr>
                    <a:xfrm>
                      <a:off x="2437560" y="629136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10" y="0"/>
                          </a:lnTo>
                          <a:lnTo>
                            <a:pt x="21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7" name=""/>
                    <p:cNvSpPr/>
                    <p:nvPr/>
                  </p:nvSpPr>
                  <p:spPr>
                    <a:xfrm>
                      <a:off x="2438640" y="62913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2" y="0"/>
                          </a:moveTo>
                          <a:lnTo>
                            <a:pt x="39" y="0"/>
                          </a:lnTo>
                          <a:lnTo>
                            <a:pt x="41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8" name=""/>
                    <p:cNvSpPr/>
                    <p:nvPr/>
                  </p:nvSpPr>
                  <p:spPr>
                    <a:xfrm>
                      <a:off x="2440440" y="62960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009" name=""/>
                <p:cNvGrpSpPr/>
                <p:nvPr/>
              </p:nvGrpSpPr>
              <p:grpSpPr>
                <a:xfrm>
                  <a:off x="2441160" y="6299280"/>
                  <a:ext cx="27360" cy="36360"/>
                  <a:chOff x="2441160" y="6299280"/>
                  <a:chExt cx="27360" cy="36360"/>
                </a:xfrm>
              </p:grpSpPr>
              <p:grpSp>
                <p:nvGrpSpPr>
                  <p:cNvPr id="4010" name=""/>
                  <p:cNvGrpSpPr/>
                  <p:nvPr/>
                </p:nvGrpSpPr>
                <p:grpSpPr>
                  <a:xfrm>
                    <a:off x="2441160" y="6299280"/>
                    <a:ext cx="13680" cy="11160"/>
                    <a:chOff x="2441160" y="6299280"/>
                    <a:chExt cx="13680" cy="11160"/>
                  </a:xfrm>
                </p:grpSpPr>
                <p:sp>
                  <p:nvSpPr>
                    <p:cNvPr id="4011" name=""/>
                    <p:cNvSpPr/>
                    <p:nvPr/>
                  </p:nvSpPr>
                  <p:spPr>
                    <a:xfrm>
                      <a:off x="2441160" y="6299280"/>
                      <a:ext cx="43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2" name=""/>
                    <p:cNvSpPr/>
                    <p:nvPr/>
                  </p:nvSpPr>
                  <p:spPr>
                    <a:xfrm>
                      <a:off x="2442240" y="629928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7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4"/>
                          </a:lnTo>
                          <a:lnTo>
                            <a:pt x="46" y="11"/>
                          </a:lnTo>
                          <a:lnTo>
                            <a:pt x="60" y="27"/>
                          </a:lnTo>
                          <a:lnTo>
                            <a:pt x="15" y="27"/>
                          </a:lnTo>
                          <a:lnTo>
                            <a:pt x="9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3" name=""/>
                    <p:cNvSpPr/>
                    <p:nvPr/>
                  </p:nvSpPr>
                  <p:spPr>
                    <a:xfrm>
                      <a:off x="2444040" y="630396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0">
                          <a:moveTo>
                            <a:pt x="0" y="30"/>
                          </a:moveTo>
                          <a:lnTo>
                            <a:pt x="2" y="16"/>
                          </a:lnTo>
                          <a:lnTo>
                            <a:pt x="5" y="5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7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4" name=""/>
                  <p:cNvGrpSpPr/>
                  <p:nvPr/>
                </p:nvGrpSpPr>
                <p:grpSpPr>
                  <a:xfrm>
                    <a:off x="2444040" y="6303960"/>
                    <a:ext cx="13320" cy="12960"/>
                    <a:chOff x="2444040" y="6303960"/>
                    <a:chExt cx="13320" cy="12960"/>
                  </a:xfrm>
                </p:grpSpPr>
                <p:sp>
                  <p:nvSpPr>
                    <p:cNvPr id="4015" name=""/>
                    <p:cNvSpPr/>
                    <p:nvPr/>
                  </p:nvSpPr>
                  <p:spPr>
                    <a:xfrm>
                      <a:off x="2444040" y="6303960"/>
                      <a:ext cx="432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6" name=""/>
                    <p:cNvSpPr/>
                    <p:nvPr/>
                  </p:nvSpPr>
                  <p:spPr>
                    <a:xfrm>
                      <a:off x="2445120" y="63057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6" y="11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9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7" name=""/>
                    <p:cNvSpPr/>
                    <p:nvPr/>
                  </p:nvSpPr>
                  <p:spPr>
                    <a:xfrm>
                      <a:off x="2446560" y="63104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2">
                          <a:moveTo>
                            <a:pt x="0" y="32"/>
                          </a:moveTo>
                          <a:lnTo>
                            <a:pt x="2" y="18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6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8" name=""/>
                  <p:cNvGrpSpPr/>
                  <p:nvPr/>
                </p:nvGrpSpPr>
                <p:grpSpPr>
                  <a:xfrm>
                    <a:off x="2448720" y="6310440"/>
                    <a:ext cx="13680" cy="12600"/>
                    <a:chOff x="2448720" y="6310440"/>
                    <a:chExt cx="13680" cy="12600"/>
                  </a:xfrm>
                </p:grpSpPr>
                <p:sp>
                  <p:nvSpPr>
                    <p:cNvPr id="4019" name=""/>
                    <p:cNvSpPr/>
                    <p:nvPr/>
                  </p:nvSpPr>
                  <p:spPr>
                    <a:xfrm>
                      <a:off x="2448720" y="6310440"/>
                      <a:ext cx="28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1" y="59"/>
                          </a:moveTo>
                          <a:lnTo>
                            <a:pt x="0" y="24"/>
                          </a:lnTo>
                          <a:lnTo>
                            <a:pt x="8" y="0"/>
                          </a:lnTo>
                          <a:lnTo>
                            <a:pt x="20" y="27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0" name=""/>
                    <p:cNvSpPr/>
                    <p:nvPr/>
                  </p:nvSpPr>
                  <p:spPr>
                    <a:xfrm>
                      <a:off x="2449800" y="6311880"/>
                      <a:ext cx="93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60" y="26"/>
                          </a:lnTo>
                          <a:lnTo>
                            <a:pt x="14" y="26"/>
                          </a:lnTo>
                          <a:lnTo>
                            <a:pt x="7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1" name=""/>
                    <p:cNvSpPr/>
                    <p:nvPr/>
                  </p:nvSpPr>
                  <p:spPr>
                    <a:xfrm>
                      <a:off x="2449800" y="6316920"/>
                      <a:ext cx="126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2" y="17"/>
                          </a:lnTo>
                          <a:lnTo>
                            <a:pt x="6" y="7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22" name=""/>
                  <p:cNvGrpSpPr/>
                  <p:nvPr/>
                </p:nvGrpSpPr>
                <p:grpSpPr>
                  <a:xfrm>
                    <a:off x="2451960" y="6318360"/>
                    <a:ext cx="13320" cy="11160"/>
                    <a:chOff x="2451960" y="6318360"/>
                    <a:chExt cx="13320" cy="11160"/>
                  </a:xfrm>
                </p:grpSpPr>
                <p:sp>
                  <p:nvSpPr>
                    <p:cNvPr id="4023" name=""/>
                    <p:cNvSpPr/>
                    <p:nvPr/>
                  </p:nvSpPr>
                  <p:spPr>
                    <a:xfrm>
                      <a:off x="2451960" y="631836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8">
                          <a:moveTo>
                            <a:pt x="12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1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4" name=""/>
                    <p:cNvSpPr/>
                    <p:nvPr/>
                  </p:nvSpPr>
                  <p:spPr>
                    <a:xfrm>
                      <a:off x="2453040" y="63183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5" name=""/>
                    <p:cNvSpPr/>
                    <p:nvPr/>
                  </p:nvSpPr>
                  <p:spPr>
                    <a:xfrm>
                      <a:off x="2453040" y="6323040"/>
                      <a:ext cx="122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5" y="7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26" name=""/>
                  <p:cNvGrpSpPr/>
                  <p:nvPr/>
                </p:nvGrpSpPr>
                <p:grpSpPr>
                  <a:xfrm>
                    <a:off x="2455200" y="6324840"/>
                    <a:ext cx="13320" cy="10800"/>
                    <a:chOff x="2455200" y="6324840"/>
                    <a:chExt cx="13320" cy="10800"/>
                  </a:xfrm>
                </p:grpSpPr>
                <p:sp>
                  <p:nvSpPr>
                    <p:cNvPr id="4027" name=""/>
                    <p:cNvSpPr/>
                    <p:nvPr/>
                  </p:nvSpPr>
                  <p:spPr>
                    <a:xfrm>
                      <a:off x="2455200" y="6324840"/>
                      <a:ext cx="432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8">
                          <a:moveTo>
                            <a:pt x="11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9" y="26"/>
                          </a:lnTo>
                          <a:lnTo>
                            <a:pt x="11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8" name=""/>
                    <p:cNvSpPr/>
                    <p:nvPr/>
                  </p:nvSpPr>
                  <p:spPr>
                    <a:xfrm>
                      <a:off x="2456280" y="632484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8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9" name=""/>
                    <p:cNvSpPr/>
                    <p:nvPr/>
                  </p:nvSpPr>
                  <p:spPr>
                    <a:xfrm>
                      <a:off x="2457720" y="632952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5" y="7"/>
                          </a:lnTo>
                          <a:lnTo>
                            <a:pt x="9" y="0"/>
                          </a:lnTo>
                          <a:lnTo>
                            <a:pt x="56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030" name=""/>
                <p:cNvGrpSpPr/>
                <p:nvPr/>
              </p:nvGrpSpPr>
              <p:grpSpPr>
                <a:xfrm>
                  <a:off x="2458440" y="6329520"/>
                  <a:ext cx="13680" cy="12600"/>
                  <a:chOff x="2458440" y="6329520"/>
                  <a:chExt cx="13680" cy="12600"/>
                </a:xfrm>
              </p:grpSpPr>
              <p:sp>
                <p:nvSpPr>
                  <p:cNvPr id="4031" name=""/>
                  <p:cNvSpPr/>
                  <p:nvPr/>
                </p:nvSpPr>
                <p:spPr>
                  <a:xfrm>
                    <a:off x="2458440" y="6329520"/>
                    <a:ext cx="2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2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8"/>
                        </a:lnTo>
                        <a:lnTo>
                          <a:pt x="12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2" name=""/>
                  <p:cNvSpPr/>
                  <p:nvPr/>
                </p:nvSpPr>
                <p:spPr>
                  <a:xfrm>
                    <a:off x="2459880" y="633096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7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1"/>
                        </a:lnTo>
                        <a:lnTo>
                          <a:pt x="60" y="27"/>
                        </a:lnTo>
                        <a:lnTo>
                          <a:pt x="15" y="27"/>
                        </a:lnTo>
                        <a:lnTo>
                          <a:pt x="8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3" name=""/>
                  <p:cNvSpPr/>
                  <p:nvPr/>
                </p:nvSpPr>
                <p:spPr>
                  <a:xfrm>
                    <a:off x="2461320" y="633564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5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4" name=""/>
                <p:cNvGrpSpPr/>
                <p:nvPr/>
              </p:nvGrpSpPr>
              <p:grpSpPr>
                <a:xfrm>
                  <a:off x="2463480" y="6335640"/>
                  <a:ext cx="11880" cy="12960"/>
                  <a:chOff x="2463480" y="6335640"/>
                  <a:chExt cx="11880" cy="12960"/>
                </a:xfrm>
              </p:grpSpPr>
              <p:sp>
                <p:nvSpPr>
                  <p:cNvPr id="4035" name=""/>
                  <p:cNvSpPr/>
                  <p:nvPr/>
                </p:nvSpPr>
                <p:spPr>
                  <a:xfrm>
                    <a:off x="2463480" y="6335640"/>
                    <a:ext cx="25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9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6" name=""/>
                  <p:cNvSpPr/>
                  <p:nvPr/>
                </p:nvSpPr>
                <p:spPr>
                  <a:xfrm>
                    <a:off x="2463480" y="6337440"/>
                    <a:ext cx="10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6">
                        <a:moveTo>
                          <a:pt x="4" y="0"/>
                        </a:moveTo>
                        <a:lnTo>
                          <a:pt x="42" y="0"/>
                        </a:lnTo>
                        <a:lnTo>
                          <a:pt x="43" y="3"/>
                        </a:lnTo>
                        <a:lnTo>
                          <a:pt x="48" y="11"/>
                        </a:lnTo>
                        <a:lnTo>
                          <a:pt x="61" y="26"/>
                        </a:lnTo>
                        <a:lnTo>
                          <a:pt x="15" y="26"/>
                        </a:lnTo>
                        <a:lnTo>
                          <a:pt x="10" y="19"/>
                        </a:lnTo>
                        <a:lnTo>
                          <a:pt x="0" y="5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7" name=""/>
                  <p:cNvSpPr/>
                  <p:nvPr/>
                </p:nvSpPr>
                <p:spPr>
                  <a:xfrm>
                    <a:off x="2464560" y="634212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1">
                        <a:moveTo>
                          <a:pt x="0" y="31"/>
                        </a:moveTo>
                        <a:lnTo>
                          <a:pt x="1" y="18"/>
                        </a:lnTo>
                        <a:lnTo>
                          <a:pt x="5" y="7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8" name=""/>
                <p:cNvGrpSpPr/>
                <p:nvPr/>
              </p:nvGrpSpPr>
              <p:grpSpPr>
                <a:xfrm>
                  <a:off x="2401560" y="6245280"/>
                  <a:ext cx="13320" cy="11160"/>
                  <a:chOff x="2401560" y="6245280"/>
                  <a:chExt cx="13320" cy="11160"/>
                </a:xfrm>
              </p:grpSpPr>
              <p:sp>
                <p:nvSpPr>
                  <p:cNvPr id="4039" name=""/>
                  <p:cNvSpPr/>
                  <p:nvPr/>
                </p:nvSpPr>
                <p:spPr>
                  <a:xfrm>
                    <a:off x="2401560" y="6245280"/>
                    <a:ext cx="25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7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0" name=""/>
                  <p:cNvSpPr/>
                  <p:nvPr/>
                </p:nvSpPr>
                <p:spPr>
                  <a:xfrm>
                    <a:off x="2402640" y="624528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5" y="10"/>
                        </a:lnTo>
                        <a:lnTo>
                          <a:pt x="59" y="26"/>
                        </a:lnTo>
                        <a:lnTo>
                          <a:pt x="14" y="26"/>
                        </a:lnTo>
                        <a:lnTo>
                          <a:pt x="7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1" name=""/>
                  <p:cNvSpPr/>
                  <p:nvPr/>
                </p:nvSpPr>
                <p:spPr>
                  <a:xfrm>
                    <a:off x="2402640" y="6249960"/>
                    <a:ext cx="12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6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8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2" name=""/>
                <p:cNvGrpSpPr/>
                <p:nvPr/>
              </p:nvGrpSpPr>
              <p:grpSpPr>
                <a:xfrm>
                  <a:off x="2404440" y="6251760"/>
                  <a:ext cx="13680" cy="11160"/>
                  <a:chOff x="2404440" y="6251760"/>
                  <a:chExt cx="13680" cy="11160"/>
                </a:xfrm>
              </p:grpSpPr>
              <p:sp>
                <p:nvSpPr>
                  <p:cNvPr id="4043" name=""/>
                  <p:cNvSpPr/>
                  <p:nvPr/>
                </p:nvSpPr>
                <p:spPr>
                  <a:xfrm>
                    <a:off x="2404440" y="625176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7" y="0"/>
                        </a:lnTo>
                        <a:lnTo>
                          <a:pt x="20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4" name=""/>
                  <p:cNvSpPr/>
                  <p:nvPr/>
                </p:nvSpPr>
                <p:spPr>
                  <a:xfrm>
                    <a:off x="2405880" y="625176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5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2" y="2"/>
                        </a:lnTo>
                        <a:lnTo>
                          <a:pt x="46" y="10"/>
                        </a:lnTo>
                        <a:lnTo>
                          <a:pt x="61" y="25"/>
                        </a:lnTo>
                        <a:lnTo>
                          <a:pt x="15" y="25"/>
                        </a:lnTo>
                        <a:lnTo>
                          <a:pt x="9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5" name=""/>
                  <p:cNvSpPr/>
                  <p:nvPr/>
                </p:nvSpPr>
                <p:spPr>
                  <a:xfrm>
                    <a:off x="2407320" y="625644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4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6" name=""/>
                <p:cNvGrpSpPr/>
                <p:nvPr/>
              </p:nvGrpSpPr>
              <p:grpSpPr>
                <a:xfrm>
                  <a:off x="2407680" y="6257880"/>
                  <a:ext cx="13680" cy="11160"/>
                  <a:chOff x="2407680" y="6257880"/>
                  <a:chExt cx="13680" cy="11160"/>
                </a:xfrm>
              </p:grpSpPr>
              <p:sp>
                <p:nvSpPr>
                  <p:cNvPr id="4047" name=""/>
                  <p:cNvSpPr/>
                  <p:nvPr/>
                </p:nvSpPr>
                <p:spPr>
                  <a:xfrm>
                    <a:off x="2407680" y="6257880"/>
                    <a:ext cx="43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19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8" name=""/>
                  <p:cNvSpPr/>
                  <p:nvPr/>
                </p:nvSpPr>
                <p:spPr>
                  <a:xfrm>
                    <a:off x="2409120" y="6257880"/>
                    <a:ext cx="108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4" y="10"/>
                        </a:lnTo>
                        <a:lnTo>
                          <a:pt x="59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9" name=""/>
                  <p:cNvSpPr/>
                  <p:nvPr/>
                </p:nvSpPr>
                <p:spPr>
                  <a:xfrm>
                    <a:off x="2410560" y="6262920"/>
                    <a:ext cx="10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50" name=""/>
                <p:cNvGrpSpPr/>
                <p:nvPr/>
              </p:nvGrpSpPr>
              <p:grpSpPr>
                <a:xfrm>
                  <a:off x="2412360" y="6265800"/>
                  <a:ext cx="25920" cy="36720"/>
                  <a:chOff x="2412360" y="6265800"/>
                  <a:chExt cx="25920" cy="36720"/>
                </a:xfrm>
              </p:grpSpPr>
              <p:grpSp>
                <p:nvGrpSpPr>
                  <p:cNvPr id="4051" name=""/>
                  <p:cNvGrpSpPr/>
                  <p:nvPr/>
                </p:nvGrpSpPr>
                <p:grpSpPr>
                  <a:xfrm>
                    <a:off x="2412360" y="6265800"/>
                    <a:ext cx="12240" cy="11160"/>
                    <a:chOff x="2412360" y="6265800"/>
                    <a:chExt cx="12240" cy="11160"/>
                  </a:xfrm>
                </p:grpSpPr>
                <p:sp>
                  <p:nvSpPr>
                    <p:cNvPr id="4052" name=""/>
                    <p:cNvSpPr/>
                    <p:nvPr/>
                  </p:nvSpPr>
                  <p:spPr>
                    <a:xfrm>
                      <a:off x="2412360" y="626580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61">
                          <a:moveTo>
                            <a:pt x="12" y="61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1" y="27"/>
                          </a:lnTo>
                          <a:lnTo>
                            <a:pt x="12" y="61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3" name=""/>
                    <p:cNvSpPr/>
                    <p:nvPr/>
                  </p:nvSpPr>
                  <p:spPr>
                    <a:xfrm>
                      <a:off x="2412360" y="626580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3"/>
                          </a:lnTo>
                          <a:lnTo>
                            <a:pt x="46" y="10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7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4" name=""/>
                    <p:cNvSpPr/>
                    <p:nvPr/>
                  </p:nvSpPr>
                  <p:spPr>
                    <a:xfrm>
                      <a:off x="2413800" y="627084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3">
                          <a:moveTo>
                            <a:pt x="0" y="33"/>
                          </a:moveTo>
                          <a:lnTo>
                            <a:pt x="1" y="18"/>
                          </a:lnTo>
                          <a:lnTo>
                            <a:pt x="5" y="6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6" y="3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55" name=""/>
                  <p:cNvGrpSpPr/>
                  <p:nvPr/>
                </p:nvGrpSpPr>
                <p:grpSpPr>
                  <a:xfrm>
                    <a:off x="2415240" y="6272280"/>
                    <a:ext cx="12240" cy="11160"/>
                    <a:chOff x="2415240" y="6272280"/>
                    <a:chExt cx="12240" cy="11160"/>
                  </a:xfrm>
                </p:grpSpPr>
                <p:sp>
                  <p:nvSpPr>
                    <p:cNvPr id="4056" name=""/>
                    <p:cNvSpPr/>
                    <p:nvPr/>
                  </p:nvSpPr>
                  <p:spPr>
                    <a:xfrm>
                      <a:off x="2415240" y="627228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1" y="59"/>
                          </a:moveTo>
                          <a:lnTo>
                            <a:pt x="0" y="24"/>
                          </a:lnTo>
                          <a:lnTo>
                            <a:pt x="8" y="0"/>
                          </a:lnTo>
                          <a:lnTo>
                            <a:pt x="20" y="28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7" name=""/>
                    <p:cNvSpPr/>
                    <p:nvPr/>
                  </p:nvSpPr>
                  <p:spPr>
                    <a:xfrm>
                      <a:off x="2416680" y="627228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8">
                          <a:moveTo>
                            <a:pt x="2" y="0"/>
                          </a:moveTo>
                          <a:lnTo>
                            <a:pt x="42" y="0"/>
                          </a:lnTo>
                          <a:lnTo>
                            <a:pt x="43" y="2"/>
                          </a:lnTo>
                          <a:lnTo>
                            <a:pt x="46" y="12"/>
                          </a:lnTo>
                          <a:lnTo>
                            <a:pt x="61" y="28"/>
                          </a:lnTo>
                          <a:lnTo>
                            <a:pt x="15" y="28"/>
                          </a:lnTo>
                          <a:lnTo>
                            <a:pt x="7" y="19"/>
                          </a:lnTo>
                          <a:lnTo>
                            <a:pt x="0" y="6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8" name=""/>
                    <p:cNvSpPr/>
                    <p:nvPr/>
                  </p:nvSpPr>
                  <p:spPr>
                    <a:xfrm>
                      <a:off x="2416680" y="627696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7"/>
                          </a:lnTo>
                          <a:lnTo>
                            <a:pt x="6" y="6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59" name=""/>
                  <p:cNvGrpSpPr/>
                  <p:nvPr/>
                </p:nvGrpSpPr>
                <p:grpSpPr>
                  <a:xfrm>
                    <a:off x="2418480" y="6278760"/>
                    <a:ext cx="13680" cy="11160"/>
                    <a:chOff x="2418480" y="6278760"/>
                    <a:chExt cx="13680" cy="11160"/>
                  </a:xfrm>
                </p:grpSpPr>
                <p:sp>
                  <p:nvSpPr>
                    <p:cNvPr id="4060" name=""/>
                    <p:cNvSpPr/>
                    <p:nvPr/>
                  </p:nvSpPr>
                  <p:spPr>
                    <a:xfrm>
                      <a:off x="2418480" y="627876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1" name=""/>
                    <p:cNvSpPr/>
                    <p:nvPr/>
                  </p:nvSpPr>
                  <p:spPr>
                    <a:xfrm>
                      <a:off x="2419920" y="6278760"/>
                      <a:ext cx="104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8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2" name=""/>
                    <p:cNvSpPr/>
                    <p:nvPr/>
                  </p:nvSpPr>
                  <p:spPr>
                    <a:xfrm>
                      <a:off x="2421360" y="62834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4" y="6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63" name=""/>
                  <p:cNvGrpSpPr/>
                  <p:nvPr/>
                </p:nvGrpSpPr>
                <p:grpSpPr>
                  <a:xfrm>
                    <a:off x="2421720" y="6284880"/>
                    <a:ext cx="13680" cy="11160"/>
                    <a:chOff x="2421720" y="6284880"/>
                    <a:chExt cx="13680" cy="11160"/>
                  </a:xfrm>
                </p:grpSpPr>
                <p:sp>
                  <p:nvSpPr>
                    <p:cNvPr id="4064" name=""/>
                    <p:cNvSpPr/>
                    <p:nvPr/>
                  </p:nvSpPr>
                  <p:spPr>
                    <a:xfrm>
                      <a:off x="2421720" y="628488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10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5" name=""/>
                    <p:cNvSpPr/>
                    <p:nvPr/>
                  </p:nvSpPr>
                  <p:spPr>
                    <a:xfrm>
                      <a:off x="2422800" y="628488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1" y="2"/>
                          </a:lnTo>
                          <a:lnTo>
                            <a:pt x="44" y="10"/>
                          </a:lnTo>
                          <a:lnTo>
                            <a:pt x="58" y="25"/>
                          </a:lnTo>
                          <a:lnTo>
                            <a:pt x="13" y="25"/>
                          </a:lnTo>
                          <a:lnTo>
                            <a:pt x="6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6" name=""/>
                    <p:cNvSpPr/>
                    <p:nvPr/>
                  </p:nvSpPr>
                  <p:spPr>
                    <a:xfrm>
                      <a:off x="2424600" y="628992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5" y="7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67" name=""/>
                  <p:cNvGrpSpPr/>
                  <p:nvPr/>
                </p:nvGrpSpPr>
                <p:grpSpPr>
                  <a:xfrm>
                    <a:off x="2426400" y="6291360"/>
                    <a:ext cx="11880" cy="11160"/>
                    <a:chOff x="2426400" y="6291360"/>
                    <a:chExt cx="11880" cy="11160"/>
                  </a:xfrm>
                </p:grpSpPr>
                <p:sp>
                  <p:nvSpPr>
                    <p:cNvPr id="4068" name=""/>
                    <p:cNvSpPr/>
                    <p:nvPr/>
                  </p:nvSpPr>
                  <p:spPr>
                    <a:xfrm>
                      <a:off x="2426400" y="629136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1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9" name=""/>
                    <p:cNvSpPr/>
                    <p:nvPr/>
                  </p:nvSpPr>
                  <p:spPr>
                    <a:xfrm>
                      <a:off x="2427840" y="629136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0" y="2"/>
                          </a:lnTo>
                          <a:lnTo>
                            <a:pt x="46" y="10"/>
                          </a:lnTo>
                          <a:lnTo>
                            <a:pt x="59" y="25"/>
                          </a:lnTo>
                          <a:lnTo>
                            <a:pt x="15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0" name=""/>
                    <p:cNvSpPr/>
                    <p:nvPr/>
                  </p:nvSpPr>
                  <p:spPr>
                    <a:xfrm>
                      <a:off x="2427840" y="6296040"/>
                      <a:ext cx="104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4" y="7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071" name=""/>
                <p:cNvGrpSpPr/>
                <p:nvPr/>
              </p:nvGrpSpPr>
              <p:grpSpPr>
                <a:xfrm>
                  <a:off x="2430000" y="6299280"/>
                  <a:ext cx="27360" cy="36360"/>
                  <a:chOff x="2430000" y="6299280"/>
                  <a:chExt cx="27360" cy="36360"/>
                </a:xfrm>
              </p:grpSpPr>
              <p:grpSp>
                <p:nvGrpSpPr>
                  <p:cNvPr id="4072" name=""/>
                  <p:cNvGrpSpPr/>
                  <p:nvPr/>
                </p:nvGrpSpPr>
                <p:grpSpPr>
                  <a:xfrm>
                    <a:off x="2430000" y="6299280"/>
                    <a:ext cx="13680" cy="11160"/>
                    <a:chOff x="2430000" y="6299280"/>
                    <a:chExt cx="13680" cy="11160"/>
                  </a:xfrm>
                </p:grpSpPr>
                <p:sp>
                  <p:nvSpPr>
                    <p:cNvPr id="4073" name=""/>
                    <p:cNvSpPr/>
                    <p:nvPr/>
                  </p:nvSpPr>
                  <p:spPr>
                    <a:xfrm>
                      <a:off x="2430000" y="629928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9">
                          <a:moveTo>
                            <a:pt x="13" y="59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1" y="28"/>
                          </a:lnTo>
                          <a:lnTo>
                            <a:pt x="13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4" name=""/>
                    <p:cNvSpPr/>
                    <p:nvPr/>
                  </p:nvSpPr>
                  <p:spPr>
                    <a:xfrm>
                      <a:off x="2431080" y="629928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7">
                          <a:moveTo>
                            <a:pt x="2" y="0"/>
                          </a:moveTo>
                          <a:lnTo>
                            <a:pt x="41" y="0"/>
                          </a:lnTo>
                          <a:lnTo>
                            <a:pt x="43" y="4"/>
                          </a:lnTo>
                          <a:lnTo>
                            <a:pt x="46" y="11"/>
                          </a:lnTo>
                          <a:lnTo>
                            <a:pt x="61" y="27"/>
                          </a:lnTo>
                          <a:lnTo>
                            <a:pt x="15" y="27"/>
                          </a:lnTo>
                          <a:lnTo>
                            <a:pt x="8" y="19"/>
                          </a:lnTo>
                          <a:lnTo>
                            <a:pt x="0" y="6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5" name=""/>
                    <p:cNvSpPr/>
                    <p:nvPr/>
                  </p:nvSpPr>
                  <p:spPr>
                    <a:xfrm>
                      <a:off x="2431080" y="630396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6" y="5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6" name=""/>
                  <p:cNvGrpSpPr/>
                  <p:nvPr/>
                </p:nvGrpSpPr>
                <p:grpSpPr>
                  <a:xfrm>
                    <a:off x="2432880" y="6303960"/>
                    <a:ext cx="13320" cy="12960"/>
                    <a:chOff x="2432880" y="6303960"/>
                    <a:chExt cx="13320" cy="12960"/>
                  </a:xfrm>
                </p:grpSpPr>
                <p:sp>
                  <p:nvSpPr>
                    <p:cNvPr id="4077" name=""/>
                    <p:cNvSpPr/>
                    <p:nvPr/>
                  </p:nvSpPr>
                  <p:spPr>
                    <a:xfrm>
                      <a:off x="2432880" y="6303960"/>
                      <a:ext cx="288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0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0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8" name=""/>
                    <p:cNvSpPr/>
                    <p:nvPr/>
                  </p:nvSpPr>
                  <p:spPr>
                    <a:xfrm>
                      <a:off x="2433960" y="63057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6" y="11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9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9" name=""/>
                    <p:cNvSpPr/>
                    <p:nvPr/>
                  </p:nvSpPr>
                  <p:spPr>
                    <a:xfrm>
                      <a:off x="2433960" y="6310440"/>
                      <a:ext cx="122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32">
                          <a:moveTo>
                            <a:pt x="0" y="32"/>
                          </a:moveTo>
                          <a:lnTo>
                            <a:pt x="4" y="18"/>
                          </a:lnTo>
                          <a:lnTo>
                            <a:pt x="7" y="7"/>
                          </a:lnTo>
                          <a:lnTo>
                            <a:pt x="11" y="0"/>
                          </a:lnTo>
                          <a:lnTo>
                            <a:pt x="57" y="0"/>
                          </a:lnTo>
                          <a:lnTo>
                            <a:pt x="68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80" name=""/>
                  <p:cNvGrpSpPr/>
                  <p:nvPr/>
                </p:nvGrpSpPr>
                <p:grpSpPr>
                  <a:xfrm>
                    <a:off x="2436120" y="6310440"/>
                    <a:ext cx="13320" cy="12600"/>
                    <a:chOff x="2436120" y="6310440"/>
                    <a:chExt cx="13320" cy="12600"/>
                  </a:xfrm>
                </p:grpSpPr>
                <p:sp>
                  <p:nvSpPr>
                    <p:cNvPr id="4081" name=""/>
                    <p:cNvSpPr/>
                    <p:nvPr/>
                  </p:nvSpPr>
                  <p:spPr>
                    <a:xfrm>
                      <a:off x="2436120" y="6310440"/>
                      <a:ext cx="25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9">
                          <a:moveTo>
                            <a:pt x="11" y="59"/>
                          </a:moveTo>
                          <a:lnTo>
                            <a:pt x="0" y="24"/>
                          </a:lnTo>
                          <a:lnTo>
                            <a:pt x="7" y="0"/>
                          </a:lnTo>
                          <a:lnTo>
                            <a:pt x="19" y="27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2" name=""/>
                    <p:cNvSpPr/>
                    <p:nvPr/>
                  </p:nvSpPr>
                  <p:spPr>
                    <a:xfrm>
                      <a:off x="2437200" y="631188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3" y="0"/>
                          </a:moveTo>
                          <a:lnTo>
                            <a:pt x="42" y="0"/>
                          </a:lnTo>
                          <a:lnTo>
                            <a:pt x="43" y="2"/>
                          </a:lnTo>
                          <a:lnTo>
                            <a:pt x="46" y="10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8" y="18"/>
                          </a:lnTo>
                          <a:lnTo>
                            <a:pt x="0" y="5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3" name=""/>
                    <p:cNvSpPr/>
                    <p:nvPr/>
                  </p:nvSpPr>
                  <p:spPr>
                    <a:xfrm>
                      <a:off x="2438640" y="631692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84" name=""/>
                  <p:cNvGrpSpPr/>
                  <p:nvPr/>
                </p:nvGrpSpPr>
                <p:grpSpPr>
                  <a:xfrm>
                    <a:off x="2440800" y="6318360"/>
                    <a:ext cx="11880" cy="11160"/>
                    <a:chOff x="2440800" y="6318360"/>
                    <a:chExt cx="11880" cy="11160"/>
                  </a:xfrm>
                </p:grpSpPr>
                <p:sp>
                  <p:nvSpPr>
                    <p:cNvPr id="4085" name=""/>
                    <p:cNvSpPr/>
                    <p:nvPr/>
                  </p:nvSpPr>
                  <p:spPr>
                    <a:xfrm>
                      <a:off x="2440800" y="631836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2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0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6" name=""/>
                    <p:cNvSpPr/>
                    <p:nvPr/>
                  </p:nvSpPr>
                  <p:spPr>
                    <a:xfrm>
                      <a:off x="2440800" y="63183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7" name=""/>
                    <p:cNvSpPr/>
                    <p:nvPr/>
                  </p:nvSpPr>
                  <p:spPr>
                    <a:xfrm>
                      <a:off x="2441880" y="63230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4" y="7"/>
                          </a:lnTo>
                          <a:lnTo>
                            <a:pt x="10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88" name=""/>
                  <p:cNvGrpSpPr/>
                  <p:nvPr/>
                </p:nvGrpSpPr>
                <p:grpSpPr>
                  <a:xfrm>
                    <a:off x="2444040" y="6324840"/>
                    <a:ext cx="13320" cy="10800"/>
                    <a:chOff x="2444040" y="6324840"/>
                    <a:chExt cx="13320" cy="10800"/>
                  </a:xfrm>
                </p:grpSpPr>
                <p:sp>
                  <p:nvSpPr>
                    <p:cNvPr id="4089" name=""/>
                    <p:cNvSpPr/>
                    <p:nvPr/>
                  </p:nvSpPr>
                  <p:spPr>
                    <a:xfrm>
                      <a:off x="2444040" y="6324840"/>
                      <a:ext cx="252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8">
                          <a:moveTo>
                            <a:pt x="10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8" y="26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0" name=""/>
                    <p:cNvSpPr/>
                    <p:nvPr/>
                  </p:nvSpPr>
                  <p:spPr>
                    <a:xfrm>
                      <a:off x="2445120" y="632484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2" y="2"/>
                          </a:lnTo>
                          <a:lnTo>
                            <a:pt x="45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6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1" name=""/>
                    <p:cNvSpPr/>
                    <p:nvPr/>
                  </p:nvSpPr>
                  <p:spPr>
                    <a:xfrm>
                      <a:off x="2445120" y="6329520"/>
                      <a:ext cx="122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6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092" name=""/>
                <p:cNvGrpSpPr/>
                <p:nvPr/>
              </p:nvGrpSpPr>
              <p:grpSpPr>
                <a:xfrm>
                  <a:off x="2447280" y="6329520"/>
                  <a:ext cx="13680" cy="12600"/>
                  <a:chOff x="2447280" y="6329520"/>
                  <a:chExt cx="13680" cy="12600"/>
                </a:xfrm>
              </p:grpSpPr>
              <p:sp>
                <p:nvSpPr>
                  <p:cNvPr id="4093" name=""/>
                  <p:cNvSpPr/>
                  <p:nvPr/>
                </p:nvSpPr>
                <p:spPr>
                  <a:xfrm>
                    <a:off x="2447280" y="6329520"/>
                    <a:ext cx="2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1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9" y="28"/>
                        </a:lnTo>
                        <a:lnTo>
                          <a:pt x="11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4" name=""/>
                  <p:cNvSpPr/>
                  <p:nvPr/>
                </p:nvSpPr>
                <p:spPr>
                  <a:xfrm>
                    <a:off x="2448720" y="633096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7">
                        <a:moveTo>
                          <a:pt x="1" y="0"/>
                        </a:moveTo>
                        <a:lnTo>
                          <a:pt x="39" y="0"/>
                        </a:lnTo>
                        <a:lnTo>
                          <a:pt x="41" y="3"/>
                        </a:lnTo>
                        <a:lnTo>
                          <a:pt x="46" y="11"/>
                        </a:lnTo>
                        <a:lnTo>
                          <a:pt x="59" y="27"/>
                        </a:lnTo>
                        <a:lnTo>
                          <a:pt x="15" y="27"/>
                        </a:lnTo>
                        <a:lnTo>
                          <a:pt x="7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5" name=""/>
                  <p:cNvSpPr/>
                  <p:nvPr/>
                </p:nvSpPr>
                <p:spPr>
                  <a:xfrm>
                    <a:off x="2448720" y="6335640"/>
                    <a:ext cx="12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6" y="5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6" name=""/>
                <p:cNvGrpSpPr/>
                <p:nvPr/>
              </p:nvGrpSpPr>
              <p:grpSpPr>
                <a:xfrm>
                  <a:off x="2439360" y="6228000"/>
                  <a:ext cx="12240" cy="11160"/>
                  <a:chOff x="2439360" y="6228000"/>
                  <a:chExt cx="12240" cy="11160"/>
                </a:xfrm>
              </p:grpSpPr>
              <p:sp>
                <p:nvSpPr>
                  <p:cNvPr id="4097" name=""/>
                  <p:cNvSpPr/>
                  <p:nvPr/>
                </p:nvSpPr>
                <p:spPr>
                  <a:xfrm>
                    <a:off x="2439360" y="622800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9">
                        <a:moveTo>
                          <a:pt x="18" y="59"/>
                        </a:moveTo>
                        <a:lnTo>
                          <a:pt x="0" y="28"/>
                        </a:lnTo>
                        <a:lnTo>
                          <a:pt x="9" y="0"/>
                        </a:lnTo>
                        <a:lnTo>
                          <a:pt x="31" y="28"/>
                        </a:lnTo>
                        <a:lnTo>
                          <a:pt x="18" y="59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8" name=""/>
                  <p:cNvSpPr/>
                  <p:nvPr/>
                </p:nvSpPr>
                <p:spPr>
                  <a:xfrm>
                    <a:off x="2440800" y="622800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9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2" y="29"/>
                        </a:lnTo>
                        <a:lnTo>
                          <a:pt x="19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9" name=""/>
                  <p:cNvSpPr/>
                  <p:nvPr/>
                </p:nvSpPr>
                <p:spPr>
                  <a:xfrm>
                    <a:off x="2442240" y="623412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6">
                        <a:moveTo>
                          <a:pt x="0" y="26"/>
                        </a:moveTo>
                        <a:lnTo>
                          <a:pt x="11" y="0"/>
                        </a:lnTo>
                        <a:lnTo>
                          <a:pt x="44" y="0"/>
                        </a:lnTo>
                        <a:lnTo>
                          <a:pt x="52" y="26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0" name=""/>
                <p:cNvGrpSpPr/>
                <p:nvPr/>
              </p:nvGrpSpPr>
              <p:grpSpPr>
                <a:xfrm>
                  <a:off x="2442600" y="6234120"/>
                  <a:ext cx="12240" cy="11160"/>
                  <a:chOff x="2442600" y="6234120"/>
                  <a:chExt cx="12240" cy="11160"/>
                </a:xfrm>
              </p:grpSpPr>
              <p:sp>
                <p:nvSpPr>
                  <p:cNvPr id="4101" name=""/>
                  <p:cNvSpPr/>
                  <p:nvPr/>
                </p:nvSpPr>
                <p:spPr>
                  <a:xfrm>
                    <a:off x="2442600" y="6234120"/>
                    <a:ext cx="6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18" y="58"/>
                        </a:moveTo>
                        <a:lnTo>
                          <a:pt x="0" y="28"/>
                        </a:lnTo>
                        <a:lnTo>
                          <a:pt x="10" y="0"/>
                        </a:lnTo>
                        <a:lnTo>
                          <a:pt x="32" y="28"/>
                        </a:lnTo>
                        <a:lnTo>
                          <a:pt x="18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2" name=""/>
                  <p:cNvSpPr/>
                  <p:nvPr/>
                </p:nvSpPr>
                <p:spPr>
                  <a:xfrm>
                    <a:off x="2444040" y="623412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8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2" y="28"/>
                        </a:lnTo>
                        <a:lnTo>
                          <a:pt x="20" y="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3" name=""/>
                  <p:cNvSpPr/>
                  <p:nvPr/>
                </p:nvSpPr>
                <p:spPr>
                  <a:xfrm>
                    <a:off x="2445480" y="624060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5">
                        <a:moveTo>
                          <a:pt x="0" y="25"/>
                        </a:moveTo>
                        <a:lnTo>
                          <a:pt x="10" y="0"/>
                        </a:lnTo>
                        <a:lnTo>
                          <a:pt x="44" y="0"/>
                        </a:lnTo>
                        <a:lnTo>
                          <a:pt x="54" y="25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4" name=""/>
                <p:cNvGrpSpPr/>
                <p:nvPr/>
              </p:nvGrpSpPr>
              <p:grpSpPr>
                <a:xfrm>
                  <a:off x="2445840" y="6242040"/>
                  <a:ext cx="13680" cy="11160"/>
                  <a:chOff x="2445840" y="6242040"/>
                  <a:chExt cx="13680" cy="11160"/>
                </a:xfrm>
              </p:grpSpPr>
              <p:sp>
                <p:nvSpPr>
                  <p:cNvPr id="4105" name=""/>
                  <p:cNvSpPr/>
                  <p:nvPr/>
                </p:nvSpPr>
                <p:spPr>
                  <a:xfrm>
                    <a:off x="2445840" y="6242040"/>
                    <a:ext cx="6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58">
                        <a:moveTo>
                          <a:pt x="19" y="58"/>
                        </a:moveTo>
                        <a:lnTo>
                          <a:pt x="0" y="27"/>
                        </a:lnTo>
                        <a:lnTo>
                          <a:pt x="11" y="0"/>
                        </a:lnTo>
                        <a:lnTo>
                          <a:pt x="33" y="27"/>
                        </a:lnTo>
                        <a:lnTo>
                          <a:pt x="19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6" name=""/>
                  <p:cNvSpPr/>
                  <p:nvPr/>
                </p:nvSpPr>
                <p:spPr>
                  <a:xfrm>
                    <a:off x="2448720" y="6242040"/>
                    <a:ext cx="75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9">
                        <a:moveTo>
                          <a:pt x="0" y="0"/>
                        </a:moveTo>
                        <a:lnTo>
                          <a:pt x="32" y="0"/>
                        </a:lnTo>
                        <a:lnTo>
                          <a:pt x="51" y="29"/>
                        </a:lnTo>
                        <a:lnTo>
                          <a:pt x="19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7" name=""/>
                  <p:cNvSpPr/>
                  <p:nvPr/>
                </p:nvSpPr>
                <p:spPr>
                  <a:xfrm>
                    <a:off x="2450160" y="624852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5">
                        <a:moveTo>
                          <a:pt x="0" y="25"/>
                        </a:moveTo>
                        <a:lnTo>
                          <a:pt x="9" y="0"/>
                        </a:lnTo>
                        <a:lnTo>
                          <a:pt x="42" y="0"/>
                        </a:lnTo>
                        <a:lnTo>
                          <a:pt x="53" y="25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8" name=""/>
                <p:cNvGrpSpPr/>
                <p:nvPr/>
              </p:nvGrpSpPr>
              <p:grpSpPr>
                <a:xfrm>
                  <a:off x="2450520" y="6248520"/>
                  <a:ext cx="12240" cy="11160"/>
                  <a:chOff x="2450520" y="6248520"/>
                  <a:chExt cx="12240" cy="11160"/>
                </a:xfrm>
              </p:grpSpPr>
              <p:sp>
                <p:nvSpPr>
                  <p:cNvPr id="4109" name=""/>
                  <p:cNvSpPr/>
                  <p:nvPr/>
                </p:nvSpPr>
                <p:spPr>
                  <a:xfrm>
                    <a:off x="2450520" y="624852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18" y="58"/>
                        </a:moveTo>
                        <a:lnTo>
                          <a:pt x="0" y="28"/>
                        </a:lnTo>
                        <a:lnTo>
                          <a:pt x="9" y="0"/>
                        </a:lnTo>
                        <a:lnTo>
                          <a:pt x="32" y="28"/>
                        </a:lnTo>
                        <a:lnTo>
                          <a:pt x="18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0" name=""/>
                  <p:cNvSpPr/>
                  <p:nvPr/>
                </p:nvSpPr>
                <p:spPr>
                  <a:xfrm>
                    <a:off x="2451960" y="624852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0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3" y="30"/>
                        </a:lnTo>
                        <a:lnTo>
                          <a:pt x="21" y="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1" name=""/>
                  <p:cNvSpPr/>
                  <p:nvPr/>
                </p:nvSpPr>
                <p:spPr>
                  <a:xfrm>
                    <a:off x="2453400" y="625500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4">
                        <a:moveTo>
                          <a:pt x="0" y="24"/>
                        </a:moveTo>
                        <a:lnTo>
                          <a:pt x="11" y="0"/>
                        </a:lnTo>
                        <a:lnTo>
                          <a:pt x="44" y="0"/>
                        </a:lnTo>
                        <a:lnTo>
                          <a:pt x="53" y="24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12" name=""/>
                <p:cNvGrpSpPr/>
                <p:nvPr/>
              </p:nvGrpSpPr>
              <p:grpSpPr>
                <a:xfrm>
                  <a:off x="2455560" y="6255000"/>
                  <a:ext cx="22680" cy="31680"/>
                  <a:chOff x="2455560" y="6255000"/>
                  <a:chExt cx="22680" cy="31680"/>
                </a:xfrm>
              </p:grpSpPr>
              <p:grpSp>
                <p:nvGrpSpPr>
                  <p:cNvPr id="4113" name=""/>
                  <p:cNvGrpSpPr/>
                  <p:nvPr/>
                </p:nvGrpSpPr>
                <p:grpSpPr>
                  <a:xfrm>
                    <a:off x="2455560" y="6255000"/>
                    <a:ext cx="11880" cy="10800"/>
                    <a:chOff x="2455560" y="6255000"/>
                    <a:chExt cx="11880" cy="10800"/>
                  </a:xfrm>
                </p:grpSpPr>
                <p:sp>
                  <p:nvSpPr>
                    <p:cNvPr id="4114" name=""/>
                    <p:cNvSpPr/>
                    <p:nvPr/>
                  </p:nvSpPr>
                  <p:spPr>
                    <a:xfrm>
                      <a:off x="2455560" y="6255000"/>
                      <a:ext cx="432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58">
                          <a:moveTo>
                            <a:pt x="17" y="58"/>
                          </a:moveTo>
                          <a:lnTo>
                            <a:pt x="0" y="27"/>
                          </a:lnTo>
                          <a:lnTo>
                            <a:pt x="9" y="0"/>
                          </a:lnTo>
                          <a:lnTo>
                            <a:pt x="31" y="27"/>
                          </a:lnTo>
                          <a:lnTo>
                            <a:pt x="17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5" name=""/>
                    <p:cNvSpPr/>
                    <p:nvPr/>
                  </p:nvSpPr>
                  <p:spPr>
                    <a:xfrm>
                      <a:off x="2456640" y="625500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7">
                          <a:moveTo>
                            <a:pt x="0" y="0"/>
                          </a:moveTo>
                          <a:lnTo>
                            <a:pt x="34" y="0"/>
                          </a:lnTo>
                          <a:lnTo>
                            <a:pt x="53" y="27"/>
                          </a:lnTo>
                          <a:lnTo>
                            <a:pt x="20" y="2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6" name=""/>
                    <p:cNvSpPr/>
                    <p:nvPr/>
                  </p:nvSpPr>
                  <p:spPr>
                    <a:xfrm>
                      <a:off x="2458080" y="626112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7">
                          <a:moveTo>
                            <a:pt x="0" y="27"/>
                          </a:moveTo>
                          <a:lnTo>
                            <a:pt x="12" y="0"/>
                          </a:lnTo>
                          <a:lnTo>
                            <a:pt x="45" y="0"/>
                          </a:lnTo>
                          <a:lnTo>
                            <a:pt x="54" y="27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17" name=""/>
                  <p:cNvGrpSpPr/>
                  <p:nvPr/>
                </p:nvGrpSpPr>
                <p:grpSpPr>
                  <a:xfrm>
                    <a:off x="2458080" y="6261120"/>
                    <a:ext cx="12240" cy="11160"/>
                    <a:chOff x="2458080" y="6261120"/>
                    <a:chExt cx="12240" cy="11160"/>
                  </a:xfrm>
                </p:grpSpPr>
                <p:sp>
                  <p:nvSpPr>
                    <p:cNvPr id="4118" name=""/>
                    <p:cNvSpPr/>
                    <p:nvPr/>
                  </p:nvSpPr>
                  <p:spPr>
                    <a:xfrm>
                      <a:off x="2458080" y="6261120"/>
                      <a:ext cx="46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9">
                          <a:moveTo>
                            <a:pt x="19" y="59"/>
                          </a:moveTo>
                          <a:lnTo>
                            <a:pt x="0" y="28"/>
                          </a:lnTo>
                          <a:lnTo>
                            <a:pt x="10" y="0"/>
                          </a:lnTo>
                          <a:lnTo>
                            <a:pt x="32" y="28"/>
                          </a:lnTo>
                          <a:lnTo>
                            <a:pt x="19" y="59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9" name=""/>
                    <p:cNvSpPr/>
                    <p:nvPr/>
                  </p:nvSpPr>
                  <p:spPr>
                    <a:xfrm>
                      <a:off x="2459520" y="6261120"/>
                      <a:ext cx="90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9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3" y="29"/>
                          </a:lnTo>
                          <a:lnTo>
                            <a:pt x="19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0" name=""/>
                    <p:cNvSpPr/>
                    <p:nvPr/>
                  </p:nvSpPr>
                  <p:spPr>
                    <a:xfrm>
                      <a:off x="2460960" y="626760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5">
                          <a:moveTo>
                            <a:pt x="0" y="25"/>
                          </a:moveTo>
                          <a:lnTo>
                            <a:pt x="10" y="0"/>
                          </a:lnTo>
                          <a:lnTo>
                            <a:pt x="44" y="0"/>
                          </a:lnTo>
                          <a:lnTo>
                            <a:pt x="53" y="25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21" name=""/>
                  <p:cNvGrpSpPr/>
                  <p:nvPr/>
                </p:nvGrpSpPr>
                <p:grpSpPr>
                  <a:xfrm>
                    <a:off x="2461320" y="6267600"/>
                    <a:ext cx="11880" cy="12600"/>
                    <a:chOff x="2461320" y="6267600"/>
                    <a:chExt cx="11880" cy="12600"/>
                  </a:xfrm>
                </p:grpSpPr>
                <p:sp>
                  <p:nvSpPr>
                    <p:cNvPr id="4122" name=""/>
                    <p:cNvSpPr/>
                    <p:nvPr/>
                  </p:nvSpPr>
                  <p:spPr>
                    <a:xfrm>
                      <a:off x="2461320" y="6267600"/>
                      <a:ext cx="61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8">
                          <a:moveTo>
                            <a:pt x="19" y="58"/>
                          </a:moveTo>
                          <a:lnTo>
                            <a:pt x="0" y="29"/>
                          </a:lnTo>
                          <a:lnTo>
                            <a:pt x="9" y="0"/>
                          </a:lnTo>
                          <a:lnTo>
                            <a:pt x="32" y="29"/>
                          </a:lnTo>
                          <a:lnTo>
                            <a:pt x="19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3" name=""/>
                    <p:cNvSpPr/>
                    <p:nvPr/>
                  </p:nvSpPr>
                  <p:spPr>
                    <a:xfrm>
                      <a:off x="2462760" y="6269040"/>
                      <a:ext cx="90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9">
                          <a:moveTo>
                            <a:pt x="0" y="0"/>
                          </a:moveTo>
                          <a:lnTo>
                            <a:pt x="34" y="0"/>
                          </a:lnTo>
                          <a:lnTo>
                            <a:pt x="52" y="29"/>
                          </a:lnTo>
                          <a:lnTo>
                            <a:pt x="21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4" name=""/>
                    <p:cNvSpPr/>
                    <p:nvPr/>
                  </p:nvSpPr>
                  <p:spPr>
                    <a:xfrm>
                      <a:off x="2464200" y="627552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4">
                          <a:moveTo>
                            <a:pt x="0" y="24"/>
                          </a:moveTo>
                          <a:lnTo>
                            <a:pt x="9" y="0"/>
                          </a:lnTo>
                          <a:lnTo>
                            <a:pt x="42" y="0"/>
                          </a:lnTo>
                          <a:lnTo>
                            <a:pt x="52" y="24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25" name=""/>
                  <p:cNvGrpSpPr/>
                  <p:nvPr/>
                </p:nvGrpSpPr>
                <p:grpSpPr>
                  <a:xfrm>
                    <a:off x="2466000" y="6275520"/>
                    <a:ext cx="12240" cy="11160"/>
                    <a:chOff x="2466000" y="6275520"/>
                    <a:chExt cx="12240" cy="11160"/>
                  </a:xfrm>
                </p:grpSpPr>
                <p:sp>
                  <p:nvSpPr>
                    <p:cNvPr id="4126" name=""/>
                    <p:cNvSpPr/>
                    <p:nvPr/>
                  </p:nvSpPr>
                  <p:spPr>
                    <a:xfrm>
                      <a:off x="2466000" y="6275520"/>
                      <a:ext cx="46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8">
                          <a:moveTo>
                            <a:pt x="18" y="58"/>
                          </a:moveTo>
                          <a:lnTo>
                            <a:pt x="0" y="28"/>
                          </a:lnTo>
                          <a:lnTo>
                            <a:pt x="10" y="0"/>
                          </a:lnTo>
                          <a:lnTo>
                            <a:pt x="32" y="28"/>
                          </a:lnTo>
                          <a:lnTo>
                            <a:pt x="18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7" name=""/>
                    <p:cNvSpPr/>
                    <p:nvPr/>
                  </p:nvSpPr>
                  <p:spPr>
                    <a:xfrm>
                      <a:off x="2467440" y="627552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8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2" y="28"/>
                          </a:lnTo>
                          <a:lnTo>
                            <a:pt x="20" y="2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8" name=""/>
                    <p:cNvSpPr/>
                    <p:nvPr/>
                  </p:nvSpPr>
                  <p:spPr>
                    <a:xfrm>
                      <a:off x="2468880" y="628200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5">
                          <a:moveTo>
                            <a:pt x="0" y="25"/>
                          </a:moveTo>
                          <a:lnTo>
                            <a:pt x="12" y="0"/>
                          </a:lnTo>
                          <a:lnTo>
                            <a:pt x="44" y="0"/>
                          </a:lnTo>
                          <a:lnTo>
                            <a:pt x="53" y="25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129" name=""/>
                <p:cNvGrpSpPr/>
                <p:nvPr/>
              </p:nvGrpSpPr>
              <p:grpSpPr>
                <a:xfrm>
                  <a:off x="2469600" y="6282000"/>
                  <a:ext cx="22680" cy="31680"/>
                  <a:chOff x="2469600" y="6282000"/>
                  <a:chExt cx="22680" cy="31680"/>
                </a:xfrm>
              </p:grpSpPr>
              <p:grpSp>
                <p:nvGrpSpPr>
                  <p:cNvPr id="4130" name=""/>
                  <p:cNvGrpSpPr/>
                  <p:nvPr/>
                </p:nvGrpSpPr>
                <p:grpSpPr>
                  <a:xfrm>
                    <a:off x="2469600" y="6282000"/>
                    <a:ext cx="11880" cy="10800"/>
                    <a:chOff x="2469600" y="6282000"/>
                    <a:chExt cx="11880" cy="10800"/>
                  </a:xfrm>
                </p:grpSpPr>
                <p:sp>
                  <p:nvSpPr>
                    <p:cNvPr id="4131" name=""/>
                    <p:cNvSpPr/>
                    <p:nvPr/>
                  </p:nvSpPr>
                  <p:spPr>
                    <a:xfrm>
                      <a:off x="2469600" y="6282000"/>
                      <a:ext cx="612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58">
                          <a:moveTo>
                            <a:pt x="17" y="58"/>
                          </a:moveTo>
                          <a:lnTo>
                            <a:pt x="0" y="28"/>
                          </a:lnTo>
                          <a:lnTo>
                            <a:pt x="9" y="0"/>
                          </a:lnTo>
                          <a:lnTo>
                            <a:pt x="31" y="28"/>
                          </a:lnTo>
                          <a:lnTo>
                            <a:pt x="17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2" name=""/>
                    <p:cNvSpPr/>
                    <p:nvPr/>
                  </p:nvSpPr>
                  <p:spPr>
                    <a:xfrm>
                      <a:off x="2471040" y="6282000"/>
                      <a:ext cx="90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9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3" y="29"/>
                          </a:lnTo>
                          <a:lnTo>
                            <a:pt x="20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3" name=""/>
                    <p:cNvSpPr/>
                    <p:nvPr/>
                  </p:nvSpPr>
                  <p:spPr>
                    <a:xfrm>
                      <a:off x="2472480" y="628812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5">
                          <a:moveTo>
                            <a:pt x="0" y="25"/>
                          </a:moveTo>
                          <a:lnTo>
                            <a:pt x="10" y="0"/>
                          </a:lnTo>
                          <a:lnTo>
                            <a:pt x="44" y="0"/>
                          </a:lnTo>
                          <a:lnTo>
                            <a:pt x="53" y="25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4" name=""/>
                  <p:cNvGrpSpPr/>
                  <p:nvPr/>
                </p:nvGrpSpPr>
                <p:grpSpPr>
                  <a:xfrm>
                    <a:off x="2472480" y="6288120"/>
                    <a:ext cx="11880" cy="11160"/>
                    <a:chOff x="2472480" y="6288120"/>
                    <a:chExt cx="11880" cy="11160"/>
                  </a:xfrm>
                </p:grpSpPr>
                <p:sp>
                  <p:nvSpPr>
                    <p:cNvPr id="4135" name=""/>
                    <p:cNvSpPr/>
                    <p:nvPr/>
                  </p:nvSpPr>
                  <p:spPr>
                    <a:xfrm>
                      <a:off x="2472480" y="6288120"/>
                      <a:ext cx="61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8">
                          <a:moveTo>
                            <a:pt x="19" y="58"/>
                          </a:moveTo>
                          <a:lnTo>
                            <a:pt x="0" y="28"/>
                          </a:lnTo>
                          <a:lnTo>
                            <a:pt x="10" y="0"/>
                          </a:lnTo>
                          <a:lnTo>
                            <a:pt x="32" y="28"/>
                          </a:lnTo>
                          <a:lnTo>
                            <a:pt x="19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6" name=""/>
                    <p:cNvSpPr/>
                    <p:nvPr/>
                  </p:nvSpPr>
                  <p:spPr>
                    <a:xfrm>
                      <a:off x="2475360" y="6288120"/>
                      <a:ext cx="75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28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1" y="28"/>
                          </a:lnTo>
                          <a:lnTo>
                            <a:pt x="20" y="2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7" name=""/>
                    <p:cNvSpPr/>
                    <p:nvPr/>
                  </p:nvSpPr>
                  <p:spPr>
                    <a:xfrm>
                      <a:off x="2476800" y="6294600"/>
                      <a:ext cx="75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6">
                          <a:moveTo>
                            <a:pt x="0" y="26"/>
                          </a:moveTo>
                          <a:lnTo>
                            <a:pt x="9" y="0"/>
                          </a:lnTo>
                          <a:lnTo>
                            <a:pt x="42" y="0"/>
                          </a:lnTo>
                          <a:lnTo>
                            <a:pt x="52" y="26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8" name=""/>
                  <p:cNvGrpSpPr/>
                  <p:nvPr/>
                </p:nvGrpSpPr>
                <p:grpSpPr>
                  <a:xfrm>
                    <a:off x="2477160" y="6294600"/>
                    <a:ext cx="12240" cy="12600"/>
                    <a:chOff x="2477160" y="6294600"/>
                    <a:chExt cx="12240" cy="12600"/>
                  </a:xfrm>
                </p:grpSpPr>
                <p:sp>
                  <p:nvSpPr>
                    <p:cNvPr id="4139" name=""/>
                    <p:cNvSpPr/>
                    <p:nvPr/>
                  </p:nvSpPr>
                  <p:spPr>
                    <a:xfrm>
                      <a:off x="2477160" y="6294600"/>
                      <a:ext cx="43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60">
                          <a:moveTo>
                            <a:pt x="18" y="60"/>
                          </a:moveTo>
                          <a:lnTo>
                            <a:pt x="0" y="29"/>
                          </a:lnTo>
                          <a:lnTo>
                            <a:pt x="10" y="0"/>
                          </a:lnTo>
                          <a:lnTo>
                            <a:pt x="32" y="29"/>
                          </a:lnTo>
                          <a:lnTo>
                            <a:pt x="18" y="6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0" name=""/>
                    <p:cNvSpPr/>
                    <p:nvPr/>
                  </p:nvSpPr>
                  <p:spPr>
                    <a:xfrm>
                      <a:off x="2478600" y="6294600"/>
                      <a:ext cx="90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9">
                          <a:moveTo>
                            <a:pt x="0" y="0"/>
                          </a:moveTo>
                          <a:lnTo>
                            <a:pt x="32" y="0"/>
                          </a:lnTo>
                          <a:lnTo>
                            <a:pt x="52" y="29"/>
                          </a:lnTo>
                          <a:lnTo>
                            <a:pt x="20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1" name=""/>
                    <p:cNvSpPr/>
                    <p:nvPr/>
                  </p:nvSpPr>
                  <p:spPr>
                    <a:xfrm>
                      <a:off x="2480040" y="630072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6">
                          <a:moveTo>
                            <a:pt x="0" y="26"/>
                          </a:moveTo>
                          <a:lnTo>
                            <a:pt x="10" y="0"/>
                          </a:lnTo>
                          <a:lnTo>
                            <a:pt x="44" y="0"/>
                          </a:lnTo>
                          <a:lnTo>
                            <a:pt x="53" y="26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42" name=""/>
                  <p:cNvGrpSpPr/>
                  <p:nvPr/>
                </p:nvGrpSpPr>
                <p:grpSpPr>
                  <a:xfrm>
                    <a:off x="2480400" y="6302520"/>
                    <a:ext cx="11880" cy="11160"/>
                    <a:chOff x="2480400" y="6302520"/>
                    <a:chExt cx="11880" cy="11160"/>
                  </a:xfrm>
                </p:grpSpPr>
                <p:sp>
                  <p:nvSpPr>
                    <p:cNvPr id="4143" name=""/>
                    <p:cNvSpPr/>
                    <p:nvPr/>
                  </p:nvSpPr>
                  <p:spPr>
                    <a:xfrm>
                      <a:off x="2480400" y="6302520"/>
                      <a:ext cx="61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59">
                          <a:moveTo>
                            <a:pt x="19" y="59"/>
                          </a:moveTo>
                          <a:lnTo>
                            <a:pt x="0" y="29"/>
                          </a:lnTo>
                          <a:lnTo>
                            <a:pt x="11" y="0"/>
                          </a:lnTo>
                          <a:lnTo>
                            <a:pt x="33" y="29"/>
                          </a:lnTo>
                          <a:lnTo>
                            <a:pt x="19" y="59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4" name=""/>
                    <p:cNvSpPr/>
                    <p:nvPr/>
                  </p:nvSpPr>
                  <p:spPr>
                    <a:xfrm>
                      <a:off x="2481480" y="630252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9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2" y="29"/>
                          </a:lnTo>
                          <a:lnTo>
                            <a:pt x="19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5" name=""/>
                    <p:cNvSpPr/>
                    <p:nvPr/>
                  </p:nvSpPr>
                  <p:spPr>
                    <a:xfrm>
                      <a:off x="2483280" y="630900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5">
                          <a:moveTo>
                            <a:pt x="0" y="25"/>
                          </a:moveTo>
                          <a:lnTo>
                            <a:pt x="10" y="0"/>
                          </a:lnTo>
                          <a:lnTo>
                            <a:pt x="44" y="0"/>
                          </a:lnTo>
                          <a:lnTo>
                            <a:pt x="54" y="25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146" name=""/>
                <p:cNvGrpSpPr/>
                <p:nvPr/>
              </p:nvGrpSpPr>
              <p:grpSpPr>
                <a:xfrm>
                  <a:off x="2485440" y="6309000"/>
                  <a:ext cx="12240" cy="10800"/>
                  <a:chOff x="2485440" y="6309000"/>
                  <a:chExt cx="12240" cy="10800"/>
                </a:xfrm>
              </p:grpSpPr>
              <p:sp>
                <p:nvSpPr>
                  <p:cNvPr id="4147" name=""/>
                  <p:cNvSpPr/>
                  <p:nvPr/>
                </p:nvSpPr>
                <p:spPr>
                  <a:xfrm>
                    <a:off x="2485440" y="6309000"/>
                    <a:ext cx="46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61">
                        <a:moveTo>
                          <a:pt x="19" y="61"/>
                        </a:moveTo>
                        <a:lnTo>
                          <a:pt x="0" y="30"/>
                        </a:lnTo>
                        <a:lnTo>
                          <a:pt x="10" y="0"/>
                        </a:lnTo>
                        <a:lnTo>
                          <a:pt x="32" y="30"/>
                        </a:lnTo>
                        <a:lnTo>
                          <a:pt x="19" y="6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8" name=""/>
                  <p:cNvSpPr/>
                  <p:nvPr/>
                </p:nvSpPr>
                <p:spPr>
                  <a:xfrm>
                    <a:off x="2486880" y="6309000"/>
                    <a:ext cx="75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9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1" y="29"/>
                        </a:lnTo>
                        <a:lnTo>
                          <a:pt x="19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9" name=""/>
                  <p:cNvSpPr/>
                  <p:nvPr/>
                </p:nvSpPr>
                <p:spPr>
                  <a:xfrm>
                    <a:off x="2488320" y="631512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6">
                        <a:moveTo>
                          <a:pt x="0" y="26"/>
                        </a:moveTo>
                        <a:lnTo>
                          <a:pt x="10" y="0"/>
                        </a:lnTo>
                        <a:lnTo>
                          <a:pt x="42" y="0"/>
                        </a:lnTo>
                        <a:lnTo>
                          <a:pt x="52" y="26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0" name=""/>
                <p:cNvGrpSpPr/>
                <p:nvPr/>
              </p:nvGrpSpPr>
              <p:grpSpPr>
                <a:xfrm>
                  <a:off x="2488680" y="6315120"/>
                  <a:ext cx="11880" cy="11160"/>
                  <a:chOff x="2488680" y="6315120"/>
                  <a:chExt cx="11880" cy="11160"/>
                </a:xfrm>
              </p:grpSpPr>
              <p:sp>
                <p:nvSpPr>
                  <p:cNvPr id="4151" name=""/>
                  <p:cNvSpPr/>
                  <p:nvPr/>
                </p:nvSpPr>
                <p:spPr>
                  <a:xfrm>
                    <a:off x="2488680" y="6315120"/>
                    <a:ext cx="43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9">
                        <a:moveTo>
                          <a:pt x="18" y="59"/>
                        </a:moveTo>
                        <a:lnTo>
                          <a:pt x="0" y="29"/>
                        </a:lnTo>
                        <a:lnTo>
                          <a:pt x="9" y="0"/>
                        </a:lnTo>
                        <a:lnTo>
                          <a:pt x="32" y="29"/>
                        </a:lnTo>
                        <a:lnTo>
                          <a:pt x="18" y="59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2" name=""/>
                  <p:cNvSpPr/>
                  <p:nvPr/>
                </p:nvSpPr>
                <p:spPr>
                  <a:xfrm>
                    <a:off x="2490120" y="631512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8">
                        <a:moveTo>
                          <a:pt x="0" y="0"/>
                        </a:moveTo>
                        <a:lnTo>
                          <a:pt x="31" y="0"/>
                        </a:lnTo>
                        <a:lnTo>
                          <a:pt x="52" y="28"/>
                        </a:lnTo>
                        <a:lnTo>
                          <a:pt x="20" y="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3" name=""/>
                  <p:cNvSpPr/>
                  <p:nvPr/>
                </p:nvSpPr>
                <p:spPr>
                  <a:xfrm>
                    <a:off x="2491560" y="632160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6">
                        <a:moveTo>
                          <a:pt x="0" y="26"/>
                        </a:moveTo>
                        <a:lnTo>
                          <a:pt x="10" y="0"/>
                        </a:lnTo>
                        <a:lnTo>
                          <a:pt x="44" y="0"/>
                        </a:lnTo>
                        <a:lnTo>
                          <a:pt x="53" y="26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4" name=""/>
                <p:cNvGrpSpPr/>
                <p:nvPr/>
              </p:nvGrpSpPr>
              <p:grpSpPr>
                <a:xfrm>
                  <a:off x="2491920" y="6323040"/>
                  <a:ext cx="11880" cy="11160"/>
                  <a:chOff x="2491920" y="6323040"/>
                  <a:chExt cx="11880" cy="11160"/>
                </a:xfrm>
              </p:grpSpPr>
              <p:sp>
                <p:nvSpPr>
                  <p:cNvPr id="4155" name=""/>
                  <p:cNvSpPr/>
                  <p:nvPr/>
                </p:nvSpPr>
                <p:spPr>
                  <a:xfrm>
                    <a:off x="2491920" y="6323040"/>
                    <a:ext cx="6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58">
                        <a:moveTo>
                          <a:pt x="19" y="58"/>
                        </a:moveTo>
                        <a:lnTo>
                          <a:pt x="0" y="27"/>
                        </a:lnTo>
                        <a:lnTo>
                          <a:pt x="11" y="0"/>
                        </a:lnTo>
                        <a:lnTo>
                          <a:pt x="33" y="27"/>
                        </a:lnTo>
                        <a:lnTo>
                          <a:pt x="19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6" name=""/>
                  <p:cNvSpPr/>
                  <p:nvPr/>
                </p:nvSpPr>
                <p:spPr>
                  <a:xfrm>
                    <a:off x="2493000" y="632304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7">
                        <a:moveTo>
                          <a:pt x="0" y="0"/>
                        </a:moveTo>
                        <a:lnTo>
                          <a:pt x="32" y="0"/>
                        </a:lnTo>
                        <a:lnTo>
                          <a:pt x="51" y="27"/>
                        </a:lnTo>
                        <a:lnTo>
                          <a:pt x="18" y="2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7" name=""/>
                  <p:cNvSpPr/>
                  <p:nvPr/>
                </p:nvSpPr>
                <p:spPr>
                  <a:xfrm>
                    <a:off x="2494800" y="632772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7">
                        <a:moveTo>
                          <a:pt x="0" y="27"/>
                        </a:moveTo>
                        <a:lnTo>
                          <a:pt x="10" y="0"/>
                        </a:lnTo>
                        <a:lnTo>
                          <a:pt x="43" y="0"/>
                        </a:lnTo>
                        <a:lnTo>
                          <a:pt x="51" y="27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8" name=""/>
                <p:cNvGrpSpPr/>
                <p:nvPr/>
              </p:nvGrpSpPr>
              <p:grpSpPr>
                <a:xfrm>
                  <a:off x="2496600" y="6329520"/>
                  <a:ext cx="11880" cy="11160"/>
                  <a:chOff x="2496600" y="6329520"/>
                  <a:chExt cx="11880" cy="11160"/>
                </a:xfrm>
              </p:grpSpPr>
              <p:sp>
                <p:nvSpPr>
                  <p:cNvPr id="4159" name=""/>
                  <p:cNvSpPr/>
                  <p:nvPr/>
                </p:nvSpPr>
                <p:spPr>
                  <a:xfrm>
                    <a:off x="2496600" y="6329520"/>
                    <a:ext cx="43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20" y="58"/>
                        </a:moveTo>
                        <a:lnTo>
                          <a:pt x="0" y="28"/>
                        </a:lnTo>
                        <a:lnTo>
                          <a:pt x="10" y="0"/>
                        </a:lnTo>
                        <a:lnTo>
                          <a:pt x="32" y="28"/>
                        </a:lnTo>
                        <a:lnTo>
                          <a:pt x="20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0" name=""/>
                  <p:cNvSpPr/>
                  <p:nvPr/>
                </p:nvSpPr>
                <p:spPr>
                  <a:xfrm>
                    <a:off x="2498040" y="632952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9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2" y="29"/>
                        </a:lnTo>
                        <a:lnTo>
                          <a:pt x="20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1" name=""/>
                  <p:cNvSpPr/>
                  <p:nvPr/>
                </p:nvSpPr>
                <p:spPr>
                  <a:xfrm>
                    <a:off x="2499480" y="6335640"/>
                    <a:ext cx="90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4">
                        <a:moveTo>
                          <a:pt x="0" y="24"/>
                        </a:moveTo>
                        <a:lnTo>
                          <a:pt x="9" y="0"/>
                        </a:lnTo>
                        <a:lnTo>
                          <a:pt x="42" y="0"/>
                        </a:lnTo>
                        <a:lnTo>
                          <a:pt x="52" y="24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62" name=""/>
                <p:cNvGrpSpPr/>
                <p:nvPr/>
              </p:nvGrpSpPr>
              <p:grpSpPr>
                <a:xfrm>
                  <a:off x="2499840" y="6335640"/>
                  <a:ext cx="11880" cy="12960"/>
                  <a:chOff x="2499840" y="6335640"/>
                  <a:chExt cx="11880" cy="12960"/>
                </a:xfrm>
              </p:grpSpPr>
              <p:sp>
                <p:nvSpPr>
                  <p:cNvPr id="4163" name=""/>
                  <p:cNvSpPr/>
                  <p:nvPr/>
                </p:nvSpPr>
                <p:spPr>
                  <a:xfrm>
                    <a:off x="2499840" y="6335640"/>
                    <a:ext cx="61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9">
                        <a:moveTo>
                          <a:pt x="18" y="59"/>
                        </a:moveTo>
                        <a:lnTo>
                          <a:pt x="0" y="29"/>
                        </a:lnTo>
                        <a:lnTo>
                          <a:pt x="10" y="0"/>
                        </a:lnTo>
                        <a:lnTo>
                          <a:pt x="32" y="29"/>
                        </a:lnTo>
                        <a:lnTo>
                          <a:pt x="18" y="59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4" name=""/>
                  <p:cNvSpPr/>
                  <p:nvPr/>
                </p:nvSpPr>
                <p:spPr>
                  <a:xfrm>
                    <a:off x="2500920" y="633564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0">
                        <a:moveTo>
                          <a:pt x="0" y="0"/>
                        </a:moveTo>
                        <a:lnTo>
                          <a:pt x="34" y="0"/>
                        </a:lnTo>
                        <a:lnTo>
                          <a:pt x="52" y="30"/>
                        </a:lnTo>
                        <a:lnTo>
                          <a:pt x="20" y="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5" name=""/>
                  <p:cNvSpPr/>
                  <p:nvPr/>
                </p:nvSpPr>
                <p:spPr>
                  <a:xfrm>
                    <a:off x="2502720" y="634212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5">
                        <a:moveTo>
                          <a:pt x="0" y="25"/>
                        </a:moveTo>
                        <a:lnTo>
                          <a:pt x="12" y="0"/>
                        </a:lnTo>
                        <a:lnTo>
                          <a:pt x="44" y="0"/>
                        </a:lnTo>
                        <a:lnTo>
                          <a:pt x="53" y="25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66" name=""/>
                <p:cNvGrpSpPr/>
                <p:nvPr/>
              </p:nvGrpSpPr>
              <p:grpSpPr>
                <a:xfrm>
                  <a:off x="2504520" y="6343920"/>
                  <a:ext cx="11880" cy="10800"/>
                  <a:chOff x="2504520" y="6343920"/>
                  <a:chExt cx="11880" cy="10800"/>
                </a:xfrm>
              </p:grpSpPr>
              <p:sp>
                <p:nvSpPr>
                  <p:cNvPr id="4167" name=""/>
                  <p:cNvSpPr/>
                  <p:nvPr/>
                </p:nvSpPr>
                <p:spPr>
                  <a:xfrm>
                    <a:off x="2504520" y="6343920"/>
                    <a:ext cx="432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18" y="58"/>
                        </a:moveTo>
                        <a:lnTo>
                          <a:pt x="0" y="29"/>
                        </a:lnTo>
                        <a:lnTo>
                          <a:pt x="10" y="0"/>
                        </a:lnTo>
                        <a:lnTo>
                          <a:pt x="32" y="29"/>
                        </a:lnTo>
                        <a:lnTo>
                          <a:pt x="18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8" name=""/>
                  <p:cNvSpPr/>
                  <p:nvPr/>
                </p:nvSpPr>
                <p:spPr>
                  <a:xfrm>
                    <a:off x="2505960" y="634392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0">
                        <a:moveTo>
                          <a:pt x="0" y="0"/>
                        </a:moveTo>
                        <a:lnTo>
                          <a:pt x="32" y="0"/>
                        </a:lnTo>
                        <a:lnTo>
                          <a:pt x="52" y="30"/>
                        </a:lnTo>
                        <a:lnTo>
                          <a:pt x="19" y="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9" name=""/>
                  <p:cNvSpPr/>
                  <p:nvPr/>
                </p:nvSpPr>
                <p:spPr>
                  <a:xfrm>
                    <a:off x="2507400" y="635004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4">
                        <a:moveTo>
                          <a:pt x="0" y="24"/>
                        </a:moveTo>
                        <a:lnTo>
                          <a:pt x="10" y="0"/>
                        </a:lnTo>
                        <a:lnTo>
                          <a:pt x="44" y="0"/>
                        </a:lnTo>
                        <a:lnTo>
                          <a:pt x="54" y="24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70" name=""/>
                <p:cNvGrpSpPr/>
                <p:nvPr/>
              </p:nvGrpSpPr>
              <p:grpSpPr>
                <a:xfrm>
                  <a:off x="2507760" y="6350040"/>
                  <a:ext cx="11880" cy="11160"/>
                  <a:chOff x="2507760" y="6350040"/>
                  <a:chExt cx="11880" cy="11160"/>
                </a:xfrm>
              </p:grpSpPr>
              <p:sp>
                <p:nvSpPr>
                  <p:cNvPr id="4171" name=""/>
                  <p:cNvSpPr/>
                  <p:nvPr/>
                </p:nvSpPr>
                <p:spPr>
                  <a:xfrm>
                    <a:off x="2507760" y="6350040"/>
                    <a:ext cx="43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9">
                        <a:moveTo>
                          <a:pt x="20" y="59"/>
                        </a:moveTo>
                        <a:lnTo>
                          <a:pt x="0" y="28"/>
                        </a:lnTo>
                        <a:lnTo>
                          <a:pt x="10" y="0"/>
                        </a:lnTo>
                        <a:lnTo>
                          <a:pt x="32" y="28"/>
                        </a:lnTo>
                        <a:lnTo>
                          <a:pt x="20" y="59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2" name=""/>
                  <p:cNvSpPr/>
                  <p:nvPr/>
                </p:nvSpPr>
                <p:spPr>
                  <a:xfrm>
                    <a:off x="2508840" y="635004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8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2" y="28"/>
                        </a:lnTo>
                        <a:lnTo>
                          <a:pt x="19" y="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3" name=""/>
                  <p:cNvSpPr/>
                  <p:nvPr/>
                </p:nvSpPr>
                <p:spPr>
                  <a:xfrm>
                    <a:off x="2510640" y="635652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6">
                        <a:moveTo>
                          <a:pt x="0" y="26"/>
                        </a:moveTo>
                        <a:lnTo>
                          <a:pt x="9" y="0"/>
                        </a:lnTo>
                        <a:lnTo>
                          <a:pt x="42" y="0"/>
                        </a:lnTo>
                        <a:lnTo>
                          <a:pt x="51" y="26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74" name=""/>
                <p:cNvSpPr/>
                <p:nvPr/>
              </p:nvSpPr>
              <p:spPr>
                <a:xfrm>
                  <a:off x="2461680" y="6243840"/>
                  <a:ext cx="10800" cy="4680"/>
                </a:xfrm>
                <a:custGeom>
                  <a:avLst/>
                  <a:gdLst/>
                  <a:ahLst/>
                  <a:rect l="l" t="t" r="r" b="b"/>
                  <a:pathLst>
                    <a:path w="63" h="30">
                      <a:moveTo>
                        <a:pt x="0" y="0"/>
                      </a:moveTo>
                      <a:lnTo>
                        <a:pt x="22" y="30"/>
                      </a:lnTo>
                      <a:lnTo>
                        <a:pt x="63" y="30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5" name=""/>
                <p:cNvSpPr/>
                <p:nvPr/>
              </p:nvSpPr>
              <p:spPr>
                <a:xfrm>
                  <a:off x="2468160" y="6253200"/>
                  <a:ext cx="10800" cy="6480"/>
                </a:xfrm>
                <a:custGeom>
                  <a:avLst/>
                  <a:gdLst/>
                  <a:ahLst/>
                  <a:rect l="l" t="t" r="r" b="b"/>
                  <a:pathLst>
                    <a:path w="63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3" y="31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6" name=""/>
                <p:cNvSpPr/>
                <p:nvPr/>
              </p:nvSpPr>
              <p:spPr>
                <a:xfrm>
                  <a:off x="2472840" y="6262920"/>
                  <a:ext cx="10800" cy="4680"/>
                </a:xfrm>
                <a:custGeom>
                  <a:avLst/>
                  <a:gdLst/>
                  <a:ahLst/>
                  <a:rect l="l" t="t" r="r" b="b"/>
                  <a:pathLst>
                    <a:path w="64" h="31">
                      <a:moveTo>
                        <a:pt x="0" y="0"/>
                      </a:moveTo>
                      <a:lnTo>
                        <a:pt x="23" y="31"/>
                      </a:lnTo>
                      <a:lnTo>
                        <a:pt x="64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7" name=""/>
                <p:cNvSpPr/>
                <p:nvPr/>
              </p:nvSpPr>
              <p:spPr>
                <a:xfrm>
                  <a:off x="2479320" y="6272280"/>
                  <a:ext cx="10800" cy="6480"/>
                </a:xfrm>
                <a:custGeom>
                  <a:avLst/>
                  <a:gdLst/>
                  <a:ahLst/>
                  <a:rect l="l" t="t" r="r" b="b"/>
                  <a:pathLst>
                    <a:path w="64" h="31">
                      <a:moveTo>
                        <a:pt x="0" y="0"/>
                      </a:moveTo>
                      <a:lnTo>
                        <a:pt x="23" y="31"/>
                      </a:lnTo>
                      <a:lnTo>
                        <a:pt x="64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8" name=""/>
                <p:cNvSpPr/>
                <p:nvPr/>
              </p:nvSpPr>
              <p:spPr>
                <a:xfrm>
                  <a:off x="2484000" y="628200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64" h="30">
                      <a:moveTo>
                        <a:pt x="0" y="0"/>
                      </a:moveTo>
                      <a:lnTo>
                        <a:pt x="23" y="30"/>
                      </a:lnTo>
                      <a:lnTo>
                        <a:pt x="64" y="30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9" name=""/>
                <p:cNvSpPr/>
                <p:nvPr/>
              </p:nvSpPr>
              <p:spPr>
                <a:xfrm>
                  <a:off x="2490480" y="6291360"/>
                  <a:ext cx="10440" cy="6480"/>
                </a:xfrm>
                <a:custGeom>
                  <a:avLst/>
                  <a:gdLst/>
                  <a:ahLst/>
                  <a:rect l="l" t="t" r="r" b="b"/>
                  <a:pathLst>
                    <a:path w="64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4" y="31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0" name=""/>
                <p:cNvSpPr/>
                <p:nvPr/>
              </p:nvSpPr>
              <p:spPr>
                <a:xfrm>
                  <a:off x="2496600" y="6300720"/>
                  <a:ext cx="10800" cy="648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5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1" name=""/>
                <p:cNvSpPr/>
                <p:nvPr/>
              </p:nvSpPr>
              <p:spPr>
                <a:xfrm>
                  <a:off x="2503080" y="6310440"/>
                  <a:ext cx="10800" cy="648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5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2" name=""/>
                <p:cNvSpPr/>
                <p:nvPr/>
              </p:nvSpPr>
              <p:spPr>
                <a:xfrm>
                  <a:off x="2507760" y="6319800"/>
                  <a:ext cx="10800" cy="6480"/>
                </a:xfrm>
                <a:custGeom>
                  <a:avLst/>
                  <a:gdLst/>
                  <a:ahLst/>
                  <a:rect l="l" t="t" r="r" b="b"/>
                  <a:pathLst>
                    <a:path w="63" h="30">
                      <a:moveTo>
                        <a:pt x="0" y="0"/>
                      </a:moveTo>
                      <a:lnTo>
                        <a:pt x="22" y="30"/>
                      </a:lnTo>
                      <a:lnTo>
                        <a:pt x="63" y="30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3" name=""/>
                <p:cNvSpPr/>
                <p:nvPr/>
              </p:nvSpPr>
              <p:spPr>
                <a:xfrm>
                  <a:off x="2514240" y="632952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5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4" name=""/>
                <p:cNvSpPr/>
                <p:nvPr/>
              </p:nvSpPr>
              <p:spPr>
                <a:xfrm>
                  <a:off x="2518920" y="6338880"/>
                  <a:ext cx="12240" cy="648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5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5" name=""/>
                <p:cNvGrpSpPr/>
                <p:nvPr/>
              </p:nvGrpSpPr>
              <p:grpSpPr>
                <a:xfrm>
                  <a:off x="2384280" y="6232680"/>
                  <a:ext cx="13680" cy="11160"/>
                  <a:chOff x="2384280" y="6232680"/>
                  <a:chExt cx="13680" cy="11160"/>
                </a:xfrm>
              </p:grpSpPr>
              <p:sp>
                <p:nvSpPr>
                  <p:cNvPr id="4186" name=""/>
                  <p:cNvSpPr/>
                  <p:nvPr/>
                </p:nvSpPr>
                <p:spPr>
                  <a:xfrm>
                    <a:off x="2384280" y="623268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1" y="59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9" y="27"/>
                        </a:lnTo>
                        <a:lnTo>
                          <a:pt x="11" y="59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7" name=""/>
                  <p:cNvSpPr/>
                  <p:nvPr/>
                </p:nvSpPr>
                <p:spPr>
                  <a:xfrm>
                    <a:off x="2385360" y="623268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3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9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8" name=""/>
                  <p:cNvSpPr/>
                  <p:nvPr/>
                </p:nvSpPr>
                <p:spPr>
                  <a:xfrm>
                    <a:off x="2385360" y="623736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7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89" name=""/>
                <p:cNvGrpSpPr/>
                <p:nvPr/>
              </p:nvGrpSpPr>
              <p:grpSpPr>
                <a:xfrm>
                  <a:off x="2387160" y="6240600"/>
                  <a:ext cx="13680" cy="11160"/>
                  <a:chOff x="2387160" y="6240600"/>
                  <a:chExt cx="13680" cy="11160"/>
                </a:xfrm>
              </p:grpSpPr>
              <p:sp>
                <p:nvSpPr>
                  <p:cNvPr id="4190" name=""/>
                  <p:cNvSpPr/>
                  <p:nvPr/>
                </p:nvSpPr>
                <p:spPr>
                  <a:xfrm>
                    <a:off x="2387160" y="624060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9" y="27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1" name=""/>
                  <p:cNvSpPr/>
                  <p:nvPr/>
                </p:nvSpPr>
                <p:spPr>
                  <a:xfrm>
                    <a:off x="2388240" y="624060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2" name=""/>
                  <p:cNvSpPr/>
                  <p:nvPr/>
                </p:nvSpPr>
                <p:spPr>
                  <a:xfrm>
                    <a:off x="2390040" y="624528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4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93" name=""/>
                <p:cNvGrpSpPr/>
                <p:nvPr/>
              </p:nvGrpSpPr>
              <p:grpSpPr>
                <a:xfrm>
                  <a:off x="2391840" y="6247080"/>
                  <a:ext cx="13680" cy="10800"/>
                  <a:chOff x="2391840" y="6247080"/>
                  <a:chExt cx="13680" cy="10800"/>
                </a:xfrm>
              </p:grpSpPr>
              <p:sp>
                <p:nvSpPr>
                  <p:cNvPr id="4194" name=""/>
                  <p:cNvSpPr/>
                  <p:nvPr/>
                </p:nvSpPr>
                <p:spPr>
                  <a:xfrm>
                    <a:off x="2391840" y="6247080"/>
                    <a:ext cx="28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8" y="27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5" name=""/>
                  <p:cNvSpPr/>
                  <p:nvPr/>
                </p:nvSpPr>
                <p:spPr>
                  <a:xfrm>
                    <a:off x="2393280" y="624708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7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4"/>
                        </a:lnTo>
                        <a:lnTo>
                          <a:pt x="46" y="11"/>
                        </a:lnTo>
                        <a:lnTo>
                          <a:pt x="58" y="27"/>
                        </a:lnTo>
                        <a:lnTo>
                          <a:pt x="15" y="27"/>
                        </a:lnTo>
                        <a:lnTo>
                          <a:pt x="7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6" name=""/>
                  <p:cNvSpPr/>
                  <p:nvPr/>
                </p:nvSpPr>
                <p:spPr>
                  <a:xfrm>
                    <a:off x="2393280" y="625176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7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97" name=""/>
                <p:cNvGrpSpPr/>
                <p:nvPr/>
              </p:nvGrpSpPr>
              <p:grpSpPr>
                <a:xfrm>
                  <a:off x="2395080" y="6256440"/>
                  <a:ext cx="13680" cy="11160"/>
                  <a:chOff x="2395080" y="6256440"/>
                  <a:chExt cx="13680" cy="11160"/>
                </a:xfrm>
              </p:grpSpPr>
              <p:sp>
                <p:nvSpPr>
                  <p:cNvPr id="4198" name=""/>
                  <p:cNvSpPr/>
                  <p:nvPr/>
                </p:nvSpPr>
                <p:spPr>
                  <a:xfrm>
                    <a:off x="2395080" y="625644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1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19" y="27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9" name=""/>
                  <p:cNvSpPr/>
                  <p:nvPr/>
                </p:nvSpPr>
                <p:spPr>
                  <a:xfrm>
                    <a:off x="2396160" y="625644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0"/>
                        </a:lnTo>
                        <a:lnTo>
                          <a:pt x="59" y="26"/>
                        </a:lnTo>
                        <a:lnTo>
                          <a:pt x="14" y="26"/>
                        </a:lnTo>
                        <a:lnTo>
                          <a:pt x="7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0" name=""/>
                  <p:cNvSpPr/>
                  <p:nvPr/>
                </p:nvSpPr>
                <p:spPr>
                  <a:xfrm>
                    <a:off x="2397960" y="626112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6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8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1" name=""/>
                <p:cNvGrpSpPr/>
                <p:nvPr/>
              </p:nvGrpSpPr>
              <p:grpSpPr>
                <a:xfrm>
                  <a:off x="2398320" y="6264360"/>
                  <a:ext cx="37440" cy="54000"/>
                  <a:chOff x="2398320" y="6264360"/>
                  <a:chExt cx="37440" cy="54000"/>
                </a:xfrm>
              </p:grpSpPr>
              <p:sp>
                <p:nvSpPr>
                  <p:cNvPr id="4202" name=""/>
                  <p:cNvSpPr/>
                  <p:nvPr/>
                </p:nvSpPr>
                <p:spPr>
                  <a:xfrm>
                    <a:off x="2398320" y="6264360"/>
                    <a:ext cx="266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269">
                        <a:moveTo>
                          <a:pt x="138" y="269"/>
                        </a:moveTo>
                        <a:lnTo>
                          <a:pt x="0" y="23"/>
                        </a:lnTo>
                        <a:lnTo>
                          <a:pt x="10" y="0"/>
                        </a:lnTo>
                        <a:lnTo>
                          <a:pt x="147" y="238"/>
                        </a:lnTo>
                        <a:lnTo>
                          <a:pt x="138" y="26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3" name=""/>
                  <p:cNvSpPr/>
                  <p:nvPr/>
                </p:nvSpPr>
                <p:spPr>
                  <a:xfrm>
                    <a:off x="2399400" y="6264360"/>
                    <a:ext cx="3456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240">
                        <a:moveTo>
                          <a:pt x="2" y="0"/>
                        </a:moveTo>
                        <a:lnTo>
                          <a:pt x="46" y="0"/>
                        </a:lnTo>
                        <a:lnTo>
                          <a:pt x="47" y="0"/>
                        </a:lnTo>
                        <a:lnTo>
                          <a:pt x="54" y="9"/>
                        </a:lnTo>
                        <a:lnTo>
                          <a:pt x="191" y="240"/>
                        </a:lnTo>
                        <a:lnTo>
                          <a:pt x="135" y="237"/>
                        </a:lnTo>
                        <a:lnTo>
                          <a:pt x="8" y="16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4" name=""/>
                  <p:cNvSpPr/>
                  <p:nvPr/>
                </p:nvSpPr>
                <p:spPr>
                  <a:xfrm>
                    <a:off x="2423160" y="631188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7" y="6"/>
                        </a:lnTo>
                        <a:lnTo>
                          <a:pt x="10" y="0"/>
                        </a:lnTo>
                        <a:lnTo>
                          <a:pt x="62" y="0"/>
                        </a:lnTo>
                        <a:lnTo>
                          <a:pt x="77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5" name=""/>
                <p:cNvGrpSpPr/>
                <p:nvPr/>
              </p:nvGrpSpPr>
              <p:grpSpPr>
                <a:xfrm>
                  <a:off x="2425320" y="6313680"/>
                  <a:ext cx="11880" cy="11160"/>
                  <a:chOff x="2425320" y="6313680"/>
                  <a:chExt cx="11880" cy="11160"/>
                </a:xfrm>
              </p:grpSpPr>
              <p:sp>
                <p:nvSpPr>
                  <p:cNvPr id="4206" name=""/>
                  <p:cNvSpPr/>
                  <p:nvPr/>
                </p:nvSpPr>
                <p:spPr>
                  <a:xfrm>
                    <a:off x="2425320" y="631368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9" y="27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7" name=""/>
                  <p:cNvSpPr/>
                  <p:nvPr/>
                </p:nvSpPr>
                <p:spPr>
                  <a:xfrm>
                    <a:off x="2425320" y="631368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8" name=""/>
                  <p:cNvSpPr/>
                  <p:nvPr/>
                </p:nvSpPr>
                <p:spPr>
                  <a:xfrm>
                    <a:off x="2426400" y="631836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7"/>
                        </a:lnTo>
                        <a:lnTo>
                          <a:pt x="4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9" name=""/>
                <p:cNvGrpSpPr/>
                <p:nvPr/>
              </p:nvGrpSpPr>
              <p:grpSpPr>
                <a:xfrm>
                  <a:off x="2428560" y="6321600"/>
                  <a:ext cx="13320" cy="11160"/>
                  <a:chOff x="2428560" y="6321600"/>
                  <a:chExt cx="13320" cy="11160"/>
                </a:xfrm>
              </p:grpSpPr>
              <p:sp>
                <p:nvSpPr>
                  <p:cNvPr id="4210" name=""/>
                  <p:cNvSpPr/>
                  <p:nvPr/>
                </p:nvSpPr>
                <p:spPr>
                  <a:xfrm>
                    <a:off x="2428560" y="6321600"/>
                    <a:ext cx="25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8" y="26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1" name=""/>
                  <p:cNvSpPr/>
                  <p:nvPr/>
                </p:nvSpPr>
                <p:spPr>
                  <a:xfrm>
                    <a:off x="2429640" y="632160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5" y="10"/>
                        </a:lnTo>
                        <a:lnTo>
                          <a:pt x="58" y="25"/>
                        </a:lnTo>
                        <a:lnTo>
                          <a:pt x="13" y="25"/>
                        </a:lnTo>
                        <a:lnTo>
                          <a:pt x="7" y="18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2" name=""/>
                  <p:cNvSpPr/>
                  <p:nvPr/>
                </p:nvSpPr>
                <p:spPr>
                  <a:xfrm>
                    <a:off x="2429640" y="6326280"/>
                    <a:ext cx="12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13" name=""/>
                <p:cNvGrpSpPr/>
                <p:nvPr/>
              </p:nvGrpSpPr>
              <p:grpSpPr>
                <a:xfrm>
                  <a:off x="2493360" y="6350040"/>
                  <a:ext cx="13680" cy="11160"/>
                  <a:chOff x="2493360" y="6350040"/>
                  <a:chExt cx="13680" cy="11160"/>
                </a:xfrm>
              </p:grpSpPr>
              <p:sp>
                <p:nvSpPr>
                  <p:cNvPr id="4214" name=""/>
                  <p:cNvSpPr/>
                  <p:nvPr/>
                </p:nvSpPr>
                <p:spPr>
                  <a:xfrm>
                    <a:off x="2493360" y="635004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9">
                        <a:moveTo>
                          <a:pt x="10" y="59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8" y="27"/>
                        </a:lnTo>
                        <a:lnTo>
                          <a:pt x="10" y="59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5" name=""/>
                  <p:cNvSpPr/>
                  <p:nvPr/>
                </p:nvSpPr>
                <p:spPr>
                  <a:xfrm>
                    <a:off x="2494800" y="635004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2" y="0"/>
                        </a:moveTo>
                        <a:lnTo>
                          <a:pt x="42" y="0"/>
                        </a:lnTo>
                        <a:lnTo>
                          <a:pt x="43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9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6" name=""/>
                  <p:cNvSpPr/>
                  <p:nvPr/>
                </p:nvSpPr>
                <p:spPr>
                  <a:xfrm>
                    <a:off x="2496240" y="635472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1">
                        <a:moveTo>
                          <a:pt x="0" y="31"/>
                        </a:moveTo>
                        <a:lnTo>
                          <a:pt x="2" y="17"/>
                        </a:lnTo>
                        <a:lnTo>
                          <a:pt x="6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8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17" name=""/>
                <p:cNvGrpSpPr/>
                <p:nvPr/>
              </p:nvGrpSpPr>
              <p:grpSpPr>
                <a:xfrm>
                  <a:off x="2450520" y="6337440"/>
                  <a:ext cx="13680" cy="11160"/>
                  <a:chOff x="2450520" y="6337440"/>
                  <a:chExt cx="13680" cy="11160"/>
                </a:xfrm>
              </p:grpSpPr>
              <p:sp>
                <p:nvSpPr>
                  <p:cNvPr id="4218" name=""/>
                  <p:cNvSpPr/>
                  <p:nvPr/>
                </p:nvSpPr>
                <p:spPr>
                  <a:xfrm>
                    <a:off x="2450520" y="633744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1" y="59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9" y="27"/>
                        </a:lnTo>
                        <a:lnTo>
                          <a:pt x="11" y="59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9" name=""/>
                  <p:cNvSpPr/>
                  <p:nvPr/>
                </p:nvSpPr>
                <p:spPr>
                  <a:xfrm>
                    <a:off x="2451960" y="633744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0" name=""/>
                  <p:cNvSpPr/>
                  <p:nvPr/>
                </p:nvSpPr>
                <p:spPr>
                  <a:xfrm>
                    <a:off x="2451960" y="6342120"/>
                    <a:ext cx="12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5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21" name=""/>
                <p:cNvGrpSpPr/>
                <p:nvPr/>
              </p:nvGrpSpPr>
              <p:grpSpPr>
                <a:xfrm>
                  <a:off x="2453760" y="6343920"/>
                  <a:ext cx="11880" cy="10800"/>
                  <a:chOff x="2453760" y="6343920"/>
                  <a:chExt cx="11880" cy="10800"/>
                </a:xfrm>
              </p:grpSpPr>
              <p:sp>
                <p:nvSpPr>
                  <p:cNvPr id="4222" name=""/>
                  <p:cNvSpPr/>
                  <p:nvPr/>
                </p:nvSpPr>
                <p:spPr>
                  <a:xfrm>
                    <a:off x="2453760" y="6343920"/>
                    <a:ext cx="28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2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20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3" name=""/>
                  <p:cNvSpPr/>
                  <p:nvPr/>
                </p:nvSpPr>
                <p:spPr>
                  <a:xfrm>
                    <a:off x="2453760" y="63439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4" name=""/>
                  <p:cNvSpPr/>
                  <p:nvPr/>
                </p:nvSpPr>
                <p:spPr>
                  <a:xfrm>
                    <a:off x="2455200" y="6348600"/>
                    <a:ext cx="104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25" name=""/>
                <p:cNvSpPr/>
                <p:nvPr/>
              </p:nvSpPr>
              <p:spPr>
                <a:xfrm>
                  <a:off x="2464920" y="6343920"/>
                  <a:ext cx="7560" cy="20520"/>
                </a:xfrm>
                <a:custGeom>
                  <a:avLst/>
                  <a:gdLst/>
                  <a:ahLst/>
                  <a:rect l="l" t="t" r="r" b="b"/>
                  <a:pathLst>
                    <a:path w="41" h="110">
                      <a:moveTo>
                        <a:pt x="33" y="110"/>
                      </a:moveTo>
                      <a:lnTo>
                        <a:pt x="0" y="25"/>
                      </a:lnTo>
                      <a:lnTo>
                        <a:pt x="0" y="17"/>
                      </a:lnTo>
                      <a:lnTo>
                        <a:pt x="2" y="10"/>
                      </a:lnTo>
                      <a:lnTo>
                        <a:pt x="8" y="0"/>
                      </a:lnTo>
                      <a:lnTo>
                        <a:pt x="41" y="78"/>
                      </a:lnTo>
                      <a:lnTo>
                        <a:pt x="33" y="11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6" name=""/>
                <p:cNvSpPr/>
                <p:nvPr/>
              </p:nvSpPr>
              <p:spPr>
                <a:xfrm>
                  <a:off x="2466360" y="6343920"/>
                  <a:ext cx="26640" cy="14040"/>
                </a:xfrm>
                <a:custGeom>
                  <a:avLst/>
                  <a:gdLst/>
                  <a:ahLst/>
                  <a:rect l="l" t="t" r="r" b="b"/>
                  <a:pathLst>
                    <a:path w="149" h="72">
                      <a:moveTo>
                        <a:pt x="0" y="0"/>
                      </a:moveTo>
                      <a:lnTo>
                        <a:pt x="53" y="0"/>
                      </a:lnTo>
                      <a:lnTo>
                        <a:pt x="55" y="11"/>
                      </a:lnTo>
                      <a:lnTo>
                        <a:pt x="61" y="24"/>
                      </a:lnTo>
                      <a:lnTo>
                        <a:pt x="69" y="36"/>
                      </a:lnTo>
                      <a:lnTo>
                        <a:pt x="128" y="36"/>
                      </a:lnTo>
                      <a:lnTo>
                        <a:pt x="133" y="47"/>
                      </a:lnTo>
                      <a:lnTo>
                        <a:pt x="140" y="57"/>
                      </a:lnTo>
                      <a:lnTo>
                        <a:pt x="149" y="72"/>
                      </a:lnTo>
                      <a:lnTo>
                        <a:pt x="53" y="72"/>
                      </a:lnTo>
                      <a:lnTo>
                        <a:pt x="33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7" name=""/>
                <p:cNvSpPr/>
                <p:nvPr/>
              </p:nvSpPr>
              <p:spPr>
                <a:xfrm>
                  <a:off x="2471400" y="6357960"/>
                  <a:ext cx="23400" cy="6480"/>
                </a:xfrm>
                <a:custGeom>
                  <a:avLst/>
                  <a:gdLst/>
                  <a:ahLst/>
                  <a:rect l="l" t="t" r="r" b="b"/>
                  <a:pathLst>
                    <a:path w="130" h="30">
                      <a:moveTo>
                        <a:pt x="0" y="30"/>
                      </a:moveTo>
                      <a:lnTo>
                        <a:pt x="1" y="16"/>
                      </a:lnTo>
                      <a:lnTo>
                        <a:pt x="5" y="6"/>
                      </a:lnTo>
                      <a:lnTo>
                        <a:pt x="9" y="0"/>
                      </a:lnTo>
                      <a:lnTo>
                        <a:pt x="122" y="0"/>
                      </a:lnTo>
                      <a:lnTo>
                        <a:pt x="130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8" name=""/>
              <p:cNvGrpSpPr/>
              <p:nvPr/>
            </p:nvGrpSpPr>
            <p:grpSpPr>
              <a:xfrm>
                <a:off x="2446200" y="6377040"/>
                <a:ext cx="118800" cy="27000"/>
                <a:chOff x="2446200" y="6377040"/>
                <a:chExt cx="118800" cy="27000"/>
              </a:xfrm>
            </p:grpSpPr>
            <p:sp>
              <p:nvSpPr>
                <p:cNvPr id="4229" name=""/>
                <p:cNvSpPr/>
                <p:nvPr/>
              </p:nvSpPr>
              <p:spPr>
                <a:xfrm>
                  <a:off x="2446200" y="6377040"/>
                  <a:ext cx="118800" cy="27000"/>
                </a:xfrm>
                <a:custGeom>
                  <a:avLst/>
                  <a:gdLst/>
                  <a:ahLst/>
                  <a:rect l="l" t="t" r="r" b="b"/>
                  <a:pathLst>
                    <a:path w="669" h="130">
                      <a:moveTo>
                        <a:pt x="29" y="11"/>
                      </a:moveTo>
                      <a:lnTo>
                        <a:pt x="14" y="23"/>
                      </a:lnTo>
                      <a:lnTo>
                        <a:pt x="8" y="42"/>
                      </a:lnTo>
                      <a:lnTo>
                        <a:pt x="0" y="84"/>
                      </a:lnTo>
                      <a:lnTo>
                        <a:pt x="4" y="107"/>
                      </a:lnTo>
                      <a:lnTo>
                        <a:pt x="11" y="119"/>
                      </a:lnTo>
                      <a:lnTo>
                        <a:pt x="22" y="130"/>
                      </a:lnTo>
                      <a:lnTo>
                        <a:pt x="635" y="122"/>
                      </a:lnTo>
                      <a:lnTo>
                        <a:pt x="654" y="110"/>
                      </a:lnTo>
                      <a:lnTo>
                        <a:pt x="662" y="92"/>
                      </a:lnTo>
                      <a:lnTo>
                        <a:pt x="669" y="53"/>
                      </a:lnTo>
                      <a:lnTo>
                        <a:pt x="666" y="23"/>
                      </a:lnTo>
                      <a:lnTo>
                        <a:pt x="653" y="8"/>
                      </a:lnTo>
                      <a:lnTo>
                        <a:pt x="636" y="0"/>
                      </a:lnTo>
                      <a:lnTo>
                        <a:pt x="2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0" name=""/>
                <p:cNvSpPr/>
                <p:nvPr/>
              </p:nvSpPr>
              <p:spPr>
                <a:xfrm>
                  <a:off x="2461680" y="6383520"/>
                  <a:ext cx="93240" cy="14040"/>
                </a:xfrm>
                <a:custGeom>
                  <a:avLst/>
                  <a:gdLst/>
                  <a:ahLst/>
                  <a:rect l="l" t="t" r="r" b="b"/>
                  <a:pathLst>
                    <a:path w="533" h="68">
                      <a:moveTo>
                        <a:pt x="3" y="20"/>
                      </a:moveTo>
                      <a:lnTo>
                        <a:pt x="0" y="43"/>
                      </a:lnTo>
                      <a:lnTo>
                        <a:pt x="124" y="43"/>
                      </a:lnTo>
                      <a:lnTo>
                        <a:pt x="124" y="68"/>
                      </a:lnTo>
                      <a:lnTo>
                        <a:pt x="405" y="62"/>
                      </a:lnTo>
                      <a:lnTo>
                        <a:pt x="405" y="43"/>
                      </a:lnTo>
                      <a:lnTo>
                        <a:pt x="531" y="43"/>
                      </a:lnTo>
                      <a:lnTo>
                        <a:pt x="533" y="20"/>
                      </a:lnTo>
                      <a:lnTo>
                        <a:pt x="409" y="20"/>
                      </a:lnTo>
                      <a:lnTo>
                        <a:pt x="409" y="0"/>
                      </a:lnTo>
                      <a:lnTo>
                        <a:pt x="124" y="7"/>
                      </a:lnTo>
                      <a:lnTo>
                        <a:pt x="124" y="20"/>
                      </a:lnTo>
                      <a:lnTo>
                        <a:pt x="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1" name=""/>
                <p:cNvSpPr/>
                <p:nvPr/>
              </p:nvSpPr>
              <p:spPr>
                <a:xfrm>
                  <a:off x="2463480" y="6396120"/>
                  <a:ext cx="7560" cy="3240"/>
                </a:xfrm>
                <a:prstGeom prst="rect">
                  <a:avLst/>
                </a:prstGeom>
                <a:solidFill>
                  <a:srgbClr val="00a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2" name=""/>
                <p:cNvSpPr/>
                <p:nvPr/>
              </p:nvSpPr>
              <p:spPr>
                <a:xfrm>
                  <a:off x="2536200" y="6394680"/>
                  <a:ext cx="15840" cy="4680"/>
                </a:xfrm>
                <a:prstGeom prst="rect">
                  <a:avLst/>
                </a:prstGeom>
                <a:solidFill>
                  <a:srgbClr val="20202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3" name=""/>
              <p:cNvGrpSpPr/>
              <p:nvPr/>
            </p:nvGrpSpPr>
            <p:grpSpPr>
              <a:xfrm>
                <a:off x="2535120" y="6202440"/>
                <a:ext cx="143640" cy="163440"/>
                <a:chOff x="2535120" y="6202440"/>
                <a:chExt cx="143640" cy="163440"/>
              </a:xfrm>
            </p:grpSpPr>
            <p:sp>
              <p:nvSpPr>
                <p:cNvPr id="4234" name=""/>
                <p:cNvSpPr/>
                <p:nvPr/>
              </p:nvSpPr>
              <p:spPr>
                <a:xfrm>
                  <a:off x="2652120" y="6330960"/>
                  <a:ext cx="26640" cy="34920"/>
                </a:xfrm>
                <a:custGeom>
                  <a:avLst/>
                  <a:gdLst/>
                  <a:ahLst/>
                  <a:rect l="l" t="t" r="r" b="b"/>
                  <a:pathLst>
                    <a:path w="154" h="171">
                      <a:moveTo>
                        <a:pt x="102" y="8"/>
                      </a:moveTo>
                      <a:lnTo>
                        <a:pt x="75" y="0"/>
                      </a:lnTo>
                      <a:lnTo>
                        <a:pt x="48" y="4"/>
                      </a:lnTo>
                      <a:lnTo>
                        <a:pt x="25" y="14"/>
                      </a:lnTo>
                      <a:lnTo>
                        <a:pt x="7" y="38"/>
                      </a:lnTo>
                      <a:lnTo>
                        <a:pt x="0" y="80"/>
                      </a:lnTo>
                      <a:lnTo>
                        <a:pt x="0" y="117"/>
                      </a:lnTo>
                      <a:lnTo>
                        <a:pt x="0" y="171"/>
                      </a:lnTo>
                      <a:lnTo>
                        <a:pt x="154" y="171"/>
                      </a:lnTo>
                      <a:lnTo>
                        <a:pt x="147" y="69"/>
                      </a:lnTo>
                      <a:lnTo>
                        <a:pt x="126" y="25"/>
                      </a:lnTo>
                      <a:lnTo>
                        <a:pt x="102" y="8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5" name=""/>
                <p:cNvSpPr/>
                <p:nvPr/>
              </p:nvSpPr>
              <p:spPr>
                <a:xfrm>
                  <a:off x="2535120" y="6202440"/>
                  <a:ext cx="122040" cy="135000"/>
                </a:xfrm>
                <a:custGeom>
                  <a:avLst/>
                  <a:gdLst/>
                  <a:ahLst/>
                  <a:rect l="l" t="t" r="r" b="b"/>
                  <a:pathLst>
                    <a:path w="696" h="676">
                      <a:moveTo>
                        <a:pt x="0" y="0"/>
                      </a:moveTo>
                      <a:lnTo>
                        <a:pt x="696" y="653"/>
                      </a:lnTo>
                      <a:lnTo>
                        <a:pt x="688" y="664"/>
                      </a:lnTo>
                      <a:lnTo>
                        <a:pt x="678" y="6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6" name=""/>
                <p:cNvSpPr/>
                <p:nvPr/>
              </p:nvSpPr>
              <p:spPr>
                <a:xfrm>
                  <a:off x="2619000" y="6289920"/>
                  <a:ext cx="39240" cy="63360"/>
                </a:xfrm>
                <a:custGeom>
                  <a:avLst/>
                  <a:gdLst/>
                  <a:ahLst/>
                  <a:rect l="l" t="t" r="r" b="b"/>
                  <a:pathLst>
                    <a:path w="228" h="313">
                      <a:moveTo>
                        <a:pt x="3" y="81"/>
                      </a:moveTo>
                      <a:lnTo>
                        <a:pt x="19" y="53"/>
                      </a:lnTo>
                      <a:lnTo>
                        <a:pt x="44" y="37"/>
                      </a:lnTo>
                      <a:lnTo>
                        <a:pt x="63" y="36"/>
                      </a:lnTo>
                      <a:lnTo>
                        <a:pt x="103" y="37"/>
                      </a:lnTo>
                      <a:lnTo>
                        <a:pt x="106" y="0"/>
                      </a:lnTo>
                      <a:lnTo>
                        <a:pt x="228" y="111"/>
                      </a:lnTo>
                      <a:lnTo>
                        <a:pt x="220" y="153"/>
                      </a:lnTo>
                      <a:lnTo>
                        <a:pt x="184" y="145"/>
                      </a:lnTo>
                      <a:lnTo>
                        <a:pt x="154" y="157"/>
                      </a:lnTo>
                      <a:lnTo>
                        <a:pt x="128" y="179"/>
                      </a:lnTo>
                      <a:lnTo>
                        <a:pt x="121" y="198"/>
                      </a:lnTo>
                      <a:lnTo>
                        <a:pt x="120" y="252"/>
                      </a:lnTo>
                      <a:lnTo>
                        <a:pt x="120" y="289"/>
                      </a:lnTo>
                      <a:lnTo>
                        <a:pt x="121" y="313"/>
                      </a:lnTo>
                      <a:lnTo>
                        <a:pt x="0" y="196"/>
                      </a:lnTo>
                      <a:lnTo>
                        <a:pt x="0" y="119"/>
                      </a:lnTo>
                      <a:lnTo>
                        <a:pt x="3" y="8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7" name=""/>
                <p:cNvSpPr/>
                <p:nvPr/>
              </p:nvSpPr>
              <p:spPr>
                <a:xfrm>
                  <a:off x="2636280" y="6297840"/>
                  <a:ext cx="21960" cy="219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8" name=""/>
                <p:cNvSpPr/>
                <p:nvPr/>
              </p:nvSpPr>
              <p:spPr>
                <a:xfrm>
                  <a:off x="2538000" y="6207120"/>
                  <a:ext cx="31320" cy="49320"/>
                </a:xfrm>
                <a:custGeom>
                  <a:avLst/>
                  <a:gdLst/>
                  <a:ahLst/>
                  <a:rect l="l" t="t" r="r" b="b"/>
                  <a:pathLst>
                    <a:path w="180" h="247">
                      <a:moveTo>
                        <a:pt x="9" y="84"/>
                      </a:moveTo>
                      <a:lnTo>
                        <a:pt x="23" y="55"/>
                      </a:lnTo>
                      <a:lnTo>
                        <a:pt x="44" y="38"/>
                      </a:lnTo>
                      <a:lnTo>
                        <a:pt x="66" y="35"/>
                      </a:lnTo>
                      <a:lnTo>
                        <a:pt x="107" y="36"/>
                      </a:lnTo>
                      <a:lnTo>
                        <a:pt x="110" y="0"/>
                      </a:lnTo>
                      <a:lnTo>
                        <a:pt x="180" y="69"/>
                      </a:lnTo>
                      <a:lnTo>
                        <a:pt x="177" y="103"/>
                      </a:lnTo>
                      <a:lnTo>
                        <a:pt x="155" y="101"/>
                      </a:lnTo>
                      <a:lnTo>
                        <a:pt x="137" y="99"/>
                      </a:lnTo>
                      <a:lnTo>
                        <a:pt x="110" y="107"/>
                      </a:lnTo>
                      <a:lnTo>
                        <a:pt x="96" y="117"/>
                      </a:lnTo>
                      <a:lnTo>
                        <a:pt x="83" y="138"/>
                      </a:lnTo>
                      <a:lnTo>
                        <a:pt x="80" y="164"/>
                      </a:lnTo>
                      <a:lnTo>
                        <a:pt x="76" y="247"/>
                      </a:lnTo>
                      <a:lnTo>
                        <a:pt x="0" y="169"/>
                      </a:lnTo>
                      <a:lnTo>
                        <a:pt x="3" y="118"/>
                      </a:lnTo>
                      <a:lnTo>
                        <a:pt x="9" y="84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9" name=""/>
                <p:cNvSpPr/>
                <p:nvPr/>
              </p:nvSpPr>
              <p:spPr>
                <a:xfrm>
                  <a:off x="2599920" y="6278760"/>
                  <a:ext cx="16920" cy="31680"/>
                </a:xfrm>
                <a:custGeom>
                  <a:avLst/>
                  <a:gdLst/>
                  <a:ahLst/>
                  <a:rect l="l" t="t" r="r" b="b"/>
                  <a:pathLst>
                    <a:path w="104" h="159">
                      <a:moveTo>
                        <a:pt x="104" y="5"/>
                      </a:moveTo>
                      <a:lnTo>
                        <a:pt x="48" y="0"/>
                      </a:lnTo>
                      <a:lnTo>
                        <a:pt x="25" y="12"/>
                      </a:lnTo>
                      <a:lnTo>
                        <a:pt x="8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0" name=""/>
                <p:cNvSpPr/>
                <p:nvPr/>
              </p:nvSpPr>
              <p:spPr>
                <a:xfrm>
                  <a:off x="2595240" y="6272280"/>
                  <a:ext cx="16920" cy="31680"/>
                </a:xfrm>
                <a:custGeom>
                  <a:avLst/>
                  <a:gdLst/>
                  <a:ahLst/>
                  <a:rect l="l" t="t" r="r" b="b"/>
                  <a:pathLst>
                    <a:path w="102" h="159">
                      <a:moveTo>
                        <a:pt x="102" y="3"/>
                      </a:moveTo>
                      <a:lnTo>
                        <a:pt x="48" y="0"/>
                      </a:lnTo>
                      <a:lnTo>
                        <a:pt x="20" y="13"/>
                      </a:lnTo>
                      <a:lnTo>
                        <a:pt x="7" y="34"/>
                      </a:lnTo>
                      <a:lnTo>
                        <a:pt x="0" y="75"/>
                      </a:lnTo>
                      <a:lnTo>
                        <a:pt x="0" y="159"/>
                      </a:lnTo>
                      <a:lnTo>
                        <a:pt x="0" y="15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1" name=""/>
                <p:cNvSpPr/>
                <p:nvPr/>
              </p:nvSpPr>
              <p:spPr>
                <a:xfrm>
                  <a:off x="2590200" y="6267600"/>
                  <a:ext cx="17280" cy="3168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5"/>
                      </a:moveTo>
                      <a:lnTo>
                        <a:pt x="48" y="0"/>
                      </a:lnTo>
                      <a:lnTo>
                        <a:pt x="25" y="12"/>
                      </a:lnTo>
                      <a:lnTo>
                        <a:pt x="7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2" name=""/>
                <p:cNvSpPr/>
                <p:nvPr/>
              </p:nvSpPr>
              <p:spPr>
                <a:xfrm>
                  <a:off x="2584080" y="6261120"/>
                  <a:ext cx="18720" cy="3168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4"/>
                      </a:moveTo>
                      <a:lnTo>
                        <a:pt x="48" y="0"/>
                      </a:lnTo>
                      <a:lnTo>
                        <a:pt x="26" y="9"/>
                      </a:lnTo>
                      <a:lnTo>
                        <a:pt x="7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3" name=""/>
                <p:cNvSpPr/>
                <p:nvPr/>
              </p:nvSpPr>
              <p:spPr>
                <a:xfrm>
                  <a:off x="2579040" y="6256440"/>
                  <a:ext cx="17280" cy="3168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3"/>
                      </a:moveTo>
                      <a:lnTo>
                        <a:pt x="48" y="0"/>
                      </a:lnTo>
                      <a:lnTo>
                        <a:pt x="26" y="11"/>
                      </a:lnTo>
                      <a:lnTo>
                        <a:pt x="8" y="34"/>
                      </a:lnTo>
                      <a:lnTo>
                        <a:pt x="0" y="75"/>
                      </a:lnTo>
                      <a:lnTo>
                        <a:pt x="0" y="159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4" name=""/>
                <p:cNvSpPr/>
                <p:nvPr/>
              </p:nvSpPr>
              <p:spPr>
                <a:xfrm>
                  <a:off x="2574360" y="6249960"/>
                  <a:ext cx="17280" cy="3204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3"/>
                      </a:moveTo>
                      <a:lnTo>
                        <a:pt x="47" y="0"/>
                      </a:lnTo>
                      <a:lnTo>
                        <a:pt x="26" y="12"/>
                      </a:lnTo>
                      <a:lnTo>
                        <a:pt x="7" y="34"/>
                      </a:lnTo>
                      <a:lnTo>
                        <a:pt x="0" y="75"/>
                      </a:lnTo>
                      <a:lnTo>
                        <a:pt x="0" y="159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5" name=""/>
                <p:cNvSpPr/>
                <p:nvPr/>
              </p:nvSpPr>
              <p:spPr>
                <a:xfrm>
                  <a:off x="2569680" y="6243840"/>
                  <a:ext cx="17280" cy="3168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4"/>
                      </a:moveTo>
                      <a:lnTo>
                        <a:pt x="48" y="0"/>
                      </a:lnTo>
                      <a:lnTo>
                        <a:pt x="26" y="13"/>
                      </a:lnTo>
                      <a:lnTo>
                        <a:pt x="7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6" name=""/>
                <p:cNvSpPr/>
                <p:nvPr/>
              </p:nvSpPr>
              <p:spPr>
                <a:xfrm>
                  <a:off x="2563200" y="6239160"/>
                  <a:ext cx="18720" cy="31680"/>
                </a:xfrm>
                <a:custGeom>
                  <a:avLst/>
                  <a:gdLst/>
                  <a:ahLst/>
                  <a:rect l="l" t="t" r="r" b="b"/>
                  <a:pathLst>
                    <a:path w="102" h="159">
                      <a:moveTo>
                        <a:pt x="102" y="3"/>
                      </a:moveTo>
                      <a:lnTo>
                        <a:pt x="48" y="0"/>
                      </a:lnTo>
                      <a:lnTo>
                        <a:pt x="26" y="11"/>
                      </a:lnTo>
                      <a:lnTo>
                        <a:pt x="7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7" name=""/>
                <p:cNvSpPr/>
                <p:nvPr/>
              </p:nvSpPr>
              <p:spPr>
                <a:xfrm>
                  <a:off x="2557080" y="6215040"/>
                  <a:ext cx="13680" cy="12960"/>
                </a:xfrm>
                <a:custGeom>
                  <a:avLst/>
                  <a:gdLst/>
                  <a:ahLst/>
                  <a:rect l="l" t="t" r="r" b="b"/>
                  <a:pathLst>
                    <a:path w="77" h="64">
                      <a:moveTo>
                        <a:pt x="0" y="0"/>
                      </a:moveTo>
                      <a:lnTo>
                        <a:pt x="72" y="64"/>
                      </a:lnTo>
                      <a:lnTo>
                        <a:pt x="77" y="64"/>
                      </a:lnTo>
                      <a:lnTo>
                        <a:pt x="75" y="6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8" name=""/>
                <p:cNvSpPr/>
                <p:nvPr/>
              </p:nvSpPr>
              <p:spPr>
                <a:xfrm>
                  <a:off x="2566440" y="6353280"/>
                  <a:ext cx="21960" cy="126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9" name=""/>
                <p:cNvSpPr/>
                <p:nvPr/>
              </p:nvSpPr>
              <p:spPr>
                <a:xfrm>
                  <a:off x="2593440" y="6351840"/>
                  <a:ext cx="21960" cy="126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0" name=""/>
                <p:cNvSpPr/>
                <p:nvPr/>
              </p:nvSpPr>
              <p:spPr>
                <a:xfrm>
                  <a:off x="2615760" y="6359760"/>
                  <a:ext cx="26640" cy="2880"/>
                </a:xfrm>
                <a:custGeom>
                  <a:avLst/>
                  <a:gdLst/>
                  <a:ahLst/>
                  <a:rect l="l" t="t" r="r" b="b"/>
                  <a:pathLst>
                    <a:path w="152" h="22">
                      <a:moveTo>
                        <a:pt x="0" y="22"/>
                      </a:moveTo>
                      <a:lnTo>
                        <a:pt x="4" y="0"/>
                      </a:lnTo>
                      <a:lnTo>
                        <a:pt x="142" y="0"/>
                      </a:lnTo>
                      <a:lnTo>
                        <a:pt x="152" y="16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1" name=""/>
                <p:cNvSpPr/>
                <p:nvPr/>
              </p:nvSpPr>
              <p:spPr>
                <a:xfrm>
                  <a:off x="2566440" y="6350040"/>
                  <a:ext cx="21960" cy="14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2" name=""/>
                <p:cNvSpPr/>
                <p:nvPr/>
              </p:nvSpPr>
              <p:spPr>
                <a:xfrm>
                  <a:off x="2592000" y="6350040"/>
                  <a:ext cx="21600" cy="126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253" name=""/>
          <p:cNvGrpSpPr/>
          <p:nvPr/>
        </p:nvGrpSpPr>
        <p:grpSpPr>
          <a:xfrm>
            <a:off x="6095880" y="5715000"/>
            <a:ext cx="456840" cy="608400"/>
            <a:chOff x="6095880" y="5715000"/>
            <a:chExt cx="456840" cy="608400"/>
          </a:xfrm>
        </p:grpSpPr>
        <p:grpSp>
          <p:nvGrpSpPr>
            <p:cNvPr id="4254" name=""/>
            <p:cNvGrpSpPr/>
            <p:nvPr/>
          </p:nvGrpSpPr>
          <p:grpSpPr>
            <a:xfrm>
              <a:off x="6307200" y="5715000"/>
              <a:ext cx="245160" cy="516240"/>
              <a:chOff x="6307200" y="5715000"/>
              <a:chExt cx="245160" cy="516240"/>
            </a:xfrm>
          </p:grpSpPr>
          <p:sp>
            <p:nvSpPr>
              <p:cNvPr id="4255" name=""/>
              <p:cNvSpPr/>
              <p:nvPr/>
            </p:nvSpPr>
            <p:spPr>
              <a:xfrm>
                <a:off x="6307200" y="5715000"/>
                <a:ext cx="243000" cy="509760"/>
              </a:xfrm>
              <a:custGeom>
                <a:avLst/>
                <a:gdLst/>
                <a:ahLst/>
                <a:rect l="l" t="t" r="r" b="b"/>
                <a:pathLst>
                  <a:path w="1155" h="1975">
                    <a:moveTo>
                      <a:pt x="804" y="1960"/>
                    </a:moveTo>
                    <a:lnTo>
                      <a:pt x="782" y="1975"/>
                    </a:lnTo>
                    <a:lnTo>
                      <a:pt x="0" y="1250"/>
                    </a:lnTo>
                    <a:lnTo>
                      <a:pt x="264" y="51"/>
                    </a:lnTo>
                    <a:lnTo>
                      <a:pt x="299" y="15"/>
                    </a:lnTo>
                    <a:lnTo>
                      <a:pt x="335" y="0"/>
                    </a:lnTo>
                    <a:lnTo>
                      <a:pt x="370" y="8"/>
                    </a:lnTo>
                    <a:lnTo>
                      <a:pt x="1119" y="342"/>
                    </a:lnTo>
                    <a:lnTo>
                      <a:pt x="1144" y="360"/>
                    </a:lnTo>
                    <a:lnTo>
                      <a:pt x="1152" y="363"/>
                    </a:lnTo>
                    <a:lnTo>
                      <a:pt x="1155" y="381"/>
                    </a:lnTo>
                    <a:lnTo>
                      <a:pt x="824" y="1972"/>
                    </a:lnTo>
                    <a:lnTo>
                      <a:pt x="804" y="196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6453360" y="5793480"/>
                <a:ext cx="99000" cy="437760"/>
              </a:xfrm>
              <a:custGeom>
                <a:avLst/>
                <a:gdLst/>
                <a:ahLst/>
                <a:rect l="l" t="t" r="r" b="b"/>
                <a:pathLst>
                  <a:path w="465" h="1692">
                    <a:moveTo>
                      <a:pt x="465" y="73"/>
                    </a:moveTo>
                    <a:lnTo>
                      <a:pt x="460" y="113"/>
                    </a:lnTo>
                    <a:lnTo>
                      <a:pt x="126" y="1644"/>
                    </a:lnTo>
                    <a:lnTo>
                      <a:pt x="123" y="1672"/>
                    </a:lnTo>
                    <a:lnTo>
                      <a:pt x="113" y="1686"/>
                    </a:lnTo>
                    <a:lnTo>
                      <a:pt x="102" y="1692"/>
                    </a:lnTo>
                    <a:lnTo>
                      <a:pt x="90" y="1688"/>
                    </a:lnTo>
                    <a:lnTo>
                      <a:pt x="70" y="1672"/>
                    </a:lnTo>
                    <a:lnTo>
                      <a:pt x="0" y="1607"/>
                    </a:lnTo>
                    <a:lnTo>
                      <a:pt x="344" y="33"/>
                    </a:lnTo>
                    <a:lnTo>
                      <a:pt x="340" y="23"/>
                    </a:lnTo>
                    <a:lnTo>
                      <a:pt x="321" y="0"/>
                    </a:lnTo>
                    <a:lnTo>
                      <a:pt x="360" y="16"/>
                    </a:lnTo>
                    <a:lnTo>
                      <a:pt x="438" y="51"/>
                    </a:lnTo>
                    <a:lnTo>
                      <a:pt x="453" y="63"/>
                    </a:lnTo>
                    <a:lnTo>
                      <a:pt x="465" y="73"/>
                    </a:lnTo>
                    <a:close/>
                  </a:path>
                </a:pathLst>
              </a:custGeom>
              <a:solidFill>
                <a:srgbClr val="202020"/>
              </a:solidFill>
              <a:ln w="144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7" name=""/>
            <p:cNvSpPr/>
            <p:nvPr/>
          </p:nvSpPr>
          <p:spPr>
            <a:xfrm>
              <a:off x="6373800" y="5715000"/>
              <a:ext cx="178920" cy="99000"/>
            </a:xfrm>
            <a:custGeom>
              <a:avLst/>
              <a:gdLst/>
              <a:ahLst/>
              <a:rect l="l" t="t" r="r" b="b"/>
              <a:pathLst>
                <a:path w="847" h="378">
                  <a:moveTo>
                    <a:pt x="0" y="0"/>
                  </a:moveTo>
                  <a:lnTo>
                    <a:pt x="26" y="1"/>
                  </a:lnTo>
                  <a:lnTo>
                    <a:pt x="50" y="9"/>
                  </a:lnTo>
                  <a:lnTo>
                    <a:pt x="815" y="350"/>
                  </a:lnTo>
                  <a:lnTo>
                    <a:pt x="840" y="365"/>
                  </a:lnTo>
                  <a:lnTo>
                    <a:pt x="847" y="3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02020"/>
            </a:solidFill>
            <a:ln w="1440">
              <a:solidFill>
                <a:srgbClr val="202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8" name=""/>
            <p:cNvGrpSpPr/>
            <p:nvPr/>
          </p:nvGrpSpPr>
          <p:grpSpPr>
            <a:xfrm>
              <a:off x="6305040" y="5715000"/>
              <a:ext cx="191880" cy="437400"/>
              <a:chOff x="6305040" y="5715000"/>
              <a:chExt cx="191880" cy="437400"/>
            </a:xfrm>
          </p:grpSpPr>
          <p:sp>
            <p:nvSpPr>
              <p:cNvPr id="4259" name=""/>
              <p:cNvSpPr/>
              <p:nvPr/>
            </p:nvSpPr>
            <p:spPr>
              <a:xfrm>
                <a:off x="6333840" y="5772960"/>
                <a:ext cx="163080" cy="379440"/>
              </a:xfrm>
              <a:custGeom>
                <a:avLst/>
                <a:gdLst/>
                <a:ahLst/>
                <a:rect l="l" t="t" r="r" b="b"/>
                <a:pathLst>
                  <a:path w="775" h="1470">
                    <a:moveTo>
                      <a:pt x="502" y="1470"/>
                    </a:moveTo>
                    <a:lnTo>
                      <a:pt x="0" y="1036"/>
                    </a:lnTo>
                    <a:lnTo>
                      <a:pt x="236" y="0"/>
                    </a:lnTo>
                    <a:lnTo>
                      <a:pt x="775" y="267"/>
                    </a:lnTo>
                    <a:lnTo>
                      <a:pt x="502" y="147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6341040" y="5787360"/>
                <a:ext cx="146160" cy="348480"/>
              </a:xfrm>
              <a:custGeom>
                <a:avLst/>
                <a:gdLst/>
                <a:ahLst/>
                <a:rect l="l" t="t" r="r" b="b"/>
                <a:pathLst>
                  <a:path w="698" h="1358">
                    <a:moveTo>
                      <a:pt x="442" y="1358"/>
                    </a:moveTo>
                    <a:lnTo>
                      <a:pt x="0" y="969"/>
                    </a:lnTo>
                    <a:lnTo>
                      <a:pt x="220" y="0"/>
                    </a:lnTo>
                    <a:lnTo>
                      <a:pt x="698" y="229"/>
                    </a:lnTo>
                    <a:lnTo>
                      <a:pt x="442" y="1358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6305040" y="5715000"/>
                <a:ext cx="68400" cy="326160"/>
              </a:xfrm>
              <a:custGeom>
                <a:avLst/>
                <a:gdLst/>
                <a:ahLst/>
                <a:rect l="l" t="t" r="r" b="b"/>
                <a:pathLst>
                  <a:path w="330" h="1265">
                    <a:moveTo>
                      <a:pt x="319" y="0"/>
                    </a:moveTo>
                    <a:lnTo>
                      <a:pt x="300" y="9"/>
                    </a:lnTo>
                    <a:lnTo>
                      <a:pt x="289" y="17"/>
                    </a:lnTo>
                    <a:lnTo>
                      <a:pt x="274" y="32"/>
                    </a:lnTo>
                    <a:lnTo>
                      <a:pt x="263" y="51"/>
                    </a:lnTo>
                    <a:lnTo>
                      <a:pt x="259" y="66"/>
                    </a:lnTo>
                    <a:lnTo>
                      <a:pt x="0" y="1248"/>
                    </a:lnTo>
                    <a:lnTo>
                      <a:pt x="10" y="1265"/>
                    </a:lnTo>
                    <a:lnTo>
                      <a:pt x="273" y="66"/>
                    </a:lnTo>
                    <a:lnTo>
                      <a:pt x="280" y="48"/>
                    </a:lnTo>
                    <a:lnTo>
                      <a:pt x="288" y="36"/>
                    </a:lnTo>
                    <a:lnTo>
                      <a:pt x="298" y="25"/>
                    </a:lnTo>
                    <a:lnTo>
                      <a:pt x="311" y="17"/>
                    </a:lnTo>
                    <a:lnTo>
                      <a:pt x="324" y="10"/>
                    </a:lnTo>
                    <a:lnTo>
                      <a:pt x="330" y="4"/>
                    </a:lnTo>
                    <a:lnTo>
                      <a:pt x="319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2" name=""/>
            <p:cNvGrpSpPr/>
            <p:nvPr/>
          </p:nvGrpSpPr>
          <p:grpSpPr>
            <a:xfrm>
              <a:off x="6095880" y="6051600"/>
              <a:ext cx="381960" cy="271800"/>
              <a:chOff x="6095880" y="6051600"/>
              <a:chExt cx="381960" cy="271800"/>
            </a:xfrm>
          </p:grpSpPr>
          <p:grpSp>
            <p:nvGrpSpPr>
              <p:cNvPr id="4263" name=""/>
              <p:cNvGrpSpPr/>
              <p:nvPr/>
            </p:nvGrpSpPr>
            <p:grpSpPr>
              <a:xfrm>
                <a:off x="6095880" y="6053400"/>
                <a:ext cx="381960" cy="270000"/>
                <a:chOff x="6095880" y="6053400"/>
                <a:chExt cx="381960" cy="270000"/>
              </a:xfrm>
            </p:grpSpPr>
            <p:sp>
              <p:nvSpPr>
                <p:cNvPr id="4264" name=""/>
                <p:cNvSpPr/>
                <p:nvPr/>
              </p:nvSpPr>
              <p:spPr>
                <a:xfrm>
                  <a:off x="6293520" y="6053400"/>
                  <a:ext cx="182160" cy="212400"/>
                </a:xfrm>
                <a:custGeom>
                  <a:avLst/>
                  <a:gdLst/>
                  <a:ahLst/>
                  <a:rect l="l" t="t" r="r" b="b"/>
                  <a:pathLst>
                    <a:path w="863" h="823">
                      <a:moveTo>
                        <a:pt x="863" y="823"/>
                      </a:moveTo>
                      <a:lnTo>
                        <a:pt x="848" y="713"/>
                      </a:lnTo>
                      <a:lnTo>
                        <a:pt x="823" y="663"/>
                      </a:lnTo>
                      <a:lnTo>
                        <a:pt x="111" y="2"/>
                      </a:lnTo>
                      <a:lnTo>
                        <a:pt x="78" y="0"/>
                      </a:lnTo>
                      <a:lnTo>
                        <a:pt x="48" y="2"/>
                      </a:lnTo>
                      <a:lnTo>
                        <a:pt x="26" y="36"/>
                      </a:lnTo>
                      <a:lnTo>
                        <a:pt x="0" y="124"/>
                      </a:lnTo>
                      <a:lnTo>
                        <a:pt x="701" y="816"/>
                      </a:lnTo>
                      <a:lnTo>
                        <a:pt x="863" y="823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5" name=""/>
                <p:cNvSpPr/>
                <p:nvPr/>
              </p:nvSpPr>
              <p:spPr>
                <a:xfrm>
                  <a:off x="6101640" y="6080400"/>
                  <a:ext cx="338040" cy="189720"/>
                </a:xfrm>
                <a:custGeom>
                  <a:avLst/>
                  <a:gdLst/>
                  <a:ahLst/>
                  <a:rect l="l" t="t" r="r" b="b"/>
                  <a:pathLst>
                    <a:path w="1595" h="738">
                      <a:moveTo>
                        <a:pt x="0" y="0"/>
                      </a:moveTo>
                      <a:lnTo>
                        <a:pt x="908" y="21"/>
                      </a:lnTo>
                      <a:lnTo>
                        <a:pt x="1595" y="696"/>
                      </a:lnTo>
                      <a:lnTo>
                        <a:pt x="388" y="7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6" name=""/>
                <p:cNvSpPr/>
                <p:nvPr/>
              </p:nvSpPr>
              <p:spPr>
                <a:xfrm>
                  <a:off x="6173640" y="6257520"/>
                  <a:ext cx="304200" cy="65880"/>
                </a:xfrm>
                <a:custGeom>
                  <a:avLst/>
                  <a:gdLst/>
                  <a:ahLst/>
                  <a:rect l="l" t="t" r="r" b="b"/>
                  <a:pathLst>
                    <a:path w="1440" h="254">
                      <a:moveTo>
                        <a:pt x="43" y="45"/>
                      </a:moveTo>
                      <a:lnTo>
                        <a:pt x="0" y="254"/>
                      </a:lnTo>
                      <a:lnTo>
                        <a:pt x="1425" y="220"/>
                      </a:lnTo>
                      <a:lnTo>
                        <a:pt x="1440" y="148"/>
                      </a:lnTo>
                      <a:lnTo>
                        <a:pt x="1436" y="64"/>
                      </a:lnTo>
                      <a:lnTo>
                        <a:pt x="1432" y="0"/>
                      </a:lnTo>
                      <a:lnTo>
                        <a:pt x="43" y="45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7" name=""/>
                <p:cNvSpPr/>
                <p:nvPr/>
              </p:nvSpPr>
              <p:spPr>
                <a:xfrm>
                  <a:off x="6095880" y="6080400"/>
                  <a:ext cx="87480" cy="243000"/>
                </a:xfrm>
                <a:custGeom>
                  <a:avLst/>
                  <a:gdLst/>
                  <a:ahLst/>
                  <a:rect l="l" t="t" r="r" b="b"/>
                  <a:pathLst>
                    <a:path w="415" h="946">
                      <a:moveTo>
                        <a:pt x="30" y="0"/>
                      </a:moveTo>
                      <a:lnTo>
                        <a:pt x="0" y="171"/>
                      </a:lnTo>
                      <a:lnTo>
                        <a:pt x="371" y="946"/>
                      </a:lnTo>
                      <a:lnTo>
                        <a:pt x="415" y="73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8" name=""/>
                <p:cNvSpPr/>
                <p:nvPr/>
              </p:nvSpPr>
              <p:spPr>
                <a:xfrm>
                  <a:off x="6295320" y="6259320"/>
                  <a:ext cx="45360" cy="3960"/>
                </a:xfrm>
                <a:custGeom>
                  <a:avLst/>
                  <a:gdLst/>
                  <a:ahLst/>
                  <a:rect l="l" t="t" r="r" b="b"/>
                  <a:pathLst>
                    <a:path w="213" h="22">
                      <a:moveTo>
                        <a:pt x="2" y="22"/>
                      </a:moveTo>
                      <a:lnTo>
                        <a:pt x="0" y="0"/>
                      </a:lnTo>
                      <a:lnTo>
                        <a:pt x="202" y="0"/>
                      </a:lnTo>
                      <a:lnTo>
                        <a:pt x="213" y="17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9" name=""/>
                <p:cNvSpPr/>
                <p:nvPr/>
              </p:nvSpPr>
              <p:spPr>
                <a:xfrm>
                  <a:off x="6200280" y="6080400"/>
                  <a:ext cx="94680" cy="185400"/>
                </a:xfrm>
                <a:custGeom>
                  <a:avLst/>
                  <a:gdLst/>
                  <a:ahLst/>
                  <a:rect l="l" t="t" r="r" b="b"/>
                  <a:pathLst>
                    <a:path w="455" h="714">
                      <a:moveTo>
                        <a:pt x="452" y="685"/>
                      </a:moveTo>
                      <a:lnTo>
                        <a:pt x="0" y="0"/>
                      </a:lnTo>
                      <a:lnTo>
                        <a:pt x="455" y="714"/>
                      </a:lnTo>
                      <a:lnTo>
                        <a:pt x="452" y="685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0" name=""/>
              <p:cNvGrpSpPr/>
              <p:nvPr/>
            </p:nvGrpSpPr>
            <p:grpSpPr>
              <a:xfrm>
                <a:off x="6122520" y="6084720"/>
                <a:ext cx="176040" cy="176760"/>
                <a:chOff x="6122520" y="6084720"/>
                <a:chExt cx="176040" cy="176760"/>
              </a:xfrm>
            </p:grpSpPr>
            <p:grpSp>
              <p:nvGrpSpPr>
                <p:cNvPr id="4271" name=""/>
                <p:cNvGrpSpPr/>
                <p:nvPr/>
              </p:nvGrpSpPr>
              <p:grpSpPr>
                <a:xfrm>
                  <a:off x="6134040" y="6088320"/>
                  <a:ext cx="16200" cy="16200"/>
                  <a:chOff x="6134040" y="6088320"/>
                  <a:chExt cx="16200" cy="16200"/>
                </a:xfrm>
              </p:grpSpPr>
              <p:sp>
                <p:nvSpPr>
                  <p:cNvPr id="4272" name=""/>
                  <p:cNvSpPr/>
                  <p:nvPr/>
                </p:nvSpPr>
                <p:spPr>
                  <a:xfrm>
                    <a:off x="6134040" y="6088320"/>
                    <a:ext cx="32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8" y="26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3" name=""/>
                  <p:cNvSpPr/>
                  <p:nvPr/>
                </p:nvSpPr>
                <p:spPr>
                  <a:xfrm>
                    <a:off x="6135480" y="6090480"/>
                    <a:ext cx="129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4" y="10"/>
                        </a:lnTo>
                        <a:lnTo>
                          <a:pt x="58" y="25"/>
                        </a:lnTo>
                        <a:lnTo>
                          <a:pt x="14" y="25"/>
                        </a:lnTo>
                        <a:lnTo>
                          <a:pt x="6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4" name=""/>
                  <p:cNvSpPr/>
                  <p:nvPr/>
                </p:nvSpPr>
                <p:spPr>
                  <a:xfrm>
                    <a:off x="6137280" y="6096240"/>
                    <a:ext cx="129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5" y="7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75" name=""/>
                <p:cNvGrpSpPr/>
                <p:nvPr/>
              </p:nvGrpSpPr>
              <p:grpSpPr>
                <a:xfrm>
                  <a:off x="6137280" y="6099120"/>
                  <a:ext cx="16560" cy="13320"/>
                  <a:chOff x="6137280" y="6099120"/>
                  <a:chExt cx="16560" cy="13320"/>
                </a:xfrm>
              </p:grpSpPr>
              <p:sp>
                <p:nvSpPr>
                  <p:cNvPr id="4276" name=""/>
                  <p:cNvSpPr/>
                  <p:nvPr/>
                </p:nvSpPr>
                <p:spPr>
                  <a:xfrm>
                    <a:off x="6137280" y="6099120"/>
                    <a:ext cx="5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1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7" name=""/>
                  <p:cNvSpPr/>
                  <p:nvPr/>
                </p:nvSpPr>
                <p:spPr>
                  <a:xfrm>
                    <a:off x="6139080" y="6099120"/>
                    <a:ext cx="129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39" y="0"/>
                        </a:lnTo>
                        <a:lnTo>
                          <a:pt x="40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7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8" name=""/>
                  <p:cNvSpPr/>
                  <p:nvPr/>
                </p:nvSpPr>
                <p:spPr>
                  <a:xfrm>
                    <a:off x="6140880" y="6104880"/>
                    <a:ext cx="129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4" y="7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79" name=""/>
                <p:cNvSpPr/>
                <p:nvPr/>
              </p:nvSpPr>
              <p:spPr>
                <a:xfrm>
                  <a:off x="6208200" y="609264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3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3" y="31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0" name=""/>
                <p:cNvSpPr/>
                <p:nvPr/>
              </p:nvSpPr>
              <p:spPr>
                <a:xfrm>
                  <a:off x="6177600" y="6090480"/>
                  <a:ext cx="3600" cy="14400"/>
                </a:xfrm>
                <a:custGeom>
                  <a:avLst/>
                  <a:gdLst/>
                  <a:ahLst/>
                  <a:rect l="l" t="t" r="r" b="b"/>
                  <a:pathLst>
                    <a:path w="20" h="58">
                      <a:moveTo>
                        <a:pt x="12" y="58"/>
                      </a:moveTo>
                      <a:lnTo>
                        <a:pt x="0" y="23"/>
                      </a:lnTo>
                      <a:lnTo>
                        <a:pt x="9" y="0"/>
                      </a:lnTo>
                      <a:lnTo>
                        <a:pt x="20" y="26"/>
                      </a:lnTo>
                      <a:lnTo>
                        <a:pt x="12" y="58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1" name=""/>
                <p:cNvSpPr/>
                <p:nvPr/>
              </p:nvSpPr>
              <p:spPr>
                <a:xfrm>
                  <a:off x="6179400" y="6090480"/>
                  <a:ext cx="11520" cy="5760"/>
                </a:xfrm>
                <a:custGeom>
                  <a:avLst/>
                  <a:gdLst/>
                  <a:ahLst/>
                  <a:rect l="l" t="t" r="r" b="b"/>
                  <a:pathLst>
                    <a:path w="57" h="25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41" y="2"/>
                      </a:lnTo>
                      <a:lnTo>
                        <a:pt x="44" y="11"/>
                      </a:lnTo>
                      <a:lnTo>
                        <a:pt x="57" y="25"/>
                      </a:lnTo>
                      <a:lnTo>
                        <a:pt x="13" y="25"/>
                      </a:lnTo>
                      <a:lnTo>
                        <a:pt x="5" y="17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2" name=""/>
                <p:cNvSpPr/>
                <p:nvPr/>
              </p:nvSpPr>
              <p:spPr>
                <a:xfrm>
                  <a:off x="6179400" y="609660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67" h="31">
                      <a:moveTo>
                        <a:pt x="0" y="31"/>
                      </a:moveTo>
                      <a:lnTo>
                        <a:pt x="1" y="17"/>
                      </a:lnTo>
                      <a:lnTo>
                        <a:pt x="6" y="7"/>
                      </a:lnTo>
                      <a:lnTo>
                        <a:pt x="9" y="0"/>
                      </a:lnTo>
                      <a:lnTo>
                        <a:pt x="55" y="0"/>
                      </a:lnTo>
                      <a:lnTo>
                        <a:pt x="67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3" name=""/>
                <p:cNvGrpSpPr/>
                <p:nvPr/>
              </p:nvGrpSpPr>
              <p:grpSpPr>
                <a:xfrm>
                  <a:off x="6181560" y="6099120"/>
                  <a:ext cx="16200" cy="13320"/>
                  <a:chOff x="6181560" y="6099120"/>
                  <a:chExt cx="16200" cy="13320"/>
                </a:xfrm>
              </p:grpSpPr>
              <p:sp>
                <p:nvSpPr>
                  <p:cNvPr id="4284" name=""/>
                  <p:cNvSpPr/>
                  <p:nvPr/>
                </p:nvSpPr>
                <p:spPr>
                  <a:xfrm>
                    <a:off x="6181560" y="6099120"/>
                    <a:ext cx="36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1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1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5" name=""/>
                  <p:cNvSpPr/>
                  <p:nvPr/>
                </p:nvSpPr>
                <p:spPr>
                  <a:xfrm>
                    <a:off x="6183000" y="6099120"/>
                    <a:ext cx="111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9"/>
                        </a:lnTo>
                        <a:lnTo>
                          <a:pt x="59" y="25"/>
                        </a:lnTo>
                        <a:lnTo>
                          <a:pt x="15" y="25"/>
                        </a:lnTo>
                        <a:lnTo>
                          <a:pt x="8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6" name=""/>
                  <p:cNvSpPr/>
                  <p:nvPr/>
                </p:nvSpPr>
                <p:spPr>
                  <a:xfrm>
                    <a:off x="6183000" y="6104880"/>
                    <a:ext cx="147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1">
                        <a:moveTo>
                          <a:pt x="0" y="31"/>
                        </a:moveTo>
                        <a:lnTo>
                          <a:pt x="3" y="16"/>
                        </a:lnTo>
                        <a:lnTo>
                          <a:pt x="6" y="6"/>
                        </a:lnTo>
                        <a:lnTo>
                          <a:pt x="10" y="0"/>
                        </a:lnTo>
                        <a:lnTo>
                          <a:pt x="55" y="0"/>
                        </a:lnTo>
                        <a:lnTo>
                          <a:pt x="68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7" name=""/>
                <p:cNvGrpSpPr/>
                <p:nvPr/>
              </p:nvGrpSpPr>
              <p:grpSpPr>
                <a:xfrm>
                  <a:off x="6185160" y="6107040"/>
                  <a:ext cx="16200" cy="14040"/>
                  <a:chOff x="6185160" y="6107040"/>
                  <a:chExt cx="16200" cy="14040"/>
                </a:xfrm>
              </p:grpSpPr>
              <p:sp>
                <p:nvSpPr>
                  <p:cNvPr id="4288" name=""/>
                  <p:cNvSpPr/>
                  <p:nvPr/>
                </p:nvSpPr>
                <p:spPr>
                  <a:xfrm>
                    <a:off x="6185160" y="6107040"/>
                    <a:ext cx="3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9" y="0"/>
                        </a:lnTo>
                        <a:lnTo>
                          <a:pt x="20" y="27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9" name=""/>
                  <p:cNvSpPr/>
                  <p:nvPr/>
                </p:nvSpPr>
                <p:spPr>
                  <a:xfrm>
                    <a:off x="6186600" y="6107040"/>
                    <a:ext cx="129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3" y="0"/>
                        </a:moveTo>
                        <a:lnTo>
                          <a:pt x="40" y="0"/>
                        </a:lnTo>
                        <a:lnTo>
                          <a:pt x="42" y="3"/>
                        </a:lnTo>
                        <a:lnTo>
                          <a:pt x="46" y="10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0" name=""/>
                  <p:cNvSpPr/>
                  <p:nvPr/>
                </p:nvSpPr>
                <p:spPr>
                  <a:xfrm>
                    <a:off x="6188400" y="6112800"/>
                    <a:ext cx="129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91" name=""/>
                <p:cNvGrpSpPr/>
                <p:nvPr/>
              </p:nvGrpSpPr>
              <p:grpSpPr>
                <a:xfrm>
                  <a:off x="6188760" y="6113160"/>
                  <a:ext cx="16560" cy="16200"/>
                  <a:chOff x="6188760" y="6113160"/>
                  <a:chExt cx="16560" cy="16200"/>
                </a:xfrm>
              </p:grpSpPr>
              <p:sp>
                <p:nvSpPr>
                  <p:cNvPr id="4292" name=""/>
                  <p:cNvSpPr/>
                  <p:nvPr/>
                </p:nvSpPr>
                <p:spPr>
                  <a:xfrm>
                    <a:off x="6188760" y="6113160"/>
                    <a:ext cx="57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3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3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3" name=""/>
                  <p:cNvSpPr/>
                  <p:nvPr/>
                </p:nvSpPr>
                <p:spPr>
                  <a:xfrm>
                    <a:off x="6190560" y="6115320"/>
                    <a:ext cx="129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5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4" name=""/>
                  <p:cNvSpPr/>
                  <p:nvPr/>
                </p:nvSpPr>
                <p:spPr>
                  <a:xfrm>
                    <a:off x="6192360" y="6121080"/>
                    <a:ext cx="129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7"/>
                        </a:lnTo>
                        <a:lnTo>
                          <a:pt x="4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95" name=""/>
                <p:cNvGrpSpPr/>
                <p:nvPr/>
              </p:nvGrpSpPr>
              <p:grpSpPr>
                <a:xfrm>
                  <a:off x="6194880" y="6123240"/>
                  <a:ext cx="16200" cy="14040"/>
                  <a:chOff x="6194880" y="6123240"/>
                  <a:chExt cx="16200" cy="14040"/>
                </a:xfrm>
              </p:grpSpPr>
              <p:sp>
                <p:nvSpPr>
                  <p:cNvPr id="4296" name=""/>
                  <p:cNvSpPr/>
                  <p:nvPr/>
                </p:nvSpPr>
                <p:spPr>
                  <a:xfrm>
                    <a:off x="6194880" y="6123240"/>
                    <a:ext cx="3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2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2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7" name=""/>
                  <p:cNvSpPr/>
                  <p:nvPr/>
                </p:nvSpPr>
                <p:spPr>
                  <a:xfrm>
                    <a:off x="6196320" y="612324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5">
                        <a:moveTo>
                          <a:pt x="2" y="0"/>
                        </a:moveTo>
                        <a:lnTo>
                          <a:pt x="41" y="0"/>
                        </a:lnTo>
                        <a:lnTo>
                          <a:pt x="42" y="2"/>
                        </a:lnTo>
                        <a:lnTo>
                          <a:pt x="46" y="10"/>
                        </a:lnTo>
                        <a:lnTo>
                          <a:pt x="61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8" name=""/>
                  <p:cNvSpPr/>
                  <p:nvPr/>
                </p:nvSpPr>
                <p:spPr>
                  <a:xfrm>
                    <a:off x="6196320" y="6129360"/>
                    <a:ext cx="147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7"/>
                        </a:lnTo>
                        <a:lnTo>
                          <a:pt x="6" y="7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99" name=""/>
                <p:cNvGrpSpPr/>
                <p:nvPr/>
              </p:nvGrpSpPr>
              <p:grpSpPr>
                <a:xfrm>
                  <a:off x="6198120" y="6131880"/>
                  <a:ext cx="33120" cy="48240"/>
                  <a:chOff x="6198120" y="6131880"/>
                  <a:chExt cx="33120" cy="48240"/>
                </a:xfrm>
              </p:grpSpPr>
              <p:grpSp>
                <p:nvGrpSpPr>
                  <p:cNvPr id="4300" name=""/>
                  <p:cNvGrpSpPr/>
                  <p:nvPr/>
                </p:nvGrpSpPr>
                <p:grpSpPr>
                  <a:xfrm>
                    <a:off x="6198120" y="6131880"/>
                    <a:ext cx="16200" cy="15840"/>
                    <a:chOff x="6198120" y="6131880"/>
                    <a:chExt cx="16200" cy="15840"/>
                  </a:xfrm>
                </p:grpSpPr>
                <p:sp>
                  <p:nvSpPr>
                    <p:cNvPr id="4301" name=""/>
                    <p:cNvSpPr/>
                    <p:nvPr/>
                  </p:nvSpPr>
                  <p:spPr>
                    <a:xfrm>
                      <a:off x="6198120" y="6131880"/>
                      <a:ext cx="360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0">
                          <a:moveTo>
                            <a:pt x="10" y="60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7"/>
                          </a:lnTo>
                          <a:lnTo>
                            <a:pt x="10" y="6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2" name=""/>
                    <p:cNvSpPr/>
                    <p:nvPr/>
                  </p:nvSpPr>
                  <p:spPr>
                    <a:xfrm>
                      <a:off x="6199920" y="6133680"/>
                      <a:ext cx="129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6" y="10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8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3" name=""/>
                    <p:cNvSpPr/>
                    <p:nvPr/>
                  </p:nvSpPr>
                  <p:spPr>
                    <a:xfrm>
                      <a:off x="6199920" y="6140160"/>
                      <a:ext cx="1440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2">
                          <a:moveTo>
                            <a:pt x="0" y="32"/>
                          </a:moveTo>
                          <a:lnTo>
                            <a:pt x="2" y="18"/>
                          </a:lnTo>
                          <a:lnTo>
                            <a:pt x="7" y="6"/>
                          </a:lnTo>
                          <a:lnTo>
                            <a:pt x="11" y="0"/>
                          </a:lnTo>
                          <a:lnTo>
                            <a:pt x="57" y="0"/>
                          </a:lnTo>
                          <a:lnTo>
                            <a:pt x="67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04" name=""/>
                  <p:cNvGrpSpPr/>
                  <p:nvPr/>
                </p:nvGrpSpPr>
                <p:grpSpPr>
                  <a:xfrm>
                    <a:off x="6201720" y="6140160"/>
                    <a:ext cx="16560" cy="15840"/>
                    <a:chOff x="6201720" y="6140160"/>
                    <a:chExt cx="16560" cy="15840"/>
                  </a:xfrm>
                </p:grpSpPr>
                <p:sp>
                  <p:nvSpPr>
                    <p:cNvPr id="4305" name=""/>
                    <p:cNvSpPr/>
                    <p:nvPr/>
                  </p:nvSpPr>
                  <p:spPr>
                    <a:xfrm>
                      <a:off x="6201720" y="6140160"/>
                      <a:ext cx="360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4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6" name=""/>
                    <p:cNvSpPr/>
                    <p:nvPr/>
                  </p:nvSpPr>
                  <p:spPr>
                    <a:xfrm>
                      <a:off x="6203520" y="6141960"/>
                      <a:ext cx="129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7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3" y="2"/>
                          </a:lnTo>
                          <a:lnTo>
                            <a:pt x="46" y="11"/>
                          </a:lnTo>
                          <a:lnTo>
                            <a:pt x="61" y="27"/>
                          </a:lnTo>
                          <a:lnTo>
                            <a:pt x="15" y="27"/>
                          </a:lnTo>
                          <a:lnTo>
                            <a:pt x="8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7" name=""/>
                    <p:cNvSpPr/>
                    <p:nvPr/>
                  </p:nvSpPr>
                  <p:spPr>
                    <a:xfrm>
                      <a:off x="6205320" y="6147720"/>
                      <a:ext cx="1296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4" y="6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08" name=""/>
                  <p:cNvGrpSpPr/>
                  <p:nvPr/>
                </p:nvGrpSpPr>
                <p:grpSpPr>
                  <a:xfrm>
                    <a:off x="6205680" y="6150240"/>
                    <a:ext cx="16560" cy="13680"/>
                    <a:chOff x="6205680" y="6150240"/>
                    <a:chExt cx="16560" cy="13680"/>
                  </a:xfrm>
                </p:grpSpPr>
                <p:sp>
                  <p:nvSpPr>
                    <p:cNvPr id="4309" name=""/>
                    <p:cNvSpPr/>
                    <p:nvPr/>
                  </p:nvSpPr>
                  <p:spPr>
                    <a:xfrm>
                      <a:off x="6205680" y="6150240"/>
                      <a:ext cx="5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2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0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0" name=""/>
                    <p:cNvSpPr/>
                    <p:nvPr/>
                  </p:nvSpPr>
                  <p:spPr>
                    <a:xfrm>
                      <a:off x="6207480" y="6150240"/>
                      <a:ext cx="1260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58" y="25"/>
                          </a:lnTo>
                          <a:lnTo>
                            <a:pt x="14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1" name=""/>
                    <p:cNvSpPr/>
                    <p:nvPr/>
                  </p:nvSpPr>
                  <p:spPr>
                    <a:xfrm>
                      <a:off x="6209280" y="6156000"/>
                      <a:ext cx="129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2" y="17"/>
                          </a:lnTo>
                          <a:lnTo>
                            <a:pt x="5" y="7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2" name=""/>
                  <p:cNvGrpSpPr/>
                  <p:nvPr/>
                </p:nvGrpSpPr>
                <p:grpSpPr>
                  <a:xfrm>
                    <a:off x="6211080" y="6156360"/>
                    <a:ext cx="16200" cy="15840"/>
                    <a:chOff x="6211080" y="6156360"/>
                    <a:chExt cx="16200" cy="15840"/>
                  </a:xfrm>
                </p:grpSpPr>
                <p:sp>
                  <p:nvSpPr>
                    <p:cNvPr id="4313" name=""/>
                    <p:cNvSpPr/>
                    <p:nvPr/>
                  </p:nvSpPr>
                  <p:spPr>
                    <a:xfrm>
                      <a:off x="6211080" y="6156360"/>
                      <a:ext cx="360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9">
                          <a:moveTo>
                            <a:pt x="13" y="59"/>
                          </a:moveTo>
                          <a:lnTo>
                            <a:pt x="0" y="23"/>
                          </a:lnTo>
                          <a:lnTo>
                            <a:pt x="10" y="0"/>
                          </a:lnTo>
                          <a:lnTo>
                            <a:pt x="21" y="27"/>
                          </a:lnTo>
                          <a:lnTo>
                            <a:pt x="13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4" name=""/>
                    <p:cNvSpPr/>
                    <p:nvPr/>
                  </p:nvSpPr>
                  <p:spPr>
                    <a:xfrm>
                      <a:off x="6212880" y="615816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25">
                          <a:moveTo>
                            <a:pt x="2" y="0"/>
                          </a:moveTo>
                          <a:lnTo>
                            <a:pt x="39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59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4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5" name=""/>
                    <p:cNvSpPr/>
                    <p:nvPr/>
                  </p:nvSpPr>
                  <p:spPr>
                    <a:xfrm>
                      <a:off x="6212880" y="6164640"/>
                      <a:ext cx="1440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5" y="7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6" name=""/>
                  <p:cNvGrpSpPr/>
                  <p:nvPr/>
                </p:nvGrpSpPr>
                <p:grpSpPr>
                  <a:xfrm>
                    <a:off x="6215040" y="6166440"/>
                    <a:ext cx="16200" cy="13680"/>
                    <a:chOff x="6215040" y="6166440"/>
                    <a:chExt cx="16200" cy="13680"/>
                  </a:xfrm>
                </p:grpSpPr>
                <p:sp>
                  <p:nvSpPr>
                    <p:cNvPr id="4317" name=""/>
                    <p:cNvSpPr/>
                    <p:nvPr/>
                  </p:nvSpPr>
                  <p:spPr>
                    <a:xfrm>
                      <a:off x="6215040" y="6166440"/>
                      <a:ext cx="36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2" y="58"/>
                          </a:moveTo>
                          <a:lnTo>
                            <a:pt x="0" y="22"/>
                          </a:lnTo>
                          <a:lnTo>
                            <a:pt x="8" y="0"/>
                          </a:lnTo>
                          <a:lnTo>
                            <a:pt x="20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8" name=""/>
                    <p:cNvSpPr/>
                    <p:nvPr/>
                  </p:nvSpPr>
                  <p:spPr>
                    <a:xfrm>
                      <a:off x="6216840" y="6166440"/>
                      <a:ext cx="1260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8" y="17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9" name=""/>
                    <p:cNvSpPr/>
                    <p:nvPr/>
                  </p:nvSpPr>
                  <p:spPr>
                    <a:xfrm>
                      <a:off x="6216840" y="6172200"/>
                      <a:ext cx="144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2" y="17"/>
                          </a:lnTo>
                          <a:lnTo>
                            <a:pt x="5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320" name=""/>
                <p:cNvGrpSpPr/>
                <p:nvPr/>
              </p:nvGrpSpPr>
              <p:grpSpPr>
                <a:xfrm>
                  <a:off x="6219360" y="6175080"/>
                  <a:ext cx="33120" cy="47880"/>
                  <a:chOff x="6219360" y="6175080"/>
                  <a:chExt cx="33120" cy="47880"/>
                </a:xfrm>
              </p:grpSpPr>
              <p:grpSp>
                <p:nvGrpSpPr>
                  <p:cNvPr id="4321" name=""/>
                  <p:cNvGrpSpPr/>
                  <p:nvPr/>
                </p:nvGrpSpPr>
                <p:grpSpPr>
                  <a:xfrm>
                    <a:off x="6219360" y="6175080"/>
                    <a:ext cx="16560" cy="15840"/>
                    <a:chOff x="6219360" y="6175080"/>
                    <a:chExt cx="16560" cy="15840"/>
                  </a:xfrm>
                </p:grpSpPr>
                <p:sp>
                  <p:nvSpPr>
                    <p:cNvPr id="4322" name=""/>
                    <p:cNvSpPr/>
                    <p:nvPr/>
                  </p:nvSpPr>
                  <p:spPr>
                    <a:xfrm>
                      <a:off x="6219360" y="6175080"/>
                      <a:ext cx="360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3" name=""/>
                    <p:cNvSpPr/>
                    <p:nvPr/>
                  </p:nvSpPr>
                  <p:spPr>
                    <a:xfrm>
                      <a:off x="6220800" y="6176880"/>
                      <a:ext cx="129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3" y="3"/>
                          </a:lnTo>
                          <a:lnTo>
                            <a:pt x="46" y="11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9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4" name=""/>
                    <p:cNvSpPr/>
                    <p:nvPr/>
                  </p:nvSpPr>
                  <p:spPr>
                    <a:xfrm>
                      <a:off x="6222960" y="6182640"/>
                      <a:ext cx="1296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8"/>
                          </a:lnTo>
                          <a:lnTo>
                            <a:pt x="5" y="7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25" name=""/>
                  <p:cNvGrpSpPr/>
                  <p:nvPr/>
                </p:nvGrpSpPr>
                <p:grpSpPr>
                  <a:xfrm>
                    <a:off x="6222960" y="6182640"/>
                    <a:ext cx="16200" cy="16200"/>
                    <a:chOff x="6222960" y="6182640"/>
                    <a:chExt cx="16200" cy="16200"/>
                  </a:xfrm>
                </p:grpSpPr>
                <p:sp>
                  <p:nvSpPr>
                    <p:cNvPr id="4326" name=""/>
                    <p:cNvSpPr/>
                    <p:nvPr/>
                  </p:nvSpPr>
                  <p:spPr>
                    <a:xfrm>
                      <a:off x="6222960" y="6182640"/>
                      <a:ext cx="540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1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7" name=""/>
                    <p:cNvSpPr/>
                    <p:nvPr/>
                  </p:nvSpPr>
                  <p:spPr>
                    <a:xfrm>
                      <a:off x="6224400" y="6182640"/>
                      <a:ext cx="129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2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9" y="17"/>
                          </a:lnTo>
                          <a:lnTo>
                            <a:pt x="0" y="5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8" name=""/>
                    <p:cNvSpPr/>
                    <p:nvPr/>
                  </p:nvSpPr>
                  <p:spPr>
                    <a:xfrm>
                      <a:off x="6226560" y="6190560"/>
                      <a:ext cx="126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2">
                          <a:moveTo>
                            <a:pt x="0" y="32"/>
                          </a:moveTo>
                          <a:lnTo>
                            <a:pt x="3" y="17"/>
                          </a:lnTo>
                          <a:lnTo>
                            <a:pt x="6" y="7"/>
                          </a:lnTo>
                          <a:lnTo>
                            <a:pt x="10" y="0"/>
                          </a:lnTo>
                          <a:lnTo>
                            <a:pt x="55" y="0"/>
                          </a:lnTo>
                          <a:lnTo>
                            <a:pt x="67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29" name=""/>
                  <p:cNvGrpSpPr/>
                  <p:nvPr/>
                </p:nvGrpSpPr>
                <p:grpSpPr>
                  <a:xfrm>
                    <a:off x="6228720" y="6191280"/>
                    <a:ext cx="14400" cy="15840"/>
                    <a:chOff x="6228720" y="6191280"/>
                    <a:chExt cx="14400" cy="15840"/>
                  </a:xfrm>
                </p:grpSpPr>
                <p:sp>
                  <p:nvSpPr>
                    <p:cNvPr id="4330" name=""/>
                    <p:cNvSpPr/>
                    <p:nvPr/>
                  </p:nvSpPr>
                  <p:spPr>
                    <a:xfrm>
                      <a:off x="6228720" y="6191280"/>
                      <a:ext cx="360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4"/>
                          </a:lnTo>
                          <a:lnTo>
                            <a:pt x="8" y="0"/>
                          </a:lnTo>
                          <a:lnTo>
                            <a:pt x="20" y="27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1" name=""/>
                    <p:cNvSpPr/>
                    <p:nvPr/>
                  </p:nvSpPr>
                  <p:spPr>
                    <a:xfrm>
                      <a:off x="6228720" y="6191280"/>
                      <a:ext cx="1296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2" y="2"/>
                          </a:lnTo>
                          <a:lnTo>
                            <a:pt x="45" y="10"/>
                          </a:lnTo>
                          <a:lnTo>
                            <a:pt x="60" y="26"/>
                          </a:lnTo>
                          <a:lnTo>
                            <a:pt x="15" y="26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2" name=""/>
                    <p:cNvSpPr/>
                    <p:nvPr/>
                  </p:nvSpPr>
                  <p:spPr>
                    <a:xfrm>
                      <a:off x="6230160" y="6199560"/>
                      <a:ext cx="129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6" y="7"/>
                          </a:lnTo>
                          <a:lnTo>
                            <a:pt x="10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3" name=""/>
                  <p:cNvGrpSpPr/>
                  <p:nvPr/>
                </p:nvGrpSpPr>
                <p:grpSpPr>
                  <a:xfrm>
                    <a:off x="6232320" y="6199560"/>
                    <a:ext cx="16560" cy="15840"/>
                    <a:chOff x="6232320" y="6199560"/>
                    <a:chExt cx="16560" cy="15840"/>
                  </a:xfrm>
                </p:grpSpPr>
                <p:sp>
                  <p:nvSpPr>
                    <p:cNvPr id="4334" name=""/>
                    <p:cNvSpPr/>
                    <p:nvPr/>
                  </p:nvSpPr>
                  <p:spPr>
                    <a:xfrm>
                      <a:off x="6232320" y="6199560"/>
                      <a:ext cx="360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0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5" name=""/>
                    <p:cNvSpPr/>
                    <p:nvPr/>
                  </p:nvSpPr>
                  <p:spPr>
                    <a:xfrm>
                      <a:off x="6233760" y="6201360"/>
                      <a:ext cx="129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2" y="2"/>
                          </a:lnTo>
                          <a:lnTo>
                            <a:pt x="46" y="9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6" name=""/>
                    <p:cNvSpPr/>
                    <p:nvPr/>
                  </p:nvSpPr>
                  <p:spPr>
                    <a:xfrm>
                      <a:off x="6233760" y="6207120"/>
                      <a:ext cx="1512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2" y="16"/>
                          </a:lnTo>
                          <a:lnTo>
                            <a:pt x="6" y="7"/>
                          </a:lnTo>
                          <a:lnTo>
                            <a:pt x="11" y="0"/>
                          </a:lnTo>
                          <a:lnTo>
                            <a:pt x="57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7" name=""/>
                  <p:cNvGrpSpPr/>
                  <p:nvPr/>
                </p:nvGrpSpPr>
                <p:grpSpPr>
                  <a:xfrm>
                    <a:off x="6236280" y="6209640"/>
                    <a:ext cx="16200" cy="13320"/>
                    <a:chOff x="6236280" y="6209640"/>
                    <a:chExt cx="16200" cy="13320"/>
                  </a:xfrm>
                </p:grpSpPr>
                <p:sp>
                  <p:nvSpPr>
                    <p:cNvPr id="4338" name=""/>
                    <p:cNvSpPr/>
                    <p:nvPr/>
                  </p:nvSpPr>
                  <p:spPr>
                    <a:xfrm>
                      <a:off x="6236280" y="6209640"/>
                      <a:ext cx="324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8">
                          <a:moveTo>
                            <a:pt x="10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8" y="26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9" name=""/>
                    <p:cNvSpPr/>
                    <p:nvPr/>
                  </p:nvSpPr>
                  <p:spPr>
                    <a:xfrm>
                      <a:off x="6237720" y="6209640"/>
                      <a:ext cx="129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2" y="0"/>
                          </a:moveTo>
                          <a:lnTo>
                            <a:pt x="42" y="0"/>
                          </a:lnTo>
                          <a:lnTo>
                            <a:pt x="43" y="2"/>
                          </a:lnTo>
                          <a:lnTo>
                            <a:pt x="46" y="9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8" y="17"/>
                          </a:lnTo>
                          <a:lnTo>
                            <a:pt x="0" y="4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0" name=""/>
                    <p:cNvSpPr/>
                    <p:nvPr/>
                  </p:nvSpPr>
                  <p:spPr>
                    <a:xfrm>
                      <a:off x="6239520" y="6215400"/>
                      <a:ext cx="129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5" y="6"/>
                          </a:lnTo>
                          <a:lnTo>
                            <a:pt x="8" y="0"/>
                          </a:lnTo>
                          <a:lnTo>
                            <a:pt x="55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341" name=""/>
                <p:cNvGrpSpPr/>
                <p:nvPr/>
              </p:nvGrpSpPr>
              <p:grpSpPr>
                <a:xfrm>
                  <a:off x="6239880" y="6216120"/>
                  <a:ext cx="16560" cy="15840"/>
                  <a:chOff x="6239880" y="6216120"/>
                  <a:chExt cx="16560" cy="15840"/>
                </a:xfrm>
              </p:grpSpPr>
              <p:sp>
                <p:nvSpPr>
                  <p:cNvPr id="4342" name=""/>
                  <p:cNvSpPr/>
                  <p:nvPr/>
                </p:nvSpPr>
                <p:spPr>
                  <a:xfrm>
                    <a:off x="6239880" y="6216120"/>
                    <a:ext cx="3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9" y="27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3" name=""/>
                  <p:cNvSpPr/>
                  <p:nvPr/>
                </p:nvSpPr>
                <p:spPr>
                  <a:xfrm>
                    <a:off x="6241680" y="6216120"/>
                    <a:ext cx="129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1"/>
                        </a:lnTo>
                        <a:lnTo>
                          <a:pt x="59" y="26"/>
                        </a:lnTo>
                        <a:lnTo>
                          <a:pt x="14" y="26"/>
                        </a:lnTo>
                        <a:lnTo>
                          <a:pt x="8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4" name=""/>
                  <p:cNvSpPr/>
                  <p:nvPr/>
                </p:nvSpPr>
                <p:spPr>
                  <a:xfrm>
                    <a:off x="6243480" y="6223680"/>
                    <a:ext cx="129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9">
                        <a:moveTo>
                          <a:pt x="0" y="29"/>
                        </a:moveTo>
                        <a:lnTo>
                          <a:pt x="1" y="16"/>
                        </a:lnTo>
                        <a:lnTo>
                          <a:pt x="5" y="5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45" name=""/>
                <p:cNvGrpSpPr/>
                <p:nvPr/>
              </p:nvGrpSpPr>
              <p:grpSpPr>
                <a:xfrm>
                  <a:off x="6243840" y="6224040"/>
                  <a:ext cx="16560" cy="14040"/>
                  <a:chOff x="6243840" y="6224040"/>
                  <a:chExt cx="16560" cy="14040"/>
                </a:xfrm>
              </p:grpSpPr>
              <p:sp>
                <p:nvSpPr>
                  <p:cNvPr id="4346" name=""/>
                  <p:cNvSpPr/>
                  <p:nvPr/>
                </p:nvSpPr>
                <p:spPr>
                  <a:xfrm>
                    <a:off x="6243840" y="6224040"/>
                    <a:ext cx="57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7" name=""/>
                  <p:cNvSpPr/>
                  <p:nvPr/>
                </p:nvSpPr>
                <p:spPr>
                  <a:xfrm>
                    <a:off x="6245640" y="6224040"/>
                    <a:ext cx="129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2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4" y="25"/>
                        </a:lnTo>
                        <a:lnTo>
                          <a:pt x="8" y="17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8" name=""/>
                  <p:cNvSpPr/>
                  <p:nvPr/>
                </p:nvSpPr>
                <p:spPr>
                  <a:xfrm>
                    <a:off x="6247440" y="6232320"/>
                    <a:ext cx="129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7"/>
                        </a:lnTo>
                        <a:lnTo>
                          <a:pt x="4" y="7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49" name=""/>
                <p:cNvGrpSpPr/>
                <p:nvPr/>
              </p:nvGrpSpPr>
              <p:grpSpPr>
                <a:xfrm>
                  <a:off x="6249960" y="6232680"/>
                  <a:ext cx="14400" cy="15840"/>
                  <a:chOff x="6249960" y="6232680"/>
                  <a:chExt cx="14400" cy="15840"/>
                </a:xfrm>
              </p:grpSpPr>
              <p:sp>
                <p:nvSpPr>
                  <p:cNvPr id="4350" name=""/>
                  <p:cNvSpPr/>
                  <p:nvPr/>
                </p:nvSpPr>
                <p:spPr>
                  <a:xfrm>
                    <a:off x="6249960" y="623268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1" name=""/>
                  <p:cNvSpPr/>
                  <p:nvPr/>
                </p:nvSpPr>
                <p:spPr>
                  <a:xfrm>
                    <a:off x="6251400" y="6234840"/>
                    <a:ext cx="108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1"/>
                        </a:lnTo>
                        <a:lnTo>
                          <a:pt x="59" y="26"/>
                        </a:lnTo>
                        <a:lnTo>
                          <a:pt x="15" y="26"/>
                        </a:lnTo>
                        <a:lnTo>
                          <a:pt x="8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2" name=""/>
                  <p:cNvSpPr/>
                  <p:nvPr/>
                </p:nvSpPr>
                <p:spPr>
                  <a:xfrm>
                    <a:off x="6251400" y="6240960"/>
                    <a:ext cx="129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2" y="18"/>
                        </a:lnTo>
                        <a:lnTo>
                          <a:pt x="5" y="7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53" name=""/>
                <p:cNvSpPr/>
                <p:nvPr/>
              </p:nvSpPr>
              <p:spPr>
                <a:xfrm>
                  <a:off x="6162480" y="6090480"/>
                  <a:ext cx="5400" cy="14400"/>
                </a:xfrm>
                <a:custGeom>
                  <a:avLst/>
                  <a:gdLst/>
                  <a:ahLst/>
                  <a:rect l="l" t="t" r="r" b="b"/>
                  <a:pathLst>
                    <a:path w="20" h="58">
                      <a:moveTo>
                        <a:pt x="12" y="58"/>
                      </a:moveTo>
                      <a:lnTo>
                        <a:pt x="0" y="23"/>
                      </a:lnTo>
                      <a:lnTo>
                        <a:pt x="8" y="0"/>
                      </a:lnTo>
                      <a:lnTo>
                        <a:pt x="20" y="26"/>
                      </a:lnTo>
                      <a:lnTo>
                        <a:pt x="12" y="58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4" name=""/>
                <p:cNvSpPr/>
                <p:nvPr/>
              </p:nvSpPr>
              <p:spPr>
                <a:xfrm>
                  <a:off x="6164280" y="6090480"/>
                  <a:ext cx="13320" cy="5760"/>
                </a:xfrm>
                <a:custGeom>
                  <a:avLst/>
                  <a:gdLst/>
                  <a:ahLst/>
                  <a:rect l="l" t="t" r="r" b="b"/>
                  <a:pathLst>
                    <a:path w="57" h="23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41" y="1"/>
                      </a:lnTo>
                      <a:lnTo>
                        <a:pt x="45" y="10"/>
                      </a:lnTo>
                      <a:lnTo>
                        <a:pt x="57" y="23"/>
                      </a:lnTo>
                      <a:lnTo>
                        <a:pt x="14" y="23"/>
                      </a:lnTo>
                      <a:lnTo>
                        <a:pt x="6" y="16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5" name=""/>
                <p:cNvSpPr/>
                <p:nvPr/>
              </p:nvSpPr>
              <p:spPr>
                <a:xfrm>
                  <a:off x="6166440" y="60966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6" h="31">
                      <a:moveTo>
                        <a:pt x="0" y="31"/>
                      </a:moveTo>
                      <a:lnTo>
                        <a:pt x="1" y="18"/>
                      </a:lnTo>
                      <a:lnTo>
                        <a:pt x="4" y="7"/>
                      </a:lnTo>
                      <a:lnTo>
                        <a:pt x="9" y="0"/>
                      </a:lnTo>
                      <a:lnTo>
                        <a:pt x="55" y="0"/>
                      </a:lnTo>
                      <a:lnTo>
                        <a:pt x="66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56" name=""/>
                <p:cNvGrpSpPr/>
                <p:nvPr/>
              </p:nvGrpSpPr>
              <p:grpSpPr>
                <a:xfrm>
                  <a:off x="6167880" y="6099120"/>
                  <a:ext cx="14400" cy="13320"/>
                  <a:chOff x="6167880" y="6099120"/>
                  <a:chExt cx="14400" cy="13320"/>
                </a:xfrm>
              </p:grpSpPr>
              <p:sp>
                <p:nvSpPr>
                  <p:cNvPr id="4357" name=""/>
                  <p:cNvSpPr/>
                  <p:nvPr/>
                </p:nvSpPr>
                <p:spPr>
                  <a:xfrm>
                    <a:off x="6167880" y="6099120"/>
                    <a:ext cx="36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9" y="26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8" name=""/>
                  <p:cNvSpPr/>
                  <p:nvPr/>
                </p:nvSpPr>
                <p:spPr>
                  <a:xfrm>
                    <a:off x="6167880" y="6099120"/>
                    <a:ext cx="129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10"/>
                        </a:lnTo>
                        <a:lnTo>
                          <a:pt x="59" y="25"/>
                        </a:lnTo>
                        <a:lnTo>
                          <a:pt x="14" y="25"/>
                        </a:lnTo>
                        <a:lnTo>
                          <a:pt x="8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9" name=""/>
                  <p:cNvSpPr/>
                  <p:nvPr/>
                </p:nvSpPr>
                <p:spPr>
                  <a:xfrm>
                    <a:off x="6169320" y="6104880"/>
                    <a:ext cx="129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6" y="7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7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60" name=""/>
                <p:cNvGrpSpPr/>
                <p:nvPr/>
              </p:nvGrpSpPr>
              <p:grpSpPr>
                <a:xfrm>
                  <a:off x="6171840" y="6107040"/>
                  <a:ext cx="16200" cy="14040"/>
                  <a:chOff x="6171840" y="6107040"/>
                  <a:chExt cx="16200" cy="14040"/>
                </a:xfrm>
              </p:grpSpPr>
              <p:sp>
                <p:nvSpPr>
                  <p:cNvPr id="4361" name=""/>
                  <p:cNvSpPr/>
                  <p:nvPr/>
                </p:nvSpPr>
                <p:spPr>
                  <a:xfrm>
                    <a:off x="6171840" y="6107040"/>
                    <a:ext cx="3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2" name=""/>
                  <p:cNvSpPr/>
                  <p:nvPr/>
                </p:nvSpPr>
                <p:spPr>
                  <a:xfrm>
                    <a:off x="6173280" y="6107040"/>
                    <a:ext cx="111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0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3" name=""/>
                  <p:cNvSpPr/>
                  <p:nvPr/>
                </p:nvSpPr>
                <p:spPr>
                  <a:xfrm>
                    <a:off x="6173280" y="6112800"/>
                    <a:ext cx="147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4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64" name=""/>
                <p:cNvGrpSpPr/>
                <p:nvPr/>
              </p:nvGrpSpPr>
              <p:grpSpPr>
                <a:xfrm>
                  <a:off x="6175800" y="6115320"/>
                  <a:ext cx="16200" cy="14040"/>
                  <a:chOff x="6175800" y="6115320"/>
                  <a:chExt cx="16200" cy="14040"/>
                </a:xfrm>
              </p:grpSpPr>
              <p:sp>
                <p:nvSpPr>
                  <p:cNvPr id="4365" name=""/>
                  <p:cNvSpPr/>
                  <p:nvPr/>
                </p:nvSpPr>
                <p:spPr>
                  <a:xfrm>
                    <a:off x="6175800" y="6115320"/>
                    <a:ext cx="3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19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6" name=""/>
                  <p:cNvSpPr/>
                  <p:nvPr/>
                </p:nvSpPr>
                <p:spPr>
                  <a:xfrm>
                    <a:off x="6177240" y="6115320"/>
                    <a:ext cx="129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5" y="10"/>
                        </a:lnTo>
                        <a:lnTo>
                          <a:pt x="59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7" name=""/>
                  <p:cNvSpPr/>
                  <p:nvPr/>
                </p:nvSpPr>
                <p:spPr>
                  <a:xfrm>
                    <a:off x="6179040" y="6121080"/>
                    <a:ext cx="129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68" name=""/>
                <p:cNvGrpSpPr/>
                <p:nvPr/>
              </p:nvGrpSpPr>
              <p:grpSpPr>
                <a:xfrm>
                  <a:off x="6179400" y="6123240"/>
                  <a:ext cx="16560" cy="14040"/>
                  <a:chOff x="6179400" y="6123240"/>
                  <a:chExt cx="16560" cy="14040"/>
                </a:xfrm>
              </p:grpSpPr>
              <p:sp>
                <p:nvSpPr>
                  <p:cNvPr id="4369" name=""/>
                  <p:cNvSpPr/>
                  <p:nvPr/>
                </p:nvSpPr>
                <p:spPr>
                  <a:xfrm>
                    <a:off x="6179400" y="6123240"/>
                    <a:ext cx="57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21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0" name=""/>
                  <p:cNvSpPr/>
                  <p:nvPr/>
                </p:nvSpPr>
                <p:spPr>
                  <a:xfrm>
                    <a:off x="6181200" y="6123240"/>
                    <a:ext cx="129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2" y="2"/>
                        </a:lnTo>
                        <a:lnTo>
                          <a:pt x="46" y="10"/>
                        </a:lnTo>
                        <a:lnTo>
                          <a:pt x="61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1" name=""/>
                  <p:cNvSpPr/>
                  <p:nvPr/>
                </p:nvSpPr>
                <p:spPr>
                  <a:xfrm>
                    <a:off x="6183000" y="6129360"/>
                    <a:ext cx="129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6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5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72" name=""/>
                <p:cNvGrpSpPr/>
                <p:nvPr/>
              </p:nvGrpSpPr>
              <p:grpSpPr>
                <a:xfrm>
                  <a:off x="6185160" y="6133680"/>
                  <a:ext cx="31320" cy="46800"/>
                  <a:chOff x="6185160" y="6133680"/>
                  <a:chExt cx="31320" cy="46800"/>
                </a:xfrm>
              </p:grpSpPr>
              <p:grpSp>
                <p:nvGrpSpPr>
                  <p:cNvPr id="4373" name=""/>
                  <p:cNvGrpSpPr/>
                  <p:nvPr/>
                </p:nvGrpSpPr>
                <p:grpSpPr>
                  <a:xfrm>
                    <a:off x="6185160" y="6133680"/>
                    <a:ext cx="14400" cy="14040"/>
                    <a:chOff x="6185160" y="6133680"/>
                    <a:chExt cx="14400" cy="14040"/>
                  </a:xfrm>
                </p:grpSpPr>
                <p:sp>
                  <p:nvSpPr>
                    <p:cNvPr id="4374" name=""/>
                    <p:cNvSpPr/>
                    <p:nvPr/>
                  </p:nvSpPr>
                  <p:spPr>
                    <a:xfrm>
                      <a:off x="6185160" y="6133680"/>
                      <a:ext cx="324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61">
                          <a:moveTo>
                            <a:pt x="10" y="61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9" y="27"/>
                          </a:lnTo>
                          <a:lnTo>
                            <a:pt x="10" y="61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5" name=""/>
                    <p:cNvSpPr/>
                    <p:nvPr/>
                  </p:nvSpPr>
                  <p:spPr>
                    <a:xfrm>
                      <a:off x="6185160" y="6133680"/>
                      <a:ext cx="126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6" y="10"/>
                          </a:lnTo>
                          <a:lnTo>
                            <a:pt x="60" y="26"/>
                          </a:lnTo>
                          <a:lnTo>
                            <a:pt x="15" y="26"/>
                          </a:lnTo>
                          <a:lnTo>
                            <a:pt x="8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6" name=""/>
                    <p:cNvSpPr/>
                    <p:nvPr/>
                  </p:nvSpPr>
                  <p:spPr>
                    <a:xfrm>
                      <a:off x="6186600" y="6139800"/>
                      <a:ext cx="129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3">
                          <a:moveTo>
                            <a:pt x="0" y="33"/>
                          </a:moveTo>
                          <a:lnTo>
                            <a:pt x="1" y="18"/>
                          </a:lnTo>
                          <a:lnTo>
                            <a:pt x="7" y="6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7" y="3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77" name=""/>
                  <p:cNvGrpSpPr/>
                  <p:nvPr/>
                </p:nvGrpSpPr>
                <p:grpSpPr>
                  <a:xfrm>
                    <a:off x="6188400" y="6141960"/>
                    <a:ext cx="16200" cy="14040"/>
                    <a:chOff x="6188400" y="6141960"/>
                    <a:chExt cx="16200" cy="14040"/>
                  </a:xfrm>
                </p:grpSpPr>
                <p:sp>
                  <p:nvSpPr>
                    <p:cNvPr id="4378" name=""/>
                    <p:cNvSpPr/>
                    <p:nvPr/>
                  </p:nvSpPr>
                  <p:spPr>
                    <a:xfrm>
                      <a:off x="6188400" y="6141960"/>
                      <a:ext cx="36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4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9" name=""/>
                    <p:cNvSpPr/>
                    <p:nvPr/>
                  </p:nvSpPr>
                  <p:spPr>
                    <a:xfrm>
                      <a:off x="6190200" y="6141960"/>
                      <a:ext cx="1080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8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2"/>
                          </a:lnTo>
                          <a:lnTo>
                            <a:pt x="61" y="28"/>
                          </a:lnTo>
                          <a:lnTo>
                            <a:pt x="15" y="28"/>
                          </a:lnTo>
                          <a:lnTo>
                            <a:pt x="8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0" name=""/>
                    <p:cNvSpPr/>
                    <p:nvPr/>
                  </p:nvSpPr>
                  <p:spPr>
                    <a:xfrm>
                      <a:off x="6190200" y="6147720"/>
                      <a:ext cx="144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7"/>
                          </a:lnTo>
                          <a:lnTo>
                            <a:pt x="4" y="6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81" name=""/>
                  <p:cNvGrpSpPr/>
                  <p:nvPr/>
                </p:nvGrpSpPr>
                <p:grpSpPr>
                  <a:xfrm>
                    <a:off x="6192360" y="6150240"/>
                    <a:ext cx="16200" cy="14040"/>
                    <a:chOff x="6192360" y="6150240"/>
                    <a:chExt cx="16200" cy="14040"/>
                  </a:xfrm>
                </p:grpSpPr>
                <p:sp>
                  <p:nvSpPr>
                    <p:cNvPr id="4382" name=""/>
                    <p:cNvSpPr/>
                    <p:nvPr/>
                  </p:nvSpPr>
                  <p:spPr>
                    <a:xfrm>
                      <a:off x="6192360" y="6150240"/>
                      <a:ext cx="36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8">
                          <a:moveTo>
                            <a:pt x="12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19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3" name=""/>
                    <p:cNvSpPr/>
                    <p:nvPr/>
                  </p:nvSpPr>
                  <p:spPr>
                    <a:xfrm>
                      <a:off x="6194160" y="6150240"/>
                      <a:ext cx="1080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58" y="25"/>
                          </a:lnTo>
                          <a:lnTo>
                            <a:pt x="13" y="25"/>
                          </a:lnTo>
                          <a:lnTo>
                            <a:pt x="7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4" name=""/>
                    <p:cNvSpPr/>
                    <p:nvPr/>
                  </p:nvSpPr>
                  <p:spPr>
                    <a:xfrm>
                      <a:off x="6194160" y="6156000"/>
                      <a:ext cx="144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5" y="6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7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85" name=""/>
                  <p:cNvGrpSpPr/>
                  <p:nvPr/>
                </p:nvGrpSpPr>
                <p:grpSpPr>
                  <a:xfrm>
                    <a:off x="6195960" y="6158160"/>
                    <a:ext cx="16560" cy="14040"/>
                    <a:chOff x="6195960" y="6158160"/>
                    <a:chExt cx="16560" cy="14040"/>
                  </a:xfrm>
                </p:grpSpPr>
                <p:sp>
                  <p:nvSpPr>
                    <p:cNvPr id="4386" name=""/>
                    <p:cNvSpPr/>
                    <p:nvPr/>
                  </p:nvSpPr>
                  <p:spPr>
                    <a:xfrm>
                      <a:off x="6195960" y="6158160"/>
                      <a:ext cx="36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7" name=""/>
                    <p:cNvSpPr/>
                    <p:nvPr/>
                  </p:nvSpPr>
                  <p:spPr>
                    <a:xfrm>
                      <a:off x="6197400" y="6158160"/>
                      <a:ext cx="129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59" y="25"/>
                          </a:lnTo>
                          <a:lnTo>
                            <a:pt x="15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8" name=""/>
                    <p:cNvSpPr/>
                    <p:nvPr/>
                  </p:nvSpPr>
                  <p:spPr>
                    <a:xfrm>
                      <a:off x="6199560" y="6164280"/>
                      <a:ext cx="129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4" y="7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89" name=""/>
                  <p:cNvGrpSpPr/>
                  <p:nvPr/>
                </p:nvGrpSpPr>
                <p:grpSpPr>
                  <a:xfrm>
                    <a:off x="6201720" y="6166440"/>
                    <a:ext cx="14760" cy="14040"/>
                    <a:chOff x="6201720" y="6166440"/>
                    <a:chExt cx="14760" cy="14040"/>
                  </a:xfrm>
                </p:grpSpPr>
                <p:sp>
                  <p:nvSpPr>
                    <p:cNvPr id="4390" name=""/>
                    <p:cNvSpPr/>
                    <p:nvPr/>
                  </p:nvSpPr>
                  <p:spPr>
                    <a:xfrm>
                      <a:off x="6201720" y="6166440"/>
                      <a:ext cx="36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8">
                          <a:moveTo>
                            <a:pt x="11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19" y="26"/>
                          </a:lnTo>
                          <a:lnTo>
                            <a:pt x="11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1" name=""/>
                    <p:cNvSpPr/>
                    <p:nvPr/>
                  </p:nvSpPr>
                  <p:spPr>
                    <a:xfrm>
                      <a:off x="6203520" y="6166440"/>
                      <a:ext cx="1080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1" y="2"/>
                          </a:lnTo>
                          <a:lnTo>
                            <a:pt x="46" y="10"/>
                          </a:lnTo>
                          <a:lnTo>
                            <a:pt x="59" y="25"/>
                          </a:lnTo>
                          <a:lnTo>
                            <a:pt x="15" y="25"/>
                          </a:lnTo>
                          <a:lnTo>
                            <a:pt x="8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2" name=""/>
                    <p:cNvSpPr/>
                    <p:nvPr/>
                  </p:nvSpPr>
                  <p:spPr>
                    <a:xfrm>
                      <a:off x="6203520" y="6172200"/>
                      <a:ext cx="1296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2" y="17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393" name=""/>
                <p:cNvGrpSpPr/>
                <p:nvPr/>
              </p:nvGrpSpPr>
              <p:grpSpPr>
                <a:xfrm>
                  <a:off x="6206040" y="6176880"/>
                  <a:ext cx="33120" cy="46080"/>
                  <a:chOff x="6206040" y="6176880"/>
                  <a:chExt cx="33120" cy="46080"/>
                </a:xfrm>
              </p:grpSpPr>
              <p:grpSp>
                <p:nvGrpSpPr>
                  <p:cNvPr id="4394" name=""/>
                  <p:cNvGrpSpPr/>
                  <p:nvPr/>
                </p:nvGrpSpPr>
                <p:grpSpPr>
                  <a:xfrm>
                    <a:off x="6206040" y="6176880"/>
                    <a:ext cx="16200" cy="14040"/>
                    <a:chOff x="6206040" y="6176880"/>
                    <a:chExt cx="16200" cy="14040"/>
                  </a:xfrm>
                </p:grpSpPr>
                <p:sp>
                  <p:nvSpPr>
                    <p:cNvPr id="4395" name=""/>
                    <p:cNvSpPr/>
                    <p:nvPr/>
                  </p:nvSpPr>
                  <p:spPr>
                    <a:xfrm>
                      <a:off x="6206040" y="6176880"/>
                      <a:ext cx="36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3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3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6" name=""/>
                    <p:cNvSpPr/>
                    <p:nvPr/>
                  </p:nvSpPr>
                  <p:spPr>
                    <a:xfrm>
                      <a:off x="6207840" y="6176880"/>
                      <a:ext cx="1080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7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4"/>
                          </a:lnTo>
                          <a:lnTo>
                            <a:pt x="46" y="11"/>
                          </a:lnTo>
                          <a:lnTo>
                            <a:pt x="61" y="27"/>
                          </a:lnTo>
                          <a:lnTo>
                            <a:pt x="15" y="27"/>
                          </a:lnTo>
                          <a:lnTo>
                            <a:pt x="9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7" name=""/>
                    <p:cNvSpPr/>
                    <p:nvPr/>
                  </p:nvSpPr>
                  <p:spPr>
                    <a:xfrm>
                      <a:off x="6207840" y="6182640"/>
                      <a:ext cx="144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4" y="5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8" name=""/>
                  <p:cNvGrpSpPr/>
                  <p:nvPr/>
                </p:nvGrpSpPr>
                <p:grpSpPr>
                  <a:xfrm>
                    <a:off x="6209640" y="6182640"/>
                    <a:ext cx="16560" cy="16200"/>
                    <a:chOff x="6209640" y="6182640"/>
                    <a:chExt cx="16560" cy="16200"/>
                  </a:xfrm>
                </p:grpSpPr>
                <p:sp>
                  <p:nvSpPr>
                    <p:cNvPr id="4399" name=""/>
                    <p:cNvSpPr/>
                    <p:nvPr/>
                  </p:nvSpPr>
                  <p:spPr>
                    <a:xfrm>
                      <a:off x="6209640" y="6182640"/>
                      <a:ext cx="360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9">
                          <a:moveTo>
                            <a:pt x="11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9" y="26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0" name=""/>
                    <p:cNvSpPr/>
                    <p:nvPr/>
                  </p:nvSpPr>
                  <p:spPr>
                    <a:xfrm>
                      <a:off x="6211080" y="6184800"/>
                      <a:ext cx="111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5" y="11"/>
                          </a:lnTo>
                          <a:lnTo>
                            <a:pt x="60" y="26"/>
                          </a:lnTo>
                          <a:lnTo>
                            <a:pt x="15" y="26"/>
                          </a:lnTo>
                          <a:lnTo>
                            <a:pt x="9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1" name=""/>
                    <p:cNvSpPr/>
                    <p:nvPr/>
                  </p:nvSpPr>
                  <p:spPr>
                    <a:xfrm>
                      <a:off x="6211080" y="6190560"/>
                      <a:ext cx="1512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2">
                          <a:moveTo>
                            <a:pt x="0" y="32"/>
                          </a:moveTo>
                          <a:lnTo>
                            <a:pt x="2" y="18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02" name=""/>
                  <p:cNvGrpSpPr/>
                  <p:nvPr/>
                </p:nvGrpSpPr>
                <p:grpSpPr>
                  <a:xfrm>
                    <a:off x="6213600" y="6191280"/>
                    <a:ext cx="16200" cy="15840"/>
                    <a:chOff x="6213600" y="6191280"/>
                    <a:chExt cx="16200" cy="15840"/>
                  </a:xfrm>
                </p:grpSpPr>
                <p:sp>
                  <p:nvSpPr>
                    <p:cNvPr id="4403" name=""/>
                    <p:cNvSpPr/>
                    <p:nvPr/>
                  </p:nvSpPr>
                  <p:spPr>
                    <a:xfrm>
                      <a:off x="6213600" y="6191280"/>
                      <a:ext cx="360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4"/>
                          </a:lnTo>
                          <a:lnTo>
                            <a:pt x="8" y="0"/>
                          </a:lnTo>
                          <a:lnTo>
                            <a:pt x="20" y="27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4" name=""/>
                    <p:cNvSpPr/>
                    <p:nvPr/>
                  </p:nvSpPr>
                  <p:spPr>
                    <a:xfrm>
                      <a:off x="6215040" y="6193080"/>
                      <a:ext cx="129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60" y="26"/>
                          </a:lnTo>
                          <a:lnTo>
                            <a:pt x="15" y="26"/>
                          </a:lnTo>
                          <a:lnTo>
                            <a:pt x="7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5" name=""/>
                    <p:cNvSpPr/>
                    <p:nvPr/>
                  </p:nvSpPr>
                  <p:spPr>
                    <a:xfrm>
                      <a:off x="6217200" y="6199560"/>
                      <a:ext cx="1260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5" y="7"/>
                          </a:lnTo>
                          <a:lnTo>
                            <a:pt x="10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06" name=""/>
                  <p:cNvGrpSpPr/>
                  <p:nvPr/>
                </p:nvGrpSpPr>
                <p:grpSpPr>
                  <a:xfrm>
                    <a:off x="6219000" y="6201360"/>
                    <a:ext cx="14400" cy="14040"/>
                    <a:chOff x="6219000" y="6201360"/>
                    <a:chExt cx="14400" cy="14040"/>
                  </a:xfrm>
                </p:grpSpPr>
                <p:sp>
                  <p:nvSpPr>
                    <p:cNvPr id="4407" name=""/>
                    <p:cNvSpPr/>
                    <p:nvPr/>
                  </p:nvSpPr>
                  <p:spPr>
                    <a:xfrm>
                      <a:off x="6219000" y="6201360"/>
                      <a:ext cx="36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0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8" name=""/>
                    <p:cNvSpPr/>
                    <p:nvPr/>
                  </p:nvSpPr>
                  <p:spPr>
                    <a:xfrm>
                      <a:off x="6219000" y="6201360"/>
                      <a:ext cx="129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9" name=""/>
                    <p:cNvSpPr/>
                    <p:nvPr/>
                  </p:nvSpPr>
                  <p:spPr>
                    <a:xfrm>
                      <a:off x="6220440" y="6207120"/>
                      <a:ext cx="1296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6" y="7"/>
                          </a:lnTo>
                          <a:lnTo>
                            <a:pt x="11" y="0"/>
                          </a:lnTo>
                          <a:lnTo>
                            <a:pt x="56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10" name=""/>
                  <p:cNvGrpSpPr/>
                  <p:nvPr/>
                </p:nvGrpSpPr>
                <p:grpSpPr>
                  <a:xfrm>
                    <a:off x="6222960" y="6209640"/>
                    <a:ext cx="16200" cy="13320"/>
                    <a:chOff x="6222960" y="6209640"/>
                    <a:chExt cx="16200" cy="13320"/>
                  </a:xfrm>
                </p:grpSpPr>
                <p:sp>
                  <p:nvSpPr>
                    <p:cNvPr id="4411" name=""/>
                    <p:cNvSpPr/>
                    <p:nvPr/>
                  </p:nvSpPr>
                  <p:spPr>
                    <a:xfrm>
                      <a:off x="6222960" y="6209640"/>
                      <a:ext cx="360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8">
                          <a:moveTo>
                            <a:pt x="11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9" y="26"/>
                          </a:lnTo>
                          <a:lnTo>
                            <a:pt x="11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2" name=""/>
                    <p:cNvSpPr/>
                    <p:nvPr/>
                  </p:nvSpPr>
                  <p:spPr>
                    <a:xfrm>
                      <a:off x="6224400" y="6209640"/>
                      <a:ext cx="111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3" y="2"/>
                          </a:lnTo>
                          <a:lnTo>
                            <a:pt x="46" y="10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8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3" name=""/>
                    <p:cNvSpPr/>
                    <p:nvPr/>
                  </p:nvSpPr>
                  <p:spPr>
                    <a:xfrm>
                      <a:off x="6224400" y="6215400"/>
                      <a:ext cx="147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4" y="7"/>
                          </a:lnTo>
                          <a:lnTo>
                            <a:pt x="8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414" name=""/>
                <p:cNvGrpSpPr/>
                <p:nvPr/>
              </p:nvGrpSpPr>
              <p:grpSpPr>
                <a:xfrm>
                  <a:off x="6226920" y="6216120"/>
                  <a:ext cx="16200" cy="15840"/>
                  <a:chOff x="6226920" y="6216120"/>
                  <a:chExt cx="16200" cy="15840"/>
                </a:xfrm>
              </p:grpSpPr>
              <p:sp>
                <p:nvSpPr>
                  <p:cNvPr id="4415" name=""/>
                  <p:cNvSpPr/>
                  <p:nvPr/>
                </p:nvSpPr>
                <p:spPr>
                  <a:xfrm>
                    <a:off x="6226920" y="621612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2" y="59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8"/>
                        </a:lnTo>
                        <a:lnTo>
                          <a:pt x="12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6" name=""/>
                  <p:cNvSpPr/>
                  <p:nvPr/>
                </p:nvSpPr>
                <p:spPr>
                  <a:xfrm>
                    <a:off x="6228360" y="6217920"/>
                    <a:ext cx="108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7">
                        <a:moveTo>
                          <a:pt x="2" y="0"/>
                        </a:moveTo>
                        <a:lnTo>
                          <a:pt x="40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7"/>
                        </a:lnTo>
                        <a:lnTo>
                          <a:pt x="15" y="27"/>
                        </a:lnTo>
                        <a:lnTo>
                          <a:pt x="8" y="19"/>
                        </a:lnTo>
                        <a:lnTo>
                          <a:pt x="0" y="6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7" name=""/>
                  <p:cNvSpPr/>
                  <p:nvPr/>
                </p:nvSpPr>
                <p:spPr>
                  <a:xfrm>
                    <a:off x="6228360" y="6223680"/>
                    <a:ext cx="147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5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8" name=""/>
                <p:cNvGrpSpPr/>
                <p:nvPr/>
              </p:nvGrpSpPr>
              <p:grpSpPr>
                <a:xfrm>
                  <a:off x="6230520" y="6224040"/>
                  <a:ext cx="16560" cy="16200"/>
                  <a:chOff x="6230520" y="6224040"/>
                  <a:chExt cx="16560" cy="16200"/>
                </a:xfrm>
              </p:grpSpPr>
              <p:sp>
                <p:nvSpPr>
                  <p:cNvPr id="4419" name=""/>
                  <p:cNvSpPr/>
                  <p:nvPr/>
                </p:nvSpPr>
                <p:spPr>
                  <a:xfrm>
                    <a:off x="6230520" y="6224040"/>
                    <a:ext cx="36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0" name=""/>
                  <p:cNvSpPr/>
                  <p:nvPr/>
                </p:nvSpPr>
                <p:spPr>
                  <a:xfrm>
                    <a:off x="6232320" y="6226200"/>
                    <a:ext cx="129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6">
                        <a:moveTo>
                          <a:pt x="3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7" y="11"/>
                        </a:lnTo>
                        <a:lnTo>
                          <a:pt x="61" y="26"/>
                        </a:lnTo>
                        <a:lnTo>
                          <a:pt x="15" y="26"/>
                        </a:lnTo>
                        <a:lnTo>
                          <a:pt x="9" y="19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1" name=""/>
                  <p:cNvSpPr/>
                  <p:nvPr/>
                </p:nvSpPr>
                <p:spPr>
                  <a:xfrm>
                    <a:off x="6234120" y="6231960"/>
                    <a:ext cx="129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8"/>
                        </a:lnTo>
                        <a:lnTo>
                          <a:pt x="4" y="7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22" name=""/>
                <p:cNvGrpSpPr/>
                <p:nvPr/>
              </p:nvGrpSpPr>
              <p:grpSpPr>
                <a:xfrm>
                  <a:off x="6234480" y="6234840"/>
                  <a:ext cx="16560" cy="13320"/>
                  <a:chOff x="6234480" y="6234840"/>
                  <a:chExt cx="16560" cy="13320"/>
                </a:xfrm>
              </p:grpSpPr>
              <p:sp>
                <p:nvSpPr>
                  <p:cNvPr id="4423" name=""/>
                  <p:cNvSpPr/>
                  <p:nvPr/>
                </p:nvSpPr>
                <p:spPr>
                  <a:xfrm>
                    <a:off x="6234480" y="6234840"/>
                    <a:ext cx="36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7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4" name=""/>
                  <p:cNvSpPr/>
                  <p:nvPr/>
                </p:nvSpPr>
                <p:spPr>
                  <a:xfrm>
                    <a:off x="6236280" y="6234840"/>
                    <a:ext cx="129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2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9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5" name=""/>
                  <p:cNvSpPr/>
                  <p:nvPr/>
                </p:nvSpPr>
                <p:spPr>
                  <a:xfrm>
                    <a:off x="6238080" y="6240600"/>
                    <a:ext cx="129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7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26" name=""/>
                <p:cNvSpPr/>
                <p:nvPr/>
              </p:nvSpPr>
              <p:spPr>
                <a:xfrm>
                  <a:off x="6149160" y="6090480"/>
                  <a:ext cx="3600" cy="14400"/>
                </a:xfrm>
                <a:custGeom>
                  <a:avLst/>
                  <a:gdLst/>
                  <a:ahLst/>
                  <a:rect l="l" t="t" r="r" b="b"/>
                  <a:pathLst>
                    <a:path w="20" h="58">
                      <a:moveTo>
                        <a:pt x="11" y="58"/>
                      </a:moveTo>
                      <a:lnTo>
                        <a:pt x="0" y="23"/>
                      </a:lnTo>
                      <a:lnTo>
                        <a:pt x="8" y="0"/>
                      </a:lnTo>
                      <a:lnTo>
                        <a:pt x="20" y="26"/>
                      </a:lnTo>
                      <a:lnTo>
                        <a:pt x="11" y="58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7" name=""/>
                <p:cNvSpPr/>
                <p:nvPr/>
              </p:nvSpPr>
              <p:spPr>
                <a:xfrm>
                  <a:off x="6150960" y="6090480"/>
                  <a:ext cx="11520" cy="5760"/>
                </a:xfrm>
                <a:custGeom>
                  <a:avLst/>
                  <a:gdLst/>
                  <a:ahLst/>
                  <a:rect l="l" t="t" r="r" b="b"/>
                  <a:pathLst>
                    <a:path w="58" h="26">
                      <a:moveTo>
                        <a:pt x="1" y="0"/>
                      </a:moveTo>
                      <a:lnTo>
                        <a:pt x="40" y="0"/>
                      </a:lnTo>
                      <a:lnTo>
                        <a:pt x="41" y="3"/>
                      </a:lnTo>
                      <a:lnTo>
                        <a:pt x="46" y="11"/>
                      </a:lnTo>
                      <a:lnTo>
                        <a:pt x="58" y="26"/>
                      </a:lnTo>
                      <a:lnTo>
                        <a:pt x="15" y="26"/>
                      </a:lnTo>
                      <a:lnTo>
                        <a:pt x="7" y="19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8" name=""/>
                <p:cNvSpPr/>
                <p:nvPr/>
              </p:nvSpPr>
              <p:spPr>
                <a:xfrm>
                  <a:off x="6150960" y="609660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67" h="31">
                      <a:moveTo>
                        <a:pt x="0" y="31"/>
                      </a:moveTo>
                      <a:lnTo>
                        <a:pt x="2" y="18"/>
                      </a:lnTo>
                      <a:lnTo>
                        <a:pt x="5" y="7"/>
                      </a:lnTo>
                      <a:lnTo>
                        <a:pt x="10" y="0"/>
                      </a:lnTo>
                      <a:lnTo>
                        <a:pt x="54" y="0"/>
                      </a:lnTo>
                      <a:lnTo>
                        <a:pt x="67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29" name=""/>
                <p:cNvGrpSpPr/>
                <p:nvPr/>
              </p:nvGrpSpPr>
              <p:grpSpPr>
                <a:xfrm>
                  <a:off x="6152760" y="6099120"/>
                  <a:ext cx="16200" cy="13320"/>
                  <a:chOff x="6152760" y="6099120"/>
                  <a:chExt cx="16200" cy="13320"/>
                </a:xfrm>
              </p:grpSpPr>
              <p:sp>
                <p:nvSpPr>
                  <p:cNvPr id="4430" name=""/>
                  <p:cNvSpPr/>
                  <p:nvPr/>
                </p:nvSpPr>
                <p:spPr>
                  <a:xfrm>
                    <a:off x="6152760" y="6099120"/>
                    <a:ext cx="32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1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1" name=""/>
                  <p:cNvSpPr/>
                  <p:nvPr/>
                </p:nvSpPr>
                <p:spPr>
                  <a:xfrm>
                    <a:off x="6154200" y="6099120"/>
                    <a:ext cx="129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39" y="0"/>
                        </a:lnTo>
                        <a:lnTo>
                          <a:pt x="40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7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2" name=""/>
                  <p:cNvSpPr/>
                  <p:nvPr/>
                </p:nvSpPr>
                <p:spPr>
                  <a:xfrm>
                    <a:off x="6154200" y="6104880"/>
                    <a:ext cx="147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6" y="7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33" name=""/>
                <p:cNvGrpSpPr/>
                <p:nvPr/>
              </p:nvGrpSpPr>
              <p:grpSpPr>
                <a:xfrm>
                  <a:off x="6156360" y="6107040"/>
                  <a:ext cx="16560" cy="14040"/>
                  <a:chOff x="6156360" y="6107040"/>
                  <a:chExt cx="16560" cy="14040"/>
                </a:xfrm>
              </p:grpSpPr>
              <p:sp>
                <p:nvSpPr>
                  <p:cNvPr id="4434" name=""/>
                  <p:cNvSpPr/>
                  <p:nvPr/>
                </p:nvSpPr>
                <p:spPr>
                  <a:xfrm>
                    <a:off x="6156360" y="6107040"/>
                    <a:ext cx="57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5" name=""/>
                  <p:cNvSpPr/>
                  <p:nvPr/>
                </p:nvSpPr>
                <p:spPr>
                  <a:xfrm>
                    <a:off x="6158160" y="6107040"/>
                    <a:ext cx="129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0"/>
                        </a:lnTo>
                        <a:lnTo>
                          <a:pt x="59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6" name=""/>
                  <p:cNvSpPr/>
                  <p:nvPr/>
                </p:nvSpPr>
                <p:spPr>
                  <a:xfrm>
                    <a:off x="6159960" y="6112800"/>
                    <a:ext cx="129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37" name=""/>
                <p:cNvGrpSpPr/>
                <p:nvPr/>
              </p:nvGrpSpPr>
              <p:grpSpPr>
                <a:xfrm>
                  <a:off x="6162480" y="6115320"/>
                  <a:ext cx="16200" cy="14040"/>
                  <a:chOff x="6162480" y="6115320"/>
                  <a:chExt cx="16200" cy="14040"/>
                </a:xfrm>
              </p:grpSpPr>
              <p:sp>
                <p:nvSpPr>
                  <p:cNvPr id="4438" name=""/>
                  <p:cNvSpPr/>
                  <p:nvPr/>
                </p:nvSpPr>
                <p:spPr>
                  <a:xfrm>
                    <a:off x="6162480" y="6115320"/>
                    <a:ext cx="3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7" y="0"/>
                        </a:lnTo>
                        <a:lnTo>
                          <a:pt x="20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9" name=""/>
                  <p:cNvSpPr/>
                  <p:nvPr/>
                </p:nvSpPr>
                <p:spPr>
                  <a:xfrm>
                    <a:off x="6162480" y="6115320"/>
                    <a:ext cx="129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5">
                        <a:moveTo>
                          <a:pt x="2" y="0"/>
                        </a:moveTo>
                        <a:lnTo>
                          <a:pt x="41" y="0"/>
                        </a:lnTo>
                        <a:lnTo>
                          <a:pt x="43" y="2"/>
                        </a:lnTo>
                        <a:lnTo>
                          <a:pt x="46" y="10"/>
                        </a:lnTo>
                        <a:lnTo>
                          <a:pt x="61" y="25"/>
                        </a:lnTo>
                        <a:lnTo>
                          <a:pt x="15" y="25"/>
                        </a:lnTo>
                        <a:lnTo>
                          <a:pt x="9" y="18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0" name=""/>
                  <p:cNvSpPr/>
                  <p:nvPr/>
                </p:nvSpPr>
                <p:spPr>
                  <a:xfrm>
                    <a:off x="6163920" y="6121080"/>
                    <a:ext cx="147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41" name=""/>
                <p:cNvGrpSpPr/>
                <p:nvPr/>
              </p:nvGrpSpPr>
              <p:grpSpPr>
                <a:xfrm>
                  <a:off x="6166440" y="6123240"/>
                  <a:ext cx="16200" cy="14040"/>
                  <a:chOff x="6166440" y="6123240"/>
                  <a:chExt cx="16200" cy="14040"/>
                </a:xfrm>
              </p:grpSpPr>
              <p:sp>
                <p:nvSpPr>
                  <p:cNvPr id="4442" name=""/>
                  <p:cNvSpPr/>
                  <p:nvPr/>
                </p:nvSpPr>
                <p:spPr>
                  <a:xfrm>
                    <a:off x="6166440" y="6123240"/>
                    <a:ext cx="3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21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3" name=""/>
                  <p:cNvSpPr/>
                  <p:nvPr/>
                </p:nvSpPr>
                <p:spPr>
                  <a:xfrm>
                    <a:off x="6167880" y="6123240"/>
                    <a:ext cx="10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4" name=""/>
                  <p:cNvSpPr/>
                  <p:nvPr/>
                </p:nvSpPr>
                <p:spPr>
                  <a:xfrm>
                    <a:off x="6167880" y="6129360"/>
                    <a:ext cx="147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4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5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45" name=""/>
                <p:cNvGrpSpPr/>
                <p:nvPr/>
              </p:nvGrpSpPr>
              <p:grpSpPr>
                <a:xfrm>
                  <a:off x="6169680" y="6133680"/>
                  <a:ext cx="33480" cy="46800"/>
                  <a:chOff x="6169680" y="6133680"/>
                  <a:chExt cx="33480" cy="46800"/>
                </a:xfrm>
              </p:grpSpPr>
              <p:grpSp>
                <p:nvGrpSpPr>
                  <p:cNvPr id="4446" name=""/>
                  <p:cNvGrpSpPr/>
                  <p:nvPr/>
                </p:nvGrpSpPr>
                <p:grpSpPr>
                  <a:xfrm>
                    <a:off x="6169680" y="6133680"/>
                    <a:ext cx="16200" cy="14040"/>
                    <a:chOff x="6169680" y="6133680"/>
                    <a:chExt cx="16200" cy="14040"/>
                  </a:xfrm>
                </p:grpSpPr>
                <p:sp>
                  <p:nvSpPr>
                    <p:cNvPr id="4447" name=""/>
                    <p:cNvSpPr/>
                    <p:nvPr/>
                  </p:nvSpPr>
                  <p:spPr>
                    <a:xfrm>
                      <a:off x="6169680" y="6133680"/>
                      <a:ext cx="36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61">
                          <a:moveTo>
                            <a:pt x="12" y="61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1" y="27"/>
                          </a:lnTo>
                          <a:lnTo>
                            <a:pt x="12" y="61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8" name=""/>
                    <p:cNvSpPr/>
                    <p:nvPr/>
                  </p:nvSpPr>
                  <p:spPr>
                    <a:xfrm>
                      <a:off x="6171480" y="6133680"/>
                      <a:ext cx="129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3" y="3"/>
                          </a:lnTo>
                          <a:lnTo>
                            <a:pt x="46" y="10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7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9" name=""/>
                    <p:cNvSpPr/>
                    <p:nvPr/>
                  </p:nvSpPr>
                  <p:spPr>
                    <a:xfrm>
                      <a:off x="6171480" y="6139800"/>
                      <a:ext cx="1440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3">
                          <a:moveTo>
                            <a:pt x="0" y="33"/>
                          </a:moveTo>
                          <a:lnTo>
                            <a:pt x="1" y="18"/>
                          </a:lnTo>
                          <a:lnTo>
                            <a:pt x="7" y="6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6" y="3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50" name=""/>
                  <p:cNvGrpSpPr/>
                  <p:nvPr/>
                </p:nvGrpSpPr>
                <p:grpSpPr>
                  <a:xfrm>
                    <a:off x="6173280" y="6141960"/>
                    <a:ext cx="16560" cy="14040"/>
                    <a:chOff x="6173280" y="6141960"/>
                    <a:chExt cx="16560" cy="14040"/>
                  </a:xfrm>
                </p:grpSpPr>
                <p:sp>
                  <p:nvSpPr>
                    <p:cNvPr id="4451" name=""/>
                    <p:cNvSpPr/>
                    <p:nvPr/>
                  </p:nvSpPr>
                  <p:spPr>
                    <a:xfrm>
                      <a:off x="6173280" y="6141960"/>
                      <a:ext cx="54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0" y="59"/>
                          </a:moveTo>
                          <a:lnTo>
                            <a:pt x="0" y="24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0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2" name=""/>
                    <p:cNvSpPr/>
                    <p:nvPr/>
                  </p:nvSpPr>
                  <p:spPr>
                    <a:xfrm>
                      <a:off x="6175080" y="6141960"/>
                      <a:ext cx="1260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8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2"/>
                          </a:lnTo>
                          <a:lnTo>
                            <a:pt x="60" y="28"/>
                          </a:lnTo>
                          <a:lnTo>
                            <a:pt x="15" y="28"/>
                          </a:lnTo>
                          <a:lnTo>
                            <a:pt x="8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3" name=""/>
                    <p:cNvSpPr/>
                    <p:nvPr/>
                  </p:nvSpPr>
                  <p:spPr>
                    <a:xfrm>
                      <a:off x="6176880" y="6147720"/>
                      <a:ext cx="1296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30">
                          <a:moveTo>
                            <a:pt x="0" y="30"/>
                          </a:moveTo>
                          <a:lnTo>
                            <a:pt x="1" y="17"/>
                          </a:lnTo>
                          <a:lnTo>
                            <a:pt x="6" y="6"/>
                          </a:lnTo>
                          <a:lnTo>
                            <a:pt x="11" y="0"/>
                          </a:lnTo>
                          <a:lnTo>
                            <a:pt x="56" y="0"/>
                          </a:lnTo>
                          <a:lnTo>
                            <a:pt x="68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54" name=""/>
                  <p:cNvGrpSpPr/>
                  <p:nvPr/>
                </p:nvGrpSpPr>
                <p:grpSpPr>
                  <a:xfrm>
                    <a:off x="6177240" y="6150240"/>
                    <a:ext cx="16560" cy="14040"/>
                    <a:chOff x="6177240" y="6150240"/>
                    <a:chExt cx="16560" cy="14040"/>
                  </a:xfrm>
                </p:grpSpPr>
                <p:sp>
                  <p:nvSpPr>
                    <p:cNvPr id="4455" name=""/>
                    <p:cNvSpPr/>
                    <p:nvPr/>
                  </p:nvSpPr>
                  <p:spPr>
                    <a:xfrm>
                      <a:off x="6177240" y="6150240"/>
                      <a:ext cx="54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6" name=""/>
                    <p:cNvSpPr/>
                    <p:nvPr/>
                  </p:nvSpPr>
                  <p:spPr>
                    <a:xfrm>
                      <a:off x="6178680" y="6150240"/>
                      <a:ext cx="129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3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8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7" name=""/>
                    <p:cNvSpPr/>
                    <p:nvPr/>
                  </p:nvSpPr>
                  <p:spPr>
                    <a:xfrm>
                      <a:off x="6180840" y="6156000"/>
                      <a:ext cx="1296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5" y="6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58" name=""/>
                  <p:cNvGrpSpPr/>
                  <p:nvPr/>
                </p:nvGrpSpPr>
                <p:grpSpPr>
                  <a:xfrm>
                    <a:off x="6182640" y="6158160"/>
                    <a:ext cx="16200" cy="14040"/>
                    <a:chOff x="6182640" y="6158160"/>
                    <a:chExt cx="16200" cy="14040"/>
                  </a:xfrm>
                </p:grpSpPr>
                <p:sp>
                  <p:nvSpPr>
                    <p:cNvPr id="4459" name=""/>
                    <p:cNvSpPr/>
                    <p:nvPr/>
                  </p:nvSpPr>
                  <p:spPr>
                    <a:xfrm>
                      <a:off x="6182640" y="6158160"/>
                      <a:ext cx="36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0" name=""/>
                    <p:cNvSpPr/>
                    <p:nvPr/>
                  </p:nvSpPr>
                  <p:spPr>
                    <a:xfrm>
                      <a:off x="6184440" y="615816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58" y="25"/>
                          </a:lnTo>
                          <a:lnTo>
                            <a:pt x="15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1" name=""/>
                    <p:cNvSpPr/>
                    <p:nvPr/>
                  </p:nvSpPr>
                  <p:spPr>
                    <a:xfrm>
                      <a:off x="6184440" y="6164280"/>
                      <a:ext cx="1440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4" y="7"/>
                          </a:lnTo>
                          <a:lnTo>
                            <a:pt x="9" y="0"/>
                          </a:lnTo>
                          <a:lnTo>
                            <a:pt x="53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62" name=""/>
                  <p:cNvGrpSpPr/>
                  <p:nvPr/>
                </p:nvGrpSpPr>
                <p:grpSpPr>
                  <a:xfrm>
                    <a:off x="6186600" y="6166440"/>
                    <a:ext cx="16560" cy="14040"/>
                    <a:chOff x="6186600" y="6166440"/>
                    <a:chExt cx="16560" cy="14040"/>
                  </a:xfrm>
                </p:grpSpPr>
                <p:sp>
                  <p:nvSpPr>
                    <p:cNvPr id="4463" name=""/>
                    <p:cNvSpPr/>
                    <p:nvPr/>
                  </p:nvSpPr>
                  <p:spPr>
                    <a:xfrm>
                      <a:off x="6186600" y="6166440"/>
                      <a:ext cx="36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10" y="0"/>
                          </a:lnTo>
                          <a:lnTo>
                            <a:pt x="21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4" name=""/>
                    <p:cNvSpPr/>
                    <p:nvPr/>
                  </p:nvSpPr>
                  <p:spPr>
                    <a:xfrm>
                      <a:off x="6188040" y="6166440"/>
                      <a:ext cx="129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2" y="0"/>
                          </a:moveTo>
                          <a:lnTo>
                            <a:pt x="39" y="0"/>
                          </a:lnTo>
                          <a:lnTo>
                            <a:pt x="41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5" name=""/>
                    <p:cNvSpPr/>
                    <p:nvPr/>
                  </p:nvSpPr>
                  <p:spPr>
                    <a:xfrm>
                      <a:off x="6190200" y="6172200"/>
                      <a:ext cx="1296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466" name=""/>
                <p:cNvGrpSpPr/>
                <p:nvPr/>
              </p:nvGrpSpPr>
              <p:grpSpPr>
                <a:xfrm>
                  <a:off x="6190920" y="6176880"/>
                  <a:ext cx="33120" cy="46080"/>
                  <a:chOff x="6190920" y="6176880"/>
                  <a:chExt cx="33120" cy="46080"/>
                </a:xfrm>
              </p:grpSpPr>
              <p:grpSp>
                <p:nvGrpSpPr>
                  <p:cNvPr id="4467" name=""/>
                  <p:cNvGrpSpPr/>
                  <p:nvPr/>
                </p:nvGrpSpPr>
                <p:grpSpPr>
                  <a:xfrm>
                    <a:off x="6190920" y="6176880"/>
                    <a:ext cx="16560" cy="14040"/>
                    <a:chOff x="6190920" y="6176880"/>
                    <a:chExt cx="16560" cy="14040"/>
                  </a:xfrm>
                </p:grpSpPr>
                <p:sp>
                  <p:nvSpPr>
                    <p:cNvPr id="4468" name=""/>
                    <p:cNvSpPr/>
                    <p:nvPr/>
                  </p:nvSpPr>
                  <p:spPr>
                    <a:xfrm>
                      <a:off x="6190920" y="6176880"/>
                      <a:ext cx="54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9" name=""/>
                    <p:cNvSpPr/>
                    <p:nvPr/>
                  </p:nvSpPr>
                  <p:spPr>
                    <a:xfrm>
                      <a:off x="6192360" y="6176880"/>
                      <a:ext cx="129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7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4"/>
                          </a:lnTo>
                          <a:lnTo>
                            <a:pt x="46" y="11"/>
                          </a:lnTo>
                          <a:lnTo>
                            <a:pt x="60" y="27"/>
                          </a:lnTo>
                          <a:lnTo>
                            <a:pt x="15" y="27"/>
                          </a:lnTo>
                          <a:lnTo>
                            <a:pt x="9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0" name=""/>
                    <p:cNvSpPr/>
                    <p:nvPr/>
                  </p:nvSpPr>
                  <p:spPr>
                    <a:xfrm>
                      <a:off x="6194520" y="6182640"/>
                      <a:ext cx="1296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0">
                          <a:moveTo>
                            <a:pt x="0" y="30"/>
                          </a:moveTo>
                          <a:lnTo>
                            <a:pt x="2" y="16"/>
                          </a:lnTo>
                          <a:lnTo>
                            <a:pt x="5" y="5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7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71" name=""/>
                  <p:cNvGrpSpPr/>
                  <p:nvPr/>
                </p:nvGrpSpPr>
                <p:grpSpPr>
                  <a:xfrm>
                    <a:off x="6194520" y="6182640"/>
                    <a:ext cx="16200" cy="16200"/>
                    <a:chOff x="6194520" y="6182640"/>
                    <a:chExt cx="16200" cy="16200"/>
                  </a:xfrm>
                </p:grpSpPr>
                <p:sp>
                  <p:nvSpPr>
                    <p:cNvPr id="4472" name=""/>
                    <p:cNvSpPr/>
                    <p:nvPr/>
                  </p:nvSpPr>
                  <p:spPr>
                    <a:xfrm>
                      <a:off x="6194520" y="6182640"/>
                      <a:ext cx="540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3" name=""/>
                    <p:cNvSpPr/>
                    <p:nvPr/>
                  </p:nvSpPr>
                  <p:spPr>
                    <a:xfrm>
                      <a:off x="6195960" y="6184800"/>
                      <a:ext cx="129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6" y="11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9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4" name=""/>
                    <p:cNvSpPr/>
                    <p:nvPr/>
                  </p:nvSpPr>
                  <p:spPr>
                    <a:xfrm>
                      <a:off x="6197760" y="6190560"/>
                      <a:ext cx="129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2">
                          <a:moveTo>
                            <a:pt x="0" y="32"/>
                          </a:moveTo>
                          <a:lnTo>
                            <a:pt x="2" y="18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6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75" name=""/>
                  <p:cNvGrpSpPr/>
                  <p:nvPr/>
                </p:nvGrpSpPr>
                <p:grpSpPr>
                  <a:xfrm>
                    <a:off x="6200280" y="6191280"/>
                    <a:ext cx="16560" cy="15840"/>
                    <a:chOff x="6200280" y="6191280"/>
                    <a:chExt cx="16560" cy="15840"/>
                  </a:xfrm>
                </p:grpSpPr>
                <p:sp>
                  <p:nvSpPr>
                    <p:cNvPr id="4476" name=""/>
                    <p:cNvSpPr/>
                    <p:nvPr/>
                  </p:nvSpPr>
                  <p:spPr>
                    <a:xfrm>
                      <a:off x="6200280" y="6191280"/>
                      <a:ext cx="360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1" y="59"/>
                          </a:moveTo>
                          <a:lnTo>
                            <a:pt x="0" y="24"/>
                          </a:lnTo>
                          <a:lnTo>
                            <a:pt x="8" y="0"/>
                          </a:lnTo>
                          <a:lnTo>
                            <a:pt x="20" y="27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7" name=""/>
                    <p:cNvSpPr/>
                    <p:nvPr/>
                  </p:nvSpPr>
                  <p:spPr>
                    <a:xfrm>
                      <a:off x="6201720" y="619308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60" y="26"/>
                          </a:lnTo>
                          <a:lnTo>
                            <a:pt x="14" y="26"/>
                          </a:lnTo>
                          <a:lnTo>
                            <a:pt x="7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8" name=""/>
                    <p:cNvSpPr/>
                    <p:nvPr/>
                  </p:nvSpPr>
                  <p:spPr>
                    <a:xfrm>
                      <a:off x="6201720" y="6199560"/>
                      <a:ext cx="151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2" y="17"/>
                          </a:lnTo>
                          <a:lnTo>
                            <a:pt x="6" y="7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79" name=""/>
                  <p:cNvGrpSpPr/>
                  <p:nvPr/>
                </p:nvGrpSpPr>
                <p:grpSpPr>
                  <a:xfrm>
                    <a:off x="6203880" y="6201360"/>
                    <a:ext cx="16200" cy="14040"/>
                    <a:chOff x="6203880" y="6201360"/>
                    <a:chExt cx="16200" cy="14040"/>
                  </a:xfrm>
                </p:grpSpPr>
                <p:sp>
                  <p:nvSpPr>
                    <p:cNvPr id="4480" name=""/>
                    <p:cNvSpPr/>
                    <p:nvPr/>
                  </p:nvSpPr>
                  <p:spPr>
                    <a:xfrm>
                      <a:off x="6203880" y="6201360"/>
                      <a:ext cx="36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8">
                          <a:moveTo>
                            <a:pt x="12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1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1" name=""/>
                    <p:cNvSpPr/>
                    <p:nvPr/>
                  </p:nvSpPr>
                  <p:spPr>
                    <a:xfrm>
                      <a:off x="6205320" y="6201360"/>
                      <a:ext cx="129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2" name=""/>
                    <p:cNvSpPr/>
                    <p:nvPr/>
                  </p:nvSpPr>
                  <p:spPr>
                    <a:xfrm>
                      <a:off x="6205320" y="6207120"/>
                      <a:ext cx="1476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5" y="7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83" name=""/>
                  <p:cNvGrpSpPr/>
                  <p:nvPr/>
                </p:nvGrpSpPr>
                <p:grpSpPr>
                  <a:xfrm>
                    <a:off x="6207840" y="6209640"/>
                    <a:ext cx="16200" cy="13320"/>
                    <a:chOff x="6207840" y="6209640"/>
                    <a:chExt cx="16200" cy="13320"/>
                  </a:xfrm>
                </p:grpSpPr>
                <p:sp>
                  <p:nvSpPr>
                    <p:cNvPr id="4484" name=""/>
                    <p:cNvSpPr/>
                    <p:nvPr/>
                  </p:nvSpPr>
                  <p:spPr>
                    <a:xfrm>
                      <a:off x="6207840" y="6209640"/>
                      <a:ext cx="540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8">
                          <a:moveTo>
                            <a:pt x="11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9" y="26"/>
                          </a:lnTo>
                          <a:lnTo>
                            <a:pt x="11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5" name=""/>
                    <p:cNvSpPr/>
                    <p:nvPr/>
                  </p:nvSpPr>
                  <p:spPr>
                    <a:xfrm>
                      <a:off x="6209280" y="6209640"/>
                      <a:ext cx="129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8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6" name=""/>
                    <p:cNvSpPr/>
                    <p:nvPr/>
                  </p:nvSpPr>
                  <p:spPr>
                    <a:xfrm>
                      <a:off x="6211080" y="6215400"/>
                      <a:ext cx="129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5" y="7"/>
                          </a:lnTo>
                          <a:lnTo>
                            <a:pt x="9" y="0"/>
                          </a:lnTo>
                          <a:lnTo>
                            <a:pt x="56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487" name=""/>
                <p:cNvGrpSpPr/>
                <p:nvPr/>
              </p:nvGrpSpPr>
              <p:grpSpPr>
                <a:xfrm>
                  <a:off x="6211440" y="6216120"/>
                  <a:ext cx="16560" cy="15840"/>
                  <a:chOff x="6211440" y="6216120"/>
                  <a:chExt cx="16560" cy="15840"/>
                </a:xfrm>
              </p:grpSpPr>
              <p:sp>
                <p:nvSpPr>
                  <p:cNvPr id="4488" name=""/>
                  <p:cNvSpPr/>
                  <p:nvPr/>
                </p:nvSpPr>
                <p:spPr>
                  <a:xfrm>
                    <a:off x="6211440" y="6216120"/>
                    <a:ext cx="3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2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8"/>
                        </a:lnTo>
                        <a:lnTo>
                          <a:pt x="12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9" name=""/>
                  <p:cNvSpPr/>
                  <p:nvPr/>
                </p:nvSpPr>
                <p:spPr>
                  <a:xfrm>
                    <a:off x="6213240" y="6217920"/>
                    <a:ext cx="129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7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1"/>
                        </a:lnTo>
                        <a:lnTo>
                          <a:pt x="60" y="27"/>
                        </a:lnTo>
                        <a:lnTo>
                          <a:pt x="15" y="27"/>
                        </a:lnTo>
                        <a:lnTo>
                          <a:pt x="8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0" name=""/>
                  <p:cNvSpPr/>
                  <p:nvPr/>
                </p:nvSpPr>
                <p:spPr>
                  <a:xfrm>
                    <a:off x="6215040" y="6223680"/>
                    <a:ext cx="129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5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1" name=""/>
                <p:cNvGrpSpPr/>
                <p:nvPr/>
              </p:nvGrpSpPr>
              <p:grpSpPr>
                <a:xfrm>
                  <a:off x="6217560" y="6224040"/>
                  <a:ext cx="14400" cy="16200"/>
                  <a:chOff x="6217560" y="6224040"/>
                  <a:chExt cx="14400" cy="16200"/>
                </a:xfrm>
              </p:grpSpPr>
              <p:sp>
                <p:nvSpPr>
                  <p:cNvPr id="4492" name=""/>
                  <p:cNvSpPr/>
                  <p:nvPr/>
                </p:nvSpPr>
                <p:spPr>
                  <a:xfrm>
                    <a:off x="6217560" y="6224040"/>
                    <a:ext cx="32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9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3" name=""/>
                  <p:cNvSpPr/>
                  <p:nvPr/>
                </p:nvSpPr>
                <p:spPr>
                  <a:xfrm>
                    <a:off x="6217560" y="622620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6">
                        <a:moveTo>
                          <a:pt x="4" y="0"/>
                        </a:moveTo>
                        <a:lnTo>
                          <a:pt x="42" y="0"/>
                        </a:lnTo>
                        <a:lnTo>
                          <a:pt x="43" y="3"/>
                        </a:lnTo>
                        <a:lnTo>
                          <a:pt x="48" y="11"/>
                        </a:lnTo>
                        <a:lnTo>
                          <a:pt x="61" y="26"/>
                        </a:lnTo>
                        <a:lnTo>
                          <a:pt x="15" y="26"/>
                        </a:lnTo>
                        <a:lnTo>
                          <a:pt x="10" y="19"/>
                        </a:lnTo>
                        <a:lnTo>
                          <a:pt x="0" y="5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4" name=""/>
                  <p:cNvSpPr/>
                  <p:nvPr/>
                </p:nvSpPr>
                <p:spPr>
                  <a:xfrm>
                    <a:off x="6219000" y="6231960"/>
                    <a:ext cx="129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1">
                        <a:moveTo>
                          <a:pt x="0" y="31"/>
                        </a:moveTo>
                        <a:lnTo>
                          <a:pt x="1" y="18"/>
                        </a:lnTo>
                        <a:lnTo>
                          <a:pt x="5" y="7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5" name=""/>
                <p:cNvGrpSpPr/>
                <p:nvPr/>
              </p:nvGrpSpPr>
              <p:grpSpPr>
                <a:xfrm>
                  <a:off x="6143400" y="6107040"/>
                  <a:ext cx="16200" cy="14040"/>
                  <a:chOff x="6143400" y="6107040"/>
                  <a:chExt cx="16200" cy="14040"/>
                </a:xfrm>
              </p:grpSpPr>
              <p:sp>
                <p:nvSpPr>
                  <p:cNvPr id="4496" name=""/>
                  <p:cNvSpPr/>
                  <p:nvPr/>
                </p:nvSpPr>
                <p:spPr>
                  <a:xfrm>
                    <a:off x="6143400" y="6107040"/>
                    <a:ext cx="3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7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7" name=""/>
                  <p:cNvSpPr/>
                  <p:nvPr/>
                </p:nvSpPr>
                <p:spPr>
                  <a:xfrm>
                    <a:off x="6144840" y="6107040"/>
                    <a:ext cx="108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5" y="10"/>
                        </a:lnTo>
                        <a:lnTo>
                          <a:pt x="59" y="26"/>
                        </a:lnTo>
                        <a:lnTo>
                          <a:pt x="14" y="26"/>
                        </a:lnTo>
                        <a:lnTo>
                          <a:pt x="7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8" name=""/>
                  <p:cNvSpPr/>
                  <p:nvPr/>
                </p:nvSpPr>
                <p:spPr>
                  <a:xfrm>
                    <a:off x="6144840" y="6112800"/>
                    <a:ext cx="147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6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8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9" name=""/>
                <p:cNvGrpSpPr/>
                <p:nvPr/>
              </p:nvGrpSpPr>
              <p:grpSpPr>
                <a:xfrm>
                  <a:off x="6147000" y="6115320"/>
                  <a:ext cx="16560" cy="14040"/>
                  <a:chOff x="6147000" y="6115320"/>
                  <a:chExt cx="16560" cy="14040"/>
                </a:xfrm>
              </p:grpSpPr>
              <p:sp>
                <p:nvSpPr>
                  <p:cNvPr id="4500" name=""/>
                  <p:cNvSpPr/>
                  <p:nvPr/>
                </p:nvSpPr>
                <p:spPr>
                  <a:xfrm>
                    <a:off x="6147000" y="6115320"/>
                    <a:ext cx="3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7" y="0"/>
                        </a:lnTo>
                        <a:lnTo>
                          <a:pt x="20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1" name=""/>
                  <p:cNvSpPr/>
                  <p:nvPr/>
                </p:nvSpPr>
                <p:spPr>
                  <a:xfrm>
                    <a:off x="6148800" y="6115320"/>
                    <a:ext cx="129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5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2" y="2"/>
                        </a:lnTo>
                        <a:lnTo>
                          <a:pt x="46" y="10"/>
                        </a:lnTo>
                        <a:lnTo>
                          <a:pt x="61" y="25"/>
                        </a:lnTo>
                        <a:lnTo>
                          <a:pt x="15" y="25"/>
                        </a:lnTo>
                        <a:lnTo>
                          <a:pt x="9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2" name=""/>
                  <p:cNvSpPr/>
                  <p:nvPr/>
                </p:nvSpPr>
                <p:spPr>
                  <a:xfrm>
                    <a:off x="6150600" y="6121080"/>
                    <a:ext cx="129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4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03" name=""/>
                <p:cNvGrpSpPr/>
                <p:nvPr/>
              </p:nvGrpSpPr>
              <p:grpSpPr>
                <a:xfrm>
                  <a:off x="6150960" y="6123240"/>
                  <a:ext cx="16560" cy="14040"/>
                  <a:chOff x="6150960" y="6123240"/>
                  <a:chExt cx="16560" cy="14040"/>
                </a:xfrm>
              </p:grpSpPr>
              <p:sp>
                <p:nvSpPr>
                  <p:cNvPr id="4504" name=""/>
                  <p:cNvSpPr/>
                  <p:nvPr/>
                </p:nvSpPr>
                <p:spPr>
                  <a:xfrm>
                    <a:off x="6150960" y="6123240"/>
                    <a:ext cx="54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19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5" name=""/>
                  <p:cNvSpPr/>
                  <p:nvPr/>
                </p:nvSpPr>
                <p:spPr>
                  <a:xfrm>
                    <a:off x="6152760" y="6123240"/>
                    <a:ext cx="129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4" y="10"/>
                        </a:lnTo>
                        <a:lnTo>
                          <a:pt x="59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6" name=""/>
                  <p:cNvSpPr/>
                  <p:nvPr/>
                </p:nvSpPr>
                <p:spPr>
                  <a:xfrm>
                    <a:off x="6154560" y="6129360"/>
                    <a:ext cx="129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07" name=""/>
                <p:cNvGrpSpPr/>
                <p:nvPr/>
              </p:nvGrpSpPr>
              <p:grpSpPr>
                <a:xfrm>
                  <a:off x="6156360" y="6133680"/>
                  <a:ext cx="31320" cy="46800"/>
                  <a:chOff x="6156360" y="6133680"/>
                  <a:chExt cx="31320" cy="46800"/>
                </a:xfrm>
              </p:grpSpPr>
              <p:grpSp>
                <p:nvGrpSpPr>
                  <p:cNvPr id="4508" name=""/>
                  <p:cNvGrpSpPr/>
                  <p:nvPr/>
                </p:nvGrpSpPr>
                <p:grpSpPr>
                  <a:xfrm>
                    <a:off x="6156360" y="6133680"/>
                    <a:ext cx="14760" cy="14040"/>
                    <a:chOff x="6156360" y="6133680"/>
                    <a:chExt cx="14760" cy="14040"/>
                  </a:xfrm>
                </p:grpSpPr>
                <p:sp>
                  <p:nvSpPr>
                    <p:cNvPr id="4509" name=""/>
                    <p:cNvSpPr/>
                    <p:nvPr/>
                  </p:nvSpPr>
                  <p:spPr>
                    <a:xfrm>
                      <a:off x="6156360" y="6133680"/>
                      <a:ext cx="36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61">
                          <a:moveTo>
                            <a:pt x="12" y="61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1" y="27"/>
                          </a:lnTo>
                          <a:lnTo>
                            <a:pt x="12" y="61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0" name=""/>
                    <p:cNvSpPr/>
                    <p:nvPr/>
                  </p:nvSpPr>
                  <p:spPr>
                    <a:xfrm>
                      <a:off x="6156360" y="6133680"/>
                      <a:ext cx="129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3"/>
                          </a:lnTo>
                          <a:lnTo>
                            <a:pt x="46" y="10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7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1" name=""/>
                    <p:cNvSpPr/>
                    <p:nvPr/>
                  </p:nvSpPr>
                  <p:spPr>
                    <a:xfrm>
                      <a:off x="6158160" y="6139800"/>
                      <a:ext cx="129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3">
                          <a:moveTo>
                            <a:pt x="0" y="33"/>
                          </a:moveTo>
                          <a:lnTo>
                            <a:pt x="1" y="18"/>
                          </a:lnTo>
                          <a:lnTo>
                            <a:pt x="5" y="6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6" y="3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12" name=""/>
                  <p:cNvGrpSpPr/>
                  <p:nvPr/>
                </p:nvGrpSpPr>
                <p:grpSpPr>
                  <a:xfrm>
                    <a:off x="6159960" y="6141960"/>
                    <a:ext cx="14760" cy="14040"/>
                    <a:chOff x="6159960" y="6141960"/>
                    <a:chExt cx="14760" cy="14040"/>
                  </a:xfrm>
                </p:grpSpPr>
                <p:sp>
                  <p:nvSpPr>
                    <p:cNvPr id="4513" name=""/>
                    <p:cNvSpPr/>
                    <p:nvPr/>
                  </p:nvSpPr>
                  <p:spPr>
                    <a:xfrm>
                      <a:off x="6159960" y="6141960"/>
                      <a:ext cx="36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1" y="59"/>
                          </a:moveTo>
                          <a:lnTo>
                            <a:pt x="0" y="24"/>
                          </a:lnTo>
                          <a:lnTo>
                            <a:pt x="8" y="0"/>
                          </a:lnTo>
                          <a:lnTo>
                            <a:pt x="20" y="28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4" name=""/>
                    <p:cNvSpPr/>
                    <p:nvPr/>
                  </p:nvSpPr>
                  <p:spPr>
                    <a:xfrm>
                      <a:off x="6161760" y="6141960"/>
                      <a:ext cx="1080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8">
                          <a:moveTo>
                            <a:pt x="2" y="0"/>
                          </a:moveTo>
                          <a:lnTo>
                            <a:pt x="42" y="0"/>
                          </a:lnTo>
                          <a:lnTo>
                            <a:pt x="43" y="2"/>
                          </a:lnTo>
                          <a:lnTo>
                            <a:pt x="46" y="12"/>
                          </a:lnTo>
                          <a:lnTo>
                            <a:pt x="61" y="28"/>
                          </a:lnTo>
                          <a:lnTo>
                            <a:pt x="15" y="28"/>
                          </a:lnTo>
                          <a:lnTo>
                            <a:pt x="7" y="19"/>
                          </a:lnTo>
                          <a:lnTo>
                            <a:pt x="0" y="6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5" name=""/>
                    <p:cNvSpPr/>
                    <p:nvPr/>
                  </p:nvSpPr>
                  <p:spPr>
                    <a:xfrm>
                      <a:off x="6161760" y="6147720"/>
                      <a:ext cx="1296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7"/>
                          </a:lnTo>
                          <a:lnTo>
                            <a:pt x="6" y="6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16" name=""/>
                  <p:cNvGrpSpPr/>
                  <p:nvPr/>
                </p:nvGrpSpPr>
                <p:grpSpPr>
                  <a:xfrm>
                    <a:off x="6163920" y="6150240"/>
                    <a:ext cx="16560" cy="14040"/>
                    <a:chOff x="6163920" y="6150240"/>
                    <a:chExt cx="16560" cy="14040"/>
                  </a:xfrm>
                </p:grpSpPr>
                <p:sp>
                  <p:nvSpPr>
                    <p:cNvPr id="4517" name=""/>
                    <p:cNvSpPr/>
                    <p:nvPr/>
                  </p:nvSpPr>
                  <p:spPr>
                    <a:xfrm>
                      <a:off x="6163920" y="6150240"/>
                      <a:ext cx="36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8" name=""/>
                    <p:cNvSpPr/>
                    <p:nvPr/>
                  </p:nvSpPr>
                  <p:spPr>
                    <a:xfrm>
                      <a:off x="6165720" y="6150240"/>
                      <a:ext cx="1260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8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9" name=""/>
                    <p:cNvSpPr/>
                    <p:nvPr/>
                  </p:nvSpPr>
                  <p:spPr>
                    <a:xfrm>
                      <a:off x="6167520" y="6156000"/>
                      <a:ext cx="1296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4" y="6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20" name=""/>
                  <p:cNvGrpSpPr/>
                  <p:nvPr/>
                </p:nvGrpSpPr>
                <p:grpSpPr>
                  <a:xfrm>
                    <a:off x="6167520" y="6158160"/>
                    <a:ext cx="16560" cy="14040"/>
                    <a:chOff x="6167520" y="6158160"/>
                    <a:chExt cx="16560" cy="14040"/>
                  </a:xfrm>
                </p:grpSpPr>
                <p:sp>
                  <p:nvSpPr>
                    <p:cNvPr id="4521" name=""/>
                    <p:cNvSpPr/>
                    <p:nvPr/>
                  </p:nvSpPr>
                  <p:spPr>
                    <a:xfrm>
                      <a:off x="6167520" y="6158160"/>
                      <a:ext cx="36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10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2" name=""/>
                    <p:cNvSpPr/>
                    <p:nvPr/>
                  </p:nvSpPr>
                  <p:spPr>
                    <a:xfrm>
                      <a:off x="6168960" y="6158160"/>
                      <a:ext cx="129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1" y="2"/>
                          </a:lnTo>
                          <a:lnTo>
                            <a:pt x="44" y="10"/>
                          </a:lnTo>
                          <a:lnTo>
                            <a:pt x="58" y="25"/>
                          </a:lnTo>
                          <a:lnTo>
                            <a:pt x="13" y="25"/>
                          </a:lnTo>
                          <a:lnTo>
                            <a:pt x="6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3" name=""/>
                    <p:cNvSpPr/>
                    <p:nvPr/>
                  </p:nvSpPr>
                  <p:spPr>
                    <a:xfrm>
                      <a:off x="6171120" y="6164280"/>
                      <a:ext cx="129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5" y="7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24" name=""/>
                  <p:cNvGrpSpPr/>
                  <p:nvPr/>
                </p:nvGrpSpPr>
                <p:grpSpPr>
                  <a:xfrm>
                    <a:off x="6173280" y="6166440"/>
                    <a:ext cx="14400" cy="14040"/>
                    <a:chOff x="6173280" y="6166440"/>
                    <a:chExt cx="14400" cy="14040"/>
                  </a:xfrm>
                </p:grpSpPr>
                <p:sp>
                  <p:nvSpPr>
                    <p:cNvPr id="4525" name=""/>
                    <p:cNvSpPr/>
                    <p:nvPr/>
                  </p:nvSpPr>
                  <p:spPr>
                    <a:xfrm>
                      <a:off x="6173280" y="6166440"/>
                      <a:ext cx="36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1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6" name=""/>
                    <p:cNvSpPr/>
                    <p:nvPr/>
                  </p:nvSpPr>
                  <p:spPr>
                    <a:xfrm>
                      <a:off x="6175080" y="6166440"/>
                      <a:ext cx="1080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0" y="2"/>
                          </a:lnTo>
                          <a:lnTo>
                            <a:pt x="46" y="10"/>
                          </a:lnTo>
                          <a:lnTo>
                            <a:pt x="59" y="25"/>
                          </a:lnTo>
                          <a:lnTo>
                            <a:pt x="15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7" name=""/>
                    <p:cNvSpPr/>
                    <p:nvPr/>
                  </p:nvSpPr>
                  <p:spPr>
                    <a:xfrm>
                      <a:off x="6175080" y="6172200"/>
                      <a:ext cx="126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4" y="7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528" name=""/>
                <p:cNvGrpSpPr/>
                <p:nvPr/>
              </p:nvGrpSpPr>
              <p:grpSpPr>
                <a:xfrm>
                  <a:off x="6177600" y="6176880"/>
                  <a:ext cx="33120" cy="46080"/>
                  <a:chOff x="6177600" y="6176880"/>
                  <a:chExt cx="33120" cy="46080"/>
                </a:xfrm>
              </p:grpSpPr>
              <p:grpSp>
                <p:nvGrpSpPr>
                  <p:cNvPr id="4529" name=""/>
                  <p:cNvGrpSpPr/>
                  <p:nvPr/>
                </p:nvGrpSpPr>
                <p:grpSpPr>
                  <a:xfrm>
                    <a:off x="6177600" y="6176880"/>
                    <a:ext cx="16560" cy="14040"/>
                    <a:chOff x="6177600" y="6176880"/>
                    <a:chExt cx="16560" cy="14040"/>
                  </a:xfrm>
                </p:grpSpPr>
                <p:sp>
                  <p:nvSpPr>
                    <p:cNvPr id="4530" name=""/>
                    <p:cNvSpPr/>
                    <p:nvPr/>
                  </p:nvSpPr>
                  <p:spPr>
                    <a:xfrm>
                      <a:off x="6177600" y="6176880"/>
                      <a:ext cx="36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9">
                          <a:moveTo>
                            <a:pt x="13" y="59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1" y="28"/>
                          </a:lnTo>
                          <a:lnTo>
                            <a:pt x="13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1" name=""/>
                    <p:cNvSpPr/>
                    <p:nvPr/>
                  </p:nvSpPr>
                  <p:spPr>
                    <a:xfrm>
                      <a:off x="6179040" y="6176880"/>
                      <a:ext cx="111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7">
                          <a:moveTo>
                            <a:pt x="2" y="0"/>
                          </a:moveTo>
                          <a:lnTo>
                            <a:pt x="41" y="0"/>
                          </a:lnTo>
                          <a:lnTo>
                            <a:pt x="43" y="4"/>
                          </a:lnTo>
                          <a:lnTo>
                            <a:pt x="46" y="11"/>
                          </a:lnTo>
                          <a:lnTo>
                            <a:pt x="61" y="27"/>
                          </a:lnTo>
                          <a:lnTo>
                            <a:pt x="15" y="27"/>
                          </a:lnTo>
                          <a:lnTo>
                            <a:pt x="8" y="19"/>
                          </a:lnTo>
                          <a:lnTo>
                            <a:pt x="0" y="6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2" name=""/>
                    <p:cNvSpPr/>
                    <p:nvPr/>
                  </p:nvSpPr>
                  <p:spPr>
                    <a:xfrm>
                      <a:off x="6179040" y="6182640"/>
                      <a:ext cx="1512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6" y="5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33" name=""/>
                  <p:cNvGrpSpPr/>
                  <p:nvPr/>
                </p:nvGrpSpPr>
                <p:grpSpPr>
                  <a:xfrm>
                    <a:off x="6181200" y="6182640"/>
                    <a:ext cx="16200" cy="16200"/>
                    <a:chOff x="6181200" y="6182640"/>
                    <a:chExt cx="16200" cy="16200"/>
                  </a:xfrm>
                </p:grpSpPr>
                <p:sp>
                  <p:nvSpPr>
                    <p:cNvPr id="4534" name=""/>
                    <p:cNvSpPr/>
                    <p:nvPr/>
                  </p:nvSpPr>
                  <p:spPr>
                    <a:xfrm>
                      <a:off x="6181200" y="6182640"/>
                      <a:ext cx="360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0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0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5" name=""/>
                    <p:cNvSpPr/>
                    <p:nvPr/>
                  </p:nvSpPr>
                  <p:spPr>
                    <a:xfrm>
                      <a:off x="6182640" y="6184800"/>
                      <a:ext cx="129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6" y="11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9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6" name=""/>
                    <p:cNvSpPr/>
                    <p:nvPr/>
                  </p:nvSpPr>
                  <p:spPr>
                    <a:xfrm>
                      <a:off x="6182640" y="6190560"/>
                      <a:ext cx="147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32">
                          <a:moveTo>
                            <a:pt x="0" y="32"/>
                          </a:moveTo>
                          <a:lnTo>
                            <a:pt x="4" y="18"/>
                          </a:lnTo>
                          <a:lnTo>
                            <a:pt x="7" y="7"/>
                          </a:lnTo>
                          <a:lnTo>
                            <a:pt x="11" y="0"/>
                          </a:lnTo>
                          <a:lnTo>
                            <a:pt x="57" y="0"/>
                          </a:lnTo>
                          <a:lnTo>
                            <a:pt x="68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37" name=""/>
                  <p:cNvGrpSpPr/>
                  <p:nvPr/>
                </p:nvGrpSpPr>
                <p:grpSpPr>
                  <a:xfrm>
                    <a:off x="6185160" y="6191280"/>
                    <a:ext cx="16200" cy="15840"/>
                    <a:chOff x="6185160" y="6191280"/>
                    <a:chExt cx="16200" cy="15840"/>
                  </a:xfrm>
                </p:grpSpPr>
                <p:sp>
                  <p:nvSpPr>
                    <p:cNvPr id="4538" name=""/>
                    <p:cNvSpPr/>
                    <p:nvPr/>
                  </p:nvSpPr>
                  <p:spPr>
                    <a:xfrm>
                      <a:off x="6185160" y="6191280"/>
                      <a:ext cx="324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9">
                          <a:moveTo>
                            <a:pt x="11" y="59"/>
                          </a:moveTo>
                          <a:lnTo>
                            <a:pt x="0" y="24"/>
                          </a:lnTo>
                          <a:lnTo>
                            <a:pt x="7" y="0"/>
                          </a:lnTo>
                          <a:lnTo>
                            <a:pt x="19" y="27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9" name=""/>
                    <p:cNvSpPr/>
                    <p:nvPr/>
                  </p:nvSpPr>
                  <p:spPr>
                    <a:xfrm>
                      <a:off x="6186600" y="6193080"/>
                      <a:ext cx="129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3" y="0"/>
                          </a:moveTo>
                          <a:lnTo>
                            <a:pt x="42" y="0"/>
                          </a:lnTo>
                          <a:lnTo>
                            <a:pt x="43" y="2"/>
                          </a:lnTo>
                          <a:lnTo>
                            <a:pt x="46" y="10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8" y="18"/>
                          </a:lnTo>
                          <a:lnTo>
                            <a:pt x="0" y="5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0" name=""/>
                    <p:cNvSpPr/>
                    <p:nvPr/>
                  </p:nvSpPr>
                  <p:spPr>
                    <a:xfrm>
                      <a:off x="6188400" y="6199560"/>
                      <a:ext cx="129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41" name=""/>
                  <p:cNvGrpSpPr/>
                  <p:nvPr/>
                </p:nvGrpSpPr>
                <p:grpSpPr>
                  <a:xfrm>
                    <a:off x="6190560" y="6201360"/>
                    <a:ext cx="14400" cy="14040"/>
                    <a:chOff x="6190560" y="6201360"/>
                    <a:chExt cx="14400" cy="14040"/>
                  </a:xfrm>
                </p:grpSpPr>
                <p:sp>
                  <p:nvSpPr>
                    <p:cNvPr id="4542" name=""/>
                    <p:cNvSpPr/>
                    <p:nvPr/>
                  </p:nvSpPr>
                  <p:spPr>
                    <a:xfrm>
                      <a:off x="6190560" y="6201360"/>
                      <a:ext cx="36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2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0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3" name=""/>
                    <p:cNvSpPr/>
                    <p:nvPr/>
                  </p:nvSpPr>
                  <p:spPr>
                    <a:xfrm>
                      <a:off x="6190560" y="6201360"/>
                      <a:ext cx="129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4" name=""/>
                    <p:cNvSpPr/>
                    <p:nvPr/>
                  </p:nvSpPr>
                  <p:spPr>
                    <a:xfrm>
                      <a:off x="6192000" y="6207120"/>
                      <a:ext cx="1296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4" y="7"/>
                          </a:lnTo>
                          <a:lnTo>
                            <a:pt x="10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45" name=""/>
                  <p:cNvGrpSpPr/>
                  <p:nvPr/>
                </p:nvGrpSpPr>
                <p:grpSpPr>
                  <a:xfrm>
                    <a:off x="6194520" y="6209640"/>
                    <a:ext cx="16200" cy="13320"/>
                    <a:chOff x="6194520" y="6209640"/>
                    <a:chExt cx="16200" cy="13320"/>
                  </a:xfrm>
                </p:grpSpPr>
                <p:sp>
                  <p:nvSpPr>
                    <p:cNvPr id="4546" name=""/>
                    <p:cNvSpPr/>
                    <p:nvPr/>
                  </p:nvSpPr>
                  <p:spPr>
                    <a:xfrm>
                      <a:off x="6194520" y="6209640"/>
                      <a:ext cx="324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8">
                          <a:moveTo>
                            <a:pt x="10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8" y="26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7" name=""/>
                    <p:cNvSpPr/>
                    <p:nvPr/>
                  </p:nvSpPr>
                  <p:spPr>
                    <a:xfrm>
                      <a:off x="6195960" y="6209640"/>
                      <a:ext cx="111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2" y="2"/>
                          </a:lnTo>
                          <a:lnTo>
                            <a:pt x="45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6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8" name=""/>
                    <p:cNvSpPr/>
                    <p:nvPr/>
                  </p:nvSpPr>
                  <p:spPr>
                    <a:xfrm>
                      <a:off x="6195960" y="6215400"/>
                      <a:ext cx="147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6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549" name=""/>
                <p:cNvGrpSpPr/>
                <p:nvPr/>
              </p:nvGrpSpPr>
              <p:grpSpPr>
                <a:xfrm>
                  <a:off x="6198120" y="6216120"/>
                  <a:ext cx="16200" cy="15840"/>
                  <a:chOff x="6198120" y="6216120"/>
                  <a:chExt cx="16200" cy="15840"/>
                </a:xfrm>
              </p:grpSpPr>
              <p:sp>
                <p:nvSpPr>
                  <p:cNvPr id="4550" name=""/>
                  <p:cNvSpPr/>
                  <p:nvPr/>
                </p:nvSpPr>
                <p:spPr>
                  <a:xfrm>
                    <a:off x="6198120" y="6216120"/>
                    <a:ext cx="3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1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9" y="28"/>
                        </a:lnTo>
                        <a:lnTo>
                          <a:pt x="11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1" name=""/>
                  <p:cNvSpPr/>
                  <p:nvPr/>
                </p:nvSpPr>
                <p:spPr>
                  <a:xfrm>
                    <a:off x="6199920" y="6217920"/>
                    <a:ext cx="108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7">
                        <a:moveTo>
                          <a:pt x="1" y="0"/>
                        </a:moveTo>
                        <a:lnTo>
                          <a:pt x="39" y="0"/>
                        </a:lnTo>
                        <a:lnTo>
                          <a:pt x="41" y="3"/>
                        </a:lnTo>
                        <a:lnTo>
                          <a:pt x="46" y="11"/>
                        </a:lnTo>
                        <a:lnTo>
                          <a:pt x="59" y="27"/>
                        </a:lnTo>
                        <a:lnTo>
                          <a:pt x="15" y="27"/>
                        </a:lnTo>
                        <a:lnTo>
                          <a:pt x="7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2" name=""/>
                  <p:cNvSpPr/>
                  <p:nvPr/>
                </p:nvSpPr>
                <p:spPr>
                  <a:xfrm>
                    <a:off x="6199920" y="6223680"/>
                    <a:ext cx="1440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6" y="5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53" name=""/>
                <p:cNvGrpSpPr/>
                <p:nvPr/>
              </p:nvGrpSpPr>
              <p:grpSpPr>
                <a:xfrm>
                  <a:off x="6188760" y="6084720"/>
                  <a:ext cx="15120" cy="14040"/>
                  <a:chOff x="6188760" y="6084720"/>
                  <a:chExt cx="15120" cy="14040"/>
                </a:xfrm>
              </p:grpSpPr>
              <p:sp>
                <p:nvSpPr>
                  <p:cNvPr id="4554" name=""/>
                  <p:cNvSpPr/>
                  <p:nvPr/>
                </p:nvSpPr>
                <p:spPr>
                  <a:xfrm>
                    <a:off x="6188760" y="6084720"/>
                    <a:ext cx="57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9">
                        <a:moveTo>
                          <a:pt x="18" y="59"/>
                        </a:moveTo>
                        <a:lnTo>
                          <a:pt x="0" y="28"/>
                        </a:lnTo>
                        <a:lnTo>
                          <a:pt x="9" y="0"/>
                        </a:lnTo>
                        <a:lnTo>
                          <a:pt x="31" y="28"/>
                        </a:lnTo>
                        <a:lnTo>
                          <a:pt x="18" y="59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5" name=""/>
                  <p:cNvSpPr/>
                  <p:nvPr/>
                </p:nvSpPr>
                <p:spPr>
                  <a:xfrm>
                    <a:off x="6190560" y="6084720"/>
                    <a:ext cx="108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9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2" y="29"/>
                        </a:lnTo>
                        <a:lnTo>
                          <a:pt x="19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6" name=""/>
                  <p:cNvSpPr/>
                  <p:nvPr/>
                </p:nvSpPr>
                <p:spPr>
                  <a:xfrm>
                    <a:off x="6192360" y="609228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6">
                        <a:moveTo>
                          <a:pt x="0" y="26"/>
                        </a:moveTo>
                        <a:lnTo>
                          <a:pt x="11" y="0"/>
                        </a:lnTo>
                        <a:lnTo>
                          <a:pt x="44" y="0"/>
                        </a:lnTo>
                        <a:lnTo>
                          <a:pt x="52" y="26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57" name=""/>
                <p:cNvGrpSpPr/>
                <p:nvPr/>
              </p:nvGrpSpPr>
              <p:grpSpPr>
                <a:xfrm>
                  <a:off x="6192720" y="6092640"/>
                  <a:ext cx="15120" cy="14040"/>
                  <a:chOff x="6192720" y="6092640"/>
                  <a:chExt cx="15120" cy="14040"/>
                </a:xfrm>
              </p:grpSpPr>
              <p:sp>
                <p:nvSpPr>
                  <p:cNvPr id="4558" name=""/>
                  <p:cNvSpPr/>
                  <p:nvPr/>
                </p:nvSpPr>
                <p:spPr>
                  <a:xfrm>
                    <a:off x="6192720" y="6092640"/>
                    <a:ext cx="75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18" y="58"/>
                        </a:moveTo>
                        <a:lnTo>
                          <a:pt x="0" y="28"/>
                        </a:lnTo>
                        <a:lnTo>
                          <a:pt x="10" y="0"/>
                        </a:lnTo>
                        <a:lnTo>
                          <a:pt x="32" y="28"/>
                        </a:lnTo>
                        <a:lnTo>
                          <a:pt x="18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9" name=""/>
                  <p:cNvSpPr/>
                  <p:nvPr/>
                </p:nvSpPr>
                <p:spPr>
                  <a:xfrm>
                    <a:off x="6194520" y="6092640"/>
                    <a:ext cx="1080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8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2" y="28"/>
                        </a:lnTo>
                        <a:lnTo>
                          <a:pt x="20" y="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0" name=""/>
                  <p:cNvSpPr/>
                  <p:nvPr/>
                </p:nvSpPr>
                <p:spPr>
                  <a:xfrm>
                    <a:off x="6196320" y="6100920"/>
                    <a:ext cx="115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5">
                        <a:moveTo>
                          <a:pt x="0" y="25"/>
                        </a:moveTo>
                        <a:lnTo>
                          <a:pt x="10" y="0"/>
                        </a:lnTo>
                        <a:lnTo>
                          <a:pt x="44" y="0"/>
                        </a:lnTo>
                        <a:lnTo>
                          <a:pt x="54" y="25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1" name=""/>
                <p:cNvGrpSpPr/>
                <p:nvPr/>
              </p:nvGrpSpPr>
              <p:grpSpPr>
                <a:xfrm>
                  <a:off x="6196320" y="6102720"/>
                  <a:ext cx="16560" cy="14040"/>
                  <a:chOff x="6196320" y="6102720"/>
                  <a:chExt cx="16560" cy="14040"/>
                </a:xfrm>
              </p:grpSpPr>
              <p:sp>
                <p:nvSpPr>
                  <p:cNvPr id="4562" name=""/>
                  <p:cNvSpPr/>
                  <p:nvPr/>
                </p:nvSpPr>
                <p:spPr>
                  <a:xfrm>
                    <a:off x="6196320" y="6102720"/>
                    <a:ext cx="75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58">
                        <a:moveTo>
                          <a:pt x="19" y="58"/>
                        </a:moveTo>
                        <a:lnTo>
                          <a:pt x="0" y="27"/>
                        </a:lnTo>
                        <a:lnTo>
                          <a:pt x="11" y="0"/>
                        </a:lnTo>
                        <a:lnTo>
                          <a:pt x="33" y="27"/>
                        </a:lnTo>
                        <a:lnTo>
                          <a:pt x="19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3" name=""/>
                  <p:cNvSpPr/>
                  <p:nvPr/>
                </p:nvSpPr>
                <p:spPr>
                  <a:xfrm>
                    <a:off x="6199920" y="610272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9">
                        <a:moveTo>
                          <a:pt x="0" y="0"/>
                        </a:moveTo>
                        <a:lnTo>
                          <a:pt x="32" y="0"/>
                        </a:lnTo>
                        <a:lnTo>
                          <a:pt x="51" y="29"/>
                        </a:lnTo>
                        <a:lnTo>
                          <a:pt x="19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4" name=""/>
                  <p:cNvSpPr/>
                  <p:nvPr/>
                </p:nvSpPr>
                <p:spPr>
                  <a:xfrm>
                    <a:off x="6201720" y="6111000"/>
                    <a:ext cx="111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5">
                        <a:moveTo>
                          <a:pt x="0" y="25"/>
                        </a:moveTo>
                        <a:lnTo>
                          <a:pt x="9" y="0"/>
                        </a:lnTo>
                        <a:lnTo>
                          <a:pt x="42" y="0"/>
                        </a:lnTo>
                        <a:lnTo>
                          <a:pt x="53" y="25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5" name=""/>
                <p:cNvGrpSpPr/>
                <p:nvPr/>
              </p:nvGrpSpPr>
              <p:grpSpPr>
                <a:xfrm>
                  <a:off x="6202080" y="6111000"/>
                  <a:ext cx="15120" cy="14040"/>
                  <a:chOff x="6202080" y="6111000"/>
                  <a:chExt cx="15120" cy="14040"/>
                </a:xfrm>
              </p:grpSpPr>
              <p:sp>
                <p:nvSpPr>
                  <p:cNvPr id="4566" name=""/>
                  <p:cNvSpPr/>
                  <p:nvPr/>
                </p:nvSpPr>
                <p:spPr>
                  <a:xfrm>
                    <a:off x="6202080" y="6111000"/>
                    <a:ext cx="57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18" y="58"/>
                        </a:moveTo>
                        <a:lnTo>
                          <a:pt x="0" y="28"/>
                        </a:lnTo>
                        <a:lnTo>
                          <a:pt x="9" y="0"/>
                        </a:lnTo>
                        <a:lnTo>
                          <a:pt x="32" y="28"/>
                        </a:lnTo>
                        <a:lnTo>
                          <a:pt x="18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7" name=""/>
                  <p:cNvSpPr/>
                  <p:nvPr/>
                </p:nvSpPr>
                <p:spPr>
                  <a:xfrm>
                    <a:off x="6203880" y="6111000"/>
                    <a:ext cx="1080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0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3" y="30"/>
                        </a:lnTo>
                        <a:lnTo>
                          <a:pt x="21" y="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8" name=""/>
                  <p:cNvSpPr/>
                  <p:nvPr/>
                </p:nvSpPr>
                <p:spPr>
                  <a:xfrm>
                    <a:off x="6205680" y="6119280"/>
                    <a:ext cx="115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4">
                        <a:moveTo>
                          <a:pt x="0" y="24"/>
                        </a:moveTo>
                        <a:lnTo>
                          <a:pt x="11" y="0"/>
                        </a:lnTo>
                        <a:lnTo>
                          <a:pt x="44" y="0"/>
                        </a:lnTo>
                        <a:lnTo>
                          <a:pt x="53" y="24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9" name=""/>
                <p:cNvGrpSpPr/>
                <p:nvPr/>
              </p:nvGrpSpPr>
              <p:grpSpPr>
                <a:xfrm>
                  <a:off x="6208200" y="6119640"/>
                  <a:ext cx="27360" cy="40320"/>
                  <a:chOff x="6208200" y="6119640"/>
                  <a:chExt cx="27360" cy="40320"/>
                </a:xfrm>
              </p:grpSpPr>
              <p:grpSp>
                <p:nvGrpSpPr>
                  <p:cNvPr id="4570" name=""/>
                  <p:cNvGrpSpPr/>
                  <p:nvPr/>
                </p:nvGrpSpPr>
                <p:grpSpPr>
                  <a:xfrm>
                    <a:off x="6208200" y="6119640"/>
                    <a:ext cx="14400" cy="13320"/>
                    <a:chOff x="6208200" y="6119640"/>
                    <a:chExt cx="14400" cy="13320"/>
                  </a:xfrm>
                </p:grpSpPr>
                <p:sp>
                  <p:nvSpPr>
                    <p:cNvPr id="4571" name=""/>
                    <p:cNvSpPr/>
                    <p:nvPr/>
                  </p:nvSpPr>
                  <p:spPr>
                    <a:xfrm>
                      <a:off x="6208200" y="6119640"/>
                      <a:ext cx="540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58">
                          <a:moveTo>
                            <a:pt x="17" y="58"/>
                          </a:moveTo>
                          <a:lnTo>
                            <a:pt x="0" y="27"/>
                          </a:lnTo>
                          <a:lnTo>
                            <a:pt x="9" y="0"/>
                          </a:lnTo>
                          <a:lnTo>
                            <a:pt x="31" y="27"/>
                          </a:lnTo>
                          <a:lnTo>
                            <a:pt x="17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2" name=""/>
                    <p:cNvSpPr/>
                    <p:nvPr/>
                  </p:nvSpPr>
                  <p:spPr>
                    <a:xfrm>
                      <a:off x="6209640" y="6119640"/>
                      <a:ext cx="1080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7">
                          <a:moveTo>
                            <a:pt x="0" y="0"/>
                          </a:moveTo>
                          <a:lnTo>
                            <a:pt x="34" y="0"/>
                          </a:lnTo>
                          <a:lnTo>
                            <a:pt x="53" y="27"/>
                          </a:lnTo>
                          <a:lnTo>
                            <a:pt x="20" y="2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3" name=""/>
                    <p:cNvSpPr/>
                    <p:nvPr/>
                  </p:nvSpPr>
                  <p:spPr>
                    <a:xfrm>
                      <a:off x="6211440" y="6127200"/>
                      <a:ext cx="111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7">
                          <a:moveTo>
                            <a:pt x="0" y="27"/>
                          </a:moveTo>
                          <a:lnTo>
                            <a:pt x="12" y="0"/>
                          </a:lnTo>
                          <a:lnTo>
                            <a:pt x="45" y="0"/>
                          </a:lnTo>
                          <a:lnTo>
                            <a:pt x="54" y="27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74" name=""/>
                  <p:cNvGrpSpPr/>
                  <p:nvPr/>
                </p:nvGrpSpPr>
                <p:grpSpPr>
                  <a:xfrm>
                    <a:off x="6211440" y="6127200"/>
                    <a:ext cx="14760" cy="14040"/>
                    <a:chOff x="6211440" y="6127200"/>
                    <a:chExt cx="14760" cy="14040"/>
                  </a:xfrm>
                </p:grpSpPr>
                <p:sp>
                  <p:nvSpPr>
                    <p:cNvPr id="4575" name=""/>
                    <p:cNvSpPr/>
                    <p:nvPr/>
                  </p:nvSpPr>
                  <p:spPr>
                    <a:xfrm>
                      <a:off x="6211440" y="6127200"/>
                      <a:ext cx="576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9">
                          <a:moveTo>
                            <a:pt x="19" y="59"/>
                          </a:moveTo>
                          <a:lnTo>
                            <a:pt x="0" y="28"/>
                          </a:lnTo>
                          <a:lnTo>
                            <a:pt x="10" y="0"/>
                          </a:lnTo>
                          <a:lnTo>
                            <a:pt x="32" y="28"/>
                          </a:lnTo>
                          <a:lnTo>
                            <a:pt x="19" y="59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6" name=""/>
                    <p:cNvSpPr/>
                    <p:nvPr/>
                  </p:nvSpPr>
                  <p:spPr>
                    <a:xfrm>
                      <a:off x="6213240" y="6127200"/>
                      <a:ext cx="108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9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3" y="29"/>
                          </a:lnTo>
                          <a:lnTo>
                            <a:pt x="19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7" name=""/>
                    <p:cNvSpPr/>
                    <p:nvPr/>
                  </p:nvSpPr>
                  <p:spPr>
                    <a:xfrm>
                      <a:off x="6215040" y="6135480"/>
                      <a:ext cx="111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5">
                          <a:moveTo>
                            <a:pt x="0" y="25"/>
                          </a:moveTo>
                          <a:lnTo>
                            <a:pt x="10" y="0"/>
                          </a:lnTo>
                          <a:lnTo>
                            <a:pt x="44" y="0"/>
                          </a:lnTo>
                          <a:lnTo>
                            <a:pt x="53" y="25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78" name=""/>
                  <p:cNvGrpSpPr/>
                  <p:nvPr/>
                </p:nvGrpSpPr>
                <p:grpSpPr>
                  <a:xfrm>
                    <a:off x="6215400" y="6135840"/>
                    <a:ext cx="14400" cy="15840"/>
                    <a:chOff x="6215400" y="6135840"/>
                    <a:chExt cx="14400" cy="15840"/>
                  </a:xfrm>
                </p:grpSpPr>
                <p:sp>
                  <p:nvSpPr>
                    <p:cNvPr id="4579" name=""/>
                    <p:cNvSpPr/>
                    <p:nvPr/>
                  </p:nvSpPr>
                  <p:spPr>
                    <a:xfrm>
                      <a:off x="6215400" y="6135840"/>
                      <a:ext cx="756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8">
                          <a:moveTo>
                            <a:pt x="19" y="58"/>
                          </a:moveTo>
                          <a:lnTo>
                            <a:pt x="0" y="29"/>
                          </a:lnTo>
                          <a:lnTo>
                            <a:pt x="9" y="0"/>
                          </a:lnTo>
                          <a:lnTo>
                            <a:pt x="32" y="29"/>
                          </a:lnTo>
                          <a:lnTo>
                            <a:pt x="19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0" name=""/>
                    <p:cNvSpPr/>
                    <p:nvPr/>
                  </p:nvSpPr>
                  <p:spPr>
                    <a:xfrm>
                      <a:off x="6217200" y="613764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9">
                          <a:moveTo>
                            <a:pt x="0" y="0"/>
                          </a:moveTo>
                          <a:lnTo>
                            <a:pt x="34" y="0"/>
                          </a:lnTo>
                          <a:lnTo>
                            <a:pt x="52" y="29"/>
                          </a:lnTo>
                          <a:lnTo>
                            <a:pt x="21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1" name=""/>
                    <p:cNvSpPr/>
                    <p:nvPr/>
                  </p:nvSpPr>
                  <p:spPr>
                    <a:xfrm>
                      <a:off x="6219000" y="6145920"/>
                      <a:ext cx="1080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4">
                          <a:moveTo>
                            <a:pt x="0" y="24"/>
                          </a:moveTo>
                          <a:lnTo>
                            <a:pt x="9" y="0"/>
                          </a:lnTo>
                          <a:lnTo>
                            <a:pt x="42" y="0"/>
                          </a:lnTo>
                          <a:lnTo>
                            <a:pt x="52" y="24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82" name=""/>
                  <p:cNvGrpSpPr/>
                  <p:nvPr/>
                </p:nvGrpSpPr>
                <p:grpSpPr>
                  <a:xfrm>
                    <a:off x="6220800" y="6145920"/>
                    <a:ext cx="14760" cy="14040"/>
                    <a:chOff x="6220800" y="6145920"/>
                    <a:chExt cx="14760" cy="14040"/>
                  </a:xfrm>
                </p:grpSpPr>
                <p:sp>
                  <p:nvSpPr>
                    <p:cNvPr id="4583" name=""/>
                    <p:cNvSpPr/>
                    <p:nvPr/>
                  </p:nvSpPr>
                  <p:spPr>
                    <a:xfrm>
                      <a:off x="6220800" y="6145920"/>
                      <a:ext cx="576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8">
                          <a:moveTo>
                            <a:pt x="18" y="58"/>
                          </a:moveTo>
                          <a:lnTo>
                            <a:pt x="0" y="28"/>
                          </a:lnTo>
                          <a:lnTo>
                            <a:pt x="10" y="0"/>
                          </a:lnTo>
                          <a:lnTo>
                            <a:pt x="32" y="28"/>
                          </a:lnTo>
                          <a:lnTo>
                            <a:pt x="18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4" name=""/>
                    <p:cNvSpPr/>
                    <p:nvPr/>
                  </p:nvSpPr>
                  <p:spPr>
                    <a:xfrm>
                      <a:off x="6222600" y="6145920"/>
                      <a:ext cx="1080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8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2" y="28"/>
                          </a:lnTo>
                          <a:lnTo>
                            <a:pt x="20" y="2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5" name=""/>
                    <p:cNvSpPr/>
                    <p:nvPr/>
                  </p:nvSpPr>
                  <p:spPr>
                    <a:xfrm>
                      <a:off x="6224400" y="6154200"/>
                      <a:ext cx="111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5">
                          <a:moveTo>
                            <a:pt x="0" y="25"/>
                          </a:moveTo>
                          <a:lnTo>
                            <a:pt x="12" y="0"/>
                          </a:lnTo>
                          <a:lnTo>
                            <a:pt x="44" y="0"/>
                          </a:lnTo>
                          <a:lnTo>
                            <a:pt x="53" y="25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586" name=""/>
                <p:cNvGrpSpPr/>
                <p:nvPr/>
              </p:nvGrpSpPr>
              <p:grpSpPr>
                <a:xfrm>
                  <a:off x="6224760" y="6154560"/>
                  <a:ext cx="27720" cy="40320"/>
                  <a:chOff x="6224760" y="6154560"/>
                  <a:chExt cx="27720" cy="40320"/>
                </a:xfrm>
              </p:grpSpPr>
              <p:grpSp>
                <p:nvGrpSpPr>
                  <p:cNvPr id="4587" name=""/>
                  <p:cNvGrpSpPr/>
                  <p:nvPr/>
                </p:nvGrpSpPr>
                <p:grpSpPr>
                  <a:xfrm>
                    <a:off x="6224760" y="6154560"/>
                    <a:ext cx="14400" cy="13320"/>
                    <a:chOff x="6224760" y="6154560"/>
                    <a:chExt cx="14400" cy="13320"/>
                  </a:xfrm>
                </p:grpSpPr>
                <p:sp>
                  <p:nvSpPr>
                    <p:cNvPr id="4588" name=""/>
                    <p:cNvSpPr/>
                    <p:nvPr/>
                  </p:nvSpPr>
                  <p:spPr>
                    <a:xfrm>
                      <a:off x="6224760" y="6154560"/>
                      <a:ext cx="756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58">
                          <a:moveTo>
                            <a:pt x="17" y="58"/>
                          </a:moveTo>
                          <a:lnTo>
                            <a:pt x="0" y="28"/>
                          </a:lnTo>
                          <a:lnTo>
                            <a:pt x="9" y="0"/>
                          </a:lnTo>
                          <a:lnTo>
                            <a:pt x="31" y="28"/>
                          </a:lnTo>
                          <a:lnTo>
                            <a:pt x="17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9" name=""/>
                    <p:cNvSpPr/>
                    <p:nvPr/>
                  </p:nvSpPr>
                  <p:spPr>
                    <a:xfrm>
                      <a:off x="6226560" y="6154560"/>
                      <a:ext cx="1080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9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3" y="29"/>
                          </a:lnTo>
                          <a:lnTo>
                            <a:pt x="20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0" name=""/>
                    <p:cNvSpPr/>
                    <p:nvPr/>
                  </p:nvSpPr>
                  <p:spPr>
                    <a:xfrm>
                      <a:off x="6228360" y="6162120"/>
                      <a:ext cx="1080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5">
                          <a:moveTo>
                            <a:pt x="0" y="25"/>
                          </a:moveTo>
                          <a:lnTo>
                            <a:pt x="10" y="0"/>
                          </a:lnTo>
                          <a:lnTo>
                            <a:pt x="44" y="0"/>
                          </a:lnTo>
                          <a:lnTo>
                            <a:pt x="53" y="25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91" name=""/>
                  <p:cNvGrpSpPr/>
                  <p:nvPr/>
                </p:nvGrpSpPr>
                <p:grpSpPr>
                  <a:xfrm>
                    <a:off x="6228360" y="6162120"/>
                    <a:ext cx="14400" cy="14040"/>
                    <a:chOff x="6228360" y="6162120"/>
                    <a:chExt cx="14400" cy="14040"/>
                  </a:xfrm>
                </p:grpSpPr>
                <p:sp>
                  <p:nvSpPr>
                    <p:cNvPr id="4592" name=""/>
                    <p:cNvSpPr/>
                    <p:nvPr/>
                  </p:nvSpPr>
                  <p:spPr>
                    <a:xfrm>
                      <a:off x="6228360" y="6162120"/>
                      <a:ext cx="756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8">
                          <a:moveTo>
                            <a:pt x="19" y="58"/>
                          </a:moveTo>
                          <a:lnTo>
                            <a:pt x="0" y="28"/>
                          </a:lnTo>
                          <a:lnTo>
                            <a:pt x="10" y="0"/>
                          </a:lnTo>
                          <a:lnTo>
                            <a:pt x="32" y="28"/>
                          </a:lnTo>
                          <a:lnTo>
                            <a:pt x="19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3" name=""/>
                    <p:cNvSpPr/>
                    <p:nvPr/>
                  </p:nvSpPr>
                  <p:spPr>
                    <a:xfrm>
                      <a:off x="6231960" y="6162120"/>
                      <a:ext cx="90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28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1" y="28"/>
                          </a:lnTo>
                          <a:lnTo>
                            <a:pt x="20" y="2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4" name=""/>
                    <p:cNvSpPr/>
                    <p:nvPr/>
                  </p:nvSpPr>
                  <p:spPr>
                    <a:xfrm>
                      <a:off x="6233760" y="6170400"/>
                      <a:ext cx="900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6">
                          <a:moveTo>
                            <a:pt x="0" y="26"/>
                          </a:moveTo>
                          <a:lnTo>
                            <a:pt x="9" y="0"/>
                          </a:lnTo>
                          <a:lnTo>
                            <a:pt x="42" y="0"/>
                          </a:lnTo>
                          <a:lnTo>
                            <a:pt x="52" y="26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95" name=""/>
                  <p:cNvGrpSpPr/>
                  <p:nvPr/>
                </p:nvGrpSpPr>
                <p:grpSpPr>
                  <a:xfrm>
                    <a:off x="6234120" y="6170760"/>
                    <a:ext cx="14760" cy="15840"/>
                    <a:chOff x="6234120" y="6170760"/>
                    <a:chExt cx="14760" cy="15840"/>
                  </a:xfrm>
                </p:grpSpPr>
                <p:sp>
                  <p:nvSpPr>
                    <p:cNvPr id="4596" name=""/>
                    <p:cNvSpPr/>
                    <p:nvPr/>
                  </p:nvSpPr>
                  <p:spPr>
                    <a:xfrm>
                      <a:off x="6234120" y="6170760"/>
                      <a:ext cx="540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60">
                          <a:moveTo>
                            <a:pt x="18" y="60"/>
                          </a:moveTo>
                          <a:lnTo>
                            <a:pt x="0" y="29"/>
                          </a:lnTo>
                          <a:lnTo>
                            <a:pt x="10" y="0"/>
                          </a:lnTo>
                          <a:lnTo>
                            <a:pt x="32" y="29"/>
                          </a:lnTo>
                          <a:lnTo>
                            <a:pt x="18" y="6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7" name=""/>
                    <p:cNvSpPr/>
                    <p:nvPr/>
                  </p:nvSpPr>
                  <p:spPr>
                    <a:xfrm>
                      <a:off x="6235920" y="6170760"/>
                      <a:ext cx="1080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9">
                          <a:moveTo>
                            <a:pt x="0" y="0"/>
                          </a:moveTo>
                          <a:lnTo>
                            <a:pt x="32" y="0"/>
                          </a:lnTo>
                          <a:lnTo>
                            <a:pt x="52" y="29"/>
                          </a:lnTo>
                          <a:lnTo>
                            <a:pt x="20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8" name=""/>
                    <p:cNvSpPr/>
                    <p:nvPr/>
                  </p:nvSpPr>
                  <p:spPr>
                    <a:xfrm>
                      <a:off x="6237720" y="6178320"/>
                      <a:ext cx="1116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6">
                          <a:moveTo>
                            <a:pt x="0" y="26"/>
                          </a:moveTo>
                          <a:lnTo>
                            <a:pt x="10" y="0"/>
                          </a:lnTo>
                          <a:lnTo>
                            <a:pt x="44" y="0"/>
                          </a:lnTo>
                          <a:lnTo>
                            <a:pt x="53" y="26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99" name=""/>
                  <p:cNvGrpSpPr/>
                  <p:nvPr/>
                </p:nvGrpSpPr>
                <p:grpSpPr>
                  <a:xfrm>
                    <a:off x="6238080" y="6180840"/>
                    <a:ext cx="14400" cy="14040"/>
                    <a:chOff x="6238080" y="6180840"/>
                    <a:chExt cx="14400" cy="14040"/>
                  </a:xfrm>
                </p:grpSpPr>
                <p:sp>
                  <p:nvSpPr>
                    <p:cNvPr id="4600" name=""/>
                    <p:cNvSpPr/>
                    <p:nvPr/>
                  </p:nvSpPr>
                  <p:spPr>
                    <a:xfrm>
                      <a:off x="6238080" y="6180840"/>
                      <a:ext cx="756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59">
                          <a:moveTo>
                            <a:pt x="19" y="59"/>
                          </a:moveTo>
                          <a:lnTo>
                            <a:pt x="0" y="29"/>
                          </a:lnTo>
                          <a:lnTo>
                            <a:pt x="11" y="0"/>
                          </a:lnTo>
                          <a:lnTo>
                            <a:pt x="33" y="29"/>
                          </a:lnTo>
                          <a:lnTo>
                            <a:pt x="19" y="59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1" name=""/>
                    <p:cNvSpPr/>
                    <p:nvPr/>
                  </p:nvSpPr>
                  <p:spPr>
                    <a:xfrm>
                      <a:off x="6239520" y="6180840"/>
                      <a:ext cx="111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9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2" y="29"/>
                          </a:lnTo>
                          <a:lnTo>
                            <a:pt x="19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2" name=""/>
                    <p:cNvSpPr/>
                    <p:nvPr/>
                  </p:nvSpPr>
                  <p:spPr>
                    <a:xfrm>
                      <a:off x="6241680" y="6189120"/>
                      <a:ext cx="1080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5">
                          <a:moveTo>
                            <a:pt x="0" y="25"/>
                          </a:moveTo>
                          <a:lnTo>
                            <a:pt x="10" y="0"/>
                          </a:lnTo>
                          <a:lnTo>
                            <a:pt x="44" y="0"/>
                          </a:lnTo>
                          <a:lnTo>
                            <a:pt x="54" y="25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603" name=""/>
                <p:cNvGrpSpPr/>
                <p:nvPr/>
              </p:nvGrpSpPr>
              <p:grpSpPr>
                <a:xfrm>
                  <a:off x="6243840" y="6189480"/>
                  <a:ext cx="15120" cy="13320"/>
                  <a:chOff x="6243840" y="6189480"/>
                  <a:chExt cx="15120" cy="13320"/>
                </a:xfrm>
              </p:grpSpPr>
              <p:sp>
                <p:nvSpPr>
                  <p:cNvPr id="4604" name=""/>
                  <p:cNvSpPr/>
                  <p:nvPr/>
                </p:nvSpPr>
                <p:spPr>
                  <a:xfrm>
                    <a:off x="6243840" y="6189480"/>
                    <a:ext cx="5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61">
                        <a:moveTo>
                          <a:pt x="19" y="61"/>
                        </a:moveTo>
                        <a:lnTo>
                          <a:pt x="0" y="30"/>
                        </a:lnTo>
                        <a:lnTo>
                          <a:pt x="10" y="0"/>
                        </a:lnTo>
                        <a:lnTo>
                          <a:pt x="32" y="30"/>
                        </a:lnTo>
                        <a:lnTo>
                          <a:pt x="19" y="6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5" name=""/>
                  <p:cNvSpPr/>
                  <p:nvPr/>
                </p:nvSpPr>
                <p:spPr>
                  <a:xfrm>
                    <a:off x="6245640" y="618948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9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1" y="29"/>
                        </a:lnTo>
                        <a:lnTo>
                          <a:pt x="19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6" name=""/>
                  <p:cNvSpPr/>
                  <p:nvPr/>
                </p:nvSpPr>
                <p:spPr>
                  <a:xfrm>
                    <a:off x="6247440" y="6197040"/>
                    <a:ext cx="115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6">
                        <a:moveTo>
                          <a:pt x="0" y="26"/>
                        </a:moveTo>
                        <a:lnTo>
                          <a:pt x="10" y="0"/>
                        </a:lnTo>
                        <a:lnTo>
                          <a:pt x="42" y="0"/>
                        </a:lnTo>
                        <a:lnTo>
                          <a:pt x="52" y="26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7" name=""/>
                <p:cNvGrpSpPr/>
                <p:nvPr/>
              </p:nvGrpSpPr>
              <p:grpSpPr>
                <a:xfrm>
                  <a:off x="6247800" y="6197400"/>
                  <a:ext cx="14400" cy="14040"/>
                  <a:chOff x="6247800" y="6197400"/>
                  <a:chExt cx="14400" cy="14040"/>
                </a:xfrm>
              </p:grpSpPr>
              <p:sp>
                <p:nvSpPr>
                  <p:cNvPr id="4608" name=""/>
                  <p:cNvSpPr/>
                  <p:nvPr/>
                </p:nvSpPr>
                <p:spPr>
                  <a:xfrm>
                    <a:off x="6247800" y="6197400"/>
                    <a:ext cx="54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9">
                        <a:moveTo>
                          <a:pt x="18" y="59"/>
                        </a:moveTo>
                        <a:lnTo>
                          <a:pt x="0" y="29"/>
                        </a:lnTo>
                        <a:lnTo>
                          <a:pt x="9" y="0"/>
                        </a:lnTo>
                        <a:lnTo>
                          <a:pt x="32" y="29"/>
                        </a:lnTo>
                        <a:lnTo>
                          <a:pt x="18" y="59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9" name=""/>
                  <p:cNvSpPr/>
                  <p:nvPr/>
                </p:nvSpPr>
                <p:spPr>
                  <a:xfrm>
                    <a:off x="6249600" y="6197400"/>
                    <a:ext cx="1080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8">
                        <a:moveTo>
                          <a:pt x="0" y="0"/>
                        </a:moveTo>
                        <a:lnTo>
                          <a:pt x="31" y="0"/>
                        </a:lnTo>
                        <a:lnTo>
                          <a:pt x="52" y="28"/>
                        </a:lnTo>
                        <a:lnTo>
                          <a:pt x="20" y="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0" name=""/>
                  <p:cNvSpPr/>
                  <p:nvPr/>
                </p:nvSpPr>
                <p:spPr>
                  <a:xfrm>
                    <a:off x="6251400" y="6205680"/>
                    <a:ext cx="108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6">
                        <a:moveTo>
                          <a:pt x="0" y="26"/>
                        </a:moveTo>
                        <a:lnTo>
                          <a:pt x="10" y="0"/>
                        </a:lnTo>
                        <a:lnTo>
                          <a:pt x="44" y="0"/>
                        </a:lnTo>
                        <a:lnTo>
                          <a:pt x="53" y="26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11" name=""/>
                <p:cNvGrpSpPr/>
                <p:nvPr/>
              </p:nvGrpSpPr>
              <p:grpSpPr>
                <a:xfrm>
                  <a:off x="6251760" y="6207840"/>
                  <a:ext cx="14400" cy="14040"/>
                  <a:chOff x="6251760" y="6207840"/>
                  <a:chExt cx="14400" cy="14040"/>
                </a:xfrm>
              </p:grpSpPr>
              <p:sp>
                <p:nvSpPr>
                  <p:cNvPr id="4612" name=""/>
                  <p:cNvSpPr/>
                  <p:nvPr/>
                </p:nvSpPr>
                <p:spPr>
                  <a:xfrm>
                    <a:off x="6251760" y="6207840"/>
                    <a:ext cx="75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58">
                        <a:moveTo>
                          <a:pt x="19" y="58"/>
                        </a:moveTo>
                        <a:lnTo>
                          <a:pt x="0" y="27"/>
                        </a:lnTo>
                        <a:lnTo>
                          <a:pt x="11" y="0"/>
                        </a:lnTo>
                        <a:lnTo>
                          <a:pt x="33" y="27"/>
                        </a:lnTo>
                        <a:lnTo>
                          <a:pt x="19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3" name=""/>
                  <p:cNvSpPr/>
                  <p:nvPr/>
                </p:nvSpPr>
                <p:spPr>
                  <a:xfrm>
                    <a:off x="6253200" y="6207840"/>
                    <a:ext cx="111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7">
                        <a:moveTo>
                          <a:pt x="0" y="0"/>
                        </a:moveTo>
                        <a:lnTo>
                          <a:pt x="32" y="0"/>
                        </a:lnTo>
                        <a:lnTo>
                          <a:pt x="51" y="27"/>
                        </a:lnTo>
                        <a:lnTo>
                          <a:pt x="18" y="2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4" name=""/>
                  <p:cNvSpPr/>
                  <p:nvPr/>
                </p:nvSpPr>
                <p:spPr>
                  <a:xfrm>
                    <a:off x="6255360" y="6213600"/>
                    <a:ext cx="1080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7">
                        <a:moveTo>
                          <a:pt x="0" y="27"/>
                        </a:moveTo>
                        <a:lnTo>
                          <a:pt x="10" y="0"/>
                        </a:lnTo>
                        <a:lnTo>
                          <a:pt x="43" y="0"/>
                        </a:lnTo>
                        <a:lnTo>
                          <a:pt x="51" y="27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15" name=""/>
                <p:cNvGrpSpPr/>
                <p:nvPr/>
              </p:nvGrpSpPr>
              <p:grpSpPr>
                <a:xfrm>
                  <a:off x="6257160" y="6216120"/>
                  <a:ext cx="14400" cy="14040"/>
                  <a:chOff x="6257160" y="6216120"/>
                  <a:chExt cx="14400" cy="14040"/>
                </a:xfrm>
              </p:grpSpPr>
              <p:sp>
                <p:nvSpPr>
                  <p:cNvPr id="4616" name=""/>
                  <p:cNvSpPr/>
                  <p:nvPr/>
                </p:nvSpPr>
                <p:spPr>
                  <a:xfrm>
                    <a:off x="6257160" y="6216120"/>
                    <a:ext cx="54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20" y="58"/>
                        </a:moveTo>
                        <a:lnTo>
                          <a:pt x="0" y="28"/>
                        </a:lnTo>
                        <a:lnTo>
                          <a:pt x="10" y="0"/>
                        </a:lnTo>
                        <a:lnTo>
                          <a:pt x="32" y="28"/>
                        </a:lnTo>
                        <a:lnTo>
                          <a:pt x="20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7" name=""/>
                  <p:cNvSpPr/>
                  <p:nvPr/>
                </p:nvSpPr>
                <p:spPr>
                  <a:xfrm>
                    <a:off x="6258960" y="6216120"/>
                    <a:ext cx="108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9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2" y="29"/>
                        </a:lnTo>
                        <a:lnTo>
                          <a:pt x="20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8" name=""/>
                  <p:cNvSpPr/>
                  <p:nvPr/>
                </p:nvSpPr>
                <p:spPr>
                  <a:xfrm>
                    <a:off x="6260760" y="6223680"/>
                    <a:ext cx="10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4">
                        <a:moveTo>
                          <a:pt x="0" y="24"/>
                        </a:moveTo>
                        <a:lnTo>
                          <a:pt x="9" y="0"/>
                        </a:lnTo>
                        <a:lnTo>
                          <a:pt x="42" y="0"/>
                        </a:lnTo>
                        <a:lnTo>
                          <a:pt x="52" y="24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19" name=""/>
                <p:cNvGrpSpPr/>
                <p:nvPr/>
              </p:nvGrpSpPr>
              <p:grpSpPr>
                <a:xfrm>
                  <a:off x="6261120" y="6224040"/>
                  <a:ext cx="14400" cy="16200"/>
                  <a:chOff x="6261120" y="6224040"/>
                  <a:chExt cx="14400" cy="16200"/>
                </a:xfrm>
              </p:grpSpPr>
              <p:sp>
                <p:nvSpPr>
                  <p:cNvPr id="4620" name=""/>
                  <p:cNvSpPr/>
                  <p:nvPr/>
                </p:nvSpPr>
                <p:spPr>
                  <a:xfrm>
                    <a:off x="6261120" y="6224040"/>
                    <a:ext cx="75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9">
                        <a:moveTo>
                          <a:pt x="18" y="59"/>
                        </a:moveTo>
                        <a:lnTo>
                          <a:pt x="0" y="29"/>
                        </a:lnTo>
                        <a:lnTo>
                          <a:pt x="10" y="0"/>
                        </a:lnTo>
                        <a:lnTo>
                          <a:pt x="32" y="29"/>
                        </a:lnTo>
                        <a:lnTo>
                          <a:pt x="18" y="59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1" name=""/>
                  <p:cNvSpPr/>
                  <p:nvPr/>
                </p:nvSpPr>
                <p:spPr>
                  <a:xfrm>
                    <a:off x="6262560" y="622404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0">
                        <a:moveTo>
                          <a:pt x="0" y="0"/>
                        </a:moveTo>
                        <a:lnTo>
                          <a:pt x="34" y="0"/>
                        </a:lnTo>
                        <a:lnTo>
                          <a:pt x="52" y="30"/>
                        </a:lnTo>
                        <a:lnTo>
                          <a:pt x="20" y="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2" name=""/>
                  <p:cNvSpPr/>
                  <p:nvPr/>
                </p:nvSpPr>
                <p:spPr>
                  <a:xfrm>
                    <a:off x="6264720" y="6231960"/>
                    <a:ext cx="108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5">
                        <a:moveTo>
                          <a:pt x="0" y="25"/>
                        </a:moveTo>
                        <a:lnTo>
                          <a:pt x="12" y="0"/>
                        </a:lnTo>
                        <a:lnTo>
                          <a:pt x="44" y="0"/>
                        </a:lnTo>
                        <a:lnTo>
                          <a:pt x="53" y="25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3" name=""/>
                <p:cNvGrpSpPr/>
                <p:nvPr/>
              </p:nvGrpSpPr>
              <p:grpSpPr>
                <a:xfrm>
                  <a:off x="6266880" y="6234840"/>
                  <a:ext cx="14400" cy="13320"/>
                  <a:chOff x="6266880" y="6234840"/>
                  <a:chExt cx="14400" cy="13320"/>
                </a:xfrm>
              </p:grpSpPr>
              <p:sp>
                <p:nvSpPr>
                  <p:cNvPr id="4624" name=""/>
                  <p:cNvSpPr/>
                  <p:nvPr/>
                </p:nvSpPr>
                <p:spPr>
                  <a:xfrm>
                    <a:off x="6266880" y="6234840"/>
                    <a:ext cx="54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18" y="58"/>
                        </a:moveTo>
                        <a:lnTo>
                          <a:pt x="0" y="29"/>
                        </a:lnTo>
                        <a:lnTo>
                          <a:pt x="10" y="0"/>
                        </a:lnTo>
                        <a:lnTo>
                          <a:pt x="32" y="29"/>
                        </a:lnTo>
                        <a:lnTo>
                          <a:pt x="18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5" name=""/>
                  <p:cNvSpPr/>
                  <p:nvPr/>
                </p:nvSpPr>
                <p:spPr>
                  <a:xfrm>
                    <a:off x="6268680" y="6234840"/>
                    <a:ext cx="108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0">
                        <a:moveTo>
                          <a:pt x="0" y="0"/>
                        </a:moveTo>
                        <a:lnTo>
                          <a:pt x="32" y="0"/>
                        </a:lnTo>
                        <a:lnTo>
                          <a:pt x="52" y="30"/>
                        </a:lnTo>
                        <a:lnTo>
                          <a:pt x="19" y="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6" name=""/>
                  <p:cNvSpPr/>
                  <p:nvPr/>
                </p:nvSpPr>
                <p:spPr>
                  <a:xfrm>
                    <a:off x="6270480" y="6242400"/>
                    <a:ext cx="108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4">
                        <a:moveTo>
                          <a:pt x="0" y="24"/>
                        </a:moveTo>
                        <a:lnTo>
                          <a:pt x="10" y="0"/>
                        </a:lnTo>
                        <a:lnTo>
                          <a:pt x="44" y="0"/>
                        </a:lnTo>
                        <a:lnTo>
                          <a:pt x="54" y="24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7" name=""/>
                <p:cNvGrpSpPr/>
                <p:nvPr/>
              </p:nvGrpSpPr>
              <p:grpSpPr>
                <a:xfrm>
                  <a:off x="6270480" y="6242760"/>
                  <a:ext cx="14400" cy="14040"/>
                  <a:chOff x="6270480" y="6242760"/>
                  <a:chExt cx="14400" cy="14040"/>
                </a:xfrm>
              </p:grpSpPr>
              <p:sp>
                <p:nvSpPr>
                  <p:cNvPr id="4628" name=""/>
                  <p:cNvSpPr/>
                  <p:nvPr/>
                </p:nvSpPr>
                <p:spPr>
                  <a:xfrm>
                    <a:off x="6270480" y="6242760"/>
                    <a:ext cx="54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9">
                        <a:moveTo>
                          <a:pt x="20" y="59"/>
                        </a:moveTo>
                        <a:lnTo>
                          <a:pt x="0" y="28"/>
                        </a:lnTo>
                        <a:lnTo>
                          <a:pt x="10" y="0"/>
                        </a:lnTo>
                        <a:lnTo>
                          <a:pt x="32" y="28"/>
                        </a:lnTo>
                        <a:lnTo>
                          <a:pt x="20" y="59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9" name=""/>
                  <p:cNvSpPr/>
                  <p:nvPr/>
                </p:nvSpPr>
                <p:spPr>
                  <a:xfrm>
                    <a:off x="6271920" y="6242760"/>
                    <a:ext cx="111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8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2" y="28"/>
                        </a:lnTo>
                        <a:lnTo>
                          <a:pt x="19" y="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0" name=""/>
                  <p:cNvSpPr/>
                  <p:nvPr/>
                </p:nvSpPr>
                <p:spPr>
                  <a:xfrm>
                    <a:off x="6274080" y="6251040"/>
                    <a:ext cx="108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6">
                        <a:moveTo>
                          <a:pt x="0" y="26"/>
                        </a:moveTo>
                        <a:lnTo>
                          <a:pt x="9" y="0"/>
                        </a:lnTo>
                        <a:lnTo>
                          <a:pt x="42" y="0"/>
                        </a:lnTo>
                        <a:lnTo>
                          <a:pt x="51" y="26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31" name=""/>
                <p:cNvSpPr/>
                <p:nvPr/>
              </p:nvSpPr>
              <p:spPr>
                <a:xfrm>
                  <a:off x="6215400" y="6105240"/>
                  <a:ext cx="13320" cy="5760"/>
                </a:xfrm>
                <a:custGeom>
                  <a:avLst/>
                  <a:gdLst/>
                  <a:ahLst/>
                  <a:rect l="l" t="t" r="r" b="b"/>
                  <a:pathLst>
                    <a:path w="63" h="30">
                      <a:moveTo>
                        <a:pt x="0" y="0"/>
                      </a:moveTo>
                      <a:lnTo>
                        <a:pt x="22" y="30"/>
                      </a:lnTo>
                      <a:lnTo>
                        <a:pt x="63" y="30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2" name=""/>
                <p:cNvSpPr/>
                <p:nvPr/>
              </p:nvSpPr>
              <p:spPr>
                <a:xfrm>
                  <a:off x="6223320" y="611712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3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3" y="31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3" name=""/>
                <p:cNvSpPr/>
                <p:nvPr/>
              </p:nvSpPr>
              <p:spPr>
                <a:xfrm>
                  <a:off x="6228720" y="6129720"/>
                  <a:ext cx="13320" cy="5760"/>
                </a:xfrm>
                <a:custGeom>
                  <a:avLst/>
                  <a:gdLst/>
                  <a:ahLst/>
                  <a:rect l="l" t="t" r="r" b="b"/>
                  <a:pathLst>
                    <a:path w="64" h="31">
                      <a:moveTo>
                        <a:pt x="0" y="0"/>
                      </a:moveTo>
                      <a:lnTo>
                        <a:pt x="23" y="31"/>
                      </a:lnTo>
                      <a:lnTo>
                        <a:pt x="64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4" name=""/>
                <p:cNvSpPr/>
                <p:nvPr/>
              </p:nvSpPr>
              <p:spPr>
                <a:xfrm>
                  <a:off x="6236640" y="614196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4" h="31">
                      <a:moveTo>
                        <a:pt x="0" y="0"/>
                      </a:moveTo>
                      <a:lnTo>
                        <a:pt x="23" y="31"/>
                      </a:lnTo>
                      <a:lnTo>
                        <a:pt x="64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5" name=""/>
                <p:cNvSpPr/>
                <p:nvPr/>
              </p:nvSpPr>
              <p:spPr>
                <a:xfrm>
                  <a:off x="6242040" y="6154560"/>
                  <a:ext cx="13320" cy="7920"/>
                </a:xfrm>
                <a:custGeom>
                  <a:avLst/>
                  <a:gdLst/>
                  <a:ahLst/>
                  <a:rect l="l" t="t" r="r" b="b"/>
                  <a:pathLst>
                    <a:path w="64" h="30">
                      <a:moveTo>
                        <a:pt x="0" y="0"/>
                      </a:moveTo>
                      <a:lnTo>
                        <a:pt x="23" y="30"/>
                      </a:lnTo>
                      <a:lnTo>
                        <a:pt x="64" y="30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6" name=""/>
                <p:cNvSpPr/>
                <p:nvPr/>
              </p:nvSpPr>
              <p:spPr>
                <a:xfrm>
                  <a:off x="6249960" y="61668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4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4" y="31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7" name=""/>
                <p:cNvSpPr/>
                <p:nvPr/>
              </p:nvSpPr>
              <p:spPr>
                <a:xfrm>
                  <a:off x="6257160" y="617904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5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8" name=""/>
                <p:cNvSpPr/>
                <p:nvPr/>
              </p:nvSpPr>
              <p:spPr>
                <a:xfrm>
                  <a:off x="6265080" y="619164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5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9" name=""/>
                <p:cNvSpPr/>
                <p:nvPr/>
              </p:nvSpPr>
              <p:spPr>
                <a:xfrm>
                  <a:off x="6270480" y="620352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3" h="30">
                      <a:moveTo>
                        <a:pt x="0" y="0"/>
                      </a:moveTo>
                      <a:lnTo>
                        <a:pt x="22" y="30"/>
                      </a:lnTo>
                      <a:lnTo>
                        <a:pt x="63" y="30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0" name=""/>
                <p:cNvSpPr/>
                <p:nvPr/>
              </p:nvSpPr>
              <p:spPr>
                <a:xfrm>
                  <a:off x="6278400" y="6216120"/>
                  <a:ext cx="13320" cy="792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5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1" name=""/>
                <p:cNvSpPr/>
                <p:nvPr/>
              </p:nvSpPr>
              <p:spPr>
                <a:xfrm>
                  <a:off x="6283800" y="6228360"/>
                  <a:ext cx="14760" cy="828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5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42" name=""/>
                <p:cNvGrpSpPr/>
                <p:nvPr/>
              </p:nvGrpSpPr>
              <p:grpSpPr>
                <a:xfrm>
                  <a:off x="6122520" y="6090480"/>
                  <a:ext cx="16560" cy="14040"/>
                  <a:chOff x="6122520" y="6090480"/>
                  <a:chExt cx="16560" cy="14040"/>
                </a:xfrm>
              </p:grpSpPr>
              <p:sp>
                <p:nvSpPr>
                  <p:cNvPr id="4643" name=""/>
                  <p:cNvSpPr/>
                  <p:nvPr/>
                </p:nvSpPr>
                <p:spPr>
                  <a:xfrm>
                    <a:off x="6122520" y="6090480"/>
                    <a:ext cx="3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1" y="59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9" y="27"/>
                        </a:lnTo>
                        <a:lnTo>
                          <a:pt x="11" y="59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4" name=""/>
                  <p:cNvSpPr/>
                  <p:nvPr/>
                </p:nvSpPr>
                <p:spPr>
                  <a:xfrm>
                    <a:off x="6123960" y="6090480"/>
                    <a:ext cx="111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3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9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5" name=""/>
                  <p:cNvSpPr/>
                  <p:nvPr/>
                </p:nvSpPr>
                <p:spPr>
                  <a:xfrm>
                    <a:off x="6123960" y="6096240"/>
                    <a:ext cx="15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7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46" name=""/>
                <p:cNvGrpSpPr/>
                <p:nvPr/>
              </p:nvGrpSpPr>
              <p:grpSpPr>
                <a:xfrm>
                  <a:off x="6126120" y="6100920"/>
                  <a:ext cx="16560" cy="14040"/>
                  <a:chOff x="6126120" y="6100920"/>
                  <a:chExt cx="16560" cy="14040"/>
                </a:xfrm>
              </p:grpSpPr>
              <p:sp>
                <p:nvSpPr>
                  <p:cNvPr id="4647" name=""/>
                  <p:cNvSpPr/>
                  <p:nvPr/>
                </p:nvSpPr>
                <p:spPr>
                  <a:xfrm>
                    <a:off x="6126120" y="6100920"/>
                    <a:ext cx="3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9" y="27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8" name=""/>
                  <p:cNvSpPr/>
                  <p:nvPr/>
                </p:nvSpPr>
                <p:spPr>
                  <a:xfrm>
                    <a:off x="6127560" y="6100920"/>
                    <a:ext cx="129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9" name=""/>
                  <p:cNvSpPr/>
                  <p:nvPr/>
                </p:nvSpPr>
                <p:spPr>
                  <a:xfrm>
                    <a:off x="6129720" y="6106680"/>
                    <a:ext cx="129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4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50" name=""/>
                <p:cNvGrpSpPr/>
                <p:nvPr/>
              </p:nvGrpSpPr>
              <p:grpSpPr>
                <a:xfrm>
                  <a:off x="6131880" y="6109200"/>
                  <a:ext cx="16200" cy="13320"/>
                  <a:chOff x="6131880" y="6109200"/>
                  <a:chExt cx="16200" cy="13320"/>
                </a:xfrm>
              </p:grpSpPr>
              <p:sp>
                <p:nvSpPr>
                  <p:cNvPr id="4651" name=""/>
                  <p:cNvSpPr/>
                  <p:nvPr/>
                </p:nvSpPr>
                <p:spPr>
                  <a:xfrm>
                    <a:off x="6131880" y="6109200"/>
                    <a:ext cx="36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8" y="27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2" name=""/>
                  <p:cNvSpPr/>
                  <p:nvPr/>
                </p:nvSpPr>
                <p:spPr>
                  <a:xfrm>
                    <a:off x="6133680" y="6109200"/>
                    <a:ext cx="108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7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4"/>
                        </a:lnTo>
                        <a:lnTo>
                          <a:pt x="46" y="11"/>
                        </a:lnTo>
                        <a:lnTo>
                          <a:pt x="58" y="27"/>
                        </a:lnTo>
                        <a:lnTo>
                          <a:pt x="15" y="27"/>
                        </a:lnTo>
                        <a:lnTo>
                          <a:pt x="7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3" name=""/>
                  <p:cNvSpPr/>
                  <p:nvPr/>
                </p:nvSpPr>
                <p:spPr>
                  <a:xfrm>
                    <a:off x="6133680" y="6114960"/>
                    <a:ext cx="144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7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54" name=""/>
                <p:cNvGrpSpPr/>
                <p:nvPr/>
              </p:nvGrpSpPr>
              <p:grpSpPr>
                <a:xfrm>
                  <a:off x="6135840" y="6121440"/>
                  <a:ext cx="16560" cy="14040"/>
                  <a:chOff x="6135840" y="6121440"/>
                  <a:chExt cx="16560" cy="14040"/>
                </a:xfrm>
              </p:grpSpPr>
              <p:sp>
                <p:nvSpPr>
                  <p:cNvPr id="4655" name=""/>
                  <p:cNvSpPr/>
                  <p:nvPr/>
                </p:nvSpPr>
                <p:spPr>
                  <a:xfrm>
                    <a:off x="6135840" y="6121440"/>
                    <a:ext cx="3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1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19" y="27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6" name=""/>
                  <p:cNvSpPr/>
                  <p:nvPr/>
                </p:nvSpPr>
                <p:spPr>
                  <a:xfrm>
                    <a:off x="6137280" y="6121440"/>
                    <a:ext cx="129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0"/>
                        </a:lnTo>
                        <a:lnTo>
                          <a:pt x="59" y="26"/>
                        </a:lnTo>
                        <a:lnTo>
                          <a:pt x="14" y="26"/>
                        </a:lnTo>
                        <a:lnTo>
                          <a:pt x="7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7" name=""/>
                  <p:cNvSpPr/>
                  <p:nvPr/>
                </p:nvSpPr>
                <p:spPr>
                  <a:xfrm>
                    <a:off x="6139440" y="6127200"/>
                    <a:ext cx="129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6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8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58" name=""/>
                <p:cNvGrpSpPr/>
                <p:nvPr/>
              </p:nvGrpSpPr>
              <p:grpSpPr>
                <a:xfrm>
                  <a:off x="6139440" y="6131880"/>
                  <a:ext cx="45000" cy="69480"/>
                  <a:chOff x="6139440" y="6131880"/>
                  <a:chExt cx="45000" cy="69480"/>
                </a:xfrm>
              </p:grpSpPr>
              <p:sp>
                <p:nvSpPr>
                  <p:cNvPr id="4659" name=""/>
                  <p:cNvSpPr/>
                  <p:nvPr/>
                </p:nvSpPr>
                <p:spPr>
                  <a:xfrm>
                    <a:off x="6139440" y="6131880"/>
                    <a:ext cx="320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269">
                        <a:moveTo>
                          <a:pt x="138" y="269"/>
                        </a:moveTo>
                        <a:lnTo>
                          <a:pt x="0" y="23"/>
                        </a:lnTo>
                        <a:lnTo>
                          <a:pt x="10" y="0"/>
                        </a:lnTo>
                        <a:lnTo>
                          <a:pt x="147" y="238"/>
                        </a:lnTo>
                        <a:lnTo>
                          <a:pt x="138" y="26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0" name=""/>
                  <p:cNvSpPr/>
                  <p:nvPr/>
                </p:nvSpPr>
                <p:spPr>
                  <a:xfrm>
                    <a:off x="6140880" y="6131880"/>
                    <a:ext cx="4140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240">
                        <a:moveTo>
                          <a:pt x="2" y="0"/>
                        </a:moveTo>
                        <a:lnTo>
                          <a:pt x="46" y="0"/>
                        </a:lnTo>
                        <a:lnTo>
                          <a:pt x="47" y="0"/>
                        </a:lnTo>
                        <a:lnTo>
                          <a:pt x="54" y="9"/>
                        </a:lnTo>
                        <a:lnTo>
                          <a:pt x="191" y="240"/>
                        </a:lnTo>
                        <a:lnTo>
                          <a:pt x="135" y="237"/>
                        </a:lnTo>
                        <a:lnTo>
                          <a:pt x="8" y="16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1" name=""/>
                  <p:cNvSpPr/>
                  <p:nvPr/>
                </p:nvSpPr>
                <p:spPr>
                  <a:xfrm>
                    <a:off x="6169320" y="6193080"/>
                    <a:ext cx="15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7" y="6"/>
                        </a:lnTo>
                        <a:lnTo>
                          <a:pt x="10" y="0"/>
                        </a:lnTo>
                        <a:lnTo>
                          <a:pt x="62" y="0"/>
                        </a:lnTo>
                        <a:lnTo>
                          <a:pt x="77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62" name=""/>
                <p:cNvGrpSpPr/>
                <p:nvPr/>
              </p:nvGrpSpPr>
              <p:grpSpPr>
                <a:xfrm>
                  <a:off x="6171840" y="6195600"/>
                  <a:ext cx="14400" cy="14040"/>
                  <a:chOff x="6171840" y="6195600"/>
                  <a:chExt cx="14400" cy="14040"/>
                </a:xfrm>
              </p:grpSpPr>
              <p:sp>
                <p:nvSpPr>
                  <p:cNvPr id="4663" name=""/>
                  <p:cNvSpPr/>
                  <p:nvPr/>
                </p:nvSpPr>
                <p:spPr>
                  <a:xfrm>
                    <a:off x="6171840" y="6195600"/>
                    <a:ext cx="3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9" y="27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4" name=""/>
                  <p:cNvSpPr/>
                  <p:nvPr/>
                </p:nvSpPr>
                <p:spPr>
                  <a:xfrm>
                    <a:off x="6171840" y="6195600"/>
                    <a:ext cx="129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5" name=""/>
                  <p:cNvSpPr/>
                  <p:nvPr/>
                </p:nvSpPr>
                <p:spPr>
                  <a:xfrm>
                    <a:off x="6173280" y="6201360"/>
                    <a:ext cx="129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7"/>
                        </a:lnTo>
                        <a:lnTo>
                          <a:pt x="4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66" name=""/>
                <p:cNvGrpSpPr/>
                <p:nvPr/>
              </p:nvGrpSpPr>
              <p:grpSpPr>
                <a:xfrm>
                  <a:off x="6175800" y="6206040"/>
                  <a:ext cx="16200" cy="14040"/>
                  <a:chOff x="6175800" y="6206040"/>
                  <a:chExt cx="16200" cy="14040"/>
                </a:xfrm>
              </p:grpSpPr>
              <p:sp>
                <p:nvSpPr>
                  <p:cNvPr id="4667" name=""/>
                  <p:cNvSpPr/>
                  <p:nvPr/>
                </p:nvSpPr>
                <p:spPr>
                  <a:xfrm>
                    <a:off x="6175800" y="6206040"/>
                    <a:ext cx="3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8" y="26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8" name=""/>
                  <p:cNvSpPr/>
                  <p:nvPr/>
                </p:nvSpPr>
                <p:spPr>
                  <a:xfrm>
                    <a:off x="6177240" y="6206040"/>
                    <a:ext cx="108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5" y="10"/>
                        </a:lnTo>
                        <a:lnTo>
                          <a:pt x="58" y="25"/>
                        </a:lnTo>
                        <a:lnTo>
                          <a:pt x="13" y="25"/>
                        </a:lnTo>
                        <a:lnTo>
                          <a:pt x="7" y="18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9" name=""/>
                  <p:cNvSpPr/>
                  <p:nvPr/>
                </p:nvSpPr>
                <p:spPr>
                  <a:xfrm>
                    <a:off x="6177240" y="6211800"/>
                    <a:ext cx="147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70" name=""/>
                <p:cNvGrpSpPr/>
                <p:nvPr/>
              </p:nvGrpSpPr>
              <p:grpSpPr>
                <a:xfrm>
                  <a:off x="6253200" y="6242760"/>
                  <a:ext cx="16560" cy="14040"/>
                  <a:chOff x="6253200" y="6242760"/>
                  <a:chExt cx="16560" cy="14040"/>
                </a:xfrm>
              </p:grpSpPr>
              <p:sp>
                <p:nvSpPr>
                  <p:cNvPr id="4671" name=""/>
                  <p:cNvSpPr/>
                  <p:nvPr/>
                </p:nvSpPr>
                <p:spPr>
                  <a:xfrm>
                    <a:off x="6253200" y="6242760"/>
                    <a:ext cx="3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9">
                        <a:moveTo>
                          <a:pt x="10" y="59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8" y="27"/>
                        </a:lnTo>
                        <a:lnTo>
                          <a:pt x="10" y="59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2" name=""/>
                  <p:cNvSpPr/>
                  <p:nvPr/>
                </p:nvSpPr>
                <p:spPr>
                  <a:xfrm>
                    <a:off x="6255000" y="6242760"/>
                    <a:ext cx="129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2" y="0"/>
                        </a:moveTo>
                        <a:lnTo>
                          <a:pt x="42" y="0"/>
                        </a:lnTo>
                        <a:lnTo>
                          <a:pt x="43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9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3" name=""/>
                  <p:cNvSpPr/>
                  <p:nvPr/>
                </p:nvSpPr>
                <p:spPr>
                  <a:xfrm>
                    <a:off x="6256800" y="6248520"/>
                    <a:ext cx="129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1">
                        <a:moveTo>
                          <a:pt x="0" y="31"/>
                        </a:moveTo>
                        <a:lnTo>
                          <a:pt x="2" y="17"/>
                        </a:lnTo>
                        <a:lnTo>
                          <a:pt x="6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8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74" name=""/>
                <p:cNvGrpSpPr/>
                <p:nvPr/>
              </p:nvGrpSpPr>
              <p:grpSpPr>
                <a:xfrm>
                  <a:off x="6202080" y="6226560"/>
                  <a:ext cx="16200" cy="14040"/>
                  <a:chOff x="6202080" y="6226560"/>
                  <a:chExt cx="16200" cy="14040"/>
                </a:xfrm>
              </p:grpSpPr>
              <p:sp>
                <p:nvSpPr>
                  <p:cNvPr id="4675" name=""/>
                  <p:cNvSpPr/>
                  <p:nvPr/>
                </p:nvSpPr>
                <p:spPr>
                  <a:xfrm>
                    <a:off x="6202080" y="6226560"/>
                    <a:ext cx="3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1" y="59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9" y="27"/>
                        </a:lnTo>
                        <a:lnTo>
                          <a:pt x="11" y="59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6" name=""/>
                  <p:cNvSpPr/>
                  <p:nvPr/>
                </p:nvSpPr>
                <p:spPr>
                  <a:xfrm>
                    <a:off x="6203880" y="6226560"/>
                    <a:ext cx="108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7" name=""/>
                  <p:cNvSpPr/>
                  <p:nvPr/>
                </p:nvSpPr>
                <p:spPr>
                  <a:xfrm>
                    <a:off x="6203880" y="6232320"/>
                    <a:ext cx="1440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5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78" name=""/>
                <p:cNvGrpSpPr/>
                <p:nvPr/>
              </p:nvGrpSpPr>
              <p:grpSpPr>
                <a:xfrm>
                  <a:off x="6206040" y="6234840"/>
                  <a:ext cx="14400" cy="13320"/>
                  <a:chOff x="6206040" y="6234840"/>
                  <a:chExt cx="14400" cy="13320"/>
                </a:xfrm>
              </p:grpSpPr>
              <p:sp>
                <p:nvSpPr>
                  <p:cNvPr id="4679" name=""/>
                  <p:cNvSpPr/>
                  <p:nvPr/>
                </p:nvSpPr>
                <p:spPr>
                  <a:xfrm>
                    <a:off x="6206040" y="6234840"/>
                    <a:ext cx="36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2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20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0" name=""/>
                  <p:cNvSpPr/>
                  <p:nvPr/>
                </p:nvSpPr>
                <p:spPr>
                  <a:xfrm>
                    <a:off x="6206040" y="6234840"/>
                    <a:ext cx="129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1" name=""/>
                  <p:cNvSpPr/>
                  <p:nvPr/>
                </p:nvSpPr>
                <p:spPr>
                  <a:xfrm>
                    <a:off x="6207840" y="624060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82" name=""/>
                <p:cNvSpPr/>
                <p:nvPr/>
              </p:nvSpPr>
              <p:spPr>
                <a:xfrm>
                  <a:off x="6219360" y="6234840"/>
                  <a:ext cx="9360" cy="26280"/>
                </a:xfrm>
                <a:custGeom>
                  <a:avLst/>
                  <a:gdLst/>
                  <a:ahLst/>
                  <a:rect l="l" t="t" r="r" b="b"/>
                  <a:pathLst>
                    <a:path w="41" h="110">
                      <a:moveTo>
                        <a:pt x="33" y="110"/>
                      </a:moveTo>
                      <a:lnTo>
                        <a:pt x="0" y="25"/>
                      </a:lnTo>
                      <a:lnTo>
                        <a:pt x="0" y="17"/>
                      </a:lnTo>
                      <a:lnTo>
                        <a:pt x="2" y="10"/>
                      </a:lnTo>
                      <a:lnTo>
                        <a:pt x="8" y="0"/>
                      </a:lnTo>
                      <a:lnTo>
                        <a:pt x="41" y="78"/>
                      </a:lnTo>
                      <a:lnTo>
                        <a:pt x="33" y="11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3" name=""/>
                <p:cNvSpPr/>
                <p:nvPr/>
              </p:nvSpPr>
              <p:spPr>
                <a:xfrm>
                  <a:off x="6221160" y="6234840"/>
                  <a:ext cx="32040" cy="18000"/>
                </a:xfrm>
                <a:custGeom>
                  <a:avLst/>
                  <a:gdLst/>
                  <a:ahLst/>
                  <a:rect l="l" t="t" r="r" b="b"/>
                  <a:pathLst>
                    <a:path w="149" h="72">
                      <a:moveTo>
                        <a:pt x="0" y="0"/>
                      </a:moveTo>
                      <a:lnTo>
                        <a:pt x="53" y="0"/>
                      </a:lnTo>
                      <a:lnTo>
                        <a:pt x="55" y="11"/>
                      </a:lnTo>
                      <a:lnTo>
                        <a:pt x="61" y="24"/>
                      </a:lnTo>
                      <a:lnTo>
                        <a:pt x="69" y="36"/>
                      </a:lnTo>
                      <a:lnTo>
                        <a:pt x="128" y="36"/>
                      </a:lnTo>
                      <a:lnTo>
                        <a:pt x="133" y="47"/>
                      </a:lnTo>
                      <a:lnTo>
                        <a:pt x="140" y="57"/>
                      </a:lnTo>
                      <a:lnTo>
                        <a:pt x="149" y="72"/>
                      </a:lnTo>
                      <a:lnTo>
                        <a:pt x="53" y="72"/>
                      </a:lnTo>
                      <a:lnTo>
                        <a:pt x="33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4" name=""/>
                <p:cNvSpPr/>
                <p:nvPr/>
              </p:nvSpPr>
              <p:spPr>
                <a:xfrm>
                  <a:off x="6226920" y="6253200"/>
                  <a:ext cx="28440" cy="8280"/>
                </a:xfrm>
                <a:custGeom>
                  <a:avLst/>
                  <a:gdLst/>
                  <a:ahLst/>
                  <a:rect l="l" t="t" r="r" b="b"/>
                  <a:pathLst>
                    <a:path w="130" h="30">
                      <a:moveTo>
                        <a:pt x="0" y="30"/>
                      </a:moveTo>
                      <a:lnTo>
                        <a:pt x="1" y="16"/>
                      </a:lnTo>
                      <a:lnTo>
                        <a:pt x="5" y="6"/>
                      </a:lnTo>
                      <a:lnTo>
                        <a:pt x="9" y="0"/>
                      </a:lnTo>
                      <a:lnTo>
                        <a:pt x="122" y="0"/>
                      </a:lnTo>
                      <a:lnTo>
                        <a:pt x="130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5" name=""/>
              <p:cNvGrpSpPr/>
              <p:nvPr/>
            </p:nvGrpSpPr>
            <p:grpSpPr>
              <a:xfrm>
                <a:off x="6196680" y="6278400"/>
                <a:ext cx="142200" cy="34560"/>
                <a:chOff x="6196680" y="6278400"/>
                <a:chExt cx="142200" cy="34560"/>
              </a:xfrm>
            </p:grpSpPr>
            <p:sp>
              <p:nvSpPr>
                <p:cNvPr id="4686" name=""/>
                <p:cNvSpPr/>
                <p:nvPr/>
              </p:nvSpPr>
              <p:spPr>
                <a:xfrm>
                  <a:off x="6196680" y="6278400"/>
                  <a:ext cx="142200" cy="34560"/>
                </a:xfrm>
                <a:custGeom>
                  <a:avLst/>
                  <a:gdLst/>
                  <a:ahLst/>
                  <a:rect l="l" t="t" r="r" b="b"/>
                  <a:pathLst>
                    <a:path w="669" h="130">
                      <a:moveTo>
                        <a:pt x="29" y="11"/>
                      </a:moveTo>
                      <a:lnTo>
                        <a:pt x="14" y="23"/>
                      </a:lnTo>
                      <a:lnTo>
                        <a:pt x="8" y="42"/>
                      </a:lnTo>
                      <a:lnTo>
                        <a:pt x="0" y="84"/>
                      </a:lnTo>
                      <a:lnTo>
                        <a:pt x="4" y="107"/>
                      </a:lnTo>
                      <a:lnTo>
                        <a:pt x="11" y="119"/>
                      </a:lnTo>
                      <a:lnTo>
                        <a:pt x="22" y="130"/>
                      </a:lnTo>
                      <a:lnTo>
                        <a:pt x="635" y="122"/>
                      </a:lnTo>
                      <a:lnTo>
                        <a:pt x="654" y="110"/>
                      </a:lnTo>
                      <a:lnTo>
                        <a:pt x="662" y="92"/>
                      </a:lnTo>
                      <a:lnTo>
                        <a:pt x="669" y="53"/>
                      </a:lnTo>
                      <a:lnTo>
                        <a:pt x="666" y="23"/>
                      </a:lnTo>
                      <a:lnTo>
                        <a:pt x="653" y="8"/>
                      </a:lnTo>
                      <a:lnTo>
                        <a:pt x="636" y="0"/>
                      </a:lnTo>
                      <a:lnTo>
                        <a:pt x="2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7" name=""/>
                <p:cNvSpPr/>
                <p:nvPr/>
              </p:nvSpPr>
              <p:spPr>
                <a:xfrm>
                  <a:off x="6215400" y="6286680"/>
                  <a:ext cx="111600" cy="18000"/>
                </a:xfrm>
                <a:custGeom>
                  <a:avLst/>
                  <a:gdLst/>
                  <a:ahLst/>
                  <a:rect l="l" t="t" r="r" b="b"/>
                  <a:pathLst>
                    <a:path w="533" h="68">
                      <a:moveTo>
                        <a:pt x="3" y="20"/>
                      </a:moveTo>
                      <a:lnTo>
                        <a:pt x="0" y="43"/>
                      </a:lnTo>
                      <a:lnTo>
                        <a:pt x="124" y="43"/>
                      </a:lnTo>
                      <a:lnTo>
                        <a:pt x="124" y="68"/>
                      </a:lnTo>
                      <a:lnTo>
                        <a:pt x="405" y="62"/>
                      </a:lnTo>
                      <a:lnTo>
                        <a:pt x="405" y="43"/>
                      </a:lnTo>
                      <a:lnTo>
                        <a:pt x="531" y="43"/>
                      </a:lnTo>
                      <a:lnTo>
                        <a:pt x="533" y="20"/>
                      </a:lnTo>
                      <a:lnTo>
                        <a:pt x="409" y="20"/>
                      </a:lnTo>
                      <a:lnTo>
                        <a:pt x="409" y="0"/>
                      </a:lnTo>
                      <a:lnTo>
                        <a:pt x="124" y="7"/>
                      </a:lnTo>
                      <a:lnTo>
                        <a:pt x="124" y="20"/>
                      </a:lnTo>
                      <a:lnTo>
                        <a:pt x="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8" name=""/>
                <p:cNvSpPr/>
                <p:nvPr/>
              </p:nvSpPr>
              <p:spPr>
                <a:xfrm>
                  <a:off x="6217560" y="6302880"/>
                  <a:ext cx="9360" cy="3960"/>
                </a:xfrm>
                <a:prstGeom prst="rect">
                  <a:avLst/>
                </a:prstGeom>
                <a:solidFill>
                  <a:srgbClr val="00a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9" name=""/>
                <p:cNvSpPr/>
                <p:nvPr/>
              </p:nvSpPr>
              <p:spPr>
                <a:xfrm>
                  <a:off x="6304680" y="6301080"/>
                  <a:ext cx="19080" cy="5760"/>
                </a:xfrm>
                <a:prstGeom prst="rect">
                  <a:avLst/>
                </a:prstGeom>
                <a:solidFill>
                  <a:srgbClr val="20202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0" name=""/>
              <p:cNvGrpSpPr/>
              <p:nvPr/>
            </p:nvGrpSpPr>
            <p:grpSpPr>
              <a:xfrm>
                <a:off x="6303240" y="6051600"/>
                <a:ext cx="172440" cy="212040"/>
                <a:chOff x="6303240" y="6051600"/>
                <a:chExt cx="172440" cy="212040"/>
              </a:xfrm>
            </p:grpSpPr>
            <p:sp>
              <p:nvSpPr>
                <p:cNvPr id="4691" name=""/>
                <p:cNvSpPr/>
                <p:nvPr/>
              </p:nvSpPr>
              <p:spPr>
                <a:xfrm>
                  <a:off x="6443640" y="6218280"/>
                  <a:ext cx="32040" cy="45000"/>
                </a:xfrm>
                <a:custGeom>
                  <a:avLst/>
                  <a:gdLst/>
                  <a:ahLst/>
                  <a:rect l="l" t="t" r="r" b="b"/>
                  <a:pathLst>
                    <a:path w="154" h="171">
                      <a:moveTo>
                        <a:pt x="102" y="8"/>
                      </a:moveTo>
                      <a:lnTo>
                        <a:pt x="75" y="0"/>
                      </a:lnTo>
                      <a:lnTo>
                        <a:pt x="48" y="4"/>
                      </a:lnTo>
                      <a:lnTo>
                        <a:pt x="25" y="14"/>
                      </a:lnTo>
                      <a:lnTo>
                        <a:pt x="7" y="38"/>
                      </a:lnTo>
                      <a:lnTo>
                        <a:pt x="0" y="80"/>
                      </a:lnTo>
                      <a:lnTo>
                        <a:pt x="0" y="117"/>
                      </a:lnTo>
                      <a:lnTo>
                        <a:pt x="0" y="171"/>
                      </a:lnTo>
                      <a:lnTo>
                        <a:pt x="154" y="171"/>
                      </a:lnTo>
                      <a:lnTo>
                        <a:pt x="147" y="69"/>
                      </a:lnTo>
                      <a:lnTo>
                        <a:pt x="126" y="25"/>
                      </a:lnTo>
                      <a:lnTo>
                        <a:pt x="102" y="8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2" name=""/>
                <p:cNvSpPr/>
                <p:nvPr/>
              </p:nvSpPr>
              <p:spPr>
                <a:xfrm>
                  <a:off x="6303240" y="6051600"/>
                  <a:ext cx="146160" cy="175320"/>
                </a:xfrm>
                <a:custGeom>
                  <a:avLst/>
                  <a:gdLst/>
                  <a:ahLst/>
                  <a:rect l="l" t="t" r="r" b="b"/>
                  <a:pathLst>
                    <a:path w="696" h="676">
                      <a:moveTo>
                        <a:pt x="0" y="0"/>
                      </a:moveTo>
                      <a:lnTo>
                        <a:pt x="696" y="653"/>
                      </a:lnTo>
                      <a:lnTo>
                        <a:pt x="688" y="664"/>
                      </a:lnTo>
                      <a:lnTo>
                        <a:pt x="678" y="6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3" name=""/>
                <p:cNvSpPr/>
                <p:nvPr/>
              </p:nvSpPr>
              <p:spPr>
                <a:xfrm>
                  <a:off x="6403680" y="6165000"/>
                  <a:ext cx="47160" cy="82080"/>
                </a:xfrm>
                <a:custGeom>
                  <a:avLst/>
                  <a:gdLst/>
                  <a:ahLst/>
                  <a:rect l="l" t="t" r="r" b="b"/>
                  <a:pathLst>
                    <a:path w="228" h="313">
                      <a:moveTo>
                        <a:pt x="3" y="81"/>
                      </a:moveTo>
                      <a:lnTo>
                        <a:pt x="19" y="53"/>
                      </a:lnTo>
                      <a:lnTo>
                        <a:pt x="44" y="37"/>
                      </a:lnTo>
                      <a:lnTo>
                        <a:pt x="63" y="36"/>
                      </a:lnTo>
                      <a:lnTo>
                        <a:pt x="103" y="37"/>
                      </a:lnTo>
                      <a:lnTo>
                        <a:pt x="106" y="0"/>
                      </a:lnTo>
                      <a:lnTo>
                        <a:pt x="228" y="111"/>
                      </a:lnTo>
                      <a:lnTo>
                        <a:pt x="220" y="153"/>
                      </a:lnTo>
                      <a:lnTo>
                        <a:pt x="184" y="145"/>
                      </a:lnTo>
                      <a:lnTo>
                        <a:pt x="154" y="157"/>
                      </a:lnTo>
                      <a:lnTo>
                        <a:pt x="128" y="179"/>
                      </a:lnTo>
                      <a:lnTo>
                        <a:pt x="121" y="198"/>
                      </a:lnTo>
                      <a:lnTo>
                        <a:pt x="120" y="252"/>
                      </a:lnTo>
                      <a:lnTo>
                        <a:pt x="120" y="289"/>
                      </a:lnTo>
                      <a:lnTo>
                        <a:pt x="121" y="313"/>
                      </a:lnTo>
                      <a:lnTo>
                        <a:pt x="0" y="196"/>
                      </a:lnTo>
                      <a:lnTo>
                        <a:pt x="0" y="119"/>
                      </a:lnTo>
                      <a:lnTo>
                        <a:pt x="3" y="8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4" name=""/>
                <p:cNvSpPr/>
                <p:nvPr/>
              </p:nvSpPr>
              <p:spPr>
                <a:xfrm>
                  <a:off x="6424560" y="6175440"/>
                  <a:ext cx="26640" cy="28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5" name=""/>
                <p:cNvSpPr/>
                <p:nvPr/>
              </p:nvSpPr>
              <p:spPr>
                <a:xfrm>
                  <a:off x="6306840" y="6057360"/>
                  <a:ext cx="37800" cy="63720"/>
                </a:xfrm>
                <a:custGeom>
                  <a:avLst/>
                  <a:gdLst/>
                  <a:ahLst/>
                  <a:rect l="l" t="t" r="r" b="b"/>
                  <a:pathLst>
                    <a:path w="180" h="247">
                      <a:moveTo>
                        <a:pt x="9" y="84"/>
                      </a:moveTo>
                      <a:lnTo>
                        <a:pt x="23" y="55"/>
                      </a:lnTo>
                      <a:lnTo>
                        <a:pt x="44" y="38"/>
                      </a:lnTo>
                      <a:lnTo>
                        <a:pt x="66" y="35"/>
                      </a:lnTo>
                      <a:lnTo>
                        <a:pt x="107" y="36"/>
                      </a:lnTo>
                      <a:lnTo>
                        <a:pt x="110" y="0"/>
                      </a:lnTo>
                      <a:lnTo>
                        <a:pt x="180" y="69"/>
                      </a:lnTo>
                      <a:lnTo>
                        <a:pt x="177" y="103"/>
                      </a:lnTo>
                      <a:lnTo>
                        <a:pt x="155" y="101"/>
                      </a:lnTo>
                      <a:lnTo>
                        <a:pt x="137" y="99"/>
                      </a:lnTo>
                      <a:lnTo>
                        <a:pt x="110" y="107"/>
                      </a:lnTo>
                      <a:lnTo>
                        <a:pt x="96" y="117"/>
                      </a:lnTo>
                      <a:lnTo>
                        <a:pt x="83" y="138"/>
                      </a:lnTo>
                      <a:lnTo>
                        <a:pt x="80" y="164"/>
                      </a:lnTo>
                      <a:lnTo>
                        <a:pt x="76" y="247"/>
                      </a:lnTo>
                      <a:lnTo>
                        <a:pt x="0" y="169"/>
                      </a:lnTo>
                      <a:lnTo>
                        <a:pt x="3" y="118"/>
                      </a:lnTo>
                      <a:lnTo>
                        <a:pt x="9" y="84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6" name=""/>
                <p:cNvSpPr/>
                <p:nvPr/>
              </p:nvSpPr>
              <p:spPr>
                <a:xfrm>
                  <a:off x="6381000" y="6150600"/>
                  <a:ext cx="20520" cy="41040"/>
                </a:xfrm>
                <a:custGeom>
                  <a:avLst/>
                  <a:gdLst/>
                  <a:ahLst/>
                  <a:rect l="l" t="t" r="r" b="b"/>
                  <a:pathLst>
                    <a:path w="104" h="159">
                      <a:moveTo>
                        <a:pt x="104" y="5"/>
                      </a:moveTo>
                      <a:lnTo>
                        <a:pt x="48" y="0"/>
                      </a:lnTo>
                      <a:lnTo>
                        <a:pt x="25" y="12"/>
                      </a:lnTo>
                      <a:lnTo>
                        <a:pt x="8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7" name=""/>
                <p:cNvSpPr/>
                <p:nvPr/>
              </p:nvSpPr>
              <p:spPr>
                <a:xfrm>
                  <a:off x="6375600" y="6141960"/>
                  <a:ext cx="20520" cy="41040"/>
                </a:xfrm>
                <a:custGeom>
                  <a:avLst/>
                  <a:gdLst/>
                  <a:ahLst/>
                  <a:rect l="l" t="t" r="r" b="b"/>
                  <a:pathLst>
                    <a:path w="102" h="159">
                      <a:moveTo>
                        <a:pt x="102" y="3"/>
                      </a:moveTo>
                      <a:lnTo>
                        <a:pt x="48" y="0"/>
                      </a:lnTo>
                      <a:lnTo>
                        <a:pt x="20" y="13"/>
                      </a:lnTo>
                      <a:lnTo>
                        <a:pt x="7" y="34"/>
                      </a:lnTo>
                      <a:lnTo>
                        <a:pt x="0" y="75"/>
                      </a:lnTo>
                      <a:lnTo>
                        <a:pt x="0" y="159"/>
                      </a:lnTo>
                      <a:lnTo>
                        <a:pt x="0" y="15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8" name=""/>
                <p:cNvSpPr/>
                <p:nvPr/>
              </p:nvSpPr>
              <p:spPr>
                <a:xfrm>
                  <a:off x="6369480" y="6136200"/>
                  <a:ext cx="20880" cy="4104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5"/>
                      </a:moveTo>
                      <a:lnTo>
                        <a:pt x="48" y="0"/>
                      </a:lnTo>
                      <a:lnTo>
                        <a:pt x="25" y="12"/>
                      </a:lnTo>
                      <a:lnTo>
                        <a:pt x="7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9" name=""/>
                <p:cNvSpPr/>
                <p:nvPr/>
              </p:nvSpPr>
              <p:spPr>
                <a:xfrm>
                  <a:off x="6361920" y="6127560"/>
                  <a:ext cx="22680" cy="4104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4"/>
                      </a:moveTo>
                      <a:lnTo>
                        <a:pt x="48" y="0"/>
                      </a:lnTo>
                      <a:lnTo>
                        <a:pt x="26" y="9"/>
                      </a:lnTo>
                      <a:lnTo>
                        <a:pt x="7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0" name=""/>
                <p:cNvSpPr/>
                <p:nvPr/>
              </p:nvSpPr>
              <p:spPr>
                <a:xfrm>
                  <a:off x="6356160" y="6121440"/>
                  <a:ext cx="20880" cy="4104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3"/>
                      </a:moveTo>
                      <a:lnTo>
                        <a:pt x="48" y="0"/>
                      </a:lnTo>
                      <a:lnTo>
                        <a:pt x="26" y="11"/>
                      </a:lnTo>
                      <a:lnTo>
                        <a:pt x="8" y="34"/>
                      </a:lnTo>
                      <a:lnTo>
                        <a:pt x="0" y="75"/>
                      </a:lnTo>
                      <a:lnTo>
                        <a:pt x="0" y="159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1" name=""/>
                <p:cNvSpPr/>
                <p:nvPr/>
              </p:nvSpPr>
              <p:spPr>
                <a:xfrm>
                  <a:off x="6350400" y="6113160"/>
                  <a:ext cx="20880" cy="4140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3"/>
                      </a:moveTo>
                      <a:lnTo>
                        <a:pt x="47" y="0"/>
                      </a:lnTo>
                      <a:lnTo>
                        <a:pt x="26" y="12"/>
                      </a:lnTo>
                      <a:lnTo>
                        <a:pt x="7" y="34"/>
                      </a:lnTo>
                      <a:lnTo>
                        <a:pt x="0" y="75"/>
                      </a:lnTo>
                      <a:lnTo>
                        <a:pt x="0" y="159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2" name=""/>
                <p:cNvSpPr/>
                <p:nvPr/>
              </p:nvSpPr>
              <p:spPr>
                <a:xfrm>
                  <a:off x="6345000" y="6105240"/>
                  <a:ext cx="20880" cy="4104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4"/>
                      </a:moveTo>
                      <a:lnTo>
                        <a:pt x="48" y="0"/>
                      </a:lnTo>
                      <a:lnTo>
                        <a:pt x="26" y="13"/>
                      </a:lnTo>
                      <a:lnTo>
                        <a:pt x="7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3" name=""/>
                <p:cNvSpPr/>
                <p:nvPr/>
              </p:nvSpPr>
              <p:spPr>
                <a:xfrm>
                  <a:off x="6337080" y="6099120"/>
                  <a:ext cx="22680" cy="41040"/>
                </a:xfrm>
                <a:custGeom>
                  <a:avLst/>
                  <a:gdLst/>
                  <a:ahLst/>
                  <a:rect l="l" t="t" r="r" b="b"/>
                  <a:pathLst>
                    <a:path w="102" h="159">
                      <a:moveTo>
                        <a:pt x="102" y="3"/>
                      </a:moveTo>
                      <a:lnTo>
                        <a:pt x="48" y="0"/>
                      </a:lnTo>
                      <a:lnTo>
                        <a:pt x="26" y="11"/>
                      </a:lnTo>
                      <a:lnTo>
                        <a:pt x="7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4" name=""/>
                <p:cNvSpPr/>
                <p:nvPr/>
              </p:nvSpPr>
              <p:spPr>
                <a:xfrm>
                  <a:off x="6329880" y="60678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77" h="64">
                      <a:moveTo>
                        <a:pt x="0" y="0"/>
                      </a:moveTo>
                      <a:lnTo>
                        <a:pt x="72" y="64"/>
                      </a:lnTo>
                      <a:lnTo>
                        <a:pt x="77" y="64"/>
                      </a:lnTo>
                      <a:lnTo>
                        <a:pt x="75" y="6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5" name=""/>
                <p:cNvSpPr/>
                <p:nvPr/>
              </p:nvSpPr>
              <p:spPr>
                <a:xfrm>
                  <a:off x="6341040" y="6247440"/>
                  <a:ext cx="26640" cy="162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6" name=""/>
                <p:cNvSpPr/>
                <p:nvPr/>
              </p:nvSpPr>
              <p:spPr>
                <a:xfrm>
                  <a:off x="6373440" y="6245640"/>
                  <a:ext cx="26640" cy="162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7" name=""/>
                <p:cNvSpPr/>
                <p:nvPr/>
              </p:nvSpPr>
              <p:spPr>
                <a:xfrm>
                  <a:off x="6400080" y="6255720"/>
                  <a:ext cx="32040" cy="3600"/>
                </a:xfrm>
                <a:custGeom>
                  <a:avLst/>
                  <a:gdLst/>
                  <a:ahLst/>
                  <a:rect l="l" t="t" r="r" b="b"/>
                  <a:pathLst>
                    <a:path w="152" h="22">
                      <a:moveTo>
                        <a:pt x="0" y="22"/>
                      </a:moveTo>
                      <a:lnTo>
                        <a:pt x="4" y="0"/>
                      </a:lnTo>
                      <a:lnTo>
                        <a:pt x="142" y="0"/>
                      </a:lnTo>
                      <a:lnTo>
                        <a:pt x="152" y="16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8" name=""/>
                <p:cNvSpPr/>
                <p:nvPr/>
              </p:nvSpPr>
              <p:spPr>
                <a:xfrm>
                  <a:off x="6341040" y="6243120"/>
                  <a:ext cx="26640" cy="18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9" name=""/>
                <p:cNvSpPr/>
                <p:nvPr/>
              </p:nvSpPr>
              <p:spPr>
                <a:xfrm>
                  <a:off x="6371640" y="6243120"/>
                  <a:ext cx="25920" cy="16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710" name=""/>
          <p:cNvSpPr/>
          <p:nvPr/>
        </p:nvSpPr>
        <p:spPr>
          <a:xfrm flipH="1" rot="16440000">
            <a:off x="573480" y="3468240"/>
            <a:ext cx="228600" cy="30492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1" name="E286%20copy" descr=""/>
          <p:cNvPicPr/>
          <p:nvPr/>
        </p:nvPicPr>
        <p:blipFill>
          <a:blip r:embed="rId15">
            <a:lum bright="6000"/>
          </a:blip>
          <a:stretch/>
        </p:blipFill>
        <p:spPr>
          <a:xfrm>
            <a:off x="76320" y="1981080"/>
            <a:ext cx="419040" cy="619200"/>
          </a:xfrm>
          <a:prstGeom prst="rect">
            <a:avLst/>
          </a:prstGeom>
          <a:ln w="0">
            <a:noFill/>
          </a:ln>
        </p:spPr>
      </p:pic>
      <p:pic>
        <p:nvPicPr>
          <p:cNvPr id="4712" name="" descr=""/>
          <p:cNvPicPr/>
          <p:nvPr/>
        </p:nvPicPr>
        <p:blipFill>
          <a:blip r:embed="rId16"/>
          <a:stretch/>
        </p:blipFill>
        <p:spPr>
          <a:xfrm>
            <a:off x="380880" y="2895480"/>
            <a:ext cx="685800" cy="162000"/>
          </a:xfrm>
          <a:prstGeom prst="rect">
            <a:avLst/>
          </a:prstGeom>
          <a:ln w="0">
            <a:noFill/>
          </a:ln>
        </p:spPr>
      </p:pic>
      <p:sp>
        <p:nvSpPr>
          <p:cNvPr id="4713" name=""/>
          <p:cNvSpPr/>
          <p:nvPr/>
        </p:nvSpPr>
        <p:spPr>
          <a:xfrm flipH="1" rot="1344600">
            <a:off x="89640" y="2668680"/>
            <a:ext cx="381240" cy="914400"/>
          </a:xfrm>
          <a:custGeom>
            <a:avLst/>
            <a:gdLst/>
            <a:ahLst/>
            <a:rect l="l" t="t" r="r" b="b"/>
            <a:pathLst>
              <a:path w="1567" h="1498">
                <a:moveTo>
                  <a:pt x="0" y="1498"/>
                </a:moveTo>
                <a:lnTo>
                  <a:pt x="799" y="618"/>
                </a:lnTo>
                <a:lnTo>
                  <a:pt x="762" y="808"/>
                </a:lnTo>
                <a:lnTo>
                  <a:pt x="1567" y="0"/>
                </a:lnTo>
                <a:lnTo>
                  <a:pt x="645" y="1043"/>
                </a:lnTo>
                <a:lnTo>
                  <a:pt x="653" y="857"/>
                </a:lnTo>
                <a:lnTo>
                  <a:pt x="0" y="1498"/>
                </a:lnTo>
              </a:path>
            </a:pathLst>
          </a:custGeom>
          <a:solidFill>
            <a:srgbClr val="3333cc"/>
          </a:solidFill>
          <a:ln w="0">
            <a:solidFill>
              <a:srgbClr val="33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4" name=""/>
          <p:cNvGrpSpPr/>
          <p:nvPr/>
        </p:nvGrpSpPr>
        <p:grpSpPr>
          <a:xfrm>
            <a:off x="152280" y="3657600"/>
            <a:ext cx="381240" cy="468360"/>
            <a:chOff x="152280" y="3657600"/>
            <a:chExt cx="381240" cy="468360"/>
          </a:xfrm>
        </p:grpSpPr>
        <p:grpSp>
          <p:nvGrpSpPr>
            <p:cNvPr id="4715" name=""/>
            <p:cNvGrpSpPr/>
            <p:nvPr/>
          </p:nvGrpSpPr>
          <p:grpSpPr>
            <a:xfrm>
              <a:off x="328680" y="3657600"/>
              <a:ext cx="204840" cy="397080"/>
              <a:chOff x="328680" y="3657600"/>
              <a:chExt cx="204840" cy="397080"/>
            </a:xfrm>
          </p:grpSpPr>
          <p:sp>
            <p:nvSpPr>
              <p:cNvPr id="4716" name=""/>
              <p:cNvSpPr/>
              <p:nvPr/>
            </p:nvSpPr>
            <p:spPr>
              <a:xfrm>
                <a:off x="328680" y="3657600"/>
                <a:ext cx="203040" cy="392040"/>
              </a:xfrm>
              <a:custGeom>
                <a:avLst/>
                <a:gdLst/>
                <a:ahLst/>
                <a:rect l="l" t="t" r="r" b="b"/>
                <a:pathLst>
                  <a:path w="1155" h="1975">
                    <a:moveTo>
                      <a:pt x="804" y="1960"/>
                    </a:moveTo>
                    <a:lnTo>
                      <a:pt x="782" y="1975"/>
                    </a:lnTo>
                    <a:lnTo>
                      <a:pt x="0" y="1250"/>
                    </a:lnTo>
                    <a:lnTo>
                      <a:pt x="264" y="51"/>
                    </a:lnTo>
                    <a:lnTo>
                      <a:pt x="299" y="15"/>
                    </a:lnTo>
                    <a:lnTo>
                      <a:pt x="335" y="0"/>
                    </a:lnTo>
                    <a:lnTo>
                      <a:pt x="370" y="8"/>
                    </a:lnTo>
                    <a:lnTo>
                      <a:pt x="1119" y="342"/>
                    </a:lnTo>
                    <a:lnTo>
                      <a:pt x="1144" y="360"/>
                    </a:lnTo>
                    <a:lnTo>
                      <a:pt x="1152" y="363"/>
                    </a:lnTo>
                    <a:lnTo>
                      <a:pt x="1155" y="381"/>
                    </a:lnTo>
                    <a:lnTo>
                      <a:pt x="824" y="1972"/>
                    </a:lnTo>
                    <a:lnTo>
                      <a:pt x="804" y="196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450720" y="3718080"/>
                <a:ext cx="82800" cy="336600"/>
              </a:xfrm>
              <a:custGeom>
                <a:avLst/>
                <a:gdLst/>
                <a:ahLst/>
                <a:rect l="l" t="t" r="r" b="b"/>
                <a:pathLst>
                  <a:path w="465" h="1692">
                    <a:moveTo>
                      <a:pt x="465" y="73"/>
                    </a:moveTo>
                    <a:lnTo>
                      <a:pt x="460" y="113"/>
                    </a:lnTo>
                    <a:lnTo>
                      <a:pt x="126" y="1644"/>
                    </a:lnTo>
                    <a:lnTo>
                      <a:pt x="123" y="1672"/>
                    </a:lnTo>
                    <a:lnTo>
                      <a:pt x="113" y="1686"/>
                    </a:lnTo>
                    <a:lnTo>
                      <a:pt x="102" y="1692"/>
                    </a:lnTo>
                    <a:lnTo>
                      <a:pt x="90" y="1688"/>
                    </a:lnTo>
                    <a:lnTo>
                      <a:pt x="70" y="1672"/>
                    </a:lnTo>
                    <a:lnTo>
                      <a:pt x="0" y="1607"/>
                    </a:lnTo>
                    <a:lnTo>
                      <a:pt x="344" y="33"/>
                    </a:lnTo>
                    <a:lnTo>
                      <a:pt x="340" y="23"/>
                    </a:lnTo>
                    <a:lnTo>
                      <a:pt x="321" y="0"/>
                    </a:lnTo>
                    <a:lnTo>
                      <a:pt x="360" y="16"/>
                    </a:lnTo>
                    <a:lnTo>
                      <a:pt x="438" y="51"/>
                    </a:lnTo>
                    <a:lnTo>
                      <a:pt x="453" y="63"/>
                    </a:lnTo>
                    <a:lnTo>
                      <a:pt x="465" y="73"/>
                    </a:lnTo>
                    <a:close/>
                  </a:path>
                </a:pathLst>
              </a:custGeom>
              <a:solidFill>
                <a:srgbClr val="202020"/>
              </a:solidFill>
              <a:ln w="144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8" name=""/>
            <p:cNvSpPr/>
            <p:nvPr/>
          </p:nvSpPr>
          <p:spPr>
            <a:xfrm>
              <a:off x="384120" y="3657600"/>
              <a:ext cx="149400" cy="76320"/>
            </a:xfrm>
            <a:custGeom>
              <a:avLst/>
              <a:gdLst/>
              <a:ahLst/>
              <a:rect l="l" t="t" r="r" b="b"/>
              <a:pathLst>
                <a:path w="847" h="378">
                  <a:moveTo>
                    <a:pt x="0" y="0"/>
                  </a:moveTo>
                  <a:lnTo>
                    <a:pt x="26" y="1"/>
                  </a:lnTo>
                  <a:lnTo>
                    <a:pt x="50" y="9"/>
                  </a:lnTo>
                  <a:lnTo>
                    <a:pt x="815" y="350"/>
                  </a:lnTo>
                  <a:lnTo>
                    <a:pt x="840" y="365"/>
                  </a:lnTo>
                  <a:lnTo>
                    <a:pt x="847" y="3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02020"/>
            </a:solidFill>
            <a:ln w="1440">
              <a:solidFill>
                <a:srgbClr val="202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9" name=""/>
            <p:cNvGrpSpPr/>
            <p:nvPr/>
          </p:nvGrpSpPr>
          <p:grpSpPr>
            <a:xfrm>
              <a:off x="326880" y="3657600"/>
              <a:ext cx="160560" cy="336600"/>
              <a:chOff x="326880" y="3657600"/>
              <a:chExt cx="160560" cy="336600"/>
            </a:xfrm>
          </p:grpSpPr>
          <p:sp>
            <p:nvSpPr>
              <p:cNvPr id="4720" name=""/>
              <p:cNvSpPr/>
              <p:nvPr/>
            </p:nvSpPr>
            <p:spPr>
              <a:xfrm>
                <a:off x="351000" y="3702240"/>
                <a:ext cx="136440" cy="291960"/>
              </a:xfrm>
              <a:custGeom>
                <a:avLst/>
                <a:gdLst/>
                <a:ahLst/>
                <a:rect l="l" t="t" r="r" b="b"/>
                <a:pathLst>
                  <a:path w="775" h="1470">
                    <a:moveTo>
                      <a:pt x="502" y="1470"/>
                    </a:moveTo>
                    <a:lnTo>
                      <a:pt x="0" y="1036"/>
                    </a:lnTo>
                    <a:lnTo>
                      <a:pt x="236" y="0"/>
                    </a:lnTo>
                    <a:lnTo>
                      <a:pt x="775" y="267"/>
                    </a:lnTo>
                    <a:lnTo>
                      <a:pt x="502" y="147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357120" y="3713400"/>
                <a:ext cx="122400" cy="268200"/>
              </a:xfrm>
              <a:custGeom>
                <a:avLst/>
                <a:gdLst/>
                <a:ahLst/>
                <a:rect l="l" t="t" r="r" b="b"/>
                <a:pathLst>
                  <a:path w="698" h="1358">
                    <a:moveTo>
                      <a:pt x="442" y="1358"/>
                    </a:moveTo>
                    <a:lnTo>
                      <a:pt x="0" y="969"/>
                    </a:lnTo>
                    <a:lnTo>
                      <a:pt x="220" y="0"/>
                    </a:lnTo>
                    <a:lnTo>
                      <a:pt x="698" y="229"/>
                    </a:lnTo>
                    <a:lnTo>
                      <a:pt x="442" y="1358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326880" y="3657600"/>
                <a:ext cx="57240" cy="250920"/>
              </a:xfrm>
              <a:custGeom>
                <a:avLst/>
                <a:gdLst/>
                <a:ahLst/>
                <a:rect l="l" t="t" r="r" b="b"/>
                <a:pathLst>
                  <a:path w="330" h="1265">
                    <a:moveTo>
                      <a:pt x="319" y="0"/>
                    </a:moveTo>
                    <a:lnTo>
                      <a:pt x="300" y="9"/>
                    </a:lnTo>
                    <a:lnTo>
                      <a:pt x="289" y="17"/>
                    </a:lnTo>
                    <a:lnTo>
                      <a:pt x="274" y="32"/>
                    </a:lnTo>
                    <a:lnTo>
                      <a:pt x="263" y="51"/>
                    </a:lnTo>
                    <a:lnTo>
                      <a:pt x="259" y="66"/>
                    </a:lnTo>
                    <a:lnTo>
                      <a:pt x="0" y="1248"/>
                    </a:lnTo>
                    <a:lnTo>
                      <a:pt x="10" y="1265"/>
                    </a:lnTo>
                    <a:lnTo>
                      <a:pt x="273" y="66"/>
                    </a:lnTo>
                    <a:lnTo>
                      <a:pt x="280" y="48"/>
                    </a:lnTo>
                    <a:lnTo>
                      <a:pt x="288" y="36"/>
                    </a:lnTo>
                    <a:lnTo>
                      <a:pt x="298" y="25"/>
                    </a:lnTo>
                    <a:lnTo>
                      <a:pt x="311" y="17"/>
                    </a:lnTo>
                    <a:lnTo>
                      <a:pt x="324" y="10"/>
                    </a:lnTo>
                    <a:lnTo>
                      <a:pt x="330" y="4"/>
                    </a:lnTo>
                    <a:lnTo>
                      <a:pt x="319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3" name=""/>
            <p:cNvGrpSpPr/>
            <p:nvPr/>
          </p:nvGrpSpPr>
          <p:grpSpPr>
            <a:xfrm>
              <a:off x="152280" y="3916440"/>
              <a:ext cx="319320" cy="209520"/>
              <a:chOff x="152280" y="3916440"/>
              <a:chExt cx="319320" cy="209520"/>
            </a:xfrm>
          </p:grpSpPr>
          <p:grpSp>
            <p:nvGrpSpPr>
              <p:cNvPr id="4724" name=""/>
              <p:cNvGrpSpPr/>
              <p:nvPr/>
            </p:nvGrpSpPr>
            <p:grpSpPr>
              <a:xfrm>
                <a:off x="152280" y="3917880"/>
                <a:ext cx="319320" cy="208080"/>
                <a:chOff x="152280" y="3917880"/>
                <a:chExt cx="319320" cy="208080"/>
              </a:xfrm>
            </p:grpSpPr>
            <p:sp>
              <p:nvSpPr>
                <p:cNvPr id="4725" name=""/>
                <p:cNvSpPr/>
                <p:nvPr/>
              </p:nvSpPr>
              <p:spPr>
                <a:xfrm>
                  <a:off x="317520" y="3917880"/>
                  <a:ext cx="152280" cy="163800"/>
                </a:xfrm>
                <a:custGeom>
                  <a:avLst/>
                  <a:gdLst/>
                  <a:ahLst/>
                  <a:rect l="l" t="t" r="r" b="b"/>
                  <a:pathLst>
                    <a:path w="863" h="823">
                      <a:moveTo>
                        <a:pt x="863" y="823"/>
                      </a:moveTo>
                      <a:lnTo>
                        <a:pt x="848" y="713"/>
                      </a:lnTo>
                      <a:lnTo>
                        <a:pt x="823" y="663"/>
                      </a:lnTo>
                      <a:lnTo>
                        <a:pt x="111" y="2"/>
                      </a:lnTo>
                      <a:lnTo>
                        <a:pt x="78" y="0"/>
                      </a:lnTo>
                      <a:lnTo>
                        <a:pt x="48" y="2"/>
                      </a:lnTo>
                      <a:lnTo>
                        <a:pt x="26" y="36"/>
                      </a:lnTo>
                      <a:lnTo>
                        <a:pt x="0" y="124"/>
                      </a:lnTo>
                      <a:lnTo>
                        <a:pt x="701" y="816"/>
                      </a:lnTo>
                      <a:lnTo>
                        <a:pt x="863" y="823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6" name=""/>
                <p:cNvSpPr/>
                <p:nvPr/>
              </p:nvSpPr>
              <p:spPr>
                <a:xfrm>
                  <a:off x="157320" y="3938760"/>
                  <a:ext cx="282600" cy="146160"/>
                </a:xfrm>
                <a:custGeom>
                  <a:avLst/>
                  <a:gdLst/>
                  <a:ahLst/>
                  <a:rect l="l" t="t" r="r" b="b"/>
                  <a:pathLst>
                    <a:path w="1595" h="738">
                      <a:moveTo>
                        <a:pt x="0" y="0"/>
                      </a:moveTo>
                      <a:lnTo>
                        <a:pt x="908" y="21"/>
                      </a:lnTo>
                      <a:lnTo>
                        <a:pt x="1595" y="696"/>
                      </a:lnTo>
                      <a:lnTo>
                        <a:pt x="388" y="7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7" name=""/>
                <p:cNvSpPr/>
                <p:nvPr/>
              </p:nvSpPr>
              <p:spPr>
                <a:xfrm>
                  <a:off x="217440" y="4075200"/>
                  <a:ext cx="254160" cy="50760"/>
                </a:xfrm>
                <a:custGeom>
                  <a:avLst/>
                  <a:gdLst/>
                  <a:ahLst/>
                  <a:rect l="l" t="t" r="r" b="b"/>
                  <a:pathLst>
                    <a:path w="1440" h="254">
                      <a:moveTo>
                        <a:pt x="43" y="45"/>
                      </a:moveTo>
                      <a:lnTo>
                        <a:pt x="0" y="254"/>
                      </a:lnTo>
                      <a:lnTo>
                        <a:pt x="1425" y="220"/>
                      </a:lnTo>
                      <a:lnTo>
                        <a:pt x="1440" y="148"/>
                      </a:lnTo>
                      <a:lnTo>
                        <a:pt x="1436" y="64"/>
                      </a:lnTo>
                      <a:lnTo>
                        <a:pt x="1432" y="0"/>
                      </a:lnTo>
                      <a:lnTo>
                        <a:pt x="43" y="45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8" name=""/>
                <p:cNvSpPr/>
                <p:nvPr/>
              </p:nvSpPr>
              <p:spPr>
                <a:xfrm>
                  <a:off x="152280" y="3938760"/>
                  <a:ext cx="73080" cy="187200"/>
                </a:xfrm>
                <a:custGeom>
                  <a:avLst/>
                  <a:gdLst/>
                  <a:ahLst/>
                  <a:rect l="l" t="t" r="r" b="b"/>
                  <a:pathLst>
                    <a:path w="415" h="946">
                      <a:moveTo>
                        <a:pt x="30" y="0"/>
                      </a:moveTo>
                      <a:lnTo>
                        <a:pt x="0" y="171"/>
                      </a:lnTo>
                      <a:lnTo>
                        <a:pt x="371" y="946"/>
                      </a:lnTo>
                      <a:lnTo>
                        <a:pt x="415" y="73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9" name=""/>
                <p:cNvSpPr/>
                <p:nvPr/>
              </p:nvSpPr>
              <p:spPr>
                <a:xfrm>
                  <a:off x="318960" y="4076640"/>
                  <a:ext cx="38160" cy="3240"/>
                </a:xfrm>
                <a:custGeom>
                  <a:avLst/>
                  <a:gdLst/>
                  <a:ahLst/>
                  <a:rect l="l" t="t" r="r" b="b"/>
                  <a:pathLst>
                    <a:path w="213" h="22">
                      <a:moveTo>
                        <a:pt x="2" y="22"/>
                      </a:moveTo>
                      <a:lnTo>
                        <a:pt x="0" y="0"/>
                      </a:lnTo>
                      <a:lnTo>
                        <a:pt x="202" y="0"/>
                      </a:lnTo>
                      <a:lnTo>
                        <a:pt x="213" y="17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0" name=""/>
                <p:cNvSpPr/>
                <p:nvPr/>
              </p:nvSpPr>
              <p:spPr>
                <a:xfrm>
                  <a:off x="239760" y="3938760"/>
                  <a:ext cx="79200" cy="142920"/>
                </a:xfrm>
                <a:custGeom>
                  <a:avLst/>
                  <a:gdLst/>
                  <a:ahLst/>
                  <a:rect l="l" t="t" r="r" b="b"/>
                  <a:pathLst>
                    <a:path w="455" h="714">
                      <a:moveTo>
                        <a:pt x="452" y="685"/>
                      </a:moveTo>
                      <a:lnTo>
                        <a:pt x="0" y="0"/>
                      </a:lnTo>
                      <a:lnTo>
                        <a:pt x="455" y="714"/>
                      </a:lnTo>
                      <a:lnTo>
                        <a:pt x="452" y="685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1" name=""/>
              <p:cNvGrpSpPr/>
              <p:nvPr/>
            </p:nvGrpSpPr>
            <p:grpSpPr>
              <a:xfrm>
                <a:off x="174600" y="3942000"/>
                <a:ext cx="147600" cy="136440"/>
                <a:chOff x="174600" y="3942000"/>
                <a:chExt cx="147600" cy="136440"/>
              </a:xfrm>
            </p:grpSpPr>
            <p:grpSp>
              <p:nvGrpSpPr>
                <p:cNvPr id="4732" name=""/>
                <p:cNvGrpSpPr/>
                <p:nvPr/>
              </p:nvGrpSpPr>
              <p:grpSpPr>
                <a:xfrm>
                  <a:off x="184320" y="3944880"/>
                  <a:ext cx="14040" cy="12960"/>
                  <a:chOff x="184320" y="3944880"/>
                  <a:chExt cx="14040" cy="12960"/>
                </a:xfrm>
              </p:grpSpPr>
              <p:sp>
                <p:nvSpPr>
                  <p:cNvPr id="4733" name=""/>
                  <p:cNvSpPr/>
                  <p:nvPr/>
                </p:nvSpPr>
                <p:spPr>
                  <a:xfrm>
                    <a:off x="184320" y="3944880"/>
                    <a:ext cx="2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8" y="26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4" name=""/>
                  <p:cNvSpPr/>
                  <p:nvPr/>
                </p:nvSpPr>
                <p:spPr>
                  <a:xfrm>
                    <a:off x="185760" y="394668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4" y="10"/>
                        </a:lnTo>
                        <a:lnTo>
                          <a:pt x="58" y="25"/>
                        </a:lnTo>
                        <a:lnTo>
                          <a:pt x="14" y="25"/>
                        </a:lnTo>
                        <a:lnTo>
                          <a:pt x="6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5" name=""/>
                  <p:cNvSpPr/>
                  <p:nvPr/>
                </p:nvSpPr>
                <p:spPr>
                  <a:xfrm>
                    <a:off x="187200" y="395136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5" y="7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36" name=""/>
                <p:cNvGrpSpPr/>
                <p:nvPr/>
              </p:nvGrpSpPr>
              <p:grpSpPr>
                <a:xfrm>
                  <a:off x="187200" y="3953160"/>
                  <a:ext cx="14400" cy="10800"/>
                  <a:chOff x="187200" y="3953160"/>
                  <a:chExt cx="14400" cy="10800"/>
                </a:xfrm>
              </p:grpSpPr>
              <p:sp>
                <p:nvSpPr>
                  <p:cNvPr id="4737" name=""/>
                  <p:cNvSpPr/>
                  <p:nvPr/>
                </p:nvSpPr>
                <p:spPr>
                  <a:xfrm>
                    <a:off x="187200" y="3953160"/>
                    <a:ext cx="50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1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8" name=""/>
                  <p:cNvSpPr/>
                  <p:nvPr/>
                </p:nvSpPr>
                <p:spPr>
                  <a:xfrm>
                    <a:off x="189000" y="39531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39" y="0"/>
                        </a:lnTo>
                        <a:lnTo>
                          <a:pt x="40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7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9" name=""/>
                  <p:cNvSpPr/>
                  <p:nvPr/>
                </p:nvSpPr>
                <p:spPr>
                  <a:xfrm>
                    <a:off x="190440" y="395784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4" y="7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40" name=""/>
                <p:cNvSpPr/>
                <p:nvPr/>
              </p:nvSpPr>
              <p:spPr>
                <a:xfrm>
                  <a:off x="246240" y="3948120"/>
                  <a:ext cx="10800" cy="5040"/>
                </a:xfrm>
                <a:custGeom>
                  <a:avLst/>
                  <a:gdLst/>
                  <a:ahLst/>
                  <a:rect l="l" t="t" r="r" b="b"/>
                  <a:pathLst>
                    <a:path w="63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3" y="31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1" name=""/>
                <p:cNvSpPr/>
                <p:nvPr/>
              </p:nvSpPr>
              <p:spPr>
                <a:xfrm>
                  <a:off x="220680" y="394668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20" h="58">
                      <a:moveTo>
                        <a:pt x="12" y="58"/>
                      </a:moveTo>
                      <a:lnTo>
                        <a:pt x="0" y="23"/>
                      </a:lnTo>
                      <a:lnTo>
                        <a:pt x="9" y="0"/>
                      </a:lnTo>
                      <a:lnTo>
                        <a:pt x="20" y="26"/>
                      </a:lnTo>
                      <a:lnTo>
                        <a:pt x="12" y="58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2" name=""/>
                <p:cNvSpPr/>
                <p:nvPr/>
              </p:nvSpPr>
              <p:spPr>
                <a:xfrm>
                  <a:off x="222120" y="394668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57" h="25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41" y="2"/>
                      </a:lnTo>
                      <a:lnTo>
                        <a:pt x="44" y="11"/>
                      </a:lnTo>
                      <a:lnTo>
                        <a:pt x="57" y="25"/>
                      </a:lnTo>
                      <a:lnTo>
                        <a:pt x="13" y="25"/>
                      </a:lnTo>
                      <a:lnTo>
                        <a:pt x="5" y="17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3" name=""/>
                <p:cNvSpPr/>
                <p:nvPr/>
              </p:nvSpPr>
              <p:spPr>
                <a:xfrm>
                  <a:off x="222120" y="3951360"/>
                  <a:ext cx="12960" cy="6480"/>
                </a:xfrm>
                <a:custGeom>
                  <a:avLst/>
                  <a:gdLst/>
                  <a:ahLst/>
                  <a:rect l="l" t="t" r="r" b="b"/>
                  <a:pathLst>
                    <a:path w="67" h="31">
                      <a:moveTo>
                        <a:pt x="0" y="31"/>
                      </a:moveTo>
                      <a:lnTo>
                        <a:pt x="1" y="17"/>
                      </a:lnTo>
                      <a:lnTo>
                        <a:pt x="6" y="7"/>
                      </a:lnTo>
                      <a:lnTo>
                        <a:pt x="9" y="0"/>
                      </a:lnTo>
                      <a:lnTo>
                        <a:pt x="55" y="0"/>
                      </a:lnTo>
                      <a:lnTo>
                        <a:pt x="67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44" name=""/>
                <p:cNvGrpSpPr/>
                <p:nvPr/>
              </p:nvGrpSpPr>
              <p:grpSpPr>
                <a:xfrm>
                  <a:off x="223920" y="3953160"/>
                  <a:ext cx="14040" cy="10800"/>
                  <a:chOff x="223920" y="3953160"/>
                  <a:chExt cx="14040" cy="10800"/>
                </a:xfrm>
              </p:grpSpPr>
              <p:sp>
                <p:nvSpPr>
                  <p:cNvPr id="4745" name=""/>
                  <p:cNvSpPr/>
                  <p:nvPr/>
                </p:nvSpPr>
                <p:spPr>
                  <a:xfrm>
                    <a:off x="223920" y="3953160"/>
                    <a:ext cx="32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1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1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6" name=""/>
                  <p:cNvSpPr/>
                  <p:nvPr/>
                </p:nvSpPr>
                <p:spPr>
                  <a:xfrm>
                    <a:off x="225360" y="395316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9"/>
                        </a:lnTo>
                        <a:lnTo>
                          <a:pt x="59" y="25"/>
                        </a:lnTo>
                        <a:lnTo>
                          <a:pt x="15" y="25"/>
                        </a:lnTo>
                        <a:lnTo>
                          <a:pt x="8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7" name=""/>
                  <p:cNvSpPr/>
                  <p:nvPr/>
                </p:nvSpPr>
                <p:spPr>
                  <a:xfrm>
                    <a:off x="225360" y="395784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1">
                        <a:moveTo>
                          <a:pt x="0" y="31"/>
                        </a:moveTo>
                        <a:lnTo>
                          <a:pt x="3" y="16"/>
                        </a:lnTo>
                        <a:lnTo>
                          <a:pt x="6" y="6"/>
                        </a:lnTo>
                        <a:lnTo>
                          <a:pt x="10" y="0"/>
                        </a:lnTo>
                        <a:lnTo>
                          <a:pt x="55" y="0"/>
                        </a:lnTo>
                        <a:lnTo>
                          <a:pt x="68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8" name=""/>
                <p:cNvGrpSpPr/>
                <p:nvPr/>
              </p:nvGrpSpPr>
              <p:grpSpPr>
                <a:xfrm>
                  <a:off x="227160" y="3959280"/>
                  <a:ext cx="14040" cy="11160"/>
                  <a:chOff x="227160" y="3959280"/>
                  <a:chExt cx="14040" cy="11160"/>
                </a:xfrm>
              </p:grpSpPr>
              <p:sp>
                <p:nvSpPr>
                  <p:cNvPr id="4749" name=""/>
                  <p:cNvSpPr/>
                  <p:nvPr/>
                </p:nvSpPr>
                <p:spPr>
                  <a:xfrm>
                    <a:off x="227160" y="395928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9" y="0"/>
                        </a:lnTo>
                        <a:lnTo>
                          <a:pt x="20" y="27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0" name=""/>
                  <p:cNvSpPr/>
                  <p:nvPr/>
                </p:nvSpPr>
                <p:spPr>
                  <a:xfrm>
                    <a:off x="228600" y="395928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3" y="0"/>
                        </a:moveTo>
                        <a:lnTo>
                          <a:pt x="40" y="0"/>
                        </a:lnTo>
                        <a:lnTo>
                          <a:pt x="42" y="3"/>
                        </a:lnTo>
                        <a:lnTo>
                          <a:pt x="46" y="10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1" name=""/>
                  <p:cNvSpPr/>
                  <p:nvPr/>
                </p:nvSpPr>
                <p:spPr>
                  <a:xfrm>
                    <a:off x="230040" y="396396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2" name=""/>
                <p:cNvGrpSpPr/>
                <p:nvPr/>
              </p:nvGrpSpPr>
              <p:grpSpPr>
                <a:xfrm>
                  <a:off x="230040" y="3963960"/>
                  <a:ext cx="14400" cy="12960"/>
                  <a:chOff x="230040" y="3963960"/>
                  <a:chExt cx="14400" cy="12960"/>
                </a:xfrm>
              </p:grpSpPr>
              <p:sp>
                <p:nvSpPr>
                  <p:cNvPr id="4753" name=""/>
                  <p:cNvSpPr/>
                  <p:nvPr/>
                </p:nvSpPr>
                <p:spPr>
                  <a:xfrm>
                    <a:off x="230040" y="3963960"/>
                    <a:ext cx="50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3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3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4" name=""/>
                  <p:cNvSpPr/>
                  <p:nvPr/>
                </p:nvSpPr>
                <p:spPr>
                  <a:xfrm>
                    <a:off x="231840" y="39657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5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5" name=""/>
                  <p:cNvSpPr/>
                  <p:nvPr/>
                </p:nvSpPr>
                <p:spPr>
                  <a:xfrm>
                    <a:off x="233280" y="397044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7"/>
                        </a:lnTo>
                        <a:lnTo>
                          <a:pt x="4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6" name=""/>
                <p:cNvGrpSpPr/>
                <p:nvPr/>
              </p:nvGrpSpPr>
              <p:grpSpPr>
                <a:xfrm>
                  <a:off x="235080" y="3971880"/>
                  <a:ext cx="14040" cy="11160"/>
                  <a:chOff x="235080" y="3971880"/>
                  <a:chExt cx="14040" cy="11160"/>
                </a:xfrm>
              </p:grpSpPr>
              <p:sp>
                <p:nvSpPr>
                  <p:cNvPr id="4757" name=""/>
                  <p:cNvSpPr/>
                  <p:nvPr/>
                </p:nvSpPr>
                <p:spPr>
                  <a:xfrm>
                    <a:off x="235080" y="397188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2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2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8" name=""/>
                  <p:cNvSpPr/>
                  <p:nvPr/>
                </p:nvSpPr>
                <p:spPr>
                  <a:xfrm>
                    <a:off x="236520" y="3971880"/>
                    <a:ext cx="97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5">
                        <a:moveTo>
                          <a:pt x="2" y="0"/>
                        </a:moveTo>
                        <a:lnTo>
                          <a:pt x="41" y="0"/>
                        </a:lnTo>
                        <a:lnTo>
                          <a:pt x="42" y="2"/>
                        </a:lnTo>
                        <a:lnTo>
                          <a:pt x="46" y="10"/>
                        </a:lnTo>
                        <a:lnTo>
                          <a:pt x="61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9" name=""/>
                  <p:cNvSpPr/>
                  <p:nvPr/>
                </p:nvSpPr>
                <p:spPr>
                  <a:xfrm>
                    <a:off x="236520" y="397692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7"/>
                        </a:lnTo>
                        <a:lnTo>
                          <a:pt x="6" y="7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60" name=""/>
                <p:cNvGrpSpPr/>
                <p:nvPr/>
              </p:nvGrpSpPr>
              <p:grpSpPr>
                <a:xfrm>
                  <a:off x="237960" y="3978360"/>
                  <a:ext cx="28800" cy="38160"/>
                  <a:chOff x="237960" y="3978360"/>
                  <a:chExt cx="28800" cy="38160"/>
                </a:xfrm>
              </p:grpSpPr>
              <p:grpSp>
                <p:nvGrpSpPr>
                  <p:cNvPr id="4761" name=""/>
                  <p:cNvGrpSpPr/>
                  <p:nvPr/>
                </p:nvGrpSpPr>
                <p:grpSpPr>
                  <a:xfrm>
                    <a:off x="237960" y="3978360"/>
                    <a:ext cx="14400" cy="12600"/>
                    <a:chOff x="237960" y="3978360"/>
                    <a:chExt cx="14400" cy="12600"/>
                  </a:xfrm>
                </p:grpSpPr>
                <p:sp>
                  <p:nvSpPr>
                    <p:cNvPr id="4762" name=""/>
                    <p:cNvSpPr/>
                    <p:nvPr/>
                  </p:nvSpPr>
                  <p:spPr>
                    <a:xfrm>
                      <a:off x="237960" y="3978360"/>
                      <a:ext cx="32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0">
                          <a:moveTo>
                            <a:pt x="10" y="60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7"/>
                          </a:lnTo>
                          <a:lnTo>
                            <a:pt x="10" y="6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3" name=""/>
                    <p:cNvSpPr/>
                    <p:nvPr/>
                  </p:nvSpPr>
                  <p:spPr>
                    <a:xfrm>
                      <a:off x="239760" y="3979800"/>
                      <a:ext cx="111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6" y="10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8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4" name=""/>
                    <p:cNvSpPr/>
                    <p:nvPr/>
                  </p:nvSpPr>
                  <p:spPr>
                    <a:xfrm>
                      <a:off x="239760" y="3984840"/>
                      <a:ext cx="126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2">
                          <a:moveTo>
                            <a:pt x="0" y="32"/>
                          </a:moveTo>
                          <a:lnTo>
                            <a:pt x="2" y="18"/>
                          </a:lnTo>
                          <a:lnTo>
                            <a:pt x="7" y="6"/>
                          </a:lnTo>
                          <a:lnTo>
                            <a:pt x="11" y="0"/>
                          </a:lnTo>
                          <a:lnTo>
                            <a:pt x="57" y="0"/>
                          </a:lnTo>
                          <a:lnTo>
                            <a:pt x="67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65" name=""/>
                  <p:cNvGrpSpPr/>
                  <p:nvPr/>
                </p:nvGrpSpPr>
                <p:grpSpPr>
                  <a:xfrm>
                    <a:off x="241200" y="3984840"/>
                    <a:ext cx="14400" cy="12600"/>
                    <a:chOff x="241200" y="3984840"/>
                    <a:chExt cx="14400" cy="12600"/>
                  </a:xfrm>
                </p:grpSpPr>
                <p:sp>
                  <p:nvSpPr>
                    <p:cNvPr id="4766" name=""/>
                    <p:cNvSpPr/>
                    <p:nvPr/>
                  </p:nvSpPr>
                  <p:spPr>
                    <a:xfrm>
                      <a:off x="241200" y="3984840"/>
                      <a:ext cx="32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4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7" name=""/>
                    <p:cNvSpPr/>
                    <p:nvPr/>
                  </p:nvSpPr>
                  <p:spPr>
                    <a:xfrm>
                      <a:off x="243000" y="398628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7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3" y="2"/>
                          </a:lnTo>
                          <a:lnTo>
                            <a:pt x="46" y="11"/>
                          </a:lnTo>
                          <a:lnTo>
                            <a:pt x="61" y="27"/>
                          </a:lnTo>
                          <a:lnTo>
                            <a:pt x="15" y="27"/>
                          </a:lnTo>
                          <a:lnTo>
                            <a:pt x="8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8" name=""/>
                    <p:cNvSpPr/>
                    <p:nvPr/>
                  </p:nvSpPr>
                  <p:spPr>
                    <a:xfrm>
                      <a:off x="244440" y="399096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4" y="6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69" name=""/>
                  <p:cNvGrpSpPr/>
                  <p:nvPr/>
                </p:nvGrpSpPr>
                <p:grpSpPr>
                  <a:xfrm>
                    <a:off x="244440" y="3992760"/>
                    <a:ext cx="14400" cy="11160"/>
                    <a:chOff x="244440" y="3992760"/>
                    <a:chExt cx="14400" cy="11160"/>
                  </a:xfrm>
                </p:grpSpPr>
                <p:sp>
                  <p:nvSpPr>
                    <p:cNvPr id="4770" name=""/>
                    <p:cNvSpPr/>
                    <p:nvPr/>
                  </p:nvSpPr>
                  <p:spPr>
                    <a:xfrm>
                      <a:off x="244440" y="3992760"/>
                      <a:ext cx="46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2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0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1" name=""/>
                    <p:cNvSpPr/>
                    <p:nvPr/>
                  </p:nvSpPr>
                  <p:spPr>
                    <a:xfrm>
                      <a:off x="246240" y="39927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58" y="25"/>
                          </a:lnTo>
                          <a:lnTo>
                            <a:pt x="14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2" name=""/>
                    <p:cNvSpPr/>
                    <p:nvPr/>
                  </p:nvSpPr>
                  <p:spPr>
                    <a:xfrm>
                      <a:off x="247680" y="399744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2" y="17"/>
                          </a:lnTo>
                          <a:lnTo>
                            <a:pt x="5" y="7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73" name=""/>
                  <p:cNvGrpSpPr/>
                  <p:nvPr/>
                </p:nvGrpSpPr>
                <p:grpSpPr>
                  <a:xfrm>
                    <a:off x="249120" y="3997440"/>
                    <a:ext cx="14400" cy="12600"/>
                    <a:chOff x="249120" y="3997440"/>
                    <a:chExt cx="14400" cy="12600"/>
                  </a:xfrm>
                </p:grpSpPr>
                <p:sp>
                  <p:nvSpPr>
                    <p:cNvPr id="4774" name=""/>
                    <p:cNvSpPr/>
                    <p:nvPr/>
                  </p:nvSpPr>
                  <p:spPr>
                    <a:xfrm>
                      <a:off x="249120" y="3997440"/>
                      <a:ext cx="32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9">
                          <a:moveTo>
                            <a:pt x="13" y="59"/>
                          </a:moveTo>
                          <a:lnTo>
                            <a:pt x="0" y="23"/>
                          </a:lnTo>
                          <a:lnTo>
                            <a:pt x="10" y="0"/>
                          </a:lnTo>
                          <a:lnTo>
                            <a:pt x="21" y="27"/>
                          </a:lnTo>
                          <a:lnTo>
                            <a:pt x="13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5" name=""/>
                    <p:cNvSpPr/>
                    <p:nvPr/>
                  </p:nvSpPr>
                  <p:spPr>
                    <a:xfrm>
                      <a:off x="250920" y="3998880"/>
                      <a:ext cx="93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25">
                          <a:moveTo>
                            <a:pt x="2" y="0"/>
                          </a:moveTo>
                          <a:lnTo>
                            <a:pt x="39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59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4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6" name=""/>
                    <p:cNvSpPr/>
                    <p:nvPr/>
                  </p:nvSpPr>
                  <p:spPr>
                    <a:xfrm>
                      <a:off x="250920" y="4003920"/>
                      <a:ext cx="126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5" y="7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77" name=""/>
                  <p:cNvGrpSpPr/>
                  <p:nvPr/>
                </p:nvGrpSpPr>
                <p:grpSpPr>
                  <a:xfrm>
                    <a:off x="252360" y="4005360"/>
                    <a:ext cx="14400" cy="11160"/>
                    <a:chOff x="252360" y="4005360"/>
                    <a:chExt cx="14400" cy="11160"/>
                  </a:xfrm>
                </p:grpSpPr>
                <p:sp>
                  <p:nvSpPr>
                    <p:cNvPr id="4778" name=""/>
                    <p:cNvSpPr/>
                    <p:nvPr/>
                  </p:nvSpPr>
                  <p:spPr>
                    <a:xfrm>
                      <a:off x="252360" y="400536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2" y="58"/>
                          </a:moveTo>
                          <a:lnTo>
                            <a:pt x="0" y="22"/>
                          </a:lnTo>
                          <a:lnTo>
                            <a:pt x="8" y="0"/>
                          </a:lnTo>
                          <a:lnTo>
                            <a:pt x="20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9" name=""/>
                    <p:cNvSpPr/>
                    <p:nvPr/>
                  </p:nvSpPr>
                  <p:spPr>
                    <a:xfrm>
                      <a:off x="254160" y="40053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8" y="17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0" name=""/>
                    <p:cNvSpPr/>
                    <p:nvPr/>
                  </p:nvSpPr>
                  <p:spPr>
                    <a:xfrm>
                      <a:off x="254160" y="401004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2" y="17"/>
                          </a:lnTo>
                          <a:lnTo>
                            <a:pt x="5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781" name=""/>
                <p:cNvGrpSpPr/>
                <p:nvPr/>
              </p:nvGrpSpPr>
              <p:grpSpPr>
                <a:xfrm>
                  <a:off x="255600" y="4011840"/>
                  <a:ext cx="28440" cy="37800"/>
                  <a:chOff x="255600" y="4011840"/>
                  <a:chExt cx="28440" cy="37800"/>
                </a:xfrm>
              </p:grpSpPr>
              <p:grpSp>
                <p:nvGrpSpPr>
                  <p:cNvPr id="4782" name=""/>
                  <p:cNvGrpSpPr/>
                  <p:nvPr/>
                </p:nvGrpSpPr>
                <p:grpSpPr>
                  <a:xfrm>
                    <a:off x="255600" y="4011840"/>
                    <a:ext cx="14400" cy="12600"/>
                    <a:chOff x="255600" y="4011840"/>
                    <a:chExt cx="14400" cy="12600"/>
                  </a:xfrm>
                </p:grpSpPr>
                <p:sp>
                  <p:nvSpPr>
                    <p:cNvPr id="4783" name=""/>
                    <p:cNvSpPr/>
                    <p:nvPr/>
                  </p:nvSpPr>
                  <p:spPr>
                    <a:xfrm>
                      <a:off x="255600" y="4011840"/>
                      <a:ext cx="32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4" name=""/>
                    <p:cNvSpPr/>
                    <p:nvPr/>
                  </p:nvSpPr>
                  <p:spPr>
                    <a:xfrm>
                      <a:off x="257040" y="401328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3" y="3"/>
                          </a:lnTo>
                          <a:lnTo>
                            <a:pt x="46" y="11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9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5" name=""/>
                    <p:cNvSpPr/>
                    <p:nvPr/>
                  </p:nvSpPr>
                  <p:spPr>
                    <a:xfrm>
                      <a:off x="258840" y="401796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8"/>
                          </a:lnTo>
                          <a:lnTo>
                            <a:pt x="5" y="7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86" name=""/>
                  <p:cNvGrpSpPr/>
                  <p:nvPr/>
                </p:nvGrpSpPr>
                <p:grpSpPr>
                  <a:xfrm>
                    <a:off x="258840" y="4017960"/>
                    <a:ext cx="14040" cy="12960"/>
                    <a:chOff x="258840" y="4017960"/>
                    <a:chExt cx="14040" cy="12960"/>
                  </a:xfrm>
                </p:grpSpPr>
                <p:sp>
                  <p:nvSpPr>
                    <p:cNvPr id="4787" name=""/>
                    <p:cNvSpPr/>
                    <p:nvPr/>
                  </p:nvSpPr>
                  <p:spPr>
                    <a:xfrm>
                      <a:off x="258840" y="4017960"/>
                      <a:ext cx="468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1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8" name=""/>
                    <p:cNvSpPr/>
                    <p:nvPr/>
                  </p:nvSpPr>
                  <p:spPr>
                    <a:xfrm>
                      <a:off x="260280" y="401796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2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9" y="17"/>
                          </a:lnTo>
                          <a:lnTo>
                            <a:pt x="0" y="5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9" name=""/>
                    <p:cNvSpPr/>
                    <p:nvPr/>
                  </p:nvSpPr>
                  <p:spPr>
                    <a:xfrm>
                      <a:off x="262080" y="40244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2">
                          <a:moveTo>
                            <a:pt x="0" y="32"/>
                          </a:moveTo>
                          <a:lnTo>
                            <a:pt x="3" y="17"/>
                          </a:lnTo>
                          <a:lnTo>
                            <a:pt x="6" y="7"/>
                          </a:lnTo>
                          <a:lnTo>
                            <a:pt x="10" y="0"/>
                          </a:lnTo>
                          <a:lnTo>
                            <a:pt x="55" y="0"/>
                          </a:lnTo>
                          <a:lnTo>
                            <a:pt x="67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90" name=""/>
                  <p:cNvGrpSpPr/>
                  <p:nvPr/>
                </p:nvGrpSpPr>
                <p:grpSpPr>
                  <a:xfrm>
                    <a:off x="263520" y="4024440"/>
                    <a:ext cx="12600" cy="12600"/>
                    <a:chOff x="263520" y="4024440"/>
                    <a:chExt cx="12600" cy="12600"/>
                  </a:xfrm>
                </p:grpSpPr>
                <p:sp>
                  <p:nvSpPr>
                    <p:cNvPr id="4791" name=""/>
                    <p:cNvSpPr/>
                    <p:nvPr/>
                  </p:nvSpPr>
                  <p:spPr>
                    <a:xfrm>
                      <a:off x="263520" y="4024440"/>
                      <a:ext cx="32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4"/>
                          </a:lnTo>
                          <a:lnTo>
                            <a:pt x="8" y="0"/>
                          </a:lnTo>
                          <a:lnTo>
                            <a:pt x="20" y="27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2" name=""/>
                    <p:cNvSpPr/>
                    <p:nvPr/>
                  </p:nvSpPr>
                  <p:spPr>
                    <a:xfrm>
                      <a:off x="263520" y="402444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2" y="2"/>
                          </a:lnTo>
                          <a:lnTo>
                            <a:pt x="45" y="10"/>
                          </a:lnTo>
                          <a:lnTo>
                            <a:pt x="60" y="26"/>
                          </a:lnTo>
                          <a:lnTo>
                            <a:pt x="15" y="26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3" name=""/>
                    <p:cNvSpPr/>
                    <p:nvPr/>
                  </p:nvSpPr>
                  <p:spPr>
                    <a:xfrm>
                      <a:off x="264960" y="403092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6" y="7"/>
                          </a:lnTo>
                          <a:lnTo>
                            <a:pt x="10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94" name=""/>
                  <p:cNvGrpSpPr/>
                  <p:nvPr/>
                </p:nvGrpSpPr>
                <p:grpSpPr>
                  <a:xfrm>
                    <a:off x="266760" y="4030920"/>
                    <a:ext cx="14400" cy="12600"/>
                    <a:chOff x="266760" y="4030920"/>
                    <a:chExt cx="14400" cy="12600"/>
                  </a:xfrm>
                </p:grpSpPr>
                <p:sp>
                  <p:nvSpPr>
                    <p:cNvPr id="4795" name=""/>
                    <p:cNvSpPr/>
                    <p:nvPr/>
                  </p:nvSpPr>
                  <p:spPr>
                    <a:xfrm>
                      <a:off x="266760" y="4030920"/>
                      <a:ext cx="32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0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6" name=""/>
                    <p:cNvSpPr/>
                    <p:nvPr/>
                  </p:nvSpPr>
                  <p:spPr>
                    <a:xfrm>
                      <a:off x="268200" y="403236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2" y="2"/>
                          </a:lnTo>
                          <a:lnTo>
                            <a:pt x="46" y="9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7" name=""/>
                    <p:cNvSpPr/>
                    <p:nvPr/>
                  </p:nvSpPr>
                  <p:spPr>
                    <a:xfrm>
                      <a:off x="268200" y="4037040"/>
                      <a:ext cx="129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2" y="16"/>
                          </a:lnTo>
                          <a:lnTo>
                            <a:pt x="6" y="7"/>
                          </a:lnTo>
                          <a:lnTo>
                            <a:pt x="11" y="0"/>
                          </a:lnTo>
                          <a:lnTo>
                            <a:pt x="57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98" name=""/>
                  <p:cNvGrpSpPr/>
                  <p:nvPr/>
                </p:nvGrpSpPr>
                <p:grpSpPr>
                  <a:xfrm>
                    <a:off x="270000" y="4038840"/>
                    <a:ext cx="14040" cy="10800"/>
                    <a:chOff x="270000" y="4038840"/>
                    <a:chExt cx="14040" cy="10800"/>
                  </a:xfrm>
                </p:grpSpPr>
                <p:sp>
                  <p:nvSpPr>
                    <p:cNvPr id="4799" name=""/>
                    <p:cNvSpPr/>
                    <p:nvPr/>
                  </p:nvSpPr>
                  <p:spPr>
                    <a:xfrm>
                      <a:off x="270000" y="4038840"/>
                      <a:ext cx="288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8">
                          <a:moveTo>
                            <a:pt x="10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8" y="26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0" name=""/>
                    <p:cNvSpPr/>
                    <p:nvPr/>
                  </p:nvSpPr>
                  <p:spPr>
                    <a:xfrm>
                      <a:off x="271440" y="403884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2" y="0"/>
                          </a:moveTo>
                          <a:lnTo>
                            <a:pt x="42" y="0"/>
                          </a:lnTo>
                          <a:lnTo>
                            <a:pt x="43" y="2"/>
                          </a:lnTo>
                          <a:lnTo>
                            <a:pt x="46" y="9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8" y="17"/>
                          </a:lnTo>
                          <a:lnTo>
                            <a:pt x="0" y="4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1" name=""/>
                    <p:cNvSpPr/>
                    <p:nvPr/>
                  </p:nvSpPr>
                  <p:spPr>
                    <a:xfrm>
                      <a:off x="272880" y="404352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5" y="6"/>
                          </a:lnTo>
                          <a:lnTo>
                            <a:pt x="8" y="0"/>
                          </a:lnTo>
                          <a:lnTo>
                            <a:pt x="55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802" name=""/>
                <p:cNvGrpSpPr/>
                <p:nvPr/>
              </p:nvGrpSpPr>
              <p:grpSpPr>
                <a:xfrm>
                  <a:off x="272880" y="4043520"/>
                  <a:ext cx="14400" cy="12600"/>
                  <a:chOff x="272880" y="4043520"/>
                  <a:chExt cx="14400" cy="12600"/>
                </a:xfrm>
              </p:grpSpPr>
              <p:sp>
                <p:nvSpPr>
                  <p:cNvPr id="4803" name=""/>
                  <p:cNvSpPr/>
                  <p:nvPr/>
                </p:nvSpPr>
                <p:spPr>
                  <a:xfrm>
                    <a:off x="272880" y="4043520"/>
                    <a:ext cx="3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9" y="27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4" name=""/>
                  <p:cNvSpPr/>
                  <p:nvPr/>
                </p:nvSpPr>
                <p:spPr>
                  <a:xfrm>
                    <a:off x="274680" y="404352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1"/>
                        </a:lnTo>
                        <a:lnTo>
                          <a:pt x="59" y="26"/>
                        </a:lnTo>
                        <a:lnTo>
                          <a:pt x="14" y="26"/>
                        </a:lnTo>
                        <a:lnTo>
                          <a:pt x="8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5" name=""/>
                  <p:cNvSpPr/>
                  <p:nvPr/>
                </p:nvSpPr>
                <p:spPr>
                  <a:xfrm>
                    <a:off x="276120" y="404964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9">
                        <a:moveTo>
                          <a:pt x="0" y="29"/>
                        </a:moveTo>
                        <a:lnTo>
                          <a:pt x="1" y="16"/>
                        </a:lnTo>
                        <a:lnTo>
                          <a:pt x="5" y="5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6" name=""/>
                <p:cNvGrpSpPr/>
                <p:nvPr/>
              </p:nvGrpSpPr>
              <p:grpSpPr>
                <a:xfrm>
                  <a:off x="276120" y="4049640"/>
                  <a:ext cx="14400" cy="11160"/>
                  <a:chOff x="276120" y="4049640"/>
                  <a:chExt cx="14400" cy="11160"/>
                </a:xfrm>
              </p:grpSpPr>
              <p:sp>
                <p:nvSpPr>
                  <p:cNvPr id="4807" name=""/>
                  <p:cNvSpPr/>
                  <p:nvPr/>
                </p:nvSpPr>
                <p:spPr>
                  <a:xfrm>
                    <a:off x="276120" y="4049640"/>
                    <a:ext cx="5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8" name=""/>
                  <p:cNvSpPr/>
                  <p:nvPr/>
                </p:nvSpPr>
                <p:spPr>
                  <a:xfrm>
                    <a:off x="277920" y="404964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2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4" y="25"/>
                        </a:lnTo>
                        <a:lnTo>
                          <a:pt x="8" y="17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9" name=""/>
                  <p:cNvSpPr/>
                  <p:nvPr/>
                </p:nvSpPr>
                <p:spPr>
                  <a:xfrm>
                    <a:off x="279360" y="405612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7"/>
                        </a:lnTo>
                        <a:lnTo>
                          <a:pt x="4" y="7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0" name=""/>
                <p:cNvGrpSpPr/>
                <p:nvPr/>
              </p:nvGrpSpPr>
              <p:grpSpPr>
                <a:xfrm>
                  <a:off x="281160" y="4056120"/>
                  <a:ext cx="12600" cy="12600"/>
                  <a:chOff x="281160" y="4056120"/>
                  <a:chExt cx="12600" cy="12600"/>
                </a:xfrm>
              </p:grpSpPr>
              <p:sp>
                <p:nvSpPr>
                  <p:cNvPr id="4811" name=""/>
                  <p:cNvSpPr/>
                  <p:nvPr/>
                </p:nvSpPr>
                <p:spPr>
                  <a:xfrm>
                    <a:off x="281160" y="4056120"/>
                    <a:ext cx="2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2" name=""/>
                  <p:cNvSpPr/>
                  <p:nvPr/>
                </p:nvSpPr>
                <p:spPr>
                  <a:xfrm>
                    <a:off x="282600" y="405792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1"/>
                        </a:lnTo>
                        <a:lnTo>
                          <a:pt x="59" y="26"/>
                        </a:lnTo>
                        <a:lnTo>
                          <a:pt x="15" y="26"/>
                        </a:lnTo>
                        <a:lnTo>
                          <a:pt x="8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3" name=""/>
                  <p:cNvSpPr/>
                  <p:nvPr/>
                </p:nvSpPr>
                <p:spPr>
                  <a:xfrm>
                    <a:off x="282600" y="406260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2" y="18"/>
                        </a:lnTo>
                        <a:lnTo>
                          <a:pt x="5" y="7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14" name=""/>
                <p:cNvSpPr/>
                <p:nvPr/>
              </p:nvSpPr>
              <p:spPr>
                <a:xfrm>
                  <a:off x="208080" y="394668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58">
                      <a:moveTo>
                        <a:pt x="12" y="58"/>
                      </a:moveTo>
                      <a:lnTo>
                        <a:pt x="0" y="23"/>
                      </a:lnTo>
                      <a:lnTo>
                        <a:pt x="8" y="0"/>
                      </a:lnTo>
                      <a:lnTo>
                        <a:pt x="20" y="26"/>
                      </a:lnTo>
                      <a:lnTo>
                        <a:pt x="12" y="58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5" name=""/>
                <p:cNvSpPr/>
                <p:nvPr/>
              </p:nvSpPr>
              <p:spPr>
                <a:xfrm>
                  <a:off x="209520" y="394668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7" h="23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41" y="1"/>
                      </a:lnTo>
                      <a:lnTo>
                        <a:pt x="45" y="10"/>
                      </a:lnTo>
                      <a:lnTo>
                        <a:pt x="57" y="23"/>
                      </a:lnTo>
                      <a:lnTo>
                        <a:pt x="14" y="23"/>
                      </a:lnTo>
                      <a:lnTo>
                        <a:pt x="6" y="16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6" name=""/>
                <p:cNvSpPr/>
                <p:nvPr/>
              </p:nvSpPr>
              <p:spPr>
                <a:xfrm>
                  <a:off x="211320" y="3951360"/>
                  <a:ext cx="10800" cy="6480"/>
                </a:xfrm>
                <a:custGeom>
                  <a:avLst/>
                  <a:gdLst/>
                  <a:ahLst/>
                  <a:rect l="l" t="t" r="r" b="b"/>
                  <a:pathLst>
                    <a:path w="66" h="31">
                      <a:moveTo>
                        <a:pt x="0" y="31"/>
                      </a:moveTo>
                      <a:lnTo>
                        <a:pt x="1" y="18"/>
                      </a:lnTo>
                      <a:lnTo>
                        <a:pt x="4" y="7"/>
                      </a:lnTo>
                      <a:lnTo>
                        <a:pt x="9" y="0"/>
                      </a:lnTo>
                      <a:lnTo>
                        <a:pt x="55" y="0"/>
                      </a:lnTo>
                      <a:lnTo>
                        <a:pt x="66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17" name=""/>
                <p:cNvGrpSpPr/>
                <p:nvPr/>
              </p:nvGrpSpPr>
              <p:grpSpPr>
                <a:xfrm>
                  <a:off x="212760" y="3953160"/>
                  <a:ext cx="12600" cy="10800"/>
                  <a:chOff x="212760" y="3953160"/>
                  <a:chExt cx="12600" cy="10800"/>
                </a:xfrm>
              </p:grpSpPr>
              <p:sp>
                <p:nvSpPr>
                  <p:cNvPr id="4818" name=""/>
                  <p:cNvSpPr/>
                  <p:nvPr/>
                </p:nvSpPr>
                <p:spPr>
                  <a:xfrm>
                    <a:off x="212760" y="3953160"/>
                    <a:ext cx="32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9" y="26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9" name=""/>
                  <p:cNvSpPr/>
                  <p:nvPr/>
                </p:nvSpPr>
                <p:spPr>
                  <a:xfrm>
                    <a:off x="212760" y="39531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10"/>
                        </a:lnTo>
                        <a:lnTo>
                          <a:pt x="59" y="25"/>
                        </a:lnTo>
                        <a:lnTo>
                          <a:pt x="14" y="25"/>
                        </a:lnTo>
                        <a:lnTo>
                          <a:pt x="8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0" name=""/>
                  <p:cNvSpPr/>
                  <p:nvPr/>
                </p:nvSpPr>
                <p:spPr>
                  <a:xfrm>
                    <a:off x="214200" y="395784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6" y="7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7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1" name=""/>
                <p:cNvGrpSpPr/>
                <p:nvPr/>
              </p:nvGrpSpPr>
              <p:grpSpPr>
                <a:xfrm>
                  <a:off x="216000" y="3959280"/>
                  <a:ext cx="14040" cy="11160"/>
                  <a:chOff x="216000" y="3959280"/>
                  <a:chExt cx="14040" cy="11160"/>
                </a:xfrm>
              </p:grpSpPr>
              <p:sp>
                <p:nvSpPr>
                  <p:cNvPr id="4822" name=""/>
                  <p:cNvSpPr/>
                  <p:nvPr/>
                </p:nvSpPr>
                <p:spPr>
                  <a:xfrm>
                    <a:off x="216000" y="395928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3" name=""/>
                  <p:cNvSpPr/>
                  <p:nvPr/>
                </p:nvSpPr>
                <p:spPr>
                  <a:xfrm>
                    <a:off x="217440" y="395928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0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4" name=""/>
                  <p:cNvSpPr/>
                  <p:nvPr/>
                </p:nvSpPr>
                <p:spPr>
                  <a:xfrm>
                    <a:off x="217440" y="396396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4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5" name=""/>
                <p:cNvGrpSpPr/>
                <p:nvPr/>
              </p:nvGrpSpPr>
              <p:grpSpPr>
                <a:xfrm>
                  <a:off x="219240" y="3965760"/>
                  <a:ext cx="14040" cy="11160"/>
                  <a:chOff x="219240" y="3965760"/>
                  <a:chExt cx="14040" cy="11160"/>
                </a:xfrm>
              </p:grpSpPr>
              <p:sp>
                <p:nvSpPr>
                  <p:cNvPr id="4826" name=""/>
                  <p:cNvSpPr/>
                  <p:nvPr/>
                </p:nvSpPr>
                <p:spPr>
                  <a:xfrm>
                    <a:off x="219240" y="396576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19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7" name=""/>
                  <p:cNvSpPr/>
                  <p:nvPr/>
                </p:nvSpPr>
                <p:spPr>
                  <a:xfrm>
                    <a:off x="220680" y="39657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5" y="10"/>
                        </a:lnTo>
                        <a:lnTo>
                          <a:pt x="59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8" name=""/>
                  <p:cNvSpPr/>
                  <p:nvPr/>
                </p:nvSpPr>
                <p:spPr>
                  <a:xfrm>
                    <a:off x="222120" y="397044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9" name=""/>
                <p:cNvGrpSpPr/>
                <p:nvPr/>
              </p:nvGrpSpPr>
              <p:grpSpPr>
                <a:xfrm>
                  <a:off x="222120" y="3971880"/>
                  <a:ext cx="14400" cy="11160"/>
                  <a:chOff x="222120" y="3971880"/>
                  <a:chExt cx="14400" cy="11160"/>
                </a:xfrm>
              </p:grpSpPr>
              <p:sp>
                <p:nvSpPr>
                  <p:cNvPr id="4830" name=""/>
                  <p:cNvSpPr/>
                  <p:nvPr/>
                </p:nvSpPr>
                <p:spPr>
                  <a:xfrm>
                    <a:off x="222120" y="3971880"/>
                    <a:ext cx="5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21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1" name=""/>
                  <p:cNvSpPr/>
                  <p:nvPr/>
                </p:nvSpPr>
                <p:spPr>
                  <a:xfrm>
                    <a:off x="223920" y="3971880"/>
                    <a:ext cx="111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2" y="2"/>
                        </a:lnTo>
                        <a:lnTo>
                          <a:pt x="46" y="10"/>
                        </a:lnTo>
                        <a:lnTo>
                          <a:pt x="61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2" name=""/>
                  <p:cNvSpPr/>
                  <p:nvPr/>
                </p:nvSpPr>
                <p:spPr>
                  <a:xfrm>
                    <a:off x="225360" y="397692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6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5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33" name=""/>
                <p:cNvGrpSpPr/>
                <p:nvPr/>
              </p:nvGrpSpPr>
              <p:grpSpPr>
                <a:xfrm>
                  <a:off x="227160" y="3979800"/>
                  <a:ext cx="27000" cy="36720"/>
                  <a:chOff x="227160" y="3979800"/>
                  <a:chExt cx="27000" cy="36720"/>
                </a:xfrm>
              </p:grpSpPr>
              <p:grpSp>
                <p:nvGrpSpPr>
                  <p:cNvPr id="4834" name=""/>
                  <p:cNvGrpSpPr/>
                  <p:nvPr/>
                </p:nvGrpSpPr>
                <p:grpSpPr>
                  <a:xfrm>
                    <a:off x="227160" y="3979800"/>
                    <a:ext cx="12600" cy="11160"/>
                    <a:chOff x="227160" y="3979800"/>
                    <a:chExt cx="12600" cy="11160"/>
                  </a:xfrm>
                </p:grpSpPr>
                <p:sp>
                  <p:nvSpPr>
                    <p:cNvPr id="4835" name=""/>
                    <p:cNvSpPr/>
                    <p:nvPr/>
                  </p:nvSpPr>
                  <p:spPr>
                    <a:xfrm>
                      <a:off x="227160" y="3979800"/>
                      <a:ext cx="28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61">
                          <a:moveTo>
                            <a:pt x="10" y="61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9" y="27"/>
                          </a:lnTo>
                          <a:lnTo>
                            <a:pt x="10" y="61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6" name=""/>
                    <p:cNvSpPr/>
                    <p:nvPr/>
                  </p:nvSpPr>
                  <p:spPr>
                    <a:xfrm>
                      <a:off x="227160" y="397980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6" y="10"/>
                          </a:lnTo>
                          <a:lnTo>
                            <a:pt x="60" y="26"/>
                          </a:lnTo>
                          <a:lnTo>
                            <a:pt x="15" y="26"/>
                          </a:lnTo>
                          <a:lnTo>
                            <a:pt x="8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7" name=""/>
                    <p:cNvSpPr/>
                    <p:nvPr/>
                  </p:nvSpPr>
                  <p:spPr>
                    <a:xfrm>
                      <a:off x="228600" y="398484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3">
                          <a:moveTo>
                            <a:pt x="0" y="33"/>
                          </a:moveTo>
                          <a:lnTo>
                            <a:pt x="1" y="18"/>
                          </a:lnTo>
                          <a:lnTo>
                            <a:pt x="7" y="6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7" y="3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38" name=""/>
                  <p:cNvGrpSpPr/>
                  <p:nvPr/>
                </p:nvGrpSpPr>
                <p:grpSpPr>
                  <a:xfrm>
                    <a:off x="230040" y="3986280"/>
                    <a:ext cx="14400" cy="11160"/>
                    <a:chOff x="230040" y="3986280"/>
                    <a:chExt cx="14400" cy="11160"/>
                  </a:xfrm>
                </p:grpSpPr>
                <p:sp>
                  <p:nvSpPr>
                    <p:cNvPr id="4839" name=""/>
                    <p:cNvSpPr/>
                    <p:nvPr/>
                  </p:nvSpPr>
                  <p:spPr>
                    <a:xfrm>
                      <a:off x="230040" y="398628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4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0" name=""/>
                    <p:cNvSpPr/>
                    <p:nvPr/>
                  </p:nvSpPr>
                  <p:spPr>
                    <a:xfrm>
                      <a:off x="231840" y="398628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8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2"/>
                          </a:lnTo>
                          <a:lnTo>
                            <a:pt x="61" y="28"/>
                          </a:lnTo>
                          <a:lnTo>
                            <a:pt x="15" y="28"/>
                          </a:lnTo>
                          <a:lnTo>
                            <a:pt x="8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1" name=""/>
                    <p:cNvSpPr/>
                    <p:nvPr/>
                  </p:nvSpPr>
                  <p:spPr>
                    <a:xfrm>
                      <a:off x="231840" y="399096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7"/>
                          </a:lnTo>
                          <a:lnTo>
                            <a:pt x="4" y="6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42" name=""/>
                  <p:cNvGrpSpPr/>
                  <p:nvPr/>
                </p:nvGrpSpPr>
                <p:grpSpPr>
                  <a:xfrm>
                    <a:off x="233280" y="3992760"/>
                    <a:ext cx="14400" cy="11160"/>
                    <a:chOff x="233280" y="3992760"/>
                    <a:chExt cx="14400" cy="11160"/>
                  </a:xfrm>
                </p:grpSpPr>
                <p:sp>
                  <p:nvSpPr>
                    <p:cNvPr id="4843" name=""/>
                    <p:cNvSpPr/>
                    <p:nvPr/>
                  </p:nvSpPr>
                  <p:spPr>
                    <a:xfrm>
                      <a:off x="233280" y="399276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8">
                          <a:moveTo>
                            <a:pt x="12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19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4" name=""/>
                    <p:cNvSpPr/>
                    <p:nvPr/>
                  </p:nvSpPr>
                  <p:spPr>
                    <a:xfrm>
                      <a:off x="235080" y="399276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58" y="25"/>
                          </a:lnTo>
                          <a:lnTo>
                            <a:pt x="13" y="25"/>
                          </a:lnTo>
                          <a:lnTo>
                            <a:pt x="7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5" name=""/>
                    <p:cNvSpPr/>
                    <p:nvPr/>
                  </p:nvSpPr>
                  <p:spPr>
                    <a:xfrm>
                      <a:off x="235080" y="399744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5" y="6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7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46" name=""/>
                  <p:cNvGrpSpPr/>
                  <p:nvPr/>
                </p:nvGrpSpPr>
                <p:grpSpPr>
                  <a:xfrm>
                    <a:off x="236520" y="3998880"/>
                    <a:ext cx="14400" cy="11160"/>
                    <a:chOff x="236520" y="3998880"/>
                    <a:chExt cx="14400" cy="11160"/>
                  </a:xfrm>
                </p:grpSpPr>
                <p:sp>
                  <p:nvSpPr>
                    <p:cNvPr id="4847" name=""/>
                    <p:cNvSpPr/>
                    <p:nvPr/>
                  </p:nvSpPr>
                  <p:spPr>
                    <a:xfrm>
                      <a:off x="236520" y="399888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8" name=""/>
                    <p:cNvSpPr/>
                    <p:nvPr/>
                  </p:nvSpPr>
                  <p:spPr>
                    <a:xfrm>
                      <a:off x="237960" y="3998880"/>
                      <a:ext cx="111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59" y="25"/>
                          </a:lnTo>
                          <a:lnTo>
                            <a:pt x="15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9" name=""/>
                    <p:cNvSpPr/>
                    <p:nvPr/>
                  </p:nvSpPr>
                  <p:spPr>
                    <a:xfrm>
                      <a:off x="239760" y="400392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4" y="7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50" name=""/>
                  <p:cNvGrpSpPr/>
                  <p:nvPr/>
                </p:nvGrpSpPr>
                <p:grpSpPr>
                  <a:xfrm>
                    <a:off x="241200" y="4005360"/>
                    <a:ext cx="12960" cy="11160"/>
                    <a:chOff x="241200" y="4005360"/>
                    <a:chExt cx="12960" cy="11160"/>
                  </a:xfrm>
                </p:grpSpPr>
                <p:sp>
                  <p:nvSpPr>
                    <p:cNvPr id="4851" name=""/>
                    <p:cNvSpPr/>
                    <p:nvPr/>
                  </p:nvSpPr>
                  <p:spPr>
                    <a:xfrm>
                      <a:off x="241200" y="400536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8">
                          <a:moveTo>
                            <a:pt x="11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19" y="26"/>
                          </a:lnTo>
                          <a:lnTo>
                            <a:pt x="11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2" name=""/>
                    <p:cNvSpPr/>
                    <p:nvPr/>
                  </p:nvSpPr>
                  <p:spPr>
                    <a:xfrm>
                      <a:off x="243000" y="400536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1" y="2"/>
                          </a:lnTo>
                          <a:lnTo>
                            <a:pt x="46" y="10"/>
                          </a:lnTo>
                          <a:lnTo>
                            <a:pt x="59" y="25"/>
                          </a:lnTo>
                          <a:lnTo>
                            <a:pt x="15" y="25"/>
                          </a:lnTo>
                          <a:lnTo>
                            <a:pt x="8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3" name=""/>
                    <p:cNvSpPr/>
                    <p:nvPr/>
                  </p:nvSpPr>
                  <p:spPr>
                    <a:xfrm>
                      <a:off x="243000" y="401004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2" y="17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854" name=""/>
                <p:cNvGrpSpPr/>
                <p:nvPr/>
              </p:nvGrpSpPr>
              <p:grpSpPr>
                <a:xfrm>
                  <a:off x="244440" y="4013280"/>
                  <a:ext cx="28440" cy="36360"/>
                  <a:chOff x="244440" y="4013280"/>
                  <a:chExt cx="28440" cy="36360"/>
                </a:xfrm>
              </p:grpSpPr>
              <p:grpSp>
                <p:nvGrpSpPr>
                  <p:cNvPr id="4855" name=""/>
                  <p:cNvGrpSpPr/>
                  <p:nvPr/>
                </p:nvGrpSpPr>
                <p:grpSpPr>
                  <a:xfrm>
                    <a:off x="244440" y="4013280"/>
                    <a:ext cx="14400" cy="11160"/>
                    <a:chOff x="244440" y="4013280"/>
                    <a:chExt cx="14400" cy="11160"/>
                  </a:xfrm>
                </p:grpSpPr>
                <p:sp>
                  <p:nvSpPr>
                    <p:cNvPr id="4856" name=""/>
                    <p:cNvSpPr/>
                    <p:nvPr/>
                  </p:nvSpPr>
                  <p:spPr>
                    <a:xfrm>
                      <a:off x="244440" y="401328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3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3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7" name=""/>
                    <p:cNvSpPr/>
                    <p:nvPr/>
                  </p:nvSpPr>
                  <p:spPr>
                    <a:xfrm>
                      <a:off x="246240" y="401328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7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4"/>
                          </a:lnTo>
                          <a:lnTo>
                            <a:pt x="46" y="11"/>
                          </a:lnTo>
                          <a:lnTo>
                            <a:pt x="61" y="27"/>
                          </a:lnTo>
                          <a:lnTo>
                            <a:pt x="15" y="27"/>
                          </a:lnTo>
                          <a:lnTo>
                            <a:pt x="9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8" name=""/>
                    <p:cNvSpPr/>
                    <p:nvPr/>
                  </p:nvSpPr>
                  <p:spPr>
                    <a:xfrm>
                      <a:off x="246240" y="401796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4" y="5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59" name=""/>
                  <p:cNvGrpSpPr/>
                  <p:nvPr/>
                </p:nvGrpSpPr>
                <p:grpSpPr>
                  <a:xfrm>
                    <a:off x="247680" y="4017960"/>
                    <a:ext cx="14400" cy="12960"/>
                    <a:chOff x="247680" y="4017960"/>
                    <a:chExt cx="14400" cy="12960"/>
                  </a:xfrm>
                </p:grpSpPr>
                <p:sp>
                  <p:nvSpPr>
                    <p:cNvPr id="4860" name=""/>
                    <p:cNvSpPr/>
                    <p:nvPr/>
                  </p:nvSpPr>
                  <p:spPr>
                    <a:xfrm>
                      <a:off x="247680" y="4017960"/>
                      <a:ext cx="324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9">
                          <a:moveTo>
                            <a:pt x="11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9" y="26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1" name=""/>
                    <p:cNvSpPr/>
                    <p:nvPr/>
                  </p:nvSpPr>
                  <p:spPr>
                    <a:xfrm>
                      <a:off x="249120" y="4019760"/>
                      <a:ext cx="97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5" y="11"/>
                          </a:lnTo>
                          <a:lnTo>
                            <a:pt x="60" y="26"/>
                          </a:lnTo>
                          <a:lnTo>
                            <a:pt x="15" y="26"/>
                          </a:lnTo>
                          <a:lnTo>
                            <a:pt x="9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2" name=""/>
                    <p:cNvSpPr/>
                    <p:nvPr/>
                  </p:nvSpPr>
                  <p:spPr>
                    <a:xfrm>
                      <a:off x="249120" y="4024440"/>
                      <a:ext cx="129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2">
                          <a:moveTo>
                            <a:pt x="0" y="32"/>
                          </a:moveTo>
                          <a:lnTo>
                            <a:pt x="2" y="18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63" name=""/>
                  <p:cNvGrpSpPr/>
                  <p:nvPr/>
                </p:nvGrpSpPr>
                <p:grpSpPr>
                  <a:xfrm>
                    <a:off x="250920" y="4024440"/>
                    <a:ext cx="14040" cy="12600"/>
                    <a:chOff x="250920" y="4024440"/>
                    <a:chExt cx="14040" cy="12600"/>
                  </a:xfrm>
                </p:grpSpPr>
                <p:sp>
                  <p:nvSpPr>
                    <p:cNvPr id="4864" name=""/>
                    <p:cNvSpPr/>
                    <p:nvPr/>
                  </p:nvSpPr>
                  <p:spPr>
                    <a:xfrm>
                      <a:off x="250920" y="4024440"/>
                      <a:ext cx="32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4"/>
                          </a:lnTo>
                          <a:lnTo>
                            <a:pt x="8" y="0"/>
                          </a:lnTo>
                          <a:lnTo>
                            <a:pt x="20" y="27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5" name=""/>
                    <p:cNvSpPr/>
                    <p:nvPr/>
                  </p:nvSpPr>
                  <p:spPr>
                    <a:xfrm>
                      <a:off x="252360" y="4025880"/>
                      <a:ext cx="111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60" y="26"/>
                          </a:lnTo>
                          <a:lnTo>
                            <a:pt x="15" y="26"/>
                          </a:lnTo>
                          <a:lnTo>
                            <a:pt x="7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6" name=""/>
                    <p:cNvSpPr/>
                    <p:nvPr/>
                  </p:nvSpPr>
                  <p:spPr>
                    <a:xfrm>
                      <a:off x="254160" y="403092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5" y="7"/>
                          </a:lnTo>
                          <a:lnTo>
                            <a:pt x="10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67" name=""/>
                  <p:cNvGrpSpPr/>
                  <p:nvPr/>
                </p:nvGrpSpPr>
                <p:grpSpPr>
                  <a:xfrm>
                    <a:off x="255600" y="4032360"/>
                    <a:ext cx="12600" cy="11160"/>
                    <a:chOff x="255600" y="4032360"/>
                    <a:chExt cx="12600" cy="11160"/>
                  </a:xfrm>
                </p:grpSpPr>
                <p:sp>
                  <p:nvSpPr>
                    <p:cNvPr id="4868" name=""/>
                    <p:cNvSpPr/>
                    <p:nvPr/>
                  </p:nvSpPr>
                  <p:spPr>
                    <a:xfrm>
                      <a:off x="255600" y="403236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0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9" name=""/>
                    <p:cNvSpPr/>
                    <p:nvPr/>
                  </p:nvSpPr>
                  <p:spPr>
                    <a:xfrm>
                      <a:off x="255600" y="403236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0" name=""/>
                    <p:cNvSpPr/>
                    <p:nvPr/>
                  </p:nvSpPr>
                  <p:spPr>
                    <a:xfrm>
                      <a:off x="257040" y="403704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6" y="7"/>
                          </a:lnTo>
                          <a:lnTo>
                            <a:pt x="11" y="0"/>
                          </a:lnTo>
                          <a:lnTo>
                            <a:pt x="56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71" name=""/>
                  <p:cNvGrpSpPr/>
                  <p:nvPr/>
                </p:nvGrpSpPr>
                <p:grpSpPr>
                  <a:xfrm>
                    <a:off x="258840" y="4038840"/>
                    <a:ext cx="14040" cy="10800"/>
                    <a:chOff x="258840" y="4038840"/>
                    <a:chExt cx="14040" cy="10800"/>
                  </a:xfrm>
                </p:grpSpPr>
                <p:sp>
                  <p:nvSpPr>
                    <p:cNvPr id="4872" name=""/>
                    <p:cNvSpPr/>
                    <p:nvPr/>
                  </p:nvSpPr>
                  <p:spPr>
                    <a:xfrm>
                      <a:off x="258840" y="4038840"/>
                      <a:ext cx="324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8">
                          <a:moveTo>
                            <a:pt x="11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9" y="26"/>
                          </a:lnTo>
                          <a:lnTo>
                            <a:pt x="11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3" name=""/>
                    <p:cNvSpPr/>
                    <p:nvPr/>
                  </p:nvSpPr>
                  <p:spPr>
                    <a:xfrm>
                      <a:off x="260280" y="4038840"/>
                      <a:ext cx="97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3" y="2"/>
                          </a:lnTo>
                          <a:lnTo>
                            <a:pt x="46" y="10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8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4" name=""/>
                    <p:cNvSpPr/>
                    <p:nvPr/>
                  </p:nvSpPr>
                  <p:spPr>
                    <a:xfrm>
                      <a:off x="260280" y="4043520"/>
                      <a:ext cx="126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4" y="7"/>
                          </a:lnTo>
                          <a:lnTo>
                            <a:pt x="8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875" name=""/>
                <p:cNvGrpSpPr/>
                <p:nvPr/>
              </p:nvGrpSpPr>
              <p:grpSpPr>
                <a:xfrm>
                  <a:off x="262080" y="4043520"/>
                  <a:ext cx="14040" cy="12600"/>
                  <a:chOff x="262080" y="4043520"/>
                  <a:chExt cx="14040" cy="12600"/>
                </a:xfrm>
              </p:grpSpPr>
              <p:sp>
                <p:nvSpPr>
                  <p:cNvPr id="4876" name=""/>
                  <p:cNvSpPr/>
                  <p:nvPr/>
                </p:nvSpPr>
                <p:spPr>
                  <a:xfrm>
                    <a:off x="262080" y="4043520"/>
                    <a:ext cx="2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2" y="59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8"/>
                        </a:lnTo>
                        <a:lnTo>
                          <a:pt x="12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7" name=""/>
                  <p:cNvSpPr/>
                  <p:nvPr/>
                </p:nvSpPr>
                <p:spPr>
                  <a:xfrm>
                    <a:off x="263520" y="404496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7">
                        <a:moveTo>
                          <a:pt x="2" y="0"/>
                        </a:moveTo>
                        <a:lnTo>
                          <a:pt x="40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7"/>
                        </a:lnTo>
                        <a:lnTo>
                          <a:pt x="15" y="27"/>
                        </a:lnTo>
                        <a:lnTo>
                          <a:pt x="8" y="19"/>
                        </a:lnTo>
                        <a:lnTo>
                          <a:pt x="0" y="6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8" name=""/>
                  <p:cNvSpPr/>
                  <p:nvPr/>
                </p:nvSpPr>
                <p:spPr>
                  <a:xfrm>
                    <a:off x="263520" y="404964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5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79" name=""/>
                <p:cNvGrpSpPr/>
                <p:nvPr/>
              </p:nvGrpSpPr>
              <p:grpSpPr>
                <a:xfrm>
                  <a:off x="264960" y="4049640"/>
                  <a:ext cx="14400" cy="12960"/>
                  <a:chOff x="264960" y="4049640"/>
                  <a:chExt cx="14400" cy="12960"/>
                </a:xfrm>
              </p:grpSpPr>
              <p:sp>
                <p:nvSpPr>
                  <p:cNvPr id="4880" name=""/>
                  <p:cNvSpPr/>
                  <p:nvPr/>
                </p:nvSpPr>
                <p:spPr>
                  <a:xfrm>
                    <a:off x="264960" y="4049640"/>
                    <a:ext cx="3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1" name=""/>
                  <p:cNvSpPr/>
                  <p:nvPr/>
                </p:nvSpPr>
                <p:spPr>
                  <a:xfrm>
                    <a:off x="266760" y="405144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6">
                        <a:moveTo>
                          <a:pt x="3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7" y="11"/>
                        </a:lnTo>
                        <a:lnTo>
                          <a:pt x="61" y="26"/>
                        </a:lnTo>
                        <a:lnTo>
                          <a:pt x="15" y="26"/>
                        </a:lnTo>
                        <a:lnTo>
                          <a:pt x="9" y="19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2" name=""/>
                  <p:cNvSpPr/>
                  <p:nvPr/>
                </p:nvSpPr>
                <p:spPr>
                  <a:xfrm>
                    <a:off x="268200" y="405612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8"/>
                        </a:lnTo>
                        <a:lnTo>
                          <a:pt x="4" y="7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3" name=""/>
                <p:cNvGrpSpPr/>
                <p:nvPr/>
              </p:nvGrpSpPr>
              <p:grpSpPr>
                <a:xfrm>
                  <a:off x="268200" y="4057920"/>
                  <a:ext cx="14400" cy="10800"/>
                  <a:chOff x="268200" y="4057920"/>
                  <a:chExt cx="14400" cy="10800"/>
                </a:xfrm>
              </p:grpSpPr>
              <p:sp>
                <p:nvSpPr>
                  <p:cNvPr id="4884" name=""/>
                  <p:cNvSpPr/>
                  <p:nvPr/>
                </p:nvSpPr>
                <p:spPr>
                  <a:xfrm>
                    <a:off x="268200" y="4057920"/>
                    <a:ext cx="32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7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5" name=""/>
                  <p:cNvSpPr/>
                  <p:nvPr/>
                </p:nvSpPr>
                <p:spPr>
                  <a:xfrm>
                    <a:off x="270000" y="405792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2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9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6" name=""/>
                  <p:cNvSpPr/>
                  <p:nvPr/>
                </p:nvSpPr>
                <p:spPr>
                  <a:xfrm>
                    <a:off x="271440" y="406260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7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87" name=""/>
                <p:cNvSpPr/>
                <p:nvPr/>
              </p:nvSpPr>
              <p:spPr>
                <a:xfrm>
                  <a:off x="196920" y="394668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20" h="58">
                      <a:moveTo>
                        <a:pt x="11" y="58"/>
                      </a:moveTo>
                      <a:lnTo>
                        <a:pt x="0" y="23"/>
                      </a:lnTo>
                      <a:lnTo>
                        <a:pt x="8" y="0"/>
                      </a:lnTo>
                      <a:lnTo>
                        <a:pt x="20" y="26"/>
                      </a:lnTo>
                      <a:lnTo>
                        <a:pt x="11" y="58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8" name=""/>
                <p:cNvSpPr/>
                <p:nvPr/>
              </p:nvSpPr>
              <p:spPr>
                <a:xfrm>
                  <a:off x="198360" y="394668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58" h="26">
                      <a:moveTo>
                        <a:pt x="1" y="0"/>
                      </a:moveTo>
                      <a:lnTo>
                        <a:pt x="40" y="0"/>
                      </a:lnTo>
                      <a:lnTo>
                        <a:pt x="41" y="3"/>
                      </a:lnTo>
                      <a:lnTo>
                        <a:pt x="46" y="11"/>
                      </a:lnTo>
                      <a:lnTo>
                        <a:pt x="58" y="26"/>
                      </a:lnTo>
                      <a:lnTo>
                        <a:pt x="15" y="26"/>
                      </a:lnTo>
                      <a:lnTo>
                        <a:pt x="7" y="19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9" name=""/>
                <p:cNvSpPr/>
                <p:nvPr/>
              </p:nvSpPr>
              <p:spPr>
                <a:xfrm>
                  <a:off x="198360" y="3951360"/>
                  <a:ext cx="12960" cy="6480"/>
                </a:xfrm>
                <a:custGeom>
                  <a:avLst/>
                  <a:gdLst/>
                  <a:ahLst/>
                  <a:rect l="l" t="t" r="r" b="b"/>
                  <a:pathLst>
                    <a:path w="67" h="31">
                      <a:moveTo>
                        <a:pt x="0" y="31"/>
                      </a:moveTo>
                      <a:lnTo>
                        <a:pt x="2" y="18"/>
                      </a:lnTo>
                      <a:lnTo>
                        <a:pt x="5" y="7"/>
                      </a:lnTo>
                      <a:lnTo>
                        <a:pt x="10" y="0"/>
                      </a:lnTo>
                      <a:lnTo>
                        <a:pt x="54" y="0"/>
                      </a:lnTo>
                      <a:lnTo>
                        <a:pt x="67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90" name=""/>
                <p:cNvGrpSpPr/>
                <p:nvPr/>
              </p:nvGrpSpPr>
              <p:grpSpPr>
                <a:xfrm>
                  <a:off x="200160" y="3953160"/>
                  <a:ext cx="14040" cy="10800"/>
                  <a:chOff x="200160" y="3953160"/>
                  <a:chExt cx="14040" cy="10800"/>
                </a:xfrm>
              </p:grpSpPr>
              <p:sp>
                <p:nvSpPr>
                  <p:cNvPr id="4891" name=""/>
                  <p:cNvSpPr/>
                  <p:nvPr/>
                </p:nvSpPr>
                <p:spPr>
                  <a:xfrm>
                    <a:off x="200160" y="3953160"/>
                    <a:ext cx="28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13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1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2" name=""/>
                  <p:cNvSpPr/>
                  <p:nvPr/>
                </p:nvSpPr>
                <p:spPr>
                  <a:xfrm>
                    <a:off x="201600" y="39531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39" y="0"/>
                        </a:lnTo>
                        <a:lnTo>
                          <a:pt x="40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7" y="17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3" name=""/>
                  <p:cNvSpPr/>
                  <p:nvPr/>
                </p:nvSpPr>
                <p:spPr>
                  <a:xfrm>
                    <a:off x="201600" y="395784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6" y="7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4" name=""/>
                <p:cNvGrpSpPr/>
                <p:nvPr/>
              </p:nvGrpSpPr>
              <p:grpSpPr>
                <a:xfrm>
                  <a:off x="203040" y="3959280"/>
                  <a:ext cx="14400" cy="11160"/>
                  <a:chOff x="203040" y="3959280"/>
                  <a:chExt cx="14400" cy="11160"/>
                </a:xfrm>
              </p:grpSpPr>
              <p:sp>
                <p:nvSpPr>
                  <p:cNvPr id="4895" name=""/>
                  <p:cNvSpPr/>
                  <p:nvPr/>
                </p:nvSpPr>
                <p:spPr>
                  <a:xfrm>
                    <a:off x="203040" y="3959280"/>
                    <a:ext cx="5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7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6" name=""/>
                  <p:cNvSpPr/>
                  <p:nvPr/>
                </p:nvSpPr>
                <p:spPr>
                  <a:xfrm>
                    <a:off x="204840" y="395928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0"/>
                        </a:lnTo>
                        <a:lnTo>
                          <a:pt x="59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7" name=""/>
                  <p:cNvSpPr/>
                  <p:nvPr/>
                </p:nvSpPr>
                <p:spPr>
                  <a:xfrm>
                    <a:off x="206280" y="396396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8" name=""/>
                <p:cNvGrpSpPr/>
                <p:nvPr/>
              </p:nvGrpSpPr>
              <p:grpSpPr>
                <a:xfrm>
                  <a:off x="208080" y="3965760"/>
                  <a:ext cx="14040" cy="11160"/>
                  <a:chOff x="208080" y="3965760"/>
                  <a:chExt cx="14040" cy="11160"/>
                </a:xfrm>
              </p:grpSpPr>
              <p:sp>
                <p:nvSpPr>
                  <p:cNvPr id="4899" name=""/>
                  <p:cNvSpPr/>
                  <p:nvPr/>
                </p:nvSpPr>
                <p:spPr>
                  <a:xfrm>
                    <a:off x="208080" y="396576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7" y="0"/>
                        </a:lnTo>
                        <a:lnTo>
                          <a:pt x="20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0" name=""/>
                  <p:cNvSpPr/>
                  <p:nvPr/>
                </p:nvSpPr>
                <p:spPr>
                  <a:xfrm>
                    <a:off x="208080" y="39657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5">
                        <a:moveTo>
                          <a:pt x="2" y="0"/>
                        </a:moveTo>
                        <a:lnTo>
                          <a:pt x="41" y="0"/>
                        </a:lnTo>
                        <a:lnTo>
                          <a:pt x="43" y="2"/>
                        </a:lnTo>
                        <a:lnTo>
                          <a:pt x="46" y="10"/>
                        </a:lnTo>
                        <a:lnTo>
                          <a:pt x="61" y="25"/>
                        </a:lnTo>
                        <a:lnTo>
                          <a:pt x="15" y="25"/>
                        </a:lnTo>
                        <a:lnTo>
                          <a:pt x="9" y="18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1" name=""/>
                  <p:cNvSpPr/>
                  <p:nvPr/>
                </p:nvSpPr>
                <p:spPr>
                  <a:xfrm>
                    <a:off x="209520" y="397044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02" name=""/>
                <p:cNvGrpSpPr/>
                <p:nvPr/>
              </p:nvGrpSpPr>
              <p:grpSpPr>
                <a:xfrm>
                  <a:off x="211320" y="3971880"/>
                  <a:ext cx="14040" cy="11160"/>
                  <a:chOff x="211320" y="3971880"/>
                  <a:chExt cx="14040" cy="11160"/>
                </a:xfrm>
              </p:grpSpPr>
              <p:sp>
                <p:nvSpPr>
                  <p:cNvPr id="4903" name=""/>
                  <p:cNvSpPr/>
                  <p:nvPr/>
                </p:nvSpPr>
                <p:spPr>
                  <a:xfrm>
                    <a:off x="211320" y="397188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21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4" name=""/>
                  <p:cNvSpPr/>
                  <p:nvPr/>
                </p:nvSpPr>
                <p:spPr>
                  <a:xfrm>
                    <a:off x="212760" y="397188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5" name=""/>
                  <p:cNvSpPr/>
                  <p:nvPr/>
                </p:nvSpPr>
                <p:spPr>
                  <a:xfrm>
                    <a:off x="212760" y="397692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4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5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06" name=""/>
                <p:cNvGrpSpPr/>
                <p:nvPr/>
              </p:nvGrpSpPr>
              <p:grpSpPr>
                <a:xfrm>
                  <a:off x="214200" y="3979800"/>
                  <a:ext cx="28800" cy="36720"/>
                  <a:chOff x="214200" y="3979800"/>
                  <a:chExt cx="28800" cy="36720"/>
                </a:xfrm>
              </p:grpSpPr>
              <p:grpSp>
                <p:nvGrpSpPr>
                  <p:cNvPr id="4907" name=""/>
                  <p:cNvGrpSpPr/>
                  <p:nvPr/>
                </p:nvGrpSpPr>
                <p:grpSpPr>
                  <a:xfrm>
                    <a:off x="214200" y="3979800"/>
                    <a:ext cx="14400" cy="11160"/>
                    <a:chOff x="214200" y="3979800"/>
                    <a:chExt cx="14400" cy="11160"/>
                  </a:xfrm>
                </p:grpSpPr>
                <p:sp>
                  <p:nvSpPr>
                    <p:cNvPr id="4908" name=""/>
                    <p:cNvSpPr/>
                    <p:nvPr/>
                  </p:nvSpPr>
                  <p:spPr>
                    <a:xfrm>
                      <a:off x="214200" y="397980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61">
                          <a:moveTo>
                            <a:pt x="12" y="61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1" y="27"/>
                          </a:lnTo>
                          <a:lnTo>
                            <a:pt x="12" y="61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9" name=""/>
                    <p:cNvSpPr/>
                    <p:nvPr/>
                  </p:nvSpPr>
                  <p:spPr>
                    <a:xfrm>
                      <a:off x="216000" y="3979800"/>
                      <a:ext cx="111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3" y="3"/>
                          </a:lnTo>
                          <a:lnTo>
                            <a:pt x="46" y="10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7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0" name=""/>
                    <p:cNvSpPr/>
                    <p:nvPr/>
                  </p:nvSpPr>
                  <p:spPr>
                    <a:xfrm>
                      <a:off x="216000" y="3984840"/>
                      <a:ext cx="126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3">
                          <a:moveTo>
                            <a:pt x="0" y="33"/>
                          </a:moveTo>
                          <a:lnTo>
                            <a:pt x="1" y="18"/>
                          </a:lnTo>
                          <a:lnTo>
                            <a:pt x="7" y="6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6" y="3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11" name=""/>
                  <p:cNvGrpSpPr/>
                  <p:nvPr/>
                </p:nvGrpSpPr>
                <p:grpSpPr>
                  <a:xfrm>
                    <a:off x="217440" y="3986280"/>
                    <a:ext cx="14400" cy="11160"/>
                    <a:chOff x="217440" y="3986280"/>
                    <a:chExt cx="14400" cy="11160"/>
                  </a:xfrm>
                </p:grpSpPr>
                <p:sp>
                  <p:nvSpPr>
                    <p:cNvPr id="4912" name=""/>
                    <p:cNvSpPr/>
                    <p:nvPr/>
                  </p:nvSpPr>
                  <p:spPr>
                    <a:xfrm>
                      <a:off x="217440" y="3986280"/>
                      <a:ext cx="46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0" y="59"/>
                          </a:moveTo>
                          <a:lnTo>
                            <a:pt x="0" y="24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0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3" name=""/>
                    <p:cNvSpPr/>
                    <p:nvPr/>
                  </p:nvSpPr>
                  <p:spPr>
                    <a:xfrm>
                      <a:off x="219240" y="398628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8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2"/>
                          </a:lnTo>
                          <a:lnTo>
                            <a:pt x="60" y="28"/>
                          </a:lnTo>
                          <a:lnTo>
                            <a:pt x="15" y="28"/>
                          </a:lnTo>
                          <a:lnTo>
                            <a:pt x="8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4" name=""/>
                    <p:cNvSpPr/>
                    <p:nvPr/>
                  </p:nvSpPr>
                  <p:spPr>
                    <a:xfrm>
                      <a:off x="220680" y="399096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30">
                          <a:moveTo>
                            <a:pt x="0" y="30"/>
                          </a:moveTo>
                          <a:lnTo>
                            <a:pt x="1" y="17"/>
                          </a:lnTo>
                          <a:lnTo>
                            <a:pt x="6" y="6"/>
                          </a:lnTo>
                          <a:lnTo>
                            <a:pt x="11" y="0"/>
                          </a:lnTo>
                          <a:lnTo>
                            <a:pt x="56" y="0"/>
                          </a:lnTo>
                          <a:lnTo>
                            <a:pt x="68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15" name=""/>
                  <p:cNvGrpSpPr/>
                  <p:nvPr/>
                </p:nvGrpSpPr>
                <p:grpSpPr>
                  <a:xfrm>
                    <a:off x="220680" y="3992760"/>
                    <a:ext cx="14400" cy="11160"/>
                    <a:chOff x="220680" y="3992760"/>
                    <a:chExt cx="14400" cy="11160"/>
                  </a:xfrm>
                </p:grpSpPr>
                <p:sp>
                  <p:nvSpPr>
                    <p:cNvPr id="4916" name=""/>
                    <p:cNvSpPr/>
                    <p:nvPr/>
                  </p:nvSpPr>
                  <p:spPr>
                    <a:xfrm>
                      <a:off x="220680" y="3992760"/>
                      <a:ext cx="46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7" name=""/>
                    <p:cNvSpPr/>
                    <p:nvPr/>
                  </p:nvSpPr>
                  <p:spPr>
                    <a:xfrm>
                      <a:off x="222120" y="399276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3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8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8" name=""/>
                    <p:cNvSpPr/>
                    <p:nvPr/>
                  </p:nvSpPr>
                  <p:spPr>
                    <a:xfrm>
                      <a:off x="223920" y="399744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5" y="6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19" name=""/>
                  <p:cNvGrpSpPr/>
                  <p:nvPr/>
                </p:nvGrpSpPr>
                <p:grpSpPr>
                  <a:xfrm>
                    <a:off x="225360" y="3998880"/>
                    <a:ext cx="14400" cy="11160"/>
                    <a:chOff x="225360" y="3998880"/>
                    <a:chExt cx="14400" cy="11160"/>
                  </a:xfrm>
                </p:grpSpPr>
                <p:sp>
                  <p:nvSpPr>
                    <p:cNvPr id="4920" name=""/>
                    <p:cNvSpPr/>
                    <p:nvPr/>
                  </p:nvSpPr>
                  <p:spPr>
                    <a:xfrm>
                      <a:off x="225360" y="399888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1" name=""/>
                    <p:cNvSpPr/>
                    <p:nvPr/>
                  </p:nvSpPr>
                  <p:spPr>
                    <a:xfrm>
                      <a:off x="227160" y="3998880"/>
                      <a:ext cx="93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58" y="25"/>
                          </a:lnTo>
                          <a:lnTo>
                            <a:pt x="15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2" name=""/>
                    <p:cNvSpPr/>
                    <p:nvPr/>
                  </p:nvSpPr>
                  <p:spPr>
                    <a:xfrm>
                      <a:off x="227160" y="4003920"/>
                      <a:ext cx="126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4" y="7"/>
                          </a:lnTo>
                          <a:lnTo>
                            <a:pt x="9" y="0"/>
                          </a:lnTo>
                          <a:lnTo>
                            <a:pt x="53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23" name=""/>
                  <p:cNvGrpSpPr/>
                  <p:nvPr/>
                </p:nvGrpSpPr>
                <p:grpSpPr>
                  <a:xfrm>
                    <a:off x="228600" y="4005360"/>
                    <a:ext cx="14400" cy="11160"/>
                    <a:chOff x="228600" y="4005360"/>
                    <a:chExt cx="14400" cy="11160"/>
                  </a:xfrm>
                </p:grpSpPr>
                <p:sp>
                  <p:nvSpPr>
                    <p:cNvPr id="4924" name=""/>
                    <p:cNvSpPr/>
                    <p:nvPr/>
                  </p:nvSpPr>
                  <p:spPr>
                    <a:xfrm>
                      <a:off x="228600" y="400536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10" y="0"/>
                          </a:lnTo>
                          <a:lnTo>
                            <a:pt x="21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5" name=""/>
                    <p:cNvSpPr/>
                    <p:nvPr/>
                  </p:nvSpPr>
                  <p:spPr>
                    <a:xfrm>
                      <a:off x="230040" y="400536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2" y="0"/>
                          </a:moveTo>
                          <a:lnTo>
                            <a:pt x="39" y="0"/>
                          </a:lnTo>
                          <a:lnTo>
                            <a:pt x="41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6" name=""/>
                    <p:cNvSpPr/>
                    <p:nvPr/>
                  </p:nvSpPr>
                  <p:spPr>
                    <a:xfrm>
                      <a:off x="231840" y="401004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27" name=""/>
                <p:cNvGrpSpPr/>
                <p:nvPr/>
              </p:nvGrpSpPr>
              <p:grpSpPr>
                <a:xfrm>
                  <a:off x="231840" y="4013280"/>
                  <a:ext cx="28440" cy="36360"/>
                  <a:chOff x="231840" y="4013280"/>
                  <a:chExt cx="28440" cy="36360"/>
                </a:xfrm>
              </p:grpSpPr>
              <p:grpSp>
                <p:nvGrpSpPr>
                  <p:cNvPr id="4928" name=""/>
                  <p:cNvGrpSpPr/>
                  <p:nvPr/>
                </p:nvGrpSpPr>
                <p:grpSpPr>
                  <a:xfrm>
                    <a:off x="231840" y="4013280"/>
                    <a:ext cx="14400" cy="11160"/>
                    <a:chOff x="231840" y="4013280"/>
                    <a:chExt cx="14400" cy="11160"/>
                  </a:xfrm>
                </p:grpSpPr>
                <p:sp>
                  <p:nvSpPr>
                    <p:cNvPr id="4929" name=""/>
                    <p:cNvSpPr/>
                    <p:nvPr/>
                  </p:nvSpPr>
                  <p:spPr>
                    <a:xfrm>
                      <a:off x="231840" y="4013280"/>
                      <a:ext cx="46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8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0" name=""/>
                    <p:cNvSpPr/>
                    <p:nvPr/>
                  </p:nvSpPr>
                  <p:spPr>
                    <a:xfrm>
                      <a:off x="233280" y="401328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7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4"/>
                          </a:lnTo>
                          <a:lnTo>
                            <a:pt x="46" y="11"/>
                          </a:lnTo>
                          <a:lnTo>
                            <a:pt x="60" y="27"/>
                          </a:lnTo>
                          <a:lnTo>
                            <a:pt x="15" y="27"/>
                          </a:lnTo>
                          <a:lnTo>
                            <a:pt x="9" y="1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1" name=""/>
                    <p:cNvSpPr/>
                    <p:nvPr/>
                  </p:nvSpPr>
                  <p:spPr>
                    <a:xfrm>
                      <a:off x="235080" y="401796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0">
                          <a:moveTo>
                            <a:pt x="0" y="30"/>
                          </a:moveTo>
                          <a:lnTo>
                            <a:pt x="2" y="16"/>
                          </a:lnTo>
                          <a:lnTo>
                            <a:pt x="5" y="5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7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32" name=""/>
                  <p:cNvGrpSpPr/>
                  <p:nvPr/>
                </p:nvGrpSpPr>
                <p:grpSpPr>
                  <a:xfrm>
                    <a:off x="235080" y="4017960"/>
                    <a:ext cx="14040" cy="12960"/>
                    <a:chOff x="235080" y="4017960"/>
                    <a:chExt cx="14040" cy="12960"/>
                  </a:xfrm>
                </p:grpSpPr>
                <p:sp>
                  <p:nvSpPr>
                    <p:cNvPr id="4933" name=""/>
                    <p:cNvSpPr/>
                    <p:nvPr/>
                  </p:nvSpPr>
                  <p:spPr>
                    <a:xfrm>
                      <a:off x="235080" y="4017960"/>
                      <a:ext cx="468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2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2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4" name=""/>
                    <p:cNvSpPr/>
                    <p:nvPr/>
                  </p:nvSpPr>
                  <p:spPr>
                    <a:xfrm>
                      <a:off x="236520" y="401976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6" y="11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9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5" name=""/>
                    <p:cNvSpPr/>
                    <p:nvPr/>
                  </p:nvSpPr>
                  <p:spPr>
                    <a:xfrm>
                      <a:off x="237960" y="402444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2">
                          <a:moveTo>
                            <a:pt x="0" y="32"/>
                          </a:moveTo>
                          <a:lnTo>
                            <a:pt x="2" y="18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6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36" name=""/>
                  <p:cNvGrpSpPr/>
                  <p:nvPr/>
                </p:nvGrpSpPr>
                <p:grpSpPr>
                  <a:xfrm>
                    <a:off x="239760" y="4024440"/>
                    <a:ext cx="14400" cy="12600"/>
                    <a:chOff x="239760" y="4024440"/>
                    <a:chExt cx="14400" cy="12600"/>
                  </a:xfrm>
                </p:grpSpPr>
                <p:sp>
                  <p:nvSpPr>
                    <p:cNvPr id="4937" name=""/>
                    <p:cNvSpPr/>
                    <p:nvPr/>
                  </p:nvSpPr>
                  <p:spPr>
                    <a:xfrm>
                      <a:off x="239760" y="4024440"/>
                      <a:ext cx="32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1" y="59"/>
                          </a:moveTo>
                          <a:lnTo>
                            <a:pt x="0" y="24"/>
                          </a:lnTo>
                          <a:lnTo>
                            <a:pt x="8" y="0"/>
                          </a:lnTo>
                          <a:lnTo>
                            <a:pt x="20" y="27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8" name=""/>
                    <p:cNvSpPr/>
                    <p:nvPr/>
                  </p:nvSpPr>
                  <p:spPr>
                    <a:xfrm>
                      <a:off x="241200" y="4025880"/>
                      <a:ext cx="972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60" y="26"/>
                          </a:lnTo>
                          <a:lnTo>
                            <a:pt x="14" y="26"/>
                          </a:lnTo>
                          <a:lnTo>
                            <a:pt x="7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9" name=""/>
                    <p:cNvSpPr/>
                    <p:nvPr/>
                  </p:nvSpPr>
                  <p:spPr>
                    <a:xfrm>
                      <a:off x="241200" y="4030920"/>
                      <a:ext cx="129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2" y="17"/>
                          </a:lnTo>
                          <a:lnTo>
                            <a:pt x="6" y="7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40" name=""/>
                  <p:cNvGrpSpPr/>
                  <p:nvPr/>
                </p:nvGrpSpPr>
                <p:grpSpPr>
                  <a:xfrm>
                    <a:off x="243000" y="4032360"/>
                    <a:ext cx="14040" cy="11160"/>
                    <a:chOff x="243000" y="4032360"/>
                    <a:chExt cx="14040" cy="11160"/>
                  </a:xfrm>
                </p:grpSpPr>
                <p:sp>
                  <p:nvSpPr>
                    <p:cNvPr id="4941" name=""/>
                    <p:cNvSpPr/>
                    <p:nvPr/>
                  </p:nvSpPr>
                  <p:spPr>
                    <a:xfrm>
                      <a:off x="243000" y="403236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8">
                          <a:moveTo>
                            <a:pt x="12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1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2" name=""/>
                    <p:cNvSpPr/>
                    <p:nvPr/>
                  </p:nvSpPr>
                  <p:spPr>
                    <a:xfrm>
                      <a:off x="244440" y="403236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3" name=""/>
                    <p:cNvSpPr/>
                    <p:nvPr/>
                  </p:nvSpPr>
                  <p:spPr>
                    <a:xfrm>
                      <a:off x="244440" y="403704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5" y="7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44" name=""/>
                  <p:cNvGrpSpPr/>
                  <p:nvPr/>
                </p:nvGrpSpPr>
                <p:grpSpPr>
                  <a:xfrm>
                    <a:off x="246240" y="4038840"/>
                    <a:ext cx="14040" cy="10800"/>
                    <a:chOff x="246240" y="4038840"/>
                    <a:chExt cx="14040" cy="10800"/>
                  </a:xfrm>
                </p:grpSpPr>
                <p:sp>
                  <p:nvSpPr>
                    <p:cNvPr id="4945" name=""/>
                    <p:cNvSpPr/>
                    <p:nvPr/>
                  </p:nvSpPr>
                  <p:spPr>
                    <a:xfrm>
                      <a:off x="246240" y="4038840"/>
                      <a:ext cx="468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8">
                          <a:moveTo>
                            <a:pt x="11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9" y="26"/>
                          </a:lnTo>
                          <a:lnTo>
                            <a:pt x="11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6" name=""/>
                    <p:cNvSpPr/>
                    <p:nvPr/>
                  </p:nvSpPr>
                  <p:spPr>
                    <a:xfrm>
                      <a:off x="247680" y="403884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61" y="25"/>
                          </a:lnTo>
                          <a:lnTo>
                            <a:pt x="15" y="25"/>
                          </a:lnTo>
                          <a:lnTo>
                            <a:pt x="8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7" name=""/>
                    <p:cNvSpPr/>
                    <p:nvPr/>
                  </p:nvSpPr>
                  <p:spPr>
                    <a:xfrm>
                      <a:off x="249120" y="404352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5" y="7"/>
                          </a:lnTo>
                          <a:lnTo>
                            <a:pt x="9" y="0"/>
                          </a:lnTo>
                          <a:lnTo>
                            <a:pt x="56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48" name=""/>
                <p:cNvGrpSpPr/>
                <p:nvPr/>
              </p:nvGrpSpPr>
              <p:grpSpPr>
                <a:xfrm>
                  <a:off x="249120" y="4043520"/>
                  <a:ext cx="14400" cy="12600"/>
                  <a:chOff x="249120" y="4043520"/>
                  <a:chExt cx="14400" cy="12600"/>
                </a:xfrm>
              </p:grpSpPr>
              <p:sp>
                <p:nvSpPr>
                  <p:cNvPr id="4949" name=""/>
                  <p:cNvSpPr/>
                  <p:nvPr/>
                </p:nvSpPr>
                <p:spPr>
                  <a:xfrm>
                    <a:off x="249120" y="4043520"/>
                    <a:ext cx="3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2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20" y="28"/>
                        </a:lnTo>
                        <a:lnTo>
                          <a:pt x="12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0" name=""/>
                  <p:cNvSpPr/>
                  <p:nvPr/>
                </p:nvSpPr>
                <p:spPr>
                  <a:xfrm>
                    <a:off x="250920" y="40449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7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1"/>
                        </a:lnTo>
                        <a:lnTo>
                          <a:pt x="60" y="27"/>
                        </a:lnTo>
                        <a:lnTo>
                          <a:pt x="15" y="27"/>
                        </a:lnTo>
                        <a:lnTo>
                          <a:pt x="8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1" name=""/>
                  <p:cNvSpPr/>
                  <p:nvPr/>
                </p:nvSpPr>
                <p:spPr>
                  <a:xfrm>
                    <a:off x="252360" y="404964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5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2" name=""/>
                <p:cNvGrpSpPr/>
                <p:nvPr/>
              </p:nvGrpSpPr>
              <p:grpSpPr>
                <a:xfrm>
                  <a:off x="254160" y="4049640"/>
                  <a:ext cx="12600" cy="12960"/>
                  <a:chOff x="254160" y="4049640"/>
                  <a:chExt cx="12600" cy="12960"/>
                </a:xfrm>
              </p:grpSpPr>
              <p:sp>
                <p:nvSpPr>
                  <p:cNvPr id="4953" name=""/>
                  <p:cNvSpPr/>
                  <p:nvPr/>
                </p:nvSpPr>
                <p:spPr>
                  <a:xfrm>
                    <a:off x="254160" y="4049640"/>
                    <a:ext cx="2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9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4" name=""/>
                  <p:cNvSpPr/>
                  <p:nvPr/>
                </p:nvSpPr>
                <p:spPr>
                  <a:xfrm>
                    <a:off x="254160" y="405144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6">
                        <a:moveTo>
                          <a:pt x="4" y="0"/>
                        </a:moveTo>
                        <a:lnTo>
                          <a:pt x="42" y="0"/>
                        </a:lnTo>
                        <a:lnTo>
                          <a:pt x="43" y="3"/>
                        </a:lnTo>
                        <a:lnTo>
                          <a:pt x="48" y="11"/>
                        </a:lnTo>
                        <a:lnTo>
                          <a:pt x="61" y="26"/>
                        </a:lnTo>
                        <a:lnTo>
                          <a:pt x="15" y="26"/>
                        </a:lnTo>
                        <a:lnTo>
                          <a:pt x="10" y="19"/>
                        </a:lnTo>
                        <a:lnTo>
                          <a:pt x="0" y="5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5" name=""/>
                  <p:cNvSpPr/>
                  <p:nvPr/>
                </p:nvSpPr>
                <p:spPr>
                  <a:xfrm>
                    <a:off x="255600" y="405612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1">
                        <a:moveTo>
                          <a:pt x="0" y="31"/>
                        </a:moveTo>
                        <a:lnTo>
                          <a:pt x="1" y="18"/>
                        </a:lnTo>
                        <a:lnTo>
                          <a:pt x="5" y="7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6" name=""/>
                <p:cNvGrpSpPr/>
                <p:nvPr/>
              </p:nvGrpSpPr>
              <p:grpSpPr>
                <a:xfrm>
                  <a:off x="192240" y="3959280"/>
                  <a:ext cx="14040" cy="11160"/>
                  <a:chOff x="192240" y="3959280"/>
                  <a:chExt cx="14040" cy="11160"/>
                </a:xfrm>
              </p:grpSpPr>
              <p:sp>
                <p:nvSpPr>
                  <p:cNvPr id="4957" name=""/>
                  <p:cNvSpPr/>
                  <p:nvPr/>
                </p:nvSpPr>
                <p:spPr>
                  <a:xfrm>
                    <a:off x="192240" y="395928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9" y="0"/>
                        </a:lnTo>
                        <a:lnTo>
                          <a:pt x="20" y="27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8" name=""/>
                  <p:cNvSpPr/>
                  <p:nvPr/>
                </p:nvSpPr>
                <p:spPr>
                  <a:xfrm>
                    <a:off x="193680" y="395928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5" y="10"/>
                        </a:lnTo>
                        <a:lnTo>
                          <a:pt x="59" y="26"/>
                        </a:lnTo>
                        <a:lnTo>
                          <a:pt x="14" y="26"/>
                        </a:lnTo>
                        <a:lnTo>
                          <a:pt x="7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9" name=""/>
                  <p:cNvSpPr/>
                  <p:nvPr/>
                </p:nvSpPr>
                <p:spPr>
                  <a:xfrm>
                    <a:off x="193680" y="396396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6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8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60" name=""/>
                <p:cNvGrpSpPr/>
                <p:nvPr/>
              </p:nvGrpSpPr>
              <p:grpSpPr>
                <a:xfrm>
                  <a:off x="195120" y="3965760"/>
                  <a:ext cx="14400" cy="11160"/>
                  <a:chOff x="195120" y="3965760"/>
                  <a:chExt cx="14400" cy="11160"/>
                </a:xfrm>
              </p:grpSpPr>
              <p:sp>
                <p:nvSpPr>
                  <p:cNvPr id="4961" name=""/>
                  <p:cNvSpPr/>
                  <p:nvPr/>
                </p:nvSpPr>
                <p:spPr>
                  <a:xfrm>
                    <a:off x="195120" y="396576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3" y="58"/>
                        </a:moveTo>
                        <a:lnTo>
                          <a:pt x="0" y="22"/>
                        </a:lnTo>
                        <a:lnTo>
                          <a:pt x="7" y="0"/>
                        </a:lnTo>
                        <a:lnTo>
                          <a:pt x="20" y="26"/>
                        </a:lnTo>
                        <a:lnTo>
                          <a:pt x="13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2" name=""/>
                  <p:cNvSpPr/>
                  <p:nvPr/>
                </p:nvSpPr>
                <p:spPr>
                  <a:xfrm>
                    <a:off x="196920" y="39657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5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2" y="2"/>
                        </a:lnTo>
                        <a:lnTo>
                          <a:pt x="46" y="10"/>
                        </a:lnTo>
                        <a:lnTo>
                          <a:pt x="61" y="25"/>
                        </a:lnTo>
                        <a:lnTo>
                          <a:pt x="15" y="25"/>
                        </a:lnTo>
                        <a:lnTo>
                          <a:pt x="9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3" name=""/>
                  <p:cNvSpPr/>
                  <p:nvPr/>
                </p:nvSpPr>
                <p:spPr>
                  <a:xfrm>
                    <a:off x="198360" y="397044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4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64" name=""/>
                <p:cNvGrpSpPr/>
                <p:nvPr/>
              </p:nvGrpSpPr>
              <p:grpSpPr>
                <a:xfrm>
                  <a:off x="198360" y="3971880"/>
                  <a:ext cx="14400" cy="11160"/>
                  <a:chOff x="198360" y="3971880"/>
                  <a:chExt cx="14400" cy="11160"/>
                </a:xfrm>
              </p:grpSpPr>
              <p:sp>
                <p:nvSpPr>
                  <p:cNvPr id="4965" name=""/>
                  <p:cNvSpPr/>
                  <p:nvPr/>
                </p:nvSpPr>
                <p:spPr>
                  <a:xfrm>
                    <a:off x="198360" y="397188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19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6" name=""/>
                  <p:cNvSpPr/>
                  <p:nvPr/>
                </p:nvSpPr>
                <p:spPr>
                  <a:xfrm>
                    <a:off x="200160" y="3971880"/>
                    <a:ext cx="111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4" y="10"/>
                        </a:lnTo>
                        <a:lnTo>
                          <a:pt x="59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7" name=""/>
                  <p:cNvSpPr/>
                  <p:nvPr/>
                </p:nvSpPr>
                <p:spPr>
                  <a:xfrm>
                    <a:off x="201600" y="397692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68" name=""/>
                <p:cNvGrpSpPr/>
                <p:nvPr/>
              </p:nvGrpSpPr>
              <p:grpSpPr>
                <a:xfrm>
                  <a:off x="203040" y="3979800"/>
                  <a:ext cx="27000" cy="36720"/>
                  <a:chOff x="203040" y="3979800"/>
                  <a:chExt cx="27000" cy="36720"/>
                </a:xfrm>
              </p:grpSpPr>
              <p:grpSp>
                <p:nvGrpSpPr>
                  <p:cNvPr id="4969" name=""/>
                  <p:cNvGrpSpPr/>
                  <p:nvPr/>
                </p:nvGrpSpPr>
                <p:grpSpPr>
                  <a:xfrm>
                    <a:off x="203040" y="3979800"/>
                    <a:ext cx="12960" cy="11160"/>
                    <a:chOff x="203040" y="3979800"/>
                    <a:chExt cx="12960" cy="11160"/>
                  </a:xfrm>
                </p:grpSpPr>
                <p:sp>
                  <p:nvSpPr>
                    <p:cNvPr id="4970" name=""/>
                    <p:cNvSpPr/>
                    <p:nvPr/>
                  </p:nvSpPr>
                  <p:spPr>
                    <a:xfrm>
                      <a:off x="203040" y="397980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61">
                          <a:moveTo>
                            <a:pt x="12" y="61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1" y="27"/>
                          </a:lnTo>
                          <a:lnTo>
                            <a:pt x="12" y="61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71" name=""/>
                    <p:cNvSpPr/>
                    <p:nvPr/>
                  </p:nvSpPr>
                  <p:spPr>
                    <a:xfrm>
                      <a:off x="203040" y="3979800"/>
                      <a:ext cx="111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3"/>
                          </a:lnTo>
                          <a:lnTo>
                            <a:pt x="46" y="10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7" y="18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72" name=""/>
                    <p:cNvSpPr/>
                    <p:nvPr/>
                  </p:nvSpPr>
                  <p:spPr>
                    <a:xfrm>
                      <a:off x="204840" y="398484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3">
                          <a:moveTo>
                            <a:pt x="0" y="33"/>
                          </a:moveTo>
                          <a:lnTo>
                            <a:pt x="1" y="18"/>
                          </a:lnTo>
                          <a:lnTo>
                            <a:pt x="5" y="6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6" y="3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73" name=""/>
                  <p:cNvGrpSpPr/>
                  <p:nvPr/>
                </p:nvGrpSpPr>
                <p:grpSpPr>
                  <a:xfrm>
                    <a:off x="206280" y="3986280"/>
                    <a:ext cx="12960" cy="11160"/>
                    <a:chOff x="206280" y="3986280"/>
                    <a:chExt cx="12960" cy="11160"/>
                  </a:xfrm>
                </p:grpSpPr>
                <p:sp>
                  <p:nvSpPr>
                    <p:cNvPr id="4974" name=""/>
                    <p:cNvSpPr/>
                    <p:nvPr/>
                  </p:nvSpPr>
                  <p:spPr>
                    <a:xfrm>
                      <a:off x="206280" y="398628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1" y="59"/>
                          </a:moveTo>
                          <a:lnTo>
                            <a:pt x="0" y="24"/>
                          </a:lnTo>
                          <a:lnTo>
                            <a:pt x="8" y="0"/>
                          </a:lnTo>
                          <a:lnTo>
                            <a:pt x="20" y="28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75" name=""/>
                    <p:cNvSpPr/>
                    <p:nvPr/>
                  </p:nvSpPr>
                  <p:spPr>
                    <a:xfrm>
                      <a:off x="208080" y="398628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8">
                          <a:moveTo>
                            <a:pt x="2" y="0"/>
                          </a:moveTo>
                          <a:lnTo>
                            <a:pt x="42" y="0"/>
                          </a:lnTo>
                          <a:lnTo>
                            <a:pt x="43" y="2"/>
                          </a:lnTo>
                          <a:lnTo>
                            <a:pt x="46" y="12"/>
                          </a:lnTo>
                          <a:lnTo>
                            <a:pt x="61" y="28"/>
                          </a:lnTo>
                          <a:lnTo>
                            <a:pt x="15" y="28"/>
                          </a:lnTo>
                          <a:lnTo>
                            <a:pt x="7" y="19"/>
                          </a:lnTo>
                          <a:lnTo>
                            <a:pt x="0" y="6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76" name=""/>
                    <p:cNvSpPr/>
                    <p:nvPr/>
                  </p:nvSpPr>
                  <p:spPr>
                    <a:xfrm>
                      <a:off x="208080" y="399096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7"/>
                          </a:lnTo>
                          <a:lnTo>
                            <a:pt x="6" y="6"/>
                          </a:lnTo>
                          <a:lnTo>
                            <a:pt x="10" y="0"/>
                          </a:lnTo>
                          <a:lnTo>
                            <a:pt x="56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77" name=""/>
                  <p:cNvGrpSpPr/>
                  <p:nvPr/>
                </p:nvGrpSpPr>
                <p:grpSpPr>
                  <a:xfrm>
                    <a:off x="209520" y="3992760"/>
                    <a:ext cx="14400" cy="11160"/>
                    <a:chOff x="209520" y="3992760"/>
                    <a:chExt cx="14400" cy="11160"/>
                  </a:xfrm>
                </p:grpSpPr>
                <p:sp>
                  <p:nvSpPr>
                    <p:cNvPr id="4978" name=""/>
                    <p:cNvSpPr/>
                    <p:nvPr/>
                  </p:nvSpPr>
                  <p:spPr>
                    <a:xfrm>
                      <a:off x="209520" y="399276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79" name=""/>
                    <p:cNvSpPr/>
                    <p:nvPr/>
                  </p:nvSpPr>
                  <p:spPr>
                    <a:xfrm>
                      <a:off x="211320" y="39927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2"/>
                          </a:lnTo>
                          <a:lnTo>
                            <a:pt x="46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8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0" name=""/>
                    <p:cNvSpPr/>
                    <p:nvPr/>
                  </p:nvSpPr>
                  <p:spPr>
                    <a:xfrm>
                      <a:off x="212760" y="399744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4" y="6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6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81" name=""/>
                  <p:cNvGrpSpPr/>
                  <p:nvPr/>
                </p:nvGrpSpPr>
                <p:grpSpPr>
                  <a:xfrm>
                    <a:off x="212760" y="3998880"/>
                    <a:ext cx="14400" cy="11160"/>
                    <a:chOff x="212760" y="3998880"/>
                    <a:chExt cx="14400" cy="11160"/>
                  </a:xfrm>
                </p:grpSpPr>
                <p:sp>
                  <p:nvSpPr>
                    <p:cNvPr id="4982" name=""/>
                    <p:cNvSpPr/>
                    <p:nvPr/>
                  </p:nvSpPr>
                  <p:spPr>
                    <a:xfrm>
                      <a:off x="212760" y="399888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10" y="0"/>
                          </a:lnTo>
                          <a:lnTo>
                            <a:pt x="20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3" name=""/>
                    <p:cNvSpPr/>
                    <p:nvPr/>
                  </p:nvSpPr>
                  <p:spPr>
                    <a:xfrm>
                      <a:off x="214200" y="3998880"/>
                      <a:ext cx="111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1" y="2"/>
                          </a:lnTo>
                          <a:lnTo>
                            <a:pt x="44" y="10"/>
                          </a:lnTo>
                          <a:lnTo>
                            <a:pt x="58" y="25"/>
                          </a:lnTo>
                          <a:lnTo>
                            <a:pt x="13" y="25"/>
                          </a:lnTo>
                          <a:lnTo>
                            <a:pt x="6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4" name=""/>
                    <p:cNvSpPr/>
                    <p:nvPr/>
                  </p:nvSpPr>
                  <p:spPr>
                    <a:xfrm>
                      <a:off x="216000" y="400392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5" y="7"/>
                          </a:lnTo>
                          <a:lnTo>
                            <a:pt x="8" y="0"/>
                          </a:lnTo>
                          <a:lnTo>
                            <a:pt x="54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85" name=""/>
                  <p:cNvGrpSpPr/>
                  <p:nvPr/>
                </p:nvGrpSpPr>
                <p:grpSpPr>
                  <a:xfrm>
                    <a:off x="217440" y="4005360"/>
                    <a:ext cx="12600" cy="11160"/>
                    <a:chOff x="217440" y="4005360"/>
                    <a:chExt cx="12600" cy="11160"/>
                  </a:xfrm>
                </p:grpSpPr>
                <p:sp>
                  <p:nvSpPr>
                    <p:cNvPr id="4986" name=""/>
                    <p:cNvSpPr/>
                    <p:nvPr/>
                  </p:nvSpPr>
                  <p:spPr>
                    <a:xfrm>
                      <a:off x="217440" y="400536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8">
                          <a:moveTo>
                            <a:pt x="13" y="58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1" y="26"/>
                          </a:lnTo>
                          <a:lnTo>
                            <a:pt x="13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7" name=""/>
                    <p:cNvSpPr/>
                    <p:nvPr/>
                  </p:nvSpPr>
                  <p:spPr>
                    <a:xfrm>
                      <a:off x="219240" y="400536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25">
                          <a:moveTo>
                            <a:pt x="1" y="0"/>
                          </a:moveTo>
                          <a:lnTo>
                            <a:pt x="39" y="0"/>
                          </a:lnTo>
                          <a:lnTo>
                            <a:pt x="40" y="2"/>
                          </a:lnTo>
                          <a:lnTo>
                            <a:pt x="46" y="10"/>
                          </a:lnTo>
                          <a:lnTo>
                            <a:pt x="59" y="25"/>
                          </a:lnTo>
                          <a:lnTo>
                            <a:pt x="15" y="25"/>
                          </a:lnTo>
                          <a:lnTo>
                            <a:pt x="7" y="18"/>
                          </a:lnTo>
                          <a:lnTo>
                            <a:pt x="0" y="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8" name=""/>
                    <p:cNvSpPr/>
                    <p:nvPr/>
                  </p:nvSpPr>
                  <p:spPr>
                    <a:xfrm>
                      <a:off x="219240" y="40100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4" y="7"/>
                          </a:lnTo>
                          <a:lnTo>
                            <a:pt x="9" y="0"/>
                          </a:lnTo>
                          <a:lnTo>
                            <a:pt x="54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89" name=""/>
                <p:cNvGrpSpPr/>
                <p:nvPr/>
              </p:nvGrpSpPr>
              <p:grpSpPr>
                <a:xfrm>
                  <a:off x="220680" y="4013280"/>
                  <a:ext cx="28440" cy="36360"/>
                  <a:chOff x="220680" y="4013280"/>
                  <a:chExt cx="28440" cy="36360"/>
                </a:xfrm>
              </p:grpSpPr>
              <p:grpSp>
                <p:nvGrpSpPr>
                  <p:cNvPr id="4990" name=""/>
                  <p:cNvGrpSpPr/>
                  <p:nvPr/>
                </p:nvGrpSpPr>
                <p:grpSpPr>
                  <a:xfrm>
                    <a:off x="220680" y="4013280"/>
                    <a:ext cx="14400" cy="11160"/>
                    <a:chOff x="220680" y="4013280"/>
                    <a:chExt cx="14400" cy="11160"/>
                  </a:xfrm>
                </p:grpSpPr>
                <p:sp>
                  <p:nvSpPr>
                    <p:cNvPr id="4991" name=""/>
                    <p:cNvSpPr/>
                    <p:nvPr/>
                  </p:nvSpPr>
                  <p:spPr>
                    <a:xfrm>
                      <a:off x="220680" y="401328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9">
                          <a:moveTo>
                            <a:pt x="13" y="59"/>
                          </a:moveTo>
                          <a:lnTo>
                            <a:pt x="0" y="23"/>
                          </a:lnTo>
                          <a:lnTo>
                            <a:pt x="9" y="0"/>
                          </a:lnTo>
                          <a:lnTo>
                            <a:pt x="21" y="28"/>
                          </a:lnTo>
                          <a:lnTo>
                            <a:pt x="13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2" name=""/>
                    <p:cNvSpPr/>
                    <p:nvPr/>
                  </p:nvSpPr>
                  <p:spPr>
                    <a:xfrm>
                      <a:off x="222120" y="4013280"/>
                      <a:ext cx="97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7">
                          <a:moveTo>
                            <a:pt x="2" y="0"/>
                          </a:moveTo>
                          <a:lnTo>
                            <a:pt x="41" y="0"/>
                          </a:lnTo>
                          <a:lnTo>
                            <a:pt x="43" y="4"/>
                          </a:lnTo>
                          <a:lnTo>
                            <a:pt x="46" y="11"/>
                          </a:lnTo>
                          <a:lnTo>
                            <a:pt x="61" y="27"/>
                          </a:lnTo>
                          <a:lnTo>
                            <a:pt x="15" y="27"/>
                          </a:lnTo>
                          <a:lnTo>
                            <a:pt x="8" y="19"/>
                          </a:lnTo>
                          <a:lnTo>
                            <a:pt x="0" y="6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3" name=""/>
                    <p:cNvSpPr/>
                    <p:nvPr/>
                  </p:nvSpPr>
                  <p:spPr>
                    <a:xfrm>
                      <a:off x="222120" y="4017960"/>
                      <a:ext cx="129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0">
                          <a:moveTo>
                            <a:pt x="0" y="30"/>
                          </a:moveTo>
                          <a:lnTo>
                            <a:pt x="1" y="16"/>
                          </a:lnTo>
                          <a:lnTo>
                            <a:pt x="6" y="5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94" name=""/>
                  <p:cNvGrpSpPr/>
                  <p:nvPr/>
                </p:nvGrpSpPr>
                <p:grpSpPr>
                  <a:xfrm>
                    <a:off x="223920" y="4017960"/>
                    <a:ext cx="14040" cy="12960"/>
                    <a:chOff x="223920" y="4017960"/>
                    <a:chExt cx="14040" cy="12960"/>
                  </a:xfrm>
                </p:grpSpPr>
                <p:sp>
                  <p:nvSpPr>
                    <p:cNvPr id="4995" name=""/>
                    <p:cNvSpPr/>
                    <p:nvPr/>
                  </p:nvSpPr>
                  <p:spPr>
                    <a:xfrm>
                      <a:off x="223920" y="4017960"/>
                      <a:ext cx="324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9">
                          <a:moveTo>
                            <a:pt x="10" y="59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20" y="26"/>
                          </a:lnTo>
                          <a:lnTo>
                            <a:pt x="10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6" name=""/>
                    <p:cNvSpPr/>
                    <p:nvPr/>
                  </p:nvSpPr>
                  <p:spPr>
                    <a:xfrm>
                      <a:off x="225360" y="401976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1" y="0"/>
                          </a:moveTo>
                          <a:lnTo>
                            <a:pt x="41" y="0"/>
                          </a:lnTo>
                          <a:lnTo>
                            <a:pt x="42" y="3"/>
                          </a:lnTo>
                          <a:lnTo>
                            <a:pt x="46" y="11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9" y="18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7" name=""/>
                    <p:cNvSpPr/>
                    <p:nvPr/>
                  </p:nvSpPr>
                  <p:spPr>
                    <a:xfrm>
                      <a:off x="225360" y="402444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32">
                          <a:moveTo>
                            <a:pt x="0" y="32"/>
                          </a:moveTo>
                          <a:lnTo>
                            <a:pt x="4" y="18"/>
                          </a:lnTo>
                          <a:lnTo>
                            <a:pt x="7" y="7"/>
                          </a:lnTo>
                          <a:lnTo>
                            <a:pt x="11" y="0"/>
                          </a:lnTo>
                          <a:lnTo>
                            <a:pt x="57" y="0"/>
                          </a:lnTo>
                          <a:lnTo>
                            <a:pt x="68" y="32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98" name=""/>
                  <p:cNvGrpSpPr/>
                  <p:nvPr/>
                </p:nvGrpSpPr>
                <p:grpSpPr>
                  <a:xfrm>
                    <a:off x="227160" y="4024440"/>
                    <a:ext cx="14040" cy="12600"/>
                    <a:chOff x="227160" y="4024440"/>
                    <a:chExt cx="14040" cy="12600"/>
                  </a:xfrm>
                </p:grpSpPr>
                <p:sp>
                  <p:nvSpPr>
                    <p:cNvPr id="4999" name=""/>
                    <p:cNvSpPr/>
                    <p:nvPr/>
                  </p:nvSpPr>
                  <p:spPr>
                    <a:xfrm>
                      <a:off x="227160" y="4024440"/>
                      <a:ext cx="28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9">
                          <a:moveTo>
                            <a:pt x="11" y="59"/>
                          </a:moveTo>
                          <a:lnTo>
                            <a:pt x="0" y="24"/>
                          </a:lnTo>
                          <a:lnTo>
                            <a:pt x="7" y="0"/>
                          </a:lnTo>
                          <a:lnTo>
                            <a:pt x="19" y="27"/>
                          </a:lnTo>
                          <a:lnTo>
                            <a:pt x="11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0" name=""/>
                    <p:cNvSpPr/>
                    <p:nvPr/>
                  </p:nvSpPr>
                  <p:spPr>
                    <a:xfrm>
                      <a:off x="228600" y="4025880"/>
                      <a:ext cx="111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6">
                          <a:moveTo>
                            <a:pt x="3" y="0"/>
                          </a:moveTo>
                          <a:lnTo>
                            <a:pt x="42" y="0"/>
                          </a:lnTo>
                          <a:lnTo>
                            <a:pt x="43" y="2"/>
                          </a:lnTo>
                          <a:lnTo>
                            <a:pt x="46" y="10"/>
                          </a:lnTo>
                          <a:lnTo>
                            <a:pt x="61" y="26"/>
                          </a:lnTo>
                          <a:lnTo>
                            <a:pt x="15" y="26"/>
                          </a:lnTo>
                          <a:lnTo>
                            <a:pt x="8" y="18"/>
                          </a:lnTo>
                          <a:lnTo>
                            <a:pt x="0" y="5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1" name=""/>
                    <p:cNvSpPr/>
                    <p:nvPr/>
                  </p:nvSpPr>
                  <p:spPr>
                    <a:xfrm>
                      <a:off x="230040" y="403092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7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5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02" name=""/>
                  <p:cNvGrpSpPr/>
                  <p:nvPr/>
                </p:nvGrpSpPr>
                <p:grpSpPr>
                  <a:xfrm>
                    <a:off x="231840" y="4032360"/>
                    <a:ext cx="12600" cy="11160"/>
                    <a:chOff x="231840" y="4032360"/>
                    <a:chExt cx="12600" cy="11160"/>
                  </a:xfrm>
                </p:grpSpPr>
                <p:sp>
                  <p:nvSpPr>
                    <p:cNvPr id="5003" name=""/>
                    <p:cNvSpPr/>
                    <p:nvPr/>
                  </p:nvSpPr>
                  <p:spPr>
                    <a:xfrm>
                      <a:off x="231840" y="4032360"/>
                      <a:ext cx="32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8">
                          <a:moveTo>
                            <a:pt x="12" y="58"/>
                          </a:moveTo>
                          <a:lnTo>
                            <a:pt x="0" y="23"/>
                          </a:lnTo>
                          <a:lnTo>
                            <a:pt x="8" y="0"/>
                          </a:lnTo>
                          <a:lnTo>
                            <a:pt x="20" y="26"/>
                          </a:lnTo>
                          <a:lnTo>
                            <a:pt x="12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4" name=""/>
                    <p:cNvSpPr/>
                    <p:nvPr/>
                  </p:nvSpPr>
                  <p:spPr>
                    <a:xfrm>
                      <a:off x="231840" y="403236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1" y="2"/>
                          </a:lnTo>
                          <a:lnTo>
                            <a:pt x="45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7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5" name=""/>
                    <p:cNvSpPr/>
                    <p:nvPr/>
                  </p:nvSpPr>
                  <p:spPr>
                    <a:xfrm>
                      <a:off x="233280" y="403704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4" y="7"/>
                          </a:lnTo>
                          <a:lnTo>
                            <a:pt x="10" y="0"/>
                          </a:lnTo>
                          <a:lnTo>
                            <a:pt x="55" y="0"/>
                          </a:lnTo>
                          <a:lnTo>
                            <a:pt x="66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06" name=""/>
                  <p:cNvGrpSpPr/>
                  <p:nvPr/>
                </p:nvGrpSpPr>
                <p:grpSpPr>
                  <a:xfrm>
                    <a:off x="235080" y="4038840"/>
                    <a:ext cx="14040" cy="10800"/>
                    <a:chOff x="235080" y="4038840"/>
                    <a:chExt cx="14040" cy="10800"/>
                  </a:xfrm>
                </p:grpSpPr>
                <p:sp>
                  <p:nvSpPr>
                    <p:cNvPr id="5007" name=""/>
                    <p:cNvSpPr/>
                    <p:nvPr/>
                  </p:nvSpPr>
                  <p:spPr>
                    <a:xfrm>
                      <a:off x="235080" y="4038840"/>
                      <a:ext cx="288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8">
                          <a:moveTo>
                            <a:pt x="10" y="58"/>
                          </a:moveTo>
                          <a:lnTo>
                            <a:pt x="0" y="23"/>
                          </a:lnTo>
                          <a:lnTo>
                            <a:pt x="7" y="0"/>
                          </a:lnTo>
                          <a:lnTo>
                            <a:pt x="18" y="26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8" name=""/>
                    <p:cNvSpPr/>
                    <p:nvPr/>
                  </p:nvSpPr>
                  <p:spPr>
                    <a:xfrm>
                      <a:off x="236520" y="4038840"/>
                      <a:ext cx="97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5">
                          <a:moveTo>
                            <a:pt x="1" y="0"/>
                          </a:moveTo>
                          <a:lnTo>
                            <a:pt x="40" y="0"/>
                          </a:lnTo>
                          <a:lnTo>
                            <a:pt x="42" y="2"/>
                          </a:lnTo>
                          <a:lnTo>
                            <a:pt x="45" y="10"/>
                          </a:lnTo>
                          <a:lnTo>
                            <a:pt x="60" y="25"/>
                          </a:lnTo>
                          <a:lnTo>
                            <a:pt x="15" y="25"/>
                          </a:lnTo>
                          <a:lnTo>
                            <a:pt x="6" y="1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9" name=""/>
                    <p:cNvSpPr/>
                    <p:nvPr/>
                  </p:nvSpPr>
                  <p:spPr>
                    <a:xfrm>
                      <a:off x="236520" y="4043520"/>
                      <a:ext cx="126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1">
                          <a:moveTo>
                            <a:pt x="0" y="31"/>
                          </a:moveTo>
                          <a:lnTo>
                            <a:pt x="1" y="16"/>
                          </a:lnTo>
                          <a:lnTo>
                            <a:pt x="6" y="7"/>
                          </a:lnTo>
                          <a:lnTo>
                            <a:pt x="9" y="0"/>
                          </a:lnTo>
                          <a:lnTo>
                            <a:pt x="56" y="0"/>
                          </a:lnTo>
                          <a:lnTo>
                            <a:pt x="67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010" name=""/>
                <p:cNvGrpSpPr/>
                <p:nvPr/>
              </p:nvGrpSpPr>
              <p:grpSpPr>
                <a:xfrm>
                  <a:off x="237960" y="4043520"/>
                  <a:ext cx="14400" cy="12600"/>
                  <a:chOff x="237960" y="4043520"/>
                  <a:chExt cx="14400" cy="12600"/>
                </a:xfrm>
              </p:grpSpPr>
              <p:sp>
                <p:nvSpPr>
                  <p:cNvPr id="5011" name=""/>
                  <p:cNvSpPr/>
                  <p:nvPr/>
                </p:nvSpPr>
                <p:spPr>
                  <a:xfrm>
                    <a:off x="237960" y="4043520"/>
                    <a:ext cx="3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1" y="59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9" y="28"/>
                        </a:lnTo>
                        <a:lnTo>
                          <a:pt x="11" y="5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2" name=""/>
                  <p:cNvSpPr/>
                  <p:nvPr/>
                </p:nvSpPr>
                <p:spPr>
                  <a:xfrm>
                    <a:off x="239760" y="404496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7">
                        <a:moveTo>
                          <a:pt x="1" y="0"/>
                        </a:moveTo>
                        <a:lnTo>
                          <a:pt x="39" y="0"/>
                        </a:lnTo>
                        <a:lnTo>
                          <a:pt x="41" y="3"/>
                        </a:lnTo>
                        <a:lnTo>
                          <a:pt x="46" y="11"/>
                        </a:lnTo>
                        <a:lnTo>
                          <a:pt x="59" y="27"/>
                        </a:lnTo>
                        <a:lnTo>
                          <a:pt x="15" y="27"/>
                        </a:lnTo>
                        <a:lnTo>
                          <a:pt x="7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3" name=""/>
                  <p:cNvSpPr/>
                  <p:nvPr/>
                </p:nvSpPr>
                <p:spPr>
                  <a:xfrm>
                    <a:off x="239760" y="404964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6" y="5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4" name=""/>
                <p:cNvGrpSpPr/>
                <p:nvPr/>
              </p:nvGrpSpPr>
              <p:grpSpPr>
                <a:xfrm>
                  <a:off x="230040" y="3942000"/>
                  <a:ext cx="12960" cy="11160"/>
                  <a:chOff x="230040" y="3942000"/>
                  <a:chExt cx="12960" cy="11160"/>
                </a:xfrm>
              </p:grpSpPr>
              <p:sp>
                <p:nvSpPr>
                  <p:cNvPr id="5015" name=""/>
                  <p:cNvSpPr/>
                  <p:nvPr/>
                </p:nvSpPr>
                <p:spPr>
                  <a:xfrm>
                    <a:off x="230040" y="3942000"/>
                    <a:ext cx="5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9">
                        <a:moveTo>
                          <a:pt x="18" y="59"/>
                        </a:moveTo>
                        <a:lnTo>
                          <a:pt x="0" y="28"/>
                        </a:lnTo>
                        <a:lnTo>
                          <a:pt x="9" y="0"/>
                        </a:lnTo>
                        <a:lnTo>
                          <a:pt x="31" y="28"/>
                        </a:lnTo>
                        <a:lnTo>
                          <a:pt x="18" y="59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6" name=""/>
                  <p:cNvSpPr/>
                  <p:nvPr/>
                </p:nvSpPr>
                <p:spPr>
                  <a:xfrm>
                    <a:off x="231840" y="394200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9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2" y="29"/>
                        </a:lnTo>
                        <a:lnTo>
                          <a:pt x="19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7" name=""/>
                  <p:cNvSpPr/>
                  <p:nvPr/>
                </p:nvSpPr>
                <p:spPr>
                  <a:xfrm>
                    <a:off x="233280" y="3948120"/>
                    <a:ext cx="97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6">
                        <a:moveTo>
                          <a:pt x="0" y="26"/>
                        </a:moveTo>
                        <a:lnTo>
                          <a:pt x="11" y="0"/>
                        </a:lnTo>
                        <a:lnTo>
                          <a:pt x="44" y="0"/>
                        </a:lnTo>
                        <a:lnTo>
                          <a:pt x="52" y="26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8" name=""/>
                <p:cNvGrpSpPr/>
                <p:nvPr/>
              </p:nvGrpSpPr>
              <p:grpSpPr>
                <a:xfrm>
                  <a:off x="233280" y="3948120"/>
                  <a:ext cx="12960" cy="11160"/>
                  <a:chOff x="233280" y="3948120"/>
                  <a:chExt cx="12960" cy="11160"/>
                </a:xfrm>
              </p:grpSpPr>
              <p:sp>
                <p:nvSpPr>
                  <p:cNvPr id="5019" name=""/>
                  <p:cNvSpPr/>
                  <p:nvPr/>
                </p:nvSpPr>
                <p:spPr>
                  <a:xfrm>
                    <a:off x="233280" y="3948120"/>
                    <a:ext cx="64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18" y="58"/>
                        </a:moveTo>
                        <a:lnTo>
                          <a:pt x="0" y="28"/>
                        </a:lnTo>
                        <a:lnTo>
                          <a:pt x="10" y="0"/>
                        </a:lnTo>
                        <a:lnTo>
                          <a:pt x="32" y="28"/>
                        </a:lnTo>
                        <a:lnTo>
                          <a:pt x="18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0" name=""/>
                  <p:cNvSpPr/>
                  <p:nvPr/>
                </p:nvSpPr>
                <p:spPr>
                  <a:xfrm>
                    <a:off x="235080" y="39481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8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2" y="28"/>
                        </a:lnTo>
                        <a:lnTo>
                          <a:pt x="20" y="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1" name=""/>
                  <p:cNvSpPr/>
                  <p:nvPr/>
                </p:nvSpPr>
                <p:spPr>
                  <a:xfrm>
                    <a:off x="236520" y="395460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5">
                        <a:moveTo>
                          <a:pt x="0" y="25"/>
                        </a:moveTo>
                        <a:lnTo>
                          <a:pt x="10" y="0"/>
                        </a:lnTo>
                        <a:lnTo>
                          <a:pt x="44" y="0"/>
                        </a:lnTo>
                        <a:lnTo>
                          <a:pt x="54" y="25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22" name=""/>
                <p:cNvGrpSpPr/>
                <p:nvPr/>
              </p:nvGrpSpPr>
              <p:grpSpPr>
                <a:xfrm>
                  <a:off x="236520" y="3956040"/>
                  <a:ext cx="14400" cy="11160"/>
                  <a:chOff x="236520" y="3956040"/>
                  <a:chExt cx="14400" cy="11160"/>
                </a:xfrm>
              </p:grpSpPr>
              <p:sp>
                <p:nvSpPr>
                  <p:cNvPr id="5023" name=""/>
                  <p:cNvSpPr/>
                  <p:nvPr/>
                </p:nvSpPr>
                <p:spPr>
                  <a:xfrm>
                    <a:off x="236520" y="3956040"/>
                    <a:ext cx="64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58">
                        <a:moveTo>
                          <a:pt x="19" y="58"/>
                        </a:moveTo>
                        <a:lnTo>
                          <a:pt x="0" y="27"/>
                        </a:lnTo>
                        <a:lnTo>
                          <a:pt x="11" y="0"/>
                        </a:lnTo>
                        <a:lnTo>
                          <a:pt x="33" y="27"/>
                        </a:lnTo>
                        <a:lnTo>
                          <a:pt x="19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4" name=""/>
                  <p:cNvSpPr/>
                  <p:nvPr/>
                </p:nvSpPr>
                <p:spPr>
                  <a:xfrm>
                    <a:off x="239760" y="3956040"/>
                    <a:ext cx="79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9">
                        <a:moveTo>
                          <a:pt x="0" y="0"/>
                        </a:moveTo>
                        <a:lnTo>
                          <a:pt x="32" y="0"/>
                        </a:lnTo>
                        <a:lnTo>
                          <a:pt x="51" y="29"/>
                        </a:lnTo>
                        <a:lnTo>
                          <a:pt x="19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5" name=""/>
                  <p:cNvSpPr/>
                  <p:nvPr/>
                </p:nvSpPr>
                <p:spPr>
                  <a:xfrm>
                    <a:off x="241200" y="396252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5">
                        <a:moveTo>
                          <a:pt x="0" y="25"/>
                        </a:moveTo>
                        <a:lnTo>
                          <a:pt x="9" y="0"/>
                        </a:lnTo>
                        <a:lnTo>
                          <a:pt x="42" y="0"/>
                        </a:lnTo>
                        <a:lnTo>
                          <a:pt x="53" y="25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26" name=""/>
                <p:cNvGrpSpPr/>
                <p:nvPr/>
              </p:nvGrpSpPr>
              <p:grpSpPr>
                <a:xfrm>
                  <a:off x="241200" y="3962520"/>
                  <a:ext cx="12960" cy="11160"/>
                  <a:chOff x="241200" y="3962520"/>
                  <a:chExt cx="12960" cy="11160"/>
                </a:xfrm>
              </p:grpSpPr>
              <p:sp>
                <p:nvSpPr>
                  <p:cNvPr id="5027" name=""/>
                  <p:cNvSpPr/>
                  <p:nvPr/>
                </p:nvSpPr>
                <p:spPr>
                  <a:xfrm>
                    <a:off x="241200" y="3962520"/>
                    <a:ext cx="5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18" y="58"/>
                        </a:moveTo>
                        <a:lnTo>
                          <a:pt x="0" y="28"/>
                        </a:lnTo>
                        <a:lnTo>
                          <a:pt x="9" y="0"/>
                        </a:lnTo>
                        <a:lnTo>
                          <a:pt x="32" y="28"/>
                        </a:lnTo>
                        <a:lnTo>
                          <a:pt x="18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8" name=""/>
                  <p:cNvSpPr/>
                  <p:nvPr/>
                </p:nvSpPr>
                <p:spPr>
                  <a:xfrm>
                    <a:off x="243000" y="39625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0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3" y="30"/>
                        </a:lnTo>
                        <a:lnTo>
                          <a:pt x="21" y="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9" name=""/>
                  <p:cNvSpPr/>
                  <p:nvPr/>
                </p:nvSpPr>
                <p:spPr>
                  <a:xfrm>
                    <a:off x="244440" y="396900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4">
                        <a:moveTo>
                          <a:pt x="0" y="24"/>
                        </a:moveTo>
                        <a:lnTo>
                          <a:pt x="11" y="0"/>
                        </a:lnTo>
                        <a:lnTo>
                          <a:pt x="44" y="0"/>
                        </a:lnTo>
                        <a:lnTo>
                          <a:pt x="53" y="24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0" name=""/>
                <p:cNvGrpSpPr/>
                <p:nvPr/>
              </p:nvGrpSpPr>
              <p:grpSpPr>
                <a:xfrm>
                  <a:off x="246240" y="3969000"/>
                  <a:ext cx="23760" cy="31680"/>
                  <a:chOff x="246240" y="3969000"/>
                  <a:chExt cx="23760" cy="31680"/>
                </a:xfrm>
              </p:grpSpPr>
              <p:grpSp>
                <p:nvGrpSpPr>
                  <p:cNvPr id="5031" name=""/>
                  <p:cNvGrpSpPr/>
                  <p:nvPr/>
                </p:nvGrpSpPr>
                <p:grpSpPr>
                  <a:xfrm>
                    <a:off x="246240" y="3969000"/>
                    <a:ext cx="12600" cy="10800"/>
                    <a:chOff x="246240" y="3969000"/>
                    <a:chExt cx="12600" cy="10800"/>
                  </a:xfrm>
                </p:grpSpPr>
                <p:sp>
                  <p:nvSpPr>
                    <p:cNvPr id="5032" name=""/>
                    <p:cNvSpPr/>
                    <p:nvPr/>
                  </p:nvSpPr>
                  <p:spPr>
                    <a:xfrm>
                      <a:off x="246240" y="3969000"/>
                      <a:ext cx="468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58">
                          <a:moveTo>
                            <a:pt x="17" y="58"/>
                          </a:moveTo>
                          <a:lnTo>
                            <a:pt x="0" y="27"/>
                          </a:lnTo>
                          <a:lnTo>
                            <a:pt x="9" y="0"/>
                          </a:lnTo>
                          <a:lnTo>
                            <a:pt x="31" y="27"/>
                          </a:lnTo>
                          <a:lnTo>
                            <a:pt x="17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3" name=""/>
                    <p:cNvSpPr/>
                    <p:nvPr/>
                  </p:nvSpPr>
                  <p:spPr>
                    <a:xfrm>
                      <a:off x="247680" y="396900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7">
                          <a:moveTo>
                            <a:pt x="0" y="0"/>
                          </a:moveTo>
                          <a:lnTo>
                            <a:pt x="34" y="0"/>
                          </a:lnTo>
                          <a:lnTo>
                            <a:pt x="53" y="27"/>
                          </a:lnTo>
                          <a:lnTo>
                            <a:pt x="20" y="2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4" name=""/>
                    <p:cNvSpPr/>
                    <p:nvPr/>
                  </p:nvSpPr>
                  <p:spPr>
                    <a:xfrm>
                      <a:off x="249120" y="3975120"/>
                      <a:ext cx="97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7">
                          <a:moveTo>
                            <a:pt x="0" y="27"/>
                          </a:moveTo>
                          <a:lnTo>
                            <a:pt x="12" y="0"/>
                          </a:lnTo>
                          <a:lnTo>
                            <a:pt x="45" y="0"/>
                          </a:lnTo>
                          <a:lnTo>
                            <a:pt x="54" y="27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35" name=""/>
                  <p:cNvGrpSpPr/>
                  <p:nvPr/>
                </p:nvGrpSpPr>
                <p:grpSpPr>
                  <a:xfrm>
                    <a:off x="249120" y="3975120"/>
                    <a:ext cx="12960" cy="11160"/>
                    <a:chOff x="249120" y="3975120"/>
                    <a:chExt cx="12960" cy="11160"/>
                  </a:xfrm>
                </p:grpSpPr>
                <p:sp>
                  <p:nvSpPr>
                    <p:cNvPr id="5036" name=""/>
                    <p:cNvSpPr/>
                    <p:nvPr/>
                  </p:nvSpPr>
                  <p:spPr>
                    <a:xfrm>
                      <a:off x="249120" y="3975120"/>
                      <a:ext cx="50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9">
                          <a:moveTo>
                            <a:pt x="19" y="59"/>
                          </a:moveTo>
                          <a:lnTo>
                            <a:pt x="0" y="28"/>
                          </a:lnTo>
                          <a:lnTo>
                            <a:pt x="10" y="0"/>
                          </a:lnTo>
                          <a:lnTo>
                            <a:pt x="32" y="28"/>
                          </a:lnTo>
                          <a:lnTo>
                            <a:pt x="19" y="59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7" name=""/>
                    <p:cNvSpPr/>
                    <p:nvPr/>
                  </p:nvSpPr>
                  <p:spPr>
                    <a:xfrm>
                      <a:off x="250920" y="397512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9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3" y="29"/>
                          </a:lnTo>
                          <a:lnTo>
                            <a:pt x="19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8" name=""/>
                    <p:cNvSpPr/>
                    <p:nvPr/>
                  </p:nvSpPr>
                  <p:spPr>
                    <a:xfrm>
                      <a:off x="252360" y="3981600"/>
                      <a:ext cx="97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5">
                          <a:moveTo>
                            <a:pt x="0" y="25"/>
                          </a:moveTo>
                          <a:lnTo>
                            <a:pt x="10" y="0"/>
                          </a:lnTo>
                          <a:lnTo>
                            <a:pt x="44" y="0"/>
                          </a:lnTo>
                          <a:lnTo>
                            <a:pt x="53" y="25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39" name=""/>
                  <p:cNvGrpSpPr/>
                  <p:nvPr/>
                </p:nvGrpSpPr>
                <p:grpSpPr>
                  <a:xfrm>
                    <a:off x="252360" y="3981600"/>
                    <a:ext cx="12600" cy="12600"/>
                    <a:chOff x="252360" y="3981600"/>
                    <a:chExt cx="12600" cy="12600"/>
                  </a:xfrm>
                </p:grpSpPr>
                <p:sp>
                  <p:nvSpPr>
                    <p:cNvPr id="5040" name=""/>
                    <p:cNvSpPr/>
                    <p:nvPr/>
                  </p:nvSpPr>
                  <p:spPr>
                    <a:xfrm>
                      <a:off x="252360" y="3981600"/>
                      <a:ext cx="64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8">
                          <a:moveTo>
                            <a:pt x="19" y="58"/>
                          </a:moveTo>
                          <a:lnTo>
                            <a:pt x="0" y="29"/>
                          </a:lnTo>
                          <a:lnTo>
                            <a:pt x="9" y="0"/>
                          </a:lnTo>
                          <a:lnTo>
                            <a:pt x="32" y="29"/>
                          </a:lnTo>
                          <a:lnTo>
                            <a:pt x="19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1" name=""/>
                    <p:cNvSpPr/>
                    <p:nvPr/>
                  </p:nvSpPr>
                  <p:spPr>
                    <a:xfrm>
                      <a:off x="254160" y="3983040"/>
                      <a:ext cx="93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9">
                          <a:moveTo>
                            <a:pt x="0" y="0"/>
                          </a:moveTo>
                          <a:lnTo>
                            <a:pt x="34" y="0"/>
                          </a:lnTo>
                          <a:lnTo>
                            <a:pt x="52" y="29"/>
                          </a:lnTo>
                          <a:lnTo>
                            <a:pt x="21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2" name=""/>
                    <p:cNvSpPr/>
                    <p:nvPr/>
                  </p:nvSpPr>
                  <p:spPr>
                    <a:xfrm>
                      <a:off x="255600" y="398952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4">
                          <a:moveTo>
                            <a:pt x="0" y="24"/>
                          </a:moveTo>
                          <a:lnTo>
                            <a:pt x="9" y="0"/>
                          </a:lnTo>
                          <a:lnTo>
                            <a:pt x="42" y="0"/>
                          </a:lnTo>
                          <a:lnTo>
                            <a:pt x="52" y="24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43" name=""/>
                  <p:cNvGrpSpPr/>
                  <p:nvPr/>
                </p:nvGrpSpPr>
                <p:grpSpPr>
                  <a:xfrm>
                    <a:off x="257040" y="3989520"/>
                    <a:ext cx="12960" cy="11160"/>
                    <a:chOff x="257040" y="3989520"/>
                    <a:chExt cx="12960" cy="11160"/>
                  </a:xfrm>
                </p:grpSpPr>
                <p:sp>
                  <p:nvSpPr>
                    <p:cNvPr id="5044" name=""/>
                    <p:cNvSpPr/>
                    <p:nvPr/>
                  </p:nvSpPr>
                  <p:spPr>
                    <a:xfrm>
                      <a:off x="257040" y="3989520"/>
                      <a:ext cx="50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8">
                          <a:moveTo>
                            <a:pt x="18" y="58"/>
                          </a:moveTo>
                          <a:lnTo>
                            <a:pt x="0" y="28"/>
                          </a:lnTo>
                          <a:lnTo>
                            <a:pt x="10" y="0"/>
                          </a:lnTo>
                          <a:lnTo>
                            <a:pt x="32" y="28"/>
                          </a:lnTo>
                          <a:lnTo>
                            <a:pt x="18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5" name=""/>
                    <p:cNvSpPr/>
                    <p:nvPr/>
                  </p:nvSpPr>
                  <p:spPr>
                    <a:xfrm>
                      <a:off x="258840" y="398952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8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2" y="28"/>
                          </a:lnTo>
                          <a:lnTo>
                            <a:pt x="20" y="2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6" name=""/>
                    <p:cNvSpPr/>
                    <p:nvPr/>
                  </p:nvSpPr>
                  <p:spPr>
                    <a:xfrm>
                      <a:off x="260280" y="3996000"/>
                      <a:ext cx="97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5">
                          <a:moveTo>
                            <a:pt x="0" y="25"/>
                          </a:moveTo>
                          <a:lnTo>
                            <a:pt x="12" y="0"/>
                          </a:lnTo>
                          <a:lnTo>
                            <a:pt x="44" y="0"/>
                          </a:lnTo>
                          <a:lnTo>
                            <a:pt x="53" y="25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047" name=""/>
                <p:cNvGrpSpPr/>
                <p:nvPr/>
              </p:nvGrpSpPr>
              <p:grpSpPr>
                <a:xfrm>
                  <a:off x="260280" y="3996000"/>
                  <a:ext cx="23760" cy="31680"/>
                  <a:chOff x="260280" y="3996000"/>
                  <a:chExt cx="23760" cy="31680"/>
                </a:xfrm>
              </p:grpSpPr>
              <p:grpSp>
                <p:nvGrpSpPr>
                  <p:cNvPr id="5048" name=""/>
                  <p:cNvGrpSpPr/>
                  <p:nvPr/>
                </p:nvGrpSpPr>
                <p:grpSpPr>
                  <a:xfrm>
                    <a:off x="260280" y="3996000"/>
                    <a:ext cx="12600" cy="10800"/>
                    <a:chOff x="260280" y="3996000"/>
                    <a:chExt cx="12600" cy="10800"/>
                  </a:xfrm>
                </p:grpSpPr>
                <p:sp>
                  <p:nvSpPr>
                    <p:cNvPr id="5049" name=""/>
                    <p:cNvSpPr/>
                    <p:nvPr/>
                  </p:nvSpPr>
                  <p:spPr>
                    <a:xfrm>
                      <a:off x="260280" y="3996000"/>
                      <a:ext cx="648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58">
                          <a:moveTo>
                            <a:pt x="17" y="58"/>
                          </a:moveTo>
                          <a:lnTo>
                            <a:pt x="0" y="28"/>
                          </a:lnTo>
                          <a:lnTo>
                            <a:pt x="9" y="0"/>
                          </a:lnTo>
                          <a:lnTo>
                            <a:pt x="31" y="28"/>
                          </a:lnTo>
                          <a:lnTo>
                            <a:pt x="17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50" name=""/>
                    <p:cNvSpPr/>
                    <p:nvPr/>
                  </p:nvSpPr>
                  <p:spPr>
                    <a:xfrm>
                      <a:off x="262080" y="3996000"/>
                      <a:ext cx="93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9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3" y="29"/>
                          </a:lnTo>
                          <a:lnTo>
                            <a:pt x="20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51" name=""/>
                    <p:cNvSpPr/>
                    <p:nvPr/>
                  </p:nvSpPr>
                  <p:spPr>
                    <a:xfrm>
                      <a:off x="263520" y="400212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5">
                          <a:moveTo>
                            <a:pt x="0" y="25"/>
                          </a:moveTo>
                          <a:lnTo>
                            <a:pt x="10" y="0"/>
                          </a:lnTo>
                          <a:lnTo>
                            <a:pt x="44" y="0"/>
                          </a:lnTo>
                          <a:lnTo>
                            <a:pt x="53" y="25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52" name=""/>
                  <p:cNvGrpSpPr/>
                  <p:nvPr/>
                </p:nvGrpSpPr>
                <p:grpSpPr>
                  <a:xfrm>
                    <a:off x="263520" y="4002120"/>
                    <a:ext cx="12600" cy="11160"/>
                    <a:chOff x="263520" y="4002120"/>
                    <a:chExt cx="12600" cy="11160"/>
                  </a:xfrm>
                </p:grpSpPr>
                <p:sp>
                  <p:nvSpPr>
                    <p:cNvPr id="5053" name=""/>
                    <p:cNvSpPr/>
                    <p:nvPr/>
                  </p:nvSpPr>
                  <p:spPr>
                    <a:xfrm>
                      <a:off x="263520" y="4002120"/>
                      <a:ext cx="64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8">
                          <a:moveTo>
                            <a:pt x="19" y="58"/>
                          </a:moveTo>
                          <a:lnTo>
                            <a:pt x="0" y="28"/>
                          </a:lnTo>
                          <a:lnTo>
                            <a:pt x="10" y="0"/>
                          </a:lnTo>
                          <a:lnTo>
                            <a:pt x="32" y="28"/>
                          </a:lnTo>
                          <a:lnTo>
                            <a:pt x="19" y="58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54" name=""/>
                    <p:cNvSpPr/>
                    <p:nvPr/>
                  </p:nvSpPr>
                  <p:spPr>
                    <a:xfrm>
                      <a:off x="266760" y="4002120"/>
                      <a:ext cx="79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28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1" y="28"/>
                          </a:lnTo>
                          <a:lnTo>
                            <a:pt x="20" y="2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55" name=""/>
                    <p:cNvSpPr/>
                    <p:nvPr/>
                  </p:nvSpPr>
                  <p:spPr>
                    <a:xfrm>
                      <a:off x="268200" y="4008600"/>
                      <a:ext cx="79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6">
                          <a:moveTo>
                            <a:pt x="0" y="26"/>
                          </a:moveTo>
                          <a:lnTo>
                            <a:pt x="9" y="0"/>
                          </a:lnTo>
                          <a:lnTo>
                            <a:pt x="42" y="0"/>
                          </a:lnTo>
                          <a:lnTo>
                            <a:pt x="52" y="26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56" name=""/>
                  <p:cNvGrpSpPr/>
                  <p:nvPr/>
                </p:nvGrpSpPr>
                <p:grpSpPr>
                  <a:xfrm>
                    <a:off x="268200" y="4008600"/>
                    <a:ext cx="12960" cy="12600"/>
                    <a:chOff x="268200" y="4008600"/>
                    <a:chExt cx="12960" cy="12600"/>
                  </a:xfrm>
                </p:grpSpPr>
                <p:sp>
                  <p:nvSpPr>
                    <p:cNvPr id="5057" name=""/>
                    <p:cNvSpPr/>
                    <p:nvPr/>
                  </p:nvSpPr>
                  <p:spPr>
                    <a:xfrm>
                      <a:off x="268200" y="4008600"/>
                      <a:ext cx="46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60">
                          <a:moveTo>
                            <a:pt x="18" y="60"/>
                          </a:moveTo>
                          <a:lnTo>
                            <a:pt x="0" y="29"/>
                          </a:lnTo>
                          <a:lnTo>
                            <a:pt x="10" y="0"/>
                          </a:lnTo>
                          <a:lnTo>
                            <a:pt x="32" y="29"/>
                          </a:lnTo>
                          <a:lnTo>
                            <a:pt x="18" y="6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58" name=""/>
                    <p:cNvSpPr/>
                    <p:nvPr/>
                  </p:nvSpPr>
                  <p:spPr>
                    <a:xfrm>
                      <a:off x="270000" y="4008600"/>
                      <a:ext cx="93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9">
                          <a:moveTo>
                            <a:pt x="0" y="0"/>
                          </a:moveTo>
                          <a:lnTo>
                            <a:pt x="32" y="0"/>
                          </a:lnTo>
                          <a:lnTo>
                            <a:pt x="52" y="29"/>
                          </a:lnTo>
                          <a:lnTo>
                            <a:pt x="20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59" name=""/>
                    <p:cNvSpPr/>
                    <p:nvPr/>
                  </p:nvSpPr>
                  <p:spPr>
                    <a:xfrm>
                      <a:off x="271440" y="4014720"/>
                      <a:ext cx="97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6">
                          <a:moveTo>
                            <a:pt x="0" y="26"/>
                          </a:moveTo>
                          <a:lnTo>
                            <a:pt x="10" y="0"/>
                          </a:lnTo>
                          <a:lnTo>
                            <a:pt x="44" y="0"/>
                          </a:lnTo>
                          <a:lnTo>
                            <a:pt x="53" y="26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60" name=""/>
                  <p:cNvGrpSpPr/>
                  <p:nvPr/>
                </p:nvGrpSpPr>
                <p:grpSpPr>
                  <a:xfrm>
                    <a:off x="271440" y="4016520"/>
                    <a:ext cx="12600" cy="11160"/>
                    <a:chOff x="271440" y="4016520"/>
                    <a:chExt cx="12600" cy="11160"/>
                  </a:xfrm>
                </p:grpSpPr>
                <p:sp>
                  <p:nvSpPr>
                    <p:cNvPr id="5061" name=""/>
                    <p:cNvSpPr/>
                    <p:nvPr/>
                  </p:nvSpPr>
                  <p:spPr>
                    <a:xfrm>
                      <a:off x="271440" y="4016520"/>
                      <a:ext cx="64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59">
                          <a:moveTo>
                            <a:pt x="19" y="59"/>
                          </a:moveTo>
                          <a:lnTo>
                            <a:pt x="0" y="29"/>
                          </a:lnTo>
                          <a:lnTo>
                            <a:pt x="11" y="0"/>
                          </a:lnTo>
                          <a:lnTo>
                            <a:pt x="33" y="29"/>
                          </a:lnTo>
                          <a:lnTo>
                            <a:pt x="19" y="59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62" name=""/>
                    <p:cNvSpPr/>
                    <p:nvPr/>
                  </p:nvSpPr>
                  <p:spPr>
                    <a:xfrm>
                      <a:off x="272880" y="4016520"/>
                      <a:ext cx="97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9">
                          <a:moveTo>
                            <a:pt x="0" y="0"/>
                          </a:moveTo>
                          <a:lnTo>
                            <a:pt x="33" y="0"/>
                          </a:lnTo>
                          <a:lnTo>
                            <a:pt x="52" y="29"/>
                          </a:lnTo>
                          <a:lnTo>
                            <a:pt x="19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63" name=""/>
                    <p:cNvSpPr/>
                    <p:nvPr/>
                  </p:nvSpPr>
                  <p:spPr>
                    <a:xfrm>
                      <a:off x="274680" y="402300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5">
                          <a:moveTo>
                            <a:pt x="0" y="25"/>
                          </a:moveTo>
                          <a:lnTo>
                            <a:pt x="10" y="0"/>
                          </a:lnTo>
                          <a:lnTo>
                            <a:pt x="44" y="0"/>
                          </a:lnTo>
                          <a:lnTo>
                            <a:pt x="54" y="25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064" name=""/>
                <p:cNvGrpSpPr/>
                <p:nvPr/>
              </p:nvGrpSpPr>
              <p:grpSpPr>
                <a:xfrm>
                  <a:off x="276120" y="4023000"/>
                  <a:ext cx="12960" cy="10800"/>
                  <a:chOff x="276120" y="4023000"/>
                  <a:chExt cx="12960" cy="10800"/>
                </a:xfrm>
              </p:grpSpPr>
              <p:sp>
                <p:nvSpPr>
                  <p:cNvPr id="5065" name=""/>
                  <p:cNvSpPr/>
                  <p:nvPr/>
                </p:nvSpPr>
                <p:spPr>
                  <a:xfrm>
                    <a:off x="276120" y="4023000"/>
                    <a:ext cx="50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61">
                        <a:moveTo>
                          <a:pt x="19" y="61"/>
                        </a:moveTo>
                        <a:lnTo>
                          <a:pt x="0" y="30"/>
                        </a:lnTo>
                        <a:lnTo>
                          <a:pt x="10" y="0"/>
                        </a:lnTo>
                        <a:lnTo>
                          <a:pt x="32" y="30"/>
                        </a:lnTo>
                        <a:lnTo>
                          <a:pt x="19" y="6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6" name=""/>
                  <p:cNvSpPr/>
                  <p:nvPr/>
                </p:nvSpPr>
                <p:spPr>
                  <a:xfrm>
                    <a:off x="277920" y="402300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9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1" y="29"/>
                        </a:lnTo>
                        <a:lnTo>
                          <a:pt x="19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7" name=""/>
                  <p:cNvSpPr/>
                  <p:nvPr/>
                </p:nvSpPr>
                <p:spPr>
                  <a:xfrm>
                    <a:off x="279360" y="402912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6">
                        <a:moveTo>
                          <a:pt x="0" y="26"/>
                        </a:moveTo>
                        <a:lnTo>
                          <a:pt x="10" y="0"/>
                        </a:lnTo>
                        <a:lnTo>
                          <a:pt x="42" y="0"/>
                        </a:lnTo>
                        <a:lnTo>
                          <a:pt x="52" y="26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8" name=""/>
                <p:cNvGrpSpPr/>
                <p:nvPr/>
              </p:nvGrpSpPr>
              <p:grpSpPr>
                <a:xfrm>
                  <a:off x="279360" y="4029120"/>
                  <a:ext cx="12600" cy="11160"/>
                  <a:chOff x="279360" y="4029120"/>
                  <a:chExt cx="12600" cy="11160"/>
                </a:xfrm>
              </p:grpSpPr>
              <p:sp>
                <p:nvSpPr>
                  <p:cNvPr id="5069" name=""/>
                  <p:cNvSpPr/>
                  <p:nvPr/>
                </p:nvSpPr>
                <p:spPr>
                  <a:xfrm>
                    <a:off x="279360" y="402912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9">
                        <a:moveTo>
                          <a:pt x="18" y="59"/>
                        </a:moveTo>
                        <a:lnTo>
                          <a:pt x="0" y="29"/>
                        </a:lnTo>
                        <a:lnTo>
                          <a:pt x="9" y="0"/>
                        </a:lnTo>
                        <a:lnTo>
                          <a:pt x="32" y="29"/>
                        </a:lnTo>
                        <a:lnTo>
                          <a:pt x="18" y="59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0" name=""/>
                  <p:cNvSpPr/>
                  <p:nvPr/>
                </p:nvSpPr>
                <p:spPr>
                  <a:xfrm>
                    <a:off x="281160" y="40291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8">
                        <a:moveTo>
                          <a:pt x="0" y="0"/>
                        </a:moveTo>
                        <a:lnTo>
                          <a:pt x="31" y="0"/>
                        </a:lnTo>
                        <a:lnTo>
                          <a:pt x="52" y="28"/>
                        </a:lnTo>
                        <a:lnTo>
                          <a:pt x="20" y="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1" name=""/>
                  <p:cNvSpPr/>
                  <p:nvPr/>
                </p:nvSpPr>
                <p:spPr>
                  <a:xfrm>
                    <a:off x="282600" y="403560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6">
                        <a:moveTo>
                          <a:pt x="0" y="26"/>
                        </a:moveTo>
                        <a:lnTo>
                          <a:pt x="10" y="0"/>
                        </a:lnTo>
                        <a:lnTo>
                          <a:pt x="44" y="0"/>
                        </a:lnTo>
                        <a:lnTo>
                          <a:pt x="53" y="26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72" name=""/>
                <p:cNvGrpSpPr/>
                <p:nvPr/>
              </p:nvGrpSpPr>
              <p:grpSpPr>
                <a:xfrm>
                  <a:off x="282600" y="4037040"/>
                  <a:ext cx="12600" cy="11160"/>
                  <a:chOff x="282600" y="4037040"/>
                  <a:chExt cx="12600" cy="11160"/>
                </a:xfrm>
              </p:grpSpPr>
              <p:sp>
                <p:nvSpPr>
                  <p:cNvPr id="5073" name=""/>
                  <p:cNvSpPr/>
                  <p:nvPr/>
                </p:nvSpPr>
                <p:spPr>
                  <a:xfrm>
                    <a:off x="282600" y="4037040"/>
                    <a:ext cx="64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58">
                        <a:moveTo>
                          <a:pt x="19" y="58"/>
                        </a:moveTo>
                        <a:lnTo>
                          <a:pt x="0" y="27"/>
                        </a:lnTo>
                        <a:lnTo>
                          <a:pt x="11" y="0"/>
                        </a:lnTo>
                        <a:lnTo>
                          <a:pt x="33" y="27"/>
                        </a:lnTo>
                        <a:lnTo>
                          <a:pt x="19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4" name=""/>
                  <p:cNvSpPr/>
                  <p:nvPr/>
                </p:nvSpPr>
                <p:spPr>
                  <a:xfrm>
                    <a:off x="284040" y="403704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7">
                        <a:moveTo>
                          <a:pt x="0" y="0"/>
                        </a:moveTo>
                        <a:lnTo>
                          <a:pt x="32" y="0"/>
                        </a:lnTo>
                        <a:lnTo>
                          <a:pt x="51" y="27"/>
                        </a:lnTo>
                        <a:lnTo>
                          <a:pt x="18" y="2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5" name=""/>
                  <p:cNvSpPr/>
                  <p:nvPr/>
                </p:nvSpPr>
                <p:spPr>
                  <a:xfrm>
                    <a:off x="285840" y="40417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7">
                        <a:moveTo>
                          <a:pt x="0" y="27"/>
                        </a:moveTo>
                        <a:lnTo>
                          <a:pt x="10" y="0"/>
                        </a:lnTo>
                        <a:lnTo>
                          <a:pt x="43" y="0"/>
                        </a:lnTo>
                        <a:lnTo>
                          <a:pt x="51" y="27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76" name=""/>
                <p:cNvGrpSpPr/>
                <p:nvPr/>
              </p:nvGrpSpPr>
              <p:grpSpPr>
                <a:xfrm>
                  <a:off x="287280" y="4043520"/>
                  <a:ext cx="12600" cy="11160"/>
                  <a:chOff x="287280" y="4043520"/>
                  <a:chExt cx="12600" cy="11160"/>
                </a:xfrm>
              </p:grpSpPr>
              <p:sp>
                <p:nvSpPr>
                  <p:cNvPr id="5077" name=""/>
                  <p:cNvSpPr/>
                  <p:nvPr/>
                </p:nvSpPr>
                <p:spPr>
                  <a:xfrm>
                    <a:off x="287280" y="404352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20" y="58"/>
                        </a:moveTo>
                        <a:lnTo>
                          <a:pt x="0" y="28"/>
                        </a:lnTo>
                        <a:lnTo>
                          <a:pt x="10" y="0"/>
                        </a:lnTo>
                        <a:lnTo>
                          <a:pt x="32" y="28"/>
                        </a:lnTo>
                        <a:lnTo>
                          <a:pt x="20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8" name=""/>
                  <p:cNvSpPr/>
                  <p:nvPr/>
                </p:nvSpPr>
                <p:spPr>
                  <a:xfrm>
                    <a:off x="289080" y="404352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9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2" y="29"/>
                        </a:lnTo>
                        <a:lnTo>
                          <a:pt x="20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9" name=""/>
                  <p:cNvSpPr/>
                  <p:nvPr/>
                </p:nvSpPr>
                <p:spPr>
                  <a:xfrm>
                    <a:off x="290520" y="404964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4">
                        <a:moveTo>
                          <a:pt x="0" y="24"/>
                        </a:moveTo>
                        <a:lnTo>
                          <a:pt x="9" y="0"/>
                        </a:lnTo>
                        <a:lnTo>
                          <a:pt x="42" y="0"/>
                        </a:lnTo>
                        <a:lnTo>
                          <a:pt x="52" y="24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80" name=""/>
                <p:cNvGrpSpPr/>
                <p:nvPr/>
              </p:nvGrpSpPr>
              <p:grpSpPr>
                <a:xfrm>
                  <a:off x="290520" y="4049640"/>
                  <a:ext cx="12600" cy="12960"/>
                  <a:chOff x="290520" y="4049640"/>
                  <a:chExt cx="12600" cy="12960"/>
                </a:xfrm>
              </p:grpSpPr>
              <p:sp>
                <p:nvSpPr>
                  <p:cNvPr id="5081" name=""/>
                  <p:cNvSpPr/>
                  <p:nvPr/>
                </p:nvSpPr>
                <p:spPr>
                  <a:xfrm>
                    <a:off x="290520" y="4049640"/>
                    <a:ext cx="64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9">
                        <a:moveTo>
                          <a:pt x="18" y="59"/>
                        </a:moveTo>
                        <a:lnTo>
                          <a:pt x="0" y="29"/>
                        </a:lnTo>
                        <a:lnTo>
                          <a:pt x="10" y="0"/>
                        </a:lnTo>
                        <a:lnTo>
                          <a:pt x="32" y="29"/>
                        </a:lnTo>
                        <a:lnTo>
                          <a:pt x="18" y="59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2" name=""/>
                  <p:cNvSpPr/>
                  <p:nvPr/>
                </p:nvSpPr>
                <p:spPr>
                  <a:xfrm>
                    <a:off x="291960" y="404964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0">
                        <a:moveTo>
                          <a:pt x="0" y="0"/>
                        </a:moveTo>
                        <a:lnTo>
                          <a:pt x="34" y="0"/>
                        </a:lnTo>
                        <a:lnTo>
                          <a:pt x="52" y="30"/>
                        </a:lnTo>
                        <a:lnTo>
                          <a:pt x="20" y="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3" name=""/>
                  <p:cNvSpPr/>
                  <p:nvPr/>
                </p:nvSpPr>
                <p:spPr>
                  <a:xfrm>
                    <a:off x="293760" y="405612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5">
                        <a:moveTo>
                          <a:pt x="0" y="25"/>
                        </a:moveTo>
                        <a:lnTo>
                          <a:pt x="12" y="0"/>
                        </a:lnTo>
                        <a:lnTo>
                          <a:pt x="44" y="0"/>
                        </a:lnTo>
                        <a:lnTo>
                          <a:pt x="53" y="25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84" name=""/>
                <p:cNvGrpSpPr/>
                <p:nvPr/>
              </p:nvGrpSpPr>
              <p:grpSpPr>
                <a:xfrm>
                  <a:off x="295200" y="4057920"/>
                  <a:ext cx="12600" cy="10800"/>
                  <a:chOff x="295200" y="4057920"/>
                  <a:chExt cx="12600" cy="10800"/>
                </a:xfrm>
              </p:grpSpPr>
              <p:sp>
                <p:nvSpPr>
                  <p:cNvPr id="5085" name=""/>
                  <p:cNvSpPr/>
                  <p:nvPr/>
                </p:nvSpPr>
                <p:spPr>
                  <a:xfrm>
                    <a:off x="295200" y="4057920"/>
                    <a:ext cx="46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18" y="58"/>
                        </a:moveTo>
                        <a:lnTo>
                          <a:pt x="0" y="29"/>
                        </a:lnTo>
                        <a:lnTo>
                          <a:pt x="10" y="0"/>
                        </a:lnTo>
                        <a:lnTo>
                          <a:pt x="32" y="29"/>
                        </a:lnTo>
                        <a:lnTo>
                          <a:pt x="18" y="5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6" name=""/>
                  <p:cNvSpPr/>
                  <p:nvPr/>
                </p:nvSpPr>
                <p:spPr>
                  <a:xfrm>
                    <a:off x="297000" y="405792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0">
                        <a:moveTo>
                          <a:pt x="0" y="0"/>
                        </a:moveTo>
                        <a:lnTo>
                          <a:pt x="32" y="0"/>
                        </a:lnTo>
                        <a:lnTo>
                          <a:pt x="52" y="30"/>
                        </a:lnTo>
                        <a:lnTo>
                          <a:pt x="19" y="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7" name=""/>
                  <p:cNvSpPr/>
                  <p:nvPr/>
                </p:nvSpPr>
                <p:spPr>
                  <a:xfrm>
                    <a:off x="298440" y="406404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4">
                        <a:moveTo>
                          <a:pt x="0" y="24"/>
                        </a:moveTo>
                        <a:lnTo>
                          <a:pt x="10" y="0"/>
                        </a:lnTo>
                        <a:lnTo>
                          <a:pt x="44" y="0"/>
                        </a:lnTo>
                        <a:lnTo>
                          <a:pt x="54" y="24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88" name=""/>
                <p:cNvGrpSpPr/>
                <p:nvPr/>
              </p:nvGrpSpPr>
              <p:grpSpPr>
                <a:xfrm>
                  <a:off x="298440" y="4064040"/>
                  <a:ext cx="12600" cy="11160"/>
                  <a:chOff x="298440" y="4064040"/>
                  <a:chExt cx="12600" cy="11160"/>
                </a:xfrm>
              </p:grpSpPr>
              <p:sp>
                <p:nvSpPr>
                  <p:cNvPr id="5089" name=""/>
                  <p:cNvSpPr/>
                  <p:nvPr/>
                </p:nvSpPr>
                <p:spPr>
                  <a:xfrm>
                    <a:off x="298440" y="406404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9">
                        <a:moveTo>
                          <a:pt x="20" y="59"/>
                        </a:moveTo>
                        <a:lnTo>
                          <a:pt x="0" y="28"/>
                        </a:lnTo>
                        <a:lnTo>
                          <a:pt x="10" y="0"/>
                        </a:lnTo>
                        <a:lnTo>
                          <a:pt x="32" y="28"/>
                        </a:lnTo>
                        <a:lnTo>
                          <a:pt x="20" y="59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0" name=""/>
                  <p:cNvSpPr/>
                  <p:nvPr/>
                </p:nvSpPr>
                <p:spPr>
                  <a:xfrm>
                    <a:off x="299880" y="406404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8">
                        <a:moveTo>
                          <a:pt x="0" y="0"/>
                        </a:moveTo>
                        <a:lnTo>
                          <a:pt x="33" y="0"/>
                        </a:lnTo>
                        <a:lnTo>
                          <a:pt x="52" y="28"/>
                        </a:lnTo>
                        <a:lnTo>
                          <a:pt x="19" y="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1" name=""/>
                  <p:cNvSpPr/>
                  <p:nvPr/>
                </p:nvSpPr>
                <p:spPr>
                  <a:xfrm>
                    <a:off x="301680" y="407052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6">
                        <a:moveTo>
                          <a:pt x="0" y="26"/>
                        </a:moveTo>
                        <a:lnTo>
                          <a:pt x="9" y="0"/>
                        </a:lnTo>
                        <a:lnTo>
                          <a:pt x="42" y="0"/>
                        </a:lnTo>
                        <a:lnTo>
                          <a:pt x="51" y="26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92" name=""/>
                <p:cNvSpPr/>
                <p:nvPr/>
              </p:nvSpPr>
              <p:spPr>
                <a:xfrm>
                  <a:off x="252360" y="395784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63" h="30">
                      <a:moveTo>
                        <a:pt x="0" y="0"/>
                      </a:moveTo>
                      <a:lnTo>
                        <a:pt x="22" y="30"/>
                      </a:lnTo>
                      <a:lnTo>
                        <a:pt x="63" y="30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3" name=""/>
                <p:cNvSpPr/>
                <p:nvPr/>
              </p:nvSpPr>
              <p:spPr>
                <a:xfrm>
                  <a:off x="258840" y="396720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63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3" y="31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4" name=""/>
                <p:cNvSpPr/>
                <p:nvPr/>
              </p:nvSpPr>
              <p:spPr>
                <a:xfrm>
                  <a:off x="263520" y="397692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64" h="31">
                      <a:moveTo>
                        <a:pt x="0" y="0"/>
                      </a:moveTo>
                      <a:lnTo>
                        <a:pt x="23" y="31"/>
                      </a:lnTo>
                      <a:lnTo>
                        <a:pt x="64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5" name=""/>
                <p:cNvSpPr/>
                <p:nvPr/>
              </p:nvSpPr>
              <p:spPr>
                <a:xfrm>
                  <a:off x="270000" y="398628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64" h="31">
                      <a:moveTo>
                        <a:pt x="0" y="0"/>
                      </a:moveTo>
                      <a:lnTo>
                        <a:pt x="23" y="31"/>
                      </a:lnTo>
                      <a:lnTo>
                        <a:pt x="64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6" name=""/>
                <p:cNvSpPr/>
                <p:nvPr/>
              </p:nvSpPr>
              <p:spPr>
                <a:xfrm>
                  <a:off x="274680" y="3996000"/>
                  <a:ext cx="11160" cy="6120"/>
                </a:xfrm>
                <a:custGeom>
                  <a:avLst/>
                  <a:gdLst/>
                  <a:ahLst/>
                  <a:rect l="l" t="t" r="r" b="b"/>
                  <a:pathLst>
                    <a:path w="64" h="30">
                      <a:moveTo>
                        <a:pt x="0" y="0"/>
                      </a:moveTo>
                      <a:lnTo>
                        <a:pt x="23" y="30"/>
                      </a:lnTo>
                      <a:lnTo>
                        <a:pt x="64" y="30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7" name=""/>
                <p:cNvSpPr/>
                <p:nvPr/>
              </p:nvSpPr>
              <p:spPr>
                <a:xfrm>
                  <a:off x="281160" y="4005360"/>
                  <a:ext cx="10800" cy="6480"/>
                </a:xfrm>
                <a:custGeom>
                  <a:avLst/>
                  <a:gdLst/>
                  <a:ahLst/>
                  <a:rect l="l" t="t" r="r" b="b"/>
                  <a:pathLst>
                    <a:path w="64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4" y="31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8" name=""/>
                <p:cNvSpPr/>
                <p:nvPr/>
              </p:nvSpPr>
              <p:spPr>
                <a:xfrm>
                  <a:off x="287280" y="401472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5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9" name=""/>
                <p:cNvSpPr/>
                <p:nvPr/>
              </p:nvSpPr>
              <p:spPr>
                <a:xfrm>
                  <a:off x="293760" y="402444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5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0" name=""/>
                <p:cNvSpPr/>
                <p:nvPr/>
              </p:nvSpPr>
              <p:spPr>
                <a:xfrm>
                  <a:off x="298440" y="403380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63" h="30">
                      <a:moveTo>
                        <a:pt x="0" y="0"/>
                      </a:moveTo>
                      <a:lnTo>
                        <a:pt x="22" y="30"/>
                      </a:lnTo>
                      <a:lnTo>
                        <a:pt x="63" y="30"/>
                      </a:lnTo>
                      <a:lnTo>
                        <a:pt x="4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1" name=""/>
                <p:cNvSpPr/>
                <p:nvPr/>
              </p:nvSpPr>
              <p:spPr>
                <a:xfrm>
                  <a:off x="304920" y="4043520"/>
                  <a:ext cx="11160" cy="612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5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2" name=""/>
                <p:cNvSpPr/>
                <p:nvPr/>
              </p:nvSpPr>
              <p:spPr>
                <a:xfrm>
                  <a:off x="309600" y="4052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0" y="0"/>
                      </a:moveTo>
                      <a:lnTo>
                        <a:pt x="22" y="31"/>
                      </a:lnTo>
                      <a:lnTo>
                        <a:pt x="65" y="3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03" name=""/>
                <p:cNvGrpSpPr/>
                <p:nvPr/>
              </p:nvGrpSpPr>
              <p:grpSpPr>
                <a:xfrm>
                  <a:off x="174600" y="3946680"/>
                  <a:ext cx="14400" cy="11160"/>
                  <a:chOff x="174600" y="3946680"/>
                  <a:chExt cx="14400" cy="11160"/>
                </a:xfrm>
              </p:grpSpPr>
              <p:sp>
                <p:nvSpPr>
                  <p:cNvPr id="5104" name=""/>
                  <p:cNvSpPr/>
                  <p:nvPr/>
                </p:nvSpPr>
                <p:spPr>
                  <a:xfrm>
                    <a:off x="174600" y="394668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1" y="59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9" y="27"/>
                        </a:lnTo>
                        <a:lnTo>
                          <a:pt x="11" y="59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5" name=""/>
                  <p:cNvSpPr/>
                  <p:nvPr/>
                </p:nvSpPr>
                <p:spPr>
                  <a:xfrm>
                    <a:off x="176040" y="394668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3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9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6" name=""/>
                  <p:cNvSpPr/>
                  <p:nvPr/>
                </p:nvSpPr>
                <p:spPr>
                  <a:xfrm>
                    <a:off x="176040" y="3951360"/>
                    <a:ext cx="129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31"/>
                        </a:moveTo>
                        <a:lnTo>
                          <a:pt x="1" y="17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07" name=""/>
                <p:cNvGrpSpPr/>
                <p:nvPr/>
              </p:nvGrpSpPr>
              <p:grpSpPr>
                <a:xfrm>
                  <a:off x="177840" y="3954600"/>
                  <a:ext cx="14400" cy="11160"/>
                  <a:chOff x="177840" y="3954600"/>
                  <a:chExt cx="14400" cy="11160"/>
                </a:xfrm>
              </p:grpSpPr>
              <p:sp>
                <p:nvSpPr>
                  <p:cNvPr id="5108" name=""/>
                  <p:cNvSpPr/>
                  <p:nvPr/>
                </p:nvSpPr>
                <p:spPr>
                  <a:xfrm>
                    <a:off x="177840" y="395460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58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9" y="27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9" name=""/>
                  <p:cNvSpPr/>
                  <p:nvPr/>
                </p:nvSpPr>
                <p:spPr>
                  <a:xfrm>
                    <a:off x="179280" y="395460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0" name=""/>
                  <p:cNvSpPr/>
                  <p:nvPr/>
                </p:nvSpPr>
                <p:spPr>
                  <a:xfrm>
                    <a:off x="181080" y="395928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4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1" name=""/>
                <p:cNvGrpSpPr/>
                <p:nvPr/>
              </p:nvGrpSpPr>
              <p:grpSpPr>
                <a:xfrm>
                  <a:off x="182520" y="3961080"/>
                  <a:ext cx="14400" cy="10800"/>
                  <a:chOff x="182520" y="3961080"/>
                  <a:chExt cx="14400" cy="10800"/>
                </a:xfrm>
              </p:grpSpPr>
              <p:sp>
                <p:nvSpPr>
                  <p:cNvPr id="5112" name=""/>
                  <p:cNvSpPr/>
                  <p:nvPr/>
                </p:nvSpPr>
                <p:spPr>
                  <a:xfrm>
                    <a:off x="182520" y="3961080"/>
                    <a:ext cx="32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8" y="27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3" name=""/>
                  <p:cNvSpPr/>
                  <p:nvPr/>
                </p:nvSpPr>
                <p:spPr>
                  <a:xfrm>
                    <a:off x="184320" y="396108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7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4"/>
                        </a:lnTo>
                        <a:lnTo>
                          <a:pt x="46" y="11"/>
                        </a:lnTo>
                        <a:lnTo>
                          <a:pt x="58" y="27"/>
                        </a:lnTo>
                        <a:lnTo>
                          <a:pt x="15" y="27"/>
                        </a:lnTo>
                        <a:lnTo>
                          <a:pt x="7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4" name=""/>
                  <p:cNvSpPr/>
                  <p:nvPr/>
                </p:nvSpPr>
                <p:spPr>
                  <a:xfrm>
                    <a:off x="184320" y="396576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7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5" name=""/>
                <p:cNvGrpSpPr/>
                <p:nvPr/>
              </p:nvGrpSpPr>
              <p:grpSpPr>
                <a:xfrm>
                  <a:off x="185760" y="3970440"/>
                  <a:ext cx="14400" cy="11160"/>
                  <a:chOff x="185760" y="3970440"/>
                  <a:chExt cx="14400" cy="11160"/>
                </a:xfrm>
              </p:grpSpPr>
              <p:sp>
                <p:nvSpPr>
                  <p:cNvPr id="5116" name=""/>
                  <p:cNvSpPr/>
                  <p:nvPr/>
                </p:nvSpPr>
                <p:spPr>
                  <a:xfrm>
                    <a:off x="185760" y="397044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1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19" y="27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7" name=""/>
                  <p:cNvSpPr/>
                  <p:nvPr/>
                </p:nvSpPr>
                <p:spPr>
                  <a:xfrm>
                    <a:off x="187200" y="397044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6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3"/>
                        </a:lnTo>
                        <a:lnTo>
                          <a:pt x="46" y="10"/>
                        </a:lnTo>
                        <a:lnTo>
                          <a:pt x="59" y="26"/>
                        </a:lnTo>
                        <a:lnTo>
                          <a:pt x="14" y="26"/>
                        </a:lnTo>
                        <a:lnTo>
                          <a:pt x="7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8" name=""/>
                  <p:cNvSpPr/>
                  <p:nvPr/>
                </p:nvSpPr>
                <p:spPr>
                  <a:xfrm>
                    <a:off x="189000" y="397512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6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8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9" name=""/>
                <p:cNvGrpSpPr/>
                <p:nvPr/>
              </p:nvGrpSpPr>
              <p:grpSpPr>
                <a:xfrm>
                  <a:off x="189000" y="3978360"/>
                  <a:ext cx="38160" cy="54000"/>
                  <a:chOff x="189000" y="3978360"/>
                  <a:chExt cx="38160" cy="54000"/>
                </a:xfrm>
              </p:grpSpPr>
              <p:sp>
                <p:nvSpPr>
                  <p:cNvPr id="5120" name=""/>
                  <p:cNvSpPr/>
                  <p:nvPr/>
                </p:nvSpPr>
                <p:spPr>
                  <a:xfrm>
                    <a:off x="189000" y="3978360"/>
                    <a:ext cx="270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269">
                        <a:moveTo>
                          <a:pt x="138" y="269"/>
                        </a:moveTo>
                        <a:lnTo>
                          <a:pt x="0" y="23"/>
                        </a:lnTo>
                        <a:lnTo>
                          <a:pt x="10" y="0"/>
                        </a:lnTo>
                        <a:lnTo>
                          <a:pt x="147" y="238"/>
                        </a:lnTo>
                        <a:lnTo>
                          <a:pt x="138" y="26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1" name=""/>
                  <p:cNvSpPr/>
                  <p:nvPr/>
                </p:nvSpPr>
                <p:spPr>
                  <a:xfrm>
                    <a:off x="190440" y="3978360"/>
                    <a:ext cx="349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240">
                        <a:moveTo>
                          <a:pt x="2" y="0"/>
                        </a:moveTo>
                        <a:lnTo>
                          <a:pt x="46" y="0"/>
                        </a:lnTo>
                        <a:lnTo>
                          <a:pt x="47" y="0"/>
                        </a:lnTo>
                        <a:lnTo>
                          <a:pt x="54" y="9"/>
                        </a:lnTo>
                        <a:lnTo>
                          <a:pt x="191" y="240"/>
                        </a:lnTo>
                        <a:lnTo>
                          <a:pt x="135" y="237"/>
                        </a:lnTo>
                        <a:lnTo>
                          <a:pt x="8" y="16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2" name=""/>
                  <p:cNvSpPr/>
                  <p:nvPr/>
                </p:nvSpPr>
                <p:spPr>
                  <a:xfrm>
                    <a:off x="214200" y="4025880"/>
                    <a:ext cx="12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31">
                        <a:moveTo>
                          <a:pt x="0" y="31"/>
                        </a:moveTo>
                        <a:lnTo>
                          <a:pt x="1" y="16"/>
                        </a:lnTo>
                        <a:lnTo>
                          <a:pt x="7" y="6"/>
                        </a:lnTo>
                        <a:lnTo>
                          <a:pt x="10" y="0"/>
                        </a:lnTo>
                        <a:lnTo>
                          <a:pt x="62" y="0"/>
                        </a:lnTo>
                        <a:lnTo>
                          <a:pt x="77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3" name=""/>
                <p:cNvGrpSpPr/>
                <p:nvPr/>
              </p:nvGrpSpPr>
              <p:grpSpPr>
                <a:xfrm>
                  <a:off x="216000" y="4027680"/>
                  <a:ext cx="12600" cy="11160"/>
                  <a:chOff x="216000" y="4027680"/>
                  <a:chExt cx="12600" cy="11160"/>
                </a:xfrm>
              </p:grpSpPr>
              <p:sp>
                <p:nvSpPr>
                  <p:cNvPr id="5124" name=""/>
                  <p:cNvSpPr/>
                  <p:nvPr/>
                </p:nvSpPr>
                <p:spPr>
                  <a:xfrm>
                    <a:off x="216000" y="402768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9" y="27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5" name=""/>
                  <p:cNvSpPr/>
                  <p:nvPr/>
                </p:nvSpPr>
                <p:spPr>
                  <a:xfrm>
                    <a:off x="216000" y="402768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6" name=""/>
                  <p:cNvSpPr/>
                  <p:nvPr/>
                </p:nvSpPr>
                <p:spPr>
                  <a:xfrm>
                    <a:off x="217440" y="403236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1" y="17"/>
                        </a:lnTo>
                        <a:lnTo>
                          <a:pt x="4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7" name=""/>
                <p:cNvGrpSpPr/>
                <p:nvPr/>
              </p:nvGrpSpPr>
              <p:grpSpPr>
                <a:xfrm>
                  <a:off x="219240" y="4035600"/>
                  <a:ext cx="14040" cy="11160"/>
                  <a:chOff x="219240" y="4035600"/>
                  <a:chExt cx="14040" cy="11160"/>
                </a:xfrm>
              </p:grpSpPr>
              <p:sp>
                <p:nvSpPr>
                  <p:cNvPr id="5128" name=""/>
                  <p:cNvSpPr/>
                  <p:nvPr/>
                </p:nvSpPr>
                <p:spPr>
                  <a:xfrm>
                    <a:off x="219240" y="403560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8">
                        <a:moveTo>
                          <a:pt x="11" y="58"/>
                        </a:move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18" y="26"/>
                        </a:lnTo>
                        <a:lnTo>
                          <a:pt x="11" y="58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9" name=""/>
                  <p:cNvSpPr/>
                  <p:nvPr/>
                </p:nvSpPr>
                <p:spPr>
                  <a:xfrm>
                    <a:off x="220680" y="403560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5" y="10"/>
                        </a:lnTo>
                        <a:lnTo>
                          <a:pt x="58" y="25"/>
                        </a:lnTo>
                        <a:lnTo>
                          <a:pt x="13" y="25"/>
                        </a:lnTo>
                        <a:lnTo>
                          <a:pt x="7" y="18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0" name=""/>
                  <p:cNvSpPr/>
                  <p:nvPr/>
                </p:nvSpPr>
                <p:spPr>
                  <a:xfrm>
                    <a:off x="220680" y="404028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1" y="16"/>
                        </a:lnTo>
                        <a:lnTo>
                          <a:pt x="5" y="6"/>
                        </a:lnTo>
                        <a:lnTo>
                          <a:pt x="8" y="0"/>
                        </a:lnTo>
                        <a:lnTo>
                          <a:pt x="54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1" name=""/>
                <p:cNvGrpSpPr/>
                <p:nvPr/>
              </p:nvGrpSpPr>
              <p:grpSpPr>
                <a:xfrm>
                  <a:off x="284040" y="4064040"/>
                  <a:ext cx="14400" cy="11160"/>
                  <a:chOff x="284040" y="4064040"/>
                  <a:chExt cx="14400" cy="11160"/>
                </a:xfrm>
              </p:grpSpPr>
              <p:sp>
                <p:nvSpPr>
                  <p:cNvPr id="5132" name=""/>
                  <p:cNvSpPr/>
                  <p:nvPr/>
                </p:nvSpPr>
                <p:spPr>
                  <a:xfrm>
                    <a:off x="284040" y="406404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9">
                        <a:moveTo>
                          <a:pt x="10" y="59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8" y="27"/>
                        </a:lnTo>
                        <a:lnTo>
                          <a:pt x="10" y="59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3" name=""/>
                  <p:cNvSpPr/>
                  <p:nvPr/>
                </p:nvSpPr>
                <p:spPr>
                  <a:xfrm>
                    <a:off x="285840" y="406404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2" y="0"/>
                        </a:moveTo>
                        <a:lnTo>
                          <a:pt x="42" y="0"/>
                        </a:lnTo>
                        <a:lnTo>
                          <a:pt x="43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9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4" name=""/>
                  <p:cNvSpPr/>
                  <p:nvPr/>
                </p:nvSpPr>
                <p:spPr>
                  <a:xfrm>
                    <a:off x="287280" y="406872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1">
                        <a:moveTo>
                          <a:pt x="0" y="31"/>
                        </a:moveTo>
                        <a:lnTo>
                          <a:pt x="2" y="17"/>
                        </a:lnTo>
                        <a:lnTo>
                          <a:pt x="6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8" y="3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5" name=""/>
                <p:cNvGrpSpPr/>
                <p:nvPr/>
              </p:nvGrpSpPr>
              <p:grpSpPr>
                <a:xfrm>
                  <a:off x="241200" y="4051440"/>
                  <a:ext cx="14400" cy="11160"/>
                  <a:chOff x="241200" y="4051440"/>
                  <a:chExt cx="14400" cy="11160"/>
                </a:xfrm>
              </p:grpSpPr>
              <p:sp>
                <p:nvSpPr>
                  <p:cNvPr id="5136" name=""/>
                  <p:cNvSpPr/>
                  <p:nvPr/>
                </p:nvSpPr>
                <p:spPr>
                  <a:xfrm>
                    <a:off x="241200" y="405144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1" y="59"/>
                        </a:moveTo>
                        <a:lnTo>
                          <a:pt x="0" y="23"/>
                        </a:lnTo>
                        <a:lnTo>
                          <a:pt x="7" y="0"/>
                        </a:lnTo>
                        <a:lnTo>
                          <a:pt x="19" y="27"/>
                        </a:lnTo>
                        <a:lnTo>
                          <a:pt x="11" y="59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7" name=""/>
                  <p:cNvSpPr/>
                  <p:nvPr/>
                </p:nvSpPr>
                <p:spPr>
                  <a:xfrm>
                    <a:off x="243000" y="405144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6">
                        <a:moveTo>
                          <a:pt x="1" y="0"/>
                        </a:moveTo>
                        <a:lnTo>
                          <a:pt x="41" y="0"/>
                        </a:lnTo>
                        <a:lnTo>
                          <a:pt x="42" y="3"/>
                        </a:lnTo>
                        <a:lnTo>
                          <a:pt x="46" y="11"/>
                        </a:lnTo>
                        <a:lnTo>
                          <a:pt x="60" y="26"/>
                        </a:lnTo>
                        <a:lnTo>
                          <a:pt x="15" y="26"/>
                        </a:lnTo>
                        <a:lnTo>
                          <a:pt x="8" y="19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8" name=""/>
                  <p:cNvSpPr/>
                  <p:nvPr/>
                </p:nvSpPr>
                <p:spPr>
                  <a:xfrm>
                    <a:off x="243000" y="405612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5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7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9" name=""/>
                <p:cNvGrpSpPr/>
                <p:nvPr/>
              </p:nvGrpSpPr>
              <p:grpSpPr>
                <a:xfrm>
                  <a:off x="244440" y="4057920"/>
                  <a:ext cx="12600" cy="10800"/>
                  <a:chOff x="244440" y="4057920"/>
                  <a:chExt cx="12600" cy="10800"/>
                </a:xfrm>
              </p:grpSpPr>
              <p:sp>
                <p:nvSpPr>
                  <p:cNvPr id="5140" name=""/>
                  <p:cNvSpPr/>
                  <p:nvPr/>
                </p:nvSpPr>
                <p:spPr>
                  <a:xfrm>
                    <a:off x="244440" y="4057920"/>
                    <a:ext cx="32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2" y="58"/>
                        </a:moveTo>
                        <a:lnTo>
                          <a:pt x="0" y="22"/>
                        </a:lnTo>
                        <a:lnTo>
                          <a:pt x="8" y="0"/>
                        </a:lnTo>
                        <a:lnTo>
                          <a:pt x="20" y="26"/>
                        </a:lnTo>
                        <a:lnTo>
                          <a:pt x="12" y="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1" name=""/>
                  <p:cNvSpPr/>
                  <p:nvPr/>
                </p:nvSpPr>
                <p:spPr>
                  <a:xfrm>
                    <a:off x="244440" y="405792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40" y="0"/>
                        </a:lnTo>
                        <a:lnTo>
                          <a:pt x="41" y="2"/>
                        </a:lnTo>
                        <a:lnTo>
                          <a:pt x="46" y="10"/>
                        </a:lnTo>
                        <a:lnTo>
                          <a:pt x="60" y="25"/>
                        </a:lnTo>
                        <a:lnTo>
                          <a:pt x="15" y="25"/>
                        </a:lnTo>
                        <a:lnTo>
                          <a:pt x="8" y="18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2" name=""/>
                  <p:cNvSpPr/>
                  <p:nvPr/>
                </p:nvSpPr>
                <p:spPr>
                  <a:xfrm>
                    <a:off x="246240" y="4062600"/>
                    <a:ext cx="10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30"/>
                        </a:moveTo>
                        <a:lnTo>
                          <a:pt x="2" y="16"/>
                        </a:lnTo>
                        <a:lnTo>
                          <a:pt x="5" y="6"/>
                        </a:lnTo>
                        <a:lnTo>
                          <a:pt x="9" y="0"/>
                        </a:lnTo>
                        <a:lnTo>
                          <a:pt x="55" y="0"/>
                        </a:lnTo>
                        <a:lnTo>
                          <a:pt x="66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43" name=""/>
                <p:cNvSpPr/>
                <p:nvPr/>
              </p:nvSpPr>
              <p:spPr>
                <a:xfrm>
                  <a:off x="255600" y="4057920"/>
                  <a:ext cx="7920" cy="20520"/>
                </a:xfrm>
                <a:custGeom>
                  <a:avLst/>
                  <a:gdLst/>
                  <a:ahLst/>
                  <a:rect l="l" t="t" r="r" b="b"/>
                  <a:pathLst>
                    <a:path w="41" h="110">
                      <a:moveTo>
                        <a:pt x="33" y="110"/>
                      </a:moveTo>
                      <a:lnTo>
                        <a:pt x="0" y="25"/>
                      </a:lnTo>
                      <a:lnTo>
                        <a:pt x="0" y="17"/>
                      </a:lnTo>
                      <a:lnTo>
                        <a:pt x="2" y="10"/>
                      </a:lnTo>
                      <a:lnTo>
                        <a:pt x="8" y="0"/>
                      </a:lnTo>
                      <a:lnTo>
                        <a:pt x="41" y="78"/>
                      </a:lnTo>
                      <a:lnTo>
                        <a:pt x="33" y="11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4" name=""/>
                <p:cNvSpPr/>
                <p:nvPr/>
              </p:nvSpPr>
              <p:spPr>
                <a:xfrm>
                  <a:off x="257040" y="4057920"/>
                  <a:ext cx="27000" cy="14040"/>
                </a:xfrm>
                <a:custGeom>
                  <a:avLst/>
                  <a:gdLst/>
                  <a:ahLst/>
                  <a:rect l="l" t="t" r="r" b="b"/>
                  <a:pathLst>
                    <a:path w="149" h="72">
                      <a:moveTo>
                        <a:pt x="0" y="0"/>
                      </a:moveTo>
                      <a:lnTo>
                        <a:pt x="53" y="0"/>
                      </a:lnTo>
                      <a:lnTo>
                        <a:pt x="55" y="11"/>
                      </a:lnTo>
                      <a:lnTo>
                        <a:pt x="61" y="24"/>
                      </a:lnTo>
                      <a:lnTo>
                        <a:pt x="69" y="36"/>
                      </a:lnTo>
                      <a:lnTo>
                        <a:pt x="128" y="36"/>
                      </a:lnTo>
                      <a:lnTo>
                        <a:pt x="133" y="47"/>
                      </a:lnTo>
                      <a:lnTo>
                        <a:pt x="140" y="57"/>
                      </a:lnTo>
                      <a:lnTo>
                        <a:pt x="149" y="72"/>
                      </a:lnTo>
                      <a:lnTo>
                        <a:pt x="53" y="72"/>
                      </a:lnTo>
                      <a:lnTo>
                        <a:pt x="33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5" name=""/>
                <p:cNvSpPr/>
                <p:nvPr/>
              </p:nvSpPr>
              <p:spPr>
                <a:xfrm>
                  <a:off x="262080" y="4071960"/>
                  <a:ext cx="23760" cy="6480"/>
                </a:xfrm>
                <a:custGeom>
                  <a:avLst/>
                  <a:gdLst/>
                  <a:ahLst/>
                  <a:rect l="l" t="t" r="r" b="b"/>
                  <a:pathLst>
                    <a:path w="130" h="30">
                      <a:moveTo>
                        <a:pt x="0" y="30"/>
                      </a:moveTo>
                      <a:lnTo>
                        <a:pt x="1" y="16"/>
                      </a:lnTo>
                      <a:lnTo>
                        <a:pt x="5" y="6"/>
                      </a:lnTo>
                      <a:lnTo>
                        <a:pt x="9" y="0"/>
                      </a:lnTo>
                      <a:lnTo>
                        <a:pt x="122" y="0"/>
                      </a:lnTo>
                      <a:lnTo>
                        <a:pt x="130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6" name=""/>
              <p:cNvGrpSpPr/>
              <p:nvPr/>
            </p:nvGrpSpPr>
            <p:grpSpPr>
              <a:xfrm>
                <a:off x="236520" y="4091040"/>
                <a:ext cx="119160" cy="27000"/>
                <a:chOff x="236520" y="4091040"/>
                <a:chExt cx="119160" cy="27000"/>
              </a:xfrm>
            </p:grpSpPr>
            <p:sp>
              <p:nvSpPr>
                <p:cNvPr id="5147" name=""/>
                <p:cNvSpPr/>
                <p:nvPr/>
              </p:nvSpPr>
              <p:spPr>
                <a:xfrm>
                  <a:off x="236520" y="4091040"/>
                  <a:ext cx="119160" cy="27000"/>
                </a:xfrm>
                <a:custGeom>
                  <a:avLst/>
                  <a:gdLst/>
                  <a:ahLst/>
                  <a:rect l="l" t="t" r="r" b="b"/>
                  <a:pathLst>
                    <a:path w="669" h="130">
                      <a:moveTo>
                        <a:pt x="29" y="11"/>
                      </a:moveTo>
                      <a:lnTo>
                        <a:pt x="14" y="23"/>
                      </a:lnTo>
                      <a:lnTo>
                        <a:pt x="8" y="42"/>
                      </a:lnTo>
                      <a:lnTo>
                        <a:pt x="0" y="84"/>
                      </a:lnTo>
                      <a:lnTo>
                        <a:pt x="4" y="107"/>
                      </a:lnTo>
                      <a:lnTo>
                        <a:pt x="11" y="119"/>
                      </a:lnTo>
                      <a:lnTo>
                        <a:pt x="22" y="130"/>
                      </a:lnTo>
                      <a:lnTo>
                        <a:pt x="635" y="122"/>
                      </a:lnTo>
                      <a:lnTo>
                        <a:pt x="654" y="110"/>
                      </a:lnTo>
                      <a:lnTo>
                        <a:pt x="662" y="92"/>
                      </a:lnTo>
                      <a:lnTo>
                        <a:pt x="669" y="53"/>
                      </a:lnTo>
                      <a:lnTo>
                        <a:pt x="666" y="23"/>
                      </a:lnTo>
                      <a:lnTo>
                        <a:pt x="653" y="8"/>
                      </a:lnTo>
                      <a:lnTo>
                        <a:pt x="636" y="0"/>
                      </a:lnTo>
                      <a:lnTo>
                        <a:pt x="2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8" name=""/>
                <p:cNvSpPr/>
                <p:nvPr/>
              </p:nvSpPr>
              <p:spPr>
                <a:xfrm>
                  <a:off x="252360" y="4097520"/>
                  <a:ext cx="93600" cy="14040"/>
                </a:xfrm>
                <a:custGeom>
                  <a:avLst/>
                  <a:gdLst/>
                  <a:ahLst/>
                  <a:rect l="l" t="t" r="r" b="b"/>
                  <a:pathLst>
                    <a:path w="533" h="68">
                      <a:moveTo>
                        <a:pt x="3" y="20"/>
                      </a:moveTo>
                      <a:lnTo>
                        <a:pt x="0" y="43"/>
                      </a:lnTo>
                      <a:lnTo>
                        <a:pt x="124" y="43"/>
                      </a:lnTo>
                      <a:lnTo>
                        <a:pt x="124" y="68"/>
                      </a:lnTo>
                      <a:lnTo>
                        <a:pt x="405" y="62"/>
                      </a:lnTo>
                      <a:lnTo>
                        <a:pt x="405" y="43"/>
                      </a:lnTo>
                      <a:lnTo>
                        <a:pt x="531" y="43"/>
                      </a:lnTo>
                      <a:lnTo>
                        <a:pt x="533" y="20"/>
                      </a:lnTo>
                      <a:lnTo>
                        <a:pt x="409" y="20"/>
                      </a:lnTo>
                      <a:lnTo>
                        <a:pt x="409" y="0"/>
                      </a:lnTo>
                      <a:lnTo>
                        <a:pt x="124" y="7"/>
                      </a:lnTo>
                      <a:lnTo>
                        <a:pt x="124" y="20"/>
                      </a:lnTo>
                      <a:lnTo>
                        <a:pt x="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9" name=""/>
                <p:cNvSpPr/>
                <p:nvPr/>
              </p:nvSpPr>
              <p:spPr>
                <a:xfrm>
                  <a:off x="254160" y="4110120"/>
                  <a:ext cx="7920" cy="3240"/>
                </a:xfrm>
                <a:prstGeom prst="rect">
                  <a:avLst/>
                </a:prstGeom>
                <a:solidFill>
                  <a:srgbClr val="00a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0" name=""/>
                <p:cNvSpPr/>
                <p:nvPr/>
              </p:nvSpPr>
              <p:spPr>
                <a:xfrm>
                  <a:off x="326880" y="4108680"/>
                  <a:ext cx="16200" cy="4680"/>
                </a:xfrm>
                <a:prstGeom prst="rect">
                  <a:avLst/>
                </a:prstGeom>
                <a:solidFill>
                  <a:srgbClr val="20202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1" name=""/>
              <p:cNvGrpSpPr/>
              <p:nvPr/>
            </p:nvGrpSpPr>
            <p:grpSpPr>
              <a:xfrm>
                <a:off x="325440" y="3916440"/>
                <a:ext cx="144360" cy="163440"/>
                <a:chOff x="325440" y="3916440"/>
                <a:chExt cx="144360" cy="163440"/>
              </a:xfrm>
            </p:grpSpPr>
            <p:sp>
              <p:nvSpPr>
                <p:cNvPr id="5152" name=""/>
                <p:cNvSpPr/>
                <p:nvPr/>
              </p:nvSpPr>
              <p:spPr>
                <a:xfrm>
                  <a:off x="442800" y="404496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154" h="171">
                      <a:moveTo>
                        <a:pt x="102" y="8"/>
                      </a:moveTo>
                      <a:lnTo>
                        <a:pt x="75" y="0"/>
                      </a:lnTo>
                      <a:lnTo>
                        <a:pt x="48" y="4"/>
                      </a:lnTo>
                      <a:lnTo>
                        <a:pt x="25" y="14"/>
                      </a:lnTo>
                      <a:lnTo>
                        <a:pt x="7" y="38"/>
                      </a:lnTo>
                      <a:lnTo>
                        <a:pt x="0" y="80"/>
                      </a:lnTo>
                      <a:lnTo>
                        <a:pt x="0" y="117"/>
                      </a:lnTo>
                      <a:lnTo>
                        <a:pt x="0" y="171"/>
                      </a:lnTo>
                      <a:lnTo>
                        <a:pt x="154" y="171"/>
                      </a:lnTo>
                      <a:lnTo>
                        <a:pt x="147" y="69"/>
                      </a:lnTo>
                      <a:lnTo>
                        <a:pt x="126" y="25"/>
                      </a:lnTo>
                      <a:lnTo>
                        <a:pt x="102" y="8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3" name=""/>
                <p:cNvSpPr/>
                <p:nvPr/>
              </p:nvSpPr>
              <p:spPr>
                <a:xfrm>
                  <a:off x="325440" y="3916440"/>
                  <a:ext cx="122400" cy="135000"/>
                </a:xfrm>
                <a:custGeom>
                  <a:avLst/>
                  <a:gdLst/>
                  <a:ahLst/>
                  <a:rect l="l" t="t" r="r" b="b"/>
                  <a:pathLst>
                    <a:path w="696" h="676">
                      <a:moveTo>
                        <a:pt x="0" y="0"/>
                      </a:moveTo>
                      <a:lnTo>
                        <a:pt x="696" y="653"/>
                      </a:lnTo>
                      <a:lnTo>
                        <a:pt x="688" y="664"/>
                      </a:lnTo>
                      <a:lnTo>
                        <a:pt x="678" y="6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4" name=""/>
                <p:cNvSpPr/>
                <p:nvPr/>
              </p:nvSpPr>
              <p:spPr>
                <a:xfrm>
                  <a:off x="409680" y="4003920"/>
                  <a:ext cx="39600" cy="63360"/>
                </a:xfrm>
                <a:custGeom>
                  <a:avLst/>
                  <a:gdLst/>
                  <a:ahLst/>
                  <a:rect l="l" t="t" r="r" b="b"/>
                  <a:pathLst>
                    <a:path w="228" h="313">
                      <a:moveTo>
                        <a:pt x="3" y="81"/>
                      </a:moveTo>
                      <a:lnTo>
                        <a:pt x="19" y="53"/>
                      </a:lnTo>
                      <a:lnTo>
                        <a:pt x="44" y="37"/>
                      </a:lnTo>
                      <a:lnTo>
                        <a:pt x="63" y="36"/>
                      </a:lnTo>
                      <a:lnTo>
                        <a:pt x="103" y="37"/>
                      </a:lnTo>
                      <a:lnTo>
                        <a:pt x="106" y="0"/>
                      </a:lnTo>
                      <a:lnTo>
                        <a:pt x="228" y="111"/>
                      </a:lnTo>
                      <a:lnTo>
                        <a:pt x="220" y="153"/>
                      </a:lnTo>
                      <a:lnTo>
                        <a:pt x="184" y="145"/>
                      </a:lnTo>
                      <a:lnTo>
                        <a:pt x="154" y="157"/>
                      </a:lnTo>
                      <a:lnTo>
                        <a:pt x="128" y="179"/>
                      </a:lnTo>
                      <a:lnTo>
                        <a:pt x="121" y="198"/>
                      </a:lnTo>
                      <a:lnTo>
                        <a:pt x="120" y="252"/>
                      </a:lnTo>
                      <a:lnTo>
                        <a:pt x="120" y="289"/>
                      </a:lnTo>
                      <a:lnTo>
                        <a:pt x="121" y="313"/>
                      </a:lnTo>
                      <a:lnTo>
                        <a:pt x="0" y="196"/>
                      </a:lnTo>
                      <a:lnTo>
                        <a:pt x="0" y="119"/>
                      </a:lnTo>
                      <a:lnTo>
                        <a:pt x="3" y="8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5" name=""/>
                <p:cNvSpPr/>
                <p:nvPr/>
              </p:nvSpPr>
              <p:spPr>
                <a:xfrm>
                  <a:off x="426960" y="4011840"/>
                  <a:ext cx="22320" cy="219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6" name=""/>
                <p:cNvSpPr/>
                <p:nvPr/>
              </p:nvSpPr>
              <p:spPr>
                <a:xfrm>
                  <a:off x="328680" y="3921120"/>
                  <a:ext cx="31680" cy="49320"/>
                </a:xfrm>
                <a:custGeom>
                  <a:avLst/>
                  <a:gdLst/>
                  <a:ahLst/>
                  <a:rect l="l" t="t" r="r" b="b"/>
                  <a:pathLst>
                    <a:path w="180" h="247">
                      <a:moveTo>
                        <a:pt x="9" y="84"/>
                      </a:moveTo>
                      <a:lnTo>
                        <a:pt x="23" y="55"/>
                      </a:lnTo>
                      <a:lnTo>
                        <a:pt x="44" y="38"/>
                      </a:lnTo>
                      <a:lnTo>
                        <a:pt x="66" y="35"/>
                      </a:lnTo>
                      <a:lnTo>
                        <a:pt x="107" y="36"/>
                      </a:lnTo>
                      <a:lnTo>
                        <a:pt x="110" y="0"/>
                      </a:lnTo>
                      <a:lnTo>
                        <a:pt x="180" y="69"/>
                      </a:lnTo>
                      <a:lnTo>
                        <a:pt x="177" y="103"/>
                      </a:lnTo>
                      <a:lnTo>
                        <a:pt x="155" y="101"/>
                      </a:lnTo>
                      <a:lnTo>
                        <a:pt x="137" y="99"/>
                      </a:lnTo>
                      <a:lnTo>
                        <a:pt x="110" y="107"/>
                      </a:lnTo>
                      <a:lnTo>
                        <a:pt x="96" y="117"/>
                      </a:lnTo>
                      <a:lnTo>
                        <a:pt x="83" y="138"/>
                      </a:lnTo>
                      <a:lnTo>
                        <a:pt x="80" y="164"/>
                      </a:lnTo>
                      <a:lnTo>
                        <a:pt x="76" y="247"/>
                      </a:lnTo>
                      <a:lnTo>
                        <a:pt x="0" y="169"/>
                      </a:lnTo>
                      <a:lnTo>
                        <a:pt x="3" y="118"/>
                      </a:lnTo>
                      <a:lnTo>
                        <a:pt x="9" y="84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7" name=""/>
                <p:cNvSpPr/>
                <p:nvPr/>
              </p:nvSpPr>
              <p:spPr>
                <a:xfrm>
                  <a:off x="390600" y="3992760"/>
                  <a:ext cx="17280" cy="31680"/>
                </a:xfrm>
                <a:custGeom>
                  <a:avLst/>
                  <a:gdLst/>
                  <a:ahLst/>
                  <a:rect l="l" t="t" r="r" b="b"/>
                  <a:pathLst>
                    <a:path w="104" h="159">
                      <a:moveTo>
                        <a:pt x="104" y="5"/>
                      </a:moveTo>
                      <a:lnTo>
                        <a:pt x="48" y="0"/>
                      </a:lnTo>
                      <a:lnTo>
                        <a:pt x="25" y="12"/>
                      </a:lnTo>
                      <a:lnTo>
                        <a:pt x="8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8" name=""/>
                <p:cNvSpPr/>
                <p:nvPr/>
              </p:nvSpPr>
              <p:spPr>
                <a:xfrm>
                  <a:off x="385920" y="3986280"/>
                  <a:ext cx="17280" cy="31680"/>
                </a:xfrm>
                <a:custGeom>
                  <a:avLst/>
                  <a:gdLst/>
                  <a:ahLst/>
                  <a:rect l="l" t="t" r="r" b="b"/>
                  <a:pathLst>
                    <a:path w="102" h="159">
                      <a:moveTo>
                        <a:pt x="102" y="3"/>
                      </a:moveTo>
                      <a:lnTo>
                        <a:pt x="48" y="0"/>
                      </a:lnTo>
                      <a:lnTo>
                        <a:pt x="20" y="13"/>
                      </a:lnTo>
                      <a:lnTo>
                        <a:pt x="7" y="34"/>
                      </a:lnTo>
                      <a:lnTo>
                        <a:pt x="0" y="75"/>
                      </a:lnTo>
                      <a:lnTo>
                        <a:pt x="0" y="159"/>
                      </a:lnTo>
                      <a:lnTo>
                        <a:pt x="0" y="15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9" name=""/>
                <p:cNvSpPr/>
                <p:nvPr/>
              </p:nvSpPr>
              <p:spPr>
                <a:xfrm>
                  <a:off x="380880" y="3981600"/>
                  <a:ext cx="17640" cy="3168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5"/>
                      </a:moveTo>
                      <a:lnTo>
                        <a:pt x="48" y="0"/>
                      </a:lnTo>
                      <a:lnTo>
                        <a:pt x="25" y="12"/>
                      </a:lnTo>
                      <a:lnTo>
                        <a:pt x="7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0" name=""/>
                <p:cNvSpPr/>
                <p:nvPr/>
              </p:nvSpPr>
              <p:spPr>
                <a:xfrm>
                  <a:off x="374760" y="3975120"/>
                  <a:ext cx="19080" cy="3168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4"/>
                      </a:moveTo>
                      <a:lnTo>
                        <a:pt x="48" y="0"/>
                      </a:lnTo>
                      <a:lnTo>
                        <a:pt x="26" y="9"/>
                      </a:lnTo>
                      <a:lnTo>
                        <a:pt x="7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1" name=""/>
                <p:cNvSpPr/>
                <p:nvPr/>
              </p:nvSpPr>
              <p:spPr>
                <a:xfrm>
                  <a:off x="369720" y="3970440"/>
                  <a:ext cx="17640" cy="3168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3"/>
                      </a:moveTo>
                      <a:lnTo>
                        <a:pt x="48" y="0"/>
                      </a:lnTo>
                      <a:lnTo>
                        <a:pt x="26" y="11"/>
                      </a:lnTo>
                      <a:lnTo>
                        <a:pt x="8" y="34"/>
                      </a:lnTo>
                      <a:lnTo>
                        <a:pt x="0" y="75"/>
                      </a:lnTo>
                      <a:lnTo>
                        <a:pt x="0" y="159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2" name=""/>
                <p:cNvSpPr/>
                <p:nvPr/>
              </p:nvSpPr>
              <p:spPr>
                <a:xfrm>
                  <a:off x="365040" y="3963960"/>
                  <a:ext cx="17640" cy="3204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3"/>
                      </a:moveTo>
                      <a:lnTo>
                        <a:pt x="47" y="0"/>
                      </a:lnTo>
                      <a:lnTo>
                        <a:pt x="26" y="12"/>
                      </a:lnTo>
                      <a:lnTo>
                        <a:pt x="7" y="34"/>
                      </a:lnTo>
                      <a:lnTo>
                        <a:pt x="0" y="75"/>
                      </a:lnTo>
                      <a:lnTo>
                        <a:pt x="0" y="159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3" name=""/>
                <p:cNvSpPr/>
                <p:nvPr/>
              </p:nvSpPr>
              <p:spPr>
                <a:xfrm>
                  <a:off x="360360" y="3957840"/>
                  <a:ext cx="17640" cy="3168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103" y="4"/>
                      </a:moveTo>
                      <a:lnTo>
                        <a:pt x="48" y="0"/>
                      </a:lnTo>
                      <a:lnTo>
                        <a:pt x="26" y="13"/>
                      </a:lnTo>
                      <a:lnTo>
                        <a:pt x="7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4" name=""/>
                <p:cNvSpPr/>
                <p:nvPr/>
              </p:nvSpPr>
              <p:spPr>
                <a:xfrm>
                  <a:off x="353880" y="3953160"/>
                  <a:ext cx="19080" cy="31680"/>
                </a:xfrm>
                <a:custGeom>
                  <a:avLst/>
                  <a:gdLst/>
                  <a:ahLst/>
                  <a:rect l="l" t="t" r="r" b="b"/>
                  <a:pathLst>
                    <a:path w="102" h="159">
                      <a:moveTo>
                        <a:pt x="102" y="3"/>
                      </a:moveTo>
                      <a:lnTo>
                        <a:pt x="48" y="0"/>
                      </a:lnTo>
                      <a:lnTo>
                        <a:pt x="26" y="11"/>
                      </a:lnTo>
                      <a:lnTo>
                        <a:pt x="7" y="34"/>
                      </a:lnTo>
                      <a:lnTo>
                        <a:pt x="0" y="76"/>
                      </a:lnTo>
                      <a:lnTo>
                        <a:pt x="0" y="159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5" name=""/>
                <p:cNvSpPr/>
                <p:nvPr/>
              </p:nvSpPr>
              <p:spPr>
                <a:xfrm>
                  <a:off x="347760" y="3929040"/>
                  <a:ext cx="14040" cy="12960"/>
                </a:xfrm>
                <a:custGeom>
                  <a:avLst/>
                  <a:gdLst/>
                  <a:ahLst/>
                  <a:rect l="l" t="t" r="r" b="b"/>
                  <a:pathLst>
                    <a:path w="77" h="64">
                      <a:moveTo>
                        <a:pt x="0" y="0"/>
                      </a:moveTo>
                      <a:lnTo>
                        <a:pt x="72" y="64"/>
                      </a:lnTo>
                      <a:lnTo>
                        <a:pt x="77" y="64"/>
                      </a:lnTo>
                      <a:lnTo>
                        <a:pt x="75" y="6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6" name=""/>
                <p:cNvSpPr/>
                <p:nvPr/>
              </p:nvSpPr>
              <p:spPr>
                <a:xfrm>
                  <a:off x="357120" y="4067280"/>
                  <a:ext cx="22320" cy="126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7" name=""/>
                <p:cNvSpPr/>
                <p:nvPr/>
              </p:nvSpPr>
              <p:spPr>
                <a:xfrm>
                  <a:off x="384120" y="4065840"/>
                  <a:ext cx="22320" cy="126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8" name=""/>
                <p:cNvSpPr/>
                <p:nvPr/>
              </p:nvSpPr>
              <p:spPr>
                <a:xfrm>
                  <a:off x="406440" y="4073760"/>
                  <a:ext cx="27000" cy="2880"/>
                </a:xfrm>
                <a:custGeom>
                  <a:avLst/>
                  <a:gdLst/>
                  <a:ahLst/>
                  <a:rect l="l" t="t" r="r" b="b"/>
                  <a:pathLst>
                    <a:path w="152" h="22">
                      <a:moveTo>
                        <a:pt x="0" y="22"/>
                      </a:moveTo>
                      <a:lnTo>
                        <a:pt x="4" y="0"/>
                      </a:lnTo>
                      <a:lnTo>
                        <a:pt x="142" y="0"/>
                      </a:lnTo>
                      <a:lnTo>
                        <a:pt x="152" y="16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9" name=""/>
                <p:cNvSpPr/>
                <p:nvPr/>
              </p:nvSpPr>
              <p:spPr>
                <a:xfrm>
                  <a:off x="357120" y="4064040"/>
                  <a:ext cx="22320" cy="14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0" name=""/>
                <p:cNvSpPr/>
                <p:nvPr/>
              </p:nvSpPr>
              <p:spPr>
                <a:xfrm>
                  <a:off x="382680" y="4064040"/>
                  <a:ext cx="21960" cy="126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71" name=""/>
          <p:cNvSpPr/>
          <p:nvPr/>
        </p:nvSpPr>
        <p:spPr>
          <a:xfrm flipH="1" rot="18122400">
            <a:off x="505080" y="2160360"/>
            <a:ext cx="401760" cy="50004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993300"/>
          </a:solidFill>
          <a:ln w="0">
            <a:solidFill>
              <a:srgbClr val="99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2" name=""/>
          <p:cNvGrpSpPr/>
          <p:nvPr/>
        </p:nvGrpSpPr>
        <p:grpSpPr>
          <a:xfrm>
            <a:off x="7696080" y="3505320"/>
            <a:ext cx="400320" cy="602640"/>
            <a:chOff x="7696080" y="3505320"/>
            <a:chExt cx="400320" cy="602640"/>
          </a:xfrm>
        </p:grpSpPr>
        <p:sp>
          <p:nvSpPr>
            <p:cNvPr id="5173" name=""/>
            <p:cNvSpPr/>
            <p:nvPr/>
          </p:nvSpPr>
          <p:spPr>
            <a:xfrm>
              <a:off x="7696080" y="3528720"/>
              <a:ext cx="285840" cy="43560"/>
            </a:xfrm>
            <a:custGeom>
              <a:avLst/>
              <a:gdLst/>
              <a:ahLst/>
              <a:rect l="l" t="t" r="r" b="b"/>
              <a:pathLst>
                <a:path w="210" h="26">
                  <a:moveTo>
                    <a:pt x="209" y="0"/>
                  </a:moveTo>
                  <a:lnTo>
                    <a:pt x="188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0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7925760" y="3528720"/>
              <a:ext cx="55800" cy="579240"/>
            </a:xfrm>
            <a:custGeom>
              <a:avLst/>
              <a:gdLst/>
              <a:ahLst/>
              <a:rect l="l" t="t" r="r" b="b"/>
              <a:pathLst>
                <a:path w="41" h="345">
                  <a:moveTo>
                    <a:pt x="40" y="332"/>
                  </a:moveTo>
                  <a:lnTo>
                    <a:pt x="19" y="344"/>
                  </a:lnTo>
                  <a:lnTo>
                    <a:pt x="0" y="114"/>
                  </a:lnTo>
                  <a:lnTo>
                    <a:pt x="19" y="12"/>
                  </a:lnTo>
                  <a:lnTo>
                    <a:pt x="40" y="0"/>
                  </a:lnTo>
                  <a:lnTo>
                    <a:pt x="40" y="127"/>
                  </a:lnTo>
                  <a:lnTo>
                    <a:pt x="40" y="332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7981920" y="3505320"/>
              <a:ext cx="114480" cy="582840"/>
            </a:xfrm>
            <a:custGeom>
              <a:avLst/>
              <a:gdLst/>
              <a:ahLst/>
              <a:rect l="l" t="t" r="r" b="b"/>
              <a:pathLst>
                <a:path w="84" h="347">
                  <a:moveTo>
                    <a:pt x="83" y="0"/>
                  </a:moveTo>
                  <a:lnTo>
                    <a:pt x="0" y="14"/>
                  </a:lnTo>
                  <a:lnTo>
                    <a:pt x="0" y="346"/>
                  </a:lnTo>
                  <a:lnTo>
                    <a:pt x="83" y="282"/>
                  </a:lnTo>
                  <a:lnTo>
                    <a:pt x="83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7696080" y="3505320"/>
              <a:ext cx="400320" cy="45000"/>
            </a:xfrm>
            <a:custGeom>
              <a:avLst/>
              <a:gdLst/>
              <a:ahLst/>
              <a:rect l="l" t="t" r="r" b="b"/>
              <a:pathLst>
                <a:path w="294" h="27">
                  <a:moveTo>
                    <a:pt x="210" y="26"/>
                  </a:moveTo>
                  <a:lnTo>
                    <a:pt x="0" y="26"/>
                  </a:lnTo>
                  <a:lnTo>
                    <a:pt x="148" y="0"/>
                  </a:lnTo>
                  <a:lnTo>
                    <a:pt x="293" y="0"/>
                  </a:lnTo>
                  <a:lnTo>
                    <a:pt x="210" y="2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7696080" y="3742200"/>
              <a:ext cx="259560" cy="364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7696080" y="3550320"/>
              <a:ext cx="259560" cy="169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7696080" y="3720240"/>
              <a:ext cx="259560" cy="45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7722000" y="3785760"/>
              <a:ext cx="175320" cy="3002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7722000" y="3849480"/>
              <a:ext cx="175320" cy="637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7722000" y="3913560"/>
              <a:ext cx="175320" cy="65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7722000" y="3955320"/>
              <a:ext cx="175320" cy="673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7751880" y="3871440"/>
              <a:ext cx="145440" cy="41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7751880" y="3913560"/>
              <a:ext cx="145440" cy="41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7751880" y="3785760"/>
              <a:ext cx="58320" cy="4320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0" y="0"/>
                  </a:moveTo>
                  <a:lnTo>
                    <a:pt x="0" y="25"/>
                  </a:lnTo>
                  <a:lnTo>
                    <a:pt x="42" y="1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7722000" y="3785760"/>
              <a:ext cx="175320" cy="6336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7780320" y="3785760"/>
              <a:ext cx="55440" cy="41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7722000" y="3827880"/>
              <a:ext cx="88560" cy="2340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3"/>
                  </a:moveTo>
                  <a:lnTo>
                    <a:pt x="64" y="13"/>
                  </a:lnTo>
                  <a:lnTo>
                    <a:pt x="64" y="0"/>
                  </a:lnTo>
                  <a:lnTo>
                    <a:pt x="22" y="0"/>
                  </a:lnTo>
                  <a:lnTo>
                    <a:pt x="0" y="1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7722000" y="3807720"/>
              <a:ext cx="58320" cy="4356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0" y="0"/>
                  </a:moveTo>
                  <a:lnTo>
                    <a:pt x="42" y="0"/>
                  </a:lnTo>
                  <a:lnTo>
                    <a:pt x="42" y="25"/>
                  </a:lnTo>
                  <a:lnTo>
                    <a:pt x="21" y="2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7696080" y="3807720"/>
              <a:ext cx="56880" cy="4356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0" y="0"/>
                  </a:moveTo>
                  <a:lnTo>
                    <a:pt x="0" y="25"/>
                  </a:ln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7722000" y="3807720"/>
              <a:ext cx="142920" cy="41760"/>
            </a:xfrm>
            <a:prstGeom prst="rect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7751880" y="3871440"/>
              <a:ext cx="112680" cy="41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7780320" y="3871440"/>
              <a:ext cx="55440" cy="417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7897320" y="3570480"/>
              <a:ext cx="58320" cy="435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7897320" y="3634560"/>
              <a:ext cx="58320" cy="41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7722000" y="3634560"/>
              <a:ext cx="175320" cy="63720"/>
            </a:xfrm>
            <a:prstGeom prst="rect">
              <a:avLst/>
            </a:prstGeom>
            <a:solidFill>
              <a:srgbClr val="60606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7836120" y="3634560"/>
              <a:ext cx="61200" cy="4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7836120" y="3656520"/>
              <a:ext cx="61200" cy="4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0" name=""/>
          <p:cNvSpPr/>
          <p:nvPr/>
        </p:nvSpPr>
        <p:spPr>
          <a:xfrm flipV="1">
            <a:off x="7467480" y="4038120"/>
            <a:ext cx="22860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"/>
          <p:cNvSpPr/>
          <p:nvPr/>
        </p:nvSpPr>
        <p:spPr>
          <a:xfrm>
            <a:off x="2209680" y="3429000"/>
            <a:ext cx="16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he 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C12-F258-4EEC-812A-B045773FF4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8:49:25Z</dcterms:created>
  <dc:creator>Jamshid Khun-Jush</dc:creator>
  <dc:description>00/238r0</dc:description>
  <dc:language>en-US</dc:language>
  <cp:lastModifiedBy>Robert F.  Heile</cp:lastModifiedBy>
  <cp:lastPrinted>1998-02-10T13:28:06Z</cp:lastPrinted>
  <dcterms:modified xsi:type="dcterms:W3CDTF">2000-07-13T16:20:53Z</dcterms:modified>
  <cp:revision>8</cp:revision>
  <dc:subject>IEEE 802.15 &lt;subject&gt;</dc:subject>
  <dc:title>Systems Overview-HiperLAN2</dc:title>
</cp:coreProperties>
</file>