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D70C2-7631-4367-ABA7-62F34D1DD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DC3C-CFA2-4FE6-BDDC-678290A4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79BCA-97C5-428E-873A-EB7F3C57C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99F7E-259B-400D-9551-A369EA1E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48173-94E8-4FA6-9EB4-4B084F1A1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00254-DB8C-477C-AFBC-3C2BD3B4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FCAB2-A142-43E9-ABEC-CFFADF0A0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6071-EFF3-4C92-A235-68C74B5A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0F83A-1E24-4B4B-BD63-D8CE8A982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FF0A-C5F8-45C3-AE19-3BF5E9DBF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9CF8-44F9-4200-B4DF-43B668CB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CCC3-370A-413D-96DF-C2AE13088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4A09EB-87AD-4A52-8467-8DA39249B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9FD123D-37AB-438D-BE47-C7BE8748A3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1 Presentation to Bluetooth P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ul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f this is a proposed revision, cite the 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document cont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the author wants P802.15 to do with the information in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ESTED SCHEDULE</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761760" y="2590920"/>
            <a:ext cx="7543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Missing the dates specified here will result in a slip of the publication of the IEEE 802.15.1 Stand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536C261-0FE9-4B1F-A723-3157A8F5E00E}"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Thinking</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irst Standard needs to be based on Bluetooth Specification version 1.1 including IEEE in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assumes that ver1.1 will be fairly stable for L2CAP and be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plans to deal with versions 1.1+ as supplements to the base stand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D269A94-B245-42C8-A6C0-E2410A79E5A4}"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quests</a:t>
            </a:r>
            <a:endParaRPr b="0" lang="en-US" sz="4000" spc="-1" strike="noStrike">
              <a:solidFill>
                <a:srgbClr val="000000"/>
              </a:solidFill>
              <a:latin typeface="Times New Roman"/>
            </a:endParaRPr>
          </a:p>
        </p:txBody>
      </p:sp>
      <p:sp>
        <p:nvSpPr>
          <p:cNvPr id="54"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ge IEEE comments into v1.1 err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engagement with Test Group to enable SDL va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v1.1 completed Errata now (restricted 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v1.1 Specification as early as possible (semi-public rele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69D593D-84EF-47D0-807F-36CFDB53FCAC}"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hedule</a:t>
            </a:r>
            <a:endParaRPr b="0" lang="en-US" sz="4000" spc="-1" strike="noStrike">
              <a:solidFill>
                <a:srgbClr val="000000"/>
              </a:solidFill>
              <a:latin typeface="Times New Roman"/>
            </a:endParaRPr>
          </a:p>
        </p:txBody>
      </p:sp>
      <p:graphicFrame>
        <p:nvGraphicFramePr>
          <p:cNvPr id="56" name=""/>
          <p:cNvGraphicFramePr/>
          <p:nvPr/>
        </p:nvGraphicFramePr>
        <p:xfrm>
          <a:off x="533520" y="1676520"/>
          <a:ext cx="8215200" cy="3324240"/>
        </p:xfrm>
        <a:graphic>
          <a:graphicData uri="http://schemas.openxmlformats.org/presentationml/2006/ole">
            <p:oleObj r:id="rId1" spid="">
              <p:embed/>
              <p:pic>
                <p:nvPicPr>
                  <p:cNvPr id="57" name="" descr=""/>
                  <p:cNvPicPr/>
                  <p:nvPr/>
                </p:nvPicPr>
                <p:blipFill>
                  <a:blip r:embed="rId2"/>
                  <a:stretch/>
                </p:blipFill>
                <p:spPr>
                  <a:xfrm>
                    <a:off x="533520" y="1676520"/>
                    <a:ext cx="8215200" cy="3324240"/>
                  </a:xfrm>
                  <a:prstGeom prst="rect">
                    <a:avLst/>
                  </a:prstGeom>
                  <a:ln w="0">
                    <a:noFill/>
                  </a:ln>
                </p:spPr>
              </p:pic>
            </p:oleObj>
          </a:graphicData>
        </a:graphic>
      </p:graphicFrame>
      <p:grpSp>
        <p:nvGrpSpPr>
          <p:cNvPr id="58" name=""/>
          <p:cNvGrpSpPr/>
          <p:nvPr/>
        </p:nvGrpSpPr>
        <p:grpSpPr>
          <a:xfrm>
            <a:off x="1295280" y="5105520"/>
            <a:ext cx="2465280" cy="1352520"/>
            <a:chOff x="1295280" y="5105520"/>
            <a:chExt cx="2465280" cy="1352520"/>
          </a:xfrm>
        </p:grpSpPr>
        <p:grpSp>
          <p:nvGrpSpPr>
            <p:cNvPr id="59" name=""/>
            <p:cNvGrpSpPr/>
            <p:nvPr/>
          </p:nvGrpSpPr>
          <p:grpSpPr>
            <a:xfrm>
              <a:off x="1299960" y="5107320"/>
              <a:ext cx="2455920" cy="1348920"/>
              <a:chOff x="1299960" y="5107320"/>
              <a:chExt cx="2455920" cy="1348920"/>
            </a:xfrm>
          </p:grpSpPr>
          <p:grpSp>
            <p:nvGrpSpPr>
              <p:cNvPr id="60" name=""/>
              <p:cNvGrpSpPr/>
              <p:nvPr/>
            </p:nvGrpSpPr>
            <p:grpSpPr>
              <a:xfrm>
                <a:off x="1299960" y="5107320"/>
                <a:ext cx="1576440" cy="224640"/>
                <a:chOff x="1299960" y="5107320"/>
                <a:chExt cx="1576440" cy="224640"/>
              </a:xfrm>
            </p:grpSpPr>
            <p:sp>
              <p:nvSpPr>
                <p:cNvPr id="61" name=""/>
                <p:cNvSpPr/>
                <p:nvPr/>
              </p:nvSpPr>
              <p:spPr>
                <a:xfrm>
                  <a:off x="1368360" y="510732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luetooth SI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 name=""/>
                <p:cNvSpPr/>
                <p:nvPr/>
              </p:nvSpPr>
              <p:spPr>
                <a:xfrm>
                  <a:off x="1299960" y="510732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2876400" y="5107320"/>
                <a:ext cx="879480" cy="224640"/>
                <a:chOff x="2876400" y="5107320"/>
                <a:chExt cx="879480" cy="224640"/>
              </a:xfrm>
            </p:grpSpPr>
            <p:sp>
              <p:nvSpPr>
                <p:cNvPr id="64" name=""/>
                <p:cNvSpPr/>
                <p:nvPr/>
              </p:nvSpPr>
              <p:spPr>
                <a:xfrm>
                  <a:off x="2944440" y="510732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SI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 name=""/>
                <p:cNvSpPr/>
                <p:nvPr/>
              </p:nvSpPr>
              <p:spPr>
                <a:xfrm>
                  <a:off x="2876400" y="510732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9960" y="5331960"/>
                <a:ext cx="1576440" cy="224640"/>
                <a:chOff x="1299960" y="5331960"/>
                <a:chExt cx="1576440" cy="224640"/>
              </a:xfrm>
            </p:grpSpPr>
            <p:sp>
              <p:nvSpPr>
                <p:cNvPr id="67" name=""/>
                <p:cNvSpPr/>
                <p:nvPr/>
              </p:nvSpPr>
              <p:spPr>
                <a:xfrm>
                  <a:off x="1368360" y="533196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EEE 802.15.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 name=""/>
                <p:cNvSpPr/>
                <p:nvPr/>
              </p:nvSpPr>
              <p:spPr>
                <a:xfrm>
                  <a:off x="1299960" y="533196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2876400" y="5331960"/>
                <a:ext cx="879480" cy="224640"/>
                <a:chOff x="2876400" y="5331960"/>
                <a:chExt cx="879480" cy="224640"/>
              </a:xfrm>
            </p:grpSpPr>
            <p:sp>
              <p:nvSpPr>
                <p:cNvPr id="70" name=""/>
                <p:cNvSpPr/>
                <p:nvPr/>
              </p:nvSpPr>
              <p:spPr>
                <a:xfrm>
                  <a:off x="2944440" y="533196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 name=""/>
                <p:cNvSpPr/>
                <p:nvPr/>
              </p:nvSpPr>
              <p:spPr>
                <a:xfrm>
                  <a:off x="2876400" y="533196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1299960" y="5556960"/>
                <a:ext cx="1576440" cy="224640"/>
                <a:chOff x="1299960" y="5556960"/>
                <a:chExt cx="1576440" cy="224640"/>
              </a:xfrm>
            </p:grpSpPr>
            <p:sp>
              <p:nvSpPr>
                <p:cNvPr id="73" name=""/>
                <p:cNvSpPr/>
                <p:nvPr/>
              </p:nvSpPr>
              <p:spPr>
                <a:xfrm>
                  <a:off x="1368360" y="555696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EEE Publish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
                <p:cNvSpPr/>
                <p:nvPr/>
              </p:nvSpPr>
              <p:spPr>
                <a:xfrm>
                  <a:off x="1299960" y="555696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2876400" y="5556960"/>
                <a:ext cx="879480" cy="224640"/>
                <a:chOff x="2876400" y="5556960"/>
                <a:chExt cx="879480" cy="224640"/>
              </a:xfrm>
            </p:grpSpPr>
            <p:sp>
              <p:nvSpPr>
                <p:cNvPr id="76" name=""/>
                <p:cNvSpPr/>
                <p:nvPr/>
              </p:nvSpPr>
              <p:spPr>
                <a:xfrm>
                  <a:off x="2944440" y="555696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E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7" name=""/>
                <p:cNvSpPr/>
                <p:nvPr/>
              </p:nvSpPr>
              <p:spPr>
                <a:xfrm>
                  <a:off x="2876400" y="555696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1299960" y="5781960"/>
                <a:ext cx="1576440" cy="224640"/>
                <a:chOff x="1299960" y="5781960"/>
                <a:chExt cx="1576440" cy="224640"/>
              </a:xfrm>
            </p:grpSpPr>
            <p:sp>
              <p:nvSpPr>
                <p:cNvPr id="79" name=""/>
                <p:cNvSpPr/>
                <p:nvPr/>
              </p:nvSpPr>
              <p:spPr>
                <a:xfrm>
                  <a:off x="1368360" y="578196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T/IEEE SDL Task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0" name=""/>
                <p:cNvSpPr/>
                <p:nvPr/>
              </p:nvSpPr>
              <p:spPr>
                <a:xfrm>
                  <a:off x="1299960" y="578196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876400" y="5781960"/>
                <a:ext cx="879480" cy="224640"/>
                <a:chOff x="2876400" y="5781960"/>
                <a:chExt cx="879480" cy="224640"/>
              </a:xfrm>
            </p:grpSpPr>
            <p:sp>
              <p:nvSpPr>
                <p:cNvPr id="82" name=""/>
                <p:cNvSpPr/>
                <p:nvPr/>
              </p:nvSpPr>
              <p:spPr>
                <a:xfrm>
                  <a:off x="2944440" y="578196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DL T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
                <p:cNvSpPr/>
                <p:nvPr/>
              </p:nvSpPr>
              <p:spPr>
                <a:xfrm>
                  <a:off x="2876400" y="578196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1299960" y="6006600"/>
                <a:ext cx="1576440" cy="224640"/>
                <a:chOff x="1299960" y="6006600"/>
                <a:chExt cx="1576440" cy="224640"/>
              </a:xfrm>
            </p:grpSpPr>
            <p:sp>
              <p:nvSpPr>
                <p:cNvPr id="85" name=""/>
                <p:cNvSpPr/>
                <p:nvPr/>
              </p:nvSpPr>
              <p:spPr>
                <a:xfrm>
                  <a:off x="1368360" y="600660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allot Po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 name=""/>
                <p:cNvSpPr/>
                <p:nvPr/>
              </p:nvSpPr>
              <p:spPr>
                <a:xfrm>
                  <a:off x="1299960" y="600660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2876400" y="6006600"/>
                <a:ext cx="879480" cy="224640"/>
                <a:chOff x="2876400" y="6006600"/>
                <a:chExt cx="879480" cy="224640"/>
              </a:xfrm>
            </p:grpSpPr>
            <p:sp>
              <p:nvSpPr>
                <p:cNvPr id="88" name=""/>
                <p:cNvSpPr/>
                <p:nvPr/>
              </p:nvSpPr>
              <p:spPr>
                <a:xfrm>
                  <a:off x="2944440" y="600660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o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 name=""/>
                <p:cNvSpPr/>
                <p:nvPr/>
              </p:nvSpPr>
              <p:spPr>
                <a:xfrm>
                  <a:off x="2876400" y="600660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1299960" y="6231600"/>
                <a:ext cx="1576440" cy="224640"/>
                <a:chOff x="1299960" y="6231600"/>
                <a:chExt cx="1576440" cy="224640"/>
              </a:xfrm>
            </p:grpSpPr>
            <p:sp>
              <p:nvSpPr>
                <p:cNvPr id="91" name=""/>
                <p:cNvSpPr/>
                <p:nvPr/>
              </p:nvSpPr>
              <p:spPr>
                <a:xfrm>
                  <a:off x="1368360" y="6231600"/>
                  <a:ext cx="14396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ean Room Cre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 name=""/>
                <p:cNvSpPr/>
                <p:nvPr/>
              </p:nvSpPr>
              <p:spPr>
                <a:xfrm>
                  <a:off x="1299960" y="6231600"/>
                  <a:ext cx="157644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2876400" y="6231600"/>
                <a:ext cx="879480" cy="224640"/>
                <a:chOff x="2876400" y="6231600"/>
                <a:chExt cx="879480" cy="224640"/>
              </a:xfrm>
            </p:grpSpPr>
            <p:sp>
              <p:nvSpPr>
                <p:cNvPr id="94" name=""/>
                <p:cNvSpPr/>
                <p:nvPr/>
              </p:nvSpPr>
              <p:spPr>
                <a:xfrm>
                  <a:off x="2944440" y="6231600"/>
                  <a:ext cx="743040" cy="2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R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 name=""/>
                <p:cNvSpPr/>
                <p:nvPr/>
              </p:nvSpPr>
              <p:spPr>
                <a:xfrm>
                  <a:off x="2876400" y="6231600"/>
                  <a:ext cx="879480" cy="22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 name=""/>
            <p:cNvSpPr/>
            <p:nvPr/>
          </p:nvSpPr>
          <p:spPr>
            <a:xfrm>
              <a:off x="1295280" y="5105520"/>
              <a:ext cx="2465280" cy="1352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B7AA0BA-0DA2-4AD1-8BA0-15C204DD057F}" type="slidenum">
              <a:t>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2T22:04:25Z</dcterms:created>
  <dc:creator>Tom Siep</dc:creator>
  <dc:description>&lt;doc#&gt;</dc:description>
  <dc:language>en-US</dc:language>
  <cp:lastModifiedBy>Tom Siep</cp:lastModifiedBy>
  <cp:lastPrinted>1998-02-10T13:28:06Z</cp:lastPrinted>
  <dcterms:modified xsi:type="dcterms:W3CDTF">2000-07-13T07:00:10Z</dcterms:modified>
  <cp:revision>12</cp:revision>
  <dc:subject>IEEE 802.15 &lt;subject&gt;</dc:subject>
  <dc:title>PowerPoint Presentation</dc:title>
</cp:coreProperties>
</file>