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D06-F51F-4CEC-8805-B798B0CC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FA5-D307-4294-94B0-DA145C72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2D7-DE4C-4237-B313-BCDBA22E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00C-E57A-4F8A-B991-EC9552FB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34F-070D-4B86-85DB-716BA0ED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BB9-B5CE-4FF1-85AF-43BDBB2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260-1D7E-4CDB-BA7D-2C644F44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922-9EFD-4A8D-8323-24C75D33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B53-BC4D-4629-ACA3-57ED5D4B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821-15A9-4265-9319-0E99624B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F33-3F56-49D3-8AE7-5502EF9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588-8496-4897-B793-29BEAD4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3502F9-2C5E-4B5C-A2DC-C2A8D80F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802 Sponsor Roster-passed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ernation of 802.5, Disbandment of 802.8 and 802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change complete-Friday Plenary elim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Standards Distributio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F92-25C5-45E2-B425-C2EEB8C3EF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4 is about to hibernate. Any comments/issues should be addressed to Bob Rus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5 is contemplating hibe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D projectors must be turned off with power button and allowed to coo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FE1-6AC0-464B-909C-71D93E1A94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217r0</dc:description>
  <dc:language>en-US</dc:language>
  <cp:lastModifiedBy>Robert F.  Heile</cp:lastModifiedBy>
  <cp:lastPrinted>2000-03-05T01:29:49Z</cp:lastPrinted>
  <dcterms:modified xsi:type="dcterms:W3CDTF">2000-07-10T18:06:37Z</dcterms:modified>
  <cp:revision>76</cp:revision>
  <dc:subject>IEEE 802.15 &lt;subject&gt;</dc:subject>
  <dc:title>Jul00 Report on Monday Excom Meeting</dc:title>
</cp:coreProperties>
</file>