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257-55F4-46F9-A62E-79BE9E7F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34F-6AE4-406D-B977-1984489E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806-129C-4CEF-931A-925DB3A4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390-08B8-4D07-AB0B-9CCEAC4E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F09C-214B-4780-A193-96FECEE7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AF9-6EB4-4D00-B3B5-75D79025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436-C794-4AE3-AB42-CE007515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1CA-2AF7-499B-9B94-5BF6469B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36F-3694-4D2A-8538-E7D683E5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239-97D4-465C-924E-6C6DBCDE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FBA-5AC8-4EF8-AF1F-8173696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A4C-150E-4048-AEA4-8DEC1D4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8FC8ABB-C676-4B52-AB5F-32EA2BAB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7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Final Report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Jolla,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FC1-414B-4F26-9376-E7CC5A540F2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2 Submission to Bluetooth SIGnal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160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gular column on IEEE 802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comments from Ian Gif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some edits from r0 to 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ed 00/160r1 to Ian Gifford and Bruce Krae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14F-6338-400E-B9BC-A97A3A307B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C Layer Model Parameters for First Experimen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2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scenario (2 BT &amp; 2 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BT and 802.11b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validate by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344-EDB9-48B4-AB58-404E404782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2 Project Pla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089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the TG2 Project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working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ept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s on Coexistence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5B7-C1B8-403E-AAB3-11B3A97435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for September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Coexistence WG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 First Integrated PHY/MAC Model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on RF Propag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Coexistence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Evaluation Criteria for Coexistence Mech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6EA-CECE-412C-A3FD-1E3A644AD9F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CA2-52BD-4B7E-A10A-E33C510572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Coexistence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is within 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members are encouraged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802.11 liaisons can vote in T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802.11 and 802.15 vote on th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B47-992A-4A39-9C89-186FD5189A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lly Joint Coexistenc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o-Chai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Shellhammer (802.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-chair (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add another new co-chair (802.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 meetings part of both 802.11 &amp; 802.15 meetin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and 802.15 members can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908-88B8-4E4E-B715-9E874FB340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itl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reless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address all 802 Wireless Coexiste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um for collaboration between 802.11, 802.15 and 802.16 on all issues of coexistence arising with Wireless 802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9D9-1B81-4447-9058-8C4C5734D9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itch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 #1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8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BT SIG Coexistenc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applications an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nterfe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irst at impact of other on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next at impact of Bluetooth o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oing PHY or MAC layer sim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588-9CB8-435B-B3A9-D371553242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Voltz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Layer Model of the Impact of Bluetooth on IEEE 802.11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0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 versus Signal-to-Interferer Ratio (S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Multipath delay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 to add equalizer into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BF7C-E2A3-4B72-9D6B-74FA3DFD8D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Lansford, Blueto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Layer Modeling Updat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9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Description (Geome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/MAC Model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703-25BF-44BE-8E4F-D50FE5279A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Kelso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rkeley Wireless Research Center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1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Research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terested in implemen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Spectrum Sharing (USS)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 about Uncoordinated Coexistence Mech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E76-48CC-406A-BC86-59FC408C40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1998-02-10T13:28:06Z</cp:lastPrinted>
  <dcterms:modified xsi:type="dcterms:W3CDTF">2000-07-13T23:13:07Z</dcterms:modified>
  <cp:revision>247</cp:revision>
  <dc:subject>IEEE 802.15 &lt;subject&gt;</dc:subject>
  <dc:title>IEEE P802.15 Working Group for Wireless Personal Area Networks</dc:title>
</cp:coreProperties>
</file>