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11937-C16C-4858-928C-55DD21B25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F2184-5017-4234-8B71-2AB6EFC0E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AA6BB-1D5F-4061-B558-58AB560C1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D69A5-237A-41B6-9403-A562332DC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9685-31F1-4183-BC93-6C60DDA7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E0338-4403-43D7-B2DE-481DD03F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33A9E-558E-4334-812D-6F318F3E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7E84-9423-4A1D-A175-C63C0D4C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6D2DE-3EEC-49F6-B29F-A9338A2E9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AD8B-44F0-453A-8F2F-4D0B8111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B503-4B16-42E9-B8DC-0C8743B5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B5FD-0CBD-40CA-9E3F-FA18CCC57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432E6D-E35E-42A4-857D-81CF63D91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8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5A21CEB-4D0E-42FF-80B5-D84C438188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1 WPAN2 Call for Interest Agenda and “WPAN2 SG” Planning Repor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Jun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802.15.1 PA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all for Interest and SG Planning Report is offered to the WG for their conside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TG1 “Radio2” Call for Interest is because the Bluetooth™ SIG 2.0 Specification data rate may be less than 20 Mbps.  IEEE 802.15 may not have a Project (PAR) that can address Version 2.0 Specification i.e., TG1’s PAR may or may not be used, and TG3’s PAR states “20 Mbps or mor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s</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09480" y="2057400"/>
            <a:ext cx="7925040" cy="1752480"/>
          </a:xfrm>
          <a:prstGeom prst="rect">
            <a:avLst/>
          </a:prstGeom>
          <a:noFill/>
          <a:ln w="0">
            <a:noFill/>
          </a:ln>
        </p:spPr>
        <p:txBody>
          <a:bodyPr lIns="92160" rIns="92160" tIns="46080" bIns="4608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90r3P802-15_TG1-BSIG-PM-Pitch-13Jun00.ppt</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91r1P802-15_TG3-BSIG-PM-Pitch-16Jun00.ppt</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and deliverabl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4471C7-441C-4D8C-9FF2-8FFA10EBF505}"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Proceed (part 1)</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individuals prepared to contribute to establishing a study group on this top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 (of 3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0E19D69-E46B-494C-A866-141FB0E0B7C8}"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Proceed (part 2)</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that in response to the Radio2 Call for Interest, that 802.15 approve the creation of a 802.15 Study Gro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and Scope: Track the activities, within the scope of IEEE 802, of Bluetooth version 2 and recommend a course of action to the Working Gro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Iva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Bru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23, N:0, A:4  </a:t>
            </a:r>
            <a:r>
              <a:rPr b="0" lang="en-US" sz="2800" spc="-1" strike="noStrike">
                <a:solidFill>
                  <a:srgbClr val="ff0000"/>
                </a:solidFill>
                <a:latin typeface="Times New Roman"/>
              </a:rPr>
              <a:t>PASS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AED8F61-FEDE-4EB3-9F73-A7AE46E9DF38}"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2 Call for Interes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Jul00 Agenda </a:t>
            </a:r>
            <a:endParaRPr b="0" lang="en-US" sz="3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PAN2 SG” Planning Report</a:t>
            </a:r>
            <a:endParaRPr b="0" lang="en-US" sz="1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 LaJolla, CA USA</a:t>
            </a: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DC18F7B-1348-470B-87C5-B229D6400B52}"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Task Gro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ot do Task Group busin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Study Gro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ot do Study Group busin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Call for Interest that needs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ly establish if there is sufficient interest for an 802.15 Proje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o, do what it takes to get 802.15 to charter a Study Gro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4247161-1EC1-4721-9AC2-F90946F33CD9}"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5"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 Introdu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ng Chair: Tom Siep; Chair for meeting:_________</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ng Vice Chair: Michael Dydyk; Vice Chair: _________</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ary for meeting: __________</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 Sie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 to Bluetooth Program Management at Monte-Carlo Developers Conference June 2000 -- Siep</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 Other present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Proce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uge level of intere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ion of presentation for Wednesday in 802.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8230CD2-DD0E-4142-92CB-E219CBD7E2FD}"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1 is based on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Version 1.0 Specification Foundation Co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Version 1.0 Specification Foundation Profi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Version 1.0 Foundation Test Specif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has begun work on </a:t>
            </a:r>
            <a:r>
              <a:rPr b="1" lang="en-US" sz="2800" spc="-1" strike="noStrike">
                <a:solidFill>
                  <a:srgbClr val="000000"/>
                </a:solidFill>
                <a:latin typeface="Times New Roman"/>
              </a:rPr>
              <a:t>Version 2.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information will be placed on the We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802.org/15/pub/</a:t>
            </a:r>
            <a:r>
              <a:rPr b="0" lang="en-US" sz="2400" spc="-1" strike="noStrike">
                <a:solidFill>
                  <a:srgbClr val="ff0000"/>
                </a:solidFill>
                <a:latin typeface="Times New Roman"/>
              </a:rPr>
              <a:t>TG1</a:t>
            </a:r>
            <a:r>
              <a:rPr b="0" lang="en-US" sz="2400" spc="-1" strike="noStrike">
                <a:solidFill>
                  <a:srgbClr val="000000"/>
                </a:solidFill>
                <a:latin typeface="Times New Roman"/>
              </a:rPr>
              <a:t>-CFI.ht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3BAF57C-A1EF-42BC-A8AE-1BCDB6B606FD}"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 Specification/WPAN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SIG standards-making interes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5.1-2001 Adopter Follow on</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Data Rate (higher than 1 MSPS, 720Kbp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ement to IEEE Std 802.15.1-2001 MAC/L2CAP?</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SIG 2.0 Specification data rate may be less than 20 Mbp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5 may not have a Project (PAR) that can address Version 2.0 Specification</a:t>
            </a:r>
            <a:endParaRPr b="0" lang="en-US" sz="2000" spc="-1" strike="noStrike">
              <a:solidFill>
                <a:srgbClr val="000000"/>
              </a:solidFill>
              <a:latin typeface="Times New Roman"/>
            </a:endParaRPr>
          </a:p>
          <a:p>
            <a:pPr lvl="2" marL="104220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1’s PAR may or may not be used (part of SG goals)</a:t>
            </a:r>
            <a:endParaRPr b="0" lang="en-US" sz="1800" spc="-1" strike="noStrike">
              <a:solidFill>
                <a:srgbClr val="000000"/>
              </a:solidFill>
              <a:latin typeface="Times New Roman"/>
            </a:endParaRPr>
          </a:p>
          <a:p>
            <a:pPr lvl="2" marL="104220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3’s PAR states “20 Mbps or mo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B1253B1-C99C-4F32-82E4-BD97F1D0A887}"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Scop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802.15.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802.15.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tion with other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zant of Recommended Practice(s) from 802.15.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DF3247D-6868-4FB8-8FC6-1B4814741BA2}"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urpos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td 802.15.1-2001 will be published, current estimate is Mar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Specification/Radio2 may be an extension to the existing 802.15.1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Specification may become available to the IEEE in 2001 as another derivative work produ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457200" y="5715000"/>
            <a:ext cx="8229600" cy="609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802.15 Liaison Officer will continue to try and “pull” the 2.0 Specification into the IEEE.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D7914CC-9151-492C-989D-DAE4EE85E1B8}"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Interest to Task Group</a:t>
            </a:r>
            <a:br>
              <a:rPr sz="4400"/>
            </a:br>
            <a:r>
              <a:rPr b="0" lang="en-US" sz="4400" spc="-1" strike="noStrike">
                <a:solidFill>
                  <a:srgbClr val="000000"/>
                </a:solidFill>
                <a:latin typeface="Times New Roman"/>
              </a:rPr>
              <a:t>Process and Timelin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 Name and Create Study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 SG Inter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Radio2 Study Group, scope &amp; purpose, objectives &amp; p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00 Present Tuto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 Study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1 SG Inter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raft of PAR, 5 criteria and objectives if warranted.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01 First Task Group meeting or the SG concludes with a report to TG1 suggesting a supplement to 802.15.1 Std.</a:t>
            </a:r>
            <a:endParaRPr b="0" lang="en-US" sz="2400" spc="-1" strike="noStrike">
              <a:solidFill>
                <a:srgbClr val="000000"/>
              </a:solidFill>
              <a:latin typeface="Times New Roman"/>
            </a:endParaRPr>
          </a:p>
        </p:txBody>
      </p:sp>
      <p:sp>
        <p:nvSpPr>
          <p:cNvPr id="67" name=""/>
          <p:cNvSpPr/>
          <p:nvPr/>
        </p:nvSpPr>
        <p:spPr>
          <a:xfrm>
            <a:off x="685800" y="5720040"/>
            <a:ext cx="7729560" cy="70380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Five Criteria, and Task Group are not required if Study Group supplements Standard (TG1 or TG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C647CE-7A54-4252-ADEE-B2CD9AB1BA7E}"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Mr. Ian Gifford 
Director of Standards 
M/A-COM, Inc. 
1011 Pawtucket Boulevard 
Lowell, MA 01853-3295, USA 
TEL +1 978 442 4650 
FAX +1 978 442 5442 
E-M giffordi@tycoelectronics.com</dc:description>
  <cp:keywords>July 2000</cp:keywords>
  <dc:language>en-US</dc:language>
  <cp:lastModifiedBy>Tom Siep</cp:lastModifiedBy>
  <cp:lastPrinted>1998-02-10T13:28:06Z</cp:lastPrinted>
  <dcterms:modified xsi:type="dcterms:W3CDTF">2000-07-10T04:37:55Z</dcterms:modified>
  <cp:revision>287</cp:revision>
  <dc:subject>Radio2 SG</dc:subject>
  <dc:title>TG1 WPAN2 Call for Interest Agenda and “WPAN2 SG” Planning Report</dc:title>
</cp:coreProperties>
</file>