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9E9-B613-4243-8695-0E2B1673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C24-96E0-4D41-8ABE-3B772FAB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5AF-00B2-4B75-B17A-8FB6911A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09B-8509-40A1-A168-9C2F7030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EE-A8F6-41EA-BEF3-0AB0774F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A41-A2DB-473E-A1CF-D7A3B78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BC5-2090-43D1-BF9F-88426833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61A-3AAD-4729-A90B-00B8657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FEB-C478-4149-ABAF-CA5F75EB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469-A9CE-49A4-B253-A4E4F8F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258-BA94-430A-94A7-F866F49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D13-20BF-43C2-B139-45A8766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C0122B-2511-4D7A-BCA3-D0756CB7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802.11/.15 Joint Meeting Repor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Joll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605-934A-4C96-B7AE-12F8A191E3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to Bluetooth SIGna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1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gular column on 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mments from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some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3FC-24F4-4ACE-B4D8-77E5F0571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Layer Model Parameters for First Experi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cenario (2 BT &amp; 2 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BT and 802.11b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validate by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180-45F1-4258-B0DC-E1ED8F5615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Project Pl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8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he TG2 Projec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770-5A2E-4AED-AC8D-E09C64626C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90D-0BC5-4CF3-B73D-55F172DBB9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2B9-827B-49C8-916F-C41C47E02B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d another 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 &amp; 802.15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and 802.15 members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6CA-50E9-496C-B7EA-21C787C3B3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2FE-479A-41AB-AC7E-98F12736A9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T SIG Coexistenc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application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irst at impact of other o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next at impact of Bluetooth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oing PHY or MAC layer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7D3-C3E9-4E4C-90F9-BD26A3B926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 of the Impact of Bluetooth on IEEE 802.11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versus Signal-to-Interferer Ratio (S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Multipath delay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add equalizer in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23C-BCD6-45EB-BB26-EB6AA2C52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Blueto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Description 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/MAC Mode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CC5-7D35-4C13-B44E-58896C1AA1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Kels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keley Wireless Research Cen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1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terested in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haring (USS)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Uncoordinated Coexistence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B85-E9F7-4C01-BCFE-041B5A9589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1998-02-10T13:28:06Z</cp:lastPrinted>
  <dcterms:modified xsi:type="dcterms:W3CDTF">2000-07-12T22:00:49Z</dcterms:modified>
  <cp:revision>234</cp:revision>
  <dc:subject>IEEE 802.15 &lt;subject&gt;</dc:subject>
  <dc:title>IEEE P802.15 Working Group for Wireless Personal Area Networks</dc:title>
</cp:coreProperties>
</file>