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BC3-0B27-46E5-8C12-25F9AE0E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C3C-7C1C-46CB-B8C6-973EAA3B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833-3606-4439-98C0-C1D78ED0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A103-324E-4B2B-98F4-A02178D6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E8A1-EB5E-4C31-B79A-8770ED81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273-9F40-41B6-8C5D-70DD7851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9DE-D767-48E2-9DEE-C5F4CFC5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598-1833-403C-A089-231A8CC8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A1B-0BB1-489A-979D-31E7D073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848-C952-483B-BFF1-E57082E8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4F3A-CB88-4C39-900F-0998790C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0AC-B2ED-473E-AE08-EECE5D65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5CB79CF-1CEF-4E08-93B4-CC034C73D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22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505320"/>
            <a:ext cx="6629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ysical Layer Model of the Impact of Bluetooth on IEEE 802.11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J. Voltz, Polytechnic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4B83-5E18-4F10-AE30-38FC38AEF5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se to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193760" y="1981080"/>
                <a:ext cx="22226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219320" y="2590920"/>
                <a:ext cx="45464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/>
                        </m:sSub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219320" y="3733920"/>
                <a:ext cx="48765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 </m:t>
                    </m:r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G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8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1202760" y="499428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offs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505320" y="5181480"/>
                <a:ext cx="2523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793680" y="499428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has two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J. Voltz, Polytechnic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52DB-8913-43B0-85BB-52A9DCA93E2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25840" y="1828800"/>
            <a:ext cx="66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Effective amplitude of interferer is multipli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523880" y="2438280"/>
                <a:ext cx="15112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033720" y="2327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72720" y="339408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The discrete sine wav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495680" y="3429000"/>
                <a:ext cx="800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5391720" y="3394080"/>
            <a:ext cx="25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is correl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28840" y="3927600"/>
            <a:ext cx="63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64 CCK codewords and contributes to out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J. Voltz, Polytechnic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D2C-43DC-4D71-9136-B9D7F8EAE82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ulation Results for three sample channel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uetooth Interferer at 802.11 Band Center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b/No =  20 dB  for white no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95280" y="1828800"/>
          <a:ext cx="6629400" cy="47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662940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J. Voltz, Polytechnic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453-B6A2-40DF-890A-9A6ACCEEC51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 of frequency offset due t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ital sine wave correlation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838080" y="1828800"/>
          <a:ext cx="7747200" cy="450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74720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J. Voltz, Polytechnic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15A3-2181-4AF5-8FBF-B1F8C0EEE77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 of frequency offset due t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ital sine wave correlation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90720" y="1676520"/>
          <a:ext cx="7467480" cy="450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46748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J. Voltz, Polytechnic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F69-4253-44B0-94CF-DBE6B1CA61E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 of frequency offset due t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ital sine wave correlation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752480"/>
          <a:ext cx="7645320" cy="468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64532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J. Voltz, Polytechnic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415-AF35-4C6E-A693-6D357EE8131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modeled the 802.11b Receiver except for the Equaliz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the equalizer the effect of interference is heavily dependent on the actual channel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IR varies from about 6 dB to about 18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J. Voltz, Polytechnic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E729-8E5B-4AA8-98F3-3546CDA1F2F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Equalizer into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if the variation due to the channel is re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formula for the Symbol Error Rate (SER) as a function of S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 that (SER) formula into the MAC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J. Voltz, Polytechnic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76C-9455-4190-A9AD-7B943E48DE4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Layer Simulation Model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 of Bluetooth Interferer on 11Mbps 802.11 Rece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2" marL="1074600" indent="-226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interferer modeled as tone ja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of 802.11 Receiver depends on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to Interference Ratio (S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to Background Noise Rat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of Bluetooth Interf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ath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J. Voltz, Polytechnic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E8A-C439-463F-9A8F-93EF57D548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Processing (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P +  M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ed Filter (MF) for collecting multipath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P +  MF  +  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izer (EQ) to correct for Intersymbol Interference (I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J. Voltz, Polytechnic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2CF5-27C6-410F-B761-2B31B98D29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pped Delay Line Channe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239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Impuls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86000" y="2209320"/>
            <a:ext cx="3451320" cy="2394360"/>
            <a:chOff x="2286000" y="2209320"/>
            <a:chExt cx="3451320" cy="2394360"/>
          </a:xfrm>
        </p:grpSpPr>
        <p:sp>
          <p:nvSpPr>
            <p:cNvPr id="54" name=""/>
            <p:cNvSpPr/>
            <p:nvPr/>
          </p:nvSpPr>
          <p:spPr>
            <a:xfrm flipV="1">
              <a:off x="2743200" y="2209320"/>
              <a:ext cx="0" cy="17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056040" y="3131640"/>
              <a:ext cx="0" cy="74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581280" y="2742840"/>
              <a:ext cx="0" cy="11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22800" y="3894120"/>
              <a:ext cx="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40120" y="3894120"/>
              <a:ext cx="0" cy="5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098960" y="35967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86000" y="3886200"/>
              <a:ext cx="345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1063800" y="4726080"/>
          <a:ext cx="7495920" cy="155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4726080"/>
                    <a:ext cx="74959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J. Voltz, Polytechnic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21C-8C73-4AA5-BBC3-EAE3918A8F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129280" y="1631880"/>
            <a:ext cx="110628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88040" y="1638360"/>
            <a:ext cx="113220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7720" y="1847880"/>
            <a:ext cx="180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92480" y="1760400"/>
            <a:ext cx="182520" cy="18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54400" y="18446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184640" y="1942920"/>
            <a:ext cx="0" cy="56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84640" y="1189080"/>
            <a:ext cx="0" cy="5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82920" y="184464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2040" y="185256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31040" y="1860480"/>
            <a:ext cx="5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748720" y="186048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78400" y="4160880"/>
            <a:ext cx="1569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88320" y="4070520"/>
            <a:ext cx="182520" cy="18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088040" y="4252680"/>
            <a:ext cx="0" cy="5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46280" y="1631880"/>
            <a:ext cx="7002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21440" y="3757680"/>
            <a:ext cx="890280" cy="7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119280" y="4160880"/>
            <a:ext cx="86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8748720" y="3041640"/>
            <a:ext cx="0" cy="31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748720" y="2682720"/>
            <a:ext cx="168120" cy="3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427280" y="4160880"/>
            <a:ext cx="79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465440" y="61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246800" y="6172200"/>
            <a:ext cx="150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99040" y="6043680"/>
            <a:ext cx="84240" cy="288720"/>
          </a:xfrm>
          <a:custGeom>
            <a:avLst/>
            <a:gdLst/>
            <a:ahLst/>
            <a:rect l="l" t="t" r="r" b="b"/>
            <a:pathLst>
              <a:path w="132" h="456">
                <a:moveTo>
                  <a:pt x="132" y="0"/>
                </a:moveTo>
                <a:cubicBezTo>
                  <a:pt x="94" y="7"/>
                  <a:pt x="56" y="14"/>
                  <a:pt x="48" y="60"/>
                </a:cubicBezTo>
                <a:cubicBezTo>
                  <a:pt x="40" y="106"/>
                  <a:pt x="92" y="210"/>
                  <a:pt x="84" y="276"/>
                </a:cubicBezTo>
                <a:cubicBezTo>
                  <a:pt x="76" y="342"/>
                  <a:pt x="12" y="432"/>
                  <a:pt x="0" y="4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09000" y="6035760"/>
            <a:ext cx="83880" cy="288720"/>
          </a:xfrm>
          <a:custGeom>
            <a:avLst/>
            <a:gdLst/>
            <a:ahLst/>
            <a:rect l="l" t="t" r="r" b="b"/>
            <a:pathLst>
              <a:path w="132" h="456">
                <a:moveTo>
                  <a:pt x="132" y="0"/>
                </a:moveTo>
                <a:cubicBezTo>
                  <a:pt x="94" y="7"/>
                  <a:pt x="56" y="14"/>
                  <a:pt x="48" y="60"/>
                </a:cubicBezTo>
                <a:cubicBezTo>
                  <a:pt x="40" y="106"/>
                  <a:pt x="92" y="210"/>
                  <a:pt x="84" y="276"/>
                </a:cubicBezTo>
                <a:cubicBezTo>
                  <a:pt x="76" y="342"/>
                  <a:pt x="12" y="432"/>
                  <a:pt x="0" y="4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8160" y="3886200"/>
            <a:ext cx="1157400" cy="25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340000" y="509112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84240" y="4724280"/>
            <a:ext cx="13478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-QP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90160" y="5067360"/>
            <a:ext cx="69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29280" y="1631880"/>
            <a:ext cx="110628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8040" y="1638360"/>
            <a:ext cx="113220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7720" y="1847880"/>
            <a:ext cx="180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92480" y="1760400"/>
            <a:ext cx="182520" cy="18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54400" y="18446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184640" y="1942920"/>
            <a:ext cx="0" cy="56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84640" y="1189080"/>
            <a:ext cx="0" cy="5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82920" y="184464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2040" y="185256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31040" y="1860480"/>
            <a:ext cx="5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748720" y="186048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178400" y="4160880"/>
            <a:ext cx="1569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88320" y="4070520"/>
            <a:ext cx="182520" cy="18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088040" y="4252680"/>
            <a:ext cx="0" cy="5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46280" y="1631880"/>
            <a:ext cx="7002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21440" y="3757680"/>
            <a:ext cx="890280" cy="7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119280" y="4160880"/>
            <a:ext cx="86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8748720" y="3041640"/>
            <a:ext cx="0" cy="31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48720" y="2682720"/>
            <a:ext cx="168120" cy="3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427280" y="4160880"/>
            <a:ext cx="79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465440" y="61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246800" y="6172200"/>
            <a:ext cx="150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99040" y="6043680"/>
            <a:ext cx="84240" cy="288720"/>
          </a:xfrm>
          <a:custGeom>
            <a:avLst/>
            <a:gdLst/>
            <a:ahLst/>
            <a:rect l="l" t="t" r="r" b="b"/>
            <a:pathLst>
              <a:path w="132" h="456">
                <a:moveTo>
                  <a:pt x="132" y="0"/>
                </a:moveTo>
                <a:cubicBezTo>
                  <a:pt x="94" y="7"/>
                  <a:pt x="56" y="14"/>
                  <a:pt x="48" y="60"/>
                </a:cubicBezTo>
                <a:cubicBezTo>
                  <a:pt x="40" y="106"/>
                  <a:pt x="92" y="210"/>
                  <a:pt x="84" y="276"/>
                </a:cubicBezTo>
                <a:cubicBezTo>
                  <a:pt x="76" y="342"/>
                  <a:pt x="12" y="432"/>
                  <a:pt x="0" y="4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09000" y="6035760"/>
            <a:ext cx="83880" cy="288720"/>
          </a:xfrm>
          <a:custGeom>
            <a:avLst/>
            <a:gdLst/>
            <a:ahLst/>
            <a:rect l="l" t="t" r="r" b="b"/>
            <a:pathLst>
              <a:path w="132" h="456">
                <a:moveTo>
                  <a:pt x="132" y="0"/>
                </a:moveTo>
                <a:cubicBezTo>
                  <a:pt x="94" y="7"/>
                  <a:pt x="56" y="14"/>
                  <a:pt x="48" y="60"/>
                </a:cubicBezTo>
                <a:cubicBezTo>
                  <a:pt x="40" y="106"/>
                  <a:pt x="92" y="210"/>
                  <a:pt x="84" y="276"/>
                </a:cubicBezTo>
                <a:cubicBezTo>
                  <a:pt x="76" y="342"/>
                  <a:pt x="12" y="432"/>
                  <a:pt x="0" y="4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8160" y="3886200"/>
            <a:ext cx="1157400" cy="25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340000" y="509112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84240" y="4724280"/>
            <a:ext cx="13478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-QP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90160" y="5067360"/>
            <a:ext cx="69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34120" y="3787920"/>
                <a:ext cx="698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hips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867280" y="4778280"/>
                <a:ext cx="16380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162920" y="4626000"/>
                <a:ext cx="279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8153280" y="2720880"/>
                <a:ext cx="4431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666880" y="1654200"/>
                <a:ext cx="507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81480" y="1654200"/>
                <a:ext cx="914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7162920" y="1654200"/>
                <a:ext cx="939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600" y="914400"/>
                <a:ext cx="3048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rad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ϕ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962520" y="816120"/>
                <a:ext cx="507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962520" y="2568600"/>
                <a:ext cx="507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24280" y="3711600"/>
                <a:ext cx="2523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648320" y="5692680"/>
                <a:ext cx="392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2516040" y="220968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7920" y="2133720"/>
            <a:ext cx="138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che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411480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10280" y="411444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18288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1752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J. Voltz, Polytechnic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68F-59D8-41A6-8DDD-1AE636203A1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752480" y="1219320"/>
          <a:ext cx="6532560" cy="53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219320"/>
                    <a:ext cx="653256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Syste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J. Voltz, Polytechnic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558-1619-4FA9-806E-E194FC543DD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373040" y="766800"/>
          <a:ext cx="724860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766800"/>
                    <a:ext cx="72486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J. Voltz, Polytechnic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8D4C-C56F-41AE-BD06-2E16F4A736F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put of Receiver due to 802.11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76520" y="1676520"/>
                <a:ext cx="5170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rad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/>
                        </m:sSubSup>
                        <m:r>
                          <m:t xml:space="preserve"> 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∞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sSub>
                                          <m:e>
                                            <m:r>
                                              <m:t xml:space="preserve">jϕ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sup>
                                    </m:sSup>
                                    <m:r>
                                      <m:t xml:space="preserve"> 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T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981080" y="2819520"/>
                <a:ext cx="4445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rad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/>
                        </m:sSubSup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jϕ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81080" y="4038480"/>
                <a:ext cx="40006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rad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/>
                        </m:sSubSup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jϕ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l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391040" y="52578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514600" y="5334120"/>
                <a:ext cx="4813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J. Voltz, Polytechnic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A8D8-179C-44BF-9640-5681F89F549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082520" y="873000"/>
                <a:ext cx="51609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rad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8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/>
                                </m:sSubSup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l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jϕ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761040" y="21337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78160" y="2244600"/>
                <a:ext cx="544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982600" y="216864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ime limit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197320" y="2244600"/>
                <a:ext cx="2797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503680" y="216864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87840" y="2778120"/>
                <a:ext cx="1638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757440" y="2666880"/>
            <a:ext cx="37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channel is clear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18080" y="2701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853920" y="3235320"/>
                <a:ext cx="57229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rad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/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ϕ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rad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/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752400" y="4267080"/>
            <a:ext cx="800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the cross correlation between the receivers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word and the particular codeword being received, time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factor which carries 2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multipath channel is present, the non-zero valu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853920" y="5826240"/>
                <a:ext cx="838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753560" y="579132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78160" y="5902200"/>
                <a:ext cx="5824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3270960" y="579132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 intersymbol inter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J. Voltz, Polytechnic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8CA-71B3-4068-9D94-F3F6B42220C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16:16:10Z</dcterms:created>
  <dc:creator>Preferred Customer</dc:creator>
  <dc:description>&lt;doc#&gt;</dc:description>
  <dc:language>en-US</dc:language>
  <cp:lastModifiedBy>Stephen J. Shellhammer</cp:lastModifiedBy>
  <cp:lastPrinted>1998-02-10T13:28:06Z</cp:lastPrinted>
  <dcterms:modified xsi:type="dcterms:W3CDTF">2000-07-10T15:26:38Z</dcterms:modified>
  <cp:revision>36</cp:revision>
  <dc:subject>IEEE 802.15 &lt;subject&gt;</dc:subject>
  <dc:title>No Slide Title</dc:title>
</cp:coreProperties>
</file>