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C7F9-00BD-478B-A3AB-D5579D4CA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71D0-311B-45AC-AFB7-215F7FD6F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D40A-D83F-458A-96F7-1ED28412C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9E1D-663F-46D1-A916-F94E9290E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66EC-7573-41A2-A473-6805B258B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06BD-E408-46F6-BCB9-AFFD634F4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606D-FCC7-466C-A282-F474B4437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1187-050C-4D46-ACEA-8926E6BF8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DBD7-4D2E-41A3-BC15-8FCCD6BA6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77F8-D975-4831-BB69-E4E03A274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ECFE-7BDE-46E0-BF9E-F1D996B5C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F00D-1EE2-4493-87ED-9ED69D549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2D0E3BFC-7F8E-42F8-A2BC-9C87CFBF5A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00/224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1752480" y="685800"/>
            <a:ext cx="5645160" cy="1711440"/>
            <a:chOff x="1752480" y="685800"/>
            <a:chExt cx="5645160" cy="1711440"/>
          </a:xfrm>
        </p:grpSpPr>
        <p:pic>
          <p:nvPicPr>
            <p:cNvPr id="46" name="802" descr=""/>
            <p:cNvPicPr/>
            <p:nvPr/>
          </p:nvPicPr>
          <p:blipFill>
            <a:blip r:embed="rId1"/>
            <a:stretch/>
          </p:blipFill>
          <p:spPr>
            <a:xfrm>
              <a:off x="5737320" y="685800"/>
              <a:ext cx="1660320" cy="1711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7" name=""/>
            <p:cNvGrpSpPr/>
            <p:nvPr/>
          </p:nvGrpSpPr>
          <p:grpSpPr>
            <a:xfrm>
              <a:off x="1752480" y="933480"/>
              <a:ext cx="5477040" cy="1114560"/>
              <a:chOff x="1752480" y="933480"/>
              <a:chExt cx="5477040" cy="1114560"/>
            </a:xfrm>
          </p:grpSpPr>
          <p:sp>
            <p:nvSpPr>
              <p:cNvPr id="48" name=""/>
              <p:cNvSpPr/>
              <p:nvPr/>
            </p:nvSpPr>
            <p:spPr>
              <a:xfrm>
                <a:off x="1752480" y="933480"/>
                <a:ext cx="4181760" cy="111456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3630240" y="1028880"/>
                <a:ext cx="206748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400" spc="-1" strike="noStrike">
                    <a:solidFill>
                      <a:srgbClr val="0066ff"/>
                    </a:solidFill>
                    <a:latin typeface="Times New Roman"/>
                  </a:rPr>
                  <a:t>802.15</a:t>
                </a:r>
                <a:endParaRPr b="0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0" name=""/>
              <p:cNvGrpSpPr/>
              <p:nvPr/>
            </p:nvGrpSpPr>
            <p:grpSpPr>
              <a:xfrm>
                <a:off x="1895400" y="976320"/>
                <a:ext cx="1595520" cy="1045800"/>
                <a:chOff x="1895400" y="976320"/>
                <a:chExt cx="1595520" cy="1045800"/>
              </a:xfrm>
            </p:grpSpPr>
            <p:grpSp>
              <p:nvGrpSpPr>
                <p:cNvPr id="51" name=""/>
                <p:cNvGrpSpPr/>
                <p:nvPr/>
              </p:nvGrpSpPr>
              <p:grpSpPr>
                <a:xfrm>
                  <a:off x="2165400" y="985680"/>
                  <a:ext cx="1325520" cy="1036440"/>
                  <a:chOff x="2165400" y="985680"/>
                  <a:chExt cx="1325520" cy="1036440"/>
                </a:xfrm>
              </p:grpSpPr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65400" y="1245960"/>
                    <a:ext cx="103824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grpSp>
                <p:nvGrpSpPr>
                  <p:cNvPr id="53" name=""/>
                  <p:cNvGrpSpPr/>
                  <p:nvPr/>
                </p:nvGrpSpPr>
                <p:grpSpPr>
                  <a:xfrm>
                    <a:off x="2544840" y="985680"/>
                    <a:ext cx="946080" cy="944640"/>
                    <a:chOff x="2544840" y="985680"/>
                    <a:chExt cx="946080" cy="944640"/>
                  </a:xfrm>
                </p:grpSpPr>
                <p:sp>
                  <p:nvSpPr>
                    <p:cNvPr id="54" name=""/>
                    <p:cNvSpPr/>
                    <p:nvPr/>
                  </p:nvSpPr>
                  <p:spPr>
                    <a:xfrm>
                      <a:off x="2544840" y="985680"/>
                      <a:ext cx="946080" cy="94464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fc0128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" name=""/>
                    <p:cNvSpPr/>
                    <p:nvPr/>
                  </p:nvSpPr>
                  <p:spPr>
                    <a:xfrm>
                      <a:off x="2616120" y="1056960"/>
                      <a:ext cx="804960" cy="80352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fc0128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6" name=""/>
                    <p:cNvSpPr/>
                    <p:nvPr/>
                  </p:nvSpPr>
                  <p:spPr>
                    <a:xfrm>
                      <a:off x="2690640" y="1133280"/>
                      <a:ext cx="654120" cy="6508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fc0128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" name=""/>
                    <p:cNvSpPr/>
                    <p:nvPr/>
                  </p:nvSpPr>
                  <p:spPr>
                    <a:xfrm>
                      <a:off x="2776320" y="1211040"/>
                      <a:ext cx="482760" cy="49680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fc0128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8" name=""/>
                    <p:cNvSpPr/>
                    <p:nvPr/>
                  </p:nvSpPr>
                  <p:spPr>
                    <a:xfrm>
                      <a:off x="2865240" y="1306440"/>
                      <a:ext cx="304920" cy="30456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fc0128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9" name=""/>
                    <p:cNvSpPr/>
                    <p:nvPr/>
                  </p:nvSpPr>
                  <p:spPr>
                    <a:xfrm>
                      <a:off x="2935080" y="1376280"/>
                      <a:ext cx="165240" cy="1666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fc0128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0" name=""/>
                    <p:cNvSpPr/>
                    <p:nvPr/>
                  </p:nvSpPr>
                  <p:spPr>
                    <a:xfrm>
                      <a:off x="2979720" y="1420560"/>
                      <a:ext cx="76320" cy="7776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fc0128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8640" bIns="8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212920" y="1041120"/>
                    <a:ext cx="946080" cy="944640"/>
                    <a:chOff x="2212920" y="1041120"/>
                    <a:chExt cx="946080" cy="94464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212920" y="1041120"/>
                      <a:ext cx="946080" cy="94464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fc0128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>
                      <a:off x="2286000" y="1110960"/>
                      <a:ext cx="801720" cy="80172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fc0128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4" name=""/>
                    <p:cNvSpPr/>
                    <p:nvPr/>
                  </p:nvSpPr>
                  <p:spPr>
                    <a:xfrm>
                      <a:off x="2360520" y="1185480"/>
                      <a:ext cx="652320" cy="6526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fc0128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5" name=""/>
                    <p:cNvSpPr/>
                    <p:nvPr/>
                  </p:nvSpPr>
                  <p:spPr>
                    <a:xfrm>
                      <a:off x="2444760" y="1265040"/>
                      <a:ext cx="484200" cy="49536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fc0128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6" name=""/>
                    <p:cNvSpPr/>
                    <p:nvPr/>
                  </p:nvSpPr>
                  <p:spPr>
                    <a:xfrm>
                      <a:off x="2533680" y="1360440"/>
                      <a:ext cx="306360" cy="30456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fc0128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7" name=""/>
                    <p:cNvSpPr/>
                    <p:nvPr/>
                  </p:nvSpPr>
                  <p:spPr>
                    <a:xfrm>
                      <a:off x="2603520" y="1430280"/>
                      <a:ext cx="166680" cy="1666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fc0128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8" name=""/>
                    <p:cNvSpPr/>
                    <p:nvPr/>
                  </p:nvSpPr>
                  <p:spPr>
                    <a:xfrm>
                      <a:off x="2647800" y="1473120"/>
                      <a:ext cx="77760" cy="7776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fc0128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8640" bIns="8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1895400" y="976320"/>
                  <a:ext cx="946080" cy="942840"/>
                  <a:chOff x="1895400" y="976320"/>
                  <a:chExt cx="946080" cy="94284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>
                    <a:off x="1895400" y="976320"/>
                    <a:ext cx="946080" cy="9428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fc0128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>
                    <a:off x="1965240" y="1045800"/>
                    <a:ext cx="804960" cy="803160"/>
                  </a:xfrm>
                  <a:prstGeom prst="ellipse">
                    <a:avLst/>
                  </a:prstGeom>
                  <a:noFill/>
                  <a:ln w="12600">
                    <a:solidFill>
                      <a:srgbClr val="fc0128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"/>
                  <p:cNvSpPr/>
                  <p:nvPr/>
                </p:nvSpPr>
                <p:spPr>
                  <a:xfrm>
                    <a:off x="2041560" y="1122120"/>
                    <a:ext cx="654120" cy="650520"/>
                  </a:xfrm>
                  <a:prstGeom prst="ellipse">
                    <a:avLst/>
                  </a:prstGeom>
                  <a:noFill/>
                  <a:ln w="12600">
                    <a:solidFill>
                      <a:srgbClr val="fc0128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>
                    <a:off x="2127240" y="1201680"/>
                    <a:ext cx="482400" cy="494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fc0128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>
                    <a:off x="2216160" y="1296720"/>
                    <a:ext cx="304560" cy="302760"/>
                  </a:xfrm>
                  <a:prstGeom prst="ellipse">
                    <a:avLst/>
                  </a:prstGeom>
                  <a:noFill/>
                  <a:ln w="12600">
                    <a:solidFill>
                      <a:srgbClr val="fc0128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2286000" y="1366560"/>
                    <a:ext cx="164880" cy="164880"/>
                  </a:xfrm>
                  <a:prstGeom prst="ellipse">
                    <a:avLst/>
                  </a:prstGeom>
                  <a:noFill/>
                  <a:ln w="12600">
                    <a:solidFill>
                      <a:srgbClr val="fc0128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>
                    <a:off x="2330280" y="1409400"/>
                    <a:ext cx="76320" cy="774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fc0128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8280" bIns="8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77" name=""/>
              <p:cNvSpPr/>
              <p:nvPr/>
            </p:nvSpPr>
            <p:spPr>
              <a:xfrm>
                <a:off x="5924520" y="933480"/>
                <a:ext cx="1305000" cy="1114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7th Session of meetings of the IEEE 802.15 Working Group for Wireless Personal Area Networ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4419720"/>
            <a:ext cx="64008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uly 10-14, 2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losing Report to 8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yatt Regency La Jol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777 La Jolla Village Dr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an Diego, CA. 921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8F60-DA1E-44D8-8DAE-562F7804E998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G2-Coexistenc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existence Present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120" y="1752480"/>
            <a:ext cx="815364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ch Ditch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luetooth SIG Coexistence Working Group Liaison Report #1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00/228r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d BT SIG Coexistence W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oking at applications and environ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cted Interfer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ok first at impact of other on Bluetoo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ok next at impact of Bluetooth on ot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doing PHY or MAC layer simul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ADE4-400A-4EA2-9BC7-E008709BD16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G2-Coexistenc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existence Present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120" y="2133360"/>
            <a:ext cx="815364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ter Voltz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hysical Layer Model of the Impact of Bluetooth on IEEE 802.11b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00/220r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R versus Signal-to-Interferer Ratio (SI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ded Multipath delay spr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need to add equalizer into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388D-CBE1-4C59-B3FB-C16514F8357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G2-Coexistenc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existence Present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120" y="2057040"/>
            <a:ext cx="815364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im Lansford, Bluetooth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hysical Layer Modeling Update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00/229r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vironment Description (Geomet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Y/MAC Model Inte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Sim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BE0A-AFA5-491A-86EB-9A8CE355D15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G2-Coexistenc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existence Present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120" y="2057040"/>
            <a:ext cx="815364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ry Kelson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erkeley Wireless Research Center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00/221r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view of Research Ce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ly interested in implement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al Spectrum Sharing (USS) Proj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king about Uncoordinated Coexistence Mechanis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49A1-D001-4151-B428-7B58B00052F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G2-Coexistenc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existence Present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120" y="2057040"/>
            <a:ext cx="815364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ve Shellhammer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G2 Submission to Bluetooth SIGnal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00/160r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regular column on IEEE 802.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 comments from Ian Giff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de some edits from r0 to r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iled 00/160r1 to Ian Gifford and Bruce Krae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B69B-A850-4C19-A7AA-3356A18B05B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G2-Coexistenc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existence Present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15364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da Golmie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AC Layer Model Parameters for First Experiment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00/222r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ified scenario (2 BT &amp; 2 802.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BT and 802.11b Traff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nded to validate by experi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5A9D-297B-461A-8F72-C48A1F66EB7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G2-Coexistenc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existence Present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81536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ve Shellhammer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G2 Project Plan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00/089r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d the TG2 Project pl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inue working 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existenc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l fo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existence Mechanism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Septemb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ntations on Coexistence Mech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vember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nuary 2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035C-33F5-47DA-8491-F14F665EBEA3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G2-Coexistenc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bjectives for September Mee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33520" y="2362320"/>
            <a:ext cx="815328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uetooth Coexistence WG Liaison Re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of First Integrated PHY/MAC Model Appl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 on RF Propagation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l for Coexistence Mechanis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 on Evaluation Criteria for Coexistence Mechanis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6E00-BAB9-48AA-B3FF-2C866165FD9A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G3-High Rate WPA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oals of the July Mee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ve results of conference ca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0r10P802-15_TG3-Criteria-Defi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ation of CFP Presen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te sub-committee work to analyze and compare PHY/MAC propos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 criteria definition if requir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SEP00 Objectives &amp; Graph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D275-3299-4EED-9107-6D8DEFF28522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G3-High Rate WPA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 of July Mee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os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 PHY, 1 MAC, 4 PHY/MA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4 GHz, 5 GHz, UW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ly Submissions 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ly Document 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d Criteria Document – 00/110r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luation Process Flowchart – 00/180r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EF23-D345-4178-91DD-32EEFAD48FE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bjectives of the LaJolla Mee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July 10-14, 2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380880" y="1905120"/>
          <a:ext cx="8545680" cy="4190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905120"/>
                    <a:ext cx="8545680" cy="41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B7B0-571F-48CD-87F5-4E6A19863CE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G3-High Rate WPAN --Proposa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sil (March) – Wave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ypinski (March) – PHY/MAC – 5 GH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torola (Davis) – PHY/MAC – 5 GH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torola (De Courville/Dydyk) – PHY – 5 GHz OFD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mec - M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dak – PHY/MAC – 2.4 GH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ergold – PHY – 2.4 GH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 – PHY – 2.4 GH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treme Spectrum – PHY - UW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oadcom – PHY – 2.4 GHz or 5 GH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diata – PHY/MAC – 5 GHz OFD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Com – PHY/MAC – 2.4 GHz (withdraw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1331-25C6-417A-B20E-526F66C82F77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G3-High Rate WPA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ly Submissions Summ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304920" y="1371600"/>
          <a:ext cx="8610480" cy="4740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371600"/>
                    <a:ext cx="8610480" cy="474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E9AB-D7E0-41E4-B528-706D67C681A3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G3-High Rate WPA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July Document 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380880" y="2036880"/>
          <a:ext cx="8382240" cy="2784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036880"/>
                    <a:ext cx="8382240" cy="278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C1AC-98F1-4A32-BBD6-AD327D7DD22A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G3-High Rate WPAN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us and Plans for TG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uction of Initial Dra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Go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everything you need to know to construct the lower layers of high rate WPAN (future Bluetooth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ed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Go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Produce a Standard by the end of 2001 or early 20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Go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Selection of candidate MAC/PHY, September, 2000. Working Group draft, May, 2001. Sponsor ballot, November, 200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D16F-33A2-4A17-959B-815F5F4A78EE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G3-High Rate WPA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eleconference Cal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d every Tuesday between F2F meetings starting July 2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luation and ranking of proposals in order to prepare initial draft recommendation for Septemb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team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– Mary DuVal –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 – James Gilb – Mobili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 – Allen Heberling - Kod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08C4-3A28-4550-8A34-9EC5D99035B1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G3-High Rate WPA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ptember Meeting Goa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ummarize Conference Call results &amp; vote on acceptance of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pprove other work i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election initial PHY/MAC candi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Folding CFA data into Criteria Document – Document Complete – Vote on accep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all for Pat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17D7-F49C-4517-9C63-E07B7534165C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ecutive Committee Action on Study Group Proposa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uetooth Radio2 Study group appro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w Rate WPAN Study Group appro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3CDF-8942-407E-990F-42A6C844DFE7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ext Mee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7040" y="5791320"/>
            <a:ext cx="743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Hotel Reservation Deadline: Thursday, August 10,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609480" y="1219320"/>
          <a:ext cx="7391520" cy="1468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219320"/>
                    <a:ext cx="7391520" cy="146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380880" y="2743200"/>
          <a:ext cx="11812680" cy="25765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2743200"/>
                    <a:ext cx="11812680" cy="25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C73C-1CFE-42E9-B3E1-3B87B63C163C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rchive, Mailing List, UR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77724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4000"/>
          </a:bodyPr>
          <a:p>
            <a:pPr marL="219240" indent="-219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 P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75200" indent="-1828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http://www.ieee802.org/15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9240" indent="-219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ing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75200" indent="-1828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stds-802-wpan@majordomo.ieee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9240" indent="-219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uetooth Special Interest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75200" indent="-1828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http://www.bluetooth.com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9240" indent="-219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me RF Working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75200" indent="-1828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http://www.homerf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9240" indent="-21924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" y="4114800"/>
            <a:ext cx="3962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38080" y="5486400"/>
            <a:ext cx="7620120" cy="762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add your name to IEEE mailing list please send an e-m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Mike McInnis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hael.d.mcinnis@boeing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8FF3-CE66-4634-A4E9-34B595C819AD}" type="slidenum">
              <a:t>2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1880" y="1905120"/>
            <a:ext cx="9132840" cy="14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empus Sans ITC"/>
              </a:rPr>
              <a:t>So Long and Thanks for all the Fish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Hitchhikers Guide to the Galax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D2A0-7AE7-469E-B4CC-44F7B2534D93}" type="slidenum">
              <a:t>2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bjectives of the LaJolla Mee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July 10-14, 2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528480" y="2052720"/>
          <a:ext cx="8615520" cy="3655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2052720"/>
                    <a:ext cx="8615520" cy="365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5306-3B01-408E-9DD4-11B8AEAFA569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ronym's &amp; Gloss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EEE (Institute of Electrical and Electronics Engineers, Inc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C (Medium Access Control) La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 (Physical) La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G (Task Grou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 (Study Grou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C (Marketing Committe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G (Working Grou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PAN (Wireless Personal Area Networkin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uetooth (Bluetooth Special Interest Group is the codename for a technology specification for small form factor, low-cost, short range radio links between mobile PCs, mobile phones and other portable devices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meRF (The HRFWG plans to publish the SWAP specification by fall of 1998 and companies may begin product development shortly thereafter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85C6-1717-42E0-8AC3-AEFCF7590FB1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G1-Bluetooth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technical, most “E” LB3 Comments resolved, summarized in –00/159r7 workshe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B3 Comment Resolution 10-13Jul00, post meeting, and possibly into Aug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ce resolved, apply edits  from 00/159r7, BSIG v1.1, et. al. to next Dra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B(4) Recirculation, est. Sep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ft ready for Sponsor Ballot prior to Nov00 Plenary a possibility, but not lik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3ADF-B16D-4FEE-BE53-B1D675AEA9F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G1-Bluetooth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ptember 2000 Objectiv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ent Resolution follow-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gin production of D0.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 for production of D1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 00/181r0 for details of planning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D7ED-FE28-41D0-94EB-41AB958CCAE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G2-Coexistence Deliverab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existenc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 describing the mutual interference of WLAN and WPAN upon one ano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existence Mechanis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chanisms or techniques to facilitate coexistence of WLAN and WPAN devi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th to be documented in an IEEE Recommended Prac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F32F-8ED8-48C8-AF11-1AC9ECA3C9C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G2-Coexistenc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rrent Coexistence Organ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G2 is within 802.15 Working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802.11 members are encouraged to particip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802.11 liaisons can vote in TG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th 802.11 and 802.15 vote on the Recommended Prac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B871-4BD1-4E99-B282-F6BD513B82A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G2-Coexistenc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ew Proposed Organ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ully Joint Coexistence Task Gro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Co-Chair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ve Shellhammer (802.1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co-chair (802.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ter add another new co-chair (802.1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G meetings part of both 802.11 &amp; 802.15 meeting pl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802.11 and 802.15 members can vo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FD32-515B-4BE7-BE92-DE40408578A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G2-Coexistenc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ew Proposed Organ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title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ireless Coexistence Task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ly address all 802 Wireless Coexistence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orum for collaboration between 802.11, 802.15 and 802.16 on all issues of coexistence arising with Wireless 802 Working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F7B2-4360-4F06-801B-8D546B6D8C4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22T06:24:01Z</dcterms:created>
  <dc:creator>Robert F. Heile</dc:creator>
  <dc:description>00/224r0</dc:description>
  <dc:language>en-US</dc:language>
  <cp:lastModifiedBy>Robert F.  Heile</cp:lastModifiedBy>
  <cp:lastPrinted>2000-03-05T01:29:49Z</cp:lastPrinted>
  <dcterms:modified xsi:type="dcterms:W3CDTF">2000-07-14T05:15:11Z</dcterms:modified>
  <cp:revision>78</cp:revision>
  <dc:subject>IEEE 802.15 &lt;subject&gt;</dc:subject>
  <dc:title>Report to July Closing Plenary</dc:title>
</cp:coreProperties>
</file>