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68AB2-1446-4EEF-A3A7-85474AA34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25F72-0F4B-4D3A-B2C3-B1DF4AF39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F3A08-F84C-4E75-AC0B-48CA49BB4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8C5DC-68A1-4E77-821A-478AA57A6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27D6C-878F-4720-9F51-742D43157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BF142-9EBE-42F2-BD7B-E6FF56FD4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D149E-4B11-4EFF-985F-8B27EB015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96A4E-4FFC-405A-A80F-D0F115513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BA4CA-5B79-45B8-8E62-0412DD682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8721D-7FF7-4955-8180-E2A850C4C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3D828-1423-4289-88E9-E0D007522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65D12-A2D2-44AA-9F2C-EE63566DC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CF5DD3-DD21-4030-82A1-7D4C4B673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7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024DAC2D-572B-424A-B5D5-48DA80A95D1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ask Group 1 Opening Repor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3Jul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0/095r0, etc.]</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1 chair report to WG.  By Tom Siep for Ian Gifford]</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1 chair report to WG to update them from the on all the work ite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r>
              <a:rPr b="0"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Report #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2000 La Jolla, CA USA</a:t>
            </a:r>
            <a:endParaRPr b="0" lang="en-US" sz="3200" spc="-1" strike="noStrike">
              <a:solidFill>
                <a:srgbClr val="000000"/>
              </a:solidFill>
              <a:latin typeface="Arial"/>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B99CB2D-6730-48EE-A388-40DDCE7771E2}"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Summary</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echnical, most “E” LB3 Comments resolved, summarized in –00/159r7 workshe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3 Comment Resolution 10-13Jul00, post meeting, and possibly into Aug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resolved, apply edits  from 00/159r7, BSIG v1.1, et. al. to next Draf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4) Recirculation, est. Sep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ready for Sponsor Ballot prior to Nov00 Plenary a possibility, but not like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D06F7DF-767C-4D19-9E58-ABD589D15031}"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Scottsdale 2000 Objective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Resolution follow-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production of D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for production of D1.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00/181r0 for details of planning proces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EB361DB-9719-4371-A460-9952E1518303}" type="slidenum">
              <a:t>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00/119r0</dc:description>
  <dc:language>en-US</dc:language>
  <cp:lastModifiedBy>Tom Siep</cp:lastModifiedBy>
  <cp:lastPrinted>1998-02-10T13:28:06Z</cp:lastPrinted>
  <dcterms:modified xsi:type="dcterms:W3CDTF">2000-07-13T23:18:33Z</dcterms:modified>
  <cp:revision>134</cp:revision>
  <dc:subject>IEEE 802.15 TG1 Report</dc:subject>
  <dc:title>IEEE P802.15 Working Group for Wireless Personal Area Networks</dc:title>
</cp:coreProperties>
</file>