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A0808-8DC3-476B-BF51-BF35E01CC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1ECFB-8068-4627-933D-7BC06521C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9C7AB-2203-41A6-9B6A-94D65260D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BFFCA-48BA-4733-AA44-C05F9FF97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2DB33-16ED-4E1B-A0AB-B4A85F0F9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D8319-09A1-4216-A765-C14D298F7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D68D9-A919-43DB-AA8F-47AD0101F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06402-941B-47FC-A91F-63CE010C8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EF3AE-DD2A-45BD-B429-C63D68501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CFEE-5E16-4FE7-8789-70C8930EE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6E219-98BF-43CF-A5B0-925156D91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8D74-11E6-4EA3-A942-984F6896E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4BC47D-8507-4ABD-BD07-09AB03263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7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BD70A3A6-46CC-4F88-ADA8-60BA341176C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Closing Report Jul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3July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50 E. Commerce Drive,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165R5P802-15_TG3-High-Rate-Agenda-July00.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on July plenary resul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rove TG3 Evaluation Process Flowchart</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of the evaluation process to be used by TG3.</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cation of 00/180r0 to include Pugh scoring/ranking. Approved by TG3 for forwarding to WG for approva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 00/180r1 as the TG3 proposal evaluation proces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Y/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EBBBD1A-CF61-4A39-86CE-DEEB061E9572}"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ion of Initial Draft</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oal</a:t>
            </a:r>
            <a:r>
              <a:rPr b="0" lang="en-US" sz="2400" spc="-1" strike="noStrike">
                <a:solidFill>
                  <a:srgbClr val="000000"/>
                </a:solidFill>
                <a:latin typeface="Times New Roman"/>
              </a:rPr>
              <a:t>: everything you need to know to construct the lower layers of high rate WPAN (future Bluetoot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oal</a:t>
            </a:r>
            <a:r>
              <a:rPr b="0" lang="en-US" sz="2400" spc="-1" strike="noStrike">
                <a:solidFill>
                  <a:srgbClr val="000000"/>
                </a:solidFill>
                <a:latin typeface="Times New Roman"/>
              </a:rPr>
              <a:t>: Produce a Standard by the end of 2001 or early 2002</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oal</a:t>
            </a:r>
            <a:r>
              <a:rPr b="0" lang="en-US" sz="2400" spc="-1" strike="noStrike">
                <a:solidFill>
                  <a:srgbClr val="000000"/>
                </a:solidFill>
                <a:latin typeface="Times New Roman"/>
              </a:rPr>
              <a:t>: Selection of candidate MAC/PHY, September, 2000. Working Group draft, May, 2001. Sponsor ballot, November, 200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4564762-26B9-46C4-A71E-8A43EA3B5AE2}"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d every Tuesday between F2F meetings starting July 2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and ranking of proposals in order to prepare initial draft recommendation for Septemb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tea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 Mary DuVal –T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 James Gilb – Mobilia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 Allen Heberling - Kodak</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154BF8A-E1F1-41DD-97EE-3C9542B70188}"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tember Meeting Goal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mmarize Conference Call results &amp; vote on acceptance of 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pprove other work it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ion initial PHY/MAC candid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lding CFA data into Criteria Document – Document Complete – Vote on accept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ll for Pat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8F8155F8-9CA7-4C51-AFE5-92D31C64393B}"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Clos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 San Diego, CA</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CE88237-7AF4-4858-99CE-A6D6F7E22A1D}"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July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July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nd plans for TG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for September Mee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05DDD73-4879-4168-8C8A-31BF22C91614}"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July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ve results of conference calls</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r10P802-15_TG3-Criteria-Definition</a:t>
            </a: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ation of CFP Presentation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te sub-committee work to analyze and compare PHY/MAC proposal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criteria definition if require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EP00 Objectives &amp; Graphi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E80DF53-E583-4EA2-97E2-38D407FB9BB7}"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July Meeting</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Y, 1 MAC, 4 PHY/MA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 GHz, 5 GHz, UW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Submissions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Document Summa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d Criteria Document – 00/110r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Process Flowchart – 00/180r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FB630F3-5CD1-43E7-BC79-49E44EAF2468}"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s</a:t>
            </a:r>
            <a:endParaRPr b="0" lang="en-US" sz="3600" spc="-1" strike="noStrike">
              <a:solidFill>
                <a:srgbClr val="000000"/>
              </a:solidFill>
              <a:latin typeface="Times New Roman"/>
            </a:endParaRPr>
          </a:p>
        </p:txBody>
      </p:sp>
      <p:sp>
        <p:nvSpPr>
          <p:cNvPr id="91" name="PlaceHolder 2"/>
          <p:cNvSpPr>
            <a:spLocks noGrp="1"/>
          </p:cNvSpPr>
          <p:nvPr>
            <p:ph/>
          </p:nvPr>
        </p:nvSpPr>
        <p:spPr>
          <a:xfrm>
            <a:off x="380520" y="1371600"/>
            <a:ext cx="8077320" cy="495288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sil (March) – Wavefor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ypinski (March) – PHY/MAC – 5 GHz</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ola (Davis) – PHY/MAC – 5 GHz</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ola (De Courville/Dydyk) – PHY – 5 GHz OFD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ec - MA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dak – PHY/MAC – 2.4 GHz</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gold – PHY – 2.4 GHz</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 – PHY – 2.4 GHz</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treme Spectrum – PHY - UWB</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om – PHY – 2.4 GHz or 5 GHz</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a – PHY/MAC – 5 GHz OFD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Com – PHY/MAC – 2.4 GHz (withdraw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307B676-41CF-403A-8EF2-FC7A73CA30A2}"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Submissions Summary</a:t>
            </a:r>
            <a:endParaRPr b="0" lang="en-US" sz="3600" spc="-1" strike="noStrike">
              <a:solidFill>
                <a:srgbClr val="000000"/>
              </a:solidFill>
              <a:latin typeface="Times New Roman"/>
            </a:endParaRPr>
          </a:p>
        </p:txBody>
      </p:sp>
      <p:graphicFrame>
        <p:nvGraphicFramePr>
          <p:cNvPr id="93" name=""/>
          <p:cNvGraphicFramePr/>
          <p:nvPr/>
        </p:nvGraphicFramePr>
        <p:xfrm>
          <a:off x="304920" y="1371600"/>
          <a:ext cx="8610480" cy="4740120"/>
        </p:xfrm>
        <a:graphic>
          <a:graphicData uri="http://schemas.openxmlformats.org/presentationml/2006/ole">
            <p:oleObj progId="Excel.Sheet.12" r:id="rId1" spid="">
              <p:embed/>
              <p:pic>
                <p:nvPicPr>
                  <p:cNvPr id="94" name="" descr=""/>
                  <p:cNvPicPr/>
                  <p:nvPr/>
                </p:nvPicPr>
                <p:blipFill>
                  <a:blip r:embed="rId2"/>
                  <a:stretch/>
                </p:blipFill>
                <p:spPr>
                  <a:xfrm>
                    <a:off x="304920" y="1371600"/>
                    <a:ext cx="8610480" cy="474012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B94D5F51-6058-4879-811C-455DE7D583FA}" type="slidenum">
              <a:t>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Document Summary</a:t>
            </a:r>
            <a:endParaRPr b="0" lang="en-US" sz="3600" spc="-1" strike="noStrike">
              <a:solidFill>
                <a:srgbClr val="000000"/>
              </a:solidFill>
              <a:latin typeface="Times New Roman"/>
            </a:endParaRPr>
          </a:p>
        </p:txBody>
      </p:sp>
      <p:graphicFrame>
        <p:nvGraphicFramePr>
          <p:cNvPr id="96" name=""/>
          <p:cNvGraphicFramePr/>
          <p:nvPr/>
        </p:nvGraphicFramePr>
        <p:xfrm>
          <a:off x="380880" y="2036880"/>
          <a:ext cx="8382240" cy="2784240"/>
        </p:xfrm>
        <a:graphic>
          <a:graphicData uri="http://schemas.openxmlformats.org/presentationml/2006/ole">
            <p:oleObj progId="Excel.Sheet.12" r:id="rId1" spid="">
              <p:embed/>
              <p:pic>
                <p:nvPicPr>
                  <p:cNvPr id="97" name="" descr=""/>
                  <p:cNvPicPr/>
                  <p:nvPr/>
                </p:nvPicPr>
                <p:blipFill>
                  <a:blip r:embed="rId2"/>
                  <a:stretch/>
                </p:blipFill>
                <p:spPr>
                  <a:xfrm>
                    <a:off x="380880" y="2036880"/>
                    <a:ext cx="8382240" cy="278424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865DE846-5B61-4842-93BB-50120DF71A7B}" type="slidenum">
              <a:t>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rove Modifications to Criteria Definition Document</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110r9 approved by WG in M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Group completed evaluation matrix and minor editorial changes. Approved as 00/110r1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Group added one criterium. Approved for forwarding to WG as 00/110r11. Weighting will be determined by email ballo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Y/N/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CA7CCC1-93B9-4728-BA80-7E98035993BD}"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00/178r0</dc:description>
  <dc:language>en-US</dc:language>
  <cp:lastModifiedBy>John R. Barr</cp:lastModifiedBy>
  <cp:lastPrinted>1998-02-10T13:28:06Z</cp:lastPrinted>
  <dcterms:modified xsi:type="dcterms:W3CDTF">2000-07-13T19:28:59Z</dcterms:modified>
  <cp:revision>203</cp:revision>
  <dc:subject>TG3 Closing Report, 13Jul00</dc:subject>
  <dc:title>IEEE P802.15 Working Group for Wireless Personal Area Networks</dc:title>
</cp:coreProperties>
</file>