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6.wmf" ContentType="image/x-wmf"/>
  <Override PartName="/ppt/media/image14.png" ContentType="image/pn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BD3041-EBB5-45F1-84AA-1A6C9F0E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BED9A9-0EF6-48DC-8489-79E0AF33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768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8352F2-30F8-4DE0-9E35-26D4ADA46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768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1965EC-625C-4030-8919-D47B3D11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768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074-10E2-499E-92FA-2412D09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B0C-0932-4576-9C20-B8CFEB1B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91C-36F0-4842-A9EF-B6E966E0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4BF-95CC-4093-AB1E-58BECDC5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E03A-E23B-4225-8BC1-666DD567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B303-3078-43F2-A7CB-ECA38C1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B0B-0920-4A97-8DD5-655FFB5A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739-5534-4F68-9DE3-2637872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B80-B292-4885-A6BC-0A975B4E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80CF-37B0-45B6-98FB-CF0C008B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A4C-BA95-4E46-848F-81362EF9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2A5-C48D-4DC7-B203-FE8789C9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7A65-A863-4177-8772-44E4E6C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B8BB-A2B3-44A7-AE3A-F344056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A83-E66F-486B-BDAE-D594C32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360-8CB0-4FDD-A6E4-2C06015B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D38-40C1-4448-8CFF-9AE77674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51B-82A9-4F4D-BD24-1C20527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C83-F650-4AC7-9CCB-73A3BC2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C62-B33E-4808-9744-A1BCC2D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670-20AF-4CA0-A4F3-C8D9C61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993-EF1C-4D97-9F8B-6FB83747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D4C-99AF-48AC-B026-86A7C0A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F31-E29A-49D6-8BBF-55B8D0E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151200"/>
            <a:ext cx="16002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y Kelson, Berkeley Wireless Research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C26903-5C2F-4E96-A5FF-4EEE6F0E0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2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166680"/>
            <a:ext cx="19051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410080" y="6492960"/>
            <a:ext cx="3276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y Kelson, Berkeley Wireless Research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DFE8D5-EFE9-4EB2-B66A-45B4C7AA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7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5.png"/><Relationship Id="rId9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2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2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13.png"/><Relationship Id="rId10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rkeley Wireless Research Cen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verview</a:t>
            </a:r>
            <a:br>
              <a:rPr sz="36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1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5744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233d"/>
                </a:solidFill>
                <a:latin typeface="Arial"/>
              </a:rPr>
              <a:t>http://bwrc.eecs.berkeley.edu/bw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0320" y="28861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wrc_logo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2876400" cy="16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CB5C-A14D-4096-9BEB-2165371EEE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NT Desktop (~50 clients) with Unix Compute Servers (X Window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 fiber network back-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Unix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ppliance filer, 450G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3 fiber link to campus with T1 back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aLogic tape back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ent WaveLan for Lapt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ng to Windows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05160" y="1447920"/>
            <a:ext cx="3352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Soft 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i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gnus 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FB8-991E-4BAA-8C89-DBD53E8E7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WRC Foc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6080" y="2254320"/>
            <a:ext cx="3016440" cy="10224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2230560"/>
            <a:ext cx="2557440" cy="96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co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3800" y="133956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Comm.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ignal Proces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65200" y="1339560"/>
            <a:ext cx="197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4586400"/>
            <a:ext cx="5257800" cy="1604880"/>
            <a:chOff x="762120" y="4586400"/>
            <a:chExt cx="5257800" cy="160488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996480" y="4803840"/>
              <a:ext cx="144288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ROTOTYPE" descr=""/>
            <p:cNvPicPr/>
            <p:nvPr/>
          </p:nvPicPr>
          <p:blipFill>
            <a:blip r:embed="rId2"/>
            <a:stretch/>
          </p:blipFill>
          <p:spPr>
            <a:xfrm>
              <a:off x="2947320" y="4766040"/>
              <a:ext cx="1154520" cy="1257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4630680" y="4756320"/>
            <a:ext cx="1024560" cy="13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30680" y="4756320"/>
                      <a:ext cx="102456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762120" y="4586400"/>
              <a:ext cx="5257800" cy="160488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749760" y="3897360"/>
            <a:ext cx="617400" cy="547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09840" y="3457440"/>
            <a:ext cx="228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50000" y="3422520"/>
            <a:ext cx="228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7120" y="3738600"/>
            <a:ext cx="3651480" cy="21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3240" y="4722480"/>
            <a:ext cx="249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Circuit Fa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26480" y="3428640"/>
            <a:ext cx="21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De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DDF-6906-4D88-A6DA-DE1EAA495B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trum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6800" y="1447920"/>
            <a:ext cx="7539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determine a flexible way to utilize spectra which can adapt to new technology and applications with maximum capacity and minimum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FS Algorith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 Wideband (U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/WLAN Coex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EC8-5E49-4DB8-AC57-E03BED2C66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142920" y="609120"/>
            <a:ext cx="8677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FS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“types” of dimensionality in sign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 all these degrees of freedom to maximize the number of users and to minimize their interferenc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complexity issues and implement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84F-BF5D-44D6-B2D1-098E8481AD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e upon a time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RC opens for business, with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versal Ra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R) listed as one of 3 design d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bitious radio design that allows for uncoordinated co-existence with other ra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to provide requested service given type of service, location, and dynamic variations in environment (i.e. number of us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continuous upgrades to support new services as well as advances in communication engineering and implementation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8C8-3068-4B92-92BB-AD12247EB7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SS 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sharing is identified as the key challenge for the 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 driver evolves fro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spectrum management initiative, and is renamed "Universal Spectrum Sharing" (U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 study group is formed to investigate strategy for uncoordinated use of spectra without loss in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ly exploit time, frequency,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goal: change the way spectrum is al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79A-B5B8-433B-B6C9-014C829607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S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guidelines proposed for spectrum sha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ransmit power as a constraint which encourages goo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behavior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ation in temporal-frequency-spatial signal space which allows other users to coexist withou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ary or predictable behavior which facilitates adaptation  by oth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to a time and frequency structure which facilitates co-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6BB-D892-40D0-B883-52DDD8510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S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 no rigorous results for the difficult problem of spectrum sharing -- we only had guide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stem from lack of results in information theory.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ference 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yet been “solved" by information theorists -- even for the seemingly simple Gaussian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ed that we needed to refocus our efforts on specific practical problems rather than general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62720" y="4052880"/>
            <a:ext cx="2286000" cy="1063440"/>
            <a:chOff x="5562720" y="4052880"/>
            <a:chExt cx="2286000" cy="1063440"/>
          </a:xfrm>
        </p:grpSpPr>
        <p:sp>
          <p:nvSpPr>
            <p:cNvPr id="248" name=""/>
            <p:cNvSpPr/>
            <p:nvPr/>
          </p:nvSpPr>
          <p:spPr>
            <a:xfrm>
              <a:off x="6096240" y="4433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840" y="4357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43800" y="4357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840" y="4433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6240" y="4815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7840" y="47386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3800" y="47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7840" y="4815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477120" y="4509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443376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43800" y="4890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543800" y="4205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2720" y="42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466236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15200" y="4815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5200" y="405288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4433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0120" y="48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7120" y="4403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455616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BA8-EDDB-4673-9AE3-75F8159400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5 TG 2 – Coexistence of WPAN’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grouper.ieee.org/groups/802/15/pub/TG2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447920"/>
          <a:ext cx="6553080" cy="491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55308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B47-D349-4349-9520-CE48351415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egun to look at specific coexistence problems (Bluetooth + 802.11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ttempt to tackle the problem with analysis, simulation, and real measu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efficient silicon implementatio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0BF-7A30-46FC-A4F2-85014537BE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WRC –Mis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9810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for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the design issues necessary to support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future wireless communication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The focus will be on highly integrated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ementations which have the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lowest possible energy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and lowest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le using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advanced communication algorithm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valuation of these components will be made in a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realistic test environ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A83-E4FE-45DA-AFE4-6C2519DCD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Expl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14600" y="1905120"/>
            <a:ext cx="1755720" cy="2574360"/>
            <a:chOff x="2514600" y="1905120"/>
            <a:chExt cx="1755720" cy="2574360"/>
          </a:xfrm>
        </p:grpSpPr>
        <p:grpSp>
          <p:nvGrpSpPr>
            <p:cNvPr id="275" name=""/>
            <p:cNvGrpSpPr/>
            <p:nvPr/>
          </p:nvGrpSpPr>
          <p:grpSpPr>
            <a:xfrm>
              <a:off x="2514600" y="1905120"/>
              <a:ext cx="1361880" cy="1949040"/>
              <a:chOff x="2514600" y="1905120"/>
              <a:chExt cx="1361880" cy="1949040"/>
            </a:xfrm>
          </p:grpSpPr>
          <p:sp>
            <p:nvSpPr>
              <p:cNvPr id="276" name=""/>
              <p:cNvSpPr/>
              <p:nvPr/>
            </p:nvSpPr>
            <p:spPr>
              <a:xfrm>
                <a:off x="2650680" y="306828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MA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8920" y="3375720"/>
                <a:ext cx="31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26480" y="2880720"/>
                <a:ext cx="687240" cy="51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77000" y="2897640"/>
                <a:ext cx="36720" cy="956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14600" y="3803040"/>
                <a:ext cx="674640" cy="51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14600" y="2880720"/>
                <a:ext cx="36720" cy="939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24240" y="30682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dd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71400" y="3375720"/>
                <a:ext cx="293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89240" y="2880720"/>
                <a:ext cx="687240" cy="51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39760" y="2897640"/>
                <a:ext cx="36720" cy="956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77000" y="3803040"/>
                <a:ext cx="674640" cy="511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77000" y="2880720"/>
                <a:ext cx="36720" cy="939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52080" y="2349000"/>
                <a:ext cx="125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75560" y="236592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9160" y="1922040"/>
                <a:ext cx="700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ff"/>
                    </a:solidFill>
                    <a:latin typeface="Times New Roman"/>
                  </a:rPr>
                  <a:t>Prog Me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26480" y="2212560"/>
                <a:ext cx="1350000" cy="51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39760" y="2229480"/>
                <a:ext cx="36720" cy="7023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14600" y="2880720"/>
                <a:ext cx="1337400" cy="51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23600" y="2210040"/>
                <a:ext cx="36720" cy="6854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26480" y="1905120"/>
                <a:ext cx="1350000" cy="511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39760" y="1922040"/>
                <a:ext cx="36720" cy="3416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14600" y="2212560"/>
                <a:ext cx="1337400" cy="511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1905120"/>
                <a:ext cx="36720" cy="3243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33680" y="3930480"/>
              <a:ext cx="1736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(e.g. TI 320CXX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98400" y="6248520"/>
            <a:ext cx="692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85800" y="1295280"/>
            <a:ext cx="0" cy="497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360" y="6156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161840" y="4057560"/>
            <a:ext cx="1482120" cy="819000"/>
            <a:chOff x="7161840" y="4057560"/>
            <a:chExt cx="1482120" cy="819000"/>
          </a:xfrm>
        </p:grpSpPr>
        <p:sp>
          <p:nvSpPr>
            <p:cNvPr id="304" name=""/>
            <p:cNvSpPr/>
            <p:nvPr/>
          </p:nvSpPr>
          <p:spPr>
            <a:xfrm>
              <a:off x="7161840" y="4057560"/>
              <a:ext cx="14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Direct Mapp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71000" y="4327560"/>
              <a:ext cx="1121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Hardwar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(MU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7086600" y="4876920"/>
            <a:ext cx="1494000" cy="11221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5791320" y="3809880"/>
            <a:ext cx="1166760" cy="1755720"/>
            <a:chOff x="5791320" y="3809880"/>
            <a:chExt cx="1166760" cy="1755720"/>
          </a:xfrm>
        </p:grpSpPr>
        <p:sp>
          <p:nvSpPr>
            <p:cNvPr id="308" name=""/>
            <p:cNvSpPr/>
            <p:nvPr/>
          </p:nvSpPr>
          <p:spPr>
            <a:xfrm>
              <a:off x="5884920" y="505260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Embed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36480" y="5290920"/>
              <a:ext cx="62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FP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ROTOTYPE" descr=""/>
            <p:cNvPicPr/>
            <p:nvPr/>
          </p:nvPicPr>
          <p:blipFill>
            <a:blip r:embed="rId18"/>
            <a:stretch/>
          </p:blipFill>
          <p:spPr>
            <a:xfrm>
              <a:off x="5791320" y="3809880"/>
              <a:ext cx="1166760" cy="11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 rot="16200000">
            <a:off x="-201240" y="32994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62120" y="914400"/>
            <a:ext cx="1628640" cy="2969280"/>
            <a:chOff x="762120" y="914400"/>
            <a:chExt cx="1628640" cy="2969280"/>
          </a:xfrm>
        </p:grpSpPr>
        <p:grpSp>
          <p:nvGrpSpPr>
            <p:cNvPr id="313" name=""/>
            <p:cNvGrpSpPr/>
            <p:nvPr/>
          </p:nvGrpSpPr>
          <p:grpSpPr>
            <a:xfrm>
              <a:off x="1002960" y="2895480"/>
              <a:ext cx="1111680" cy="988200"/>
              <a:chOff x="1002960" y="2895480"/>
              <a:chExt cx="1111680" cy="988200"/>
            </a:xfrm>
          </p:grpSpPr>
          <p:sp>
            <p:nvSpPr>
              <p:cNvPr id="314" name=""/>
              <p:cNvSpPr/>
              <p:nvPr/>
            </p:nvSpPr>
            <p:spPr>
              <a:xfrm>
                <a:off x="1002960" y="2895480"/>
                <a:ext cx="1111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Times New Roman"/>
                  </a:rPr>
                  <a:t>Embedd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Times New Roman"/>
                  </a:rPr>
                  <a:t>Proces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1098000" y="3454920"/>
                <a:ext cx="904680" cy="428760"/>
                <a:chOff x="1098000" y="3454920"/>
                <a:chExt cx="904680" cy="4287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098000" y="3454920"/>
                  <a:ext cx="3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201680" y="3454920"/>
                  <a:ext cx="801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ff"/>
                      </a:solidFill>
                      <a:latin typeface="Times New Roman"/>
                    </a:rPr>
                    <a:t>(lpArm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318" name=""/>
            <p:cNvGraphicFramePr/>
            <p:nvPr/>
          </p:nvGraphicFramePr>
          <p:xfrm>
            <a:off x="762120" y="914400"/>
            <a:ext cx="1628640" cy="1920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914400"/>
                      <a:ext cx="1628640" cy="19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0" name=""/>
          <p:cNvGrpSpPr/>
          <p:nvPr/>
        </p:nvGrpSpPr>
        <p:grpSpPr>
          <a:xfrm>
            <a:off x="4038480" y="2590920"/>
            <a:ext cx="1581480" cy="2990160"/>
            <a:chOff x="4038480" y="2590920"/>
            <a:chExt cx="1581480" cy="2990160"/>
          </a:xfrm>
        </p:grpSpPr>
        <p:pic>
          <p:nvPicPr>
            <p:cNvPr id="321" name="MAIA_CHIP_FINAL" descr=""/>
            <p:cNvPicPr/>
            <p:nvPr/>
          </p:nvPicPr>
          <p:blipFill>
            <a:blip r:embed="rId21"/>
            <a:stretch/>
          </p:blipFill>
          <p:spPr>
            <a:xfrm>
              <a:off x="4038480" y="2590920"/>
              <a:ext cx="15019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119480" y="4757760"/>
              <a:ext cx="1500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Reconfigur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(Ma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B2B-84CD-48AF-AF7E-4DA91F778E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806480" y="4630680"/>
            <a:ext cx="6809040" cy="926640"/>
            <a:chOff x="1806480" y="4630680"/>
            <a:chExt cx="6809040" cy="926640"/>
          </a:xfrm>
        </p:grpSpPr>
        <p:sp>
          <p:nvSpPr>
            <p:cNvPr id="324" name=""/>
            <p:cNvSpPr/>
            <p:nvPr/>
          </p:nvSpPr>
          <p:spPr>
            <a:xfrm>
              <a:off x="1806480" y="4630680"/>
              <a:ext cx="4991040" cy="926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mbedded 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1360" y="4705920"/>
              <a:ext cx="160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d3cf"/>
                  </a:solidFill>
                  <a:latin typeface="Arial"/>
                </a:rPr>
                <a:t>SA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d3cf"/>
                  </a:solidFill>
                  <a:latin typeface="Arial"/>
                </a:rPr>
                <a:t>0.4 MIPS/m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811160" y="3728880"/>
            <a:ext cx="6462720" cy="914400"/>
            <a:chOff x="1811160" y="3728880"/>
            <a:chExt cx="6462720" cy="914400"/>
          </a:xfrm>
        </p:grpSpPr>
        <p:sp>
          <p:nvSpPr>
            <p:cNvPr id="327" name=""/>
            <p:cNvSpPr/>
            <p:nvPr/>
          </p:nvSpPr>
          <p:spPr>
            <a:xfrm>
              <a:off x="1811160" y="3728880"/>
              <a:ext cx="3581280" cy="914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I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S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67320" y="4032720"/>
              <a:ext cx="28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2 V DSP: 3 MOPS/m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rgy-Flexibility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06480" y="1895400"/>
            <a:ext cx="1640160" cy="93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798200" y="1523880"/>
            <a:ext cx="1800" cy="402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817640" y="5551560"/>
            <a:ext cx="5451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4635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4120" y="37209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05040" y="28065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05040" y="18921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2600" y="557532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exibility (Cove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-713160" y="3215520"/>
            <a:ext cx="31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gy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PS/mW (or MIPS/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640" y="5270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87160" y="43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59720" y="3506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31920" y="2652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04840" y="1708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814400" y="2832120"/>
            <a:ext cx="5612760" cy="896760"/>
            <a:chOff x="1814400" y="2832120"/>
            <a:chExt cx="5612760" cy="896760"/>
          </a:xfrm>
        </p:grpSpPr>
        <p:sp>
          <p:nvSpPr>
            <p:cNvPr id="345" name=""/>
            <p:cNvSpPr/>
            <p:nvPr/>
          </p:nvSpPr>
          <p:spPr>
            <a:xfrm>
              <a:off x="1814400" y="2832120"/>
              <a:ext cx="3303360" cy="896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nfigurabl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/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39440" y="2889720"/>
              <a:ext cx="218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Arial"/>
                </a:rPr>
                <a:t>Plei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Arial"/>
                </a:rPr>
                <a:t>10-50 MOPS/m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BF3-5458-4C79-B682-4E21938EDF06}" type="slidenum">
              <a:t>21</a:t>
            </a:fld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160" y="503280"/>
            <a:ext cx="90518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ive Multiuser Detection Test 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1960" y="1838160"/>
            <a:ext cx="23760" cy="241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7"/>
                </a:move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8" y="15"/>
                </a:lnTo>
                <a:lnTo>
                  <a:pt x="15" y="15"/>
                </a:lnTo>
                <a:lnTo>
                  <a:pt x="15" y="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5720" y="180180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3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4" y="30"/>
                </a:lnTo>
                <a:lnTo>
                  <a:pt x="114" y="38"/>
                </a:lnTo>
                <a:lnTo>
                  <a:pt x="114" y="38"/>
                </a:lnTo>
                <a:lnTo>
                  <a:pt x="0" y="68"/>
                </a:lnTo>
                <a:lnTo>
                  <a:pt x="0" y="68"/>
                </a:lnTo>
                <a:lnTo>
                  <a:pt x="0" y="61"/>
                </a:lnTo>
                <a:lnTo>
                  <a:pt x="0" y="61"/>
                </a:lnTo>
                <a:lnTo>
                  <a:pt x="114" y="30"/>
                </a:lnTo>
                <a:lnTo>
                  <a:pt x="114" y="30"/>
                </a:lnTo>
                <a:lnTo>
                  <a:pt x="114" y="3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55720" y="1849320"/>
            <a:ext cx="12960" cy="49320"/>
          </a:xfrm>
          <a:custGeom>
            <a:avLst/>
            <a:gdLst/>
            <a:ahLst/>
            <a:rect l="l" t="t" r="r" b="b"/>
            <a:pathLst>
              <a:path w="8" h="31">
                <a:moveTo>
                  <a:pt x="0" y="31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55720" y="1801800"/>
            <a:ext cx="181080" cy="96840"/>
          </a:xfrm>
          <a:custGeom>
            <a:avLst/>
            <a:gdLst/>
            <a:ahLst/>
            <a:rect l="l" t="t" r="r" b="b"/>
            <a:pathLst>
              <a:path w="114" h="61">
                <a:moveTo>
                  <a:pt x="0" y="30"/>
                </a:moveTo>
                <a:lnTo>
                  <a:pt x="0" y="0"/>
                </a:lnTo>
                <a:lnTo>
                  <a:pt x="114" y="30"/>
                </a:lnTo>
                <a:lnTo>
                  <a:pt x="0" y="61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3360" y="1838160"/>
            <a:ext cx="11160" cy="24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44920" y="1838160"/>
            <a:ext cx="10800" cy="24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14520" y="1838160"/>
            <a:ext cx="230400" cy="24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68480" y="1620720"/>
            <a:ext cx="458640" cy="459000"/>
          </a:xfrm>
          <a:custGeom>
            <a:avLst/>
            <a:gdLst/>
            <a:ahLst/>
            <a:rect l="l" t="t" r="r" b="b"/>
            <a:pathLst>
              <a:path w="289" h="289">
                <a:moveTo>
                  <a:pt x="274" y="144"/>
                </a:moveTo>
                <a:lnTo>
                  <a:pt x="266" y="91"/>
                </a:lnTo>
                <a:lnTo>
                  <a:pt x="266" y="99"/>
                </a:lnTo>
                <a:lnTo>
                  <a:pt x="266" y="99"/>
                </a:lnTo>
                <a:lnTo>
                  <a:pt x="236" y="53"/>
                </a:lnTo>
                <a:lnTo>
                  <a:pt x="243" y="53"/>
                </a:lnTo>
                <a:lnTo>
                  <a:pt x="243" y="53"/>
                </a:lnTo>
                <a:lnTo>
                  <a:pt x="198" y="23"/>
                </a:lnTo>
                <a:lnTo>
                  <a:pt x="198" y="23"/>
                </a:lnTo>
                <a:lnTo>
                  <a:pt x="198" y="23"/>
                </a:lnTo>
                <a:lnTo>
                  <a:pt x="144" y="15"/>
                </a:lnTo>
                <a:lnTo>
                  <a:pt x="144" y="15"/>
                </a:lnTo>
                <a:lnTo>
                  <a:pt x="144" y="15"/>
                </a:ln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61" y="53"/>
                </a:lnTo>
                <a:lnTo>
                  <a:pt x="61" y="53"/>
                </a:lnTo>
                <a:lnTo>
                  <a:pt x="61" y="53"/>
                </a:lnTo>
                <a:lnTo>
                  <a:pt x="30" y="99"/>
                </a:lnTo>
                <a:lnTo>
                  <a:pt x="30" y="99"/>
                </a:lnTo>
                <a:lnTo>
                  <a:pt x="30" y="99"/>
                </a:lnTo>
                <a:lnTo>
                  <a:pt x="15" y="152"/>
                </a:lnTo>
                <a:lnTo>
                  <a:pt x="15" y="144"/>
                </a:lnTo>
                <a:lnTo>
                  <a:pt x="15" y="144"/>
                </a:lnTo>
                <a:lnTo>
                  <a:pt x="30" y="198"/>
                </a:lnTo>
                <a:lnTo>
                  <a:pt x="30" y="198"/>
                </a:lnTo>
                <a:lnTo>
                  <a:pt x="30" y="198"/>
                </a:lnTo>
                <a:lnTo>
                  <a:pt x="61" y="243"/>
                </a:lnTo>
                <a:lnTo>
                  <a:pt x="61" y="236"/>
                </a:lnTo>
                <a:lnTo>
                  <a:pt x="61" y="236"/>
                </a:lnTo>
                <a:lnTo>
                  <a:pt x="99" y="258"/>
                </a:lnTo>
                <a:lnTo>
                  <a:pt x="99" y="258"/>
                </a:lnTo>
                <a:lnTo>
                  <a:pt x="99" y="258"/>
                </a:lnTo>
                <a:lnTo>
                  <a:pt x="152" y="274"/>
                </a:lnTo>
                <a:lnTo>
                  <a:pt x="144" y="274"/>
                </a:lnTo>
                <a:lnTo>
                  <a:pt x="144" y="274"/>
                </a:lnTo>
                <a:lnTo>
                  <a:pt x="198" y="258"/>
                </a:lnTo>
                <a:lnTo>
                  <a:pt x="198" y="258"/>
                </a:lnTo>
                <a:lnTo>
                  <a:pt x="198" y="258"/>
                </a:lnTo>
                <a:lnTo>
                  <a:pt x="243" y="236"/>
                </a:lnTo>
                <a:lnTo>
                  <a:pt x="236" y="243"/>
                </a:lnTo>
                <a:lnTo>
                  <a:pt x="236" y="243"/>
                </a:lnTo>
                <a:lnTo>
                  <a:pt x="266" y="198"/>
                </a:lnTo>
                <a:lnTo>
                  <a:pt x="266" y="198"/>
                </a:lnTo>
                <a:lnTo>
                  <a:pt x="266" y="198"/>
                </a:lnTo>
                <a:lnTo>
                  <a:pt x="274" y="144"/>
                </a:lnTo>
                <a:lnTo>
                  <a:pt x="274" y="144"/>
                </a:lnTo>
                <a:lnTo>
                  <a:pt x="289" y="144"/>
                </a:lnTo>
                <a:lnTo>
                  <a:pt x="289" y="144"/>
                </a:lnTo>
                <a:lnTo>
                  <a:pt x="281" y="198"/>
                </a:lnTo>
                <a:lnTo>
                  <a:pt x="281" y="198"/>
                </a:lnTo>
                <a:lnTo>
                  <a:pt x="281" y="205"/>
                </a:lnTo>
                <a:lnTo>
                  <a:pt x="251" y="251"/>
                </a:lnTo>
                <a:lnTo>
                  <a:pt x="251" y="251"/>
                </a:lnTo>
                <a:lnTo>
                  <a:pt x="251" y="251"/>
                </a:lnTo>
                <a:lnTo>
                  <a:pt x="205" y="274"/>
                </a:lnTo>
                <a:lnTo>
                  <a:pt x="205" y="274"/>
                </a:lnTo>
                <a:lnTo>
                  <a:pt x="205" y="274"/>
                </a:lnTo>
                <a:lnTo>
                  <a:pt x="152" y="289"/>
                </a:lnTo>
                <a:lnTo>
                  <a:pt x="152" y="289"/>
                </a:lnTo>
                <a:lnTo>
                  <a:pt x="144" y="289"/>
                </a:lnTo>
                <a:lnTo>
                  <a:pt x="91" y="274"/>
                </a:lnTo>
                <a:lnTo>
                  <a:pt x="91" y="274"/>
                </a:lnTo>
                <a:lnTo>
                  <a:pt x="91" y="274"/>
                </a:lnTo>
                <a:lnTo>
                  <a:pt x="53" y="251"/>
                </a:lnTo>
                <a:lnTo>
                  <a:pt x="53" y="251"/>
                </a:lnTo>
                <a:lnTo>
                  <a:pt x="45" y="251"/>
                </a:lnTo>
                <a:lnTo>
                  <a:pt x="15" y="205"/>
                </a:lnTo>
                <a:lnTo>
                  <a:pt x="15" y="205"/>
                </a:lnTo>
                <a:lnTo>
                  <a:pt x="15" y="205"/>
                </a:lnTo>
                <a:lnTo>
                  <a:pt x="0" y="152"/>
                </a:lnTo>
                <a:lnTo>
                  <a:pt x="0" y="152"/>
                </a:lnTo>
                <a:lnTo>
                  <a:pt x="0" y="144"/>
                </a:lnTo>
                <a:lnTo>
                  <a:pt x="15" y="91"/>
                </a:lnTo>
                <a:lnTo>
                  <a:pt x="15" y="91"/>
                </a:lnTo>
                <a:lnTo>
                  <a:pt x="15" y="91"/>
                </a:lnTo>
                <a:lnTo>
                  <a:pt x="45" y="46"/>
                </a:lnTo>
                <a:lnTo>
                  <a:pt x="45" y="46"/>
                </a:lnTo>
                <a:lnTo>
                  <a:pt x="53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98" y="8"/>
                </a:lnTo>
                <a:lnTo>
                  <a:pt x="198" y="8"/>
                </a:lnTo>
                <a:lnTo>
                  <a:pt x="205" y="8"/>
                </a:lnTo>
                <a:lnTo>
                  <a:pt x="251" y="38"/>
                </a:lnTo>
                <a:lnTo>
                  <a:pt x="251" y="38"/>
                </a:lnTo>
                <a:lnTo>
                  <a:pt x="251" y="46"/>
                </a:lnTo>
                <a:lnTo>
                  <a:pt x="281" y="91"/>
                </a:lnTo>
                <a:lnTo>
                  <a:pt x="281" y="91"/>
                </a:lnTo>
                <a:lnTo>
                  <a:pt x="281" y="91"/>
                </a:lnTo>
                <a:lnTo>
                  <a:pt x="289" y="144"/>
                </a:lnTo>
                <a:lnTo>
                  <a:pt x="274" y="144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3360" y="1849320"/>
            <a:ext cx="23760" cy="1800"/>
          </a:xfrm>
          <a:custGeom>
            <a:avLst/>
            <a:gdLst/>
            <a:ahLst/>
            <a:rect l="l" t="t" r="r" b="b"/>
            <a:pathLst>
              <a:path w="1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60880" y="1403280"/>
            <a:ext cx="361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63640" y="1838160"/>
            <a:ext cx="23760" cy="241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7"/>
                </a:moveTo>
                <a:lnTo>
                  <a:pt x="15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7" y="15"/>
                </a:lnTo>
                <a:lnTo>
                  <a:pt x="15" y="15"/>
                </a:lnTo>
                <a:lnTo>
                  <a:pt x="15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87400" y="180180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3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4" y="30"/>
                </a:lnTo>
                <a:lnTo>
                  <a:pt x="114" y="38"/>
                </a:lnTo>
                <a:lnTo>
                  <a:pt x="114" y="38"/>
                </a:lnTo>
                <a:lnTo>
                  <a:pt x="0" y="68"/>
                </a:lnTo>
                <a:lnTo>
                  <a:pt x="0" y="68"/>
                </a:lnTo>
                <a:lnTo>
                  <a:pt x="0" y="61"/>
                </a:lnTo>
                <a:lnTo>
                  <a:pt x="0" y="61"/>
                </a:lnTo>
                <a:lnTo>
                  <a:pt x="114" y="30"/>
                </a:lnTo>
                <a:lnTo>
                  <a:pt x="114" y="30"/>
                </a:lnTo>
                <a:lnTo>
                  <a:pt x="114" y="38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87400" y="1849320"/>
            <a:ext cx="11160" cy="49320"/>
          </a:xfrm>
          <a:custGeom>
            <a:avLst/>
            <a:gdLst/>
            <a:ahLst/>
            <a:rect l="l" t="t" r="r" b="b"/>
            <a:pathLst>
              <a:path w="7" h="31">
                <a:moveTo>
                  <a:pt x="0" y="31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87400" y="1801800"/>
            <a:ext cx="181080" cy="96840"/>
          </a:xfrm>
          <a:custGeom>
            <a:avLst/>
            <a:gdLst/>
            <a:ahLst/>
            <a:rect l="l" t="t" r="r" b="b"/>
            <a:pathLst>
              <a:path w="114" h="61">
                <a:moveTo>
                  <a:pt x="0" y="30"/>
                </a:moveTo>
                <a:lnTo>
                  <a:pt x="0" y="0"/>
                </a:lnTo>
                <a:lnTo>
                  <a:pt x="114" y="30"/>
                </a:lnTo>
                <a:lnTo>
                  <a:pt x="0" y="61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08160" y="1838160"/>
            <a:ext cx="11160" cy="24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74800" y="1838160"/>
            <a:ext cx="12600" cy="24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1838160"/>
            <a:ext cx="555480" cy="241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08600" y="1838160"/>
            <a:ext cx="23760" cy="241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8" y="15"/>
                </a:lnTo>
                <a:lnTo>
                  <a:pt x="8" y="15"/>
                </a:lnTo>
                <a:lnTo>
                  <a:pt x="15" y="7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1200" y="180180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3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4" y="30"/>
                </a:lnTo>
                <a:lnTo>
                  <a:pt x="114" y="38"/>
                </a:lnTo>
                <a:lnTo>
                  <a:pt x="114" y="38"/>
                </a:lnTo>
                <a:lnTo>
                  <a:pt x="0" y="68"/>
                </a:lnTo>
                <a:lnTo>
                  <a:pt x="0" y="68"/>
                </a:lnTo>
                <a:lnTo>
                  <a:pt x="0" y="61"/>
                </a:lnTo>
                <a:lnTo>
                  <a:pt x="0" y="61"/>
                </a:lnTo>
                <a:lnTo>
                  <a:pt x="114" y="30"/>
                </a:lnTo>
                <a:lnTo>
                  <a:pt x="114" y="30"/>
                </a:lnTo>
                <a:lnTo>
                  <a:pt x="114" y="38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21200" y="1849320"/>
            <a:ext cx="11160" cy="49320"/>
          </a:xfrm>
          <a:custGeom>
            <a:avLst/>
            <a:gdLst/>
            <a:ahLst/>
            <a:rect l="l" t="t" r="r" b="b"/>
            <a:pathLst>
              <a:path w="7" h="31">
                <a:moveTo>
                  <a:pt x="0" y="31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21200" y="1801800"/>
            <a:ext cx="181080" cy="96840"/>
          </a:xfrm>
          <a:custGeom>
            <a:avLst/>
            <a:gdLst/>
            <a:ahLst/>
            <a:rect l="l" t="t" r="r" b="b"/>
            <a:pathLst>
              <a:path w="114" h="61">
                <a:moveTo>
                  <a:pt x="0" y="30"/>
                </a:moveTo>
                <a:lnTo>
                  <a:pt x="0" y="0"/>
                </a:lnTo>
                <a:lnTo>
                  <a:pt x="114" y="30"/>
                </a:lnTo>
                <a:lnTo>
                  <a:pt x="0" y="61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98920" y="1838160"/>
            <a:ext cx="11160" cy="241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21200" y="1838160"/>
            <a:ext cx="11160" cy="241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10080" y="1838160"/>
            <a:ext cx="411120" cy="241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49400" y="1476360"/>
            <a:ext cx="773280" cy="237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98920" y="1488960"/>
            <a:ext cx="23760" cy="698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36800" y="2163600"/>
            <a:ext cx="773280" cy="241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36800" y="1476360"/>
            <a:ext cx="25560" cy="700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4120" y="1560600"/>
            <a:ext cx="103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seban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6320" y="18144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89240" y="2489040"/>
            <a:ext cx="1653840" cy="676440"/>
          </a:xfrm>
          <a:custGeom>
            <a:avLst/>
            <a:gdLst/>
            <a:ahLst/>
            <a:rect l="l" t="t" r="r" b="b"/>
            <a:pathLst>
              <a:path w="1042" h="426">
                <a:moveTo>
                  <a:pt x="144" y="15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23" y="99"/>
                </a:lnTo>
                <a:lnTo>
                  <a:pt x="23" y="91"/>
                </a:lnTo>
                <a:lnTo>
                  <a:pt x="23" y="91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213"/>
                </a:lnTo>
                <a:lnTo>
                  <a:pt x="15" y="213"/>
                </a:lnTo>
                <a:lnTo>
                  <a:pt x="15" y="213"/>
                </a:lnTo>
                <a:lnTo>
                  <a:pt x="15" y="281"/>
                </a:lnTo>
                <a:lnTo>
                  <a:pt x="15" y="281"/>
                </a:lnTo>
                <a:lnTo>
                  <a:pt x="15" y="281"/>
                </a:lnTo>
                <a:lnTo>
                  <a:pt x="23" y="334"/>
                </a:lnTo>
                <a:lnTo>
                  <a:pt x="23" y="334"/>
                </a:lnTo>
                <a:lnTo>
                  <a:pt x="23" y="334"/>
                </a:lnTo>
                <a:lnTo>
                  <a:pt x="53" y="380"/>
                </a:lnTo>
                <a:lnTo>
                  <a:pt x="53" y="372"/>
                </a:lnTo>
                <a:lnTo>
                  <a:pt x="53" y="372"/>
                </a:lnTo>
                <a:lnTo>
                  <a:pt x="99" y="395"/>
                </a:lnTo>
                <a:lnTo>
                  <a:pt x="99" y="395"/>
                </a:lnTo>
                <a:lnTo>
                  <a:pt x="99" y="395"/>
                </a:lnTo>
                <a:lnTo>
                  <a:pt x="152" y="410"/>
                </a:lnTo>
                <a:lnTo>
                  <a:pt x="144" y="410"/>
                </a:lnTo>
                <a:lnTo>
                  <a:pt x="144" y="410"/>
                </a:lnTo>
                <a:lnTo>
                  <a:pt x="525" y="410"/>
                </a:lnTo>
                <a:lnTo>
                  <a:pt x="525" y="410"/>
                </a:lnTo>
                <a:lnTo>
                  <a:pt x="525" y="410"/>
                </a:lnTo>
                <a:lnTo>
                  <a:pt x="897" y="410"/>
                </a:lnTo>
                <a:lnTo>
                  <a:pt x="897" y="410"/>
                </a:lnTo>
                <a:lnTo>
                  <a:pt x="897" y="410"/>
                </a:lnTo>
                <a:lnTo>
                  <a:pt x="950" y="395"/>
                </a:lnTo>
                <a:lnTo>
                  <a:pt x="950" y="395"/>
                </a:lnTo>
                <a:lnTo>
                  <a:pt x="950" y="395"/>
                </a:lnTo>
                <a:lnTo>
                  <a:pt x="996" y="372"/>
                </a:lnTo>
                <a:lnTo>
                  <a:pt x="988" y="380"/>
                </a:lnTo>
                <a:lnTo>
                  <a:pt x="988" y="380"/>
                </a:lnTo>
                <a:lnTo>
                  <a:pt x="1019" y="334"/>
                </a:lnTo>
                <a:lnTo>
                  <a:pt x="1019" y="334"/>
                </a:lnTo>
                <a:lnTo>
                  <a:pt x="1019" y="334"/>
                </a:lnTo>
                <a:lnTo>
                  <a:pt x="1027" y="281"/>
                </a:lnTo>
                <a:lnTo>
                  <a:pt x="1027" y="281"/>
                </a:lnTo>
                <a:lnTo>
                  <a:pt x="1027" y="281"/>
                </a:lnTo>
                <a:lnTo>
                  <a:pt x="1027" y="213"/>
                </a:lnTo>
                <a:lnTo>
                  <a:pt x="1027" y="213"/>
                </a:lnTo>
                <a:lnTo>
                  <a:pt x="1027" y="213"/>
                </a:lnTo>
                <a:lnTo>
                  <a:pt x="1027" y="145"/>
                </a:lnTo>
                <a:lnTo>
                  <a:pt x="1027" y="145"/>
                </a:lnTo>
                <a:lnTo>
                  <a:pt x="1027" y="145"/>
                </a:lnTo>
                <a:lnTo>
                  <a:pt x="1019" y="91"/>
                </a:lnTo>
                <a:lnTo>
                  <a:pt x="1019" y="99"/>
                </a:lnTo>
                <a:lnTo>
                  <a:pt x="1019" y="99"/>
                </a:lnTo>
                <a:lnTo>
                  <a:pt x="988" y="53"/>
                </a:lnTo>
                <a:lnTo>
                  <a:pt x="996" y="53"/>
                </a:lnTo>
                <a:lnTo>
                  <a:pt x="996" y="53"/>
                </a:lnTo>
                <a:lnTo>
                  <a:pt x="950" y="23"/>
                </a:lnTo>
                <a:lnTo>
                  <a:pt x="950" y="23"/>
                </a:lnTo>
                <a:lnTo>
                  <a:pt x="950" y="23"/>
                </a:lnTo>
                <a:lnTo>
                  <a:pt x="897" y="15"/>
                </a:lnTo>
                <a:lnTo>
                  <a:pt x="897" y="15"/>
                </a:lnTo>
                <a:lnTo>
                  <a:pt x="897" y="15"/>
                </a:lnTo>
                <a:lnTo>
                  <a:pt x="525" y="15"/>
                </a:lnTo>
                <a:lnTo>
                  <a:pt x="525" y="15"/>
                </a:lnTo>
                <a:lnTo>
                  <a:pt x="525" y="15"/>
                </a:lnTo>
                <a:lnTo>
                  <a:pt x="144" y="15"/>
                </a:lnTo>
                <a:lnTo>
                  <a:pt x="144" y="15"/>
                </a:lnTo>
                <a:lnTo>
                  <a:pt x="144" y="0"/>
                </a:lnTo>
                <a:lnTo>
                  <a:pt x="144" y="0"/>
                </a:lnTo>
                <a:lnTo>
                  <a:pt x="525" y="0"/>
                </a:lnTo>
                <a:lnTo>
                  <a:pt x="525" y="0"/>
                </a:lnTo>
                <a:lnTo>
                  <a:pt x="525" y="0"/>
                </a:lnTo>
                <a:lnTo>
                  <a:pt x="897" y="0"/>
                </a:lnTo>
                <a:lnTo>
                  <a:pt x="897" y="0"/>
                </a:lnTo>
                <a:lnTo>
                  <a:pt x="897" y="0"/>
                </a:lnTo>
                <a:lnTo>
                  <a:pt x="950" y="8"/>
                </a:lnTo>
                <a:lnTo>
                  <a:pt x="950" y="8"/>
                </a:lnTo>
                <a:lnTo>
                  <a:pt x="958" y="8"/>
                </a:lnTo>
                <a:lnTo>
                  <a:pt x="1004" y="38"/>
                </a:lnTo>
                <a:lnTo>
                  <a:pt x="1004" y="38"/>
                </a:lnTo>
                <a:lnTo>
                  <a:pt x="1004" y="46"/>
                </a:lnTo>
                <a:lnTo>
                  <a:pt x="1034" y="91"/>
                </a:lnTo>
                <a:lnTo>
                  <a:pt x="1034" y="91"/>
                </a:lnTo>
                <a:lnTo>
                  <a:pt x="1034" y="91"/>
                </a:lnTo>
                <a:lnTo>
                  <a:pt x="1042" y="145"/>
                </a:lnTo>
                <a:lnTo>
                  <a:pt x="1042" y="145"/>
                </a:lnTo>
                <a:lnTo>
                  <a:pt x="1042" y="145"/>
                </a:lnTo>
                <a:lnTo>
                  <a:pt x="1042" y="213"/>
                </a:lnTo>
                <a:lnTo>
                  <a:pt x="1042" y="213"/>
                </a:lnTo>
                <a:lnTo>
                  <a:pt x="1042" y="213"/>
                </a:lnTo>
                <a:lnTo>
                  <a:pt x="1042" y="281"/>
                </a:lnTo>
                <a:lnTo>
                  <a:pt x="1042" y="281"/>
                </a:lnTo>
                <a:lnTo>
                  <a:pt x="1042" y="281"/>
                </a:lnTo>
                <a:lnTo>
                  <a:pt x="1034" y="334"/>
                </a:lnTo>
                <a:lnTo>
                  <a:pt x="1034" y="334"/>
                </a:lnTo>
                <a:lnTo>
                  <a:pt x="1034" y="342"/>
                </a:lnTo>
                <a:lnTo>
                  <a:pt x="1004" y="388"/>
                </a:lnTo>
                <a:lnTo>
                  <a:pt x="1004" y="388"/>
                </a:lnTo>
                <a:lnTo>
                  <a:pt x="1004" y="388"/>
                </a:lnTo>
                <a:lnTo>
                  <a:pt x="958" y="410"/>
                </a:lnTo>
                <a:lnTo>
                  <a:pt x="958" y="410"/>
                </a:lnTo>
                <a:lnTo>
                  <a:pt x="958" y="410"/>
                </a:lnTo>
                <a:lnTo>
                  <a:pt x="905" y="426"/>
                </a:lnTo>
                <a:lnTo>
                  <a:pt x="905" y="426"/>
                </a:lnTo>
                <a:lnTo>
                  <a:pt x="897" y="426"/>
                </a:lnTo>
                <a:lnTo>
                  <a:pt x="525" y="426"/>
                </a:lnTo>
                <a:lnTo>
                  <a:pt x="525" y="426"/>
                </a:lnTo>
                <a:lnTo>
                  <a:pt x="525" y="426"/>
                </a:lnTo>
                <a:lnTo>
                  <a:pt x="144" y="426"/>
                </a:lnTo>
                <a:lnTo>
                  <a:pt x="144" y="426"/>
                </a:lnTo>
                <a:lnTo>
                  <a:pt x="144" y="426"/>
                </a:lnTo>
                <a:lnTo>
                  <a:pt x="91" y="410"/>
                </a:lnTo>
                <a:lnTo>
                  <a:pt x="91" y="410"/>
                </a:lnTo>
                <a:lnTo>
                  <a:pt x="91" y="410"/>
                </a:lnTo>
                <a:lnTo>
                  <a:pt x="45" y="388"/>
                </a:lnTo>
                <a:lnTo>
                  <a:pt x="45" y="388"/>
                </a:lnTo>
                <a:lnTo>
                  <a:pt x="38" y="388"/>
                </a:lnTo>
                <a:lnTo>
                  <a:pt x="7" y="342"/>
                </a:lnTo>
                <a:lnTo>
                  <a:pt x="7" y="342"/>
                </a:lnTo>
                <a:lnTo>
                  <a:pt x="7" y="334"/>
                </a:lnTo>
                <a:lnTo>
                  <a:pt x="0" y="281"/>
                </a:lnTo>
                <a:lnTo>
                  <a:pt x="0" y="281"/>
                </a:lnTo>
                <a:lnTo>
                  <a:pt x="0" y="281"/>
                </a:lnTo>
                <a:lnTo>
                  <a:pt x="0" y="213"/>
                </a:lnTo>
                <a:lnTo>
                  <a:pt x="0" y="213"/>
                </a:lnTo>
                <a:lnTo>
                  <a:pt x="0" y="213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38" y="46"/>
                </a:lnTo>
                <a:lnTo>
                  <a:pt x="38" y="46"/>
                </a:lnTo>
                <a:lnTo>
                  <a:pt x="45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4" y="0"/>
                </a:lnTo>
                <a:lnTo>
                  <a:pt x="144" y="15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17840" y="2489040"/>
            <a:ext cx="1440" cy="2412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15"/>
                </a:moveTo>
                <a:lnTo>
                  <a:pt x="0" y="15"/>
                </a:lnTo>
                <a:lnTo>
                  <a:pt x="0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6760" y="2814480"/>
            <a:ext cx="122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84840" y="169380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2400" y="1512720"/>
            <a:ext cx="844560" cy="241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3200" y="1523880"/>
            <a:ext cx="23760" cy="6638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9800" y="2163600"/>
            <a:ext cx="846000" cy="241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49800" y="1512720"/>
            <a:ext cx="23760" cy="663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30880" y="2055960"/>
            <a:ext cx="12600" cy="237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3480" y="2055960"/>
            <a:ext cx="228600" cy="237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1620720"/>
            <a:ext cx="23760" cy="4460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1620720"/>
            <a:ext cx="11160" cy="237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60920" y="1620720"/>
            <a:ext cx="217440" cy="237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30880" y="1838160"/>
            <a:ext cx="12600" cy="241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8360" y="1838160"/>
            <a:ext cx="11160" cy="241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43480" y="1838160"/>
            <a:ext cx="434880" cy="241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29240" y="1838160"/>
            <a:ext cx="2556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8" y="15"/>
                </a:lnTo>
                <a:lnTo>
                  <a:pt x="8" y="15"/>
                </a:lnTo>
                <a:lnTo>
                  <a:pt x="16" y="7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1840" y="180180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3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4" y="30"/>
                </a:lnTo>
                <a:lnTo>
                  <a:pt x="114" y="38"/>
                </a:lnTo>
                <a:lnTo>
                  <a:pt x="114" y="38"/>
                </a:lnTo>
                <a:lnTo>
                  <a:pt x="0" y="68"/>
                </a:lnTo>
                <a:lnTo>
                  <a:pt x="0" y="68"/>
                </a:lnTo>
                <a:lnTo>
                  <a:pt x="0" y="61"/>
                </a:lnTo>
                <a:lnTo>
                  <a:pt x="0" y="61"/>
                </a:lnTo>
                <a:lnTo>
                  <a:pt x="114" y="30"/>
                </a:lnTo>
                <a:lnTo>
                  <a:pt x="114" y="30"/>
                </a:lnTo>
                <a:lnTo>
                  <a:pt x="114" y="3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41840" y="1849320"/>
            <a:ext cx="12960" cy="49320"/>
          </a:xfrm>
          <a:custGeom>
            <a:avLst/>
            <a:gdLst/>
            <a:ahLst/>
            <a:rect l="l" t="t" r="r" b="b"/>
            <a:pathLst>
              <a:path w="8" h="31">
                <a:moveTo>
                  <a:pt x="0" y="31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41840" y="1801800"/>
            <a:ext cx="181080" cy="96840"/>
          </a:xfrm>
          <a:custGeom>
            <a:avLst/>
            <a:gdLst/>
            <a:ahLst/>
            <a:rect l="l" t="t" r="r" b="b"/>
            <a:pathLst>
              <a:path w="114" h="61">
                <a:moveTo>
                  <a:pt x="0" y="30"/>
                </a:moveTo>
                <a:lnTo>
                  <a:pt x="0" y="0"/>
                </a:lnTo>
                <a:lnTo>
                  <a:pt x="114" y="30"/>
                </a:lnTo>
                <a:lnTo>
                  <a:pt x="0" y="61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83200" y="1838160"/>
            <a:ext cx="12600" cy="241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41840" y="1838160"/>
            <a:ext cx="12960" cy="241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5800" y="1838160"/>
            <a:ext cx="446040" cy="2412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97080" y="2260440"/>
            <a:ext cx="2556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8" y="0"/>
                </a:move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8" y="15"/>
                </a:lnTo>
                <a:lnTo>
                  <a:pt x="16" y="15"/>
                </a:lnTo>
                <a:lnTo>
                  <a:pt x="16" y="7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62160" y="2090880"/>
            <a:ext cx="108000" cy="180720"/>
          </a:xfrm>
          <a:custGeom>
            <a:avLst/>
            <a:gdLst/>
            <a:ahLst/>
            <a:rect l="l" t="t" r="r" b="b"/>
            <a:pathLst>
              <a:path w="68" h="114">
                <a:moveTo>
                  <a:pt x="30" y="114"/>
                </a:moveTo>
                <a:lnTo>
                  <a:pt x="0" y="114"/>
                </a:lnTo>
                <a:lnTo>
                  <a:pt x="0" y="114"/>
                </a:lnTo>
                <a:lnTo>
                  <a:pt x="0" y="114"/>
                </a:lnTo>
                <a:lnTo>
                  <a:pt x="30" y="0"/>
                </a:lnTo>
                <a:lnTo>
                  <a:pt x="38" y="0"/>
                </a:lnTo>
                <a:lnTo>
                  <a:pt x="38" y="0"/>
                </a:lnTo>
                <a:lnTo>
                  <a:pt x="68" y="114"/>
                </a:lnTo>
                <a:lnTo>
                  <a:pt x="68" y="114"/>
                </a:lnTo>
                <a:lnTo>
                  <a:pt x="60" y="114"/>
                </a:lnTo>
                <a:lnTo>
                  <a:pt x="60" y="114"/>
                </a:lnTo>
                <a:lnTo>
                  <a:pt x="30" y="0"/>
                </a:lnTo>
                <a:lnTo>
                  <a:pt x="30" y="0"/>
                </a:lnTo>
                <a:lnTo>
                  <a:pt x="38" y="0"/>
                </a:lnTo>
                <a:lnTo>
                  <a:pt x="7" y="114"/>
                </a:lnTo>
                <a:lnTo>
                  <a:pt x="0" y="114"/>
                </a:lnTo>
                <a:lnTo>
                  <a:pt x="0" y="107"/>
                </a:lnTo>
                <a:lnTo>
                  <a:pt x="30" y="107"/>
                </a:lnTo>
                <a:lnTo>
                  <a:pt x="30" y="114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2260440"/>
            <a:ext cx="47880" cy="11160"/>
          </a:xfrm>
          <a:custGeom>
            <a:avLst/>
            <a:gdLst/>
            <a:ahLst/>
            <a:rect l="l" t="t" r="r" b="b"/>
            <a:pathLst>
              <a:path w="30" h="7">
                <a:moveTo>
                  <a:pt x="3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0"/>
                </a:lnTo>
                <a:lnTo>
                  <a:pt x="30" y="7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2160" y="2090880"/>
            <a:ext cx="95400" cy="180720"/>
          </a:xfrm>
          <a:custGeom>
            <a:avLst/>
            <a:gdLst/>
            <a:ahLst/>
            <a:rect l="l" t="t" r="r" b="b"/>
            <a:pathLst>
              <a:path w="60" h="114">
                <a:moveTo>
                  <a:pt x="30" y="114"/>
                </a:moveTo>
                <a:lnTo>
                  <a:pt x="0" y="114"/>
                </a:lnTo>
                <a:lnTo>
                  <a:pt x="30" y="0"/>
                </a:lnTo>
                <a:lnTo>
                  <a:pt x="60" y="114"/>
                </a:lnTo>
                <a:lnTo>
                  <a:pt x="30" y="114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97080" y="2502000"/>
            <a:ext cx="25560" cy="111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97080" y="2260440"/>
            <a:ext cx="25560" cy="111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7080" y="2271600"/>
            <a:ext cx="25560" cy="2304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4480" y="2598840"/>
            <a:ext cx="84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30880" y="2573280"/>
            <a:ext cx="458640" cy="446040"/>
          </a:xfrm>
          <a:custGeom>
            <a:avLst/>
            <a:gdLst/>
            <a:ahLst/>
            <a:rect l="l" t="t" r="r" b="b"/>
            <a:pathLst>
              <a:path w="289" h="281">
                <a:moveTo>
                  <a:pt x="274" y="137"/>
                </a:moveTo>
                <a:lnTo>
                  <a:pt x="267" y="92"/>
                </a:lnTo>
                <a:lnTo>
                  <a:pt x="267" y="99"/>
                </a:lnTo>
                <a:lnTo>
                  <a:pt x="267" y="99"/>
                </a:lnTo>
                <a:lnTo>
                  <a:pt x="236" y="54"/>
                </a:lnTo>
                <a:lnTo>
                  <a:pt x="244" y="54"/>
                </a:lnTo>
                <a:lnTo>
                  <a:pt x="244" y="54"/>
                </a:lnTo>
                <a:lnTo>
                  <a:pt x="198" y="23"/>
                </a:lnTo>
                <a:lnTo>
                  <a:pt x="198" y="23"/>
                </a:lnTo>
                <a:lnTo>
                  <a:pt x="198" y="23"/>
                </a:lnTo>
                <a:lnTo>
                  <a:pt x="145" y="16"/>
                </a:lnTo>
                <a:lnTo>
                  <a:pt x="145" y="16"/>
                </a:lnTo>
                <a:lnTo>
                  <a:pt x="145" y="16"/>
                </a:lnTo>
                <a:lnTo>
                  <a:pt x="92" y="23"/>
                </a:lnTo>
                <a:lnTo>
                  <a:pt x="99" y="23"/>
                </a:lnTo>
                <a:lnTo>
                  <a:pt x="99" y="23"/>
                </a:lnTo>
                <a:lnTo>
                  <a:pt x="54" y="54"/>
                </a:lnTo>
                <a:lnTo>
                  <a:pt x="54" y="54"/>
                </a:lnTo>
                <a:lnTo>
                  <a:pt x="54" y="54"/>
                </a:lnTo>
                <a:lnTo>
                  <a:pt x="23" y="99"/>
                </a:lnTo>
                <a:lnTo>
                  <a:pt x="23" y="92"/>
                </a:lnTo>
                <a:lnTo>
                  <a:pt x="23" y="92"/>
                </a:lnTo>
                <a:lnTo>
                  <a:pt x="16" y="137"/>
                </a:lnTo>
                <a:lnTo>
                  <a:pt x="16" y="137"/>
                </a:lnTo>
                <a:lnTo>
                  <a:pt x="16" y="137"/>
                </a:lnTo>
                <a:lnTo>
                  <a:pt x="23" y="190"/>
                </a:lnTo>
                <a:lnTo>
                  <a:pt x="23" y="190"/>
                </a:lnTo>
                <a:lnTo>
                  <a:pt x="23" y="190"/>
                </a:lnTo>
                <a:lnTo>
                  <a:pt x="54" y="236"/>
                </a:lnTo>
                <a:lnTo>
                  <a:pt x="54" y="228"/>
                </a:lnTo>
                <a:lnTo>
                  <a:pt x="54" y="228"/>
                </a:lnTo>
                <a:lnTo>
                  <a:pt x="99" y="259"/>
                </a:lnTo>
                <a:lnTo>
                  <a:pt x="92" y="259"/>
                </a:lnTo>
                <a:lnTo>
                  <a:pt x="92" y="259"/>
                </a:lnTo>
                <a:lnTo>
                  <a:pt x="145" y="266"/>
                </a:lnTo>
                <a:lnTo>
                  <a:pt x="145" y="266"/>
                </a:lnTo>
                <a:lnTo>
                  <a:pt x="145" y="266"/>
                </a:lnTo>
                <a:lnTo>
                  <a:pt x="198" y="259"/>
                </a:lnTo>
                <a:lnTo>
                  <a:pt x="198" y="259"/>
                </a:lnTo>
                <a:lnTo>
                  <a:pt x="198" y="259"/>
                </a:lnTo>
                <a:lnTo>
                  <a:pt x="244" y="228"/>
                </a:lnTo>
                <a:lnTo>
                  <a:pt x="236" y="236"/>
                </a:lnTo>
                <a:lnTo>
                  <a:pt x="236" y="236"/>
                </a:lnTo>
                <a:lnTo>
                  <a:pt x="267" y="190"/>
                </a:lnTo>
                <a:lnTo>
                  <a:pt x="267" y="190"/>
                </a:lnTo>
                <a:lnTo>
                  <a:pt x="267" y="190"/>
                </a:lnTo>
                <a:lnTo>
                  <a:pt x="274" y="137"/>
                </a:lnTo>
                <a:lnTo>
                  <a:pt x="274" y="137"/>
                </a:lnTo>
                <a:lnTo>
                  <a:pt x="289" y="137"/>
                </a:lnTo>
                <a:lnTo>
                  <a:pt x="289" y="137"/>
                </a:lnTo>
                <a:lnTo>
                  <a:pt x="282" y="190"/>
                </a:lnTo>
                <a:lnTo>
                  <a:pt x="282" y="190"/>
                </a:lnTo>
                <a:lnTo>
                  <a:pt x="282" y="198"/>
                </a:lnTo>
                <a:lnTo>
                  <a:pt x="251" y="243"/>
                </a:lnTo>
                <a:lnTo>
                  <a:pt x="251" y="243"/>
                </a:lnTo>
                <a:lnTo>
                  <a:pt x="251" y="243"/>
                </a:lnTo>
                <a:lnTo>
                  <a:pt x="206" y="274"/>
                </a:lnTo>
                <a:lnTo>
                  <a:pt x="206" y="274"/>
                </a:lnTo>
                <a:lnTo>
                  <a:pt x="198" y="274"/>
                </a:lnTo>
                <a:lnTo>
                  <a:pt x="145" y="281"/>
                </a:lnTo>
                <a:lnTo>
                  <a:pt x="145" y="281"/>
                </a:lnTo>
                <a:lnTo>
                  <a:pt x="145" y="281"/>
                </a:lnTo>
                <a:lnTo>
                  <a:pt x="92" y="274"/>
                </a:lnTo>
                <a:lnTo>
                  <a:pt x="92" y="274"/>
                </a:lnTo>
                <a:lnTo>
                  <a:pt x="92" y="274"/>
                </a:lnTo>
                <a:lnTo>
                  <a:pt x="46" y="243"/>
                </a:lnTo>
                <a:lnTo>
                  <a:pt x="46" y="243"/>
                </a:lnTo>
                <a:lnTo>
                  <a:pt x="38" y="243"/>
                </a:lnTo>
                <a:lnTo>
                  <a:pt x="8" y="198"/>
                </a:lnTo>
                <a:lnTo>
                  <a:pt x="8" y="198"/>
                </a:lnTo>
                <a:lnTo>
                  <a:pt x="8" y="190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8" y="92"/>
                </a:lnTo>
                <a:lnTo>
                  <a:pt x="8" y="92"/>
                </a:lnTo>
                <a:lnTo>
                  <a:pt x="8" y="92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2" y="8"/>
                </a:lnTo>
                <a:lnTo>
                  <a:pt x="92" y="8"/>
                </a:lnTo>
                <a:lnTo>
                  <a:pt x="92" y="8"/>
                </a:lnTo>
                <a:lnTo>
                  <a:pt x="145" y="0"/>
                </a:lnTo>
                <a:lnTo>
                  <a:pt x="145" y="0"/>
                </a:lnTo>
                <a:lnTo>
                  <a:pt x="145" y="0"/>
                </a:lnTo>
                <a:lnTo>
                  <a:pt x="198" y="8"/>
                </a:lnTo>
                <a:lnTo>
                  <a:pt x="198" y="8"/>
                </a:lnTo>
                <a:lnTo>
                  <a:pt x="206" y="8"/>
                </a:lnTo>
                <a:lnTo>
                  <a:pt x="251" y="38"/>
                </a:lnTo>
                <a:lnTo>
                  <a:pt x="251" y="38"/>
                </a:lnTo>
                <a:lnTo>
                  <a:pt x="251" y="46"/>
                </a:lnTo>
                <a:lnTo>
                  <a:pt x="282" y="92"/>
                </a:lnTo>
                <a:lnTo>
                  <a:pt x="282" y="92"/>
                </a:lnTo>
                <a:lnTo>
                  <a:pt x="282" y="92"/>
                </a:lnTo>
                <a:lnTo>
                  <a:pt x="289" y="137"/>
                </a:lnTo>
                <a:lnTo>
                  <a:pt x="274" y="137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65760" y="2790720"/>
            <a:ext cx="23760" cy="1800"/>
          </a:xfrm>
          <a:custGeom>
            <a:avLst/>
            <a:gdLst/>
            <a:ahLst/>
            <a:rect l="l" t="t" r="r" b="b"/>
            <a:pathLst>
              <a:path w="1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40320" y="2779560"/>
            <a:ext cx="11160" cy="2412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68920" y="2779560"/>
            <a:ext cx="12600" cy="241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1480" y="2779560"/>
            <a:ext cx="217440" cy="2412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2900520"/>
            <a:ext cx="23760" cy="108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682720"/>
            <a:ext cx="2376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48320" y="2693880"/>
            <a:ext cx="23760" cy="20664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24160" y="28144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lnTo>
                  <a:pt x="15" y="0"/>
                </a:lnTo>
                <a:lnTo>
                  <a:pt x="7" y="0"/>
                </a:lnTo>
                <a:lnTo>
                  <a:pt x="7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4240" y="276696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114" y="38"/>
                </a:moveTo>
                <a:lnTo>
                  <a:pt x="114" y="68"/>
                </a:lnTo>
                <a:lnTo>
                  <a:pt x="114" y="68"/>
                </a:lnTo>
                <a:lnTo>
                  <a:pt x="114" y="6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114" y="0"/>
                </a:lnTo>
                <a:lnTo>
                  <a:pt x="114" y="0"/>
                </a:lnTo>
                <a:lnTo>
                  <a:pt x="114" y="8"/>
                </a:lnTo>
                <a:lnTo>
                  <a:pt x="114" y="8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114" y="61"/>
                </a:lnTo>
                <a:lnTo>
                  <a:pt x="114" y="68"/>
                </a:lnTo>
                <a:lnTo>
                  <a:pt x="107" y="68"/>
                </a:lnTo>
                <a:lnTo>
                  <a:pt x="107" y="38"/>
                </a:lnTo>
                <a:lnTo>
                  <a:pt x="114" y="38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24160" y="2779560"/>
            <a:ext cx="11160" cy="47880"/>
          </a:xfrm>
          <a:custGeom>
            <a:avLst/>
            <a:gdLst/>
            <a:ahLst/>
            <a:rect l="l" t="t" r="r" b="b"/>
            <a:pathLst>
              <a:path w="7" h="30">
                <a:moveTo>
                  <a:pt x="7" y="0"/>
                </a:moveTo>
                <a:lnTo>
                  <a:pt x="7" y="30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54240" y="2779560"/>
            <a:ext cx="181080" cy="9540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30"/>
                </a:moveTo>
                <a:lnTo>
                  <a:pt x="114" y="60"/>
                </a:lnTo>
                <a:lnTo>
                  <a:pt x="0" y="30"/>
                </a:lnTo>
                <a:lnTo>
                  <a:pt x="114" y="0"/>
                </a:lnTo>
                <a:lnTo>
                  <a:pt x="114" y="30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43480" y="2814480"/>
            <a:ext cx="12600" cy="2556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24160" y="2814480"/>
            <a:ext cx="11160" cy="255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5320" y="2814480"/>
            <a:ext cx="1208160" cy="255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5200" y="2706840"/>
            <a:ext cx="11160" cy="2376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95800" y="2706840"/>
            <a:ext cx="11160" cy="237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86360" y="2706840"/>
            <a:ext cx="109440" cy="237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95040" y="292428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8640" y="25131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16"/>
                </a:moveTo>
                <a:lnTo>
                  <a:pt x="15" y="8"/>
                </a:lnTo>
                <a:lnTo>
                  <a:pt x="7" y="0"/>
                </a:lnTo>
                <a:lnTo>
                  <a:pt x="7" y="0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38640" y="2489040"/>
            <a:ext cx="217440" cy="120960"/>
          </a:xfrm>
          <a:custGeom>
            <a:avLst/>
            <a:gdLst/>
            <a:ahLst/>
            <a:rect l="l" t="t" r="r" b="b"/>
            <a:pathLst>
              <a:path w="137" h="76">
                <a:moveTo>
                  <a:pt x="7" y="31"/>
                </a:move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14" y="69"/>
                </a:lnTo>
                <a:lnTo>
                  <a:pt x="137" y="76"/>
                </a:lnTo>
                <a:lnTo>
                  <a:pt x="114" y="76"/>
                </a:lnTo>
                <a:lnTo>
                  <a:pt x="0" y="69"/>
                </a:lnTo>
                <a:lnTo>
                  <a:pt x="0" y="69"/>
                </a:lnTo>
                <a:lnTo>
                  <a:pt x="0" y="61"/>
                </a:lnTo>
                <a:lnTo>
                  <a:pt x="0" y="61"/>
                </a:lnTo>
                <a:lnTo>
                  <a:pt x="114" y="69"/>
                </a:lnTo>
                <a:lnTo>
                  <a:pt x="114" y="76"/>
                </a:lnTo>
                <a:lnTo>
                  <a:pt x="114" y="76"/>
                </a:lnTo>
                <a:lnTo>
                  <a:pt x="22" y="8"/>
                </a:lnTo>
                <a:lnTo>
                  <a:pt x="22" y="0"/>
                </a:lnTo>
                <a:lnTo>
                  <a:pt x="30" y="0"/>
                </a:lnTo>
                <a:lnTo>
                  <a:pt x="15" y="31"/>
                </a:lnTo>
                <a:lnTo>
                  <a:pt x="7" y="31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38640" y="2538360"/>
            <a:ext cx="23760" cy="47520"/>
          </a:xfrm>
          <a:custGeom>
            <a:avLst/>
            <a:gdLst/>
            <a:ahLst/>
            <a:rect l="l" t="t" r="r" b="b"/>
            <a:pathLst>
              <a:path w="15" h="30">
                <a:moveTo>
                  <a:pt x="0" y="3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7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38640" y="2489040"/>
            <a:ext cx="181080" cy="109800"/>
          </a:xfrm>
          <a:custGeom>
            <a:avLst/>
            <a:gdLst/>
            <a:ahLst/>
            <a:rect l="l" t="t" r="r" b="b"/>
            <a:pathLst>
              <a:path w="114" h="69">
                <a:moveTo>
                  <a:pt x="7" y="31"/>
                </a:moveTo>
                <a:lnTo>
                  <a:pt x="22" y="0"/>
                </a:lnTo>
                <a:lnTo>
                  <a:pt x="114" y="69"/>
                </a:lnTo>
                <a:lnTo>
                  <a:pt x="0" y="61"/>
                </a:lnTo>
                <a:lnTo>
                  <a:pt x="7" y="31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7640" y="1838160"/>
            <a:ext cx="241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7640" y="1849320"/>
            <a:ext cx="24120" cy="555840"/>
          </a:xfrm>
          <a:custGeom>
            <a:avLst/>
            <a:gdLst/>
            <a:ahLst/>
            <a:rect l="l" t="t" r="r" b="b"/>
            <a:pathLst>
              <a:path w="15" h="350">
                <a:moveTo>
                  <a:pt x="15" y="0"/>
                </a:moveTo>
                <a:lnTo>
                  <a:pt x="0" y="0"/>
                </a:lnTo>
                <a:lnTo>
                  <a:pt x="0" y="342"/>
                </a:lnTo>
                <a:lnTo>
                  <a:pt x="0" y="350"/>
                </a:lnTo>
                <a:lnTo>
                  <a:pt x="8" y="350"/>
                </a:lnTo>
                <a:lnTo>
                  <a:pt x="15" y="342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49800" y="25131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8" y="0"/>
                </a:moveTo>
                <a:lnTo>
                  <a:pt x="15" y="0"/>
                </a:lnTo>
                <a:lnTo>
                  <a:pt x="8" y="16"/>
                </a:lnTo>
                <a:lnTo>
                  <a:pt x="0" y="16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00600" y="2381400"/>
            <a:ext cx="361800" cy="156960"/>
          </a:xfrm>
          <a:custGeom>
            <a:avLst/>
            <a:gdLst/>
            <a:ahLst/>
            <a:rect l="l" t="t" r="r" b="b"/>
            <a:pathLst>
              <a:path w="228" h="99">
                <a:moveTo>
                  <a:pt x="7" y="0"/>
                </a:moveTo>
                <a:lnTo>
                  <a:pt x="0" y="15"/>
                </a:lnTo>
                <a:lnTo>
                  <a:pt x="220" y="99"/>
                </a:lnTo>
                <a:lnTo>
                  <a:pt x="228" y="83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59440" y="25131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16"/>
                </a:move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lnTo>
                  <a:pt x="7" y="0"/>
                </a:lnTo>
                <a:lnTo>
                  <a:pt x="7" y="0"/>
                </a:lnTo>
                <a:lnTo>
                  <a:pt x="0" y="8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02120" y="2478240"/>
            <a:ext cx="181080" cy="120600"/>
          </a:xfrm>
          <a:custGeom>
            <a:avLst/>
            <a:gdLst/>
            <a:ahLst/>
            <a:rect l="l" t="t" r="r" b="b"/>
            <a:pathLst>
              <a:path w="114" h="76">
                <a:moveTo>
                  <a:pt x="106" y="38"/>
                </a:moveTo>
                <a:lnTo>
                  <a:pt x="114" y="68"/>
                </a:lnTo>
                <a:lnTo>
                  <a:pt x="114" y="68"/>
                </a:lnTo>
                <a:lnTo>
                  <a:pt x="114" y="68"/>
                </a:lnTo>
                <a:lnTo>
                  <a:pt x="0" y="76"/>
                </a:lnTo>
                <a:lnTo>
                  <a:pt x="0" y="68"/>
                </a:lnTo>
                <a:lnTo>
                  <a:pt x="0" y="68"/>
                </a:lnTo>
                <a:lnTo>
                  <a:pt x="91" y="0"/>
                </a:lnTo>
                <a:lnTo>
                  <a:pt x="91" y="0"/>
                </a:lnTo>
                <a:lnTo>
                  <a:pt x="91" y="7"/>
                </a:lnTo>
                <a:lnTo>
                  <a:pt x="91" y="7"/>
                </a:lnTo>
                <a:lnTo>
                  <a:pt x="0" y="76"/>
                </a:lnTo>
                <a:lnTo>
                  <a:pt x="0" y="68"/>
                </a:lnTo>
                <a:lnTo>
                  <a:pt x="0" y="68"/>
                </a:lnTo>
                <a:lnTo>
                  <a:pt x="114" y="60"/>
                </a:lnTo>
                <a:lnTo>
                  <a:pt x="114" y="68"/>
                </a:lnTo>
                <a:lnTo>
                  <a:pt x="106" y="68"/>
                </a:lnTo>
                <a:lnTo>
                  <a:pt x="99" y="38"/>
                </a:lnTo>
                <a:lnTo>
                  <a:pt x="106" y="3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35680" y="248904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7" y="0"/>
                </a:moveTo>
                <a:lnTo>
                  <a:pt x="22" y="31"/>
                </a:lnTo>
                <a:lnTo>
                  <a:pt x="22" y="31"/>
                </a:lnTo>
                <a:lnTo>
                  <a:pt x="22" y="31"/>
                </a:lnTo>
                <a:lnTo>
                  <a:pt x="15" y="31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02120" y="2489040"/>
            <a:ext cx="181080" cy="109800"/>
          </a:xfrm>
          <a:custGeom>
            <a:avLst/>
            <a:gdLst/>
            <a:ahLst/>
            <a:rect l="l" t="t" r="r" b="b"/>
            <a:pathLst>
              <a:path w="114" h="69">
                <a:moveTo>
                  <a:pt x="106" y="31"/>
                </a:moveTo>
                <a:lnTo>
                  <a:pt x="114" y="61"/>
                </a:lnTo>
                <a:lnTo>
                  <a:pt x="0" y="69"/>
                </a:lnTo>
                <a:lnTo>
                  <a:pt x="91" y="0"/>
                </a:lnTo>
                <a:lnTo>
                  <a:pt x="106" y="31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08640" y="1838160"/>
            <a:ext cx="25200" cy="111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08640" y="1849320"/>
            <a:ext cx="25200" cy="555840"/>
          </a:xfrm>
          <a:custGeom>
            <a:avLst/>
            <a:gdLst/>
            <a:ahLst/>
            <a:rect l="l" t="t" r="r" b="b"/>
            <a:pathLst>
              <a:path w="16" h="350">
                <a:moveTo>
                  <a:pt x="16" y="0"/>
                </a:moveTo>
                <a:lnTo>
                  <a:pt x="0" y="0"/>
                </a:lnTo>
                <a:lnTo>
                  <a:pt x="0" y="342"/>
                </a:lnTo>
                <a:lnTo>
                  <a:pt x="16" y="350"/>
                </a:lnTo>
                <a:lnTo>
                  <a:pt x="16" y="350"/>
                </a:lnTo>
                <a:lnTo>
                  <a:pt x="16" y="342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59440" y="25131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16"/>
                </a:moveTo>
                <a:lnTo>
                  <a:pt x="7" y="16"/>
                </a:lnTo>
                <a:lnTo>
                  <a:pt x="0" y="0"/>
                </a:lnTo>
                <a:lnTo>
                  <a:pt x="7" y="0"/>
                </a:lnTo>
                <a:lnTo>
                  <a:pt x="15" y="16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70600" y="2381400"/>
            <a:ext cx="363240" cy="156960"/>
          </a:xfrm>
          <a:custGeom>
            <a:avLst/>
            <a:gdLst/>
            <a:ahLst/>
            <a:rect l="l" t="t" r="r" b="b"/>
            <a:pathLst>
              <a:path w="229" h="99">
                <a:moveTo>
                  <a:pt x="229" y="15"/>
                </a:moveTo>
                <a:lnTo>
                  <a:pt x="221" y="0"/>
                </a:lnTo>
                <a:lnTo>
                  <a:pt x="0" y="83"/>
                </a:lnTo>
                <a:lnTo>
                  <a:pt x="8" y="99"/>
                </a:lnTo>
                <a:lnTo>
                  <a:pt x="229" y="15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21960" y="316548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36120" y="4100040"/>
            <a:ext cx="3630600" cy="16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changes in channel, environment, and interfering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ommon error metrics such as MSE, and algorithms such as 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co-site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1400" y="339876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ic building block - </a:t>
            </a:r>
            <a:r>
              <a:rPr b="0" i="1" lang="en-US" sz="2000" spc="-1" strike="noStrike">
                <a:solidFill>
                  <a:srgbClr val="fb233d"/>
                </a:solidFill>
                <a:latin typeface="Arial"/>
              </a:rPr>
              <a:t>adaptive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90"/>
          <a:stretch/>
        </p:blipFill>
        <p:spPr>
          <a:xfrm>
            <a:off x="4599000" y="3265560"/>
            <a:ext cx="430380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0A5-2DEE-4640-BC11-F4A1DAA65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lementation Trade-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59080" y="4751280"/>
            <a:ext cx="723960" cy="66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59080" y="4741920"/>
            <a:ext cx="743040" cy="2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73680" y="4751280"/>
            <a:ext cx="28440" cy="68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51160" y="5407200"/>
            <a:ext cx="731880" cy="2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51160" y="4741920"/>
            <a:ext cx="27000" cy="674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54520" y="3736800"/>
            <a:ext cx="133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gnal Upda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46520" y="3662280"/>
            <a:ext cx="1511280" cy="338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46520" y="3652920"/>
            <a:ext cx="1530360" cy="28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48080" y="3662280"/>
            <a:ext cx="28800" cy="35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36800" y="3990960"/>
            <a:ext cx="1521000" cy="28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36800" y="3652920"/>
            <a:ext cx="28800" cy="34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13120" y="2235240"/>
            <a:ext cx="760320" cy="676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13120" y="2225520"/>
            <a:ext cx="779400" cy="28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64080" y="2235240"/>
            <a:ext cx="28440" cy="695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3760" y="2901960"/>
            <a:ext cx="769680" cy="28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03760" y="2225520"/>
            <a:ext cx="28440" cy="685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78040" y="2235240"/>
            <a:ext cx="712800" cy="676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8040" y="2225520"/>
            <a:ext cx="731880" cy="28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81480" y="2235240"/>
            <a:ext cx="28440" cy="6951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8680" y="2901960"/>
            <a:ext cx="722160" cy="28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8680" y="2225520"/>
            <a:ext cx="28440" cy="685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9640" y="3492360"/>
            <a:ext cx="1276200" cy="6667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3484440"/>
            <a:ext cx="1295280" cy="27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76480" y="3492360"/>
            <a:ext cx="28440" cy="685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0280" y="4149720"/>
            <a:ext cx="1285560" cy="28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0280" y="3484440"/>
            <a:ext cx="28440" cy="6746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37080" y="3652920"/>
            <a:ext cx="103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Acquisi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05400" y="3784680"/>
            <a:ext cx="112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Timing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520" y="3736800"/>
            <a:ext cx="133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Signal Upda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46520" y="3662280"/>
            <a:ext cx="1520640" cy="97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57800" y="3662280"/>
            <a:ext cx="9360" cy="347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46520" y="4000680"/>
            <a:ext cx="1511280" cy="93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46520" y="3662280"/>
            <a:ext cx="9360" cy="3384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60480" y="232884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Ada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05200" y="2460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99280" y="2592360"/>
            <a:ext cx="7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Corre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440" y="3840120"/>
            <a:ext cx="19080" cy="284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3360" y="38307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12"/>
                </a:move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12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18" y="12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2440" y="3794040"/>
            <a:ext cx="168120" cy="112680"/>
          </a:xfrm>
          <a:custGeom>
            <a:avLst/>
            <a:gdLst/>
            <a:ahLst/>
            <a:rect l="l" t="t" r="r" b="b"/>
            <a:pathLst>
              <a:path w="106" h="71">
                <a:moveTo>
                  <a:pt x="12" y="3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6" y="35"/>
                </a:lnTo>
                <a:lnTo>
                  <a:pt x="106" y="41"/>
                </a:lnTo>
                <a:lnTo>
                  <a:pt x="106" y="41"/>
                </a:lnTo>
                <a:lnTo>
                  <a:pt x="0" y="71"/>
                </a:lnTo>
                <a:lnTo>
                  <a:pt x="0" y="71"/>
                </a:lnTo>
                <a:lnTo>
                  <a:pt x="0" y="65"/>
                </a:lnTo>
                <a:lnTo>
                  <a:pt x="0" y="65"/>
                </a:lnTo>
                <a:lnTo>
                  <a:pt x="106" y="35"/>
                </a:lnTo>
                <a:lnTo>
                  <a:pt x="106" y="41"/>
                </a:lnTo>
                <a:lnTo>
                  <a:pt x="106" y="41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17" y="35"/>
                </a:lnTo>
                <a:lnTo>
                  <a:pt x="12" y="35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2440" y="3849840"/>
            <a:ext cx="27000" cy="4752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30"/>
                </a:moveTo>
                <a:lnTo>
                  <a:pt x="12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6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2440" y="3794040"/>
            <a:ext cx="168120" cy="103320"/>
          </a:xfrm>
          <a:custGeom>
            <a:avLst/>
            <a:gdLst/>
            <a:ahLst/>
            <a:rect l="l" t="t" r="r" b="b"/>
            <a:pathLst>
              <a:path w="106" h="65">
                <a:moveTo>
                  <a:pt x="12" y="35"/>
                </a:moveTo>
                <a:lnTo>
                  <a:pt x="0" y="0"/>
                </a:lnTo>
                <a:lnTo>
                  <a:pt x="106" y="35"/>
                </a:lnTo>
                <a:lnTo>
                  <a:pt x="0" y="65"/>
                </a:lnTo>
                <a:lnTo>
                  <a:pt x="12" y="35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5600" y="3840120"/>
            <a:ext cx="9360" cy="284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2440" y="3840120"/>
            <a:ext cx="9360" cy="284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4960" y="3840120"/>
            <a:ext cx="357480" cy="28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76480" y="3821040"/>
            <a:ext cx="9360" cy="288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0000" y="3821040"/>
            <a:ext cx="9360" cy="28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85840" y="3821040"/>
            <a:ext cx="254160" cy="288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830760"/>
            <a:ext cx="28800" cy="93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2563920"/>
            <a:ext cx="28800" cy="93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2573280"/>
            <a:ext cx="28800" cy="12574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1120" y="2563920"/>
            <a:ext cx="27000" cy="28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71760" y="256392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17" y="6"/>
                </a:moveTo>
                <a:lnTo>
                  <a:pt x="17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0" y="12"/>
                </a:lnTo>
                <a:lnTo>
                  <a:pt x="6" y="18"/>
                </a:lnTo>
                <a:lnTo>
                  <a:pt x="17" y="12"/>
                </a:lnTo>
                <a:lnTo>
                  <a:pt x="17" y="6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90840" y="2527200"/>
            <a:ext cx="206280" cy="103320"/>
          </a:xfrm>
          <a:custGeom>
            <a:avLst/>
            <a:gdLst/>
            <a:ahLst/>
            <a:rect l="l" t="t" r="r" b="b"/>
            <a:pathLst>
              <a:path w="130" h="65">
                <a:moveTo>
                  <a:pt x="11" y="29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6" y="29"/>
                </a:lnTo>
                <a:lnTo>
                  <a:pt x="130" y="29"/>
                </a:lnTo>
                <a:lnTo>
                  <a:pt x="106" y="35"/>
                </a:lnTo>
                <a:lnTo>
                  <a:pt x="0" y="65"/>
                </a:lnTo>
                <a:lnTo>
                  <a:pt x="0" y="65"/>
                </a:lnTo>
                <a:lnTo>
                  <a:pt x="0" y="59"/>
                </a:lnTo>
                <a:lnTo>
                  <a:pt x="0" y="59"/>
                </a:lnTo>
                <a:lnTo>
                  <a:pt x="106" y="29"/>
                </a:lnTo>
                <a:lnTo>
                  <a:pt x="106" y="35"/>
                </a:lnTo>
                <a:lnTo>
                  <a:pt x="106" y="3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17" y="29"/>
                </a:lnTo>
                <a:lnTo>
                  <a:pt x="11" y="29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90840" y="2573280"/>
            <a:ext cx="27000" cy="4752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30"/>
                </a:move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5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90840" y="2527200"/>
            <a:ext cx="168120" cy="93600"/>
          </a:xfrm>
          <a:custGeom>
            <a:avLst/>
            <a:gdLst/>
            <a:ahLst/>
            <a:rect l="l" t="t" r="r" b="b"/>
            <a:pathLst>
              <a:path w="106" h="59">
                <a:moveTo>
                  <a:pt x="11" y="29"/>
                </a:moveTo>
                <a:lnTo>
                  <a:pt x="0" y="0"/>
                </a:lnTo>
                <a:lnTo>
                  <a:pt x="106" y="29"/>
                </a:lnTo>
                <a:lnTo>
                  <a:pt x="0" y="59"/>
                </a:lnTo>
                <a:lnTo>
                  <a:pt x="11" y="29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30280" y="2563920"/>
            <a:ext cx="9720" cy="284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81120" y="2563920"/>
            <a:ext cx="9720" cy="284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563920"/>
            <a:ext cx="141120" cy="28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81120" y="484488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Ada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15760" y="497664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08760" y="5106960"/>
            <a:ext cx="7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Corre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30280" y="3821040"/>
            <a:ext cx="28800" cy="97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30280" y="5087880"/>
            <a:ext cx="28800" cy="97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30280" y="3830760"/>
            <a:ext cx="28800" cy="12571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71880" y="5079960"/>
            <a:ext cx="28440" cy="270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62160" y="507060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8" y="11"/>
                </a:moveTo>
                <a:lnTo>
                  <a:pt x="12" y="6"/>
                </a:lnTo>
                <a:lnTo>
                  <a:pt x="6" y="0"/>
                </a:ln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6" y="17"/>
                </a:lnTo>
                <a:lnTo>
                  <a:pt x="12" y="17"/>
                </a:lnTo>
                <a:lnTo>
                  <a:pt x="18" y="11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81240" y="5032440"/>
            <a:ext cx="169920" cy="112680"/>
          </a:xfrm>
          <a:custGeom>
            <a:avLst/>
            <a:gdLst/>
            <a:ahLst/>
            <a:rect l="l" t="t" r="r" b="b"/>
            <a:pathLst>
              <a:path w="107" h="71">
                <a:moveTo>
                  <a:pt x="12" y="3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7" y="35"/>
                </a:lnTo>
                <a:lnTo>
                  <a:pt x="107" y="41"/>
                </a:lnTo>
                <a:lnTo>
                  <a:pt x="107" y="41"/>
                </a:lnTo>
                <a:lnTo>
                  <a:pt x="0" y="71"/>
                </a:lnTo>
                <a:lnTo>
                  <a:pt x="0" y="71"/>
                </a:lnTo>
                <a:lnTo>
                  <a:pt x="0" y="65"/>
                </a:lnTo>
                <a:lnTo>
                  <a:pt x="0" y="65"/>
                </a:lnTo>
                <a:lnTo>
                  <a:pt x="107" y="35"/>
                </a:lnTo>
                <a:lnTo>
                  <a:pt x="107" y="41"/>
                </a:lnTo>
                <a:lnTo>
                  <a:pt x="107" y="41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18" y="35"/>
                </a:lnTo>
                <a:lnTo>
                  <a:pt x="12" y="35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81240" y="5087880"/>
            <a:ext cx="28800" cy="4752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30"/>
                </a:moveTo>
                <a:lnTo>
                  <a:pt x="12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6" y="30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81240" y="5032440"/>
            <a:ext cx="169920" cy="102960"/>
          </a:xfrm>
          <a:custGeom>
            <a:avLst/>
            <a:gdLst/>
            <a:ahLst/>
            <a:rect l="l" t="t" r="r" b="b"/>
            <a:pathLst>
              <a:path w="107" h="65">
                <a:moveTo>
                  <a:pt x="12" y="35"/>
                </a:moveTo>
                <a:lnTo>
                  <a:pt x="0" y="0"/>
                </a:lnTo>
                <a:lnTo>
                  <a:pt x="107" y="35"/>
                </a:lnTo>
                <a:lnTo>
                  <a:pt x="0" y="65"/>
                </a:lnTo>
                <a:lnTo>
                  <a:pt x="12" y="35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30280" y="5079960"/>
            <a:ext cx="9720" cy="270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71880" y="5079960"/>
            <a:ext cx="9360" cy="270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40000" y="5079960"/>
            <a:ext cx="731880" cy="270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97360" y="3475080"/>
            <a:ext cx="28440" cy="17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97360" y="345600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2" y="18"/>
                </a:moveTo>
                <a:lnTo>
                  <a:pt x="18" y="18"/>
                </a:lnTo>
                <a:lnTo>
                  <a:pt x="18" y="12"/>
                </a:lnTo>
                <a:lnTo>
                  <a:pt x="18" y="6"/>
                </a:lnTo>
                <a:lnTo>
                  <a:pt x="12" y="0"/>
                </a:lnTo>
                <a:lnTo>
                  <a:pt x="0" y="6"/>
                </a:lnTo>
                <a:lnTo>
                  <a:pt x="0" y="12"/>
                </a:lnTo>
                <a:lnTo>
                  <a:pt x="0" y="18"/>
                </a:lnTo>
                <a:lnTo>
                  <a:pt x="12" y="18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49480" y="3475080"/>
            <a:ext cx="112680" cy="196920"/>
          </a:xfrm>
          <a:custGeom>
            <a:avLst/>
            <a:gdLst/>
            <a:ahLst/>
            <a:rect l="l" t="t" r="r" b="b"/>
            <a:pathLst>
              <a:path w="71" h="124">
                <a:moveTo>
                  <a:pt x="42" y="11"/>
                </a:moveTo>
                <a:lnTo>
                  <a:pt x="71" y="0"/>
                </a:lnTo>
                <a:lnTo>
                  <a:pt x="71" y="0"/>
                </a:lnTo>
                <a:lnTo>
                  <a:pt x="71" y="0"/>
                </a:lnTo>
                <a:lnTo>
                  <a:pt x="42" y="106"/>
                </a:lnTo>
                <a:lnTo>
                  <a:pt x="42" y="124"/>
                </a:lnTo>
                <a:lnTo>
                  <a:pt x="36" y="106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42" y="106"/>
                </a:lnTo>
                <a:lnTo>
                  <a:pt x="36" y="106"/>
                </a:lnTo>
                <a:lnTo>
                  <a:pt x="36" y="106"/>
                </a:lnTo>
                <a:lnTo>
                  <a:pt x="65" y="0"/>
                </a:lnTo>
                <a:lnTo>
                  <a:pt x="71" y="0"/>
                </a:lnTo>
                <a:lnTo>
                  <a:pt x="71" y="6"/>
                </a:lnTo>
                <a:lnTo>
                  <a:pt x="42" y="17"/>
                </a:lnTo>
                <a:lnTo>
                  <a:pt x="42" y="11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59200" y="3475080"/>
            <a:ext cx="5688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0" y="0"/>
                </a:moveTo>
                <a:lnTo>
                  <a:pt x="36" y="11"/>
                </a:lnTo>
                <a:lnTo>
                  <a:pt x="36" y="17"/>
                </a:lnTo>
                <a:lnTo>
                  <a:pt x="36" y="17"/>
                </a:lnTo>
                <a:lnTo>
                  <a:pt x="36" y="17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59200" y="3475080"/>
            <a:ext cx="102960" cy="168120"/>
          </a:xfrm>
          <a:custGeom>
            <a:avLst/>
            <a:gdLst/>
            <a:ahLst/>
            <a:rect l="l" t="t" r="r" b="b"/>
            <a:pathLst>
              <a:path w="65" h="106">
                <a:moveTo>
                  <a:pt x="36" y="11"/>
                </a:moveTo>
                <a:lnTo>
                  <a:pt x="65" y="0"/>
                </a:lnTo>
                <a:lnTo>
                  <a:pt x="36" y="106"/>
                </a:lnTo>
                <a:lnTo>
                  <a:pt x="0" y="0"/>
                </a:lnTo>
                <a:lnTo>
                  <a:pt x="36" y="11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06720" y="2901960"/>
            <a:ext cx="28440" cy="936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06720" y="3475080"/>
            <a:ext cx="28440" cy="93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06720" y="2911320"/>
            <a:ext cx="28440" cy="5637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70240" y="3475080"/>
            <a:ext cx="28800" cy="1728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79960" y="345600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8"/>
                </a:moveTo>
                <a:lnTo>
                  <a:pt x="12" y="18"/>
                </a:lnTo>
                <a:lnTo>
                  <a:pt x="18" y="12"/>
                </a:lnTo>
                <a:lnTo>
                  <a:pt x="12" y="6"/>
                </a:lnTo>
                <a:lnTo>
                  <a:pt x="6" y="0"/>
                </a:lnTo>
                <a:lnTo>
                  <a:pt x="0" y="6"/>
                </a:lnTo>
                <a:lnTo>
                  <a:pt x="0" y="12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32440" y="3475080"/>
            <a:ext cx="102960" cy="206280"/>
          </a:xfrm>
          <a:custGeom>
            <a:avLst/>
            <a:gdLst/>
            <a:ahLst/>
            <a:rect l="l" t="t" r="r" b="b"/>
            <a:pathLst>
              <a:path w="65" h="130">
                <a:moveTo>
                  <a:pt x="36" y="11"/>
                </a:moveTo>
                <a:lnTo>
                  <a:pt x="65" y="0"/>
                </a:lnTo>
                <a:lnTo>
                  <a:pt x="65" y="0"/>
                </a:lnTo>
                <a:lnTo>
                  <a:pt x="65" y="0"/>
                </a:lnTo>
                <a:lnTo>
                  <a:pt x="36" y="106"/>
                </a:lnTo>
                <a:lnTo>
                  <a:pt x="36" y="130"/>
                </a:lnTo>
                <a:lnTo>
                  <a:pt x="30" y="106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36" y="106"/>
                </a:lnTo>
                <a:lnTo>
                  <a:pt x="30" y="106"/>
                </a:lnTo>
                <a:lnTo>
                  <a:pt x="30" y="106"/>
                </a:lnTo>
                <a:lnTo>
                  <a:pt x="60" y="0"/>
                </a:lnTo>
                <a:lnTo>
                  <a:pt x="65" y="0"/>
                </a:lnTo>
                <a:lnTo>
                  <a:pt x="65" y="6"/>
                </a:lnTo>
                <a:lnTo>
                  <a:pt x="36" y="17"/>
                </a:lnTo>
                <a:lnTo>
                  <a:pt x="36" y="11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41800" y="3475080"/>
            <a:ext cx="47520" cy="270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11"/>
                </a:lnTo>
                <a:lnTo>
                  <a:pt x="30" y="17"/>
                </a:lnTo>
                <a:lnTo>
                  <a:pt x="30" y="17"/>
                </a:lnTo>
                <a:lnTo>
                  <a:pt x="30" y="17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1800" y="3475080"/>
            <a:ext cx="93600" cy="168120"/>
          </a:xfrm>
          <a:custGeom>
            <a:avLst/>
            <a:gdLst/>
            <a:ahLst/>
            <a:rect l="l" t="t" r="r" b="b"/>
            <a:pathLst>
              <a:path w="59" h="106">
                <a:moveTo>
                  <a:pt x="30" y="11"/>
                </a:moveTo>
                <a:lnTo>
                  <a:pt x="59" y="0"/>
                </a:lnTo>
                <a:lnTo>
                  <a:pt x="30" y="106"/>
                </a:lnTo>
                <a:lnTo>
                  <a:pt x="0" y="0"/>
                </a:lnTo>
                <a:lnTo>
                  <a:pt x="30" y="11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79960" y="2901960"/>
            <a:ext cx="28440" cy="9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9960" y="3475080"/>
            <a:ext cx="2844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79960" y="2911320"/>
            <a:ext cx="28440" cy="5637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79840" y="4562640"/>
            <a:ext cx="27000" cy="1872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87760" y="454500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6" y="17"/>
                </a:moveTo>
                <a:lnTo>
                  <a:pt x="12" y="17"/>
                </a:lnTo>
                <a:lnTo>
                  <a:pt x="18" y="11"/>
                </a:lnTo>
                <a:lnTo>
                  <a:pt x="12" y="6"/>
                </a:lnTo>
                <a:lnTo>
                  <a:pt x="6" y="0"/>
                </a:ln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41680" y="4562640"/>
            <a:ext cx="103320" cy="206280"/>
          </a:xfrm>
          <a:custGeom>
            <a:avLst/>
            <a:gdLst/>
            <a:ahLst/>
            <a:rect l="l" t="t" r="r" b="b"/>
            <a:pathLst>
              <a:path w="65" h="130">
                <a:moveTo>
                  <a:pt x="35" y="12"/>
                </a:moveTo>
                <a:lnTo>
                  <a:pt x="65" y="0"/>
                </a:lnTo>
                <a:lnTo>
                  <a:pt x="65" y="0"/>
                </a:lnTo>
                <a:lnTo>
                  <a:pt x="65" y="0"/>
                </a:lnTo>
                <a:lnTo>
                  <a:pt x="35" y="107"/>
                </a:lnTo>
                <a:lnTo>
                  <a:pt x="35" y="130"/>
                </a:lnTo>
                <a:lnTo>
                  <a:pt x="29" y="107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35" y="107"/>
                </a:lnTo>
                <a:lnTo>
                  <a:pt x="29" y="107"/>
                </a:lnTo>
                <a:lnTo>
                  <a:pt x="29" y="107"/>
                </a:lnTo>
                <a:lnTo>
                  <a:pt x="59" y="0"/>
                </a:lnTo>
                <a:lnTo>
                  <a:pt x="65" y="0"/>
                </a:lnTo>
                <a:lnTo>
                  <a:pt x="65" y="6"/>
                </a:lnTo>
                <a:lnTo>
                  <a:pt x="35" y="18"/>
                </a:lnTo>
                <a:lnTo>
                  <a:pt x="35" y="12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51400" y="4562640"/>
            <a:ext cx="4572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0" y="0"/>
                </a:moveTo>
                <a:lnTo>
                  <a:pt x="29" y="12"/>
                </a:lnTo>
                <a:lnTo>
                  <a:pt x="29" y="18"/>
                </a:lnTo>
                <a:lnTo>
                  <a:pt x="29" y="18"/>
                </a:lnTo>
                <a:lnTo>
                  <a:pt x="29" y="18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51400" y="4562640"/>
            <a:ext cx="93600" cy="169560"/>
          </a:xfrm>
          <a:custGeom>
            <a:avLst/>
            <a:gdLst/>
            <a:ahLst/>
            <a:rect l="l" t="t" r="r" b="b"/>
            <a:pathLst>
              <a:path w="59" h="107">
                <a:moveTo>
                  <a:pt x="29" y="12"/>
                </a:moveTo>
                <a:lnTo>
                  <a:pt x="59" y="0"/>
                </a:lnTo>
                <a:lnTo>
                  <a:pt x="29" y="107"/>
                </a:lnTo>
                <a:lnTo>
                  <a:pt x="0" y="0"/>
                </a:lnTo>
                <a:lnTo>
                  <a:pt x="29" y="12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7760" y="3990960"/>
            <a:ext cx="28440" cy="972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7760" y="4562640"/>
            <a:ext cx="28440" cy="93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7760" y="4000680"/>
            <a:ext cx="28440" cy="5619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79840" y="5651640"/>
            <a:ext cx="27000" cy="1908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7760" y="56325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8"/>
                </a:moveTo>
                <a:lnTo>
                  <a:pt x="12" y="18"/>
                </a:lnTo>
                <a:lnTo>
                  <a:pt x="18" y="12"/>
                </a:lnTo>
                <a:lnTo>
                  <a:pt x="12" y="6"/>
                </a:lnTo>
                <a:lnTo>
                  <a:pt x="6" y="0"/>
                </a:lnTo>
                <a:lnTo>
                  <a:pt x="0" y="6"/>
                </a:lnTo>
                <a:lnTo>
                  <a:pt x="0" y="12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41680" y="5651640"/>
            <a:ext cx="103320" cy="206280"/>
          </a:xfrm>
          <a:custGeom>
            <a:avLst/>
            <a:gdLst/>
            <a:ahLst/>
            <a:rect l="l" t="t" r="r" b="b"/>
            <a:pathLst>
              <a:path w="65" h="130">
                <a:moveTo>
                  <a:pt x="35" y="12"/>
                </a:moveTo>
                <a:lnTo>
                  <a:pt x="65" y="0"/>
                </a:lnTo>
                <a:lnTo>
                  <a:pt x="65" y="0"/>
                </a:lnTo>
                <a:lnTo>
                  <a:pt x="65" y="0"/>
                </a:lnTo>
                <a:lnTo>
                  <a:pt x="35" y="107"/>
                </a:lnTo>
                <a:lnTo>
                  <a:pt x="35" y="130"/>
                </a:lnTo>
                <a:lnTo>
                  <a:pt x="29" y="107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35" y="107"/>
                </a:lnTo>
                <a:lnTo>
                  <a:pt x="29" y="107"/>
                </a:lnTo>
                <a:lnTo>
                  <a:pt x="29" y="107"/>
                </a:lnTo>
                <a:lnTo>
                  <a:pt x="59" y="0"/>
                </a:lnTo>
                <a:lnTo>
                  <a:pt x="65" y="0"/>
                </a:lnTo>
                <a:lnTo>
                  <a:pt x="65" y="6"/>
                </a:lnTo>
                <a:lnTo>
                  <a:pt x="35" y="18"/>
                </a:lnTo>
                <a:lnTo>
                  <a:pt x="35" y="12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51400" y="5651640"/>
            <a:ext cx="4572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0" y="0"/>
                </a:moveTo>
                <a:lnTo>
                  <a:pt x="29" y="12"/>
                </a:lnTo>
                <a:lnTo>
                  <a:pt x="29" y="18"/>
                </a:lnTo>
                <a:lnTo>
                  <a:pt x="29" y="18"/>
                </a:lnTo>
                <a:lnTo>
                  <a:pt x="29" y="18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51400" y="5651640"/>
            <a:ext cx="93600" cy="169560"/>
          </a:xfrm>
          <a:custGeom>
            <a:avLst/>
            <a:gdLst/>
            <a:ahLst/>
            <a:rect l="l" t="t" r="r" b="b"/>
            <a:pathLst>
              <a:path w="59" h="107">
                <a:moveTo>
                  <a:pt x="29" y="12"/>
                </a:moveTo>
                <a:lnTo>
                  <a:pt x="59" y="0"/>
                </a:lnTo>
                <a:lnTo>
                  <a:pt x="29" y="107"/>
                </a:lnTo>
                <a:lnTo>
                  <a:pt x="0" y="0"/>
                </a:lnTo>
                <a:lnTo>
                  <a:pt x="29" y="12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7760" y="5407200"/>
            <a:ext cx="28440" cy="93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7760" y="5651640"/>
            <a:ext cx="28440" cy="93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7760" y="5416560"/>
            <a:ext cx="28440" cy="23508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91320" y="32115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81320" y="3259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4560" y="32115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56360" y="3259080"/>
            <a:ext cx="15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8880" y="4619520"/>
            <a:ext cx="167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Base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75240" y="4290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47240" y="4346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5960" y="2386080"/>
            <a:ext cx="17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6280" y="5783400"/>
            <a:ext cx="60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3040" y="2066760"/>
            <a:ext cx="4327560" cy="3538800"/>
          </a:xfrm>
          <a:custGeom>
            <a:avLst/>
            <a:gdLst/>
            <a:ahLst/>
            <a:rect l="l" t="t" r="r" b="b"/>
            <a:pathLst>
              <a:path w="2726" h="2229">
                <a:moveTo>
                  <a:pt x="112" y="18"/>
                </a:moveTo>
                <a:lnTo>
                  <a:pt x="71" y="24"/>
                </a:lnTo>
                <a:lnTo>
                  <a:pt x="77" y="18"/>
                </a:lnTo>
                <a:lnTo>
                  <a:pt x="77" y="18"/>
                </a:lnTo>
                <a:lnTo>
                  <a:pt x="47" y="41"/>
                </a:lnTo>
                <a:lnTo>
                  <a:pt x="47" y="41"/>
                </a:lnTo>
                <a:lnTo>
                  <a:pt x="47" y="41"/>
                </a:lnTo>
                <a:lnTo>
                  <a:pt x="23" y="71"/>
                </a:lnTo>
                <a:lnTo>
                  <a:pt x="29" y="71"/>
                </a:lnTo>
                <a:lnTo>
                  <a:pt x="29" y="71"/>
                </a:lnTo>
                <a:lnTo>
                  <a:pt x="18" y="118"/>
                </a:lnTo>
                <a:lnTo>
                  <a:pt x="18" y="112"/>
                </a:lnTo>
                <a:lnTo>
                  <a:pt x="18" y="112"/>
                </a:lnTo>
                <a:lnTo>
                  <a:pt x="18" y="1111"/>
                </a:lnTo>
                <a:lnTo>
                  <a:pt x="18" y="1111"/>
                </a:lnTo>
                <a:lnTo>
                  <a:pt x="18" y="1111"/>
                </a:lnTo>
                <a:lnTo>
                  <a:pt x="18" y="2110"/>
                </a:lnTo>
                <a:lnTo>
                  <a:pt x="18" y="2110"/>
                </a:lnTo>
                <a:lnTo>
                  <a:pt x="18" y="2110"/>
                </a:lnTo>
                <a:lnTo>
                  <a:pt x="29" y="2152"/>
                </a:lnTo>
                <a:lnTo>
                  <a:pt x="23" y="2146"/>
                </a:lnTo>
                <a:lnTo>
                  <a:pt x="23" y="2146"/>
                </a:lnTo>
                <a:lnTo>
                  <a:pt x="47" y="2181"/>
                </a:lnTo>
                <a:lnTo>
                  <a:pt x="47" y="2181"/>
                </a:lnTo>
                <a:lnTo>
                  <a:pt x="47" y="2181"/>
                </a:lnTo>
                <a:lnTo>
                  <a:pt x="77" y="2205"/>
                </a:lnTo>
                <a:lnTo>
                  <a:pt x="71" y="2205"/>
                </a:lnTo>
                <a:lnTo>
                  <a:pt x="71" y="2205"/>
                </a:lnTo>
                <a:lnTo>
                  <a:pt x="112" y="2211"/>
                </a:lnTo>
                <a:lnTo>
                  <a:pt x="112" y="2211"/>
                </a:lnTo>
                <a:lnTo>
                  <a:pt x="112" y="2211"/>
                </a:lnTo>
                <a:lnTo>
                  <a:pt x="1360" y="2211"/>
                </a:lnTo>
                <a:lnTo>
                  <a:pt x="1360" y="2211"/>
                </a:lnTo>
                <a:lnTo>
                  <a:pt x="1360" y="2211"/>
                </a:lnTo>
                <a:lnTo>
                  <a:pt x="2608" y="2211"/>
                </a:lnTo>
                <a:lnTo>
                  <a:pt x="2608" y="2211"/>
                </a:lnTo>
                <a:lnTo>
                  <a:pt x="2608" y="2211"/>
                </a:lnTo>
                <a:lnTo>
                  <a:pt x="2649" y="2205"/>
                </a:lnTo>
                <a:lnTo>
                  <a:pt x="2643" y="2205"/>
                </a:lnTo>
                <a:lnTo>
                  <a:pt x="2643" y="2205"/>
                </a:lnTo>
                <a:lnTo>
                  <a:pt x="2679" y="2181"/>
                </a:lnTo>
                <a:lnTo>
                  <a:pt x="2679" y="2181"/>
                </a:lnTo>
                <a:lnTo>
                  <a:pt x="2679" y="2181"/>
                </a:lnTo>
                <a:lnTo>
                  <a:pt x="2702" y="2146"/>
                </a:lnTo>
                <a:lnTo>
                  <a:pt x="2702" y="2152"/>
                </a:lnTo>
                <a:lnTo>
                  <a:pt x="2702" y="2152"/>
                </a:lnTo>
                <a:lnTo>
                  <a:pt x="2708" y="2110"/>
                </a:lnTo>
                <a:lnTo>
                  <a:pt x="2708" y="2110"/>
                </a:lnTo>
                <a:lnTo>
                  <a:pt x="2708" y="2110"/>
                </a:lnTo>
                <a:lnTo>
                  <a:pt x="2708" y="1111"/>
                </a:lnTo>
                <a:lnTo>
                  <a:pt x="2708" y="1111"/>
                </a:lnTo>
                <a:lnTo>
                  <a:pt x="2708" y="1111"/>
                </a:lnTo>
                <a:lnTo>
                  <a:pt x="2708" y="112"/>
                </a:lnTo>
                <a:lnTo>
                  <a:pt x="2708" y="112"/>
                </a:lnTo>
                <a:lnTo>
                  <a:pt x="2708" y="112"/>
                </a:lnTo>
                <a:lnTo>
                  <a:pt x="2702" y="65"/>
                </a:lnTo>
                <a:lnTo>
                  <a:pt x="2702" y="71"/>
                </a:lnTo>
                <a:lnTo>
                  <a:pt x="2702" y="71"/>
                </a:lnTo>
                <a:lnTo>
                  <a:pt x="2679" y="41"/>
                </a:lnTo>
                <a:lnTo>
                  <a:pt x="2679" y="41"/>
                </a:lnTo>
                <a:lnTo>
                  <a:pt x="2679" y="41"/>
                </a:lnTo>
                <a:lnTo>
                  <a:pt x="2643" y="18"/>
                </a:lnTo>
                <a:lnTo>
                  <a:pt x="2649" y="24"/>
                </a:lnTo>
                <a:lnTo>
                  <a:pt x="2649" y="24"/>
                </a:lnTo>
                <a:lnTo>
                  <a:pt x="2608" y="18"/>
                </a:lnTo>
                <a:lnTo>
                  <a:pt x="2608" y="18"/>
                </a:lnTo>
                <a:lnTo>
                  <a:pt x="2608" y="18"/>
                </a:lnTo>
                <a:lnTo>
                  <a:pt x="1360" y="18"/>
                </a:lnTo>
                <a:lnTo>
                  <a:pt x="1360" y="18"/>
                </a:lnTo>
                <a:lnTo>
                  <a:pt x="1360" y="18"/>
                </a:lnTo>
                <a:lnTo>
                  <a:pt x="112" y="18"/>
                </a:lnTo>
                <a:lnTo>
                  <a:pt x="112" y="18"/>
                </a:lnTo>
                <a:lnTo>
                  <a:pt x="112" y="0"/>
                </a:lnTo>
                <a:lnTo>
                  <a:pt x="112" y="0"/>
                </a:lnTo>
                <a:lnTo>
                  <a:pt x="1360" y="0"/>
                </a:lnTo>
                <a:lnTo>
                  <a:pt x="1360" y="0"/>
                </a:lnTo>
                <a:lnTo>
                  <a:pt x="1360" y="0"/>
                </a:lnTo>
                <a:lnTo>
                  <a:pt x="2608" y="0"/>
                </a:lnTo>
                <a:lnTo>
                  <a:pt x="2608" y="0"/>
                </a:lnTo>
                <a:lnTo>
                  <a:pt x="2608" y="0"/>
                </a:lnTo>
                <a:lnTo>
                  <a:pt x="2649" y="6"/>
                </a:lnTo>
                <a:lnTo>
                  <a:pt x="2649" y="6"/>
                </a:lnTo>
                <a:lnTo>
                  <a:pt x="2655" y="6"/>
                </a:lnTo>
                <a:lnTo>
                  <a:pt x="2691" y="29"/>
                </a:lnTo>
                <a:lnTo>
                  <a:pt x="2691" y="29"/>
                </a:lnTo>
                <a:lnTo>
                  <a:pt x="2691" y="29"/>
                </a:lnTo>
                <a:lnTo>
                  <a:pt x="2714" y="59"/>
                </a:lnTo>
                <a:lnTo>
                  <a:pt x="2714" y="59"/>
                </a:lnTo>
                <a:lnTo>
                  <a:pt x="2720" y="65"/>
                </a:lnTo>
                <a:lnTo>
                  <a:pt x="2726" y="112"/>
                </a:lnTo>
                <a:lnTo>
                  <a:pt x="2726" y="112"/>
                </a:lnTo>
                <a:lnTo>
                  <a:pt x="2726" y="112"/>
                </a:lnTo>
                <a:lnTo>
                  <a:pt x="2726" y="1111"/>
                </a:lnTo>
                <a:lnTo>
                  <a:pt x="2726" y="1111"/>
                </a:lnTo>
                <a:lnTo>
                  <a:pt x="2726" y="1111"/>
                </a:lnTo>
                <a:lnTo>
                  <a:pt x="2726" y="2110"/>
                </a:lnTo>
                <a:lnTo>
                  <a:pt x="2726" y="2110"/>
                </a:lnTo>
                <a:lnTo>
                  <a:pt x="2726" y="2110"/>
                </a:lnTo>
                <a:lnTo>
                  <a:pt x="2720" y="2152"/>
                </a:lnTo>
                <a:lnTo>
                  <a:pt x="2720" y="2152"/>
                </a:lnTo>
                <a:lnTo>
                  <a:pt x="2714" y="2158"/>
                </a:lnTo>
                <a:lnTo>
                  <a:pt x="2691" y="2193"/>
                </a:lnTo>
                <a:lnTo>
                  <a:pt x="2691" y="2193"/>
                </a:lnTo>
                <a:lnTo>
                  <a:pt x="2691" y="2193"/>
                </a:lnTo>
                <a:lnTo>
                  <a:pt x="2655" y="2217"/>
                </a:lnTo>
                <a:lnTo>
                  <a:pt x="2655" y="2217"/>
                </a:lnTo>
                <a:lnTo>
                  <a:pt x="2649" y="2223"/>
                </a:lnTo>
                <a:lnTo>
                  <a:pt x="2608" y="2229"/>
                </a:lnTo>
                <a:lnTo>
                  <a:pt x="2608" y="2229"/>
                </a:lnTo>
                <a:lnTo>
                  <a:pt x="2608" y="2229"/>
                </a:lnTo>
                <a:lnTo>
                  <a:pt x="1360" y="2229"/>
                </a:lnTo>
                <a:lnTo>
                  <a:pt x="1360" y="2229"/>
                </a:lnTo>
                <a:lnTo>
                  <a:pt x="1360" y="2229"/>
                </a:lnTo>
                <a:lnTo>
                  <a:pt x="112" y="2229"/>
                </a:lnTo>
                <a:lnTo>
                  <a:pt x="112" y="2229"/>
                </a:lnTo>
                <a:lnTo>
                  <a:pt x="112" y="2229"/>
                </a:lnTo>
                <a:lnTo>
                  <a:pt x="71" y="2223"/>
                </a:lnTo>
                <a:lnTo>
                  <a:pt x="71" y="2223"/>
                </a:lnTo>
                <a:lnTo>
                  <a:pt x="65" y="2217"/>
                </a:lnTo>
                <a:lnTo>
                  <a:pt x="35" y="2193"/>
                </a:lnTo>
                <a:lnTo>
                  <a:pt x="35" y="2193"/>
                </a:lnTo>
                <a:lnTo>
                  <a:pt x="35" y="2193"/>
                </a:lnTo>
                <a:lnTo>
                  <a:pt x="12" y="2158"/>
                </a:lnTo>
                <a:lnTo>
                  <a:pt x="12" y="2158"/>
                </a:lnTo>
                <a:lnTo>
                  <a:pt x="12" y="2158"/>
                </a:lnTo>
                <a:lnTo>
                  <a:pt x="0" y="2116"/>
                </a:lnTo>
                <a:lnTo>
                  <a:pt x="0" y="2116"/>
                </a:lnTo>
                <a:lnTo>
                  <a:pt x="0" y="2110"/>
                </a:lnTo>
                <a:lnTo>
                  <a:pt x="0" y="1111"/>
                </a:lnTo>
                <a:lnTo>
                  <a:pt x="0" y="1111"/>
                </a:lnTo>
                <a:lnTo>
                  <a:pt x="0" y="1111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12" y="65"/>
                </a:lnTo>
                <a:lnTo>
                  <a:pt x="12" y="65"/>
                </a:lnTo>
                <a:lnTo>
                  <a:pt x="12" y="59"/>
                </a:lnTo>
                <a:lnTo>
                  <a:pt x="35" y="29"/>
                </a:lnTo>
                <a:lnTo>
                  <a:pt x="35" y="29"/>
                </a:lnTo>
                <a:lnTo>
                  <a:pt x="35" y="29"/>
                </a:lnTo>
                <a:lnTo>
                  <a:pt x="65" y="6"/>
                </a:lnTo>
                <a:lnTo>
                  <a:pt x="65" y="6"/>
                </a:lnTo>
                <a:lnTo>
                  <a:pt x="71" y="6"/>
                </a:lnTo>
                <a:lnTo>
                  <a:pt x="112" y="0"/>
                </a:lnTo>
                <a:lnTo>
                  <a:pt x="112" y="18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200" y="2066760"/>
            <a:ext cx="1440" cy="28800"/>
          </a:xfrm>
          <a:custGeom>
            <a:avLst/>
            <a:gdLst/>
            <a:ahLst/>
            <a:rect l="l" t="t" r="r" b="b"/>
            <a:pathLst>
              <a:path w="0" h="18">
                <a:moveTo>
                  <a:pt x="0" y="18"/>
                </a:moveTo>
                <a:lnTo>
                  <a:pt x="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83160" y="485460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61040" y="310824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04520" y="3220920"/>
            <a:ext cx="53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effic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25040" y="3333600"/>
            <a:ext cx="47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stima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45000" y="4309920"/>
            <a:ext cx="360" cy="972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28880" y="4309920"/>
            <a:ext cx="360" cy="97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45000" y="4309920"/>
            <a:ext cx="83880" cy="972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25800" y="231156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Ada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69080" y="24415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53440" y="2563920"/>
            <a:ext cx="7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Corre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00"/>
          <a:srcRect l="10626" t="25003" r="13749" b="31253"/>
          <a:stretch/>
        </p:blipFill>
        <p:spPr>
          <a:xfrm>
            <a:off x="4876920" y="2895480"/>
            <a:ext cx="4114800" cy="190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5" name=""/>
          <p:cNvSpPr/>
          <p:nvPr/>
        </p:nvSpPr>
        <p:spPr>
          <a:xfrm rot="16200000">
            <a:off x="-109800" y="33962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56040" y="1673280"/>
            <a:ext cx="3678480" cy="703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5120"/>
              <a:gd name="adj5" fmla="val 101787"/>
              <a:gd name="adj6" fmla="val -49064"/>
            </a:avLst>
          </a:prstGeom>
          <a:solidFill>
            <a:srgbClr val="ff6a1f"/>
          </a:solidFill>
          <a:ln w="12600">
            <a:solidFill>
              <a:srgbClr val="ff6a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00 million multiplications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57 million add-sub’s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B52-2F43-4D6D-998A-00EE21A57E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768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nfigurable Computing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ing Efficiency and Versa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2819520"/>
            <a:ext cx="4229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” customized to specifics of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Direct map of problem specific data-flow and contr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s “adapted” as problem requirement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393920" y="1644480"/>
            <a:ext cx="5619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86c00"/>
                </a:solidFill>
                <a:latin typeface="Times New Roman"/>
              </a:rPr>
              <a:t>Spatially programmed connec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86c00"/>
                </a:solidFill>
                <a:latin typeface="Times New Roman"/>
              </a:rPr>
              <a:t>processing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hdw_compute" descr=""/>
          <p:cNvPicPr/>
          <p:nvPr/>
        </p:nvPicPr>
        <p:blipFill>
          <a:blip r:embed="rId1"/>
          <a:stretch/>
        </p:blipFill>
        <p:spPr>
          <a:xfrm>
            <a:off x="1219320" y="2657520"/>
            <a:ext cx="2927160" cy="3209760"/>
          </a:xfrm>
          <a:prstGeom prst="rect">
            <a:avLst/>
          </a:prstGeom>
          <a:ln w="0">
            <a:noFill/>
          </a:ln>
          <a:effectLst>
            <a:outerShdw dist="134955" dir="2927119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A9A-4C7F-4958-ABBD-F4B136C53CD3}" type="slidenum">
              <a:t>24</a:t>
            </a:fld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00280" y="3808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granularity Reconfigurable Architect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rkeley Pleiade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69880" y="1447920"/>
            <a:ext cx="4763520" cy="3741480"/>
            <a:chOff x="569880" y="1447920"/>
            <a:chExt cx="4763520" cy="3741480"/>
          </a:xfrm>
        </p:grpSpPr>
        <p:grpSp>
          <p:nvGrpSpPr>
            <p:cNvPr id="583" name=""/>
            <p:cNvGrpSpPr/>
            <p:nvPr/>
          </p:nvGrpSpPr>
          <p:grpSpPr>
            <a:xfrm>
              <a:off x="965160" y="3274920"/>
              <a:ext cx="4143240" cy="484200"/>
              <a:chOff x="965160" y="3274920"/>
              <a:chExt cx="4143240" cy="48420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65160" y="3274920"/>
                <a:ext cx="4143240" cy="4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058760" y="3436560"/>
                <a:ext cx="383580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69696"/>
                    </a:solidFill>
                    <a:latin typeface="Times New Roman"/>
                  </a:rPr>
                  <a:t>Communication 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50320" y="4030560"/>
              <a:ext cx="1262160" cy="804960"/>
              <a:chOff x="850320" y="4030560"/>
              <a:chExt cx="1262160" cy="804960"/>
            </a:xfrm>
          </p:grpSpPr>
          <p:pic>
            <p:nvPicPr>
              <p:cNvPr id="5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82000" y="4030560"/>
                <a:ext cx="123048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850320" y="4131360"/>
                <a:ext cx="11772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900000" y="2211480"/>
              <a:ext cx="1369440" cy="804600"/>
              <a:chOff x="900000" y="2211480"/>
              <a:chExt cx="1369440" cy="804600"/>
            </a:xfrm>
          </p:grpSpPr>
          <p:pic>
            <p:nvPicPr>
              <p:cNvPr id="5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5640" y="2211480"/>
                <a:ext cx="13338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900000" y="2312280"/>
                <a:ext cx="12870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370240" y="2211480"/>
              <a:ext cx="1369440" cy="804600"/>
              <a:chOff x="2370240" y="2211480"/>
              <a:chExt cx="1369440" cy="804600"/>
            </a:xfrm>
          </p:grpSpPr>
          <p:pic>
            <p:nvPicPr>
              <p:cNvPr id="5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520" y="2211480"/>
                <a:ext cx="13341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2370240" y="2312280"/>
                <a:ext cx="12870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3838680" y="2211480"/>
              <a:ext cx="1369440" cy="804600"/>
              <a:chOff x="3838680" y="2211480"/>
              <a:chExt cx="1369440" cy="804600"/>
            </a:xfrm>
          </p:grpSpPr>
          <p:pic>
            <p:nvPicPr>
              <p:cNvPr id="5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73960" y="2211480"/>
                <a:ext cx="13341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3838680" y="2312280"/>
                <a:ext cx="12870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121480" y="4030560"/>
              <a:ext cx="1603800" cy="804960"/>
              <a:chOff x="2121480" y="4030560"/>
              <a:chExt cx="1603800" cy="804960"/>
            </a:xfrm>
          </p:grpSpPr>
          <p:pic>
            <p:nvPicPr>
              <p:cNvPr id="5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66840" y="4030560"/>
                <a:ext cx="155844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2121480" y="4131360"/>
                <a:ext cx="1530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Times New Roman"/>
                  </a:rPr>
                  <a:t>Configur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Times New Roman"/>
                  </a:rPr>
                  <a:t>Datapa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3729600" y="4030560"/>
              <a:ext cx="1603800" cy="804960"/>
              <a:chOff x="3729600" y="4030560"/>
              <a:chExt cx="1603800" cy="804960"/>
            </a:xfrm>
          </p:grpSpPr>
          <p:pic>
            <p:nvPicPr>
              <p:cNvPr id="6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774960" y="4030560"/>
                <a:ext cx="155844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3729600" y="4131360"/>
                <a:ext cx="1530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Times New Roman"/>
                  </a:rPr>
                  <a:t>Configur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Times New Roman"/>
                  </a:rPr>
                  <a:t>Log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1417320" y="3024360"/>
              <a:ext cx="338400" cy="23796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13" y="0"/>
                  </a:moveTo>
                  <a:lnTo>
                    <a:pt x="227" y="31"/>
                  </a:lnTo>
                  <a:lnTo>
                    <a:pt x="170" y="31"/>
                  </a:lnTo>
                  <a:lnTo>
                    <a:pt x="170" y="126"/>
                  </a:lnTo>
                  <a:lnTo>
                    <a:pt x="227" y="126"/>
                  </a:lnTo>
                  <a:lnTo>
                    <a:pt x="113" y="157"/>
                  </a:lnTo>
                  <a:lnTo>
                    <a:pt x="0" y="126"/>
                  </a:lnTo>
                  <a:lnTo>
                    <a:pt x="57" y="126"/>
                  </a:lnTo>
                  <a:lnTo>
                    <a:pt x="57" y="31"/>
                  </a:lnTo>
                  <a:lnTo>
                    <a:pt x="0" y="31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89000" y="3009960"/>
              <a:ext cx="338400" cy="23796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13" y="0"/>
                  </a:moveTo>
                  <a:lnTo>
                    <a:pt x="227" y="31"/>
                  </a:lnTo>
                  <a:lnTo>
                    <a:pt x="170" y="31"/>
                  </a:lnTo>
                  <a:lnTo>
                    <a:pt x="170" y="126"/>
                  </a:lnTo>
                  <a:lnTo>
                    <a:pt x="227" y="126"/>
                  </a:lnTo>
                  <a:lnTo>
                    <a:pt x="113" y="157"/>
                  </a:lnTo>
                  <a:lnTo>
                    <a:pt x="0" y="126"/>
                  </a:lnTo>
                  <a:lnTo>
                    <a:pt x="57" y="126"/>
                  </a:lnTo>
                  <a:lnTo>
                    <a:pt x="57" y="31"/>
                  </a:lnTo>
                  <a:lnTo>
                    <a:pt x="0" y="31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57440" y="3024360"/>
              <a:ext cx="338400" cy="23796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13" y="0"/>
                  </a:moveTo>
                  <a:lnTo>
                    <a:pt x="227" y="31"/>
                  </a:lnTo>
                  <a:lnTo>
                    <a:pt x="170" y="31"/>
                  </a:lnTo>
                  <a:lnTo>
                    <a:pt x="170" y="126"/>
                  </a:lnTo>
                  <a:lnTo>
                    <a:pt x="227" y="126"/>
                  </a:lnTo>
                  <a:lnTo>
                    <a:pt x="113" y="157"/>
                  </a:lnTo>
                  <a:lnTo>
                    <a:pt x="0" y="126"/>
                  </a:lnTo>
                  <a:lnTo>
                    <a:pt x="57" y="126"/>
                  </a:lnTo>
                  <a:lnTo>
                    <a:pt x="57" y="31"/>
                  </a:lnTo>
                  <a:lnTo>
                    <a:pt x="0" y="31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61880" y="3760920"/>
              <a:ext cx="338040" cy="299880"/>
            </a:xfrm>
            <a:custGeom>
              <a:avLst/>
              <a:gdLst/>
              <a:ahLst/>
              <a:rect l="l" t="t" r="r" b="b"/>
              <a:pathLst>
                <a:path w="228" h="199">
                  <a:moveTo>
                    <a:pt x="113" y="0"/>
                  </a:moveTo>
                  <a:lnTo>
                    <a:pt x="227" y="40"/>
                  </a:lnTo>
                  <a:lnTo>
                    <a:pt x="170" y="40"/>
                  </a:lnTo>
                  <a:lnTo>
                    <a:pt x="170" y="158"/>
                  </a:lnTo>
                  <a:lnTo>
                    <a:pt x="227" y="158"/>
                  </a:lnTo>
                  <a:lnTo>
                    <a:pt x="113" y="198"/>
                  </a:lnTo>
                  <a:lnTo>
                    <a:pt x="0" y="158"/>
                  </a:lnTo>
                  <a:lnTo>
                    <a:pt x="57" y="158"/>
                  </a:lnTo>
                  <a:lnTo>
                    <a:pt x="57" y="40"/>
                  </a:lnTo>
                  <a:lnTo>
                    <a:pt x="0" y="40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74880" y="3759120"/>
              <a:ext cx="338040" cy="289080"/>
            </a:xfrm>
            <a:custGeom>
              <a:avLst/>
              <a:gdLst/>
              <a:ahLst/>
              <a:rect l="l" t="t" r="r" b="b"/>
              <a:pathLst>
                <a:path w="228" h="191">
                  <a:moveTo>
                    <a:pt x="113" y="0"/>
                  </a:moveTo>
                  <a:lnTo>
                    <a:pt x="227" y="38"/>
                  </a:lnTo>
                  <a:lnTo>
                    <a:pt x="170" y="38"/>
                  </a:lnTo>
                  <a:lnTo>
                    <a:pt x="170" y="152"/>
                  </a:lnTo>
                  <a:lnTo>
                    <a:pt x="227" y="152"/>
                  </a:lnTo>
                  <a:lnTo>
                    <a:pt x="113" y="190"/>
                  </a:lnTo>
                  <a:lnTo>
                    <a:pt x="0" y="152"/>
                  </a:lnTo>
                  <a:lnTo>
                    <a:pt x="57" y="152"/>
                  </a:lnTo>
                  <a:lnTo>
                    <a:pt x="57" y="38"/>
                  </a:lnTo>
                  <a:lnTo>
                    <a:pt x="0" y="38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57440" y="3759120"/>
              <a:ext cx="338400" cy="289080"/>
            </a:xfrm>
            <a:custGeom>
              <a:avLst/>
              <a:gdLst/>
              <a:ahLst/>
              <a:rect l="l" t="t" r="r" b="b"/>
              <a:pathLst>
                <a:path w="228" h="191">
                  <a:moveTo>
                    <a:pt x="113" y="0"/>
                  </a:moveTo>
                  <a:lnTo>
                    <a:pt x="227" y="38"/>
                  </a:lnTo>
                  <a:lnTo>
                    <a:pt x="170" y="38"/>
                  </a:lnTo>
                  <a:lnTo>
                    <a:pt x="170" y="152"/>
                  </a:lnTo>
                  <a:lnTo>
                    <a:pt x="227" y="152"/>
                  </a:lnTo>
                  <a:lnTo>
                    <a:pt x="113" y="190"/>
                  </a:lnTo>
                  <a:lnTo>
                    <a:pt x="0" y="152"/>
                  </a:lnTo>
                  <a:lnTo>
                    <a:pt x="57" y="152"/>
                  </a:lnTo>
                  <a:lnTo>
                    <a:pt x="57" y="38"/>
                  </a:lnTo>
                  <a:lnTo>
                    <a:pt x="0" y="38"/>
                  </a:lnTo>
                  <a:lnTo>
                    <a:pt x="113" y="0"/>
                  </a:lnTo>
                </a:path>
              </a:pathLst>
            </a:custGeom>
            <a:solidFill>
              <a:srgbClr val="b0a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9880" y="1881360"/>
              <a:ext cx="4286160" cy="120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2560" y="5070600"/>
              <a:ext cx="4286160" cy="118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9880" y="2021040"/>
              <a:ext cx="104760" cy="3168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2560" y="4289400"/>
              <a:ext cx="195120" cy="271440"/>
            </a:xfrm>
            <a:prstGeom prst="leftArrow">
              <a:avLst>
                <a:gd name="adj1" fmla="val 50000"/>
                <a:gd name="adj2" fmla="val 24991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82560" y="3443400"/>
              <a:ext cx="264960" cy="239760"/>
            </a:xfrm>
            <a:prstGeom prst="leftArrow">
              <a:avLst>
                <a:gd name="adj1" fmla="val 50000"/>
                <a:gd name="adj2" fmla="val 27617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73840" y="2000160"/>
              <a:ext cx="211320" cy="238320"/>
            </a:xfrm>
            <a:prstGeom prst="downArrow">
              <a:avLst>
                <a:gd name="adj1" fmla="val 50000"/>
                <a:gd name="adj2" fmla="val 28194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999520" y="2000160"/>
              <a:ext cx="212760" cy="238320"/>
            </a:xfrm>
            <a:prstGeom prst="downArrow">
              <a:avLst>
                <a:gd name="adj1" fmla="val 50000"/>
                <a:gd name="adj2" fmla="val 28003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415400" y="2000160"/>
              <a:ext cx="209880" cy="238320"/>
            </a:xfrm>
            <a:prstGeom prst="downArrow">
              <a:avLst>
                <a:gd name="adj1" fmla="val 50000"/>
                <a:gd name="adj2" fmla="val 28388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20960" y="4832280"/>
              <a:ext cx="245880" cy="336600"/>
            </a:xfrm>
            <a:prstGeom prst="upArrow">
              <a:avLst>
                <a:gd name="adj1" fmla="val 50000"/>
                <a:gd name="adj2" fmla="val 34211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7480" y="1447920"/>
              <a:ext cx="207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Configuration 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6080" y="4832280"/>
              <a:ext cx="245880" cy="336600"/>
            </a:xfrm>
            <a:prstGeom prst="upArrow">
              <a:avLst>
                <a:gd name="adj1" fmla="val 50000"/>
                <a:gd name="adj2" fmla="val 34211"/>
              </a:avLst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299200" y="1576440"/>
            <a:ext cx="3539520" cy="2914200"/>
            <a:chOff x="5299200" y="1576440"/>
            <a:chExt cx="3539520" cy="2914200"/>
          </a:xfrm>
        </p:grpSpPr>
        <p:pic>
          <p:nvPicPr>
            <p:cNvPr id="622" name="" descr=""/>
            <p:cNvPicPr/>
            <p:nvPr/>
          </p:nvPicPr>
          <p:blipFill>
            <a:blip r:embed="rId8"/>
            <a:stretch/>
          </p:blipFill>
          <p:spPr>
            <a:xfrm>
              <a:off x="6342840" y="2117160"/>
              <a:ext cx="21898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6486840" y="3897000"/>
              <a:ext cx="1782000" cy="362520"/>
            </a:xfrm>
            <a:prstGeom prst="rect">
              <a:avLst/>
            </a:prstGeom>
            <a:solidFill>
              <a:srgbClr val="d3d3d3"/>
            </a:solidFill>
            <a:ln w="1260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Network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28360" y="2373840"/>
              <a:ext cx="1068840" cy="1378080"/>
            </a:xfrm>
            <a:prstGeom prst="rect">
              <a:avLst/>
            </a:prstGeom>
            <a:solidFill>
              <a:srgbClr val="d3d3d3"/>
            </a:solidFill>
            <a:ln w="1260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Dedicated</a:t>
              </a:r>
              <a:br>
                <a:rPr sz="1800"/>
              </a:b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Arithme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486120" y="2373840"/>
              <a:ext cx="427320" cy="1378080"/>
            </a:xfrm>
            <a:prstGeom prst="rect">
              <a:avLst/>
            </a:prstGeom>
            <a:solidFill>
              <a:srgbClr val="d3d3d3"/>
            </a:solidFill>
            <a:ln w="1260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6" name="" descr=""/>
            <p:cNvPicPr/>
            <p:nvPr/>
          </p:nvPicPr>
          <p:blipFill>
            <a:blip r:embed="rId9"/>
            <a:stretch/>
          </p:blipFill>
          <p:spPr>
            <a:xfrm>
              <a:off x="5299200" y="2398320"/>
              <a:ext cx="961920" cy="6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273000" y="1576440"/>
              <a:ext cx="2565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tellite 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659880" y="5257800"/>
            <a:ext cx="5707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al kernels are “spawned” to satellit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rocessor supports RTOS and re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(s) of magnitude energy-reduction over tradi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archit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059-BC7C-485C-B963-CCF8725C1F63}" type="slidenum">
              <a:t>25</a:t>
            </a:fld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0480" y="579600"/>
            <a:ext cx="80960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Reconfigurable Processor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ed at ISSC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9720" y="1239840"/>
            <a:ext cx="80438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52880" y="1847880"/>
            <a:ext cx="350532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um tech: 5.2mm x 6.7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 Million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MHz at 1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RM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SRAMs &amp; 8 A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A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x8 FP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figurable Interconn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ccff"/>
                </a:solidFill>
                <a:latin typeface="Arial"/>
              </a:rPr>
              <a:t>1.8 m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le running VCELP, compared with 17mW on TMS320C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063800" y="1928880"/>
            <a:ext cx="3240000" cy="4217760"/>
            <a:chOff x="1063800" y="1928880"/>
            <a:chExt cx="3240000" cy="4217760"/>
          </a:xfrm>
        </p:grpSpPr>
        <p:pic>
          <p:nvPicPr>
            <p:cNvPr id="633" name="MAIA_CHIP_FINAL" descr=""/>
            <p:cNvPicPr/>
            <p:nvPr/>
          </p:nvPicPr>
          <p:blipFill>
            <a:blip r:embed="rId1"/>
            <a:stretch/>
          </p:blipFill>
          <p:spPr>
            <a:xfrm>
              <a:off x="1063800" y="1928880"/>
              <a:ext cx="3240000" cy="42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125080" y="5084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M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5320" y="4687920"/>
              <a:ext cx="2525760" cy="113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066680" y="13906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Source Coding Pro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A9D-0802-4FC4-8672-79395B83C1F0}" type="slidenum">
              <a:t>26</a:t>
            </a:fld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rcRect l="4398" t="40582" r="3708" b="20740"/>
          <a:stretch/>
        </p:blipFill>
        <p:spPr>
          <a:xfrm>
            <a:off x="814320" y="2665440"/>
            <a:ext cx="7002360" cy="22035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50600" y="1565280"/>
            <a:ext cx="64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MS Correlator at 1.67 M Symbols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: 300 Mmacs/sec and 640 Mmem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66720" y="5546880"/>
            <a:ext cx="79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S implementation requires 36 parallel processors to meet data rate 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idity questio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2560" y="4952880"/>
            <a:ext cx="3227400" cy="520560"/>
          </a:xfrm>
          <a:prstGeom prst="borderCallout1">
            <a:avLst>
              <a:gd name="adj1" fmla="val 18750"/>
              <a:gd name="adj2" fmla="val -8333"/>
              <a:gd name="adj3" fmla="val -197439"/>
              <a:gd name="adj4" fmla="val -52083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.69 MOPs/m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793-A0F1-42AC-A7B6-A7C3FD5019B0}" type="slidenum">
              <a:t>27</a:t>
            </a:fld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5240" y="426960"/>
            <a:ext cx="85518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o System-on-a-Chip Night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62120" y="1371600"/>
            <a:ext cx="6252480" cy="5029200"/>
            <a:chOff x="762120" y="1371600"/>
            <a:chExt cx="6252480" cy="5029200"/>
          </a:xfrm>
        </p:grpSpPr>
        <p:pic>
          <p:nvPicPr>
            <p:cNvPr id="644" name="nudehair40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3660480" cy="5029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645" name=""/>
            <p:cNvSpPr/>
            <p:nvPr/>
          </p:nvSpPr>
          <p:spPr>
            <a:xfrm>
              <a:off x="4802400" y="5435640"/>
              <a:ext cx="221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mme se coiffant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blo Ruiz Pica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A5C-40A6-4D37-B9D6-A6F2065A69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 rot="20214600">
            <a:off x="7934400" y="230148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52720" y="654120"/>
            <a:ext cx="2486160" cy="1295280"/>
          </a:xfrm>
          <a:custGeom>
            <a:avLst/>
            <a:gdLst/>
            <a:ahLst/>
            <a:rect l="l" t="t" r="r" b="b"/>
            <a:pathLst>
              <a:path w="1326" h="720">
                <a:moveTo>
                  <a:pt x="0" y="720"/>
                </a:moveTo>
                <a:lnTo>
                  <a:pt x="432" y="0"/>
                </a:lnTo>
                <a:lnTo>
                  <a:pt x="903" y="2"/>
                </a:lnTo>
                <a:lnTo>
                  <a:pt x="1326" y="719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53d053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3280" y="657360"/>
            <a:ext cx="3284640" cy="1296720"/>
          </a:xfrm>
          <a:custGeom>
            <a:avLst/>
            <a:gdLst/>
            <a:ahLst/>
            <a:rect l="l" t="t" r="r" b="b"/>
            <a:pathLst>
              <a:path w="1752" h="721">
                <a:moveTo>
                  <a:pt x="424" y="721"/>
                </a:moveTo>
                <a:lnTo>
                  <a:pt x="0" y="0"/>
                </a:lnTo>
                <a:lnTo>
                  <a:pt x="454" y="0"/>
                </a:lnTo>
                <a:lnTo>
                  <a:pt x="1752" y="717"/>
                </a:lnTo>
                <a:lnTo>
                  <a:pt x="424" y="721"/>
                </a:lnTo>
                <a:close/>
              </a:path>
            </a:pathLst>
          </a:custGeom>
          <a:gradFill rotWithShape="0">
            <a:gsLst>
              <a:gs pos="0">
                <a:srgbClr val="7ca6d0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3680" y="658800"/>
            <a:ext cx="3305160" cy="1290600"/>
          </a:xfrm>
          <a:custGeom>
            <a:avLst/>
            <a:gdLst/>
            <a:ahLst/>
            <a:rect l="l" t="t" r="r" b="b"/>
            <a:pathLst>
              <a:path w="1763" h="717">
                <a:moveTo>
                  <a:pt x="0" y="717"/>
                </a:moveTo>
                <a:lnTo>
                  <a:pt x="1276" y="0"/>
                </a:lnTo>
                <a:lnTo>
                  <a:pt x="1763" y="0"/>
                </a:lnTo>
                <a:lnTo>
                  <a:pt x="1331" y="716"/>
                </a:lnTo>
                <a:lnTo>
                  <a:pt x="0" y="717"/>
                </a:lnTo>
                <a:close/>
              </a:path>
            </a:pathLst>
          </a:custGeom>
          <a:gradFill rotWithShape="0">
            <a:gsLst>
              <a:gs pos="0">
                <a:srgbClr val="d07c7c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63680" y="1949400"/>
            <a:ext cx="7467480" cy="1343160"/>
            <a:chOff x="463680" y="1949400"/>
            <a:chExt cx="7467480" cy="1343160"/>
          </a:xfrm>
        </p:grpSpPr>
        <p:sp>
          <p:nvSpPr>
            <p:cNvPr id="651" name=""/>
            <p:cNvSpPr/>
            <p:nvPr/>
          </p:nvSpPr>
          <p:spPr>
            <a:xfrm>
              <a:off x="2952720" y="1949400"/>
              <a:ext cx="2489040" cy="1343160"/>
            </a:xfrm>
            <a:prstGeom prst="rect">
              <a:avLst/>
            </a:prstGeom>
            <a:gradFill rotWithShape="0">
              <a:gsLst>
                <a:gs pos="0">
                  <a:srgbClr val="53d053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41760" y="1949400"/>
              <a:ext cx="2489400" cy="1343160"/>
            </a:xfrm>
            <a:prstGeom prst="rect">
              <a:avLst/>
            </a:prstGeom>
            <a:gradFill rotWithShape="0">
              <a:gsLst>
                <a:gs pos="0">
                  <a:srgbClr val="7ca6d0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" y="1949400"/>
              <a:ext cx="2489040" cy="1343160"/>
            </a:xfrm>
            <a:prstGeom prst="rect">
              <a:avLst/>
            </a:prstGeom>
            <a:gradFill rotWithShape="0">
              <a:gsLst>
                <a:gs pos="0">
                  <a:srgbClr val="d07c7c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952720" y="3392640"/>
            <a:ext cx="2489400" cy="15238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72080" y="3392640"/>
            <a:ext cx="2359080" cy="15238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3680" y="3392640"/>
            <a:ext cx="2365200" cy="1523880"/>
          </a:xfrm>
          <a:prstGeom prst="rect">
            <a:avLst/>
          </a:prstGeom>
          <a:gradFill rotWithShape="0">
            <a:gsLst>
              <a:gs pos="0">
                <a:srgbClr val="d07c7c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955960" y="4911120"/>
            <a:ext cx="2486160" cy="1299960"/>
          </a:xfrm>
          <a:custGeom>
            <a:avLst/>
            <a:gdLst/>
            <a:ahLst/>
            <a:rect l="l" t="t" r="r" b="b"/>
            <a:pathLst>
              <a:path w="1326" h="720">
                <a:moveTo>
                  <a:pt x="0" y="720"/>
                </a:moveTo>
                <a:lnTo>
                  <a:pt x="432" y="0"/>
                </a:lnTo>
                <a:lnTo>
                  <a:pt x="903" y="2"/>
                </a:lnTo>
                <a:lnTo>
                  <a:pt x="1326" y="719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809960" y="4906800"/>
            <a:ext cx="3121200" cy="1301760"/>
          </a:xfrm>
          <a:custGeom>
            <a:avLst/>
            <a:gdLst/>
            <a:ahLst/>
            <a:rect l="l" t="t" r="r" b="b"/>
            <a:pathLst>
              <a:path w="1752" h="721">
                <a:moveTo>
                  <a:pt x="424" y="721"/>
                </a:moveTo>
                <a:lnTo>
                  <a:pt x="0" y="0"/>
                </a:lnTo>
                <a:lnTo>
                  <a:pt x="454" y="0"/>
                </a:lnTo>
                <a:lnTo>
                  <a:pt x="1752" y="717"/>
                </a:lnTo>
                <a:lnTo>
                  <a:pt x="424" y="721"/>
                </a:lnTo>
                <a:close/>
              </a:path>
            </a:pathLst>
          </a:cu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66560" y="4911840"/>
            <a:ext cx="3124440" cy="1295280"/>
          </a:xfrm>
          <a:custGeom>
            <a:avLst/>
            <a:gdLst/>
            <a:ahLst/>
            <a:rect l="l" t="t" r="r" b="b"/>
            <a:pathLst>
              <a:path w="1763" h="717">
                <a:moveTo>
                  <a:pt x="0" y="717"/>
                </a:moveTo>
                <a:lnTo>
                  <a:pt x="1276" y="0"/>
                </a:lnTo>
                <a:lnTo>
                  <a:pt x="1763" y="0"/>
                </a:lnTo>
                <a:lnTo>
                  <a:pt x="1331" y="716"/>
                </a:lnTo>
                <a:lnTo>
                  <a:pt x="0" y="717"/>
                </a:lnTo>
                <a:close/>
              </a:path>
            </a:pathLst>
          </a:custGeom>
          <a:gradFill rotWithShape="0">
            <a:gsLst>
              <a:gs pos="0">
                <a:srgbClr val="d07c7c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66560" y="650880"/>
            <a:ext cx="147816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a9656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alog 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9999"/>
                  </a:gs>
                  <a:gs pos="100000">
                    <a:srgbClr val="a9656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a9656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9999"/>
                  </a:gs>
                  <a:gs pos="100000">
                    <a:srgbClr val="a9656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029280" y="650880"/>
            <a:ext cx="14176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587a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tocols &amp;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6587a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587a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tr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6587a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819000" y="2101680"/>
            <a:ext cx="1780920" cy="758880"/>
            <a:chOff x="819000" y="2101680"/>
            <a:chExt cx="1780920" cy="758880"/>
          </a:xfrm>
        </p:grpSpPr>
        <p:sp>
          <p:nvSpPr>
            <p:cNvPr id="663" name=""/>
            <p:cNvSpPr/>
            <p:nvPr/>
          </p:nvSpPr>
          <p:spPr>
            <a:xfrm>
              <a:off x="819000" y="2101680"/>
              <a:ext cx="1780920" cy="7588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9000" y="2178000"/>
              <a:ext cx="1780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og RF, Passives, Mixed Sig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tla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 rot="20400000">
            <a:off x="7792560" y="115560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20325600">
            <a:off x="7949160" y="384984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20358000">
            <a:off x="8010000" y="518904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305160" y="2101680"/>
            <a:ext cx="1781280" cy="758880"/>
            <a:chOff x="3305160" y="2101680"/>
            <a:chExt cx="1781280" cy="758880"/>
          </a:xfrm>
        </p:grpSpPr>
        <p:sp>
          <p:nvSpPr>
            <p:cNvPr id="669" name=""/>
            <p:cNvSpPr/>
            <p:nvPr/>
          </p:nvSpPr>
          <p:spPr>
            <a:xfrm>
              <a:off x="3305160" y="2101680"/>
              <a:ext cx="1781280" cy="7588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05160" y="2178000"/>
              <a:ext cx="178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unications Engineering/DSP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724360" y="2101680"/>
            <a:ext cx="1780920" cy="758880"/>
            <a:chOff x="5724360" y="2101680"/>
            <a:chExt cx="1780920" cy="758880"/>
          </a:xfrm>
        </p:grpSpPr>
        <p:sp>
          <p:nvSpPr>
            <p:cNvPr id="672" name=""/>
            <p:cNvSpPr/>
            <p:nvPr/>
          </p:nvSpPr>
          <p:spPr>
            <a:xfrm>
              <a:off x="5724360" y="2101680"/>
              <a:ext cx="1780920" cy="7588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24360" y="2178000"/>
              <a:ext cx="1780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cols/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19200" y="3544920"/>
            <a:ext cx="2152440" cy="758880"/>
            <a:chOff x="619200" y="3544920"/>
            <a:chExt cx="2152440" cy="758880"/>
          </a:xfrm>
        </p:grpSpPr>
        <p:sp>
          <p:nvSpPr>
            <p:cNvPr id="675" name=""/>
            <p:cNvSpPr/>
            <p:nvPr/>
          </p:nvSpPr>
          <p:spPr>
            <a:xfrm>
              <a:off x="619200" y="3544920"/>
              <a:ext cx="2152440" cy="7588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9200" y="3621240"/>
              <a:ext cx="2152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rs, Filters, A/D, PA, Inductor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3133800" y="3544920"/>
            <a:ext cx="2133360" cy="758880"/>
            <a:chOff x="3133800" y="3544920"/>
            <a:chExt cx="2133360" cy="758880"/>
          </a:xfrm>
        </p:grpSpPr>
        <p:sp>
          <p:nvSpPr>
            <p:cNvPr id="678" name=""/>
            <p:cNvSpPr/>
            <p:nvPr/>
          </p:nvSpPr>
          <p:spPr>
            <a:xfrm>
              <a:off x="3133800" y="3544920"/>
              <a:ext cx="2133360" cy="7588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33800" y="3621240"/>
              <a:ext cx="213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dicated Logic, Pleiades, VHDL, Schema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724360" y="3516480"/>
            <a:ext cx="2200320" cy="758520"/>
            <a:chOff x="5724360" y="3516480"/>
            <a:chExt cx="2200320" cy="758520"/>
          </a:xfrm>
        </p:grpSpPr>
        <p:sp>
          <p:nvSpPr>
            <p:cNvPr id="681" name=""/>
            <p:cNvSpPr/>
            <p:nvPr/>
          </p:nvSpPr>
          <p:spPr>
            <a:xfrm>
              <a:off x="5724360" y="3516480"/>
              <a:ext cx="2200320" cy="75852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24360" y="3592440"/>
              <a:ext cx="2200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bedde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, Programmable DSP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, Assemb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990800" y="2860560"/>
            <a:ext cx="9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2873520"/>
            <a:ext cx="96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imulin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te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15080" y="29113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CC, State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20880" y="4327560"/>
            <a:ext cx="11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pectre and Spectre 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75080" y="4313160"/>
            <a:ext cx="9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ynops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dence, Unic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966000" y="4354560"/>
            <a:ext cx="142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Mulator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M  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8880" y="657360"/>
            <a:ext cx="2743200" cy="50148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28880" y="6094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lab, Op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19000" y="4968720"/>
            <a:ext cx="1780920" cy="730080"/>
            <a:chOff x="819000" y="4968720"/>
            <a:chExt cx="1780920" cy="730080"/>
          </a:xfrm>
        </p:grpSpPr>
        <p:sp>
          <p:nvSpPr>
            <p:cNvPr id="692" name=""/>
            <p:cNvSpPr/>
            <p:nvPr/>
          </p:nvSpPr>
          <p:spPr>
            <a:xfrm>
              <a:off x="819000" y="4968720"/>
              <a:ext cx="1780920" cy="7300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9000" y="5041440"/>
              <a:ext cx="1780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og Component Librar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ayout, SKIL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955960" y="4968720"/>
            <a:ext cx="2482920" cy="730080"/>
            <a:chOff x="2955960" y="4968720"/>
            <a:chExt cx="2482920" cy="730080"/>
          </a:xfrm>
        </p:grpSpPr>
        <p:sp>
          <p:nvSpPr>
            <p:cNvPr id="695" name=""/>
            <p:cNvSpPr/>
            <p:nvPr/>
          </p:nvSpPr>
          <p:spPr>
            <a:xfrm>
              <a:off x="2955960" y="4968720"/>
              <a:ext cx="2482920" cy="7300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55960" y="5041440"/>
              <a:ext cx="248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. Modules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RAM, ROM, Mult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 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and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716120" y="5654520"/>
            <a:ext cx="123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ilent ADS ASI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877000" y="4967280"/>
            <a:ext cx="1781280" cy="730080"/>
            <a:chOff x="5877000" y="4967280"/>
            <a:chExt cx="1781280" cy="730080"/>
          </a:xfrm>
        </p:grpSpPr>
        <p:sp>
          <p:nvSpPr>
            <p:cNvPr id="699" name=""/>
            <p:cNvSpPr/>
            <p:nvPr/>
          </p:nvSpPr>
          <p:spPr>
            <a:xfrm>
              <a:off x="5877000" y="4967280"/>
              <a:ext cx="1781280" cy="730080"/>
            </a:xfrm>
            <a:prstGeom prst="flowChartAlternateProcess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77000" y="5040000"/>
              <a:ext cx="178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mable Cores DSP, ARM, FPG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, VHDL, 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6981840" y="573084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P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038560" y="6000840"/>
            <a:ext cx="1218960" cy="660240"/>
            <a:chOff x="5038560" y="6000840"/>
            <a:chExt cx="1218960" cy="660240"/>
          </a:xfrm>
        </p:grpSpPr>
        <p:sp>
          <p:nvSpPr>
            <p:cNvPr id="703" name=""/>
            <p:cNvSpPr/>
            <p:nvPr/>
          </p:nvSpPr>
          <p:spPr>
            <a:xfrm>
              <a:off x="5038560" y="6000840"/>
              <a:ext cx="1218960" cy="6602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49440" y="6045120"/>
              <a:ext cx="55404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25960" y="6283440"/>
              <a:ext cx="2206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14720" y="6094440"/>
              <a:ext cx="33192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49440" y="6472080"/>
              <a:ext cx="55404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rot="7259400">
            <a:off x="2133720" y="1559520"/>
            <a:ext cx="685800" cy="245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5481600">
            <a:off x="3771000" y="1607040"/>
            <a:ext cx="685800" cy="246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514680" y="1219320"/>
            <a:ext cx="1440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a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gital 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9a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a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9a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1" name=""/>
          <p:cNvSpPr/>
          <p:nvPr/>
        </p:nvSpPr>
        <p:spPr>
          <a:xfrm rot="3361200">
            <a:off x="5485320" y="1551240"/>
            <a:ext cx="892080" cy="246240"/>
          </a:xfrm>
          <a:custGeom>
            <a:avLst/>
            <a:gdLst>
              <a:gd name="textAreaLeft" fmla="*/ 139320 w 892080"/>
              <a:gd name="textAreaRight" fmla="*/ 780840 w 89208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60920" y="1420920"/>
            <a:ext cx="15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pnet, 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2358000">
            <a:off x="5079600" y="3030480"/>
            <a:ext cx="932040" cy="246240"/>
          </a:xfrm>
          <a:custGeom>
            <a:avLst/>
            <a:gdLst>
              <a:gd name="textAreaLeft" fmla="*/ 145440 w 932040"/>
              <a:gd name="textAreaRight" fmla="*/ 815760 w 93204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5412600">
            <a:off x="1388520" y="3063600"/>
            <a:ext cx="528840" cy="245880"/>
          </a:xfrm>
          <a:custGeom>
            <a:avLst/>
            <a:gdLst>
              <a:gd name="textAreaLeft" fmla="*/ 82440 w 528840"/>
              <a:gd name="textAreaRight" fmla="*/ 462960 w 52884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5412600">
            <a:off x="1388520" y="4519440"/>
            <a:ext cx="528480" cy="245880"/>
          </a:xfrm>
          <a:custGeom>
            <a:avLst/>
            <a:gdLst>
              <a:gd name="textAreaLeft" fmla="*/ 82440 w 528480"/>
              <a:gd name="textAreaRight" fmla="*/ 462600 w 52848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5412600">
            <a:off x="3849480" y="3063600"/>
            <a:ext cx="528840" cy="246240"/>
          </a:xfrm>
          <a:custGeom>
            <a:avLst/>
            <a:gdLst>
              <a:gd name="textAreaLeft" fmla="*/ 82440 w 528840"/>
              <a:gd name="textAreaRight" fmla="*/ 462960 w 52884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5412600">
            <a:off x="3830760" y="4519080"/>
            <a:ext cx="528480" cy="246240"/>
          </a:xfrm>
          <a:custGeom>
            <a:avLst/>
            <a:gdLst>
              <a:gd name="textAreaLeft" fmla="*/ 82440 w 528480"/>
              <a:gd name="textAreaRight" fmla="*/ 462600 w 52848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8470200">
            <a:off x="4868640" y="3030120"/>
            <a:ext cx="931680" cy="246240"/>
          </a:xfrm>
          <a:custGeom>
            <a:avLst/>
            <a:gdLst>
              <a:gd name="textAreaLeft" fmla="*/ 145440 w 931680"/>
              <a:gd name="textAreaRight" fmla="*/ 815400 w 93168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5412600">
            <a:off x="6420960" y="4519440"/>
            <a:ext cx="528480" cy="245880"/>
          </a:xfrm>
          <a:custGeom>
            <a:avLst/>
            <a:gdLst>
              <a:gd name="textAreaLeft" fmla="*/ 82440 w 528480"/>
              <a:gd name="textAreaRight" fmla="*/ 462600 w 52848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5412600">
            <a:off x="6420960" y="3063600"/>
            <a:ext cx="528840" cy="245880"/>
          </a:xfrm>
          <a:custGeom>
            <a:avLst/>
            <a:gdLst>
              <a:gd name="textAreaLeft" fmla="*/ 82440 w 528840"/>
              <a:gd name="textAreaRight" fmla="*/ 462960 w 52884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00280" y="2419200"/>
            <a:ext cx="704880" cy="187560"/>
          </a:xfrm>
          <a:prstGeom prst="leftRightArrow">
            <a:avLst>
              <a:gd name="adj1" fmla="val 50000"/>
              <a:gd name="adj2" fmla="val 74815"/>
            </a:avLst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95800" y="2419200"/>
            <a:ext cx="617760" cy="187560"/>
          </a:xfrm>
          <a:prstGeom prst="leftRightArrow">
            <a:avLst>
              <a:gd name="adj1" fmla="val 50000"/>
              <a:gd name="adj2" fmla="val 65568"/>
            </a:avLst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750200">
            <a:off x="6024600" y="6067800"/>
            <a:ext cx="771480" cy="245880"/>
          </a:xfrm>
          <a:custGeom>
            <a:avLst/>
            <a:gdLst>
              <a:gd name="textAreaLeft" fmla="*/ 120600 w 771480"/>
              <a:gd name="textAreaRight" fmla="*/ 675360 w 77148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817200">
            <a:off x="2904840" y="6035760"/>
            <a:ext cx="2281320" cy="203040"/>
          </a:xfrm>
          <a:custGeom>
            <a:avLst/>
            <a:gdLst>
              <a:gd name="textAreaLeft" fmla="*/ 356400 w 2281320"/>
              <a:gd name="textAreaRight" fmla="*/ 1996200 w 228132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358400">
            <a:off x="4352400" y="5882760"/>
            <a:ext cx="932040" cy="246240"/>
          </a:xfrm>
          <a:custGeom>
            <a:avLst/>
            <a:gdLst>
              <a:gd name="textAreaLeft" fmla="*/ 145440 w 932040"/>
              <a:gd name="textAreaRight" fmla="*/ 815760 w 93204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62400" y="5943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nic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dence, Men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&amp; Time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90600" y="1501920"/>
            <a:ext cx="15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11680" y="14749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35440" y="1936800"/>
            <a:ext cx="2511360" cy="4262400"/>
          </a:xfrm>
          <a:custGeom>
            <a:avLst/>
            <a:gdLst/>
            <a:ahLst/>
            <a:rect l="l" t="t" r="r" b="b"/>
            <a:pathLst>
              <a:path w="1582" h="2685">
                <a:moveTo>
                  <a:pt x="0" y="0"/>
                </a:moveTo>
                <a:lnTo>
                  <a:pt x="1582" y="0"/>
                </a:lnTo>
                <a:lnTo>
                  <a:pt x="1582" y="1882"/>
                </a:lnTo>
                <a:lnTo>
                  <a:pt x="1118" y="2685"/>
                </a:lnTo>
                <a:lnTo>
                  <a:pt x="479" y="2685"/>
                </a:lnTo>
                <a:lnTo>
                  <a:pt x="8" y="1869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fb23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DB81-065A-4473-BC10-019342385E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gn Goal: System on a Chip CMOS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65360" y="2560680"/>
            <a:ext cx="3141720" cy="2362320"/>
          </a:xfrm>
          <a:custGeom>
            <a:avLst/>
            <a:gdLst/>
            <a:ahLst/>
            <a:rect l="l" t="t" r="r" b="b"/>
            <a:pathLst>
              <a:path w="2239" h="1537">
                <a:moveTo>
                  <a:pt x="0" y="0"/>
                </a:moveTo>
                <a:lnTo>
                  <a:pt x="2238" y="0"/>
                </a:lnTo>
                <a:lnTo>
                  <a:pt x="2238" y="1016"/>
                </a:lnTo>
                <a:lnTo>
                  <a:pt x="1615" y="1016"/>
                </a:lnTo>
                <a:lnTo>
                  <a:pt x="1615" y="1536"/>
                </a:lnTo>
                <a:lnTo>
                  <a:pt x="0" y="1536"/>
                </a:lnTo>
                <a:lnTo>
                  <a:pt x="0" y="0"/>
                </a:lnTo>
              </a:path>
            </a:pathLst>
          </a:custGeom>
          <a:solidFill>
            <a:srgbClr val="41ff41"/>
          </a:solidFill>
          <a:ln cap="rnd" w="7632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92760" y="2610000"/>
            <a:ext cx="1495440" cy="1484280"/>
          </a:xfrm>
          <a:prstGeom prst="roundRect">
            <a:avLst>
              <a:gd name="adj" fmla="val 12477"/>
            </a:avLst>
          </a:prstGeom>
          <a:solidFill>
            <a:srgbClr val="c1ce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16520" y="4184640"/>
            <a:ext cx="1554120" cy="1574640"/>
          </a:xfrm>
          <a:custGeom>
            <a:avLst/>
            <a:gdLst>
              <a:gd name="textAreaLeft" fmla="*/ 56520 w 1554120"/>
              <a:gd name="textAreaRight" fmla="*/ 1497600 w 1554120"/>
              <a:gd name="textAreaTop" fmla="*/ 56520 h 1574640"/>
              <a:gd name="textAreaBottom" fmla="*/ 1518120 h 1574640"/>
            </a:gdLst>
            <a:ahLst/>
            <a:rect l="textAreaLeft" t="textAreaTop" r="textAreaRight" b="textAreaBottom"/>
            <a:pathLst>
              <a:path w="21600" h="21885">
                <a:moveTo>
                  <a:pt x="2695" y="0"/>
                </a:moveTo>
                <a:arcTo wR="2695" hR="2695" stAng="16200000" swAng="-5400000"/>
                <a:lnTo>
                  <a:pt x="0" y="19190"/>
                </a:lnTo>
                <a:arcTo wR="2695" hR="2695" stAng="10800000" swAng="-5400000"/>
                <a:lnTo>
                  <a:pt x="18905" y="21885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bdb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666960"/>
            <a:ext cx="3278160" cy="1170000"/>
          </a:xfrm>
          <a:prstGeom prst="rect">
            <a:avLst/>
          </a:prstGeom>
          <a:solidFill>
            <a:srgbClr val="ec2700">
              <a:alpha val="50000"/>
            </a:srgbClr>
          </a:solidFill>
          <a:ln w="76320">
            <a:solidFill>
              <a:srgbClr val="fb23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8240" y="3753000"/>
            <a:ext cx="784440" cy="874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8240" y="3814920"/>
            <a:ext cx="312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7000" y="4184640"/>
            <a:ext cx="312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322440" y="3889440"/>
            <a:ext cx="284040" cy="59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03640" y="4052880"/>
            <a:ext cx="139680" cy="214200"/>
            <a:chOff x="2303640" y="4052880"/>
            <a:chExt cx="139680" cy="214200"/>
          </a:xfrm>
        </p:grpSpPr>
        <p:sp>
          <p:nvSpPr>
            <p:cNvPr id="116" name=""/>
            <p:cNvSpPr/>
            <p:nvPr/>
          </p:nvSpPr>
          <p:spPr>
            <a:xfrm>
              <a:off x="2303640" y="4052880"/>
              <a:ext cx="139680" cy="214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3600" y="4112640"/>
              <a:ext cx="6228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331360" y="4112640"/>
              <a:ext cx="8604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312920" y="4052880"/>
            <a:ext cx="139680" cy="214200"/>
            <a:chOff x="1312920" y="4052880"/>
            <a:chExt cx="139680" cy="214200"/>
          </a:xfrm>
        </p:grpSpPr>
        <p:sp>
          <p:nvSpPr>
            <p:cNvPr id="120" name=""/>
            <p:cNvSpPr/>
            <p:nvPr/>
          </p:nvSpPr>
          <p:spPr>
            <a:xfrm>
              <a:off x="1312920" y="4052880"/>
              <a:ext cx="139680" cy="214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3960" y="4112640"/>
              <a:ext cx="6156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341720" y="4112640"/>
              <a:ext cx="8532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992240" y="4046400"/>
            <a:ext cx="193680" cy="228600"/>
          </a:xfrm>
          <a:custGeom>
            <a:avLst/>
            <a:gdLst/>
            <a:ahLst/>
            <a:rect l="l" t="t" r="r" b="b"/>
            <a:pathLst>
              <a:path w="130" h="148">
                <a:moveTo>
                  <a:pt x="0" y="0"/>
                </a:moveTo>
                <a:lnTo>
                  <a:pt x="129" y="74"/>
                </a:ln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01880" y="4046400"/>
            <a:ext cx="191880" cy="228600"/>
          </a:xfrm>
          <a:custGeom>
            <a:avLst/>
            <a:gdLst/>
            <a:ahLst/>
            <a:rect l="l" t="t" r="r" b="b"/>
            <a:pathLst>
              <a:path w="129" h="148">
                <a:moveTo>
                  <a:pt x="0" y="0"/>
                </a:moveTo>
                <a:lnTo>
                  <a:pt x="128" y="74"/>
                </a:ln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52800" y="4118040"/>
            <a:ext cx="189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99320" y="4923000"/>
            <a:ext cx="110484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Analog 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70052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79680" y="3995640"/>
            <a:ext cx="291960" cy="328680"/>
            <a:chOff x="1579680" y="3995640"/>
            <a:chExt cx="291960" cy="328680"/>
          </a:xfrm>
        </p:grpSpPr>
        <p:sp>
          <p:nvSpPr>
            <p:cNvPr id="129" name=""/>
            <p:cNvSpPr/>
            <p:nvPr/>
          </p:nvSpPr>
          <p:spPr>
            <a:xfrm>
              <a:off x="1579680" y="3995640"/>
              <a:ext cx="29196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612080" y="4055760"/>
              <a:ext cx="229680" cy="214200"/>
              <a:chOff x="1612080" y="4055760"/>
              <a:chExt cx="229680" cy="214200"/>
            </a:xfrm>
          </p:grpSpPr>
          <p:sp>
            <p:nvSpPr>
              <p:cNvPr id="131" name=""/>
              <p:cNvSpPr/>
              <p:nvPr/>
            </p:nvSpPr>
            <p:spPr>
              <a:xfrm>
                <a:off x="1612080" y="405576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12080" y="409860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12080" y="414360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2654280" y="3995640"/>
            <a:ext cx="291960" cy="328680"/>
            <a:chOff x="2654280" y="3995640"/>
            <a:chExt cx="291960" cy="328680"/>
          </a:xfrm>
        </p:grpSpPr>
        <p:sp>
          <p:nvSpPr>
            <p:cNvPr id="135" name=""/>
            <p:cNvSpPr/>
            <p:nvPr/>
          </p:nvSpPr>
          <p:spPr>
            <a:xfrm>
              <a:off x="2654280" y="3995640"/>
              <a:ext cx="29196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686680" y="4055760"/>
              <a:ext cx="229680" cy="214200"/>
              <a:chOff x="2686680" y="4055760"/>
              <a:chExt cx="229680" cy="214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686680" y="405576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86680" y="409860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6680" y="4143600"/>
                <a:ext cx="229680" cy="12636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0" y="37"/>
                    </a:moveTo>
                    <a:lnTo>
                      <a:pt x="42" y="0"/>
                    </a:lnTo>
                    <a:lnTo>
                      <a:pt x="111" y="81"/>
                    </a:lnTo>
                    <a:lnTo>
                      <a:pt x="154" y="3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1201680" y="4160880"/>
            <a:ext cx="9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8440" y="4160880"/>
            <a:ext cx="10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7480" y="4160880"/>
            <a:ext cx="9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2400" y="4160880"/>
            <a:ext cx="10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59160" y="4160880"/>
            <a:ext cx="15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5320" y="416088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3480" y="416088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2757240"/>
            <a:ext cx="132480" cy="1032840"/>
            <a:chOff x="685800" y="2757240"/>
            <a:chExt cx="132480" cy="1032840"/>
          </a:xfrm>
        </p:grpSpPr>
        <p:sp>
          <p:nvSpPr>
            <p:cNvPr id="148" name=""/>
            <p:cNvSpPr/>
            <p:nvPr/>
          </p:nvSpPr>
          <p:spPr>
            <a:xfrm>
              <a:off x="762120" y="3090240"/>
              <a:ext cx="0" cy="6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75440" y="2757240"/>
              <a:ext cx="42840" cy="3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85800" y="2757240"/>
              <a:ext cx="84240" cy="3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178160" y="3962520"/>
            <a:ext cx="1387440" cy="8395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03000" y="2786040"/>
            <a:ext cx="399240" cy="32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0" y="3459240"/>
            <a:ext cx="522360" cy="495360"/>
          </a:xfrm>
          <a:prstGeom prst="rect">
            <a:avLst/>
          </a:prstGeom>
          <a:solidFill>
            <a:srgbClr val="9ab2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2440" y="2762280"/>
            <a:ext cx="522360" cy="495360"/>
          </a:xfrm>
          <a:prstGeom prst="rect">
            <a:avLst/>
          </a:prstGeom>
          <a:solidFill>
            <a:srgbClr val="9ab2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86560" y="3459240"/>
            <a:ext cx="522360" cy="495360"/>
          </a:xfrm>
          <a:prstGeom prst="rect">
            <a:avLst/>
          </a:prstGeom>
          <a:solidFill>
            <a:srgbClr val="9ab2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86560" y="2762280"/>
            <a:ext cx="522360" cy="495360"/>
          </a:xfrm>
          <a:prstGeom prst="rect">
            <a:avLst/>
          </a:prstGeom>
          <a:solidFill>
            <a:srgbClr val="9ab2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82240" y="2865600"/>
            <a:ext cx="5562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18040" y="3610080"/>
            <a:ext cx="58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65920" y="5105520"/>
            <a:ext cx="522360" cy="495360"/>
          </a:xfrm>
          <a:prstGeom prst="rect">
            <a:avLst/>
          </a:prstGeom>
          <a:solidFill>
            <a:srgbClr val="63e1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29320" y="5070600"/>
            <a:ext cx="712800" cy="459360"/>
          </a:xfrm>
          <a:prstGeom prst="rect">
            <a:avLst/>
          </a:prstGeom>
          <a:solidFill>
            <a:srgbClr val="63e1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ive Anten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88160" y="4405320"/>
            <a:ext cx="712800" cy="495360"/>
          </a:xfrm>
          <a:prstGeom prst="rect">
            <a:avLst/>
          </a:prstGeom>
          <a:solidFill>
            <a:srgbClr val="63e1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2240" y="4405320"/>
            <a:ext cx="579600" cy="495360"/>
          </a:xfrm>
          <a:prstGeom prst="rect">
            <a:avLst/>
          </a:prstGeom>
          <a:solidFill>
            <a:srgbClr val="63e1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60800" y="2708280"/>
            <a:ext cx="1457640" cy="1041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it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65360" y="5291280"/>
            <a:ext cx="1271880" cy="664920"/>
          </a:xfrm>
          <a:prstGeom prst="rightArrow">
            <a:avLst>
              <a:gd name="adj1" fmla="val 50000"/>
              <a:gd name="adj2" fmla="val 6797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11400" y="5291280"/>
            <a:ext cx="1271520" cy="664920"/>
          </a:xfrm>
          <a:prstGeom prst="rightArrow">
            <a:avLst>
              <a:gd name="adj1" fmla="val 50000"/>
              <a:gd name="adj2" fmla="val 679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7640" y="543888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86600" y="5460840"/>
            <a:ext cx="85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8480" y="5884920"/>
            <a:ext cx="39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apped Logic &amp; DSP c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1747800"/>
            <a:ext cx="1896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C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M/Tensil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674720"/>
            <a:ext cx="7481880" cy="464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81760" y="12952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 Basic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2680" y="2781360"/>
            <a:ext cx="712800" cy="812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800" y="379080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11680" y="1733760"/>
            <a:ext cx="24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b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dicated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4159080"/>
            <a:ext cx="21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467-CB3A-4863-8A1B-0EAA4A1E238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153080" y="609480"/>
            <a:ext cx="671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Book Antiqua"/>
              </a:rPr>
              <a:t>A Domain Specific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35680" y="161784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931080" y="2008080"/>
            <a:ext cx="657000" cy="209520"/>
          </a:xfrm>
          <a:custGeom>
            <a:avLst/>
            <a:gdLst/>
            <a:ahLst/>
            <a:rect l="l" t="t" r="r" b="b"/>
            <a:pathLst>
              <a:path w="414" h="132">
                <a:moveTo>
                  <a:pt x="204" y="0"/>
                </a:moveTo>
                <a:lnTo>
                  <a:pt x="0" y="66"/>
                </a:lnTo>
                <a:lnTo>
                  <a:pt x="204" y="132"/>
                </a:lnTo>
                <a:lnTo>
                  <a:pt x="414" y="66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35680" y="2341440"/>
            <a:ext cx="895320" cy="26676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35680" y="309420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35680" y="380844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83560" y="4533840"/>
            <a:ext cx="704520" cy="171360"/>
          </a:xfrm>
          <a:custGeom>
            <a:avLst/>
            <a:gdLst/>
            <a:ahLst/>
            <a:rect l="l" t="t" r="r" b="b"/>
            <a:pathLst>
              <a:path w="74" h="18">
                <a:moveTo>
                  <a:pt x="12" y="0"/>
                </a:moveTo>
                <a:cubicBezTo>
                  <a:pt x="5" y="0"/>
                  <a:pt x="0" y="4"/>
                  <a:pt x="0" y="9"/>
                </a:cubicBezTo>
                <a:cubicBezTo>
                  <a:pt x="0" y="14"/>
                  <a:pt x="5" y="18"/>
                  <a:pt x="12" y="18"/>
                </a:cubicBezTo>
                <a:lnTo>
                  <a:pt x="62" y="18"/>
                </a:lnTo>
                <a:cubicBezTo>
                  <a:pt x="69" y="18"/>
                  <a:pt x="74" y="14"/>
                  <a:pt x="74" y="9"/>
                </a:cubicBezTo>
                <a:cubicBezTo>
                  <a:pt x="74" y="4"/>
                  <a:pt x="69" y="0"/>
                  <a:pt x="62" y="0"/>
                </a:cubicBezTo>
                <a:lnTo>
                  <a:pt x="12" y="0"/>
                </a:lnTo>
                <a:close/>
              </a:path>
            </a:pathLst>
          </a:custGeom>
          <a:solidFill>
            <a:srgbClr val="00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31080" y="2741760"/>
            <a:ext cx="65700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204" y="0"/>
                </a:moveTo>
                <a:lnTo>
                  <a:pt x="0" y="72"/>
                </a:lnTo>
                <a:lnTo>
                  <a:pt x="204" y="138"/>
                </a:lnTo>
                <a:lnTo>
                  <a:pt x="414" y="72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931080" y="4189320"/>
            <a:ext cx="657000" cy="220680"/>
          </a:xfrm>
          <a:custGeom>
            <a:avLst/>
            <a:gdLst/>
            <a:ahLst/>
            <a:rect l="l" t="t" r="r" b="b"/>
            <a:pathLst>
              <a:path w="414" h="139">
                <a:moveTo>
                  <a:pt x="204" y="0"/>
                </a:moveTo>
                <a:lnTo>
                  <a:pt x="0" y="67"/>
                </a:lnTo>
                <a:lnTo>
                  <a:pt x="204" y="139"/>
                </a:lnTo>
                <a:lnTo>
                  <a:pt x="414" y="67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931080" y="3475080"/>
            <a:ext cx="657000" cy="209520"/>
          </a:xfrm>
          <a:custGeom>
            <a:avLst/>
            <a:gdLst/>
            <a:ahLst/>
            <a:rect l="l" t="t" r="r" b="b"/>
            <a:pathLst>
              <a:path w="414" h="132">
                <a:moveTo>
                  <a:pt x="204" y="0"/>
                </a:moveTo>
                <a:lnTo>
                  <a:pt x="0" y="66"/>
                </a:lnTo>
                <a:lnTo>
                  <a:pt x="204" y="132"/>
                </a:lnTo>
                <a:lnTo>
                  <a:pt x="414" y="66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207200" y="1874880"/>
            <a:ext cx="104760" cy="142920"/>
            <a:chOff x="7207200" y="1874880"/>
            <a:chExt cx="104760" cy="142920"/>
          </a:xfrm>
        </p:grpSpPr>
        <p:sp>
          <p:nvSpPr>
            <p:cNvPr id="741" name=""/>
            <p:cNvSpPr/>
            <p:nvPr/>
          </p:nvSpPr>
          <p:spPr>
            <a:xfrm>
              <a:off x="7254720" y="1874880"/>
              <a:ext cx="1800" cy="572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07200" y="19130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207200" y="2608200"/>
            <a:ext cx="104760" cy="152640"/>
            <a:chOff x="7207200" y="2608200"/>
            <a:chExt cx="104760" cy="152640"/>
          </a:xfrm>
        </p:grpSpPr>
        <p:sp>
          <p:nvSpPr>
            <p:cNvPr id="744" name=""/>
            <p:cNvSpPr/>
            <p:nvPr/>
          </p:nvSpPr>
          <p:spPr>
            <a:xfrm>
              <a:off x="7254720" y="2608200"/>
              <a:ext cx="1800" cy="666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7200" y="265572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207200" y="2217600"/>
            <a:ext cx="104760" cy="123840"/>
            <a:chOff x="7207200" y="2217600"/>
            <a:chExt cx="104760" cy="123840"/>
          </a:xfrm>
        </p:grpSpPr>
        <p:sp>
          <p:nvSpPr>
            <p:cNvPr id="747" name=""/>
            <p:cNvSpPr/>
            <p:nvPr/>
          </p:nvSpPr>
          <p:spPr>
            <a:xfrm>
              <a:off x="7254720" y="221760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07200" y="22464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207200" y="2970360"/>
            <a:ext cx="104760" cy="133200"/>
            <a:chOff x="7207200" y="2970360"/>
            <a:chExt cx="104760" cy="133200"/>
          </a:xfrm>
        </p:grpSpPr>
        <p:sp>
          <p:nvSpPr>
            <p:cNvPr id="750" name=""/>
            <p:cNvSpPr/>
            <p:nvPr/>
          </p:nvSpPr>
          <p:spPr>
            <a:xfrm>
              <a:off x="7254720" y="297036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07200" y="29988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7207200" y="3351240"/>
            <a:ext cx="104760" cy="133200"/>
            <a:chOff x="7207200" y="3351240"/>
            <a:chExt cx="104760" cy="133200"/>
          </a:xfrm>
        </p:grpSpPr>
        <p:sp>
          <p:nvSpPr>
            <p:cNvPr id="753" name=""/>
            <p:cNvSpPr/>
            <p:nvPr/>
          </p:nvSpPr>
          <p:spPr>
            <a:xfrm>
              <a:off x="7254720" y="335124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07200" y="3379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207200" y="3684600"/>
            <a:ext cx="104760" cy="123840"/>
            <a:chOff x="7207200" y="3684600"/>
            <a:chExt cx="104760" cy="123840"/>
          </a:xfrm>
        </p:grpSpPr>
        <p:sp>
          <p:nvSpPr>
            <p:cNvPr id="756" name=""/>
            <p:cNvSpPr/>
            <p:nvPr/>
          </p:nvSpPr>
          <p:spPr>
            <a:xfrm>
              <a:off x="7254720" y="368460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7200" y="371304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7207200" y="4065480"/>
            <a:ext cx="104760" cy="123840"/>
            <a:chOff x="7207200" y="4065480"/>
            <a:chExt cx="104760" cy="123840"/>
          </a:xfrm>
        </p:grpSpPr>
        <p:sp>
          <p:nvSpPr>
            <p:cNvPr id="759" name=""/>
            <p:cNvSpPr/>
            <p:nvPr/>
          </p:nvSpPr>
          <p:spPr>
            <a:xfrm>
              <a:off x="7254720" y="406548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07200" y="409428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207200" y="4410000"/>
            <a:ext cx="104760" cy="123840"/>
            <a:chOff x="7207200" y="4410000"/>
            <a:chExt cx="104760" cy="123840"/>
          </a:xfrm>
        </p:grpSpPr>
        <p:sp>
          <p:nvSpPr>
            <p:cNvPr id="762" name=""/>
            <p:cNvSpPr/>
            <p:nvPr/>
          </p:nvSpPr>
          <p:spPr>
            <a:xfrm>
              <a:off x="7254720" y="441000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07200" y="44388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88080" y="1731960"/>
            <a:ext cx="619200" cy="1847880"/>
            <a:chOff x="7588080" y="1731960"/>
            <a:chExt cx="619200" cy="1847880"/>
          </a:xfrm>
        </p:grpSpPr>
        <p:sp>
          <p:nvSpPr>
            <p:cNvPr id="765" name=""/>
            <p:cNvSpPr/>
            <p:nvPr/>
          </p:nvSpPr>
          <p:spPr>
            <a:xfrm>
              <a:off x="7588080" y="1770120"/>
              <a:ext cx="619200" cy="18097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190"/>
                  </a:moveTo>
                  <a:cubicBezTo>
                    <a:pt x="33" y="190"/>
                    <a:pt x="65" y="142"/>
                    <a:pt x="65" y="94"/>
                  </a:cubicBezTo>
                  <a:cubicBezTo>
                    <a:pt x="65" y="52"/>
                    <a:pt x="45" y="10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31000" y="173196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12"/>
                  </a:lnTo>
                  <a:lnTo>
                    <a:pt x="60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588080" y="1731960"/>
            <a:ext cx="714600" cy="2563920"/>
            <a:chOff x="7588080" y="1731960"/>
            <a:chExt cx="714600" cy="2563920"/>
          </a:xfrm>
        </p:grpSpPr>
        <p:sp>
          <p:nvSpPr>
            <p:cNvPr id="768" name=""/>
            <p:cNvSpPr/>
            <p:nvPr/>
          </p:nvSpPr>
          <p:spPr>
            <a:xfrm>
              <a:off x="7588080" y="1779480"/>
              <a:ext cx="714600" cy="2516400"/>
            </a:xfrm>
            <a:custGeom>
              <a:avLst/>
              <a:gdLst/>
              <a:ahLst/>
              <a:rect l="l" t="t" r="r" b="b"/>
              <a:pathLst>
                <a:path w="75" h="264">
                  <a:moveTo>
                    <a:pt x="0" y="264"/>
                  </a:moveTo>
                  <a:cubicBezTo>
                    <a:pt x="38" y="264"/>
                    <a:pt x="75" y="198"/>
                    <a:pt x="75" y="131"/>
                  </a:cubicBezTo>
                  <a:cubicBezTo>
                    <a:pt x="75" y="72"/>
                    <a:pt x="52" y="13"/>
                    <a:pt x="2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31000" y="173196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12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588080" y="1731960"/>
            <a:ext cx="486000" cy="1123920"/>
            <a:chOff x="7588080" y="1731960"/>
            <a:chExt cx="486000" cy="1123920"/>
          </a:xfrm>
        </p:grpSpPr>
        <p:sp>
          <p:nvSpPr>
            <p:cNvPr id="771" name=""/>
            <p:cNvSpPr/>
            <p:nvPr/>
          </p:nvSpPr>
          <p:spPr>
            <a:xfrm>
              <a:off x="7588080" y="1770120"/>
              <a:ext cx="486000" cy="108576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0" y="114"/>
                  </a:moveTo>
                  <a:cubicBezTo>
                    <a:pt x="26" y="114"/>
                    <a:pt x="51" y="85"/>
                    <a:pt x="51" y="56"/>
                  </a:cubicBezTo>
                  <a:cubicBezTo>
                    <a:pt x="51" y="32"/>
                    <a:pt x="39" y="8"/>
                    <a:pt x="2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731000" y="1731960"/>
              <a:ext cx="11448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588080" y="1751040"/>
            <a:ext cx="285840" cy="361800"/>
            <a:chOff x="7588080" y="1751040"/>
            <a:chExt cx="285840" cy="361800"/>
          </a:xfrm>
        </p:grpSpPr>
        <p:sp>
          <p:nvSpPr>
            <p:cNvPr id="774" name=""/>
            <p:cNvSpPr/>
            <p:nvPr/>
          </p:nvSpPr>
          <p:spPr>
            <a:xfrm>
              <a:off x="7588080" y="1798560"/>
              <a:ext cx="285840" cy="31428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cubicBezTo>
                    <a:pt x="15" y="33"/>
                    <a:pt x="30" y="23"/>
                    <a:pt x="30" y="14"/>
                  </a:cubicBezTo>
                  <a:cubicBezTo>
                    <a:pt x="30" y="9"/>
                    <a:pt x="28" y="4"/>
                    <a:pt x="2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31000" y="1751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6"/>
                  </a:moveTo>
                  <a:lnTo>
                    <a:pt x="0" y="0"/>
                  </a:lnTo>
                  <a:lnTo>
                    <a:pt x="42" y="6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835680" y="161784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31080" y="2008080"/>
            <a:ext cx="657000" cy="209520"/>
          </a:xfrm>
          <a:custGeom>
            <a:avLst/>
            <a:gdLst/>
            <a:ahLst/>
            <a:rect l="l" t="t" r="r" b="b"/>
            <a:pathLst>
              <a:path w="414" h="132">
                <a:moveTo>
                  <a:pt x="204" y="0"/>
                </a:moveTo>
                <a:lnTo>
                  <a:pt x="0" y="66"/>
                </a:lnTo>
                <a:lnTo>
                  <a:pt x="204" y="132"/>
                </a:lnTo>
                <a:lnTo>
                  <a:pt x="414" y="66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35680" y="2341440"/>
            <a:ext cx="895320" cy="26676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35680" y="309420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35680" y="3808440"/>
            <a:ext cx="895320" cy="25704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83560" y="4533840"/>
            <a:ext cx="704520" cy="171360"/>
          </a:xfrm>
          <a:custGeom>
            <a:avLst/>
            <a:gdLst/>
            <a:ahLst/>
            <a:rect l="l" t="t" r="r" b="b"/>
            <a:pathLst>
              <a:path w="74" h="18">
                <a:moveTo>
                  <a:pt x="12" y="0"/>
                </a:moveTo>
                <a:cubicBezTo>
                  <a:pt x="5" y="0"/>
                  <a:pt x="0" y="4"/>
                  <a:pt x="0" y="9"/>
                </a:cubicBezTo>
                <a:cubicBezTo>
                  <a:pt x="0" y="14"/>
                  <a:pt x="5" y="18"/>
                  <a:pt x="12" y="18"/>
                </a:cubicBezTo>
                <a:lnTo>
                  <a:pt x="62" y="18"/>
                </a:lnTo>
                <a:cubicBezTo>
                  <a:pt x="69" y="18"/>
                  <a:pt x="74" y="14"/>
                  <a:pt x="74" y="9"/>
                </a:cubicBezTo>
                <a:cubicBezTo>
                  <a:pt x="74" y="4"/>
                  <a:pt x="69" y="0"/>
                  <a:pt x="62" y="0"/>
                </a:cubicBezTo>
                <a:lnTo>
                  <a:pt x="12" y="0"/>
                </a:lnTo>
                <a:close/>
              </a:path>
            </a:pathLst>
          </a:custGeom>
          <a:solidFill>
            <a:srgbClr val="00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931080" y="2741760"/>
            <a:ext cx="65700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204" y="0"/>
                </a:moveTo>
                <a:lnTo>
                  <a:pt x="0" y="72"/>
                </a:lnTo>
                <a:lnTo>
                  <a:pt x="204" y="138"/>
                </a:lnTo>
                <a:lnTo>
                  <a:pt x="414" y="72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31080" y="4189320"/>
            <a:ext cx="657000" cy="220680"/>
          </a:xfrm>
          <a:custGeom>
            <a:avLst/>
            <a:gdLst/>
            <a:ahLst/>
            <a:rect l="l" t="t" r="r" b="b"/>
            <a:pathLst>
              <a:path w="414" h="139">
                <a:moveTo>
                  <a:pt x="204" y="0"/>
                </a:moveTo>
                <a:lnTo>
                  <a:pt x="0" y="67"/>
                </a:lnTo>
                <a:lnTo>
                  <a:pt x="204" y="139"/>
                </a:lnTo>
                <a:lnTo>
                  <a:pt x="414" y="67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1080" y="3475080"/>
            <a:ext cx="657000" cy="209520"/>
          </a:xfrm>
          <a:custGeom>
            <a:avLst/>
            <a:gdLst/>
            <a:ahLst/>
            <a:rect l="l" t="t" r="r" b="b"/>
            <a:pathLst>
              <a:path w="414" h="132">
                <a:moveTo>
                  <a:pt x="204" y="0"/>
                </a:moveTo>
                <a:lnTo>
                  <a:pt x="0" y="66"/>
                </a:lnTo>
                <a:lnTo>
                  <a:pt x="204" y="132"/>
                </a:lnTo>
                <a:lnTo>
                  <a:pt x="414" y="66"/>
                </a:lnTo>
                <a:lnTo>
                  <a:pt x="204" y="0"/>
                </a:lnTo>
                <a:close/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207200" y="1874880"/>
            <a:ext cx="104760" cy="142920"/>
            <a:chOff x="7207200" y="1874880"/>
            <a:chExt cx="104760" cy="142920"/>
          </a:xfrm>
        </p:grpSpPr>
        <p:sp>
          <p:nvSpPr>
            <p:cNvPr id="786" name=""/>
            <p:cNvSpPr/>
            <p:nvPr/>
          </p:nvSpPr>
          <p:spPr>
            <a:xfrm>
              <a:off x="7254720" y="1874880"/>
              <a:ext cx="1800" cy="572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7200" y="19130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207200" y="2608200"/>
            <a:ext cx="104760" cy="152640"/>
            <a:chOff x="7207200" y="2608200"/>
            <a:chExt cx="104760" cy="152640"/>
          </a:xfrm>
        </p:grpSpPr>
        <p:sp>
          <p:nvSpPr>
            <p:cNvPr id="789" name=""/>
            <p:cNvSpPr/>
            <p:nvPr/>
          </p:nvSpPr>
          <p:spPr>
            <a:xfrm>
              <a:off x="7254720" y="2608200"/>
              <a:ext cx="1800" cy="666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07200" y="265572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207200" y="2217600"/>
            <a:ext cx="104760" cy="123840"/>
            <a:chOff x="7207200" y="2217600"/>
            <a:chExt cx="104760" cy="123840"/>
          </a:xfrm>
        </p:grpSpPr>
        <p:sp>
          <p:nvSpPr>
            <p:cNvPr id="792" name=""/>
            <p:cNvSpPr/>
            <p:nvPr/>
          </p:nvSpPr>
          <p:spPr>
            <a:xfrm>
              <a:off x="7254720" y="221760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07200" y="22464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207200" y="2970360"/>
            <a:ext cx="104760" cy="133200"/>
            <a:chOff x="7207200" y="2970360"/>
            <a:chExt cx="104760" cy="133200"/>
          </a:xfrm>
        </p:grpSpPr>
        <p:sp>
          <p:nvSpPr>
            <p:cNvPr id="795" name=""/>
            <p:cNvSpPr/>
            <p:nvPr/>
          </p:nvSpPr>
          <p:spPr>
            <a:xfrm>
              <a:off x="7254720" y="297036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7200" y="29988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207200" y="3351240"/>
            <a:ext cx="104760" cy="133200"/>
            <a:chOff x="7207200" y="3351240"/>
            <a:chExt cx="104760" cy="133200"/>
          </a:xfrm>
        </p:grpSpPr>
        <p:sp>
          <p:nvSpPr>
            <p:cNvPr id="798" name=""/>
            <p:cNvSpPr/>
            <p:nvPr/>
          </p:nvSpPr>
          <p:spPr>
            <a:xfrm>
              <a:off x="7254720" y="335124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7200" y="3379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30" y="6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207200" y="3684600"/>
            <a:ext cx="104760" cy="123840"/>
            <a:chOff x="7207200" y="3684600"/>
            <a:chExt cx="104760" cy="123840"/>
          </a:xfrm>
        </p:grpSpPr>
        <p:sp>
          <p:nvSpPr>
            <p:cNvPr id="801" name=""/>
            <p:cNvSpPr/>
            <p:nvPr/>
          </p:nvSpPr>
          <p:spPr>
            <a:xfrm>
              <a:off x="7254720" y="3684600"/>
              <a:ext cx="1800" cy="47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1304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7207200" y="4065480"/>
            <a:ext cx="104760" cy="123840"/>
            <a:chOff x="7207200" y="4065480"/>
            <a:chExt cx="104760" cy="123840"/>
          </a:xfrm>
        </p:grpSpPr>
        <p:sp>
          <p:nvSpPr>
            <p:cNvPr id="804" name=""/>
            <p:cNvSpPr/>
            <p:nvPr/>
          </p:nvSpPr>
          <p:spPr>
            <a:xfrm>
              <a:off x="7254720" y="406548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07200" y="409428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7207200" y="4410000"/>
            <a:ext cx="104760" cy="123840"/>
            <a:chOff x="7207200" y="4410000"/>
            <a:chExt cx="104760" cy="123840"/>
          </a:xfrm>
        </p:grpSpPr>
        <p:sp>
          <p:nvSpPr>
            <p:cNvPr id="807" name=""/>
            <p:cNvSpPr/>
            <p:nvPr/>
          </p:nvSpPr>
          <p:spPr>
            <a:xfrm>
              <a:off x="7254720" y="4410000"/>
              <a:ext cx="1800" cy="47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07200" y="44388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0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588080" y="1731960"/>
            <a:ext cx="619200" cy="1847880"/>
            <a:chOff x="7588080" y="1731960"/>
            <a:chExt cx="619200" cy="1847880"/>
          </a:xfrm>
        </p:grpSpPr>
        <p:sp>
          <p:nvSpPr>
            <p:cNvPr id="810" name=""/>
            <p:cNvSpPr/>
            <p:nvPr/>
          </p:nvSpPr>
          <p:spPr>
            <a:xfrm>
              <a:off x="7588080" y="1770120"/>
              <a:ext cx="619200" cy="1809720"/>
            </a:xfrm>
            <a:custGeom>
              <a:avLst/>
              <a:gdLst/>
              <a:ahLst/>
              <a:rect l="l" t="t" r="r" b="b"/>
              <a:pathLst>
                <a:path w="65" h="190">
                  <a:moveTo>
                    <a:pt x="0" y="190"/>
                  </a:moveTo>
                  <a:cubicBezTo>
                    <a:pt x="33" y="190"/>
                    <a:pt x="65" y="142"/>
                    <a:pt x="65" y="94"/>
                  </a:cubicBezTo>
                  <a:cubicBezTo>
                    <a:pt x="65" y="52"/>
                    <a:pt x="45" y="10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31000" y="173196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12"/>
                  </a:lnTo>
                  <a:lnTo>
                    <a:pt x="60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7588080" y="1731960"/>
            <a:ext cx="714600" cy="2563920"/>
            <a:chOff x="7588080" y="1731960"/>
            <a:chExt cx="714600" cy="2563920"/>
          </a:xfrm>
        </p:grpSpPr>
        <p:sp>
          <p:nvSpPr>
            <p:cNvPr id="813" name=""/>
            <p:cNvSpPr/>
            <p:nvPr/>
          </p:nvSpPr>
          <p:spPr>
            <a:xfrm>
              <a:off x="7588080" y="1779480"/>
              <a:ext cx="714600" cy="2516400"/>
            </a:xfrm>
            <a:custGeom>
              <a:avLst/>
              <a:gdLst/>
              <a:ahLst/>
              <a:rect l="l" t="t" r="r" b="b"/>
              <a:pathLst>
                <a:path w="75" h="264">
                  <a:moveTo>
                    <a:pt x="0" y="264"/>
                  </a:moveTo>
                  <a:cubicBezTo>
                    <a:pt x="38" y="264"/>
                    <a:pt x="75" y="198"/>
                    <a:pt x="75" y="131"/>
                  </a:cubicBezTo>
                  <a:cubicBezTo>
                    <a:pt x="75" y="72"/>
                    <a:pt x="52" y="13"/>
                    <a:pt x="2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31000" y="173196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12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588080" y="1731960"/>
            <a:ext cx="486000" cy="1123920"/>
            <a:chOff x="7588080" y="1731960"/>
            <a:chExt cx="486000" cy="1123920"/>
          </a:xfrm>
        </p:grpSpPr>
        <p:sp>
          <p:nvSpPr>
            <p:cNvPr id="816" name=""/>
            <p:cNvSpPr/>
            <p:nvPr/>
          </p:nvSpPr>
          <p:spPr>
            <a:xfrm>
              <a:off x="7588080" y="1770120"/>
              <a:ext cx="486000" cy="108576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0" y="114"/>
                  </a:moveTo>
                  <a:cubicBezTo>
                    <a:pt x="26" y="114"/>
                    <a:pt x="51" y="85"/>
                    <a:pt x="51" y="56"/>
                  </a:cubicBezTo>
                  <a:cubicBezTo>
                    <a:pt x="51" y="32"/>
                    <a:pt x="39" y="8"/>
                    <a:pt x="2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31000" y="1731960"/>
              <a:ext cx="11448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7588080" y="1751040"/>
            <a:ext cx="285840" cy="361800"/>
            <a:chOff x="7588080" y="1751040"/>
            <a:chExt cx="285840" cy="361800"/>
          </a:xfrm>
        </p:grpSpPr>
        <p:sp>
          <p:nvSpPr>
            <p:cNvPr id="819" name=""/>
            <p:cNvSpPr/>
            <p:nvPr/>
          </p:nvSpPr>
          <p:spPr>
            <a:xfrm>
              <a:off x="7588080" y="1798560"/>
              <a:ext cx="285840" cy="31428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cubicBezTo>
                    <a:pt x="15" y="33"/>
                    <a:pt x="30" y="23"/>
                    <a:pt x="30" y="14"/>
                  </a:cubicBezTo>
                  <a:cubicBezTo>
                    <a:pt x="30" y="9"/>
                    <a:pt x="28" y="4"/>
                    <a:pt x="2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31000" y="1751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6"/>
                  </a:moveTo>
                  <a:lnTo>
                    <a:pt x="0" y="0"/>
                  </a:lnTo>
                  <a:lnTo>
                    <a:pt x="42" y="6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787320" y="2084400"/>
            <a:ext cx="558180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87040" y="1752480"/>
            <a:ext cx="201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Monotype Sorts"/>
                <a:ea typeface="Monotype Sorts"/>
              </a:rPr>
              <a:t>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25800" y="1676520"/>
            <a:ext cx="4372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Automated. Based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ink/State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86400" y="2703600"/>
            <a:ext cx="201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Monotype Sorts"/>
                <a:ea typeface="Monotype Sorts"/>
              </a:rPr>
              <a:t>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73680" y="2598840"/>
            <a:ext cx="469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sign decisions at t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4920" y="2979720"/>
            <a:ext cx="83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86400" y="3551400"/>
            <a:ext cx="201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Monotype Sorts"/>
                <a:ea typeface="Monotype Sorts"/>
              </a:rPr>
              <a:t>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69720" y="3446640"/>
            <a:ext cx="493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rchitecture suppor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93120" y="3836880"/>
            <a:ext cx="144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37440" y="3836880"/>
            <a:ext cx="11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6880" y="3836880"/>
            <a:ext cx="138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76200" y="4219560"/>
            <a:ext cx="413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2600" y="5076720"/>
            <a:ext cx="860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840" y="4724280"/>
            <a:ext cx="90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000" y="5257800"/>
            <a:ext cx="784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vide predictability in the design process an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5686560"/>
            <a:ext cx="320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ully automated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83080" y="1407960"/>
            <a:ext cx="2162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F14-B809-407F-A43D-08A583D07A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og Design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838080" y="1447920"/>
          <a:ext cx="6400800" cy="4800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3047400" y="1627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7400" y="304812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/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123720" y="2133720"/>
            <a:ext cx="48006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end-to-e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3505320"/>
            <a:ext cx="4800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steady-state, envelope analy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 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passiv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0C7-785C-4AC1-B593-E5D1EC7C4C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lab Simulink Model of Zero-IF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4489560"/>
            <a:ext cx="7772400" cy="16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used to decrease simulatio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nd equivalent modeling of RF signals (envelope simulation techn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design using Matlab Real-Time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838080" y="1447920"/>
          <a:ext cx="74264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4264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1F0-12C4-40E2-8435-9FC77E44D0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 Constellation With and without M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21120" y="2270160"/>
            <a:ext cx="401508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users (equal p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31 M sequence spreading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chip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consforbob" descr=""/>
          <p:cNvPicPr/>
          <p:nvPr/>
        </p:nvPicPr>
        <p:blipFill>
          <a:blip r:embed="rId1"/>
          <a:srcRect l="15772" t="2969" r="14193" b="4805"/>
          <a:stretch/>
        </p:blipFill>
        <p:spPr>
          <a:xfrm>
            <a:off x="533520" y="1676520"/>
            <a:ext cx="4111560" cy="40608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184480" y="1339920"/>
            <a:ext cx="2074680" cy="422280"/>
          </a:xfrm>
          <a:prstGeom prst="ellipse">
            <a:avLst/>
          </a:prstGeom>
          <a:solidFill>
            <a:srgbClr val="fb23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out 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030480" y="1752480"/>
            <a:ext cx="100080" cy="312840"/>
          </a:xfrm>
          <a:prstGeom prst="line">
            <a:avLst/>
          </a:prstGeom>
          <a:ln w="38160">
            <a:solidFill>
              <a:srgbClr val="fb23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20760" y="5856120"/>
            <a:ext cx="1781280" cy="45108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2846520" y="4030560"/>
            <a:ext cx="54000" cy="1844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CF5-3376-4441-B0D2-BFE3522BA27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Analog Impair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647960" y="1385640"/>
            <a:ext cx="4214520" cy="44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users (equal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Hz Butterworth L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kHz DC notch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5dB receiver 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dB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 gain mis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° I/Q phase mis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P2 = -11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P3 = -18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L: -80dBc/Hz @ 10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bit, 200MHz S-D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6668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cons2forbob" descr=""/>
          <p:cNvPicPr/>
          <p:nvPr/>
        </p:nvPicPr>
        <p:blipFill>
          <a:blip r:embed="rId1"/>
          <a:srcRect l="14288" t="2385" r="14288" b="4283"/>
          <a:stretch/>
        </p:blipFill>
        <p:spPr>
          <a:xfrm>
            <a:off x="771480" y="2065320"/>
            <a:ext cx="3863880" cy="39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21C-74E3-4C55-B7CA-14115D86F8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opened in February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and network infrastructure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et of design flow and tools 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genda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60 graduate students, 30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400" spc="-1" strike="noStrike">
                <a:solidFill>
                  <a:srgbClr val="fb233d"/>
                </a:solidFill>
                <a:latin typeface="Arial"/>
              </a:rPr>
              <a:t>http://bwrc.eecs.berkeley.edu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semi-annual research retreat; June 1-2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  on Website for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to non-members after 6 month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etreat January 2001, Monte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4C8-381B-412D-8C55-7005EB79A6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WRC Facul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81480" y="1752480"/>
            <a:ext cx="2643120" cy="4191120"/>
            <a:chOff x="5181480" y="1752480"/>
            <a:chExt cx="2643120" cy="4191120"/>
          </a:xfrm>
        </p:grpSpPr>
        <p:sp>
          <p:nvSpPr>
            <p:cNvPr id="178" name=""/>
            <p:cNvSpPr/>
            <p:nvPr/>
          </p:nvSpPr>
          <p:spPr>
            <a:xfrm>
              <a:off x="5775120" y="5253120"/>
              <a:ext cx="1520640" cy="6904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81480" y="1752480"/>
              <a:ext cx="2643120" cy="692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 Engine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Protoc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79840" y="4108320"/>
              <a:ext cx="2179440" cy="692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og &amp; Dig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79840" y="2965320"/>
              <a:ext cx="2246400" cy="692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000" y="1295280"/>
            <a:ext cx="2585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T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erto S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. Ramchand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 Raba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Broder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a Nik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G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Me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W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nming 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429000" y="1904760"/>
            <a:ext cx="1752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29000" y="205740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29000" y="2209680"/>
            <a:ext cx="1752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429000" y="228600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29000" y="236232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429000" y="312408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429000" y="32767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52680" y="3504960"/>
            <a:ext cx="1981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27672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73392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4191120"/>
            <a:ext cx="1905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4572000"/>
            <a:ext cx="1981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352680" y="4800240"/>
            <a:ext cx="198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5410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429000" y="57150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048120"/>
            <a:ext cx="2362320" cy="914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12D-6E17-4D59-9A17-3C114E3C1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er Industrial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7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ence Desig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sson Radio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icr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4A4-9218-449D-A822-33BE538E2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WRC 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Budget: $3.5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: $600 - 800K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: $2.0 - 2.5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PA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PicoRadio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signal CAD for single chip-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Naval Research (ON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ra-Wideb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PA: Defense Advanced Research Projects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F: National Scienc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: Department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12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R: Office of Nav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BF7-8CCD-4DAD-986D-39C8E2D5B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ssively publish research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er will pursue an active policy of placing research results in the public domain as determined by the  Center Scientific 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mber companies have access to the public domain results, but do not directly participate in cent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80B-AF98-4126-8628-A810F4786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ective Hu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reles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and e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icle usage at 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reserv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laptops for ov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62720" y="393696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C19-0CEF-4631-ACD7-ED748664D8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; Complet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ystem leve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ed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ed Cascade semi-automa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station, 40 GHz wafer/die level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capital expansion ~ $100-200K/yr minus 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692-6337-48A7-BB89-5F0059801E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0:03:29Z</dcterms:created>
  <dc:creator>employee</dc:creator>
  <dc:description>&lt;doc#&gt;</dc:description>
  <dc:language>en-US</dc:language>
  <cp:lastModifiedBy>Robert F.  Heile</cp:lastModifiedBy>
  <cp:lastPrinted>1998-02-10T13:28:06Z</cp:lastPrinted>
  <dcterms:modified xsi:type="dcterms:W3CDTF">2000-07-12T04:56:46Z</dcterms:modified>
  <cp:revision>9</cp:revision>
  <dc:subject>IEEE 802.15 &lt;subject&gt;</dc:subject>
  <dc:title>PowerPoint Presentation</dc:title>
</cp:coreProperties>
</file>