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2334-6E35-4355-8FA1-F47C4A26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22360" y="593100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4D4A-E2C9-48B3-9332-499CE786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2236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232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99A5-2BED-4B8B-996C-4A7D473D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6320" y="541656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50640" y="541656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22360" y="593100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6320" y="593100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50640" y="593100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4C2D-94E8-42CD-AB6C-990C9C72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1CF40-D18D-4B50-92C2-A2C963DE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22360" y="541656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4D5E3-FD1D-49EF-B03D-6B91637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9C2DD-0F5C-4C96-8CDB-B24E22F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DF4F4-1FAB-46CE-82C9-9DD5F3B0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9AA8D-2382-4F2B-B0A2-5D7C976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36560" y="4082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BC1A4-A826-43A0-ABE7-993B75B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2236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340C4-9ACA-421D-B715-C7D275D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22360" y="541656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D2CA-9678-4DBB-8EEA-9CEB982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232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5DE33-3589-4C87-A30D-68EB86F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2360" y="593100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E683F-038C-40AD-9627-586479C3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22360" y="593100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B309-8376-48DE-9EE4-9710782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2236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232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8921-398D-4019-B718-2D6907D7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6320" y="541656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50640" y="541656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22360" y="593100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6320" y="593100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50640" y="593100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057B4-3289-488E-8A9F-18B5BA56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F6E1-F1AF-4061-8ED8-749A9BAE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728B-597C-4123-AEE3-02EBA42B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EC5B-7AD4-4E0E-B1BD-43873FE3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6560" y="4082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B3F4-37C6-4371-9828-64F6390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2236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6769-0720-47A8-BFA4-BEAE420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2320" y="593100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B8D2-E4B6-4629-AB87-750AD86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236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2320" y="541656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22360" y="593100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D9BC-0A7C-4C2E-A757-D2656F7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099-03F4-43C2-B0CC-D94D259FBFD6}" type="slidenum">
              <a:rPr b="1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776240" y="175680"/>
            <a:ext cx="698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7200" cy="1068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52440" y="6400800"/>
            <a:ext cx="8381880" cy="0"/>
          </a:xfrm>
          <a:prstGeom prst="line">
            <a:avLst/>
          </a:prstGeom>
          <a:ln w="57240">
            <a:solidFill>
              <a:srgbClr val="1e5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2505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2192-D397-42B3-99FA-408A1A78B4D5}" type="datetime5">
              <a:rPr b="1" lang="en-US" sz="1200" spc="-1" strike="noStrike">
                <a:solidFill>
                  <a:srgbClr val="006699"/>
                </a:solidFill>
                <a:latin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46704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6603840" y="646704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9282-B7F4-49DF-AD78-C2CC28151E0B}" type="slidenum">
              <a:rPr b="1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400800"/>
            <a:ext cx="8381880" cy="0"/>
          </a:xfrm>
          <a:prstGeom prst="line">
            <a:avLst/>
          </a:prstGeom>
          <a:ln w="57240">
            <a:solidFill>
              <a:srgbClr val="1e5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85800" y="646704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697-5952-4FA9-A5BD-928AC2EC3C9A}" type="datetime5">
              <a:rPr b="1" lang="en-US" sz="1200" spc="-1" strike="noStrike">
                <a:solidFill>
                  <a:srgbClr val="006699"/>
                </a:solidFill>
                <a:latin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41680" y="639720"/>
            <a:ext cx="2203560" cy="173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00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349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1040" y="2749680"/>
            <a:ext cx="883296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dless Connection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the Consum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720" y="4178160"/>
            <a:ext cx="798192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Wireless Personal Area Networks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™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: Technology and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EEE ComSoc Boston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8th Jun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74780-259F-4B7F-A787-AD6D04CC7F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497573C-C422-49D4-8F31-9F13D2693C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76240" y="175680"/>
            <a:ext cx="698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AP 2.0 Enhanc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19040" y="1403280"/>
            <a:ext cx="83073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raw data rate from 1.6 to 1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DECT handset support from 4 to 8 dial 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pecific support for Streaming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one-way, two-way and multicast 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application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 remote speakers or wireless headsets (receive only de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by Surround sound remote 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pad” small screen compressed video dis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8 simultaneous active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aming support for public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define at current BOM cost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290C-D3F4-437B-9B35-4E976CC5D6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0A2A26-10E4-404B-947E-26F7383D57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presentation was made available on 30May00 by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Ben Mann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hair, HomeRF Working Grou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ntel Corporation &lt; ben.manny@intel.com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3FDE3-D345-4BE1-BD8F-C9BD0FC0BE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3DE2A2D-4333-4ABA-A3B8-1CDB83CF23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76240" y="175680"/>
            <a:ext cx="698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Home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280" y="1606320"/>
            <a:ext cx="8307720" cy="19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lugs - jus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nected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connected while mo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batteries instead of wi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3600" y="4674600"/>
            <a:ext cx="69382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connections for mobile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5B45-A586-489E-A605-107654E9AE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47858F-B0E7-482A-87D0-2569941202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76240" y="175680"/>
            <a:ext cx="698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Networking Landsca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39120" y="125568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95640" y="1752120"/>
            <a:ext cx="0" cy="3699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65320" y="5284080"/>
            <a:ext cx="4883040" cy="11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52320" y="945360"/>
            <a:ext cx="4460040" cy="2530440"/>
            <a:chOff x="2452320" y="945360"/>
            <a:chExt cx="4460040" cy="2530440"/>
          </a:xfrm>
        </p:grpSpPr>
        <p:sp>
          <p:nvSpPr>
            <p:cNvPr id="96" name=""/>
            <p:cNvSpPr/>
            <p:nvPr/>
          </p:nvSpPr>
          <p:spPr>
            <a:xfrm rot="20817600">
              <a:off x="2581200" y="1398600"/>
              <a:ext cx="4201920" cy="162396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39760" y="1810800"/>
              <a:ext cx="388800" cy="29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107600" y="2150640"/>
              <a:ext cx="330840" cy="11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05080" y="2559240"/>
              <a:ext cx="507960" cy="4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1285600">
              <a:off x="4380120" y="1719000"/>
              <a:ext cx="94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1285600">
              <a:off x="5176800" y="1413360"/>
              <a:ext cx="1455840" cy="660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285600">
              <a:off x="2706120" y="2127960"/>
              <a:ext cx="1455840" cy="6602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1285600">
              <a:off x="2828880" y="225936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llu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1285600">
              <a:off x="5073480" y="158040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cket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899760" y="512136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5400" y="340524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side-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7200" y="216072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utside-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560" y="539892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77280" y="539892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47160" y="5411880"/>
            <a:ext cx="9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040" y="451656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etwe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294600">
            <a:off x="2800080" y="4397040"/>
            <a:ext cx="4214880" cy="8510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425680" y="2115720"/>
            <a:ext cx="4848480" cy="2939760"/>
            <a:chOff x="2425680" y="2115720"/>
            <a:chExt cx="4848480" cy="2939760"/>
          </a:xfrm>
        </p:grpSpPr>
        <p:grpSp>
          <p:nvGrpSpPr>
            <p:cNvPr id="114" name=""/>
            <p:cNvGrpSpPr/>
            <p:nvPr/>
          </p:nvGrpSpPr>
          <p:grpSpPr>
            <a:xfrm>
              <a:off x="2425680" y="2115720"/>
              <a:ext cx="4848480" cy="2939760"/>
              <a:chOff x="2425680" y="2115720"/>
              <a:chExt cx="4848480" cy="2939760"/>
            </a:xfrm>
          </p:grpSpPr>
          <p:sp>
            <p:nvSpPr>
              <p:cNvPr id="115" name=""/>
              <p:cNvSpPr/>
              <p:nvPr/>
            </p:nvSpPr>
            <p:spPr>
              <a:xfrm rot="20533200">
                <a:off x="2563920" y="2774880"/>
                <a:ext cx="4572000" cy="1621080"/>
              </a:xfrm>
              <a:prstGeom prst="ellipse">
                <a:avLst/>
              </a:prstGeom>
              <a:gradFill rotWithShape="0">
                <a:gsLst>
                  <a:gs pos="0">
                    <a:srgbClr val="2f7575"/>
                  </a:gs>
                  <a:gs pos="100000">
                    <a:srgbClr val="66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4890240" y="3072240"/>
                <a:ext cx="380880" cy="18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4845240" y="3458520"/>
                <a:ext cx="402840" cy="12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5114520" y="3679200"/>
                <a:ext cx="492480" cy="18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7160" y="3259800"/>
                <a:ext cx="1227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me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is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728800" y="3757680"/>
              <a:ext cx="1455840" cy="6602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24560" y="392256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d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48440" y="3029040"/>
              <a:ext cx="1455480" cy="6602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0600" y="317340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810520" y="4550040"/>
            <a:ext cx="1562040" cy="726120"/>
            <a:chOff x="2810520" y="4550040"/>
            <a:chExt cx="1562040" cy="726120"/>
          </a:xfrm>
        </p:grpSpPr>
        <p:sp>
          <p:nvSpPr>
            <p:cNvPr id="125" name=""/>
            <p:cNvSpPr/>
            <p:nvPr/>
          </p:nvSpPr>
          <p:spPr>
            <a:xfrm rot="21063600">
              <a:off x="2840040" y="4663800"/>
              <a:ext cx="1503000" cy="4982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063600">
              <a:off x="2946240" y="46933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ble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999920" y="56674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703480" y="4420800"/>
            <a:ext cx="1209960" cy="581040"/>
            <a:chOff x="5703480" y="4420800"/>
            <a:chExt cx="1209960" cy="581040"/>
          </a:xfrm>
        </p:grpSpPr>
        <p:sp>
          <p:nvSpPr>
            <p:cNvPr id="129" name=""/>
            <p:cNvSpPr/>
            <p:nvPr/>
          </p:nvSpPr>
          <p:spPr>
            <a:xfrm rot="21063600">
              <a:off x="5727240" y="4508640"/>
              <a:ext cx="1162080" cy="398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1063600">
              <a:off x="5850720" y="45302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P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rot="21256200">
            <a:off x="4297320" y="44416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too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1B51-4E4C-4512-9817-87B66BB022A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5C82FE-9F87-4391-AF69-6D61669CCF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38360" y="0"/>
            <a:ext cx="62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ed 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43280" y="0"/>
            <a:ext cx="551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ed 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4520" y="3659040"/>
            <a:ext cx="272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5600" y="-360"/>
            <a:ext cx="6254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U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ed Connec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5520" y="3429000"/>
            <a:ext cx="425520" cy="22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4920" y="3695040"/>
            <a:ext cx="133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net Pi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15680" y="81000"/>
            <a:ext cx="7993080" cy="7169400"/>
            <a:chOff x="715680" y="81000"/>
            <a:chExt cx="7993080" cy="7169400"/>
          </a:xfrm>
        </p:grpSpPr>
        <p:sp>
          <p:nvSpPr>
            <p:cNvPr id="139" name=""/>
            <p:cNvSpPr/>
            <p:nvPr/>
          </p:nvSpPr>
          <p:spPr>
            <a:xfrm rot="19397400">
              <a:off x="2124000" y="2730600"/>
              <a:ext cx="4897440" cy="1817640"/>
            </a:xfrm>
            <a:prstGeom prst="ellipse">
              <a:avLst/>
            </a:prstGeom>
            <a:noFill/>
            <a:ln w="1260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397400">
              <a:off x="993240" y="1967040"/>
              <a:ext cx="7437600" cy="339696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71800" y="1294920"/>
            <a:ext cx="8876880" cy="4804920"/>
            <a:chOff x="271800" y="1294920"/>
            <a:chExt cx="8876880" cy="4804920"/>
          </a:xfrm>
        </p:grpSpPr>
        <p:grpSp>
          <p:nvGrpSpPr>
            <p:cNvPr id="142" name=""/>
            <p:cNvGrpSpPr/>
            <p:nvPr/>
          </p:nvGrpSpPr>
          <p:grpSpPr>
            <a:xfrm>
              <a:off x="6156360" y="1460520"/>
              <a:ext cx="638280" cy="496440"/>
              <a:chOff x="6156360" y="1460520"/>
              <a:chExt cx="638280" cy="496440"/>
            </a:xfrm>
          </p:grpSpPr>
          <p:sp>
            <p:nvSpPr>
              <p:cNvPr id="143" name=""/>
              <p:cNvSpPr/>
              <p:nvPr/>
            </p:nvSpPr>
            <p:spPr>
              <a:xfrm>
                <a:off x="6169320" y="1552320"/>
                <a:ext cx="611640" cy="397440"/>
              </a:xfrm>
              <a:prstGeom prst="roundRect">
                <a:avLst>
                  <a:gd name="adj" fmla="val 7009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56360" y="1544760"/>
                <a:ext cx="638280" cy="412200"/>
              </a:xfrm>
              <a:prstGeom prst="roundRect">
                <a:avLst>
                  <a:gd name="adj" fmla="val 12495"/>
                </a:avLst>
              </a:prstGeom>
              <a:solidFill>
                <a:srgbClr val="b2b2b2"/>
              </a:solidFill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00280" y="1558080"/>
                <a:ext cx="550080" cy="69480"/>
              </a:xfrm>
              <a:prstGeom prst="roundRect">
                <a:avLst>
                  <a:gd name="adj" fmla="val 12495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6221160" y="1571760"/>
                <a:ext cx="102240" cy="38160"/>
                <a:chOff x="6221160" y="1571760"/>
                <a:chExt cx="102240" cy="38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238440" y="1571760"/>
                  <a:ext cx="6768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229440" y="1578600"/>
                  <a:ext cx="8568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21160" y="1584720"/>
                  <a:ext cx="10224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221160" y="1590840"/>
                  <a:ext cx="10224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221160" y="1596960"/>
                  <a:ext cx="10224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229440" y="1603080"/>
                  <a:ext cx="8568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238440" y="1609920"/>
                  <a:ext cx="6768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6741000" y="1460520"/>
                <a:ext cx="14760" cy="81720"/>
              </a:xfrm>
              <a:prstGeom prst="rect">
                <a:avLst/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6458040" y="1939320"/>
                <a:ext cx="34560" cy="4680"/>
                <a:chOff x="6458040" y="1939320"/>
                <a:chExt cx="34560" cy="46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458040" y="1939320"/>
                  <a:ext cx="9000" cy="4680"/>
                </a:xfrm>
                <a:prstGeom prst="ellipse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83960" y="1939320"/>
                  <a:ext cx="8640" cy="4680"/>
                </a:xfrm>
                <a:prstGeom prst="ellipse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6202440" y="1636920"/>
                <a:ext cx="545040" cy="232560"/>
              </a:xfrm>
              <a:prstGeom prst="rect">
                <a:avLst/>
              </a:prstGeom>
              <a:solidFill>
                <a:srgbClr val="99ff99"/>
              </a:solidFill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6420960" y="1896120"/>
                <a:ext cx="316080" cy="17640"/>
                <a:chOff x="6420960" y="1896120"/>
                <a:chExt cx="316080" cy="176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420960" y="1896120"/>
                  <a:ext cx="34200" cy="17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77120" y="1896120"/>
                  <a:ext cx="34200" cy="17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33640" y="1896120"/>
                  <a:ext cx="34200" cy="17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90160" y="1896120"/>
                  <a:ext cx="34200" cy="17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646320" y="1896120"/>
                  <a:ext cx="34200" cy="17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702840" y="1896120"/>
                  <a:ext cx="34200" cy="17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6231960" y="1896120"/>
                <a:ext cx="33120" cy="38520"/>
              </a:xfrm>
              <a:prstGeom prst="ellipse">
                <a:avLst/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88120" y="1896120"/>
                <a:ext cx="34200" cy="38520"/>
              </a:xfrm>
              <a:prstGeom prst="ellipse">
                <a:avLst/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6978960" y="1294920"/>
              <a:ext cx="216972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obile display p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 Program gu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d &amp; set security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Theater 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play News headl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819000" y="3965400"/>
              <a:ext cx="1218960" cy="879480"/>
              <a:chOff x="819000" y="3965400"/>
              <a:chExt cx="1218960" cy="879480"/>
            </a:xfrm>
          </p:grpSpPr>
          <p:sp>
            <p:nvSpPr>
              <p:cNvPr id="170" name=""/>
              <p:cNvSpPr/>
              <p:nvPr/>
            </p:nvSpPr>
            <p:spPr>
              <a:xfrm>
                <a:off x="1082520" y="3987360"/>
                <a:ext cx="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83960" y="3965400"/>
                <a:ext cx="73080" cy="48960"/>
              </a:xfrm>
              <a:prstGeom prst="roundRect">
                <a:avLst>
                  <a:gd name="adj" fmla="val 12491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080" bIns="1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47440" y="4233600"/>
                <a:ext cx="1014480" cy="587160"/>
              </a:xfrm>
              <a:prstGeom prst="parallelogram">
                <a:avLst>
                  <a:gd name="adj" fmla="val 20133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20520" y="4281120"/>
                <a:ext cx="863640" cy="453960"/>
              </a:xfrm>
              <a:prstGeom prst="parallelogram">
                <a:avLst>
                  <a:gd name="adj" fmla="val 20583"/>
                </a:avLst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12400" y="4255920"/>
                <a:ext cx="44532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randma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09440" y="4349520"/>
                <a:ext cx="7970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5840" bIns="15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3 cups  flou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1 cup grated chocolat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1 cup sug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1 stick butt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1/2 cup chopped walnu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minutes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63240" y="4771800"/>
                <a:ext cx="68400" cy="2844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3760" bIns="-237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34840" y="4731840"/>
                <a:ext cx="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50680" y="4731840"/>
                <a:ext cx="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49280" y="4698720"/>
                <a:ext cx="14256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OM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42960" y="4698720"/>
                <a:ext cx="14256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INDE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4440" y="4771800"/>
                <a:ext cx="68400" cy="28440"/>
              </a:xfrm>
              <a:prstGeom prst="ellipse">
                <a:avLst/>
              </a:prstGeom>
              <a:solidFill>
                <a:srgbClr val="9f00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3760" bIns="-237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9000" y="4844880"/>
                <a:ext cx="938160" cy="0"/>
              </a:xfrm>
              <a:prstGeom prst="line">
                <a:avLst/>
              </a:prstGeom>
              <a:ln w="5076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69760" y="4233600"/>
                <a:ext cx="185760" cy="598320"/>
              </a:xfrm>
              <a:prstGeom prst="triangle">
                <a:avLst>
                  <a:gd name="adj" fmla="val 57403"/>
                </a:avLst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01440" y="4295520"/>
                <a:ext cx="139680" cy="496800"/>
              </a:xfrm>
              <a:prstGeom prst="triangle">
                <a:avLst>
                  <a:gd name="adj" fmla="val 59440"/>
                </a:avLst>
              </a:prstGeom>
              <a:noFill/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92160" y="4320720"/>
                <a:ext cx="145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71800" y="4865040"/>
              <a:ext cx="1639080" cy="12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ridge P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mily Calend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ipe Disp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ild shopping 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oice messag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919840" y="4302000"/>
            <a:ext cx="2545920" cy="1204200"/>
            <a:chOff x="5919840" y="4302000"/>
            <a:chExt cx="2545920" cy="1204200"/>
          </a:xfrm>
        </p:grpSpPr>
        <p:pic>
          <p:nvPicPr>
            <p:cNvPr id="188" name="TELE062" descr=""/>
            <p:cNvPicPr/>
            <p:nvPr/>
          </p:nvPicPr>
          <p:blipFill>
            <a:blip r:embed="rId1"/>
            <a:stretch/>
          </p:blipFill>
          <p:spPr>
            <a:xfrm>
              <a:off x="5919840" y="4302000"/>
              <a:ext cx="32220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265800" y="4453920"/>
              <a:ext cx="219996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rdless Pho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mote Speech recog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 by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ild shopping 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PB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753560" y="1377360"/>
            <a:ext cx="2788200" cy="1234800"/>
            <a:chOff x="1753560" y="1377360"/>
            <a:chExt cx="2788200" cy="1234800"/>
          </a:xfrm>
        </p:grpSpPr>
        <p:pic>
          <p:nvPicPr>
            <p:cNvPr id="191" name="PORTB001" descr=""/>
            <p:cNvPicPr/>
            <p:nvPr/>
          </p:nvPicPr>
          <p:blipFill>
            <a:blip r:embed="rId2"/>
            <a:stretch/>
          </p:blipFill>
          <p:spPr>
            <a:xfrm>
              <a:off x="3506760" y="1430280"/>
              <a:ext cx="10350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753560" y="1377360"/>
              <a:ext cx="1780920" cy="12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fice Lap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nect to office 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Printer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rf from anyw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re fi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589200" y="5487480"/>
            <a:ext cx="2231280" cy="1126080"/>
            <a:chOff x="3589200" y="5487480"/>
            <a:chExt cx="2231280" cy="1126080"/>
          </a:xfrm>
        </p:grpSpPr>
        <p:grpSp>
          <p:nvGrpSpPr>
            <p:cNvPr id="194" name=""/>
            <p:cNvGrpSpPr/>
            <p:nvPr/>
          </p:nvGrpSpPr>
          <p:grpSpPr>
            <a:xfrm>
              <a:off x="3589200" y="5487480"/>
              <a:ext cx="716040" cy="1126080"/>
              <a:chOff x="3589200" y="5487480"/>
              <a:chExt cx="716040" cy="11260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3589200" y="5800680"/>
                <a:ext cx="716040" cy="812880"/>
                <a:chOff x="3589200" y="5800680"/>
                <a:chExt cx="716040" cy="812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589200" y="5800680"/>
                  <a:ext cx="716040" cy="812880"/>
                </a:xfrm>
                <a:custGeom>
                  <a:avLst/>
                  <a:gdLst/>
                  <a:ahLst/>
                  <a:rect l="l" t="t" r="r" b="b"/>
                  <a:pathLst>
                    <a:path w="1602" h="1908">
                      <a:moveTo>
                        <a:pt x="1602" y="1818"/>
                      </a:moveTo>
                      <a:lnTo>
                        <a:pt x="1602" y="84"/>
                      </a:lnTo>
                      <a:lnTo>
                        <a:pt x="1596" y="66"/>
                      </a:lnTo>
                      <a:lnTo>
                        <a:pt x="1596" y="54"/>
                      </a:lnTo>
                      <a:lnTo>
                        <a:pt x="1584" y="36"/>
                      </a:lnTo>
                      <a:lnTo>
                        <a:pt x="1572" y="24"/>
                      </a:lnTo>
                      <a:lnTo>
                        <a:pt x="1560" y="12"/>
                      </a:lnTo>
                      <a:lnTo>
                        <a:pt x="1548" y="6"/>
                      </a:lnTo>
                      <a:lnTo>
                        <a:pt x="1530" y="0"/>
                      </a:lnTo>
                      <a:lnTo>
                        <a:pt x="1512" y="0"/>
                      </a:lnTo>
                      <a:lnTo>
                        <a:pt x="90" y="0"/>
                      </a:lnTo>
                      <a:lnTo>
                        <a:pt x="72" y="0"/>
                      </a:lnTo>
                      <a:lnTo>
                        <a:pt x="54" y="6"/>
                      </a:lnTo>
                      <a:lnTo>
                        <a:pt x="42" y="12"/>
                      </a:lnTo>
                      <a:lnTo>
                        <a:pt x="30" y="24"/>
                      </a:lnTo>
                      <a:lnTo>
                        <a:pt x="18" y="36"/>
                      </a:lnTo>
                      <a:lnTo>
                        <a:pt x="6" y="54"/>
                      </a:lnTo>
                      <a:lnTo>
                        <a:pt x="6" y="66"/>
                      </a:lnTo>
                      <a:lnTo>
                        <a:pt x="0" y="84"/>
                      </a:lnTo>
                      <a:lnTo>
                        <a:pt x="0" y="1818"/>
                      </a:lnTo>
                      <a:lnTo>
                        <a:pt x="6" y="1836"/>
                      </a:lnTo>
                      <a:lnTo>
                        <a:pt x="6" y="1854"/>
                      </a:lnTo>
                      <a:lnTo>
                        <a:pt x="18" y="1866"/>
                      </a:lnTo>
                      <a:lnTo>
                        <a:pt x="30" y="1878"/>
                      </a:lnTo>
                      <a:lnTo>
                        <a:pt x="42" y="1890"/>
                      </a:lnTo>
                      <a:lnTo>
                        <a:pt x="54" y="1896"/>
                      </a:lnTo>
                      <a:lnTo>
                        <a:pt x="72" y="1902"/>
                      </a:lnTo>
                      <a:lnTo>
                        <a:pt x="90" y="1908"/>
                      </a:lnTo>
                      <a:lnTo>
                        <a:pt x="1512" y="1908"/>
                      </a:lnTo>
                      <a:lnTo>
                        <a:pt x="1530" y="1902"/>
                      </a:lnTo>
                      <a:lnTo>
                        <a:pt x="1548" y="1896"/>
                      </a:lnTo>
                      <a:lnTo>
                        <a:pt x="1560" y="1890"/>
                      </a:lnTo>
                      <a:lnTo>
                        <a:pt x="1572" y="1878"/>
                      </a:lnTo>
                      <a:lnTo>
                        <a:pt x="1584" y="1866"/>
                      </a:lnTo>
                      <a:lnTo>
                        <a:pt x="1596" y="1854"/>
                      </a:lnTo>
                      <a:lnTo>
                        <a:pt x="1596" y="1836"/>
                      </a:lnTo>
                      <a:lnTo>
                        <a:pt x="1602" y="18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a68e"/>
                    </a:gs>
                    <a:gs pos="100000">
                      <a:srgbClr val="fbfcd8"/>
                    </a:gs>
                  </a:gsLst>
                  <a:lin ang="135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41400" y="6558480"/>
                  <a:ext cx="600840" cy="2016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42840" y="5867640"/>
                  <a:ext cx="600480" cy="598320"/>
                </a:xfrm>
                <a:custGeom>
                  <a:avLst/>
                  <a:gdLst/>
                  <a:ahLst/>
                  <a:rect l="l" t="t" r="r" b="b"/>
                  <a:pathLst>
                    <a:path w="1344" h="1068">
                      <a:moveTo>
                        <a:pt x="1254" y="1068"/>
                      </a:moveTo>
                      <a:lnTo>
                        <a:pt x="1272" y="1068"/>
                      </a:lnTo>
                      <a:lnTo>
                        <a:pt x="1290" y="1062"/>
                      </a:lnTo>
                      <a:lnTo>
                        <a:pt x="1308" y="1050"/>
                      </a:lnTo>
                      <a:lnTo>
                        <a:pt x="1320" y="1044"/>
                      </a:lnTo>
                      <a:lnTo>
                        <a:pt x="1332" y="1026"/>
                      </a:lnTo>
                      <a:lnTo>
                        <a:pt x="1338" y="1014"/>
                      </a:lnTo>
                      <a:lnTo>
                        <a:pt x="1344" y="996"/>
                      </a:lnTo>
                      <a:lnTo>
                        <a:pt x="1344" y="978"/>
                      </a:lnTo>
                      <a:lnTo>
                        <a:pt x="1344" y="90"/>
                      </a:lnTo>
                      <a:lnTo>
                        <a:pt x="1344" y="72"/>
                      </a:lnTo>
                      <a:lnTo>
                        <a:pt x="1338" y="54"/>
                      </a:lnTo>
                      <a:lnTo>
                        <a:pt x="1332" y="42"/>
                      </a:lnTo>
                      <a:lnTo>
                        <a:pt x="1320" y="30"/>
                      </a:lnTo>
                      <a:lnTo>
                        <a:pt x="1308" y="18"/>
                      </a:lnTo>
                      <a:lnTo>
                        <a:pt x="1290" y="6"/>
                      </a:lnTo>
                      <a:lnTo>
                        <a:pt x="1272" y="6"/>
                      </a:lnTo>
                      <a:lnTo>
                        <a:pt x="1254" y="0"/>
                      </a:lnTo>
                      <a:lnTo>
                        <a:pt x="90" y="0"/>
                      </a:lnTo>
                      <a:lnTo>
                        <a:pt x="72" y="6"/>
                      </a:lnTo>
                      <a:lnTo>
                        <a:pt x="54" y="6"/>
                      </a:lnTo>
                      <a:lnTo>
                        <a:pt x="42" y="18"/>
                      </a:lnTo>
                      <a:lnTo>
                        <a:pt x="30" y="30"/>
                      </a:lnTo>
                      <a:lnTo>
                        <a:pt x="18" y="42"/>
                      </a:lnTo>
                      <a:lnTo>
                        <a:pt x="6" y="54"/>
                      </a:lnTo>
                      <a:lnTo>
                        <a:pt x="6" y="72"/>
                      </a:lnTo>
                      <a:lnTo>
                        <a:pt x="0" y="90"/>
                      </a:lnTo>
                      <a:lnTo>
                        <a:pt x="0" y="978"/>
                      </a:lnTo>
                      <a:lnTo>
                        <a:pt x="6" y="996"/>
                      </a:lnTo>
                      <a:lnTo>
                        <a:pt x="6" y="1014"/>
                      </a:lnTo>
                      <a:lnTo>
                        <a:pt x="18" y="1026"/>
                      </a:lnTo>
                      <a:lnTo>
                        <a:pt x="30" y="1044"/>
                      </a:lnTo>
                      <a:lnTo>
                        <a:pt x="42" y="1050"/>
                      </a:lnTo>
                      <a:lnTo>
                        <a:pt x="54" y="1062"/>
                      </a:lnTo>
                      <a:lnTo>
                        <a:pt x="72" y="1068"/>
                      </a:lnTo>
                      <a:lnTo>
                        <a:pt x="90" y="1068"/>
                      </a:lnTo>
                      <a:lnTo>
                        <a:pt x="1254" y="10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c2c29b"/>
                    </a:gs>
                  </a:gsLst>
                  <a:lin ang="135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74880" y="5914800"/>
                  <a:ext cx="538920" cy="500760"/>
                </a:xfrm>
                <a:custGeom>
                  <a:avLst/>
                  <a:gdLst/>
                  <a:ahLst/>
                  <a:rect l="l" t="t" r="r" b="b"/>
                  <a:pathLst>
                    <a:path w="1206" h="894">
                      <a:moveTo>
                        <a:pt x="1116" y="894"/>
                      </a:moveTo>
                      <a:lnTo>
                        <a:pt x="84" y="894"/>
                      </a:lnTo>
                      <a:lnTo>
                        <a:pt x="66" y="894"/>
                      </a:lnTo>
                      <a:lnTo>
                        <a:pt x="54" y="888"/>
                      </a:lnTo>
                      <a:lnTo>
                        <a:pt x="36" y="882"/>
                      </a:lnTo>
                      <a:lnTo>
                        <a:pt x="24" y="870"/>
                      </a:lnTo>
                      <a:lnTo>
                        <a:pt x="12" y="858"/>
                      </a:lnTo>
                      <a:lnTo>
                        <a:pt x="6" y="840"/>
                      </a:lnTo>
                      <a:lnTo>
                        <a:pt x="0" y="822"/>
                      </a:lnTo>
                      <a:lnTo>
                        <a:pt x="0" y="810"/>
                      </a:lnTo>
                      <a:lnTo>
                        <a:pt x="0" y="90"/>
                      </a:lnTo>
                      <a:lnTo>
                        <a:pt x="0" y="72"/>
                      </a:lnTo>
                      <a:lnTo>
                        <a:pt x="6" y="54"/>
                      </a:lnTo>
                      <a:lnTo>
                        <a:pt x="12" y="42"/>
                      </a:lnTo>
                      <a:lnTo>
                        <a:pt x="24" y="24"/>
                      </a:lnTo>
                      <a:lnTo>
                        <a:pt x="36" y="18"/>
                      </a:lnTo>
                      <a:lnTo>
                        <a:pt x="54" y="6"/>
                      </a:lnTo>
                      <a:lnTo>
                        <a:pt x="66" y="0"/>
                      </a:lnTo>
                      <a:lnTo>
                        <a:pt x="84" y="0"/>
                      </a:lnTo>
                      <a:lnTo>
                        <a:pt x="1116" y="0"/>
                      </a:lnTo>
                      <a:lnTo>
                        <a:pt x="1134" y="0"/>
                      </a:lnTo>
                      <a:lnTo>
                        <a:pt x="1152" y="6"/>
                      </a:lnTo>
                      <a:lnTo>
                        <a:pt x="1164" y="18"/>
                      </a:lnTo>
                      <a:lnTo>
                        <a:pt x="1176" y="24"/>
                      </a:lnTo>
                      <a:lnTo>
                        <a:pt x="1188" y="42"/>
                      </a:lnTo>
                      <a:lnTo>
                        <a:pt x="1194" y="54"/>
                      </a:lnTo>
                      <a:lnTo>
                        <a:pt x="1200" y="72"/>
                      </a:lnTo>
                      <a:lnTo>
                        <a:pt x="1206" y="90"/>
                      </a:lnTo>
                      <a:lnTo>
                        <a:pt x="1206" y="810"/>
                      </a:lnTo>
                      <a:lnTo>
                        <a:pt x="1200" y="822"/>
                      </a:lnTo>
                      <a:lnTo>
                        <a:pt x="1194" y="840"/>
                      </a:lnTo>
                      <a:lnTo>
                        <a:pt x="1188" y="858"/>
                      </a:lnTo>
                      <a:lnTo>
                        <a:pt x="1176" y="870"/>
                      </a:lnTo>
                      <a:lnTo>
                        <a:pt x="1164" y="882"/>
                      </a:lnTo>
                      <a:lnTo>
                        <a:pt x="1152" y="888"/>
                      </a:lnTo>
                      <a:lnTo>
                        <a:pt x="1134" y="894"/>
                      </a:lnTo>
                      <a:lnTo>
                        <a:pt x="1116" y="894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74880" y="5914800"/>
                  <a:ext cx="498600" cy="500760"/>
                </a:xfrm>
                <a:custGeom>
                  <a:avLst/>
                  <a:gdLst/>
                  <a:ahLst/>
                  <a:rect l="l" t="t" r="r" b="b"/>
                  <a:pathLst>
                    <a:path w="1116" h="894">
                      <a:moveTo>
                        <a:pt x="1116" y="894"/>
                      </a:moveTo>
                      <a:lnTo>
                        <a:pt x="1062" y="852"/>
                      </a:lnTo>
                      <a:lnTo>
                        <a:pt x="138" y="852"/>
                      </a:lnTo>
                      <a:lnTo>
                        <a:pt x="120" y="846"/>
                      </a:lnTo>
                      <a:lnTo>
                        <a:pt x="108" y="846"/>
                      </a:lnTo>
                      <a:lnTo>
                        <a:pt x="90" y="834"/>
                      </a:lnTo>
                      <a:lnTo>
                        <a:pt x="84" y="828"/>
                      </a:lnTo>
                      <a:lnTo>
                        <a:pt x="72" y="816"/>
                      </a:lnTo>
                      <a:lnTo>
                        <a:pt x="66" y="804"/>
                      </a:lnTo>
                      <a:lnTo>
                        <a:pt x="60" y="786"/>
                      </a:lnTo>
                      <a:lnTo>
                        <a:pt x="60" y="768"/>
                      </a:lnTo>
                      <a:lnTo>
                        <a:pt x="60" y="126"/>
                      </a:lnTo>
                      <a:lnTo>
                        <a:pt x="60" y="108"/>
                      </a:lnTo>
                      <a:lnTo>
                        <a:pt x="66" y="90"/>
                      </a:lnTo>
                      <a:lnTo>
                        <a:pt x="72" y="78"/>
                      </a:lnTo>
                      <a:lnTo>
                        <a:pt x="84" y="66"/>
                      </a:lnTo>
                      <a:lnTo>
                        <a:pt x="90" y="60"/>
                      </a:lnTo>
                      <a:lnTo>
                        <a:pt x="108" y="48"/>
                      </a:lnTo>
                      <a:lnTo>
                        <a:pt x="120" y="48"/>
                      </a:lnTo>
                      <a:lnTo>
                        <a:pt x="138" y="42"/>
                      </a:lnTo>
                      <a:lnTo>
                        <a:pt x="84" y="0"/>
                      </a:lnTo>
                      <a:lnTo>
                        <a:pt x="66" y="0"/>
                      </a:lnTo>
                      <a:lnTo>
                        <a:pt x="54" y="6"/>
                      </a:lnTo>
                      <a:lnTo>
                        <a:pt x="36" y="18"/>
                      </a:lnTo>
                      <a:lnTo>
                        <a:pt x="24" y="24"/>
                      </a:lnTo>
                      <a:lnTo>
                        <a:pt x="12" y="42"/>
                      </a:lnTo>
                      <a:lnTo>
                        <a:pt x="6" y="54"/>
                      </a:lnTo>
                      <a:lnTo>
                        <a:pt x="0" y="72"/>
                      </a:lnTo>
                      <a:lnTo>
                        <a:pt x="0" y="90"/>
                      </a:lnTo>
                      <a:lnTo>
                        <a:pt x="0" y="810"/>
                      </a:lnTo>
                      <a:lnTo>
                        <a:pt x="0" y="822"/>
                      </a:lnTo>
                      <a:lnTo>
                        <a:pt x="6" y="840"/>
                      </a:lnTo>
                      <a:lnTo>
                        <a:pt x="12" y="858"/>
                      </a:lnTo>
                      <a:lnTo>
                        <a:pt x="24" y="870"/>
                      </a:lnTo>
                      <a:lnTo>
                        <a:pt x="36" y="882"/>
                      </a:lnTo>
                      <a:lnTo>
                        <a:pt x="54" y="888"/>
                      </a:lnTo>
                      <a:lnTo>
                        <a:pt x="66" y="894"/>
                      </a:lnTo>
                      <a:lnTo>
                        <a:pt x="84" y="894"/>
                      </a:lnTo>
                      <a:lnTo>
                        <a:pt x="1116" y="8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712320" y="5914800"/>
                  <a:ext cx="501480" cy="500760"/>
                </a:xfrm>
                <a:custGeom>
                  <a:avLst/>
                  <a:gdLst/>
                  <a:ahLst/>
                  <a:rect l="l" t="t" r="r" b="b"/>
                  <a:pathLst>
                    <a:path w="1122" h="894">
                      <a:moveTo>
                        <a:pt x="1032" y="894"/>
                      </a:moveTo>
                      <a:lnTo>
                        <a:pt x="1050" y="894"/>
                      </a:lnTo>
                      <a:lnTo>
                        <a:pt x="1068" y="888"/>
                      </a:lnTo>
                      <a:lnTo>
                        <a:pt x="1080" y="882"/>
                      </a:lnTo>
                      <a:lnTo>
                        <a:pt x="1092" y="870"/>
                      </a:lnTo>
                      <a:lnTo>
                        <a:pt x="1104" y="858"/>
                      </a:lnTo>
                      <a:lnTo>
                        <a:pt x="1110" y="840"/>
                      </a:lnTo>
                      <a:lnTo>
                        <a:pt x="1116" y="822"/>
                      </a:lnTo>
                      <a:lnTo>
                        <a:pt x="1122" y="810"/>
                      </a:lnTo>
                      <a:lnTo>
                        <a:pt x="1122" y="90"/>
                      </a:lnTo>
                      <a:lnTo>
                        <a:pt x="1116" y="72"/>
                      </a:lnTo>
                      <a:lnTo>
                        <a:pt x="1110" y="54"/>
                      </a:lnTo>
                      <a:lnTo>
                        <a:pt x="1104" y="42"/>
                      </a:lnTo>
                      <a:lnTo>
                        <a:pt x="1092" y="24"/>
                      </a:lnTo>
                      <a:lnTo>
                        <a:pt x="1080" y="18"/>
                      </a:lnTo>
                      <a:lnTo>
                        <a:pt x="1068" y="6"/>
                      </a:lnTo>
                      <a:lnTo>
                        <a:pt x="1050" y="0"/>
                      </a:lnTo>
                      <a:lnTo>
                        <a:pt x="1032" y="0"/>
                      </a:lnTo>
                      <a:lnTo>
                        <a:pt x="0" y="0"/>
                      </a:lnTo>
                      <a:lnTo>
                        <a:pt x="54" y="42"/>
                      </a:lnTo>
                      <a:lnTo>
                        <a:pt x="978" y="42"/>
                      </a:lnTo>
                      <a:lnTo>
                        <a:pt x="996" y="48"/>
                      </a:lnTo>
                      <a:lnTo>
                        <a:pt x="1014" y="48"/>
                      </a:lnTo>
                      <a:lnTo>
                        <a:pt x="1026" y="60"/>
                      </a:lnTo>
                      <a:lnTo>
                        <a:pt x="1038" y="66"/>
                      </a:lnTo>
                      <a:lnTo>
                        <a:pt x="1044" y="78"/>
                      </a:lnTo>
                      <a:lnTo>
                        <a:pt x="1056" y="90"/>
                      </a:lnTo>
                      <a:lnTo>
                        <a:pt x="1056" y="108"/>
                      </a:lnTo>
                      <a:lnTo>
                        <a:pt x="1056" y="126"/>
                      </a:lnTo>
                      <a:lnTo>
                        <a:pt x="1056" y="768"/>
                      </a:lnTo>
                      <a:lnTo>
                        <a:pt x="1056" y="786"/>
                      </a:lnTo>
                      <a:lnTo>
                        <a:pt x="1056" y="804"/>
                      </a:lnTo>
                      <a:lnTo>
                        <a:pt x="1044" y="816"/>
                      </a:lnTo>
                      <a:lnTo>
                        <a:pt x="1038" y="828"/>
                      </a:lnTo>
                      <a:lnTo>
                        <a:pt x="1026" y="834"/>
                      </a:lnTo>
                      <a:lnTo>
                        <a:pt x="1014" y="846"/>
                      </a:lnTo>
                      <a:lnTo>
                        <a:pt x="996" y="846"/>
                      </a:lnTo>
                      <a:lnTo>
                        <a:pt x="978" y="852"/>
                      </a:lnTo>
                      <a:lnTo>
                        <a:pt x="1032" y="8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01880" y="5938200"/>
                  <a:ext cx="482760" cy="453600"/>
                </a:xfrm>
                <a:custGeom>
                  <a:avLst/>
                  <a:gdLst/>
                  <a:ahLst/>
                  <a:rect l="l" t="t" r="r" b="b"/>
                  <a:pathLst>
                    <a:path w="1080" h="810">
                      <a:moveTo>
                        <a:pt x="1002" y="810"/>
                      </a:moveTo>
                      <a:lnTo>
                        <a:pt x="1020" y="804"/>
                      </a:lnTo>
                      <a:lnTo>
                        <a:pt x="1038" y="804"/>
                      </a:lnTo>
                      <a:lnTo>
                        <a:pt x="1050" y="792"/>
                      </a:lnTo>
                      <a:lnTo>
                        <a:pt x="1062" y="786"/>
                      </a:lnTo>
                      <a:lnTo>
                        <a:pt x="1068" y="774"/>
                      </a:lnTo>
                      <a:lnTo>
                        <a:pt x="1080" y="762"/>
                      </a:lnTo>
                      <a:lnTo>
                        <a:pt x="1080" y="744"/>
                      </a:lnTo>
                      <a:lnTo>
                        <a:pt x="1080" y="726"/>
                      </a:lnTo>
                      <a:lnTo>
                        <a:pt x="1080" y="84"/>
                      </a:lnTo>
                      <a:lnTo>
                        <a:pt x="1080" y="66"/>
                      </a:lnTo>
                      <a:lnTo>
                        <a:pt x="1080" y="48"/>
                      </a:lnTo>
                      <a:lnTo>
                        <a:pt x="1068" y="36"/>
                      </a:lnTo>
                      <a:lnTo>
                        <a:pt x="1062" y="24"/>
                      </a:lnTo>
                      <a:lnTo>
                        <a:pt x="1050" y="18"/>
                      </a:lnTo>
                      <a:lnTo>
                        <a:pt x="1038" y="6"/>
                      </a:lnTo>
                      <a:lnTo>
                        <a:pt x="1020" y="6"/>
                      </a:lnTo>
                      <a:lnTo>
                        <a:pt x="1002" y="0"/>
                      </a:lnTo>
                      <a:lnTo>
                        <a:pt x="78" y="0"/>
                      </a:lnTo>
                      <a:lnTo>
                        <a:pt x="60" y="6"/>
                      </a:lnTo>
                      <a:lnTo>
                        <a:pt x="48" y="6"/>
                      </a:lnTo>
                      <a:lnTo>
                        <a:pt x="30" y="18"/>
                      </a:lnTo>
                      <a:lnTo>
                        <a:pt x="24" y="24"/>
                      </a:lnTo>
                      <a:lnTo>
                        <a:pt x="12" y="36"/>
                      </a:lnTo>
                      <a:lnTo>
                        <a:pt x="6" y="48"/>
                      </a:lnTo>
                      <a:lnTo>
                        <a:pt x="0" y="66"/>
                      </a:lnTo>
                      <a:lnTo>
                        <a:pt x="0" y="84"/>
                      </a:lnTo>
                      <a:lnTo>
                        <a:pt x="0" y="726"/>
                      </a:lnTo>
                      <a:lnTo>
                        <a:pt x="0" y="744"/>
                      </a:lnTo>
                      <a:lnTo>
                        <a:pt x="6" y="762"/>
                      </a:lnTo>
                      <a:lnTo>
                        <a:pt x="12" y="774"/>
                      </a:lnTo>
                      <a:lnTo>
                        <a:pt x="24" y="786"/>
                      </a:lnTo>
                      <a:lnTo>
                        <a:pt x="30" y="792"/>
                      </a:lnTo>
                      <a:lnTo>
                        <a:pt x="48" y="804"/>
                      </a:lnTo>
                      <a:lnTo>
                        <a:pt x="60" y="804"/>
                      </a:lnTo>
                      <a:lnTo>
                        <a:pt x="78" y="810"/>
                      </a:lnTo>
                      <a:lnTo>
                        <a:pt x="1002" y="81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07080" y="6558480"/>
                  <a:ext cx="273240" cy="2016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45760" y="6565320"/>
                  <a:ext cx="21240" cy="6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200840" y="6563520"/>
                  <a:ext cx="5040" cy="972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6" y="18"/>
                      </a:move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8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3645720" y="6504840"/>
                  <a:ext cx="600840" cy="24840"/>
                  <a:chOff x="3645720" y="6504840"/>
                  <a:chExt cx="600840" cy="24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3645720" y="6504840"/>
                    <a:ext cx="600840" cy="1980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872160" y="6509880"/>
                    <a:ext cx="273600" cy="19800"/>
                  </a:xfrm>
                  <a:prstGeom prst="rect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205160" y="6509880"/>
                    <a:ext cx="50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8">
                        <a:moveTo>
                          <a:pt x="6" y="18"/>
                        </a:moveTo>
                        <a:lnTo>
                          <a:pt x="6" y="18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2" y="6"/>
                        </a:lnTo>
                        <a:lnTo>
                          <a:pt x="12" y="6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6" y="18"/>
                        </a:lnTo>
                        <a:lnTo>
                          <a:pt x="6" y="18"/>
                        </a:lnTo>
                        <a:close/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>
                <a:off x="3712680" y="5981760"/>
                <a:ext cx="46872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3480" rIns="334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Grandma’s Brownie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 cups  flou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cup grated chocolat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cup suga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stick butte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4203720" y="5487480"/>
                <a:ext cx="42840" cy="312840"/>
              </a:xfrm>
              <a:custGeom>
                <a:avLst/>
                <a:gdLst>
                  <a:gd name="textAreaLeft" fmla="*/ 9360 w 42840"/>
                  <a:gd name="textAreaRight" fmla="*/ 33480 w 42840"/>
                  <a:gd name="textAreaTop" fmla="*/ 68760 h 312840"/>
                  <a:gd name="textAreaBottom" fmla="*/ 244080 h 31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1c19a"/>
                  </a:gs>
                  <a:gs pos="100000">
                    <a:srgbClr val="ffffcc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4318560" y="5722200"/>
              <a:ext cx="15019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Kids Room 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nter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et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e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187080" y="377136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net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151160" y="2973240"/>
            <a:ext cx="1017720" cy="1063800"/>
          </a:xfrm>
          <a:prstGeom prst="rect">
            <a:avLst/>
          </a:prstGeom>
          <a:ln w="0">
            <a:noFill/>
          </a:ln>
        </p:spPr>
      </p:pic>
      <p:pic>
        <p:nvPicPr>
          <p:cNvPr id="215" name="PRINT078" descr=""/>
          <p:cNvPicPr/>
          <p:nvPr/>
        </p:nvPicPr>
        <p:blipFill>
          <a:blip r:embed="rId4"/>
          <a:stretch/>
        </p:blipFill>
        <p:spPr>
          <a:xfrm>
            <a:off x="3289320" y="2971800"/>
            <a:ext cx="812880" cy="53352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4998960" y="3301200"/>
            <a:ext cx="2714760" cy="357840"/>
            <a:chOff x="4998960" y="3301200"/>
            <a:chExt cx="2714760" cy="357840"/>
          </a:xfrm>
        </p:grpSpPr>
        <p:sp>
          <p:nvSpPr>
            <p:cNvPr id="217" name=""/>
            <p:cNvSpPr/>
            <p:nvPr/>
          </p:nvSpPr>
          <p:spPr>
            <a:xfrm>
              <a:off x="4998960" y="3659040"/>
              <a:ext cx="271476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47080" y="3301200"/>
              <a:ext cx="1185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roadba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198160" y="3676320"/>
            <a:ext cx="3118320" cy="1295280"/>
            <a:chOff x="2198160" y="3676320"/>
            <a:chExt cx="3118320" cy="1295280"/>
          </a:xfrm>
        </p:grpSpPr>
        <p:sp>
          <p:nvSpPr>
            <p:cNvPr id="220" name=""/>
            <p:cNvSpPr/>
            <p:nvPr/>
          </p:nvSpPr>
          <p:spPr>
            <a:xfrm flipV="1">
              <a:off x="3162240" y="3676320"/>
              <a:ext cx="1171800" cy="685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198160" y="3807000"/>
              <a:ext cx="3118320" cy="1164600"/>
              <a:chOff x="2198160" y="3807000"/>
              <a:chExt cx="3118320" cy="1164600"/>
            </a:xfrm>
          </p:grpSpPr>
          <p:sp>
            <p:nvSpPr>
              <p:cNvPr id="222" name=""/>
              <p:cNvSpPr/>
              <p:nvPr/>
            </p:nvSpPr>
            <p:spPr>
              <a:xfrm>
                <a:off x="4052880" y="4016520"/>
                <a:ext cx="12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in Home 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49440" y="3807000"/>
                <a:ext cx="8827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2198160" y="4695120"/>
                <a:ext cx="1366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ditional PC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7397640" y="2860560"/>
            <a:ext cx="1581120" cy="1544760"/>
            <a:chOff x="7397640" y="2860560"/>
            <a:chExt cx="1581120" cy="1544760"/>
          </a:xfrm>
        </p:grpSpPr>
        <p:sp>
          <p:nvSpPr>
            <p:cNvPr id="226" name=""/>
            <p:cNvSpPr/>
            <p:nvPr/>
          </p:nvSpPr>
          <p:spPr>
            <a:xfrm>
              <a:off x="7397640" y="2860560"/>
              <a:ext cx="1581120" cy="1544760"/>
            </a:xfrm>
            <a:custGeom>
              <a:avLst/>
              <a:gdLst/>
              <a:ahLst/>
              <a:rect l="l" t="t" r="r" b="b"/>
              <a:pathLst>
                <a:path w="5874" h="5762">
                  <a:moveTo>
                    <a:pt x="3103" y="5760"/>
                  </a:moveTo>
                  <a:lnTo>
                    <a:pt x="3215" y="5749"/>
                  </a:lnTo>
                  <a:lnTo>
                    <a:pt x="3303" y="5743"/>
                  </a:lnTo>
                  <a:lnTo>
                    <a:pt x="3401" y="5731"/>
                  </a:lnTo>
                  <a:lnTo>
                    <a:pt x="3533" y="5698"/>
                  </a:lnTo>
                  <a:lnTo>
                    <a:pt x="3663" y="5667"/>
                  </a:lnTo>
                  <a:lnTo>
                    <a:pt x="3818" y="5625"/>
                  </a:lnTo>
                  <a:lnTo>
                    <a:pt x="3962" y="5574"/>
                  </a:lnTo>
                  <a:lnTo>
                    <a:pt x="4100" y="5526"/>
                  </a:lnTo>
                  <a:lnTo>
                    <a:pt x="4212" y="5481"/>
                  </a:lnTo>
                  <a:lnTo>
                    <a:pt x="4305" y="5419"/>
                  </a:lnTo>
                  <a:lnTo>
                    <a:pt x="4398" y="5369"/>
                  </a:lnTo>
                  <a:lnTo>
                    <a:pt x="4491" y="5312"/>
                  </a:lnTo>
                  <a:lnTo>
                    <a:pt x="4629" y="5233"/>
                  </a:lnTo>
                  <a:lnTo>
                    <a:pt x="4722" y="5171"/>
                  </a:lnTo>
                  <a:lnTo>
                    <a:pt x="4815" y="5089"/>
                  </a:lnTo>
                  <a:lnTo>
                    <a:pt x="4891" y="5021"/>
                  </a:lnTo>
                  <a:lnTo>
                    <a:pt x="5108" y="4814"/>
                  </a:lnTo>
                  <a:lnTo>
                    <a:pt x="5190" y="4721"/>
                  </a:lnTo>
                  <a:lnTo>
                    <a:pt x="5265" y="4628"/>
                  </a:lnTo>
                  <a:lnTo>
                    <a:pt x="5376" y="4472"/>
                  </a:lnTo>
                  <a:lnTo>
                    <a:pt x="5471" y="4329"/>
                  </a:lnTo>
                  <a:lnTo>
                    <a:pt x="5513" y="4255"/>
                  </a:lnTo>
                  <a:lnTo>
                    <a:pt x="5544" y="4191"/>
                  </a:lnTo>
                  <a:lnTo>
                    <a:pt x="5595" y="4098"/>
                  </a:lnTo>
                  <a:lnTo>
                    <a:pt x="5638" y="4017"/>
                  </a:lnTo>
                  <a:lnTo>
                    <a:pt x="5671" y="3912"/>
                  </a:lnTo>
                  <a:lnTo>
                    <a:pt x="5719" y="3788"/>
                  </a:lnTo>
                  <a:lnTo>
                    <a:pt x="5750" y="3701"/>
                  </a:lnTo>
                  <a:lnTo>
                    <a:pt x="5781" y="3594"/>
                  </a:lnTo>
                  <a:lnTo>
                    <a:pt x="5812" y="3456"/>
                  </a:lnTo>
                  <a:lnTo>
                    <a:pt x="5843" y="3313"/>
                  </a:lnTo>
                  <a:lnTo>
                    <a:pt x="5857" y="3138"/>
                  </a:lnTo>
                  <a:lnTo>
                    <a:pt x="5874" y="2983"/>
                  </a:lnTo>
                  <a:lnTo>
                    <a:pt x="5874" y="2735"/>
                  </a:lnTo>
                  <a:lnTo>
                    <a:pt x="5857" y="2529"/>
                  </a:lnTo>
                  <a:lnTo>
                    <a:pt x="5812" y="2349"/>
                  </a:lnTo>
                  <a:lnTo>
                    <a:pt x="5781" y="2155"/>
                  </a:lnTo>
                  <a:lnTo>
                    <a:pt x="5713" y="1949"/>
                  </a:lnTo>
                  <a:lnTo>
                    <a:pt x="5638" y="1769"/>
                  </a:lnTo>
                  <a:lnTo>
                    <a:pt x="5513" y="1519"/>
                  </a:lnTo>
                  <a:lnTo>
                    <a:pt x="5451" y="1394"/>
                  </a:lnTo>
                  <a:lnTo>
                    <a:pt x="5376" y="1290"/>
                  </a:lnTo>
                  <a:lnTo>
                    <a:pt x="5314" y="1195"/>
                  </a:lnTo>
                  <a:lnTo>
                    <a:pt x="5221" y="1084"/>
                  </a:lnTo>
                  <a:lnTo>
                    <a:pt x="5172" y="1020"/>
                  </a:lnTo>
                  <a:lnTo>
                    <a:pt x="5077" y="915"/>
                  </a:lnTo>
                  <a:lnTo>
                    <a:pt x="4928" y="778"/>
                  </a:lnTo>
                  <a:lnTo>
                    <a:pt x="4767" y="634"/>
                  </a:lnTo>
                  <a:lnTo>
                    <a:pt x="4584" y="504"/>
                  </a:lnTo>
                  <a:lnTo>
                    <a:pt x="4441" y="417"/>
                  </a:lnTo>
                  <a:lnTo>
                    <a:pt x="4274" y="324"/>
                  </a:lnTo>
                  <a:lnTo>
                    <a:pt x="4086" y="231"/>
                  </a:lnTo>
                  <a:lnTo>
                    <a:pt x="3869" y="149"/>
                  </a:lnTo>
                  <a:lnTo>
                    <a:pt x="3638" y="87"/>
                  </a:lnTo>
                  <a:lnTo>
                    <a:pt x="3382" y="37"/>
                  </a:lnTo>
                  <a:lnTo>
                    <a:pt x="3140" y="6"/>
                  </a:lnTo>
                  <a:lnTo>
                    <a:pt x="2928" y="0"/>
                  </a:lnTo>
                  <a:lnTo>
                    <a:pt x="2697" y="6"/>
                  </a:lnTo>
                  <a:lnTo>
                    <a:pt x="2447" y="43"/>
                  </a:lnTo>
                  <a:lnTo>
                    <a:pt x="2199" y="93"/>
                  </a:lnTo>
                  <a:lnTo>
                    <a:pt x="1968" y="161"/>
                  </a:lnTo>
                  <a:lnTo>
                    <a:pt x="1776" y="231"/>
                  </a:lnTo>
                  <a:lnTo>
                    <a:pt x="1619" y="304"/>
                  </a:lnTo>
                  <a:lnTo>
                    <a:pt x="1464" y="397"/>
                  </a:lnTo>
                  <a:lnTo>
                    <a:pt x="1295" y="493"/>
                  </a:lnTo>
                  <a:lnTo>
                    <a:pt x="1121" y="622"/>
                  </a:lnTo>
                  <a:lnTo>
                    <a:pt x="966" y="747"/>
                  </a:lnTo>
                  <a:lnTo>
                    <a:pt x="867" y="853"/>
                  </a:lnTo>
                  <a:lnTo>
                    <a:pt x="779" y="935"/>
                  </a:lnTo>
                  <a:lnTo>
                    <a:pt x="679" y="1051"/>
                  </a:lnTo>
                  <a:lnTo>
                    <a:pt x="574" y="1177"/>
                  </a:lnTo>
                  <a:lnTo>
                    <a:pt x="504" y="1276"/>
                  </a:lnTo>
                  <a:lnTo>
                    <a:pt x="417" y="1394"/>
                  </a:lnTo>
                  <a:lnTo>
                    <a:pt x="355" y="1507"/>
                  </a:lnTo>
                  <a:lnTo>
                    <a:pt x="293" y="1619"/>
                  </a:lnTo>
                  <a:lnTo>
                    <a:pt x="231" y="1757"/>
                  </a:lnTo>
                  <a:lnTo>
                    <a:pt x="194" y="1873"/>
                  </a:lnTo>
                  <a:lnTo>
                    <a:pt x="138" y="2025"/>
                  </a:lnTo>
                  <a:lnTo>
                    <a:pt x="106" y="2129"/>
                  </a:lnTo>
                  <a:lnTo>
                    <a:pt x="62" y="2292"/>
                  </a:lnTo>
                  <a:lnTo>
                    <a:pt x="31" y="2459"/>
                  </a:lnTo>
                  <a:lnTo>
                    <a:pt x="6" y="2715"/>
                  </a:lnTo>
                  <a:lnTo>
                    <a:pt x="0" y="2859"/>
                  </a:lnTo>
                  <a:lnTo>
                    <a:pt x="6" y="3008"/>
                  </a:lnTo>
                  <a:lnTo>
                    <a:pt x="31" y="3295"/>
                  </a:lnTo>
                  <a:lnTo>
                    <a:pt x="56" y="3450"/>
                  </a:lnTo>
                  <a:lnTo>
                    <a:pt x="99" y="3613"/>
                  </a:lnTo>
                  <a:lnTo>
                    <a:pt x="138" y="3757"/>
                  </a:lnTo>
                  <a:lnTo>
                    <a:pt x="211" y="3943"/>
                  </a:lnTo>
                  <a:lnTo>
                    <a:pt x="293" y="4129"/>
                  </a:lnTo>
                  <a:lnTo>
                    <a:pt x="380" y="4298"/>
                  </a:lnTo>
                  <a:lnTo>
                    <a:pt x="492" y="4459"/>
                  </a:lnTo>
                  <a:lnTo>
                    <a:pt x="543" y="4546"/>
                  </a:lnTo>
                  <a:lnTo>
                    <a:pt x="698" y="4740"/>
                  </a:lnTo>
                  <a:lnTo>
                    <a:pt x="810" y="4858"/>
                  </a:lnTo>
                  <a:lnTo>
                    <a:pt x="915" y="4965"/>
                  </a:lnTo>
                  <a:lnTo>
                    <a:pt x="1053" y="5076"/>
                  </a:lnTo>
                  <a:lnTo>
                    <a:pt x="1171" y="5182"/>
                  </a:lnTo>
                  <a:lnTo>
                    <a:pt x="1290" y="5264"/>
                  </a:lnTo>
                  <a:lnTo>
                    <a:pt x="1414" y="5343"/>
                  </a:lnTo>
                  <a:lnTo>
                    <a:pt x="1582" y="5431"/>
                  </a:lnTo>
                  <a:lnTo>
                    <a:pt x="1757" y="5512"/>
                  </a:lnTo>
                  <a:lnTo>
                    <a:pt x="1943" y="5588"/>
                  </a:lnTo>
                  <a:lnTo>
                    <a:pt x="2081" y="5636"/>
                  </a:lnTo>
                  <a:lnTo>
                    <a:pt x="2244" y="5681"/>
                  </a:lnTo>
                  <a:lnTo>
                    <a:pt x="2441" y="5731"/>
                  </a:lnTo>
                  <a:lnTo>
                    <a:pt x="2635" y="5743"/>
                  </a:lnTo>
                  <a:lnTo>
                    <a:pt x="2748" y="5762"/>
                  </a:lnTo>
                  <a:lnTo>
                    <a:pt x="3103" y="5762"/>
                  </a:lnTo>
                  <a:lnTo>
                    <a:pt x="3103" y="5762"/>
                  </a:lnTo>
                  <a:lnTo>
                    <a:pt x="3103" y="5760"/>
                  </a:lnTo>
                  <a:close/>
                </a:path>
              </a:pathLst>
            </a:custGeom>
            <a:gradFill rotWithShape="0">
              <a:gsLst>
                <a:gs pos="0">
                  <a:srgbClr val="c5ffff"/>
                </a:gs>
                <a:gs pos="100000">
                  <a:srgbClr val="5a75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7640" y="2860560"/>
              <a:ext cx="1581120" cy="1544760"/>
            </a:xfrm>
            <a:custGeom>
              <a:avLst/>
              <a:gdLst/>
              <a:ahLst/>
              <a:rect l="l" t="t" r="r" b="b"/>
              <a:pathLst>
                <a:path w="5874" h="5762">
                  <a:moveTo>
                    <a:pt x="3103" y="5760"/>
                  </a:moveTo>
                  <a:lnTo>
                    <a:pt x="3215" y="5749"/>
                  </a:lnTo>
                  <a:lnTo>
                    <a:pt x="3303" y="5743"/>
                  </a:lnTo>
                  <a:lnTo>
                    <a:pt x="3401" y="5731"/>
                  </a:lnTo>
                  <a:lnTo>
                    <a:pt x="3533" y="5698"/>
                  </a:lnTo>
                  <a:lnTo>
                    <a:pt x="3663" y="5667"/>
                  </a:lnTo>
                  <a:lnTo>
                    <a:pt x="3818" y="5625"/>
                  </a:lnTo>
                  <a:lnTo>
                    <a:pt x="3962" y="5574"/>
                  </a:lnTo>
                  <a:lnTo>
                    <a:pt x="4100" y="5526"/>
                  </a:lnTo>
                  <a:lnTo>
                    <a:pt x="4212" y="5481"/>
                  </a:lnTo>
                  <a:lnTo>
                    <a:pt x="4305" y="5419"/>
                  </a:lnTo>
                  <a:lnTo>
                    <a:pt x="4398" y="5369"/>
                  </a:lnTo>
                  <a:lnTo>
                    <a:pt x="4491" y="5312"/>
                  </a:lnTo>
                  <a:lnTo>
                    <a:pt x="4629" y="5233"/>
                  </a:lnTo>
                  <a:lnTo>
                    <a:pt x="4722" y="5171"/>
                  </a:lnTo>
                  <a:lnTo>
                    <a:pt x="4815" y="5089"/>
                  </a:lnTo>
                  <a:lnTo>
                    <a:pt x="4891" y="5021"/>
                  </a:lnTo>
                  <a:lnTo>
                    <a:pt x="5108" y="4814"/>
                  </a:lnTo>
                  <a:lnTo>
                    <a:pt x="5190" y="4721"/>
                  </a:lnTo>
                  <a:lnTo>
                    <a:pt x="5265" y="4628"/>
                  </a:lnTo>
                  <a:lnTo>
                    <a:pt x="5376" y="4472"/>
                  </a:lnTo>
                  <a:lnTo>
                    <a:pt x="5471" y="4329"/>
                  </a:lnTo>
                  <a:lnTo>
                    <a:pt x="5513" y="4255"/>
                  </a:lnTo>
                  <a:lnTo>
                    <a:pt x="5544" y="4191"/>
                  </a:lnTo>
                  <a:lnTo>
                    <a:pt x="5595" y="4098"/>
                  </a:lnTo>
                  <a:lnTo>
                    <a:pt x="5638" y="4017"/>
                  </a:lnTo>
                  <a:lnTo>
                    <a:pt x="5671" y="3912"/>
                  </a:lnTo>
                  <a:lnTo>
                    <a:pt x="5719" y="3788"/>
                  </a:lnTo>
                  <a:lnTo>
                    <a:pt x="5750" y="3701"/>
                  </a:lnTo>
                  <a:lnTo>
                    <a:pt x="5781" y="3594"/>
                  </a:lnTo>
                  <a:lnTo>
                    <a:pt x="5812" y="3456"/>
                  </a:lnTo>
                  <a:lnTo>
                    <a:pt x="5843" y="3313"/>
                  </a:lnTo>
                  <a:lnTo>
                    <a:pt x="5857" y="3138"/>
                  </a:lnTo>
                  <a:lnTo>
                    <a:pt x="5874" y="2983"/>
                  </a:lnTo>
                  <a:lnTo>
                    <a:pt x="5874" y="2735"/>
                  </a:lnTo>
                  <a:lnTo>
                    <a:pt x="5857" y="2529"/>
                  </a:lnTo>
                  <a:lnTo>
                    <a:pt x="5812" y="2349"/>
                  </a:lnTo>
                  <a:lnTo>
                    <a:pt x="5781" y="2155"/>
                  </a:lnTo>
                  <a:lnTo>
                    <a:pt x="5713" y="1949"/>
                  </a:lnTo>
                  <a:lnTo>
                    <a:pt x="5638" y="1769"/>
                  </a:lnTo>
                  <a:lnTo>
                    <a:pt x="5513" y="1519"/>
                  </a:lnTo>
                  <a:lnTo>
                    <a:pt x="5451" y="1394"/>
                  </a:lnTo>
                  <a:lnTo>
                    <a:pt x="5376" y="1290"/>
                  </a:lnTo>
                  <a:lnTo>
                    <a:pt x="5314" y="1195"/>
                  </a:lnTo>
                  <a:lnTo>
                    <a:pt x="5221" y="1084"/>
                  </a:lnTo>
                  <a:lnTo>
                    <a:pt x="5172" y="1020"/>
                  </a:lnTo>
                  <a:lnTo>
                    <a:pt x="5077" y="915"/>
                  </a:lnTo>
                  <a:lnTo>
                    <a:pt x="4928" y="778"/>
                  </a:lnTo>
                  <a:lnTo>
                    <a:pt x="4767" y="634"/>
                  </a:lnTo>
                  <a:lnTo>
                    <a:pt x="4584" y="504"/>
                  </a:lnTo>
                  <a:lnTo>
                    <a:pt x="4441" y="417"/>
                  </a:lnTo>
                  <a:lnTo>
                    <a:pt x="4274" y="324"/>
                  </a:lnTo>
                  <a:lnTo>
                    <a:pt x="4086" y="231"/>
                  </a:lnTo>
                  <a:lnTo>
                    <a:pt x="3869" y="149"/>
                  </a:lnTo>
                  <a:lnTo>
                    <a:pt x="3638" y="87"/>
                  </a:lnTo>
                  <a:lnTo>
                    <a:pt x="3382" y="37"/>
                  </a:lnTo>
                  <a:lnTo>
                    <a:pt x="3140" y="6"/>
                  </a:lnTo>
                  <a:lnTo>
                    <a:pt x="2928" y="0"/>
                  </a:lnTo>
                  <a:lnTo>
                    <a:pt x="2697" y="6"/>
                  </a:lnTo>
                  <a:lnTo>
                    <a:pt x="2447" y="43"/>
                  </a:lnTo>
                  <a:lnTo>
                    <a:pt x="2199" y="93"/>
                  </a:lnTo>
                  <a:lnTo>
                    <a:pt x="1968" y="161"/>
                  </a:lnTo>
                  <a:lnTo>
                    <a:pt x="1776" y="231"/>
                  </a:lnTo>
                  <a:lnTo>
                    <a:pt x="1619" y="304"/>
                  </a:lnTo>
                  <a:lnTo>
                    <a:pt x="1464" y="397"/>
                  </a:lnTo>
                  <a:lnTo>
                    <a:pt x="1295" y="493"/>
                  </a:lnTo>
                  <a:lnTo>
                    <a:pt x="1121" y="622"/>
                  </a:lnTo>
                  <a:lnTo>
                    <a:pt x="966" y="747"/>
                  </a:lnTo>
                  <a:lnTo>
                    <a:pt x="867" y="853"/>
                  </a:lnTo>
                  <a:lnTo>
                    <a:pt x="779" y="935"/>
                  </a:lnTo>
                  <a:lnTo>
                    <a:pt x="679" y="1051"/>
                  </a:lnTo>
                  <a:lnTo>
                    <a:pt x="574" y="1177"/>
                  </a:lnTo>
                  <a:lnTo>
                    <a:pt x="504" y="1276"/>
                  </a:lnTo>
                  <a:lnTo>
                    <a:pt x="417" y="1394"/>
                  </a:lnTo>
                  <a:lnTo>
                    <a:pt x="355" y="1507"/>
                  </a:lnTo>
                  <a:lnTo>
                    <a:pt x="293" y="1619"/>
                  </a:lnTo>
                  <a:lnTo>
                    <a:pt x="231" y="1757"/>
                  </a:lnTo>
                  <a:lnTo>
                    <a:pt x="194" y="1873"/>
                  </a:lnTo>
                  <a:lnTo>
                    <a:pt x="138" y="2025"/>
                  </a:lnTo>
                  <a:lnTo>
                    <a:pt x="106" y="2129"/>
                  </a:lnTo>
                  <a:lnTo>
                    <a:pt x="62" y="2292"/>
                  </a:lnTo>
                  <a:lnTo>
                    <a:pt x="31" y="2459"/>
                  </a:lnTo>
                  <a:lnTo>
                    <a:pt x="6" y="2715"/>
                  </a:lnTo>
                  <a:lnTo>
                    <a:pt x="0" y="2859"/>
                  </a:lnTo>
                  <a:lnTo>
                    <a:pt x="6" y="3008"/>
                  </a:lnTo>
                  <a:lnTo>
                    <a:pt x="31" y="3295"/>
                  </a:lnTo>
                  <a:lnTo>
                    <a:pt x="56" y="3450"/>
                  </a:lnTo>
                  <a:lnTo>
                    <a:pt x="99" y="3613"/>
                  </a:lnTo>
                  <a:lnTo>
                    <a:pt x="138" y="3757"/>
                  </a:lnTo>
                  <a:lnTo>
                    <a:pt x="211" y="3943"/>
                  </a:lnTo>
                  <a:lnTo>
                    <a:pt x="293" y="4129"/>
                  </a:lnTo>
                  <a:lnTo>
                    <a:pt x="380" y="4298"/>
                  </a:lnTo>
                  <a:lnTo>
                    <a:pt x="492" y="4459"/>
                  </a:lnTo>
                  <a:lnTo>
                    <a:pt x="543" y="4546"/>
                  </a:lnTo>
                  <a:lnTo>
                    <a:pt x="698" y="4740"/>
                  </a:lnTo>
                  <a:lnTo>
                    <a:pt x="810" y="4858"/>
                  </a:lnTo>
                  <a:lnTo>
                    <a:pt x="915" y="4965"/>
                  </a:lnTo>
                  <a:lnTo>
                    <a:pt x="1053" y="5076"/>
                  </a:lnTo>
                  <a:lnTo>
                    <a:pt x="1171" y="5182"/>
                  </a:lnTo>
                  <a:lnTo>
                    <a:pt x="1290" y="5264"/>
                  </a:lnTo>
                  <a:lnTo>
                    <a:pt x="1414" y="5343"/>
                  </a:lnTo>
                  <a:lnTo>
                    <a:pt x="1582" y="5431"/>
                  </a:lnTo>
                  <a:lnTo>
                    <a:pt x="1757" y="5512"/>
                  </a:lnTo>
                  <a:lnTo>
                    <a:pt x="1943" y="5588"/>
                  </a:lnTo>
                  <a:lnTo>
                    <a:pt x="2081" y="5636"/>
                  </a:lnTo>
                  <a:lnTo>
                    <a:pt x="2244" y="5681"/>
                  </a:lnTo>
                  <a:lnTo>
                    <a:pt x="2441" y="5731"/>
                  </a:lnTo>
                  <a:lnTo>
                    <a:pt x="2635" y="5743"/>
                  </a:lnTo>
                  <a:lnTo>
                    <a:pt x="2748" y="5762"/>
                  </a:lnTo>
                  <a:lnTo>
                    <a:pt x="3103" y="5762"/>
                  </a:lnTo>
                  <a:lnTo>
                    <a:pt x="3103" y="57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78080" y="3967920"/>
              <a:ext cx="492480" cy="345240"/>
            </a:xfrm>
            <a:custGeom>
              <a:avLst/>
              <a:gdLst/>
              <a:ahLst/>
              <a:rect l="l" t="t" r="r" b="b"/>
              <a:pathLst>
                <a:path w="1831" h="1290">
                  <a:moveTo>
                    <a:pt x="916" y="0"/>
                  </a:moveTo>
                  <a:lnTo>
                    <a:pt x="902" y="126"/>
                  </a:lnTo>
                  <a:lnTo>
                    <a:pt x="871" y="561"/>
                  </a:lnTo>
                  <a:lnTo>
                    <a:pt x="871" y="704"/>
                  </a:lnTo>
                  <a:lnTo>
                    <a:pt x="691" y="642"/>
                  </a:lnTo>
                  <a:lnTo>
                    <a:pt x="466" y="561"/>
                  </a:lnTo>
                  <a:lnTo>
                    <a:pt x="237" y="456"/>
                  </a:lnTo>
                  <a:lnTo>
                    <a:pt x="0" y="324"/>
                  </a:lnTo>
                  <a:lnTo>
                    <a:pt x="0" y="468"/>
                  </a:lnTo>
                  <a:lnTo>
                    <a:pt x="12" y="611"/>
                  </a:lnTo>
                  <a:lnTo>
                    <a:pt x="49" y="791"/>
                  </a:lnTo>
                  <a:lnTo>
                    <a:pt x="111" y="960"/>
                  </a:lnTo>
                  <a:lnTo>
                    <a:pt x="175" y="991"/>
                  </a:lnTo>
                  <a:lnTo>
                    <a:pt x="299" y="1073"/>
                  </a:lnTo>
                  <a:lnTo>
                    <a:pt x="536" y="1166"/>
                  </a:lnTo>
                  <a:lnTo>
                    <a:pt x="753" y="1240"/>
                  </a:lnTo>
                  <a:lnTo>
                    <a:pt x="952" y="1290"/>
                  </a:lnTo>
                  <a:lnTo>
                    <a:pt x="908" y="1115"/>
                  </a:lnTo>
                  <a:lnTo>
                    <a:pt x="885" y="898"/>
                  </a:lnTo>
                  <a:lnTo>
                    <a:pt x="877" y="704"/>
                  </a:lnTo>
                  <a:lnTo>
                    <a:pt x="1046" y="741"/>
                  </a:lnTo>
                  <a:lnTo>
                    <a:pt x="1338" y="797"/>
                  </a:lnTo>
                  <a:lnTo>
                    <a:pt x="1606" y="828"/>
                  </a:lnTo>
                  <a:lnTo>
                    <a:pt x="1819" y="842"/>
                  </a:lnTo>
                  <a:lnTo>
                    <a:pt x="1831" y="56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78080" y="3967920"/>
              <a:ext cx="492480" cy="345240"/>
            </a:xfrm>
            <a:custGeom>
              <a:avLst/>
              <a:gdLst/>
              <a:ahLst/>
              <a:rect l="l" t="t" r="r" b="b"/>
              <a:pathLst>
                <a:path w="1831" h="1290">
                  <a:moveTo>
                    <a:pt x="916" y="0"/>
                  </a:moveTo>
                  <a:lnTo>
                    <a:pt x="902" y="126"/>
                  </a:lnTo>
                  <a:lnTo>
                    <a:pt x="871" y="561"/>
                  </a:lnTo>
                  <a:lnTo>
                    <a:pt x="871" y="704"/>
                  </a:lnTo>
                  <a:lnTo>
                    <a:pt x="691" y="642"/>
                  </a:lnTo>
                  <a:lnTo>
                    <a:pt x="466" y="561"/>
                  </a:lnTo>
                  <a:lnTo>
                    <a:pt x="237" y="456"/>
                  </a:lnTo>
                  <a:lnTo>
                    <a:pt x="0" y="324"/>
                  </a:lnTo>
                  <a:lnTo>
                    <a:pt x="0" y="468"/>
                  </a:lnTo>
                  <a:lnTo>
                    <a:pt x="12" y="611"/>
                  </a:lnTo>
                  <a:lnTo>
                    <a:pt x="49" y="791"/>
                  </a:lnTo>
                  <a:lnTo>
                    <a:pt x="111" y="960"/>
                  </a:lnTo>
                  <a:lnTo>
                    <a:pt x="175" y="991"/>
                  </a:lnTo>
                  <a:lnTo>
                    <a:pt x="299" y="1073"/>
                  </a:lnTo>
                  <a:lnTo>
                    <a:pt x="536" y="1166"/>
                  </a:lnTo>
                  <a:lnTo>
                    <a:pt x="753" y="1240"/>
                  </a:lnTo>
                  <a:lnTo>
                    <a:pt x="952" y="1290"/>
                  </a:lnTo>
                  <a:lnTo>
                    <a:pt x="908" y="1115"/>
                  </a:lnTo>
                  <a:lnTo>
                    <a:pt x="885" y="898"/>
                  </a:lnTo>
                  <a:lnTo>
                    <a:pt x="877" y="704"/>
                  </a:lnTo>
                  <a:lnTo>
                    <a:pt x="1046" y="741"/>
                  </a:lnTo>
                  <a:lnTo>
                    <a:pt x="1338" y="797"/>
                  </a:lnTo>
                  <a:lnTo>
                    <a:pt x="1606" y="828"/>
                  </a:lnTo>
                  <a:lnTo>
                    <a:pt x="1819" y="842"/>
                  </a:lnTo>
                  <a:lnTo>
                    <a:pt x="1831" y="56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59200" y="3485160"/>
              <a:ext cx="306720" cy="210240"/>
            </a:xfrm>
            <a:custGeom>
              <a:avLst/>
              <a:gdLst/>
              <a:ahLst/>
              <a:rect l="l" t="t" r="r" b="b"/>
              <a:pathLst>
                <a:path w="1140" h="786">
                  <a:moveTo>
                    <a:pt x="1140" y="349"/>
                  </a:moveTo>
                  <a:lnTo>
                    <a:pt x="1059" y="299"/>
                  </a:lnTo>
                  <a:lnTo>
                    <a:pt x="971" y="237"/>
                  </a:lnTo>
                  <a:lnTo>
                    <a:pt x="872" y="130"/>
                  </a:lnTo>
                  <a:lnTo>
                    <a:pt x="766" y="0"/>
                  </a:lnTo>
                  <a:lnTo>
                    <a:pt x="673" y="124"/>
                  </a:lnTo>
                  <a:lnTo>
                    <a:pt x="529" y="336"/>
                  </a:lnTo>
                  <a:lnTo>
                    <a:pt x="436" y="505"/>
                  </a:lnTo>
                  <a:lnTo>
                    <a:pt x="355" y="662"/>
                  </a:lnTo>
                  <a:lnTo>
                    <a:pt x="298" y="786"/>
                  </a:lnTo>
                  <a:lnTo>
                    <a:pt x="248" y="716"/>
                  </a:lnTo>
                  <a:lnTo>
                    <a:pt x="186" y="629"/>
                  </a:lnTo>
                  <a:lnTo>
                    <a:pt x="118" y="493"/>
                  </a:lnTo>
                  <a:lnTo>
                    <a:pt x="56" y="349"/>
                  </a:lnTo>
                  <a:lnTo>
                    <a:pt x="0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9200" y="3485160"/>
              <a:ext cx="306720" cy="210240"/>
            </a:xfrm>
            <a:custGeom>
              <a:avLst/>
              <a:gdLst/>
              <a:ahLst/>
              <a:rect l="l" t="t" r="r" b="b"/>
              <a:pathLst>
                <a:path w="1140" h="786">
                  <a:moveTo>
                    <a:pt x="1140" y="349"/>
                  </a:moveTo>
                  <a:lnTo>
                    <a:pt x="1059" y="299"/>
                  </a:lnTo>
                  <a:lnTo>
                    <a:pt x="971" y="237"/>
                  </a:lnTo>
                  <a:lnTo>
                    <a:pt x="872" y="130"/>
                  </a:lnTo>
                  <a:lnTo>
                    <a:pt x="766" y="0"/>
                  </a:lnTo>
                  <a:lnTo>
                    <a:pt x="673" y="124"/>
                  </a:lnTo>
                  <a:lnTo>
                    <a:pt x="529" y="336"/>
                  </a:lnTo>
                  <a:lnTo>
                    <a:pt x="436" y="505"/>
                  </a:lnTo>
                  <a:lnTo>
                    <a:pt x="355" y="662"/>
                  </a:lnTo>
                  <a:lnTo>
                    <a:pt x="298" y="786"/>
                  </a:lnTo>
                  <a:lnTo>
                    <a:pt x="248" y="716"/>
                  </a:lnTo>
                  <a:lnTo>
                    <a:pt x="186" y="629"/>
                  </a:lnTo>
                  <a:lnTo>
                    <a:pt x="118" y="493"/>
                  </a:lnTo>
                  <a:lnTo>
                    <a:pt x="56" y="349"/>
                  </a:lnTo>
                  <a:lnTo>
                    <a:pt x="0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05560" y="3305880"/>
              <a:ext cx="432720" cy="438120"/>
            </a:xfrm>
            <a:custGeom>
              <a:avLst/>
              <a:gdLst/>
              <a:ahLst/>
              <a:rect l="l" t="t" r="r" b="b"/>
              <a:pathLst>
                <a:path w="1608" h="1633">
                  <a:moveTo>
                    <a:pt x="0" y="1633"/>
                  </a:moveTo>
                  <a:lnTo>
                    <a:pt x="25" y="1377"/>
                  </a:lnTo>
                  <a:lnTo>
                    <a:pt x="56" y="1185"/>
                  </a:lnTo>
                  <a:lnTo>
                    <a:pt x="93" y="1034"/>
                  </a:lnTo>
                  <a:lnTo>
                    <a:pt x="169" y="830"/>
                  </a:lnTo>
                  <a:lnTo>
                    <a:pt x="262" y="673"/>
                  </a:lnTo>
                  <a:lnTo>
                    <a:pt x="368" y="518"/>
                  </a:lnTo>
                  <a:lnTo>
                    <a:pt x="436" y="436"/>
                  </a:lnTo>
                  <a:lnTo>
                    <a:pt x="523" y="343"/>
                  </a:lnTo>
                  <a:lnTo>
                    <a:pt x="605" y="244"/>
                  </a:lnTo>
                  <a:lnTo>
                    <a:pt x="712" y="157"/>
                  </a:lnTo>
                  <a:lnTo>
                    <a:pt x="760" y="324"/>
                  </a:lnTo>
                  <a:lnTo>
                    <a:pt x="836" y="456"/>
                  </a:lnTo>
                  <a:lnTo>
                    <a:pt x="904" y="580"/>
                  </a:lnTo>
                  <a:lnTo>
                    <a:pt x="966" y="661"/>
                  </a:lnTo>
                  <a:lnTo>
                    <a:pt x="1134" y="462"/>
                  </a:lnTo>
                  <a:lnTo>
                    <a:pt x="1278" y="312"/>
                  </a:lnTo>
                  <a:lnTo>
                    <a:pt x="1309" y="287"/>
                  </a:lnTo>
                  <a:lnTo>
                    <a:pt x="1352" y="237"/>
                  </a:lnTo>
                  <a:lnTo>
                    <a:pt x="1383" y="194"/>
                  </a:lnTo>
                  <a:lnTo>
                    <a:pt x="16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05560" y="3305880"/>
              <a:ext cx="432720" cy="438120"/>
            </a:xfrm>
            <a:custGeom>
              <a:avLst/>
              <a:gdLst/>
              <a:ahLst/>
              <a:rect l="l" t="t" r="r" b="b"/>
              <a:pathLst>
                <a:path w="1608" h="1633">
                  <a:moveTo>
                    <a:pt x="0" y="1633"/>
                  </a:moveTo>
                  <a:lnTo>
                    <a:pt x="25" y="1377"/>
                  </a:lnTo>
                  <a:lnTo>
                    <a:pt x="56" y="1185"/>
                  </a:lnTo>
                  <a:lnTo>
                    <a:pt x="93" y="1034"/>
                  </a:lnTo>
                  <a:lnTo>
                    <a:pt x="169" y="830"/>
                  </a:lnTo>
                  <a:lnTo>
                    <a:pt x="262" y="673"/>
                  </a:lnTo>
                  <a:lnTo>
                    <a:pt x="368" y="518"/>
                  </a:lnTo>
                  <a:lnTo>
                    <a:pt x="436" y="436"/>
                  </a:lnTo>
                  <a:lnTo>
                    <a:pt x="523" y="343"/>
                  </a:lnTo>
                  <a:lnTo>
                    <a:pt x="605" y="244"/>
                  </a:lnTo>
                  <a:lnTo>
                    <a:pt x="712" y="157"/>
                  </a:lnTo>
                  <a:lnTo>
                    <a:pt x="760" y="324"/>
                  </a:lnTo>
                  <a:lnTo>
                    <a:pt x="836" y="456"/>
                  </a:lnTo>
                  <a:lnTo>
                    <a:pt x="904" y="580"/>
                  </a:lnTo>
                  <a:lnTo>
                    <a:pt x="966" y="661"/>
                  </a:lnTo>
                  <a:lnTo>
                    <a:pt x="1134" y="462"/>
                  </a:lnTo>
                  <a:lnTo>
                    <a:pt x="1278" y="312"/>
                  </a:lnTo>
                  <a:lnTo>
                    <a:pt x="1309" y="287"/>
                  </a:lnTo>
                  <a:lnTo>
                    <a:pt x="1352" y="237"/>
                  </a:lnTo>
                  <a:lnTo>
                    <a:pt x="1383" y="194"/>
                  </a:lnTo>
                  <a:lnTo>
                    <a:pt x="16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74200" y="3719160"/>
              <a:ext cx="207720" cy="352080"/>
            </a:xfrm>
            <a:custGeom>
              <a:avLst/>
              <a:gdLst/>
              <a:ahLst/>
              <a:rect l="l" t="t" r="r" b="b"/>
              <a:pathLst>
                <a:path w="771" h="1313">
                  <a:moveTo>
                    <a:pt x="727" y="1127"/>
                  </a:moveTo>
                  <a:lnTo>
                    <a:pt x="740" y="1020"/>
                  </a:lnTo>
                  <a:lnTo>
                    <a:pt x="760" y="896"/>
                  </a:lnTo>
                  <a:lnTo>
                    <a:pt x="771" y="772"/>
                  </a:lnTo>
                  <a:lnTo>
                    <a:pt x="647" y="896"/>
                  </a:lnTo>
                  <a:lnTo>
                    <a:pt x="504" y="1034"/>
                  </a:lnTo>
                  <a:lnTo>
                    <a:pt x="341" y="1158"/>
                  </a:lnTo>
                  <a:lnTo>
                    <a:pt x="217" y="1239"/>
                  </a:lnTo>
                  <a:lnTo>
                    <a:pt x="118" y="1313"/>
                  </a:lnTo>
                  <a:lnTo>
                    <a:pt x="93" y="1020"/>
                  </a:lnTo>
                  <a:lnTo>
                    <a:pt x="73" y="865"/>
                  </a:lnTo>
                  <a:lnTo>
                    <a:pt x="42" y="691"/>
                  </a:lnTo>
                  <a:lnTo>
                    <a:pt x="11" y="530"/>
                  </a:lnTo>
                  <a:lnTo>
                    <a:pt x="0" y="504"/>
                  </a:lnTo>
                  <a:lnTo>
                    <a:pt x="118" y="442"/>
                  </a:lnTo>
                  <a:lnTo>
                    <a:pt x="242" y="367"/>
                  </a:lnTo>
                  <a:lnTo>
                    <a:pt x="341" y="279"/>
                  </a:lnTo>
                  <a:lnTo>
                    <a:pt x="523" y="99"/>
                  </a:lnTo>
                  <a:lnTo>
                    <a:pt x="597" y="0"/>
                  </a:lnTo>
                  <a:lnTo>
                    <a:pt x="616" y="68"/>
                  </a:lnTo>
                  <a:lnTo>
                    <a:pt x="678" y="279"/>
                  </a:lnTo>
                  <a:lnTo>
                    <a:pt x="729" y="442"/>
                  </a:lnTo>
                  <a:lnTo>
                    <a:pt x="752" y="597"/>
                  </a:lnTo>
                  <a:lnTo>
                    <a:pt x="760" y="691"/>
                  </a:lnTo>
                  <a:lnTo>
                    <a:pt x="771" y="7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74200" y="3719160"/>
              <a:ext cx="207720" cy="352080"/>
            </a:xfrm>
            <a:custGeom>
              <a:avLst/>
              <a:gdLst/>
              <a:ahLst/>
              <a:rect l="l" t="t" r="r" b="b"/>
              <a:pathLst>
                <a:path w="771" h="1313">
                  <a:moveTo>
                    <a:pt x="727" y="1127"/>
                  </a:moveTo>
                  <a:lnTo>
                    <a:pt x="740" y="1020"/>
                  </a:lnTo>
                  <a:lnTo>
                    <a:pt x="760" y="896"/>
                  </a:lnTo>
                  <a:lnTo>
                    <a:pt x="771" y="772"/>
                  </a:lnTo>
                  <a:lnTo>
                    <a:pt x="647" y="896"/>
                  </a:lnTo>
                  <a:lnTo>
                    <a:pt x="504" y="1034"/>
                  </a:lnTo>
                  <a:lnTo>
                    <a:pt x="341" y="1158"/>
                  </a:lnTo>
                  <a:lnTo>
                    <a:pt x="217" y="1239"/>
                  </a:lnTo>
                  <a:lnTo>
                    <a:pt x="118" y="1313"/>
                  </a:lnTo>
                  <a:lnTo>
                    <a:pt x="93" y="1020"/>
                  </a:lnTo>
                  <a:lnTo>
                    <a:pt x="73" y="865"/>
                  </a:lnTo>
                  <a:lnTo>
                    <a:pt x="42" y="691"/>
                  </a:lnTo>
                  <a:lnTo>
                    <a:pt x="11" y="530"/>
                  </a:lnTo>
                  <a:lnTo>
                    <a:pt x="0" y="504"/>
                  </a:lnTo>
                  <a:lnTo>
                    <a:pt x="118" y="442"/>
                  </a:lnTo>
                  <a:lnTo>
                    <a:pt x="242" y="367"/>
                  </a:lnTo>
                  <a:lnTo>
                    <a:pt x="341" y="279"/>
                  </a:lnTo>
                  <a:lnTo>
                    <a:pt x="523" y="99"/>
                  </a:lnTo>
                  <a:lnTo>
                    <a:pt x="597" y="0"/>
                  </a:lnTo>
                  <a:lnTo>
                    <a:pt x="616" y="68"/>
                  </a:lnTo>
                  <a:lnTo>
                    <a:pt x="678" y="279"/>
                  </a:lnTo>
                  <a:lnTo>
                    <a:pt x="729" y="442"/>
                  </a:lnTo>
                  <a:lnTo>
                    <a:pt x="752" y="597"/>
                  </a:lnTo>
                  <a:lnTo>
                    <a:pt x="760" y="691"/>
                  </a:lnTo>
                  <a:lnTo>
                    <a:pt x="771" y="7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18680" y="4166280"/>
              <a:ext cx="88560" cy="58680"/>
            </a:xfrm>
            <a:custGeom>
              <a:avLst/>
              <a:gdLst/>
              <a:ahLst/>
              <a:rect l="l" t="t" r="r" b="b"/>
              <a:pathLst>
                <a:path w="330" h="219">
                  <a:moveTo>
                    <a:pt x="330" y="219"/>
                  </a:moveTo>
                  <a:lnTo>
                    <a:pt x="186" y="13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18680" y="4166280"/>
              <a:ext cx="88560" cy="58680"/>
            </a:xfrm>
            <a:custGeom>
              <a:avLst/>
              <a:gdLst/>
              <a:ahLst/>
              <a:rect l="l" t="t" r="r" b="b"/>
              <a:pathLst>
                <a:path w="330" h="219">
                  <a:moveTo>
                    <a:pt x="330" y="219"/>
                  </a:moveTo>
                  <a:lnTo>
                    <a:pt x="186" y="13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99520" y="3675600"/>
              <a:ext cx="263160" cy="337320"/>
            </a:xfrm>
            <a:custGeom>
              <a:avLst/>
              <a:gdLst/>
              <a:ahLst/>
              <a:rect l="l" t="t" r="r" b="b"/>
              <a:pathLst>
                <a:path w="977" h="1259">
                  <a:moveTo>
                    <a:pt x="977" y="0"/>
                  </a:moveTo>
                  <a:lnTo>
                    <a:pt x="884" y="200"/>
                  </a:lnTo>
                  <a:lnTo>
                    <a:pt x="847" y="318"/>
                  </a:lnTo>
                  <a:lnTo>
                    <a:pt x="785" y="504"/>
                  </a:lnTo>
                  <a:lnTo>
                    <a:pt x="754" y="598"/>
                  </a:lnTo>
                  <a:lnTo>
                    <a:pt x="692" y="561"/>
                  </a:lnTo>
                  <a:lnTo>
                    <a:pt x="524" y="437"/>
                  </a:lnTo>
                  <a:lnTo>
                    <a:pt x="380" y="318"/>
                  </a:lnTo>
                  <a:lnTo>
                    <a:pt x="242" y="194"/>
                  </a:lnTo>
                  <a:lnTo>
                    <a:pt x="149" y="76"/>
                  </a:lnTo>
                  <a:lnTo>
                    <a:pt x="93" y="231"/>
                  </a:lnTo>
                  <a:lnTo>
                    <a:pt x="50" y="386"/>
                  </a:lnTo>
                  <a:lnTo>
                    <a:pt x="19" y="566"/>
                  </a:lnTo>
                  <a:lnTo>
                    <a:pt x="6" y="718"/>
                  </a:lnTo>
                  <a:lnTo>
                    <a:pt x="0" y="842"/>
                  </a:lnTo>
                  <a:lnTo>
                    <a:pt x="0" y="1059"/>
                  </a:lnTo>
                  <a:lnTo>
                    <a:pt x="6" y="12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99520" y="3675600"/>
              <a:ext cx="263160" cy="337320"/>
            </a:xfrm>
            <a:custGeom>
              <a:avLst/>
              <a:gdLst/>
              <a:ahLst/>
              <a:rect l="l" t="t" r="r" b="b"/>
              <a:pathLst>
                <a:path w="977" h="1259">
                  <a:moveTo>
                    <a:pt x="977" y="0"/>
                  </a:moveTo>
                  <a:lnTo>
                    <a:pt x="884" y="200"/>
                  </a:lnTo>
                  <a:lnTo>
                    <a:pt x="847" y="318"/>
                  </a:lnTo>
                  <a:lnTo>
                    <a:pt x="785" y="504"/>
                  </a:lnTo>
                  <a:lnTo>
                    <a:pt x="754" y="598"/>
                  </a:lnTo>
                  <a:lnTo>
                    <a:pt x="692" y="561"/>
                  </a:lnTo>
                  <a:lnTo>
                    <a:pt x="524" y="437"/>
                  </a:lnTo>
                  <a:lnTo>
                    <a:pt x="380" y="318"/>
                  </a:lnTo>
                  <a:lnTo>
                    <a:pt x="242" y="194"/>
                  </a:lnTo>
                  <a:lnTo>
                    <a:pt x="149" y="76"/>
                  </a:lnTo>
                  <a:lnTo>
                    <a:pt x="93" y="231"/>
                  </a:lnTo>
                  <a:lnTo>
                    <a:pt x="50" y="386"/>
                  </a:lnTo>
                  <a:lnTo>
                    <a:pt x="19" y="566"/>
                  </a:lnTo>
                  <a:lnTo>
                    <a:pt x="6" y="718"/>
                  </a:lnTo>
                  <a:lnTo>
                    <a:pt x="0" y="842"/>
                  </a:lnTo>
                  <a:lnTo>
                    <a:pt x="0" y="1059"/>
                  </a:lnTo>
                  <a:lnTo>
                    <a:pt x="6" y="12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01320" y="3835080"/>
              <a:ext cx="353520" cy="219240"/>
            </a:xfrm>
            <a:custGeom>
              <a:avLst/>
              <a:gdLst/>
              <a:ahLst/>
              <a:rect l="l" t="t" r="r" b="b"/>
              <a:pathLst>
                <a:path w="1315" h="816">
                  <a:moveTo>
                    <a:pt x="0" y="244"/>
                  </a:moveTo>
                  <a:lnTo>
                    <a:pt x="149" y="430"/>
                  </a:lnTo>
                  <a:lnTo>
                    <a:pt x="324" y="585"/>
                  </a:lnTo>
                  <a:lnTo>
                    <a:pt x="467" y="692"/>
                  </a:lnTo>
                  <a:lnTo>
                    <a:pt x="655" y="816"/>
                  </a:lnTo>
                  <a:lnTo>
                    <a:pt x="667" y="537"/>
                  </a:lnTo>
                  <a:lnTo>
                    <a:pt x="686" y="256"/>
                  </a:lnTo>
                  <a:lnTo>
                    <a:pt x="748" y="0"/>
                  </a:lnTo>
                  <a:lnTo>
                    <a:pt x="904" y="95"/>
                  </a:lnTo>
                  <a:lnTo>
                    <a:pt x="1121" y="193"/>
                  </a:lnTo>
                  <a:lnTo>
                    <a:pt x="1297" y="256"/>
                  </a:lnTo>
                  <a:lnTo>
                    <a:pt x="1315" y="2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1320" y="3835080"/>
              <a:ext cx="353520" cy="219240"/>
            </a:xfrm>
            <a:custGeom>
              <a:avLst/>
              <a:gdLst/>
              <a:ahLst/>
              <a:rect l="l" t="t" r="r" b="b"/>
              <a:pathLst>
                <a:path w="1315" h="816">
                  <a:moveTo>
                    <a:pt x="0" y="244"/>
                  </a:moveTo>
                  <a:lnTo>
                    <a:pt x="149" y="430"/>
                  </a:lnTo>
                  <a:lnTo>
                    <a:pt x="324" y="585"/>
                  </a:lnTo>
                  <a:lnTo>
                    <a:pt x="467" y="692"/>
                  </a:lnTo>
                  <a:lnTo>
                    <a:pt x="655" y="816"/>
                  </a:lnTo>
                  <a:lnTo>
                    <a:pt x="667" y="537"/>
                  </a:lnTo>
                  <a:lnTo>
                    <a:pt x="686" y="256"/>
                  </a:lnTo>
                  <a:lnTo>
                    <a:pt x="748" y="0"/>
                  </a:lnTo>
                  <a:lnTo>
                    <a:pt x="904" y="95"/>
                  </a:lnTo>
                  <a:lnTo>
                    <a:pt x="1121" y="193"/>
                  </a:lnTo>
                  <a:lnTo>
                    <a:pt x="1297" y="256"/>
                  </a:lnTo>
                  <a:lnTo>
                    <a:pt x="1315" y="2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1280" y="3297960"/>
              <a:ext cx="24480" cy="238320"/>
            </a:xfrm>
            <a:custGeom>
              <a:avLst/>
              <a:gdLst/>
              <a:ahLst/>
              <a:rect l="l" t="t" r="r" b="b"/>
              <a:pathLst>
                <a:path w="93" h="890">
                  <a:moveTo>
                    <a:pt x="31" y="890"/>
                  </a:moveTo>
                  <a:lnTo>
                    <a:pt x="11" y="704"/>
                  </a:lnTo>
                  <a:lnTo>
                    <a:pt x="0" y="543"/>
                  </a:lnTo>
                  <a:lnTo>
                    <a:pt x="19" y="355"/>
                  </a:lnTo>
                  <a:lnTo>
                    <a:pt x="42" y="169"/>
                  </a:lnTo>
                  <a:lnTo>
                    <a:pt x="9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51280" y="3297960"/>
              <a:ext cx="24480" cy="238320"/>
            </a:xfrm>
            <a:custGeom>
              <a:avLst/>
              <a:gdLst/>
              <a:ahLst/>
              <a:rect l="l" t="t" r="r" b="b"/>
              <a:pathLst>
                <a:path w="93" h="890">
                  <a:moveTo>
                    <a:pt x="31" y="890"/>
                  </a:moveTo>
                  <a:lnTo>
                    <a:pt x="11" y="704"/>
                  </a:lnTo>
                  <a:lnTo>
                    <a:pt x="0" y="543"/>
                  </a:lnTo>
                  <a:lnTo>
                    <a:pt x="19" y="355"/>
                  </a:lnTo>
                  <a:lnTo>
                    <a:pt x="42" y="169"/>
                  </a:lnTo>
                  <a:lnTo>
                    <a:pt x="9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34400" y="4313160"/>
              <a:ext cx="230760" cy="92160"/>
            </a:xfrm>
            <a:custGeom>
              <a:avLst/>
              <a:gdLst/>
              <a:ahLst/>
              <a:rect l="l" t="t" r="r" b="b"/>
              <a:pathLst>
                <a:path w="860" h="343">
                  <a:moveTo>
                    <a:pt x="94" y="217"/>
                  </a:moveTo>
                  <a:lnTo>
                    <a:pt x="57" y="155"/>
                  </a:lnTo>
                  <a:lnTo>
                    <a:pt x="26" y="76"/>
                  </a:lnTo>
                  <a:lnTo>
                    <a:pt x="0" y="0"/>
                  </a:lnTo>
                  <a:lnTo>
                    <a:pt x="262" y="62"/>
                  </a:lnTo>
                  <a:lnTo>
                    <a:pt x="505" y="93"/>
                  </a:lnTo>
                  <a:lnTo>
                    <a:pt x="724" y="112"/>
                  </a:lnTo>
                  <a:lnTo>
                    <a:pt x="860" y="124"/>
                  </a:lnTo>
                  <a:lnTo>
                    <a:pt x="860" y="3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34400" y="4313160"/>
              <a:ext cx="230760" cy="92160"/>
            </a:xfrm>
            <a:custGeom>
              <a:avLst/>
              <a:gdLst/>
              <a:ahLst/>
              <a:rect l="l" t="t" r="r" b="b"/>
              <a:pathLst>
                <a:path w="860" h="343">
                  <a:moveTo>
                    <a:pt x="94" y="217"/>
                  </a:moveTo>
                  <a:lnTo>
                    <a:pt x="57" y="155"/>
                  </a:lnTo>
                  <a:lnTo>
                    <a:pt x="26" y="76"/>
                  </a:lnTo>
                  <a:lnTo>
                    <a:pt x="0" y="0"/>
                  </a:lnTo>
                  <a:lnTo>
                    <a:pt x="262" y="62"/>
                  </a:lnTo>
                  <a:lnTo>
                    <a:pt x="505" y="93"/>
                  </a:lnTo>
                  <a:lnTo>
                    <a:pt x="724" y="112"/>
                  </a:lnTo>
                  <a:lnTo>
                    <a:pt x="860" y="124"/>
                  </a:lnTo>
                  <a:lnTo>
                    <a:pt x="860" y="3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5160" y="4249800"/>
              <a:ext cx="136080" cy="96840"/>
            </a:xfrm>
            <a:custGeom>
              <a:avLst/>
              <a:gdLst/>
              <a:ahLst/>
              <a:rect l="l" t="t" r="r" b="b"/>
              <a:pathLst>
                <a:path w="506" h="361">
                  <a:moveTo>
                    <a:pt x="506" y="349"/>
                  </a:moveTo>
                  <a:lnTo>
                    <a:pt x="250" y="361"/>
                  </a:lnTo>
                  <a:lnTo>
                    <a:pt x="0" y="36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65160" y="4249800"/>
              <a:ext cx="136080" cy="96840"/>
            </a:xfrm>
            <a:custGeom>
              <a:avLst/>
              <a:gdLst/>
              <a:ahLst/>
              <a:rect l="l" t="t" r="r" b="b"/>
              <a:pathLst>
                <a:path w="506" h="361">
                  <a:moveTo>
                    <a:pt x="506" y="349"/>
                  </a:moveTo>
                  <a:lnTo>
                    <a:pt x="250" y="361"/>
                  </a:lnTo>
                  <a:lnTo>
                    <a:pt x="0" y="36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84880" y="3959280"/>
              <a:ext cx="85320" cy="145800"/>
            </a:xfrm>
            <a:custGeom>
              <a:avLst/>
              <a:gdLst/>
              <a:ahLst/>
              <a:rect l="l" t="t" r="r" b="b"/>
              <a:pathLst>
                <a:path w="318" h="543">
                  <a:moveTo>
                    <a:pt x="0" y="0"/>
                  </a:moveTo>
                  <a:lnTo>
                    <a:pt x="107" y="14"/>
                  </a:lnTo>
                  <a:lnTo>
                    <a:pt x="219" y="31"/>
                  </a:lnTo>
                  <a:lnTo>
                    <a:pt x="318" y="31"/>
                  </a:lnTo>
                  <a:lnTo>
                    <a:pt x="318" y="5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4880" y="3959280"/>
              <a:ext cx="85320" cy="145800"/>
            </a:xfrm>
            <a:custGeom>
              <a:avLst/>
              <a:gdLst/>
              <a:ahLst/>
              <a:rect l="l" t="t" r="r" b="b"/>
              <a:pathLst>
                <a:path w="318" h="543">
                  <a:moveTo>
                    <a:pt x="0" y="0"/>
                  </a:moveTo>
                  <a:lnTo>
                    <a:pt x="107" y="14"/>
                  </a:lnTo>
                  <a:lnTo>
                    <a:pt x="219" y="31"/>
                  </a:lnTo>
                  <a:lnTo>
                    <a:pt x="318" y="31"/>
                  </a:lnTo>
                  <a:lnTo>
                    <a:pt x="318" y="5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8170560" y="3900240"/>
              <a:ext cx="144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8170560" y="3900240"/>
              <a:ext cx="144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70560" y="3945960"/>
              <a:ext cx="45000" cy="2196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0" y="0"/>
                  </a:moveTo>
                  <a:lnTo>
                    <a:pt x="0" y="81"/>
                  </a:lnTo>
                  <a:lnTo>
                    <a:pt x="169" y="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560" y="3945960"/>
              <a:ext cx="45000" cy="2196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0" y="0"/>
                  </a:moveTo>
                  <a:lnTo>
                    <a:pt x="0" y="81"/>
                  </a:lnTo>
                  <a:lnTo>
                    <a:pt x="169" y="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25440" y="3225960"/>
              <a:ext cx="50400" cy="378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0" y="0"/>
                  </a:moveTo>
                  <a:lnTo>
                    <a:pt x="94" y="68"/>
                  </a:lnTo>
                  <a:lnTo>
                    <a:pt x="189" y="1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25440" y="3225960"/>
              <a:ext cx="50400" cy="378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0" y="0"/>
                  </a:moveTo>
                  <a:lnTo>
                    <a:pt x="94" y="68"/>
                  </a:lnTo>
                  <a:lnTo>
                    <a:pt x="189" y="1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93320" y="3377880"/>
              <a:ext cx="288000" cy="589680"/>
            </a:xfrm>
            <a:custGeom>
              <a:avLst/>
              <a:gdLst/>
              <a:ahLst/>
              <a:rect l="l" t="t" r="r" b="b"/>
              <a:pathLst>
                <a:path w="1070" h="2199">
                  <a:moveTo>
                    <a:pt x="0" y="2199"/>
                  </a:moveTo>
                  <a:lnTo>
                    <a:pt x="217" y="2168"/>
                  </a:lnTo>
                  <a:lnTo>
                    <a:pt x="403" y="2137"/>
                  </a:lnTo>
                  <a:lnTo>
                    <a:pt x="553" y="2106"/>
                  </a:lnTo>
                  <a:lnTo>
                    <a:pt x="479" y="1588"/>
                  </a:lnTo>
                  <a:lnTo>
                    <a:pt x="372" y="1134"/>
                  </a:lnTo>
                  <a:lnTo>
                    <a:pt x="584" y="1084"/>
                  </a:lnTo>
                  <a:lnTo>
                    <a:pt x="727" y="1035"/>
                  </a:lnTo>
                  <a:lnTo>
                    <a:pt x="927" y="966"/>
                  </a:lnTo>
                  <a:lnTo>
                    <a:pt x="1070" y="892"/>
                  </a:lnTo>
                  <a:lnTo>
                    <a:pt x="1051" y="830"/>
                  </a:lnTo>
                  <a:lnTo>
                    <a:pt x="927" y="599"/>
                  </a:lnTo>
                  <a:lnTo>
                    <a:pt x="803" y="343"/>
                  </a:lnTo>
                  <a:lnTo>
                    <a:pt x="679" y="157"/>
                  </a:lnTo>
                  <a:lnTo>
                    <a:pt x="615" y="50"/>
                  </a:lnTo>
                  <a:lnTo>
                    <a:pt x="572" y="0"/>
                  </a:lnTo>
                  <a:lnTo>
                    <a:pt x="490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93320" y="3377880"/>
              <a:ext cx="288000" cy="589680"/>
            </a:xfrm>
            <a:custGeom>
              <a:avLst/>
              <a:gdLst/>
              <a:ahLst/>
              <a:rect l="l" t="t" r="r" b="b"/>
              <a:pathLst>
                <a:path w="1070" h="2199">
                  <a:moveTo>
                    <a:pt x="0" y="2199"/>
                  </a:moveTo>
                  <a:lnTo>
                    <a:pt x="217" y="2168"/>
                  </a:lnTo>
                  <a:lnTo>
                    <a:pt x="403" y="2137"/>
                  </a:lnTo>
                  <a:lnTo>
                    <a:pt x="553" y="2106"/>
                  </a:lnTo>
                  <a:lnTo>
                    <a:pt x="479" y="1588"/>
                  </a:lnTo>
                  <a:lnTo>
                    <a:pt x="372" y="1134"/>
                  </a:lnTo>
                  <a:lnTo>
                    <a:pt x="584" y="1084"/>
                  </a:lnTo>
                  <a:lnTo>
                    <a:pt x="727" y="1035"/>
                  </a:lnTo>
                  <a:lnTo>
                    <a:pt x="927" y="966"/>
                  </a:lnTo>
                  <a:lnTo>
                    <a:pt x="1070" y="892"/>
                  </a:lnTo>
                  <a:lnTo>
                    <a:pt x="1051" y="830"/>
                  </a:lnTo>
                  <a:lnTo>
                    <a:pt x="927" y="599"/>
                  </a:lnTo>
                  <a:lnTo>
                    <a:pt x="803" y="343"/>
                  </a:lnTo>
                  <a:lnTo>
                    <a:pt x="679" y="157"/>
                  </a:lnTo>
                  <a:lnTo>
                    <a:pt x="615" y="50"/>
                  </a:lnTo>
                  <a:lnTo>
                    <a:pt x="572" y="0"/>
                  </a:lnTo>
                  <a:lnTo>
                    <a:pt x="490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93520" y="3424680"/>
              <a:ext cx="88200" cy="128880"/>
            </a:xfrm>
            <a:custGeom>
              <a:avLst/>
              <a:gdLst/>
              <a:ahLst/>
              <a:rect l="l" t="t" r="r" b="b"/>
              <a:pathLst>
                <a:path w="330" h="481">
                  <a:moveTo>
                    <a:pt x="330" y="481"/>
                  </a:moveTo>
                  <a:lnTo>
                    <a:pt x="330" y="45"/>
                  </a:lnTo>
                  <a:lnTo>
                    <a:pt x="200" y="39"/>
                  </a:lnTo>
                  <a:lnTo>
                    <a:pt x="81" y="2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93520" y="3424680"/>
              <a:ext cx="88200" cy="128880"/>
            </a:xfrm>
            <a:custGeom>
              <a:avLst/>
              <a:gdLst/>
              <a:ahLst/>
              <a:rect l="l" t="t" r="r" b="b"/>
              <a:pathLst>
                <a:path w="330" h="481">
                  <a:moveTo>
                    <a:pt x="330" y="481"/>
                  </a:moveTo>
                  <a:lnTo>
                    <a:pt x="330" y="45"/>
                  </a:lnTo>
                  <a:lnTo>
                    <a:pt x="200" y="39"/>
                  </a:lnTo>
                  <a:lnTo>
                    <a:pt x="81" y="2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72920" y="3942360"/>
              <a:ext cx="78480" cy="16560"/>
            </a:xfrm>
            <a:custGeom>
              <a:avLst/>
              <a:gdLst/>
              <a:ahLst/>
              <a:rect l="l" t="t" r="r" b="b"/>
              <a:pathLst>
                <a:path w="293" h="62">
                  <a:moveTo>
                    <a:pt x="0" y="0"/>
                  </a:moveTo>
                  <a:lnTo>
                    <a:pt x="180" y="31"/>
                  </a:lnTo>
                  <a:lnTo>
                    <a:pt x="293" y="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72920" y="3942360"/>
              <a:ext cx="78480" cy="16560"/>
            </a:xfrm>
            <a:custGeom>
              <a:avLst/>
              <a:gdLst/>
              <a:ahLst/>
              <a:rect l="l" t="t" r="r" b="b"/>
              <a:pathLst>
                <a:path w="293" h="62">
                  <a:moveTo>
                    <a:pt x="0" y="0"/>
                  </a:moveTo>
                  <a:lnTo>
                    <a:pt x="180" y="31"/>
                  </a:lnTo>
                  <a:lnTo>
                    <a:pt x="293" y="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73800" y="3817080"/>
              <a:ext cx="360" cy="4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73800" y="3817080"/>
              <a:ext cx="360" cy="4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53000" y="3605400"/>
              <a:ext cx="140400" cy="100080"/>
            </a:xfrm>
            <a:custGeom>
              <a:avLst/>
              <a:gdLst/>
              <a:ahLst/>
              <a:rect l="l" t="t" r="r" b="b"/>
              <a:pathLst>
                <a:path w="522" h="375">
                  <a:moveTo>
                    <a:pt x="460" y="0"/>
                  </a:moveTo>
                  <a:lnTo>
                    <a:pt x="491" y="138"/>
                  </a:lnTo>
                  <a:lnTo>
                    <a:pt x="522" y="287"/>
                  </a:lnTo>
                  <a:lnTo>
                    <a:pt x="305" y="338"/>
                  </a:lnTo>
                  <a:lnTo>
                    <a:pt x="130" y="369"/>
                  </a:lnTo>
                  <a:lnTo>
                    <a:pt x="0" y="37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53000" y="3605400"/>
              <a:ext cx="140400" cy="100080"/>
            </a:xfrm>
            <a:custGeom>
              <a:avLst/>
              <a:gdLst/>
              <a:ahLst/>
              <a:rect l="l" t="t" r="r" b="b"/>
              <a:pathLst>
                <a:path w="522" h="375">
                  <a:moveTo>
                    <a:pt x="460" y="0"/>
                  </a:moveTo>
                  <a:lnTo>
                    <a:pt x="491" y="138"/>
                  </a:lnTo>
                  <a:lnTo>
                    <a:pt x="522" y="287"/>
                  </a:lnTo>
                  <a:lnTo>
                    <a:pt x="305" y="338"/>
                  </a:lnTo>
                  <a:lnTo>
                    <a:pt x="130" y="369"/>
                  </a:lnTo>
                  <a:lnTo>
                    <a:pt x="0" y="37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259120" y="3431520"/>
              <a:ext cx="298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259120" y="3431520"/>
              <a:ext cx="298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28240" y="3389760"/>
              <a:ext cx="96840" cy="95400"/>
            </a:xfrm>
            <a:custGeom>
              <a:avLst/>
              <a:gdLst/>
              <a:ahLst/>
              <a:rect l="l" t="t" r="r" b="b"/>
              <a:pathLst>
                <a:path w="360" h="355">
                  <a:moveTo>
                    <a:pt x="73" y="355"/>
                  </a:moveTo>
                  <a:lnTo>
                    <a:pt x="50" y="280"/>
                  </a:lnTo>
                  <a:lnTo>
                    <a:pt x="0" y="130"/>
                  </a:lnTo>
                  <a:lnTo>
                    <a:pt x="174" y="82"/>
                  </a:lnTo>
                  <a:lnTo>
                    <a:pt x="287" y="37"/>
                  </a:lnTo>
                  <a:lnTo>
                    <a:pt x="36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8240" y="3389760"/>
              <a:ext cx="96840" cy="95400"/>
            </a:xfrm>
            <a:custGeom>
              <a:avLst/>
              <a:gdLst/>
              <a:ahLst/>
              <a:rect l="l" t="t" r="r" b="b"/>
              <a:pathLst>
                <a:path w="360" h="355">
                  <a:moveTo>
                    <a:pt x="73" y="355"/>
                  </a:moveTo>
                  <a:lnTo>
                    <a:pt x="50" y="280"/>
                  </a:lnTo>
                  <a:lnTo>
                    <a:pt x="0" y="130"/>
                  </a:lnTo>
                  <a:lnTo>
                    <a:pt x="174" y="82"/>
                  </a:lnTo>
                  <a:lnTo>
                    <a:pt x="287" y="37"/>
                  </a:lnTo>
                  <a:lnTo>
                    <a:pt x="36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8361720" y="3549960"/>
              <a:ext cx="11520" cy="4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8361720" y="3549960"/>
              <a:ext cx="11520" cy="4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660800" y="3030120"/>
              <a:ext cx="33840" cy="42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660800" y="3030120"/>
              <a:ext cx="33840" cy="42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45880" y="3206160"/>
              <a:ext cx="306720" cy="162720"/>
            </a:xfrm>
            <a:custGeom>
              <a:avLst/>
              <a:gdLst/>
              <a:ahLst/>
              <a:rect l="l" t="t" r="r" b="b"/>
              <a:pathLst>
                <a:path w="1141" h="609">
                  <a:moveTo>
                    <a:pt x="1141" y="79"/>
                  </a:moveTo>
                  <a:lnTo>
                    <a:pt x="960" y="198"/>
                  </a:lnTo>
                  <a:lnTo>
                    <a:pt x="811" y="310"/>
                  </a:lnTo>
                  <a:lnTo>
                    <a:pt x="656" y="436"/>
                  </a:lnTo>
                  <a:lnTo>
                    <a:pt x="563" y="529"/>
                  </a:lnTo>
                  <a:lnTo>
                    <a:pt x="537" y="442"/>
                  </a:lnTo>
                  <a:lnTo>
                    <a:pt x="537" y="186"/>
                  </a:lnTo>
                  <a:lnTo>
                    <a:pt x="549" y="73"/>
                  </a:lnTo>
                  <a:lnTo>
                    <a:pt x="563" y="0"/>
                  </a:lnTo>
                  <a:lnTo>
                    <a:pt x="506" y="31"/>
                  </a:lnTo>
                  <a:lnTo>
                    <a:pt x="374" y="135"/>
                  </a:lnTo>
                  <a:lnTo>
                    <a:pt x="293" y="217"/>
                  </a:lnTo>
                  <a:lnTo>
                    <a:pt x="200" y="324"/>
                  </a:lnTo>
                  <a:lnTo>
                    <a:pt x="95" y="448"/>
                  </a:lnTo>
                  <a:lnTo>
                    <a:pt x="0" y="60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45880" y="3206160"/>
              <a:ext cx="306720" cy="162720"/>
            </a:xfrm>
            <a:custGeom>
              <a:avLst/>
              <a:gdLst/>
              <a:ahLst/>
              <a:rect l="l" t="t" r="r" b="b"/>
              <a:pathLst>
                <a:path w="1141" h="609">
                  <a:moveTo>
                    <a:pt x="1141" y="79"/>
                  </a:moveTo>
                  <a:lnTo>
                    <a:pt x="960" y="198"/>
                  </a:lnTo>
                  <a:lnTo>
                    <a:pt x="811" y="310"/>
                  </a:lnTo>
                  <a:lnTo>
                    <a:pt x="656" y="436"/>
                  </a:lnTo>
                  <a:lnTo>
                    <a:pt x="563" y="529"/>
                  </a:lnTo>
                  <a:lnTo>
                    <a:pt x="537" y="442"/>
                  </a:lnTo>
                  <a:lnTo>
                    <a:pt x="537" y="186"/>
                  </a:lnTo>
                  <a:lnTo>
                    <a:pt x="549" y="73"/>
                  </a:lnTo>
                  <a:lnTo>
                    <a:pt x="563" y="0"/>
                  </a:lnTo>
                  <a:lnTo>
                    <a:pt x="506" y="31"/>
                  </a:lnTo>
                  <a:lnTo>
                    <a:pt x="374" y="135"/>
                  </a:lnTo>
                  <a:lnTo>
                    <a:pt x="293" y="217"/>
                  </a:lnTo>
                  <a:lnTo>
                    <a:pt x="200" y="324"/>
                  </a:lnTo>
                  <a:lnTo>
                    <a:pt x="95" y="448"/>
                  </a:lnTo>
                  <a:lnTo>
                    <a:pt x="0" y="60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7080" y="3072600"/>
              <a:ext cx="205560" cy="129600"/>
            </a:xfrm>
            <a:custGeom>
              <a:avLst/>
              <a:gdLst/>
              <a:ahLst/>
              <a:rect l="l" t="t" r="r" b="b"/>
              <a:pathLst>
                <a:path w="764" h="485">
                  <a:moveTo>
                    <a:pt x="752" y="411"/>
                  </a:moveTo>
                  <a:lnTo>
                    <a:pt x="746" y="324"/>
                  </a:lnTo>
                  <a:lnTo>
                    <a:pt x="752" y="229"/>
                  </a:lnTo>
                  <a:lnTo>
                    <a:pt x="764" y="144"/>
                  </a:lnTo>
                  <a:lnTo>
                    <a:pt x="640" y="175"/>
                  </a:lnTo>
                  <a:lnTo>
                    <a:pt x="473" y="229"/>
                  </a:lnTo>
                  <a:lnTo>
                    <a:pt x="316" y="293"/>
                  </a:lnTo>
                  <a:lnTo>
                    <a:pt x="161" y="373"/>
                  </a:lnTo>
                  <a:lnTo>
                    <a:pt x="62" y="448"/>
                  </a:lnTo>
                  <a:lnTo>
                    <a:pt x="0" y="485"/>
                  </a:lnTo>
                  <a:lnTo>
                    <a:pt x="17" y="404"/>
                  </a:lnTo>
                  <a:lnTo>
                    <a:pt x="36" y="324"/>
                  </a:lnTo>
                  <a:lnTo>
                    <a:pt x="110" y="186"/>
                  </a:lnTo>
                  <a:lnTo>
                    <a:pt x="172" y="74"/>
                  </a:lnTo>
                  <a:lnTo>
                    <a:pt x="234" y="0"/>
                  </a:lnTo>
                  <a:lnTo>
                    <a:pt x="110" y="7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97080" y="3072600"/>
              <a:ext cx="205560" cy="129600"/>
            </a:xfrm>
            <a:custGeom>
              <a:avLst/>
              <a:gdLst/>
              <a:ahLst/>
              <a:rect l="l" t="t" r="r" b="b"/>
              <a:pathLst>
                <a:path w="764" h="485">
                  <a:moveTo>
                    <a:pt x="752" y="411"/>
                  </a:moveTo>
                  <a:lnTo>
                    <a:pt x="746" y="324"/>
                  </a:lnTo>
                  <a:lnTo>
                    <a:pt x="752" y="229"/>
                  </a:lnTo>
                  <a:lnTo>
                    <a:pt x="764" y="144"/>
                  </a:lnTo>
                  <a:lnTo>
                    <a:pt x="640" y="175"/>
                  </a:lnTo>
                  <a:lnTo>
                    <a:pt x="473" y="229"/>
                  </a:lnTo>
                  <a:lnTo>
                    <a:pt x="316" y="293"/>
                  </a:lnTo>
                  <a:lnTo>
                    <a:pt x="161" y="373"/>
                  </a:lnTo>
                  <a:lnTo>
                    <a:pt x="62" y="448"/>
                  </a:lnTo>
                  <a:lnTo>
                    <a:pt x="0" y="485"/>
                  </a:lnTo>
                  <a:lnTo>
                    <a:pt x="17" y="404"/>
                  </a:lnTo>
                  <a:lnTo>
                    <a:pt x="36" y="324"/>
                  </a:lnTo>
                  <a:lnTo>
                    <a:pt x="110" y="186"/>
                  </a:lnTo>
                  <a:lnTo>
                    <a:pt x="172" y="74"/>
                  </a:lnTo>
                  <a:lnTo>
                    <a:pt x="234" y="0"/>
                  </a:lnTo>
                  <a:lnTo>
                    <a:pt x="110" y="7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60800" y="3025440"/>
              <a:ext cx="130680" cy="47160"/>
            </a:xfrm>
            <a:custGeom>
              <a:avLst/>
              <a:gdLst/>
              <a:ahLst/>
              <a:rect l="l" t="t" r="r" b="b"/>
              <a:pathLst>
                <a:path w="487" h="174">
                  <a:moveTo>
                    <a:pt x="0" y="174"/>
                  </a:moveTo>
                  <a:lnTo>
                    <a:pt x="175" y="99"/>
                  </a:lnTo>
                  <a:lnTo>
                    <a:pt x="332" y="37"/>
                  </a:lnTo>
                  <a:lnTo>
                    <a:pt x="4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60800" y="3025440"/>
              <a:ext cx="130680" cy="47160"/>
            </a:xfrm>
            <a:custGeom>
              <a:avLst/>
              <a:gdLst/>
              <a:ahLst/>
              <a:rect l="l" t="t" r="r" b="b"/>
              <a:pathLst>
                <a:path w="487" h="174">
                  <a:moveTo>
                    <a:pt x="0" y="174"/>
                  </a:moveTo>
                  <a:lnTo>
                    <a:pt x="175" y="99"/>
                  </a:lnTo>
                  <a:lnTo>
                    <a:pt x="332" y="37"/>
                  </a:lnTo>
                  <a:lnTo>
                    <a:pt x="4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09560" y="3235680"/>
              <a:ext cx="38520" cy="39960"/>
            </a:xfrm>
            <a:custGeom>
              <a:avLst/>
              <a:gdLst/>
              <a:ahLst/>
              <a:rect l="l" t="t" r="r" b="b"/>
              <a:pathLst>
                <a:path w="143" h="150">
                  <a:moveTo>
                    <a:pt x="0" y="0"/>
                  </a:moveTo>
                  <a:lnTo>
                    <a:pt x="81" y="88"/>
                  </a:lnTo>
                  <a:lnTo>
                    <a:pt x="143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09560" y="3235680"/>
              <a:ext cx="38520" cy="39960"/>
            </a:xfrm>
            <a:custGeom>
              <a:avLst/>
              <a:gdLst/>
              <a:ahLst/>
              <a:rect l="l" t="t" r="r" b="b"/>
              <a:pathLst>
                <a:path w="143" h="150">
                  <a:moveTo>
                    <a:pt x="0" y="0"/>
                  </a:moveTo>
                  <a:lnTo>
                    <a:pt x="81" y="88"/>
                  </a:lnTo>
                  <a:lnTo>
                    <a:pt x="143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62920" y="3180600"/>
              <a:ext cx="50400" cy="6840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0" y="256"/>
                  </a:moveTo>
                  <a:lnTo>
                    <a:pt x="95" y="126"/>
                  </a:lnTo>
                  <a:lnTo>
                    <a:pt x="18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62920" y="3180600"/>
              <a:ext cx="50400" cy="6840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0" y="256"/>
                  </a:moveTo>
                  <a:lnTo>
                    <a:pt x="95" y="126"/>
                  </a:lnTo>
                  <a:lnTo>
                    <a:pt x="18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9520" y="3147120"/>
              <a:ext cx="122040" cy="75600"/>
            </a:xfrm>
            <a:custGeom>
              <a:avLst/>
              <a:gdLst/>
              <a:ahLst/>
              <a:rect l="l" t="t" r="r" b="b"/>
              <a:pathLst>
                <a:path w="454" h="281">
                  <a:moveTo>
                    <a:pt x="454" y="0"/>
                  </a:moveTo>
                  <a:lnTo>
                    <a:pt x="225" y="124"/>
                  </a:lnTo>
                  <a:lnTo>
                    <a:pt x="0" y="2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49520" y="3147120"/>
              <a:ext cx="122040" cy="75600"/>
            </a:xfrm>
            <a:custGeom>
              <a:avLst/>
              <a:gdLst/>
              <a:ahLst/>
              <a:rect l="l" t="t" r="r" b="b"/>
              <a:pathLst>
                <a:path w="454" h="281">
                  <a:moveTo>
                    <a:pt x="454" y="0"/>
                  </a:moveTo>
                  <a:lnTo>
                    <a:pt x="225" y="124"/>
                  </a:lnTo>
                  <a:lnTo>
                    <a:pt x="0" y="2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5840" y="3114000"/>
              <a:ext cx="118800" cy="34560"/>
            </a:xfrm>
            <a:custGeom>
              <a:avLst/>
              <a:gdLst/>
              <a:ahLst/>
              <a:rect l="l" t="t" r="r" b="b"/>
              <a:pathLst>
                <a:path w="442" h="130">
                  <a:moveTo>
                    <a:pt x="0" y="130"/>
                  </a:moveTo>
                  <a:lnTo>
                    <a:pt x="225" y="62"/>
                  </a:lnTo>
                  <a:lnTo>
                    <a:pt x="4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35840" y="3114000"/>
              <a:ext cx="118800" cy="34560"/>
            </a:xfrm>
            <a:custGeom>
              <a:avLst/>
              <a:gdLst/>
              <a:ahLst/>
              <a:rect l="l" t="t" r="r" b="b"/>
              <a:pathLst>
                <a:path w="442" h="130">
                  <a:moveTo>
                    <a:pt x="0" y="130"/>
                  </a:moveTo>
                  <a:lnTo>
                    <a:pt x="225" y="62"/>
                  </a:lnTo>
                  <a:lnTo>
                    <a:pt x="4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3000" y="3058560"/>
              <a:ext cx="59040" cy="51840"/>
            </a:xfrm>
            <a:custGeom>
              <a:avLst/>
              <a:gdLst/>
              <a:ahLst/>
              <a:rect l="l" t="t" r="r" b="b"/>
              <a:pathLst>
                <a:path w="219" h="194">
                  <a:moveTo>
                    <a:pt x="219" y="130"/>
                  </a:moveTo>
                  <a:lnTo>
                    <a:pt x="126" y="163"/>
                  </a:lnTo>
                  <a:lnTo>
                    <a:pt x="0" y="194"/>
                  </a:lnTo>
                  <a:lnTo>
                    <a:pt x="33" y="132"/>
                  </a:lnTo>
                  <a:lnTo>
                    <a:pt x="64" y="62"/>
                  </a:lnTo>
                  <a:lnTo>
                    <a:pt x="9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03000" y="3058560"/>
              <a:ext cx="59040" cy="51840"/>
            </a:xfrm>
            <a:custGeom>
              <a:avLst/>
              <a:gdLst/>
              <a:ahLst/>
              <a:rect l="l" t="t" r="r" b="b"/>
              <a:pathLst>
                <a:path w="219" h="194">
                  <a:moveTo>
                    <a:pt x="219" y="130"/>
                  </a:moveTo>
                  <a:lnTo>
                    <a:pt x="126" y="163"/>
                  </a:lnTo>
                  <a:lnTo>
                    <a:pt x="0" y="194"/>
                  </a:lnTo>
                  <a:lnTo>
                    <a:pt x="33" y="132"/>
                  </a:lnTo>
                  <a:lnTo>
                    <a:pt x="64" y="62"/>
                  </a:lnTo>
                  <a:lnTo>
                    <a:pt x="9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04160" y="3076920"/>
              <a:ext cx="152280" cy="12240"/>
            </a:xfrm>
            <a:custGeom>
              <a:avLst/>
              <a:gdLst/>
              <a:ahLst/>
              <a:rect l="l" t="t" r="r" b="b"/>
              <a:pathLst>
                <a:path w="566" h="44">
                  <a:moveTo>
                    <a:pt x="566" y="0"/>
                  </a:moveTo>
                  <a:lnTo>
                    <a:pt x="281" y="13"/>
                  </a:lnTo>
                  <a:lnTo>
                    <a:pt x="0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04160" y="3076920"/>
              <a:ext cx="152280" cy="12240"/>
            </a:xfrm>
            <a:custGeom>
              <a:avLst/>
              <a:gdLst/>
              <a:ahLst/>
              <a:rect l="l" t="t" r="r" b="b"/>
              <a:pathLst>
                <a:path w="566" h="44">
                  <a:moveTo>
                    <a:pt x="566" y="0"/>
                  </a:moveTo>
                  <a:lnTo>
                    <a:pt x="281" y="13"/>
                  </a:lnTo>
                  <a:lnTo>
                    <a:pt x="0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67520" y="3025440"/>
              <a:ext cx="105840" cy="21240"/>
            </a:xfrm>
            <a:custGeom>
              <a:avLst/>
              <a:gdLst/>
              <a:ahLst/>
              <a:rect l="l" t="t" r="r" b="b"/>
              <a:pathLst>
                <a:path w="393" h="79">
                  <a:moveTo>
                    <a:pt x="393" y="79"/>
                  </a:moveTo>
                  <a:lnTo>
                    <a:pt x="174" y="3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67520" y="3025440"/>
              <a:ext cx="105840" cy="21240"/>
            </a:xfrm>
            <a:custGeom>
              <a:avLst/>
              <a:gdLst/>
              <a:ahLst/>
              <a:rect l="l" t="t" r="r" b="b"/>
              <a:pathLst>
                <a:path w="393" h="79">
                  <a:moveTo>
                    <a:pt x="393" y="79"/>
                  </a:moveTo>
                  <a:lnTo>
                    <a:pt x="174" y="3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46360" y="2987640"/>
              <a:ext cx="59040" cy="34560"/>
            </a:xfrm>
            <a:custGeom>
              <a:avLst/>
              <a:gdLst/>
              <a:ahLst/>
              <a:rect l="l" t="t" r="r" b="b"/>
              <a:pathLst>
                <a:path w="220" h="130">
                  <a:moveTo>
                    <a:pt x="0" y="0"/>
                  </a:moveTo>
                  <a:lnTo>
                    <a:pt x="101" y="62"/>
                  </a:lnTo>
                  <a:lnTo>
                    <a:pt x="220" y="13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46360" y="2987640"/>
              <a:ext cx="59040" cy="34560"/>
            </a:xfrm>
            <a:custGeom>
              <a:avLst/>
              <a:gdLst/>
              <a:ahLst/>
              <a:rect l="l" t="t" r="r" b="b"/>
              <a:pathLst>
                <a:path w="220" h="130">
                  <a:moveTo>
                    <a:pt x="0" y="0"/>
                  </a:moveTo>
                  <a:lnTo>
                    <a:pt x="101" y="62"/>
                  </a:lnTo>
                  <a:lnTo>
                    <a:pt x="220" y="13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82080" y="3313080"/>
              <a:ext cx="27000" cy="123120"/>
            </a:xfrm>
            <a:custGeom>
              <a:avLst/>
              <a:gdLst/>
              <a:ahLst/>
              <a:rect l="l" t="t" r="r" b="b"/>
              <a:pathLst>
                <a:path w="101" h="462">
                  <a:moveTo>
                    <a:pt x="13" y="0"/>
                  </a:moveTo>
                  <a:lnTo>
                    <a:pt x="13" y="237"/>
                  </a:lnTo>
                  <a:lnTo>
                    <a:pt x="0" y="462"/>
                  </a:lnTo>
                  <a:lnTo>
                    <a:pt x="101" y="4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82080" y="3313080"/>
              <a:ext cx="27000" cy="123120"/>
            </a:xfrm>
            <a:custGeom>
              <a:avLst/>
              <a:gdLst/>
              <a:ahLst/>
              <a:rect l="l" t="t" r="r" b="b"/>
              <a:pathLst>
                <a:path w="101" h="462">
                  <a:moveTo>
                    <a:pt x="13" y="0"/>
                  </a:moveTo>
                  <a:lnTo>
                    <a:pt x="13" y="237"/>
                  </a:lnTo>
                  <a:lnTo>
                    <a:pt x="0" y="462"/>
                  </a:lnTo>
                  <a:lnTo>
                    <a:pt x="101" y="4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85680" y="3235680"/>
              <a:ext cx="360" cy="37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85680" y="3235680"/>
              <a:ext cx="360" cy="37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92880" y="2975040"/>
              <a:ext cx="2880" cy="25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92880" y="2975040"/>
              <a:ext cx="2880" cy="25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01800" y="2962080"/>
              <a:ext cx="48240" cy="43200"/>
            </a:xfrm>
            <a:custGeom>
              <a:avLst/>
              <a:gdLst/>
              <a:ahLst/>
              <a:rect l="l" t="t" r="r" b="b"/>
              <a:pathLst>
                <a:path w="180" h="161">
                  <a:moveTo>
                    <a:pt x="180" y="161"/>
                  </a:moveTo>
                  <a:lnTo>
                    <a:pt x="118" y="99"/>
                  </a:lnTo>
                  <a:lnTo>
                    <a:pt x="45" y="3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01800" y="2962080"/>
              <a:ext cx="48240" cy="43200"/>
            </a:xfrm>
            <a:custGeom>
              <a:avLst/>
              <a:gdLst/>
              <a:ahLst/>
              <a:rect l="l" t="t" r="r" b="b"/>
              <a:pathLst>
                <a:path w="180" h="161">
                  <a:moveTo>
                    <a:pt x="180" y="161"/>
                  </a:moveTo>
                  <a:lnTo>
                    <a:pt x="118" y="99"/>
                  </a:lnTo>
                  <a:lnTo>
                    <a:pt x="45" y="3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81440" y="2977200"/>
              <a:ext cx="93600" cy="44640"/>
            </a:xfrm>
            <a:custGeom>
              <a:avLst/>
              <a:gdLst/>
              <a:ahLst/>
              <a:rect l="l" t="t" r="r" b="b"/>
              <a:pathLst>
                <a:path w="349" h="167">
                  <a:moveTo>
                    <a:pt x="0" y="167"/>
                  </a:moveTo>
                  <a:lnTo>
                    <a:pt x="243" y="57"/>
                  </a:lnTo>
                  <a:lnTo>
                    <a:pt x="34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81440" y="2977200"/>
              <a:ext cx="93600" cy="44640"/>
            </a:xfrm>
            <a:custGeom>
              <a:avLst/>
              <a:gdLst/>
              <a:ahLst/>
              <a:rect l="l" t="t" r="r" b="b"/>
              <a:pathLst>
                <a:path w="349" h="167">
                  <a:moveTo>
                    <a:pt x="0" y="167"/>
                  </a:moveTo>
                  <a:lnTo>
                    <a:pt x="243" y="57"/>
                  </a:lnTo>
                  <a:lnTo>
                    <a:pt x="34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44360" y="2967120"/>
              <a:ext cx="29880" cy="41760"/>
            </a:xfrm>
            <a:custGeom>
              <a:avLst/>
              <a:gdLst/>
              <a:ahLst/>
              <a:rect l="l" t="t" r="r" b="b"/>
              <a:pathLst>
                <a:path w="113" h="158">
                  <a:moveTo>
                    <a:pt x="113" y="0"/>
                  </a:moveTo>
                  <a:lnTo>
                    <a:pt x="70" y="45"/>
                  </a:lnTo>
                  <a:lnTo>
                    <a:pt x="39" y="96"/>
                  </a:lnTo>
                  <a:lnTo>
                    <a:pt x="0" y="1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44360" y="2967120"/>
              <a:ext cx="29880" cy="41760"/>
            </a:xfrm>
            <a:custGeom>
              <a:avLst/>
              <a:gdLst/>
              <a:ahLst/>
              <a:rect l="l" t="t" r="r" b="b"/>
              <a:pathLst>
                <a:path w="113" h="158">
                  <a:moveTo>
                    <a:pt x="113" y="0"/>
                  </a:moveTo>
                  <a:lnTo>
                    <a:pt x="70" y="45"/>
                  </a:lnTo>
                  <a:lnTo>
                    <a:pt x="39" y="96"/>
                  </a:lnTo>
                  <a:lnTo>
                    <a:pt x="0" y="1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16360" y="3035880"/>
              <a:ext cx="138600" cy="20160"/>
            </a:xfrm>
            <a:custGeom>
              <a:avLst/>
              <a:gdLst/>
              <a:ahLst/>
              <a:rect l="l" t="t" r="r" b="b"/>
              <a:pathLst>
                <a:path w="518" h="75">
                  <a:moveTo>
                    <a:pt x="518" y="0"/>
                  </a:moveTo>
                  <a:lnTo>
                    <a:pt x="256" y="31"/>
                  </a:lnTo>
                  <a:lnTo>
                    <a:pt x="0" y="7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6360" y="3035880"/>
              <a:ext cx="138600" cy="20160"/>
            </a:xfrm>
            <a:custGeom>
              <a:avLst/>
              <a:gdLst/>
              <a:ahLst/>
              <a:rect l="l" t="t" r="r" b="b"/>
              <a:pathLst>
                <a:path w="518" h="75">
                  <a:moveTo>
                    <a:pt x="518" y="0"/>
                  </a:moveTo>
                  <a:lnTo>
                    <a:pt x="256" y="31"/>
                  </a:lnTo>
                  <a:lnTo>
                    <a:pt x="0" y="7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30040" y="3085560"/>
              <a:ext cx="56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0040" y="3085560"/>
              <a:ext cx="56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86560" y="3089520"/>
              <a:ext cx="85320" cy="11160"/>
            </a:xfrm>
            <a:custGeom>
              <a:avLst/>
              <a:gdLst/>
              <a:ahLst/>
              <a:rect l="l" t="t" r="r" b="b"/>
              <a:pathLst>
                <a:path w="318" h="43">
                  <a:moveTo>
                    <a:pt x="0" y="0"/>
                  </a:moveTo>
                  <a:lnTo>
                    <a:pt x="174" y="20"/>
                  </a:lnTo>
                  <a:lnTo>
                    <a:pt x="318" y="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6560" y="3089520"/>
              <a:ext cx="85320" cy="11160"/>
            </a:xfrm>
            <a:custGeom>
              <a:avLst/>
              <a:gdLst/>
              <a:ahLst/>
              <a:rect l="l" t="t" r="r" b="b"/>
              <a:pathLst>
                <a:path w="318" h="43">
                  <a:moveTo>
                    <a:pt x="0" y="0"/>
                  </a:moveTo>
                  <a:lnTo>
                    <a:pt x="174" y="20"/>
                  </a:lnTo>
                  <a:lnTo>
                    <a:pt x="318" y="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84560" y="4071240"/>
              <a:ext cx="120960" cy="58320"/>
            </a:xfrm>
            <a:custGeom>
              <a:avLst/>
              <a:gdLst/>
              <a:ahLst/>
              <a:rect l="l" t="t" r="r" b="b"/>
              <a:pathLst>
                <a:path w="450" h="219">
                  <a:moveTo>
                    <a:pt x="0" y="219"/>
                  </a:moveTo>
                  <a:lnTo>
                    <a:pt x="95" y="175"/>
                  </a:lnTo>
                  <a:lnTo>
                    <a:pt x="250" y="113"/>
                  </a:lnTo>
                  <a:lnTo>
                    <a:pt x="405" y="31"/>
                  </a:lnTo>
                  <a:lnTo>
                    <a:pt x="450" y="0"/>
                  </a:lnTo>
                  <a:lnTo>
                    <a:pt x="450" y="1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84560" y="4071240"/>
              <a:ext cx="120960" cy="58320"/>
            </a:xfrm>
            <a:custGeom>
              <a:avLst/>
              <a:gdLst/>
              <a:ahLst/>
              <a:rect l="l" t="t" r="r" b="b"/>
              <a:pathLst>
                <a:path w="450" h="219">
                  <a:moveTo>
                    <a:pt x="0" y="219"/>
                  </a:moveTo>
                  <a:lnTo>
                    <a:pt x="95" y="175"/>
                  </a:lnTo>
                  <a:lnTo>
                    <a:pt x="250" y="113"/>
                  </a:lnTo>
                  <a:lnTo>
                    <a:pt x="405" y="31"/>
                  </a:lnTo>
                  <a:lnTo>
                    <a:pt x="450" y="0"/>
                  </a:lnTo>
                  <a:lnTo>
                    <a:pt x="450" y="1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81920" y="3692160"/>
              <a:ext cx="91800" cy="233640"/>
            </a:xfrm>
            <a:custGeom>
              <a:avLst/>
              <a:gdLst/>
              <a:ahLst/>
              <a:rect l="l" t="t" r="r" b="b"/>
              <a:pathLst>
                <a:path w="344" h="873">
                  <a:moveTo>
                    <a:pt x="344" y="0"/>
                  </a:moveTo>
                  <a:lnTo>
                    <a:pt x="282" y="281"/>
                  </a:lnTo>
                  <a:lnTo>
                    <a:pt x="220" y="448"/>
                  </a:lnTo>
                  <a:lnTo>
                    <a:pt x="158" y="600"/>
                  </a:lnTo>
                  <a:lnTo>
                    <a:pt x="76" y="729"/>
                  </a:lnTo>
                  <a:lnTo>
                    <a:pt x="0" y="87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881920" y="3692160"/>
              <a:ext cx="91800" cy="233640"/>
            </a:xfrm>
            <a:custGeom>
              <a:avLst/>
              <a:gdLst/>
              <a:ahLst/>
              <a:rect l="l" t="t" r="r" b="b"/>
              <a:pathLst>
                <a:path w="344" h="873">
                  <a:moveTo>
                    <a:pt x="344" y="0"/>
                  </a:moveTo>
                  <a:lnTo>
                    <a:pt x="282" y="281"/>
                  </a:lnTo>
                  <a:lnTo>
                    <a:pt x="220" y="448"/>
                  </a:lnTo>
                  <a:lnTo>
                    <a:pt x="158" y="600"/>
                  </a:lnTo>
                  <a:lnTo>
                    <a:pt x="76" y="729"/>
                  </a:lnTo>
                  <a:lnTo>
                    <a:pt x="0" y="87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42000" y="3506400"/>
              <a:ext cx="408960" cy="572760"/>
            </a:xfrm>
            <a:custGeom>
              <a:avLst/>
              <a:gdLst/>
              <a:ahLst/>
              <a:rect l="l" t="t" r="r" b="b"/>
              <a:pathLst>
                <a:path w="1520" h="2135">
                  <a:moveTo>
                    <a:pt x="1520" y="696"/>
                  </a:moveTo>
                  <a:lnTo>
                    <a:pt x="1458" y="791"/>
                  </a:lnTo>
                  <a:lnTo>
                    <a:pt x="1365" y="560"/>
                  </a:lnTo>
                  <a:lnTo>
                    <a:pt x="1309" y="442"/>
                  </a:lnTo>
                  <a:lnTo>
                    <a:pt x="1215" y="267"/>
                  </a:lnTo>
                  <a:lnTo>
                    <a:pt x="1091" y="87"/>
                  </a:lnTo>
                  <a:lnTo>
                    <a:pt x="1027" y="0"/>
                  </a:lnTo>
                  <a:lnTo>
                    <a:pt x="965" y="81"/>
                  </a:lnTo>
                  <a:lnTo>
                    <a:pt x="861" y="174"/>
                  </a:lnTo>
                  <a:lnTo>
                    <a:pt x="717" y="293"/>
                  </a:lnTo>
                  <a:lnTo>
                    <a:pt x="579" y="366"/>
                  </a:lnTo>
                  <a:lnTo>
                    <a:pt x="529" y="403"/>
                  </a:lnTo>
                  <a:lnTo>
                    <a:pt x="574" y="510"/>
                  </a:lnTo>
                  <a:lnTo>
                    <a:pt x="655" y="696"/>
                  </a:lnTo>
                  <a:lnTo>
                    <a:pt x="779" y="983"/>
                  </a:lnTo>
                  <a:lnTo>
                    <a:pt x="855" y="1245"/>
                  </a:lnTo>
                  <a:lnTo>
                    <a:pt x="872" y="1295"/>
                  </a:lnTo>
                  <a:lnTo>
                    <a:pt x="779" y="1346"/>
                  </a:lnTo>
                  <a:lnTo>
                    <a:pt x="624" y="1408"/>
                  </a:lnTo>
                  <a:lnTo>
                    <a:pt x="387" y="1501"/>
                  </a:lnTo>
                  <a:lnTo>
                    <a:pt x="157" y="1594"/>
                  </a:lnTo>
                  <a:lnTo>
                    <a:pt x="0" y="1625"/>
                  </a:lnTo>
                  <a:lnTo>
                    <a:pt x="31" y="1844"/>
                  </a:lnTo>
                  <a:lnTo>
                    <a:pt x="62" y="2061"/>
                  </a:lnTo>
                  <a:lnTo>
                    <a:pt x="62" y="2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42000" y="3506400"/>
              <a:ext cx="408960" cy="572760"/>
            </a:xfrm>
            <a:custGeom>
              <a:avLst/>
              <a:gdLst/>
              <a:ahLst/>
              <a:rect l="l" t="t" r="r" b="b"/>
              <a:pathLst>
                <a:path w="1520" h="2135">
                  <a:moveTo>
                    <a:pt x="1520" y="696"/>
                  </a:moveTo>
                  <a:lnTo>
                    <a:pt x="1458" y="791"/>
                  </a:lnTo>
                  <a:lnTo>
                    <a:pt x="1365" y="560"/>
                  </a:lnTo>
                  <a:lnTo>
                    <a:pt x="1309" y="442"/>
                  </a:lnTo>
                  <a:lnTo>
                    <a:pt x="1215" y="267"/>
                  </a:lnTo>
                  <a:lnTo>
                    <a:pt x="1091" y="87"/>
                  </a:lnTo>
                  <a:lnTo>
                    <a:pt x="1027" y="0"/>
                  </a:lnTo>
                  <a:lnTo>
                    <a:pt x="965" y="81"/>
                  </a:lnTo>
                  <a:lnTo>
                    <a:pt x="861" y="174"/>
                  </a:lnTo>
                  <a:lnTo>
                    <a:pt x="717" y="293"/>
                  </a:lnTo>
                  <a:lnTo>
                    <a:pt x="579" y="366"/>
                  </a:lnTo>
                  <a:lnTo>
                    <a:pt x="529" y="403"/>
                  </a:lnTo>
                  <a:lnTo>
                    <a:pt x="574" y="510"/>
                  </a:lnTo>
                  <a:lnTo>
                    <a:pt x="655" y="696"/>
                  </a:lnTo>
                  <a:lnTo>
                    <a:pt x="779" y="983"/>
                  </a:lnTo>
                  <a:lnTo>
                    <a:pt x="855" y="1245"/>
                  </a:lnTo>
                  <a:lnTo>
                    <a:pt x="872" y="1295"/>
                  </a:lnTo>
                  <a:lnTo>
                    <a:pt x="779" y="1346"/>
                  </a:lnTo>
                  <a:lnTo>
                    <a:pt x="624" y="1408"/>
                  </a:lnTo>
                  <a:lnTo>
                    <a:pt x="387" y="1501"/>
                  </a:lnTo>
                  <a:lnTo>
                    <a:pt x="157" y="1594"/>
                  </a:lnTo>
                  <a:lnTo>
                    <a:pt x="0" y="1625"/>
                  </a:lnTo>
                  <a:lnTo>
                    <a:pt x="31" y="1844"/>
                  </a:lnTo>
                  <a:lnTo>
                    <a:pt x="62" y="2061"/>
                  </a:lnTo>
                  <a:lnTo>
                    <a:pt x="62" y="2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26800" y="3117240"/>
              <a:ext cx="257760" cy="100080"/>
            </a:xfrm>
            <a:custGeom>
              <a:avLst/>
              <a:gdLst/>
              <a:ahLst/>
              <a:rect l="l" t="t" r="r" b="b"/>
              <a:pathLst>
                <a:path w="958" h="374">
                  <a:moveTo>
                    <a:pt x="0" y="0"/>
                  </a:moveTo>
                  <a:lnTo>
                    <a:pt x="287" y="93"/>
                  </a:lnTo>
                  <a:lnTo>
                    <a:pt x="617" y="206"/>
                  </a:lnTo>
                  <a:lnTo>
                    <a:pt x="878" y="337"/>
                  </a:lnTo>
                  <a:lnTo>
                    <a:pt x="946" y="374"/>
                  </a:lnTo>
                  <a:lnTo>
                    <a:pt x="958" y="2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26800" y="3117240"/>
              <a:ext cx="257760" cy="100080"/>
            </a:xfrm>
            <a:custGeom>
              <a:avLst/>
              <a:gdLst/>
              <a:ahLst/>
              <a:rect l="l" t="t" r="r" b="b"/>
              <a:pathLst>
                <a:path w="958" h="374">
                  <a:moveTo>
                    <a:pt x="0" y="0"/>
                  </a:moveTo>
                  <a:lnTo>
                    <a:pt x="287" y="93"/>
                  </a:lnTo>
                  <a:lnTo>
                    <a:pt x="617" y="206"/>
                  </a:lnTo>
                  <a:lnTo>
                    <a:pt x="878" y="337"/>
                  </a:lnTo>
                  <a:lnTo>
                    <a:pt x="946" y="374"/>
                  </a:lnTo>
                  <a:lnTo>
                    <a:pt x="958" y="2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5480" y="3197520"/>
              <a:ext cx="396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5480" y="3197520"/>
              <a:ext cx="396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63080" y="3239280"/>
              <a:ext cx="65160" cy="191880"/>
            </a:xfrm>
            <a:custGeom>
              <a:avLst/>
              <a:gdLst/>
              <a:ahLst/>
              <a:rect l="l" t="t" r="r" b="b"/>
              <a:pathLst>
                <a:path w="243" h="715">
                  <a:moveTo>
                    <a:pt x="99" y="715"/>
                  </a:moveTo>
                  <a:lnTo>
                    <a:pt x="243" y="690"/>
                  </a:lnTo>
                  <a:lnTo>
                    <a:pt x="175" y="492"/>
                  </a:lnTo>
                  <a:lnTo>
                    <a:pt x="124" y="355"/>
                  </a:lnTo>
                  <a:lnTo>
                    <a:pt x="74" y="20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63080" y="3239280"/>
              <a:ext cx="65160" cy="191880"/>
            </a:xfrm>
            <a:custGeom>
              <a:avLst/>
              <a:gdLst/>
              <a:ahLst/>
              <a:rect l="l" t="t" r="r" b="b"/>
              <a:pathLst>
                <a:path w="243" h="715">
                  <a:moveTo>
                    <a:pt x="99" y="715"/>
                  </a:moveTo>
                  <a:lnTo>
                    <a:pt x="243" y="690"/>
                  </a:lnTo>
                  <a:lnTo>
                    <a:pt x="175" y="492"/>
                  </a:lnTo>
                  <a:lnTo>
                    <a:pt x="124" y="355"/>
                  </a:lnTo>
                  <a:lnTo>
                    <a:pt x="74" y="20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08520" y="3309840"/>
              <a:ext cx="335880" cy="196560"/>
            </a:xfrm>
            <a:custGeom>
              <a:avLst/>
              <a:gdLst/>
              <a:ahLst/>
              <a:rect l="l" t="t" r="r" b="b"/>
              <a:pathLst>
                <a:path w="1247" h="735">
                  <a:moveTo>
                    <a:pt x="1247" y="609"/>
                  </a:moveTo>
                  <a:lnTo>
                    <a:pt x="1152" y="735"/>
                  </a:lnTo>
                  <a:lnTo>
                    <a:pt x="1059" y="597"/>
                  </a:lnTo>
                  <a:lnTo>
                    <a:pt x="949" y="461"/>
                  </a:lnTo>
                  <a:lnTo>
                    <a:pt x="823" y="324"/>
                  </a:lnTo>
                  <a:lnTo>
                    <a:pt x="623" y="130"/>
                  </a:lnTo>
                  <a:lnTo>
                    <a:pt x="468" y="0"/>
                  </a:lnTo>
                  <a:lnTo>
                    <a:pt x="386" y="87"/>
                  </a:lnTo>
                  <a:lnTo>
                    <a:pt x="251" y="186"/>
                  </a:lnTo>
                  <a:lnTo>
                    <a:pt x="156" y="254"/>
                  </a:lnTo>
                  <a:lnTo>
                    <a:pt x="0" y="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08520" y="3309840"/>
              <a:ext cx="335880" cy="196560"/>
            </a:xfrm>
            <a:custGeom>
              <a:avLst/>
              <a:gdLst/>
              <a:ahLst/>
              <a:rect l="l" t="t" r="r" b="b"/>
              <a:pathLst>
                <a:path w="1247" h="735">
                  <a:moveTo>
                    <a:pt x="1247" y="609"/>
                  </a:moveTo>
                  <a:lnTo>
                    <a:pt x="1152" y="735"/>
                  </a:lnTo>
                  <a:lnTo>
                    <a:pt x="1059" y="597"/>
                  </a:lnTo>
                  <a:lnTo>
                    <a:pt x="949" y="461"/>
                  </a:lnTo>
                  <a:lnTo>
                    <a:pt x="823" y="324"/>
                  </a:lnTo>
                  <a:lnTo>
                    <a:pt x="623" y="130"/>
                  </a:lnTo>
                  <a:lnTo>
                    <a:pt x="468" y="0"/>
                  </a:lnTo>
                  <a:lnTo>
                    <a:pt x="386" y="87"/>
                  </a:lnTo>
                  <a:lnTo>
                    <a:pt x="251" y="186"/>
                  </a:lnTo>
                  <a:lnTo>
                    <a:pt x="156" y="254"/>
                  </a:lnTo>
                  <a:lnTo>
                    <a:pt x="0" y="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8744760" y="3431520"/>
              <a:ext cx="244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8744760" y="3431520"/>
              <a:ext cx="244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46400" y="3117240"/>
              <a:ext cx="100080" cy="31320"/>
            </a:xfrm>
            <a:custGeom>
              <a:avLst/>
              <a:gdLst/>
              <a:ahLst/>
              <a:rect l="l" t="t" r="r" b="b"/>
              <a:pathLst>
                <a:path w="373" h="118">
                  <a:moveTo>
                    <a:pt x="0" y="0"/>
                  </a:moveTo>
                  <a:lnTo>
                    <a:pt x="93" y="31"/>
                  </a:lnTo>
                  <a:lnTo>
                    <a:pt x="206" y="62"/>
                  </a:lnTo>
                  <a:lnTo>
                    <a:pt x="285" y="93"/>
                  </a:lnTo>
                  <a:lnTo>
                    <a:pt x="373" y="1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546400" y="3117240"/>
              <a:ext cx="100080" cy="31320"/>
            </a:xfrm>
            <a:custGeom>
              <a:avLst/>
              <a:gdLst/>
              <a:ahLst/>
              <a:rect l="l" t="t" r="r" b="b"/>
              <a:pathLst>
                <a:path w="373" h="118">
                  <a:moveTo>
                    <a:pt x="0" y="0"/>
                  </a:moveTo>
                  <a:lnTo>
                    <a:pt x="93" y="31"/>
                  </a:lnTo>
                  <a:lnTo>
                    <a:pt x="206" y="62"/>
                  </a:lnTo>
                  <a:lnTo>
                    <a:pt x="285" y="93"/>
                  </a:lnTo>
                  <a:lnTo>
                    <a:pt x="373" y="1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575920" y="3114000"/>
              <a:ext cx="8640" cy="25200"/>
            </a:xfrm>
            <a:custGeom>
              <a:avLst/>
              <a:gdLst/>
              <a:ahLst/>
              <a:rect l="l" t="t" r="r" b="b"/>
              <a:pathLst>
                <a:path w="31" h="93">
                  <a:moveTo>
                    <a:pt x="31" y="93"/>
                  </a:moveTo>
                  <a:lnTo>
                    <a:pt x="19" y="4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575920" y="3114000"/>
              <a:ext cx="8640" cy="25200"/>
            </a:xfrm>
            <a:custGeom>
              <a:avLst/>
              <a:gdLst/>
              <a:ahLst/>
              <a:rect l="l" t="t" r="r" b="b"/>
              <a:pathLst>
                <a:path w="31" h="93">
                  <a:moveTo>
                    <a:pt x="31" y="93"/>
                  </a:moveTo>
                  <a:lnTo>
                    <a:pt x="19" y="4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01040" y="3217320"/>
              <a:ext cx="154080" cy="92160"/>
            </a:xfrm>
            <a:custGeom>
              <a:avLst/>
              <a:gdLst/>
              <a:ahLst/>
              <a:rect l="l" t="t" r="r" b="b"/>
              <a:pathLst>
                <a:path w="572" h="344">
                  <a:moveTo>
                    <a:pt x="572" y="161"/>
                  </a:moveTo>
                  <a:lnTo>
                    <a:pt x="448" y="88"/>
                  </a:lnTo>
                  <a:lnTo>
                    <a:pt x="298" y="0"/>
                  </a:lnTo>
                  <a:lnTo>
                    <a:pt x="267" y="82"/>
                  </a:lnTo>
                  <a:lnTo>
                    <a:pt x="230" y="187"/>
                  </a:lnTo>
                  <a:lnTo>
                    <a:pt x="186" y="268"/>
                  </a:lnTo>
                  <a:lnTo>
                    <a:pt x="124" y="344"/>
                  </a:lnTo>
                  <a:lnTo>
                    <a:pt x="62" y="293"/>
                  </a:lnTo>
                  <a:lnTo>
                    <a:pt x="0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501040" y="3217320"/>
              <a:ext cx="154080" cy="92160"/>
            </a:xfrm>
            <a:custGeom>
              <a:avLst/>
              <a:gdLst/>
              <a:ahLst/>
              <a:rect l="l" t="t" r="r" b="b"/>
              <a:pathLst>
                <a:path w="572" h="344">
                  <a:moveTo>
                    <a:pt x="572" y="161"/>
                  </a:moveTo>
                  <a:lnTo>
                    <a:pt x="448" y="88"/>
                  </a:lnTo>
                  <a:lnTo>
                    <a:pt x="298" y="0"/>
                  </a:lnTo>
                  <a:lnTo>
                    <a:pt x="267" y="82"/>
                  </a:lnTo>
                  <a:lnTo>
                    <a:pt x="230" y="187"/>
                  </a:lnTo>
                  <a:lnTo>
                    <a:pt x="186" y="268"/>
                  </a:lnTo>
                  <a:lnTo>
                    <a:pt x="124" y="344"/>
                  </a:lnTo>
                  <a:lnTo>
                    <a:pt x="62" y="293"/>
                  </a:lnTo>
                  <a:lnTo>
                    <a:pt x="0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88960" y="3283920"/>
              <a:ext cx="1800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88960" y="3283920"/>
              <a:ext cx="1800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802720" y="3269160"/>
              <a:ext cx="360" cy="36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802720" y="3269160"/>
              <a:ext cx="360" cy="36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98400" y="3305880"/>
              <a:ext cx="3960" cy="6840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18" y="0"/>
                  </a:moveTo>
                  <a:lnTo>
                    <a:pt x="18" y="95"/>
                  </a:lnTo>
                  <a:lnTo>
                    <a:pt x="6" y="194"/>
                  </a:lnTo>
                  <a:lnTo>
                    <a:pt x="0" y="2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98400" y="3305880"/>
              <a:ext cx="3960" cy="6840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18" y="0"/>
                  </a:moveTo>
                  <a:lnTo>
                    <a:pt x="18" y="95"/>
                  </a:lnTo>
                  <a:lnTo>
                    <a:pt x="6" y="194"/>
                  </a:lnTo>
                  <a:lnTo>
                    <a:pt x="0" y="2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8809560" y="3387960"/>
              <a:ext cx="18000" cy="26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8809560" y="3387960"/>
              <a:ext cx="18000" cy="26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12680" y="3197520"/>
              <a:ext cx="1476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12680" y="3197520"/>
              <a:ext cx="1476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046360" y="3267000"/>
              <a:ext cx="5040" cy="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046360" y="3267000"/>
              <a:ext cx="5040" cy="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29080" y="3289320"/>
              <a:ext cx="828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29080" y="3289320"/>
              <a:ext cx="828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54800" y="3967920"/>
              <a:ext cx="1260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54800" y="3967920"/>
              <a:ext cx="1260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55000" y="3002400"/>
              <a:ext cx="275040" cy="195120"/>
            </a:xfrm>
            <a:custGeom>
              <a:avLst/>
              <a:gdLst/>
              <a:ahLst/>
              <a:rect l="l" t="t" r="r" b="b"/>
              <a:pathLst>
                <a:path w="1023" h="730">
                  <a:moveTo>
                    <a:pt x="978" y="522"/>
                  </a:moveTo>
                  <a:lnTo>
                    <a:pt x="997" y="479"/>
                  </a:lnTo>
                  <a:lnTo>
                    <a:pt x="1011" y="429"/>
                  </a:lnTo>
                  <a:lnTo>
                    <a:pt x="1023" y="398"/>
                  </a:lnTo>
                  <a:lnTo>
                    <a:pt x="1023" y="344"/>
                  </a:lnTo>
                  <a:lnTo>
                    <a:pt x="1011" y="274"/>
                  </a:lnTo>
                  <a:lnTo>
                    <a:pt x="972" y="200"/>
                  </a:lnTo>
                  <a:lnTo>
                    <a:pt x="924" y="150"/>
                  </a:lnTo>
                  <a:lnTo>
                    <a:pt x="856" y="93"/>
                  </a:lnTo>
                  <a:lnTo>
                    <a:pt x="774" y="57"/>
                  </a:lnTo>
                  <a:lnTo>
                    <a:pt x="687" y="26"/>
                  </a:lnTo>
                  <a:lnTo>
                    <a:pt x="586" y="6"/>
                  </a:lnTo>
                  <a:lnTo>
                    <a:pt x="505" y="0"/>
                  </a:lnTo>
                  <a:lnTo>
                    <a:pt x="406" y="6"/>
                  </a:lnTo>
                  <a:lnTo>
                    <a:pt x="313" y="26"/>
                  </a:lnTo>
                  <a:lnTo>
                    <a:pt x="225" y="62"/>
                  </a:lnTo>
                  <a:lnTo>
                    <a:pt x="150" y="105"/>
                  </a:lnTo>
                  <a:lnTo>
                    <a:pt x="88" y="156"/>
                  </a:lnTo>
                  <a:lnTo>
                    <a:pt x="63" y="187"/>
                  </a:lnTo>
                  <a:lnTo>
                    <a:pt x="20" y="249"/>
                  </a:lnTo>
                  <a:lnTo>
                    <a:pt x="0" y="324"/>
                  </a:lnTo>
                  <a:lnTo>
                    <a:pt x="0" y="386"/>
                  </a:lnTo>
                  <a:lnTo>
                    <a:pt x="6" y="429"/>
                  </a:lnTo>
                  <a:lnTo>
                    <a:pt x="20" y="479"/>
                  </a:lnTo>
                  <a:lnTo>
                    <a:pt x="51" y="522"/>
                  </a:lnTo>
                  <a:lnTo>
                    <a:pt x="82" y="555"/>
                  </a:lnTo>
                  <a:lnTo>
                    <a:pt x="113" y="592"/>
                  </a:lnTo>
                  <a:lnTo>
                    <a:pt x="150" y="617"/>
                  </a:lnTo>
                  <a:lnTo>
                    <a:pt x="183" y="642"/>
                  </a:lnTo>
                  <a:lnTo>
                    <a:pt x="220" y="666"/>
                  </a:lnTo>
                  <a:lnTo>
                    <a:pt x="256" y="679"/>
                  </a:lnTo>
                  <a:lnTo>
                    <a:pt x="319" y="704"/>
                  </a:lnTo>
                  <a:lnTo>
                    <a:pt x="381" y="716"/>
                  </a:lnTo>
                  <a:lnTo>
                    <a:pt x="450" y="73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55000" y="3002400"/>
              <a:ext cx="275040" cy="195120"/>
            </a:xfrm>
            <a:custGeom>
              <a:avLst/>
              <a:gdLst/>
              <a:ahLst/>
              <a:rect l="l" t="t" r="r" b="b"/>
              <a:pathLst>
                <a:path w="1023" h="730">
                  <a:moveTo>
                    <a:pt x="978" y="522"/>
                  </a:moveTo>
                  <a:lnTo>
                    <a:pt x="997" y="479"/>
                  </a:lnTo>
                  <a:lnTo>
                    <a:pt x="1011" y="429"/>
                  </a:lnTo>
                  <a:lnTo>
                    <a:pt x="1023" y="398"/>
                  </a:lnTo>
                  <a:lnTo>
                    <a:pt x="1023" y="344"/>
                  </a:lnTo>
                  <a:lnTo>
                    <a:pt x="1011" y="274"/>
                  </a:lnTo>
                  <a:lnTo>
                    <a:pt x="972" y="200"/>
                  </a:lnTo>
                  <a:lnTo>
                    <a:pt x="924" y="150"/>
                  </a:lnTo>
                  <a:lnTo>
                    <a:pt x="856" y="93"/>
                  </a:lnTo>
                  <a:lnTo>
                    <a:pt x="774" y="57"/>
                  </a:lnTo>
                  <a:lnTo>
                    <a:pt x="687" y="26"/>
                  </a:lnTo>
                  <a:lnTo>
                    <a:pt x="586" y="6"/>
                  </a:lnTo>
                  <a:lnTo>
                    <a:pt x="505" y="0"/>
                  </a:lnTo>
                  <a:lnTo>
                    <a:pt x="406" y="6"/>
                  </a:lnTo>
                  <a:lnTo>
                    <a:pt x="313" y="26"/>
                  </a:lnTo>
                  <a:lnTo>
                    <a:pt x="225" y="62"/>
                  </a:lnTo>
                  <a:lnTo>
                    <a:pt x="150" y="105"/>
                  </a:lnTo>
                  <a:lnTo>
                    <a:pt x="88" y="156"/>
                  </a:lnTo>
                  <a:lnTo>
                    <a:pt x="63" y="187"/>
                  </a:lnTo>
                  <a:lnTo>
                    <a:pt x="20" y="249"/>
                  </a:lnTo>
                  <a:lnTo>
                    <a:pt x="0" y="324"/>
                  </a:lnTo>
                  <a:lnTo>
                    <a:pt x="0" y="386"/>
                  </a:lnTo>
                  <a:lnTo>
                    <a:pt x="6" y="429"/>
                  </a:lnTo>
                  <a:lnTo>
                    <a:pt x="20" y="479"/>
                  </a:lnTo>
                  <a:lnTo>
                    <a:pt x="51" y="522"/>
                  </a:lnTo>
                  <a:lnTo>
                    <a:pt x="82" y="555"/>
                  </a:lnTo>
                  <a:lnTo>
                    <a:pt x="113" y="592"/>
                  </a:lnTo>
                  <a:lnTo>
                    <a:pt x="150" y="617"/>
                  </a:lnTo>
                  <a:lnTo>
                    <a:pt x="183" y="642"/>
                  </a:lnTo>
                  <a:lnTo>
                    <a:pt x="220" y="666"/>
                  </a:lnTo>
                  <a:lnTo>
                    <a:pt x="256" y="679"/>
                  </a:lnTo>
                  <a:lnTo>
                    <a:pt x="319" y="704"/>
                  </a:lnTo>
                  <a:lnTo>
                    <a:pt x="381" y="716"/>
                  </a:lnTo>
                  <a:lnTo>
                    <a:pt x="450" y="73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8798400" y="3230640"/>
              <a:ext cx="72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8798400" y="3230640"/>
              <a:ext cx="72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8164800" y="4192920"/>
              <a:ext cx="1800" cy="38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8164800" y="4192920"/>
              <a:ext cx="1800" cy="38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50160" y="2930400"/>
              <a:ext cx="80640" cy="3240"/>
            </a:xfrm>
            <a:custGeom>
              <a:avLst/>
              <a:gdLst/>
              <a:ahLst/>
              <a:rect l="l" t="t" r="r" b="b"/>
              <a:pathLst>
                <a:path w="301" h="11">
                  <a:moveTo>
                    <a:pt x="0" y="11"/>
                  </a:moveTo>
                  <a:lnTo>
                    <a:pt x="169" y="0"/>
                  </a:lnTo>
                  <a:lnTo>
                    <a:pt x="30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50160" y="2930400"/>
              <a:ext cx="80640" cy="3240"/>
            </a:xfrm>
            <a:custGeom>
              <a:avLst/>
              <a:gdLst/>
              <a:ahLst/>
              <a:rect l="l" t="t" r="r" b="b"/>
              <a:pathLst>
                <a:path w="301" h="11">
                  <a:moveTo>
                    <a:pt x="0" y="11"/>
                  </a:moveTo>
                  <a:lnTo>
                    <a:pt x="169" y="0"/>
                  </a:lnTo>
                  <a:lnTo>
                    <a:pt x="30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07600" y="4225320"/>
              <a:ext cx="1692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07600" y="4225320"/>
              <a:ext cx="1692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05560" y="3737160"/>
              <a:ext cx="93960" cy="163440"/>
            </a:xfrm>
            <a:custGeom>
              <a:avLst/>
              <a:gdLst/>
              <a:ahLst/>
              <a:rect l="l" t="t" r="r" b="b"/>
              <a:pathLst>
                <a:path w="349" h="611">
                  <a:moveTo>
                    <a:pt x="0" y="0"/>
                  </a:moveTo>
                  <a:lnTo>
                    <a:pt x="44" y="93"/>
                  </a:lnTo>
                  <a:lnTo>
                    <a:pt x="93" y="200"/>
                  </a:lnTo>
                  <a:lnTo>
                    <a:pt x="138" y="299"/>
                  </a:lnTo>
                  <a:lnTo>
                    <a:pt x="200" y="386"/>
                  </a:lnTo>
                  <a:lnTo>
                    <a:pt x="262" y="487"/>
                  </a:lnTo>
                  <a:lnTo>
                    <a:pt x="318" y="560"/>
                  </a:lnTo>
                  <a:lnTo>
                    <a:pt x="349" y="6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05560" y="3737160"/>
              <a:ext cx="93960" cy="163440"/>
            </a:xfrm>
            <a:custGeom>
              <a:avLst/>
              <a:gdLst/>
              <a:ahLst/>
              <a:rect l="l" t="t" r="r" b="b"/>
              <a:pathLst>
                <a:path w="349" h="611">
                  <a:moveTo>
                    <a:pt x="0" y="0"/>
                  </a:moveTo>
                  <a:lnTo>
                    <a:pt x="44" y="93"/>
                  </a:lnTo>
                  <a:lnTo>
                    <a:pt x="93" y="200"/>
                  </a:lnTo>
                  <a:lnTo>
                    <a:pt x="138" y="299"/>
                  </a:lnTo>
                  <a:lnTo>
                    <a:pt x="200" y="386"/>
                  </a:lnTo>
                  <a:lnTo>
                    <a:pt x="262" y="487"/>
                  </a:lnTo>
                  <a:lnTo>
                    <a:pt x="318" y="560"/>
                  </a:lnTo>
                  <a:lnTo>
                    <a:pt x="349" y="6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836840" y="3017520"/>
              <a:ext cx="18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836840" y="3017520"/>
              <a:ext cx="18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69520" y="2860560"/>
              <a:ext cx="1049760" cy="594000"/>
            </a:xfrm>
            <a:custGeom>
              <a:avLst/>
              <a:gdLst/>
              <a:ahLst/>
              <a:rect l="l" t="t" r="r" b="b"/>
              <a:pathLst>
                <a:path w="3900" h="2217">
                  <a:moveTo>
                    <a:pt x="354" y="254"/>
                  </a:moveTo>
                  <a:lnTo>
                    <a:pt x="411" y="254"/>
                  </a:lnTo>
                  <a:lnTo>
                    <a:pt x="475" y="231"/>
                  </a:lnTo>
                  <a:lnTo>
                    <a:pt x="512" y="262"/>
                  </a:lnTo>
                  <a:lnTo>
                    <a:pt x="591" y="211"/>
                  </a:lnTo>
                  <a:lnTo>
                    <a:pt x="599" y="279"/>
                  </a:lnTo>
                  <a:lnTo>
                    <a:pt x="566" y="293"/>
                  </a:lnTo>
                  <a:lnTo>
                    <a:pt x="529" y="366"/>
                  </a:lnTo>
                  <a:lnTo>
                    <a:pt x="362" y="473"/>
                  </a:lnTo>
                  <a:lnTo>
                    <a:pt x="405" y="541"/>
                  </a:lnTo>
                  <a:lnTo>
                    <a:pt x="393" y="572"/>
                  </a:lnTo>
                  <a:lnTo>
                    <a:pt x="337" y="572"/>
                  </a:lnTo>
                  <a:lnTo>
                    <a:pt x="318" y="591"/>
                  </a:lnTo>
                  <a:lnTo>
                    <a:pt x="354" y="654"/>
                  </a:lnTo>
                  <a:lnTo>
                    <a:pt x="312" y="654"/>
                  </a:lnTo>
                  <a:lnTo>
                    <a:pt x="250" y="617"/>
                  </a:lnTo>
                  <a:lnTo>
                    <a:pt x="236" y="572"/>
                  </a:lnTo>
                  <a:lnTo>
                    <a:pt x="188" y="555"/>
                  </a:lnTo>
                  <a:lnTo>
                    <a:pt x="157" y="572"/>
                  </a:lnTo>
                  <a:lnTo>
                    <a:pt x="0" y="572"/>
                  </a:lnTo>
                  <a:lnTo>
                    <a:pt x="93" y="622"/>
                  </a:lnTo>
                  <a:lnTo>
                    <a:pt x="157" y="634"/>
                  </a:lnTo>
                  <a:lnTo>
                    <a:pt x="225" y="622"/>
                  </a:lnTo>
                  <a:lnTo>
                    <a:pt x="275" y="634"/>
                  </a:lnTo>
                  <a:lnTo>
                    <a:pt x="267" y="679"/>
                  </a:lnTo>
                  <a:lnTo>
                    <a:pt x="230" y="685"/>
                  </a:lnTo>
                  <a:lnTo>
                    <a:pt x="205" y="760"/>
                  </a:lnTo>
                  <a:lnTo>
                    <a:pt x="230" y="809"/>
                  </a:lnTo>
                  <a:lnTo>
                    <a:pt x="230" y="873"/>
                  </a:lnTo>
                  <a:lnTo>
                    <a:pt x="244" y="873"/>
                  </a:lnTo>
                  <a:lnTo>
                    <a:pt x="337" y="840"/>
                  </a:lnTo>
                  <a:lnTo>
                    <a:pt x="362" y="896"/>
                  </a:lnTo>
                  <a:lnTo>
                    <a:pt x="292" y="989"/>
                  </a:lnTo>
                  <a:lnTo>
                    <a:pt x="300" y="1008"/>
                  </a:lnTo>
                  <a:lnTo>
                    <a:pt x="343" y="1008"/>
                  </a:lnTo>
                  <a:lnTo>
                    <a:pt x="492" y="853"/>
                  </a:lnTo>
                  <a:lnTo>
                    <a:pt x="591" y="741"/>
                  </a:lnTo>
                  <a:lnTo>
                    <a:pt x="605" y="685"/>
                  </a:lnTo>
                  <a:lnTo>
                    <a:pt x="673" y="617"/>
                  </a:lnTo>
                  <a:lnTo>
                    <a:pt x="748" y="617"/>
                  </a:lnTo>
                  <a:lnTo>
                    <a:pt x="841" y="524"/>
                  </a:lnTo>
                  <a:lnTo>
                    <a:pt x="1027" y="473"/>
                  </a:lnTo>
                  <a:lnTo>
                    <a:pt x="1010" y="411"/>
                  </a:lnTo>
                  <a:lnTo>
                    <a:pt x="1027" y="386"/>
                  </a:lnTo>
                  <a:lnTo>
                    <a:pt x="1190" y="386"/>
                  </a:lnTo>
                  <a:lnTo>
                    <a:pt x="1233" y="380"/>
                  </a:lnTo>
                  <a:lnTo>
                    <a:pt x="1283" y="355"/>
                  </a:lnTo>
                  <a:lnTo>
                    <a:pt x="1470" y="355"/>
                  </a:lnTo>
                  <a:lnTo>
                    <a:pt x="1427" y="417"/>
                  </a:lnTo>
                  <a:lnTo>
                    <a:pt x="1439" y="448"/>
                  </a:lnTo>
                  <a:lnTo>
                    <a:pt x="1483" y="442"/>
                  </a:lnTo>
                  <a:lnTo>
                    <a:pt x="1545" y="442"/>
                  </a:lnTo>
                  <a:lnTo>
                    <a:pt x="1570" y="429"/>
                  </a:lnTo>
                  <a:lnTo>
                    <a:pt x="1726" y="417"/>
                  </a:lnTo>
                  <a:lnTo>
                    <a:pt x="1788" y="386"/>
                  </a:lnTo>
                  <a:lnTo>
                    <a:pt x="1869" y="386"/>
                  </a:lnTo>
                  <a:lnTo>
                    <a:pt x="1945" y="397"/>
                  </a:lnTo>
                  <a:lnTo>
                    <a:pt x="2024" y="442"/>
                  </a:lnTo>
                  <a:lnTo>
                    <a:pt x="2112" y="411"/>
                  </a:lnTo>
                  <a:lnTo>
                    <a:pt x="2131" y="380"/>
                  </a:lnTo>
                  <a:lnTo>
                    <a:pt x="2174" y="355"/>
                  </a:lnTo>
                  <a:lnTo>
                    <a:pt x="2199" y="411"/>
                  </a:lnTo>
                  <a:lnTo>
                    <a:pt x="2238" y="436"/>
                  </a:lnTo>
                  <a:lnTo>
                    <a:pt x="2286" y="442"/>
                  </a:lnTo>
                  <a:lnTo>
                    <a:pt x="2393" y="524"/>
                  </a:lnTo>
                  <a:lnTo>
                    <a:pt x="2486" y="555"/>
                  </a:lnTo>
                  <a:lnTo>
                    <a:pt x="2486" y="586"/>
                  </a:lnTo>
                  <a:lnTo>
                    <a:pt x="2498" y="591"/>
                  </a:lnTo>
                  <a:lnTo>
                    <a:pt x="2560" y="591"/>
                  </a:lnTo>
                  <a:lnTo>
                    <a:pt x="2593" y="603"/>
                  </a:lnTo>
                  <a:lnTo>
                    <a:pt x="2624" y="603"/>
                  </a:lnTo>
                  <a:lnTo>
                    <a:pt x="2641" y="634"/>
                  </a:lnTo>
                  <a:lnTo>
                    <a:pt x="2697" y="634"/>
                  </a:lnTo>
                  <a:lnTo>
                    <a:pt x="2717" y="679"/>
                  </a:lnTo>
                  <a:lnTo>
                    <a:pt x="2748" y="665"/>
                  </a:lnTo>
                  <a:lnTo>
                    <a:pt x="2767" y="710"/>
                  </a:lnTo>
                  <a:lnTo>
                    <a:pt x="2748" y="729"/>
                  </a:lnTo>
                  <a:lnTo>
                    <a:pt x="2655" y="772"/>
                  </a:lnTo>
                  <a:lnTo>
                    <a:pt x="2635" y="760"/>
                  </a:lnTo>
                  <a:lnTo>
                    <a:pt x="2624" y="665"/>
                  </a:lnTo>
                  <a:lnTo>
                    <a:pt x="2560" y="634"/>
                  </a:lnTo>
                  <a:lnTo>
                    <a:pt x="2542" y="648"/>
                  </a:lnTo>
                  <a:lnTo>
                    <a:pt x="2560" y="716"/>
                  </a:lnTo>
                  <a:lnTo>
                    <a:pt x="2529" y="803"/>
                  </a:lnTo>
                  <a:lnTo>
                    <a:pt x="2593" y="884"/>
                  </a:lnTo>
                  <a:lnTo>
                    <a:pt x="2860" y="1051"/>
                  </a:lnTo>
                  <a:lnTo>
                    <a:pt x="2965" y="1214"/>
                  </a:lnTo>
                  <a:lnTo>
                    <a:pt x="3122" y="1264"/>
                  </a:lnTo>
                  <a:lnTo>
                    <a:pt x="3103" y="1164"/>
                  </a:lnTo>
                  <a:lnTo>
                    <a:pt x="3246" y="1195"/>
                  </a:lnTo>
                  <a:lnTo>
                    <a:pt x="3258" y="1177"/>
                  </a:lnTo>
                  <a:lnTo>
                    <a:pt x="3058" y="1051"/>
                  </a:lnTo>
                  <a:lnTo>
                    <a:pt x="3015" y="1039"/>
                  </a:lnTo>
                  <a:lnTo>
                    <a:pt x="2996" y="1039"/>
                  </a:lnTo>
                  <a:lnTo>
                    <a:pt x="2885" y="958"/>
                  </a:lnTo>
                  <a:lnTo>
                    <a:pt x="2779" y="904"/>
                  </a:lnTo>
                  <a:lnTo>
                    <a:pt x="2779" y="873"/>
                  </a:lnTo>
                  <a:lnTo>
                    <a:pt x="2798" y="853"/>
                  </a:lnTo>
                  <a:lnTo>
                    <a:pt x="2829" y="853"/>
                  </a:lnTo>
                  <a:lnTo>
                    <a:pt x="2872" y="884"/>
                  </a:lnTo>
                  <a:lnTo>
                    <a:pt x="2903" y="927"/>
                  </a:lnTo>
                  <a:lnTo>
                    <a:pt x="2953" y="946"/>
                  </a:lnTo>
                  <a:lnTo>
                    <a:pt x="2996" y="946"/>
                  </a:lnTo>
                  <a:lnTo>
                    <a:pt x="2996" y="904"/>
                  </a:lnTo>
                  <a:lnTo>
                    <a:pt x="2965" y="884"/>
                  </a:lnTo>
                  <a:lnTo>
                    <a:pt x="2965" y="853"/>
                  </a:lnTo>
                  <a:lnTo>
                    <a:pt x="2996" y="840"/>
                  </a:lnTo>
                  <a:lnTo>
                    <a:pt x="3041" y="853"/>
                  </a:lnTo>
                  <a:lnTo>
                    <a:pt x="3046" y="915"/>
                  </a:lnTo>
                  <a:lnTo>
                    <a:pt x="3091" y="935"/>
                  </a:lnTo>
                  <a:lnTo>
                    <a:pt x="3153" y="935"/>
                  </a:lnTo>
                  <a:lnTo>
                    <a:pt x="3184" y="958"/>
                  </a:lnTo>
                  <a:lnTo>
                    <a:pt x="3165" y="977"/>
                  </a:lnTo>
                  <a:lnTo>
                    <a:pt x="3246" y="1076"/>
                  </a:lnTo>
                  <a:lnTo>
                    <a:pt x="3265" y="1076"/>
                  </a:lnTo>
                  <a:lnTo>
                    <a:pt x="3277" y="1102"/>
                  </a:lnTo>
                  <a:lnTo>
                    <a:pt x="3277" y="1133"/>
                  </a:lnTo>
                  <a:lnTo>
                    <a:pt x="3322" y="1259"/>
                  </a:lnTo>
                  <a:lnTo>
                    <a:pt x="3308" y="1270"/>
                  </a:lnTo>
                  <a:lnTo>
                    <a:pt x="3277" y="1270"/>
                  </a:lnTo>
                  <a:lnTo>
                    <a:pt x="3196" y="1233"/>
                  </a:lnTo>
                  <a:lnTo>
                    <a:pt x="3196" y="1264"/>
                  </a:lnTo>
                  <a:lnTo>
                    <a:pt x="3258" y="1307"/>
                  </a:lnTo>
                  <a:lnTo>
                    <a:pt x="3353" y="1321"/>
                  </a:lnTo>
                  <a:lnTo>
                    <a:pt x="3353" y="1414"/>
                  </a:lnTo>
                  <a:lnTo>
                    <a:pt x="3421" y="1451"/>
                  </a:lnTo>
                  <a:lnTo>
                    <a:pt x="3421" y="1513"/>
                  </a:lnTo>
                  <a:lnTo>
                    <a:pt x="3483" y="1569"/>
                  </a:lnTo>
                  <a:lnTo>
                    <a:pt x="3483" y="1650"/>
                  </a:lnTo>
                  <a:lnTo>
                    <a:pt x="3508" y="1687"/>
                  </a:lnTo>
                  <a:lnTo>
                    <a:pt x="3483" y="1718"/>
                  </a:lnTo>
                  <a:lnTo>
                    <a:pt x="3483" y="1749"/>
                  </a:lnTo>
                  <a:lnTo>
                    <a:pt x="3508" y="1763"/>
                  </a:lnTo>
                  <a:lnTo>
                    <a:pt x="3539" y="1744"/>
                  </a:lnTo>
                  <a:lnTo>
                    <a:pt x="3669" y="1800"/>
                  </a:lnTo>
                  <a:lnTo>
                    <a:pt x="3694" y="1887"/>
                  </a:lnTo>
                  <a:lnTo>
                    <a:pt x="3620" y="1994"/>
                  </a:lnTo>
                  <a:lnTo>
                    <a:pt x="3620" y="2025"/>
                  </a:lnTo>
                  <a:lnTo>
                    <a:pt x="3682" y="2067"/>
                  </a:lnTo>
                  <a:lnTo>
                    <a:pt x="3713" y="2129"/>
                  </a:lnTo>
                  <a:lnTo>
                    <a:pt x="3789" y="2217"/>
                  </a:lnTo>
                  <a:lnTo>
                    <a:pt x="3851" y="2192"/>
                  </a:lnTo>
                  <a:lnTo>
                    <a:pt x="3851" y="2137"/>
                  </a:lnTo>
                  <a:lnTo>
                    <a:pt x="3869" y="2087"/>
                  </a:lnTo>
                  <a:lnTo>
                    <a:pt x="3851" y="2017"/>
                  </a:lnTo>
                  <a:lnTo>
                    <a:pt x="3863" y="1969"/>
                  </a:lnTo>
                  <a:lnTo>
                    <a:pt x="3820" y="1918"/>
                  </a:lnTo>
                  <a:lnTo>
                    <a:pt x="3789" y="1881"/>
                  </a:lnTo>
                  <a:lnTo>
                    <a:pt x="3776" y="1800"/>
                  </a:lnTo>
                  <a:lnTo>
                    <a:pt x="3733" y="1757"/>
                  </a:lnTo>
                  <a:lnTo>
                    <a:pt x="3764" y="1670"/>
                  </a:lnTo>
                  <a:lnTo>
                    <a:pt x="3725" y="1600"/>
                  </a:lnTo>
                  <a:lnTo>
                    <a:pt x="3725" y="1550"/>
                  </a:lnTo>
                  <a:lnTo>
                    <a:pt x="3820" y="1526"/>
                  </a:lnTo>
                  <a:lnTo>
                    <a:pt x="3838" y="1526"/>
                  </a:lnTo>
                  <a:lnTo>
                    <a:pt x="3869" y="1569"/>
                  </a:lnTo>
                  <a:lnTo>
                    <a:pt x="3869" y="1550"/>
                  </a:lnTo>
                  <a:lnTo>
                    <a:pt x="3838" y="1488"/>
                  </a:lnTo>
                  <a:lnTo>
                    <a:pt x="3820" y="1476"/>
                  </a:lnTo>
                  <a:lnTo>
                    <a:pt x="3826" y="1456"/>
                  </a:lnTo>
                  <a:lnTo>
                    <a:pt x="3795" y="1462"/>
                  </a:lnTo>
                  <a:lnTo>
                    <a:pt x="3789" y="1482"/>
                  </a:lnTo>
                  <a:lnTo>
                    <a:pt x="3700" y="1488"/>
                  </a:lnTo>
                  <a:lnTo>
                    <a:pt x="3669" y="1456"/>
                  </a:lnTo>
                  <a:lnTo>
                    <a:pt x="3682" y="1425"/>
                  </a:lnTo>
                  <a:lnTo>
                    <a:pt x="3745" y="1414"/>
                  </a:lnTo>
                  <a:lnTo>
                    <a:pt x="3776" y="1383"/>
                  </a:lnTo>
                  <a:lnTo>
                    <a:pt x="3820" y="1383"/>
                  </a:lnTo>
                  <a:lnTo>
                    <a:pt x="3826" y="1414"/>
                  </a:lnTo>
                  <a:lnTo>
                    <a:pt x="3851" y="1394"/>
                  </a:lnTo>
                  <a:lnTo>
                    <a:pt x="3900" y="1383"/>
                  </a:lnTo>
                  <a:lnTo>
                    <a:pt x="3869" y="1352"/>
                  </a:lnTo>
                  <a:lnTo>
                    <a:pt x="3807" y="1332"/>
                  </a:lnTo>
                  <a:lnTo>
                    <a:pt x="3789" y="1228"/>
                  </a:lnTo>
                  <a:lnTo>
                    <a:pt x="3820" y="1195"/>
                  </a:lnTo>
                  <a:lnTo>
                    <a:pt x="3820" y="1164"/>
                  </a:lnTo>
                  <a:lnTo>
                    <a:pt x="3764" y="1071"/>
                  </a:lnTo>
                  <a:lnTo>
                    <a:pt x="3789" y="1020"/>
                  </a:lnTo>
                  <a:lnTo>
                    <a:pt x="3694" y="915"/>
                  </a:lnTo>
                  <a:lnTo>
                    <a:pt x="3545" y="778"/>
                  </a:lnTo>
                  <a:lnTo>
                    <a:pt x="3384" y="634"/>
                  </a:lnTo>
                  <a:lnTo>
                    <a:pt x="3201" y="504"/>
                  </a:lnTo>
                  <a:lnTo>
                    <a:pt x="3058" y="417"/>
                  </a:lnTo>
                  <a:lnTo>
                    <a:pt x="2891" y="324"/>
                  </a:lnTo>
                  <a:lnTo>
                    <a:pt x="2703" y="231"/>
                  </a:lnTo>
                  <a:lnTo>
                    <a:pt x="2486" y="149"/>
                  </a:lnTo>
                  <a:lnTo>
                    <a:pt x="2255" y="87"/>
                  </a:lnTo>
                  <a:lnTo>
                    <a:pt x="1999" y="37"/>
                  </a:lnTo>
                  <a:lnTo>
                    <a:pt x="1757" y="6"/>
                  </a:lnTo>
                  <a:lnTo>
                    <a:pt x="1545" y="0"/>
                  </a:lnTo>
                  <a:lnTo>
                    <a:pt x="1314" y="6"/>
                  </a:lnTo>
                  <a:lnTo>
                    <a:pt x="1064" y="43"/>
                  </a:lnTo>
                  <a:lnTo>
                    <a:pt x="816" y="93"/>
                  </a:lnTo>
                  <a:lnTo>
                    <a:pt x="585" y="161"/>
                  </a:lnTo>
                  <a:lnTo>
                    <a:pt x="393" y="231"/>
                  </a:lnTo>
                  <a:lnTo>
                    <a:pt x="354" y="254"/>
                  </a:lnTo>
                  <a:lnTo>
                    <a:pt x="354" y="25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69520" y="2860560"/>
              <a:ext cx="1049760" cy="594000"/>
            </a:xfrm>
            <a:custGeom>
              <a:avLst/>
              <a:gdLst/>
              <a:ahLst/>
              <a:rect l="l" t="t" r="r" b="b"/>
              <a:pathLst>
                <a:path w="3900" h="2217">
                  <a:moveTo>
                    <a:pt x="354" y="254"/>
                  </a:moveTo>
                  <a:lnTo>
                    <a:pt x="411" y="254"/>
                  </a:lnTo>
                  <a:lnTo>
                    <a:pt x="475" y="231"/>
                  </a:lnTo>
                  <a:lnTo>
                    <a:pt x="512" y="262"/>
                  </a:lnTo>
                  <a:lnTo>
                    <a:pt x="591" y="211"/>
                  </a:lnTo>
                  <a:lnTo>
                    <a:pt x="599" y="279"/>
                  </a:lnTo>
                  <a:lnTo>
                    <a:pt x="566" y="293"/>
                  </a:lnTo>
                  <a:lnTo>
                    <a:pt x="529" y="366"/>
                  </a:lnTo>
                  <a:lnTo>
                    <a:pt x="362" y="473"/>
                  </a:lnTo>
                  <a:lnTo>
                    <a:pt x="405" y="541"/>
                  </a:lnTo>
                  <a:lnTo>
                    <a:pt x="393" y="572"/>
                  </a:lnTo>
                  <a:lnTo>
                    <a:pt x="337" y="572"/>
                  </a:lnTo>
                  <a:lnTo>
                    <a:pt x="318" y="591"/>
                  </a:lnTo>
                  <a:lnTo>
                    <a:pt x="354" y="654"/>
                  </a:lnTo>
                  <a:lnTo>
                    <a:pt x="312" y="654"/>
                  </a:lnTo>
                  <a:lnTo>
                    <a:pt x="250" y="617"/>
                  </a:lnTo>
                  <a:lnTo>
                    <a:pt x="236" y="572"/>
                  </a:lnTo>
                  <a:lnTo>
                    <a:pt x="188" y="555"/>
                  </a:lnTo>
                  <a:lnTo>
                    <a:pt x="157" y="572"/>
                  </a:lnTo>
                  <a:lnTo>
                    <a:pt x="0" y="572"/>
                  </a:lnTo>
                  <a:lnTo>
                    <a:pt x="93" y="622"/>
                  </a:lnTo>
                  <a:lnTo>
                    <a:pt x="157" y="634"/>
                  </a:lnTo>
                  <a:lnTo>
                    <a:pt x="225" y="622"/>
                  </a:lnTo>
                  <a:lnTo>
                    <a:pt x="275" y="634"/>
                  </a:lnTo>
                  <a:lnTo>
                    <a:pt x="267" y="679"/>
                  </a:lnTo>
                  <a:lnTo>
                    <a:pt x="230" y="685"/>
                  </a:lnTo>
                  <a:lnTo>
                    <a:pt x="205" y="760"/>
                  </a:lnTo>
                  <a:lnTo>
                    <a:pt x="230" y="809"/>
                  </a:lnTo>
                  <a:lnTo>
                    <a:pt x="230" y="873"/>
                  </a:lnTo>
                  <a:lnTo>
                    <a:pt x="244" y="873"/>
                  </a:lnTo>
                  <a:lnTo>
                    <a:pt x="337" y="840"/>
                  </a:lnTo>
                  <a:lnTo>
                    <a:pt x="362" y="896"/>
                  </a:lnTo>
                  <a:lnTo>
                    <a:pt x="292" y="989"/>
                  </a:lnTo>
                  <a:lnTo>
                    <a:pt x="300" y="1008"/>
                  </a:lnTo>
                  <a:lnTo>
                    <a:pt x="343" y="1008"/>
                  </a:lnTo>
                  <a:lnTo>
                    <a:pt x="492" y="853"/>
                  </a:lnTo>
                  <a:lnTo>
                    <a:pt x="591" y="741"/>
                  </a:lnTo>
                  <a:lnTo>
                    <a:pt x="605" y="685"/>
                  </a:lnTo>
                  <a:lnTo>
                    <a:pt x="673" y="617"/>
                  </a:lnTo>
                  <a:lnTo>
                    <a:pt x="748" y="617"/>
                  </a:lnTo>
                  <a:lnTo>
                    <a:pt x="841" y="524"/>
                  </a:lnTo>
                  <a:lnTo>
                    <a:pt x="1027" y="473"/>
                  </a:lnTo>
                  <a:lnTo>
                    <a:pt x="1010" y="411"/>
                  </a:lnTo>
                  <a:lnTo>
                    <a:pt x="1027" y="386"/>
                  </a:lnTo>
                  <a:lnTo>
                    <a:pt x="1190" y="386"/>
                  </a:lnTo>
                  <a:lnTo>
                    <a:pt x="1233" y="380"/>
                  </a:lnTo>
                  <a:lnTo>
                    <a:pt x="1283" y="355"/>
                  </a:lnTo>
                  <a:lnTo>
                    <a:pt x="1470" y="355"/>
                  </a:lnTo>
                  <a:lnTo>
                    <a:pt x="1427" y="417"/>
                  </a:lnTo>
                  <a:lnTo>
                    <a:pt x="1439" y="448"/>
                  </a:lnTo>
                  <a:lnTo>
                    <a:pt x="1483" y="442"/>
                  </a:lnTo>
                  <a:lnTo>
                    <a:pt x="1545" y="442"/>
                  </a:lnTo>
                  <a:lnTo>
                    <a:pt x="1570" y="429"/>
                  </a:lnTo>
                  <a:lnTo>
                    <a:pt x="1726" y="417"/>
                  </a:lnTo>
                  <a:lnTo>
                    <a:pt x="1788" y="386"/>
                  </a:lnTo>
                  <a:lnTo>
                    <a:pt x="1869" y="386"/>
                  </a:lnTo>
                  <a:lnTo>
                    <a:pt x="1945" y="397"/>
                  </a:lnTo>
                  <a:lnTo>
                    <a:pt x="2024" y="442"/>
                  </a:lnTo>
                  <a:lnTo>
                    <a:pt x="2112" y="411"/>
                  </a:lnTo>
                  <a:lnTo>
                    <a:pt x="2131" y="380"/>
                  </a:lnTo>
                  <a:lnTo>
                    <a:pt x="2174" y="355"/>
                  </a:lnTo>
                  <a:lnTo>
                    <a:pt x="2199" y="411"/>
                  </a:lnTo>
                  <a:lnTo>
                    <a:pt x="2238" y="436"/>
                  </a:lnTo>
                  <a:lnTo>
                    <a:pt x="2286" y="442"/>
                  </a:lnTo>
                  <a:lnTo>
                    <a:pt x="2393" y="524"/>
                  </a:lnTo>
                  <a:lnTo>
                    <a:pt x="2486" y="555"/>
                  </a:lnTo>
                  <a:lnTo>
                    <a:pt x="2486" y="586"/>
                  </a:lnTo>
                  <a:lnTo>
                    <a:pt x="2498" y="591"/>
                  </a:lnTo>
                  <a:lnTo>
                    <a:pt x="2560" y="591"/>
                  </a:lnTo>
                  <a:lnTo>
                    <a:pt x="2593" y="603"/>
                  </a:lnTo>
                  <a:lnTo>
                    <a:pt x="2624" y="603"/>
                  </a:lnTo>
                  <a:lnTo>
                    <a:pt x="2641" y="634"/>
                  </a:lnTo>
                  <a:lnTo>
                    <a:pt x="2697" y="634"/>
                  </a:lnTo>
                  <a:lnTo>
                    <a:pt x="2717" y="679"/>
                  </a:lnTo>
                  <a:lnTo>
                    <a:pt x="2748" y="665"/>
                  </a:lnTo>
                  <a:lnTo>
                    <a:pt x="2767" y="710"/>
                  </a:lnTo>
                  <a:lnTo>
                    <a:pt x="2748" y="729"/>
                  </a:lnTo>
                  <a:lnTo>
                    <a:pt x="2655" y="772"/>
                  </a:lnTo>
                  <a:lnTo>
                    <a:pt x="2635" y="760"/>
                  </a:lnTo>
                  <a:lnTo>
                    <a:pt x="2624" y="665"/>
                  </a:lnTo>
                  <a:lnTo>
                    <a:pt x="2560" y="634"/>
                  </a:lnTo>
                  <a:lnTo>
                    <a:pt x="2542" y="648"/>
                  </a:lnTo>
                  <a:lnTo>
                    <a:pt x="2560" y="716"/>
                  </a:lnTo>
                  <a:lnTo>
                    <a:pt x="2529" y="803"/>
                  </a:lnTo>
                  <a:lnTo>
                    <a:pt x="2593" y="884"/>
                  </a:lnTo>
                  <a:lnTo>
                    <a:pt x="2860" y="1051"/>
                  </a:lnTo>
                  <a:lnTo>
                    <a:pt x="2965" y="1214"/>
                  </a:lnTo>
                  <a:lnTo>
                    <a:pt x="3122" y="1264"/>
                  </a:lnTo>
                  <a:lnTo>
                    <a:pt x="3103" y="1164"/>
                  </a:lnTo>
                  <a:lnTo>
                    <a:pt x="3246" y="1195"/>
                  </a:lnTo>
                  <a:lnTo>
                    <a:pt x="3258" y="1177"/>
                  </a:lnTo>
                  <a:lnTo>
                    <a:pt x="3058" y="1051"/>
                  </a:lnTo>
                  <a:lnTo>
                    <a:pt x="3015" y="1039"/>
                  </a:lnTo>
                  <a:lnTo>
                    <a:pt x="2996" y="1039"/>
                  </a:lnTo>
                  <a:lnTo>
                    <a:pt x="2885" y="958"/>
                  </a:lnTo>
                  <a:lnTo>
                    <a:pt x="2779" y="904"/>
                  </a:lnTo>
                  <a:lnTo>
                    <a:pt x="2779" y="873"/>
                  </a:lnTo>
                  <a:lnTo>
                    <a:pt x="2798" y="853"/>
                  </a:lnTo>
                  <a:lnTo>
                    <a:pt x="2829" y="853"/>
                  </a:lnTo>
                  <a:lnTo>
                    <a:pt x="2872" y="884"/>
                  </a:lnTo>
                  <a:lnTo>
                    <a:pt x="2903" y="927"/>
                  </a:lnTo>
                  <a:lnTo>
                    <a:pt x="2953" y="946"/>
                  </a:lnTo>
                  <a:lnTo>
                    <a:pt x="2996" y="946"/>
                  </a:lnTo>
                  <a:lnTo>
                    <a:pt x="2996" y="904"/>
                  </a:lnTo>
                  <a:lnTo>
                    <a:pt x="2965" y="884"/>
                  </a:lnTo>
                  <a:lnTo>
                    <a:pt x="2965" y="853"/>
                  </a:lnTo>
                  <a:lnTo>
                    <a:pt x="2996" y="840"/>
                  </a:lnTo>
                  <a:lnTo>
                    <a:pt x="3041" y="853"/>
                  </a:lnTo>
                  <a:lnTo>
                    <a:pt x="3046" y="915"/>
                  </a:lnTo>
                  <a:lnTo>
                    <a:pt x="3091" y="935"/>
                  </a:lnTo>
                  <a:lnTo>
                    <a:pt x="3153" y="935"/>
                  </a:lnTo>
                  <a:lnTo>
                    <a:pt x="3184" y="958"/>
                  </a:lnTo>
                  <a:lnTo>
                    <a:pt x="3165" y="977"/>
                  </a:lnTo>
                  <a:lnTo>
                    <a:pt x="3246" y="1076"/>
                  </a:lnTo>
                  <a:lnTo>
                    <a:pt x="3265" y="1076"/>
                  </a:lnTo>
                  <a:lnTo>
                    <a:pt x="3277" y="1102"/>
                  </a:lnTo>
                  <a:lnTo>
                    <a:pt x="3277" y="1133"/>
                  </a:lnTo>
                  <a:lnTo>
                    <a:pt x="3322" y="1259"/>
                  </a:lnTo>
                  <a:lnTo>
                    <a:pt x="3308" y="1270"/>
                  </a:lnTo>
                  <a:lnTo>
                    <a:pt x="3277" y="1270"/>
                  </a:lnTo>
                  <a:lnTo>
                    <a:pt x="3196" y="1233"/>
                  </a:lnTo>
                  <a:lnTo>
                    <a:pt x="3196" y="1264"/>
                  </a:lnTo>
                  <a:lnTo>
                    <a:pt x="3258" y="1307"/>
                  </a:lnTo>
                  <a:lnTo>
                    <a:pt x="3353" y="1321"/>
                  </a:lnTo>
                  <a:lnTo>
                    <a:pt x="3353" y="1414"/>
                  </a:lnTo>
                  <a:lnTo>
                    <a:pt x="3421" y="1451"/>
                  </a:lnTo>
                  <a:lnTo>
                    <a:pt x="3421" y="1513"/>
                  </a:lnTo>
                  <a:lnTo>
                    <a:pt x="3483" y="1569"/>
                  </a:lnTo>
                  <a:lnTo>
                    <a:pt x="3483" y="1650"/>
                  </a:lnTo>
                  <a:lnTo>
                    <a:pt x="3508" y="1687"/>
                  </a:lnTo>
                  <a:lnTo>
                    <a:pt x="3483" y="1718"/>
                  </a:lnTo>
                  <a:lnTo>
                    <a:pt x="3483" y="1749"/>
                  </a:lnTo>
                  <a:lnTo>
                    <a:pt x="3508" y="1763"/>
                  </a:lnTo>
                  <a:lnTo>
                    <a:pt x="3539" y="1744"/>
                  </a:lnTo>
                  <a:lnTo>
                    <a:pt x="3669" y="1800"/>
                  </a:lnTo>
                  <a:lnTo>
                    <a:pt x="3694" y="1887"/>
                  </a:lnTo>
                  <a:lnTo>
                    <a:pt x="3620" y="1994"/>
                  </a:lnTo>
                  <a:lnTo>
                    <a:pt x="3620" y="2025"/>
                  </a:lnTo>
                  <a:lnTo>
                    <a:pt x="3682" y="2067"/>
                  </a:lnTo>
                  <a:lnTo>
                    <a:pt x="3713" y="2129"/>
                  </a:lnTo>
                  <a:lnTo>
                    <a:pt x="3789" y="2217"/>
                  </a:lnTo>
                  <a:lnTo>
                    <a:pt x="3851" y="2192"/>
                  </a:lnTo>
                  <a:lnTo>
                    <a:pt x="3851" y="2137"/>
                  </a:lnTo>
                  <a:lnTo>
                    <a:pt x="3869" y="2087"/>
                  </a:lnTo>
                  <a:lnTo>
                    <a:pt x="3851" y="2017"/>
                  </a:lnTo>
                  <a:lnTo>
                    <a:pt x="3863" y="1969"/>
                  </a:lnTo>
                  <a:lnTo>
                    <a:pt x="3820" y="1918"/>
                  </a:lnTo>
                  <a:lnTo>
                    <a:pt x="3789" y="1881"/>
                  </a:lnTo>
                  <a:lnTo>
                    <a:pt x="3776" y="1800"/>
                  </a:lnTo>
                  <a:lnTo>
                    <a:pt x="3733" y="1757"/>
                  </a:lnTo>
                  <a:lnTo>
                    <a:pt x="3764" y="1670"/>
                  </a:lnTo>
                  <a:lnTo>
                    <a:pt x="3725" y="1600"/>
                  </a:lnTo>
                  <a:lnTo>
                    <a:pt x="3725" y="1550"/>
                  </a:lnTo>
                  <a:lnTo>
                    <a:pt x="3820" y="1526"/>
                  </a:lnTo>
                  <a:lnTo>
                    <a:pt x="3838" y="1526"/>
                  </a:lnTo>
                  <a:lnTo>
                    <a:pt x="3869" y="1569"/>
                  </a:lnTo>
                  <a:lnTo>
                    <a:pt x="3869" y="1550"/>
                  </a:lnTo>
                  <a:lnTo>
                    <a:pt x="3838" y="1488"/>
                  </a:lnTo>
                  <a:lnTo>
                    <a:pt x="3820" y="1476"/>
                  </a:lnTo>
                  <a:lnTo>
                    <a:pt x="3826" y="1456"/>
                  </a:lnTo>
                  <a:lnTo>
                    <a:pt x="3795" y="1462"/>
                  </a:lnTo>
                  <a:lnTo>
                    <a:pt x="3789" y="1482"/>
                  </a:lnTo>
                  <a:lnTo>
                    <a:pt x="3700" y="1488"/>
                  </a:lnTo>
                  <a:lnTo>
                    <a:pt x="3669" y="1456"/>
                  </a:lnTo>
                  <a:lnTo>
                    <a:pt x="3682" y="1425"/>
                  </a:lnTo>
                  <a:lnTo>
                    <a:pt x="3745" y="1414"/>
                  </a:lnTo>
                  <a:lnTo>
                    <a:pt x="3776" y="1383"/>
                  </a:lnTo>
                  <a:lnTo>
                    <a:pt x="3820" y="1383"/>
                  </a:lnTo>
                  <a:lnTo>
                    <a:pt x="3826" y="1414"/>
                  </a:lnTo>
                  <a:lnTo>
                    <a:pt x="3851" y="1394"/>
                  </a:lnTo>
                  <a:lnTo>
                    <a:pt x="3900" y="1383"/>
                  </a:lnTo>
                  <a:lnTo>
                    <a:pt x="3869" y="1352"/>
                  </a:lnTo>
                  <a:lnTo>
                    <a:pt x="3807" y="1332"/>
                  </a:lnTo>
                  <a:lnTo>
                    <a:pt x="3789" y="1228"/>
                  </a:lnTo>
                  <a:lnTo>
                    <a:pt x="3820" y="1195"/>
                  </a:lnTo>
                  <a:lnTo>
                    <a:pt x="3820" y="1164"/>
                  </a:lnTo>
                  <a:lnTo>
                    <a:pt x="3764" y="1071"/>
                  </a:lnTo>
                  <a:lnTo>
                    <a:pt x="3789" y="1020"/>
                  </a:lnTo>
                  <a:lnTo>
                    <a:pt x="3694" y="915"/>
                  </a:lnTo>
                  <a:lnTo>
                    <a:pt x="3545" y="778"/>
                  </a:lnTo>
                  <a:lnTo>
                    <a:pt x="3384" y="634"/>
                  </a:lnTo>
                  <a:lnTo>
                    <a:pt x="3201" y="504"/>
                  </a:lnTo>
                  <a:lnTo>
                    <a:pt x="3058" y="417"/>
                  </a:lnTo>
                  <a:lnTo>
                    <a:pt x="2891" y="324"/>
                  </a:lnTo>
                  <a:lnTo>
                    <a:pt x="2703" y="231"/>
                  </a:lnTo>
                  <a:lnTo>
                    <a:pt x="2486" y="149"/>
                  </a:lnTo>
                  <a:lnTo>
                    <a:pt x="2255" y="87"/>
                  </a:lnTo>
                  <a:lnTo>
                    <a:pt x="1999" y="37"/>
                  </a:lnTo>
                  <a:lnTo>
                    <a:pt x="1757" y="6"/>
                  </a:lnTo>
                  <a:lnTo>
                    <a:pt x="1545" y="0"/>
                  </a:lnTo>
                  <a:lnTo>
                    <a:pt x="1314" y="6"/>
                  </a:lnTo>
                  <a:lnTo>
                    <a:pt x="1064" y="43"/>
                  </a:lnTo>
                  <a:lnTo>
                    <a:pt x="816" y="93"/>
                  </a:lnTo>
                  <a:lnTo>
                    <a:pt x="585" y="161"/>
                  </a:lnTo>
                  <a:lnTo>
                    <a:pt x="393" y="231"/>
                  </a:lnTo>
                  <a:lnTo>
                    <a:pt x="354" y="254"/>
                  </a:lnTo>
                  <a:lnTo>
                    <a:pt x="354" y="254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11360" y="3206160"/>
              <a:ext cx="167400" cy="578880"/>
            </a:xfrm>
            <a:custGeom>
              <a:avLst/>
              <a:gdLst/>
              <a:ahLst/>
              <a:rect l="l" t="t" r="r" b="b"/>
              <a:pathLst>
                <a:path w="622" h="2160">
                  <a:moveTo>
                    <a:pt x="106" y="0"/>
                  </a:moveTo>
                  <a:lnTo>
                    <a:pt x="106" y="37"/>
                  </a:lnTo>
                  <a:lnTo>
                    <a:pt x="137" y="161"/>
                  </a:lnTo>
                  <a:lnTo>
                    <a:pt x="149" y="248"/>
                  </a:lnTo>
                  <a:lnTo>
                    <a:pt x="137" y="260"/>
                  </a:lnTo>
                  <a:lnTo>
                    <a:pt x="168" y="329"/>
                  </a:lnTo>
                  <a:lnTo>
                    <a:pt x="199" y="329"/>
                  </a:lnTo>
                  <a:lnTo>
                    <a:pt x="168" y="510"/>
                  </a:lnTo>
                  <a:lnTo>
                    <a:pt x="75" y="436"/>
                  </a:lnTo>
                  <a:lnTo>
                    <a:pt x="56" y="436"/>
                  </a:lnTo>
                  <a:lnTo>
                    <a:pt x="75" y="504"/>
                  </a:lnTo>
                  <a:lnTo>
                    <a:pt x="56" y="665"/>
                  </a:lnTo>
                  <a:lnTo>
                    <a:pt x="75" y="735"/>
                  </a:lnTo>
                  <a:lnTo>
                    <a:pt x="56" y="890"/>
                  </a:lnTo>
                  <a:lnTo>
                    <a:pt x="13" y="921"/>
                  </a:lnTo>
                  <a:lnTo>
                    <a:pt x="0" y="940"/>
                  </a:lnTo>
                  <a:lnTo>
                    <a:pt x="31" y="995"/>
                  </a:lnTo>
                  <a:lnTo>
                    <a:pt x="31" y="1121"/>
                  </a:lnTo>
                  <a:lnTo>
                    <a:pt x="56" y="1169"/>
                  </a:lnTo>
                  <a:lnTo>
                    <a:pt x="124" y="1251"/>
                  </a:lnTo>
                  <a:lnTo>
                    <a:pt x="106" y="1493"/>
                  </a:lnTo>
                  <a:lnTo>
                    <a:pt x="137" y="1780"/>
                  </a:lnTo>
                  <a:lnTo>
                    <a:pt x="149" y="1825"/>
                  </a:lnTo>
                  <a:lnTo>
                    <a:pt x="199" y="1862"/>
                  </a:lnTo>
                  <a:lnTo>
                    <a:pt x="219" y="1893"/>
                  </a:lnTo>
                  <a:lnTo>
                    <a:pt x="230" y="2067"/>
                  </a:lnTo>
                  <a:lnTo>
                    <a:pt x="292" y="2123"/>
                  </a:lnTo>
                  <a:lnTo>
                    <a:pt x="337" y="2135"/>
                  </a:lnTo>
                  <a:lnTo>
                    <a:pt x="374" y="2160"/>
                  </a:lnTo>
                  <a:lnTo>
                    <a:pt x="467" y="2154"/>
                  </a:lnTo>
                  <a:lnTo>
                    <a:pt x="467" y="2073"/>
                  </a:lnTo>
                  <a:lnTo>
                    <a:pt x="543" y="1904"/>
                  </a:lnTo>
                  <a:lnTo>
                    <a:pt x="622" y="1687"/>
                  </a:lnTo>
                  <a:lnTo>
                    <a:pt x="622" y="1445"/>
                  </a:lnTo>
                  <a:lnTo>
                    <a:pt x="605" y="1239"/>
                  </a:lnTo>
                  <a:lnTo>
                    <a:pt x="560" y="1059"/>
                  </a:lnTo>
                  <a:lnTo>
                    <a:pt x="529" y="865"/>
                  </a:lnTo>
                  <a:lnTo>
                    <a:pt x="461" y="659"/>
                  </a:lnTo>
                  <a:lnTo>
                    <a:pt x="386" y="479"/>
                  </a:lnTo>
                  <a:lnTo>
                    <a:pt x="261" y="229"/>
                  </a:lnTo>
                  <a:lnTo>
                    <a:pt x="199" y="104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11360" y="3206160"/>
              <a:ext cx="167400" cy="578880"/>
            </a:xfrm>
            <a:custGeom>
              <a:avLst/>
              <a:gdLst/>
              <a:ahLst/>
              <a:rect l="l" t="t" r="r" b="b"/>
              <a:pathLst>
                <a:path w="622" h="2160">
                  <a:moveTo>
                    <a:pt x="106" y="0"/>
                  </a:moveTo>
                  <a:lnTo>
                    <a:pt x="106" y="37"/>
                  </a:lnTo>
                  <a:lnTo>
                    <a:pt x="137" y="161"/>
                  </a:lnTo>
                  <a:lnTo>
                    <a:pt x="149" y="248"/>
                  </a:lnTo>
                  <a:lnTo>
                    <a:pt x="137" y="260"/>
                  </a:lnTo>
                  <a:lnTo>
                    <a:pt x="168" y="329"/>
                  </a:lnTo>
                  <a:lnTo>
                    <a:pt x="199" y="329"/>
                  </a:lnTo>
                  <a:lnTo>
                    <a:pt x="168" y="510"/>
                  </a:lnTo>
                  <a:lnTo>
                    <a:pt x="75" y="436"/>
                  </a:lnTo>
                  <a:lnTo>
                    <a:pt x="56" y="436"/>
                  </a:lnTo>
                  <a:lnTo>
                    <a:pt x="75" y="504"/>
                  </a:lnTo>
                  <a:lnTo>
                    <a:pt x="56" y="665"/>
                  </a:lnTo>
                  <a:lnTo>
                    <a:pt x="75" y="735"/>
                  </a:lnTo>
                  <a:lnTo>
                    <a:pt x="56" y="890"/>
                  </a:lnTo>
                  <a:lnTo>
                    <a:pt x="13" y="921"/>
                  </a:lnTo>
                  <a:lnTo>
                    <a:pt x="0" y="940"/>
                  </a:lnTo>
                  <a:lnTo>
                    <a:pt x="31" y="995"/>
                  </a:lnTo>
                  <a:lnTo>
                    <a:pt x="31" y="1121"/>
                  </a:lnTo>
                  <a:lnTo>
                    <a:pt x="56" y="1169"/>
                  </a:lnTo>
                  <a:lnTo>
                    <a:pt x="124" y="1251"/>
                  </a:lnTo>
                  <a:lnTo>
                    <a:pt x="106" y="1493"/>
                  </a:lnTo>
                  <a:lnTo>
                    <a:pt x="137" y="1780"/>
                  </a:lnTo>
                  <a:lnTo>
                    <a:pt x="149" y="1825"/>
                  </a:lnTo>
                  <a:lnTo>
                    <a:pt x="199" y="1862"/>
                  </a:lnTo>
                  <a:lnTo>
                    <a:pt x="219" y="1893"/>
                  </a:lnTo>
                  <a:lnTo>
                    <a:pt x="230" y="2067"/>
                  </a:lnTo>
                  <a:lnTo>
                    <a:pt x="292" y="2123"/>
                  </a:lnTo>
                  <a:lnTo>
                    <a:pt x="337" y="2135"/>
                  </a:lnTo>
                  <a:lnTo>
                    <a:pt x="374" y="2160"/>
                  </a:lnTo>
                  <a:lnTo>
                    <a:pt x="467" y="2154"/>
                  </a:lnTo>
                  <a:lnTo>
                    <a:pt x="467" y="2073"/>
                  </a:lnTo>
                  <a:lnTo>
                    <a:pt x="543" y="1904"/>
                  </a:lnTo>
                  <a:lnTo>
                    <a:pt x="622" y="1687"/>
                  </a:lnTo>
                  <a:lnTo>
                    <a:pt x="622" y="1445"/>
                  </a:lnTo>
                  <a:lnTo>
                    <a:pt x="605" y="1239"/>
                  </a:lnTo>
                  <a:lnTo>
                    <a:pt x="560" y="1059"/>
                  </a:lnTo>
                  <a:lnTo>
                    <a:pt x="529" y="865"/>
                  </a:lnTo>
                  <a:lnTo>
                    <a:pt x="461" y="659"/>
                  </a:lnTo>
                  <a:lnTo>
                    <a:pt x="386" y="479"/>
                  </a:lnTo>
                  <a:lnTo>
                    <a:pt x="261" y="229"/>
                  </a:lnTo>
                  <a:lnTo>
                    <a:pt x="199" y="104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106" y="0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15920" y="3139200"/>
              <a:ext cx="213120" cy="251640"/>
            </a:xfrm>
            <a:custGeom>
              <a:avLst/>
              <a:gdLst/>
              <a:ahLst/>
              <a:rect l="l" t="t" r="r" b="b"/>
              <a:pathLst>
                <a:path w="791" h="941">
                  <a:moveTo>
                    <a:pt x="355" y="43"/>
                  </a:moveTo>
                  <a:lnTo>
                    <a:pt x="380" y="12"/>
                  </a:lnTo>
                  <a:lnTo>
                    <a:pt x="423" y="63"/>
                  </a:lnTo>
                  <a:lnTo>
                    <a:pt x="485" y="125"/>
                  </a:lnTo>
                  <a:lnTo>
                    <a:pt x="611" y="169"/>
                  </a:lnTo>
                  <a:lnTo>
                    <a:pt x="628" y="220"/>
                  </a:lnTo>
                  <a:lnTo>
                    <a:pt x="648" y="256"/>
                  </a:lnTo>
                  <a:lnTo>
                    <a:pt x="715" y="313"/>
                  </a:lnTo>
                  <a:lnTo>
                    <a:pt x="777" y="324"/>
                  </a:lnTo>
                  <a:lnTo>
                    <a:pt x="777" y="437"/>
                  </a:lnTo>
                  <a:lnTo>
                    <a:pt x="766" y="480"/>
                  </a:lnTo>
                  <a:lnTo>
                    <a:pt x="729" y="505"/>
                  </a:lnTo>
                  <a:lnTo>
                    <a:pt x="746" y="600"/>
                  </a:lnTo>
                  <a:lnTo>
                    <a:pt x="704" y="679"/>
                  </a:lnTo>
                  <a:lnTo>
                    <a:pt x="715" y="803"/>
                  </a:lnTo>
                  <a:lnTo>
                    <a:pt x="746" y="834"/>
                  </a:lnTo>
                  <a:lnTo>
                    <a:pt x="777" y="922"/>
                  </a:lnTo>
                  <a:lnTo>
                    <a:pt x="791" y="935"/>
                  </a:lnTo>
                  <a:lnTo>
                    <a:pt x="777" y="935"/>
                  </a:lnTo>
                  <a:lnTo>
                    <a:pt x="729" y="941"/>
                  </a:lnTo>
                  <a:lnTo>
                    <a:pt x="704" y="930"/>
                  </a:lnTo>
                  <a:lnTo>
                    <a:pt x="642" y="922"/>
                  </a:lnTo>
                  <a:lnTo>
                    <a:pt x="580" y="904"/>
                  </a:lnTo>
                  <a:lnTo>
                    <a:pt x="529" y="823"/>
                  </a:lnTo>
                  <a:lnTo>
                    <a:pt x="498" y="792"/>
                  </a:lnTo>
                  <a:lnTo>
                    <a:pt x="454" y="767"/>
                  </a:lnTo>
                  <a:lnTo>
                    <a:pt x="442" y="724"/>
                  </a:lnTo>
                  <a:lnTo>
                    <a:pt x="423" y="687"/>
                  </a:lnTo>
                  <a:lnTo>
                    <a:pt x="448" y="654"/>
                  </a:lnTo>
                  <a:lnTo>
                    <a:pt x="423" y="580"/>
                  </a:lnTo>
                  <a:lnTo>
                    <a:pt x="355" y="567"/>
                  </a:lnTo>
                  <a:lnTo>
                    <a:pt x="293" y="511"/>
                  </a:lnTo>
                  <a:lnTo>
                    <a:pt x="256" y="456"/>
                  </a:lnTo>
                  <a:lnTo>
                    <a:pt x="236" y="423"/>
                  </a:lnTo>
                  <a:lnTo>
                    <a:pt x="174" y="375"/>
                  </a:lnTo>
                  <a:lnTo>
                    <a:pt x="87" y="375"/>
                  </a:lnTo>
                  <a:lnTo>
                    <a:pt x="62" y="350"/>
                  </a:lnTo>
                  <a:lnTo>
                    <a:pt x="62" y="313"/>
                  </a:lnTo>
                  <a:lnTo>
                    <a:pt x="42" y="282"/>
                  </a:lnTo>
                  <a:lnTo>
                    <a:pt x="0" y="282"/>
                  </a:lnTo>
                  <a:lnTo>
                    <a:pt x="11" y="256"/>
                  </a:lnTo>
                  <a:lnTo>
                    <a:pt x="48" y="237"/>
                  </a:lnTo>
                  <a:lnTo>
                    <a:pt x="42" y="220"/>
                  </a:lnTo>
                  <a:lnTo>
                    <a:pt x="48" y="169"/>
                  </a:lnTo>
                  <a:lnTo>
                    <a:pt x="48" y="125"/>
                  </a:lnTo>
                  <a:lnTo>
                    <a:pt x="130" y="94"/>
                  </a:lnTo>
                  <a:lnTo>
                    <a:pt x="155" y="63"/>
                  </a:lnTo>
                  <a:lnTo>
                    <a:pt x="180" y="12"/>
                  </a:lnTo>
                  <a:lnTo>
                    <a:pt x="205" y="12"/>
                  </a:lnTo>
                  <a:lnTo>
                    <a:pt x="248" y="0"/>
                  </a:lnTo>
                  <a:lnTo>
                    <a:pt x="310" y="0"/>
                  </a:lnTo>
                  <a:lnTo>
                    <a:pt x="287" y="12"/>
                  </a:lnTo>
                  <a:lnTo>
                    <a:pt x="262" y="63"/>
                  </a:lnTo>
                  <a:lnTo>
                    <a:pt x="293" y="76"/>
                  </a:lnTo>
                  <a:lnTo>
                    <a:pt x="355" y="45"/>
                  </a:lnTo>
                  <a:lnTo>
                    <a:pt x="355" y="45"/>
                  </a:lnTo>
                  <a:lnTo>
                    <a:pt x="355" y="43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15920" y="3139200"/>
              <a:ext cx="213120" cy="251640"/>
            </a:xfrm>
            <a:custGeom>
              <a:avLst/>
              <a:gdLst/>
              <a:ahLst/>
              <a:rect l="l" t="t" r="r" b="b"/>
              <a:pathLst>
                <a:path w="791" h="941">
                  <a:moveTo>
                    <a:pt x="355" y="43"/>
                  </a:moveTo>
                  <a:lnTo>
                    <a:pt x="380" y="12"/>
                  </a:lnTo>
                  <a:lnTo>
                    <a:pt x="423" y="63"/>
                  </a:lnTo>
                  <a:lnTo>
                    <a:pt x="485" y="125"/>
                  </a:lnTo>
                  <a:lnTo>
                    <a:pt x="611" y="169"/>
                  </a:lnTo>
                  <a:lnTo>
                    <a:pt x="628" y="220"/>
                  </a:lnTo>
                  <a:lnTo>
                    <a:pt x="648" y="256"/>
                  </a:lnTo>
                  <a:lnTo>
                    <a:pt x="715" y="313"/>
                  </a:lnTo>
                  <a:lnTo>
                    <a:pt x="777" y="324"/>
                  </a:lnTo>
                  <a:lnTo>
                    <a:pt x="777" y="437"/>
                  </a:lnTo>
                  <a:lnTo>
                    <a:pt x="766" y="480"/>
                  </a:lnTo>
                  <a:lnTo>
                    <a:pt x="729" y="505"/>
                  </a:lnTo>
                  <a:lnTo>
                    <a:pt x="746" y="600"/>
                  </a:lnTo>
                  <a:lnTo>
                    <a:pt x="704" y="679"/>
                  </a:lnTo>
                  <a:lnTo>
                    <a:pt x="715" y="803"/>
                  </a:lnTo>
                  <a:lnTo>
                    <a:pt x="746" y="834"/>
                  </a:lnTo>
                  <a:lnTo>
                    <a:pt x="777" y="922"/>
                  </a:lnTo>
                  <a:lnTo>
                    <a:pt x="791" y="935"/>
                  </a:lnTo>
                  <a:lnTo>
                    <a:pt x="777" y="935"/>
                  </a:lnTo>
                  <a:lnTo>
                    <a:pt x="729" y="941"/>
                  </a:lnTo>
                  <a:lnTo>
                    <a:pt x="704" y="930"/>
                  </a:lnTo>
                  <a:lnTo>
                    <a:pt x="642" y="922"/>
                  </a:lnTo>
                  <a:lnTo>
                    <a:pt x="580" y="904"/>
                  </a:lnTo>
                  <a:lnTo>
                    <a:pt x="529" y="823"/>
                  </a:lnTo>
                  <a:lnTo>
                    <a:pt x="498" y="792"/>
                  </a:lnTo>
                  <a:lnTo>
                    <a:pt x="454" y="767"/>
                  </a:lnTo>
                  <a:lnTo>
                    <a:pt x="442" y="724"/>
                  </a:lnTo>
                  <a:lnTo>
                    <a:pt x="423" y="687"/>
                  </a:lnTo>
                  <a:lnTo>
                    <a:pt x="448" y="654"/>
                  </a:lnTo>
                  <a:lnTo>
                    <a:pt x="423" y="580"/>
                  </a:lnTo>
                  <a:lnTo>
                    <a:pt x="355" y="567"/>
                  </a:lnTo>
                  <a:lnTo>
                    <a:pt x="293" y="511"/>
                  </a:lnTo>
                  <a:lnTo>
                    <a:pt x="256" y="456"/>
                  </a:lnTo>
                  <a:lnTo>
                    <a:pt x="236" y="423"/>
                  </a:lnTo>
                  <a:lnTo>
                    <a:pt x="174" y="375"/>
                  </a:lnTo>
                  <a:lnTo>
                    <a:pt x="87" y="375"/>
                  </a:lnTo>
                  <a:lnTo>
                    <a:pt x="62" y="350"/>
                  </a:lnTo>
                  <a:lnTo>
                    <a:pt x="62" y="313"/>
                  </a:lnTo>
                  <a:lnTo>
                    <a:pt x="42" y="282"/>
                  </a:lnTo>
                  <a:lnTo>
                    <a:pt x="0" y="282"/>
                  </a:lnTo>
                  <a:lnTo>
                    <a:pt x="11" y="256"/>
                  </a:lnTo>
                  <a:lnTo>
                    <a:pt x="48" y="237"/>
                  </a:lnTo>
                  <a:lnTo>
                    <a:pt x="42" y="220"/>
                  </a:lnTo>
                  <a:lnTo>
                    <a:pt x="48" y="169"/>
                  </a:lnTo>
                  <a:lnTo>
                    <a:pt x="48" y="125"/>
                  </a:lnTo>
                  <a:lnTo>
                    <a:pt x="130" y="94"/>
                  </a:lnTo>
                  <a:lnTo>
                    <a:pt x="155" y="63"/>
                  </a:lnTo>
                  <a:lnTo>
                    <a:pt x="180" y="12"/>
                  </a:lnTo>
                  <a:lnTo>
                    <a:pt x="205" y="12"/>
                  </a:lnTo>
                  <a:lnTo>
                    <a:pt x="248" y="0"/>
                  </a:lnTo>
                  <a:lnTo>
                    <a:pt x="310" y="0"/>
                  </a:lnTo>
                  <a:lnTo>
                    <a:pt x="287" y="12"/>
                  </a:lnTo>
                  <a:lnTo>
                    <a:pt x="262" y="63"/>
                  </a:lnTo>
                  <a:lnTo>
                    <a:pt x="293" y="76"/>
                  </a:lnTo>
                  <a:lnTo>
                    <a:pt x="355" y="45"/>
                  </a:lnTo>
                  <a:lnTo>
                    <a:pt x="355" y="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52960" y="3142440"/>
              <a:ext cx="986400" cy="1257480"/>
            </a:xfrm>
            <a:custGeom>
              <a:avLst/>
              <a:gdLst/>
              <a:ahLst/>
              <a:rect l="l" t="t" r="r" b="b"/>
              <a:pathLst>
                <a:path w="3663" h="4692">
                  <a:moveTo>
                    <a:pt x="62" y="2008"/>
                  </a:moveTo>
                  <a:lnTo>
                    <a:pt x="38" y="1988"/>
                  </a:lnTo>
                  <a:lnTo>
                    <a:pt x="50" y="1633"/>
                  </a:lnTo>
                  <a:lnTo>
                    <a:pt x="236" y="1298"/>
                  </a:lnTo>
                  <a:lnTo>
                    <a:pt x="281" y="1303"/>
                  </a:lnTo>
                  <a:lnTo>
                    <a:pt x="298" y="1160"/>
                  </a:lnTo>
                  <a:lnTo>
                    <a:pt x="250" y="1086"/>
                  </a:lnTo>
                  <a:lnTo>
                    <a:pt x="343" y="724"/>
                  </a:lnTo>
                  <a:lnTo>
                    <a:pt x="312" y="698"/>
                  </a:lnTo>
                  <a:lnTo>
                    <a:pt x="323" y="599"/>
                  </a:lnTo>
                  <a:lnTo>
                    <a:pt x="298" y="425"/>
                  </a:lnTo>
                  <a:lnTo>
                    <a:pt x="199" y="400"/>
                  </a:lnTo>
                  <a:lnTo>
                    <a:pt x="329" y="363"/>
                  </a:lnTo>
                  <a:lnTo>
                    <a:pt x="155" y="363"/>
                  </a:lnTo>
                  <a:lnTo>
                    <a:pt x="0" y="332"/>
                  </a:lnTo>
                  <a:lnTo>
                    <a:pt x="0" y="312"/>
                  </a:lnTo>
                  <a:lnTo>
                    <a:pt x="155" y="301"/>
                  </a:lnTo>
                  <a:lnTo>
                    <a:pt x="124" y="270"/>
                  </a:lnTo>
                  <a:lnTo>
                    <a:pt x="174" y="157"/>
                  </a:lnTo>
                  <a:lnTo>
                    <a:pt x="236" y="113"/>
                  </a:lnTo>
                  <a:lnTo>
                    <a:pt x="354" y="144"/>
                  </a:lnTo>
                  <a:lnTo>
                    <a:pt x="385" y="113"/>
                  </a:lnTo>
                  <a:lnTo>
                    <a:pt x="368" y="64"/>
                  </a:lnTo>
                  <a:lnTo>
                    <a:pt x="424" y="20"/>
                  </a:lnTo>
                  <a:lnTo>
                    <a:pt x="467" y="70"/>
                  </a:lnTo>
                  <a:lnTo>
                    <a:pt x="529" y="39"/>
                  </a:lnTo>
                  <a:lnTo>
                    <a:pt x="543" y="0"/>
                  </a:lnTo>
                  <a:lnTo>
                    <a:pt x="574" y="8"/>
                  </a:lnTo>
                  <a:lnTo>
                    <a:pt x="641" y="0"/>
                  </a:lnTo>
                  <a:lnTo>
                    <a:pt x="678" y="33"/>
                  </a:lnTo>
                  <a:lnTo>
                    <a:pt x="729" y="301"/>
                  </a:lnTo>
                  <a:lnTo>
                    <a:pt x="729" y="332"/>
                  </a:lnTo>
                  <a:lnTo>
                    <a:pt x="872" y="380"/>
                  </a:lnTo>
                  <a:lnTo>
                    <a:pt x="1064" y="625"/>
                  </a:lnTo>
                  <a:lnTo>
                    <a:pt x="1140" y="630"/>
                  </a:lnTo>
                  <a:lnTo>
                    <a:pt x="1190" y="667"/>
                  </a:lnTo>
                  <a:lnTo>
                    <a:pt x="1359" y="706"/>
                  </a:lnTo>
                  <a:lnTo>
                    <a:pt x="1376" y="661"/>
                  </a:lnTo>
                  <a:lnTo>
                    <a:pt x="1359" y="580"/>
                  </a:lnTo>
                  <a:lnTo>
                    <a:pt x="1376" y="518"/>
                  </a:lnTo>
                  <a:lnTo>
                    <a:pt x="1402" y="549"/>
                  </a:lnTo>
                  <a:lnTo>
                    <a:pt x="1413" y="667"/>
                  </a:lnTo>
                  <a:lnTo>
                    <a:pt x="1446" y="693"/>
                  </a:lnTo>
                  <a:lnTo>
                    <a:pt x="1452" y="731"/>
                  </a:lnTo>
                  <a:lnTo>
                    <a:pt x="1501" y="749"/>
                  </a:lnTo>
                  <a:lnTo>
                    <a:pt x="1551" y="656"/>
                  </a:lnTo>
                  <a:lnTo>
                    <a:pt x="1576" y="675"/>
                  </a:lnTo>
                  <a:lnTo>
                    <a:pt x="1576" y="768"/>
                  </a:lnTo>
                  <a:lnTo>
                    <a:pt x="1520" y="805"/>
                  </a:lnTo>
                  <a:lnTo>
                    <a:pt x="1247" y="1078"/>
                  </a:lnTo>
                  <a:lnTo>
                    <a:pt x="1278" y="1135"/>
                  </a:lnTo>
                  <a:lnTo>
                    <a:pt x="1270" y="1216"/>
                  </a:lnTo>
                  <a:lnTo>
                    <a:pt x="1458" y="1321"/>
                  </a:lnTo>
                  <a:lnTo>
                    <a:pt x="1514" y="1329"/>
                  </a:lnTo>
                  <a:lnTo>
                    <a:pt x="1508" y="1402"/>
                  </a:lnTo>
                  <a:lnTo>
                    <a:pt x="1576" y="1521"/>
                  </a:lnTo>
                  <a:lnTo>
                    <a:pt x="1625" y="1534"/>
                  </a:lnTo>
                  <a:lnTo>
                    <a:pt x="1650" y="1503"/>
                  </a:lnTo>
                  <a:lnTo>
                    <a:pt x="1658" y="1366"/>
                  </a:lnTo>
                  <a:lnTo>
                    <a:pt x="1700" y="1346"/>
                  </a:lnTo>
                  <a:lnTo>
                    <a:pt x="1700" y="1222"/>
                  </a:lnTo>
                  <a:lnTo>
                    <a:pt x="1658" y="1135"/>
                  </a:lnTo>
                  <a:lnTo>
                    <a:pt x="1695" y="1104"/>
                  </a:lnTo>
                  <a:lnTo>
                    <a:pt x="1675" y="991"/>
                  </a:lnTo>
                  <a:lnTo>
                    <a:pt x="1869" y="1047"/>
                  </a:lnTo>
                  <a:lnTo>
                    <a:pt x="1881" y="1098"/>
                  </a:lnTo>
                  <a:lnTo>
                    <a:pt x="1925" y="1160"/>
                  </a:lnTo>
                  <a:lnTo>
                    <a:pt x="1999" y="1166"/>
                  </a:lnTo>
                  <a:lnTo>
                    <a:pt x="1987" y="1078"/>
                  </a:lnTo>
                  <a:lnTo>
                    <a:pt x="2156" y="1253"/>
                  </a:lnTo>
                  <a:lnTo>
                    <a:pt x="2212" y="1278"/>
                  </a:lnTo>
                  <a:lnTo>
                    <a:pt x="2362" y="1433"/>
                  </a:lnTo>
                  <a:lnTo>
                    <a:pt x="2269" y="1521"/>
                  </a:lnTo>
                  <a:lnTo>
                    <a:pt x="2049" y="1577"/>
                  </a:lnTo>
                  <a:lnTo>
                    <a:pt x="1956" y="1709"/>
                  </a:lnTo>
                  <a:lnTo>
                    <a:pt x="1987" y="1709"/>
                  </a:lnTo>
                  <a:lnTo>
                    <a:pt x="2123" y="1614"/>
                  </a:lnTo>
                  <a:lnTo>
                    <a:pt x="2162" y="1614"/>
                  </a:lnTo>
                  <a:lnTo>
                    <a:pt x="2156" y="1689"/>
                  </a:lnTo>
                  <a:lnTo>
                    <a:pt x="2187" y="1757"/>
                  </a:lnTo>
                  <a:lnTo>
                    <a:pt x="2311" y="1695"/>
                  </a:lnTo>
                  <a:lnTo>
                    <a:pt x="2317" y="1726"/>
                  </a:lnTo>
                  <a:lnTo>
                    <a:pt x="2131" y="1895"/>
                  </a:lnTo>
                  <a:lnTo>
                    <a:pt x="2117" y="1864"/>
                  </a:lnTo>
                  <a:lnTo>
                    <a:pt x="2143" y="1827"/>
                  </a:lnTo>
                  <a:lnTo>
                    <a:pt x="2131" y="1796"/>
                  </a:lnTo>
                  <a:lnTo>
                    <a:pt x="2007" y="1883"/>
                  </a:lnTo>
                  <a:lnTo>
                    <a:pt x="1956" y="1971"/>
                  </a:lnTo>
                  <a:lnTo>
                    <a:pt x="1976" y="2013"/>
                  </a:lnTo>
                  <a:lnTo>
                    <a:pt x="1850" y="2101"/>
                  </a:lnTo>
                  <a:lnTo>
                    <a:pt x="1832" y="2157"/>
                  </a:lnTo>
                  <a:lnTo>
                    <a:pt x="1788" y="2213"/>
                  </a:lnTo>
                  <a:lnTo>
                    <a:pt x="1776" y="2343"/>
                  </a:lnTo>
                  <a:lnTo>
                    <a:pt x="1576" y="2492"/>
                  </a:lnTo>
                  <a:lnTo>
                    <a:pt x="1532" y="2642"/>
                  </a:lnTo>
                  <a:lnTo>
                    <a:pt x="1557" y="2686"/>
                  </a:lnTo>
                  <a:lnTo>
                    <a:pt x="1594" y="2768"/>
                  </a:lnTo>
                  <a:lnTo>
                    <a:pt x="1588" y="2810"/>
                  </a:lnTo>
                  <a:lnTo>
                    <a:pt x="1551" y="2830"/>
                  </a:lnTo>
                  <a:lnTo>
                    <a:pt x="1458" y="2605"/>
                  </a:lnTo>
                  <a:lnTo>
                    <a:pt x="1365" y="2605"/>
                  </a:lnTo>
                  <a:lnTo>
                    <a:pt x="1345" y="2580"/>
                  </a:lnTo>
                  <a:lnTo>
                    <a:pt x="1190" y="2562"/>
                  </a:lnTo>
                  <a:lnTo>
                    <a:pt x="1190" y="2624"/>
                  </a:lnTo>
                  <a:lnTo>
                    <a:pt x="1171" y="2624"/>
                  </a:lnTo>
                  <a:lnTo>
                    <a:pt x="1089" y="2586"/>
                  </a:lnTo>
                  <a:lnTo>
                    <a:pt x="822" y="2617"/>
                  </a:lnTo>
                  <a:lnTo>
                    <a:pt x="760" y="2923"/>
                  </a:lnTo>
                  <a:lnTo>
                    <a:pt x="816" y="2985"/>
                  </a:lnTo>
                  <a:lnTo>
                    <a:pt x="828" y="3047"/>
                  </a:lnTo>
                  <a:lnTo>
                    <a:pt x="1016" y="3123"/>
                  </a:lnTo>
                  <a:lnTo>
                    <a:pt x="1103" y="3078"/>
                  </a:lnTo>
                  <a:lnTo>
                    <a:pt x="1109" y="3047"/>
                  </a:lnTo>
                  <a:lnTo>
                    <a:pt x="1126" y="3016"/>
                  </a:lnTo>
                  <a:lnTo>
                    <a:pt x="1227" y="3016"/>
                  </a:lnTo>
                  <a:lnTo>
                    <a:pt x="1227" y="3047"/>
                  </a:lnTo>
                  <a:lnTo>
                    <a:pt x="1126" y="3235"/>
                  </a:lnTo>
                  <a:lnTo>
                    <a:pt x="1376" y="3284"/>
                  </a:lnTo>
                  <a:lnTo>
                    <a:pt x="1421" y="3340"/>
                  </a:lnTo>
                  <a:lnTo>
                    <a:pt x="1390" y="3439"/>
                  </a:lnTo>
                  <a:lnTo>
                    <a:pt x="1408" y="3515"/>
                  </a:lnTo>
                  <a:lnTo>
                    <a:pt x="1514" y="3590"/>
                  </a:lnTo>
                  <a:lnTo>
                    <a:pt x="1551" y="3590"/>
                  </a:lnTo>
                  <a:lnTo>
                    <a:pt x="1638" y="3577"/>
                  </a:lnTo>
                  <a:lnTo>
                    <a:pt x="1751" y="3652"/>
                  </a:lnTo>
                  <a:lnTo>
                    <a:pt x="1857" y="3515"/>
                  </a:lnTo>
                  <a:lnTo>
                    <a:pt x="1894" y="3515"/>
                  </a:lnTo>
                  <a:lnTo>
                    <a:pt x="2007" y="3439"/>
                  </a:lnTo>
                  <a:lnTo>
                    <a:pt x="2030" y="3577"/>
                  </a:lnTo>
                  <a:lnTo>
                    <a:pt x="2061" y="3565"/>
                  </a:lnTo>
                  <a:lnTo>
                    <a:pt x="2061" y="3503"/>
                  </a:lnTo>
                  <a:lnTo>
                    <a:pt x="2162" y="3452"/>
                  </a:lnTo>
                  <a:lnTo>
                    <a:pt x="2205" y="3484"/>
                  </a:lnTo>
                  <a:lnTo>
                    <a:pt x="2379" y="3472"/>
                  </a:lnTo>
                  <a:lnTo>
                    <a:pt x="2424" y="3439"/>
                  </a:lnTo>
                  <a:lnTo>
                    <a:pt x="2497" y="3439"/>
                  </a:lnTo>
                  <a:lnTo>
                    <a:pt x="2497" y="3464"/>
                  </a:lnTo>
                  <a:lnTo>
                    <a:pt x="2810" y="3559"/>
                  </a:lnTo>
                  <a:lnTo>
                    <a:pt x="2934" y="3546"/>
                  </a:lnTo>
                  <a:lnTo>
                    <a:pt x="3077" y="3652"/>
                  </a:lnTo>
                  <a:lnTo>
                    <a:pt x="3089" y="3703"/>
                  </a:lnTo>
                  <a:lnTo>
                    <a:pt x="3263" y="3683"/>
                  </a:lnTo>
                  <a:lnTo>
                    <a:pt x="3539" y="3621"/>
                  </a:lnTo>
                  <a:lnTo>
                    <a:pt x="3651" y="3621"/>
                  </a:lnTo>
                  <a:lnTo>
                    <a:pt x="3663" y="3683"/>
                  </a:lnTo>
                  <a:lnTo>
                    <a:pt x="3607" y="3732"/>
                  </a:lnTo>
                  <a:lnTo>
                    <a:pt x="3432" y="4025"/>
                  </a:lnTo>
                  <a:lnTo>
                    <a:pt x="3415" y="4075"/>
                  </a:lnTo>
                  <a:lnTo>
                    <a:pt x="3339" y="4126"/>
                  </a:lnTo>
                  <a:lnTo>
                    <a:pt x="3308" y="4182"/>
                  </a:lnTo>
                  <a:lnTo>
                    <a:pt x="3170" y="4261"/>
                  </a:lnTo>
                  <a:lnTo>
                    <a:pt x="3077" y="4318"/>
                  </a:lnTo>
                  <a:lnTo>
                    <a:pt x="2984" y="4368"/>
                  </a:lnTo>
                  <a:lnTo>
                    <a:pt x="2891" y="4430"/>
                  </a:lnTo>
                  <a:lnTo>
                    <a:pt x="2779" y="4475"/>
                  </a:lnTo>
                  <a:lnTo>
                    <a:pt x="2641" y="4523"/>
                  </a:lnTo>
                  <a:lnTo>
                    <a:pt x="2497" y="4574"/>
                  </a:lnTo>
                  <a:lnTo>
                    <a:pt x="2342" y="4616"/>
                  </a:lnTo>
                  <a:lnTo>
                    <a:pt x="2212" y="4647"/>
                  </a:lnTo>
                  <a:lnTo>
                    <a:pt x="2080" y="4680"/>
                  </a:lnTo>
                  <a:lnTo>
                    <a:pt x="1982" y="4692"/>
                  </a:lnTo>
                  <a:lnTo>
                    <a:pt x="1968" y="4692"/>
                  </a:lnTo>
                  <a:lnTo>
                    <a:pt x="2038" y="4506"/>
                  </a:lnTo>
                  <a:lnTo>
                    <a:pt x="2030" y="4461"/>
                  </a:lnTo>
                  <a:lnTo>
                    <a:pt x="1844" y="4387"/>
                  </a:lnTo>
                  <a:lnTo>
                    <a:pt x="1762" y="4275"/>
                  </a:lnTo>
                  <a:lnTo>
                    <a:pt x="1526" y="4120"/>
                  </a:lnTo>
                  <a:lnTo>
                    <a:pt x="1526" y="4069"/>
                  </a:lnTo>
                  <a:lnTo>
                    <a:pt x="1594" y="4025"/>
                  </a:lnTo>
                  <a:lnTo>
                    <a:pt x="1551" y="3994"/>
                  </a:lnTo>
                  <a:lnTo>
                    <a:pt x="1551" y="3945"/>
                  </a:lnTo>
                  <a:lnTo>
                    <a:pt x="1689" y="3850"/>
                  </a:lnTo>
                  <a:lnTo>
                    <a:pt x="1700" y="3813"/>
                  </a:lnTo>
                  <a:lnTo>
                    <a:pt x="1737" y="3807"/>
                  </a:lnTo>
                  <a:lnTo>
                    <a:pt x="1737" y="3714"/>
                  </a:lnTo>
                  <a:lnTo>
                    <a:pt x="1675" y="3621"/>
                  </a:lnTo>
                  <a:lnTo>
                    <a:pt x="1638" y="3596"/>
                  </a:lnTo>
                  <a:lnTo>
                    <a:pt x="1551" y="3639"/>
                  </a:lnTo>
                  <a:lnTo>
                    <a:pt x="1452" y="3608"/>
                  </a:lnTo>
                  <a:lnTo>
                    <a:pt x="1334" y="3526"/>
                  </a:lnTo>
                  <a:lnTo>
                    <a:pt x="1208" y="3346"/>
                  </a:lnTo>
                  <a:lnTo>
                    <a:pt x="847" y="3171"/>
                  </a:lnTo>
                  <a:lnTo>
                    <a:pt x="785" y="3154"/>
                  </a:lnTo>
                  <a:lnTo>
                    <a:pt x="636" y="3078"/>
                  </a:lnTo>
                  <a:lnTo>
                    <a:pt x="380" y="2842"/>
                  </a:lnTo>
                  <a:lnTo>
                    <a:pt x="405" y="2768"/>
                  </a:lnTo>
                  <a:lnTo>
                    <a:pt x="312" y="2562"/>
                  </a:lnTo>
                  <a:lnTo>
                    <a:pt x="230" y="2219"/>
                  </a:lnTo>
                  <a:lnTo>
                    <a:pt x="168" y="2188"/>
                  </a:lnTo>
                  <a:lnTo>
                    <a:pt x="162" y="2250"/>
                  </a:lnTo>
                  <a:lnTo>
                    <a:pt x="219" y="2523"/>
                  </a:lnTo>
                  <a:lnTo>
                    <a:pt x="250" y="2617"/>
                  </a:lnTo>
                  <a:lnTo>
                    <a:pt x="230" y="2655"/>
                  </a:lnTo>
                  <a:lnTo>
                    <a:pt x="168" y="2554"/>
                  </a:lnTo>
                  <a:lnTo>
                    <a:pt x="155" y="2438"/>
                  </a:lnTo>
                  <a:lnTo>
                    <a:pt x="112" y="2362"/>
                  </a:lnTo>
                  <a:lnTo>
                    <a:pt x="124" y="2331"/>
                  </a:lnTo>
                  <a:lnTo>
                    <a:pt x="62" y="2008"/>
                  </a:lnTo>
                  <a:lnTo>
                    <a:pt x="62" y="2008"/>
                  </a:lnTo>
                  <a:lnTo>
                    <a:pt x="62" y="2008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52960" y="3142440"/>
              <a:ext cx="986400" cy="1257480"/>
            </a:xfrm>
            <a:custGeom>
              <a:avLst/>
              <a:gdLst/>
              <a:ahLst/>
              <a:rect l="l" t="t" r="r" b="b"/>
              <a:pathLst>
                <a:path w="3663" h="4692">
                  <a:moveTo>
                    <a:pt x="62" y="2008"/>
                  </a:moveTo>
                  <a:lnTo>
                    <a:pt x="38" y="1988"/>
                  </a:lnTo>
                  <a:lnTo>
                    <a:pt x="50" y="1633"/>
                  </a:lnTo>
                  <a:lnTo>
                    <a:pt x="236" y="1298"/>
                  </a:lnTo>
                  <a:lnTo>
                    <a:pt x="281" y="1303"/>
                  </a:lnTo>
                  <a:lnTo>
                    <a:pt x="298" y="1160"/>
                  </a:lnTo>
                  <a:lnTo>
                    <a:pt x="250" y="1086"/>
                  </a:lnTo>
                  <a:lnTo>
                    <a:pt x="343" y="724"/>
                  </a:lnTo>
                  <a:lnTo>
                    <a:pt x="312" y="698"/>
                  </a:lnTo>
                  <a:lnTo>
                    <a:pt x="323" y="599"/>
                  </a:lnTo>
                  <a:lnTo>
                    <a:pt x="298" y="425"/>
                  </a:lnTo>
                  <a:lnTo>
                    <a:pt x="199" y="400"/>
                  </a:lnTo>
                  <a:lnTo>
                    <a:pt x="329" y="363"/>
                  </a:lnTo>
                  <a:lnTo>
                    <a:pt x="155" y="363"/>
                  </a:lnTo>
                  <a:lnTo>
                    <a:pt x="0" y="332"/>
                  </a:lnTo>
                  <a:lnTo>
                    <a:pt x="0" y="312"/>
                  </a:lnTo>
                  <a:lnTo>
                    <a:pt x="155" y="301"/>
                  </a:lnTo>
                  <a:lnTo>
                    <a:pt x="124" y="270"/>
                  </a:lnTo>
                  <a:lnTo>
                    <a:pt x="174" y="157"/>
                  </a:lnTo>
                  <a:lnTo>
                    <a:pt x="236" y="113"/>
                  </a:lnTo>
                  <a:lnTo>
                    <a:pt x="354" y="144"/>
                  </a:lnTo>
                  <a:lnTo>
                    <a:pt x="385" y="113"/>
                  </a:lnTo>
                  <a:lnTo>
                    <a:pt x="368" y="64"/>
                  </a:lnTo>
                  <a:lnTo>
                    <a:pt x="424" y="20"/>
                  </a:lnTo>
                  <a:lnTo>
                    <a:pt x="467" y="70"/>
                  </a:lnTo>
                  <a:lnTo>
                    <a:pt x="529" y="39"/>
                  </a:lnTo>
                  <a:lnTo>
                    <a:pt x="543" y="0"/>
                  </a:lnTo>
                  <a:lnTo>
                    <a:pt x="574" y="8"/>
                  </a:lnTo>
                  <a:lnTo>
                    <a:pt x="641" y="0"/>
                  </a:lnTo>
                  <a:lnTo>
                    <a:pt x="678" y="33"/>
                  </a:lnTo>
                  <a:lnTo>
                    <a:pt x="729" y="301"/>
                  </a:lnTo>
                  <a:lnTo>
                    <a:pt x="729" y="332"/>
                  </a:lnTo>
                  <a:lnTo>
                    <a:pt x="872" y="380"/>
                  </a:lnTo>
                  <a:lnTo>
                    <a:pt x="1064" y="625"/>
                  </a:lnTo>
                  <a:lnTo>
                    <a:pt x="1140" y="630"/>
                  </a:lnTo>
                  <a:lnTo>
                    <a:pt x="1190" y="667"/>
                  </a:lnTo>
                  <a:lnTo>
                    <a:pt x="1359" y="706"/>
                  </a:lnTo>
                  <a:lnTo>
                    <a:pt x="1376" y="661"/>
                  </a:lnTo>
                  <a:lnTo>
                    <a:pt x="1359" y="580"/>
                  </a:lnTo>
                  <a:lnTo>
                    <a:pt x="1376" y="518"/>
                  </a:lnTo>
                  <a:lnTo>
                    <a:pt x="1402" y="549"/>
                  </a:lnTo>
                  <a:lnTo>
                    <a:pt x="1413" y="667"/>
                  </a:lnTo>
                  <a:lnTo>
                    <a:pt x="1446" y="693"/>
                  </a:lnTo>
                  <a:lnTo>
                    <a:pt x="1452" y="731"/>
                  </a:lnTo>
                  <a:lnTo>
                    <a:pt x="1501" y="749"/>
                  </a:lnTo>
                  <a:lnTo>
                    <a:pt x="1551" y="656"/>
                  </a:lnTo>
                  <a:lnTo>
                    <a:pt x="1576" y="675"/>
                  </a:lnTo>
                  <a:lnTo>
                    <a:pt x="1576" y="768"/>
                  </a:lnTo>
                  <a:lnTo>
                    <a:pt x="1520" y="805"/>
                  </a:lnTo>
                  <a:lnTo>
                    <a:pt x="1247" y="1078"/>
                  </a:lnTo>
                  <a:lnTo>
                    <a:pt x="1278" y="1135"/>
                  </a:lnTo>
                  <a:lnTo>
                    <a:pt x="1270" y="1216"/>
                  </a:lnTo>
                  <a:lnTo>
                    <a:pt x="1458" y="1321"/>
                  </a:lnTo>
                  <a:lnTo>
                    <a:pt x="1514" y="1329"/>
                  </a:lnTo>
                  <a:lnTo>
                    <a:pt x="1508" y="1402"/>
                  </a:lnTo>
                  <a:lnTo>
                    <a:pt x="1576" y="1521"/>
                  </a:lnTo>
                  <a:lnTo>
                    <a:pt x="1625" y="1534"/>
                  </a:lnTo>
                  <a:lnTo>
                    <a:pt x="1650" y="1503"/>
                  </a:lnTo>
                  <a:lnTo>
                    <a:pt x="1658" y="1366"/>
                  </a:lnTo>
                  <a:lnTo>
                    <a:pt x="1700" y="1346"/>
                  </a:lnTo>
                  <a:lnTo>
                    <a:pt x="1700" y="1222"/>
                  </a:lnTo>
                  <a:lnTo>
                    <a:pt x="1658" y="1135"/>
                  </a:lnTo>
                  <a:lnTo>
                    <a:pt x="1695" y="1104"/>
                  </a:lnTo>
                  <a:lnTo>
                    <a:pt x="1675" y="991"/>
                  </a:lnTo>
                  <a:lnTo>
                    <a:pt x="1869" y="1047"/>
                  </a:lnTo>
                  <a:lnTo>
                    <a:pt x="1881" y="1098"/>
                  </a:lnTo>
                  <a:lnTo>
                    <a:pt x="1925" y="1160"/>
                  </a:lnTo>
                  <a:lnTo>
                    <a:pt x="1999" y="1166"/>
                  </a:lnTo>
                  <a:lnTo>
                    <a:pt x="1987" y="1078"/>
                  </a:lnTo>
                  <a:lnTo>
                    <a:pt x="2156" y="1253"/>
                  </a:lnTo>
                  <a:lnTo>
                    <a:pt x="2212" y="1278"/>
                  </a:lnTo>
                  <a:lnTo>
                    <a:pt x="2362" y="1433"/>
                  </a:lnTo>
                  <a:lnTo>
                    <a:pt x="2269" y="1521"/>
                  </a:lnTo>
                  <a:lnTo>
                    <a:pt x="2049" y="1577"/>
                  </a:lnTo>
                  <a:lnTo>
                    <a:pt x="1956" y="1709"/>
                  </a:lnTo>
                  <a:lnTo>
                    <a:pt x="1987" y="1709"/>
                  </a:lnTo>
                  <a:lnTo>
                    <a:pt x="2123" y="1614"/>
                  </a:lnTo>
                  <a:lnTo>
                    <a:pt x="2162" y="1614"/>
                  </a:lnTo>
                  <a:lnTo>
                    <a:pt x="2156" y="1689"/>
                  </a:lnTo>
                  <a:lnTo>
                    <a:pt x="2187" y="1757"/>
                  </a:lnTo>
                  <a:lnTo>
                    <a:pt x="2311" y="1695"/>
                  </a:lnTo>
                  <a:lnTo>
                    <a:pt x="2317" y="1726"/>
                  </a:lnTo>
                  <a:lnTo>
                    <a:pt x="2131" y="1895"/>
                  </a:lnTo>
                  <a:lnTo>
                    <a:pt x="2117" y="1864"/>
                  </a:lnTo>
                  <a:lnTo>
                    <a:pt x="2143" y="1827"/>
                  </a:lnTo>
                  <a:lnTo>
                    <a:pt x="2131" y="1796"/>
                  </a:lnTo>
                  <a:lnTo>
                    <a:pt x="2007" y="1883"/>
                  </a:lnTo>
                  <a:lnTo>
                    <a:pt x="1956" y="1971"/>
                  </a:lnTo>
                  <a:lnTo>
                    <a:pt x="1976" y="2013"/>
                  </a:lnTo>
                  <a:lnTo>
                    <a:pt x="1850" y="2101"/>
                  </a:lnTo>
                  <a:lnTo>
                    <a:pt x="1832" y="2157"/>
                  </a:lnTo>
                  <a:lnTo>
                    <a:pt x="1788" y="2213"/>
                  </a:lnTo>
                  <a:lnTo>
                    <a:pt x="1776" y="2343"/>
                  </a:lnTo>
                  <a:lnTo>
                    <a:pt x="1576" y="2492"/>
                  </a:lnTo>
                  <a:lnTo>
                    <a:pt x="1532" y="2642"/>
                  </a:lnTo>
                  <a:lnTo>
                    <a:pt x="1557" y="2686"/>
                  </a:lnTo>
                  <a:lnTo>
                    <a:pt x="1594" y="2768"/>
                  </a:lnTo>
                  <a:lnTo>
                    <a:pt x="1588" y="2810"/>
                  </a:lnTo>
                  <a:lnTo>
                    <a:pt x="1551" y="2830"/>
                  </a:lnTo>
                  <a:lnTo>
                    <a:pt x="1458" y="2605"/>
                  </a:lnTo>
                  <a:lnTo>
                    <a:pt x="1365" y="2605"/>
                  </a:lnTo>
                  <a:lnTo>
                    <a:pt x="1345" y="2580"/>
                  </a:lnTo>
                  <a:lnTo>
                    <a:pt x="1190" y="2562"/>
                  </a:lnTo>
                  <a:lnTo>
                    <a:pt x="1190" y="2624"/>
                  </a:lnTo>
                  <a:lnTo>
                    <a:pt x="1171" y="2624"/>
                  </a:lnTo>
                  <a:lnTo>
                    <a:pt x="1089" y="2586"/>
                  </a:lnTo>
                  <a:lnTo>
                    <a:pt x="822" y="2617"/>
                  </a:lnTo>
                  <a:lnTo>
                    <a:pt x="760" y="2923"/>
                  </a:lnTo>
                  <a:lnTo>
                    <a:pt x="816" y="2985"/>
                  </a:lnTo>
                  <a:lnTo>
                    <a:pt x="828" y="3047"/>
                  </a:lnTo>
                  <a:lnTo>
                    <a:pt x="1016" y="3123"/>
                  </a:lnTo>
                  <a:lnTo>
                    <a:pt x="1103" y="3078"/>
                  </a:lnTo>
                  <a:lnTo>
                    <a:pt x="1109" y="3047"/>
                  </a:lnTo>
                  <a:lnTo>
                    <a:pt x="1126" y="3016"/>
                  </a:lnTo>
                  <a:lnTo>
                    <a:pt x="1227" y="3016"/>
                  </a:lnTo>
                  <a:lnTo>
                    <a:pt x="1227" y="3047"/>
                  </a:lnTo>
                  <a:lnTo>
                    <a:pt x="1126" y="3235"/>
                  </a:lnTo>
                  <a:lnTo>
                    <a:pt x="1376" y="3284"/>
                  </a:lnTo>
                  <a:lnTo>
                    <a:pt x="1421" y="3340"/>
                  </a:lnTo>
                  <a:lnTo>
                    <a:pt x="1390" y="3439"/>
                  </a:lnTo>
                  <a:lnTo>
                    <a:pt x="1408" y="3515"/>
                  </a:lnTo>
                  <a:lnTo>
                    <a:pt x="1514" y="3590"/>
                  </a:lnTo>
                  <a:lnTo>
                    <a:pt x="1551" y="3590"/>
                  </a:lnTo>
                  <a:lnTo>
                    <a:pt x="1638" y="3577"/>
                  </a:lnTo>
                  <a:lnTo>
                    <a:pt x="1751" y="3652"/>
                  </a:lnTo>
                  <a:lnTo>
                    <a:pt x="1857" y="3515"/>
                  </a:lnTo>
                  <a:lnTo>
                    <a:pt x="1894" y="3515"/>
                  </a:lnTo>
                  <a:lnTo>
                    <a:pt x="2007" y="3439"/>
                  </a:lnTo>
                  <a:lnTo>
                    <a:pt x="2030" y="3577"/>
                  </a:lnTo>
                  <a:lnTo>
                    <a:pt x="2061" y="3565"/>
                  </a:lnTo>
                  <a:lnTo>
                    <a:pt x="2061" y="3503"/>
                  </a:lnTo>
                  <a:lnTo>
                    <a:pt x="2162" y="3452"/>
                  </a:lnTo>
                  <a:lnTo>
                    <a:pt x="2205" y="3484"/>
                  </a:lnTo>
                  <a:lnTo>
                    <a:pt x="2379" y="3472"/>
                  </a:lnTo>
                  <a:lnTo>
                    <a:pt x="2424" y="3439"/>
                  </a:lnTo>
                  <a:lnTo>
                    <a:pt x="2497" y="3439"/>
                  </a:lnTo>
                  <a:lnTo>
                    <a:pt x="2497" y="3464"/>
                  </a:lnTo>
                  <a:lnTo>
                    <a:pt x="2810" y="3559"/>
                  </a:lnTo>
                  <a:lnTo>
                    <a:pt x="2934" y="3546"/>
                  </a:lnTo>
                  <a:lnTo>
                    <a:pt x="3077" y="3652"/>
                  </a:lnTo>
                  <a:lnTo>
                    <a:pt x="3089" y="3703"/>
                  </a:lnTo>
                  <a:lnTo>
                    <a:pt x="3263" y="3683"/>
                  </a:lnTo>
                  <a:lnTo>
                    <a:pt x="3539" y="3621"/>
                  </a:lnTo>
                  <a:lnTo>
                    <a:pt x="3651" y="3621"/>
                  </a:lnTo>
                  <a:lnTo>
                    <a:pt x="3663" y="3683"/>
                  </a:lnTo>
                  <a:lnTo>
                    <a:pt x="3607" y="3732"/>
                  </a:lnTo>
                  <a:lnTo>
                    <a:pt x="3432" y="4025"/>
                  </a:lnTo>
                  <a:lnTo>
                    <a:pt x="3415" y="4075"/>
                  </a:lnTo>
                  <a:lnTo>
                    <a:pt x="3339" y="4126"/>
                  </a:lnTo>
                  <a:lnTo>
                    <a:pt x="3308" y="4182"/>
                  </a:lnTo>
                  <a:lnTo>
                    <a:pt x="3170" y="4261"/>
                  </a:lnTo>
                  <a:lnTo>
                    <a:pt x="3077" y="4318"/>
                  </a:lnTo>
                  <a:lnTo>
                    <a:pt x="2984" y="4368"/>
                  </a:lnTo>
                  <a:lnTo>
                    <a:pt x="2891" y="4430"/>
                  </a:lnTo>
                  <a:lnTo>
                    <a:pt x="2779" y="4475"/>
                  </a:lnTo>
                  <a:lnTo>
                    <a:pt x="2641" y="4523"/>
                  </a:lnTo>
                  <a:lnTo>
                    <a:pt x="2497" y="4574"/>
                  </a:lnTo>
                  <a:lnTo>
                    <a:pt x="2342" y="4616"/>
                  </a:lnTo>
                  <a:lnTo>
                    <a:pt x="2212" y="4647"/>
                  </a:lnTo>
                  <a:lnTo>
                    <a:pt x="2080" y="4680"/>
                  </a:lnTo>
                  <a:lnTo>
                    <a:pt x="1982" y="4692"/>
                  </a:lnTo>
                  <a:lnTo>
                    <a:pt x="1968" y="4692"/>
                  </a:lnTo>
                  <a:lnTo>
                    <a:pt x="2038" y="4506"/>
                  </a:lnTo>
                  <a:lnTo>
                    <a:pt x="2030" y="4461"/>
                  </a:lnTo>
                  <a:lnTo>
                    <a:pt x="1844" y="4387"/>
                  </a:lnTo>
                  <a:lnTo>
                    <a:pt x="1762" y="4275"/>
                  </a:lnTo>
                  <a:lnTo>
                    <a:pt x="1526" y="4120"/>
                  </a:lnTo>
                  <a:lnTo>
                    <a:pt x="1526" y="4069"/>
                  </a:lnTo>
                  <a:lnTo>
                    <a:pt x="1594" y="4025"/>
                  </a:lnTo>
                  <a:lnTo>
                    <a:pt x="1551" y="3994"/>
                  </a:lnTo>
                  <a:lnTo>
                    <a:pt x="1551" y="3945"/>
                  </a:lnTo>
                  <a:lnTo>
                    <a:pt x="1689" y="3850"/>
                  </a:lnTo>
                  <a:lnTo>
                    <a:pt x="1700" y="3813"/>
                  </a:lnTo>
                  <a:lnTo>
                    <a:pt x="1737" y="3807"/>
                  </a:lnTo>
                  <a:lnTo>
                    <a:pt x="1737" y="3714"/>
                  </a:lnTo>
                  <a:lnTo>
                    <a:pt x="1675" y="3621"/>
                  </a:lnTo>
                  <a:lnTo>
                    <a:pt x="1638" y="3596"/>
                  </a:lnTo>
                  <a:lnTo>
                    <a:pt x="1551" y="3639"/>
                  </a:lnTo>
                  <a:lnTo>
                    <a:pt x="1452" y="3608"/>
                  </a:lnTo>
                  <a:lnTo>
                    <a:pt x="1334" y="3526"/>
                  </a:lnTo>
                  <a:lnTo>
                    <a:pt x="1208" y="3346"/>
                  </a:lnTo>
                  <a:lnTo>
                    <a:pt x="847" y="3171"/>
                  </a:lnTo>
                  <a:lnTo>
                    <a:pt x="785" y="3154"/>
                  </a:lnTo>
                  <a:lnTo>
                    <a:pt x="636" y="3078"/>
                  </a:lnTo>
                  <a:lnTo>
                    <a:pt x="380" y="2842"/>
                  </a:lnTo>
                  <a:lnTo>
                    <a:pt x="405" y="2768"/>
                  </a:lnTo>
                  <a:lnTo>
                    <a:pt x="312" y="2562"/>
                  </a:lnTo>
                  <a:lnTo>
                    <a:pt x="230" y="2219"/>
                  </a:lnTo>
                  <a:lnTo>
                    <a:pt x="168" y="2188"/>
                  </a:lnTo>
                  <a:lnTo>
                    <a:pt x="162" y="2250"/>
                  </a:lnTo>
                  <a:lnTo>
                    <a:pt x="219" y="2523"/>
                  </a:lnTo>
                  <a:lnTo>
                    <a:pt x="250" y="2617"/>
                  </a:lnTo>
                  <a:lnTo>
                    <a:pt x="230" y="2655"/>
                  </a:lnTo>
                  <a:lnTo>
                    <a:pt x="168" y="2554"/>
                  </a:lnTo>
                  <a:lnTo>
                    <a:pt x="155" y="2438"/>
                  </a:lnTo>
                  <a:lnTo>
                    <a:pt x="112" y="2362"/>
                  </a:lnTo>
                  <a:lnTo>
                    <a:pt x="124" y="2331"/>
                  </a:lnTo>
                  <a:lnTo>
                    <a:pt x="62" y="2008"/>
                  </a:lnTo>
                  <a:lnTo>
                    <a:pt x="62" y="20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592840" y="3239280"/>
              <a:ext cx="96120" cy="84960"/>
            </a:xfrm>
            <a:custGeom>
              <a:avLst/>
              <a:gdLst/>
              <a:ahLst/>
              <a:rect l="l" t="t" r="r" b="b"/>
              <a:pathLst>
                <a:path w="357" h="318">
                  <a:moveTo>
                    <a:pt x="0" y="0"/>
                  </a:moveTo>
                  <a:lnTo>
                    <a:pt x="14" y="11"/>
                  </a:lnTo>
                  <a:lnTo>
                    <a:pt x="33" y="74"/>
                  </a:lnTo>
                  <a:lnTo>
                    <a:pt x="50" y="93"/>
                  </a:lnTo>
                  <a:lnTo>
                    <a:pt x="112" y="124"/>
                  </a:lnTo>
                  <a:lnTo>
                    <a:pt x="143" y="143"/>
                  </a:lnTo>
                  <a:lnTo>
                    <a:pt x="157" y="124"/>
                  </a:lnTo>
                  <a:lnTo>
                    <a:pt x="188" y="124"/>
                  </a:lnTo>
                  <a:lnTo>
                    <a:pt x="239" y="155"/>
                  </a:lnTo>
                  <a:lnTo>
                    <a:pt x="250" y="186"/>
                  </a:lnTo>
                  <a:lnTo>
                    <a:pt x="301" y="231"/>
                  </a:lnTo>
                  <a:lnTo>
                    <a:pt x="326" y="231"/>
                  </a:lnTo>
                  <a:lnTo>
                    <a:pt x="326" y="273"/>
                  </a:lnTo>
                  <a:lnTo>
                    <a:pt x="343" y="304"/>
                  </a:lnTo>
                  <a:lnTo>
                    <a:pt x="357" y="318"/>
                  </a:lnTo>
                  <a:lnTo>
                    <a:pt x="357" y="136"/>
                  </a:lnTo>
                  <a:lnTo>
                    <a:pt x="326" y="124"/>
                  </a:lnTo>
                  <a:lnTo>
                    <a:pt x="301" y="93"/>
                  </a:lnTo>
                  <a:lnTo>
                    <a:pt x="250" y="93"/>
                  </a:lnTo>
                  <a:lnTo>
                    <a:pt x="176" y="68"/>
                  </a:lnTo>
                  <a:lnTo>
                    <a:pt x="143" y="74"/>
                  </a:lnTo>
                  <a:lnTo>
                    <a:pt x="126" y="62"/>
                  </a:lnTo>
                  <a:lnTo>
                    <a:pt x="112" y="42"/>
                  </a:lnTo>
                  <a:lnTo>
                    <a:pt x="95" y="42"/>
                  </a:lnTo>
                  <a:lnTo>
                    <a:pt x="76" y="62"/>
                  </a:lnTo>
                  <a:lnTo>
                    <a:pt x="64" y="31"/>
                  </a:lnTo>
                  <a:lnTo>
                    <a:pt x="45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592840" y="3239280"/>
              <a:ext cx="96120" cy="84960"/>
            </a:xfrm>
            <a:custGeom>
              <a:avLst/>
              <a:gdLst/>
              <a:ahLst/>
              <a:rect l="l" t="t" r="r" b="b"/>
              <a:pathLst>
                <a:path w="357" h="318">
                  <a:moveTo>
                    <a:pt x="0" y="0"/>
                  </a:moveTo>
                  <a:lnTo>
                    <a:pt x="14" y="11"/>
                  </a:lnTo>
                  <a:lnTo>
                    <a:pt x="33" y="74"/>
                  </a:lnTo>
                  <a:lnTo>
                    <a:pt x="50" y="93"/>
                  </a:lnTo>
                  <a:lnTo>
                    <a:pt x="112" y="124"/>
                  </a:lnTo>
                  <a:lnTo>
                    <a:pt x="143" y="143"/>
                  </a:lnTo>
                  <a:lnTo>
                    <a:pt x="157" y="124"/>
                  </a:lnTo>
                  <a:lnTo>
                    <a:pt x="188" y="124"/>
                  </a:lnTo>
                  <a:lnTo>
                    <a:pt x="239" y="155"/>
                  </a:lnTo>
                  <a:lnTo>
                    <a:pt x="250" y="186"/>
                  </a:lnTo>
                  <a:lnTo>
                    <a:pt x="301" y="231"/>
                  </a:lnTo>
                  <a:lnTo>
                    <a:pt x="326" y="231"/>
                  </a:lnTo>
                  <a:lnTo>
                    <a:pt x="326" y="273"/>
                  </a:lnTo>
                  <a:lnTo>
                    <a:pt x="343" y="304"/>
                  </a:lnTo>
                  <a:lnTo>
                    <a:pt x="357" y="318"/>
                  </a:lnTo>
                  <a:lnTo>
                    <a:pt x="357" y="136"/>
                  </a:lnTo>
                  <a:lnTo>
                    <a:pt x="326" y="124"/>
                  </a:lnTo>
                  <a:lnTo>
                    <a:pt x="301" y="93"/>
                  </a:lnTo>
                  <a:lnTo>
                    <a:pt x="250" y="93"/>
                  </a:lnTo>
                  <a:lnTo>
                    <a:pt x="176" y="68"/>
                  </a:lnTo>
                  <a:lnTo>
                    <a:pt x="143" y="74"/>
                  </a:lnTo>
                  <a:lnTo>
                    <a:pt x="126" y="62"/>
                  </a:lnTo>
                  <a:lnTo>
                    <a:pt x="112" y="42"/>
                  </a:lnTo>
                  <a:lnTo>
                    <a:pt x="95" y="42"/>
                  </a:lnTo>
                  <a:lnTo>
                    <a:pt x="76" y="62"/>
                  </a:lnTo>
                  <a:lnTo>
                    <a:pt x="64" y="31"/>
                  </a:lnTo>
                  <a:lnTo>
                    <a:pt x="45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29920" y="3289320"/>
              <a:ext cx="30600" cy="42120"/>
            </a:xfrm>
            <a:custGeom>
              <a:avLst/>
              <a:gdLst/>
              <a:ahLst/>
              <a:rect l="l" t="t" r="r" b="b"/>
              <a:pathLst>
                <a:path w="112" h="157">
                  <a:moveTo>
                    <a:pt x="112" y="144"/>
                  </a:moveTo>
                  <a:lnTo>
                    <a:pt x="101" y="157"/>
                  </a:lnTo>
                  <a:lnTo>
                    <a:pt x="81" y="144"/>
                  </a:lnTo>
                  <a:lnTo>
                    <a:pt x="62" y="107"/>
                  </a:lnTo>
                  <a:lnTo>
                    <a:pt x="5" y="9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1" y="14"/>
                  </a:lnTo>
                  <a:lnTo>
                    <a:pt x="62" y="56"/>
                  </a:lnTo>
                  <a:lnTo>
                    <a:pt x="81" y="70"/>
                  </a:lnTo>
                  <a:lnTo>
                    <a:pt x="95" y="81"/>
                  </a:lnTo>
                  <a:lnTo>
                    <a:pt x="112" y="144"/>
                  </a:lnTo>
                  <a:lnTo>
                    <a:pt x="112" y="144"/>
                  </a:lnTo>
                  <a:lnTo>
                    <a:pt x="112" y="1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629920" y="3289320"/>
              <a:ext cx="30600" cy="42120"/>
            </a:xfrm>
            <a:custGeom>
              <a:avLst/>
              <a:gdLst/>
              <a:ahLst/>
              <a:rect l="l" t="t" r="r" b="b"/>
              <a:pathLst>
                <a:path w="112" h="157">
                  <a:moveTo>
                    <a:pt x="112" y="144"/>
                  </a:moveTo>
                  <a:lnTo>
                    <a:pt x="101" y="157"/>
                  </a:lnTo>
                  <a:lnTo>
                    <a:pt x="81" y="144"/>
                  </a:lnTo>
                  <a:lnTo>
                    <a:pt x="62" y="107"/>
                  </a:lnTo>
                  <a:lnTo>
                    <a:pt x="5" y="9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1" y="14"/>
                  </a:lnTo>
                  <a:lnTo>
                    <a:pt x="62" y="56"/>
                  </a:lnTo>
                  <a:lnTo>
                    <a:pt x="81" y="70"/>
                  </a:lnTo>
                  <a:lnTo>
                    <a:pt x="95" y="81"/>
                  </a:lnTo>
                  <a:lnTo>
                    <a:pt x="112" y="144"/>
                  </a:lnTo>
                  <a:lnTo>
                    <a:pt x="112" y="144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7240" y="3159720"/>
              <a:ext cx="61560" cy="79560"/>
            </a:xfrm>
            <a:custGeom>
              <a:avLst/>
              <a:gdLst/>
              <a:ahLst/>
              <a:rect l="l" t="t" r="r" b="b"/>
              <a:pathLst>
                <a:path w="230" h="299">
                  <a:moveTo>
                    <a:pt x="0" y="254"/>
                  </a:moveTo>
                  <a:lnTo>
                    <a:pt x="19" y="237"/>
                  </a:lnTo>
                  <a:lnTo>
                    <a:pt x="75" y="237"/>
                  </a:lnTo>
                  <a:lnTo>
                    <a:pt x="81" y="212"/>
                  </a:lnTo>
                  <a:lnTo>
                    <a:pt x="69" y="144"/>
                  </a:lnTo>
                  <a:lnTo>
                    <a:pt x="124" y="99"/>
                  </a:lnTo>
                  <a:lnTo>
                    <a:pt x="75" y="80"/>
                  </a:lnTo>
                  <a:lnTo>
                    <a:pt x="50" y="49"/>
                  </a:lnTo>
                  <a:lnTo>
                    <a:pt x="62" y="18"/>
                  </a:lnTo>
                  <a:lnTo>
                    <a:pt x="174" y="18"/>
                  </a:lnTo>
                  <a:lnTo>
                    <a:pt x="205" y="0"/>
                  </a:lnTo>
                  <a:lnTo>
                    <a:pt x="230" y="0"/>
                  </a:lnTo>
                  <a:lnTo>
                    <a:pt x="199" y="80"/>
                  </a:lnTo>
                  <a:lnTo>
                    <a:pt x="205" y="144"/>
                  </a:lnTo>
                  <a:lnTo>
                    <a:pt x="188" y="149"/>
                  </a:lnTo>
                  <a:lnTo>
                    <a:pt x="168" y="144"/>
                  </a:lnTo>
                  <a:lnTo>
                    <a:pt x="149" y="243"/>
                  </a:lnTo>
                  <a:lnTo>
                    <a:pt x="149" y="299"/>
                  </a:lnTo>
                  <a:lnTo>
                    <a:pt x="124" y="299"/>
                  </a:lnTo>
                  <a:lnTo>
                    <a:pt x="106" y="285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57240" y="3159720"/>
              <a:ext cx="61560" cy="79560"/>
            </a:xfrm>
            <a:custGeom>
              <a:avLst/>
              <a:gdLst/>
              <a:ahLst/>
              <a:rect l="l" t="t" r="r" b="b"/>
              <a:pathLst>
                <a:path w="230" h="299">
                  <a:moveTo>
                    <a:pt x="0" y="254"/>
                  </a:moveTo>
                  <a:lnTo>
                    <a:pt x="19" y="237"/>
                  </a:lnTo>
                  <a:lnTo>
                    <a:pt x="75" y="237"/>
                  </a:lnTo>
                  <a:lnTo>
                    <a:pt x="81" y="212"/>
                  </a:lnTo>
                  <a:lnTo>
                    <a:pt x="69" y="144"/>
                  </a:lnTo>
                  <a:lnTo>
                    <a:pt x="124" y="99"/>
                  </a:lnTo>
                  <a:lnTo>
                    <a:pt x="75" y="80"/>
                  </a:lnTo>
                  <a:lnTo>
                    <a:pt x="50" y="49"/>
                  </a:lnTo>
                  <a:lnTo>
                    <a:pt x="62" y="18"/>
                  </a:lnTo>
                  <a:lnTo>
                    <a:pt x="174" y="18"/>
                  </a:lnTo>
                  <a:lnTo>
                    <a:pt x="205" y="0"/>
                  </a:lnTo>
                  <a:lnTo>
                    <a:pt x="230" y="0"/>
                  </a:lnTo>
                  <a:lnTo>
                    <a:pt x="199" y="80"/>
                  </a:lnTo>
                  <a:lnTo>
                    <a:pt x="205" y="144"/>
                  </a:lnTo>
                  <a:lnTo>
                    <a:pt x="188" y="149"/>
                  </a:lnTo>
                  <a:lnTo>
                    <a:pt x="168" y="144"/>
                  </a:lnTo>
                  <a:lnTo>
                    <a:pt x="149" y="243"/>
                  </a:lnTo>
                  <a:lnTo>
                    <a:pt x="149" y="299"/>
                  </a:lnTo>
                  <a:lnTo>
                    <a:pt x="124" y="299"/>
                  </a:lnTo>
                  <a:lnTo>
                    <a:pt x="106" y="285"/>
                  </a:lnTo>
                  <a:lnTo>
                    <a:pt x="0" y="256"/>
                  </a:lnTo>
                  <a:lnTo>
                    <a:pt x="0" y="256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67920" y="3241080"/>
              <a:ext cx="41400" cy="51840"/>
            </a:xfrm>
            <a:custGeom>
              <a:avLst/>
              <a:gdLst/>
              <a:ahLst/>
              <a:rect l="l" t="t" r="r" b="b"/>
              <a:pathLst>
                <a:path w="155" h="194">
                  <a:moveTo>
                    <a:pt x="155" y="99"/>
                  </a:moveTo>
                  <a:lnTo>
                    <a:pt x="155" y="42"/>
                  </a:lnTo>
                  <a:lnTo>
                    <a:pt x="143" y="25"/>
                  </a:lnTo>
                  <a:lnTo>
                    <a:pt x="124" y="25"/>
                  </a:lnTo>
                  <a:lnTo>
                    <a:pt x="93" y="0"/>
                  </a:lnTo>
                  <a:lnTo>
                    <a:pt x="62" y="31"/>
                  </a:lnTo>
                  <a:lnTo>
                    <a:pt x="42" y="56"/>
                  </a:lnTo>
                  <a:lnTo>
                    <a:pt x="42" y="87"/>
                  </a:lnTo>
                  <a:lnTo>
                    <a:pt x="31" y="87"/>
                  </a:lnTo>
                  <a:lnTo>
                    <a:pt x="0" y="99"/>
                  </a:lnTo>
                  <a:lnTo>
                    <a:pt x="0" y="149"/>
                  </a:lnTo>
                  <a:lnTo>
                    <a:pt x="31" y="149"/>
                  </a:lnTo>
                  <a:lnTo>
                    <a:pt x="62" y="163"/>
                  </a:lnTo>
                  <a:lnTo>
                    <a:pt x="79" y="163"/>
                  </a:lnTo>
                  <a:lnTo>
                    <a:pt x="93" y="194"/>
                  </a:lnTo>
                  <a:lnTo>
                    <a:pt x="110" y="180"/>
                  </a:lnTo>
                  <a:lnTo>
                    <a:pt x="135" y="163"/>
                  </a:lnTo>
                  <a:lnTo>
                    <a:pt x="155" y="99"/>
                  </a:lnTo>
                  <a:lnTo>
                    <a:pt x="155" y="9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467920" y="3241080"/>
              <a:ext cx="41400" cy="51840"/>
            </a:xfrm>
            <a:custGeom>
              <a:avLst/>
              <a:gdLst/>
              <a:ahLst/>
              <a:rect l="l" t="t" r="r" b="b"/>
              <a:pathLst>
                <a:path w="155" h="194">
                  <a:moveTo>
                    <a:pt x="155" y="99"/>
                  </a:moveTo>
                  <a:lnTo>
                    <a:pt x="155" y="42"/>
                  </a:lnTo>
                  <a:lnTo>
                    <a:pt x="143" y="25"/>
                  </a:lnTo>
                  <a:lnTo>
                    <a:pt x="124" y="25"/>
                  </a:lnTo>
                  <a:lnTo>
                    <a:pt x="93" y="0"/>
                  </a:lnTo>
                  <a:lnTo>
                    <a:pt x="62" y="31"/>
                  </a:lnTo>
                  <a:lnTo>
                    <a:pt x="42" y="56"/>
                  </a:lnTo>
                  <a:lnTo>
                    <a:pt x="42" y="87"/>
                  </a:lnTo>
                  <a:lnTo>
                    <a:pt x="31" y="87"/>
                  </a:lnTo>
                  <a:lnTo>
                    <a:pt x="0" y="99"/>
                  </a:lnTo>
                  <a:lnTo>
                    <a:pt x="0" y="149"/>
                  </a:lnTo>
                  <a:lnTo>
                    <a:pt x="31" y="149"/>
                  </a:lnTo>
                  <a:lnTo>
                    <a:pt x="62" y="163"/>
                  </a:lnTo>
                  <a:lnTo>
                    <a:pt x="79" y="163"/>
                  </a:lnTo>
                  <a:lnTo>
                    <a:pt x="93" y="194"/>
                  </a:lnTo>
                  <a:lnTo>
                    <a:pt x="110" y="180"/>
                  </a:lnTo>
                  <a:lnTo>
                    <a:pt x="135" y="163"/>
                  </a:lnTo>
                  <a:lnTo>
                    <a:pt x="155" y="99"/>
                  </a:lnTo>
                  <a:lnTo>
                    <a:pt x="155" y="99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29440" y="3249360"/>
              <a:ext cx="60480" cy="58680"/>
            </a:xfrm>
            <a:custGeom>
              <a:avLst/>
              <a:gdLst/>
              <a:ahLst/>
              <a:rect l="l" t="t" r="r" b="b"/>
              <a:pathLst>
                <a:path w="225" h="219">
                  <a:moveTo>
                    <a:pt x="82" y="5"/>
                  </a:moveTo>
                  <a:lnTo>
                    <a:pt x="37" y="25"/>
                  </a:lnTo>
                  <a:lnTo>
                    <a:pt x="51" y="62"/>
                  </a:lnTo>
                  <a:lnTo>
                    <a:pt x="113" y="87"/>
                  </a:lnTo>
                  <a:lnTo>
                    <a:pt x="125" y="99"/>
                  </a:lnTo>
                  <a:lnTo>
                    <a:pt x="113" y="118"/>
                  </a:lnTo>
                  <a:lnTo>
                    <a:pt x="31" y="87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57" y="149"/>
                  </a:lnTo>
                  <a:lnTo>
                    <a:pt x="125" y="168"/>
                  </a:lnTo>
                  <a:lnTo>
                    <a:pt x="144" y="194"/>
                  </a:lnTo>
                  <a:lnTo>
                    <a:pt x="200" y="219"/>
                  </a:lnTo>
                  <a:lnTo>
                    <a:pt x="212" y="211"/>
                  </a:lnTo>
                  <a:lnTo>
                    <a:pt x="225" y="168"/>
                  </a:lnTo>
                  <a:lnTo>
                    <a:pt x="200" y="137"/>
                  </a:lnTo>
                  <a:lnTo>
                    <a:pt x="200" y="118"/>
                  </a:lnTo>
                  <a:lnTo>
                    <a:pt x="225" y="87"/>
                  </a:lnTo>
                  <a:lnTo>
                    <a:pt x="225" y="37"/>
                  </a:lnTo>
                  <a:lnTo>
                    <a:pt x="212" y="25"/>
                  </a:lnTo>
                  <a:lnTo>
                    <a:pt x="181" y="37"/>
                  </a:lnTo>
                  <a:lnTo>
                    <a:pt x="119" y="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29440" y="3249360"/>
              <a:ext cx="60480" cy="58680"/>
            </a:xfrm>
            <a:custGeom>
              <a:avLst/>
              <a:gdLst/>
              <a:ahLst/>
              <a:rect l="l" t="t" r="r" b="b"/>
              <a:pathLst>
                <a:path w="225" h="219">
                  <a:moveTo>
                    <a:pt x="82" y="5"/>
                  </a:moveTo>
                  <a:lnTo>
                    <a:pt x="37" y="25"/>
                  </a:lnTo>
                  <a:lnTo>
                    <a:pt x="51" y="62"/>
                  </a:lnTo>
                  <a:lnTo>
                    <a:pt x="113" y="87"/>
                  </a:lnTo>
                  <a:lnTo>
                    <a:pt x="125" y="99"/>
                  </a:lnTo>
                  <a:lnTo>
                    <a:pt x="113" y="118"/>
                  </a:lnTo>
                  <a:lnTo>
                    <a:pt x="31" y="87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57" y="149"/>
                  </a:lnTo>
                  <a:lnTo>
                    <a:pt x="125" y="168"/>
                  </a:lnTo>
                  <a:lnTo>
                    <a:pt x="144" y="194"/>
                  </a:lnTo>
                  <a:lnTo>
                    <a:pt x="200" y="219"/>
                  </a:lnTo>
                  <a:lnTo>
                    <a:pt x="212" y="211"/>
                  </a:lnTo>
                  <a:lnTo>
                    <a:pt x="225" y="168"/>
                  </a:lnTo>
                  <a:lnTo>
                    <a:pt x="200" y="137"/>
                  </a:lnTo>
                  <a:lnTo>
                    <a:pt x="200" y="118"/>
                  </a:lnTo>
                  <a:lnTo>
                    <a:pt x="225" y="87"/>
                  </a:lnTo>
                  <a:lnTo>
                    <a:pt x="225" y="37"/>
                  </a:lnTo>
                  <a:lnTo>
                    <a:pt x="212" y="25"/>
                  </a:lnTo>
                  <a:lnTo>
                    <a:pt x="181" y="37"/>
                  </a:lnTo>
                  <a:lnTo>
                    <a:pt x="119" y="0"/>
                  </a:lnTo>
                  <a:lnTo>
                    <a:pt x="82" y="5"/>
                  </a:lnTo>
                  <a:lnTo>
                    <a:pt x="82" y="5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26200" y="3219120"/>
              <a:ext cx="28440" cy="3672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0" y="113"/>
                  </a:moveTo>
                  <a:lnTo>
                    <a:pt x="0" y="76"/>
                  </a:lnTo>
                  <a:lnTo>
                    <a:pt x="37" y="45"/>
                  </a:lnTo>
                  <a:lnTo>
                    <a:pt x="48" y="0"/>
                  </a:lnTo>
                  <a:lnTo>
                    <a:pt x="93" y="20"/>
                  </a:lnTo>
                  <a:lnTo>
                    <a:pt x="104" y="76"/>
                  </a:lnTo>
                  <a:lnTo>
                    <a:pt x="31" y="107"/>
                  </a:lnTo>
                  <a:lnTo>
                    <a:pt x="11" y="138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6200" y="3219120"/>
              <a:ext cx="28440" cy="3672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0" y="113"/>
                  </a:moveTo>
                  <a:lnTo>
                    <a:pt x="0" y="76"/>
                  </a:lnTo>
                  <a:lnTo>
                    <a:pt x="37" y="45"/>
                  </a:lnTo>
                  <a:lnTo>
                    <a:pt x="48" y="0"/>
                  </a:lnTo>
                  <a:lnTo>
                    <a:pt x="93" y="20"/>
                  </a:lnTo>
                  <a:lnTo>
                    <a:pt x="104" y="76"/>
                  </a:lnTo>
                  <a:lnTo>
                    <a:pt x="31" y="107"/>
                  </a:lnTo>
                  <a:lnTo>
                    <a:pt x="11" y="138"/>
                  </a:lnTo>
                  <a:lnTo>
                    <a:pt x="0" y="113"/>
                  </a:lnTo>
                  <a:lnTo>
                    <a:pt x="0" y="113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6560" y="3528360"/>
              <a:ext cx="47160" cy="5472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0" y="99"/>
                  </a:moveTo>
                  <a:lnTo>
                    <a:pt x="45" y="181"/>
                  </a:lnTo>
                  <a:lnTo>
                    <a:pt x="50" y="167"/>
                  </a:lnTo>
                  <a:lnTo>
                    <a:pt x="81" y="173"/>
                  </a:lnTo>
                  <a:lnTo>
                    <a:pt x="81" y="192"/>
                  </a:lnTo>
                  <a:lnTo>
                    <a:pt x="112" y="173"/>
                  </a:lnTo>
                  <a:lnTo>
                    <a:pt x="132" y="186"/>
                  </a:lnTo>
                  <a:lnTo>
                    <a:pt x="143" y="198"/>
                  </a:lnTo>
                  <a:lnTo>
                    <a:pt x="163" y="204"/>
                  </a:lnTo>
                  <a:lnTo>
                    <a:pt x="174" y="173"/>
                  </a:lnTo>
                  <a:lnTo>
                    <a:pt x="143" y="130"/>
                  </a:lnTo>
                  <a:lnTo>
                    <a:pt x="101" y="124"/>
                  </a:lnTo>
                  <a:lnTo>
                    <a:pt x="95" y="99"/>
                  </a:lnTo>
                  <a:lnTo>
                    <a:pt x="56" y="80"/>
                  </a:lnTo>
                  <a:lnTo>
                    <a:pt x="39" y="74"/>
                  </a:lnTo>
                  <a:lnTo>
                    <a:pt x="39" y="12"/>
                  </a:lnTo>
                  <a:lnTo>
                    <a:pt x="25" y="0"/>
                  </a:lnTo>
                  <a:lnTo>
                    <a:pt x="2" y="99"/>
                  </a:lnTo>
                  <a:lnTo>
                    <a:pt x="2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6560" y="3528360"/>
              <a:ext cx="47160" cy="5472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0" y="99"/>
                  </a:moveTo>
                  <a:lnTo>
                    <a:pt x="45" y="181"/>
                  </a:lnTo>
                  <a:lnTo>
                    <a:pt x="50" y="167"/>
                  </a:lnTo>
                  <a:lnTo>
                    <a:pt x="81" y="173"/>
                  </a:lnTo>
                  <a:lnTo>
                    <a:pt x="81" y="192"/>
                  </a:lnTo>
                  <a:lnTo>
                    <a:pt x="112" y="173"/>
                  </a:lnTo>
                  <a:lnTo>
                    <a:pt x="132" y="186"/>
                  </a:lnTo>
                  <a:lnTo>
                    <a:pt x="143" y="198"/>
                  </a:lnTo>
                  <a:lnTo>
                    <a:pt x="163" y="204"/>
                  </a:lnTo>
                  <a:lnTo>
                    <a:pt x="174" y="173"/>
                  </a:lnTo>
                  <a:lnTo>
                    <a:pt x="143" y="130"/>
                  </a:lnTo>
                  <a:lnTo>
                    <a:pt x="101" y="124"/>
                  </a:lnTo>
                  <a:lnTo>
                    <a:pt x="95" y="99"/>
                  </a:lnTo>
                  <a:lnTo>
                    <a:pt x="56" y="80"/>
                  </a:lnTo>
                  <a:lnTo>
                    <a:pt x="39" y="74"/>
                  </a:lnTo>
                  <a:lnTo>
                    <a:pt x="39" y="12"/>
                  </a:lnTo>
                  <a:lnTo>
                    <a:pt x="25" y="0"/>
                  </a:lnTo>
                  <a:lnTo>
                    <a:pt x="2" y="99"/>
                  </a:lnTo>
                  <a:lnTo>
                    <a:pt x="2" y="99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48600" y="3267360"/>
              <a:ext cx="144720" cy="141840"/>
            </a:xfrm>
            <a:custGeom>
              <a:avLst/>
              <a:gdLst/>
              <a:ahLst/>
              <a:rect l="l" t="t" r="r" b="b"/>
              <a:pathLst>
                <a:path w="537" h="529">
                  <a:moveTo>
                    <a:pt x="137" y="168"/>
                  </a:moveTo>
                  <a:lnTo>
                    <a:pt x="194" y="162"/>
                  </a:lnTo>
                  <a:lnTo>
                    <a:pt x="256" y="193"/>
                  </a:lnTo>
                  <a:lnTo>
                    <a:pt x="323" y="292"/>
                  </a:lnTo>
                  <a:lnTo>
                    <a:pt x="275" y="374"/>
                  </a:lnTo>
                  <a:lnTo>
                    <a:pt x="219" y="380"/>
                  </a:lnTo>
                  <a:lnTo>
                    <a:pt x="205" y="405"/>
                  </a:lnTo>
                  <a:lnTo>
                    <a:pt x="230" y="436"/>
                  </a:lnTo>
                  <a:lnTo>
                    <a:pt x="275" y="418"/>
                  </a:lnTo>
                  <a:lnTo>
                    <a:pt x="298" y="418"/>
                  </a:lnTo>
                  <a:lnTo>
                    <a:pt x="387" y="506"/>
                  </a:lnTo>
                  <a:lnTo>
                    <a:pt x="450" y="529"/>
                  </a:lnTo>
                  <a:lnTo>
                    <a:pt x="475" y="523"/>
                  </a:lnTo>
                  <a:lnTo>
                    <a:pt x="467" y="492"/>
                  </a:lnTo>
                  <a:lnTo>
                    <a:pt x="436" y="486"/>
                  </a:lnTo>
                  <a:lnTo>
                    <a:pt x="418" y="455"/>
                  </a:lnTo>
                  <a:lnTo>
                    <a:pt x="450" y="455"/>
                  </a:lnTo>
                  <a:lnTo>
                    <a:pt x="467" y="492"/>
                  </a:lnTo>
                  <a:lnTo>
                    <a:pt x="517" y="481"/>
                  </a:lnTo>
                  <a:lnTo>
                    <a:pt x="506" y="442"/>
                  </a:lnTo>
                  <a:lnTo>
                    <a:pt x="475" y="399"/>
                  </a:lnTo>
                  <a:lnTo>
                    <a:pt x="424" y="380"/>
                  </a:lnTo>
                  <a:lnTo>
                    <a:pt x="405" y="343"/>
                  </a:lnTo>
                  <a:lnTo>
                    <a:pt x="418" y="337"/>
                  </a:lnTo>
                  <a:lnTo>
                    <a:pt x="517" y="380"/>
                  </a:lnTo>
                  <a:lnTo>
                    <a:pt x="537" y="362"/>
                  </a:lnTo>
                  <a:lnTo>
                    <a:pt x="537" y="343"/>
                  </a:lnTo>
                  <a:lnTo>
                    <a:pt x="529" y="312"/>
                  </a:lnTo>
                  <a:lnTo>
                    <a:pt x="436" y="275"/>
                  </a:lnTo>
                  <a:lnTo>
                    <a:pt x="405" y="244"/>
                  </a:lnTo>
                  <a:lnTo>
                    <a:pt x="374" y="225"/>
                  </a:lnTo>
                  <a:lnTo>
                    <a:pt x="368" y="207"/>
                  </a:lnTo>
                  <a:lnTo>
                    <a:pt x="368" y="174"/>
                  </a:lnTo>
                  <a:lnTo>
                    <a:pt x="261" y="95"/>
                  </a:lnTo>
                  <a:lnTo>
                    <a:pt x="230" y="56"/>
                  </a:lnTo>
                  <a:lnTo>
                    <a:pt x="168" y="81"/>
                  </a:lnTo>
                  <a:lnTo>
                    <a:pt x="143" y="50"/>
                  </a:lnTo>
                  <a:lnTo>
                    <a:pt x="137" y="25"/>
                  </a:lnTo>
                  <a:lnTo>
                    <a:pt x="100" y="19"/>
                  </a:lnTo>
                  <a:lnTo>
                    <a:pt x="87" y="19"/>
                  </a:lnTo>
                  <a:lnTo>
                    <a:pt x="81" y="64"/>
                  </a:lnTo>
                  <a:lnTo>
                    <a:pt x="62" y="81"/>
                  </a:lnTo>
                  <a:lnTo>
                    <a:pt x="50" y="81"/>
                  </a:lnTo>
                  <a:lnTo>
                    <a:pt x="44" y="50"/>
                  </a:lnTo>
                  <a:lnTo>
                    <a:pt x="56" y="19"/>
                  </a:lnTo>
                  <a:lnTo>
                    <a:pt x="38" y="0"/>
                  </a:lnTo>
                  <a:lnTo>
                    <a:pt x="0" y="31"/>
                  </a:lnTo>
                  <a:lnTo>
                    <a:pt x="0" y="64"/>
                  </a:lnTo>
                  <a:lnTo>
                    <a:pt x="44" y="157"/>
                  </a:lnTo>
                  <a:lnTo>
                    <a:pt x="93" y="151"/>
                  </a:lnTo>
                  <a:lnTo>
                    <a:pt x="137" y="168"/>
                  </a:lnTo>
                  <a:lnTo>
                    <a:pt x="137" y="168"/>
                  </a:lnTo>
                  <a:lnTo>
                    <a:pt x="137" y="168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48600" y="3267360"/>
              <a:ext cx="144720" cy="141840"/>
            </a:xfrm>
            <a:custGeom>
              <a:avLst/>
              <a:gdLst/>
              <a:ahLst/>
              <a:rect l="l" t="t" r="r" b="b"/>
              <a:pathLst>
                <a:path w="537" h="529">
                  <a:moveTo>
                    <a:pt x="137" y="168"/>
                  </a:moveTo>
                  <a:lnTo>
                    <a:pt x="194" y="162"/>
                  </a:lnTo>
                  <a:lnTo>
                    <a:pt x="256" y="193"/>
                  </a:lnTo>
                  <a:lnTo>
                    <a:pt x="323" y="292"/>
                  </a:lnTo>
                  <a:lnTo>
                    <a:pt x="275" y="374"/>
                  </a:lnTo>
                  <a:lnTo>
                    <a:pt x="219" y="380"/>
                  </a:lnTo>
                  <a:lnTo>
                    <a:pt x="205" y="405"/>
                  </a:lnTo>
                  <a:lnTo>
                    <a:pt x="230" y="436"/>
                  </a:lnTo>
                  <a:lnTo>
                    <a:pt x="275" y="418"/>
                  </a:lnTo>
                  <a:lnTo>
                    <a:pt x="298" y="418"/>
                  </a:lnTo>
                  <a:lnTo>
                    <a:pt x="387" y="506"/>
                  </a:lnTo>
                  <a:lnTo>
                    <a:pt x="450" y="529"/>
                  </a:lnTo>
                  <a:lnTo>
                    <a:pt x="475" y="523"/>
                  </a:lnTo>
                  <a:lnTo>
                    <a:pt x="467" y="492"/>
                  </a:lnTo>
                  <a:lnTo>
                    <a:pt x="436" y="486"/>
                  </a:lnTo>
                  <a:lnTo>
                    <a:pt x="418" y="455"/>
                  </a:lnTo>
                  <a:lnTo>
                    <a:pt x="450" y="455"/>
                  </a:lnTo>
                  <a:lnTo>
                    <a:pt x="467" y="492"/>
                  </a:lnTo>
                  <a:lnTo>
                    <a:pt x="517" y="481"/>
                  </a:lnTo>
                  <a:lnTo>
                    <a:pt x="506" y="442"/>
                  </a:lnTo>
                  <a:lnTo>
                    <a:pt x="475" y="399"/>
                  </a:lnTo>
                  <a:lnTo>
                    <a:pt x="424" y="380"/>
                  </a:lnTo>
                  <a:lnTo>
                    <a:pt x="405" y="343"/>
                  </a:lnTo>
                  <a:lnTo>
                    <a:pt x="418" y="337"/>
                  </a:lnTo>
                  <a:lnTo>
                    <a:pt x="517" y="380"/>
                  </a:lnTo>
                  <a:lnTo>
                    <a:pt x="537" y="362"/>
                  </a:lnTo>
                  <a:lnTo>
                    <a:pt x="537" y="343"/>
                  </a:lnTo>
                  <a:lnTo>
                    <a:pt x="529" y="312"/>
                  </a:lnTo>
                  <a:lnTo>
                    <a:pt x="436" y="275"/>
                  </a:lnTo>
                  <a:lnTo>
                    <a:pt x="405" y="244"/>
                  </a:lnTo>
                  <a:lnTo>
                    <a:pt x="374" y="225"/>
                  </a:lnTo>
                  <a:lnTo>
                    <a:pt x="368" y="207"/>
                  </a:lnTo>
                  <a:lnTo>
                    <a:pt x="368" y="174"/>
                  </a:lnTo>
                  <a:lnTo>
                    <a:pt x="261" y="95"/>
                  </a:lnTo>
                  <a:lnTo>
                    <a:pt x="230" y="56"/>
                  </a:lnTo>
                  <a:lnTo>
                    <a:pt x="168" y="81"/>
                  </a:lnTo>
                  <a:lnTo>
                    <a:pt x="143" y="50"/>
                  </a:lnTo>
                  <a:lnTo>
                    <a:pt x="137" y="25"/>
                  </a:lnTo>
                  <a:lnTo>
                    <a:pt x="100" y="19"/>
                  </a:lnTo>
                  <a:lnTo>
                    <a:pt x="87" y="19"/>
                  </a:lnTo>
                  <a:lnTo>
                    <a:pt x="81" y="64"/>
                  </a:lnTo>
                  <a:lnTo>
                    <a:pt x="62" y="81"/>
                  </a:lnTo>
                  <a:lnTo>
                    <a:pt x="50" y="81"/>
                  </a:lnTo>
                  <a:lnTo>
                    <a:pt x="44" y="50"/>
                  </a:lnTo>
                  <a:lnTo>
                    <a:pt x="56" y="19"/>
                  </a:lnTo>
                  <a:lnTo>
                    <a:pt x="38" y="0"/>
                  </a:lnTo>
                  <a:lnTo>
                    <a:pt x="0" y="31"/>
                  </a:lnTo>
                  <a:lnTo>
                    <a:pt x="0" y="64"/>
                  </a:lnTo>
                  <a:lnTo>
                    <a:pt x="44" y="157"/>
                  </a:lnTo>
                  <a:lnTo>
                    <a:pt x="93" y="151"/>
                  </a:lnTo>
                  <a:lnTo>
                    <a:pt x="137" y="168"/>
                  </a:lnTo>
                  <a:lnTo>
                    <a:pt x="137" y="16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12000" y="3446280"/>
              <a:ext cx="12600" cy="3168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29" y="13"/>
                  </a:moveTo>
                  <a:lnTo>
                    <a:pt x="37" y="31"/>
                  </a:lnTo>
                  <a:lnTo>
                    <a:pt x="48" y="75"/>
                  </a:lnTo>
                  <a:lnTo>
                    <a:pt x="42" y="106"/>
                  </a:lnTo>
                  <a:lnTo>
                    <a:pt x="31" y="118"/>
                  </a:lnTo>
                  <a:lnTo>
                    <a:pt x="0" y="25"/>
                  </a:lnTo>
                  <a:lnTo>
                    <a:pt x="11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83f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12000" y="3446280"/>
              <a:ext cx="12600" cy="3168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29" y="13"/>
                  </a:moveTo>
                  <a:lnTo>
                    <a:pt x="37" y="31"/>
                  </a:lnTo>
                  <a:lnTo>
                    <a:pt x="48" y="75"/>
                  </a:lnTo>
                  <a:lnTo>
                    <a:pt x="42" y="106"/>
                  </a:lnTo>
                  <a:lnTo>
                    <a:pt x="31" y="118"/>
                  </a:lnTo>
                  <a:lnTo>
                    <a:pt x="0" y="25"/>
                  </a:lnTo>
                  <a:lnTo>
                    <a:pt x="11" y="0"/>
                  </a:lnTo>
                  <a:lnTo>
                    <a:pt x="31" y="13"/>
                  </a:lnTo>
                  <a:lnTo>
                    <a:pt x="31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23760" y="3929040"/>
              <a:ext cx="130680" cy="41760"/>
            </a:xfrm>
            <a:custGeom>
              <a:avLst/>
              <a:gdLst/>
              <a:ahLst/>
              <a:rect l="l" t="t" r="r" b="b"/>
              <a:pathLst>
                <a:path w="487" h="157">
                  <a:moveTo>
                    <a:pt x="231" y="31"/>
                  </a:moveTo>
                  <a:lnTo>
                    <a:pt x="268" y="50"/>
                  </a:lnTo>
                  <a:lnTo>
                    <a:pt x="355" y="81"/>
                  </a:lnTo>
                  <a:lnTo>
                    <a:pt x="406" y="81"/>
                  </a:lnTo>
                  <a:lnTo>
                    <a:pt x="456" y="112"/>
                  </a:lnTo>
                  <a:lnTo>
                    <a:pt x="487" y="126"/>
                  </a:lnTo>
                  <a:lnTo>
                    <a:pt x="487" y="143"/>
                  </a:lnTo>
                  <a:lnTo>
                    <a:pt x="386" y="157"/>
                  </a:lnTo>
                  <a:lnTo>
                    <a:pt x="330" y="157"/>
                  </a:lnTo>
                  <a:lnTo>
                    <a:pt x="350" y="143"/>
                  </a:lnTo>
                  <a:lnTo>
                    <a:pt x="338" y="112"/>
                  </a:lnTo>
                  <a:lnTo>
                    <a:pt x="218" y="81"/>
                  </a:lnTo>
                  <a:lnTo>
                    <a:pt x="150" y="50"/>
                  </a:lnTo>
                  <a:lnTo>
                    <a:pt x="70" y="50"/>
                  </a:lnTo>
                  <a:lnTo>
                    <a:pt x="20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57" y="19"/>
                  </a:lnTo>
                  <a:lnTo>
                    <a:pt x="70" y="19"/>
                  </a:lnTo>
                  <a:lnTo>
                    <a:pt x="113" y="0"/>
                  </a:lnTo>
                  <a:lnTo>
                    <a:pt x="187" y="19"/>
                  </a:lnTo>
                  <a:lnTo>
                    <a:pt x="231" y="31"/>
                  </a:lnTo>
                  <a:lnTo>
                    <a:pt x="231" y="31"/>
                  </a:lnTo>
                  <a:lnTo>
                    <a:pt x="231" y="3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23760" y="3929040"/>
              <a:ext cx="130680" cy="41760"/>
            </a:xfrm>
            <a:custGeom>
              <a:avLst/>
              <a:gdLst/>
              <a:ahLst/>
              <a:rect l="l" t="t" r="r" b="b"/>
              <a:pathLst>
                <a:path w="487" h="157">
                  <a:moveTo>
                    <a:pt x="231" y="31"/>
                  </a:moveTo>
                  <a:lnTo>
                    <a:pt x="268" y="50"/>
                  </a:lnTo>
                  <a:lnTo>
                    <a:pt x="355" y="81"/>
                  </a:lnTo>
                  <a:lnTo>
                    <a:pt x="406" y="81"/>
                  </a:lnTo>
                  <a:lnTo>
                    <a:pt x="456" y="112"/>
                  </a:lnTo>
                  <a:lnTo>
                    <a:pt x="487" y="126"/>
                  </a:lnTo>
                  <a:lnTo>
                    <a:pt x="487" y="143"/>
                  </a:lnTo>
                  <a:lnTo>
                    <a:pt x="386" y="157"/>
                  </a:lnTo>
                  <a:lnTo>
                    <a:pt x="330" y="157"/>
                  </a:lnTo>
                  <a:lnTo>
                    <a:pt x="350" y="143"/>
                  </a:lnTo>
                  <a:lnTo>
                    <a:pt x="338" y="112"/>
                  </a:lnTo>
                  <a:lnTo>
                    <a:pt x="218" y="81"/>
                  </a:lnTo>
                  <a:lnTo>
                    <a:pt x="150" y="50"/>
                  </a:lnTo>
                  <a:lnTo>
                    <a:pt x="70" y="50"/>
                  </a:lnTo>
                  <a:lnTo>
                    <a:pt x="20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57" y="19"/>
                  </a:lnTo>
                  <a:lnTo>
                    <a:pt x="70" y="19"/>
                  </a:lnTo>
                  <a:lnTo>
                    <a:pt x="113" y="0"/>
                  </a:lnTo>
                  <a:lnTo>
                    <a:pt x="187" y="19"/>
                  </a:lnTo>
                  <a:lnTo>
                    <a:pt x="231" y="31"/>
                  </a:lnTo>
                  <a:lnTo>
                    <a:pt x="231" y="31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67400" y="3962880"/>
              <a:ext cx="62280" cy="29520"/>
            </a:xfrm>
            <a:custGeom>
              <a:avLst/>
              <a:gdLst/>
              <a:ahLst/>
              <a:rect l="l" t="t" r="r" b="b"/>
              <a:pathLst>
                <a:path w="231" h="110">
                  <a:moveTo>
                    <a:pt x="0" y="17"/>
                  </a:moveTo>
                  <a:lnTo>
                    <a:pt x="8" y="31"/>
                  </a:lnTo>
                  <a:lnTo>
                    <a:pt x="44" y="48"/>
                  </a:lnTo>
                  <a:lnTo>
                    <a:pt x="44" y="79"/>
                  </a:lnTo>
                  <a:lnTo>
                    <a:pt x="8" y="79"/>
                  </a:lnTo>
                  <a:lnTo>
                    <a:pt x="87" y="79"/>
                  </a:lnTo>
                  <a:lnTo>
                    <a:pt x="126" y="110"/>
                  </a:lnTo>
                  <a:lnTo>
                    <a:pt x="168" y="79"/>
                  </a:lnTo>
                  <a:lnTo>
                    <a:pt x="231" y="79"/>
                  </a:lnTo>
                  <a:lnTo>
                    <a:pt x="168" y="48"/>
                  </a:lnTo>
                  <a:lnTo>
                    <a:pt x="137" y="17"/>
                  </a:lnTo>
                  <a:lnTo>
                    <a:pt x="75" y="0"/>
                  </a:lnTo>
                  <a:lnTo>
                    <a:pt x="64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67400" y="3962880"/>
              <a:ext cx="62280" cy="29520"/>
            </a:xfrm>
            <a:custGeom>
              <a:avLst/>
              <a:gdLst/>
              <a:ahLst/>
              <a:rect l="l" t="t" r="r" b="b"/>
              <a:pathLst>
                <a:path w="231" h="110">
                  <a:moveTo>
                    <a:pt x="0" y="17"/>
                  </a:moveTo>
                  <a:lnTo>
                    <a:pt x="8" y="31"/>
                  </a:lnTo>
                  <a:lnTo>
                    <a:pt x="44" y="48"/>
                  </a:lnTo>
                  <a:lnTo>
                    <a:pt x="44" y="79"/>
                  </a:lnTo>
                  <a:lnTo>
                    <a:pt x="8" y="79"/>
                  </a:lnTo>
                  <a:lnTo>
                    <a:pt x="87" y="79"/>
                  </a:lnTo>
                  <a:lnTo>
                    <a:pt x="126" y="110"/>
                  </a:lnTo>
                  <a:lnTo>
                    <a:pt x="168" y="79"/>
                  </a:lnTo>
                  <a:lnTo>
                    <a:pt x="231" y="79"/>
                  </a:lnTo>
                  <a:lnTo>
                    <a:pt x="168" y="48"/>
                  </a:lnTo>
                  <a:lnTo>
                    <a:pt x="137" y="17"/>
                  </a:lnTo>
                  <a:lnTo>
                    <a:pt x="75" y="0"/>
                  </a:lnTo>
                  <a:lnTo>
                    <a:pt x="64" y="17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57040" y="3975840"/>
              <a:ext cx="12600" cy="82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18" y="14"/>
                  </a:moveTo>
                  <a:lnTo>
                    <a:pt x="37" y="0"/>
                  </a:lnTo>
                  <a:lnTo>
                    <a:pt x="49" y="31"/>
                  </a:lnTo>
                  <a:lnTo>
                    <a:pt x="18" y="31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57040" y="3975840"/>
              <a:ext cx="12600" cy="82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18" y="14"/>
                  </a:moveTo>
                  <a:lnTo>
                    <a:pt x="37" y="0"/>
                  </a:lnTo>
                  <a:lnTo>
                    <a:pt x="49" y="31"/>
                  </a:lnTo>
                  <a:lnTo>
                    <a:pt x="18" y="31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4"/>
                  </a:lnTo>
                </a:path>
              </a:pathLst>
            </a:custGeom>
            <a:solidFill>
              <a:srgbClr val="00cc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73720" y="3585600"/>
              <a:ext cx="131760" cy="94680"/>
            </a:xfrm>
            <a:custGeom>
              <a:avLst/>
              <a:gdLst/>
              <a:ahLst/>
              <a:rect l="l" t="t" r="r" b="b"/>
              <a:pathLst>
                <a:path w="491" h="355">
                  <a:moveTo>
                    <a:pt x="231" y="31"/>
                  </a:moveTo>
                  <a:lnTo>
                    <a:pt x="218" y="5"/>
                  </a:lnTo>
                  <a:lnTo>
                    <a:pt x="130" y="0"/>
                  </a:lnTo>
                  <a:lnTo>
                    <a:pt x="93" y="11"/>
                  </a:lnTo>
                  <a:lnTo>
                    <a:pt x="74" y="36"/>
                  </a:lnTo>
                  <a:lnTo>
                    <a:pt x="0" y="73"/>
                  </a:lnTo>
                  <a:lnTo>
                    <a:pt x="0" y="87"/>
                  </a:lnTo>
                  <a:lnTo>
                    <a:pt x="93" y="118"/>
                  </a:lnTo>
                  <a:lnTo>
                    <a:pt x="119" y="99"/>
                  </a:lnTo>
                  <a:lnTo>
                    <a:pt x="186" y="135"/>
                  </a:lnTo>
                  <a:lnTo>
                    <a:pt x="130" y="180"/>
                  </a:lnTo>
                  <a:lnTo>
                    <a:pt x="119" y="211"/>
                  </a:lnTo>
                  <a:lnTo>
                    <a:pt x="124" y="230"/>
                  </a:lnTo>
                  <a:lnTo>
                    <a:pt x="113" y="298"/>
                  </a:lnTo>
                  <a:lnTo>
                    <a:pt x="124" y="355"/>
                  </a:lnTo>
                  <a:lnTo>
                    <a:pt x="169" y="355"/>
                  </a:lnTo>
                  <a:lnTo>
                    <a:pt x="200" y="335"/>
                  </a:lnTo>
                  <a:lnTo>
                    <a:pt x="206" y="318"/>
                  </a:lnTo>
                  <a:lnTo>
                    <a:pt x="206" y="273"/>
                  </a:lnTo>
                  <a:lnTo>
                    <a:pt x="200" y="254"/>
                  </a:lnTo>
                  <a:lnTo>
                    <a:pt x="206" y="223"/>
                  </a:lnTo>
                  <a:lnTo>
                    <a:pt x="237" y="186"/>
                  </a:lnTo>
                  <a:lnTo>
                    <a:pt x="256" y="192"/>
                  </a:lnTo>
                  <a:lnTo>
                    <a:pt x="268" y="223"/>
                  </a:lnTo>
                  <a:lnTo>
                    <a:pt x="268" y="254"/>
                  </a:lnTo>
                  <a:lnTo>
                    <a:pt x="299" y="261"/>
                  </a:lnTo>
                  <a:lnTo>
                    <a:pt x="324" y="298"/>
                  </a:lnTo>
                  <a:lnTo>
                    <a:pt x="342" y="298"/>
                  </a:lnTo>
                  <a:lnTo>
                    <a:pt x="367" y="261"/>
                  </a:lnTo>
                  <a:lnTo>
                    <a:pt x="380" y="217"/>
                  </a:lnTo>
                  <a:lnTo>
                    <a:pt x="404" y="230"/>
                  </a:lnTo>
                  <a:lnTo>
                    <a:pt x="417" y="230"/>
                  </a:lnTo>
                  <a:lnTo>
                    <a:pt x="479" y="180"/>
                  </a:lnTo>
                  <a:lnTo>
                    <a:pt x="485" y="166"/>
                  </a:lnTo>
                  <a:lnTo>
                    <a:pt x="491" y="149"/>
                  </a:lnTo>
                  <a:lnTo>
                    <a:pt x="485" y="130"/>
                  </a:lnTo>
                  <a:lnTo>
                    <a:pt x="479" y="143"/>
                  </a:lnTo>
                  <a:lnTo>
                    <a:pt x="448" y="149"/>
                  </a:lnTo>
                  <a:lnTo>
                    <a:pt x="435" y="161"/>
                  </a:lnTo>
                  <a:lnTo>
                    <a:pt x="404" y="143"/>
                  </a:lnTo>
                  <a:lnTo>
                    <a:pt x="355" y="143"/>
                  </a:lnTo>
                  <a:lnTo>
                    <a:pt x="299" y="124"/>
                  </a:lnTo>
                  <a:lnTo>
                    <a:pt x="280" y="104"/>
                  </a:lnTo>
                  <a:lnTo>
                    <a:pt x="280" y="87"/>
                  </a:lnTo>
                  <a:lnTo>
                    <a:pt x="342" y="87"/>
                  </a:lnTo>
                  <a:lnTo>
                    <a:pt x="355" y="73"/>
                  </a:lnTo>
                  <a:lnTo>
                    <a:pt x="330" y="48"/>
                  </a:lnTo>
                  <a:lnTo>
                    <a:pt x="280" y="23"/>
                  </a:lnTo>
                  <a:lnTo>
                    <a:pt x="280" y="56"/>
                  </a:lnTo>
                  <a:lnTo>
                    <a:pt x="231" y="31"/>
                  </a:lnTo>
                  <a:lnTo>
                    <a:pt x="231" y="3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73720" y="3585600"/>
              <a:ext cx="131760" cy="94680"/>
            </a:xfrm>
            <a:custGeom>
              <a:avLst/>
              <a:gdLst/>
              <a:ahLst/>
              <a:rect l="l" t="t" r="r" b="b"/>
              <a:pathLst>
                <a:path w="491" h="355">
                  <a:moveTo>
                    <a:pt x="231" y="31"/>
                  </a:moveTo>
                  <a:lnTo>
                    <a:pt x="218" y="5"/>
                  </a:lnTo>
                  <a:lnTo>
                    <a:pt x="130" y="0"/>
                  </a:lnTo>
                  <a:lnTo>
                    <a:pt x="93" y="11"/>
                  </a:lnTo>
                  <a:lnTo>
                    <a:pt x="74" y="36"/>
                  </a:lnTo>
                  <a:lnTo>
                    <a:pt x="0" y="73"/>
                  </a:lnTo>
                  <a:lnTo>
                    <a:pt x="0" y="87"/>
                  </a:lnTo>
                  <a:lnTo>
                    <a:pt x="93" y="118"/>
                  </a:lnTo>
                  <a:lnTo>
                    <a:pt x="119" y="99"/>
                  </a:lnTo>
                  <a:lnTo>
                    <a:pt x="186" y="135"/>
                  </a:lnTo>
                  <a:lnTo>
                    <a:pt x="130" y="180"/>
                  </a:lnTo>
                  <a:lnTo>
                    <a:pt x="119" y="211"/>
                  </a:lnTo>
                  <a:lnTo>
                    <a:pt x="124" y="230"/>
                  </a:lnTo>
                  <a:lnTo>
                    <a:pt x="113" y="298"/>
                  </a:lnTo>
                  <a:lnTo>
                    <a:pt x="124" y="355"/>
                  </a:lnTo>
                  <a:lnTo>
                    <a:pt x="169" y="355"/>
                  </a:lnTo>
                  <a:lnTo>
                    <a:pt x="200" y="335"/>
                  </a:lnTo>
                  <a:lnTo>
                    <a:pt x="206" y="318"/>
                  </a:lnTo>
                  <a:lnTo>
                    <a:pt x="206" y="273"/>
                  </a:lnTo>
                  <a:lnTo>
                    <a:pt x="200" y="254"/>
                  </a:lnTo>
                  <a:lnTo>
                    <a:pt x="206" y="223"/>
                  </a:lnTo>
                  <a:lnTo>
                    <a:pt x="237" y="186"/>
                  </a:lnTo>
                  <a:lnTo>
                    <a:pt x="256" y="192"/>
                  </a:lnTo>
                  <a:lnTo>
                    <a:pt x="268" y="223"/>
                  </a:lnTo>
                  <a:lnTo>
                    <a:pt x="268" y="254"/>
                  </a:lnTo>
                  <a:lnTo>
                    <a:pt x="299" y="261"/>
                  </a:lnTo>
                  <a:lnTo>
                    <a:pt x="324" y="298"/>
                  </a:lnTo>
                  <a:lnTo>
                    <a:pt x="342" y="298"/>
                  </a:lnTo>
                  <a:lnTo>
                    <a:pt x="367" y="261"/>
                  </a:lnTo>
                  <a:lnTo>
                    <a:pt x="380" y="217"/>
                  </a:lnTo>
                  <a:lnTo>
                    <a:pt x="404" y="230"/>
                  </a:lnTo>
                  <a:lnTo>
                    <a:pt x="417" y="230"/>
                  </a:lnTo>
                  <a:lnTo>
                    <a:pt x="479" y="180"/>
                  </a:lnTo>
                  <a:lnTo>
                    <a:pt x="485" y="166"/>
                  </a:lnTo>
                  <a:lnTo>
                    <a:pt x="491" y="149"/>
                  </a:lnTo>
                  <a:lnTo>
                    <a:pt x="485" y="130"/>
                  </a:lnTo>
                  <a:lnTo>
                    <a:pt x="479" y="143"/>
                  </a:lnTo>
                  <a:lnTo>
                    <a:pt x="448" y="149"/>
                  </a:lnTo>
                  <a:lnTo>
                    <a:pt x="435" y="161"/>
                  </a:lnTo>
                  <a:lnTo>
                    <a:pt x="404" y="143"/>
                  </a:lnTo>
                  <a:lnTo>
                    <a:pt x="355" y="143"/>
                  </a:lnTo>
                  <a:lnTo>
                    <a:pt x="299" y="124"/>
                  </a:lnTo>
                  <a:lnTo>
                    <a:pt x="280" y="104"/>
                  </a:lnTo>
                  <a:lnTo>
                    <a:pt x="280" y="87"/>
                  </a:lnTo>
                  <a:lnTo>
                    <a:pt x="342" y="87"/>
                  </a:lnTo>
                  <a:lnTo>
                    <a:pt x="355" y="73"/>
                  </a:lnTo>
                  <a:lnTo>
                    <a:pt x="330" y="48"/>
                  </a:lnTo>
                  <a:lnTo>
                    <a:pt x="280" y="23"/>
                  </a:lnTo>
                  <a:lnTo>
                    <a:pt x="280" y="56"/>
                  </a:lnTo>
                  <a:lnTo>
                    <a:pt x="231" y="31"/>
                  </a:lnTo>
                  <a:lnTo>
                    <a:pt x="231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45360" y="3645000"/>
              <a:ext cx="95760" cy="47160"/>
            </a:xfrm>
            <a:custGeom>
              <a:avLst/>
              <a:gdLst/>
              <a:ahLst/>
              <a:rect l="l" t="t" r="r" b="b"/>
              <a:pathLst>
                <a:path w="355" h="174">
                  <a:moveTo>
                    <a:pt x="118" y="100"/>
                  </a:moveTo>
                  <a:lnTo>
                    <a:pt x="74" y="100"/>
                  </a:lnTo>
                  <a:lnTo>
                    <a:pt x="62" y="75"/>
                  </a:lnTo>
                  <a:lnTo>
                    <a:pt x="0" y="126"/>
                  </a:lnTo>
                  <a:lnTo>
                    <a:pt x="6" y="143"/>
                  </a:lnTo>
                  <a:lnTo>
                    <a:pt x="43" y="163"/>
                  </a:lnTo>
                  <a:lnTo>
                    <a:pt x="136" y="174"/>
                  </a:lnTo>
                  <a:lnTo>
                    <a:pt x="186" y="157"/>
                  </a:lnTo>
                  <a:lnTo>
                    <a:pt x="237" y="157"/>
                  </a:lnTo>
                  <a:lnTo>
                    <a:pt x="242" y="168"/>
                  </a:lnTo>
                  <a:lnTo>
                    <a:pt x="268" y="157"/>
                  </a:lnTo>
                  <a:lnTo>
                    <a:pt x="248" y="126"/>
                  </a:lnTo>
                  <a:lnTo>
                    <a:pt x="217" y="100"/>
                  </a:lnTo>
                  <a:lnTo>
                    <a:pt x="167" y="75"/>
                  </a:lnTo>
                  <a:lnTo>
                    <a:pt x="211" y="87"/>
                  </a:lnTo>
                  <a:lnTo>
                    <a:pt x="231" y="95"/>
                  </a:lnTo>
                  <a:lnTo>
                    <a:pt x="242" y="81"/>
                  </a:lnTo>
                  <a:lnTo>
                    <a:pt x="279" y="81"/>
                  </a:lnTo>
                  <a:lnTo>
                    <a:pt x="293" y="69"/>
                  </a:lnTo>
                  <a:lnTo>
                    <a:pt x="310" y="69"/>
                  </a:lnTo>
                  <a:lnTo>
                    <a:pt x="330" y="81"/>
                  </a:lnTo>
                  <a:lnTo>
                    <a:pt x="355" y="44"/>
                  </a:lnTo>
                  <a:lnTo>
                    <a:pt x="343" y="19"/>
                  </a:lnTo>
                  <a:lnTo>
                    <a:pt x="318" y="0"/>
                  </a:lnTo>
                  <a:lnTo>
                    <a:pt x="242" y="13"/>
                  </a:lnTo>
                  <a:lnTo>
                    <a:pt x="186" y="25"/>
                  </a:lnTo>
                  <a:lnTo>
                    <a:pt x="167" y="50"/>
                  </a:lnTo>
                  <a:lnTo>
                    <a:pt x="167" y="75"/>
                  </a:lnTo>
                  <a:lnTo>
                    <a:pt x="118" y="100"/>
                  </a:lnTo>
                  <a:lnTo>
                    <a:pt x="118" y="100"/>
                  </a:lnTo>
                  <a:lnTo>
                    <a:pt x="118" y="100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45360" y="3645000"/>
              <a:ext cx="95760" cy="47160"/>
            </a:xfrm>
            <a:custGeom>
              <a:avLst/>
              <a:gdLst/>
              <a:ahLst/>
              <a:rect l="l" t="t" r="r" b="b"/>
              <a:pathLst>
                <a:path w="355" h="174">
                  <a:moveTo>
                    <a:pt x="118" y="100"/>
                  </a:moveTo>
                  <a:lnTo>
                    <a:pt x="74" y="100"/>
                  </a:lnTo>
                  <a:lnTo>
                    <a:pt x="62" y="75"/>
                  </a:lnTo>
                  <a:lnTo>
                    <a:pt x="0" y="126"/>
                  </a:lnTo>
                  <a:lnTo>
                    <a:pt x="6" y="143"/>
                  </a:lnTo>
                  <a:lnTo>
                    <a:pt x="43" y="163"/>
                  </a:lnTo>
                  <a:lnTo>
                    <a:pt x="136" y="174"/>
                  </a:lnTo>
                  <a:lnTo>
                    <a:pt x="186" y="157"/>
                  </a:lnTo>
                  <a:lnTo>
                    <a:pt x="237" y="157"/>
                  </a:lnTo>
                  <a:lnTo>
                    <a:pt x="242" y="168"/>
                  </a:lnTo>
                  <a:lnTo>
                    <a:pt x="268" y="157"/>
                  </a:lnTo>
                  <a:lnTo>
                    <a:pt x="248" y="126"/>
                  </a:lnTo>
                  <a:lnTo>
                    <a:pt x="217" y="100"/>
                  </a:lnTo>
                  <a:lnTo>
                    <a:pt x="167" y="75"/>
                  </a:lnTo>
                  <a:lnTo>
                    <a:pt x="211" y="87"/>
                  </a:lnTo>
                  <a:lnTo>
                    <a:pt x="231" y="95"/>
                  </a:lnTo>
                  <a:lnTo>
                    <a:pt x="242" y="81"/>
                  </a:lnTo>
                  <a:lnTo>
                    <a:pt x="279" y="81"/>
                  </a:lnTo>
                  <a:lnTo>
                    <a:pt x="293" y="69"/>
                  </a:lnTo>
                  <a:lnTo>
                    <a:pt x="310" y="69"/>
                  </a:lnTo>
                  <a:lnTo>
                    <a:pt x="330" y="81"/>
                  </a:lnTo>
                  <a:lnTo>
                    <a:pt x="355" y="44"/>
                  </a:lnTo>
                  <a:lnTo>
                    <a:pt x="343" y="19"/>
                  </a:lnTo>
                  <a:lnTo>
                    <a:pt x="318" y="0"/>
                  </a:lnTo>
                  <a:lnTo>
                    <a:pt x="242" y="13"/>
                  </a:lnTo>
                  <a:lnTo>
                    <a:pt x="186" y="25"/>
                  </a:lnTo>
                  <a:lnTo>
                    <a:pt x="167" y="50"/>
                  </a:lnTo>
                  <a:lnTo>
                    <a:pt x="167" y="75"/>
                  </a:lnTo>
                  <a:lnTo>
                    <a:pt x="118" y="100"/>
                  </a:lnTo>
                  <a:lnTo>
                    <a:pt x="118" y="1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20" y="2513160"/>
            <a:ext cx="2419560" cy="1027800"/>
            <a:chOff x="720" y="2513160"/>
            <a:chExt cx="2419560" cy="1027800"/>
          </a:xfrm>
        </p:grpSpPr>
        <p:graphicFrame>
          <p:nvGraphicFramePr>
            <p:cNvPr id="403" name=""/>
            <p:cNvGraphicFramePr/>
            <p:nvPr/>
          </p:nvGraphicFramePr>
          <p:xfrm>
            <a:off x="339840" y="2513160"/>
            <a:ext cx="1328760" cy="314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9840" y="2513160"/>
                      <a:ext cx="132876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" name=""/>
            <p:cNvSpPr/>
            <p:nvPr/>
          </p:nvSpPr>
          <p:spPr>
            <a:xfrm>
              <a:off x="720" y="2853720"/>
              <a:ext cx="241956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amily C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ip Navigation downloa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load News/Enter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5733-FBAB-4C0F-8DBD-96C53C78D64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EE2348-E3CD-46A8-86F6-5BBF3CE0EE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93800" y="-228960"/>
            <a:ext cx="66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AP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89680" y="1477800"/>
            <a:ext cx="5312160" cy="1210680"/>
            <a:chOff x="589680" y="1477800"/>
            <a:chExt cx="5312160" cy="1210680"/>
          </a:xfrm>
        </p:grpSpPr>
        <p:sp>
          <p:nvSpPr>
            <p:cNvPr id="408" name=""/>
            <p:cNvSpPr/>
            <p:nvPr/>
          </p:nvSpPr>
          <p:spPr>
            <a:xfrm>
              <a:off x="589680" y="1477800"/>
              <a:ext cx="24177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"/>
                </a:rPr>
                <a:t>802.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"/>
                </a:rPr>
                <a:t>Uses CSMA/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"/>
                </a:rPr>
                <a:t>Good for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31240" y="1498680"/>
              <a:ext cx="2370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Uses T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Good for 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16120" y="2779560"/>
            <a:ext cx="4441680" cy="3191760"/>
            <a:chOff x="816120" y="2779560"/>
            <a:chExt cx="4441680" cy="3191760"/>
          </a:xfrm>
        </p:grpSpPr>
        <p:graphicFrame>
          <p:nvGraphicFramePr>
            <p:cNvPr id="411" name=""/>
            <p:cNvGraphicFramePr/>
            <p:nvPr/>
          </p:nvGraphicFramePr>
          <p:xfrm>
            <a:off x="2206800" y="2779560"/>
            <a:ext cx="1643040" cy="12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6800" y="2779560"/>
                      <a:ext cx="1643040" cy="12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>
              <a:off x="816120" y="4781520"/>
              <a:ext cx="4441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SMA/CA+TDM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ood for Voice &amp;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timized for small net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27400" y="441972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8000" y="442908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WAP 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78240" y="4124160"/>
              <a:ext cx="284040" cy="2239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38560" y="4124160"/>
              <a:ext cx="223560" cy="2239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83000" y="4124160"/>
              <a:ext cx="774720" cy="2239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986000" y="3210840"/>
            <a:ext cx="7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31360" y="990720"/>
            <a:ext cx="163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9400" y="971640"/>
            <a:ext cx="81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4880" y="1409760"/>
            <a:ext cx="4419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1390680"/>
            <a:ext cx="2457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716800" y="1515960"/>
            <a:ext cx="3197880" cy="4360320"/>
            <a:chOff x="5716800" y="1515960"/>
            <a:chExt cx="3197880" cy="4360320"/>
          </a:xfrm>
        </p:grpSpPr>
        <p:graphicFrame>
          <p:nvGraphicFramePr>
            <p:cNvPr id="425" name=""/>
            <p:cNvGraphicFramePr/>
            <p:nvPr/>
          </p:nvGraphicFramePr>
          <p:xfrm>
            <a:off x="6757920" y="3162240"/>
            <a:ext cx="111456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57920" y="3162240"/>
                      <a:ext cx="11145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"/>
            <p:cNvSpPr/>
            <p:nvPr/>
          </p:nvSpPr>
          <p:spPr>
            <a:xfrm>
              <a:off x="5716800" y="4686480"/>
              <a:ext cx="31978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H Spread Spectr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st eff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er friend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82600" y="1515960"/>
              <a:ext cx="1387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n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DE23-C215-4056-8231-BCE1A82D8F2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F7DD89-AC97-4570-BA22-B7E8F8D41B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5160"/>
            <a:ext cx="79628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RF - Products from the Market Lead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33560" y="3243240"/>
            <a:ext cx="788184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476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1 &amp; #2 supplier of consumer notebook and desktop comput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476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1 home networking suppli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476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1 Fast Ethernet connectivity suppli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476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1 cable modem manufactur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476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1 wireless LAN manufactur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476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1 “hot-spot” WLAN services compan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476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#1 DECT residential cordless phone manufactur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730920" y="1063800"/>
            <a:ext cx="1790640" cy="1869840"/>
            <a:chOff x="6730920" y="1063800"/>
            <a:chExt cx="1790640" cy="1869840"/>
          </a:xfrm>
        </p:grpSpPr>
        <p:pic>
          <p:nvPicPr>
            <p:cNvPr id="432" name="ibm" descr=""/>
            <p:cNvPicPr/>
            <p:nvPr/>
          </p:nvPicPr>
          <p:blipFill>
            <a:blip r:embed="rId1"/>
            <a:stretch/>
          </p:blipFill>
          <p:spPr>
            <a:xfrm>
              <a:off x="7009920" y="1063800"/>
              <a:ext cx="1349280" cy="18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6730920" y="1066680"/>
              <a:ext cx="1790640" cy="125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3713040" y="1055520"/>
          <a:ext cx="18957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3040" y="1055520"/>
                    <a:ext cx="1895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4076640" y="2374920"/>
            <a:ext cx="1220760" cy="5461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914400" y="2349360"/>
            <a:ext cx="1925640" cy="820800"/>
          </a:xfrm>
          <a:prstGeom prst="rect">
            <a:avLst/>
          </a:prstGeom>
          <a:ln w="0">
            <a:noFill/>
          </a:ln>
        </p:spPr>
      </p:pic>
      <p:pic>
        <p:nvPicPr>
          <p:cNvPr id="438" name="logo_small" descr=""/>
          <p:cNvPicPr/>
          <p:nvPr/>
        </p:nvPicPr>
        <p:blipFill>
          <a:blip r:embed="rId6"/>
          <a:stretch/>
        </p:blipFill>
        <p:spPr>
          <a:xfrm>
            <a:off x="5184720" y="1562040"/>
            <a:ext cx="172404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1285920" y="1158840"/>
          <a:ext cx="99684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1158840"/>
                    <a:ext cx="9968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1866960" y="1773360"/>
          <a:ext cx="262872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66960" y="1773360"/>
                    <a:ext cx="26287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3" name="sielogoC" descr=""/>
          <p:cNvPicPr/>
          <p:nvPr/>
        </p:nvPicPr>
        <p:blipFill>
          <a:blip r:embed="rId11"/>
          <a:stretch/>
        </p:blipFill>
        <p:spPr>
          <a:xfrm>
            <a:off x="6566040" y="1128600"/>
            <a:ext cx="2055600" cy="39240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5340240" y="3384720"/>
            <a:ext cx="2340000" cy="1908000"/>
            <a:chOff x="5340240" y="3384720"/>
            <a:chExt cx="2340000" cy="1908000"/>
          </a:xfrm>
        </p:grpSpPr>
        <p:sp>
          <p:nvSpPr>
            <p:cNvPr id="445" name=""/>
            <p:cNvSpPr/>
            <p:nvPr/>
          </p:nvSpPr>
          <p:spPr>
            <a:xfrm>
              <a:off x="5340240" y="3384720"/>
              <a:ext cx="2340000" cy="1908000"/>
            </a:xfrm>
            <a:prstGeom prst="irregularSeal2">
              <a:avLst/>
            </a:prstGeom>
            <a:solidFill>
              <a:srgbClr val="cc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13560" y="3997440"/>
              <a:ext cx="147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Products shipping today!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253200" y="3821040"/>
            <a:ext cx="2725560" cy="2371680"/>
            <a:chOff x="6253200" y="3821040"/>
            <a:chExt cx="2725560" cy="2371680"/>
          </a:xfrm>
        </p:grpSpPr>
        <p:sp>
          <p:nvSpPr>
            <p:cNvPr id="448" name=""/>
            <p:cNvSpPr/>
            <p:nvPr/>
          </p:nvSpPr>
          <p:spPr>
            <a:xfrm>
              <a:off x="6253200" y="3821040"/>
              <a:ext cx="2725560" cy="2371680"/>
            </a:xfrm>
            <a:prstGeom prst="irregularSeal2">
              <a:avLst/>
            </a:prstGeom>
            <a:solidFill>
              <a:srgbClr val="cc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48480" y="4537080"/>
              <a:ext cx="1717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More than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companies with announced product pl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7A7B-970A-4F41-9121-D9D66D23724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C06B54-7B28-4061-AE49-FE56A2F0B1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27108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AP Advanc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9040" y="1752480"/>
            <a:ext cx="137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Q1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92040" y="1752480"/>
            <a:ext cx="137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Q2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7520" y="2421000"/>
            <a:ext cx="8534520" cy="304560"/>
          </a:xfrm>
          <a:prstGeom prst="rect">
            <a:avLst/>
          </a:prstGeom>
          <a:solidFill>
            <a:srgbClr val="cc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2360" y="2457360"/>
            <a:ext cx="1752840" cy="3696480"/>
            <a:chOff x="612360" y="2457360"/>
            <a:chExt cx="1752840" cy="3696480"/>
          </a:xfrm>
        </p:grpSpPr>
        <p:sp>
          <p:nvSpPr>
            <p:cNvPr id="455" name=""/>
            <p:cNvSpPr/>
            <p:nvPr/>
          </p:nvSpPr>
          <p:spPr>
            <a:xfrm>
              <a:off x="662040" y="2457360"/>
              <a:ext cx="291960" cy="2919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3958800">
              <a:off x="-218160" y="4314960"/>
              <a:ext cx="341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emens announces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178080" y="2457360"/>
            <a:ext cx="1715760" cy="3197520"/>
            <a:chOff x="3178080" y="2457360"/>
            <a:chExt cx="1715760" cy="3197520"/>
          </a:xfrm>
        </p:grpSpPr>
        <p:sp>
          <p:nvSpPr>
            <p:cNvPr id="458" name=""/>
            <p:cNvSpPr/>
            <p:nvPr/>
          </p:nvSpPr>
          <p:spPr>
            <a:xfrm>
              <a:off x="3178080" y="2457360"/>
              <a:ext cx="292320" cy="2919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847800">
              <a:off x="2653560" y="4077720"/>
              <a:ext cx="287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AP 1.3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979960" y="2457360"/>
            <a:ext cx="1913040" cy="3772440"/>
            <a:chOff x="5979960" y="2457360"/>
            <a:chExt cx="1913040" cy="3772440"/>
          </a:xfrm>
        </p:grpSpPr>
        <p:sp>
          <p:nvSpPr>
            <p:cNvPr id="461" name=""/>
            <p:cNvSpPr/>
            <p:nvPr/>
          </p:nvSpPr>
          <p:spPr>
            <a:xfrm>
              <a:off x="5979960" y="2457360"/>
              <a:ext cx="292320" cy="29232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3890400">
              <a:off x="5154120" y="4321080"/>
              <a:ext cx="3591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AP 2.0 &amp; Voice Proto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453200" y="2457360"/>
            <a:ext cx="2268360" cy="4501440"/>
            <a:chOff x="4453200" y="2457360"/>
            <a:chExt cx="2268360" cy="4501440"/>
          </a:xfrm>
        </p:grpSpPr>
        <p:sp>
          <p:nvSpPr>
            <p:cNvPr id="464" name=""/>
            <p:cNvSpPr/>
            <p:nvPr/>
          </p:nvSpPr>
          <p:spPr>
            <a:xfrm rot="3865200">
              <a:off x="3376440" y="4680360"/>
              <a:ext cx="4421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AP 2.0 Specific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76600" y="2457360"/>
              <a:ext cx="291960" cy="29232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713600" y="2450160"/>
            <a:ext cx="2772360" cy="4069440"/>
            <a:chOff x="1713600" y="2450160"/>
            <a:chExt cx="2772360" cy="4069440"/>
          </a:xfrm>
        </p:grpSpPr>
        <p:grpSp>
          <p:nvGrpSpPr>
            <p:cNvPr id="467" name=""/>
            <p:cNvGrpSpPr/>
            <p:nvPr/>
          </p:nvGrpSpPr>
          <p:grpSpPr>
            <a:xfrm>
              <a:off x="1713600" y="2450160"/>
              <a:ext cx="2772360" cy="4069440"/>
              <a:chOff x="1713600" y="2450160"/>
              <a:chExt cx="2772360" cy="4069440"/>
            </a:xfrm>
          </p:grpSpPr>
          <p:sp>
            <p:nvSpPr>
              <p:cNvPr id="468" name=""/>
              <p:cNvSpPr/>
              <p:nvPr/>
            </p:nvSpPr>
            <p:spPr>
              <a:xfrm rot="19956000">
                <a:off x="2589120" y="2457360"/>
                <a:ext cx="1020960" cy="4054320"/>
              </a:xfrm>
              <a:custGeom>
                <a:avLst/>
                <a:gdLst>
                  <a:gd name="textAreaLeft" fmla="*/ 232920 w 1020960"/>
                  <a:gd name="textAreaRight" fmla="*/ 788040 w 1020960"/>
                  <a:gd name="textAreaTop" fmla="*/ 925560 h 4054320"/>
                  <a:gd name="textAreaBottom" fmla="*/ 3128760 h 405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868200">
                <a:off x="1635480" y="4236840"/>
                <a:ext cx="2999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st Products Launc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128680" y="2471400"/>
              <a:ext cx="292320" cy="29232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93760" y="1739880"/>
            <a:ext cx="137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Q3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82880" y="1739880"/>
            <a:ext cx="137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Q4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21240" y="1752480"/>
            <a:ext cx="137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Q1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012800" y="2434680"/>
            <a:ext cx="2407320" cy="3930120"/>
            <a:chOff x="7012800" y="2434680"/>
            <a:chExt cx="2407320" cy="3930120"/>
          </a:xfrm>
        </p:grpSpPr>
        <p:sp>
          <p:nvSpPr>
            <p:cNvPr id="475" name=""/>
            <p:cNvSpPr/>
            <p:nvPr/>
          </p:nvSpPr>
          <p:spPr>
            <a:xfrm>
              <a:off x="7701120" y="2457360"/>
              <a:ext cx="291960" cy="29232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7012800" y="2434680"/>
              <a:ext cx="2407320" cy="3930120"/>
              <a:chOff x="7012800" y="2434680"/>
              <a:chExt cx="2407320" cy="3930120"/>
            </a:xfrm>
          </p:grpSpPr>
          <p:sp>
            <p:nvSpPr>
              <p:cNvPr id="477" name=""/>
              <p:cNvSpPr/>
              <p:nvPr/>
            </p:nvSpPr>
            <p:spPr>
              <a:xfrm rot="20252400">
                <a:off x="7705800" y="2484360"/>
                <a:ext cx="1020600" cy="3830760"/>
              </a:xfrm>
              <a:custGeom>
                <a:avLst/>
                <a:gdLst>
                  <a:gd name="textAreaLeft" fmla="*/ 232920 w 1020600"/>
                  <a:gd name="textAreaRight" fmla="*/ 787680 w 1020600"/>
                  <a:gd name="textAreaTop" fmla="*/ 874440 h 3830760"/>
                  <a:gd name="textAreaBottom" fmla="*/ 2956320 h 383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3967200">
                <a:off x="6624000" y="4236120"/>
                <a:ext cx="32817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Voice &amp; 10 Mbps Products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3076-2B93-4BF1-B01B-3010975DABE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7DA343-4BEF-4083-A048-C8A08A1ADF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12360" y="25200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RF/SWAP the right choice for cordless conn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55280" y="1539360"/>
            <a:ext cx="7961400" cy="461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solution designed from day one to support the needs of wireless hom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efficient IP packet data networking with toll quality connection oriented voice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, power, and feature optimized for mainstream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by market leading companies currently shipping home networking, wireless LANs, and DECT cordless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effective scaleable data rate upgrade to 10Mbps is being developed (SWAP 2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interoperability modes are attractive based on very similar physical rad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D2E8-7F64-4B23-A3C5-D7E709B586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35C6AE-DFE0-4589-8644-63C48B45BD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52280" y="21063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CA64-CBEE-4D5B-B63E-07DCB4C6C5B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AA4552-29DC-4D47-AD67-EA6513E3CA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im Lansford</dc:creator>
  <dc:description/>
  <dc:language>en-US</dc:language>
  <cp:lastModifiedBy>Ian C. Gifford</cp:lastModifiedBy>
  <cp:lastPrinted>1998-09-11T21:46:02Z</cp:lastPrinted>
  <dcterms:modified xsi:type="dcterms:W3CDTF">2000-06-08T08:11:45Z</dcterms:modified>
  <cp:revision>310</cp:revision>
  <dc:subject/>
  <dc:title>No Slide Title</dc:title>
</cp:coreProperties>
</file>