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90D7-5163-4FF0-954B-4D2A5DA8C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ED03-37D2-4437-831D-11E47139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D631-C76A-4AB7-8219-598FB7734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2D3D-17C7-4F25-AE1B-9259383C3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18ED-560E-4097-B248-AC07254C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590E-7B4D-4D5B-8794-6C9C0FD4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62DB-562E-4818-90B3-C18749B5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D793-7A1C-4199-A95F-03F1E7EF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4FF2-53C4-49FE-A029-3DBA9850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420C-7950-4907-A535-94FC98BB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740C-683C-4E12-8641-B44A93AA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2916-E31F-4D1D-9088-E387F68E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A85C7AB-8B7D-4317-BB60-7F9283F65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23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EEE Joint 802.11 and 802.15 May 2000 Seattl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im Meeting - Accounting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hael D. McInn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eing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hael.d.mcinnis@boeing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D. McInnis, The Boe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77E1-806C-4240-BE0D-F4C5F77AD54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Joint 802.11 and 802.15 May 2000 Seatt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im Meeting - Accounting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lanned for between 60 and 75 registr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ctu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dison hotel collection for 163 Meeting registrants @ $325 each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$52,9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tal Madison hotel charg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= ($34,190.13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dison hotel remainder to IEE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$18,784.8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($6,42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pport labor, pwr cords, office supplies, etc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= ($3,232.8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sc cost total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($9,657.8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-total remainder from hotel payment to IEE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$9,127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e registrant paid by traveler’s chec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$   32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total of 164 registration fees collected = $ 53,30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mainder to IEEE 802.11 and 802.1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$9,452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D. McInnis, The Boe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AB5F-927B-4AE8-9AC3-E4309B2C87D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Joint 802.11 and 802.15 May 2000 Seatt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im Meeting - Accounting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and Beverage (actua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ty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Price              Tot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da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Planners Packa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3.5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,655.5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1.5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,429.5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uesda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Planners Packa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3.5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,726.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8.5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,682.5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dnesd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Planners Packa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3.5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3,407.5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7.5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,537.5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ursda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Planners Packa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3.5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3,407.5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1.5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3,117.5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ot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2,963.5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% Serv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4,133.4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1% Ta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,465.8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-Tot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9,562.7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, xDSL line, phone lines, copies, etc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$  4,627.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hotel charge     (actua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34,190.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(100 attendees) and misc costs   (actua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  9,657.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all costs     (actua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43,847.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all actual costs divided by 164 attendees = $267.36 each (+$57.64 = $3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D. McInnis, The Boe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592F-C261-4F4D-978A-9A97566BA5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Joint 802.11 and 802.15 May 2000 Seatt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im Meeting - Accounting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and Beverage (planned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ty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Price              Tot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da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Planners Packa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3.5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3,85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1.5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3,526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uesda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Planners Packa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3.5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3,85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8.5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3,03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dnesd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Planners Packa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3.5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3,85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7.5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,87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ursda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Planners Packa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3.5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3,85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1.5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3,526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ot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8,37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% Serv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  5,106.96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1% Ta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  2,581.8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-Tot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36,060.8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, xDSL line, phone lines, copies, etc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$  4,627.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hotel charge  (planned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40,688.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(164 attendees) &amp; misc costs   (plan+ac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3,177.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all costs  (planned + actua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53,866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all planned costs divided by 164 attendees = $328.45 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D. McInnis, The Boe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BAEF-E0BF-449E-9BCD-F12BEF916B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Standard Software Service</cp:lastModifiedBy>
  <cp:lastPrinted>1998-02-10T13:28:06Z</cp:lastPrinted>
  <dcterms:modified xsi:type="dcterms:W3CDTF">2000-07-11T21:33:42Z</dcterms:modified>
  <cp:revision>24</cp:revision>
  <dc:subject/>
  <dc:title>No Slide Title</dc:title>
</cp:coreProperties>
</file>