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319034-BDDD-4A68-A5B5-F169E1B2B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54160" y="701640"/>
            <a:ext cx="4626000" cy="3468600"/>
          </a:xfrm>
          <a:prstGeom prst="rect">
            <a:avLst/>
          </a:prstGeom>
          <a:ln w="0">
            <a:noFill/>
          </a:ln>
        </p:spPr>
      </p:sp>
      <p:sp>
        <p:nvSpPr>
          <p:cNvPr id="11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Jul00 Tom Siep Wro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ers, To my knowledge, v1.1 of the Bluetooth Specification is not currently available for us to incorporate into the Draft.  Friday of this week marks the date past which I will not be able to process the update to fabricate "comments" for Draft 0.7.2 from the SI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ather than hold the Draft on the uncertain delivery of updates, I intend to move that the WG process the comments that we currently have and begin the process of creating Draft 0.8 for recircul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t requires that we have a plan for handling the v.1.1 information (errata listings or full document) when it does arrive.  My plan 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v1.1 updates become available before we complete the comment and recirculation process we authorize a halt to the process, apply the required updates and restart the comment/recirculation proce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v1.1 updates do not become available before recirculation completes, we go to Sponsor Ballot (assuming we pass recirculation), and handle v1.1 as a maintenance item.  This would be normal procedure for any subsequent changes to the Bluetooth Spec.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any of you on this list (TG1) have objections to this plan, please let me know by 1pm EDT on 7July00.  Otherwise this is what I will propose on Monday.  Silence is deemed to be acceptance. -- </a:t>
            </a:r>
            <a:br>
              <a:rPr sz="1200"/>
            </a:br>
            <a:r>
              <a:rPr b="0" lang="en-US" sz="1200" spc="-1" strike="noStrike">
                <a:solidFill>
                  <a:srgbClr val="000000"/>
                </a:solidFill>
                <a:latin typeface="Times New Roman"/>
              </a:rPr>
              <a:t>Tom Siep </a:t>
            </a:r>
            <a:br>
              <a:rPr sz="1200"/>
            </a:br>
            <a:r>
              <a:rPr b="0" lang="en-US" sz="1200" spc="-1" strike="noStrike">
                <a:solidFill>
                  <a:srgbClr val="000000"/>
                </a:solidFill>
                <a:latin typeface="Times New Roman"/>
              </a:rPr>
              <a:t>Wireless Communications Business Unit </a:t>
            </a:r>
            <a:br>
              <a:rPr sz="1200"/>
            </a:br>
            <a:r>
              <a:rPr b="0" lang="en-US" sz="1200" spc="-1" strike="noStrike">
                <a:solidFill>
                  <a:srgbClr val="000000"/>
                </a:solidFill>
                <a:latin typeface="Times New Roman"/>
              </a:rPr>
              <a:t>Texas Instruments </a:t>
            </a:r>
            <a:br>
              <a:rPr sz="1200"/>
            </a:br>
            <a:r>
              <a:rPr b="0" lang="en-US" sz="1200" spc="-1" strike="noStrike">
                <a:solidFill>
                  <a:srgbClr val="000000"/>
                </a:solidFill>
                <a:latin typeface="Times New Roman"/>
              </a:rPr>
              <a:t>(214) 480-6786 </a:t>
            </a:r>
            <a:br>
              <a:rPr sz="1200"/>
            </a:br>
            <a:r>
              <a:rPr b="0" lang="en-US" sz="1200" spc="-1" strike="noStrike">
                <a:solidFill>
                  <a:srgbClr val="000000"/>
                </a:solidFill>
                <a:latin typeface="Times New Roman"/>
              </a:rPr>
              <a:t>(972) 761-5581 FAX </a:t>
            </a:r>
            <a:br>
              <a:rPr sz="1200"/>
            </a:br>
            <a:r>
              <a:rPr b="0" lang="en-US" sz="1200" spc="-1" strike="noStrike">
                <a:solidFill>
                  <a:srgbClr val="000000"/>
                </a:solidFill>
                <a:latin typeface="Times New Roman"/>
              </a:rPr>
              <a:t>(214) 808-2642 cell </a:t>
            </a:r>
            <a:br>
              <a:rPr sz="1200"/>
            </a:br>
            <a:r>
              <a:rPr b="0" lang="en-US" sz="1200" spc="-1" strike="noStrike">
                <a:solidFill>
                  <a:srgbClr val="000000"/>
                </a:solidFill>
                <a:latin typeface="Times New Roman"/>
              </a:rPr>
              <a:t>siep@ti.com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4160" y="701640"/>
            <a:ext cx="4626000" cy="3468600"/>
          </a:xfrm>
          <a:prstGeom prst="rect">
            <a:avLst/>
          </a:prstGeom>
          <a:ln w="0">
            <a:noFill/>
          </a:ln>
        </p:spPr>
      </p:sp>
      <p:sp>
        <p:nvSpPr>
          <p:cNvPr id="10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23Jun00 Chatschik Bisdikian wrot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Bob,</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With this note, I would like to notify you that I am risigning from my</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position as technical liaison between the Bluetooth SIG and IEEE802.15. I</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have already notified the SIG of my resignation. Due to changes in an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addition of new responsibilities within IBM, I would not be able to devote</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he amount of time that I feel is necessary for this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Note that this resignation is just for my role as a technical liaison. I</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will continue participating in the 802.15 activities as a regular 802.15</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voting member.</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Regard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Dr. Chatschik Bisdikian</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BM T. J. Watson Research Center</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30 Saw Mill River Road, M/S H3-B34</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Hawthorne, NY 10532, USA</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el#: +1 914 784 7439</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fax#: +1 914 784 6225</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e-mail: bisdik@us.ibm.com</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F227E-98E3-42ED-8176-6F4C97778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FCD8-66E5-44D2-B3B3-8ACF25BF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72ACE-2A83-46F7-8E83-49EBBE98D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2FD78-7832-4130-963B-69AA93998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4CDEE-A6AB-47F2-BDD9-0E752D8C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4855-D251-4F15-ADC5-A5F0B4333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A9649-E29E-4E76-B317-F7C58C643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ADBF-47D2-4048-9AEC-E701EA127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9171-C641-48D8-A05A-B6A77192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286F5-F872-4D25-92CA-72E8D644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2F42-DA02-4B79-902D-3C6DD5048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917C-C9B0-47E9-A3A9-6343D8C33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A18735-380B-400C-9807-7D0341DFA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8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05031E8-2BF3-43E9-A861-C02A204EC8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8</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0Jul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7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IEEE</a:t>
            </a:r>
            <a:endParaRPr b="0"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 23, 24Feb00, 3Mar00, on Copyright License</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Jun00 Follow up on LAN/MAN 802.15 Balloting Pool status IEEE Standards Dept., Balloting Center (Kahofer)</a:t>
            </a:r>
            <a:endParaRPr b="0"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Jul00 Follow up on Bluetooth Pocket Guide Contract</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IEEE</a:t>
            </a:r>
            <a:endParaRPr b="0" lang="en-US" sz="16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Jun00 Follow up on LAN/MAN 802.15 Balloting Pool status IEEE Standards Dept., Balloting Center (Kahofer)</a:t>
            </a:r>
            <a:endParaRPr b="0"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Jul00 Follow up on Bluetooth Pocket Guide Contract</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Draft Std. Copyright License signatures for Exhibit A</a:t>
            </a:r>
            <a:endParaRPr b="0"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Bluetooth Pocket Guide Contract and Manuscript</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Draft Std onto IEEE 802 Plus CD-R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1D25ECC-C4A4-49A1-BC68-A3926D5C10E3}"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Draft Std. Copyright License signatures for Exhibit 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e on IEEE Draft 0.8 Standard Status (co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 Specification v1.0C (v1.1) Status (co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BSIG-IEEE f2f Meeting Date?, 2000</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Draft Std. Copyright License signatures for Exhibit 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802.15 Interim Meeting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to identify hosts and venue 12months out, or more.</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to consider a single (.11/.15) Guideline for Interim Hos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SA LAN/MAN 802.15 Balloting Pool?</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need to increase the awareness of this process</a:t>
            </a:r>
            <a:endParaRPr b="0" lang="en-US" sz="1600" spc="-1" strike="noStrike">
              <a:solidFill>
                <a:srgbClr val="000000"/>
              </a:solidFill>
              <a:latin typeface="Times New Roman"/>
            </a:endParaRPr>
          </a:p>
        </p:txBody>
      </p:sp>
      <p:sp>
        <p:nvSpPr>
          <p:cNvPr id="81"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Liaisons are fragmented and not all active liaisons are captur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2CE26B6-1FE1-44B7-8313-B14F0E44092F}"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a:t>
            </a:r>
            <a:br>
              <a:rPr sz="4400"/>
            </a:br>
            <a:r>
              <a:rPr b="0" lang="en-US" sz="4400" spc="-1" strike="noStrike">
                <a:solidFill>
                  <a:srgbClr val="000000"/>
                </a:solidFill>
                <a:latin typeface="Times New Roman"/>
              </a:rPr>
              <a:t>TG1 Should not wait for v1.1</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uetooth SIG continues to be interested in the IEEE Standards-Making Pro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uetooth SIG has been advised of the impact of the v1.1 errata delay and understands the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802.15 Task Group 1 needs to review their schedule and determine how to maintain forward motion in the drafting proc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Ballot Phas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lt Standards-Making effort and wait for v1.1 or</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ed w/ D0.8 to Recirculation LB w/o v1.1</a:t>
            </a:r>
            <a:endParaRPr b="0" lang="en-US" sz="1800" spc="-1" strike="noStrike">
              <a:solidFill>
                <a:srgbClr val="000000"/>
              </a:solidFill>
              <a:latin typeface="Times New Roman"/>
            </a:endParaRPr>
          </a:p>
        </p:txBody>
      </p:sp>
      <p:sp>
        <p:nvSpPr>
          <p:cNvPr id="84"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 to Sponsor Ballot Phase and handle v1.1 via WG Maintenance PAR/T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3ABF75-94F0-4B2A-B2C8-ACB68DD4866B}"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br>
              <a:rPr sz="4400"/>
            </a:br>
            <a:r>
              <a:rPr b="0" lang="en-US" sz="4400" spc="-1" strike="noStrike">
                <a:solidFill>
                  <a:srgbClr val="000000"/>
                </a:solidFill>
                <a:latin typeface="Times New Roman"/>
              </a:rPr>
              <a:t>The BSIG responds to CFI</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Jun00 the “Radio2” Call For Interest was relea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2000</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Jun00 TG1 Pit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Jun00 TG3 Pit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Jul00 the BSIG responds positively to the CFI</a:t>
            </a:r>
            <a:endParaRPr b="0" lang="en-US" sz="2800" spc="-1" strike="noStrike">
              <a:solidFill>
                <a:srgbClr val="000000"/>
              </a:solidFill>
              <a:latin typeface="Times New Roman"/>
            </a:endParaRPr>
          </a:p>
        </p:txBody>
      </p:sp>
      <p:sp>
        <p:nvSpPr>
          <p:cNvPr id="87" name=""/>
          <p:cNvSpPr/>
          <p:nvPr/>
        </p:nvSpPr>
        <p:spPr>
          <a:xfrm>
            <a:off x="5105520" y="4695840"/>
            <a:ext cx="36576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105520" y="2038320"/>
            <a:ext cx="3657600" cy="20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18148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0" name=""/>
          <p:cNvSpPr/>
          <p:nvPr/>
        </p:nvSpPr>
        <p:spPr>
          <a:xfrm>
            <a:off x="6843600" y="2736720"/>
            <a:ext cx="762120" cy="114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1" name=""/>
          <p:cNvSpPr/>
          <p:nvPr/>
        </p:nvSpPr>
        <p:spPr>
          <a:xfrm>
            <a:off x="5181480" y="2438280"/>
            <a:ext cx="24386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 Bridging</a:t>
            </a:r>
            <a:endParaRPr b="0" lang="en-US" sz="1200" spc="-1" strike="noStrike">
              <a:solidFill>
                <a:srgbClr val="000000"/>
              </a:solidFill>
              <a:latin typeface="Times New Roman"/>
            </a:endParaRPr>
          </a:p>
        </p:txBody>
      </p:sp>
      <p:sp>
        <p:nvSpPr>
          <p:cNvPr id="92" name=""/>
          <p:cNvSpPr/>
          <p:nvPr/>
        </p:nvSpPr>
        <p:spPr>
          <a:xfrm>
            <a:off x="5181480" y="2119320"/>
            <a:ext cx="2438640" cy="2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 LLC</a:t>
            </a:r>
            <a:endParaRPr b="0" lang="en-US" sz="1200" spc="-1" strike="noStrike">
              <a:solidFill>
                <a:srgbClr val="000000"/>
              </a:solidFill>
              <a:latin typeface="Times New Roman"/>
            </a:endParaRPr>
          </a:p>
        </p:txBody>
      </p:sp>
      <p:sp>
        <p:nvSpPr>
          <p:cNvPr id="93" name=""/>
          <p:cNvSpPr/>
          <p:nvPr/>
        </p:nvSpPr>
        <p:spPr>
          <a:xfrm>
            <a:off x="685800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94" name=""/>
          <p:cNvSpPr/>
          <p:nvPr/>
        </p:nvSpPr>
        <p:spPr>
          <a:xfrm>
            <a:off x="6019920" y="3962520"/>
            <a:ext cx="76176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95" name=""/>
          <p:cNvSpPr/>
          <p:nvPr/>
        </p:nvSpPr>
        <p:spPr>
          <a:xfrm>
            <a:off x="5181480" y="3962520"/>
            <a:ext cx="762120" cy="8031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bit/s</a:t>
            </a:r>
            <a:endParaRPr b="0" lang="en-US" sz="1400" spc="-1" strike="noStrike">
              <a:solidFill>
                <a:srgbClr val="000000"/>
              </a:solidFill>
              <a:latin typeface="Times New Roman"/>
            </a:endParaRPr>
          </a:p>
        </p:txBody>
      </p:sp>
      <p:sp>
        <p:nvSpPr>
          <p:cNvPr id="96" name=""/>
          <p:cNvSpPr/>
          <p:nvPr/>
        </p:nvSpPr>
        <p:spPr>
          <a:xfrm>
            <a:off x="529596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7" name=""/>
          <p:cNvSpPr/>
          <p:nvPr/>
        </p:nvSpPr>
        <p:spPr>
          <a:xfrm>
            <a:off x="610380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98" name=""/>
          <p:cNvSpPr/>
          <p:nvPr/>
        </p:nvSpPr>
        <p:spPr>
          <a:xfrm>
            <a:off x="6942240" y="4863960"/>
            <a:ext cx="561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99" name=""/>
          <p:cNvSpPr/>
          <p:nvPr/>
        </p:nvSpPr>
        <p:spPr>
          <a:xfrm>
            <a:off x="6202440" y="294012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00" name="802" descr=""/>
          <p:cNvPicPr/>
          <p:nvPr/>
        </p:nvPicPr>
        <p:blipFill>
          <a:blip r:embed="rId1"/>
          <a:stretch/>
        </p:blipFill>
        <p:spPr>
          <a:xfrm>
            <a:off x="7672320" y="2071800"/>
            <a:ext cx="1014480" cy="1047600"/>
          </a:xfrm>
          <a:prstGeom prst="rect">
            <a:avLst/>
          </a:prstGeom>
          <a:ln w="0">
            <a:noFill/>
          </a:ln>
        </p:spPr>
      </p:pic>
      <p:pic>
        <p:nvPicPr>
          <p:cNvPr id="101" name="P-bluetm001" descr=""/>
          <p:cNvPicPr/>
          <p:nvPr/>
        </p:nvPicPr>
        <p:blipFill>
          <a:blip r:embed="rId2"/>
          <a:stretch/>
        </p:blipFill>
        <p:spPr>
          <a:xfrm>
            <a:off x="7620120" y="4800600"/>
            <a:ext cx="1143000" cy="762120"/>
          </a:xfrm>
          <a:prstGeom prst="rect">
            <a:avLst/>
          </a:prstGeom>
          <a:ln w="0">
            <a:noFill/>
          </a:ln>
        </p:spPr>
      </p:pic>
      <p:sp>
        <p:nvSpPr>
          <p:cNvPr id="102"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dio2” SG will help BSIG and the 802.15 WG communicate. As-is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may not have a Project (PAR) that can address Version 2.0 Specificati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E64E69B-B58D-4EA7-85E7-704A8833FA2B}"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br>
              <a:rPr sz="4400"/>
            </a:br>
            <a:r>
              <a:rPr b="0" lang="en-US" sz="4400" spc="-1" strike="noStrike">
                <a:solidFill>
                  <a:srgbClr val="000000"/>
                </a:solidFill>
                <a:latin typeface="Times New Roman"/>
              </a:rPr>
              <a:t>802.15’s Web Site is visible</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5 Web Site continues to receive a significant amount of traffi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of posting WG, TG, SG, etc. pages may need to have a more formal review process to maintain WG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require active participation from all Web Stakehold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 is to have the AC review and approve anything new or controversial</a:t>
            </a:r>
            <a:endParaRPr b="0" lang="en-US" sz="2800" spc="-1" strike="noStrike">
              <a:solidFill>
                <a:srgbClr val="000000"/>
              </a:solidFill>
              <a:latin typeface="Times New Roman"/>
            </a:endParaRPr>
          </a:p>
        </p:txBody>
      </p:sp>
      <p:sp>
        <p:nvSpPr>
          <p:cNvPr id="105"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dio2” CFI HTML Page was crossed linked from the IEEE-SA Ho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last week w/o any WG haranguing.  We need AC review/particip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A70F80-6159-4D01-B8B7-32D73E260011}"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1 -99/005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2 -99/029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3 -99/063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4 -99/124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5 -99/174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Report #7 -00/118r0 [00118r1P802-15_WG-Liaison-Report-7.pp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C67B9AD-617B-4A13-8B92-B71ADA312761}"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LaJolla, CA USA</a:t>
            </a:r>
            <a:endParaRPr b="0" lang="en-US" sz="32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28D846B-6197-4190-9EB1-89844F26E032}"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3461DB-96AF-4E82-8F87-395B2992F88D}"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404397-B36C-4260-AE8B-41CF6FECA37A}"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pecial Interest Group (Kardach/Truntzer/Inouy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err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108576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Tatiner, McCabe, Gargiulo)</a:t>
            </a:r>
            <a:endParaRPr b="0" lang="en-US" sz="1400" spc="-1" strike="noStrike">
              <a:solidFill>
                <a:srgbClr val="000000"/>
              </a:solidFill>
              <a:latin typeface="Times New Roman"/>
            </a:endParaRPr>
          </a:p>
          <a:p>
            <a:pPr lvl="2" marL="108576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Pribula/Kahofer)</a:t>
            </a: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Coexistence Letter to Academia (Shellhamme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ctive Liaison List</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 (Lindinsky)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2 (Carls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Forum WATM (Delavers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Project (Khun-Jush/Watanab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eRF Working Group (Mann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TF MobileIP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DA (McKa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WBWG (Withingt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P Forum (Parrish)</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Liaisons?</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385CDEF0-5B33-4E93-93E1-282BFCE8BEEC}" type="slidenum">
              <a:t>5</a:t>
            </a:fld>
          </a:p>
        </p:txBody>
      </p:sp>
      <p:sp>
        <p:nvSpPr>
          <p:cNvPr id="7" name="PlaceHolder 6"/>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92B7940-FA4F-4EC8-A96D-F0E68703D26A}"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Jun00 Bluetooth Congress 2000 TG1 pitch to PM</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Jun00 Bluetooth Congress 2000 TG3 pitch to PM</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Jun00 Telecon w/ Marketing WG Chair</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Jul00 Telecon w/ Chairman</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Bluetooth SIG</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Jul00 Follow up on addendum; IEEE signed waiting on BSIG</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Jul00 Follow up on Bluetooth v1.0 C (v1.1)</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Jul00 Follow up on Bluetooth Pocket Guide Contract</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Bluetooth SIG</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Jun00 ChatschikB resigned as BSIG Technical Liaison, retains WG statu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Jul00 update on addendum; some sigs - need more; ETA 28Jul00</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Jul00 Radio2 CFI Reply</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Jul00 Francis Truntzer will stand-in during JimK 11 week sabbatical.</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and the IEEE Pocket Guide Contract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v1.1</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SIGnal Editor/Publisher and Issue No. 7, 8, 9, etc.</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27418E-18D0-42D6-948A-602C282CFE5E}"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64A2FE-28E3-46A0-BF6A-432C405D4BC9}"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Repor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802.11</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ul00 Interim Meeting Jan01 Update</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802.11</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Joint Interim Meeting Hosting Guidelines doc and provide feedback, -00/189r0.</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0 Interim Meeting in Scottsdale, AZ Venue doc?</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Interim Meeting in San Jose, CA Venue doc?</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01 Interim Meeting in Orlando, FL Venue doc?</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3F8C3F-E9C2-433C-AD2F-DD2CB0DB7811}"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July 2000</cp:keywords>
  <dc:language>en-US</dc:language>
  <cp:lastModifiedBy>Ian C. Gifford</cp:lastModifiedBy>
  <cp:lastPrinted>1998-02-10T13:28:06Z</cp:lastPrinted>
  <dcterms:modified xsi:type="dcterms:W3CDTF">2000-07-10T08:50:02Z</dcterms:modified>
  <cp:revision>234</cp:revision>
  <dc:subject>#8</dc:subject>
  <dc:title>Liaison Report</dc:title>
</cp:coreProperties>
</file>