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5B5-7FC6-4286-BF0F-C7FD5675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83C-8F98-4FE3-B123-92232BC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20A-02D6-40C3-AFCC-6CFCCE33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F77-4F11-41C3-AE6D-16CBB7DA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76F-22CB-4206-B8D8-646AA2C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C94-7FFA-4434-B0F2-AB3FF5A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83F-8600-48F2-88DC-996A59D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9BA-54BE-4ACC-A130-15DD7EA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461-B580-4DA1-86D3-510B705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AF3-9216-42AC-A1BE-254A216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5CC-9E5B-4342-B8F6-59754AF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492-DA31-49FC-99B4-BCB0EFA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A51C7C-13F1-4DC3-98B4-EC6D412A2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3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llenge of Hosting Inter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sizes have grown astrono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 error in fee estimates can be a $15K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liable for cancellation of event--liability approaching $100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has to make up difference between blocked rooms and actual--forces us to underestimate and drive up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, collection of fees, etc becoming unmanageable for inexperienced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ompanies can not afford to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571-6105-43D8-9F19-ADB46350C1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8:49:25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0-07-13T15:51:39Z</dcterms:modified>
  <cp:revision>5</cp:revision>
  <dc:subject>IEEE 802.15 &lt;subject&gt;</dc:subject>
  <dc:title>The Challenge of Hosting Interims</dc:title>
</cp:coreProperties>
</file>