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237-F492-477C-8E41-257A5D52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F61-E365-4380-B984-11337009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CC6-E141-45CB-9E78-EF633F2E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E3C-A204-4873-9B27-C3DCDCCC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9D6-50CC-47FF-B8BF-C15C304B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6C3-B771-4A5A-9ACA-9EB4EE46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23B-A34D-47F5-9E73-B1B8F34A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E85-DFE7-4C4A-B459-349BF5AA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C00-F57A-4B40-AE3C-D5A74827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8F3-2861-4E1C-806B-9C8086B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447-507F-44A7-9D60-06D4351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7AB-F5C6-4D01-9ACB-5BE1D7AA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89BD3A-495B-4C35-A223-711BFD266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98480"/>
            <a:ext cx="883908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upergold Encoding for High Rate WPAN Physical Layer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7 July 2000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T O’Farrell &amp; L.E. Aguado] Company [Supergold Communication Ltd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[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-3 Sandyford Village, Sandyford, Dublin 18, Ire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:[ +44 113 2332004 ], FAX: [ +44 113 2332032 ], E-Mail:[ enrique@supergold.com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Physical layer modulation proposal for the IEEE P802.15.3 High Rate Wireless Personal Area Networks Standar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 0021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This contribution presents a coded modulation proposal for the physical layer part of the High Rate WPAN standard. This scheme is evaluated based on the Pugh criteria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Proposal for PHY part of IEEE P802.15.3 standar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E85-725A-4364-A87B-9A57AA6734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 Manufactur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architecture to IEEE 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pler baseband processing than 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PA (0 dBm Tx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to 802.15.1 equivalent U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26E-04EA-497F-90D0-B7C5535445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3200" y="69840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2120" y="1298160"/>
            <a:ext cx="8067960" cy="50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gnal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ference and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 based on co-channel interference simulation of multiple access and CW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MAI) = -6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CW) = -7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acent+1 channel power atenuation &gt; 50 dB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ference protection &gt; 4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0B4-357F-4F07-B3F3-96FDB64865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11440" y="1646280"/>
            <a:ext cx="6000480" cy="450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ference and Susceptibilit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7360" y="6149880"/>
            <a:ext cx="78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erformance in the presence of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6A3-DDFA-47F8-83C6-C8FBC2D75B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3200" y="163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odulation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 including model of RF chain pe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s for interference resistance demonstrate robustness of the sequence coded modula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our model, a 2 KHz AM modulated 802.15.1 signal behaves like a CW interferer with (almost) constant level over a symbol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419-4D95-4EFD-A6E7-6320F6FC00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320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m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CW interfererer operating in an uncoordinated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19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= -7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n 802.15.3 connection operating in an uncoordinated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19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= -6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5A1-3A54-42BC-9A02-36FAE5EAE9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ple Access/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put measurements with coordinated same systems and uncoordinated dissimilar systems requ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test-bed to model PHY and MAC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dware test-bed to measure in real environme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17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of test-beds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BA b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8C3-9370-41AF-A5BF-05057A4961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7760"/>
            <a:ext cx="777240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terminal would be required for interoperability with 802.15.1, working at 2.4 GHz, low added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on channelisation supports interoperability with 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D15-F74E-47BB-957B-FC081C2DB0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3200" y="15177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cal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factur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architecture utilises pre-existing IEEE 802.11b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functionality similar to existing appli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to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-existence of technology will ensure short develop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PHY part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: 1Q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D1F-DCAB-4C89-9D5D-028872F88D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1542600"/>
            <a:ext cx="777240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tory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posed scheme is compliant with regulator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urity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ystem technology utilises existing 802.11b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ying modulation is constant amplitude 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less complicated than C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scheme tested in a general purpose hardwar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9FF-FDDB-43D0-854F-C7EC0A562F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0240" y="6616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5040" y="1260000"/>
            <a:ext cx="777240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C would be used to control transmit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put can be reduced by increasing the level of coding while enhancing the link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Band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odulation scheme can be applied at both 2.4 GHz and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the level of coding would not impact on the uni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lisation could be introduced in the scheme to enhance resistance to time dispersive channels - not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149-E901-4998-BA81-821473D0BA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gol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 Communication is a campus start up company that specialises in solutions for wireless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 Coded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/Cod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043-5B00-4713-AA1F-4D3A66151A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3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ze and Form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less complex solution than 802.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er baseband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legacy modula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q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5.1-type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d one or two chip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4B6-D385-4FE8-AD64-5428D41736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4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um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ed data rate: 22 Mbit/s, 21.65 Mbit/s with enhance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 overhead allowance: 10%, 8.25% with enhance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ed MAC/PHY thoughput = 20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End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throughput level is o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321-8A9E-4C3C-86F6-C85783569C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5368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posal is addressed to the 2.4 GHz ISM band, but would also be applicable to the 5GHz ISM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Simultaneously Operating Full Throughput P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EEE 802.11 channelisation is ado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3 co-located networks could share the 2.4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5 co-located networks could share the 5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0 dBm Tx. Power, range &gt; 10 m (for link budget presen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DBC-82F8-4E8D-9830-5E0F5587A5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6680" y="1560600"/>
            <a:ext cx="5676840" cy="4600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7080" y="6126120"/>
            <a:ext cx="769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82F-2474-4179-9F86-5FCCEBCA2F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5920" y="1568520"/>
            <a:ext cx="5676840" cy="4610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2B2-6561-4976-81C1-A3186026D7D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27200" y="1552680"/>
            <a:ext cx="5686560" cy="4667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2ED-3703-4424-A023-03D6F84554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50880" y="2133720"/>
            <a:ext cx="5483160" cy="4087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9160" y="6220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9880" y="1081080"/>
            <a:ext cx="808056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met for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5 ns with no eq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ddition of equalisation would allow longer delay sp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6191280"/>
            <a:ext cx="7697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 Performance in the multipath channel for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25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878-EF04-495C-850B-81F8B02F9B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3200" y="15429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transmit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implementation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 consumption should be below 0.5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8DE-E59E-4DFF-89CA-B3249BAA7D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69960" y="1457280"/>
          <a:ext cx="7808760" cy="53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457280"/>
                    <a:ext cx="780876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08A-E862-4D79-B253-6BCBD2F86A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19000" y="1341360"/>
          <a:ext cx="7739280" cy="55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341360"/>
                    <a:ext cx="773928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962-9C9E-47FE-8FE5-A69D5A14B2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gol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fficiently exploiting the distance properties of sequences/codes, Supergold’s solutions balance the trade-off between bandwidth efficiency, BER performance and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’s solutions can be beneficially appli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reless 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ular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9E9-915D-40B2-A57C-86B610FF94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22240" y="1343160"/>
          <a:ext cx="772164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343160"/>
                    <a:ext cx="772164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347-0092-401A-91A8-793444FF28A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93800" y="1662120"/>
          <a:ext cx="8067600" cy="56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662120"/>
                    <a:ext cx="806760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650-11EB-4739-8130-F815079F6C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Coded Modulation for High Rate WPAN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29960"/>
            <a:ext cx="7283520" cy="39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PSK / OQPSK chip modulation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ant 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-ary symbol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error correcting concatenated R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3 dB coding gain over QPSK  @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bandwidth efficiency: 22 Mbit/s in 25MHz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e to operate in 2.4 GHz ISM band (can operate in 5 GHz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4D9-98FA-4F78-8F02-48A481B57E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erties of the sequence coded modul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528560"/>
            <a:ext cx="74120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re-exist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asibl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in the 2.4 GHz ISM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for 802.11 - 802.15.1 and 802.15.3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ow baseb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s robustness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AC1-7667-454F-9C94-E804D1A0BE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47720" y="3467160"/>
            <a:ext cx="5597640" cy="17240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nelisation of the 2.4 GHz I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3960" y="1650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e three 25 MHz channels in 2.4 GHz ISM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nel spacing 27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84440" y="3894120"/>
            <a:ext cx="5540400" cy="141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13320" y="3467160"/>
            <a:ext cx="1685880" cy="1733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84520" y="3467160"/>
            <a:ext cx="1685880" cy="1733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97120" y="3467160"/>
            <a:ext cx="1692360" cy="1733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50960" y="513720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4520" y="5207040"/>
            <a:ext cx="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67160" y="5213520"/>
            <a:ext cx="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00360" y="5207040"/>
            <a:ext cx="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95960" y="5207040"/>
            <a:ext cx="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3960" y="5200560"/>
            <a:ext cx="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5207040"/>
            <a:ext cx="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232760" y="5181120"/>
            <a:ext cx="1260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8040" y="5467320"/>
            <a:ext cx="1682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47840" y="522612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06840" y="5473800"/>
            <a:ext cx="1682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6640" y="52322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03960" y="5473800"/>
            <a:ext cx="1682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3760" y="52322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5760" y="5803920"/>
            <a:ext cx="11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40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85120" y="577224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483.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1720" y="310500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Chann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62360" y="309564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Chann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33920" y="310500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Chann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24040" y="3581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nsmit Spectrum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10040" y="364824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 d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6240" y="448632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0 d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4960" y="49053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0 d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48200" y="3657600"/>
            <a:ext cx="8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filtered sinx/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43080" y="3933720"/>
            <a:ext cx="266760" cy="4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0840" y="3724200"/>
            <a:ext cx="476280" cy="18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2600" y="416556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cc99"/>
                </a:solidFill>
                <a:latin typeface="Times New Roman"/>
              </a:rPr>
              <a:t>2.4 GHz ISM 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D88-A717-4ECF-ACA6-2C9D7937D8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9080" y="3870000"/>
            <a:ext cx="7786440" cy="23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based on: IEEE 802.15-00/050r1, Rick Roberts, Intersil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igure: 15 dB (inexpensive imple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Bandwidth: 25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loor: -174+10*log(25*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15 = -85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Loss Margin: 4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enna Gain: 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2160" y="1373040"/>
            <a:ext cx="48164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9C3-E26D-431F-B536-EDEE82643A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6880" y="138240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Delay: 2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Refflection Coefficient: -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Direct Ray Range: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Equation (dB): L = 32.5+20log(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20log(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GH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2.4 GHz, assuming the direct ray is blocked, the loss of the reflected ray path (17.4 m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= 32.5+24.8+7.6+6 = 70.9 dB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dB reflection coeffici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ing antenna gain and implementa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Loss Budget: L + 2*0 + 4 = 74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ng SNR is 10 dB for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x Power: Noise Floor + SNR + Loss = -85 dBm + 10 dB + 74.9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x Pow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B8C-D3CA-4CC6-BCAD-A4302B0035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posal has been evaluated by the simulation of baseband mod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s including the RF chain are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4AC-0575-4B8C-BF69-FC249659ED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2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8:59:45Z</dcterms:created>
  <dc:creator>James D. Allen</dc:creator>
  <dc:description>&lt;doc#&gt;</dc:description>
  <dc:language>en-US</dc:language>
  <cp:lastModifiedBy>Pat Nolan</cp:lastModifiedBy>
  <cp:lastPrinted>2000-07-05T15:11:46Z</cp:lastPrinted>
  <dcterms:modified xsi:type="dcterms:W3CDTF">2000-07-11T19:07:18Z</dcterms:modified>
  <cp:revision>88</cp:revision>
  <dc:subject>IEEE 802.15 TG3</dc:subject>
  <dc:title>Selection Process Flow Chart</dc:title>
</cp:coreProperties>
</file>