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C9E5066-20F4-4593-85BC-E1C5923B20C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29040" y="8816760"/>
            <a:ext cx="3005280" cy="46332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AB9E248-09A7-4686-BE91-047988CA6FD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6" name=""/>
          <p:cNvSpPr txBox="1"/>
          <p:nvPr/>
        </p:nvSpPr>
        <p:spPr>
          <a:xfrm>
            <a:off x="0" y="8816760"/>
            <a:ext cx="3005280" cy="46332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7" name=""/>
          <p:cNvSpPr txBox="1"/>
          <p:nvPr/>
        </p:nvSpPr>
        <p:spPr>
          <a:xfrm>
            <a:off x="0" y="0"/>
            <a:ext cx="300528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8" name=""/>
          <p:cNvSpPr txBox="1"/>
          <p:nvPr/>
        </p:nvSpPr>
        <p:spPr>
          <a:xfrm>
            <a:off x="3929040" y="0"/>
            <a:ext cx="300528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9" name="PlaceHolder 1"/>
          <p:cNvSpPr>
            <a:spLocks noGrp="1"/>
          </p:cNvSpPr>
          <p:nvPr>
            <p:ph type="sldImg"/>
          </p:nvPr>
        </p:nvSpPr>
        <p:spPr>
          <a:xfrm>
            <a:off x="1146240" y="695160"/>
            <a:ext cx="4641840" cy="3481560"/>
          </a:xfrm>
          <a:prstGeom prst="rect">
            <a:avLst/>
          </a:prstGeom>
          <a:ln w="0">
            <a:noFill/>
          </a:ln>
        </p:spPr>
      </p:sp>
      <p:sp>
        <p:nvSpPr>
          <p:cNvPr id="270"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pl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1: 802.15WG voted on D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2: 802.15WG votes on comment resolutions resulted from the compilation of LB#1 comments from the voters and SIG’s inp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802.15WG votes on D0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4: similar to LB#2 only based on the results of LB#3</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2.0, v3.0, etc. are assumed to be addressed by the  802.15 as they become availa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54160" y="701640"/>
            <a:ext cx="4626000" cy="3468600"/>
          </a:xfrm>
          <a:prstGeom prst="rect">
            <a:avLst/>
          </a:prstGeom>
          <a:ln w="0">
            <a:noFill/>
          </a:ln>
        </p:spPr>
      </p:sp>
      <p:sp>
        <p:nvSpPr>
          <p:cNvPr id="25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a:t>
            </a:r>
            <a:r>
              <a:rPr b="0" lang="en-US" sz="700" spc="-1" strike="noStrike">
                <a:solidFill>
                  <a:srgbClr val="000000"/>
                </a:solidFill>
                <a:latin typeface="Times New Roman"/>
              </a:rPr>
              <a:t>	</a:t>
            </a:r>
            <a:r>
              <a:rPr b="0" lang="en-US" sz="700" spc="-1" strike="noStrike">
                <a:solidFill>
                  <a:srgbClr val="000000"/>
                </a:solidFill>
                <a:latin typeface="Times New Roman"/>
              </a:rPr>
              <a:t>Webb, John P [SMTP:John.P.Webb@intel.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a:t>
            </a:r>
            <a:r>
              <a:rPr b="0" lang="en-US" sz="700" spc="-1" strike="noStrike">
                <a:solidFill>
                  <a:srgbClr val="000000"/>
                </a:solidFill>
                <a:latin typeface="Times New Roman"/>
              </a:rPr>
              <a:t>	</a:t>
            </a:r>
            <a:r>
              <a:rPr b="0" lang="en-US" sz="700" spc="-1" strike="noStrike">
                <a:solidFill>
                  <a:srgbClr val="000000"/>
                </a:solidFill>
                <a:latin typeface="Times New Roman"/>
              </a:rPr>
              <a:t>Friday, January 21, 2000 11:30 A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a:t>
            </a:r>
            <a:r>
              <a:rPr b="0" lang="en-US" sz="700" spc="-1" strike="noStrike">
                <a:solidFill>
                  <a:srgbClr val="000000"/>
                </a:solidFill>
                <a:latin typeface="Times New Roman"/>
              </a:rPr>
              <a:t>	</a:t>
            </a:r>
            <a:r>
              <a:rPr b="0" lang="en-US" sz="700" spc="-1" strike="noStrike">
                <a:solidFill>
                  <a:srgbClr val="000000"/>
                </a:solidFill>
                <a:latin typeface="Times New Roman"/>
              </a:rPr>
              <a:t>Gifford, Ian C.; Bluetooth SIGnal (E-mail); 'Roger Peacock'</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a:t>
            </a:r>
            <a:r>
              <a:rPr b="0" lang="en-US" sz="700" spc="-1" strike="noStrike">
                <a:solidFill>
                  <a:srgbClr val="000000"/>
                </a:solidFill>
                <a:latin typeface="Times New Roman"/>
              </a:rPr>
              <a:t>	</a:t>
            </a:r>
            <a:r>
              <a:rPr b="0" lang="en-US" sz="700" spc="-1" strike="noStrike">
                <a:solidFill>
                  <a:srgbClr val="000000"/>
                </a:solidFill>
                <a:latin typeface="Times New Roman"/>
              </a:rPr>
              <a:t>Bruce Kraemer (E-mail); Webb, John P</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a:t>
            </a:r>
            <a:r>
              <a:rPr b="0" lang="en-US" sz="700" spc="-1" strike="noStrike">
                <a:solidFill>
                  <a:srgbClr val="000000"/>
                </a:solidFill>
                <a:latin typeface="Times New Roman"/>
              </a:rPr>
              <a:t>	</a:t>
            </a:r>
            <a:r>
              <a:rPr b="0" lang="en-US" sz="700" spc="-1" strike="noStrike">
                <a:solidFill>
                  <a:srgbClr val="000000"/>
                </a:solidFill>
                <a:latin typeface="Times New Roman"/>
              </a:rPr>
              <a:t>RE: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lad to hear you want to include an Article in The SIGnal. Roger is th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editor and can help with the below questions.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John</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Original Messag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 Gifford, Ian C. [mailto:giffordi@tycoelectronics.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 Thursday, January 20, 2000 10:26 P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 Bluetooth SIGnal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 Bruce Kraemer (E-mail); John Webb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Hi,</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We appreciated the article on Wireless Personal Area Networks &amp; IEEE P802.15 in the Bluetooth SIGnal Issue no. 2, Sep99!</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Now we are wondering how to write a SIGnal article as an update to this article and/or the standards-making work we are doing in the IEEE Project</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802.15 Working Group for WPANs.  Here are some questions to start the dialog:</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1 Who should we contact and/or work with if we have an idea for an article that the SIGnal Readers might lik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2 What are the author rul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3 The Bluetooth SIGnal Issue no. 2 Article is 383 words.  Is the typical word count that is consider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4 It appears that the next placement is for the 28 January 2000 issue of the Bluetooth SIGnal or Issue no. 4.  When is/was the deadline for the Issue no. 4?  When is no. 5 schedul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5 Do you have themes for each of the up and coming Issu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Best 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Giffor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iffordi@tycoelectronics.com</a:t>
            </a:r>
            <a:endParaRPr b="0" lang="en-US" sz="7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4160" y="701640"/>
            <a:ext cx="4626000" cy="3468600"/>
          </a:xfrm>
          <a:prstGeom prst="rect">
            <a:avLst/>
          </a:prstGeom>
          <a:ln w="0">
            <a:noFill/>
          </a:ln>
        </p:spPr>
      </p:sp>
      <p:sp>
        <p:nvSpPr>
          <p:cNvPr id="26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Wireless Personal Area Networks</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Imagine living your entire life within the confines of a bubble. Now imagine that this bubble has a radius of 10 meters. This invariable bubble is called your Personal Operating Space (POS). Now look around in your bubble. How many electronic devices do you see? How many wires do you see? The Bluetooth technology provides wireless connectivity among these devices within (or moving into) your POS. These wirelessly connected devices create a network called a Wireless Personal Area Network (WPAN). In the Wide Area Network (WAN), Metropolitan Area Network (MAN), and Local Area Network (LAN) hierarchy, the WPAN’s scope is the smallest and least developed.</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In March of 1998, the WPAN Study Group was formed. The study group’s goal was to investigate the need for a wireless network standard for devices within a POS. In May of 1998, the Bluetooth Special Interest Group (SIG) was formed. In March of 1999, the WPAN study group became IEEE 802.15, the WPAN Working Group. The working group’s goal is to define a wireless communications standard for a PAN, focusing on low power consumption, small size, and low cost. In July of 1999, the Bluetooth SIG released the Bluetooth 1.0 Specification. </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WPAN of the Future</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The obvious applications of a WPAN are in the office workspace. With the Bluetooth technology, your essential workspace electronic devices will be wirelessly networked together. These could include your desktop, mobile computer, printer, handheld device, mobile phone, pager, portable stereo, etc. Imagine wirelessly checking e-mail in an airport by connecting to data access points or wirelessly printing documents from the printer in the back of the plane. The less obvious applications of a WPAN are outside of the office. Imagine an oven that sends a message to the TV you are watching when your meat loaf is done, or a handgun that only fires when an authorized person uses it.</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In today’s environment, information is our most valuable commodity. In an electronic future with smaller,cheaper, and more powerful devices, the speed and convenience at which information is accessible will be exponentially more important. By creating a WPAN of these devices, the Bluetooth technology enables a future where a lifetime of knowledge may be accessed through gateways worn on the body. </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For more information about WPANs, go to &lt;http://grouper.ieee.org/groups/802/15/&gt;</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ource: BT-SIGnal_Issue-no-2</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54160" y="701640"/>
            <a:ext cx="4626000" cy="3468600"/>
          </a:xfrm>
          <a:prstGeom prst="rect">
            <a:avLst/>
          </a:prstGeom>
          <a:ln w="0">
            <a:noFill/>
          </a:ln>
        </p:spPr>
      </p:sp>
      <p:sp>
        <p:nvSpPr>
          <p:cNvPr id="262"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PANs: creating standards for Bluetooth-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PANs: Issue 2 of the Bluetooth SIGnal [1] introduced the cooperative effort now  under-way between the IEEE [2] 802.15 Working Group and the Bluetooth SIG to derive an IEEE standard based upon the Bluetooth Specification Version 1.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cooperative effort has resulted from a convergence of IEEE standards development activities previously underway within the IEEE coupled with the formation of the Bluetooth SIG in 1998 and its subsequent phenomenal growth under the leadership of the Bluetooth SIG promoter compani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802.15 Working Group for Wireless Personal Area Networks (WPANs) is authorized to provide, in the IEEE 802 family, standards for low-complexity, low-power consumption wireless connectiv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goal of Task Group1 (TG1) is to have a draft IEEE standard this summer. Full ratification and publication will occur early next yea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jointly crafted IEEE 802.15 standard will provide checks and balances to the Bluetooth specification. As a result, the IEEE peer review process will achieve a key benefit to the Bluetooth community. For example, the first IEEE draft standard letter ballot [3] generated 1013 comments against the IEEE derivative work. Many of these comments referred directly to the Bluetooth Specification and were forwarded immediately to the Bluetooth SIG for re-view and disposi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other of the key benefits to the community is that this standard will add the Bluetooth Specification to the IEEE 802 family of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802 LAN/MAN Standards Committee develops wired and wireless standards. IEEE 802 standards deal with the Physical and Data Link layers as defined by the International Organization for Standardization (ISO) Open Systems Inter-connection (OSI) Basic Reference Model (ISO/IEC 7498-1: 199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IEEE 802 standards define eight types of medium access technologies and associated physical media, each appropriate for particular applications or system objectives (see Figure). The most popular of these standards is IEEE 802.3, the Ethernet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SIG standards-making effort is based within the Wireless PANs (802.15), which is chartered to provide standards for different Usage Models based on wireless technology. It is expected to be a major growth area for IEEE 802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Outlook</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ince the formation of the 802.15 WG in March 1999, there have been three projects authorized. The first is TG1, which is the Bluetooth-IEEE standards-making effort. The second project authorized is designated Task Group 2 (TG2) and the third project authorized is designated Task Group 3 (TG3).</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1 - Numerous meetings have been held over the past two years, "…however, significant progress towards the completion of the IEEE standard occurred during the February 25, 2000 face-2-face meeting Copenhagen." said Tom Siep, IEEE P802.15.1 Editor-in-Chief. Again, the goal of TG1 is to publish an approved standard derived from the Bluetooth Specification early next yea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2 - This group will address the issue of coexistence between 802.15 and 802.11 wireless networks. The purpose of the TG2 is twofold. First, to develop a Coexistence Model quantifying the effect of the mutual interference of the two networks. Second, to develop a Recommended Practice to facilitate coexistence of 802.15 and 802.11 devices operating in a common environment. The target completion date for this project is March 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3 - The latest addition to the IEEE 802.15 Working Group is the newly for-med High-Rate Task Group, chartered to draft and publish a new standard for high-rate (20 Mbps or greater) WPANs. The new HR standard will provide for low-power, low-cost solutions addressing the needs of consumer digital imaging and multimedia applications. In addition, the new HR standard will provide compatibility with the TG1 specification. The process of reviewing responses to the formal Call for Applications and Proposals is expected to be completed in July 2000.  The target completion date for this project is November 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r. Ian Gifford, M/A-COM, In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r. Bruce Kraemer, Intersil Corpor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Visit: http://www.bluetooth.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Visit: http://www.ieee.org/about/whati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Ballots are a part of the standards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isit: http://standards.ieee.org/resources/glance.htm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isit: http://grouper.ieee.org/groups/802/15/</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Wireless Personal Area Networks (WPANs) column will be a new feature in the Bluetooth SIGnal The Bluetooth SIG and IEEE have decided to provide a recurring column on this joint standards- making effort to update the Bluetooth Adopters. These short columns will focus on the technical issues and progress of the standardization of the Bluetooth Techn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54160" y="701640"/>
            <a:ext cx="4626000" cy="3468600"/>
          </a:xfrm>
          <a:prstGeom prst="rect">
            <a:avLst/>
          </a:prstGeom>
          <a:ln w="0">
            <a:noFill/>
          </a:ln>
        </p:spPr>
      </p:sp>
      <p:sp>
        <p:nvSpPr>
          <p:cNvPr id="26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WPANsTM - A progress report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Issue 5 of the Bluetooth SIGnal provided a summary of the IEEE 802.15 projects and our efforts at creating standards for WPAN environments. The following column provides a progress report on a single project - Task Group 1 (TG1). The IEEE 802.15 TG1 is deriving a Wireless Personal Area Network standard based on the Bluetooth v 1.0 Foundation Specification.</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The IEEE draft standard was recently updated to reflect the latest Bluetooth v1.0 B Foundation Specification. By the time of this publication, the TG1 will have submitted the draft standard to the whole IEEE 802.15 Working Group and be in the midst of conducting a 40-day working group ballot of it. The results will be available on TG1's Website in the next few week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Even though the IEEE draft standardizes "L2CAP and below" (PHY layer and MAC sublayer), the Bluetooth community should find this latest draft of special interest. Specifically, we have included in the IEEE draft standard a Specification and Description Language (SDL) model, which describes the IEEE standardized protocols using the formal, object-oriented language defined by ITU-T in recommendation Z.100.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The new draft also provides a section on layer interfaces (referred to as service access points or SAPs), see figure, and a Protocol Implementation Conformance Statement (PICS) proforma. The PICS proforma lists all the mandatory features called for in the standard and all optional ones that must be included in a particular implementation. The supplier of a protocol implementation that is claimed to conform to IEEE Std 802.15.1-2001 shall complete this PICS proforma declaring that all mandatory features have been implemented and additionally identify which of the optional ones are implemente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The next column in the series will discuss the IEEE 802.15 Task Group 2 (TG2), which is developing Recommended Practices for coexistence of 802.15 WPANs or short-distance wireless networks with other systems from the 802 family of standards that operated in the 2.4 GHz spectrum, e.g., 802.11 WLAN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Mr. Ian Gifford</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M/A-COM, Inc</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ourier New"/>
              </a:rPr>
              <a:t>http://grouper.ieee.org/groups/802/1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4A89C-14C0-49A0-9A6A-4217FAAD2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DAA9C-557F-493A-89CF-26556F981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34CBF-A37E-4291-931A-4B6CCD6A1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9045C-57AC-4899-A3C6-770440E4E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EB90D-7E7B-42E6-804A-26B6834ED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862FC-F877-49D7-A9D5-5EB525096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E4416-3355-4459-BCF7-929D4930B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AD3F7-348D-40DC-812D-6D964DDE0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4BA6E-109F-47C8-A328-374E2151A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C0DD3-1C2A-4C02-BC0F-042B04141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ED5D1-0C1B-43FA-BE88-07F4B777D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CA5E-39EB-41C6-85E1-A89BCA236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67043F99-791F-43F9-ACFC-BECB3E504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8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657600" y="6399360"/>
            <a:ext cx="190512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 </a:t>
            </a:r>
            <a:fld id="{E20A9813-08D9-428F-921A-FB1371DACB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 name=""/>
          <p:cNvSpPr txBox="1"/>
          <p:nvPr/>
        </p:nvSpPr>
        <p:spPr>
          <a:xfrm>
            <a:off x="5486400" y="6399360"/>
            <a:ext cx="312408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09480" y="22860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
          <p:cNvSpPr/>
          <p:nvPr/>
        </p:nvSpPr>
        <p:spPr>
          <a:xfrm>
            <a:off x="76320" y="76320"/>
            <a:ext cx="8991360" cy="61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C WG 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Jul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121r1,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following report consolidates various WG level activities that are overseen by the Marketing Committee i.e., Bluetooth™ SIGnal Report, Web Site &amp; Mailing Lists, Press Kit,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WG will use this report as a way to capture their ongoing MC work.  This author will consolidate or work with other authors if they have other WG MC work that needs to be reporte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flipV="1">
            <a:off x="2438280" y="34574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153280" y="2362320"/>
            <a:ext cx="91440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86200" y="2362320"/>
            <a:ext cx="419112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Placement Schedule</a:t>
            </a:r>
            <a:endParaRPr b="0" lang="en-US" sz="4400" spc="-1" strike="noStrike">
              <a:solidFill>
                <a:srgbClr val="000000"/>
              </a:solidFill>
              <a:latin typeface="Times New Roman"/>
            </a:endParaRPr>
          </a:p>
        </p:txBody>
      </p:sp>
      <p:sp>
        <p:nvSpPr>
          <p:cNvPr id="100"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01"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02"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4"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5"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16"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7"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18"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19"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20"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1"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22"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3"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4"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5"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6"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7" name=""/>
          <p:cNvSpPr/>
          <p:nvPr/>
        </p:nvSpPr>
        <p:spPr>
          <a:xfrm>
            <a:off x="2590920" y="209088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191120" y="20908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75160" y="2465280"/>
            <a:ext cx="122328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Signed</a:t>
            </a:r>
            <a:endParaRPr b="0" lang="en-US" sz="1200" spc="-1" strike="noStrike">
              <a:solidFill>
                <a:srgbClr val="000000"/>
              </a:solidFill>
              <a:latin typeface="Times New Roman"/>
            </a:endParaRPr>
          </a:p>
        </p:txBody>
      </p:sp>
      <p:sp>
        <p:nvSpPr>
          <p:cNvPr id="130" name=""/>
          <p:cNvSpPr/>
          <p:nvPr/>
        </p:nvSpPr>
        <p:spPr>
          <a:xfrm>
            <a:off x="3124080" y="2770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35" name=""/>
          <p:cNvSpPr/>
          <p:nvPr/>
        </p:nvSpPr>
        <p:spPr>
          <a:xfrm>
            <a:off x="279360" y="3352680"/>
            <a:ext cx="861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39"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40"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41"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42"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43"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aphic above indicates the current planning for the SIGnal placement of IE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umn Articles &amp; topics.  </a:t>
            </a:r>
            <a:r>
              <a:rPr b="0" lang="en-US" sz="1800" spc="-1" strike="noStrike">
                <a:solidFill>
                  <a:srgbClr val="ff0000"/>
                </a:solidFill>
                <a:latin typeface="Times New Roman"/>
              </a:rPr>
              <a:t>TG1 has overlaid their balloting phases for clarity/focus.</a:t>
            </a:r>
            <a:endParaRPr b="0" lang="en-US" sz="1800" spc="-1" strike="noStrike">
              <a:solidFill>
                <a:srgbClr val="000000"/>
              </a:solidFill>
              <a:latin typeface="Times New Roman"/>
            </a:endParaRPr>
          </a:p>
        </p:txBody>
      </p:sp>
      <p:sp>
        <p:nvSpPr>
          <p:cNvPr id="146" name=""/>
          <p:cNvSpPr/>
          <p:nvPr/>
        </p:nvSpPr>
        <p:spPr>
          <a:xfrm>
            <a:off x="38181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147" name=""/>
          <p:cNvSpPr/>
          <p:nvPr/>
        </p:nvSpPr>
        <p:spPr>
          <a:xfrm>
            <a:off x="2370240" y="1612800"/>
            <a:ext cx="13939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A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26Jul99</a:t>
            </a:r>
            <a:endParaRPr b="0" lang="en-US" sz="1200" spc="-1" strike="noStrike">
              <a:solidFill>
                <a:srgbClr val="000000"/>
              </a:solidFill>
              <a:latin typeface="Times New Roman"/>
            </a:endParaRPr>
          </a:p>
        </p:txBody>
      </p:sp>
      <p:sp>
        <p:nvSpPr>
          <p:cNvPr id="148" name=""/>
          <p:cNvSpPr/>
          <p:nvPr/>
        </p:nvSpPr>
        <p:spPr>
          <a:xfrm>
            <a:off x="7238880" y="1612800"/>
            <a:ext cx="838440" cy="38124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1.1?</a:t>
            </a:r>
            <a:endParaRPr b="0" lang="en-US" sz="1200" spc="-1" strike="noStrike">
              <a:solidFill>
                <a:srgbClr val="000000"/>
              </a:solidFill>
              <a:latin typeface="Times New Roman"/>
            </a:endParaRPr>
          </a:p>
        </p:txBody>
      </p:sp>
      <p:sp>
        <p:nvSpPr>
          <p:cNvPr id="149"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54"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55"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56"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57"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153280" y="1600200"/>
            <a:ext cx="838440" cy="38088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2.0?</a:t>
            </a:r>
            <a:endParaRPr b="0" lang="en-US" sz="1200" spc="-1" strike="noStrike">
              <a:solidFill>
                <a:srgbClr val="000000"/>
              </a:solidFill>
              <a:latin typeface="Times New Roman"/>
            </a:endParaRPr>
          </a:p>
        </p:txBody>
      </p:sp>
      <p:pic>
        <p:nvPicPr>
          <p:cNvPr id="159" name="bluetooth" descr=""/>
          <p:cNvPicPr/>
          <p:nvPr/>
        </p:nvPicPr>
        <p:blipFill>
          <a:blip r:embed="rId1"/>
          <a:stretch/>
        </p:blipFill>
        <p:spPr>
          <a:xfrm>
            <a:off x="58680" y="1523880"/>
            <a:ext cx="1846440" cy="457200"/>
          </a:xfrm>
          <a:prstGeom prst="rect">
            <a:avLst/>
          </a:prstGeom>
          <a:ln w="0">
            <a:noFill/>
          </a:ln>
        </p:spPr>
      </p:pic>
      <p:pic>
        <p:nvPicPr>
          <p:cNvPr id="160" name="num7" descr=""/>
          <p:cNvPicPr/>
          <p:nvPr/>
        </p:nvPicPr>
        <p:blipFill>
          <a:blip r:embed="rId2"/>
          <a:stretch/>
        </p:blipFill>
        <p:spPr>
          <a:xfrm>
            <a:off x="228600" y="5262480"/>
            <a:ext cx="1343160" cy="376200"/>
          </a:xfrm>
          <a:prstGeom prst="rect">
            <a:avLst/>
          </a:prstGeom>
          <a:ln w="0">
            <a:noFill/>
          </a:ln>
        </p:spPr>
      </p:pic>
      <p:sp>
        <p:nvSpPr>
          <p:cNvPr id="161" name=""/>
          <p:cNvSpPr/>
          <p:nvPr/>
        </p:nvSpPr>
        <p:spPr>
          <a:xfrm>
            <a:off x="3962520" y="3843360"/>
            <a:ext cx="12952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addressed</a:t>
            </a:r>
            <a:endParaRPr b="0" lang="en-US" sz="1200" spc="-1" strike="noStrike">
              <a:solidFill>
                <a:srgbClr val="000000"/>
              </a:solidFill>
              <a:latin typeface="Times New Roman"/>
            </a:endParaRPr>
          </a:p>
        </p:txBody>
      </p:sp>
      <p:sp>
        <p:nvSpPr>
          <p:cNvPr id="162" name=""/>
          <p:cNvSpPr/>
          <p:nvPr/>
        </p:nvSpPr>
        <p:spPr>
          <a:xfrm flipV="1">
            <a:off x="4952880" y="346248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4600" y="3657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a:t>
            </a:r>
            <a:endParaRPr b="0" lang="en-US" sz="2400" spc="-1" strike="noStrike">
              <a:solidFill>
                <a:srgbClr val="000000"/>
              </a:solidFill>
              <a:latin typeface="Times New Roman"/>
            </a:endParaRPr>
          </a:p>
        </p:txBody>
      </p:sp>
      <p:sp>
        <p:nvSpPr>
          <p:cNvPr id="164" name=""/>
          <p:cNvSpPr/>
          <p:nvPr/>
        </p:nvSpPr>
        <p:spPr>
          <a:xfrm>
            <a:off x="4495680" y="4513320"/>
            <a:ext cx="1143000" cy="45900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G 17Mar00</a:t>
            </a:r>
            <a:endParaRPr b="0" lang="en-US" sz="1200" spc="-1" strike="noStrike">
              <a:solidFill>
                <a:srgbClr val="000000"/>
              </a:solidFill>
              <a:latin typeface="Times New Roman"/>
            </a:endParaRPr>
          </a:p>
        </p:txBody>
      </p:sp>
      <p:sp>
        <p:nvSpPr>
          <p:cNvPr id="165" name=""/>
          <p:cNvSpPr/>
          <p:nvPr/>
        </p:nvSpPr>
        <p:spPr>
          <a:xfrm flipV="1">
            <a:off x="5638680" y="348300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15000" y="3857760"/>
            <a:ext cx="1143000" cy="459000"/>
          </a:xfrm>
          <a:prstGeom prst="rect">
            <a:avLst/>
          </a:prstGeom>
          <a:solidFill>
            <a:srgbClr val="ffffff">
              <a:alpha val="50000"/>
            </a:srgbClr>
          </a:solidFill>
          <a:ln w="1260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G1 12May00</a:t>
            </a: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167" name=""/>
          <p:cNvSpPr/>
          <p:nvPr/>
        </p:nvSpPr>
        <p:spPr>
          <a:xfrm flipV="1">
            <a:off x="6353280" y="347616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886360" y="4510080"/>
            <a:ext cx="1143000" cy="4590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G2</a:t>
            </a:r>
            <a:endParaRPr b="0" lang="en-US" sz="1200" spc="-1" strike="noStrike">
              <a:solidFill>
                <a:srgbClr val="000000"/>
              </a:solidFill>
              <a:latin typeface="Times New Roman"/>
            </a:endParaRPr>
          </a:p>
        </p:txBody>
      </p:sp>
      <p:sp>
        <p:nvSpPr>
          <p:cNvPr id="169" name=""/>
          <p:cNvSpPr/>
          <p:nvPr/>
        </p:nvSpPr>
        <p:spPr>
          <a:xfrm>
            <a:off x="7143840" y="3857760"/>
            <a:ext cx="1143000" cy="4590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G3</a:t>
            </a:r>
            <a:endParaRPr b="0" lang="en-US" sz="1200" spc="-1" strike="noStrike">
              <a:solidFill>
                <a:srgbClr val="000000"/>
              </a:solidFill>
              <a:latin typeface="Times New Roman"/>
            </a:endParaRPr>
          </a:p>
        </p:txBody>
      </p:sp>
      <p:sp>
        <p:nvSpPr>
          <p:cNvPr id="170" name=""/>
          <p:cNvSpPr/>
          <p:nvPr/>
        </p:nvSpPr>
        <p:spPr>
          <a:xfrm flipV="1">
            <a:off x="7781760" y="347616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43640" y="4508640"/>
            <a:ext cx="1143000" cy="4590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EEE-SA</a:t>
            </a:r>
            <a:endParaRPr b="0" lang="en-US" sz="1200" spc="-1" strike="noStrike">
              <a:solidFill>
                <a:srgbClr val="000000"/>
              </a:solidFill>
              <a:latin typeface="Times New Roman"/>
            </a:endParaRPr>
          </a:p>
        </p:txBody>
      </p:sp>
      <p:sp>
        <p:nvSpPr>
          <p:cNvPr id="172" name=""/>
          <p:cNvSpPr/>
          <p:nvPr/>
        </p:nvSpPr>
        <p:spPr>
          <a:xfrm flipV="1">
            <a:off x="7029360" y="34862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8486640" y="347328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0776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175" name=""/>
          <p:cNvSpPr/>
          <p:nvPr/>
        </p:nvSpPr>
        <p:spPr>
          <a:xfrm>
            <a:off x="810756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ponsor</a:t>
            </a:r>
            <a:endParaRPr b="0" lang="en-US" sz="2000" spc="-1" strike="noStrike">
              <a:solidFill>
                <a:srgbClr val="000000"/>
              </a:solidFill>
              <a:latin typeface="Times New Roman"/>
            </a:endParaRPr>
          </a:p>
        </p:txBody>
      </p:sp>
      <p:sp>
        <p:nvSpPr>
          <p:cNvPr id="176" name=""/>
          <p:cNvSpPr/>
          <p:nvPr/>
        </p:nvSpPr>
        <p:spPr>
          <a:xfrm>
            <a:off x="2481120" y="3843360"/>
            <a:ext cx="1295640" cy="45900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G Aug99</a:t>
            </a:r>
            <a:endParaRPr b="0" lang="en-US" sz="1200" spc="-1" strike="noStrike">
              <a:solidFill>
                <a:srgbClr val="000000"/>
              </a:solidFill>
              <a:latin typeface="Times New Roman"/>
            </a:endParaRPr>
          </a:p>
        </p:txBody>
      </p:sp>
      <p:sp>
        <p:nvSpPr>
          <p:cNvPr id="177" name=""/>
          <p:cNvSpPr/>
          <p:nvPr/>
        </p:nvSpPr>
        <p:spPr>
          <a:xfrm flipV="1">
            <a:off x="3352680" y="346248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0360" y="447984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addressed</a:t>
            </a:r>
            <a:endParaRPr b="0" lang="en-US" sz="1200" spc="-1" strike="noStrike">
              <a:solidFill>
                <a:srgbClr val="000000"/>
              </a:solidFill>
              <a:latin typeface="Times New Roman"/>
            </a:endParaRPr>
          </a:p>
        </p:txBody>
      </p:sp>
      <p:sp>
        <p:nvSpPr>
          <p:cNvPr id="179" name=""/>
          <p:cNvSpPr/>
          <p:nvPr/>
        </p:nvSpPr>
        <p:spPr>
          <a:xfrm flipV="1">
            <a:off x="3843360" y="344952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95280" y="448776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addressed</a:t>
            </a:r>
            <a:endParaRPr b="0" lang="en-US" sz="1200" spc="-1" strike="noStrike">
              <a:solidFill>
                <a:srgbClr val="000000"/>
              </a:solidFill>
              <a:latin typeface="Times New Roman"/>
            </a:endParaRPr>
          </a:p>
        </p:txBody>
      </p:sp>
      <p:sp>
        <p:nvSpPr>
          <p:cNvPr id="181" name=""/>
          <p:cNvSpPr/>
          <p:nvPr/>
        </p:nvSpPr>
        <p:spPr>
          <a:xfrm>
            <a:off x="228600" y="762120"/>
            <a:ext cx="228600" cy="2286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33080" y="762120"/>
            <a:ext cx="153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EEE Article Place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0A4045E-268A-4E8E-8CC2-E3802D110212}" type="slidenum">
              <a:t>10</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Column Article Theme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SA (SIN/Press)</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cket Guide , etc.</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 Family Press Release, etc.</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WPANs [See Issue no 2]</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oduction for Adopters/Associates/Promoters]</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See Issue no 5]</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al Interest Group + Standards Development Organization = Standards-Making success </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TG1 [See Issue no 6] </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ivative precedent, follow on work e.g., Radio2, etc.</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TG2</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existence Modeling, etc.</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HRSG</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A/CFP, etc.</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MC</a:t>
            </a:r>
            <a:endParaRPr b="0" lang="en-US" sz="1600" spc="-1" strike="noStrike">
              <a:solidFill>
                <a:srgbClr val="000000"/>
              </a:solidFill>
              <a:latin typeface="Times New Roman"/>
            </a:endParaRPr>
          </a:p>
          <a:p>
            <a:pPr lvl="1" marL="698400" indent="-2685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nion, Handbook, (in support of TG1)</a:t>
            </a:r>
            <a:endParaRPr b="0" lang="en-US" sz="14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F72EA41-1309-4F96-A66C-F6300FFE8E38}"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Column Article Creation</a:t>
            </a:r>
            <a:br>
              <a:rPr sz="4400"/>
            </a:br>
            <a:r>
              <a:rPr b="0" lang="en-US" sz="4400" spc="-1" strike="noStrike">
                <a:solidFill>
                  <a:srgbClr val="000000"/>
                </a:solidFill>
                <a:latin typeface="Times New Roman"/>
              </a:rPr>
              <a:t>Cycle Time</a:t>
            </a:r>
            <a:endParaRPr b="0" lang="en-US" sz="4400" spc="-1" strike="noStrike">
              <a:solidFill>
                <a:srgbClr val="000000"/>
              </a:solidFill>
              <a:latin typeface="Times New Roman"/>
            </a:endParaRPr>
          </a:p>
        </p:txBody>
      </p:sp>
      <p:sp>
        <p:nvSpPr>
          <p:cNvPr id="186" name=""/>
          <p:cNvSpPr/>
          <p:nvPr/>
        </p:nvSpPr>
        <p:spPr>
          <a:xfrm>
            <a:off x="1025640" y="3165480"/>
            <a:ext cx="2687400" cy="399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1 (20 Days)</a:t>
            </a:r>
            <a:endParaRPr b="0" lang="en-US" sz="1800" spc="-1" strike="noStrike">
              <a:solidFill>
                <a:srgbClr val="000000"/>
              </a:solidFill>
              <a:latin typeface="Times New Roman"/>
            </a:endParaRPr>
          </a:p>
        </p:txBody>
      </p:sp>
      <p:sp>
        <p:nvSpPr>
          <p:cNvPr id="187" name=""/>
          <p:cNvSpPr/>
          <p:nvPr/>
        </p:nvSpPr>
        <p:spPr>
          <a:xfrm>
            <a:off x="3713040" y="3565440"/>
            <a:ext cx="1316160" cy="399960"/>
          </a:xfrm>
          <a:prstGeom prst="rect">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2 (5D)</a:t>
            </a:r>
            <a:endParaRPr b="0" lang="en-US" sz="1800" spc="-1" strike="noStrike">
              <a:solidFill>
                <a:srgbClr val="000000"/>
              </a:solidFill>
              <a:latin typeface="Times New Roman"/>
            </a:endParaRPr>
          </a:p>
        </p:txBody>
      </p:sp>
      <p:sp>
        <p:nvSpPr>
          <p:cNvPr id="188" name=""/>
          <p:cNvSpPr/>
          <p:nvPr/>
        </p:nvSpPr>
        <p:spPr>
          <a:xfrm>
            <a:off x="5029200" y="3965400"/>
            <a:ext cx="1314360" cy="4003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3 (5D)</a:t>
            </a:r>
            <a:endParaRPr b="0" lang="en-US" sz="1800" spc="-1" strike="noStrike">
              <a:solidFill>
                <a:srgbClr val="000000"/>
              </a:solidFill>
              <a:latin typeface="Times New Roman"/>
            </a:endParaRPr>
          </a:p>
        </p:txBody>
      </p:sp>
      <p:sp>
        <p:nvSpPr>
          <p:cNvPr id="189" name=""/>
          <p:cNvSpPr/>
          <p:nvPr/>
        </p:nvSpPr>
        <p:spPr>
          <a:xfrm>
            <a:off x="1082520" y="2997360"/>
            <a:ext cx="531828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14720" y="266688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30 Days</a:t>
            </a:r>
            <a:endParaRPr b="0" lang="en-US" sz="1800" spc="-1" strike="noStrike">
              <a:solidFill>
                <a:srgbClr val="000000"/>
              </a:solidFill>
              <a:latin typeface="Times New Roman"/>
            </a:endParaRPr>
          </a:p>
        </p:txBody>
      </p:sp>
      <p:sp>
        <p:nvSpPr>
          <p:cNvPr id="191" name=""/>
          <p:cNvSpPr/>
          <p:nvPr/>
        </p:nvSpPr>
        <p:spPr>
          <a:xfrm>
            <a:off x="112320" y="32958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1</a:t>
            </a:r>
            <a:endParaRPr b="0" lang="en-US" sz="1800" spc="-1" strike="noStrike">
              <a:solidFill>
                <a:srgbClr val="000000"/>
              </a:solidFill>
              <a:latin typeface="Times New Roman"/>
            </a:endParaRPr>
          </a:p>
        </p:txBody>
      </p:sp>
      <p:sp>
        <p:nvSpPr>
          <p:cNvPr id="192" name=""/>
          <p:cNvSpPr/>
          <p:nvPr/>
        </p:nvSpPr>
        <p:spPr>
          <a:xfrm>
            <a:off x="110520" y="369720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2 (very likely)</a:t>
            </a:r>
            <a:endParaRPr b="0" lang="en-US" sz="1800" spc="-1" strike="noStrike">
              <a:solidFill>
                <a:srgbClr val="000000"/>
              </a:solidFill>
              <a:latin typeface="Times New Roman"/>
            </a:endParaRPr>
          </a:p>
        </p:txBody>
      </p:sp>
      <p:sp>
        <p:nvSpPr>
          <p:cNvPr id="193" name=""/>
          <p:cNvSpPr/>
          <p:nvPr/>
        </p:nvSpPr>
        <p:spPr>
          <a:xfrm>
            <a:off x="123840" y="4097160"/>
            <a:ext cx="329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3 (Probable not mandatory)</a:t>
            </a:r>
            <a:endParaRPr b="0" lang="en-US" sz="1800" spc="-1" strike="noStrike">
              <a:solidFill>
                <a:srgbClr val="000000"/>
              </a:solidFill>
              <a:latin typeface="Times New Roman"/>
            </a:endParaRPr>
          </a:p>
        </p:txBody>
      </p:sp>
      <p:sp>
        <p:nvSpPr>
          <p:cNvPr id="194" name=""/>
          <p:cNvSpPr/>
          <p:nvPr/>
        </p:nvSpPr>
        <p:spPr>
          <a:xfrm flipH="1">
            <a:off x="396360" y="3565440"/>
            <a:ext cx="628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396720" y="3965400"/>
            <a:ext cx="3316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396720" y="4365720"/>
            <a:ext cx="4632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for the 1Apr00 Issue no. 5 we needed to complete &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by 17Mar00 .  Each column article needs to be signed off by MC.</a:t>
            </a:r>
            <a:endParaRPr b="0" lang="en-US" sz="2000" spc="-1" strike="noStrike">
              <a:solidFill>
                <a:srgbClr val="000000"/>
              </a:solidFill>
              <a:latin typeface="Times New Roman"/>
            </a:endParaRPr>
          </a:p>
        </p:txBody>
      </p:sp>
      <p:sp>
        <p:nvSpPr>
          <p:cNvPr id="198" name=""/>
          <p:cNvSpPr/>
          <p:nvPr/>
        </p:nvSpPr>
        <p:spPr>
          <a:xfrm flipH="1">
            <a:off x="6400800" y="3003480"/>
            <a:ext cx="190512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919560" y="267336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 days</a:t>
            </a:r>
            <a:endParaRPr b="0" lang="en-US" sz="1800" spc="-1" strike="noStrike">
              <a:solidFill>
                <a:srgbClr val="000000"/>
              </a:solidFill>
              <a:latin typeface="Times New Roman"/>
            </a:endParaRPr>
          </a:p>
        </p:txBody>
      </p:sp>
      <p:sp>
        <p:nvSpPr>
          <p:cNvPr id="200" name=""/>
          <p:cNvSpPr/>
          <p:nvPr/>
        </p:nvSpPr>
        <p:spPr>
          <a:xfrm>
            <a:off x="6400800" y="282564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400080" y="3244680"/>
            <a:ext cx="2567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The deadline for artic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three weeks before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ublication date.”</a:t>
            </a:r>
            <a:r>
              <a:rPr b="0" lang="en-US" sz="1800" spc="-1" strike="noStrike">
                <a:solidFill>
                  <a:srgbClr val="000000"/>
                </a:solidFill>
                <a:latin typeface="Times New Roman"/>
              </a:rPr>
              <a:t> Rog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acock</a:t>
            </a:r>
            <a:endParaRPr b="0" lang="en-US" sz="1800" spc="-1" strike="noStrike">
              <a:solidFill>
                <a:srgbClr val="000000"/>
              </a:solidFill>
              <a:latin typeface="Times New Roman"/>
            </a:endParaRPr>
          </a:p>
        </p:txBody>
      </p:sp>
      <p:sp>
        <p:nvSpPr>
          <p:cNvPr id="202" name=""/>
          <p:cNvSpPr/>
          <p:nvPr/>
        </p:nvSpPr>
        <p:spPr>
          <a:xfrm>
            <a:off x="3429000" y="3200400"/>
            <a:ext cx="182880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4343400" y="2438280"/>
            <a:ext cx="14479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38160" y="1981080"/>
            <a:ext cx="2480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falls on an Interim or Plena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llows for MC discussion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9363287-5D4D-4A09-BB18-94A334B06F13}" type="slidenum">
              <a:t>12</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SIGNAL3" descr=""/>
          <p:cNvPicPr/>
          <p:nvPr/>
        </p:nvPicPr>
        <p:blipFill>
          <a:blip r:embed="rId1"/>
          <a:stretch/>
        </p:blipFill>
        <p:spPr>
          <a:xfrm>
            <a:off x="7162920" y="2057400"/>
            <a:ext cx="1815840" cy="2441520"/>
          </a:xfrm>
          <a:prstGeom prst="rect">
            <a:avLst/>
          </a:prstGeom>
          <a:ln w="0">
            <a:noFill/>
          </a:ln>
        </p:spPr>
      </p:pic>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Column Article Handoff Process</a:t>
            </a:r>
            <a:endParaRPr b="0" lang="en-US" sz="4400" spc="-1" strike="noStrike">
              <a:solidFill>
                <a:srgbClr val="000000"/>
              </a:solidFill>
              <a:latin typeface="Times New Roman"/>
            </a:endParaRPr>
          </a:p>
        </p:txBody>
      </p:sp>
      <p:sp>
        <p:nvSpPr>
          <p:cNvPr id="207" name=""/>
          <p:cNvSpPr/>
          <p:nvPr/>
        </p:nvSpPr>
        <p:spPr>
          <a:xfrm>
            <a:off x="152280" y="28954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66760" y="3009960"/>
            <a:ext cx="1941480" cy="799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rticles</a:t>
            </a:r>
            <a:endParaRPr b="0" lang="en-US" sz="2000" spc="-1" strike="noStrike">
              <a:solidFill>
                <a:srgbClr val="000000"/>
              </a:solidFill>
              <a:latin typeface="Times New Roman"/>
            </a:endParaRPr>
          </a:p>
        </p:txBody>
      </p:sp>
      <p:sp>
        <p:nvSpPr>
          <p:cNvPr id="210" name=""/>
          <p:cNvSpPr/>
          <p:nvPr/>
        </p:nvSpPr>
        <p:spPr>
          <a:xfrm>
            <a:off x="249408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66544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 Review</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pproval</a:t>
            </a:r>
            <a:endParaRPr b="0" lang="en-US" sz="2000" spc="-1" strike="noStrike">
              <a:solidFill>
                <a:srgbClr val="000000"/>
              </a:solidFill>
              <a:latin typeface="Times New Roman"/>
            </a:endParaRPr>
          </a:p>
        </p:txBody>
      </p:sp>
      <p:sp>
        <p:nvSpPr>
          <p:cNvPr id="212" name=""/>
          <p:cNvSpPr/>
          <p:nvPr/>
        </p:nvSpPr>
        <p:spPr>
          <a:xfrm>
            <a:off x="479592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96728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r</a:t>
            </a:r>
            <a:endParaRPr b="0" lang="en-US" sz="2000" spc="-1" strike="noStrike">
              <a:solidFill>
                <a:srgbClr val="000000"/>
              </a:solidFill>
              <a:latin typeface="Times New Roman"/>
            </a:endParaRPr>
          </a:p>
        </p:txBody>
      </p:sp>
      <p:sp>
        <p:nvSpPr>
          <p:cNvPr id="214" name=""/>
          <p:cNvSpPr/>
          <p:nvPr/>
        </p:nvSpPr>
        <p:spPr>
          <a:xfrm>
            <a:off x="380880" y="5638680"/>
            <a:ext cx="838224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 does not need to receive WG or Sponsor Approval for these non-IEE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umns but we will copy to WG, Sponsor &amp; IEEE-SA prior to submission.</a:t>
            </a:r>
            <a:endParaRPr b="0" lang="en-US" sz="2000" spc="-1" strike="noStrike">
              <a:solidFill>
                <a:srgbClr val="000000"/>
              </a:solidFill>
              <a:latin typeface="Times New Roman"/>
            </a:endParaRPr>
          </a:p>
        </p:txBody>
      </p:sp>
      <p:sp>
        <p:nvSpPr>
          <p:cNvPr id="215" name=""/>
          <p:cNvSpPr/>
          <p:nvPr/>
        </p:nvSpPr>
        <p:spPr>
          <a:xfrm>
            <a:off x="380880" y="2819520"/>
            <a:ext cx="731520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03116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9720" y="4800600"/>
            <a:ext cx="1698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ssue no. 6 TG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anG –00/055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8May00 Submit Draft </a:t>
            </a:r>
            <a:endParaRPr b="0" lang="en-US" sz="1200" spc="-1" strike="noStrike">
              <a:solidFill>
                <a:srgbClr val="000000"/>
              </a:solidFill>
              <a:latin typeface="Times New Roman"/>
            </a:endParaRPr>
          </a:p>
        </p:txBody>
      </p:sp>
      <p:sp>
        <p:nvSpPr>
          <p:cNvPr id="218" name=""/>
          <p:cNvSpPr/>
          <p:nvPr/>
        </p:nvSpPr>
        <p:spPr>
          <a:xfrm>
            <a:off x="2670840" y="4800600"/>
            <a:ext cx="250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M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9May00 Review - 00/055r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8-10May00 Feedback to Auth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0May00 MC approve Final Draft </a:t>
            </a:r>
            <a:endParaRPr b="0" lang="en-US" sz="1200" spc="-1" strike="noStrike">
              <a:solidFill>
                <a:srgbClr val="000000"/>
              </a:solidFill>
              <a:latin typeface="Times New Roman"/>
            </a:endParaRPr>
          </a:p>
        </p:txBody>
      </p:sp>
      <p:sp>
        <p:nvSpPr>
          <p:cNvPr id="219" name=""/>
          <p:cNvSpPr/>
          <p:nvPr/>
        </p:nvSpPr>
        <p:spPr>
          <a:xfrm>
            <a:off x="4955400" y="4800600"/>
            <a:ext cx="2126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2May00 submit Final Draft </a:t>
            </a:r>
            <a:endParaRPr b="0" lang="en-US" sz="1200" spc="-1" strike="noStrike">
              <a:solidFill>
                <a:srgbClr val="000000"/>
              </a:solidFill>
              <a:latin typeface="Times New Roman"/>
            </a:endParaRPr>
          </a:p>
        </p:txBody>
      </p:sp>
      <p:sp>
        <p:nvSpPr>
          <p:cNvPr id="220" name=""/>
          <p:cNvSpPr/>
          <p:nvPr/>
        </p:nvSpPr>
        <p:spPr>
          <a:xfrm>
            <a:off x="75600" y="41148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2561300-CE4C-486F-BA41-7EC36D926975}" type="slidenum">
              <a:t>1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olumn (1/3 page) layout is up to the Editor but we can influence.</a:t>
            </a:r>
            <a:endParaRPr b="0" lang="en-US" sz="4000" spc="-1" strike="noStrike">
              <a:solidFill>
                <a:srgbClr val="000000"/>
              </a:solidFill>
              <a:latin typeface="Times New Roman"/>
            </a:endParaRPr>
          </a:p>
        </p:txBody>
      </p:sp>
      <p:grpSp>
        <p:nvGrpSpPr>
          <p:cNvPr id="222" name=""/>
          <p:cNvGrpSpPr/>
          <p:nvPr/>
        </p:nvGrpSpPr>
        <p:grpSpPr>
          <a:xfrm>
            <a:off x="5211720" y="1981080"/>
            <a:ext cx="2865600" cy="3473280"/>
            <a:chOff x="5211720" y="1981080"/>
            <a:chExt cx="2865600" cy="3473280"/>
          </a:xfrm>
        </p:grpSpPr>
        <p:sp>
          <p:nvSpPr>
            <p:cNvPr id="223" name=""/>
            <p:cNvSpPr/>
            <p:nvPr/>
          </p:nvSpPr>
          <p:spPr>
            <a:xfrm>
              <a:off x="5211720" y="4296960"/>
              <a:ext cx="2865600" cy="115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211720" y="1981080"/>
              <a:ext cx="2865600" cy="1157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5" name=""/>
            <p:cNvSpPr/>
            <p:nvPr/>
          </p:nvSpPr>
          <p:spPr>
            <a:xfrm>
              <a:off x="5211720" y="3138840"/>
              <a:ext cx="2865600" cy="115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096920" y="1981080"/>
            <a:ext cx="2925360" cy="3473640"/>
            <a:chOff x="1096920" y="1981080"/>
            <a:chExt cx="2925360" cy="3473640"/>
          </a:xfrm>
        </p:grpSpPr>
        <p:sp>
          <p:nvSpPr>
            <p:cNvPr id="227" name=""/>
            <p:cNvSpPr/>
            <p:nvPr/>
          </p:nvSpPr>
          <p:spPr>
            <a:xfrm>
              <a:off x="1096920" y="1981080"/>
              <a:ext cx="974880" cy="34736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8" name=""/>
            <p:cNvSpPr/>
            <p:nvPr/>
          </p:nvSpPr>
          <p:spPr>
            <a:xfrm>
              <a:off x="3047040" y="1981080"/>
              <a:ext cx="975240" cy="347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71800" y="1981080"/>
              <a:ext cx="975240" cy="347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0"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C prefers the #1 column format and the Title is always “WPANs: X”;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X is up to the individual Author.  ~250 words, *.eps graphics allowed</a:t>
            </a:r>
            <a:endParaRPr b="0" lang="en-US" sz="2000" spc="-1" strike="noStrike">
              <a:solidFill>
                <a:srgbClr val="000000"/>
              </a:solidFill>
              <a:latin typeface="Times New Roman"/>
            </a:endParaRPr>
          </a:p>
        </p:txBody>
      </p:sp>
      <p:sp>
        <p:nvSpPr>
          <p:cNvPr id="231" name=""/>
          <p:cNvSpPr/>
          <p:nvPr/>
        </p:nvSpPr>
        <p:spPr>
          <a:xfrm>
            <a:off x="1144080" y="2087640"/>
            <a:ext cx="87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s: X</a:t>
            </a:r>
            <a:endParaRPr b="0" lang="en-US" sz="1200" spc="-1" strike="noStrike">
              <a:solidFill>
                <a:srgbClr val="000000"/>
              </a:solidFill>
              <a:latin typeface="Times New Roman"/>
            </a:endParaRPr>
          </a:p>
        </p:txBody>
      </p:sp>
      <p:sp>
        <p:nvSpPr>
          <p:cNvPr id="232" name=""/>
          <p:cNvSpPr/>
          <p:nvPr/>
        </p:nvSpPr>
        <p:spPr>
          <a:xfrm>
            <a:off x="5182560" y="2011320"/>
            <a:ext cx="87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s: X</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1CF362A-2EB7-4C44-BF7F-97ED31297E6B}" type="slidenum">
              <a:t>1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3 SIGnal Publication (deadline) da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ug00 Issue no. 7 (~14Jul00) - TG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Oct00 Issue no. 8 (~15Sep00) - TG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Dec00 Issue no. 9 (~9Nov00) - IEEE-S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new Bluetooth SIG Publisher/Editor for SIGn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803DB7C-1D8A-4816-8EF5-2EF9905C8906}"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eb Site</a:t>
            </a:r>
            <a:endParaRPr b="0" lang="en-US" sz="4400" spc="-1" strike="noStrike">
              <a:solidFill>
                <a:srgbClr val="000000"/>
              </a:solidFill>
              <a:latin typeface="Times New Roman"/>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C22033F-DA44-483A-B7F2-CCBDD1613D46}" type="slidenum">
              <a:t>1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802.15 and its previous incarnations has had a web presence since Jan9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ww.ieee802.org/15 Home Page is over one (1) year old</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G has indicated interest in providing a new “look and feel” to the Home Page and sub pag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created a new </a:t>
            </a:r>
            <a:r>
              <a:rPr b="0" lang="en-US" sz="2400" spc="-1" strike="noStrike">
                <a:solidFill>
                  <a:srgbClr val="000000"/>
                </a:solidFill>
                <a:latin typeface="Symbol"/>
                <a:ea typeface="Symbol"/>
              </a:rPr>
              <a:t></a:t>
            </a:r>
            <a:r>
              <a:rPr b="0" lang="en-US" sz="2400" spc="-1" strike="noStrike">
                <a:solidFill>
                  <a:srgbClr val="000000"/>
                </a:solidFill>
                <a:latin typeface="Times New Roman"/>
              </a:rPr>
              <a:t>eta web site to initiate WG discussion and feedback.  Please visit:</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ieee802.org/15/index</a:t>
            </a:r>
            <a:r>
              <a:rPr b="0" lang="en-US" sz="2000" spc="-1" strike="noStrike">
                <a:solidFill>
                  <a:srgbClr val="ff0000"/>
                </a:solidFill>
                <a:latin typeface="Times New Roman"/>
              </a:rPr>
              <a:t>b</a:t>
            </a:r>
            <a:r>
              <a:rPr b="0" lang="en-US" sz="2000" spc="-1" strike="noStrike">
                <a:solidFill>
                  <a:srgbClr val="000000"/>
                </a:solidFill>
                <a:latin typeface="Times New Roman"/>
              </a:rPr>
              <a:t>.html</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 will advise on the final web site pages after Session #7 but before Session #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lways comments are welco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424A273-4AFE-4687-9416-BCACB83910DA}" type="slidenum">
              <a:t>1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Site has numerous hits!</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nic Presence is strong for 802.15</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802.15 Web Site is very active:</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stats/</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1May00</a:t>
            </a:r>
            <a:endParaRPr b="0" lang="en-US" sz="2400" spc="-1" strike="noStrike">
              <a:solidFill>
                <a:srgbClr val="000000"/>
              </a:solidFill>
              <a:latin typeface="Times New Roman"/>
            </a:endParaRPr>
          </a:p>
          <a:p>
            <a:pPr lvl="2" marL="100944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rouper.ieee.org/stats/2000-05/01.html</a:t>
            </a:r>
            <a:endParaRPr b="0" lang="en-US" sz="2000" spc="-1" strike="noStrike">
              <a:solidFill>
                <a:srgbClr val="000000"/>
              </a:solidFill>
              <a:latin typeface="Times New Roman"/>
            </a:endParaRPr>
          </a:p>
          <a:p>
            <a:pPr lvl="2" marL="100944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Use browser to search on HTML Page for occurrences of “802/15” this bring you to 802.15 URL %’s</a:t>
            </a:r>
            <a:endParaRPr b="0" lang="en-US" sz="20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try to highlight:</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 Hits daily, weekly, monthly, etc.</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 Downloads of docs linked to the page</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B468BF8-6371-4DDA-9F86-D5704EDD0E0F}"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ling List(s) Traffic is Light!</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ic usage of Mailing Lists for 802.15 could be stronger</a:t>
            </a:r>
            <a:endParaRPr b="0" lang="en-US" sz="18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4</a:t>
            </a:r>
            <a:r>
              <a:rPr b="0" lang="en-US" sz="1600" spc="-1" strike="noStrike">
                <a:solidFill>
                  <a:srgbClr val="000000"/>
                </a:solidFill>
                <a:latin typeface="Times New Roman"/>
              </a:rPr>
              <a:t> Messages on WG Public Mailing List stds-802-wpan@ieee.org </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arc/802-wpanlist/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a:t>
            </a:r>
            <a:r>
              <a:rPr b="0" lang="en-US" sz="1600" spc="-1" strike="noStrike">
                <a:solidFill>
                  <a:srgbClr val="000000"/>
                </a:solidFill>
                <a:latin typeface="Times New Roman"/>
              </a:rPr>
              <a:t> Messages on TG2 Public Mailing List stds-802-15-2@ieee.org </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arc/802-15-2list/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a:t>
            </a:r>
            <a:r>
              <a:rPr b="0" lang="en-US" sz="1600" spc="-1" strike="noStrike">
                <a:solidFill>
                  <a:srgbClr val="000000"/>
                </a:solidFill>
                <a:latin typeface="Times New Roman"/>
              </a:rPr>
              <a:t> Messages on WG Private Mailing List stds-802-15@ieee.or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private/802-15list/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Message on Joint 802.11 &amp; 802.15 Private Mailing List stds-802-jt11-15@ieee.or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private/jt11/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Messages on TG1 Private Mailing List stds-802-15-1@ieee.or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243" name=""/>
          <p:cNvSpPr/>
          <p:nvPr/>
        </p:nvSpPr>
        <p:spPr>
          <a:xfrm>
            <a:off x="380880" y="5257800"/>
            <a:ext cx="83059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resses &amp; URLs provided are for traffic &amp; access to the archives.  N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of them are password protected and available to WG Membership onl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IEEE 802.16 uses their Lists 2x to 3x our rate.  Web posting per doc, et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03A2702-3F42-4585-B37F-0579933154AC}" type="slidenum">
              <a:t>1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Working Group 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 LaJolla, CA US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4B0AC03-67D1-404E-AF45-39489A4DA7CB}"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WG Mailing Lists!</a:t>
            </a:r>
            <a:endParaRPr b="0" lang="en-US" sz="4400" spc="-1" strike="noStrike">
              <a:solidFill>
                <a:srgbClr val="000000"/>
              </a:solidFill>
              <a:latin typeface="Times New Roman"/>
            </a:endParaRPr>
          </a:p>
        </p:txBody>
      </p:sp>
      <p:sp>
        <p:nvSpPr>
          <p:cNvPr id="245" name=""/>
          <p:cNvSpPr/>
          <p:nvPr/>
        </p:nvSpPr>
        <p:spPr>
          <a:xfrm>
            <a:off x="380880" y="5638680"/>
            <a:ext cx="8305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urrently have five (5) WG Mailing Lists, all have archiv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G3 and Radio2 SG</a:t>
            </a:r>
            <a:r>
              <a:rPr b="0" lang="en-US" sz="2400" spc="-1" strike="noStrike">
                <a:solidFill>
                  <a:srgbClr val="000000"/>
                </a:solidFill>
                <a:latin typeface="Times New Roman"/>
              </a:rPr>
              <a:t> may increase the number of Mailing Lists.</a:t>
            </a:r>
            <a:endParaRPr b="0" lang="en-US" sz="2400" spc="-1" strike="noStrike">
              <a:solidFill>
                <a:srgbClr val="000000"/>
              </a:solidFill>
              <a:latin typeface="Times New Roman"/>
            </a:endParaRPr>
          </a:p>
        </p:txBody>
      </p:sp>
      <p:graphicFrame>
        <p:nvGraphicFramePr>
          <p:cNvPr id="246" name=""/>
          <p:cNvGraphicFramePr/>
          <p:nvPr/>
        </p:nvGraphicFramePr>
        <p:xfrm>
          <a:off x="33480" y="1452600"/>
          <a:ext cx="9077040" cy="3952800"/>
        </p:xfrm>
        <a:graphic>
          <a:graphicData uri="http://schemas.openxmlformats.org/presentationml/2006/ole">
            <p:oleObj progId="Excel.Sheet.12" r:id="rId1" spid="">
              <p:embed/>
              <p:pic>
                <p:nvPicPr>
                  <p:cNvPr id="247" name="" descr=""/>
                  <p:cNvPicPr/>
                  <p:nvPr/>
                </p:nvPicPr>
                <p:blipFill>
                  <a:blip r:embed="rId2"/>
                  <a:stretch/>
                </p:blipFill>
                <p:spPr>
                  <a:xfrm>
                    <a:off x="33480" y="1452600"/>
                    <a:ext cx="9077040" cy="395280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F2DB8ED-AE52-4EFA-BA36-1CB89D105474}" type="slidenum">
              <a:t>20</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s Kit</a:t>
            </a:r>
            <a:endParaRPr b="0" lang="en-US" sz="4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D2C0F8F-8662-466A-B1B4-F5B4B6036756}" type="slidenum">
              <a:t>2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become increasingly obvious that there is a strong demand for IEEE 802.15 WPAN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there is no official information i.e., Press Kit, etc. that stays current and/or that the AC or WG approv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G1 will take the following initiati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 a "Press Kit Module" specific to TG1 on or before the Sep00 Interi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 a Promotional Brochure on or before the Sep00 Interi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w/ anyone who has interest in this area</a:t>
            </a:r>
            <a:endParaRPr b="0" lang="en-US" sz="2000" spc="-1" strike="noStrike">
              <a:solidFill>
                <a:srgbClr val="000000"/>
              </a:solidFill>
              <a:latin typeface="Times New Roman"/>
            </a:endParaRPr>
          </a:p>
        </p:txBody>
      </p:sp>
      <p:sp>
        <p:nvSpPr>
          <p:cNvPr id="252" name=""/>
          <p:cNvSpPr/>
          <p:nvPr/>
        </p:nvSpPr>
        <p:spPr>
          <a:xfrm>
            <a:off x="380880" y="5486400"/>
            <a:ext cx="838224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 Kit would ideally cover the WG and/or all the Wirel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 WGs i.e., 802.11, 802.15, and 802.16, same w/ Brochur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6F4CCFE-C64C-4D56-B85D-085BEE896B37}" type="slidenum">
              <a:t>2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ress Kit Suggestions</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ress kit is being used at trade show/exhibit, it typically includes:</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ies of other product or service (program) news releases send out</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ies of articles about the product, service or activity</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ositioning "paper" describing the company or group putting out the media or press kit</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monials about the product, service, etc from related partners, users, manufacturerer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information for editor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teral materials describing the product, etc. (such as promotional brochures, capability brochur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8F77C26-52FD-42A4-AD00-04F99B8B6CD4}" type="slidenum">
              <a:t>2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Press Kit, a Modular Approach can be updated easily</a:t>
            </a:r>
            <a:endParaRPr b="0" lang="en-US" sz="40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Someone wants to know what the latest information is and does not want to wade through the Web Site, Minutes, etc.</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The user could go to the WPAN</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Press Kit html page and down load PowerPoint, News Releases, Minutes, etc.</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Press Kit – Working Group, etc. [?]</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1 – Task Group 1 [responsibility - Ian Gifford]</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2 – Task Group 2 [responsibility -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3 – Task Group 3 [responsibility -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0 – Study Group [responsibility -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51289A1-C6E2-480A-9569-83FA3D831927}" type="slidenum">
              <a:t>2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IGnal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IEEE Pocket Guide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5.1 Handbook, A Designer’s Companion Repor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CD2B11B-4507-484C-A6C8-6B4B1D7B94A8}"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SIGnal</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8C4BCC1-2FA4-4EB0-B7FC-CC34EE2559F8}"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ed a recurring column in the Bluetooth™ SIGnal Newsletter to maintain a communication channel for the IEEE 802.15 Projects.</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PAN column” will highlight 802.15 sub Working Groups e.g., Task Groups, etc.  max. ~250 words ea.</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areas can also be covered Bluetooth™ IEEE WG f2f summaries, IEEE-SA Sponsor Balloting, IEEE 802 Technical Advisory Groups (TAG), etc.</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 will be submitted to the Marketing Committee.</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C will assist in article generation.</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G Liaison Officer or MC Chair will communicate the FINAL articles to the SIGnal Edit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9CE2CFD-64D5-4766-89F1-432ADA0D1D48}"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 No. 2 – word count 383 </a:t>
            </a:r>
            <a:endParaRPr b="0" lang="en-US" sz="4400" spc="-1" strike="noStrike">
              <a:solidFill>
                <a:srgbClr val="000000"/>
              </a:solidFill>
              <a:latin typeface="Times New Roman"/>
            </a:endParaRPr>
          </a:p>
        </p:txBody>
      </p:sp>
      <p:pic>
        <p:nvPicPr>
          <p:cNvPr id="66" name="" descr=""/>
          <p:cNvPicPr/>
          <p:nvPr/>
        </p:nvPicPr>
        <p:blipFill>
          <a:blip r:embed="rId1"/>
          <a:stretch/>
        </p:blipFill>
        <p:spPr>
          <a:xfrm>
            <a:off x="762120" y="1676520"/>
            <a:ext cx="3400200" cy="4572000"/>
          </a:xfrm>
          <a:prstGeom prst="rect">
            <a:avLst/>
          </a:prstGeom>
          <a:ln w="0">
            <a:noFill/>
          </a:ln>
        </p:spPr>
      </p:pic>
      <p:pic>
        <p:nvPicPr>
          <p:cNvPr id="67" name="" descr=""/>
          <p:cNvPicPr/>
          <p:nvPr/>
        </p:nvPicPr>
        <p:blipFill>
          <a:blip r:embed="rId2"/>
          <a:stretch/>
        </p:blipFill>
        <p:spPr>
          <a:xfrm>
            <a:off x="5105520" y="1685880"/>
            <a:ext cx="3419280" cy="4562640"/>
          </a:xfrm>
          <a:prstGeom prst="rect">
            <a:avLst/>
          </a:prstGeom>
          <a:ln w="9360">
            <a:solidFill>
              <a:srgbClr val="ff0000"/>
            </a:solidFill>
            <a:miter/>
          </a:ln>
        </p:spPr>
      </p:pic>
      <p:sp>
        <p:nvSpPr>
          <p:cNvPr id="68" name=""/>
          <p:cNvSpPr/>
          <p:nvPr/>
        </p:nvSpPr>
        <p:spPr>
          <a:xfrm>
            <a:off x="615240" y="6208560"/>
            <a:ext cx="391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bluetooth.com/news/signal/1999/2_9.asp</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2954A66-CF68-4B54-BFE3-A448424BA9A1}" type="slidenum">
              <a:t>6</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 No. 5 – word count 705</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714240" y="1676520"/>
            <a:ext cx="3400560" cy="4552920"/>
          </a:xfrm>
          <a:prstGeom prst="rect">
            <a:avLst/>
          </a:prstGeom>
          <a:ln w="0">
            <a:noFill/>
          </a:ln>
        </p:spPr>
      </p:pic>
      <p:pic>
        <p:nvPicPr>
          <p:cNvPr id="71" name="" descr=""/>
          <p:cNvPicPr/>
          <p:nvPr/>
        </p:nvPicPr>
        <p:blipFill>
          <a:blip r:embed="rId2"/>
          <a:stretch/>
        </p:blipFill>
        <p:spPr>
          <a:xfrm>
            <a:off x="5048280" y="1685880"/>
            <a:ext cx="3409920" cy="4562640"/>
          </a:xfrm>
          <a:prstGeom prst="rect">
            <a:avLst/>
          </a:prstGeom>
          <a:ln w="9360">
            <a:solidFill>
              <a:srgbClr val="ff0000"/>
            </a:solidFill>
            <a:miter/>
          </a:ln>
        </p:spPr>
      </p:pic>
      <p:sp>
        <p:nvSpPr>
          <p:cNvPr id="72" name=""/>
          <p:cNvSpPr/>
          <p:nvPr/>
        </p:nvSpPr>
        <p:spPr>
          <a:xfrm>
            <a:off x="615240" y="6208560"/>
            <a:ext cx="399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bluetooth.com/news/signal/2000/2_29.asp</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AB38061-67CA-4126-98A1-EEEDB217D7D8}" type="slidenum">
              <a:t>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 No. 6 – word count 331</a:t>
            </a:r>
            <a:endParaRPr b="0" lang="en-US" sz="4400" spc="-1" strike="noStrike">
              <a:solidFill>
                <a:srgbClr val="000000"/>
              </a:solidFill>
              <a:latin typeface="Times New Roman"/>
            </a:endParaRPr>
          </a:p>
        </p:txBody>
      </p:sp>
      <p:sp>
        <p:nvSpPr>
          <p:cNvPr id="74" name=""/>
          <p:cNvSpPr/>
          <p:nvPr/>
        </p:nvSpPr>
        <p:spPr>
          <a:xfrm>
            <a:off x="615240" y="6208560"/>
            <a:ext cx="399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bluetooth.com/news/signal/2000/3_41.asp</a:t>
            </a:r>
            <a:endParaRPr b="0" lang="en-US" sz="1200" spc="-1" strike="noStrike">
              <a:solidFill>
                <a:srgbClr val="000000"/>
              </a:solidFill>
              <a:latin typeface="Times New Roman"/>
            </a:endParaRPr>
          </a:p>
        </p:txBody>
      </p:sp>
      <p:pic>
        <p:nvPicPr>
          <p:cNvPr id="75" name="" descr=""/>
          <p:cNvPicPr/>
          <p:nvPr/>
        </p:nvPicPr>
        <p:blipFill>
          <a:blip r:embed="rId1"/>
          <a:stretch/>
        </p:blipFill>
        <p:spPr>
          <a:xfrm>
            <a:off x="5057640" y="1676520"/>
            <a:ext cx="3400560" cy="4543200"/>
          </a:xfrm>
          <a:prstGeom prst="rect">
            <a:avLst/>
          </a:prstGeom>
          <a:ln w="9360">
            <a:solidFill>
              <a:srgbClr val="ff0000"/>
            </a:solidFill>
            <a:miter/>
          </a:ln>
        </p:spPr>
      </p:pic>
      <p:pic>
        <p:nvPicPr>
          <p:cNvPr id="76" name="" descr=""/>
          <p:cNvPicPr/>
          <p:nvPr/>
        </p:nvPicPr>
        <p:blipFill>
          <a:blip r:embed="rId2"/>
          <a:stretch/>
        </p:blipFill>
        <p:spPr>
          <a:xfrm>
            <a:off x="762120" y="1695600"/>
            <a:ext cx="3409920" cy="455292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4432374-B51A-4A98-BBFC-7143499AE1AD}" type="slidenum">
              <a:t>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of SIGnal Publication Dates and IEEE Planning Calendar</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Sep99 Issue no.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Nov99 Issue no.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Feb00 Issue no. 4</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pr00 Issue no. 5</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un00 Issue no. 6</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ug00 Issue no. 7</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Oct00 Issue no. 8</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ec00 Issue no. 9</a:t>
            </a:r>
            <a:endParaRPr b="0" lang="en-US" sz="2400" spc="-1" strike="noStrike">
              <a:solidFill>
                <a:srgbClr val="000000"/>
              </a:solidFill>
              <a:latin typeface="Times New Roman"/>
            </a:endParaRPr>
          </a:p>
        </p:txBody>
      </p:sp>
      <p:sp>
        <p:nvSpPr>
          <p:cNvPr id="79"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TG1 [Std.]</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TG2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TG3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 [Pocket Gu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80" name=""/>
          <p:cNvSpPr/>
          <p:nvPr/>
        </p:nvSpPr>
        <p:spPr>
          <a:xfrm>
            <a:off x="685800" y="2666880"/>
            <a:ext cx="3581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 y="3098880"/>
            <a:ext cx="3581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3657240" y="2209680"/>
            <a:ext cx="1066680" cy="9144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3657240" y="3530520"/>
            <a:ext cx="1079640" cy="432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3657240" y="3987720"/>
            <a:ext cx="1079640" cy="43200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6640" y="5486400"/>
            <a:ext cx="1521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ctual or Plann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pportunities</a:t>
            </a:r>
            <a:endParaRPr b="0" lang="en-US" sz="1200" spc="-1" strike="noStrike">
              <a:solidFill>
                <a:srgbClr val="000000"/>
              </a:solidFill>
              <a:latin typeface="Times New Roman"/>
            </a:endParaRPr>
          </a:p>
        </p:txBody>
      </p:sp>
      <p:sp>
        <p:nvSpPr>
          <p:cNvPr id="86" name=""/>
          <p:cNvSpPr/>
          <p:nvPr/>
        </p:nvSpPr>
        <p:spPr>
          <a:xfrm flipH="1">
            <a:off x="304560" y="6186600"/>
            <a:ext cx="22860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07240" y="6045120"/>
            <a:ext cx="131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ed in WG</a:t>
            </a:r>
            <a:endParaRPr b="0" lang="en-US" sz="1200" spc="-1" strike="noStrike">
              <a:solidFill>
                <a:srgbClr val="000000"/>
              </a:solidFill>
              <a:latin typeface="Times New Roman"/>
            </a:endParaRPr>
          </a:p>
        </p:txBody>
      </p:sp>
      <p:sp>
        <p:nvSpPr>
          <p:cNvPr id="88" name=""/>
          <p:cNvSpPr/>
          <p:nvPr/>
        </p:nvSpPr>
        <p:spPr>
          <a:xfrm flipH="1">
            <a:off x="304560" y="6338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06880" y="620244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ed in SIGnal</a:t>
            </a:r>
            <a:endParaRPr b="0" lang="en-US" sz="1200" spc="-1" strike="noStrike">
              <a:solidFill>
                <a:srgbClr val="000000"/>
              </a:solidFill>
              <a:latin typeface="Times New Roman"/>
            </a:endParaRPr>
          </a:p>
        </p:txBody>
      </p:sp>
      <p:sp>
        <p:nvSpPr>
          <p:cNvPr id="90" name=""/>
          <p:cNvSpPr/>
          <p:nvPr/>
        </p:nvSpPr>
        <p:spPr>
          <a:xfrm flipH="1">
            <a:off x="304560" y="6008760"/>
            <a:ext cx="2286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06520" y="586728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 Assigned</a:t>
            </a:r>
            <a:endParaRPr b="0" lang="en-US" sz="1200" spc="-1" strike="noStrike">
              <a:solidFill>
                <a:srgbClr val="000000"/>
              </a:solidFill>
              <a:latin typeface="Times New Roman"/>
            </a:endParaRPr>
          </a:p>
        </p:txBody>
      </p:sp>
      <p:sp>
        <p:nvSpPr>
          <p:cNvPr id="92" name=""/>
          <p:cNvSpPr/>
          <p:nvPr/>
        </p:nvSpPr>
        <p:spPr>
          <a:xfrm>
            <a:off x="2362320" y="5600880"/>
            <a:ext cx="64008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 IEEE Sub Working Groups shoul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n Author for their respective issues.</a:t>
            </a:r>
            <a:endParaRPr b="0" lang="en-US" sz="2400" spc="-1" strike="noStrike">
              <a:solidFill>
                <a:srgbClr val="000000"/>
              </a:solidFill>
              <a:latin typeface="Times New Roman"/>
            </a:endParaRPr>
          </a:p>
        </p:txBody>
      </p:sp>
      <p:sp>
        <p:nvSpPr>
          <p:cNvPr id="93" name=""/>
          <p:cNvSpPr/>
          <p:nvPr/>
        </p:nvSpPr>
        <p:spPr>
          <a:xfrm flipH="1">
            <a:off x="3657240" y="3124080"/>
            <a:ext cx="1079640" cy="432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3657240" y="4430880"/>
            <a:ext cx="1079640" cy="43164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657240" y="4826160"/>
            <a:ext cx="1079640" cy="43164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688BCE45-DFED-4FBD-B382-2CD7ED8E8D53}" type="slidenum">
              <a:t>9</a:t>
            </a:fld>
          </a:p>
        </p:txBody>
      </p:sp>
      <p:sp>
        <p:nvSpPr>
          <p:cNvPr id="7" name="PlaceHolder 6"/>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05:30:14Z</dcterms:created>
  <dc:creator>Ian C. Gifford</dc:creator>
  <dc:description>Ian Gifford, M/A-COM, Inc.</dc:description>
  <dc:language>en-US</dc:language>
  <cp:lastModifiedBy>Bruce Kraemer</cp:lastModifiedBy>
  <cp:lastPrinted>1998-02-10T13:28:06Z</cp:lastPrinted>
  <dcterms:modified xsi:type="dcterms:W3CDTF">2000-07-10T17:53:48Z</dcterms:modified>
  <cp:revision>55</cp:revision>
  <dc:subject>MC WG Report</dc:subject>
  <dc:title>IEEE P802.15 Working Group for Wireless Personal Area Networks</dc:title>
</cp:coreProperties>
</file>