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511-C354-4AC5-9394-1F14172D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1CB-18F5-4D03-8811-75D1E00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C03-AFD1-45B6-BDA0-302DFC07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300-79BF-4C20-92A2-D02D1685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FE7-0293-4DC2-890F-EA0495A6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597-253A-44F9-ABAF-DE223DAF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900-E6AE-42B7-947F-2F7289CE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4E7-0E1F-4232-8D3A-257AD206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8A3-D53C-480D-B951-D587335C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7A1-3518-436F-834F-80A2DE72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044-0F0D-42AD-AA51-5DC0DA5C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9D5-1791-4ECF-BCAD-5A65C228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520" y="6522840"/>
            <a:ext cx="40384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Intersil &amp; Ian Gifford, Tyco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518000" y="6474960"/>
            <a:ext cx="177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091E-E5B3-45E2-902D-2569B22D1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7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9840" y="1146240"/>
          <a:ext cx="8616960" cy="510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1146240"/>
                    <a:ext cx="861696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686800" y="11430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443-A7AB-4CA8-A17C-296EE2DC2A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28480" y="990720"/>
          <a:ext cx="799020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990720"/>
                    <a:ext cx="799020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60B-A45A-4B38-9C08-B6BF43967F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de the formulation of documentation that clearly &amp; distinctly explain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urage and foster creation of value-added industry marketing groups as appropriate (e.g. WECA, www.wirelessethernet.org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094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s of the WPAN Market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D9B-7CE3-4E1B-8325-BAA6A8A535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2:46:28Z</dcterms:created>
  <dc:creator>Bruce Kraemer</dc:creator>
  <dc:description/>
  <dc:language>en-US</dc:language>
  <cp:lastModifiedBy>Bruce Kraemer</cp:lastModifiedBy>
  <dcterms:modified xsi:type="dcterms:W3CDTF">2000-07-10T23:58:12Z</dcterms:modified>
  <cp:revision>14</cp:revision>
  <dc:subject/>
  <dc:title>No Slide Title</dc:title>
</cp:coreProperties>
</file>