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3005280" cy="463680"/>
          </a:xfrm>
          <a:prstGeom prst="rect">
            <a:avLst/>
          </a:prstGeom>
          <a:noFill/>
          <a:ln w="0">
            <a:noFill/>
          </a:ln>
        </p:spPr>
        <p:txBody>
          <a:bodyPr lIns="19080" rIns="19080" tIns="0" bIns="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 name="PlaceHolder 2"/>
          <p:cNvSpPr>
            <a:spLocks noGrp="1"/>
          </p:cNvSpPr>
          <p:nvPr>
            <p:ph type="dt" idx="4"/>
          </p:nvPr>
        </p:nvSpPr>
        <p:spPr>
          <a:xfrm>
            <a:off x="3929040" y="0"/>
            <a:ext cx="3005280" cy="463680"/>
          </a:xfrm>
          <a:prstGeom prst="rect">
            <a:avLst/>
          </a:prstGeom>
          <a:noFill/>
          <a:ln w="0">
            <a:noFill/>
          </a:ln>
        </p:spPr>
        <p:txBody>
          <a:bodyPr lIns="19080" rIns="1908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8816760"/>
            <a:ext cx="3005280" cy="463320"/>
          </a:xfrm>
          <a:prstGeom prst="rect">
            <a:avLst/>
          </a:prstGeom>
          <a:noFill/>
          <a:ln w="0">
            <a:noFill/>
          </a:ln>
        </p:spPr>
        <p:txBody>
          <a:bodyPr lIns="19080" rIns="1908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6"/>
          <p:cNvSpPr>
            <a:spLocks noGrp="1"/>
          </p:cNvSpPr>
          <p:nvPr>
            <p:ph type="sldNum" idx="6"/>
          </p:nvPr>
        </p:nvSpPr>
        <p:spPr>
          <a:xfrm>
            <a:off x="3929040" y="8816760"/>
            <a:ext cx="3005280" cy="463320"/>
          </a:xfrm>
          <a:prstGeom prst="rect">
            <a:avLst/>
          </a:prstGeom>
          <a:noFill/>
          <a:ln w="0">
            <a:noFill/>
          </a:ln>
        </p:spPr>
        <p:txBody>
          <a:bodyPr lIns="19080" rIns="19080" tIns="0" bIns="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62B423D-CFA5-4DF5-9EC0-971518D6F9A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54160" y="701640"/>
            <a:ext cx="4626000" cy="3468600"/>
          </a:xfrm>
          <a:prstGeom prst="rect">
            <a:avLst/>
          </a:prstGeom>
          <a:ln w="0">
            <a:noFill/>
          </a:ln>
        </p:spPr>
      </p:sp>
      <p:sp>
        <p:nvSpPr>
          <p:cNvPr id="7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From:</a:t>
            </a:r>
            <a:r>
              <a:rPr b="0" lang="en-US" sz="700" spc="-1" strike="noStrike">
                <a:solidFill>
                  <a:srgbClr val="000000"/>
                </a:solidFill>
                <a:latin typeface="Times New Roman"/>
              </a:rPr>
              <a:t>	</a:t>
            </a:r>
            <a:r>
              <a:rPr b="0" lang="en-US" sz="700" spc="-1" strike="noStrike">
                <a:solidFill>
                  <a:srgbClr val="000000"/>
                </a:solidFill>
                <a:latin typeface="Times New Roman"/>
              </a:rPr>
              <a:t>Webb, John P [SMTP:John.P.Webb@intel.co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ent:</a:t>
            </a:r>
            <a:r>
              <a:rPr b="0" lang="en-US" sz="700" spc="-1" strike="noStrike">
                <a:solidFill>
                  <a:srgbClr val="000000"/>
                </a:solidFill>
                <a:latin typeface="Times New Roman"/>
              </a:rPr>
              <a:t>	</a:t>
            </a:r>
            <a:r>
              <a:rPr b="0" lang="en-US" sz="700" spc="-1" strike="noStrike">
                <a:solidFill>
                  <a:srgbClr val="000000"/>
                </a:solidFill>
                <a:latin typeface="Times New Roman"/>
              </a:rPr>
              <a:t>Friday, January 21, 2000 11:30 A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To:</a:t>
            </a:r>
            <a:r>
              <a:rPr b="0" lang="en-US" sz="700" spc="-1" strike="noStrike">
                <a:solidFill>
                  <a:srgbClr val="000000"/>
                </a:solidFill>
                <a:latin typeface="Times New Roman"/>
              </a:rPr>
              <a:t>	</a:t>
            </a:r>
            <a:r>
              <a:rPr b="0" lang="en-US" sz="700" spc="-1" strike="noStrike">
                <a:solidFill>
                  <a:srgbClr val="000000"/>
                </a:solidFill>
                <a:latin typeface="Times New Roman"/>
              </a:rPr>
              <a:t>Gifford, Ian C.; Bluetooth SIGnal (E-mail); 'Roger Peacock'</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Cc:</a:t>
            </a:r>
            <a:r>
              <a:rPr b="0" lang="en-US" sz="700" spc="-1" strike="noStrike">
                <a:solidFill>
                  <a:srgbClr val="000000"/>
                </a:solidFill>
                <a:latin typeface="Times New Roman"/>
              </a:rPr>
              <a:t>	</a:t>
            </a:r>
            <a:r>
              <a:rPr b="0" lang="en-US" sz="700" spc="-1" strike="noStrike">
                <a:solidFill>
                  <a:srgbClr val="000000"/>
                </a:solidFill>
                <a:latin typeface="Times New Roman"/>
              </a:rPr>
              <a:t>Bruce Kraemer (E-mail); Webb, John P</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ubject:</a:t>
            </a:r>
            <a:r>
              <a:rPr b="0" lang="en-US" sz="700" spc="-1" strike="noStrike">
                <a:solidFill>
                  <a:srgbClr val="000000"/>
                </a:solidFill>
                <a:latin typeface="Times New Roman"/>
              </a:rPr>
              <a:t>	</a:t>
            </a:r>
            <a:r>
              <a:rPr b="0" lang="en-US" sz="700" spc="-1" strike="noStrike">
                <a:solidFill>
                  <a:srgbClr val="000000"/>
                </a:solidFill>
                <a:latin typeface="Times New Roman"/>
              </a:rPr>
              <a:t>RE: IEEE &amp; Bluetooth SIGna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Ian, </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Glad to hear you want to include an Article in The SIGnal. Roger is the</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editor and can help with the below questions. </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Regard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John</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Original Message-----</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From: Gifford, Ian C. [mailto:giffordi@tycoelectronics.co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ent: Thursday, January 20, 2000 10:26 P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To: Bluetooth SIGnal (E-mai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Cc: Bruce Kraemer (E-mail); John Webb (E-mai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ubject: IEEE &amp; Bluetooth SIGna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Hi,</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We appreciated the article on Wireless Personal Area Networks &amp; IEEE P802.15 in the Bluetooth SIGnal Issue no. 2, Sep99!</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Now we are wondering how to write a SIGnal article as an update to this article and/or the standards-making work we are doing in the IEEE Project</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802.15 Working Group for WPANs.  Here are some questions to start the dialog:</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1 Who should we contact and/or work with if we have an idea for an article that the SIGnal Readers might like?</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2 What are the author rule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3 The Bluetooth SIGnal Issue no. 2 Article is 383 words.  Is the typical word count that is considered?</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4 It appears that the next placement is for the 28 January 2000 issue of the Bluetooth SIGnal or Issue no. 4.  When is/was the deadline for the Issue no. 4?  When is no. 5 scheduled?</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5 Do you have themes for each of the up and coming Issue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Best Regard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Ian Gifford</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giffordi@tycoelectronics.com</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982E8-FABE-4948-B38A-6990D669A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89ED7-E01B-48A2-AA7A-F10335813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C113E-7BBB-4DC4-BC99-4468E5735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2B21C-6F45-461C-A971-BAD49B25C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88E10-EADD-4421-AD3B-8D80EC2B7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03362-65D8-4425-914F-94F5C1680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C42F0-2B96-4B30-A5CB-98BDFF9D9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C2314-EAD4-4A23-AB5A-E1DCCADCB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D783A-8236-487D-B7D3-E3E73622A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6D05B-A2D4-4704-986E-92F645ADB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B24EA-E387-4484-B98C-CEB6D2575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1C91C-8E58-4A7B-AC5B-D784CA619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2286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399360"/>
            <a:ext cx="3124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7BD52F83-50EE-422B-96E3-88B713090D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8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3657600" y="6399360"/>
            <a:ext cx="190512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ide </a:t>
            </a:r>
            <a:fld id="{FEBFEAFB-9C6E-4269-88C2-5181F3B469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3" name=""/>
          <p:cNvSpPr txBox="1"/>
          <p:nvPr/>
        </p:nvSpPr>
        <p:spPr>
          <a:xfrm>
            <a:off x="5486400" y="6399360"/>
            <a:ext cx="312408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
          <p:cNvSpPr txBox="1"/>
          <p:nvPr/>
        </p:nvSpPr>
        <p:spPr>
          <a:xfrm>
            <a:off x="609480" y="22860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
          <p:cNvSpPr/>
          <p:nvPr/>
        </p:nvSpPr>
        <p:spPr>
          <a:xfrm>
            <a:off x="76320" y="76320"/>
            <a:ext cx="8991360" cy="587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MC Marketing Plan Repor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1Jul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following report provides a planning tool for Marketing Communication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MC will use this report as a way to capture their ongoing WG &amp; specific MC work.  This author will consolidate or work with other authors if they have other work that needs to be reporte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Committee Marketing Plan Repor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000 LaJolla, CA US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DB4D938-3F30-4A5F-AAF1-CA634AFDA34B}"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view from Web Si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G Life Cyc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Si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ieee802.org/15/pub/Marketing_Plan.htm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TML Page will be the most curr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D559CA1-F8F4-4647-8D93-AC38108345CD}" type="slidenum">
              <a:t>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from Web Sit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802.15 Working Group for WPANs™ has provided the following online Marketing Plan to profile the Marketing Communications from the WG.  The focus of the plan is on the "push" side vs. the "pull" side of our Marketing Communications or rather we are asked individually to submit articles from time to time into Magazines, speak at Trade Shows, etc. this is "pull".  The Marketing Committee does not portend to control "pull" but rather just tries to monitor and archive.  The Marketing Committee is primarily concerned with creating "push" communications in support of the Projects and one of the three types of IEEE Standards documents: standard, recommended practice, or guide they have as a deliverabl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IEEE Standards documents are depicted below in terms of timelines and the individual Working Group, Task Groups, or Committee life cycles authorized to the Projects by our Sponsor.</a:t>
            </a:r>
            <a:endParaRPr b="0" lang="en-US" sz="1800" spc="-1" strike="noStrike">
              <a:solidFill>
                <a:srgbClr val="000000"/>
              </a:solidFill>
              <a:latin typeface="Times New Roman"/>
            </a:endParaRPr>
          </a:p>
        </p:txBody>
      </p:sp>
      <p:sp>
        <p:nvSpPr>
          <p:cNvPr id="63" name=""/>
          <p:cNvSpPr/>
          <p:nvPr/>
        </p:nvSpPr>
        <p:spPr>
          <a:xfrm>
            <a:off x="676800" y="6132600"/>
            <a:ext cx="393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ieee802.org/15/pub/Marketing_Plan.html</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23588C1-501D-473E-B3BB-B74FA943C9ED}" type="slidenum">
              <a:t>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G is finite and each project has its own lifecyc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rketing Committee should be planning during the entire lifecycle of a pro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report is snapshot of the Marketing Plan for the participating pro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want to participate please contact Bruce Kreamer or Ian Giffo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64048D8-E149-48E5-B6B7-2D2111A8DBC6}" type="slidenum">
              <a:t>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G Life Cycle</a:t>
            </a:r>
            <a:endParaRPr b="0" lang="en-US" sz="4400" spc="-1" strike="noStrike">
              <a:solidFill>
                <a:srgbClr val="000000"/>
              </a:solidFill>
              <a:latin typeface="Times New Roman"/>
            </a:endParaRPr>
          </a:p>
        </p:txBody>
      </p:sp>
      <p:graphicFrame>
        <p:nvGraphicFramePr>
          <p:cNvPr id="67" name=""/>
          <p:cNvGraphicFramePr/>
          <p:nvPr/>
        </p:nvGraphicFramePr>
        <p:xfrm>
          <a:off x="171360" y="2048040"/>
          <a:ext cx="8801280" cy="2761920"/>
        </p:xfrm>
        <a:graphic>
          <a:graphicData uri="http://schemas.openxmlformats.org/presentationml/2006/ole">
            <p:oleObj progId="Excel.Sheet.12" r:id="rId1" spid="">
              <p:embed/>
              <p:pic>
                <p:nvPicPr>
                  <p:cNvPr id="68" name="" descr=""/>
                  <p:cNvPicPr/>
                  <p:nvPr/>
                </p:nvPicPr>
                <p:blipFill>
                  <a:blip r:embed="rId2"/>
                  <a:stretch/>
                </p:blipFill>
                <p:spPr>
                  <a:xfrm>
                    <a:off x="171360" y="2048040"/>
                    <a:ext cx="8801280" cy="276192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9E625AD-39E4-4BDF-81AD-DBE547825389}" type="slidenum">
              <a:t>6</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ting Plan</a:t>
            </a:r>
            <a:endParaRPr b="0" lang="en-US" sz="4400" spc="-1" strike="noStrike">
              <a:solidFill>
                <a:srgbClr val="000000"/>
              </a:solidFill>
              <a:latin typeface="Times New Roman"/>
            </a:endParaRPr>
          </a:p>
        </p:txBody>
      </p:sp>
      <p:graphicFrame>
        <p:nvGraphicFramePr>
          <p:cNvPr id="70" name=""/>
          <p:cNvGraphicFramePr/>
          <p:nvPr/>
        </p:nvGraphicFramePr>
        <p:xfrm>
          <a:off x="1066680" y="1523880"/>
          <a:ext cx="6973920" cy="4875480"/>
        </p:xfrm>
        <a:graphic>
          <a:graphicData uri="http://schemas.openxmlformats.org/presentationml/2006/ole">
            <p:oleObj progId="Excel.Sheet.12" r:id="rId1" spid="">
              <p:embed/>
              <p:pic>
                <p:nvPicPr>
                  <p:cNvPr id="71" name="" descr=""/>
                  <p:cNvPicPr/>
                  <p:nvPr/>
                </p:nvPicPr>
                <p:blipFill>
                  <a:blip r:embed="rId2"/>
                  <a:stretch/>
                </p:blipFill>
                <p:spPr>
                  <a:xfrm>
                    <a:off x="1066680" y="1523880"/>
                    <a:ext cx="6973920" cy="48754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C3F3916E-BD28-43D9-BF6E-533FA69BBCE8}" type="slidenum">
              <a:t>7</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ting Plan (cont.)</a:t>
            </a:r>
            <a:endParaRPr b="0" lang="en-US" sz="4400" spc="-1" strike="noStrike">
              <a:solidFill>
                <a:srgbClr val="000000"/>
              </a:solidFill>
              <a:latin typeface="Times New Roman"/>
            </a:endParaRPr>
          </a:p>
        </p:txBody>
      </p:sp>
      <p:graphicFrame>
        <p:nvGraphicFramePr>
          <p:cNvPr id="73" name=""/>
          <p:cNvGraphicFramePr/>
          <p:nvPr/>
        </p:nvGraphicFramePr>
        <p:xfrm>
          <a:off x="1069920" y="1967040"/>
          <a:ext cx="6973920" cy="3660480"/>
        </p:xfrm>
        <a:graphic>
          <a:graphicData uri="http://schemas.openxmlformats.org/presentationml/2006/ole">
            <p:oleObj progId="Excel.Sheet.12" r:id="rId1" spid="">
              <p:embed/>
              <p:pic>
                <p:nvPicPr>
                  <p:cNvPr id="74" name="" descr=""/>
                  <p:cNvPicPr/>
                  <p:nvPr/>
                </p:nvPicPr>
                <p:blipFill>
                  <a:blip r:embed="rId2"/>
                  <a:stretch/>
                </p:blipFill>
                <p:spPr>
                  <a:xfrm>
                    <a:off x="1069920" y="1967040"/>
                    <a:ext cx="6973920" cy="36604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7A59763-AE67-4CC0-8FF8-03A34F050C8D}" type="slidenum">
              <a:t>8</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ting Plan (cont.)</a:t>
            </a:r>
            <a:endParaRPr b="0" lang="en-US" sz="4400" spc="-1" strike="noStrike">
              <a:solidFill>
                <a:srgbClr val="000000"/>
              </a:solidFill>
              <a:latin typeface="Times New Roman"/>
            </a:endParaRPr>
          </a:p>
        </p:txBody>
      </p:sp>
      <p:graphicFrame>
        <p:nvGraphicFramePr>
          <p:cNvPr id="76" name=""/>
          <p:cNvGraphicFramePr/>
          <p:nvPr/>
        </p:nvGraphicFramePr>
        <p:xfrm>
          <a:off x="1089000" y="2143080"/>
          <a:ext cx="6973920" cy="3254400"/>
        </p:xfrm>
        <a:graphic>
          <a:graphicData uri="http://schemas.openxmlformats.org/presentationml/2006/ole">
            <p:oleObj progId="Excel.Sheet.12" r:id="rId1" spid="">
              <p:embed/>
              <p:pic>
                <p:nvPicPr>
                  <p:cNvPr id="77" name="" descr=""/>
                  <p:cNvPicPr/>
                  <p:nvPr/>
                </p:nvPicPr>
                <p:blipFill>
                  <a:blip r:embed="rId2"/>
                  <a:stretch/>
                </p:blipFill>
                <p:spPr>
                  <a:xfrm>
                    <a:off x="1089000" y="2143080"/>
                    <a:ext cx="6973920" cy="325440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F6A8BAEF-2F7C-4FEE-9770-35DD2C83FB09}" type="slidenum">
              <a:t>9</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3T05:30:14Z</dcterms:created>
  <dc:creator>Ian C. Gifford</dc:creator>
  <dc:description>Ian Gifford, M/A-COM, Inc.</dc:description>
  <dc:language>en-US</dc:language>
  <cp:lastModifiedBy>Bruce Kraemer</cp:lastModifiedBy>
  <cp:lastPrinted>1998-02-10T13:28:06Z</cp:lastPrinted>
  <dcterms:modified xsi:type="dcterms:W3CDTF">2000-07-10T17:55:06Z</dcterms:modified>
  <cp:revision>58</cp:revision>
  <dc:subject>MC Markeitng Plan Report</dc:subject>
  <dc:title>IEEE P802.15 Working Group for Wireless Personal Area Networks</dc:title>
</cp:coreProperties>
</file>