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102A-762E-4D64-A0D3-21D71A34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ndard is part of a family of standards for local and metropolitan area networks. The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he standard and other members of the family is shown below. (The numbers in the figure ref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standard number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mily of standards deals with the Physical and Data Link layers as defined by the International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tandardization (ISO) Open Systems Interconnection (OSI) Basic Reference Model (ISO/I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98-1: 1994). The access standards define seven types of medium access technologies and associated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each appropriate for particular applications or system objectives. Other types are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8EC-198A-4466-8F70-2F28BF4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84D-BF96-4BF8-9A12-E9966694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01D-6BEA-48AF-829C-AAA0B39E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346-4F42-43A9-83A5-686209B8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BA5-D076-456E-99C9-F611E683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DAA-0277-471A-87AF-863B160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86A-8FD7-4B09-9513-BBA4F627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0FE-BCDD-4261-89F8-307A6238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964-6ADE-469B-B00A-EBE50424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381-E758-477A-8088-59ADBC40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B6D-3D27-4DEC-9AB7-EC97A80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BD3-AE8E-4FB6-9CE4-4D12B8C8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E8C-CB15-4831-857F-D720E96E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295280"/>
            <a:ext cx="8989200" cy="4343400"/>
            <a:chOff x="76320" y="1295280"/>
            <a:chExt cx="8989200" cy="4343400"/>
          </a:xfrm>
        </p:grpSpPr>
        <p:sp>
          <p:nvSpPr>
            <p:cNvPr id="49" name=""/>
            <p:cNvSpPr/>
            <p:nvPr/>
          </p:nvSpPr>
          <p:spPr>
            <a:xfrm>
              <a:off x="76320" y="1295280"/>
              <a:ext cx="3808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6200000">
              <a:off x="-519120" y="216324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0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4960" y="152388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-780120" y="3578760"/>
              <a:ext cx="30200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 OVERVIEW &amp; ARCHITE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ormerly IEEE Std 802.1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2160" y="1523880"/>
              <a:ext cx="380880" cy="41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235080" y="3698640"/>
              <a:ext cx="19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15880" y="152388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98520" y="1828800"/>
              <a:ext cx="275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2 LOGICAL LINK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5880" y="2514600"/>
              <a:ext cx="6813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31040" y="2819520"/>
              <a:ext cx="149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 BRID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769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485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4320" y="3581280"/>
              <a:ext cx="6094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5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53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01040" y="1523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01040" y="459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96360" y="5638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82120" y="15238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3320" y="2743200"/>
              <a:ext cx="7722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8682120" y="464796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8640" y="4805280"/>
              <a:ext cx="772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0120" y="3581280"/>
              <a:ext cx="609480" cy="20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2.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2:56:11Z</dcterms:created>
  <dc:creator>Ian C. Gifford</dc:creator>
  <dc:description/>
  <dc:language>en-US</dc:language>
  <cp:lastModifiedBy>Ian C. Gifford</cp:lastModifiedBy>
  <dcterms:modified xsi:type="dcterms:W3CDTF">2000-03-09T12:27:05Z</dcterms:modified>
  <cp:revision>6</cp:revision>
  <dc:subject/>
  <dc:title>PowerPoint Presentation</dc:title>
</cp:coreProperties>
</file>