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895-F775-40A1-9B33-9DFD954E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A3E-FE1E-4EB9-BC49-D141A6DE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D76-BFCC-4D95-A949-2817A867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57F8-3DC8-4811-951B-7781070E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D9B-B655-4B6A-AB59-83448FE0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B9C-798E-4518-B7B4-4989F0A0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ED07-91AF-4E45-9D92-9EDC420A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989-A2F4-45E2-A0ED-0584E738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16E-53DD-4DAD-B2CB-D24380C1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BB58-D925-41EF-8D9D-93663E5E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6E4-A02E-440B-A4C9-249884C3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171C-7686-456B-B5D8-07FBD51A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Dydyk, Motor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BC0A842-B4B3-4E91-90F9-F9F9545BD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7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BE vs WEC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ichael Dydy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D5B-5EEA-4BFB-802D-B8A032E66E8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equency Hopping Spread Spectrum Syste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p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dBm (1.0 wat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ping chann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dB channel bandwidth  1 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f occupanc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&lt;.4 sec within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second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9E5-504D-4513-8879-73966CF5A17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meRF Working Group Request-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out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d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ping chann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dB channel bandwidth 3 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f occupa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05 sec/hop with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30 sec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972-1DF8-4D73-A1D6-99025E85FA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meRF Working Group Request-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out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 d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ping chann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dB channel bandwidth 5 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f occupa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02 sec/hop with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30 sec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4E8-3CB6-4550-B3C2-62B57D1F51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ical Claims of the Propo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RF Working Group (HRFWG) and now CUBE, claim that the proposal will not cause additional inter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hannels will be needed to accommodate 75 h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57B-92C7-408A-A16A-A5CC59DB14D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ical Claims of the Proposal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verage time of occupancy on any one frequency will incr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posed reduction in output power and time of occupancy would offset any potential increase in inter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5058-B97B-4415-A201-F29775A0F28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sues Against the Propo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CA argues that the changes will cause increased interference to Part 15 direct sequence spread spectrum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CA argues that the proposed systems will not be able to achieve substantially higher data rates that current 1 MHz systems because of the affects of in-building multipath inter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995D-FCAD-41C2-AEAB-36699C9623C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sues Against the Proposal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wer reductions proposed by HomeRF are inadequate to ensure that other users of the band will not encounter increased levels of inter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hop rate does not reduce interference to other Part 15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hop rate reduces throughput for FHSS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612-3718-4B40-9FA4-0C499BC9935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sues Against the Proposal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rvation of at least 75 channels will result in a high degree of overlap for both the 3 and 5 MHz channels.  The use of overlapping channels results in a level of interference which is even higher than co-channel inter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CB00-EB87-409B-A5DA-C436B975431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Status of the NP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CA and CUBE have submitted rebuttals (2 for WECA and 1 for CUBE) each claiming the other is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icon Wave (member of the Bluetooth SIG and HomeRF Working Group) has conducted an independent simulation and measurements  on the issues and their  results confirm the WECA 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CEE8-412A-4D01-A9EE-70E79EE4606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CUBE and WE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of the Notice of Proposed Rule Making (NP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RF Working Group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Claims of the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Against the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Status of the NP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5CD3-8301-4198-8E2D-A89E04638C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tee for Unlicensed Broadband Enab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x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4337-7528-49D8-A6F4-D7E8C4C921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less Ethernet Compatibility Al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Com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onet Wireless Communication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antro Communication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e Computer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co System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A6F-47B5-47D4-80D4-115D2768F7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CA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c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sil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ent Technologie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Wires Needed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kia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sung Electro-Mechanics Co. L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Wave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 Technologie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71F-F57E-4BC0-9D1D-940F1102A1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CA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yport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om Telephonic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D45-BC44-4D7C-AD99-0707576AFC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 of NP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 the Part 15 rules regarding the operation of non-licensed spread spectrum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ally, this Notice proposes to revise the rules for frequency hopping systems to allow for wider operational bandwid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CB62-CF4C-4258-B941-F96519832B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C permits operation of non-licensed radio frequency (RF) devices on a non-interference b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devices must not cause interference to authorized services and they must accept any interference received from such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2B11-BE94-4252-9317-77F381EB52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ground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C permits operation of frequency hopping and direct sequence spread spectrum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ead Spectrum systems reduce the probability of causing interference to other signals occupying sam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354-228B-47FF-AF00-D3CA85DD47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22:39:55Z</dcterms:created>
  <dc:creator>Steve Shellhammer</dc:creator>
  <dc:description>&lt;doc#&gt;</dc:description>
  <dc:language>en-US</dc:language>
  <cp:lastModifiedBy>Steve Shellhammer</cp:lastModifiedBy>
  <cp:lastPrinted>1998-02-10T13:28:06Z</cp:lastPrinted>
  <dcterms:modified xsi:type="dcterms:W3CDTF">2000-03-06T22:59:19Z</dcterms:modified>
  <cp:revision>11</cp:revision>
  <dc:subject>IEEE 802.15 &lt;subject&gt;</dc:subject>
  <dc:title>No Slide Title</dc:title>
</cp:coreProperties>
</file>