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DDF98-1046-4C8E-A1D7-544D05196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55C57-EBBF-4A55-87C9-0674BE787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DA5F3-4BB9-48F3-ABE5-C8AF594DB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404EF-693A-479E-9457-91704326C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F9761-4B1E-415F-AAB2-9FE177130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D0923-F3B4-4389-B1AE-F258DE13D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5088C-E784-4005-A899-C822CF313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3DBD7-1388-4C9E-808E-EB7022AF8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CC85E-D0CB-4BBF-8D16-155ACB78F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FADC4-1204-4638-9F85-138E0E379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D4355-7184-4D28-B517-C944A339D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2BD93-C387-450E-B1FB-5E0383212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21DE5B-FE6E-4F63-85CF-80DC06380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74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6396F292-6DC5-42EB-9A8F-F5DD38FEC4E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Summary of Copenhagen Meetin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6 March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Dallas, TX, 7524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Submiss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Extraction from 00054r0P802-15_TG1-Bluetooth-f2f-Meeting-Minutes.do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Provide information to inform TG1 membership about the f2f meetin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on Items</a:t>
            </a:r>
            <a:endParaRPr b="0" lang="en-US" sz="3600" spc="-1" strike="noStrike">
              <a:solidFill>
                <a:srgbClr val="000000"/>
              </a:solidFill>
              <a:latin typeface="Times New Roman"/>
            </a:endParaRPr>
          </a:p>
        </p:txBody>
      </p:sp>
      <p:grpSp>
        <p:nvGrpSpPr>
          <p:cNvPr id="71" name=""/>
          <p:cNvGrpSpPr/>
          <p:nvPr/>
        </p:nvGrpSpPr>
        <p:grpSpPr>
          <a:xfrm>
            <a:off x="304920" y="1523880"/>
            <a:ext cx="8457840" cy="4876920"/>
            <a:chOff x="304920" y="1523880"/>
            <a:chExt cx="8457840" cy="4876920"/>
          </a:xfrm>
        </p:grpSpPr>
        <p:grpSp>
          <p:nvGrpSpPr>
            <p:cNvPr id="72" name=""/>
            <p:cNvGrpSpPr/>
            <p:nvPr/>
          </p:nvGrpSpPr>
          <p:grpSpPr>
            <a:xfrm>
              <a:off x="311400" y="1527120"/>
              <a:ext cx="8444160" cy="4869720"/>
              <a:chOff x="311400" y="1527120"/>
              <a:chExt cx="8444160" cy="4869720"/>
            </a:xfrm>
          </p:grpSpPr>
          <p:grpSp>
            <p:nvGrpSpPr>
              <p:cNvPr id="73" name=""/>
              <p:cNvGrpSpPr/>
              <p:nvPr/>
            </p:nvGrpSpPr>
            <p:grpSpPr>
              <a:xfrm>
                <a:off x="311400" y="1527120"/>
                <a:ext cx="5317920" cy="454320"/>
                <a:chOff x="311400" y="1527120"/>
                <a:chExt cx="5317920" cy="454320"/>
              </a:xfrm>
            </p:grpSpPr>
            <p:sp>
              <p:nvSpPr>
                <p:cNvPr id="74" name=""/>
                <p:cNvSpPr/>
                <p:nvPr/>
              </p:nvSpPr>
              <p:spPr>
                <a:xfrm>
                  <a:off x="311400" y="1527120"/>
                  <a:ext cx="5317920" cy="454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 name=""/>
                <p:cNvGrpSpPr/>
                <p:nvPr/>
              </p:nvGrpSpPr>
              <p:grpSpPr>
                <a:xfrm>
                  <a:off x="311400" y="1527120"/>
                  <a:ext cx="5317560" cy="454320"/>
                  <a:chOff x="311400" y="1527120"/>
                  <a:chExt cx="5317560" cy="454320"/>
                </a:xfrm>
              </p:grpSpPr>
              <p:sp>
                <p:nvSpPr>
                  <p:cNvPr id="76" name=""/>
                  <p:cNvSpPr/>
                  <p:nvPr/>
                </p:nvSpPr>
                <p:spPr>
                  <a:xfrm>
                    <a:off x="406800" y="1527120"/>
                    <a:ext cx="5126760" cy="4543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h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 name=""/>
                  <p:cNvSpPr/>
                  <p:nvPr/>
                </p:nvSpPr>
                <p:spPr>
                  <a:xfrm>
                    <a:off x="311400" y="1527120"/>
                    <a:ext cx="5317560" cy="45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8" name=""/>
              <p:cNvGrpSpPr/>
              <p:nvPr/>
            </p:nvGrpSpPr>
            <p:grpSpPr>
              <a:xfrm>
                <a:off x="5629680" y="1527120"/>
                <a:ext cx="1199160" cy="454320"/>
                <a:chOff x="5629680" y="1527120"/>
                <a:chExt cx="1199160" cy="454320"/>
              </a:xfrm>
            </p:grpSpPr>
            <p:sp>
              <p:nvSpPr>
                <p:cNvPr id="79" name=""/>
                <p:cNvSpPr/>
                <p:nvPr/>
              </p:nvSpPr>
              <p:spPr>
                <a:xfrm>
                  <a:off x="5629680" y="1527120"/>
                  <a:ext cx="1199160" cy="454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
                <p:cNvGrpSpPr/>
                <p:nvPr/>
              </p:nvGrpSpPr>
              <p:grpSpPr>
                <a:xfrm>
                  <a:off x="5629680" y="1527120"/>
                  <a:ext cx="1198800" cy="454320"/>
                  <a:chOff x="5629680" y="1527120"/>
                  <a:chExt cx="1198800" cy="454320"/>
                </a:xfrm>
              </p:grpSpPr>
              <p:sp>
                <p:nvSpPr>
                  <p:cNvPr id="81" name=""/>
                  <p:cNvSpPr/>
                  <p:nvPr/>
                </p:nvSpPr>
                <p:spPr>
                  <a:xfrm>
                    <a:off x="5725080" y="1527120"/>
                    <a:ext cx="1008000" cy="4543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h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 name=""/>
                  <p:cNvSpPr/>
                  <p:nvPr/>
                </p:nvSpPr>
                <p:spPr>
                  <a:xfrm>
                    <a:off x="5629680" y="1527120"/>
                    <a:ext cx="1198800" cy="45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 name=""/>
              <p:cNvGrpSpPr/>
              <p:nvPr/>
            </p:nvGrpSpPr>
            <p:grpSpPr>
              <a:xfrm>
                <a:off x="6829560" y="1527120"/>
                <a:ext cx="1926000" cy="454320"/>
                <a:chOff x="6829560" y="1527120"/>
                <a:chExt cx="1926000" cy="454320"/>
              </a:xfrm>
            </p:grpSpPr>
            <p:sp>
              <p:nvSpPr>
                <p:cNvPr id="84" name=""/>
                <p:cNvSpPr/>
                <p:nvPr/>
              </p:nvSpPr>
              <p:spPr>
                <a:xfrm>
                  <a:off x="6829560" y="1527120"/>
                  <a:ext cx="1926000" cy="454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6829560" y="1527120"/>
                  <a:ext cx="1925640" cy="454320"/>
                  <a:chOff x="6829560" y="1527120"/>
                  <a:chExt cx="1925640" cy="454320"/>
                </a:xfrm>
              </p:grpSpPr>
              <p:sp>
                <p:nvSpPr>
                  <p:cNvPr id="86" name=""/>
                  <p:cNvSpPr/>
                  <p:nvPr/>
                </p:nvSpPr>
                <p:spPr>
                  <a:xfrm>
                    <a:off x="6924240" y="1527120"/>
                    <a:ext cx="1735200" cy="4543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h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 name=""/>
                  <p:cNvSpPr/>
                  <p:nvPr/>
                </p:nvSpPr>
                <p:spPr>
                  <a:xfrm>
                    <a:off x="6829560" y="1527120"/>
                    <a:ext cx="1925640" cy="45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 name=""/>
              <p:cNvGrpSpPr/>
              <p:nvPr/>
            </p:nvGrpSpPr>
            <p:grpSpPr>
              <a:xfrm>
                <a:off x="311400" y="1981440"/>
                <a:ext cx="5317920" cy="454320"/>
                <a:chOff x="311400" y="1981440"/>
                <a:chExt cx="5317920" cy="454320"/>
              </a:xfrm>
            </p:grpSpPr>
            <p:sp>
              <p:nvSpPr>
                <p:cNvPr id="89" name=""/>
                <p:cNvSpPr/>
                <p:nvPr/>
              </p:nvSpPr>
              <p:spPr>
                <a:xfrm>
                  <a:off x="406800" y="1981440"/>
                  <a:ext cx="5126760" cy="45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inutes of meeting (this docu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
                <p:cNvSpPr/>
                <p:nvPr/>
              </p:nvSpPr>
              <p:spPr>
                <a:xfrm>
                  <a:off x="311400" y="1981440"/>
                  <a:ext cx="5317920" cy="45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629680" y="1981440"/>
                <a:ext cx="1199160" cy="454320"/>
                <a:chOff x="5629680" y="1981440"/>
                <a:chExt cx="1199160" cy="454320"/>
              </a:xfrm>
            </p:grpSpPr>
            <p:sp>
              <p:nvSpPr>
                <p:cNvPr id="92" name=""/>
                <p:cNvSpPr/>
                <p:nvPr/>
              </p:nvSpPr>
              <p:spPr>
                <a:xfrm>
                  <a:off x="5725080" y="1981440"/>
                  <a:ext cx="1008360" cy="45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 name=""/>
                <p:cNvSpPr/>
                <p:nvPr/>
              </p:nvSpPr>
              <p:spPr>
                <a:xfrm>
                  <a:off x="5629680" y="1981440"/>
                  <a:ext cx="1199160" cy="45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6829560" y="1981440"/>
                <a:ext cx="1926000" cy="454320"/>
                <a:chOff x="6829560" y="1981440"/>
                <a:chExt cx="1926000" cy="454320"/>
              </a:xfrm>
            </p:grpSpPr>
            <p:sp>
              <p:nvSpPr>
                <p:cNvPr id="95" name=""/>
                <p:cNvSpPr/>
                <p:nvPr/>
              </p:nvSpPr>
              <p:spPr>
                <a:xfrm>
                  <a:off x="6924240" y="1981440"/>
                  <a:ext cx="1735560" cy="45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ublish Mond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 name=""/>
                <p:cNvSpPr/>
                <p:nvPr/>
              </p:nvSpPr>
              <p:spPr>
                <a:xfrm>
                  <a:off x="6829560" y="1981440"/>
                  <a:ext cx="1926000" cy="45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311400" y="2436120"/>
                <a:ext cx="5317920" cy="454320"/>
                <a:chOff x="311400" y="2436120"/>
                <a:chExt cx="5317920" cy="454320"/>
              </a:xfrm>
            </p:grpSpPr>
            <p:sp>
              <p:nvSpPr>
                <p:cNvPr id="98" name=""/>
                <p:cNvSpPr/>
                <p:nvPr/>
              </p:nvSpPr>
              <p:spPr>
                <a:xfrm>
                  <a:off x="406800" y="2436120"/>
                  <a:ext cx="5126760" cy="45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eliminary SAP defini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 name=""/>
                <p:cNvSpPr/>
                <p:nvPr/>
              </p:nvSpPr>
              <p:spPr>
                <a:xfrm>
                  <a:off x="311400" y="2436120"/>
                  <a:ext cx="5317920" cy="45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5629680" y="2436120"/>
                <a:ext cx="1199160" cy="454320"/>
                <a:chOff x="5629680" y="2436120"/>
                <a:chExt cx="1199160" cy="454320"/>
              </a:xfrm>
            </p:grpSpPr>
            <p:sp>
              <p:nvSpPr>
                <p:cNvPr id="101" name=""/>
                <p:cNvSpPr/>
                <p:nvPr/>
              </p:nvSpPr>
              <p:spPr>
                <a:xfrm>
                  <a:off x="5725080" y="2436120"/>
                  <a:ext cx="1008360" cy="45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ik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
                <p:cNvSpPr/>
                <p:nvPr/>
              </p:nvSpPr>
              <p:spPr>
                <a:xfrm>
                  <a:off x="5629680" y="2436120"/>
                  <a:ext cx="1199160" cy="45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6829560" y="2436120"/>
                <a:ext cx="1926000" cy="454320"/>
                <a:chOff x="6829560" y="2436120"/>
                <a:chExt cx="1926000" cy="454320"/>
              </a:xfrm>
            </p:grpSpPr>
            <p:sp>
              <p:nvSpPr>
                <p:cNvPr id="104" name=""/>
                <p:cNvSpPr/>
                <p:nvPr/>
              </p:nvSpPr>
              <p:spPr>
                <a:xfrm>
                  <a:off x="6924240" y="2436120"/>
                  <a:ext cx="1735560" cy="45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Mar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6829560" y="2436120"/>
                  <a:ext cx="1926000" cy="45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311400" y="2890800"/>
                <a:ext cx="5317920" cy="584280"/>
                <a:chOff x="311400" y="2890800"/>
                <a:chExt cx="5317920" cy="584280"/>
              </a:xfrm>
            </p:grpSpPr>
            <p:sp>
              <p:nvSpPr>
                <p:cNvPr id="107" name=""/>
                <p:cNvSpPr/>
                <p:nvPr/>
              </p:nvSpPr>
              <p:spPr>
                <a:xfrm>
                  <a:off x="406800" y="2890800"/>
                  <a:ext cx="5126760" cy="58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p HCI primitives to IEEE request/response/indicate/confirm form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 name=""/>
                <p:cNvSpPr/>
                <p:nvPr/>
              </p:nvSpPr>
              <p:spPr>
                <a:xfrm>
                  <a:off x="311400" y="2890800"/>
                  <a:ext cx="531792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5629680" y="2890800"/>
                <a:ext cx="1199160" cy="584280"/>
                <a:chOff x="5629680" y="2890800"/>
                <a:chExt cx="1199160" cy="584280"/>
              </a:xfrm>
            </p:grpSpPr>
            <p:sp>
              <p:nvSpPr>
                <p:cNvPr id="110" name=""/>
                <p:cNvSpPr/>
                <p:nvPr/>
              </p:nvSpPr>
              <p:spPr>
                <a:xfrm>
                  <a:off x="5725080" y="2890800"/>
                  <a:ext cx="1008360" cy="58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ll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 name=""/>
                <p:cNvSpPr/>
                <p:nvPr/>
              </p:nvSpPr>
              <p:spPr>
                <a:xfrm>
                  <a:off x="5629680" y="2890800"/>
                  <a:ext cx="11991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6829560" y="2890800"/>
                <a:ext cx="1926000" cy="584280"/>
                <a:chOff x="6829560" y="2890800"/>
                <a:chExt cx="1926000" cy="584280"/>
              </a:xfrm>
            </p:grpSpPr>
            <p:sp>
              <p:nvSpPr>
                <p:cNvPr id="113" name=""/>
                <p:cNvSpPr/>
                <p:nvPr/>
              </p:nvSpPr>
              <p:spPr>
                <a:xfrm>
                  <a:off x="6924240" y="2890800"/>
                  <a:ext cx="1735560" cy="58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Mar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 name=""/>
                <p:cNvSpPr/>
                <p:nvPr/>
              </p:nvSpPr>
              <p:spPr>
                <a:xfrm>
                  <a:off x="6829560" y="2890800"/>
                  <a:ext cx="192600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311400" y="3475440"/>
                <a:ext cx="5317920" cy="454320"/>
                <a:chOff x="311400" y="3475440"/>
                <a:chExt cx="5317920" cy="454320"/>
              </a:xfrm>
            </p:grpSpPr>
            <p:sp>
              <p:nvSpPr>
                <p:cNvPr id="116" name=""/>
                <p:cNvSpPr/>
                <p:nvPr/>
              </p:nvSpPr>
              <p:spPr>
                <a:xfrm>
                  <a:off x="406800" y="3475440"/>
                  <a:ext cx="5126760" cy="45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termine if ASN.1 from </a:t>
                  </a:r>
                  <a:r>
                    <a:rPr b="0" lang="en-US" sz="1400" spc="-1" strike="noStrike">
                      <a:solidFill>
                        <a:srgbClr val="000000"/>
                      </a:solidFill>
                      <a:latin typeface="Arial"/>
                      <a:ea typeface="Arial"/>
                    </a:rPr>
                    <a:t>Bluetooth</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is feasible to directly import into TeleLogic too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
                <p:cNvSpPr/>
                <p:nvPr/>
              </p:nvSpPr>
              <p:spPr>
                <a:xfrm>
                  <a:off x="311400" y="3475440"/>
                  <a:ext cx="5317920" cy="45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5629680" y="3475440"/>
                <a:ext cx="1199160" cy="454320"/>
                <a:chOff x="5629680" y="3475440"/>
                <a:chExt cx="1199160" cy="454320"/>
              </a:xfrm>
            </p:grpSpPr>
            <p:sp>
              <p:nvSpPr>
                <p:cNvPr id="119" name=""/>
                <p:cNvSpPr/>
                <p:nvPr/>
              </p:nvSpPr>
              <p:spPr>
                <a:xfrm>
                  <a:off x="5725080" y="3475440"/>
                  <a:ext cx="1008360" cy="45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ll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 name=""/>
                <p:cNvSpPr/>
                <p:nvPr/>
              </p:nvSpPr>
              <p:spPr>
                <a:xfrm>
                  <a:off x="5629680" y="3475440"/>
                  <a:ext cx="1199160" cy="45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6829560" y="3475440"/>
                <a:ext cx="1926000" cy="454320"/>
                <a:chOff x="6829560" y="3475440"/>
                <a:chExt cx="1926000" cy="454320"/>
              </a:xfrm>
            </p:grpSpPr>
            <p:sp>
              <p:nvSpPr>
                <p:cNvPr id="122" name=""/>
                <p:cNvSpPr/>
                <p:nvPr/>
              </p:nvSpPr>
              <p:spPr>
                <a:xfrm>
                  <a:off x="6924240" y="3475440"/>
                  <a:ext cx="1735560" cy="45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Mar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3" name=""/>
                <p:cNvSpPr/>
                <p:nvPr/>
              </p:nvSpPr>
              <p:spPr>
                <a:xfrm>
                  <a:off x="6829560" y="3475440"/>
                  <a:ext cx="1926000" cy="45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311400" y="3929760"/>
                <a:ext cx="5317920" cy="454320"/>
                <a:chOff x="311400" y="3929760"/>
                <a:chExt cx="5317920" cy="454320"/>
              </a:xfrm>
            </p:grpSpPr>
            <p:sp>
              <p:nvSpPr>
                <p:cNvPr id="125" name=""/>
                <p:cNvSpPr/>
                <p:nvPr/>
              </p:nvSpPr>
              <p:spPr>
                <a:xfrm>
                  <a:off x="406800" y="3929760"/>
                  <a:ext cx="5126760" cy="45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N.1 source for L2CA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6" name=""/>
                <p:cNvSpPr/>
                <p:nvPr/>
              </p:nvSpPr>
              <p:spPr>
                <a:xfrm>
                  <a:off x="311400" y="3929760"/>
                  <a:ext cx="5317920" cy="45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629680" y="3929760"/>
                <a:ext cx="1199160" cy="454320"/>
                <a:chOff x="5629680" y="3929760"/>
                <a:chExt cx="1199160" cy="454320"/>
              </a:xfrm>
            </p:grpSpPr>
            <p:sp>
              <p:nvSpPr>
                <p:cNvPr id="128" name=""/>
                <p:cNvSpPr/>
                <p:nvPr/>
              </p:nvSpPr>
              <p:spPr>
                <a:xfrm>
                  <a:off x="5725080" y="3929760"/>
                  <a:ext cx="1008360" cy="45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årt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 name=""/>
                <p:cNvSpPr/>
                <p:nvPr/>
              </p:nvSpPr>
              <p:spPr>
                <a:xfrm>
                  <a:off x="5629680" y="3929760"/>
                  <a:ext cx="1199160" cy="45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6829560" y="3929760"/>
                <a:ext cx="1926000" cy="454320"/>
                <a:chOff x="6829560" y="3929760"/>
                <a:chExt cx="1926000" cy="454320"/>
              </a:xfrm>
            </p:grpSpPr>
            <p:sp>
              <p:nvSpPr>
                <p:cNvPr id="131" name=""/>
                <p:cNvSpPr/>
                <p:nvPr/>
              </p:nvSpPr>
              <p:spPr>
                <a:xfrm>
                  <a:off x="6924240" y="3929760"/>
                  <a:ext cx="1735560" cy="45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Mar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2" name=""/>
                <p:cNvSpPr/>
                <p:nvPr/>
              </p:nvSpPr>
              <p:spPr>
                <a:xfrm>
                  <a:off x="6829560" y="3929760"/>
                  <a:ext cx="1926000" cy="45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311400" y="4384440"/>
                <a:ext cx="5317920" cy="454320"/>
                <a:chOff x="311400" y="4384440"/>
                <a:chExt cx="5317920" cy="454320"/>
              </a:xfrm>
            </p:grpSpPr>
            <p:sp>
              <p:nvSpPr>
                <p:cNvPr id="134" name=""/>
                <p:cNvSpPr/>
                <p:nvPr/>
              </p:nvSpPr>
              <p:spPr>
                <a:xfrm>
                  <a:off x="406800" y="4384440"/>
                  <a:ext cx="5126760" cy="45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lan for creation of IEEE Draft, based on version 1.1 of </a:t>
                  </a:r>
                  <a:r>
                    <a:rPr b="0" lang="en-US" sz="1400" spc="-1" strike="noStrike">
                      <a:solidFill>
                        <a:srgbClr val="000000"/>
                      </a:solidFill>
                      <a:latin typeface="Arial"/>
                      <a:ea typeface="Arial"/>
                    </a:rPr>
                    <a:t>Bluetooth</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Specifi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5" name=""/>
                <p:cNvSpPr/>
                <p:nvPr/>
              </p:nvSpPr>
              <p:spPr>
                <a:xfrm>
                  <a:off x="311400" y="4384440"/>
                  <a:ext cx="5317920" cy="45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629680" y="4384440"/>
                <a:ext cx="1199160" cy="454320"/>
                <a:chOff x="5629680" y="4384440"/>
                <a:chExt cx="1199160" cy="454320"/>
              </a:xfrm>
            </p:grpSpPr>
            <p:sp>
              <p:nvSpPr>
                <p:cNvPr id="137" name=""/>
                <p:cNvSpPr/>
                <p:nvPr/>
              </p:nvSpPr>
              <p:spPr>
                <a:xfrm>
                  <a:off x="5725080" y="4384440"/>
                  <a:ext cx="1008360" cy="45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5629680" y="4384440"/>
                  <a:ext cx="1199160" cy="45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6829560" y="4384440"/>
                <a:ext cx="1926000" cy="454320"/>
                <a:chOff x="6829560" y="4384440"/>
                <a:chExt cx="1926000" cy="454320"/>
              </a:xfrm>
            </p:grpSpPr>
            <p:sp>
              <p:nvSpPr>
                <p:cNvPr id="140" name=""/>
                <p:cNvSpPr/>
                <p:nvPr/>
              </p:nvSpPr>
              <p:spPr>
                <a:xfrm>
                  <a:off x="6924240" y="4384440"/>
                  <a:ext cx="1735560" cy="45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Mar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
                <p:cNvSpPr/>
                <p:nvPr/>
              </p:nvSpPr>
              <p:spPr>
                <a:xfrm>
                  <a:off x="6829560" y="4384440"/>
                  <a:ext cx="1926000" cy="45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311400" y="4839120"/>
                <a:ext cx="5317920" cy="584280"/>
                <a:chOff x="311400" y="4839120"/>
                <a:chExt cx="5317920" cy="584280"/>
              </a:xfrm>
            </p:grpSpPr>
            <p:sp>
              <p:nvSpPr>
                <p:cNvPr id="143" name=""/>
                <p:cNvSpPr/>
                <p:nvPr/>
              </p:nvSpPr>
              <p:spPr>
                <a:xfrm>
                  <a:off x="406800" y="4839120"/>
                  <a:ext cx="5126760" cy="58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lan for PICS verification.  Formulate proposition; initiate conversation between Ian and JimK; revise pla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 name=""/>
                <p:cNvSpPr/>
                <p:nvPr/>
              </p:nvSpPr>
              <p:spPr>
                <a:xfrm>
                  <a:off x="311400" y="4839120"/>
                  <a:ext cx="531792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5629680" y="4839120"/>
                <a:ext cx="1199160" cy="584280"/>
                <a:chOff x="5629680" y="4839120"/>
                <a:chExt cx="1199160" cy="584280"/>
              </a:xfrm>
            </p:grpSpPr>
            <p:sp>
              <p:nvSpPr>
                <p:cNvPr id="146" name=""/>
                <p:cNvSpPr/>
                <p:nvPr/>
              </p:nvSpPr>
              <p:spPr>
                <a:xfrm>
                  <a:off x="5725080" y="4839120"/>
                  <a:ext cx="100836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7" name=""/>
                <p:cNvSpPr/>
                <p:nvPr/>
              </p:nvSpPr>
              <p:spPr>
                <a:xfrm>
                  <a:off x="5629680" y="4839120"/>
                  <a:ext cx="11991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6829560" y="4839120"/>
                <a:ext cx="1926000" cy="584280"/>
                <a:chOff x="6829560" y="4839120"/>
                <a:chExt cx="1926000" cy="584280"/>
              </a:xfrm>
            </p:grpSpPr>
            <p:sp>
              <p:nvSpPr>
                <p:cNvPr id="149" name=""/>
                <p:cNvSpPr/>
                <p:nvPr/>
              </p:nvSpPr>
              <p:spPr>
                <a:xfrm>
                  <a:off x="6924240" y="4839120"/>
                  <a:ext cx="1735560" cy="58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Mar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0" name=""/>
                <p:cNvSpPr/>
                <p:nvPr/>
              </p:nvSpPr>
              <p:spPr>
                <a:xfrm>
                  <a:off x="6829560" y="4839120"/>
                  <a:ext cx="192600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311400" y="5423400"/>
                <a:ext cx="5317920" cy="973440"/>
                <a:chOff x="311400" y="5423400"/>
                <a:chExt cx="5317920" cy="973440"/>
              </a:xfrm>
            </p:grpSpPr>
            <p:sp>
              <p:nvSpPr>
                <p:cNvPr id="152" name=""/>
                <p:cNvSpPr/>
                <p:nvPr/>
              </p:nvSpPr>
              <p:spPr>
                <a:xfrm>
                  <a:off x="406800" y="5423400"/>
                  <a:ext cx="5126760" cy="97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simulation thoughts and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3" name=""/>
                <p:cNvSpPr/>
                <p:nvPr/>
              </p:nvSpPr>
              <p:spPr>
                <a:xfrm>
                  <a:off x="311400" y="5423400"/>
                  <a:ext cx="5317920" cy="97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5629680" y="5423400"/>
                <a:ext cx="1199160" cy="973440"/>
                <a:chOff x="5629680" y="5423400"/>
                <a:chExt cx="1199160" cy="973440"/>
              </a:xfrm>
            </p:grpSpPr>
            <p:sp>
              <p:nvSpPr>
                <p:cNvPr id="155" name=""/>
                <p:cNvSpPr/>
                <p:nvPr/>
              </p:nvSpPr>
              <p:spPr>
                <a:xfrm>
                  <a:off x="5725080" y="5423400"/>
                  <a:ext cx="1008360" cy="97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 both IEEE and SI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 name=""/>
                <p:cNvSpPr/>
                <p:nvPr/>
              </p:nvSpPr>
              <p:spPr>
                <a:xfrm>
                  <a:off x="5629680" y="5423400"/>
                  <a:ext cx="1199160" cy="97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6829560" y="5423400"/>
                <a:ext cx="1926000" cy="973440"/>
                <a:chOff x="6829560" y="5423400"/>
                <a:chExt cx="1926000" cy="973440"/>
              </a:xfrm>
            </p:grpSpPr>
            <p:sp>
              <p:nvSpPr>
                <p:cNvPr id="158" name=""/>
                <p:cNvSpPr/>
                <p:nvPr/>
              </p:nvSpPr>
              <p:spPr>
                <a:xfrm>
                  <a:off x="6924240" y="5423400"/>
                  <a:ext cx="1735560" cy="97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Mar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 name=""/>
                <p:cNvSpPr/>
                <p:nvPr/>
              </p:nvSpPr>
              <p:spPr>
                <a:xfrm>
                  <a:off x="6829560" y="5423400"/>
                  <a:ext cx="1926000" cy="97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0" name=""/>
            <p:cNvSpPr/>
            <p:nvPr/>
          </p:nvSpPr>
          <p:spPr>
            <a:xfrm>
              <a:off x="304920" y="1523880"/>
              <a:ext cx="8457840" cy="48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2DEDC96-57E9-4C88-998C-5082389199A7}" type="slidenum">
              <a:t>10</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 of Copenhagen Meeting</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br>
              <a:rPr sz="3200"/>
            </a:br>
            <a:r>
              <a:rPr b="0" lang="en-US" sz="3200" spc="-1" strike="noStrike">
                <a:solidFill>
                  <a:srgbClr val="000000"/>
                </a:solidFill>
                <a:latin typeface="Arial"/>
              </a:rPr>
              <a:t>Texas Instruments</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iep@ti.co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BE087A8-CCA2-41A6-9775-98BB8457E9F2}" type="slidenum">
              <a:t>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pose of Meeting</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2133720"/>
            <a:ext cx="7772400" cy="3200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stablish a working relationship between the SIG and IEEE on the SAPs, SDL and PICS work that would not consume SIG resources but maintain open means of communications as needed.</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5CB083A-6148-46C2-AA9D-BBAAE4FEFA6B}" type="slidenum">
              <a:t>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 – presentation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600200"/>
            <a:ext cx="7772400" cy="46483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ructure of the IEEE802.15 draft standard and where the SDL and PICs proforma fit within this structure (Tom)  00065r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igh level components of his SDL model (All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ottom-up approach to the SDL modeling (Davi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IG testing process and how SAPs relate to this process (Marte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C116E66-1A01-4295-B03A-F6CA04B801D2}" type="slidenum">
              <a:t>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 – discussion points</a:t>
            </a:r>
            <a:endParaRPr b="0" lang="en-US" sz="3600" spc="-1" strike="noStrike">
              <a:solidFill>
                <a:srgbClr val="000000"/>
              </a:solidFill>
              <a:latin typeface="Times New Roman"/>
            </a:endParaRPr>
          </a:p>
        </p:txBody>
      </p:sp>
      <p:sp>
        <p:nvSpPr>
          <p:cNvPr id="56" name="PlaceHolder 2"/>
          <p:cNvSpPr>
            <a:spLocks noGrp="1"/>
          </p:cNvSpPr>
          <p:nvPr>
            <p:ph/>
          </p:nvPr>
        </p:nvSpPr>
        <p:spPr>
          <a:xfrm>
            <a:off x="685440" y="1599840"/>
            <a:ext cx="807732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ow SAPs impact the tests and how can they be aligned with the ones needed for the SD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ow to best treat the HCI as the basis for a complementary set of MAC SAPs to the L2CA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spec provides no clue on any PHY to MAC SAPs. What can those b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ICS: How do the IEEE 802.15 PICs performa compare with the one's the SIG is working 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EGAL ASPECTS Users of the 802.15 standard must sign the Bluetooth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3F75C89-D230-46E1-BB1C-23E341AF9D7F}" type="slidenum">
              <a:t>5</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 Flow</a:t>
            </a:r>
            <a:endParaRPr b="0" lang="en-US" sz="3600" spc="-1" strike="noStrike">
              <a:solidFill>
                <a:srgbClr val="000000"/>
              </a:solidFill>
              <a:latin typeface="Times New Roman"/>
            </a:endParaRPr>
          </a:p>
        </p:txBody>
      </p:sp>
      <p:sp>
        <p:nvSpPr>
          <p:cNvPr id="58" name=""/>
          <p:cNvSpPr/>
          <p:nvPr/>
        </p:nvSpPr>
        <p:spPr>
          <a:xfrm>
            <a:off x="2924280" y="160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9" name=""/>
          <p:cNvGraphicFramePr/>
          <p:nvPr/>
        </p:nvGraphicFramePr>
        <p:xfrm>
          <a:off x="1600200" y="1604880"/>
          <a:ext cx="6172200" cy="4795920"/>
        </p:xfrm>
        <a:graphic>
          <a:graphicData uri="http://schemas.openxmlformats.org/presentationml/2006/ole">
            <p:oleObj r:id="rId1" spid="">
              <p:embed/>
              <p:pic>
                <p:nvPicPr>
                  <p:cNvPr id="60" name="" descr=""/>
                  <p:cNvPicPr/>
                  <p:nvPr/>
                </p:nvPicPr>
                <p:blipFill>
                  <a:blip r:embed="rId2"/>
                  <a:stretch/>
                </p:blipFill>
                <p:spPr>
                  <a:xfrm>
                    <a:off x="1600200" y="1604880"/>
                    <a:ext cx="6172200" cy="479592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CE875307-710D-4238-A3A8-F705E518B103}" type="slidenum">
              <a:t>6</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Ps as Presented in Copenhagen</a:t>
            </a:r>
            <a:endParaRPr b="0" lang="en-US" sz="3600" spc="-1" strike="noStrike">
              <a:solidFill>
                <a:srgbClr val="000000"/>
              </a:solidFill>
              <a:latin typeface="Times New Roman"/>
            </a:endParaRPr>
          </a:p>
        </p:txBody>
      </p:sp>
      <p:sp>
        <p:nvSpPr>
          <p:cNvPr id="62" name=""/>
          <p:cNvSpPr/>
          <p:nvPr/>
        </p:nvSpPr>
        <p:spPr>
          <a:xfrm>
            <a:off x="268128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3" name=""/>
          <p:cNvGraphicFramePr/>
          <p:nvPr/>
        </p:nvGraphicFramePr>
        <p:xfrm>
          <a:off x="1447920" y="1774800"/>
          <a:ext cx="6933960" cy="4692600"/>
        </p:xfrm>
        <a:graphic>
          <a:graphicData uri="http://schemas.openxmlformats.org/presentationml/2006/ole">
            <p:oleObj r:id="rId1" spid="">
              <p:embed/>
              <p:pic>
                <p:nvPicPr>
                  <p:cNvPr id="64" name="" descr=""/>
                  <p:cNvPicPr/>
                  <p:nvPr/>
                </p:nvPicPr>
                <p:blipFill>
                  <a:blip r:embed="rId2"/>
                  <a:stretch/>
                </p:blipFill>
                <p:spPr>
                  <a:xfrm>
                    <a:off x="1447920" y="1774800"/>
                    <a:ext cx="6933960" cy="46926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BCBAF859-F172-4A8A-A9ED-96DBADD7C839}" type="slidenum">
              <a:t>7</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Ps as Updated</a:t>
            </a:r>
            <a:endParaRPr b="0" lang="en-US" sz="3600" spc="-1" strike="noStrike">
              <a:solidFill>
                <a:srgbClr val="000000"/>
              </a:solidFill>
              <a:latin typeface="Times New Roman"/>
            </a:endParaRPr>
          </a:p>
        </p:txBody>
      </p:sp>
      <p:graphicFrame>
        <p:nvGraphicFramePr>
          <p:cNvPr id="66" name=""/>
          <p:cNvGraphicFramePr/>
          <p:nvPr/>
        </p:nvGraphicFramePr>
        <p:xfrm>
          <a:off x="1600200" y="1523880"/>
          <a:ext cx="6095880" cy="5059440"/>
        </p:xfrm>
        <a:graphic>
          <a:graphicData uri="http://schemas.openxmlformats.org/presentationml/2006/ole">
            <p:oleObj r:id="rId1" spid="">
              <p:embed/>
              <p:pic>
                <p:nvPicPr>
                  <p:cNvPr id="67" name="" descr=""/>
                  <p:cNvPicPr/>
                  <p:nvPr/>
                </p:nvPicPr>
                <p:blipFill>
                  <a:blip r:embed="rId2"/>
                  <a:stretch/>
                </p:blipFill>
                <p:spPr>
                  <a:xfrm>
                    <a:off x="1600200" y="1523880"/>
                    <a:ext cx="6095880" cy="505944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059CA4D2-4F8B-433E-B97A-D789F4834A22}" type="slidenum">
              <a:t>8</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4092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 effect, our two groups have validated each other's work to date.  We started with the same document(s) and independently noted the same architectural anomalies and identified the same external interface classes.  </a:t>
            </a:r>
            <a:endParaRPr b="0" lang="en-US" sz="2800" spc="-1" strike="noStrike">
              <a:solidFill>
                <a:srgbClr val="000000"/>
              </a:solidFill>
              <a:latin typeface="Arial"/>
            </a:endParaRPr>
          </a:p>
          <a:p>
            <a:pPr marL="34092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liminary comparisons indicate that we have either the same or very similar specific definitions in those interface classes.</a:t>
            </a:r>
            <a:endParaRPr b="0" lang="en-US" sz="2800" spc="-1" strike="noStrike">
              <a:solidFill>
                <a:srgbClr val="000000"/>
              </a:solidFill>
              <a:latin typeface="Arial"/>
            </a:endParaRPr>
          </a:p>
          <a:p>
            <a:pPr marL="34092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e have decided to work together in order to leverage each other’s work.</a:t>
            </a:r>
            <a:endParaRPr b="0" lang="en-US" sz="2800" spc="-1" strike="noStrike">
              <a:solidFill>
                <a:srgbClr val="000000"/>
              </a:solidFill>
              <a:latin typeface="Arial"/>
            </a:endParaRPr>
          </a:p>
          <a:p>
            <a:pPr marL="340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DC39D90-6564-4BB6-9B1A-83D06BAED15E}" type="slidenum">
              <a:t>9</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9:53:38Z</dcterms:created>
  <dc:creator>Tom Siep</dc:creator>
  <dc:description>00/074r1</dc:description>
  <dc:language>en-US</dc:language>
  <cp:lastModifiedBy>Tom Siep</cp:lastModifiedBy>
  <cp:lastPrinted>1998-02-10T13:28:06Z</cp:lastPrinted>
  <dcterms:modified xsi:type="dcterms:W3CDTF">2000-03-08T17:37:41Z</dcterms:modified>
  <cp:revision>29</cp:revision>
  <dc:subject>IEEE 802.15.1</dc:subject>
  <dc:title>Recirculation-vs-Reconsideration</dc:title>
</cp:coreProperties>
</file>