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A5C-F3FF-4DA1-9F5D-222CC28B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5ED-0C8E-4AF0-881B-8CF27A5F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55D-4E53-4103-A290-58373960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371-E157-479C-9DF6-1C248D0B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827-77F0-47B0-9179-BF29422E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2FD-5E51-448C-8972-DF3D26F2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049-D8D6-4F09-9E85-9640C6A4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D1E6-8C08-4220-9D5B-D268818B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BF58-BD31-480D-B04A-6F517605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668-3816-45D7-9375-C82804B6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114-08BB-4956-83DA-6A1426EF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1BF-FC39-46E7-BB9E-7886A77F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947BB91-9221-43BA-8F26-7C0188093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0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85800"/>
            <a:ext cx="5645160" cy="1711440"/>
            <a:chOff x="1752480" y="685800"/>
            <a:chExt cx="5645160" cy="1711440"/>
          </a:xfrm>
        </p:grpSpPr>
        <p:pic>
          <p:nvPicPr>
            <p:cNvPr id="46" name="802" descr=""/>
            <p:cNvPicPr/>
            <p:nvPr/>
          </p:nvPicPr>
          <p:blipFill>
            <a:blip r:embed="rId1"/>
            <a:stretch/>
          </p:blipFill>
          <p:spPr>
            <a:xfrm>
              <a:off x="5737320" y="685800"/>
              <a:ext cx="1660320" cy="17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1752480" y="933480"/>
              <a:ext cx="5477040" cy="1114560"/>
              <a:chOff x="1752480" y="933480"/>
              <a:chExt cx="5477040" cy="1114560"/>
            </a:xfrm>
          </p:grpSpPr>
          <p:sp>
            <p:nvSpPr>
              <p:cNvPr id="48" name=""/>
              <p:cNvSpPr/>
              <p:nvPr/>
            </p:nvSpPr>
            <p:spPr>
              <a:xfrm>
                <a:off x="1752480" y="933480"/>
                <a:ext cx="4181760" cy="111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0240" y="1028880"/>
                <a:ext cx="2067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ff"/>
                    </a:solidFill>
                    <a:latin typeface="Times New Roman"/>
                  </a:rPr>
                  <a:t>802.1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895400" y="976320"/>
                <a:ext cx="1595520" cy="1045800"/>
                <a:chOff x="1895400" y="976320"/>
                <a:chExt cx="1595520" cy="104580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2165400" y="985680"/>
                  <a:ext cx="1325520" cy="1036440"/>
                  <a:chOff x="2165400" y="985680"/>
                  <a:chExt cx="1325520" cy="1036440"/>
                </a:xfrm>
              </p:grpSpPr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245960"/>
                    <a:ext cx="10382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544840" y="985680"/>
                    <a:ext cx="946080" cy="944640"/>
                    <a:chOff x="2544840" y="985680"/>
                    <a:chExt cx="946080" cy="9446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2544840" y="98568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616120" y="1056960"/>
                      <a:ext cx="804960" cy="80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690640" y="1133280"/>
                      <a:ext cx="654120" cy="65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776320" y="1211040"/>
                      <a:ext cx="482760" cy="4968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2865240" y="1306440"/>
                      <a:ext cx="30492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2935080" y="1376280"/>
                      <a:ext cx="16524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2979720" y="1420560"/>
                      <a:ext cx="7632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212920" y="1041120"/>
                    <a:ext cx="946080" cy="944640"/>
                    <a:chOff x="2212920" y="1041120"/>
                    <a:chExt cx="946080" cy="944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212920" y="104112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2286000" y="1110960"/>
                      <a:ext cx="801720" cy="801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360520" y="1185480"/>
                      <a:ext cx="652320" cy="65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444760" y="1265040"/>
                      <a:ext cx="484200" cy="495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33680" y="1360440"/>
                      <a:ext cx="30636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603520" y="1430280"/>
                      <a:ext cx="16668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647800" y="1473120"/>
                      <a:ext cx="7776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895400" y="976320"/>
                  <a:ext cx="946080" cy="942840"/>
                  <a:chOff x="1895400" y="976320"/>
                  <a:chExt cx="946080" cy="9428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895400" y="976320"/>
                    <a:ext cx="946080" cy="942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65240" y="1045800"/>
                    <a:ext cx="804960" cy="8031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41560" y="1122120"/>
                    <a:ext cx="654120" cy="6505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127240" y="1201680"/>
                    <a:ext cx="482400" cy="494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216160" y="1296720"/>
                    <a:ext cx="304560" cy="302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86000" y="1366560"/>
                    <a:ext cx="16488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330280" y="1409400"/>
                    <a:ext cx="76320" cy="7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5924520" y="933480"/>
                <a:ext cx="1305000" cy="11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th Session of meetings of the 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6-10,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att Regency Albuquer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30 Tijeras N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buquerque, NM. 871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83A-4ABC-4046-AAFF-DF74DB3D4E0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of the Albuquerque Meeting March 5-10,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1:  continue driving TG1 objectives and letter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B2 Reply Comment Resolution Being Applied to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ed Work on SD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B(3) tentatively scheduled 19May00 22Jun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2:  hearing submissions on Coexisten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gan Hearing Submissions of the Coexistenc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:  Organization, action plan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d Conference/Public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gan Building outline with 802.11 and 802.16 on Joint Market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G:  Re-election of offic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-elected Bob Heile as Chair and Ian Gifford as Vice Chai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:  PAR approval, review of CFP/CFA,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lved PAR Comments and Secured SEC Approval to Forward to Nes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AD0-F620-4237-A24C-0BA3ECD932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e Suggestions for High Rate</a:t>
            </a:r>
            <a:br>
              <a:rPr sz="36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nks for all the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Br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 (Home Operation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t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Canal - (Better than a blue too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edia 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Teeth (32 teeth = 32 Mbp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Gun (“I have a need for Speed”-movie quo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9EA-A664-4A6A-A58E-385478AF595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3520" y="1295280"/>
          <a:ext cx="7543800" cy="133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754380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914400" y="2590920"/>
          <a:ext cx="11125080" cy="3017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590920"/>
                    <a:ext cx="11125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063800" y="5791320"/>
            <a:ext cx="69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Hotel Reservation Deadline: Friday, March 23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329-D8AE-4EF6-9CDF-C89820293DE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grouper.ieee.org/groups/802/15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11480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486400"/>
            <a:ext cx="76201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ike McInni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.d.mcinnis@boeing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41F-380C-4629-925A-D40EAC23904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880" y="1905120"/>
            <a:ext cx="9132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So Long and Thanks for all the Fish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itchhikers Guide to the Galax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52E-F131-40EA-9072-14280169950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ronym's &amp; Gloss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(Institute of Electrical and Electronics Engineers, In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(Medium Access Control)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(Physical)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 (Task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 (Study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(Marketing Committ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G (Working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AN (Wireless Personal Area Network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(Bluetooth Special Interest Group is the codename for a technology specification for small form factor, low-cost, short range radio links between mobile PCs, mobile phones and other portable device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RF (The HRFWG plans to publish the SWAP specification by fall of 1998 and companies may begin product development shortly thereafter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1DE-C0C2-4957-B162-10E3D090354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Robert F. Heile</dc:creator>
  <dc:description>00/101r0</dc:description>
  <dc:language>en-US</dc:language>
  <cp:lastModifiedBy>Robert F.  Heile</cp:lastModifiedBy>
  <cp:lastPrinted>2000-03-05T01:29:49Z</cp:lastPrinted>
  <dcterms:modified xsi:type="dcterms:W3CDTF">2000-03-10T13:07:56Z</dcterms:modified>
  <cp:revision>67</cp:revision>
  <dc:subject>IEEE 802.15 &lt;subject&gt;</dc:subject>
  <dc:title>Report to March Closing Plenary</dc:title>
</cp:coreProperties>
</file>