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63A9-09D5-4410-B6D7-176679E5E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E005-14F6-45F0-A068-CAA9BC3D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A499-84FD-48A3-9483-D51B9037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E5E9-731A-4836-AA29-6CCF60FA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C9B9-3EE5-45BF-8095-E0184C62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D3AB-AD8D-441F-8A0E-57F740E4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9082-D3BF-4E43-ADA7-2230A626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69C8-948E-43A3-95A7-AF786935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B60F-8D58-41D7-8D15-CA862CB8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43D0-3D85-4B22-9668-D582B30D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266B-146C-4D78-A9C8-81572B6F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1836-8209-4606-8F3E-3760EC66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78B1ED3-BBFD-42D2-A29C-B1B2DBBB3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098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5 Thursday Report to the SE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Heile, Chair, 802.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9,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AF81-F17E-4D70-9E70-F85E5942BB1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me Suggestions for High Rate</a:t>
            </a:r>
            <a:br>
              <a:rPr sz="36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nks for all the respo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wBre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N (Home Operations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tTo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sh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Canal - (Better than a blue too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media 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 Teeth (32 teeth = 32 Mbps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Gun (“I have a need for Speed”-movie quo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To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F443-BF26-4E9C-83BB-5558CC8F7007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Cleaned%20Kodak%20PictureMaker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2460600" cy="4800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H="1" flipV="1" rot="1405200">
            <a:off x="1891080" y="2702880"/>
            <a:ext cx="3376800" cy="804600"/>
          </a:xfrm>
          <a:prstGeom prst="lightningBol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dc290" descr=""/>
          <p:cNvPicPr/>
          <p:nvPr/>
        </p:nvPicPr>
        <p:blipFill>
          <a:blip r:embed="rId3"/>
          <a:stretch/>
        </p:blipFill>
        <p:spPr>
          <a:xfrm>
            <a:off x="7315200" y="3124080"/>
            <a:ext cx="552600" cy="524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rot="18129000">
            <a:off x="1500120" y="-205200"/>
            <a:ext cx="3552840" cy="6553080"/>
          </a:xfrm>
          <a:prstGeom prst="ellipse">
            <a:avLst/>
          </a:prstGeom>
          <a:noFill/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 rot="1405800">
            <a:off x="6857640" y="3428280"/>
            <a:ext cx="301680" cy="471600"/>
          </a:xfrm>
          <a:prstGeom prst="lightningBolt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900600">
            <a:off x="6324120" y="2285640"/>
            <a:ext cx="2133720" cy="2438280"/>
          </a:xfrm>
          <a:prstGeom prst="irregularSeal2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1160" y="3124080"/>
            <a:ext cx="393912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cc"/>
                </a:solidFill>
                <a:latin typeface="Stylus"/>
              </a:rPr>
              <a:t>W</a:t>
            </a:r>
            <a:r>
              <a:rPr b="1" lang="en-US" sz="12800" spc="-1" strike="noStrike">
                <a:solidFill>
                  <a:srgbClr val="cc0099"/>
                </a:solidFill>
                <a:latin typeface="Stylus"/>
              </a:rPr>
              <a:t>L</a:t>
            </a:r>
            <a:r>
              <a:rPr b="0" lang="en-US" sz="9600" spc="-1" strike="noStrike">
                <a:solidFill>
                  <a:srgbClr val="3333cc"/>
                </a:solidFill>
                <a:latin typeface="Stylus"/>
              </a:rPr>
              <a:t>A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58640" y="1828800"/>
            <a:ext cx="24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Stylus"/>
              </a:rPr>
              <a:t>W</a:t>
            </a:r>
            <a:r>
              <a:rPr b="1" lang="en-US" sz="7200" spc="-1" strike="noStrike">
                <a:solidFill>
                  <a:srgbClr val="ff0000"/>
                </a:solidFill>
                <a:latin typeface="Stylus"/>
              </a:rPr>
              <a:t>P</a:t>
            </a:r>
            <a:r>
              <a:rPr b="1" lang="en-US" sz="5400" spc="-1" strike="noStrike">
                <a:solidFill>
                  <a:srgbClr val="3333cc"/>
                </a:solidFill>
                <a:latin typeface="Stylus"/>
              </a:rPr>
              <a:t>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914400" y="1066680"/>
            <a:ext cx="1447920" cy="125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4788-4D7D-4C65-AD1F-7894060D672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ahoma"/>
              </a:rPr>
              <a:t>Consumer Applic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990720" y="2133720"/>
            <a:ext cx="7204320" cy="4125600"/>
            <a:chOff x="990720" y="2133720"/>
            <a:chExt cx="7204320" cy="4125600"/>
          </a:xfrm>
        </p:grpSpPr>
        <p:sp>
          <p:nvSpPr>
            <p:cNvPr id="76" name=""/>
            <p:cNvSpPr/>
            <p:nvPr/>
          </p:nvSpPr>
          <p:spPr>
            <a:xfrm>
              <a:off x="990720" y="2133720"/>
              <a:ext cx="3504960" cy="350496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luetooth</a:t>
              </a:r>
              <a:r>
                <a:rPr b="0" lang="en-US" sz="1400" spc="-1" strike="noStrike" baseline="50000">
                  <a:solidFill>
                    <a:srgbClr val="ffffff"/>
                  </a:solidFill>
                  <a:latin typeface="Times New Roman"/>
                </a:rPr>
                <a:t>T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EEE 802.15.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92440" y="3527280"/>
              <a:ext cx="2731680" cy="2732040"/>
            </a:xfrm>
            <a:prstGeom prst="ellipse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RS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EEE 802.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55320" y="2203560"/>
              <a:ext cx="3339720" cy="7520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buClr>
                  <a:srgbClr val="000000"/>
                </a:buClr>
                <a:buFont typeface="Wingdings 3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t addressed by IEEE 802.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Wingdings 3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EEE 802.15 Fami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4016160" y="2984400"/>
              <a:ext cx="831600" cy="1471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D42E-02AD-4B67-8A6A-02C252538FE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Bluetooth Letter of Intent</a:t>
            </a:r>
            <a:br>
              <a:rPr sz="3600"/>
            </a:b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(99032r0P802-15_Bluetooth-Letter-Of-Intent-Review.do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respect to any 802.15 extensions (beyond Bluetooth 1.0 specification), the Bluetooth SIG promoters are prepared to grant similar licens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LY 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extensions do not break interoperability with existing Bluetooth 1.0 certified radios </a:t>
            </a: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approved in writing by the Bluetooth SI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d: July 15,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Kard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tooth SIG Chai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9BBF-D427-430C-84CC-1FBF49C1310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gh Rate P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2362320"/>
          <a:ext cx="7620120" cy="157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62320"/>
                    <a:ext cx="7620120" cy="15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ABD6-BD0A-4E29-B60D-7EF2AB0A00F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s/News Rele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2 News Byte  00/093r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s Release on BT/802.15  00/094r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 Release on TG2 and High Rate 99/171r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 Reviewed and OK’ed by Vic Hayes, S. Kerry, and Al Petrick on behalf of 802.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49B2-06EF-4031-A8D2-D651BC0B25D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w Poll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liminate the Friday Plenary  25/0/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old the SEC on Friday Morning 31/0/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n offset to the IPF fees, contribute the $100 per meeting to initiate Program  23/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you consider soliciting your company to be an 802 sponsor for this program for about $10K per year     2/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E1C4-E7B6-444D-802C-7A0FF12225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ction of Officers-802.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posed Slate of Officers, March 6, 200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 Heile, G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ce Chai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an Gifford, M/A 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ar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 Kinney, Interm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Edito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 Siep, Texas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t Sec/Tech E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ke McInnis, Bo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on to the Working Group, Monday March 6,200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to accept the proposed slate as the Leadership of 802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d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n Ree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k Alfv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Passed 26/0/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382E-17DE-4F35-AA06-51655A6A16F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gh Rate P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d comments from 80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s addressed in 99/165r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ed PAR reviewed in Joint Session with 802.11 and approved by 802.11 (21/2/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5 moved to approve the revisions to the High  Rate PAR doc 99/165r5 and recommend submitting the revised PAR as doc 99/165r6 to the SEC for approval and forwarding to NESC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d by J Allen, seconded by B Kraeme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on carried 20/0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4DF1-7119-4163-8BA3-7B9B54EA32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tion to the SE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03480" y="2022480"/>
            <a:ext cx="755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that the SEC forward the 802.15 High Rate PAR, Document 99/165r6, to March Meeting of NesCom for approv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 He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 Ha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ain: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F247-156C-49CB-A156-1178099B688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gh Rate P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developed a good working relationship between TG1 and the SIG. Could be compromised by trying to treat this PAR as an enha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motivation to keep activities separate to keep it clean and keep both projects moving at best sp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promoted 802 as the best place to undertake these activities in a speedy fash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 not actively addressing the problem addressed by this P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A472-B097-4D64-8CCF-81603151EC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gh Rate P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Possibility of a New or Strongly Modified 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5.1 will not effectively support video or large file transfer fundamental to this P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 aggressive speed and cost goals requires being able to entertain new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 is looking at new architectures to achieve 10Mbits/s and is not even contemplating 20+Mbits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expecting to modify the MAC to reach 10Mbits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contemplating a multi-mode solution at 10Mbits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B0DB-A846-4872-ACA5-213B06D9DBC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E1A3-7F58-4A64-9458-AA68835E6137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9T19:12:52Z</dcterms:created>
  <dc:creator>Robert F.  Heile</dc:creator>
  <dc:description>&lt;doc#&gt;</dc:description>
  <dc:language>en-US</dc:language>
  <cp:lastModifiedBy>Robert F.  Heile</cp:lastModifiedBy>
  <cp:lastPrinted>1998-02-10T13:28:06Z</cp:lastPrinted>
  <dcterms:modified xsi:type="dcterms:W3CDTF">2000-03-10T02:07:22Z</dcterms:modified>
  <cp:revision>19</cp:revision>
  <dc:subject>IEEE 802.15 &lt;subject&gt;</dc:subject>
  <dc:title>No Slide Title</dc:title>
</cp:coreProperties>
</file>