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52D-7B8B-4712-8100-76827D25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909-662B-4AD0-80A2-2C066E68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0FD-79B8-45A6-9B2D-DEDFA079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3AC-D01B-48BA-BA93-0083CD32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4B7-C428-4B11-9920-C90FB5D0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53C-0F3E-418C-919B-D63D708A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68E-42B7-40D7-9CFD-01CE6733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081-CB54-492B-8E44-B2B7085D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5C4-13D4-47BE-A640-7047DBDA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28A-8FAD-4C5B-AAD3-10FE068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87A-B869-4C7B-8D5B-7E9BA5DD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53B-D50C-49C6-A403-DE4FAD5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7C760B-2A2D-41D3-B915-F85B8670C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Performance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C83-CA67-4E42-8979-1E15AC636D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to Measure Performance (B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81480"/>
            <a:ext cx="2819160" cy="8384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4343400"/>
            <a:ext cx="2819160" cy="83808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505320"/>
            <a:ext cx="2819160" cy="838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666880"/>
            <a:ext cx="2819160" cy="838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35053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81952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Performanc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828800"/>
            <a:ext cx="2819160" cy="8380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A6E-41B8-43EA-812A-D2AEF33A28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to Measure Performance (802.1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343400"/>
            <a:ext cx="2819160" cy="8380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505320"/>
            <a:ext cx="2819160" cy="83808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666880"/>
            <a:ext cx="2819160" cy="838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35053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81952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Performanc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028-7A96-4B83-B1E7-C14D67EB4E1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Error Rate at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(raw) bi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information data rate (bits/s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for packet transfer (ms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ed Data J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ndard deviation)/mean of time for packet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552-8B2B-4C3E-8D60-8D6711F645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22:38:07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3-09T22:13:45Z</dcterms:modified>
  <cp:revision>16</cp:revision>
  <dc:subject>IEEE 802.15 &lt;subject&gt;</dc:subject>
  <dc:title>No Slide Title</dc:title>
</cp:coreProperties>
</file>