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736F-0534-4A3C-9ED7-C2728E6C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375D5-932F-423A-B898-106DFDC6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03CB5-A50A-4BA6-9E72-DA607E648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5D529-F458-415C-BD6D-AB4344460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99F4-3BDE-4378-B6C8-1E43FA934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4D56-CCBB-4DDA-B1D7-B8FE0FD1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29BA7-8C8D-4EEC-BCA0-71C3D939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AE2B-0F53-4CDF-A8F8-9F229A223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C096-F804-4935-B76C-A491A69D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F33D-7968-4CF4-BA04-AC6EBD1C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877D-2248-4475-AECF-901E312D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0D58-C647-4907-904A-BED1D2397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362CC5-F29E-4A83-8F2C-9AF75F018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4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3EC73AA-EC15-4099-A864-F9409B44CC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17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4) to the current session (#5)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TG1 Roadmap</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0Mar00 Albuquerque, NM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LB2 Reply Comments &amp; Apply -99/173r5a to P802.15.1/D0.7 this becomes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0Mar00 Monterey, C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nPlugFest-2”</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2May00 Seattle, W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Letter Ballot of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6Jun00 Monte Carlo]</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00“</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4Jul00 LaJolla, CA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 Comment Resolution of P802.15.1/D0.8</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2Sep00 or 11-15Sep00 Phoenix, AZ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0Nov00 Tampa, FL USA</a:t>
            </a:r>
            <a:endParaRPr b="0" lang="en-US" sz="2000" spc="-1" strike="noStrike">
              <a:solidFill>
                <a:srgbClr val="000000"/>
              </a:solidFill>
              <a:latin typeface="Arial"/>
            </a:endParaRPr>
          </a:p>
          <a:p>
            <a:pPr lvl="1" marL="639000" indent="-245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958811-9980-44DC-AA22-7155B0261FAD}"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DE2C23-D55C-4C40-8739-20269204E40F}"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Albuquerq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Sched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DB64E12-3403-493B-832E-77DF4A089C1A}"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2 passed!  34/1/2; out of 43 voting members, there were 37 responses (22 required for a valid vote).  Detail: 4 yes with comment , 30 yes w/o comment, 1 no, and 2 abstai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yielded 20 Reply Comments to be resolved against –99/173r5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Reply Comment Resolution 6Mar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edits –99/173r5a, et. al. to Draf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3) 19May00 to 22Jun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 post Jul0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08865C-B35B-4519-98E0-2134B0869D5E}"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buquerque - Objectiv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ETTER BALLOT (2) RE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VIDE AN UPDATE ON TG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ANNING FOR DRAFT 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VIDE AN OVERVIEW OF THE IEEE RAC MANDATE ON EUI-64 vis a vis BLUETOOTH v1.0 B SPEC(S), IN SESSION (&amp; TUTO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CUSS PROS &amp; CONS OF FORMING A P802.15 WG STUDY GROUP FOR EUI-48 vs. EUI-6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OTION TO FORM A P802.15 WG STUDY GROUP FOR EUI-48 vs. EUI-6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F96856F-5E04-426D-90F6-037990A3F518}"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buquerque - Submissions</a:t>
            </a:r>
            <a:endParaRPr b="0" lang="en-US" sz="3600" spc="-1" strike="noStrike">
              <a:solidFill>
                <a:srgbClr val="000000"/>
              </a:solidFill>
              <a:latin typeface="Times New Roman"/>
            </a:endParaRPr>
          </a:p>
        </p:txBody>
      </p:sp>
      <p:graphicFrame>
        <p:nvGraphicFramePr>
          <p:cNvPr id="59" name=""/>
          <p:cNvGraphicFramePr/>
          <p:nvPr/>
        </p:nvGraphicFramePr>
        <p:xfrm>
          <a:off x="409680" y="1143000"/>
          <a:ext cx="8291520" cy="5276880"/>
        </p:xfrm>
        <a:graphic>
          <a:graphicData uri="http://schemas.openxmlformats.org/presentationml/2006/ole">
            <p:oleObj progId="Excel.Sheet.12" r:id="rId1" spid="">
              <p:embed/>
              <p:pic>
                <p:nvPicPr>
                  <p:cNvPr id="60" name="" descr=""/>
                  <p:cNvPicPr/>
                  <p:nvPr/>
                </p:nvPicPr>
                <p:blipFill>
                  <a:blip r:embed="rId2"/>
                  <a:stretch/>
                </p:blipFill>
                <p:spPr>
                  <a:xfrm>
                    <a:off x="409680" y="1143000"/>
                    <a:ext cx="8291520" cy="52768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1E33135-CA12-4C02-A01B-8A58062FA3F2}" type="slidenum">
              <a:t>6</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WG Motion Scheduling</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on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 – LB1 Disposi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 – TG1 EUI Lett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CD86192-521A-4E05-92F8-50B62EA97504}"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TG1 Mar00 Session #5 Graphic</a:t>
            </a:r>
            <a:endParaRPr b="0" lang="en-US" sz="3600" spc="-1" strike="noStrike">
              <a:solidFill>
                <a:srgbClr val="000000"/>
              </a:solidFill>
              <a:latin typeface="Times New Roman"/>
            </a:endParaRPr>
          </a:p>
        </p:txBody>
      </p:sp>
      <p:graphicFrame>
        <p:nvGraphicFramePr>
          <p:cNvPr id="64" name=""/>
          <p:cNvGraphicFramePr/>
          <p:nvPr/>
        </p:nvGraphicFramePr>
        <p:xfrm>
          <a:off x="195120" y="1924200"/>
          <a:ext cx="8753760" cy="3867120"/>
        </p:xfrm>
        <a:graphic>
          <a:graphicData uri="http://schemas.openxmlformats.org/presentationml/2006/ole">
            <p:oleObj progId="Excel.Sheet.12" r:id="rId1" spid="">
              <p:embed/>
              <p:pic>
                <p:nvPicPr>
                  <p:cNvPr id="65" name="" descr=""/>
                  <p:cNvPicPr/>
                  <p:nvPr/>
                </p:nvPicPr>
                <p:blipFill>
                  <a:blip r:embed="rId2"/>
                  <a:stretch/>
                </p:blipFill>
                <p:spPr>
                  <a:xfrm>
                    <a:off x="195120" y="1924200"/>
                    <a:ext cx="8753760" cy="38671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3584432-9369-4621-BF9E-6FABE7E34666}"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TG1 Mar00 Session #5 Graphic</a:t>
            </a:r>
            <a:endParaRPr b="0" lang="en-US" sz="3600" spc="-1" strike="noStrike">
              <a:solidFill>
                <a:srgbClr val="000000"/>
              </a:solidFill>
              <a:latin typeface="Times New Roman"/>
            </a:endParaRPr>
          </a:p>
        </p:txBody>
      </p:sp>
      <p:graphicFrame>
        <p:nvGraphicFramePr>
          <p:cNvPr id="67" name=""/>
          <p:cNvGraphicFramePr/>
          <p:nvPr/>
        </p:nvGraphicFramePr>
        <p:xfrm>
          <a:off x="195120" y="1876320"/>
          <a:ext cx="8753760" cy="3610080"/>
        </p:xfrm>
        <a:graphic>
          <a:graphicData uri="http://schemas.openxmlformats.org/presentationml/2006/ole">
            <p:oleObj progId="Excel.Sheet.12" r:id="rId1" spid="">
              <p:embed/>
              <p:pic>
                <p:nvPicPr>
                  <p:cNvPr id="68" name="" descr=""/>
                  <p:cNvPicPr/>
                  <p:nvPr/>
                </p:nvPicPr>
                <p:blipFill>
                  <a:blip r:embed="rId2"/>
                  <a:stretch/>
                </p:blipFill>
                <p:spPr>
                  <a:xfrm>
                    <a:off x="195120" y="1876320"/>
                    <a:ext cx="8753760" cy="3610080"/>
                  </a:xfrm>
                  <a:prstGeom prst="rect">
                    <a:avLst/>
                  </a:prstGeom>
                  <a:ln w="0">
                    <a:noFill/>
                  </a:ln>
                </p:spPr>
              </p:pic>
            </p:oleObj>
          </a:graphicData>
        </a:graphic>
      </p:graphicFrame>
      <p:sp>
        <p:nvSpPr>
          <p:cNvPr id="69" name=""/>
          <p:cNvSpPr/>
          <p:nvPr/>
        </p:nvSpPr>
        <p:spPr>
          <a:xfrm>
            <a:off x="5105520" y="3581280"/>
            <a:ext cx="152388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C5CA78-49DA-4E3F-8D10-DE49EA381A90}" type="slidenum">
              <a:t>9</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3-06T21:05:40Z</dcterms:modified>
  <cp:revision>98</cp:revision>
  <dc:subject>IEEE 802.15 TG1 Report</dc:subject>
  <dc:title>IEEE P802.15 Working Group for Wireless Personal Area Networks</dc:title>
</cp:coreProperties>
</file>