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2BCE2-2A91-487B-B48C-7DACD8CA2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A5BD2-A066-440D-AD21-4000E9F1E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4B258-3D7F-4273-A8D0-512EB0756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E4AAC-713B-4520-8A77-F6F02A5EF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6763-2CB8-4B4E-83D6-3E71B2530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94E2-45B7-4399-A468-F8886D907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A5DB-E0A0-4809-B80E-39831335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6473-C899-4EE2-A9C7-A3AA82D9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9D9D-F9FF-4D52-A016-7E1A7B210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053E-32D2-4087-B9D9-1CFE7049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F1E7-BA32-4625-8300-62501D93F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2688-6E88-4160-AE20-F3865D667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473CE3-3BCD-4502-BB23-E168422CF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3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73143F2-56FB-4818-AAC6-C841066100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69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Liaison Report, No.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rch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174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Liaison Report and is a running Liaison report that is offered to the WG for there consideration.  It is only as good as what is provided to the Author…there are many WG Liaisons that are not captured as they are not provided to the Author or Liaison Officie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Our Sponsor requested that an official Liaison Officer be added to the WG.  This report is for the Sponsor and/or the W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 Press Release discussion, -99/171 on MARCOM</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McInnis) Hosting May00 Interim Meeting in Seattle, WA -99/137r1 Upda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Heile/Ditch) Hosting Sep00 Interim Meeting in Phoenix, AZ - Submissions? Hotel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DB9272-8D99-4B73-953A-13F35FDF4124}"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Mar00 Bluetooth/IEEE Telecon on MARCOM</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IEEE</a:t>
            </a:r>
            <a:endParaRPr b="0"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23, 24Feb00, 3Mar00 on Copyright License</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Feb00 Request for LAN/MAN 802.15 Balloting Pool status IEEE Standards Dept., Balloting Center (Binder)</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Mar00 Telecon Agenda, etc. on Pocket Guides</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 Bluetooth Updates to the IEEE Standards Activities, Standards Publishing Programs (Tatiner)</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IEEE</a:t>
            </a:r>
            <a:endParaRPr b="0" lang="en-US" sz="20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Feb00 Response on LAN/MAN 802.15 Balloting Pool status IEEE Standards Dept., Balloting Center (Binder) -99/179r0</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MAN 802.15 Balloting Poo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447F032-6B9E-476A-A646-2960BDA2807E}" type="slidenum">
              <a:t>1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IG</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e on IEEE Draft 0.8 Standard Status (con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Specification v1.1 Status (con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BSIG-IEEE f2f Meeting Date?, 200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UnPlugFest-2”, 28-30Mar00 Monterey</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Bluetooth 2000“, 13-16Jun00 Monte Carlo</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1/P802.15 Interim Meeting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MAN 802.15 Balloting Poo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increase the awareness of this proc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012EA20-E89F-4A92-A844-23BFBEA559DE}" type="slidenum">
              <a:t>1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tooth SIG and the IEEE P802.15.1 Task Group 1 have created a VERY unique Liaison and working relationsh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5Feb00 f2f Meeting in Copenhagen has increased our visibility and as a result our inter dependencies have increa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continue to communicate effectively to have an affective and positive influence on the emerging Bluetooth v1.0 Specific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EF88EE-6F97-4035-9EF6-5D6540A5FE8D}" type="slidenum">
              <a:t>1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tooth SIG is concerned about the IEEE open process in that we may get ahead on certain issues e.g., our WPAN-HR Study Group</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continue to communicate consistently, via all the communication channels, what it is we are and are not do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Offi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n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77"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6Mar00 there were 1579 Bluetooth SIG Adotp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25F53B6-F413-4721-A73B-5DD1161697BF}"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267080" y="1981080"/>
            <a:ext cx="4496040" cy="2895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80880" y="1981080"/>
            <a:ext cx="4191120" cy="2895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endParaRPr b="0" lang="en-US" sz="4400" spc="-1" strike="noStrike">
              <a:solidFill>
                <a:srgbClr val="000000"/>
              </a:solidFill>
              <a:latin typeface="Times New Roman"/>
            </a:endParaRPr>
          </a:p>
        </p:txBody>
      </p:sp>
      <p:pic>
        <p:nvPicPr>
          <p:cNvPr id="81" name="num7" descr=""/>
          <p:cNvPicPr/>
          <p:nvPr/>
        </p:nvPicPr>
        <p:blipFill>
          <a:blip r:embed="rId1"/>
          <a:stretch/>
        </p:blipFill>
        <p:spPr>
          <a:xfrm>
            <a:off x="5562720" y="3162240"/>
            <a:ext cx="2257200" cy="633600"/>
          </a:xfrm>
          <a:prstGeom prst="rect">
            <a:avLst/>
          </a:prstGeom>
          <a:ln w="0">
            <a:noFill/>
          </a:ln>
        </p:spPr>
      </p:pic>
      <p:pic>
        <p:nvPicPr>
          <p:cNvPr id="82" name="Bluetooth%20logo%20(tm)" descr=""/>
          <p:cNvPicPr/>
          <p:nvPr/>
        </p:nvPicPr>
        <p:blipFill>
          <a:blip r:embed="rId2"/>
          <a:stretch/>
        </p:blipFill>
        <p:spPr>
          <a:xfrm>
            <a:off x="1143000" y="3124080"/>
            <a:ext cx="2651040" cy="571680"/>
          </a:xfrm>
          <a:prstGeom prst="rect">
            <a:avLst/>
          </a:prstGeom>
          <a:ln w="0">
            <a:noFill/>
          </a:ln>
        </p:spPr>
      </p:pic>
      <p:sp>
        <p:nvSpPr>
          <p:cNvPr id="83" name=""/>
          <p:cNvSpPr/>
          <p:nvPr/>
        </p:nvSpPr>
        <p:spPr>
          <a:xfrm>
            <a:off x="4267080" y="312408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a:t>
            </a:r>
            <a:endParaRPr b="0" lang="en-US" sz="2000" spc="-1" strike="noStrike">
              <a:solidFill>
                <a:srgbClr val="000000"/>
              </a:solidFill>
              <a:latin typeface="Times New Roman"/>
            </a:endParaRPr>
          </a:p>
        </p:txBody>
      </p:sp>
      <p:sp>
        <p:nvSpPr>
          <p:cNvPr id="84" name=""/>
          <p:cNvSpPr/>
          <p:nvPr/>
        </p:nvSpPr>
        <p:spPr>
          <a:xfrm>
            <a:off x="4800600" y="228600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2</a:t>
            </a:r>
            <a:endParaRPr b="0" lang="en-US" sz="2000" spc="-1" strike="noStrike">
              <a:solidFill>
                <a:srgbClr val="000000"/>
              </a:solidFill>
              <a:latin typeface="Times New Roman"/>
            </a:endParaRPr>
          </a:p>
        </p:txBody>
      </p:sp>
      <p:sp>
        <p:nvSpPr>
          <p:cNvPr id="85" name=""/>
          <p:cNvSpPr/>
          <p:nvPr/>
        </p:nvSpPr>
        <p:spPr>
          <a:xfrm>
            <a:off x="6019920" y="205740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3)</a:t>
            </a:r>
            <a:endParaRPr b="0" lang="en-US" sz="2000" spc="-1" strike="noStrike">
              <a:solidFill>
                <a:srgbClr val="000000"/>
              </a:solidFill>
              <a:latin typeface="Times New Roman"/>
            </a:endParaRPr>
          </a:p>
        </p:txBody>
      </p:sp>
      <p:sp>
        <p:nvSpPr>
          <p:cNvPr id="86"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1Dec99 there four (4) more Promoters add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6Mar00 there were 1579 Bluetooth SIG Adotp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44EC702-5711-4709-9BDF-3DBD989D2465}" type="slidenum">
              <a:t>1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Reports On Server &amp; Flash Card(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1 -99/005 [99005r0P802-15_Liaison-Report.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2 -99/029 [99029r0P802-15_Liaison-Report-2.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3 -99/063 [99063r1P802-15_Liaison-Report-3.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4 -99/124 [99124r0P802-15_Liaison-Report-4.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5 -99/174 [99174r0P802-15_WG-Liaison-Report-5.pp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0BAB337-C569-43ED-849F-167EA0F31D68}"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6</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00, Albuquerque, NM USA</a:t>
            </a:r>
            <a:endParaRPr b="0" lang="en-US" sz="32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4761892-134A-4357-9FFB-F7A700A4AE53}"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9BEE03E-16F9-41A4-A9C4-73F8FFF7682A}"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DA91FE-BE0A-456F-A87E-E119C2B5E7D5}"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Liaison List Reports</a:t>
            </a:r>
            <a:endParaRPr b="0" lang="en-US" sz="16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Special Interest Group (Kardach/Bisdikian)</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Hayes/Kerry/Murray)</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a:t>
            </a:r>
            <a:endParaRPr b="0" lang="en-US" sz="1400" spc="-1" strike="noStrike">
              <a:solidFill>
                <a:srgbClr val="000000"/>
              </a:solidFill>
              <a:latin typeface="Times New Roman"/>
            </a:endParaRPr>
          </a:p>
          <a:p>
            <a:pPr lvl="2" marL="922680" indent="-19404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Activities, Standards Publishing Programs (Tatiner, McCabe, Gargiulo)</a:t>
            </a:r>
            <a:endParaRPr b="0" lang="en-US" sz="1200" spc="-1" strike="noStrike">
              <a:solidFill>
                <a:srgbClr val="000000"/>
              </a:solidFill>
              <a:latin typeface="Times New Roman"/>
            </a:endParaRPr>
          </a:p>
          <a:p>
            <a:pPr lvl="2" marL="922680" indent="-19404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tandards Dept., Balloting Center (Binder)</a:t>
            </a:r>
            <a:endParaRPr b="0" lang="en-US" sz="12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WBWG (Withington)</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2 Coexistence Letter to Academia</a:t>
            </a:r>
            <a:endParaRPr b="0" lang="en-US" sz="1400" spc="-1" strike="noStrike">
              <a:solidFill>
                <a:srgbClr val="000000"/>
              </a:solidFill>
              <a:latin typeface="Times New Roman"/>
            </a:endParaRPr>
          </a:p>
          <a:p>
            <a:pPr marL="291600" indent="-291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active Liaison List</a:t>
            </a:r>
            <a:endParaRPr b="0" lang="en-US" sz="16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 (Lindinsky) </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 (Carlson)</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6 (?, via )</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SI BRAN Project (Khun-Jush/Delaverson)</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 Forum WATM (Delaverson)</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RF Working Group (Manny)</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MobileIP (?)</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SRC (Kurihara)</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P Forum (Parrish)</a:t>
            </a:r>
            <a:endParaRPr b="0" lang="en-US" sz="1400" spc="-1" strike="noStrike">
              <a:solidFill>
                <a:srgbClr val="000000"/>
              </a:solidFill>
              <a:latin typeface="Times New Roman"/>
            </a:endParaRPr>
          </a:p>
          <a:p>
            <a:pPr lvl="1" marL="631440" indent="-24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DA (McKay)</a:t>
            </a:r>
            <a:endParaRPr b="0" lang="en-US" sz="1400" spc="-1" strike="noStrike">
              <a:solidFill>
                <a:srgbClr val="000000"/>
              </a:solidFill>
              <a:latin typeface="Times New Roman"/>
            </a:endParaRPr>
          </a:p>
          <a:p>
            <a:pPr marL="291600" indent="-291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Liais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916B04-0C00-48B1-BD1C-56D968917CBB}"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9B5F09-3DC1-469F-BC28-0545A7BB1A2D}"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Feb00 Bluetooth/IEEE Telecon on Admin</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Feb00 Bluetooth/IEEE f2f on SDL, held in Copenhagen</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r00 Bluetooth/IEEE Telecon on MARCOM</a:t>
            </a:r>
            <a:endParaRPr b="0" lang="en-US" sz="16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10Feb00 LB1 Reply Comments</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r00 Follow up on Request for Radio2 MRD</a:t>
            </a:r>
            <a:endParaRPr b="0" lang="en-US" sz="16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Jan00, 4Feb00 LB1 Reply Comments</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 23, 24Feb00, 3Mar00 Copyright</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Feb00 Bluetooth SIGnal &amp; IEEE Pocket Guides</a:t>
            </a:r>
            <a:endParaRPr b="0" lang="en-US" sz="16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MAN 802.15 Balloting Pool</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nal Issue No.5, etc.</a:t>
            </a:r>
            <a:endParaRPr b="0"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and the IEEE Pocket Guid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4D8792-F443-4DB5-A20A-30FCF0813484}"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a:t>
            </a:r>
            <a:br>
              <a:rPr sz="4400"/>
            </a:br>
            <a:r>
              <a:rPr b="0" lang="en-US" sz="4400" spc="-1" strike="noStrike">
                <a:solidFill>
                  <a:srgbClr val="000000"/>
                </a:solidFill>
                <a:latin typeface="Times New Roman"/>
              </a:rPr>
              <a:t>Proposed Timelin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a:t>
            </a:r>
            <a:r>
              <a:rPr b="0" lang="en-US" sz="2400" spc="-1" strike="noStrike">
                <a:solidFill>
                  <a:srgbClr val="ff0000"/>
                </a:solidFill>
                <a:latin typeface="Times New Roman"/>
              </a:rPr>
              <a:t>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 -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64" name=""/>
          <p:cNvSpPr/>
          <p:nvPr/>
        </p:nvSpPr>
        <p:spPr>
          <a:xfrm>
            <a:off x="2514600" y="4876920"/>
            <a:ext cx="457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FB1D82A-BFD1-4961-A8A6-2FCB25E6C3BF}"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F96517-BC98-4A6C-B811-59E9FE216C79}"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March 2000</cp:keywords>
  <dc:language>en-US</dc:language>
  <cp:lastModifiedBy>Ian C. Gifford</cp:lastModifiedBy>
  <cp:lastPrinted>1998-02-10T13:28:06Z</cp:lastPrinted>
  <dcterms:modified xsi:type="dcterms:W3CDTF">2000-03-06T21:06:06Z</dcterms:modified>
  <cp:revision>200</cp:revision>
  <dc:subject>#6</dc:subject>
  <dc:title>Liaison Report</dc:title>
</cp:coreProperties>
</file>