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3560" y="316080"/>
            <a:ext cx="867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arch  2000                                                                                                                            doc: IEEE 802.15 00/096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4040" y="6400800"/>
            <a:ext cx="89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                                                                  </a:t>
            </a:r>
            <a:fld id="{2D95CC9F-2C8A-4E59-AB2A-F49416766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Bruce Kraemer, Inter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502640" y="1311120"/>
            <a:ext cx="5284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5 Marketing Commit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buquerque,N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 6-10 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665440" y="563400"/>
            <a:ext cx="31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C Agenda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49280" y="990720"/>
            <a:ext cx="707544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MC minutes  (185r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802.11 MC liais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Overview of submi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                     (171r4)   (in S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1 news release            (031)       (in S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2 news item                                (in S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BT Signal Articl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 5 (013r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 6 (055r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 plan  (032r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 Pocket Guides  (057r0) &amp; Companion (058r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 URL and branding - i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 ETSI activ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 TG2 &amp; TG3 work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Work priority designation and associat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584280"/>
            <a:ext cx="861048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Website - 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Add events list (archive and future) (080r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802.11 MC liais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Awaiting clarification of .11 MC ch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Report on coordination plan details in M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Formal Announc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These  submissions have been revised and reviewed with 802.11. They will be reviewed by the SEC Thurs p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s release                     (99171r4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G1 news release            (00031)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G2 news item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 BT Signal Artic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Need to further clarify &amp; communicate critical submission 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Issue 5 (013r6) has been extensively edited and submitted to SIGnal for preliminary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Issue 6 (055r0) highlights TG1 activities- assigned to Ian Giff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all plan  (032r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a.  Pocket Guides  (057r0) - 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Ian working out details with IEEE press - details by end of M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b. Companion (058r0) - 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Ian working out details with IEEE pr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.  URL and branding - in process 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- may be resolved in two wee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.  ETSI activity - 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No expectations for standardizing BT protocol stack above layer 2- dialog on other fronts contin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.  TG2 &amp; TG3 work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TG2 needs white paper describing activities as reference for all me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HRSG needs to prepare press release regarding promotion to TG3 status and plans pending SEC Thurs p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. Work priority designation and associated procedures - 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Presentation in M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79320" y="650880"/>
            <a:ext cx="79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erences and Events of Interest  to 802.15 Members (080r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2021040"/>
          <a:ext cx="8702640" cy="262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21040"/>
                    <a:ext cx="8702640" cy="26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4520" y="990720"/>
            <a:ext cx="762408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O 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BAND 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MANAGER 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ICAL LINK CONTROL AND ADAPTATION 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DISCOVERY PROTOCOL (SD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FCOMM WITH TS 07.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rDA 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EPHONY CONTROL PROTOCOL 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OPERABILITY REQUIREMENTS FOR BLUETOOTH AS A WAP BEA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 CONTROLLER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AL 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CI USB TRANSPORT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CI RS232 TRANSPORT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CI UART TRANSPORT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UETOOTH TEST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UETOOTH COMPLIANCE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ONTROL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UETOOTH PRO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87600" y="650880"/>
            <a:ext cx="51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Bluetooth Pocket Guide 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527120" y="1397160"/>
          <a:ext cx="608796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397160"/>
                    <a:ext cx="6087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10960" y="1158840"/>
            <a:ext cx="845748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/0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12r7P802-15 WG IEEE Personal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/0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013r5P802-15 MC SIGnal Issue No.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/0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031r0P802-15 TG1 News Release on Bluetooth and 802.15.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/03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032r0P802-15 MC Bluetooth SIGnal Placement Plann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/05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055r0P802-15 TG1 SIGnal Issue No. 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/05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056r0P802-15 MC IEEE Balloting Pool Requ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/05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057r0P802-15 MC IEEE Pocket Guide Roadm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/05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058r0P802-15 MC IEEE Companion Roadm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/05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059r0P802-15 WG Mobile Computing and Communications Revie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21280" y="574560"/>
            <a:ext cx="35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ned MC submi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99000" y="476280"/>
            <a:ext cx="32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uetooth SIG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040" y="1946160"/>
            <a:ext cx="826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 # 1    July  99   5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 # 2    Sep  99    6 pages        1/2 page      Intro to 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 # 3    Nov  99   8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 # 4    Feb   00   9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 # 5    Apr  00                        1  page        Overview of 802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 # 6    Jun   00                        1/3 page      TG1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 # 7    Aug 00                         1/3 page      TG2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 # 8    Oct   00                        1/3 page      TG3 stat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3440" y="95580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bluetooth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4360" y="990720"/>
            <a:ext cx="8896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ccept MC min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Website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802.11 MC liais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News Items - released and pe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BT Signal Article(s) - printed &amp; 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 Pocket Guides  &amp; Companion -style guides and writing 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 URL and branding status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 ETSI activ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TG1, TG2 &amp; TG3 priority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MC work priority designation and associat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22720" y="498600"/>
            <a:ext cx="63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ative Agenda Items for May Interim in Sea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16:05:09Z</dcterms:created>
  <dc:creator>Bruce Kraemer</dc:creator>
  <dc:description/>
  <dc:language>en-US</dc:language>
  <cp:lastModifiedBy>Bruce Kraemer</cp:lastModifiedBy>
  <dcterms:modified xsi:type="dcterms:W3CDTF">2000-03-09T22:11:28Z</dcterms:modified>
  <cp:revision>38</cp:revision>
  <dc:subject/>
  <dc:title>No Slide Title</dc:title>
</cp:coreProperties>
</file>