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2286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arch 2000                                                                                            Doc: No.: IEEE P802.15-00/07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400800"/>
            <a:ext cx="77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ssion                                                                </a:t>
            </a:r>
            <a:fld id="{828A25D9-81A8-4B51-B35B-E8EAAB4B416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C. A. Ryp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HY and MAC contrib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47242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8305920" cy="32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e for DOQPSK High-rate Physical Medium”(0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ments and Recommended Fun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High-rate MAC” (0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dos A. Rypinsk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P802.15.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buron, CA 94920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7, 2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pinski@microweb.c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buquerque,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AC paper purpose--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control shared by many access points provides many important benef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amount of function  may be provided to deal with and condition traffic for external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access points may be coordinated to manage redundant coverage as path diversity; and very much faster because all control and status information is at one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mmon data base maintained in real time enables retrieval of facts knowable before a communication is initi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90720" y="762120"/>
          <a:ext cx="7086600" cy="54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708660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AC paper purpose--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 concentrating all broadcast and addressed control messages in the first part of the downlink frame, a station may determine whether there is any traffic for it, and then sleep for the remainder of the 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hutdown of the LO multiplier and power amplifier chain within the radio is a substantial power saving when compared with radios that must be ready for broadcast messages at all ti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refinement of battery drain reduction is a result of cooperation between MAC and P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AC paper purpose--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default frame period is 6 millisecond which with 48 octets transferred per frame corresponds to a 64 Kbps one way B cha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rame periods at 8 and 12 milliseconds are possible and usef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longer the frame period, the more fixed time losses are diluted dow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transmitting 54 octet ATM cells, there would be no change in the perion--the burst would just last 6 bits lon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AC paper purpose--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olling function serves multiple purposes:  access point association check, detection of disappeared stations, change of station settings (channel, power), sleep mode control, and non-contending receipt of service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requency of poll can be adaptive to reduce access delay for active s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leep mode can be software defined and managed to adapt activity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pen address poll also can solicit association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AC paper purpose--H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ation message vocabulary contains the following received message typ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 with sleep mode control, settings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 with solicitation of service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tment of time for sending and receiving of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these transmitted message typ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 response to received packet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 traffic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must be able to process the general part of the broadcast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AC paper purpose--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gmentation of large files and packets is commonplace for less reliable medium to avoid excessive investment of channel in flawed transf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gment size is favorable in the range of 256-512 oct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header preamble-based synchronization, segment size is influenced by the accuracy of the radio bit clock crystal-- error determines how long the bit clock can run without refresh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crystals accurate to 10 ppm is recommended which could be satisfactory for a run of 1000 octets without mar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81080" y="609480"/>
          <a:ext cx="5178600" cy="586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609480"/>
                    <a:ext cx="517860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raffic Blocking Characteristic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stem behavior must be defined for traffic offered that is in excess of capac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possible states resulting from high traffic in combination with source disappearance at the worst possible time must be consid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ervice request facility must be out-of-band relative to the traffic carrying bandwidth so that requests can be analyzed and queued for order of arrival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ffic may be served immediately, delayed and served, or it may be refused and cleared--the queues created enable high utilization of traffic transfer capacity (Erlang 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oiding Difficulty in MAC Design-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try to all states should be the result of a positive event following a define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lay or absence of an expected event is not a usable logic, but a processed abnormality--Presence or absence of a radio signal is not a usabl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signal quality must be measured as window shrinkage tolerance and not by rf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ing the number of defined states is less important than minimizing the number of undefin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ddres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vious: size, cost, power drain, but al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egabit” transfer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ly modelable MAC with DETERMINIST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 for connection-type and packet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or rate scalable and basic radio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ion of MAC and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ve use of overlapping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utilization traffic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oiding Difficulty in MAC Design-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space should be generous and far greater than expected traffic capacity in one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detection should be ample and det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s should be maintained for traffic, faults and temporary overloads to enable diagnosis of system abnorm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unexpected power loss at the worst time must be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ptions on Frequency Reu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requency reuse provision using 4-slot time division can be omitted with zero affect on the station--the provision is entirely an infrastructur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requency reuse provision based on channel coding could probably convert code space to data space to obtain 4-bits per 15/16 bit symbol--this would be a method of greatly increasing delay spread tolerance without frequency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level modulation will NOT normally  provide a capacity advantage in an interference-limited system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ptions on increased data transfer ra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est method of doubling is to double the channel bandwidth with some penalty because the power spectral density is not easily (sometimes legally) doub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er order modulations may be used with the same radio circu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QPR would increase transfer rate by 1.4, and 16QAM  by  2 and at the same time interference susceptibility would be proportionally increas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ata transfer rate of 20 Mbps in channel 20 MHz wide at 27 db down is a close call but 16 Mbps is conservative--FIR filtering will hel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Differentiating against 802.11 MA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istic capacity and delay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true connection-type service with reserved future capacity and predictable through-system transit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bandwidth-on-demand connections suitable for video stre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ser station is identical for systems large and sm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ation is simpler (much smaller state diagram)nbecause all the intelligence is in the shared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Differentiating against 802.11a PHY (OFD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5 vs. 25 millisecond acquisition ti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~50 vs. 250+ nanosecond delay spread toler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e time supply power many times greater for OFDM DSP processor for comparable data rate in signal processors--compare DOQPSK vs. QPSK at 18 M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 vs. 7 db backoff on PA 1 dB compression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the PHY paper is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se for DOQPSK High-rate Physical Medium Modul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ar constant envelope I and Q parallel data pa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pe pulse modulation with either Bessel or better FIR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emodulation using prior pulse as a phase reference for current pulse avoiding need for phase locked reference in demod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amble based acquisition of bit clock with coast through burst interv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s the simplicity and flexibility of the implement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HY paper purpo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of it is obvious and is to show additional sup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may not be obvious that the phase lock on the received carrier is not required for demod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s of the radio can be built now without custom par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in moderate commercial quant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ated antennas for access point and station are essential to FCC type acceptance, and are normalizing influence on system design and sim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47840"/>
            <a:ext cx="77724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990720"/>
          <a:ext cx="693432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693432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ain topics in the MAC pap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quirements and Recommended Functions in High-Rate MA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per is a reference on the factors that should be considered--particularly including traffic assumptions, integrated data and  services and system plan for frequency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s interrelationship between modulation, channel coding and antenna directivity in optimizing frequency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s starting point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sochronous period frame structu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cluding broadcast header on downlink and provisions for propagation delay through the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s un-novel access methods and multiple uses of pol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AC paper purpose--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ggest a protocol that might take on;y ten pages of state diagram (not 8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 a mostl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ccess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show simplicity of PERMISSION, REQUEST, GRANT, TRANSFER, ACK procedure for all traffic transf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ymmetric, complementary protocol makes station simpler, and also the control term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AC paper purpose--B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impler PAN applications are served by subsetting, to functions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on has constant small vocabulary for any size of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polling is appropriate access method for short reach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isochronous frame rate with asynchronous transfer within the 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AC paper purpose--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down-link frame consists of preamble, broadcast field and traffic fi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irst part of the broadcast field contains system identification, frame parameters and other information used by all s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ext part is ACK/NACK for previous traffic recei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ext part broadcasts identification of stations to which traffic will be sent and the index as to where it will app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ext part broadcasts identification of stations granted access for traffic to be sent up and the index as to where it will app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5T23:45:55Z</dcterms:created>
  <dc:creator>Chandos A. Rypinski</dc:creator>
  <dc:description/>
  <dc:language>en-US</dc:language>
  <cp:lastModifiedBy>Robert F.  Heile</cp:lastModifiedBy>
  <dcterms:modified xsi:type="dcterms:W3CDTF">2000-03-09T16:18:47Z</dcterms:modified>
  <cp:revision>6</cp:revision>
  <dc:subject/>
  <dc:title>Introduction to  PHY and MAC contributions</dc:title>
</cp:coreProperties>
</file>