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B03B92A-B69E-4E0C-B65A-0178C5D1310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422471B-E1B6-4E14-B69A-5543EAE1198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599D7D3-C91F-4B4D-8186-AD4D723127C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1D3E2BA-A9C9-43DE-8CEB-21B8D3081DD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88DB81-91FB-4D60-874F-ABD5C3FCF68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BC467F-08EE-422A-AC01-1705D3C2376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89990A7-869D-44B4-A495-7BF39825BCC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sldNum" idx="1"/>
          </p:nvPr>
        </p:nvSpPr>
        <p:spPr/>
        <p:txBody>
          <a:bodyPr/>
          <a:p>
            <a:fld id="{5D69B05B-852A-4DEF-9B23-5C6331CF728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C09AF285-6F5E-45C2-A1DF-CE9BE032FA5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14B9EE-69D7-48A3-BCA4-E9016693A16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73879E-17E7-4BC1-81F8-44AA86A6490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BB074D-1134-4A0C-933A-7F037AD40FC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CD25757-C251-4BE4-B518-D980E66E9B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0/022r3</a:t>
            </a:r>
            <a:endParaRPr b="0" lang="en-US" sz="1400" spc="-1" strike="noStrike">
              <a:solidFill>
                <a:srgbClr val="000000"/>
              </a:solidFill>
              <a:latin typeface="Times New Roman"/>
            </a:endParaRPr>
          </a:p>
        </p:txBody>
      </p:sp>
      <p:sp>
        <p:nvSpPr>
          <p:cNvPr id="4"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6"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10200" y="380880"/>
            <a:ext cx="1221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January 2000</a:t>
            </a:r>
            <a:endParaRPr b="0" lang="en-US" sz="1400" spc="-1" strike="noStrike">
              <a:solidFill>
                <a:srgbClr val="000000"/>
              </a:solidFill>
              <a:latin typeface="Times New Roman"/>
            </a:endParaRPr>
          </a:p>
        </p:txBody>
      </p:sp>
      <p:sp>
        <p:nvSpPr>
          <p:cNvPr id="8" name=""/>
          <p:cNvSpPr/>
          <p:nvPr/>
        </p:nvSpPr>
        <p:spPr>
          <a:xfrm>
            <a:off x="5719320" y="6426360"/>
            <a:ext cx="2413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mes D. Allen, Eastman Kodak Co.</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228600" y="609480"/>
            <a:ext cx="8763120" cy="5115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P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Organizational Proposal]</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 [13January2000]</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James D. Allen]    Company: [Eastman Kodak C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1669 Eastman Ave. Rochester, NY, 14650-2015]</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716) 588-1906], FAX: [(716) 722-9053], E-Mail:[james.d.allen@kodak.com]</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This presentation shows the organizational proposal for the anticipated High Rate Task Group]</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To communicate the names of proposed leaders and open positions.  To facilitate the filling of positions prior to submitting the PAR.]</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P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53352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rganizational Proposal</a:t>
            </a:r>
            <a:br>
              <a:rPr sz="3600"/>
            </a:br>
            <a:r>
              <a:rPr b="0" lang="en-US" sz="2000" spc="-1" strike="noStrike">
                <a:solidFill>
                  <a:srgbClr val="000000"/>
                </a:solidFill>
                <a:latin typeface="Times New Roman"/>
              </a:rPr>
              <a:t>pre-TG Status Draft r3</a:t>
            </a:r>
            <a:endParaRPr b="0" lang="en-US" sz="2000" spc="-1" strike="noStrike">
              <a:solidFill>
                <a:srgbClr val="000000"/>
              </a:solidFill>
              <a:latin typeface="Times New Roman"/>
            </a:endParaRPr>
          </a:p>
        </p:txBody>
      </p:sp>
      <p:sp>
        <p:nvSpPr>
          <p:cNvPr id="47" name="PlaceHolder 2"/>
          <p:cNvSpPr>
            <a:spLocks noGrp="1"/>
          </p:cNvSpPr>
          <p:nvPr>
            <p:ph/>
          </p:nvPr>
        </p:nvSpPr>
        <p:spPr>
          <a:xfrm>
            <a:off x="609480" y="1905120"/>
            <a:ext cx="7772400" cy="411480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ficers</a:t>
            </a:r>
            <a:endParaRPr b="0" lang="en-US" sz="2400" spc="-1" strike="noStrike">
              <a:solidFill>
                <a:srgbClr val="000000"/>
              </a:solidFill>
              <a:latin typeface="Arial"/>
            </a:endParaRPr>
          </a:p>
          <a:p>
            <a:pPr lvl="1" marL="727920" indent="-280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ir - (Motorola to nominate - replaces Bob Morris)</a:t>
            </a:r>
            <a:endParaRPr b="0" lang="en-US" sz="1600" spc="-1" strike="noStrike">
              <a:solidFill>
                <a:srgbClr val="000000"/>
              </a:solidFill>
              <a:latin typeface="Arial"/>
            </a:endParaRPr>
          </a:p>
          <a:p>
            <a:pPr lvl="1" marL="727920" indent="-280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ce Chair - (Todor Cooklev)</a:t>
            </a:r>
            <a:endParaRPr b="0" lang="en-US" sz="1600" spc="-1" strike="noStrike">
              <a:solidFill>
                <a:srgbClr val="000000"/>
              </a:solidFill>
              <a:latin typeface="Arial"/>
            </a:endParaRPr>
          </a:p>
          <a:p>
            <a:pPr lvl="1" marL="727920" indent="-280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retary - (Pat Kinney) </a:t>
            </a:r>
            <a:endParaRPr b="0" lang="en-US" sz="1600" spc="-1" strike="noStrike">
              <a:solidFill>
                <a:srgbClr val="000000"/>
              </a:solidFill>
              <a:latin typeface="Arial"/>
            </a:endParaRPr>
          </a:p>
          <a:p>
            <a:pPr lvl="1" marL="727920" indent="-280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 Editor - (James Gilb)</a:t>
            </a:r>
            <a:endParaRPr b="0" lang="en-US" sz="16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 Committee Leaders</a:t>
            </a:r>
            <a:endParaRPr b="0" lang="en-US" sz="2400" spc="-1" strike="noStrike">
              <a:solidFill>
                <a:srgbClr val="000000"/>
              </a:solidFill>
              <a:latin typeface="Arial"/>
            </a:endParaRPr>
          </a:p>
          <a:p>
            <a:pPr lvl="1" marL="727920" indent="-280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Y - (Dimitri Alexandrou )</a:t>
            </a:r>
            <a:endParaRPr b="0" lang="en-US" sz="1600" spc="-1" strike="noStrike">
              <a:solidFill>
                <a:srgbClr val="000000"/>
              </a:solidFill>
              <a:latin typeface="Arial"/>
            </a:endParaRPr>
          </a:p>
          <a:p>
            <a:pPr lvl="1" marL="727920" indent="-280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C - (TBD - Allen Heberling - Acting)</a:t>
            </a:r>
            <a:endParaRPr b="0" lang="en-US" sz="1600" spc="-1" strike="noStrike">
              <a:solidFill>
                <a:srgbClr val="000000"/>
              </a:solidFill>
              <a:latin typeface="Arial"/>
            </a:endParaRPr>
          </a:p>
          <a:p>
            <a:pPr lvl="1" marL="727920" indent="-280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st Controller Interface (Mary DuVal)</a:t>
            </a:r>
            <a:endParaRPr b="0" lang="en-US" sz="16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aisons</a:t>
            </a:r>
            <a:endParaRPr b="0" lang="en-US" sz="2400" spc="-1" strike="noStrike">
              <a:solidFill>
                <a:srgbClr val="000000"/>
              </a:solidFill>
              <a:latin typeface="Arial"/>
            </a:endParaRPr>
          </a:p>
          <a:p>
            <a:pPr lvl="1" marL="727920" indent="-280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ing .15 - (TBD-Bill Bailey)</a:t>
            </a:r>
            <a:br>
              <a:rPr sz="1600"/>
            </a:br>
            <a:br>
              <a:rPr sz="1600"/>
            </a:br>
            <a:r>
              <a:rPr b="0" lang="en-US" sz="1600" spc="-1" strike="noStrike">
                <a:solidFill>
                  <a:srgbClr val="000000"/>
                </a:solidFill>
                <a:latin typeface="Arial"/>
              </a:rPr>
              <a:t>(continued next pag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0AA738-5460-426F-977C-BE9042C8F8E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762120" y="1219320"/>
            <a:ext cx="7772400" cy="4114800"/>
          </a:xfrm>
          <a:prstGeom prst="rect">
            <a:avLst/>
          </a:prstGeom>
          <a:noFill/>
          <a:ln w="0">
            <a:noFill/>
          </a:ln>
        </p:spPr>
        <p:txBody>
          <a:bodyPr lIns="92160" rIns="92160" tIns="46080" bIns="46080" anchor="t">
            <a:normAutofit/>
          </a:bodyPr>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existence .15 (Kevin Marquess)</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T - (Thomas Baker)</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meRF - (Morris to propose)</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CC - (TBD - Grant Carlson)</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TSI/BRAN - ( Fujio Wantanabe)</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02.11 - (Allen Heberling)</a:t>
            </a:r>
            <a:endParaRPr b="0" lang="en-US" sz="16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ficers to be defined by March 9t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ested parties can contact Jim Allen, or Bob Hei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13T09:39:58Z</dcterms:created>
  <dc:creator>James Allen</dc:creator>
  <dc:description/>
  <dc:language>en-US</dc:language>
  <cp:lastModifiedBy>Jim  Allen</cp:lastModifiedBy>
  <dcterms:modified xsi:type="dcterms:W3CDTF">2000-02-20T01:30:26Z</dcterms:modified>
  <cp:revision>12</cp:revision>
  <dc:subject>High Rate TG Organizational Proposal</dc:subject>
  <dc:title>Organization Proposal </dc:title>
</cp:coreProperties>
</file>