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6A4-7441-44DE-9E21-178C2059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225-9519-4228-B93E-FCE7FDF6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74C-348F-4869-AE21-3627AFAB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B42-352C-493D-B1C9-B918C080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B0C-D9D9-4F4B-A5C3-15FF1767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57F-BE8A-4054-9F9E-DD89830B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809-7EFB-4BBC-8EEC-7C6A8BE7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4BD-8718-49D4-9055-66B3D3D4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5FD-1BA3-4EB9-B865-3B0A4FE3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F8D-3E78-488C-AFF1-EAB34CCB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FEB-E3CA-4A3E-AC7A-62BFB7AF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E49-FED9-437E-824D-80B23196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8D4C6CC-3A92-496C-910E-6B746B4AB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090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Task Group Report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uquer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608-DA10-46A3-910A-1739FFE098C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r plan for the w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on Official Establishment of T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exis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on Performance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n 802.11/BT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RM impact T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model of Bluetooth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Projec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ruit TG2 Marketing Represen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3BF-EC12-42B3-AA21-95BC80B736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is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under what circumstances there is a coexistence problem and under what circumstances there is not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supporting evidence to justify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commended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F8A-DC95-48A1-8106-11721F3D3E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2613000">
            <a:off x="3428640" y="2868480"/>
            <a:ext cx="2133720" cy="213372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19540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640" y="370692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080" y="365760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ff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545940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 Propag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040" y="373392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2BC-8726-454F-AE03-B736758B8D0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Cypher “Coexistence, Interoperability, and other Terms”, 802.15-99/134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, MAC Performance Evaluation: Process in a Coexistence Environment, 802.15-99/1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 and F. Mouveaux, “WPAN Coexistence Performance Evaluation: MAC Simulation, Environment, and Preliminary Results,” 802.15-00/066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E49-0978-4496-A0C7-3244475B18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Dydyk, “CUBE vs. WECA,” 802.15-073r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Lansford, “MatLab Model of Bluetooth PHY,” 802.15-087r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: I have been glad to see attendance by a number of 802.11 members at the TG2 meet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1B8-BA60-4957-8151-FE8C1691955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rsday’s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“TG2 Project Plan,” 802.15-089r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“Performance Metrics,” 802.15-097r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aled Amer, “Performance Modeling Methodology,” 802.15-099r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80A-1166-47FA-8C00-076389E4122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ove that the Working Group empower Steve Shellhammer and Bob Heile to send a letter to the Bluetooth SIG describing the work of TG2 and requesting that 802.15 and Bluetooth “Harmonize our efforts” in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r: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: I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:18/0/0 Pa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E68-2D71-4EBC-A740-04E379A37C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ve Shellhammer</cp:lastModifiedBy>
  <cp:lastPrinted>1998-02-10T13:28:06Z</cp:lastPrinted>
  <dcterms:modified xsi:type="dcterms:W3CDTF">2000-03-09T23:23:23Z</dcterms:modified>
  <cp:revision>110</cp:revision>
  <dc:subject>IEEE 802.15 &lt;subject&gt;</dc:subject>
  <dc:title>IEEE P802.15 Working Group for Wireless Personal Area Networks</dc:title>
</cp:coreProperties>
</file>