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B798C-4F53-4395-BF94-86A4F6644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6E9B3-C443-40EB-8ABC-F5F5EEEC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2AF98-AA6D-4B74-BEF5-32CC93726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C40CD-52A9-4788-A929-BF29D6EB9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E4CCF-8D5F-4029-96EF-3A708AC97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1E697-0A5F-4B4F-BC43-6C64B8506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4DD18-5C6E-4F68-9A93-839B34B9F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E4680-1168-4711-B0F8-5EDBBE6AB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E4A8E-5578-4C22-A2EF-E634BE3C5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BC367-6B2F-437F-BC66-B96905A48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ACE33-99FC-4455-BD6B-CEAF1784D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3DEAC-06DC-4507-AAC4-FB61777D2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pher/NIS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20A71A-437B-4D4B-A4E1-26022DB1F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4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93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Overview of SDLs (BB, LMP, and L2CAP)]</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March,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avid Cypher] Company [N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0 Bureau Drive, STOP 8920, Gaithersburg, MD  20899-892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301) 975 4855], FAX: [+1 301 590 0932], E-Mail:[david.cypher@nist.gov]</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contribution provides the overview and introduction to the SDLs for the MAC sublayer that are contained in three separate contribution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inform the March, 2000 participants of the current status of the SDLs for the MAC sublayer.  Also to inform the group of what the SDL are and what they are not in order to reach agreement on how to proceed with the SDL development for the IEEE 802.15.1 TG1 Draft Standard (IEEE802-15 DX/X (Annex 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  Contribution of the NIST, not subject to copyright in the United States of Americ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EAF41534-1C2B-438F-815B-23E6D0BE9E16}"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are SDLs</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2C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B</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4537DA2-8DF3-4915-BBC0-EC14902F2191}"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L Development</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2CAP is defined as a “Process type”,</a:t>
            </a:r>
            <a:br>
              <a:rPr sz="3200"/>
            </a:br>
            <a:r>
              <a:rPr b="0" lang="en-US" sz="3200" spc="-1" strike="noStrike">
                <a:solidFill>
                  <a:srgbClr val="000000"/>
                </a:solidFill>
                <a:latin typeface="Arial"/>
              </a:rPr>
              <a:t>so it can be used in various scen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MP is defined as a “Process type”,</a:t>
            </a:r>
            <a:br>
              <a:rPr sz="3200"/>
            </a:br>
            <a:r>
              <a:rPr b="0" lang="en-US" sz="3200" spc="-1" strike="noStrike">
                <a:solidFill>
                  <a:srgbClr val="000000"/>
                </a:solidFill>
                <a:latin typeface="Arial"/>
              </a:rPr>
              <a:t>so it can be used in various scen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B is only a process.  It has not been converted into a “process typ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DCD5F49-BC3E-4F0D-9A8F-72CFD7C91D57}"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ng, Validating, and Verifying the SDLs</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2CAP and LMP has been validated in a peer to peer environment.  Only begun validating in a single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 has been validated in a single environment.  Errors are present.  Need to decide how to correct/proce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FF56581-70CD-4903-95BC-651693932B80}"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Status and Plan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ing to integrate three SDLs into one SDL, but ambiguity exists in the Bluetooth Specification, which hampers developmen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decisions (TX/RX) also hampering integratio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to do behavior and SDL data structure in the abstract, not actual cod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195DB99-6990-419F-B8B9-797EF7847137}"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and Introduction to the SDLs for the MAC Sublayer</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P802.15-00/045r0 - Baseban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P802.15-00/046r0 - Link Manager Protocol</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P802.15-00/001r2 - Logical Link Control Adaptation Protocol</a:t>
            </a:r>
            <a:endParaRPr b="0" lang="en-US" sz="1600" spc="-1" strike="noStrike">
              <a:solidFill>
                <a:srgbClr val="000000"/>
              </a:solidFill>
              <a:latin typeface="Arial"/>
            </a:endParaRPr>
          </a:p>
        </p:txBody>
      </p:sp>
      <p:graphicFrame>
        <p:nvGraphicFramePr>
          <p:cNvPr id="48" name=""/>
          <p:cNvGraphicFramePr/>
          <p:nvPr/>
        </p:nvGraphicFramePr>
        <p:xfrm>
          <a:off x="1600200" y="5943600"/>
          <a:ext cx="6095880" cy="309600"/>
        </p:xfrm>
        <a:graphic>
          <a:graphicData uri="http://schemas.openxmlformats.org/presentationml/2006/ole">
            <p:oleObj r:id="rId1" spid="">
              <p:embed/>
              <p:pic>
                <p:nvPicPr>
                  <p:cNvPr id="49" name="" descr=""/>
                  <p:cNvPicPr/>
                  <p:nvPr/>
                </p:nvPicPr>
                <p:blipFill>
                  <a:blip r:embed="rId2"/>
                  <a:stretch/>
                </p:blipFill>
                <p:spPr>
                  <a:xfrm>
                    <a:off x="1600200" y="5943600"/>
                    <a:ext cx="6095880" cy="30960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4A1C8D4-FE55-4F39-BDCE-8D517CF92C42}"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SDL</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 and Description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by ITU-T in the Z-series</a:t>
            </a:r>
            <a:br>
              <a:rPr sz="3200"/>
            </a:br>
            <a:r>
              <a:rPr b="0" lang="en-US" sz="3200" spc="-1" strike="noStrike">
                <a:solidFill>
                  <a:srgbClr val="000000"/>
                </a:solidFill>
                <a:latin typeface="Arial"/>
              </a:rPr>
              <a:t>Mainly ITU-T Recommendation Z.100</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C2F6F23-5DF0-4C35-8194-E243ECA86A11}"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use SDL</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Clear and Unambiguous Description of … (e.g. Protocols, or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Validation, and Verification tools available for SDL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ion tools available to take SDL in and generate “useable code” or “TTCN tes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8762CBC-9339-4E07-B343-BA668B544DE8}"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o create SDL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begi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fter the protocol is described by other means (e.g. English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English text to aid in protocol review, validation, and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16CF6A3-33EB-46DD-92D3-5A9AAAE2C290}"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Ls consist of</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bl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r more Bl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at least one)</a:t>
            </a:r>
            <a:br>
              <a:rPr sz="3200"/>
            </a:br>
            <a:r>
              <a:rPr b="0" lang="en-US" sz="3200" spc="-1" strike="noStrike">
                <a:solidFill>
                  <a:srgbClr val="000000"/>
                </a:solidFill>
                <a:latin typeface="Arial"/>
              </a:rPr>
              <a:t>(Flow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can be dynamically allocated, blocks can no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28A2EFE-8627-4BED-AD28-E9303917B0E3}"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ails of SDL</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System Behavior in abstract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Coding in abstract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scribe Coding in ASN.1 forma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1C023D5-FE7A-4893-87E1-A0DAC2E2E8DF}"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mple</a:t>
            </a:r>
            <a:endParaRPr b="0" lang="en-US" sz="3600" spc="-1" strike="noStrike">
              <a:solidFill>
                <a:srgbClr val="000000"/>
              </a:solidFill>
              <a:latin typeface="Times New Roman"/>
            </a:endParaRPr>
          </a:p>
        </p:txBody>
      </p:sp>
      <p:sp>
        <p:nvSpPr>
          <p:cNvPr id="61" name=""/>
          <p:cNvSpPr/>
          <p:nvPr/>
        </p:nvSpPr>
        <p:spPr>
          <a:xfrm>
            <a:off x="1676520" y="2666880"/>
            <a:ext cx="2438280" cy="327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830960" y="2666880"/>
            <a:ext cx="103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Block</a:t>
            </a:r>
            <a:endParaRPr b="0" lang="en-US" sz="1200" spc="-1" strike="noStrike">
              <a:solidFill>
                <a:srgbClr val="000000"/>
              </a:solidFill>
              <a:latin typeface="Times New Roman"/>
            </a:endParaRPr>
          </a:p>
        </p:txBody>
      </p:sp>
      <p:sp>
        <p:nvSpPr>
          <p:cNvPr id="63" name=""/>
          <p:cNvSpPr/>
          <p:nvPr/>
        </p:nvSpPr>
        <p:spPr>
          <a:xfrm>
            <a:off x="2895480" y="3657600"/>
            <a:ext cx="9907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95480" y="4648320"/>
            <a:ext cx="9907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76520" y="3962520"/>
            <a:ext cx="1218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276720" y="44197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3505320" y="441936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1676520" y="4191120"/>
            <a:ext cx="1218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73960" y="373392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A</a:t>
            </a:r>
            <a:endParaRPr b="0" lang="en-US" sz="1200" spc="-1" strike="noStrike">
              <a:solidFill>
                <a:srgbClr val="000000"/>
              </a:solidFill>
              <a:latin typeface="Times New Roman"/>
            </a:endParaRPr>
          </a:p>
        </p:txBody>
      </p:sp>
      <p:sp>
        <p:nvSpPr>
          <p:cNvPr id="70" name=""/>
          <p:cNvSpPr/>
          <p:nvPr/>
        </p:nvSpPr>
        <p:spPr>
          <a:xfrm>
            <a:off x="3049920" y="4724280"/>
            <a:ext cx="68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B</a:t>
            </a:r>
            <a:endParaRPr b="0" lang="en-US" sz="1200" spc="-1" strike="noStrike">
              <a:solidFill>
                <a:srgbClr val="000000"/>
              </a:solidFill>
              <a:latin typeface="Times New Roman"/>
            </a:endParaRPr>
          </a:p>
        </p:txBody>
      </p:sp>
      <p:pic>
        <p:nvPicPr>
          <p:cNvPr id="71" name="PRO_BLK" descr=""/>
          <p:cNvPicPr/>
          <p:nvPr/>
        </p:nvPicPr>
        <p:blipFill>
          <a:blip r:embed="rId1"/>
          <a:stretch/>
        </p:blipFill>
        <p:spPr>
          <a:xfrm>
            <a:off x="5562720" y="2133720"/>
            <a:ext cx="2036520" cy="41148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D41041F-D962-445E-8315-E159D58266E6}"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sting SDLs</a:t>
            </a:r>
            <a:endParaRPr b="0" lang="en-US" sz="3600" spc="-1" strike="noStrike">
              <a:solidFill>
                <a:srgbClr val="000000"/>
              </a:solidFill>
              <a:latin typeface="Times New Roman"/>
            </a:endParaRPr>
          </a:p>
        </p:txBody>
      </p:sp>
      <p:sp>
        <p:nvSpPr>
          <p:cNvPr id="73" name=""/>
          <p:cNvSpPr/>
          <p:nvPr/>
        </p:nvSpPr>
        <p:spPr>
          <a:xfrm>
            <a:off x="2225520" y="3468600"/>
            <a:ext cx="9144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83600" y="2895480"/>
            <a:ext cx="197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System/Block/Process</a:t>
            </a:r>
            <a:endParaRPr b="0" lang="en-US" sz="1200" spc="-1" strike="noStrike">
              <a:solidFill>
                <a:srgbClr val="000000"/>
              </a:solidFill>
              <a:latin typeface="Times New Roman"/>
            </a:endParaRPr>
          </a:p>
        </p:txBody>
      </p:sp>
      <p:sp>
        <p:nvSpPr>
          <p:cNvPr id="75" name=""/>
          <p:cNvSpPr/>
          <p:nvPr/>
        </p:nvSpPr>
        <p:spPr>
          <a:xfrm>
            <a:off x="4952880" y="3468600"/>
            <a:ext cx="27432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181480" y="3697200"/>
            <a:ext cx="762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629400" y="3697200"/>
            <a:ext cx="762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43600" y="384984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943240" y="400212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16960" y="2895480"/>
            <a:ext cx="219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System/Block/Process_type</a:t>
            </a:r>
            <a:endParaRPr b="0" lang="en-US" sz="1200" spc="-1" strike="noStrike">
              <a:solidFill>
                <a:srgbClr val="000000"/>
              </a:solidFill>
              <a:latin typeface="Times New Roman"/>
            </a:endParaRPr>
          </a:p>
        </p:txBody>
      </p:sp>
      <p:sp>
        <p:nvSpPr>
          <p:cNvPr id="81" name=""/>
          <p:cNvSpPr/>
          <p:nvPr/>
        </p:nvSpPr>
        <p:spPr>
          <a:xfrm>
            <a:off x="1972080" y="4836960"/>
            <a:ext cx="195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ike Conformance Testing”</a:t>
            </a:r>
            <a:endParaRPr b="0" lang="en-US" sz="1200" spc="-1" strike="noStrike">
              <a:solidFill>
                <a:srgbClr val="000000"/>
              </a:solidFill>
              <a:latin typeface="Times New Roman"/>
            </a:endParaRPr>
          </a:p>
        </p:txBody>
      </p:sp>
      <p:sp>
        <p:nvSpPr>
          <p:cNvPr id="82" name=""/>
          <p:cNvSpPr/>
          <p:nvPr/>
        </p:nvSpPr>
        <p:spPr>
          <a:xfrm>
            <a:off x="5233680" y="491328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ike Interoperability Testing”</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C6E6964-52C0-40BB-BCEF-9E1444C8F3B7}"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15:31:12Z</dcterms:created>
  <dc:creator>David Cypher</dc:creator>
  <dc:description>&lt;doc#&gt;</dc:description>
  <dc:language>en-US</dc:language>
  <cp:lastModifiedBy>David Cypher</cp:lastModifiedBy>
  <cp:lastPrinted>2000-02-28T17:01:08Z</cp:lastPrinted>
  <dcterms:modified xsi:type="dcterms:W3CDTF">2000-02-28T17:06:02Z</dcterms:modified>
  <cp:revision>18</cp:revision>
  <dc:subject>IEEE 802.15 &lt;subject&gt;</dc:subject>
  <dc:title>SDL Overview</dc:title>
</cp:coreProperties>
</file>