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560" y="316080"/>
            <a:ext cx="86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rch  2000                                                                                                                            doc: IEEE 802.15 00/08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4040" y="6400800"/>
            <a:ext cx="89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                                                                  </a:t>
            </a:r>
            <a:fld id="{982597FB-C9AA-43FA-9F6A-22BEA7C0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Bruce Kraemer, Inter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9000" y="650880"/>
            <a:ext cx="69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s and Events of Interest  to 802.15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228600" y="1371600"/>
          <a:ext cx="8702640" cy="26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0264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20:20:12Z</dcterms:created>
  <dc:creator>Bruce Kraemer</dc:creator>
  <dc:description/>
  <dc:language>en-US</dc:language>
  <cp:lastModifiedBy>Bruce Kraemer</cp:lastModifiedBy>
  <dcterms:modified xsi:type="dcterms:W3CDTF">2000-03-09T20:29:13Z</dcterms:modified>
  <cp:revision>1</cp:revision>
  <dc:subject/>
  <dc:title>No Slide Title</dc:title>
</cp:coreProperties>
</file>