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620EB-62E9-4292-AA7C-3BEBA702B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E170-34E3-436F-8FDC-F067B1C8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B52FC-820E-4ACE-8694-205D73259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F0270-8823-4EF9-ADFE-E28D5A0AC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5759-5470-4905-A2BE-95575207A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AF6A-33E1-4602-AF79-12BB8F90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6551-3CC2-408E-B2B5-A6B84102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20F3C-16B9-4B3C-A121-F1F36F5F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86D2-EB1D-4A9F-8F37-78E58A260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DC5D-07FA-41AB-985A-7DBDBE943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42B10-382C-4758-8625-9D90C4B1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AD1B-7339-4477-AA24-F2FBB0CB6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668AB6-3660-4B8D-B7B4-CE0E9ED9E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7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2C00A8C-0243-4290-8EA0-0D94C22F28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Recirculation verses Reconsidera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actors to consider for disposition of Letter Ballot 1, the vote on D0.6</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vide information to enable the decision for the balloting type for the next Draft Letter Ballo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irculation verses Reconsideration</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207A9D5-695C-4F6A-9C36-EE0AB5AFF435}"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 Continuing resolution of an active Letter Ballo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Do Not Approve” voters vo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lauses previously cited as that voter’s reason for the negative vote are eligible for new com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rs that previously voted “Approve” may (but are not required) vote on clauses that have chang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sideration – Draft associated with active Letter Ballot is complete.  Start the ballot ov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B868D58-BA2C-4D73-B767-41643557EA62}"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ircula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pat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ycle possi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Negative votes that still app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re document will ch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ime not appropri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Negative votes that no longer app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D6EFB59-7500-4E27-9723-2BCDB6796C72}"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sider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did not pass and entire document will change anyw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egative votes go aw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mments on Clauses 6 and 7 have been accepted by Bluetooth SIG errata pro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rs who registered comments against D0.6 may think their work was in vain </a:t>
            </a:r>
            <a:br>
              <a:rPr sz="2800"/>
            </a:br>
            <a:r>
              <a:rPr b="0" lang="en-US" sz="2800" spc="-1" strike="noStrike">
                <a:solidFill>
                  <a:srgbClr val="000000"/>
                </a:solidFill>
                <a:latin typeface="Arial"/>
              </a:rPr>
              <a:t>(not tru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2599543-8F7E-495D-88BA-DB6EA0739453}"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00/063</dc:description>
  <dc:language>en-US</dc:language>
  <cp:lastModifiedBy>Tom Siep</cp:lastModifiedBy>
  <cp:lastPrinted>1998-02-10T13:28:06Z</cp:lastPrinted>
  <dcterms:modified xsi:type="dcterms:W3CDTF">2000-03-07T17:04:30Z</dcterms:modified>
  <cp:revision>29</cp:revision>
  <dc:subject>IEEE 802.15.1</dc:subject>
  <dc:title>P802.15.1 Draft Standard Overview</dc:title>
</cp:coreProperties>
</file>