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465D0-E4C1-4B98-8CA6-9AF8637EE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D0C8-B67F-4BE1-B600-4168F8A3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179FE-3CF5-48DB-9308-34323E242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6A00D-0000-4C5C-B9C9-890034554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51AD2-EECB-424B-97DC-F6748117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6070E-9580-4ECD-9015-947680C6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C53B-89CB-4231-A4AE-258376A7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F6CA-3335-4FDC-8D45-453746BA4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37E9-261D-4933-A671-0AA7E5671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D50FA-0803-45CE-AD52-D75EC659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2056-E368-4CC3-AD28-B73556B8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91CC-4B2C-468F-93BC-98C20A190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4830D-D1BE-4CB8-98A5-468AC6DC0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8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91440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HY layer modeling of Bluetooth</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a:t>
            </a:r>
            <a:r>
              <a:rPr b="0" lang="en-US" sz="1600" spc="-1" strike="noStrike">
                <a:solidFill>
                  <a:srgbClr val="ff0000"/>
                </a:solidFill>
                <a:latin typeface="Times New Roman"/>
              </a:rPr>
              <a:t>8 March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im Lansford</a:t>
            </a:r>
            <a:r>
              <a:rPr b="0" lang="en-US" sz="1600" spc="-1" strike="noStrike">
                <a:solidFill>
                  <a:srgbClr val="000000"/>
                </a:solidFill>
                <a:latin typeface="Times New Roman"/>
              </a:rPr>
              <a:t>]    Company: [</a:t>
            </a:r>
            <a:r>
              <a:rPr b="0" lang="en-US" sz="1600" spc="-1" strike="noStrike">
                <a:solidFill>
                  <a:srgbClr val="ff0000"/>
                </a:solidFill>
                <a:latin typeface="Times New Roman"/>
              </a:rPr>
              <a:t>Mobilian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7431 NE Evergreen Rd, Suite 220, Hillsboro, OR  9712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t>
            </a:r>
            <a:r>
              <a:rPr b="0" lang="en-US" sz="1600" spc="-1" strike="noStrike">
                <a:solidFill>
                  <a:srgbClr val="000000"/>
                </a:solidFill>
                <a:latin typeface="Times New Roman"/>
              </a:rPr>
              <a:t>[</a:t>
            </a:r>
            <a:r>
              <a:rPr b="0" lang="en-US" sz="1600" spc="-1" strike="noStrike">
                <a:solidFill>
                  <a:srgbClr val="ff0000"/>
                </a:solidFill>
                <a:latin typeface="Times New Roman"/>
              </a:rPr>
              <a:t>(405) 377-6170</a:t>
            </a:r>
            <a:r>
              <a:rPr b="0" lang="en-US" sz="1600" spc="-1" strike="noStrike">
                <a:solidFill>
                  <a:srgbClr val="000000"/>
                </a:solidFill>
                <a:latin typeface="Times New Roman"/>
              </a:rPr>
              <a:t>], FAX: [ </a:t>
            </a:r>
            <a:r>
              <a:rPr b="0" lang="en-US" sz="1600" spc="-1" strike="noStrike">
                <a:solidFill>
                  <a:srgbClr val="ff0000"/>
                </a:solidFill>
                <a:latin typeface="Times New Roman"/>
              </a:rPr>
              <a:t>(405) 377-6173</a:t>
            </a:r>
            <a:r>
              <a:rPr b="0" lang="en-US" sz="1600" spc="-1" strike="noStrike">
                <a:solidFill>
                  <a:srgbClr val="000000"/>
                </a:solidFill>
                <a:latin typeface="Times New Roman"/>
              </a:rPr>
              <a:t>], E-Mail:[</a:t>
            </a:r>
            <a:r>
              <a:rPr b="0" lang="en-US" sz="1600" spc="-1" strike="noStrike">
                <a:solidFill>
                  <a:srgbClr val="ff0000"/>
                </a:solidFill>
                <a:latin typeface="Times New Roman"/>
              </a:rPr>
              <a:t>jimlans@mobilia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presentation summarizes some early work on modeling the Bluetooth physical layer using Matlab.  When combined with MAC layer modeling also being done in TG2, it should allow reasonable estimates of system performance to be mad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o better quantify effects of noise and interference on bit streams emerging from the Bluetooth PH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574D4C4-4D17-4E93-A4EA-5AB14595416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11DS Signal</a:t>
            </a:r>
            <a:endParaRPr b="0" lang="en-US" sz="3600" spc="-1" strike="noStrike">
              <a:solidFill>
                <a:srgbClr val="000000"/>
              </a:solidFill>
              <a:latin typeface="Times New Roman"/>
            </a:endParaRPr>
          </a:p>
        </p:txBody>
      </p:sp>
      <p:sp>
        <p:nvSpPr>
          <p:cNvPr id="304" name=""/>
          <p:cNvSpPr/>
          <p:nvPr/>
        </p:nvSpPr>
        <p:spPr>
          <a:xfrm>
            <a:off x="210996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13848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6736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18652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21504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243920" y="209556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09960" y="540072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2109960" y="492444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2109960" y="445788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109960" y="398160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2109960" y="351468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2109960" y="303840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109960" y="257184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2109960" y="209556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109960" y="209556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109960" y="209556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109960" y="209556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109960" y="2095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24392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109960" y="2095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24392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10996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210996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1" name=""/>
          <p:cNvSpPr/>
          <p:nvPr/>
        </p:nvSpPr>
        <p:spPr>
          <a:xfrm>
            <a:off x="210996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2" name=""/>
          <p:cNvSpPr/>
          <p:nvPr/>
        </p:nvSpPr>
        <p:spPr>
          <a:xfrm>
            <a:off x="2104920" y="5438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3" name=""/>
          <p:cNvSpPr/>
          <p:nvPr/>
        </p:nvSpPr>
        <p:spPr>
          <a:xfrm flipV="1">
            <a:off x="313848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313848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 name=""/>
          <p:cNvSpPr/>
          <p:nvPr/>
        </p:nvSpPr>
        <p:spPr>
          <a:xfrm>
            <a:off x="3064680" y="5438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36" name=""/>
          <p:cNvSpPr/>
          <p:nvPr/>
        </p:nvSpPr>
        <p:spPr>
          <a:xfrm flipV="1">
            <a:off x="416736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7" name=""/>
          <p:cNvSpPr/>
          <p:nvPr/>
        </p:nvSpPr>
        <p:spPr>
          <a:xfrm>
            <a:off x="416736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 name=""/>
          <p:cNvSpPr/>
          <p:nvPr/>
        </p:nvSpPr>
        <p:spPr>
          <a:xfrm>
            <a:off x="4162320" y="5438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9" name=""/>
          <p:cNvSpPr/>
          <p:nvPr/>
        </p:nvSpPr>
        <p:spPr>
          <a:xfrm flipV="1">
            <a:off x="518652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 name=""/>
          <p:cNvSpPr/>
          <p:nvPr/>
        </p:nvSpPr>
        <p:spPr>
          <a:xfrm>
            <a:off x="518652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1" name=""/>
          <p:cNvSpPr/>
          <p:nvPr/>
        </p:nvSpPr>
        <p:spPr>
          <a:xfrm>
            <a:off x="5112720" y="5438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42" name=""/>
          <p:cNvSpPr/>
          <p:nvPr/>
        </p:nvSpPr>
        <p:spPr>
          <a:xfrm flipV="1">
            <a:off x="621504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3" name=""/>
          <p:cNvSpPr/>
          <p:nvPr/>
        </p:nvSpPr>
        <p:spPr>
          <a:xfrm>
            <a:off x="621504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4" name=""/>
          <p:cNvSpPr/>
          <p:nvPr/>
        </p:nvSpPr>
        <p:spPr>
          <a:xfrm>
            <a:off x="6210000" y="5438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45" name=""/>
          <p:cNvSpPr/>
          <p:nvPr/>
        </p:nvSpPr>
        <p:spPr>
          <a:xfrm flipV="1">
            <a:off x="724392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6" name=""/>
          <p:cNvSpPr/>
          <p:nvPr/>
        </p:nvSpPr>
        <p:spPr>
          <a:xfrm>
            <a:off x="724392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7170120" y="5438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48" name=""/>
          <p:cNvSpPr/>
          <p:nvPr/>
        </p:nvSpPr>
        <p:spPr>
          <a:xfrm>
            <a:off x="6936840" y="5686560"/>
            <a:ext cx="29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0</a:t>
            </a:r>
            <a:endParaRPr b="0" lang="en-US" sz="1200" spc="-1" strike="noStrike">
              <a:solidFill>
                <a:srgbClr val="000000"/>
              </a:solidFill>
              <a:latin typeface="Times New Roman"/>
            </a:endParaRPr>
          </a:p>
        </p:txBody>
      </p:sp>
      <p:sp>
        <p:nvSpPr>
          <p:cNvPr id="349" name=""/>
          <p:cNvSpPr/>
          <p:nvPr/>
        </p:nvSpPr>
        <p:spPr>
          <a:xfrm>
            <a:off x="7210440" y="5638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350" name=""/>
          <p:cNvSpPr/>
          <p:nvPr/>
        </p:nvSpPr>
        <p:spPr>
          <a:xfrm>
            <a:off x="2109960" y="54007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flipH="1">
            <a:off x="7195680" y="540072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1884600" y="53150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53" name=""/>
          <p:cNvSpPr/>
          <p:nvPr/>
        </p:nvSpPr>
        <p:spPr>
          <a:xfrm>
            <a:off x="2109960" y="49244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7195680" y="492444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1884600" y="48387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56" name=""/>
          <p:cNvSpPr/>
          <p:nvPr/>
        </p:nvSpPr>
        <p:spPr>
          <a:xfrm>
            <a:off x="2109960" y="44578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7195680" y="445788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1884600" y="43718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9" name=""/>
          <p:cNvSpPr/>
          <p:nvPr/>
        </p:nvSpPr>
        <p:spPr>
          <a:xfrm>
            <a:off x="2109960" y="39816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flipH="1">
            <a:off x="7195680" y="398160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2019240" y="3895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62" name=""/>
          <p:cNvSpPr/>
          <p:nvPr/>
        </p:nvSpPr>
        <p:spPr>
          <a:xfrm>
            <a:off x="2109960" y="35146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flipH="1">
            <a:off x="7195680" y="351468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1933560" y="342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65" name=""/>
          <p:cNvSpPr/>
          <p:nvPr/>
        </p:nvSpPr>
        <p:spPr>
          <a:xfrm>
            <a:off x="2109960" y="303840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flipH="1">
            <a:off x="7195680" y="303840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1933560" y="29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68" name=""/>
          <p:cNvSpPr/>
          <p:nvPr/>
        </p:nvSpPr>
        <p:spPr>
          <a:xfrm>
            <a:off x="2109960" y="25718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flipH="1">
            <a:off x="7195680" y="257184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933560" y="2486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71" name=""/>
          <p:cNvSpPr/>
          <p:nvPr/>
        </p:nvSpPr>
        <p:spPr>
          <a:xfrm>
            <a:off x="2109960" y="2095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flipH="1">
            <a:off x="7195680" y="209556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1933560" y="200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374"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2109960" y="2095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724392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10996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7243920" y="2095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a:off x="2109960" y="2276640"/>
            <a:ext cx="4514760" cy="2933640"/>
          </a:xfrm>
          <a:custGeom>
            <a:avLst/>
            <a:gdLst/>
            <a:ahLst/>
            <a:rect l="l" t="t" r="r" b="b"/>
            <a:pathLst>
              <a:path w="2844" h="1848">
                <a:moveTo>
                  <a:pt x="0" y="1380"/>
                </a:moveTo>
                <a:lnTo>
                  <a:pt x="0" y="1320"/>
                </a:lnTo>
                <a:lnTo>
                  <a:pt x="0" y="1560"/>
                </a:lnTo>
                <a:lnTo>
                  <a:pt x="6" y="1320"/>
                </a:lnTo>
                <a:lnTo>
                  <a:pt x="6" y="1356"/>
                </a:lnTo>
                <a:lnTo>
                  <a:pt x="6" y="1194"/>
                </a:lnTo>
                <a:lnTo>
                  <a:pt x="6" y="1242"/>
                </a:lnTo>
                <a:lnTo>
                  <a:pt x="12" y="1446"/>
                </a:lnTo>
                <a:lnTo>
                  <a:pt x="12" y="1452"/>
                </a:lnTo>
                <a:lnTo>
                  <a:pt x="12" y="1368"/>
                </a:lnTo>
                <a:lnTo>
                  <a:pt x="12" y="1320"/>
                </a:lnTo>
                <a:lnTo>
                  <a:pt x="18" y="1416"/>
                </a:lnTo>
                <a:lnTo>
                  <a:pt x="18" y="1500"/>
                </a:lnTo>
                <a:lnTo>
                  <a:pt x="18" y="1326"/>
                </a:lnTo>
                <a:lnTo>
                  <a:pt x="18" y="1266"/>
                </a:lnTo>
                <a:lnTo>
                  <a:pt x="24" y="1020"/>
                </a:lnTo>
                <a:lnTo>
                  <a:pt x="24" y="1212"/>
                </a:lnTo>
                <a:lnTo>
                  <a:pt x="24" y="1554"/>
                </a:lnTo>
                <a:lnTo>
                  <a:pt x="24" y="1104"/>
                </a:lnTo>
                <a:lnTo>
                  <a:pt x="30" y="1050"/>
                </a:lnTo>
                <a:lnTo>
                  <a:pt x="30" y="1134"/>
                </a:lnTo>
                <a:lnTo>
                  <a:pt x="30" y="918"/>
                </a:lnTo>
                <a:lnTo>
                  <a:pt x="30" y="1086"/>
                </a:lnTo>
                <a:lnTo>
                  <a:pt x="30" y="1218"/>
                </a:lnTo>
                <a:lnTo>
                  <a:pt x="36" y="1590"/>
                </a:lnTo>
                <a:lnTo>
                  <a:pt x="36" y="1146"/>
                </a:lnTo>
                <a:lnTo>
                  <a:pt x="36" y="1038"/>
                </a:lnTo>
                <a:lnTo>
                  <a:pt x="36" y="1098"/>
                </a:lnTo>
                <a:lnTo>
                  <a:pt x="42" y="1320"/>
                </a:lnTo>
                <a:lnTo>
                  <a:pt x="42" y="1092"/>
                </a:lnTo>
                <a:lnTo>
                  <a:pt x="42" y="996"/>
                </a:lnTo>
                <a:lnTo>
                  <a:pt x="42" y="1146"/>
                </a:lnTo>
                <a:lnTo>
                  <a:pt x="48" y="1356"/>
                </a:lnTo>
                <a:lnTo>
                  <a:pt x="48" y="1230"/>
                </a:lnTo>
                <a:lnTo>
                  <a:pt x="48" y="1182"/>
                </a:lnTo>
                <a:lnTo>
                  <a:pt x="48" y="1494"/>
                </a:lnTo>
                <a:lnTo>
                  <a:pt x="54" y="1368"/>
                </a:lnTo>
                <a:lnTo>
                  <a:pt x="54" y="990"/>
                </a:lnTo>
                <a:lnTo>
                  <a:pt x="54" y="954"/>
                </a:lnTo>
                <a:lnTo>
                  <a:pt x="54" y="1128"/>
                </a:lnTo>
                <a:lnTo>
                  <a:pt x="54" y="1032"/>
                </a:lnTo>
                <a:lnTo>
                  <a:pt x="60" y="1284"/>
                </a:lnTo>
                <a:lnTo>
                  <a:pt x="60" y="1098"/>
                </a:lnTo>
                <a:lnTo>
                  <a:pt x="60" y="1062"/>
                </a:lnTo>
                <a:lnTo>
                  <a:pt x="60" y="1278"/>
                </a:lnTo>
                <a:lnTo>
                  <a:pt x="66" y="1254"/>
                </a:lnTo>
                <a:lnTo>
                  <a:pt x="66" y="1176"/>
                </a:lnTo>
                <a:lnTo>
                  <a:pt x="66" y="960"/>
                </a:lnTo>
                <a:lnTo>
                  <a:pt x="66" y="1032"/>
                </a:lnTo>
                <a:lnTo>
                  <a:pt x="72" y="1080"/>
                </a:lnTo>
                <a:lnTo>
                  <a:pt x="72" y="1224"/>
                </a:lnTo>
                <a:lnTo>
                  <a:pt x="72" y="1266"/>
                </a:lnTo>
                <a:lnTo>
                  <a:pt x="72" y="1176"/>
                </a:lnTo>
                <a:lnTo>
                  <a:pt x="78" y="1038"/>
                </a:lnTo>
                <a:lnTo>
                  <a:pt x="78" y="1146"/>
                </a:lnTo>
                <a:lnTo>
                  <a:pt x="78" y="990"/>
                </a:lnTo>
                <a:lnTo>
                  <a:pt x="78" y="1248"/>
                </a:lnTo>
                <a:lnTo>
                  <a:pt x="84" y="978"/>
                </a:lnTo>
                <a:lnTo>
                  <a:pt x="84" y="948"/>
                </a:lnTo>
                <a:lnTo>
                  <a:pt x="84" y="1098"/>
                </a:lnTo>
                <a:lnTo>
                  <a:pt x="84" y="1506"/>
                </a:lnTo>
                <a:lnTo>
                  <a:pt x="84" y="1080"/>
                </a:lnTo>
                <a:lnTo>
                  <a:pt x="90" y="900"/>
                </a:lnTo>
                <a:lnTo>
                  <a:pt x="90" y="1200"/>
                </a:lnTo>
                <a:lnTo>
                  <a:pt x="90" y="1248"/>
                </a:lnTo>
                <a:lnTo>
                  <a:pt x="90" y="948"/>
                </a:lnTo>
                <a:lnTo>
                  <a:pt x="96" y="1014"/>
                </a:lnTo>
                <a:lnTo>
                  <a:pt x="96" y="1140"/>
                </a:lnTo>
                <a:lnTo>
                  <a:pt x="96" y="930"/>
                </a:lnTo>
                <a:lnTo>
                  <a:pt x="96" y="876"/>
                </a:lnTo>
                <a:lnTo>
                  <a:pt x="102" y="894"/>
                </a:lnTo>
                <a:lnTo>
                  <a:pt x="102" y="1332"/>
                </a:lnTo>
                <a:lnTo>
                  <a:pt x="102" y="1062"/>
                </a:lnTo>
                <a:lnTo>
                  <a:pt x="102" y="1008"/>
                </a:lnTo>
                <a:lnTo>
                  <a:pt x="108" y="762"/>
                </a:lnTo>
                <a:lnTo>
                  <a:pt x="108" y="834"/>
                </a:lnTo>
                <a:lnTo>
                  <a:pt x="108" y="1080"/>
                </a:lnTo>
                <a:lnTo>
                  <a:pt x="108" y="930"/>
                </a:lnTo>
                <a:lnTo>
                  <a:pt x="108" y="1452"/>
                </a:lnTo>
                <a:lnTo>
                  <a:pt x="114" y="1254"/>
                </a:lnTo>
                <a:lnTo>
                  <a:pt x="114" y="768"/>
                </a:lnTo>
                <a:lnTo>
                  <a:pt x="114" y="804"/>
                </a:lnTo>
                <a:lnTo>
                  <a:pt x="114" y="1434"/>
                </a:lnTo>
                <a:lnTo>
                  <a:pt x="120" y="1260"/>
                </a:lnTo>
                <a:lnTo>
                  <a:pt x="120" y="1200"/>
                </a:lnTo>
                <a:lnTo>
                  <a:pt x="120" y="1014"/>
                </a:lnTo>
                <a:lnTo>
                  <a:pt x="120" y="954"/>
                </a:lnTo>
                <a:lnTo>
                  <a:pt x="126" y="1344"/>
                </a:lnTo>
                <a:lnTo>
                  <a:pt x="126" y="1122"/>
                </a:lnTo>
                <a:lnTo>
                  <a:pt x="126" y="948"/>
                </a:lnTo>
                <a:lnTo>
                  <a:pt x="126" y="918"/>
                </a:lnTo>
                <a:lnTo>
                  <a:pt x="132" y="1014"/>
                </a:lnTo>
                <a:lnTo>
                  <a:pt x="132" y="1008"/>
                </a:lnTo>
                <a:lnTo>
                  <a:pt x="132" y="1152"/>
                </a:lnTo>
                <a:lnTo>
                  <a:pt x="132" y="954"/>
                </a:lnTo>
                <a:lnTo>
                  <a:pt x="138" y="1128"/>
                </a:lnTo>
                <a:lnTo>
                  <a:pt x="138" y="1074"/>
                </a:lnTo>
                <a:lnTo>
                  <a:pt x="138" y="900"/>
                </a:lnTo>
                <a:lnTo>
                  <a:pt x="138" y="1368"/>
                </a:lnTo>
                <a:lnTo>
                  <a:pt x="138" y="1374"/>
                </a:lnTo>
                <a:lnTo>
                  <a:pt x="144" y="1266"/>
                </a:lnTo>
                <a:lnTo>
                  <a:pt x="144" y="1290"/>
                </a:lnTo>
                <a:lnTo>
                  <a:pt x="144" y="1524"/>
                </a:lnTo>
                <a:lnTo>
                  <a:pt x="144" y="1512"/>
                </a:lnTo>
                <a:lnTo>
                  <a:pt x="150" y="1074"/>
                </a:lnTo>
                <a:lnTo>
                  <a:pt x="150" y="1002"/>
                </a:lnTo>
                <a:lnTo>
                  <a:pt x="150" y="1134"/>
                </a:lnTo>
                <a:lnTo>
                  <a:pt x="150" y="1290"/>
                </a:lnTo>
                <a:lnTo>
                  <a:pt x="156" y="1260"/>
                </a:lnTo>
                <a:lnTo>
                  <a:pt x="156" y="888"/>
                </a:lnTo>
                <a:lnTo>
                  <a:pt x="156" y="744"/>
                </a:lnTo>
                <a:lnTo>
                  <a:pt x="156" y="888"/>
                </a:lnTo>
                <a:lnTo>
                  <a:pt x="162" y="1014"/>
                </a:lnTo>
                <a:lnTo>
                  <a:pt x="162" y="882"/>
                </a:lnTo>
                <a:lnTo>
                  <a:pt x="162" y="828"/>
                </a:lnTo>
                <a:lnTo>
                  <a:pt x="162" y="1158"/>
                </a:lnTo>
                <a:lnTo>
                  <a:pt x="168" y="1038"/>
                </a:lnTo>
                <a:lnTo>
                  <a:pt x="168" y="1020"/>
                </a:lnTo>
                <a:lnTo>
                  <a:pt x="168" y="1026"/>
                </a:lnTo>
                <a:lnTo>
                  <a:pt x="168" y="1188"/>
                </a:lnTo>
                <a:lnTo>
                  <a:pt x="168" y="990"/>
                </a:lnTo>
                <a:lnTo>
                  <a:pt x="174" y="990"/>
                </a:lnTo>
                <a:lnTo>
                  <a:pt x="174" y="1206"/>
                </a:lnTo>
                <a:lnTo>
                  <a:pt x="174" y="984"/>
                </a:lnTo>
                <a:lnTo>
                  <a:pt x="174" y="906"/>
                </a:lnTo>
                <a:lnTo>
                  <a:pt x="180" y="1002"/>
                </a:lnTo>
                <a:lnTo>
                  <a:pt x="180" y="1116"/>
                </a:lnTo>
                <a:lnTo>
                  <a:pt x="180" y="786"/>
                </a:lnTo>
                <a:lnTo>
                  <a:pt x="180" y="726"/>
                </a:lnTo>
                <a:lnTo>
                  <a:pt x="186" y="870"/>
                </a:lnTo>
                <a:lnTo>
                  <a:pt x="186" y="1086"/>
                </a:lnTo>
                <a:lnTo>
                  <a:pt x="186" y="1074"/>
                </a:lnTo>
                <a:lnTo>
                  <a:pt x="186" y="744"/>
                </a:lnTo>
                <a:lnTo>
                  <a:pt x="192" y="738"/>
                </a:lnTo>
                <a:lnTo>
                  <a:pt x="192" y="822"/>
                </a:lnTo>
                <a:lnTo>
                  <a:pt x="192" y="1212"/>
                </a:lnTo>
                <a:lnTo>
                  <a:pt x="192" y="1140"/>
                </a:lnTo>
                <a:lnTo>
                  <a:pt x="192" y="1092"/>
                </a:lnTo>
                <a:lnTo>
                  <a:pt x="198" y="828"/>
                </a:lnTo>
                <a:lnTo>
                  <a:pt x="198" y="846"/>
                </a:lnTo>
                <a:lnTo>
                  <a:pt x="198" y="1098"/>
                </a:lnTo>
                <a:lnTo>
                  <a:pt x="198" y="1080"/>
                </a:lnTo>
                <a:lnTo>
                  <a:pt x="204" y="1038"/>
                </a:lnTo>
                <a:lnTo>
                  <a:pt x="204" y="1068"/>
                </a:lnTo>
                <a:lnTo>
                  <a:pt x="204" y="1140"/>
                </a:lnTo>
                <a:lnTo>
                  <a:pt x="204" y="1038"/>
                </a:lnTo>
                <a:lnTo>
                  <a:pt x="210" y="1056"/>
                </a:lnTo>
                <a:lnTo>
                  <a:pt x="210" y="804"/>
                </a:lnTo>
                <a:lnTo>
                  <a:pt x="210" y="906"/>
                </a:lnTo>
                <a:lnTo>
                  <a:pt x="210" y="1152"/>
                </a:lnTo>
                <a:lnTo>
                  <a:pt x="216" y="1170"/>
                </a:lnTo>
                <a:lnTo>
                  <a:pt x="216" y="1038"/>
                </a:lnTo>
                <a:lnTo>
                  <a:pt x="216" y="816"/>
                </a:lnTo>
                <a:lnTo>
                  <a:pt x="216" y="756"/>
                </a:lnTo>
                <a:lnTo>
                  <a:pt x="222" y="810"/>
                </a:lnTo>
                <a:lnTo>
                  <a:pt x="222" y="1458"/>
                </a:lnTo>
                <a:lnTo>
                  <a:pt x="222" y="1002"/>
                </a:lnTo>
                <a:lnTo>
                  <a:pt x="222" y="804"/>
                </a:lnTo>
                <a:lnTo>
                  <a:pt x="222" y="732"/>
                </a:lnTo>
                <a:lnTo>
                  <a:pt x="228" y="876"/>
                </a:lnTo>
                <a:lnTo>
                  <a:pt x="228" y="1260"/>
                </a:lnTo>
                <a:lnTo>
                  <a:pt x="228" y="954"/>
                </a:lnTo>
                <a:lnTo>
                  <a:pt x="234" y="1020"/>
                </a:lnTo>
                <a:lnTo>
                  <a:pt x="234" y="1284"/>
                </a:lnTo>
                <a:lnTo>
                  <a:pt x="234" y="1068"/>
                </a:lnTo>
                <a:lnTo>
                  <a:pt x="234" y="1104"/>
                </a:lnTo>
                <a:lnTo>
                  <a:pt x="240" y="1194"/>
                </a:lnTo>
                <a:lnTo>
                  <a:pt x="240" y="1116"/>
                </a:lnTo>
                <a:lnTo>
                  <a:pt x="240" y="1188"/>
                </a:lnTo>
                <a:lnTo>
                  <a:pt x="240" y="1590"/>
                </a:lnTo>
                <a:lnTo>
                  <a:pt x="246" y="990"/>
                </a:lnTo>
                <a:lnTo>
                  <a:pt x="246" y="882"/>
                </a:lnTo>
                <a:lnTo>
                  <a:pt x="246" y="978"/>
                </a:lnTo>
                <a:lnTo>
                  <a:pt x="246" y="1038"/>
                </a:lnTo>
                <a:lnTo>
                  <a:pt x="252" y="960"/>
                </a:lnTo>
                <a:lnTo>
                  <a:pt x="252" y="870"/>
                </a:lnTo>
                <a:lnTo>
                  <a:pt x="252" y="1008"/>
                </a:lnTo>
                <a:lnTo>
                  <a:pt x="252" y="1554"/>
                </a:lnTo>
                <a:lnTo>
                  <a:pt x="252" y="1152"/>
                </a:lnTo>
                <a:lnTo>
                  <a:pt x="258" y="1122"/>
                </a:lnTo>
                <a:lnTo>
                  <a:pt x="258" y="1236"/>
                </a:lnTo>
                <a:lnTo>
                  <a:pt x="258" y="1224"/>
                </a:lnTo>
                <a:lnTo>
                  <a:pt x="258" y="1740"/>
                </a:lnTo>
                <a:lnTo>
                  <a:pt x="264" y="1212"/>
                </a:lnTo>
                <a:lnTo>
                  <a:pt x="264" y="1158"/>
                </a:lnTo>
                <a:lnTo>
                  <a:pt x="264" y="1068"/>
                </a:lnTo>
                <a:lnTo>
                  <a:pt x="264" y="1614"/>
                </a:lnTo>
                <a:lnTo>
                  <a:pt x="270" y="1068"/>
                </a:lnTo>
                <a:lnTo>
                  <a:pt x="270" y="1056"/>
                </a:lnTo>
                <a:lnTo>
                  <a:pt x="270" y="1326"/>
                </a:lnTo>
                <a:lnTo>
                  <a:pt x="270" y="1128"/>
                </a:lnTo>
                <a:lnTo>
                  <a:pt x="276" y="1170"/>
                </a:lnTo>
                <a:lnTo>
                  <a:pt x="276" y="1116"/>
                </a:lnTo>
                <a:lnTo>
                  <a:pt x="276" y="1050"/>
                </a:lnTo>
                <a:lnTo>
                  <a:pt x="276" y="960"/>
                </a:lnTo>
                <a:lnTo>
                  <a:pt x="276" y="918"/>
                </a:lnTo>
                <a:lnTo>
                  <a:pt x="282" y="1014"/>
                </a:lnTo>
                <a:lnTo>
                  <a:pt x="282" y="1170"/>
                </a:lnTo>
                <a:lnTo>
                  <a:pt x="282" y="1524"/>
                </a:lnTo>
                <a:lnTo>
                  <a:pt x="282" y="1056"/>
                </a:lnTo>
                <a:lnTo>
                  <a:pt x="288" y="1254"/>
                </a:lnTo>
                <a:lnTo>
                  <a:pt x="288" y="1116"/>
                </a:lnTo>
                <a:lnTo>
                  <a:pt x="288" y="1314"/>
                </a:lnTo>
                <a:lnTo>
                  <a:pt x="288" y="1302"/>
                </a:lnTo>
                <a:lnTo>
                  <a:pt x="294" y="960"/>
                </a:lnTo>
                <a:lnTo>
                  <a:pt x="294" y="1020"/>
                </a:lnTo>
                <a:lnTo>
                  <a:pt x="294" y="1308"/>
                </a:lnTo>
                <a:lnTo>
                  <a:pt x="294" y="1506"/>
                </a:lnTo>
                <a:lnTo>
                  <a:pt x="300" y="1008"/>
                </a:lnTo>
                <a:lnTo>
                  <a:pt x="300" y="1128"/>
                </a:lnTo>
                <a:lnTo>
                  <a:pt x="300" y="828"/>
                </a:lnTo>
                <a:lnTo>
                  <a:pt x="300" y="888"/>
                </a:lnTo>
                <a:lnTo>
                  <a:pt x="306" y="1134"/>
                </a:lnTo>
                <a:lnTo>
                  <a:pt x="306" y="1338"/>
                </a:lnTo>
                <a:lnTo>
                  <a:pt x="306" y="1842"/>
                </a:lnTo>
                <a:lnTo>
                  <a:pt x="306" y="996"/>
                </a:lnTo>
                <a:lnTo>
                  <a:pt x="306" y="972"/>
                </a:lnTo>
                <a:lnTo>
                  <a:pt x="312" y="996"/>
                </a:lnTo>
                <a:lnTo>
                  <a:pt x="312" y="1374"/>
                </a:lnTo>
                <a:lnTo>
                  <a:pt x="312" y="894"/>
                </a:lnTo>
                <a:lnTo>
                  <a:pt x="312" y="1020"/>
                </a:lnTo>
                <a:lnTo>
                  <a:pt x="318" y="1092"/>
                </a:lnTo>
                <a:lnTo>
                  <a:pt x="318" y="1050"/>
                </a:lnTo>
                <a:lnTo>
                  <a:pt x="318" y="948"/>
                </a:lnTo>
                <a:lnTo>
                  <a:pt x="318" y="1080"/>
                </a:lnTo>
                <a:lnTo>
                  <a:pt x="324" y="1380"/>
                </a:lnTo>
                <a:lnTo>
                  <a:pt x="324" y="1458"/>
                </a:lnTo>
                <a:lnTo>
                  <a:pt x="324" y="984"/>
                </a:lnTo>
                <a:lnTo>
                  <a:pt x="324" y="1074"/>
                </a:lnTo>
                <a:lnTo>
                  <a:pt x="330" y="1002"/>
                </a:lnTo>
                <a:lnTo>
                  <a:pt x="330" y="1098"/>
                </a:lnTo>
                <a:lnTo>
                  <a:pt x="330" y="1272"/>
                </a:lnTo>
                <a:lnTo>
                  <a:pt x="330" y="1128"/>
                </a:lnTo>
                <a:lnTo>
                  <a:pt x="330" y="1194"/>
                </a:lnTo>
                <a:lnTo>
                  <a:pt x="336" y="1596"/>
                </a:lnTo>
                <a:lnTo>
                  <a:pt x="336" y="1566"/>
                </a:lnTo>
                <a:lnTo>
                  <a:pt x="336" y="1032"/>
                </a:lnTo>
                <a:lnTo>
                  <a:pt x="336" y="1356"/>
                </a:lnTo>
                <a:lnTo>
                  <a:pt x="342" y="1044"/>
                </a:lnTo>
                <a:lnTo>
                  <a:pt x="342" y="1374"/>
                </a:lnTo>
                <a:lnTo>
                  <a:pt x="342" y="1464"/>
                </a:lnTo>
                <a:lnTo>
                  <a:pt x="342" y="1278"/>
                </a:lnTo>
                <a:lnTo>
                  <a:pt x="348" y="1248"/>
                </a:lnTo>
                <a:lnTo>
                  <a:pt x="348" y="1254"/>
                </a:lnTo>
                <a:lnTo>
                  <a:pt x="348" y="1146"/>
                </a:lnTo>
                <a:lnTo>
                  <a:pt x="348" y="1020"/>
                </a:lnTo>
                <a:lnTo>
                  <a:pt x="354" y="1308"/>
                </a:lnTo>
                <a:lnTo>
                  <a:pt x="354" y="1158"/>
                </a:lnTo>
                <a:lnTo>
                  <a:pt x="354" y="1404"/>
                </a:lnTo>
                <a:lnTo>
                  <a:pt x="354" y="1362"/>
                </a:lnTo>
                <a:lnTo>
                  <a:pt x="360" y="1182"/>
                </a:lnTo>
                <a:lnTo>
                  <a:pt x="360" y="942"/>
                </a:lnTo>
                <a:lnTo>
                  <a:pt x="360" y="966"/>
                </a:lnTo>
                <a:lnTo>
                  <a:pt x="360" y="1056"/>
                </a:lnTo>
                <a:lnTo>
                  <a:pt x="360" y="1218"/>
                </a:lnTo>
                <a:lnTo>
                  <a:pt x="366" y="990"/>
                </a:lnTo>
                <a:lnTo>
                  <a:pt x="366" y="1188"/>
                </a:lnTo>
                <a:lnTo>
                  <a:pt x="366" y="1086"/>
                </a:lnTo>
                <a:lnTo>
                  <a:pt x="366" y="1080"/>
                </a:lnTo>
                <a:lnTo>
                  <a:pt x="372" y="1152"/>
                </a:lnTo>
                <a:lnTo>
                  <a:pt x="372" y="1686"/>
                </a:lnTo>
                <a:lnTo>
                  <a:pt x="372" y="1560"/>
                </a:lnTo>
                <a:lnTo>
                  <a:pt x="372" y="1380"/>
                </a:lnTo>
                <a:lnTo>
                  <a:pt x="378" y="1104"/>
                </a:lnTo>
                <a:lnTo>
                  <a:pt x="378" y="990"/>
                </a:lnTo>
                <a:lnTo>
                  <a:pt x="378" y="1152"/>
                </a:lnTo>
                <a:lnTo>
                  <a:pt x="378" y="1194"/>
                </a:lnTo>
                <a:lnTo>
                  <a:pt x="384" y="1362"/>
                </a:lnTo>
                <a:lnTo>
                  <a:pt x="384" y="1302"/>
                </a:lnTo>
                <a:lnTo>
                  <a:pt x="384" y="1434"/>
                </a:lnTo>
                <a:lnTo>
                  <a:pt x="384" y="1386"/>
                </a:lnTo>
                <a:lnTo>
                  <a:pt x="390" y="1290"/>
                </a:lnTo>
                <a:lnTo>
                  <a:pt x="390" y="1464"/>
                </a:lnTo>
                <a:lnTo>
                  <a:pt x="390" y="1254"/>
                </a:lnTo>
                <a:lnTo>
                  <a:pt x="390" y="1248"/>
                </a:lnTo>
                <a:lnTo>
                  <a:pt x="390" y="1422"/>
                </a:lnTo>
                <a:lnTo>
                  <a:pt x="396" y="1548"/>
                </a:lnTo>
                <a:lnTo>
                  <a:pt x="396" y="1398"/>
                </a:lnTo>
                <a:lnTo>
                  <a:pt x="396" y="1290"/>
                </a:lnTo>
                <a:lnTo>
                  <a:pt x="396" y="1128"/>
                </a:lnTo>
                <a:lnTo>
                  <a:pt x="402" y="1128"/>
                </a:lnTo>
                <a:lnTo>
                  <a:pt x="402" y="1326"/>
                </a:lnTo>
                <a:lnTo>
                  <a:pt x="402" y="1278"/>
                </a:lnTo>
                <a:lnTo>
                  <a:pt x="402" y="1374"/>
                </a:lnTo>
                <a:lnTo>
                  <a:pt x="408" y="1596"/>
                </a:lnTo>
                <a:lnTo>
                  <a:pt x="408" y="1440"/>
                </a:lnTo>
                <a:lnTo>
                  <a:pt x="408" y="1548"/>
                </a:lnTo>
                <a:lnTo>
                  <a:pt x="408" y="1302"/>
                </a:lnTo>
                <a:lnTo>
                  <a:pt x="414" y="1320"/>
                </a:lnTo>
                <a:lnTo>
                  <a:pt x="414" y="1188"/>
                </a:lnTo>
                <a:lnTo>
                  <a:pt x="414" y="1110"/>
                </a:lnTo>
                <a:lnTo>
                  <a:pt x="414" y="1152"/>
                </a:lnTo>
                <a:lnTo>
                  <a:pt x="414" y="1464"/>
                </a:lnTo>
                <a:lnTo>
                  <a:pt x="420" y="1422"/>
                </a:lnTo>
                <a:lnTo>
                  <a:pt x="420" y="1356"/>
                </a:lnTo>
                <a:lnTo>
                  <a:pt x="420" y="1410"/>
                </a:lnTo>
                <a:lnTo>
                  <a:pt x="420" y="1314"/>
                </a:lnTo>
                <a:lnTo>
                  <a:pt x="426" y="1524"/>
                </a:lnTo>
                <a:lnTo>
                  <a:pt x="426" y="1374"/>
                </a:lnTo>
                <a:lnTo>
                  <a:pt x="426" y="1206"/>
                </a:lnTo>
                <a:lnTo>
                  <a:pt x="426" y="1146"/>
                </a:lnTo>
                <a:lnTo>
                  <a:pt x="432" y="1494"/>
                </a:lnTo>
                <a:lnTo>
                  <a:pt x="432" y="1758"/>
                </a:lnTo>
                <a:lnTo>
                  <a:pt x="432" y="1248"/>
                </a:lnTo>
                <a:lnTo>
                  <a:pt x="432" y="1326"/>
                </a:lnTo>
                <a:lnTo>
                  <a:pt x="438" y="1038"/>
                </a:lnTo>
                <a:lnTo>
                  <a:pt x="438" y="1008"/>
                </a:lnTo>
                <a:lnTo>
                  <a:pt x="438" y="1242"/>
                </a:lnTo>
                <a:lnTo>
                  <a:pt x="438" y="1344"/>
                </a:lnTo>
                <a:lnTo>
                  <a:pt x="444" y="1668"/>
                </a:lnTo>
                <a:lnTo>
                  <a:pt x="444" y="1134"/>
                </a:lnTo>
                <a:lnTo>
                  <a:pt x="444" y="1116"/>
                </a:lnTo>
                <a:lnTo>
                  <a:pt x="444" y="1110"/>
                </a:lnTo>
                <a:lnTo>
                  <a:pt x="444" y="1422"/>
                </a:lnTo>
                <a:lnTo>
                  <a:pt x="450" y="1146"/>
                </a:lnTo>
                <a:lnTo>
                  <a:pt x="450" y="1116"/>
                </a:lnTo>
                <a:lnTo>
                  <a:pt x="450" y="1392"/>
                </a:lnTo>
                <a:lnTo>
                  <a:pt x="450" y="1440"/>
                </a:lnTo>
                <a:lnTo>
                  <a:pt x="456" y="1074"/>
                </a:lnTo>
                <a:lnTo>
                  <a:pt x="456" y="1206"/>
                </a:lnTo>
                <a:lnTo>
                  <a:pt x="456" y="1554"/>
                </a:lnTo>
                <a:lnTo>
                  <a:pt x="456" y="1206"/>
                </a:lnTo>
                <a:lnTo>
                  <a:pt x="462" y="1068"/>
                </a:lnTo>
                <a:lnTo>
                  <a:pt x="462" y="1098"/>
                </a:lnTo>
                <a:lnTo>
                  <a:pt x="462" y="1344"/>
                </a:lnTo>
                <a:lnTo>
                  <a:pt x="462" y="1128"/>
                </a:lnTo>
                <a:lnTo>
                  <a:pt x="468" y="1296"/>
                </a:lnTo>
                <a:lnTo>
                  <a:pt x="468" y="1134"/>
                </a:lnTo>
                <a:lnTo>
                  <a:pt x="468" y="1206"/>
                </a:lnTo>
                <a:lnTo>
                  <a:pt x="468" y="1296"/>
                </a:lnTo>
                <a:lnTo>
                  <a:pt x="468" y="1278"/>
                </a:lnTo>
                <a:lnTo>
                  <a:pt x="474" y="1194"/>
                </a:lnTo>
                <a:lnTo>
                  <a:pt x="474" y="1128"/>
                </a:lnTo>
                <a:lnTo>
                  <a:pt x="474" y="1032"/>
                </a:lnTo>
                <a:lnTo>
                  <a:pt x="474" y="1374"/>
                </a:lnTo>
                <a:lnTo>
                  <a:pt x="480" y="1260"/>
                </a:lnTo>
                <a:lnTo>
                  <a:pt x="480" y="1212"/>
                </a:lnTo>
                <a:lnTo>
                  <a:pt x="480" y="1062"/>
                </a:lnTo>
                <a:lnTo>
                  <a:pt x="480" y="1104"/>
                </a:lnTo>
                <a:lnTo>
                  <a:pt x="486" y="1266"/>
                </a:lnTo>
                <a:lnTo>
                  <a:pt x="486" y="1152"/>
                </a:lnTo>
                <a:lnTo>
                  <a:pt x="486" y="1092"/>
                </a:lnTo>
                <a:lnTo>
                  <a:pt x="486" y="924"/>
                </a:lnTo>
                <a:lnTo>
                  <a:pt x="492" y="936"/>
                </a:lnTo>
                <a:lnTo>
                  <a:pt x="492" y="1200"/>
                </a:lnTo>
                <a:lnTo>
                  <a:pt x="492" y="1548"/>
                </a:lnTo>
                <a:lnTo>
                  <a:pt x="492" y="1176"/>
                </a:lnTo>
                <a:lnTo>
                  <a:pt x="498" y="984"/>
                </a:lnTo>
                <a:lnTo>
                  <a:pt x="498" y="1110"/>
                </a:lnTo>
                <a:lnTo>
                  <a:pt x="498" y="1164"/>
                </a:lnTo>
                <a:lnTo>
                  <a:pt x="498" y="1068"/>
                </a:lnTo>
                <a:lnTo>
                  <a:pt x="498" y="1170"/>
                </a:lnTo>
                <a:lnTo>
                  <a:pt x="504" y="1098"/>
                </a:lnTo>
                <a:lnTo>
                  <a:pt x="504" y="1074"/>
                </a:lnTo>
                <a:lnTo>
                  <a:pt x="504" y="942"/>
                </a:lnTo>
                <a:lnTo>
                  <a:pt x="504" y="996"/>
                </a:lnTo>
                <a:lnTo>
                  <a:pt x="510" y="1308"/>
                </a:lnTo>
                <a:lnTo>
                  <a:pt x="510" y="1086"/>
                </a:lnTo>
                <a:lnTo>
                  <a:pt x="510" y="1026"/>
                </a:lnTo>
                <a:lnTo>
                  <a:pt x="510" y="858"/>
                </a:lnTo>
                <a:lnTo>
                  <a:pt x="516" y="1224"/>
                </a:lnTo>
                <a:lnTo>
                  <a:pt x="516" y="936"/>
                </a:lnTo>
                <a:lnTo>
                  <a:pt x="516" y="954"/>
                </a:lnTo>
                <a:lnTo>
                  <a:pt x="516" y="1218"/>
                </a:lnTo>
                <a:lnTo>
                  <a:pt x="522" y="1014"/>
                </a:lnTo>
                <a:lnTo>
                  <a:pt x="522" y="762"/>
                </a:lnTo>
                <a:lnTo>
                  <a:pt x="522" y="882"/>
                </a:lnTo>
                <a:lnTo>
                  <a:pt x="522" y="1398"/>
                </a:lnTo>
                <a:lnTo>
                  <a:pt x="528" y="1710"/>
                </a:lnTo>
                <a:lnTo>
                  <a:pt x="528" y="1458"/>
                </a:lnTo>
                <a:lnTo>
                  <a:pt x="528" y="966"/>
                </a:lnTo>
                <a:lnTo>
                  <a:pt x="528" y="1050"/>
                </a:lnTo>
                <a:lnTo>
                  <a:pt x="528" y="1470"/>
                </a:lnTo>
                <a:lnTo>
                  <a:pt x="534" y="1362"/>
                </a:lnTo>
                <a:lnTo>
                  <a:pt x="534" y="1152"/>
                </a:lnTo>
                <a:lnTo>
                  <a:pt x="534" y="1422"/>
                </a:lnTo>
                <a:lnTo>
                  <a:pt x="534" y="1254"/>
                </a:lnTo>
                <a:lnTo>
                  <a:pt x="540" y="1350"/>
                </a:lnTo>
                <a:lnTo>
                  <a:pt x="540" y="954"/>
                </a:lnTo>
                <a:lnTo>
                  <a:pt x="540" y="978"/>
                </a:lnTo>
                <a:lnTo>
                  <a:pt x="540" y="1176"/>
                </a:lnTo>
                <a:lnTo>
                  <a:pt x="546" y="954"/>
                </a:lnTo>
                <a:lnTo>
                  <a:pt x="546" y="1038"/>
                </a:lnTo>
                <a:lnTo>
                  <a:pt x="546" y="1098"/>
                </a:lnTo>
                <a:lnTo>
                  <a:pt x="546" y="1068"/>
                </a:lnTo>
                <a:lnTo>
                  <a:pt x="552" y="1014"/>
                </a:lnTo>
                <a:lnTo>
                  <a:pt x="552" y="978"/>
                </a:lnTo>
                <a:lnTo>
                  <a:pt x="552" y="1152"/>
                </a:lnTo>
                <a:lnTo>
                  <a:pt x="552" y="1224"/>
                </a:lnTo>
                <a:lnTo>
                  <a:pt x="552" y="966"/>
                </a:lnTo>
                <a:lnTo>
                  <a:pt x="558" y="924"/>
                </a:lnTo>
                <a:lnTo>
                  <a:pt x="558" y="1290"/>
                </a:lnTo>
                <a:lnTo>
                  <a:pt x="558" y="1350"/>
                </a:lnTo>
                <a:lnTo>
                  <a:pt x="558" y="1374"/>
                </a:lnTo>
                <a:lnTo>
                  <a:pt x="564" y="792"/>
                </a:lnTo>
                <a:lnTo>
                  <a:pt x="564" y="684"/>
                </a:lnTo>
                <a:lnTo>
                  <a:pt x="564" y="1050"/>
                </a:lnTo>
                <a:lnTo>
                  <a:pt x="564" y="1404"/>
                </a:lnTo>
                <a:lnTo>
                  <a:pt x="570" y="894"/>
                </a:lnTo>
                <a:lnTo>
                  <a:pt x="570" y="930"/>
                </a:lnTo>
                <a:lnTo>
                  <a:pt x="570" y="858"/>
                </a:lnTo>
                <a:lnTo>
                  <a:pt x="570" y="672"/>
                </a:lnTo>
                <a:lnTo>
                  <a:pt x="576" y="912"/>
                </a:lnTo>
                <a:lnTo>
                  <a:pt x="576" y="984"/>
                </a:lnTo>
                <a:lnTo>
                  <a:pt x="576" y="1206"/>
                </a:lnTo>
                <a:lnTo>
                  <a:pt x="576" y="834"/>
                </a:lnTo>
                <a:lnTo>
                  <a:pt x="582" y="750"/>
                </a:lnTo>
                <a:lnTo>
                  <a:pt x="582" y="822"/>
                </a:lnTo>
                <a:lnTo>
                  <a:pt x="582" y="942"/>
                </a:lnTo>
                <a:lnTo>
                  <a:pt x="582" y="966"/>
                </a:lnTo>
                <a:lnTo>
                  <a:pt x="582" y="810"/>
                </a:lnTo>
                <a:lnTo>
                  <a:pt x="588" y="1020"/>
                </a:lnTo>
                <a:lnTo>
                  <a:pt x="588" y="1194"/>
                </a:lnTo>
                <a:lnTo>
                  <a:pt x="588" y="762"/>
                </a:lnTo>
                <a:lnTo>
                  <a:pt x="588" y="834"/>
                </a:lnTo>
                <a:lnTo>
                  <a:pt x="594" y="1398"/>
                </a:lnTo>
                <a:lnTo>
                  <a:pt x="594" y="978"/>
                </a:lnTo>
                <a:lnTo>
                  <a:pt x="594" y="798"/>
                </a:lnTo>
                <a:lnTo>
                  <a:pt x="594" y="792"/>
                </a:lnTo>
                <a:lnTo>
                  <a:pt x="600" y="996"/>
                </a:lnTo>
                <a:lnTo>
                  <a:pt x="600" y="786"/>
                </a:lnTo>
                <a:lnTo>
                  <a:pt x="600" y="942"/>
                </a:lnTo>
                <a:lnTo>
                  <a:pt x="600" y="864"/>
                </a:lnTo>
                <a:lnTo>
                  <a:pt x="606" y="954"/>
                </a:lnTo>
                <a:lnTo>
                  <a:pt x="606" y="1146"/>
                </a:lnTo>
                <a:lnTo>
                  <a:pt x="606" y="996"/>
                </a:lnTo>
                <a:lnTo>
                  <a:pt x="606" y="942"/>
                </a:lnTo>
                <a:lnTo>
                  <a:pt x="612" y="756"/>
                </a:lnTo>
                <a:lnTo>
                  <a:pt x="612" y="774"/>
                </a:lnTo>
                <a:lnTo>
                  <a:pt x="612" y="822"/>
                </a:lnTo>
                <a:lnTo>
                  <a:pt x="612" y="1020"/>
                </a:lnTo>
                <a:lnTo>
                  <a:pt x="612" y="1182"/>
                </a:lnTo>
                <a:lnTo>
                  <a:pt x="618" y="906"/>
                </a:lnTo>
                <a:lnTo>
                  <a:pt x="618" y="816"/>
                </a:lnTo>
                <a:lnTo>
                  <a:pt x="618" y="924"/>
                </a:lnTo>
                <a:lnTo>
                  <a:pt x="618" y="726"/>
                </a:lnTo>
                <a:lnTo>
                  <a:pt x="624" y="882"/>
                </a:lnTo>
                <a:lnTo>
                  <a:pt x="624" y="726"/>
                </a:lnTo>
                <a:lnTo>
                  <a:pt x="624" y="708"/>
                </a:lnTo>
                <a:lnTo>
                  <a:pt x="624" y="990"/>
                </a:lnTo>
                <a:lnTo>
                  <a:pt x="630" y="1182"/>
                </a:lnTo>
                <a:lnTo>
                  <a:pt x="630" y="762"/>
                </a:lnTo>
                <a:lnTo>
                  <a:pt x="630" y="684"/>
                </a:lnTo>
                <a:lnTo>
                  <a:pt x="630" y="1062"/>
                </a:lnTo>
                <a:lnTo>
                  <a:pt x="636" y="936"/>
                </a:lnTo>
                <a:lnTo>
                  <a:pt x="636" y="648"/>
                </a:lnTo>
                <a:lnTo>
                  <a:pt x="636" y="696"/>
                </a:lnTo>
                <a:lnTo>
                  <a:pt x="636" y="918"/>
                </a:lnTo>
                <a:lnTo>
                  <a:pt x="636" y="654"/>
                </a:lnTo>
                <a:lnTo>
                  <a:pt x="642" y="606"/>
                </a:lnTo>
                <a:lnTo>
                  <a:pt x="642" y="672"/>
                </a:lnTo>
                <a:lnTo>
                  <a:pt x="642" y="1110"/>
                </a:lnTo>
                <a:lnTo>
                  <a:pt x="642" y="840"/>
                </a:lnTo>
                <a:lnTo>
                  <a:pt x="648" y="726"/>
                </a:lnTo>
                <a:lnTo>
                  <a:pt x="648" y="474"/>
                </a:lnTo>
                <a:lnTo>
                  <a:pt x="648" y="558"/>
                </a:lnTo>
                <a:lnTo>
                  <a:pt x="648" y="744"/>
                </a:lnTo>
                <a:lnTo>
                  <a:pt x="654" y="714"/>
                </a:lnTo>
                <a:lnTo>
                  <a:pt x="654" y="1386"/>
                </a:lnTo>
                <a:lnTo>
                  <a:pt x="654" y="990"/>
                </a:lnTo>
                <a:lnTo>
                  <a:pt x="654" y="510"/>
                </a:lnTo>
                <a:lnTo>
                  <a:pt x="660" y="588"/>
                </a:lnTo>
                <a:lnTo>
                  <a:pt x="660" y="972"/>
                </a:lnTo>
                <a:lnTo>
                  <a:pt x="660" y="954"/>
                </a:lnTo>
                <a:lnTo>
                  <a:pt x="660" y="798"/>
                </a:lnTo>
                <a:lnTo>
                  <a:pt x="666" y="726"/>
                </a:lnTo>
                <a:lnTo>
                  <a:pt x="666" y="702"/>
                </a:lnTo>
                <a:lnTo>
                  <a:pt x="666" y="906"/>
                </a:lnTo>
                <a:lnTo>
                  <a:pt x="666" y="828"/>
                </a:lnTo>
                <a:lnTo>
                  <a:pt x="666" y="582"/>
                </a:lnTo>
                <a:lnTo>
                  <a:pt x="672" y="570"/>
                </a:lnTo>
                <a:lnTo>
                  <a:pt x="672" y="636"/>
                </a:lnTo>
                <a:lnTo>
                  <a:pt x="672" y="690"/>
                </a:lnTo>
                <a:lnTo>
                  <a:pt x="672" y="780"/>
                </a:lnTo>
                <a:lnTo>
                  <a:pt x="678" y="660"/>
                </a:lnTo>
                <a:lnTo>
                  <a:pt x="678" y="828"/>
                </a:lnTo>
                <a:lnTo>
                  <a:pt x="678" y="810"/>
                </a:lnTo>
                <a:lnTo>
                  <a:pt x="678" y="582"/>
                </a:lnTo>
                <a:lnTo>
                  <a:pt x="684" y="912"/>
                </a:lnTo>
                <a:lnTo>
                  <a:pt x="684" y="1008"/>
                </a:lnTo>
                <a:lnTo>
                  <a:pt x="684" y="744"/>
                </a:lnTo>
                <a:lnTo>
                  <a:pt x="684" y="780"/>
                </a:lnTo>
                <a:lnTo>
                  <a:pt x="690" y="1026"/>
                </a:lnTo>
                <a:lnTo>
                  <a:pt x="690" y="1236"/>
                </a:lnTo>
                <a:lnTo>
                  <a:pt x="690" y="762"/>
                </a:lnTo>
                <a:lnTo>
                  <a:pt x="690" y="714"/>
                </a:lnTo>
                <a:lnTo>
                  <a:pt x="696" y="834"/>
                </a:lnTo>
                <a:lnTo>
                  <a:pt x="696" y="918"/>
                </a:lnTo>
                <a:lnTo>
                  <a:pt x="696" y="510"/>
                </a:lnTo>
                <a:lnTo>
                  <a:pt x="696" y="426"/>
                </a:lnTo>
                <a:lnTo>
                  <a:pt x="702" y="582"/>
                </a:lnTo>
                <a:lnTo>
                  <a:pt x="702" y="618"/>
                </a:lnTo>
                <a:lnTo>
                  <a:pt x="702" y="516"/>
                </a:lnTo>
                <a:lnTo>
                  <a:pt x="702" y="480"/>
                </a:lnTo>
                <a:lnTo>
                  <a:pt x="708" y="708"/>
                </a:lnTo>
                <a:lnTo>
                  <a:pt x="708" y="948"/>
                </a:lnTo>
                <a:lnTo>
                  <a:pt x="708" y="726"/>
                </a:lnTo>
                <a:lnTo>
                  <a:pt x="708" y="678"/>
                </a:lnTo>
                <a:lnTo>
                  <a:pt x="714" y="816"/>
                </a:lnTo>
                <a:lnTo>
                  <a:pt x="714" y="630"/>
                </a:lnTo>
                <a:lnTo>
                  <a:pt x="714" y="690"/>
                </a:lnTo>
                <a:lnTo>
                  <a:pt x="714" y="726"/>
                </a:lnTo>
                <a:lnTo>
                  <a:pt x="720" y="546"/>
                </a:lnTo>
                <a:lnTo>
                  <a:pt x="720" y="492"/>
                </a:lnTo>
                <a:lnTo>
                  <a:pt x="720" y="612"/>
                </a:lnTo>
                <a:lnTo>
                  <a:pt x="720" y="738"/>
                </a:lnTo>
                <a:lnTo>
                  <a:pt x="720" y="348"/>
                </a:lnTo>
                <a:lnTo>
                  <a:pt x="726" y="294"/>
                </a:lnTo>
                <a:lnTo>
                  <a:pt x="726" y="414"/>
                </a:lnTo>
                <a:lnTo>
                  <a:pt x="726" y="654"/>
                </a:lnTo>
                <a:lnTo>
                  <a:pt x="726" y="600"/>
                </a:lnTo>
                <a:lnTo>
                  <a:pt x="732" y="318"/>
                </a:lnTo>
                <a:lnTo>
                  <a:pt x="732" y="336"/>
                </a:lnTo>
                <a:lnTo>
                  <a:pt x="732" y="414"/>
                </a:lnTo>
                <a:lnTo>
                  <a:pt x="732" y="726"/>
                </a:lnTo>
                <a:lnTo>
                  <a:pt x="738" y="666"/>
                </a:lnTo>
                <a:lnTo>
                  <a:pt x="738" y="690"/>
                </a:lnTo>
                <a:lnTo>
                  <a:pt x="738" y="384"/>
                </a:lnTo>
                <a:lnTo>
                  <a:pt x="738" y="420"/>
                </a:lnTo>
                <a:lnTo>
                  <a:pt x="744" y="630"/>
                </a:lnTo>
                <a:lnTo>
                  <a:pt x="744" y="618"/>
                </a:lnTo>
                <a:lnTo>
                  <a:pt x="744" y="672"/>
                </a:lnTo>
                <a:lnTo>
                  <a:pt x="744" y="612"/>
                </a:lnTo>
                <a:lnTo>
                  <a:pt x="750" y="660"/>
                </a:lnTo>
                <a:lnTo>
                  <a:pt x="750" y="582"/>
                </a:lnTo>
                <a:lnTo>
                  <a:pt x="750" y="594"/>
                </a:lnTo>
                <a:lnTo>
                  <a:pt x="750" y="336"/>
                </a:lnTo>
                <a:lnTo>
                  <a:pt x="750" y="456"/>
                </a:lnTo>
                <a:lnTo>
                  <a:pt x="756" y="684"/>
                </a:lnTo>
                <a:lnTo>
                  <a:pt x="756" y="744"/>
                </a:lnTo>
                <a:lnTo>
                  <a:pt x="756" y="522"/>
                </a:lnTo>
                <a:lnTo>
                  <a:pt x="756" y="330"/>
                </a:lnTo>
                <a:lnTo>
                  <a:pt x="762" y="270"/>
                </a:lnTo>
                <a:lnTo>
                  <a:pt x="762" y="330"/>
                </a:lnTo>
                <a:lnTo>
                  <a:pt x="762" y="1014"/>
                </a:lnTo>
                <a:lnTo>
                  <a:pt x="762" y="504"/>
                </a:lnTo>
                <a:lnTo>
                  <a:pt x="768" y="312"/>
                </a:lnTo>
                <a:lnTo>
                  <a:pt x="768" y="240"/>
                </a:lnTo>
                <a:lnTo>
                  <a:pt x="768" y="384"/>
                </a:lnTo>
                <a:lnTo>
                  <a:pt x="768" y="702"/>
                </a:lnTo>
                <a:lnTo>
                  <a:pt x="774" y="420"/>
                </a:lnTo>
                <a:lnTo>
                  <a:pt x="774" y="456"/>
                </a:lnTo>
                <a:lnTo>
                  <a:pt x="774" y="534"/>
                </a:lnTo>
                <a:lnTo>
                  <a:pt x="774" y="810"/>
                </a:lnTo>
                <a:lnTo>
                  <a:pt x="774" y="576"/>
                </a:lnTo>
                <a:lnTo>
                  <a:pt x="780" y="624"/>
                </a:lnTo>
                <a:lnTo>
                  <a:pt x="780" y="642"/>
                </a:lnTo>
                <a:lnTo>
                  <a:pt x="780" y="594"/>
                </a:lnTo>
                <a:lnTo>
                  <a:pt x="780" y="642"/>
                </a:lnTo>
                <a:lnTo>
                  <a:pt x="786" y="1296"/>
                </a:lnTo>
                <a:lnTo>
                  <a:pt x="786" y="462"/>
                </a:lnTo>
                <a:lnTo>
                  <a:pt x="786" y="354"/>
                </a:lnTo>
                <a:lnTo>
                  <a:pt x="786" y="462"/>
                </a:lnTo>
                <a:lnTo>
                  <a:pt x="792" y="492"/>
                </a:lnTo>
                <a:lnTo>
                  <a:pt x="792" y="408"/>
                </a:lnTo>
                <a:lnTo>
                  <a:pt x="792" y="324"/>
                </a:lnTo>
                <a:lnTo>
                  <a:pt x="792" y="504"/>
                </a:lnTo>
                <a:lnTo>
                  <a:pt x="798" y="1086"/>
                </a:lnTo>
                <a:lnTo>
                  <a:pt x="798" y="612"/>
                </a:lnTo>
                <a:lnTo>
                  <a:pt x="798" y="570"/>
                </a:lnTo>
                <a:lnTo>
                  <a:pt x="798" y="630"/>
                </a:lnTo>
                <a:lnTo>
                  <a:pt x="804" y="684"/>
                </a:lnTo>
                <a:lnTo>
                  <a:pt x="804" y="1134"/>
                </a:lnTo>
                <a:lnTo>
                  <a:pt x="804" y="672"/>
                </a:lnTo>
                <a:lnTo>
                  <a:pt x="804" y="678"/>
                </a:lnTo>
                <a:lnTo>
                  <a:pt x="804" y="552"/>
                </a:lnTo>
                <a:lnTo>
                  <a:pt x="810" y="1386"/>
                </a:lnTo>
                <a:lnTo>
                  <a:pt x="810" y="504"/>
                </a:lnTo>
                <a:lnTo>
                  <a:pt x="810" y="480"/>
                </a:lnTo>
                <a:lnTo>
                  <a:pt x="810" y="744"/>
                </a:lnTo>
                <a:lnTo>
                  <a:pt x="816" y="552"/>
                </a:lnTo>
                <a:lnTo>
                  <a:pt x="816" y="474"/>
                </a:lnTo>
                <a:lnTo>
                  <a:pt x="822" y="402"/>
                </a:lnTo>
                <a:lnTo>
                  <a:pt x="822" y="348"/>
                </a:lnTo>
                <a:lnTo>
                  <a:pt x="822" y="468"/>
                </a:lnTo>
                <a:lnTo>
                  <a:pt x="822" y="570"/>
                </a:lnTo>
                <a:lnTo>
                  <a:pt x="828" y="1014"/>
                </a:lnTo>
                <a:lnTo>
                  <a:pt x="828" y="432"/>
                </a:lnTo>
                <a:lnTo>
                  <a:pt x="828" y="660"/>
                </a:lnTo>
                <a:lnTo>
                  <a:pt x="828" y="564"/>
                </a:lnTo>
                <a:lnTo>
                  <a:pt x="834" y="672"/>
                </a:lnTo>
                <a:lnTo>
                  <a:pt x="834" y="696"/>
                </a:lnTo>
                <a:lnTo>
                  <a:pt x="834" y="294"/>
                </a:lnTo>
                <a:lnTo>
                  <a:pt x="834" y="390"/>
                </a:lnTo>
                <a:lnTo>
                  <a:pt x="834" y="816"/>
                </a:lnTo>
                <a:lnTo>
                  <a:pt x="840" y="918"/>
                </a:lnTo>
                <a:lnTo>
                  <a:pt x="840" y="408"/>
                </a:lnTo>
                <a:lnTo>
                  <a:pt x="840" y="558"/>
                </a:lnTo>
                <a:lnTo>
                  <a:pt x="840" y="204"/>
                </a:lnTo>
                <a:lnTo>
                  <a:pt x="846" y="288"/>
                </a:lnTo>
                <a:lnTo>
                  <a:pt x="846" y="540"/>
                </a:lnTo>
                <a:lnTo>
                  <a:pt x="846" y="660"/>
                </a:lnTo>
                <a:lnTo>
                  <a:pt x="846" y="756"/>
                </a:lnTo>
                <a:lnTo>
                  <a:pt x="852" y="330"/>
                </a:lnTo>
                <a:lnTo>
                  <a:pt x="852" y="342"/>
                </a:lnTo>
                <a:lnTo>
                  <a:pt x="852" y="372"/>
                </a:lnTo>
                <a:lnTo>
                  <a:pt x="852" y="894"/>
                </a:lnTo>
                <a:lnTo>
                  <a:pt x="858" y="300"/>
                </a:lnTo>
                <a:lnTo>
                  <a:pt x="858" y="408"/>
                </a:lnTo>
                <a:lnTo>
                  <a:pt x="858" y="618"/>
                </a:lnTo>
                <a:lnTo>
                  <a:pt x="858" y="480"/>
                </a:lnTo>
                <a:lnTo>
                  <a:pt x="858" y="306"/>
                </a:lnTo>
                <a:lnTo>
                  <a:pt x="864" y="534"/>
                </a:lnTo>
                <a:lnTo>
                  <a:pt x="864" y="750"/>
                </a:lnTo>
                <a:lnTo>
                  <a:pt x="864" y="768"/>
                </a:lnTo>
                <a:lnTo>
                  <a:pt x="864" y="390"/>
                </a:lnTo>
                <a:lnTo>
                  <a:pt x="870" y="504"/>
                </a:lnTo>
                <a:lnTo>
                  <a:pt x="870" y="390"/>
                </a:lnTo>
                <a:lnTo>
                  <a:pt x="870" y="444"/>
                </a:lnTo>
                <a:lnTo>
                  <a:pt x="870" y="534"/>
                </a:lnTo>
                <a:lnTo>
                  <a:pt x="876" y="492"/>
                </a:lnTo>
                <a:lnTo>
                  <a:pt x="876" y="864"/>
                </a:lnTo>
                <a:lnTo>
                  <a:pt x="876" y="774"/>
                </a:lnTo>
                <a:lnTo>
                  <a:pt x="876" y="1224"/>
                </a:lnTo>
                <a:lnTo>
                  <a:pt x="882" y="342"/>
                </a:lnTo>
                <a:lnTo>
                  <a:pt x="882" y="636"/>
                </a:lnTo>
                <a:lnTo>
                  <a:pt x="882" y="336"/>
                </a:lnTo>
                <a:lnTo>
                  <a:pt x="882" y="1026"/>
                </a:lnTo>
                <a:lnTo>
                  <a:pt x="888" y="720"/>
                </a:lnTo>
                <a:lnTo>
                  <a:pt x="888" y="954"/>
                </a:lnTo>
                <a:lnTo>
                  <a:pt x="888" y="486"/>
                </a:lnTo>
                <a:lnTo>
                  <a:pt x="888" y="528"/>
                </a:lnTo>
                <a:lnTo>
                  <a:pt x="888" y="456"/>
                </a:lnTo>
                <a:lnTo>
                  <a:pt x="894" y="354"/>
                </a:lnTo>
                <a:lnTo>
                  <a:pt x="894" y="504"/>
                </a:lnTo>
                <a:lnTo>
                  <a:pt x="894" y="378"/>
                </a:lnTo>
                <a:lnTo>
                  <a:pt x="894" y="678"/>
                </a:lnTo>
                <a:lnTo>
                  <a:pt x="900" y="702"/>
                </a:lnTo>
                <a:lnTo>
                  <a:pt x="900" y="564"/>
                </a:lnTo>
                <a:lnTo>
                  <a:pt x="900" y="288"/>
                </a:lnTo>
                <a:lnTo>
                  <a:pt x="900" y="432"/>
                </a:lnTo>
                <a:lnTo>
                  <a:pt x="906" y="570"/>
                </a:lnTo>
                <a:lnTo>
                  <a:pt x="906" y="402"/>
                </a:lnTo>
                <a:lnTo>
                  <a:pt x="906" y="276"/>
                </a:lnTo>
                <a:lnTo>
                  <a:pt x="906" y="702"/>
                </a:lnTo>
                <a:lnTo>
                  <a:pt x="912" y="354"/>
                </a:lnTo>
                <a:lnTo>
                  <a:pt x="912" y="306"/>
                </a:lnTo>
                <a:lnTo>
                  <a:pt x="912" y="288"/>
                </a:lnTo>
                <a:lnTo>
                  <a:pt x="912" y="636"/>
                </a:lnTo>
                <a:lnTo>
                  <a:pt x="918" y="510"/>
                </a:lnTo>
                <a:lnTo>
                  <a:pt x="918" y="270"/>
                </a:lnTo>
                <a:lnTo>
                  <a:pt x="918" y="150"/>
                </a:lnTo>
                <a:lnTo>
                  <a:pt x="918" y="486"/>
                </a:lnTo>
                <a:lnTo>
                  <a:pt x="924" y="354"/>
                </a:lnTo>
                <a:lnTo>
                  <a:pt x="924" y="762"/>
                </a:lnTo>
                <a:lnTo>
                  <a:pt x="924" y="378"/>
                </a:lnTo>
                <a:lnTo>
                  <a:pt x="930" y="228"/>
                </a:lnTo>
                <a:lnTo>
                  <a:pt x="930" y="588"/>
                </a:lnTo>
                <a:lnTo>
                  <a:pt x="930" y="600"/>
                </a:lnTo>
                <a:lnTo>
                  <a:pt x="930" y="534"/>
                </a:lnTo>
                <a:lnTo>
                  <a:pt x="936" y="600"/>
                </a:lnTo>
                <a:lnTo>
                  <a:pt x="936" y="366"/>
                </a:lnTo>
                <a:lnTo>
                  <a:pt x="936" y="822"/>
                </a:lnTo>
                <a:lnTo>
                  <a:pt x="936" y="498"/>
                </a:lnTo>
                <a:lnTo>
                  <a:pt x="942" y="432"/>
                </a:lnTo>
                <a:lnTo>
                  <a:pt x="942" y="282"/>
                </a:lnTo>
                <a:lnTo>
                  <a:pt x="942" y="330"/>
                </a:lnTo>
                <a:lnTo>
                  <a:pt x="942" y="396"/>
                </a:lnTo>
                <a:lnTo>
                  <a:pt x="942" y="474"/>
                </a:lnTo>
                <a:lnTo>
                  <a:pt x="948" y="486"/>
                </a:lnTo>
                <a:lnTo>
                  <a:pt x="948" y="456"/>
                </a:lnTo>
                <a:lnTo>
                  <a:pt x="948" y="678"/>
                </a:lnTo>
                <a:lnTo>
                  <a:pt x="948" y="414"/>
                </a:lnTo>
                <a:lnTo>
                  <a:pt x="954" y="396"/>
                </a:lnTo>
                <a:lnTo>
                  <a:pt x="954" y="1470"/>
                </a:lnTo>
                <a:lnTo>
                  <a:pt x="954" y="486"/>
                </a:lnTo>
                <a:lnTo>
                  <a:pt x="954" y="588"/>
                </a:lnTo>
                <a:lnTo>
                  <a:pt x="960" y="558"/>
                </a:lnTo>
                <a:lnTo>
                  <a:pt x="960" y="942"/>
                </a:lnTo>
                <a:lnTo>
                  <a:pt x="960" y="618"/>
                </a:lnTo>
                <a:lnTo>
                  <a:pt x="960" y="534"/>
                </a:lnTo>
                <a:lnTo>
                  <a:pt x="966" y="468"/>
                </a:lnTo>
                <a:lnTo>
                  <a:pt x="966" y="510"/>
                </a:lnTo>
                <a:lnTo>
                  <a:pt x="966" y="942"/>
                </a:lnTo>
                <a:lnTo>
                  <a:pt x="966" y="432"/>
                </a:lnTo>
                <a:lnTo>
                  <a:pt x="972" y="222"/>
                </a:lnTo>
                <a:lnTo>
                  <a:pt x="972" y="288"/>
                </a:lnTo>
                <a:lnTo>
                  <a:pt x="972" y="390"/>
                </a:lnTo>
                <a:lnTo>
                  <a:pt x="972" y="366"/>
                </a:lnTo>
                <a:lnTo>
                  <a:pt x="972" y="252"/>
                </a:lnTo>
                <a:lnTo>
                  <a:pt x="978" y="336"/>
                </a:lnTo>
                <a:lnTo>
                  <a:pt x="978" y="858"/>
                </a:lnTo>
                <a:lnTo>
                  <a:pt x="978" y="576"/>
                </a:lnTo>
                <a:lnTo>
                  <a:pt x="978" y="486"/>
                </a:lnTo>
                <a:lnTo>
                  <a:pt x="984" y="498"/>
                </a:lnTo>
                <a:lnTo>
                  <a:pt x="984" y="528"/>
                </a:lnTo>
                <a:lnTo>
                  <a:pt x="984" y="438"/>
                </a:lnTo>
                <a:lnTo>
                  <a:pt x="984" y="642"/>
                </a:lnTo>
                <a:lnTo>
                  <a:pt x="990" y="408"/>
                </a:lnTo>
                <a:lnTo>
                  <a:pt x="990" y="336"/>
                </a:lnTo>
                <a:lnTo>
                  <a:pt x="990" y="288"/>
                </a:lnTo>
                <a:lnTo>
                  <a:pt x="990" y="582"/>
                </a:lnTo>
                <a:lnTo>
                  <a:pt x="996" y="288"/>
                </a:lnTo>
                <a:lnTo>
                  <a:pt x="996" y="102"/>
                </a:lnTo>
                <a:lnTo>
                  <a:pt x="996" y="156"/>
                </a:lnTo>
                <a:lnTo>
                  <a:pt x="996" y="336"/>
                </a:lnTo>
                <a:lnTo>
                  <a:pt x="996" y="876"/>
                </a:lnTo>
                <a:lnTo>
                  <a:pt x="1002" y="210"/>
                </a:lnTo>
                <a:lnTo>
                  <a:pt x="1002" y="126"/>
                </a:lnTo>
                <a:lnTo>
                  <a:pt x="1002" y="180"/>
                </a:lnTo>
                <a:lnTo>
                  <a:pt x="1002" y="342"/>
                </a:lnTo>
                <a:lnTo>
                  <a:pt x="1008" y="588"/>
                </a:lnTo>
                <a:lnTo>
                  <a:pt x="1008" y="510"/>
                </a:lnTo>
                <a:lnTo>
                  <a:pt x="1008" y="342"/>
                </a:lnTo>
                <a:lnTo>
                  <a:pt x="1008" y="174"/>
                </a:lnTo>
                <a:lnTo>
                  <a:pt x="1014" y="408"/>
                </a:lnTo>
                <a:lnTo>
                  <a:pt x="1014" y="420"/>
                </a:lnTo>
                <a:lnTo>
                  <a:pt x="1014" y="516"/>
                </a:lnTo>
                <a:lnTo>
                  <a:pt x="1014" y="456"/>
                </a:lnTo>
                <a:lnTo>
                  <a:pt x="1020" y="474"/>
                </a:lnTo>
                <a:lnTo>
                  <a:pt x="1020" y="456"/>
                </a:lnTo>
                <a:lnTo>
                  <a:pt x="1020" y="270"/>
                </a:lnTo>
                <a:lnTo>
                  <a:pt x="1026" y="186"/>
                </a:lnTo>
                <a:lnTo>
                  <a:pt x="1026" y="504"/>
                </a:lnTo>
                <a:lnTo>
                  <a:pt x="1026" y="492"/>
                </a:lnTo>
                <a:lnTo>
                  <a:pt x="1026" y="564"/>
                </a:lnTo>
                <a:lnTo>
                  <a:pt x="1026" y="234"/>
                </a:lnTo>
                <a:lnTo>
                  <a:pt x="1032" y="144"/>
                </a:lnTo>
                <a:lnTo>
                  <a:pt x="1032" y="120"/>
                </a:lnTo>
                <a:lnTo>
                  <a:pt x="1032" y="360"/>
                </a:lnTo>
                <a:lnTo>
                  <a:pt x="1032" y="480"/>
                </a:lnTo>
                <a:lnTo>
                  <a:pt x="1038" y="234"/>
                </a:lnTo>
                <a:lnTo>
                  <a:pt x="1038" y="96"/>
                </a:lnTo>
                <a:lnTo>
                  <a:pt x="1038" y="126"/>
                </a:lnTo>
                <a:lnTo>
                  <a:pt x="1038" y="468"/>
                </a:lnTo>
                <a:lnTo>
                  <a:pt x="1044" y="402"/>
                </a:lnTo>
                <a:lnTo>
                  <a:pt x="1044" y="264"/>
                </a:lnTo>
                <a:lnTo>
                  <a:pt x="1044" y="336"/>
                </a:lnTo>
                <a:lnTo>
                  <a:pt x="1044" y="498"/>
                </a:lnTo>
                <a:lnTo>
                  <a:pt x="1050" y="522"/>
                </a:lnTo>
                <a:lnTo>
                  <a:pt x="1050" y="408"/>
                </a:lnTo>
                <a:lnTo>
                  <a:pt x="1050" y="600"/>
                </a:lnTo>
                <a:lnTo>
                  <a:pt x="1050" y="438"/>
                </a:lnTo>
                <a:lnTo>
                  <a:pt x="1050" y="468"/>
                </a:lnTo>
                <a:lnTo>
                  <a:pt x="1056" y="726"/>
                </a:lnTo>
                <a:lnTo>
                  <a:pt x="1056" y="492"/>
                </a:lnTo>
                <a:lnTo>
                  <a:pt x="1056" y="240"/>
                </a:lnTo>
                <a:lnTo>
                  <a:pt x="1056" y="258"/>
                </a:lnTo>
                <a:lnTo>
                  <a:pt x="1062" y="360"/>
                </a:lnTo>
                <a:lnTo>
                  <a:pt x="1062" y="342"/>
                </a:lnTo>
                <a:lnTo>
                  <a:pt x="1062" y="192"/>
                </a:lnTo>
                <a:lnTo>
                  <a:pt x="1062" y="240"/>
                </a:lnTo>
                <a:lnTo>
                  <a:pt x="1068" y="570"/>
                </a:lnTo>
                <a:lnTo>
                  <a:pt x="1068" y="588"/>
                </a:lnTo>
                <a:lnTo>
                  <a:pt x="1068" y="444"/>
                </a:lnTo>
                <a:lnTo>
                  <a:pt x="1068" y="456"/>
                </a:lnTo>
                <a:lnTo>
                  <a:pt x="1074" y="492"/>
                </a:lnTo>
                <a:lnTo>
                  <a:pt x="1074" y="804"/>
                </a:lnTo>
                <a:lnTo>
                  <a:pt x="1074" y="726"/>
                </a:lnTo>
                <a:lnTo>
                  <a:pt x="1074" y="462"/>
                </a:lnTo>
                <a:lnTo>
                  <a:pt x="1080" y="426"/>
                </a:lnTo>
                <a:lnTo>
                  <a:pt x="1080" y="618"/>
                </a:lnTo>
                <a:lnTo>
                  <a:pt x="1080" y="648"/>
                </a:lnTo>
                <a:lnTo>
                  <a:pt x="1080" y="288"/>
                </a:lnTo>
                <a:lnTo>
                  <a:pt x="1080" y="498"/>
                </a:lnTo>
                <a:lnTo>
                  <a:pt x="1086" y="546"/>
                </a:lnTo>
                <a:lnTo>
                  <a:pt x="1086" y="372"/>
                </a:lnTo>
                <a:lnTo>
                  <a:pt x="1086" y="462"/>
                </a:lnTo>
                <a:lnTo>
                  <a:pt x="1086" y="372"/>
                </a:lnTo>
                <a:lnTo>
                  <a:pt x="1092" y="300"/>
                </a:lnTo>
                <a:lnTo>
                  <a:pt x="1092" y="234"/>
                </a:lnTo>
                <a:lnTo>
                  <a:pt x="1092" y="498"/>
                </a:lnTo>
                <a:lnTo>
                  <a:pt x="1098" y="498"/>
                </a:lnTo>
                <a:lnTo>
                  <a:pt x="1098" y="402"/>
                </a:lnTo>
                <a:lnTo>
                  <a:pt x="1098" y="366"/>
                </a:lnTo>
                <a:lnTo>
                  <a:pt x="1098" y="432"/>
                </a:lnTo>
                <a:lnTo>
                  <a:pt x="1104" y="576"/>
                </a:lnTo>
                <a:lnTo>
                  <a:pt x="1104" y="528"/>
                </a:lnTo>
                <a:lnTo>
                  <a:pt x="1104" y="288"/>
                </a:lnTo>
                <a:lnTo>
                  <a:pt x="1104" y="150"/>
                </a:lnTo>
                <a:lnTo>
                  <a:pt x="1110" y="546"/>
                </a:lnTo>
                <a:lnTo>
                  <a:pt x="1110" y="726"/>
                </a:lnTo>
                <a:lnTo>
                  <a:pt x="1110" y="390"/>
                </a:lnTo>
                <a:lnTo>
                  <a:pt x="1110" y="318"/>
                </a:lnTo>
                <a:lnTo>
                  <a:pt x="1110" y="186"/>
                </a:lnTo>
                <a:lnTo>
                  <a:pt x="1116" y="66"/>
                </a:lnTo>
                <a:lnTo>
                  <a:pt x="1116" y="306"/>
                </a:lnTo>
                <a:lnTo>
                  <a:pt x="1116" y="468"/>
                </a:lnTo>
                <a:lnTo>
                  <a:pt x="1116" y="672"/>
                </a:lnTo>
                <a:lnTo>
                  <a:pt x="1122" y="306"/>
                </a:lnTo>
                <a:lnTo>
                  <a:pt x="1122" y="180"/>
                </a:lnTo>
                <a:lnTo>
                  <a:pt x="1122" y="210"/>
                </a:lnTo>
                <a:lnTo>
                  <a:pt x="1122" y="408"/>
                </a:lnTo>
                <a:lnTo>
                  <a:pt x="1128" y="258"/>
                </a:lnTo>
                <a:lnTo>
                  <a:pt x="1128" y="186"/>
                </a:lnTo>
                <a:lnTo>
                  <a:pt x="1128" y="456"/>
                </a:lnTo>
                <a:lnTo>
                  <a:pt x="1128" y="396"/>
                </a:lnTo>
                <a:lnTo>
                  <a:pt x="1134" y="210"/>
                </a:lnTo>
                <a:lnTo>
                  <a:pt x="1134" y="228"/>
                </a:lnTo>
                <a:lnTo>
                  <a:pt x="1134" y="660"/>
                </a:lnTo>
                <a:lnTo>
                  <a:pt x="1134" y="576"/>
                </a:lnTo>
                <a:lnTo>
                  <a:pt x="1134" y="336"/>
                </a:lnTo>
                <a:lnTo>
                  <a:pt x="1140" y="300"/>
                </a:lnTo>
                <a:lnTo>
                  <a:pt x="1140" y="390"/>
                </a:lnTo>
                <a:lnTo>
                  <a:pt x="1140" y="204"/>
                </a:lnTo>
                <a:lnTo>
                  <a:pt x="1140" y="402"/>
                </a:lnTo>
                <a:lnTo>
                  <a:pt x="1146" y="372"/>
                </a:lnTo>
                <a:lnTo>
                  <a:pt x="1146" y="456"/>
                </a:lnTo>
                <a:lnTo>
                  <a:pt x="1146" y="1104"/>
                </a:lnTo>
                <a:lnTo>
                  <a:pt x="1146" y="534"/>
                </a:lnTo>
                <a:lnTo>
                  <a:pt x="1152" y="342"/>
                </a:lnTo>
                <a:lnTo>
                  <a:pt x="1152" y="258"/>
                </a:lnTo>
                <a:lnTo>
                  <a:pt x="1152" y="270"/>
                </a:lnTo>
                <a:lnTo>
                  <a:pt x="1152" y="312"/>
                </a:lnTo>
                <a:lnTo>
                  <a:pt x="1158" y="546"/>
                </a:lnTo>
                <a:lnTo>
                  <a:pt x="1158" y="1026"/>
                </a:lnTo>
                <a:lnTo>
                  <a:pt x="1158" y="456"/>
                </a:lnTo>
                <a:lnTo>
                  <a:pt x="1158" y="360"/>
                </a:lnTo>
                <a:lnTo>
                  <a:pt x="1164" y="390"/>
                </a:lnTo>
                <a:lnTo>
                  <a:pt x="1164" y="198"/>
                </a:lnTo>
                <a:lnTo>
                  <a:pt x="1164" y="360"/>
                </a:lnTo>
                <a:lnTo>
                  <a:pt x="1164" y="288"/>
                </a:lnTo>
                <a:lnTo>
                  <a:pt x="1164" y="294"/>
                </a:lnTo>
                <a:lnTo>
                  <a:pt x="1170" y="558"/>
                </a:lnTo>
                <a:lnTo>
                  <a:pt x="1170" y="648"/>
                </a:lnTo>
                <a:lnTo>
                  <a:pt x="1170" y="210"/>
                </a:lnTo>
                <a:lnTo>
                  <a:pt x="1170" y="174"/>
                </a:lnTo>
                <a:lnTo>
                  <a:pt x="1176" y="360"/>
                </a:lnTo>
                <a:lnTo>
                  <a:pt x="1176" y="432"/>
                </a:lnTo>
                <a:lnTo>
                  <a:pt x="1176" y="162"/>
                </a:lnTo>
                <a:lnTo>
                  <a:pt x="1176" y="204"/>
                </a:lnTo>
                <a:lnTo>
                  <a:pt x="1182" y="402"/>
                </a:lnTo>
                <a:lnTo>
                  <a:pt x="1182" y="168"/>
                </a:lnTo>
                <a:lnTo>
                  <a:pt x="1182" y="138"/>
                </a:lnTo>
                <a:lnTo>
                  <a:pt x="1182" y="246"/>
                </a:lnTo>
                <a:lnTo>
                  <a:pt x="1188" y="654"/>
                </a:lnTo>
                <a:lnTo>
                  <a:pt x="1188" y="420"/>
                </a:lnTo>
                <a:lnTo>
                  <a:pt x="1188" y="270"/>
                </a:lnTo>
                <a:lnTo>
                  <a:pt x="1188" y="18"/>
                </a:lnTo>
                <a:lnTo>
                  <a:pt x="1194" y="114"/>
                </a:lnTo>
                <a:lnTo>
                  <a:pt x="1194" y="282"/>
                </a:lnTo>
                <a:lnTo>
                  <a:pt x="1194" y="312"/>
                </a:lnTo>
                <a:lnTo>
                  <a:pt x="1194" y="690"/>
                </a:lnTo>
                <a:lnTo>
                  <a:pt x="1194" y="516"/>
                </a:lnTo>
                <a:lnTo>
                  <a:pt x="1200" y="102"/>
                </a:lnTo>
                <a:lnTo>
                  <a:pt x="1200" y="204"/>
                </a:lnTo>
                <a:lnTo>
                  <a:pt x="1200" y="474"/>
                </a:lnTo>
                <a:lnTo>
                  <a:pt x="1200" y="522"/>
                </a:lnTo>
                <a:lnTo>
                  <a:pt x="1206" y="354"/>
                </a:lnTo>
                <a:lnTo>
                  <a:pt x="1206" y="312"/>
                </a:lnTo>
                <a:lnTo>
                  <a:pt x="1206" y="438"/>
                </a:lnTo>
                <a:lnTo>
                  <a:pt x="1212" y="426"/>
                </a:lnTo>
                <a:lnTo>
                  <a:pt x="1212" y="168"/>
                </a:lnTo>
                <a:lnTo>
                  <a:pt x="1212" y="156"/>
                </a:lnTo>
                <a:lnTo>
                  <a:pt x="1212" y="222"/>
                </a:lnTo>
                <a:lnTo>
                  <a:pt x="1218" y="288"/>
                </a:lnTo>
                <a:lnTo>
                  <a:pt x="1218" y="372"/>
                </a:lnTo>
                <a:lnTo>
                  <a:pt x="1218" y="288"/>
                </a:lnTo>
                <a:lnTo>
                  <a:pt x="1218" y="450"/>
                </a:lnTo>
                <a:lnTo>
                  <a:pt x="1218" y="438"/>
                </a:lnTo>
                <a:lnTo>
                  <a:pt x="1224" y="204"/>
                </a:lnTo>
                <a:lnTo>
                  <a:pt x="1224" y="522"/>
                </a:lnTo>
                <a:lnTo>
                  <a:pt x="1224" y="558"/>
                </a:lnTo>
                <a:lnTo>
                  <a:pt x="1224" y="330"/>
                </a:lnTo>
                <a:lnTo>
                  <a:pt x="1230" y="384"/>
                </a:lnTo>
                <a:lnTo>
                  <a:pt x="1230" y="618"/>
                </a:lnTo>
                <a:lnTo>
                  <a:pt x="1230" y="744"/>
                </a:lnTo>
                <a:lnTo>
                  <a:pt x="1230" y="408"/>
                </a:lnTo>
                <a:lnTo>
                  <a:pt x="1236" y="372"/>
                </a:lnTo>
                <a:lnTo>
                  <a:pt x="1236" y="348"/>
                </a:lnTo>
                <a:lnTo>
                  <a:pt x="1236" y="474"/>
                </a:lnTo>
                <a:lnTo>
                  <a:pt x="1236" y="510"/>
                </a:lnTo>
                <a:lnTo>
                  <a:pt x="1242" y="156"/>
                </a:lnTo>
                <a:lnTo>
                  <a:pt x="1242" y="96"/>
                </a:lnTo>
                <a:lnTo>
                  <a:pt x="1242" y="246"/>
                </a:lnTo>
                <a:lnTo>
                  <a:pt x="1242" y="264"/>
                </a:lnTo>
                <a:lnTo>
                  <a:pt x="1248" y="174"/>
                </a:lnTo>
                <a:lnTo>
                  <a:pt x="1248" y="138"/>
                </a:lnTo>
                <a:lnTo>
                  <a:pt x="1248" y="372"/>
                </a:lnTo>
                <a:lnTo>
                  <a:pt x="1248" y="702"/>
                </a:lnTo>
                <a:lnTo>
                  <a:pt x="1248" y="378"/>
                </a:lnTo>
                <a:lnTo>
                  <a:pt x="1254" y="354"/>
                </a:lnTo>
                <a:lnTo>
                  <a:pt x="1254" y="504"/>
                </a:lnTo>
                <a:lnTo>
                  <a:pt x="1254" y="312"/>
                </a:lnTo>
                <a:lnTo>
                  <a:pt x="1254" y="420"/>
                </a:lnTo>
                <a:lnTo>
                  <a:pt x="1260" y="414"/>
                </a:lnTo>
                <a:lnTo>
                  <a:pt x="1260" y="234"/>
                </a:lnTo>
                <a:lnTo>
                  <a:pt x="1260" y="168"/>
                </a:lnTo>
                <a:lnTo>
                  <a:pt x="1260" y="288"/>
                </a:lnTo>
                <a:lnTo>
                  <a:pt x="1266" y="402"/>
                </a:lnTo>
                <a:lnTo>
                  <a:pt x="1266" y="36"/>
                </a:lnTo>
                <a:lnTo>
                  <a:pt x="1266" y="0"/>
                </a:lnTo>
                <a:lnTo>
                  <a:pt x="1266" y="120"/>
                </a:lnTo>
                <a:lnTo>
                  <a:pt x="1272" y="366"/>
                </a:lnTo>
                <a:lnTo>
                  <a:pt x="1272" y="288"/>
                </a:lnTo>
                <a:lnTo>
                  <a:pt x="1272" y="30"/>
                </a:lnTo>
                <a:lnTo>
                  <a:pt x="1272" y="48"/>
                </a:lnTo>
                <a:lnTo>
                  <a:pt x="1272" y="132"/>
                </a:lnTo>
                <a:lnTo>
                  <a:pt x="1278" y="438"/>
                </a:lnTo>
                <a:lnTo>
                  <a:pt x="1278" y="390"/>
                </a:lnTo>
                <a:lnTo>
                  <a:pt x="1278" y="420"/>
                </a:lnTo>
                <a:lnTo>
                  <a:pt x="1278" y="102"/>
                </a:lnTo>
                <a:lnTo>
                  <a:pt x="1284" y="162"/>
                </a:lnTo>
                <a:lnTo>
                  <a:pt x="1284" y="372"/>
                </a:lnTo>
                <a:lnTo>
                  <a:pt x="1284" y="348"/>
                </a:lnTo>
                <a:lnTo>
                  <a:pt x="1284" y="402"/>
                </a:lnTo>
                <a:lnTo>
                  <a:pt x="1290" y="366"/>
                </a:lnTo>
                <a:lnTo>
                  <a:pt x="1290" y="426"/>
                </a:lnTo>
                <a:lnTo>
                  <a:pt x="1290" y="336"/>
                </a:lnTo>
                <a:lnTo>
                  <a:pt x="1290" y="342"/>
                </a:lnTo>
                <a:lnTo>
                  <a:pt x="1296" y="90"/>
                </a:lnTo>
                <a:lnTo>
                  <a:pt x="1296" y="240"/>
                </a:lnTo>
                <a:lnTo>
                  <a:pt x="1296" y="432"/>
                </a:lnTo>
                <a:lnTo>
                  <a:pt x="1296" y="504"/>
                </a:lnTo>
                <a:lnTo>
                  <a:pt x="1302" y="276"/>
                </a:lnTo>
                <a:lnTo>
                  <a:pt x="1302" y="102"/>
                </a:lnTo>
                <a:lnTo>
                  <a:pt x="1302" y="54"/>
                </a:lnTo>
                <a:lnTo>
                  <a:pt x="1302" y="120"/>
                </a:lnTo>
                <a:lnTo>
                  <a:pt x="1302" y="810"/>
                </a:lnTo>
                <a:lnTo>
                  <a:pt x="1308" y="270"/>
                </a:lnTo>
                <a:lnTo>
                  <a:pt x="1308" y="90"/>
                </a:lnTo>
                <a:lnTo>
                  <a:pt x="1308" y="30"/>
                </a:lnTo>
                <a:lnTo>
                  <a:pt x="1308" y="204"/>
                </a:lnTo>
                <a:lnTo>
                  <a:pt x="1314" y="498"/>
                </a:lnTo>
                <a:lnTo>
                  <a:pt x="1314" y="222"/>
                </a:lnTo>
                <a:lnTo>
                  <a:pt x="1314" y="264"/>
                </a:lnTo>
                <a:lnTo>
                  <a:pt x="1314" y="342"/>
                </a:lnTo>
                <a:lnTo>
                  <a:pt x="1320" y="606"/>
                </a:lnTo>
                <a:lnTo>
                  <a:pt x="1320" y="396"/>
                </a:lnTo>
                <a:lnTo>
                  <a:pt x="1320" y="462"/>
                </a:lnTo>
                <a:lnTo>
                  <a:pt x="1326" y="426"/>
                </a:lnTo>
                <a:lnTo>
                  <a:pt x="1326" y="510"/>
                </a:lnTo>
                <a:lnTo>
                  <a:pt x="1326" y="918"/>
                </a:lnTo>
                <a:lnTo>
                  <a:pt x="1326" y="294"/>
                </a:lnTo>
                <a:lnTo>
                  <a:pt x="1332" y="210"/>
                </a:lnTo>
                <a:lnTo>
                  <a:pt x="1332" y="318"/>
                </a:lnTo>
                <a:lnTo>
                  <a:pt x="1332" y="348"/>
                </a:lnTo>
                <a:lnTo>
                  <a:pt x="1332" y="270"/>
                </a:lnTo>
                <a:lnTo>
                  <a:pt x="1332" y="192"/>
                </a:lnTo>
                <a:lnTo>
                  <a:pt x="1338" y="384"/>
                </a:lnTo>
                <a:lnTo>
                  <a:pt x="1338" y="1002"/>
                </a:lnTo>
                <a:lnTo>
                  <a:pt x="1338" y="474"/>
                </a:lnTo>
                <a:lnTo>
                  <a:pt x="1338" y="462"/>
                </a:lnTo>
                <a:lnTo>
                  <a:pt x="1344" y="522"/>
                </a:lnTo>
                <a:lnTo>
                  <a:pt x="1344" y="582"/>
                </a:lnTo>
                <a:lnTo>
                  <a:pt x="1344" y="1068"/>
                </a:lnTo>
                <a:lnTo>
                  <a:pt x="1344" y="552"/>
                </a:lnTo>
                <a:lnTo>
                  <a:pt x="1350" y="564"/>
                </a:lnTo>
                <a:lnTo>
                  <a:pt x="1350" y="450"/>
                </a:lnTo>
                <a:lnTo>
                  <a:pt x="1350" y="1590"/>
                </a:lnTo>
                <a:lnTo>
                  <a:pt x="1350" y="408"/>
                </a:lnTo>
                <a:lnTo>
                  <a:pt x="1356" y="420"/>
                </a:lnTo>
                <a:lnTo>
                  <a:pt x="1356" y="672"/>
                </a:lnTo>
                <a:lnTo>
                  <a:pt x="1356" y="486"/>
                </a:lnTo>
                <a:lnTo>
                  <a:pt x="1356" y="498"/>
                </a:lnTo>
                <a:lnTo>
                  <a:pt x="1356" y="486"/>
                </a:lnTo>
                <a:lnTo>
                  <a:pt x="1362" y="420"/>
                </a:lnTo>
                <a:lnTo>
                  <a:pt x="1362" y="348"/>
                </a:lnTo>
                <a:lnTo>
                  <a:pt x="1362" y="306"/>
                </a:lnTo>
                <a:lnTo>
                  <a:pt x="1362" y="444"/>
                </a:lnTo>
                <a:lnTo>
                  <a:pt x="1368" y="534"/>
                </a:lnTo>
                <a:lnTo>
                  <a:pt x="1368" y="984"/>
                </a:lnTo>
                <a:lnTo>
                  <a:pt x="1368" y="420"/>
                </a:lnTo>
                <a:lnTo>
                  <a:pt x="1368" y="648"/>
                </a:lnTo>
                <a:lnTo>
                  <a:pt x="1374" y="564"/>
                </a:lnTo>
                <a:lnTo>
                  <a:pt x="1374" y="660"/>
                </a:lnTo>
                <a:lnTo>
                  <a:pt x="1374" y="696"/>
                </a:lnTo>
                <a:lnTo>
                  <a:pt x="1374" y="318"/>
                </a:lnTo>
                <a:lnTo>
                  <a:pt x="1380" y="426"/>
                </a:lnTo>
                <a:lnTo>
                  <a:pt x="1380" y="822"/>
                </a:lnTo>
                <a:lnTo>
                  <a:pt x="1380" y="870"/>
                </a:lnTo>
                <a:lnTo>
                  <a:pt x="1380" y="444"/>
                </a:lnTo>
                <a:lnTo>
                  <a:pt x="1386" y="594"/>
                </a:lnTo>
                <a:lnTo>
                  <a:pt x="1386" y="252"/>
                </a:lnTo>
                <a:lnTo>
                  <a:pt x="1386" y="354"/>
                </a:lnTo>
                <a:lnTo>
                  <a:pt x="1386" y="600"/>
                </a:lnTo>
                <a:lnTo>
                  <a:pt x="1386" y="750"/>
                </a:lnTo>
                <a:lnTo>
                  <a:pt x="1392" y="804"/>
                </a:lnTo>
                <a:lnTo>
                  <a:pt x="1392" y="414"/>
                </a:lnTo>
                <a:lnTo>
                  <a:pt x="1392" y="438"/>
                </a:lnTo>
                <a:lnTo>
                  <a:pt x="1392" y="468"/>
                </a:lnTo>
                <a:lnTo>
                  <a:pt x="1398" y="876"/>
                </a:lnTo>
                <a:lnTo>
                  <a:pt x="1398" y="408"/>
                </a:lnTo>
                <a:lnTo>
                  <a:pt x="1398" y="522"/>
                </a:lnTo>
                <a:lnTo>
                  <a:pt x="1398" y="732"/>
                </a:lnTo>
                <a:lnTo>
                  <a:pt x="1404" y="612"/>
                </a:lnTo>
                <a:lnTo>
                  <a:pt x="1404" y="438"/>
                </a:lnTo>
                <a:lnTo>
                  <a:pt x="1404" y="696"/>
                </a:lnTo>
                <a:lnTo>
                  <a:pt x="1404" y="876"/>
                </a:lnTo>
                <a:lnTo>
                  <a:pt x="1410" y="942"/>
                </a:lnTo>
                <a:lnTo>
                  <a:pt x="1410" y="534"/>
                </a:lnTo>
                <a:lnTo>
                  <a:pt x="1410" y="666"/>
                </a:lnTo>
                <a:lnTo>
                  <a:pt x="1410" y="546"/>
                </a:lnTo>
                <a:lnTo>
                  <a:pt x="1410" y="600"/>
                </a:lnTo>
                <a:lnTo>
                  <a:pt x="1416" y="702"/>
                </a:lnTo>
                <a:lnTo>
                  <a:pt x="1416" y="660"/>
                </a:lnTo>
                <a:lnTo>
                  <a:pt x="1416" y="1104"/>
                </a:lnTo>
                <a:lnTo>
                  <a:pt x="1416" y="960"/>
                </a:lnTo>
                <a:lnTo>
                  <a:pt x="1422" y="1212"/>
                </a:lnTo>
                <a:lnTo>
                  <a:pt x="1422" y="510"/>
                </a:lnTo>
                <a:lnTo>
                  <a:pt x="1422" y="816"/>
                </a:lnTo>
                <a:lnTo>
                  <a:pt x="1422" y="510"/>
                </a:lnTo>
                <a:lnTo>
                  <a:pt x="1428" y="1170"/>
                </a:lnTo>
                <a:lnTo>
                  <a:pt x="1428" y="948"/>
                </a:lnTo>
                <a:lnTo>
                  <a:pt x="1428" y="1122"/>
                </a:lnTo>
                <a:lnTo>
                  <a:pt x="1428" y="666"/>
                </a:lnTo>
                <a:lnTo>
                  <a:pt x="1434" y="702"/>
                </a:lnTo>
                <a:lnTo>
                  <a:pt x="1434" y="606"/>
                </a:lnTo>
                <a:lnTo>
                  <a:pt x="1434" y="546"/>
                </a:lnTo>
                <a:lnTo>
                  <a:pt x="1434" y="666"/>
                </a:lnTo>
                <a:lnTo>
                  <a:pt x="1440" y="534"/>
                </a:lnTo>
                <a:lnTo>
                  <a:pt x="1440" y="924"/>
                </a:lnTo>
                <a:lnTo>
                  <a:pt x="1440" y="882"/>
                </a:lnTo>
                <a:lnTo>
                  <a:pt x="1440" y="690"/>
                </a:lnTo>
                <a:lnTo>
                  <a:pt x="1440" y="432"/>
                </a:lnTo>
                <a:lnTo>
                  <a:pt x="1446" y="612"/>
                </a:lnTo>
                <a:lnTo>
                  <a:pt x="1446" y="732"/>
                </a:lnTo>
                <a:lnTo>
                  <a:pt x="1446" y="522"/>
                </a:lnTo>
                <a:lnTo>
                  <a:pt x="1446" y="408"/>
                </a:lnTo>
                <a:lnTo>
                  <a:pt x="1452" y="876"/>
                </a:lnTo>
                <a:lnTo>
                  <a:pt x="1452" y="468"/>
                </a:lnTo>
                <a:lnTo>
                  <a:pt x="1452" y="438"/>
                </a:lnTo>
                <a:lnTo>
                  <a:pt x="1452" y="414"/>
                </a:lnTo>
                <a:lnTo>
                  <a:pt x="1458" y="810"/>
                </a:lnTo>
                <a:lnTo>
                  <a:pt x="1458" y="744"/>
                </a:lnTo>
                <a:lnTo>
                  <a:pt x="1458" y="600"/>
                </a:lnTo>
                <a:lnTo>
                  <a:pt x="1458" y="360"/>
                </a:lnTo>
                <a:lnTo>
                  <a:pt x="1464" y="252"/>
                </a:lnTo>
                <a:lnTo>
                  <a:pt x="1464" y="594"/>
                </a:lnTo>
                <a:lnTo>
                  <a:pt x="1464" y="444"/>
                </a:lnTo>
                <a:lnTo>
                  <a:pt x="1464" y="876"/>
                </a:lnTo>
                <a:lnTo>
                  <a:pt x="1470" y="816"/>
                </a:lnTo>
                <a:lnTo>
                  <a:pt x="1470" y="426"/>
                </a:lnTo>
                <a:lnTo>
                  <a:pt x="1470" y="312"/>
                </a:lnTo>
                <a:lnTo>
                  <a:pt x="1470" y="696"/>
                </a:lnTo>
                <a:lnTo>
                  <a:pt x="1470" y="660"/>
                </a:lnTo>
                <a:lnTo>
                  <a:pt x="1476" y="564"/>
                </a:lnTo>
                <a:lnTo>
                  <a:pt x="1476" y="648"/>
                </a:lnTo>
                <a:lnTo>
                  <a:pt x="1476" y="420"/>
                </a:lnTo>
                <a:lnTo>
                  <a:pt x="1476" y="990"/>
                </a:lnTo>
                <a:lnTo>
                  <a:pt x="1482" y="528"/>
                </a:lnTo>
                <a:lnTo>
                  <a:pt x="1482" y="444"/>
                </a:lnTo>
                <a:lnTo>
                  <a:pt x="1482" y="306"/>
                </a:lnTo>
                <a:lnTo>
                  <a:pt x="1482" y="348"/>
                </a:lnTo>
                <a:lnTo>
                  <a:pt x="1488" y="420"/>
                </a:lnTo>
                <a:lnTo>
                  <a:pt x="1488" y="486"/>
                </a:lnTo>
                <a:lnTo>
                  <a:pt x="1488" y="498"/>
                </a:lnTo>
                <a:lnTo>
                  <a:pt x="1488" y="486"/>
                </a:lnTo>
                <a:lnTo>
                  <a:pt x="1494" y="678"/>
                </a:lnTo>
                <a:lnTo>
                  <a:pt x="1494" y="420"/>
                </a:lnTo>
                <a:lnTo>
                  <a:pt x="1494" y="408"/>
                </a:lnTo>
                <a:lnTo>
                  <a:pt x="1494" y="1524"/>
                </a:lnTo>
                <a:lnTo>
                  <a:pt x="1494" y="450"/>
                </a:lnTo>
                <a:lnTo>
                  <a:pt x="1500" y="564"/>
                </a:lnTo>
                <a:lnTo>
                  <a:pt x="1500" y="552"/>
                </a:lnTo>
                <a:lnTo>
                  <a:pt x="1500" y="1044"/>
                </a:lnTo>
                <a:lnTo>
                  <a:pt x="1500" y="588"/>
                </a:lnTo>
                <a:lnTo>
                  <a:pt x="1506" y="528"/>
                </a:lnTo>
                <a:lnTo>
                  <a:pt x="1506" y="462"/>
                </a:lnTo>
                <a:lnTo>
                  <a:pt x="1506" y="474"/>
                </a:lnTo>
                <a:lnTo>
                  <a:pt x="1506" y="972"/>
                </a:lnTo>
                <a:lnTo>
                  <a:pt x="1512" y="384"/>
                </a:lnTo>
                <a:lnTo>
                  <a:pt x="1512" y="192"/>
                </a:lnTo>
                <a:lnTo>
                  <a:pt x="1512" y="270"/>
                </a:lnTo>
                <a:lnTo>
                  <a:pt x="1512" y="348"/>
                </a:lnTo>
                <a:lnTo>
                  <a:pt x="1518" y="318"/>
                </a:lnTo>
                <a:lnTo>
                  <a:pt x="1518" y="210"/>
                </a:lnTo>
                <a:lnTo>
                  <a:pt x="1518" y="294"/>
                </a:lnTo>
                <a:lnTo>
                  <a:pt x="1518" y="918"/>
                </a:lnTo>
                <a:lnTo>
                  <a:pt x="1524" y="510"/>
                </a:lnTo>
                <a:lnTo>
                  <a:pt x="1524" y="426"/>
                </a:lnTo>
                <a:lnTo>
                  <a:pt x="1524" y="462"/>
                </a:lnTo>
                <a:lnTo>
                  <a:pt x="1524" y="396"/>
                </a:lnTo>
                <a:lnTo>
                  <a:pt x="1530" y="606"/>
                </a:lnTo>
                <a:lnTo>
                  <a:pt x="1530" y="342"/>
                </a:lnTo>
                <a:lnTo>
                  <a:pt x="1530" y="264"/>
                </a:lnTo>
                <a:lnTo>
                  <a:pt x="1530" y="222"/>
                </a:lnTo>
                <a:lnTo>
                  <a:pt x="1536" y="498"/>
                </a:lnTo>
                <a:lnTo>
                  <a:pt x="1536" y="198"/>
                </a:lnTo>
                <a:lnTo>
                  <a:pt x="1536" y="30"/>
                </a:lnTo>
                <a:lnTo>
                  <a:pt x="1536" y="90"/>
                </a:lnTo>
                <a:lnTo>
                  <a:pt x="1542" y="270"/>
                </a:lnTo>
                <a:lnTo>
                  <a:pt x="1542" y="810"/>
                </a:lnTo>
                <a:lnTo>
                  <a:pt x="1542" y="120"/>
                </a:lnTo>
                <a:lnTo>
                  <a:pt x="1542" y="54"/>
                </a:lnTo>
                <a:lnTo>
                  <a:pt x="1548" y="102"/>
                </a:lnTo>
                <a:lnTo>
                  <a:pt x="1548" y="270"/>
                </a:lnTo>
                <a:lnTo>
                  <a:pt x="1548" y="504"/>
                </a:lnTo>
                <a:lnTo>
                  <a:pt x="1548" y="432"/>
                </a:lnTo>
                <a:lnTo>
                  <a:pt x="1554" y="240"/>
                </a:lnTo>
                <a:lnTo>
                  <a:pt x="1554" y="90"/>
                </a:lnTo>
                <a:lnTo>
                  <a:pt x="1554" y="342"/>
                </a:lnTo>
                <a:lnTo>
                  <a:pt x="1554" y="336"/>
                </a:lnTo>
                <a:lnTo>
                  <a:pt x="1554" y="426"/>
                </a:lnTo>
                <a:lnTo>
                  <a:pt x="1560" y="366"/>
                </a:lnTo>
                <a:lnTo>
                  <a:pt x="1560" y="402"/>
                </a:lnTo>
                <a:lnTo>
                  <a:pt x="1560" y="354"/>
                </a:lnTo>
                <a:lnTo>
                  <a:pt x="1560" y="372"/>
                </a:lnTo>
                <a:lnTo>
                  <a:pt x="1566" y="162"/>
                </a:lnTo>
                <a:lnTo>
                  <a:pt x="1566" y="102"/>
                </a:lnTo>
                <a:lnTo>
                  <a:pt x="1566" y="414"/>
                </a:lnTo>
                <a:lnTo>
                  <a:pt x="1566" y="390"/>
                </a:lnTo>
                <a:lnTo>
                  <a:pt x="1572" y="438"/>
                </a:lnTo>
                <a:lnTo>
                  <a:pt x="1572" y="132"/>
                </a:lnTo>
                <a:lnTo>
                  <a:pt x="1572" y="48"/>
                </a:lnTo>
                <a:lnTo>
                  <a:pt x="1572" y="30"/>
                </a:lnTo>
                <a:lnTo>
                  <a:pt x="1578" y="288"/>
                </a:lnTo>
                <a:lnTo>
                  <a:pt x="1578" y="366"/>
                </a:lnTo>
                <a:lnTo>
                  <a:pt x="1578" y="120"/>
                </a:lnTo>
                <a:lnTo>
                  <a:pt x="1578" y="0"/>
                </a:lnTo>
                <a:lnTo>
                  <a:pt x="1578" y="36"/>
                </a:lnTo>
                <a:lnTo>
                  <a:pt x="1584" y="402"/>
                </a:lnTo>
                <a:lnTo>
                  <a:pt x="1584" y="288"/>
                </a:lnTo>
                <a:lnTo>
                  <a:pt x="1584" y="168"/>
                </a:lnTo>
                <a:lnTo>
                  <a:pt x="1584" y="234"/>
                </a:lnTo>
                <a:lnTo>
                  <a:pt x="1590" y="414"/>
                </a:lnTo>
                <a:lnTo>
                  <a:pt x="1590" y="426"/>
                </a:lnTo>
                <a:lnTo>
                  <a:pt x="1590" y="312"/>
                </a:lnTo>
                <a:lnTo>
                  <a:pt x="1590" y="504"/>
                </a:lnTo>
                <a:lnTo>
                  <a:pt x="1596" y="354"/>
                </a:lnTo>
                <a:lnTo>
                  <a:pt x="1596" y="378"/>
                </a:lnTo>
                <a:lnTo>
                  <a:pt x="1596" y="702"/>
                </a:lnTo>
                <a:lnTo>
                  <a:pt x="1596" y="372"/>
                </a:lnTo>
                <a:lnTo>
                  <a:pt x="1602" y="138"/>
                </a:lnTo>
                <a:lnTo>
                  <a:pt x="1602" y="174"/>
                </a:lnTo>
                <a:lnTo>
                  <a:pt x="1602" y="264"/>
                </a:lnTo>
                <a:lnTo>
                  <a:pt x="1602" y="246"/>
                </a:lnTo>
                <a:lnTo>
                  <a:pt x="1608" y="96"/>
                </a:lnTo>
                <a:lnTo>
                  <a:pt x="1608" y="156"/>
                </a:lnTo>
                <a:lnTo>
                  <a:pt x="1608" y="516"/>
                </a:lnTo>
                <a:lnTo>
                  <a:pt x="1608" y="474"/>
                </a:lnTo>
                <a:lnTo>
                  <a:pt x="1608" y="348"/>
                </a:lnTo>
                <a:lnTo>
                  <a:pt x="1614" y="372"/>
                </a:lnTo>
                <a:lnTo>
                  <a:pt x="1614" y="408"/>
                </a:lnTo>
                <a:lnTo>
                  <a:pt x="1614" y="750"/>
                </a:lnTo>
                <a:lnTo>
                  <a:pt x="1614" y="612"/>
                </a:lnTo>
                <a:lnTo>
                  <a:pt x="1620" y="378"/>
                </a:lnTo>
                <a:lnTo>
                  <a:pt x="1620" y="330"/>
                </a:lnTo>
                <a:lnTo>
                  <a:pt x="1620" y="558"/>
                </a:lnTo>
                <a:lnTo>
                  <a:pt x="1620" y="528"/>
                </a:lnTo>
                <a:lnTo>
                  <a:pt x="1626" y="204"/>
                </a:lnTo>
                <a:lnTo>
                  <a:pt x="1626" y="438"/>
                </a:lnTo>
                <a:lnTo>
                  <a:pt x="1626" y="456"/>
                </a:lnTo>
                <a:lnTo>
                  <a:pt x="1626" y="294"/>
                </a:lnTo>
                <a:lnTo>
                  <a:pt x="1632" y="372"/>
                </a:lnTo>
                <a:lnTo>
                  <a:pt x="1632" y="288"/>
                </a:lnTo>
                <a:lnTo>
                  <a:pt x="1632" y="222"/>
                </a:lnTo>
                <a:lnTo>
                  <a:pt x="1632" y="156"/>
                </a:lnTo>
                <a:lnTo>
                  <a:pt x="1632" y="162"/>
                </a:lnTo>
                <a:lnTo>
                  <a:pt x="1638" y="426"/>
                </a:lnTo>
                <a:lnTo>
                  <a:pt x="1638" y="438"/>
                </a:lnTo>
                <a:lnTo>
                  <a:pt x="1638" y="312"/>
                </a:lnTo>
                <a:lnTo>
                  <a:pt x="1644" y="354"/>
                </a:lnTo>
                <a:lnTo>
                  <a:pt x="1644" y="522"/>
                </a:lnTo>
                <a:lnTo>
                  <a:pt x="1644" y="474"/>
                </a:lnTo>
                <a:lnTo>
                  <a:pt x="1644" y="204"/>
                </a:lnTo>
                <a:lnTo>
                  <a:pt x="1650" y="96"/>
                </a:lnTo>
                <a:lnTo>
                  <a:pt x="1650" y="516"/>
                </a:lnTo>
                <a:lnTo>
                  <a:pt x="1650" y="684"/>
                </a:lnTo>
                <a:lnTo>
                  <a:pt x="1650" y="312"/>
                </a:lnTo>
                <a:lnTo>
                  <a:pt x="1656" y="282"/>
                </a:lnTo>
                <a:lnTo>
                  <a:pt x="1656" y="114"/>
                </a:lnTo>
                <a:lnTo>
                  <a:pt x="1656" y="24"/>
                </a:lnTo>
                <a:lnTo>
                  <a:pt x="1656" y="270"/>
                </a:lnTo>
                <a:lnTo>
                  <a:pt x="1662" y="426"/>
                </a:lnTo>
                <a:lnTo>
                  <a:pt x="1662" y="654"/>
                </a:lnTo>
                <a:lnTo>
                  <a:pt x="1662" y="246"/>
                </a:lnTo>
                <a:lnTo>
                  <a:pt x="1662" y="138"/>
                </a:lnTo>
                <a:lnTo>
                  <a:pt x="1662" y="168"/>
                </a:lnTo>
                <a:lnTo>
                  <a:pt x="1668" y="396"/>
                </a:lnTo>
                <a:lnTo>
                  <a:pt x="1668" y="204"/>
                </a:lnTo>
                <a:lnTo>
                  <a:pt x="1668" y="162"/>
                </a:lnTo>
                <a:lnTo>
                  <a:pt x="1668" y="438"/>
                </a:lnTo>
                <a:lnTo>
                  <a:pt x="1674" y="360"/>
                </a:lnTo>
                <a:lnTo>
                  <a:pt x="1674" y="174"/>
                </a:lnTo>
                <a:lnTo>
                  <a:pt x="1674" y="210"/>
                </a:lnTo>
                <a:lnTo>
                  <a:pt x="1674" y="648"/>
                </a:lnTo>
                <a:lnTo>
                  <a:pt x="1680" y="558"/>
                </a:lnTo>
                <a:lnTo>
                  <a:pt x="1680" y="294"/>
                </a:lnTo>
                <a:lnTo>
                  <a:pt x="1680" y="288"/>
                </a:lnTo>
                <a:lnTo>
                  <a:pt x="1680" y="354"/>
                </a:lnTo>
                <a:lnTo>
                  <a:pt x="1686" y="198"/>
                </a:lnTo>
                <a:lnTo>
                  <a:pt x="1686" y="390"/>
                </a:lnTo>
                <a:lnTo>
                  <a:pt x="1686" y="360"/>
                </a:lnTo>
                <a:lnTo>
                  <a:pt x="1686" y="456"/>
                </a:lnTo>
                <a:lnTo>
                  <a:pt x="1692" y="1014"/>
                </a:lnTo>
                <a:lnTo>
                  <a:pt x="1692" y="546"/>
                </a:lnTo>
                <a:lnTo>
                  <a:pt x="1692" y="318"/>
                </a:lnTo>
                <a:lnTo>
                  <a:pt x="1692" y="270"/>
                </a:lnTo>
                <a:lnTo>
                  <a:pt x="1692" y="258"/>
                </a:lnTo>
                <a:lnTo>
                  <a:pt x="1698" y="342"/>
                </a:lnTo>
                <a:lnTo>
                  <a:pt x="1698" y="534"/>
                </a:lnTo>
                <a:lnTo>
                  <a:pt x="1698" y="1104"/>
                </a:lnTo>
                <a:lnTo>
                  <a:pt x="1698" y="456"/>
                </a:lnTo>
                <a:lnTo>
                  <a:pt x="1704" y="372"/>
                </a:lnTo>
                <a:lnTo>
                  <a:pt x="1704" y="402"/>
                </a:lnTo>
                <a:lnTo>
                  <a:pt x="1704" y="204"/>
                </a:lnTo>
                <a:lnTo>
                  <a:pt x="1704" y="390"/>
                </a:lnTo>
                <a:lnTo>
                  <a:pt x="1710" y="300"/>
                </a:lnTo>
                <a:lnTo>
                  <a:pt x="1710" y="336"/>
                </a:lnTo>
                <a:lnTo>
                  <a:pt x="1710" y="570"/>
                </a:lnTo>
                <a:lnTo>
                  <a:pt x="1710" y="660"/>
                </a:lnTo>
                <a:lnTo>
                  <a:pt x="1716" y="228"/>
                </a:lnTo>
                <a:lnTo>
                  <a:pt x="1716" y="210"/>
                </a:lnTo>
                <a:lnTo>
                  <a:pt x="1716" y="396"/>
                </a:lnTo>
                <a:lnTo>
                  <a:pt x="1716" y="456"/>
                </a:lnTo>
                <a:lnTo>
                  <a:pt x="1716" y="192"/>
                </a:lnTo>
                <a:lnTo>
                  <a:pt x="1722" y="258"/>
                </a:lnTo>
                <a:lnTo>
                  <a:pt x="1722" y="408"/>
                </a:lnTo>
                <a:lnTo>
                  <a:pt x="1722" y="204"/>
                </a:lnTo>
                <a:lnTo>
                  <a:pt x="1722" y="180"/>
                </a:lnTo>
                <a:lnTo>
                  <a:pt x="1728" y="306"/>
                </a:lnTo>
                <a:lnTo>
                  <a:pt x="1728" y="672"/>
                </a:lnTo>
                <a:lnTo>
                  <a:pt x="1728" y="468"/>
                </a:lnTo>
                <a:lnTo>
                  <a:pt x="1728" y="306"/>
                </a:lnTo>
                <a:lnTo>
                  <a:pt x="1734" y="66"/>
                </a:lnTo>
                <a:lnTo>
                  <a:pt x="1734" y="186"/>
                </a:lnTo>
                <a:lnTo>
                  <a:pt x="1734" y="324"/>
                </a:lnTo>
                <a:lnTo>
                  <a:pt x="1734" y="390"/>
                </a:lnTo>
                <a:lnTo>
                  <a:pt x="1740" y="732"/>
                </a:lnTo>
                <a:lnTo>
                  <a:pt x="1740" y="546"/>
                </a:lnTo>
                <a:lnTo>
                  <a:pt x="1740" y="150"/>
                </a:lnTo>
                <a:lnTo>
                  <a:pt x="1740" y="282"/>
                </a:lnTo>
                <a:lnTo>
                  <a:pt x="1746" y="534"/>
                </a:lnTo>
                <a:lnTo>
                  <a:pt x="1746" y="570"/>
                </a:lnTo>
                <a:lnTo>
                  <a:pt x="1746" y="426"/>
                </a:lnTo>
                <a:lnTo>
                  <a:pt x="1746" y="366"/>
                </a:lnTo>
                <a:lnTo>
                  <a:pt x="1746" y="402"/>
                </a:lnTo>
                <a:lnTo>
                  <a:pt x="1752" y="492"/>
                </a:lnTo>
                <a:lnTo>
                  <a:pt x="1752" y="234"/>
                </a:lnTo>
                <a:lnTo>
                  <a:pt x="1758" y="300"/>
                </a:lnTo>
                <a:lnTo>
                  <a:pt x="1758" y="372"/>
                </a:lnTo>
                <a:lnTo>
                  <a:pt x="1758" y="462"/>
                </a:lnTo>
                <a:lnTo>
                  <a:pt x="1758" y="366"/>
                </a:lnTo>
                <a:lnTo>
                  <a:pt x="1764" y="546"/>
                </a:lnTo>
                <a:lnTo>
                  <a:pt x="1764" y="498"/>
                </a:lnTo>
                <a:lnTo>
                  <a:pt x="1764" y="288"/>
                </a:lnTo>
                <a:lnTo>
                  <a:pt x="1764" y="648"/>
                </a:lnTo>
                <a:lnTo>
                  <a:pt x="1770" y="618"/>
                </a:lnTo>
                <a:lnTo>
                  <a:pt x="1770" y="426"/>
                </a:lnTo>
                <a:lnTo>
                  <a:pt x="1770" y="468"/>
                </a:lnTo>
                <a:lnTo>
                  <a:pt x="1770" y="726"/>
                </a:lnTo>
                <a:lnTo>
                  <a:pt x="1776" y="810"/>
                </a:lnTo>
                <a:lnTo>
                  <a:pt x="1776" y="498"/>
                </a:lnTo>
                <a:lnTo>
                  <a:pt x="1776" y="456"/>
                </a:lnTo>
                <a:lnTo>
                  <a:pt x="1776" y="444"/>
                </a:lnTo>
                <a:lnTo>
                  <a:pt x="1776" y="582"/>
                </a:lnTo>
                <a:lnTo>
                  <a:pt x="1782" y="576"/>
                </a:lnTo>
                <a:lnTo>
                  <a:pt x="1782" y="240"/>
                </a:lnTo>
                <a:lnTo>
                  <a:pt x="1782" y="192"/>
                </a:lnTo>
                <a:lnTo>
                  <a:pt x="1782" y="342"/>
                </a:lnTo>
                <a:lnTo>
                  <a:pt x="1788" y="366"/>
                </a:lnTo>
                <a:lnTo>
                  <a:pt x="1788" y="258"/>
                </a:lnTo>
                <a:lnTo>
                  <a:pt x="1788" y="240"/>
                </a:lnTo>
                <a:lnTo>
                  <a:pt x="1788" y="492"/>
                </a:lnTo>
                <a:lnTo>
                  <a:pt x="1794" y="726"/>
                </a:lnTo>
                <a:lnTo>
                  <a:pt x="1794" y="474"/>
                </a:lnTo>
                <a:lnTo>
                  <a:pt x="1794" y="444"/>
                </a:lnTo>
                <a:lnTo>
                  <a:pt x="1794" y="600"/>
                </a:lnTo>
                <a:lnTo>
                  <a:pt x="1800" y="408"/>
                </a:lnTo>
                <a:lnTo>
                  <a:pt x="1800" y="522"/>
                </a:lnTo>
                <a:lnTo>
                  <a:pt x="1800" y="498"/>
                </a:lnTo>
                <a:lnTo>
                  <a:pt x="1800" y="336"/>
                </a:lnTo>
                <a:lnTo>
                  <a:pt x="1800" y="264"/>
                </a:lnTo>
                <a:lnTo>
                  <a:pt x="1806" y="402"/>
                </a:lnTo>
                <a:lnTo>
                  <a:pt x="1806" y="468"/>
                </a:lnTo>
                <a:lnTo>
                  <a:pt x="1806" y="126"/>
                </a:lnTo>
                <a:lnTo>
                  <a:pt x="1806" y="96"/>
                </a:lnTo>
                <a:lnTo>
                  <a:pt x="1812" y="234"/>
                </a:lnTo>
                <a:lnTo>
                  <a:pt x="1812" y="480"/>
                </a:lnTo>
                <a:lnTo>
                  <a:pt x="1812" y="360"/>
                </a:lnTo>
                <a:lnTo>
                  <a:pt x="1812" y="120"/>
                </a:lnTo>
                <a:lnTo>
                  <a:pt x="1818" y="144"/>
                </a:lnTo>
                <a:lnTo>
                  <a:pt x="1818" y="234"/>
                </a:lnTo>
                <a:lnTo>
                  <a:pt x="1818" y="564"/>
                </a:lnTo>
                <a:lnTo>
                  <a:pt x="1818" y="492"/>
                </a:lnTo>
                <a:lnTo>
                  <a:pt x="1824" y="498"/>
                </a:lnTo>
                <a:lnTo>
                  <a:pt x="1824" y="186"/>
                </a:lnTo>
                <a:lnTo>
                  <a:pt x="1824" y="270"/>
                </a:lnTo>
                <a:lnTo>
                  <a:pt x="1824" y="456"/>
                </a:lnTo>
                <a:lnTo>
                  <a:pt x="1830" y="450"/>
                </a:lnTo>
                <a:lnTo>
                  <a:pt x="1830" y="474"/>
                </a:lnTo>
                <a:lnTo>
                  <a:pt x="1830" y="456"/>
                </a:lnTo>
                <a:lnTo>
                  <a:pt x="1830" y="516"/>
                </a:lnTo>
                <a:lnTo>
                  <a:pt x="1830" y="426"/>
                </a:lnTo>
                <a:lnTo>
                  <a:pt x="1836" y="414"/>
                </a:lnTo>
                <a:lnTo>
                  <a:pt x="1836" y="174"/>
                </a:lnTo>
                <a:lnTo>
                  <a:pt x="1836" y="348"/>
                </a:lnTo>
                <a:lnTo>
                  <a:pt x="1836" y="510"/>
                </a:lnTo>
                <a:lnTo>
                  <a:pt x="1842" y="588"/>
                </a:lnTo>
                <a:lnTo>
                  <a:pt x="1842" y="342"/>
                </a:lnTo>
                <a:lnTo>
                  <a:pt x="1842" y="180"/>
                </a:lnTo>
                <a:lnTo>
                  <a:pt x="1842" y="126"/>
                </a:lnTo>
                <a:lnTo>
                  <a:pt x="1848" y="210"/>
                </a:lnTo>
                <a:lnTo>
                  <a:pt x="1848" y="882"/>
                </a:lnTo>
                <a:lnTo>
                  <a:pt x="1848" y="336"/>
                </a:lnTo>
                <a:lnTo>
                  <a:pt x="1848" y="156"/>
                </a:lnTo>
                <a:lnTo>
                  <a:pt x="1854" y="102"/>
                </a:lnTo>
                <a:lnTo>
                  <a:pt x="1854" y="288"/>
                </a:lnTo>
                <a:lnTo>
                  <a:pt x="1854" y="576"/>
                </a:lnTo>
                <a:lnTo>
                  <a:pt x="1854" y="288"/>
                </a:lnTo>
                <a:lnTo>
                  <a:pt x="1854" y="336"/>
                </a:lnTo>
                <a:lnTo>
                  <a:pt x="1860" y="408"/>
                </a:lnTo>
                <a:lnTo>
                  <a:pt x="1860" y="642"/>
                </a:lnTo>
                <a:lnTo>
                  <a:pt x="1860" y="438"/>
                </a:lnTo>
                <a:lnTo>
                  <a:pt x="1860" y="528"/>
                </a:lnTo>
                <a:lnTo>
                  <a:pt x="1866" y="504"/>
                </a:lnTo>
                <a:lnTo>
                  <a:pt x="1866" y="486"/>
                </a:lnTo>
                <a:lnTo>
                  <a:pt x="1866" y="570"/>
                </a:lnTo>
                <a:lnTo>
                  <a:pt x="1866" y="870"/>
                </a:lnTo>
                <a:lnTo>
                  <a:pt x="1872" y="336"/>
                </a:lnTo>
                <a:lnTo>
                  <a:pt x="1872" y="252"/>
                </a:lnTo>
                <a:lnTo>
                  <a:pt x="1872" y="366"/>
                </a:lnTo>
                <a:lnTo>
                  <a:pt x="1872" y="390"/>
                </a:lnTo>
                <a:lnTo>
                  <a:pt x="1878" y="288"/>
                </a:lnTo>
                <a:lnTo>
                  <a:pt x="1878" y="222"/>
                </a:lnTo>
                <a:lnTo>
                  <a:pt x="1878" y="432"/>
                </a:lnTo>
                <a:lnTo>
                  <a:pt x="1878" y="942"/>
                </a:lnTo>
                <a:lnTo>
                  <a:pt x="1884" y="510"/>
                </a:lnTo>
                <a:lnTo>
                  <a:pt x="1884" y="474"/>
                </a:lnTo>
                <a:lnTo>
                  <a:pt x="1884" y="534"/>
                </a:lnTo>
                <a:lnTo>
                  <a:pt x="1884" y="618"/>
                </a:lnTo>
                <a:lnTo>
                  <a:pt x="1884" y="948"/>
                </a:lnTo>
                <a:lnTo>
                  <a:pt x="1890" y="558"/>
                </a:lnTo>
                <a:lnTo>
                  <a:pt x="1890" y="594"/>
                </a:lnTo>
                <a:lnTo>
                  <a:pt x="1890" y="486"/>
                </a:lnTo>
                <a:lnTo>
                  <a:pt x="1890" y="1464"/>
                </a:lnTo>
                <a:lnTo>
                  <a:pt x="1896" y="396"/>
                </a:lnTo>
                <a:lnTo>
                  <a:pt x="1896" y="414"/>
                </a:lnTo>
                <a:lnTo>
                  <a:pt x="1896" y="678"/>
                </a:lnTo>
                <a:lnTo>
                  <a:pt x="1896" y="462"/>
                </a:lnTo>
                <a:lnTo>
                  <a:pt x="1902" y="486"/>
                </a:lnTo>
                <a:lnTo>
                  <a:pt x="1902" y="474"/>
                </a:lnTo>
                <a:lnTo>
                  <a:pt x="1902" y="396"/>
                </a:lnTo>
                <a:lnTo>
                  <a:pt x="1902" y="330"/>
                </a:lnTo>
                <a:lnTo>
                  <a:pt x="1908" y="276"/>
                </a:lnTo>
                <a:lnTo>
                  <a:pt x="1908" y="438"/>
                </a:lnTo>
                <a:lnTo>
                  <a:pt x="1908" y="498"/>
                </a:lnTo>
                <a:lnTo>
                  <a:pt x="1908" y="822"/>
                </a:lnTo>
                <a:lnTo>
                  <a:pt x="1914" y="366"/>
                </a:lnTo>
                <a:lnTo>
                  <a:pt x="1914" y="600"/>
                </a:lnTo>
                <a:lnTo>
                  <a:pt x="1914" y="528"/>
                </a:lnTo>
                <a:lnTo>
                  <a:pt x="1914" y="600"/>
                </a:lnTo>
                <a:lnTo>
                  <a:pt x="1914" y="582"/>
                </a:lnTo>
                <a:lnTo>
                  <a:pt x="1920" y="228"/>
                </a:lnTo>
                <a:lnTo>
                  <a:pt x="1920" y="378"/>
                </a:lnTo>
                <a:lnTo>
                  <a:pt x="1920" y="762"/>
                </a:lnTo>
                <a:lnTo>
                  <a:pt x="1926" y="354"/>
                </a:lnTo>
                <a:lnTo>
                  <a:pt x="1926" y="486"/>
                </a:lnTo>
                <a:lnTo>
                  <a:pt x="1926" y="150"/>
                </a:lnTo>
                <a:lnTo>
                  <a:pt x="1926" y="270"/>
                </a:lnTo>
                <a:lnTo>
                  <a:pt x="1932" y="510"/>
                </a:lnTo>
                <a:lnTo>
                  <a:pt x="1932" y="636"/>
                </a:lnTo>
                <a:lnTo>
                  <a:pt x="1932" y="642"/>
                </a:lnTo>
                <a:lnTo>
                  <a:pt x="1932" y="288"/>
                </a:lnTo>
                <a:lnTo>
                  <a:pt x="1938" y="306"/>
                </a:lnTo>
                <a:lnTo>
                  <a:pt x="1938" y="354"/>
                </a:lnTo>
                <a:lnTo>
                  <a:pt x="1938" y="702"/>
                </a:lnTo>
                <a:lnTo>
                  <a:pt x="1938" y="276"/>
                </a:lnTo>
                <a:lnTo>
                  <a:pt x="1938" y="402"/>
                </a:lnTo>
                <a:lnTo>
                  <a:pt x="1944" y="576"/>
                </a:lnTo>
                <a:lnTo>
                  <a:pt x="1944" y="432"/>
                </a:lnTo>
                <a:lnTo>
                  <a:pt x="1944" y="288"/>
                </a:lnTo>
                <a:lnTo>
                  <a:pt x="1944" y="564"/>
                </a:lnTo>
                <a:lnTo>
                  <a:pt x="1950" y="702"/>
                </a:lnTo>
                <a:lnTo>
                  <a:pt x="1950" y="678"/>
                </a:lnTo>
                <a:lnTo>
                  <a:pt x="1950" y="378"/>
                </a:lnTo>
                <a:lnTo>
                  <a:pt x="1950" y="504"/>
                </a:lnTo>
                <a:lnTo>
                  <a:pt x="1956" y="360"/>
                </a:lnTo>
                <a:lnTo>
                  <a:pt x="1956" y="456"/>
                </a:lnTo>
                <a:lnTo>
                  <a:pt x="1956" y="522"/>
                </a:lnTo>
                <a:lnTo>
                  <a:pt x="1956" y="492"/>
                </a:lnTo>
                <a:lnTo>
                  <a:pt x="1962" y="978"/>
                </a:lnTo>
                <a:lnTo>
                  <a:pt x="1962" y="720"/>
                </a:lnTo>
                <a:lnTo>
                  <a:pt x="1962" y="1020"/>
                </a:lnTo>
                <a:lnTo>
                  <a:pt x="1962" y="330"/>
                </a:lnTo>
                <a:lnTo>
                  <a:pt x="1968" y="630"/>
                </a:lnTo>
                <a:lnTo>
                  <a:pt x="1968" y="336"/>
                </a:lnTo>
                <a:lnTo>
                  <a:pt x="1968" y="1236"/>
                </a:lnTo>
                <a:lnTo>
                  <a:pt x="1968" y="768"/>
                </a:lnTo>
                <a:lnTo>
                  <a:pt x="1968" y="870"/>
                </a:lnTo>
                <a:lnTo>
                  <a:pt x="1974" y="492"/>
                </a:lnTo>
                <a:lnTo>
                  <a:pt x="1974" y="534"/>
                </a:lnTo>
                <a:lnTo>
                  <a:pt x="1974" y="444"/>
                </a:lnTo>
                <a:lnTo>
                  <a:pt x="1974" y="390"/>
                </a:lnTo>
                <a:lnTo>
                  <a:pt x="1980" y="504"/>
                </a:lnTo>
                <a:lnTo>
                  <a:pt x="1980" y="390"/>
                </a:lnTo>
                <a:lnTo>
                  <a:pt x="1980" y="768"/>
                </a:lnTo>
                <a:lnTo>
                  <a:pt x="1980" y="744"/>
                </a:lnTo>
                <a:lnTo>
                  <a:pt x="1986" y="534"/>
                </a:lnTo>
                <a:lnTo>
                  <a:pt x="1986" y="312"/>
                </a:lnTo>
                <a:lnTo>
                  <a:pt x="1986" y="480"/>
                </a:lnTo>
                <a:lnTo>
                  <a:pt x="1986" y="618"/>
                </a:lnTo>
                <a:lnTo>
                  <a:pt x="1992" y="408"/>
                </a:lnTo>
                <a:lnTo>
                  <a:pt x="1992" y="300"/>
                </a:lnTo>
                <a:lnTo>
                  <a:pt x="1992" y="900"/>
                </a:lnTo>
                <a:lnTo>
                  <a:pt x="1992" y="372"/>
                </a:lnTo>
                <a:lnTo>
                  <a:pt x="1992" y="342"/>
                </a:lnTo>
                <a:lnTo>
                  <a:pt x="1998" y="330"/>
                </a:lnTo>
                <a:lnTo>
                  <a:pt x="1998" y="750"/>
                </a:lnTo>
                <a:lnTo>
                  <a:pt x="1998" y="660"/>
                </a:lnTo>
                <a:lnTo>
                  <a:pt x="1998" y="540"/>
                </a:lnTo>
                <a:lnTo>
                  <a:pt x="2004" y="288"/>
                </a:lnTo>
                <a:lnTo>
                  <a:pt x="2004" y="204"/>
                </a:lnTo>
                <a:lnTo>
                  <a:pt x="2004" y="558"/>
                </a:lnTo>
                <a:lnTo>
                  <a:pt x="2004" y="408"/>
                </a:lnTo>
                <a:lnTo>
                  <a:pt x="2010" y="918"/>
                </a:lnTo>
                <a:lnTo>
                  <a:pt x="2010" y="816"/>
                </a:lnTo>
                <a:lnTo>
                  <a:pt x="2010" y="396"/>
                </a:lnTo>
                <a:lnTo>
                  <a:pt x="2010" y="300"/>
                </a:lnTo>
                <a:lnTo>
                  <a:pt x="2016" y="696"/>
                </a:lnTo>
                <a:lnTo>
                  <a:pt x="2016" y="672"/>
                </a:lnTo>
                <a:lnTo>
                  <a:pt x="2016" y="570"/>
                </a:lnTo>
                <a:lnTo>
                  <a:pt x="2016" y="660"/>
                </a:lnTo>
                <a:lnTo>
                  <a:pt x="2022" y="432"/>
                </a:lnTo>
                <a:lnTo>
                  <a:pt x="2022" y="1008"/>
                </a:lnTo>
                <a:lnTo>
                  <a:pt x="2022" y="570"/>
                </a:lnTo>
                <a:lnTo>
                  <a:pt x="2022" y="468"/>
                </a:lnTo>
                <a:lnTo>
                  <a:pt x="2022" y="348"/>
                </a:lnTo>
                <a:lnTo>
                  <a:pt x="2028" y="408"/>
                </a:lnTo>
                <a:lnTo>
                  <a:pt x="2028" y="474"/>
                </a:lnTo>
                <a:lnTo>
                  <a:pt x="2028" y="552"/>
                </a:lnTo>
                <a:lnTo>
                  <a:pt x="2028" y="558"/>
                </a:lnTo>
                <a:lnTo>
                  <a:pt x="2034" y="552"/>
                </a:lnTo>
                <a:lnTo>
                  <a:pt x="2034" y="744"/>
                </a:lnTo>
                <a:lnTo>
                  <a:pt x="2034" y="480"/>
                </a:lnTo>
                <a:lnTo>
                  <a:pt x="2034" y="504"/>
                </a:lnTo>
                <a:lnTo>
                  <a:pt x="2040" y="1380"/>
                </a:lnTo>
                <a:lnTo>
                  <a:pt x="2040" y="546"/>
                </a:lnTo>
                <a:lnTo>
                  <a:pt x="2040" y="678"/>
                </a:lnTo>
                <a:lnTo>
                  <a:pt x="2040" y="672"/>
                </a:lnTo>
                <a:lnTo>
                  <a:pt x="2046" y="1146"/>
                </a:lnTo>
                <a:lnTo>
                  <a:pt x="2046" y="684"/>
                </a:lnTo>
                <a:lnTo>
                  <a:pt x="2046" y="630"/>
                </a:lnTo>
                <a:lnTo>
                  <a:pt x="2046" y="570"/>
                </a:lnTo>
                <a:lnTo>
                  <a:pt x="2052" y="606"/>
                </a:lnTo>
                <a:lnTo>
                  <a:pt x="2052" y="1062"/>
                </a:lnTo>
                <a:lnTo>
                  <a:pt x="2052" y="504"/>
                </a:lnTo>
                <a:lnTo>
                  <a:pt x="2052" y="324"/>
                </a:lnTo>
                <a:lnTo>
                  <a:pt x="2052" y="408"/>
                </a:lnTo>
                <a:lnTo>
                  <a:pt x="2058" y="492"/>
                </a:lnTo>
                <a:lnTo>
                  <a:pt x="2058" y="462"/>
                </a:lnTo>
                <a:lnTo>
                  <a:pt x="2058" y="354"/>
                </a:lnTo>
                <a:lnTo>
                  <a:pt x="2058" y="462"/>
                </a:lnTo>
                <a:lnTo>
                  <a:pt x="2064" y="1308"/>
                </a:lnTo>
                <a:lnTo>
                  <a:pt x="2064" y="642"/>
                </a:lnTo>
                <a:lnTo>
                  <a:pt x="2064" y="594"/>
                </a:lnTo>
                <a:lnTo>
                  <a:pt x="2064" y="636"/>
                </a:lnTo>
                <a:lnTo>
                  <a:pt x="2070" y="624"/>
                </a:lnTo>
                <a:lnTo>
                  <a:pt x="2070" y="576"/>
                </a:lnTo>
                <a:lnTo>
                  <a:pt x="2070" y="804"/>
                </a:lnTo>
                <a:lnTo>
                  <a:pt x="2070" y="534"/>
                </a:lnTo>
                <a:lnTo>
                  <a:pt x="2076" y="456"/>
                </a:lnTo>
                <a:lnTo>
                  <a:pt x="2076" y="420"/>
                </a:lnTo>
                <a:lnTo>
                  <a:pt x="2076" y="702"/>
                </a:lnTo>
                <a:lnTo>
                  <a:pt x="2076" y="390"/>
                </a:lnTo>
                <a:lnTo>
                  <a:pt x="2076" y="240"/>
                </a:lnTo>
                <a:lnTo>
                  <a:pt x="2082" y="312"/>
                </a:lnTo>
                <a:lnTo>
                  <a:pt x="2082" y="498"/>
                </a:lnTo>
                <a:lnTo>
                  <a:pt x="2082" y="1008"/>
                </a:lnTo>
                <a:lnTo>
                  <a:pt x="2082" y="330"/>
                </a:lnTo>
                <a:lnTo>
                  <a:pt x="2088" y="270"/>
                </a:lnTo>
                <a:lnTo>
                  <a:pt x="2088" y="324"/>
                </a:lnTo>
                <a:lnTo>
                  <a:pt x="2088" y="516"/>
                </a:lnTo>
                <a:lnTo>
                  <a:pt x="2088" y="744"/>
                </a:lnTo>
                <a:lnTo>
                  <a:pt x="2094" y="684"/>
                </a:lnTo>
                <a:lnTo>
                  <a:pt x="2094" y="456"/>
                </a:lnTo>
                <a:lnTo>
                  <a:pt x="2094" y="336"/>
                </a:lnTo>
                <a:lnTo>
                  <a:pt x="2094" y="594"/>
                </a:lnTo>
                <a:lnTo>
                  <a:pt x="2100" y="588"/>
                </a:lnTo>
                <a:lnTo>
                  <a:pt x="2100" y="660"/>
                </a:lnTo>
                <a:lnTo>
                  <a:pt x="2100" y="612"/>
                </a:lnTo>
                <a:lnTo>
                  <a:pt x="2100" y="666"/>
                </a:lnTo>
                <a:lnTo>
                  <a:pt x="2106" y="618"/>
                </a:lnTo>
                <a:lnTo>
                  <a:pt x="2106" y="630"/>
                </a:lnTo>
                <a:lnTo>
                  <a:pt x="2106" y="420"/>
                </a:lnTo>
                <a:lnTo>
                  <a:pt x="2106" y="384"/>
                </a:lnTo>
                <a:lnTo>
                  <a:pt x="2106" y="684"/>
                </a:lnTo>
                <a:lnTo>
                  <a:pt x="2112" y="666"/>
                </a:lnTo>
                <a:lnTo>
                  <a:pt x="2112" y="726"/>
                </a:lnTo>
                <a:lnTo>
                  <a:pt x="2112" y="414"/>
                </a:lnTo>
                <a:lnTo>
                  <a:pt x="2112" y="336"/>
                </a:lnTo>
                <a:lnTo>
                  <a:pt x="2118" y="324"/>
                </a:lnTo>
                <a:lnTo>
                  <a:pt x="2118" y="606"/>
                </a:lnTo>
                <a:lnTo>
                  <a:pt x="2118" y="648"/>
                </a:lnTo>
                <a:lnTo>
                  <a:pt x="2118" y="414"/>
                </a:lnTo>
                <a:lnTo>
                  <a:pt x="2124" y="294"/>
                </a:lnTo>
                <a:lnTo>
                  <a:pt x="2124" y="348"/>
                </a:lnTo>
                <a:lnTo>
                  <a:pt x="2124" y="744"/>
                </a:lnTo>
                <a:lnTo>
                  <a:pt x="2124" y="612"/>
                </a:lnTo>
                <a:lnTo>
                  <a:pt x="2130" y="492"/>
                </a:lnTo>
                <a:lnTo>
                  <a:pt x="2130" y="546"/>
                </a:lnTo>
                <a:lnTo>
                  <a:pt x="2130" y="732"/>
                </a:lnTo>
                <a:lnTo>
                  <a:pt x="2130" y="696"/>
                </a:lnTo>
                <a:lnTo>
                  <a:pt x="2136" y="630"/>
                </a:lnTo>
                <a:lnTo>
                  <a:pt x="2136" y="810"/>
                </a:lnTo>
                <a:lnTo>
                  <a:pt x="2136" y="684"/>
                </a:lnTo>
                <a:lnTo>
                  <a:pt x="2136" y="732"/>
                </a:lnTo>
                <a:lnTo>
                  <a:pt x="2136" y="948"/>
                </a:lnTo>
                <a:lnTo>
                  <a:pt x="2142" y="708"/>
                </a:lnTo>
                <a:lnTo>
                  <a:pt x="2142" y="480"/>
                </a:lnTo>
                <a:lnTo>
                  <a:pt x="2142" y="516"/>
                </a:lnTo>
                <a:lnTo>
                  <a:pt x="2142" y="624"/>
                </a:lnTo>
                <a:lnTo>
                  <a:pt x="2148" y="588"/>
                </a:lnTo>
                <a:lnTo>
                  <a:pt x="2148" y="426"/>
                </a:lnTo>
                <a:lnTo>
                  <a:pt x="2148" y="510"/>
                </a:lnTo>
                <a:lnTo>
                  <a:pt x="2148" y="906"/>
                </a:lnTo>
                <a:lnTo>
                  <a:pt x="2154" y="840"/>
                </a:lnTo>
                <a:lnTo>
                  <a:pt x="2154" y="720"/>
                </a:lnTo>
                <a:lnTo>
                  <a:pt x="2154" y="714"/>
                </a:lnTo>
                <a:lnTo>
                  <a:pt x="2154" y="762"/>
                </a:lnTo>
                <a:lnTo>
                  <a:pt x="2160" y="1206"/>
                </a:lnTo>
                <a:lnTo>
                  <a:pt x="2160" y="1038"/>
                </a:lnTo>
                <a:lnTo>
                  <a:pt x="2160" y="786"/>
                </a:lnTo>
                <a:lnTo>
                  <a:pt x="2160" y="738"/>
                </a:lnTo>
                <a:lnTo>
                  <a:pt x="2160" y="1008"/>
                </a:lnTo>
                <a:lnTo>
                  <a:pt x="2166" y="912"/>
                </a:lnTo>
                <a:lnTo>
                  <a:pt x="2166" y="582"/>
                </a:lnTo>
                <a:lnTo>
                  <a:pt x="2166" y="810"/>
                </a:lnTo>
                <a:lnTo>
                  <a:pt x="2166" y="834"/>
                </a:lnTo>
                <a:lnTo>
                  <a:pt x="2172" y="666"/>
                </a:lnTo>
                <a:lnTo>
                  <a:pt x="2172" y="780"/>
                </a:lnTo>
                <a:lnTo>
                  <a:pt x="2172" y="696"/>
                </a:lnTo>
                <a:lnTo>
                  <a:pt x="2172" y="636"/>
                </a:lnTo>
                <a:lnTo>
                  <a:pt x="2178" y="570"/>
                </a:lnTo>
                <a:lnTo>
                  <a:pt x="2178" y="588"/>
                </a:lnTo>
                <a:lnTo>
                  <a:pt x="2178" y="828"/>
                </a:lnTo>
                <a:lnTo>
                  <a:pt x="2178" y="906"/>
                </a:lnTo>
                <a:lnTo>
                  <a:pt x="2184" y="696"/>
                </a:lnTo>
                <a:lnTo>
                  <a:pt x="2184" y="726"/>
                </a:lnTo>
                <a:lnTo>
                  <a:pt x="2184" y="804"/>
                </a:lnTo>
                <a:lnTo>
                  <a:pt x="2184" y="960"/>
                </a:lnTo>
                <a:lnTo>
                  <a:pt x="2190" y="966"/>
                </a:lnTo>
                <a:lnTo>
                  <a:pt x="2190" y="594"/>
                </a:lnTo>
                <a:lnTo>
                  <a:pt x="2190" y="516"/>
                </a:lnTo>
                <a:lnTo>
                  <a:pt x="2190" y="1008"/>
                </a:lnTo>
                <a:lnTo>
                  <a:pt x="2190" y="1422"/>
                </a:lnTo>
                <a:lnTo>
                  <a:pt x="2196" y="708"/>
                </a:lnTo>
                <a:lnTo>
                  <a:pt x="2196" y="744"/>
                </a:lnTo>
                <a:lnTo>
                  <a:pt x="2196" y="552"/>
                </a:lnTo>
                <a:lnTo>
                  <a:pt x="2196" y="474"/>
                </a:lnTo>
                <a:lnTo>
                  <a:pt x="2202" y="732"/>
                </a:lnTo>
                <a:lnTo>
                  <a:pt x="2202" y="852"/>
                </a:lnTo>
                <a:lnTo>
                  <a:pt x="2202" y="1134"/>
                </a:lnTo>
                <a:lnTo>
                  <a:pt x="2202" y="672"/>
                </a:lnTo>
                <a:lnTo>
                  <a:pt x="2208" y="606"/>
                </a:lnTo>
                <a:lnTo>
                  <a:pt x="2208" y="648"/>
                </a:lnTo>
                <a:lnTo>
                  <a:pt x="2208" y="912"/>
                </a:lnTo>
                <a:lnTo>
                  <a:pt x="2208" y="696"/>
                </a:lnTo>
                <a:lnTo>
                  <a:pt x="2214" y="642"/>
                </a:lnTo>
                <a:lnTo>
                  <a:pt x="2214" y="924"/>
                </a:lnTo>
                <a:lnTo>
                  <a:pt x="2214" y="1062"/>
                </a:lnTo>
                <a:lnTo>
                  <a:pt x="2214" y="684"/>
                </a:lnTo>
                <a:lnTo>
                  <a:pt x="2214" y="762"/>
                </a:lnTo>
                <a:lnTo>
                  <a:pt x="2220" y="1200"/>
                </a:lnTo>
                <a:lnTo>
                  <a:pt x="2220" y="990"/>
                </a:lnTo>
                <a:lnTo>
                  <a:pt x="2220" y="708"/>
                </a:lnTo>
                <a:lnTo>
                  <a:pt x="2220" y="732"/>
                </a:lnTo>
                <a:lnTo>
                  <a:pt x="2226" y="882"/>
                </a:lnTo>
                <a:lnTo>
                  <a:pt x="2226" y="720"/>
                </a:lnTo>
                <a:lnTo>
                  <a:pt x="2226" y="924"/>
                </a:lnTo>
                <a:lnTo>
                  <a:pt x="2226" y="810"/>
                </a:lnTo>
                <a:lnTo>
                  <a:pt x="2232" y="906"/>
                </a:lnTo>
                <a:lnTo>
                  <a:pt x="2232" y="1188"/>
                </a:lnTo>
                <a:lnTo>
                  <a:pt x="2232" y="1026"/>
                </a:lnTo>
                <a:lnTo>
                  <a:pt x="2232" y="822"/>
                </a:lnTo>
                <a:lnTo>
                  <a:pt x="2238" y="780"/>
                </a:lnTo>
                <a:lnTo>
                  <a:pt x="2238" y="750"/>
                </a:lnTo>
                <a:lnTo>
                  <a:pt x="2238" y="936"/>
                </a:lnTo>
                <a:lnTo>
                  <a:pt x="2238" y="990"/>
                </a:lnTo>
                <a:lnTo>
                  <a:pt x="2244" y="1140"/>
                </a:lnTo>
                <a:lnTo>
                  <a:pt x="2244" y="942"/>
                </a:lnTo>
                <a:lnTo>
                  <a:pt x="2244" y="864"/>
                </a:lnTo>
                <a:lnTo>
                  <a:pt x="2244" y="936"/>
                </a:lnTo>
                <a:lnTo>
                  <a:pt x="2244" y="786"/>
                </a:lnTo>
                <a:lnTo>
                  <a:pt x="2250" y="1002"/>
                </a:lnTo>
                <a:lnTo>
                  <a:pt x="2250" y="792"/>
                </a:lnTo>
                <a:lnTo>
                  <a:pt x="2250" y="798"/>
                </a:lnTo>
                <a:lnTo>
                  <a:pt x="2250" y="996"/>
                </a:lnTo>
                <a:lnTo>
                  <a:pt x="2256" y="1494"/>
                </a:lnTo>
                <a:lnTo>
                  <a:pt x="2256" y="846"/>
                </a:lnTo>
                <a:lnTo>
                  <a:pt x="2256" y="768"/>
                </a:lnTo>
                <a:lnTo>
                  <a:pt x="2256" y="1206"/>
                </a:lnTo>
                <a:lnTo>
                  <a:pt x="2262" y="1014"/>
                </a:lnTo>
                <a:lnTo>
                  <a:pt x="2262" y="810"/>
                </a:lnTo>
                <a:lnTo>
                  <a:pt x="2262" y="978"/>
                </a:lnTo>
                <a:lnTo>
                  <a:pt x="2262" y="936"/>
                </a:lnTo>
                <a:lnTo>
                  <a:pt x="2268" y="816"/>
                </a:lnTo>
                <a:lnTo>
                  <a:pt x="2268" y="750"/>
                </a:lnTo>
                <a:lnTo>
                  <a:pt x="2268" y="834"/>
                </a:lnTo>
                <a:lnTo>
                  <a:pt x="2268" y="1188"/>
                </a:lnTo>
                <a:lnTo>
                  <a:pt x="2274" y="978"/>
                </a:lnTo>
                <a:lnTo>
                  <a:pt x="2274" y="912"/>
                </a:lnTo>
                <a:lnTo>
                  <a:pt x="2274" y="672"/>
                </a:lnTo>
                <a:lnTo>
                  <a:pt x="2274" y="858"/>
                </a:lnTo>
                <a:lnTo>
                  <a:pt x="2274" y="924"/>
                </a:lnTo>
                <a:lnTo>
                  <a:pt x="2280" y="900"/>
                </a:lnTo>
                <a:lnTo>
                  <a:pt x="2280" y="1386"/>
                </a:lnTo>
                <a:lnTo>
                  <a:pt x="2280" y="1056"/>
                </a:lnTo>
                <a:lnTo>
                  <a:pt x="2280" y="690"/>
                </a:lnTo>
                <a:lnTo>
                  <a:pt x="2286" y="798"/>
                </a:lnTo>
                <a:lnTo>
                  <a:pt x="2286" y="1326"/>
                </a:lnTo>
                <a:lnTo>
                  <a:pt x="2286" y="1314"/>
                </a:lnTo>
                <a:lnTo>
                  <a:pt x="2286" y="1296"/>
                </a:lnTo>
                <a:lnTo>
                  <a:pt x="2292" y="930"/>
                </a:lnTo>
                <a:lnTo>
                  <a:pt x="2292" y="972"/>
                </a:lnTo>
                <a:lnTo>
                  <a:pt x="2292" y="1212"/>
                </a:lnTo>
                <a:lnTo>
                  <a:pt x="2292" y="1146"/>
                </a:lnTo>
                <a:lnTo>
                  <a:pt x="2298" y="960"/>
                </a:lnTo>
                <a:lnTo>
                  <a:pt x="2298" y="1008"/>
                </a:lnTo>
                <a:lnTo>
                  <a:pt x="2298" y="1086"/>
                </a:lnTo>
                <a:lnTo>
                  <a:pt x="2298" y="1116"/>
                </a:lnTo>
                <a:lnTo>
                  <a:pt x="2298" y="1026"/>
                </a:lnTo>
                <a:lnTo>
                  <a:pt x="2304" y="942"/>
                </a:lnTo>
                <a:lnTo>
                  <a:pt x="2304" y="1188"/>
                </a:lnTo>
                <a:lnTo>
                  <a:pt x="2304" y="996"/>
                </a:lnTo>
                <a:lnTo>
                  <a:pt x="2304" y="954"/>
                </a:lnTo>
                <a:lnTo>
                  <a:pt x="2310" y="1386"/>
                </a:lnTo>
                <a:lnTo>
                  <a:pt x="2310" y="1296"/>
                </a:lnTo>
                <a:lnTo>
                  <a:pt x="2310" y="1458"/>
                </a:lnTo>
                <a:lnTo>
                  <a:pt x="2310" y="1146"/>
                </a:lnTo>
                <a:lnTo>
                  <a:pt x="2316" y="1308"/>
                </a:lnTo>
                <a:lnTo>
                  <a:pt x="2316" y="1416"/>
                </a:lnTo>
                <a:lnTo>
                  <a:pt x="2316" y="1056"/>
                </a:lnTo>
                <a:lnTo>
                  <a:pt x="2316" y="978"/>
                </a:lnTo>
                <a:lnTo>
                  <a:pt x="2322" y="1500"/>
                </a:lnTo>
                <a:lnTo>
                  <a:pt x="2322" y="1716"/>
                </a:lnTo>
                <a:lnTo>
                  <a:pt x="2322" y="1380"/>
                </a:lnTo>
                <a:lnTo>
                  <a:pt x="2322" y="888"/>
                </a:lnTo>
                <a:lnTo>
                  <a:pt x="2328" y="756"/>
                </a:lnTo>
                <a:lnTo>
                  <a:pt x="2328" y="1014"/>
                </a:lnTo>
                <a:lnTo>
                  <a:pt x="2328" y="1224"/>
                </a:lnTo>
                <a:lnTo>
                  <a:pt x="2328" y="948"/>
                </a:lnTo>
                <a:lnTo>
                  <a:pt x="2328" y="936"/>
                </a:lnTo>
                <a:lnTo>
                  <a:pt x="2334" y="1206"/>
                </a:lnTo>
                <a:lnTo>
                  <a:pt x="2334" y="858"/>
                </a:lnTo>
                <a:lnTo>
                  <a:pt x="2334" y="1032"/>
                </a:lnTo>
                <a:lnTo>
                  <a:pt x="2334" y="1092"/>
                </a:lnTo>
                <a:lnTo>
                  <a:pt x="2340" y="1290"/>
                </a:lnTo>
                <a:lnTo>
                  <a:pt x="2340" y="1002"/>
                </a:lnTo>
                <a:lnTo>
                  <a:pt x="2340" y="954"/>
                </a:lnTo>
                <a:lnTo>
                  <a:pt x="2340" y="1074"/>
                </a:lnTo>
                <a:lnTo>
                  <a:pt x="2346" y="1092"/>
                </a:lnTo>
                <a:lnTo>
                  <a:pt x="2346" y="1152"/>
                </a:lnTo>
                <a:lnTo>
                  <a:pt x="2346" y="1044"/>
                </a:lnTo>
                <a:lnTo>
                  <a:pt x="2346" y="1152"/>
                </a:lnTo>
                <a:lnTo>
                  <a:pt x="2352" y="1128"/>
                </a:lnTo>
                <a:lnTo>
                  <a:pt x="2352" y="996"/>
                </a:lnTo>
                <a:lnTo>
                  <a:pt x="2352" y="1188"/>
                </a:lnTo>
                <a:lnTo>
                  <a:pt x="2352" y="1614"/>
                </a:lnTo>
                <a:lnTo>
                  <a:pt x="2352" y="1176"/>
                </a:lnTo>
                <a:lnTo>
                  <a:pt x="2358" y="918"/>
                </a:lnTo>
                <a:lnTo>
                  <a:pt x="2358" y="912"/>
                </a:lnTo>
                <a:lnTo>
                  <a:pt x="2358" y="1080"/>
                </a:lnTo>
                <a:lnTo>
                  <a:pt x="2358" y="1134"/>
                </a:lnTo>
                <a:lnTo>
                  <a:pt x="2364" y="1254"/>
                </a:lnTo>
                <a:lnTo>
                  <a:pt x="2364" y="1110"/>
                </a:lnTo>
                <a:lnTo>
                  <a:pt x="2364" y="1068"/>
                </a:lnTo>
                <a:lnTo>
                  <a:pt x="2364" y="1224"/>
                </a:lnTo>
                <a:lnTo>
                  <a:pt x="2370" y="1260"/>
                </a:lnTo>
                <a:lnTo>
                  <a:pt x="2370" y="1374"/>
                </a:lnTo>
                <a:lnTo>
                  <a:pt x="2370" y="1044"/>
                </a:lnTo>
                <a:lnTo>
                  <a:pt x="2370" y="1110"/>
                </a:lnTo>
                <a:lnTo>
                  <a:pt x="2376" y="1152"/>
                </a:lnTo>
                <a:lnTo>
                  <a:pt x="2376" y="1308"/>
                </a:lnTo>
                <a:lnTo>
                  <a:pt x="2376" y="1320"/>
                </a:lnTo>
                <a:lnTo>
                  <a:pt x="2376" y="1224"/>
                </a:lnTo>
                <a:lnTo>
                  <a:pt x="2382" y="1128"/>
                </a:lnTo>
                <a:lnTo>
                  <a:pt x="2382" y="1266"/>
                </a:lnTo>
                <a:lnTo>
                  <a:pt x="2382" y="1122"/>
                </a:lnTo>
                <a:lnTo>
                  <a:pt x="2382" y="1356"/>
                </a:lnTo>
                <a:lnTo>
                  <a:pt x="2382" y="1092"/>
                </a:lnTo>
                <a:lnTo>
                  <a:pt x="2388" y="1068"/>
                </a:lnTo>
                <a:lnTo>
                  <a:pt x="2388" y="1242"/>
                </a:lnTo>
                <a:lnTo>
                  <a:pt x="2388" y="1740"/>
                </a:lnTo>
                <a:lnTo>
                  <a:pt x="2388" y="1272"/>
                </a:lnTo>
                <a:lnTo>
                  <a:pt x="2394" y="1092"/>
                </a:lnTo>
                <a:lnTo>
                  <a:pt x="2394" y="1470"/>
                </a:lnTo>
                <a:lnTo>
                  <a:pt x="2394" y="1440"/>
                </a:lnTo>
                <a:lnTo>
                  <a:pt x="2394" y="1122"/>
                </a:lnTo>
                <a:lnTo>
                  <a:pt x="2400" y="1128"/>
                </a:lnTo>
                <a:lnTo>
                  <a:pt x="2400" y="1410"/>
                </a:lnTo>
                <a:lnTo>
                  <a:pt x="2400" y="1104"/>
                </a:lnTo>
                <a:lnTo>
                  <a:pt x="2400" y="1098"/>
                </a:lnTo>
                <a:lnTo>
                  <a:pt x="2406" y="1110"/>
                </a:lnTo>
                <a:lnTo>
                  <a:pt x="2406" y="1620"/>
                </a:lnTo>
                <a:lnTo>
                  <a:pt x="2406" y="1386"/>
                </a:lnTo>
                <a:lnTo>
                  <a:pt x="2406" y="1284"/>
                </a:lnTo>
                <a:lnTo>
                  <a:pt x="2412" y="1014"/>
                </a:lnTo>
                <a:lnTo>
                  <a:pt x="2412" y="1032"/>
                </a:lnTo>
                <a:lnTo>
                  <a:pt x="2412" y="1344"/>
                </a:lnTo>
                <a:lnTo>
                  <a:pt x="2412" y="1296"/>
                </a:lnTo>
                <a:lnTo>
                  <a:pt x="2412" y="1578"/>
                </a:lnTo>
                <a:lnTo>
                  <a:pt x="2418" y="1512"/>
                </a:lnTo>
                <a:lnTo>
                  <a:pt x="2418" y="1188"/>
                </a:lnTo>
                <a:lnTo>
                  <a:pt x="2418" y="1242"/>
                </a:lnTo>
                <a:lnTo>
                  <a:pt x="2418" y="1410"/>
                </a:lnTo>
                <a:lnTo>
                  <a:pt x="2424" y="1476"/>
                </a:lnTo>
                <a:lnTo>
                  <a:pt x="2424" y="1278"/>
                </a:lnTo>
                <a:lnTo>
                  <a:pt x="2424" y="1398"/>
                </a:lnTo>
                <a:lnTo>
                  <a:pt x="2424" y="1368"/>
                </a:lnTo>
                <a:lnTo>
                  <a:pt x="2430" y="1404"/>
                </a:lnTo>
                <a:lnTo>
                  <a:pt x="2430" y="1152"/>
                </a:lnTo>
                <a:lnTo>
                  <a:pt x="2430" y="1122"/>
                </a:lnTo>
                <a:lnTo>
                  <a:pt x="2436" y="1176"/>
                </a:lnTo>
                <a:lnTo>
                  <a:pt x="2436" y="1314"/>
                </a:lnTo>
                <a:lnTo>
                  <a:pt x="2436" y="1278"/>
                </a:lnTo>
                <a:lnTo>
                  <a:pt x="2436" y="1656"/>
                </a:lnTo>
                <a:lnTo>
                  <a:pt x="2436" y="1440"/>
                </a:lnTo>
                <a:lnTo>
                  <a:pt x="2442" y="1548"/>
                </a:lnTo>
                <a:lnTo>
                  <a:pt x="2442" y="1344"/>
                </a:lnTo>
                <a:lnTo>
                  <a:pt x="2442" y="1266"/>
                </a:lnTo>
                <a:lnTo>
                  <a:pt x="2442" y="1326"/>
                </a:lnTo>
                <a:lnTo>
                  <a:pt x="2448" y="1134"/>
                </a:lnTo>
                <a:lnTo>
                  <a:pt x="2448" y="1308"/>
                </a:lnTo>
                <a:lnTo>
                  <a:pt x="2448" y="1464"/>
                </a:lnTo>
                <a:lnTo>
                  <a:pt x="2454" y="1680"/>
                </a:lnTo>
                <a:lnTo>
                  <a:pt x="2454" y="1416"/>
                </a:lnTo>
                <a:lnTo>
                  <a:pt x="2454" y="1248"/>
                </a:lnTo>
                <a:lnTo>
                  <a:pt x="2454" y="1260"/>
                </a:lnTo>
                <a:lnTo>
                  <a:pt x="2460" y="1476"/>
                </a:lnTo>
                <a:lnTo>
                  <a:pt x="2460" y="1314"/>
                </a:lnTo>
                <a:lnTo>
                  <a:pt x="2460" y="1362"/>
                </a:lnTo>
                <a:lnTo>
                  <a:pt x="2460" y="1422"/>
                </a:lnTo>
                <a:lnTo>
                  <a:pt x="2466" y="1290"/>
                </a:lnTo>
                <a:lnTo>
                  <a:pt x="2466" y="1356"/>
                </a:lnTo>
                <a:lnTo>
                  <a:pt x="2466" y="1188"/>
                </a:lnTo>
                <a:lnTo>
                  <a:pt x="2466" y="1146"/>
                </a:lnTo>
                <a:lnTo>
                  <a:pt x="2466" y="1002"/>
                </a:lnTo>
                <a:lnTo>
                  <a:pt x="2472" y="1116"/>
                </a:lnTo>
                <a:lnTo>
                  <a:pt x="2472" y="1374"/>
                </a:lnTo>
                <a:lnTo>
                  <a:pt x="2472" y="1422"/>
                </a:lnTo>
                <a:lnTo>
                  <a:pt x="2472" y="1608"/>
                </a:lnTo>
                <a:lnTo>
                  <a:pt x="2478" y="1140"/>
                </a:lnTo>
                <a:lnTo>
                  <a:pt x="2478" y="1074"/>
                </a:lnTo>
                <a:lnTo>
                  <a:pt x="2478" y="1080"/>
                </a:lnTo>
                <a:lnTo>
                  <a:pt x="2478" y="1176"/>
                </a:lnTo>
                <a:lnTo>
                  <a:pt x="2484" y="984"/>
                </a:lnTo>
                <a:lnTo>
                  <a:pt x="2484" y="1206"/>
                </a:lnTo>
                <a:lnTo>
                  <a:pt x="2484" y="1080"/>
                </a:lnTo>
                <a:lnTo>
                  <a:pt x="2484" y="990"/>
                </a:lnTo>
                <a:lnTo>
                  <a:pt x="2490" y="948"/>
                </a:lnTo>
                <a:lnTo>
                  <a:pt x="2490" y="1206"/>
                </a:lnTo>
                <a:lnTo>
                  <a:pt x="2490" y="1350"/>
                </a:lnTo>
                <a:lnTo>
                  <a:pt x="2490" y="1392"/>
                </a:lnTo>
                <a:lnTo>
                  <a:pt x="2496" y="1146"/>
                </a:lnTo>
                <a:lnTo>
                  <a:pt x="2496" y="1266"/>
                </a:lnTo>
                <a:lnTo>
                  <a:pt x="2496" y="1014"/>
                </a:lnTo>
                <a:lnTo>
                  <a:pt x="2496" y="1152"/>
                </a:lnTo>
                <a:lnTo>
                  <a:pt x="2496" y="1230"/>
                </a:lnTo>
                <a:lnTo>
                  <a:pt x="2502" y="1236"/>
                </a:lnTo>
                <a:lnTo>
                  <a:pt x="2502" y="1302"/>
                </a:lnTo>
                <a:lnTo>
                  <a:pt x="2502" y="1404"/>
                </a:lnTo>
                <a:lnTo>
                  <a:pt x="2502" y="1368"/>
                </a:lnTo>
                <a:lnTo>
                  <a:pt x="2508" y="1038"/>
                </a:lnTo>
                <a:lnTo>
                  <a:pt x="2508" y="1368"/>
                </a:lnTo>
                <a:lnTo>
                  <a:pt x="2508" y="1032"/>
                </a:lnTo>
                <a:lnTo>
                  <a:pt x="2508" y="1596"/>
                </a:lnTo>
                <a:lnTo>
                  <a:pt x="2514" y="1734"/>
                </a:lnTo>
                <a:lnTo>
                  <a:pt x="2514" y="1194"/>
                </a:lnTo>
                <a:lnTo>
                  <a:pt x="2514" y="1128"/>
                </a:lnTo>
                <a:lnTo>
                  <a:pt x="2514" y="1290"/>
                </a:lnTo>
                <a:lnTo>
                  <a:pt x="2520" y="1098"/>
                </a:lnTo>
                <a:lnTo>
                  <a:pt x="2520" y="1008"/>
                </a:lnTo>
                <a:lnTo>
                  <a:pt x="2520" y="1110"/>
                </a:lnTo>
                <a:lnTo>
                  <a:pt x="2520" y="1002"/>
                </a:lnTo>
                <a:lnTo>
                  <a:pt x="2520" y="1482"/>
                </a:lnTo>
                <a:lnTo>
                  <a:pt x="2526" y="1428"/>
                </a:lnTo>
                <a:lnTo>
                  <a:pt x="2526" y="1098"/>
                </a:lnTo>
                <a:lnTo>
                  <a:pt x="2526" y="954"/>
                </a:lnTo>
                <a:lnTo>
                  <a:pt x="2526" y="1068"/>
                </a:lnTo>
                <a:lnTo>
                  <a:pt x="2532" y="1098"/>
                </a:lnTo>
                <a:lnTo>
                  <a:pt x="2532" y="1014"/>
                </a:lnTo>
                <a:lnTo>
                  <a:pt x="2532" y="888"/>
                </a:lnTo>
                <a:lnTo>
                  <a:pt x="2532" y="1326"/>
                </a:lnTo>
                <a:lnTo>
                  <a:pt x="2538" y="1002"/>
                </a:lnTo>
                <a:lnTo>
                  <a:pt x="2538" y="984"/>
                </a:lnTo>
                <a:lnTo>
                  <a:pt x="2538" y="1002"/>
                </a:lnTo>
                <a:lnTo>
                  <a:pt x="2538" y="1566"/>
                </a:lnTo>
                <a:lnTo>
                  <a:pt x="2544" y="1290"/>
                </a:lnTo>
                <a:lnTo>
                  <a:pt x="2544" y="1122"/>
                </a:lnTo>
                <a:lnTo>
                  <a:pt x="2544" y="882"/>
                </a:lnTo>
                <a:lnTo>
                  <a:pt x="2544" y="828"/>
                </a:lnTo>
                <a:lnTo>
                  <a:pt x="2550" y="1116"/>
                </a:lnTo>
                <a:lnTo>
                  <a:pt x="2550" y="996"/>
                </a:lnTo>
                <a:lnTo>
                  <a:pt x="2550" y="1416"/>
                </a:lnTo>
                <a:lnTo>
                  <a:pt x="2550" y="1302"/>
                </a:lnTo>
                <a:lnTo>
                  <a:pt x="2550" y="1020"/>
                </a:lnTo>
                <a:lnTo>
                  <a:pt x="2556" y="960"/>
                </a:lnTo>
                <a:lnTo>
                  <a:pt x="2556" y="1308"/>
                </a:lnTo>
                <a:lnTo>
                  <a:pt x="2556" y="1338"/>
                </a:lnTo>
                <a:lnTo>
                  <a:pt x="2556" y="1116"/>
                </a:lnTo>
                <a:lnTo>
                  <a:pt x="2562" y="1236"/>
                </a:lnTo>
                <a:lnTo>
                  <a:pt x="2562" y="1056"/>
                </a:lnTo>
                <a:lnTo>
                  <a:pt x="2562" y="1500"/>
                </a:lnTo>
                <a:lnTo>
                  <a:pt x="2562" y="1164"/>
                </a:lnTo>
                <a:lnTo>
                  <a:pt x="2568" y="1020"/>
                </a:lnTo>
                <a:lnTo>
                  <a:pt x="2568" y="918"/>
                </a:lnTo>
                <a:lnTo>
                  <a:pt x="2568" y="966"/>
                </a:lnTo>
                <a:lnTo>
                  <a:pt x="2568" y="1050"/>
                </a:lnTo>
                <a:lnTo>
                  <a:pt x="2574" y="1116"/>
                </a:lnTo>
                <a:lnTo>
                  <a:pt x="2574" y="1152"/>
                </a:lnTo>
                <a:lnTo>
                  <a:pt x="2574" y="1116"/>
                </a:lnTo>
                <a:lnTo>
                  <a:pt x="2574" y="1314"/>
                </a:lnTo>
                <a:lnTo>
                  <a:pt x="2574" y="1050"/>
                </a:lnTo>
                <a:lnTo>
                  <a:pt x="2580" y="1062"/>
                </a:lnTo>
                <a:lnTo>
                  <a:pt x="2580" y="1686"/>
                </a:lnTo>
                <a:lnTo>
                  <a:pt x="2580" y="1074"/>
                </a:lnTo>
                <a:lnTo>
                  <a:pt x="2580" y="1158"/>
                </a:lnTo>
                <a:lnTo>
                  <a:pt x="2586" y="1206"/>
                </a:lnTo>
                <a:lnTo>
                  <a:pt x="2586" y="1848"/>
                </a:lnTo>
                <a:lnTo>
                  <a:pt x="2586" y="1194"/>
                </a:lnTo>
                <a:lnTo>
                  <a:pt x="2586" y="1212"/>
                </a:lnTo>
                <a:lnTo>
                  <a:pt x="2592" y="1110"/>
                </a:lnTo>
                <a:lnTo>
                  <a:pt x="2592" y="1146"/>
                </a:lnTo>
                <a:lnTo>
                  <a:pt x="2592" y="1530"/>
                </a:lnTo>
                <a:lnTo>
                  <a:pt x="2592" y="1008"/>
                </a:lnTo>
                <a:lnTo>
                  <a:pt x="2598" y="864"/>
                </a:lnTo>
                <a:lnTo>
                  <a:pt x="2598" y="948"/>
                </a:lnTo>
                <a:lnTo>
                  <a:pt x="2598" y="1026"/>
                </a:lnTo>
                <a:lnTo>
                  <a:pt x="2598" y="978"/>
                </a:lnTo>
                <a:lnTo>
                  <a:pt x="2604" y="888"/>
                </a:lnTo>
                <a:lnTo>
                  <a:pt x="2604" y="990"/>
                </a:lnTo>
                <a:lnTo>
                  <a:pt x="2604" y="1632"/>
                </a:lnTo>
                <a:lnTo>
                  <a:pt x="2604" y="1194"/>
                </a:lnTo>
                <a:lnTo>
                  <a:pt x="2604" y="1122"/>
                </a:lnTo>
                <a:lnTo>
                  <a:pt x="2610" y="1194"/>
                </a:lnTo>
                <a:lnTo>
                  <a:pt x="2610" y="1116"/>
                </a:lnTo>
                <a:lnTo>
                  <a:pt x="2610" y="1068"/>
                </a:lnTo>
                <a:lnTo>
                  <a:pt x="2610" y="1272"/>
                </a:lnTo>
                <a:lnTo>
                  <a:pt x="2616" y="1020"/>
                </a:lnTo>
                <a:lnTo>
                  <a:pt x="2616" y="960"/>
                </a:lnTo>
                <a:lnTo>
                  <a:pt x="2616" y="1272"/>
                </a:lnTo>
                <a:lnTo>
                  <a:pt x="2622" y="876"/>
                </a:lnTo>
                <a:lnTo>
                  <a:pt x="2622" y="732"/>
                </a:lnTo>
                <a:lnTo>
                  <a:pt x="2622" y="804"/>
                </a:lnTo>
                <a:lnTo>
                  <a:pt x="2622" y="1008"/>
                </a:lnTo>
                <a:lnTo>
                  <a:pt x="2628" y="1374"/>
                </a:lnTo>
                <a:lnTo>
                  <a:pt x="2628" y="798"/>
                </a:lnTo>
                <a:lnTo>
                  <a:pt x="2628" y="750"/>
                </a:lnTo>
                <a:lnTo>
                  <a:pt x="2628" y="822"/>
                </a:lnTo>
                <a:lnTo>
                  <a:pt x="2634" y="1050"/>
                </a:lnTo>
                <a:lnTo>
                  <a:pt x="2634" y="1164"/>
                </a:lnTo>
                <a:lnTo>
                  <a:pt x="2634" y="1140"/>
                </a:lnTo>
                <a:lnTo>
                  <a:pt x="2634" y="906"/>
                </a:lnTo>
                <a:lnTo>
                  <a:pt x="2634" y="804"/>
                </a:lnTo>
                <a:lnTo>
                  <a:pt x="2640" y="1068"/>
                </a:lnTo>
                <a:lnTo>
                  <a:pt x="2640" y="1062"/>
                </a:lnTo>
                <a:lnTo>
                  <a:pt x="2640" y="1128"/>
                </a:lnTo>
                <a:lnTo>
                  <a:pt x="2640" y="1056"/>
                </a:lnTo>
                <a:lnTo>
                  <a:pt x="2646" y="1044"/>
                </a:lnTo>
                <a:lnTo>
                  <a:pt x="2646" y="1068"/>
                </a:lnTo>
                <a:lnTo>
                  <a:pt x="2646" y="846"/>
                </a:lnTo>
                <a:lnTo>
                  <a:pt x="2652" y="822"/>
                </a:lnTo>
                <a:lnTo>
                  <a:pt x="2652" y="1104"/>
                </a:lnTo>
                <a:lnTo>
                  <a:pt x="2652" y="1116"/>
                </a:lnTo>
                <a:lnTo>
                  <a:pt x="2652" y="1224"/>
                </a:lnTo>
                <a:lnTo>
                  <a:pt x="2658" y="828"/>
                </a:lnTo>
                <a:lnTo>
                  <a:pt x="2658" y="738"/>
                </a:lnTo>
                <a:lnTo>
                  <a:pt x="2658" y="744"/>
                </a:lnTo>
                <a:lnTo>
                  <a:pt x="2658" y="1080"/>
                </a:lnTo>
                <a:lnTo>
                  <a:pt x="2664" y="876"/>
                </a:lnTo>
                <a:lnTo>
                  <a:pt x="2664" y="732"/>
                </a:lnTo>
                <a:lnTo>
                  <a:pt x="2664" y="792"/>
                </a:lnTo>
                <a:lnTo>
                  <a:pt x="2664" y="1122"/>
                </a:lnTo>
                <a:lnTo>
                  <a:pt x="2670" y="1002"/>
                </a:lnTo>
                <a:lnTo>
                  <a:pt x="2670" y="912"/>
                </a:lnTo>
                <a:lnTo>
                  <a:pt x="2670" y="996"/>
                </a:lnTo>
                <a:lnTo>
                  <a:pt x="2670" y="1218"/>
                </a:lnTo>
                <a:lnTo>
                  <a:pt x="2676" y="996"/>
                </a:lnTo>
                <a:lnTo>
                  <a:pt x="2676" y="1176"/>
                </a:lnTo>
                <a:lnTo>
                  <a:pt x="2676" y="1032"/>
                </a:lnTo>
                <a:lnTo>
                  <a:pt x="2682" y="1032"/>
                </a:lnTo>
                <a:lnTo>
                  <a:pt x="2682" y="1044"/>
                </a:lnTo>
                <a:lnTo>
                  <a:pt x="2682" y="1146"/>
                </a:lnTo>
                <a:lnTo>
                  <a:pt x="2682" y="828"/>
                </a:lnTo>
                <a:lnTo>
                  <a:pt x="2688" y="882"/>
                </a:lnTo>
                <a:lnTo>
                  <a:pt x="2688" y="1020"/>
                </a:lnTo>
                <a:lnTo>
                  <a:pt x="2688" y="882"/>
                </a:lnTo>
                <a:lnTo>
                  <a:pt x="2688" y="738"/>
                </a:lnTo>
                <a:lnTo>
                  <a:pt x="2688" y="876"/>
                </a:lnTo>
                <a:lnTo>
                  <a:pt x="2694" y="1266"/>
                </a:lnTo>
                <a:lnTo>
                  <a:pt x="2694" y="1284"/>
                </a:lnTo>
                <a:lnTo>
                  <a:pt x="2694" y="1116"/>
                </a:lnTo>
                <a:lnTo>
                  <a:pt x="2694" y="1008"/>
                </a:lnTo>
                <a:lnTo>
                  <a:pt x="2700" y="1086"/>
                </a:lnTo>
                <a:lnTo>
                  <a:pt x="2700" y="1530"/>
                </a:lnTo>
                <a:lnTo>
                  <a:pt x="2700" y="1566"/>
                </a:lnTo>
                <a:lnTo>
                  <a:pt x="2700" y="1314"/>
                </a:lnTo>
                <a:lnTo>
                  <a:pt x="2706" y="1230"/>
                </a:lnTo>
                <a:lnTo>
                  <a:pt x="2706" y="1398"/>
                </a:lnTo>
                <a:lnTo>
                  <a:pt x="2706" y="1392"/>
                </a:lnTo>
                <a:lnTo>
                  <a:pt x="2706" y="906"/>
                </a:lnTo>
                <a:lnTo>
                  <a:pt x="2712" y="1080"/>
                </a:lnTo>
                <a:lnTo>
                  <a:pt x="2712" y="1104"/>
                </a:lnTo>
                <a:lnTo>
                  <a:pt x="2712" y="942"/>
                </a:lnTo>
                <a:lnTo>
                  <a:pt x="2712" y="1170"/>
                </a:lnTo>
                <a:lnTo>
                  <a:pt x="2718" y="1002"/>
                </a:lnTo>
                <a:lnTo>
                  <a:pt x="2718" y="918"/>
                </a:lnTo>
                <a:lnTo>
                  <a:pt x="2718" y="948"/>
                </a:lnTo>
                <a:lnTo>
                  <a:pt x="2718" y="1152"/>
                </a:lnTo>
                <a:lnTo>
                  <a:pt x="2724" y="1338"/>
                </a:lnTo>
                <a:lnTo>
                  <a:pt x="2724" y="954"/>
                </a:lnTo>
                <a:lnTo>
                  <a:pt x="2724" y="1014"/>
                </a:lnTo>
                <a:lnTo>
                  <a:pt x="2724" y="1200"/>
                </a:lnTo>
                <a:lnTo>
                  <a:pt x="2730" y="1254"/>
                </a:lnTo>
                <a:lnTo>
                  <a:pt x="2730" y="1470"/>
                </a:lnTo>
                <a:lnTo>
                  <a:pt x="2730" y="810"/>
                </a:lnTo>
                <a:lnTo>
                  <a:pt x="2730" y="774"/>
                </a:lnTo>
                <a:lnTo>
                  <a:pt x="2736" y="1278"/>
                </a:lnTo>
                <a:lnTo>
                  <a:pt x="2736" y="1518"/>
                </a:lnTo>
                <a:lnTo>
                  <a:pt x="2736" y="930"/>
                </a:lnTo>
                <a:lnTo>
                  <a:pt x="2736" y="1062"/>
                </a:lnTo>
                <a:lnTo>
                  <a:pt x="2742" y="834"/>
                </a:lnTo>
                <a:lnTo>
                  <a:pt x="2742" y="768"/>
                </a:lnTo>
                <a:lnTo>
                  <a:pt x="2742" y="1032"/>
                </a:lnTo>
                <a:lnTo>
                  <a:pt x="2742" y="1080"/>
                </a:lnTo>
                <a:lnTo>
                  <a:pt x="2742" y="1338"/>
                </a:lnTo>
                <a:lnTo>
                  <a:pt x="2748" y="894"/>
                </a:lnTo>
                <a:lnTo>
                  <a:pt x="2748" y="882"/>
                </a:lnTo>
                <a:lnTo>
                  <a:pt x="2748" y="936"/>
                </a:lnTo>
                <a:lnTo>
                  <a:pt x="2748" y="1146"/>
                </a:lnTo>
                <a:lnTo>
                  <a:pt x="2754" y="1008"/>
                </a:lnTo>
                <a:lnTo>
                  <a:pt x="2754" y="948"/>
                </a:lnTo>
                <a:lnTo>
                  <a:pt x="2754" y="1248"/>
                </a:lnTo>
                <a:lnTo>
                  <a:pt x="2754" y="1188"/>
                </a:lnTo>
                <a:lnTo>
                  <a:pt x="2760" y="900"/>
                </a:lnTo>
                <a:lnTo>
                  <a:pt x="2760" y="1086"/>
                </a:lnTo>
                <a:lnTo>
                  <a:pt x="2760" y="1530"/>
                </a:lnTo>
                <a:lnTo>
                  <a:pt x="2760" y="1104"/>
                </a:lnTo>
                <a:lnTo>
                  <a:pt x="2766" y="942"/>
                </a:lnTo>
                <a:lnTo>
                  <a:pt x="2766" y="966"/>
                </a:lnTo>
                <a:lnTo>
                  <a:pt x="2766" y="1218"/>
                </a:lnTo>
                <a:lnTo>
                  <a:pt x="2766" y="984"/>
                </a:lnTo>
                <a:lnTo>
                  <a:pt x="2772" y="1140"/>
                </a:lnTo>
                <a:lnTo>
                  <a:pt x="2772" y="1044"/>
                </a:lnTo>
                <a:lnTo>
                  <a:pt x="2772" y="1188"/>
                </a:lnTo>
                <a:lnTo>
                  <a:pt x="2772" y="1260"/>
                </a:lnTo>
                <a:lnTo>
                  <a:pt x="2772" y="1212"/>
                </a:lnTo>
                <a:lnTo>
                  <a:pt x="2778" y="1086"/>
                </a:lnTo>
                <a:lnTo>
                  <a:pt x="2778" y="1038"/>
                </a:lnTo>
                <a:lnTo>
                  <a:pt x="2778" y="972"/>
                </a:lnTo>
                <a:lnTo>
                  <a:pt x="2778" y="1200"/>
                </a:lnTo>
                <a:lnTo>
                  <a:pt x="2784" y="1272"/>
                </a:lnTo>
                <a:lnTo>
                  <a:pt x="2784" y="1320"/>
                </a:lnTo>
                <a:lnTo>
                  <a:pt x="2784" y="1062"/>
                </a:lnTo>
                <a:lnTo>
                  <a:pt x="2784" y="1086"/>
                </a:lnTo>
                <a:lnTo>
                  <a:pt x="2790" y="1254"/>
                </a:lnTo>
                <a:lnTo>
                  <a:pt x="2790" y="1026"/>
                </a:lnTo>
                <a:lnTo>
                  <a:pt x="2790" y="1098"/>
                </a:lnTo>
                <a:lnTo>
                  <a:pt x="2790" y="954"/>
                </a:lnTo>
                <a:lnTo>
                  <a:pt x="2796" y="1002"/>
                </a:lnTo>
                <a:lnTo>
                  <a:pt x="2796" y="1350"/>
                </a:lnTo>
                <a:lnTo>
                  <a:pt x="2796" y="1440"/>
                </a:lnTo>
                <a:lnTo>
                  <a:pt x="2796" y="1158"/>
                </a:lnTo>
                <a:lnTo>
                  <a:pt x="2796" y="1212"/>
                </a:lnTo>
                <a:lnTo>
                  <a:pt x="2802" y="1374"/>
                </a:lnTo>
                <a:lnTo>
                  <a:pt x="2802" y="1164"/>
                </a:lnTo>
                <a:lnTo>
                  <a:pt x="2802" y="996"/>
                </a:lnTo>
                <a:lnTo>
                  <a:pt x="2802" y="1086"/>
                </a:lnTo>
                <a:lnTo>
                  <a:pt x="2808" y="1380"/>
                </a:lnTo>
                <a:lnTo>
                  <a:pt x="2808" y="1122"/>
                </a:lnTo>
                <a:lnTo>
                  <a:pt x="2808" y="1038"/>
                </a:lnTo>
                <a:lnTo>
                  <a:pt x="2808" y="1152"/>
                </a:lnTo>
                <a:lnTo>
                  <a:pt x="2814" y="1614"/>
                </a:lnTo>
                <a:lnTo>
                  <a:pt x="2814" y="1194"/>
                </a:lnTo>
                <a:lnTo>
                  <a:pt x="2814" y="1080"/>
                </a:lnTo>
                <a:lnTo>
                  <a:pt x="2814" y="924"/>
                </a:lnTo>
                <a:lnTo>
                  <a:pt x="2820" y="1158"/>
                </a:lnTo>
                <a:lnTo>
                  <a:pt x="2820" y="1062"/>
                </a:lnTo>
                <a:lnTo>
                  <a:pt x="2820" y="1122"/>
                </a:lnTo>
                <a:lnTo>
                  <a:pt x="2820" y="1530"/>
                </a:lnTo>
                <a:lnTo>
                  <a:pt x="2826" y="1224"/>
                </a:lnTo>
                <a:lnTo>
                  <a:pt x="2826" y="1020"/>
                </a:lnTo>
                <a:lnTo>
                  <a:pt x="2826" y="1230"/>
                </a:lnTo>
                <a:lnTo>
                  <a:pt x="2826" y="1374"/>
                </a:lnTo>
                <a:lnTo>
                  <a:pt x="2826" y="1500"/>
                </a:lnTo>
                <a:lnTo>
                  <a:pt x="2832" y="1362"/>
                </a:lnTo>
                <a:lnTo>
                  <a:pt x="2832" y="1326"/>
                </a:lnTo>
                <a:lnTo>
                  <a:pt x="2832" y="1368"/>
                </a:lnTo>
                <a:lnTo>
                  <a:pt x="2832" y="1434"/>
                </a:lnTo>
                <a:lnTo>
                  <a:pt x="2838" y="1356"/>
                </a:lnTo>
                <a:lnTo>
                  <a:pt x="2838" y="1224"/>
                </a:lnTo>
                <a:lnTo>
                  <a:pt x="2838" y="1176"/>
                </a:lnTo>
                <a:lnTo>
                  <a:pt x="2838" y="1302"/>
                </a:lnTo>
                <a:lnTo>
                  <a:pt x="2844" y="1302"/>
                </a:lnTo>
                <a:lnTo>
                  <a:pt x="2844" y="1572"/>
                </a:lnTo>
                <a:lnTo>
                  <a:pt x="2844" y="1284"/>
                </a:lnTo>
              </a:path>
            </a:pathLst>
          </a:custGeom>
          <a:no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58A9252-9DF0-4E5A-809B-01284A7BA07D}"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teps toward a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generate soft bit stre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experimentation with channel filters and discrimi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llows for noise, multipath, interference,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yet ready for real tes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have hopping modeled adequate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8118810-494C-4E92-840C-E1C4E2480155}"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hopping mode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mage effec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 in 802.11DS/b signa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microwave oven, multipath, and other impairmen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te and measure performance against spec</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interface to MAC mode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HY model need to have specific formats? (ACL, SC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369275-428B-441C-8C4B-1541D9D46786}"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 Modeling of Bluetooth</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3123720"/>
            <a:ext cx="7772400" cy="266724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early work in progres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goal is to work with WLAN coexistence WG in the BT SIG to coordinate position papers on performance optimiz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want to convert Matlab to C to plug into Bluetooth MAC modeling being done in Opne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work left to do</a:t>
            </a:r>
            <a:endParaRPr b="0" lang="en-US" sz="2400" spc="-1" strike="noStrike">
              <a:solidFill>
                <a:srgbClr val="000000"/>
              </a:solidFill>
              <a:latin typeface="Arial"/>
            </a:endParaRPr>
          </a:p>
        </p:txBody>
      </p:sp>
      <p:sp>
        <p:nvSpPr>
          <p:cNvPr id="48" name=""/>
          <p:cNvSpPr/>
          <p:nvPr/>
        </p:nvSpPr>
        <p:spPr>
          <a:xfrm>
            <a:off x="3433680" y="1676520"/>
            <a:ext cx="246384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ansfor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an Corpo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lans@mobilian.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BDAEE6-456B-4D75-AFFE-9322385B62E0}"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typical Bluetooth block diagram</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85800" y="1752480"/>
            <a:ext cx="7467480" cy="4346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3B6C11A-F96F-4065-9F78-D9996BBD5D51}"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 modeling issu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avoid implementation specific deta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dyne or superhet? IF frequ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filter: linear phase or more re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or: PLL?  Zero crossing? Ratio detector?</a:t>
            </a:r>
            <a:endParaRPr b="0" lang="en-US" sz="2800" spc="-1" strike="noStrike">
              <a:solidFill>
                <a:srgbClr val="000000"/>
              </a:solidFill>
              <a:latin typeface="Arial"/>
            </a:endParaRPr>
          </a:p>
        </p:txBody>
      </p:sp>
      <p:sp>
        <p:nvSpPr>
          <p:cNvPr id="53" name=""/>
          <p:cNvSpPr/>
          <p:nvPr/>
        </p:nvSpPr>
        <p:spPr>
          <a:xfrm>
            <a:off x="990720" y="556272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a model be a “golden receiver,” or a minimally compliant implement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6254A64-EE64-4A93-BC49-AC0E1CDA5FE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evant Specs</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914400" y="1523880"/>
            <a:ext cx="7496280" cy="3148200"/>
          </a:xfrm>
          <a:prstGeom prst="rect">
            <a:avLst/>
          </a:prstGeom>
          <a:ln w="0">
            <a:noFill/>
          </a:ln>
        </p:spPr>
      </p:pic>
      <p:pic>
        <p:nvPicPr>
          <p:cNvPr id="56" name="" descr=""/>
          <p:cNvPicPr/>
          <p:nvPr/>
        </p:nvPicPr>
        <p:blipFill>
          <a:blip r:embed="rId2"/>
          <a:srcRect l="0" t="0" r="0" b="6676"/>
          <a:stretch/>
        </p:blipFill>
        <p:spPr>
          <a:xfrm>
            <a:off x="5410080" y="4876920"/>
            <a:ext cx="3438720" cy="16002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2248361-FFF5-441F-BF2C-9498D06C5626}"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cut at a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t 6MHz IF</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mixer, before channel filter</a:t>
            </a:r>
            <a:endParaRPr b="0" lang="en-US" sz="2800" spc="-1" strike="noStrike">
              <a:solidFill>
                <a:srgbClr val="000000"/>
              </a:solidFill>
              <a:latin typeface="Arial"/>
            </a:endParaRPr>
          </a:p>
          <a:p>
            <a:pPr lvl="2" marL="106380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include hopping or synthesizer effects</a:t>
            </a:r>
            <a:endParaRPr b="0" lang="en-US" sz="2400" spc="-1" strike="noStrike">
              <a:solidFill>
                <a:srgbClr val="000000"/>
              </a:solidFill>
              <a:latin typeface="Arial"/>
            </a:endParaRPr>
          </a:p>
          <a:p>
            <a:pPr lvl="2" marL="106380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either hop the interferer, or back up a step in the model</a:t>
            </a:r>
            <a:endParaRPr b="0" lang="en-US" sz="24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channel filter</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phase isn’t representativ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or (linear across passband)</a:t>
            </a: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r + envelope detect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CC63913-04FC-4EF9-986B-0D7566141EC3}"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2514600"/>
            <a:ext cx="5867640" cy="2057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ck diagram</a:t>
            </a:r>
            <a:endParaRPr b="0" lang="en-US" sz="3600" spc="-1" strike="noStrike">
              <a:solidFill>
                <a:srgbClr val="000000"/>
              </a:solidFill>
              <a:latin typeface="Times New Roman"/>
            </a:endParaRPr>
          </a:p>
        </p:txBody>
      </p:sp>
      <p:sp>
        <p:nvSpPr>
          <p:cNvPr id="61" name=""/>
          <p:cNvSpPr/>
          <p:nvPr/>
        </p:nvSpPr>
        <p:spPr>
          <a:xfrm flipV="1">
            <a:off x="304920" y="2971080"/>
            <a:ext cx="304560" cy="3049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 y="2971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49160" y="3115440"/>
            <a:ext cx="1207800" cy="824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lec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NA</a:t>
            </a:r>
            <a:endParaRPr b="0" lang="en-US" sz="1600" spc="-1" strike="noStrike">
              <a:solidFill>
                <a:srgbClr val="000000"/>
              </a:solidFill>
              <a:latin typeface="Times New Roman"/>
            </a:endParaRPr>
          </a:p>
        </p:txBody>
      </p:sp>
      <p:sp>
        <p:nvSpPr>
          <p:cNvPr id="64" name=""/>
          <p:cNvSpPr/>
          <p:nvPr/>
        </p:nvSpPr>
        <p:spPr>
          <a:xfrm>
            <a:off x="1988280" y="4654080"/>
            <a:ext cx="124308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r</a:t>
            </a:r>
            <a:endParaRPr b="0" lang="en-US" sz="1600" spc="-1" strike="noStrike">
              <a:solidFill>
                <a:srgbClr val="000000"/>
              </a:solidFill>
              <a:latin typeface="Times New Roman"/>
            </a:endParaRPr>
          </a:p>
        </p:txBody>
      </p:sp>
      <p:sp>
        <p:nvSpPr>
          <p:cNvPr id="65" name=""/>
          <p:cNvSpPr/>
          <p:nvPr/>
        </p:nvSpPr>
        <p:spPr>
          <a:xfrm>
            <a:off x="1836360" y="5416560"/>
            <a:ext cx="1489680" cy="58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nvGrpSpPr>
          <p:cNvPr id="66" name=""/>
          <p:cNvGrpSpPr/>
          <p:nvPr/>
        </p:nvGrpSpPr>
        <p:grpSpPr>
          <a:xfrm>
            <a:off x="2438280" y="3352680"/>
            <a:ext cx="381240" cy="381240"/>
            <a:chOff x="2438280" y="3352680"/>
            <a:chExt cx="381240" cy="381240"/>
          </a:xfrm>
        </p:grpSpPr>
        <p:sp>
          <p:nvSpPr>
            <p:cNvPr id="67" name=""/>
            <p:cNvSpPr/>
            <p:nvPr/>
          </p:nvSpPr>
          <p:spPr>
            <a:xfrm>
              <a:off x="2438280" y="3352680"/>
              <a:ext cx="381240" cy="381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590920" y="3429000"/>
              <a:ext cx="759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2590560" y="3429000"/>
              <a:ext cx="759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3189960" y="3214800"/>
            <a:ext cx="936720" cy="58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0" lang="en-US" sz="1600" spc="-1" strike="noStrike">
              <a:solidFill>
                <a:srgbClr val="000000"/>
              </a:solidFill>
              <a:latin typeface="Times New Roman"/>
            </a:endParaRPr>
          </a:p>
        </p:txBody>
      </p:sp>
      <p:sp>
        <p:nvSpPr>
          <p:cNvPr id="71" name=""/>
          <p:cNvSpPr/>
          <p:nvPr/>
        </p:nvSpPr>
        <p:spPr>
          <a:xfrm>
            <a:off x="4351320" y="3358440"/>
            <a:ext cx="79020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r</a:t>
            </a:r>
            <a:endParaRPr b="0" lang="en-US" sz="1600" spc="-1" strike="noStrike">
              <a:solidFill>
                <a:srgbClr val="000000"/>
              </a:solidFill>
              <a:latin typeface="Times New Roman"/>
            </a:endParaRPr>
          </a:p>
        </p:txBody>
      </p:sp>
      <p:sp>
        <p:nvSpPr>
          <p:cNvPr id="72" name=""/>
          <p:cNvSpPr/>
          <p:nvPr/>
        </p:nvSpPr>
        <p:spPr>
          <a:xfrm>
            <a:off x="5493600" y="3358440"/>
            <a:ext cx="136656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iminator</a:t>
            </a:r>
            <a:endParaRPr b="0" lang="en-US" sz="1600" spc="-1" strike="noStrike">
              <a:solidFill>
                <a:srgbClr val="000000"/>
              </a:solidFill>
              <a:latin typeface="Times New Roman"/>
            </a:endParaRPr>
          </a:p>
        </p:txBody>
      </p:sp>
      <p:sp>
        <p:nvSpPr>
          <p:cNvPr id="73" name=""/>
          <p:cNvSpPr/>
          <p:nvPr/>
        </p:nvSpPr>
        <p:spPr>
          <a:xfrm>
            <a:off x="7086600" y="3206880"/>
            <a:ext cx="1066680" cy="5806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a:t>
            </a:r>
            <a:endParaRPr b="0" lang="en-US" sz="1600" spc="-1" strike="noStrike">
              <a:solidFill>
                <a:srgbClr val="000000"/>
              </a:solidFill>
              <a:latin typeface="Times New Roman"/>
            </a:endParaRPr>
          </a:p>
        </p:txBody>
      </p:sp>
      <p:sp>
        <p:nvSpPr>
          <p:cNvPr id="74" name=""/>
          <p:cNvSpPr/>
          <p:nvPr/>
        </p:nvSpPr>
        <p:spPr>
          <a:xfrm>
            <a:off x="457200" y="35812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81080" y="3581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19520" y="35053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114800" y="35053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81480" y="35053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0" y="35053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590920" y="37339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2590920" y="5029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707160" y="403848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Model</a:t>
            </a:r>
            <a:endParaRPr b="0" lang="en-US" sz="1800" spc="-1" strike="noStrike">
              <a:solidFill>
                <a:srgbClr val="000000"/>
              </a:solidFill>
              <a:latin typeface="Times New Roman"/>
            </a:endParaRPr>
          </a:p>
        </p:txBody>
      </p:sp>
      <p:sp>
        <p:nvSpPr>
          <p:cNvPr id="83" name=""/>
          <p:cNvSpPr/>
          <p:nvPr/>
        </p:nvSpPr>
        <p:spPr>
          <a:xfrm>
            <a:off x="8153280" y="3505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C58A97D-0513-4184-8801-7C7F7000D76E}"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ectrum</a:t>
            </a:r>
            <a:endParaRPr b="0" lang="en-US" sz="3600" spc="-1" strike="noStrike">
              <a:solidFill>
                <a:srgbClr val="000000"/>
              </a:solidFill>
              <a:latin typeface="Times New Roman"/>
            </a:endParaRPr>
          </a:p>
        </p:txBody>
      </p:sp>
      <p:sp>
        <p:nvSpPr>
          <p:cNvPr id="85" name=""/>
          <p:cNvSpPr/>
          <p:nvPr/>
        </p:nvSpPr>
        <p:spPr>
          <a:xfrm>
            <a:off x="232416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6244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61008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248000" y="2057400"/>
            <a:ext cx="180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9600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33920" y="2057400"/>
            <a:ext cx="180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17220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19840" y="2057400"/>
            <a:ext cx="180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458120" y="2057400"/>
            <a:ext cx="1440" cy="3305160"/>
          </a:xfrm>
          <a:custGeom>
            <a:avLst/>
            <a:gdLst/>
            <a:ahLst/>
            <a:rect l="l" t="t" r="r" b="b"/>
            <a:pathLst>
              <a:path w="0" h="347">
                <a:moveTo>
                  <a:pt x="0" y="347"/>
                </a:moveTo>
                <a:lnTo>
                  <a:pt x="0" y="0"/>
                </a:lnTo>
                <a:lnTo>
                  <a:pt x="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24160" y="536256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2324160" y="499104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2324160" y="462924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2324160" y="425772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2324160" y="389556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2324160" y="352440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2324160" y="316224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2324160" y="2790720"/>
            <a:ext cx="5133960" cy="180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2324160" y="242892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324160" y="2057400"/>
            <a:ext cx="5133960" cy="1440"/>
          </a:xfrm>
          <a:custGeom>
            <a:avLst/>
            <a:gdLst/>
            <a:ahLst/>
            <a:rect l="l" t="t" r="r" b="b"/>
            <a:pathLst>
              <a:path w="539" h="0">
                <a:moveTo>
                  <a:pt x="0" y="0"/>
                </a:moveTo>
                <a:lnTo>
                  <a:pt x="539" y="0"/>
                </a:lnTo>
                <a:lnTo>
                  <a:pt x="539" y="0"/>
                </a:lnTo>
              </a:path>
            </a:pathLst>
          </a:custGeom>
          <a:noFill/>
          <a:ln w="9360">
            <a:solidFill>
              <a:srgbClr val="000000"/>
            </a:solidFill>
            <a:prstDash val="sysDot"/>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324160" y="205740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324160" y="205740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324160" y="2057400"/>
            <a:ext cx="5133960" cy="3305160"/>
          </a:xfrm>
          <a:custGeom>
            <a:avLst/>
            <a:gdLst/>
            <a:ahLst/>
            <a:rect l="l" t="t" r="r" b="b"/>
            <a:pathLst>
              <a:path w="539" h="347">
                <a:moveTo>
                  <a:pt x="0" y="347"/>
                </a:moveTo>
                <a:lnTo>
                  <a:pt x="0" y="0"/>
                </a:lnTo>
                <a:lnTo>
                  <a:pt x="539"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324160" y="5362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324160" y="205740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V="1">
            <a:off x="2324160" y="205704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458120" y="205704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24160" y="20574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458120" y="5362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2324160" y="5362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flipV="1">
            <a:off x="2324160" y="205704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324160" y="5362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flipV="1">
            <a:off x="232416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 name=""/>
          <p:cNvSpPr/>
          <p:nvPr/>
        </p:nvSpPr>
        <p:spPr>
          <a:xfrm>
            <a:off x="232416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 name=""/>
          <p:cNvSpPr/>
          <p:nvPr/>
        </p:nvSpPr>
        <p:spPr>
          <a:xfrm>
            <a:off x="2285280" y="5400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9" name=""/>
          <p:cNvSpPr/>
          <p:nvPr/>
        </p:nvSpPr>
        <p:spPr>
          <a:xfrm flipV="1">
            <a:off x="296244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296244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 name=""/>
          <p:cNvSpPr/>
          <p:nvPr/>
        </p:nvSpPr>
        <p:spPr>
          <a:xfrm>
            <a:off x="2856240" y="5400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22" name=""/>
          <p:cNvSpPr/>
          <p:nvPr/>
        </p:nvSpPr>
        <p:spPr>
          <a:xfrm flipV="1">
            <a:off x="361008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3" name=""/>
          <p:cNvSpPr/>
          <p:nvPr/>
        </p:nvSpPr>
        <p:spPr>
          <a:xfrm>
            <a:off x="361008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 name=""/>
          <p:cNvSpPr/>
          <p:nvPr/>
        </p:nvSpPr>
        <p:spPr>
          <a:xfrm>
            <a:off x="3571200" y="5400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25" name=""/>
          <p:cNvSpPr/>
          <p:nvPr/>
        </p:nvSpPr>
        <p:spPr>
          <a:xfrm flipV="1">
            <a:off x="4248000" y="53150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4248000" y="2057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 name=""/>
          <p:cNvSpPr/>
          <p:nvPr/>
        </p:nvSpPr>
        <p:spPr>
          <a:xfrm>
            <a:off x="4141800" y="5400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128" name=""/>
          <p:cNvSpPr/>
          <p:nvPr/>
        </p:nvSpPr>
        <p:spPr>
          <a:xfrm flipV="1">
            <a:off x="489600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489600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 name=""/>
          <p:cNvSpPr/>
          <p:nvPr/>
        </p:nvSpPr>
        <p:spPr>
          <a:xfrm>
            <a:off x="4856760" y="5400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31" name=""/>
          <p:cNvSpPr/>
          <p:nvPr/>
        </p:nvSpPr>
        <p:spPr>
          <a:xfrm flipV="1">
            <a:off x="5533920" y="53150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 name=""/>
          <p:cNvSpPr/>
          <p:nvPr/>
        </p:nvSpPr>
        <p:spPr>
          <a:xfrm>
            <a:off x="5533920" y="2057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 name=""/>
          <p:cNvSpPr/>
          <p:nvPr/>
        </p:nvSpPr>
        <p:spPr>
          <a:xfrm>
            <a:off x="5427720" y="5400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134" name=""/>
          <p:cNvSpPr/>
          <p:nvPr/>
        </p:nvSpPr>
        <p:spPr>
          <a:xfrm flipV="1">
            <a:off x="617220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617220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6133320" y="5400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37" name=""/>
          <p:cNvSpPr/>
          <p:nvPr/>
        </p:nvSpPr>
        <p:spPr>
          <a:xfrm flipV="1">
            <a:off x="6819840" y="53150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 name=""/>
          <p:cNvSpPr/>
          <p:nvPr/>
        </p:nvSpPr>
        <p:spPr>
          <a:xfrm>
            <a:off x="6819840" y="2057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6713640" y="5400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140" name=""/>
          <p:cNvSpPr/>
          <p:nvPr/>
        </p:nvSpPr>
        <p:spPr>
          <a:xfrm flipV="1">
            <a:off x="7458120" y="53150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 name=""/>
          <p:cNvSpPr/>
          <p:nvPr/>
        </p:nvSpPr>
        <p:spPr>
          <a:xfrm>
            <a:off x="7458120" y="2057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 name=""/>
          <p:cNvSpPr/>
          <p:nvPr/>
        </p:nvSpPr>
        <p:spPr>
          <a:xfrm>
            <a:off x="7419240" y="5400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43" name=""/>
          <p:cNvSpPr/>
          <p:nvPr/>
        </p:nvSpPr>
        <p:spPr>
          <a:xfrm>
            <a:off x="7123320" y="5648400"/>
            <a:ext cx="29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0</a:t>
            </a:r>
            <a:endParaRPr b="0" lang="en-US" sz="1200" spc="-1" strike="noStrike">
              <a:solidFill>
                <a:srgbClr val="000000"/>
              </a:solidFill>
              <a:latin typeface="Times New Roman"/>
            </a:endParaRPr>
          </a:p>
        </p:txBody>
      </p:sp>
      <p:sp>
        <p:nvSpPr>
          <p:cNvPr id="144" name=""/>
          <p:cNvSpPr/>
          <p:nvPr/>
        </p:nvSpPr>
        <p:spPr>
          <a:xfrm>
            <a:off x="7400880" y="5600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45" name=""/>
          <p:cNvSpPr/>
          <p:nvPr/>
        </p:nvSpPr>
        <p:spPr>
          <a:xfrm>
            <a:off x="2324160" y="5362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flipH="1">
            <a:off x="7410600" y="5362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2065680" y="52768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148" name=""/>
          <p:cNvSpPr/>
          <p:nvPr/>
        </p:nvSpPr>
        <p:spPr>
          <a:xfrm>
            <a:off x="2324160" y="49910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7410600" y="49910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2065680" y="49053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51" name=""/>
          <p:cNvSpPr/>
          <p:nvPr/>
        </p:nvSpPr>
        <p:spPr>
          <a:xfrm>
            <a:off x="2324160" y="46292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flipH="1">
            <a:off x="7410600" y="46292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065680" y="45435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54" name=""/>
          <p:cNvSpPr/>
          <p:nvPr/>
        </p:nvSpPr>
        <p:spPr>
          <a:xfrm>
            <a:off x="2324160" y="42577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H="1">
            <a:off x="7410600" y="42577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065680" y="41720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57" name=""/>
          <p:cNvSpPr/>
          <p:nvPr/>
        </p:nvSpPr>
        <p:spPr>
          <a:xfrm>
            <a:off x="2324160" y="389556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flipH="1">
            <a:off x="7410600" y="389556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2065680" y="38098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60" name=""/>
          <p:cNvSpPr/>
          <p:nvPr/>
        </p:nvSpPr>
        <p:spPr>
          <a:xfrm>
            <a:off x="2324160" y="3524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7410600" y="3524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065680" y="34383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63" name=""/>
          <p:cNvSpPr/>
          <p:nvPr/>
        </p:nvSpPr>
        <p:spPr>
          <a:xfrm>
            <a:off x="2324160" y="31622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flipH="1">
            <a:off x="7410600" y="31622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2065680" y="30765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66" name=""/>
          <p:cNvSpPr/>
          <p:nvPr/>
        </p:nvSpPr>
        <p:spPr>
          <a:xfrm>
            <a:off x="2324160" y="27907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7410600" y="27907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2199600" y="2705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69" name=""/>
          <p:cNvSpPr/>
          <p:nvPr/>
        </p:nvSpPr>
        <p:spPr>
          <a:xfrm>
            <a:off x="2324160" y="24289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H="1">
            <a:off x="7410600" y="24289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2113200" y="2343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72" name=""/>
          <p:cNvSpPr/>
          <p:nvPr/>
        </p:nvSpPr>
        <p:spPr>
          <a:xfrm>
            <a:off x="2324160" y="2057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flipH="1">
            <a:off x="7410600" y="2057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113200" y="1971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75" name=""/>
          <p:cNvSpPr/>
          <p:nvPr/>
        </p:nvSpPr>
        <p:spPr>
          <a:xfrm>
            <a:off x="2324160" y="5362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2324160" y="205740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flipV="1">
            <a:off x="2324160" y="205704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7458120" y="205704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24160" y="5362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7458120" y="20574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819520" y="2790720"/>
            <a:ext cx="4228920" cy="2552760"/>
          </a:xfrm>
          <a:custGeom>
            <a:avLst/>
            <a:gdLst/>
            <a:ahLst/>
            <a:rect l="l" t="t" r="r" b="b"/>
            <a:pathLst>
              <a:path w="2664" h="1608">
                <a:moveTo>
                  <a:pt x="0" y="984"/>
                </a:moveTo>
                <a:lnTo>
                  <a:pt x="6" y="1002"/>
                </a:lnTo>
                <a:lnTo>
                  <a:pt x="12" y="948"/>
                </a:lnTo>
                <a:lnTo>
                  <a:pt x="18" y="948"/>
                </a:lnTo>
                <a:lnTo>
                  <a:pt x="24" y="1008"/>
                </a:lnTo>
                <a:lnTo>
                  <a:pt x="30" y="1032"/>
                </a:lnTo>
                <a:lnTo>
                  <a:pt x="36" y="972"/>
                </a:lnTo>
                <a:lnTo>
                  <a:pt x="42" y="960"/>
                </a:lnTo>
                <a:lnTo>
                  <a:pt x="48" y="984"/>
                </a:lnTo>
                <a:lnTo>
                  <a:pt x="54" y="978"/>
                </a:lnTo>
                <a:lnTo>
                  <a:pt x="60" y="1002"/>
                </a:lnTo>
                <a:lnTo>
                  <a:pt x="66" y="996"/>
                </a:lnTo>
                <a:lnTo>
                  <a:pt x="72" y="918"/>
                </a:lnTo>
                <a:lnTo>
                  <a:pt x="78" y="1200"/>
                </a:lnTo>
                <a:lnTo>
                  <a:pt x="84" y="1044"/>
                </a:lnTo>
                <a:lnTo>
                  <a:pt x="90" y="1098"/>
                </a:lnTo>
                <a:lnTo>
                  <a:pt x="96" y="870"/>
                </a:lnTo>
                <a:lnTo>
                  <a:pt x="102" y="1104"/>
                </a:lnTo>
                <a:lnTo>
                  <a:pt x="108" y="954"/>
                </a:lnTo>
                <a:lnTo>
                  <a:pt x="114" y="972"/>
                </a:lnTo>
                <a:lnTo>
                  <a:pt x="120" y="1038"/>
                </a:lnTo>
                <a:lnTo>
                  <a:pt x="126" y="1062"/>
                </a:lnTo>
                <a:lnTo>
                  <a:pt x="132" y="1008"/>
                </a:lnTo>
                <a:lnTo>
                  <a:pt x="138" y="1080"/>
                </a:lnTo>
                <a:lnTo>
                  <a:pt x="144" y="996"/>
                </a:lnTo>
                <a:lnTo>
                  <a:pt x="150" y="1050"/>
                </a:lnTo>
                <a:lnTo>
                  <a:pt x="156" y="972"/>
                </a:lnTo>
                <a:lnTo>
                  <a:pt x="162" y="990"/>
                </a:lnTo>
                <a:lnTo>
                  <a:pt x="168" y="954"/>
                </a:lnTo>
                <a:lnTo>
                  <a:pt x="174" y="1122"/>
                </a:lnTo>
                <a:lnTo>
                  <a:pt x="180" y="912"/>
                </a:lnTo>
                <a:lnTo>
                  <a:pt x="186" y="918"/>
                </a:lnTo>
                <a:lnTo>
                  <a:pt x="192" y="924"/>
                </a:lnTo>
                <a:lnTo>
                  <a:pt x="198" y="1062"/>
                </a:lnTo>
                <a:lnTo>
                  <a:pt x="204" y="960"/>
                </a:lnTo>
                <a:lnTo>
                  <a:pt x="210" y="1026"/>
                </a:lnTo>
                <a:lnTo>
                  <a:pt x="216" y="1014"/>
                </a:lnTo>
                <a:lnTo>
                  <a:pt x="222" y="966"/>
                </a:lnTo>
                <a:lnTo>
                  <a:pt x="228" y="948"/>
                </a:lnTo>
                <a:lnTo>
                  <a:pt x="234" y="954"/>
                </a:lnTo>
                <a:lnTo>
                  <a:pt x="240" y="1122"/>
                </a:lnTo>
                <a:lnTo>
                  <a:pt x="246" y="948"/>
                </a:lnTo>
                <a:lnTo>
                  <a:pt x="252" y="906"/>
                </a:lnTo>
                <a:lnTo>
                  <a:pt x="258" y="978"/>
                </a:lnTo>
                <a:lnTo>
                  <a:pt x="264" y="924"/>
                </a:lnTo>
                <a:lnTo>
                  <a:pt x="270" y="978"/>
                </a:lnTo>
                <a:lnTo>
                  <a:pt x="276" y="1080"/>
                </a:lnTo>
                <a:lnTo>
                  <a:pt x="282" y="954"/>
                </a:lnTo>
                <a:lnTo>
                  <a:pt x="288" y="918"/>
                </a:lnTo>
                <a:lnTo>
                  <a:pt x="294" y="1008"/>
                </a:lnTo>
                <a:lnTo>
                  <a:pt x="300" y="960"/>
                </a:lnTo>
                <a:lnTo>
                  <a:pt x="306" y="960"/>
                </a:lnTo>
                <a:lnTo>
                  <a:pt x="312" y="966"/>
                </a:lnTo>
                <a:lnTo>
                  <a:pt x="318" y="954"/>
                </a:lnTo>
                <a:lnTo>
                  <a:pt x="324" y="966"/>
                </a:lnTo>
                <a:lnTo>
                  <a:pt x="330" y="966"/>
                </a:lnTo>
                <a:lnTo>
                  <a:pt x="336" y="966"/>
                </a:lnTo>
                <a:lnTo>
                  <a:pt x="342" y="1008"/>
                </a:lnTo>
                <a:lnTo>
                  <a:pt x="348" y="984"/>
                </a:lnTo>
                <a:lnTo>
                  <a:pt x="354" y="936"/>
                </a:lnTo>
                <a:lnTo>
                  <a:pt x="360" y="912"/>
                </a:lnTo>
                <a:lnTo>
                  <a:pt x="366" y="924"/>
                </a:lnTo>
                <a:lnTo>
                  <a:pt x="372" y="960"/>
                </a:lnTo>
                <a:lnTo>
                  <a:pt x="378" y="1008"/>
                </a:lnTo>
                <a:lnTo>
                  <a:pt x="384" y="894"/>
                </a:lnTo>
                <a:lnTo>
                  <a:pt x="390" y="954"/>
                </a:lnTo>
                <a:lnTo>
                  <a:pt x="396" y="906"/>
                </a:lnTo>
                <a:lnTo>
                  <a:pt x="402" y="978"/>
                </a:lnTo>
                <a:lnTo>
                  <a:pt x="408" y="810"/>
                </a:lnTo>
                <a:lnTo>
                  <a:pt x="414" y="1092"/>
                </a:lnTo>
                <a:lnTo>
                  <a:pt x="420" y="798"/>
                </a:lnTo>
                <a:lnTo>
                  <a:pt x="426" y="798"/>
                </a:lnTo>
                <a:lnTo>
                  <a:pt x="432" y="948"/>
                </a:lnTo>
                <a:lnTo>
                  <a:pt x="438" y="918"/>
                </a:lnTo>
                <a:lnTo>
                  <a:pt x="444" y="894"/>
                </a:lnTo>
                <a:lnTo>
                  <a:pt x="450" y="870"/>
                </a:lnTo>
                <a:lnTo>
                  <a:pt x="456" y="828"/>
                </a:lnTo>
                <a:lnTo>
                  <a:pt x="462" y="870"/>
                </a:lnTo>
                <a:lnTo>
                  <a:pt x="468" y="810"/>
                </a:lnTo>
                <a:lnTo>
                  <a:pt x="474" y="744"/>
                </a:lnTo>
                <a:lnTo>
                  <a:pt x="480" y="972"/>
                </a:lnTo>
                <a:lnTo>
                  <a:pt x="486" y="810"/>
                </a:lnTo>
                <a:lnTo>
                  <a:pt x="492" y="774"/>
                </a:lnTo>
                <a:lnTo>
                  <a:pt x="498" y="792"/>
                </a:lnTo>
                <a:lnTo>
                  <a:pt x="504" y="792"/>
                </a:lnTo>
                <a:lnTo>
                  <a:pt x="510" y="792"/>
                </a:lnTo>
                <a:lnTo>
                  <a:pt x="516" y="924"/>
                </a:lnTo>
                <a:lnTo>
                  <a:pt x="522" y="918"/>
                </a:lnTo>
                <a:lnTo>
                  <a:pt x="528" y="852"/>
                </a:lnTo>
                <a:lnTo>
                  <a:pt x="534" y="966"/>
                </a:lnTo>
                <a:lnTo>
                  <a:pt x="540" y="798"/>
                </a:lnTo>
                <a:lnTo>
                  <a:pt x="546" y="894"/>
                </a:lnTo>
                <a:lnTo>
                  <a:pt x="552" y="816"/>
                </a:lnTo>
                <a:lnTo>
                  <a:pt x="558" y="990"/>
                </a:lnTo>
                <a:lnTo>
                  <a:pt x="564" y="750"/>
                </a:lnTo>
                <a:lnTo>
                  <a:pt x="570" y="798"/>
                </a:lnTo>
                <a:lnTo>
                  <a:pt x="576" y="642"/>
                </a:lnTo>
                <a:lnTo>
                  <a:pt x="582" y="840"/>
                </a:lnTo>
                <a:lnTo>
                  <a:pt x="588" y="858"/>
                </a:lnTo>
                <a:lnTo>
                  <a:pt x="594" y="846"/>
                </a:lnTo>
                <a:lnTo>
                  <a:pt x="600" y="774"/>
                </a:lnTo>
                <a:lnTo>
                  <a:pt x="606" y="762"/>
                </a:lnTo>
                <a:lnTo>
                  <a:pt x="612" y="834"/>
                </a:lnTo>
                <a:lnTo>
                  <a:pt x="618" y="864"/>
                </a:lnTo>
                <a:lnTo>
                  <a:pt x="624" y="810"/>
                </a:lnTo>
                <a:lnTo>
                  <a:pt x="630" y="888"/>
                </a:lnTo>
                <a:lnTo>
                  <a:pt x="636" y="864"/>
                </a:lnTo>
                <a:lnTo>
                  <a:pt x="642" y="936"/>
                </a:lnTo>
                <a:lnTo>
                  <a:pt x="648" y="876"/>
                </a:lnTo>
                <a:lnTo>
                  <a:pt x="654" y="852"/>
                </a:lnTo>
                <a:lnTo>
                  <a:pt x="660" y="882"/>
                </a:lnTo>
                <a:lnTo>
                  <a:pt x="666" y="876"/>
                </a:lnTo>
                <a:lnTo>
                  <a:pt x="672" y="882"/>
                </a:lnTo>
                <a:lnTo>
                  <a:pt x="678" y="810"/>
                </a:lnTo>
                <a:lnTo>
                  <a:pt x="684" y="900"/>
                </a:lnTo>
                <a:lnTo>
                  <a:pt x="690" y="810"/>
                </a:lnTo>
                <a:lnTo>
                  <a:pt x="696" y="864"/>
                </a:lnTo>
                <a:lnTo>
                  <a:pt x="702" y="1116"/>
                </a:lnTo>
                <a:lnTo>
                  <a:pt x="708" y="726"/>
                </a:lnTo>
                <a:lnTo>
                  <a:pt x="714" y="786"/>
                </a:lnTo>
                <a:lnTo>
                  <a:pt x="720" y="870"/>
                </a:lnTo>
                <a:lnTo>
                  <a:pt x="726" y="666"/>
                </a:lnTo>
                <a:lnTo>
                  <a:pt x="732" y="762"/>
                </a:lnTo>
                <a:lnTo>
                  <a:pt x="738" y="786"/>
                </a:lnTo>
                <a:lnTo>
                  <a:pt x="744" y="732"/>
                </a:lnTo>
                <a:lnTo>
                  <a:pt x="750" y="600"/>
                </a:lnTo>
                <a:lnTo>
                  <a:pt x="756" y="726"/>
                </a:lnTo>
                <a:lnTo>
                  <a:pt x="762" y="738"/>
                </a:lnTo>
                <a:lnTo>
                  <a:pt x="762" y="972"/>
                </a:lnTo>
                <a:lnTo>
                  <a:pt x="768" y="678"/>
                </a:lnTo>
                <a:lnTo>
                  <a:pt x="774" y="552"/>
                </a:lnTo>
                <a:lnTo>
                  <a:pt x="780" y="630"/>
                </a:lnTo>
                <a:lnTo>
                  <a:pt x="786" y="708"/>
                </a:lnTo>
                <a:lnTo>
                  <a:pt x="792" y="744"/>
                </a:lnTo>
                <a:lnTo>
                  <a:pt x="798" y="486"/>
                </a:lnTo>
                <a:lnTo>
                  <a:pt x="804" y="522"/>
                </a:lnTo>
                <a:lnTo>
                  <a:pt x="810" y="708"/>
                </a:lnTo>
                <a:lnTo>
                  <a:pt x="816" y="516"/>
                </a:lnTo>
                <a:lnTo>
                  <a:pt x="822" y="1080"/>
                </a:lnTo>
                <a:lnTo>
                  <a:pt x="828" y="660"/>
                </a:lnTo>
                <a:lnTo>
                  <a:pt x="834" y="510"/>
                </a:lnTo>
                <a:lnTo>
                  <a:pt x="840" y="672"/>
                </a:lnTo>
                <a:lnTo>
                  <a:pt x="846" y="486"/>
                </a:lnTo>
                <a:lnTo>
                  <a:pt x="852" y="768"/>
                </a:lnTo>
                <a:lnTo>
                  <a:pt x="858" y="984"/>
                </a:lnTo>
                <a:lnTo>
                  <a:pt x="864" y="678"/>
                </a:lnTo>
                <a:lnTo>
                  <a:pt x="870" y="558"/>
                </a:lnTo>
                <a:lnTo>
                  <a:pt x="876" y="606"/>
                </a:lnTo>
                <a:lnTo>
                  <a:pt x="882" y="402"/>
                </a:lnTo>
                <a:lnTo>
                  <a:pt x="888" y="522"/>
                </a:lnTo>
                <a:lnTo>
                  <a:pt x="894" y="918"/>
                </a:lnTo>
                <a:lnTo>
                  <a:pt x="900" y="390"/>
                </a:lnTo>
                <a:lnTo>
                  <a:pt x="906" y="402"/>
                </a:lnTo>
                <a:lnTo>
                  <a:pt x="912" y="612"/>
                </a:lnTo>
                <a:lnTo>
                  <a:pt x="918" y="372"/>
                </a:lnTo>
                <a:lnTo>
                  <a:pt x="924" y="480"/>
                </a:lnTo>
                <a:lnTo>
                  <a:pt x="930" y="420"/>
                </a:lnTo>
                <a:lnTo>
                  <a:pt x="936" y="408"/>
                </a:lnTo>
                <a:lnTo>
                  <a:pt x="942" y="516"/>
                </a:lnTo>
                <a:lnTo>
                  <a:pt x="948" y="540"/>
                </a:lnTo>
                <a:lnTo>
                  <a:pt x="954" y="486"/>
                </a:lnTo>
                <a:lnTo>
                  <a:pt x="960" y="390"/>
                </a:lnTo>
                <a:lnTo>
                  <a:pt x="966" y="306"/>
                </a:lnTo>
                <a:lnTo>
                  <a:pt x="972" y="486"/>
                </a:lnTo>
                <a:lnTo>
                  <a:pt x="978" y="600"/>
                </a:lnTo>
                <a:lnTo>
                  <a:pt x="984" y="318"/>
                </a:lnTo>
                <a:lnTo>
                  <a:pt x="990" y="594"/>
                </a:lnTo>
                <a:lnTo>
                  <a:pt x="996" y="420"/>
                </a:lnTo>
                <a:lnTo>
                  <a:pt x="1002" y="282"/>
                </a:lnTo>
                <a:lnTo>
                  <a:pt x="1008" y="318"/>
                </a:lnTo>
                <a:lnTo>
                  <a:pt x="1014" y="306"/>
                </a:lnTo>
                <a:lnTo>
                  <a:pt x="1020" y="480"/>
                </a:lnTo>
                <a:lnTo>
                  <a:pt x="1026" y="432"/>
                </a:lnTo>
                <a:lnTo>
                  <a:pt x="1032" y="402"/>
                </a:lnTo>
                <a:lnTo>
                  <a:pt x="1038" y="156"/>
                </a:lnTo>
                <a:lnTo>
                  <a:pt x="1044" y="390"/>
                </a:lnTo>
                <a:lnTo>
                  <a:pt x="1050" y="258"/>
                </a:lnTo>
                <a:lnTo>
                  <a:pt x="1056" y="228"/>
                </a:lnTo>
                <a:lnTo>
                  <a:pt x="1062" y="522"/>
                </a:lnTo>
                <a:lnTo>
                  <a:pt x="1068" y="474"/>
                </a:lnTo>
                <a:lnTo>
                  <a:pt x="1074" y="222"/>
                </a:lnTo>
                <a:lnTo>
                  <a:pt x="1080" y="210"/>
                </a:lnTo>
                <a:lnTo>
                  <a:pt x="1086" y="174"/>
                </a:lnTo>
                <a:lnTo>
                  <a:pt x="1092" y="300"/>
                </a:lnTo>
                <a:lnTo>
                  <a:pt x="1098" y="324"/>
                </a:lnTo>
                <a:lnTo>
                  <a:pt x="1104" y="252"/>
                </a:lnTo>
                <a:lnTo>
                  <a:pt x="1110" y="258"/>
                </a:lnTo>
                <a:lnTo>
                  <a:pt x="1116" y="444"/>
                </a:lnTo>
                <a:lnTo>
                  <a:pt x="1122" y="306"/>
                </a:lnTo>
                <a:lnTo>
                  <a:pt x="1128" y="378"/>
                </a:lnTo>
                <a:lnTo>
                  <a:pt x="1134" y="198"/>
                </a:lnTo>
                <a:lnTo>
                  <a:pt x="1140" y="288"/>
                </a:lnTo>
                <a:lnTo>
                  <a:pt x="1146" y="234"/>
                </a:lnTo>
                <a:lnTo>
                  <a:pt x="1152" y="258"/>
                </a:lnTo>
                <a:lnTo>
                  <a:pt x="1158" y="210"/>
                </a:lnTo>
                <a:lnTo>
                  <a:pt x="1164" y="156"/>
                </a:lnTo>
                <a:lnTo>
                  <a:pt x="1170" y="228"/>
                </a:lnTo>
                <a:lnTo>
                  <a:pt x="1176" y="342"/>
                </a:lnTo>
                <a:lnTo>
                  <a:pt x="1182" y="204"/>
                </a:lnTo>
                <a:lnTo>
                  <a:pt x="1188" y="138"/>
                </a:lnTo>
                <a:lnTo>
                  <a:pt x="1194" y="96"/>
                </a:lnTo>
                <a:lnTo>
                  <a:pt x="1200" y="444"/>
                </a:lnTo>
                <a:lnTo>
                  <a:pt x="1206" y="168"/>
                </a:lnTo>
                <a:lnTo>
                  <a:pt x="1212" y="252"/>
                </a:lnTo>
                <a:lnTo>
                  <a:pt x="1212" y="210"/>
                </a:lnTo>
                <a:lnTo>
                  <a:pt x="1218" y="108"/>
                </a:lnTo>
                <a:lnTo>
                  <a:pt x="1224" y="78"/>
                </a:lnTo>
                <a:lnTo>
                  <a:pt x="1230" y="132"/>
                </a:lnTo>
                <a:lnTo>
                  <a:pt x="1236" y="150"/>
                </a:lnTo>
                <a:lnTo>
                  <a:pt x="1242" y="588"/>
                </a:lnTo>
                <a:lnTo>
                  <a:pt x="1248" y="504"/>
                </a:lnTo>
                <a:lnTo>
                  <a:pt x="1254" y="246"/>
                </a:lnTo>
                <a:lnTo>
                  <a:pt x="1260" y="84"/>
                </a:lnTo>
                <a:lnTo>
                  <a:pt x="1266" y="330"/>
                </a:lnTo>
                <a:lnTo>
                  <a:pt x="1272" y="156"/>
                </a:lnTo>
                <a:lnTo>
                  <a:pt x="1278" y="132"/>
                </a:lnTo>
                <a:lnTo>
                  <a:pt x="1284" y="96"/>
                </a:lnTo>
                <a:lnTo>
                  <a:pt x="1290" y="234"/>
                </a:lnTo>
                <a:lnTo>
                  <a:pt x="1296" y="192"/>
                </a:lnTo>
                <a:lnTo>
                  <a:pt x="1302" y="0"/>
                </a:lnTo>
                <a:lnTo>
                  <a:pt x="1308" y="150"/>
                </a:lnTo>
                <a:lnTo>
                  <a:pt x="1314" y="354"/>
                </a:lnTo>
                <a:lnTo>
                  <a:pt x="1320" y="222"/>
                </a:lnTo>
                <a:lnTo>
                  <a:pt x="1326" y="264"/>
                </a:lnTo>
                <a:lnTo>
                  <a:pt x="1332" y="282"/>
                </a:lnTo>
                <a:lnTo>
                  <a:pt x="1338" y="126"/>
                </a:lnTo>
                <a:lnTo>
                  <a:pt x="1344" y="144"/>
                </a:lnTo>
                <a:lnTo>
                  <a:pt x="1350" y="228"/>
                </a:lnTo>
                <a:lnTo>
                  <a:pt x="1356" y="288"/>
                </a:lnTo>
                <a:lnTo>
                  <a:pt x="1362" y="30"/>
                </a:lnTo>
                <a:lnTo>
                  <a:pt x="1368" y="30"/>
                </a:lnTo>
                <a:lnTo>
                  <a:pt x="1374" y="84"/>
                </a:lnTo>
                <a:lnTo>
                  <a:pt x="1380" y="108"/>
                </a:lnTo>
                <a:lnTo>
                  <a:pt x="1386" y="84"/>
                </a:lnTo>
                <a:lnTo>
                  <a:pt x="1392" y="234"/>
                </a:lnTo>
                <a:lnTo>
                  <a:pt x="1398" y="402"/>
                </a:lnTo>
                <a:lnTo>
                  <a:pt x="1404" y="306"/>
                </a:lnTo>
                <a:lnTo>
                  <a:pt x="1410" y="342"/>
                </a:lnTo>
                <a:lnTo>
                  <a:pt x="1416" y="180"/>
                </a:lnTo>
                <a:lnTo>
                  <a:pt x="1422" y="132"/>
                </a:lnTo>
                <a:lnTo>
                  <a:pt x="1428" y="210"/>
                </a:lnTo>
                <a:lnTo>
                  <a:pt x="1434" y="240"/>
                </a:lnTo>
                <a:lnTo>
                  <a:pt x="1440" y="366"/>
                </a:lnTo>
                <a:lnTo>
                  <a:pt x="1446" y="264"/>
                </a:lnTo>
                <a:lnTo>
                  <a:pt x="1452" y="306"/>
                </a:lnTo>
                <a:lnTo>
                  <a:pt x="1458" y="264"/>
                </a:lnTo>
                <a:lnTo>
                  <a:pt x="1464" y="120"/>
                </a:lnTo>
                <a:lnTo>
                  <a:pt x="1470" y="306"/>
                </a:lnTo>
                <a:lnTo>
                  <a:pt x="1476" y="354"/>
                </a:lnTo>
                <a:lnTo>
                  <a:pt x="1482" y="186"/>
                </a:lnTo>
                <a:lnTo>
                  <a:pt x="1488" y="228"/>
                </a:lnTo>
                <a:lnTo>
                  <a:pt x="1494" y="138"/>
                </a:lnTo>
                <a:lnTo>
                  <a:pt x="1500" y="222"/>
                </a:lnTo>
                <a:lnTo>
                  <a:pt x="1506" y="372"/>
                </a:lnTo>
                <a:lnTo>
                  <a:pt x="1512" y="162"/>
                </a:lnTo>
                <a:lnTo>
                  <a:pt x="1518" y="330"/>
                </a:lnTo>
                <a:lnTo>
                  <a:pt x="1524" y="624"/>
                </a:lnTo>
                <a:lnTo>
                  <a:pt x="1530" y="330"/>
                </a:lnTo>
                <a:lnTo>
                  <a:pt x="1536" y="336"/>
                </a:lnTo>
                <a:lnTo>
                  <a:pt x="1542" y="228"/>
                </a:lnTo>
                <a:lnTo>
                  <a:pt x="1548" y="450"/>
                </a:lnTo>
                <a:lnTo>
                  <a:pt x="1554" y="462"/>
                </a:lnTo>
                <a:lnTo>
                  <a:pt x="1560" y="234"/>
                </a:lnTo>
                <a:lnTo>
                  <a:pt x="1566" y="378"/>
                </a:lnTo>
                <a:lnTo>
                  <a:pt x="1572" y="294"/>
                </a:lnTo>
                <a:lnTo>
                  <a:pt x="1578" y="282"/>
                </a:lnTo>
                <a:lnTo>
                  <a:pt x="1584" y="384"/>
                </a:lnTo>
                <a:lnTo>
                  <a:pt x="1590" y="336"/>
                </a:lnTo>
                <a:lnTo>
                  <a:pt x="1596" y="360"/>
                </a:lnTo>
                <a:lnTo>
                  <a:pt x="1602" y="300"/>
                </a:lnTo>
                <a:lnTo>
                  <a:pt x="1608" y="228"/>
                </a:lnTo>
                <a:lnTo>
                  <a:pt x="1614" y="654"/>
                </a:lnTo>
                <a:lnTo>
                  <a:pt x="1620" y="294"/>
                </a:lnTo>
                <a:lnTo>
                  <a:pt x="1626" y="366"/>
                </a:lnTo>
                <a:lnTo>
                  <a:pt x="1632" y="372"/>
                </a:lnTo>
                <a:lnTo>
                  <a:pt x="1638" y="414"/>
                </a:lnTo>
                <a:lnTo>
                  <a:pt x="1644" y="420"/>
                </a:lnTo>
                <a:lnTo>
                  <a:pt x="1650" y="486"/>
                </a:lnTo>
                <a:lnTo>
                  <a:pt x="1656" y="438"/>
                </a:lnTo>
                <a:lnTo>
                  <a:pt x="1662" y="432"/>
                </a:lnTo>
                <a:lnTo>
                  <a:pt x="1668" y="654"/>
                </a:lnTo>
                <a:lnTo>
                  <a:pt x="1668" y="630"/>
                </a:lnTo>
                <a:lnTo>
                  <a:pt x="1674" y="564"/>
                </a:lnTo>
                <a:lnTo>
                  <a:pt x="1680" y="552"/>
                </a:lnTo>
                <a:lnTo>
                  <a:pt x="1686" y="426"/>
                </a:lnTo>
                <a:lnTo>
                  <a:pt x="1692" y="420"/>
                </a:lnTo>
                <a:lnTo>
                  <a:pt x="1698" y="618"/>
                </a:lnTo>
                <a:lnTo>
                  <a:pt x="1704" y="558"/>
                </a:lnTo>
                <a:lnTo>
                  <a:pt x="1710" y="378"/>
                </a:lnTo>
                <a:lnTo>
                  <a:pt x="1716" y="534"/>
                </a:lnTo>
                <a:lnTo>
                  <a:pt x="1722" y="540"/>
                </a:lnTo>
                <a:lnTo>
                  <a:pt x="1728" y="414"/>
                </a:lnTo>
                <a:lnTo>
                  <a:pt x="1734" y="576"/>
                </a:lnTo>
                <a:lnTo>
                  <a:pt x="1740" y="678"/>
                </a:lnTo>
                <a:lnTo>
                  <a:pt x="1746" y="474"/>
                </a:lnTo>
                <a:lnTo>
                  <a:pt x="1752" y="606"/>
                </a:lnTo>
                <a:lnTo>
                  <a:pt x="1758" y="966"/>
                </a:lnTo>
                <a:lnTo>
                  <a:pt x="1764" y="546"/>
                </a:lnTo>
                <a:lnTo>
                  <a:pt x="1770" y="492"/>
                </a:lnTo>
                <a:lnTo>
                  <a:pt x="1776" y="708"/>
                </a:lnTo>
                <a:lnTo>
                  <a:pt x="1782" y="726"/>
                </a:lnTo>
                <a:lnTo>
                  <a:pt x="1788" y="630"/>
                </a:lnTo>
                <a:lnTo>
                  <a:pt x="1794" y="642"/>
                </a:lnTo>
                <a:lnTo>
                  <a:pt x="1800" y="702"/>
                </a:lnTo>
                <a:lnTo>
                  <a:pt x="1806" y="762"/>
                </a:lnTo>
                <a:lnTo>
                  <a:pt x="1812" y="552"/>
                </a:lnTo>
                <a:lnTo>
                  <a:pt x="1818" y="594"/>
                </a:lnTo>
                <a:lnTo>
                  <a:pt x="1824" y="660"/>
                </a:lnTo>
                <a:lnTo>
                  <a:pt x="1830" y="762"/>
                </a:lnTo>
                <a:lnTo>
                  <a:pt x="1836" y="1002"/>
                </a:lnTo>
                <a:lnTo>
                  <a:pt x="1842" y="582"/>
                </a:lnTo>
                <a:lnTo>
                  <a:pt x="1848" y="732"/>
                </a:lnTo>
                <a:lnTo>
                  <a:pt x="1854" y="666"/>
                </a:lnTo>
                <a:lnTo>
                  <a:pt x="1860" y="918"/>
                </a:lnTo>
                <a:lnTo>
                  <a:pt x="1866" y="732"/>
                </a:lnTo>
                <a:lnTo>
                  <a:pt x="1872" y="1038"/>
                </a:lnTo>
                <a:lnTo>
                  <a:pt x="1878" y="912"/>
                </a:lnTo>
                <a:lnTo>
                  <a:pt x="1884" y="930"/>
                </a:lnTo>
                <a:lnTo>
                  <a:pt x="1890" y="732"/>
                </a:lnTo>
                <a:lnTo>
                  <a:pt x="1896" y="798"/>
                </a:lnTo>
                <a:lnTo>
                  <a:pt x="1902" y="948"/>
                </a:lnTo>
                <a:lnTo>
                  <a:pt x="1908" y="882"/>
                </a:lnTo>
                <a:lnTo>
                  <a:pt x="1914" y="1050"/>
                </a:lnTo>
                <a:lnTo>
                  <a:pt x="1920" y="942"/>
                </a:lnTo>
                <a:lnTo>
                  <a:pt x="1926" y="978"/>
                </a:lnTo>
                <a:lnTo>
                  <a:pt x="1932" y="954"/>
                </a:lnTo>
                <a:lnTo>
                  <a:pt x="1938" y="1008"/>
                </a:lnTo>
                <a:lnTo>
                  <a:pt x="1944" y="984"/>
                </a:lnTo>
                <a:lnTo>
                  <a:pt x="1950" y="1008"/>
                </a:lnTo>
                <a:lnTo>
                  <a:pt x="1956" y="1014"/>
                </a:lnTo>
                <a:lnTo>
                  <a:pt x="1962" y="918"/>
                </a:lnTo>
                <a:lnTo>
                  <a:pt x="1968" y="990"/>
                </a:lnTo>
                <a:lnTo>
                  <a:pt x="1974" y="960"/>
                </a:lnTo>
                <a:lnTo>
                  <a:pt x="1980" y="1206"/>
                </a:lnTo>
                <a:lnTo>
                  <a:pt x="1986" y="1122"/>
                </a:lnTo>
                <a:lnTo>
                  <a:pt x="1992" y="852"/>
                </a:lnTo>
                <a:lnTo>
                  <a:pt x="1998" y="792"/>
                </a:lnTo>
                <a:lnTo>
                  <a:pt x="2004" y="888"/>
                </a:lnTo>
                <a:lnTo>
                  <a:pt x="2010" y="912"/>
                </a:lnTo>
                <a:lnTo>
                  <a:pt x="2016" y="1104"/>
                </a:lnTo>
                <a:lnTo>
                  <a:pt x="2022" y="846"/>
                </a:lnTo>
                <a:lnTo>
                  <a:pt x="2028" y="900"/>
                </a:lnTo>
                <a:lnTo>
                  <a:pt x="2034" y="750"/>
                </a:lnTo>
                <a:lnTo>
                  <a:pt x="2040" y="816"/>
                </a:lnTo>
                <a:lnTo>
                  <a:pt x="2046" y="852"/>
                </a:lnTo>
                <a:lnTo>
                  <a:pt x="2052" y="882"/>
                </a:lnTo>
                <a:lnTo>
                  <a:pt x="2058" y="978"/>
                </a:lnTo>
                <a:lnTo>
                  <a:pt x="2064" y="924"/>
                </a:lnTo>
                <a:lnTo>
                  <a:pt x="2070" y="1032"/>
                </a:lnTo>
                <a:lnTo>
                  <a:pt x="2076" y="762"/>
                </a:lnTo>
                <a:lnTo>
                  <a:pt x="2082" y="990"/>
                </a:lnTo>
                <a:lnTo>
                  <a:pt x="2088" y="798"/>
                </a:lnTo>
                <a:lnTo>
                  <a:pt x="2094" y="858"/>
                </a:lnTo>
                <a:lnTo>
                  <a:pt x="2100" y="786"/>
                </a:lnTo>
                <a:lnTo>
                  <a:pt x="2106" y="1128"/>
                </a:lnTo>
                <a:lnTo>
                  <a:pt x="2112" y="774"/>
                </a:lnTo>
                <a:lnTo>
                  <a:pt x="2118" y="714"/>
                </a:lnTo>
                <a:lnTo>
                  <a:pt x="2124" y="1020"/>
                </a:lnTo>
                <a:lnTo>
                  <a:pt x="2124" y="924"/>
                </a:lnTo>
                <a:lnTo>
                  <a:pt x="2130" y="996"/>
                </a:lnTo>
                <a:lnTo>
                  <a:pt x="2136" y="906"/>
                </a:lnTo>
                <a:lnTo>
                  <a:pt x="2142" y="1026"/>
                </a:lnTo>
                <a:lnTo>
                  <a:pt x="2148" y="798"/>
                </a:lnTo>
                <a:lnTo>
                  <a:pt x="2154" y="804"/>
                </a:lnTo>
                <a:lnTo>
                  <a:pt x="2160" y="786"/>
                </a:lnTo>
                <a:lnTo>
                  <a:pt x="2166" y="768"/>
                </a:lnTo>
                <a:lnTo>
                  <a:pt x="2172" y="972"/>
                </a:lnTo>
                <a:lnTo>
                  <a:pt x="2178" y="1026"/>
                </a:lnTo>
                <a:lnTo>
                  <a:pt x="2184" y="1008"/>
                </a:lnTo>
                <a:lnTo>
                  <a:pt x="2190" y="828"/>
                </a:lnTo>
                <a:lnTo>
                  <a:pt x="2196" y="1182"/>
                </a:lnTo>
                <a:lnTo>
                  <a:pt x="2202" y="1050"/>
                </a:lnTo>
                <a:lnTo>
                  <a:pt x="2208" y="1170"/>
                </a:lnTo>
                <a:lnTo>
                  <a:pt x="2214" y="1596"/>
                </a:lnTo>
                <a:lnTo>
                  <a:pt x="2220" y="1266"/>
                </a:lnTo>
                <a:lnTo>
                  <a:pt x="2226" y="1002"/>
                </a:lnTo>
                <a:lnTo>
                  <a:pt x="2232" y="1086"/>
                </a:lnTo>
                <a:lnTo>
                  <a:pt x="2238" y="1050"/>
                </a:lnTo>
                <a:lnTo>
                  <a:pt x="2244" y="1080"/>
                </a:lnTo>
                <a:lnTo>
                  <a:pt x="2250" y="1056"/>
                </a:lnTo>
                <a:lnTo>
                  <a:pt x="2256" y="1032"/>
                </a:lnTo>
                <a:lnTo>
                  <a:pt x="2262" y="1074"/>
                </a:lnTo>
                <a:lnTo>
                  <a:pt x="2268" y="1110"/>
                </a:lnTo>
                <a:lnTo>
                  <a:pt x="2274" y="1062"/>
                </a:lnTo>
                <a:lnTo>
                  <a:pt x="2280" y="1080"/>
                </a:lnTo>
                <a:lnTo>
                  <a:pt x="2286" y="1068"/>
                </a:lnTo>
                <a:lnTo>
                  <a:pt x="2292" y="1140"/>
                </a:lnTo>
                <a:lnTo>
                  <a:pt x="2298" y="1050"/>
                </a:lnTo>
                <a:lnTo>
                  <a:pt x="2304" y="1026"/>
                </a:lnTo>
                <a:lnTo>
                  <a:pt x="2310" y="1098"/>
                </a:lnTo>
                <a:lnTo>
                  <a:pt x="2316" y="1014"/>
                </a:lnTo>
                <a:lnTo>
                  <a:pt x="2322" y="1236"/>
                </a:lnTo>
                <a:lnTo>
                  <a:pt x="2328" y="1122"/>
                </a:lnTo>
                <a:lnTo>
                  <a:pt x="2334" y="1092"/>
                </a:lnTo>
                <a:lnTo>
                  <a:pt x="2340" y="1506"/>
                </a:lnTo>
                <a:lnTo>
                  <a:pt x="2346" y="1122"/>
                </a:lnTo>
                <a:lnTo>
                  <a:pt x="2352" y="1014"/>
                </a:lnTo>
                <a:lnTo>
                  <a:pt x="2358" y="990"/>
                </a:lnTo>
                <a:lnTo>
                  <a:pt x="2364" y="978"/>
                </a:lnTo>
                <a:lnTo>
                  <a:pt x="2370" y="1200"/>
                </a:lnTo>
                <a:lnTo>
                  <a:pt x="2376" y="1086"/>
                </a:lnTo>
                <a:lnTo>
                  <a:pt x="2382" y="1062"/>
                </a:lnTo>
                <a:lnTo>
                  <a:pt x="2388" y="1170"/>
                </a:lnTo>
                <a:lnTo>
                  <a:pt x="2394" y="1170"/>
                </a:lnTo>
                <a:lnTo>
                  <a:pt x="2400" y="1098"/>
                </a:lnTo>
                <a:lnTo>
                  <a:pt x="2406" y="1092"/>
                </a:lnTo>
                <a:lnTo>
                  <a:pt x="2412" y="960"/>
                </a:lnTo>
                <a:lnTo>
                  <a:pt x="2418" y="876"/>
                </a:lnTo>
                <a:lnTo>
                  <a:pt x="2424" y="906"/>
                </a:lnTo>
                <a:lnTo>
                  <a:pt x="2430" y="1122"/>
                </a:lnTo>
                <a:lnTo>
                  <a:pt x="2436" y="1236"/>
                </a:lnTo>
                <a:lnTo>
                  <a:pt x="2442" y="1050"/>
                </a:lnTo>
                <a:lnTo>
                  <a:pt x="2448" y="1008"/>
                </a:lnTo>
                <a:lnTo>
                  <a:pt x="2454" y="1218"/>
                </a:lnTo>
                <a:lnTo>
                  <a:pt x="2460" y="1050"/>
                </a:lnTo>
                <a:lnTo>
                  <a:pt x="2466" y="1272"/>
                </a:lnTo>
                <a:lnTo>
                  <a:pt x="2472" y="1056"/>
                </a:lnTo>
                <a:lnTo>
                  <a:pt x="2478" y="1044"/>
                </a:lnTo>
                <a:lnTo>
                  <a:pt x="2484" y="1008"/>
                </a:lnTo>
                <a:lnTo>
                  <a:pt x="2490" y="1164"/>
                </a:lnTo>
                <a:lnTo>
                  <a:pt x="2496" y="990"/>
                </a:lnTo>
                <a:lnTo>
                  <a:pt x="2502" y="978"/>
                </a:lnTo>
                <a:lnTo>
                  <a:pt x="2508" y="1344"/>
                </a:lnTo>
                <a:lnTo>
                  <a:pt x="2514" y="1104"/>
                </a:lnTo>
                <a:lnTo>
                  <a:pt x="2520" y="1194"/>
                </a:lnTo>
                <a:lnTo>
                  <a:pt x="2526" y="942"/>
                </a:lnTo>
                <a:lnTo>
                  <a:pt x="2532" y="1170"/>
                </a:lnTo>
                <a:lnTo>
                  <a:pt x="2538" y="942"/>
                </a:lnTo>
                <a:lnTo>
                  <a:pt x="2544" y="1176"/>
                </a:lnTo>
                <a:lnTo>
                  <a:pt x="2550" y="1248"/>
                </a:lnTo>
                <a:lnTo>
                  <a:pt x="2556" y="1242"/>
                </a:lnTo>
                <a:lnTo>
                  <a:pt x="2562" y="1014"/>
                </a:lnTo>
                <a:lnTo>
                  <a:pt x="2568" y="1176"/>
                </a:lnTo>
                <a:lnTo>
                  <a:pt x="2574" y="1170"/>
                </a:lnTo>
                <a:lnTo>
                  <a:pt x="2574" y="1002"/>
                </a:lnTo>
                <a:lnTo>
                  <a:pt x="2580" y="1608"/>
                </a:lnTo>
                <a:lnTo>
                  <a:pt x="2586" y="1194"/>
                </a:lnTo>
                <a:lnTo>
                  <a:pt x="2592" y="1086"/>
                </a:lnTo>
                <a:lnTo>
                  <a:pt x="2598" y="1188"/>
                </a:lnTo>
                <a:lnTo>
                  <a:pt x="2604" y="1134"/>
                </a:lnTo>
                <a:lnTo>
                  <a:pt x="2610" y="1146"/>
                </a:lnTo>
                <a:lnTo>
                  <a:pt x="2616" y="1062"/>
                </a:lnTo>
                <a:lnTo>
                  <a:pt x="2622" y="1032"/>
                </a:lnTo>
                <a:lnTo>
                  <a:pt x="2628" y="1290"/>
                </a:lnTo>
                <a:lnTo>
                  <a:pt x="2634" y="1092"/>
                </a:lnTo>
                <a:lnTo>
                  <a:pt x="2640" y="1182"/>
                </a:lnTo>
                <a:lnTo>
                  <a:pt x="2646" y="1080"/>
                </a:lnTo>
                <a:lnTo>
                  <a:pt x="2652" y="1542"/>
                </a:lnTo>
                <a:lnTo>
                  <a:pt x="2658" y="1152"/>
                </a:lnTo>
                <a:lnTo>
                  <a:pt x="2664" y="114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819520" y="2057400"/>
            <a:ext cx="4228920" cy="3191040"/>
          </a:xfrm>
          <a:custGeom>
            <a:avLst/>
            <a:gdLst/>
            <a:ahLst/>
            <a:rect l="l" t="t" r="r" b="b"/>
            <a:pathLst>
              <a:path w="2664" h="2010">
                <a:moveTo>
                  <a:pt x="0" y="1128"/>
                </a:moveTo>
                <a:lnTo>
                  <a:pt x="6" y="1068"/>
                </a:lnTo>
                <a:lnTo>
                  <a:pt x="12" y="1026"/>
                </a:lnTo>
                <a:lnTo>
                  <a:pt x="18" y="996"/>
                </a:lnTo>
                <a:lnTo>
                  <a:pt x="24" y="972"/>
                </a:lnTo>
                <a:lnTo>
                  <a:pt x="30" y="954"/>
                </a:lnTo>
                <a:lnTo>
                  <a:pt x="36" y="948"/>
                </a:lnTo>
                <a:lnTo>
                  <a:pt x="42" y="942"/>
                </a:lnTo>
                <a:lnTo>
                  <a:pt x="48" y="942"/>
                </a:lnTo>
                <a:lnTo>
                  <a:pt x="54" y="948"/>
                </a:lnTo>
                <a:lnTo>
                  <a:pt x="60" y="960"/>
                </a:lnTo>
                <a:lnTo>
                  <a:pt x="66" y="972"/>
                </a:lnTo>
                <a:lnTo>
                  <a:pt x="72" y="996"/>
                </a:lnTo>
                <a:lnTo>
                  <a:pt x="78" y="1026"/>
                </a:lnTo>
                <a:lnTo>
                  <a:pt x="84" y="1068"/>
                </a:lnTo>
                <a:lnTo>
                  <a:pt x="90" y="1128"/>
                </a:lnTo>
                <a:lnTo>
                  <a:pt x="96" y="1224"/>
                </a:lnTo>
                <a:lnTo>
                  <a:pt x="102" y="1422"/>
                </a:lnTo>
                <a:lnTo>
                  <a:pt x="108" y="1488"/>
                </a:lnTo>
                <a:lnTo>
                  <a:pt x="114" y="1248"/>
                </a:lnTo>
                <a:lnTo>
                  <a:pt x="120" y="1140"/>
                </a:lnTo>
                <a:lnTo>
                  <a:pt x="126" y="1080"/>
                </a:lnTo>
                <a:lnTo>
                  <a:pt x="132" y="1032"/>
                </a:lnTo>
                <a:lnTo>
                  <a:pt x="138" y="1002"/>
                </a:lnTo>
                <a:lnTo>
                  <a:pt x="144" y="978"/>
                </a:lnTo>
                <a:lnTo>
                  <a:pt x="150" y="960"/>
                </a:lnTo>
                <a:lnTo>
                  <a:pt x="156" y="948"/>
                </a:lnTo>
                <a:lnTo>
                  <a:pt x="162" y="942"/>
                </a:lnTo>
                <a:lnTo>
                  <a:pt x="168" y="942"/>
                </a:lnTo>
                <a:lnTo>
                  <a:pt x="174" y="948"/>
                </a:lnTo>
                <a:lnTo>
                  <a:pt x="180" y="954"/>
                </a:lnTo>
                <a:lnTo>
                  <a:pt x="186" y="972"/>
                </a:lnTo>
                <a:lnTo>
                  <a:pt x="192" y="990"/>
                </a:lnTo>
                <a:lnTo>
                  <a:pt x="198" y="1020"/>
                </a:lnTo>
                <a:lnTo>
                  <a:pt x="204" y="1062"/>
                </a:lnTo>
                <a:lnTo>
                  <a:pt x="210" y="1122"/>
                </a:lnTo>
                <a:lnTo>
                  <a:pt x="216" y="1212"/>
                </a:lnTo>
                <a:lnTo>
                  <a:pt x="222" y="1392"/>
                </a:lnTo>
                <a:lnTo>
                  <a:pt x="228" y="1536"/>
                </a:lnTo>
                <a:lnTo>
                  <a:pt x="234" y="1260"/>
                </a:lnTo>
                <a:lnTo>
                  <a:pt x="240" y="1146"/>
                </a:lnTo>
                <a:lnTo>
                  <a:pt x="246" y="1080"/>
                </a:lnTo>
                <a:lnTo>
                  <a:pt x="252" y="1032"/>
                </a:lnTo>
                <a:lnTo>
                  <a:pt x="258" y="1002"/>
                </a:lnTo>
                <a:lnTo>
                  <a:pt x="264" y="978"/>
                </a:lnTo>
                <a:lnTo>
                  <a:pt x="270" y="960"/>
                </a:lnTo>
                <a:lnTo>
                  <a:pt x="276" y="948"/>
                </a:lnTo>
                <a:lnTo>
                  <a:pt x="282" y="942"/>
                </a:lnTo>
                <a:lnTo>
                  <a:pt x="288" y="942"/>
                </a:lnTo>
                <a:lnTo>
                  <a:pt x="294" y="948"/>
                </a:lnTo>
                <a:lnTo>
                  <a:pt x="300" y="954"/>
                </a:lnTo>
                <a:lnTo>
                  <a:pt x="306" y="972"/>
                </a:lnTo>
                <a:lnTo>
                  <a:pt x="306" y="996"/>
                </a:lnTo>
                <a:lnTo>
                  <a:pt x="312" y="1026"/>
                </a:lnTo>
                <a:lnTo>
                  <a:pt x="318" y="1068"/>
                </a:lnTo>
                <a:lnTo>
                  <a:pt x="324" y="1134"/>
                </a:lnTo>
                <a:lnTo>
                  <a:pt x="330" y="1230"/>
                </a:lnTo>
                <a:lnTo>
                  <a:pt x="336" y="1446"/>
                </a:lnTo>
                <a:lnTo>
                  <a:pt x="342" y="1452"/>
                </a:lnTo>
                <a:lnTo>
                  <a:pt x="348" y="1230"/>
                </a:lnTo>
                <a:lnTo>
                  <a:pt x="354" y="1134"/>
                </a:lnTo>
                <a:lnTo>
                  <a:pt x="360" y="1068"/>
                </a:lnTo>
                <a:lnTo>
                  <a:pt x="366" y="1026"/>
                </a:lnTo>
                <a:lnTo>
                  <a:pt x="372" y="996"/>
                </a:lnTo>
                <a:lnTo>
                  <a:pt x="378" y="972"/>
                </a:lnTo>
                <a:lnTo>
                  <a:pt x="384" y="954"/>
                </a:lnTo>
                <a:lnTo>
                  <a:pt x="390" y="948"/>
                </a:lnTo>
                <a:lnTo>
                  <a:pt x="396" y="942"/>
                </a:lnTo>
                <a:lnTo>
                  <a:pt x="402" y="942"/>
                </a:lnTo>
                <a:lnTo>
                  <a:pt x="408" y="948"/>
                </a:lnTo>
                <a:lnTo>
                  <a:pt x="414" y="960"/>
                </a:lnTo>
                <a:lnTo>
                  <a:pt x="420" y="978"/>
                </a:lnTo>
                <a:lnTo>
                  <a:pt x="426" y="1008"/>
                </a:lnTo>
                <a:lnTo>
                  <a:pt x="432" y="1044"/>
                </a:lnTo>
                <a:lnTo>
                  <a:pt x="438" y="1098"/>
                </a:lnTo>
                <a:lnTo>
                  <a:pt x="444" y="1182"/>
                </a:lnTo>
                <a:lnTo>
                  <a:pt x="450" y="1326"/>
                </a:lnTo>
                <a:lnTo>
                  <a:pt x="456" y="1746"/>
                </a:lnTo>
                <a:lnTo>
                  <a:pt x="462" y="1284"/>
                </a:lnTo>
                <a:lnTo>
                  <a:pt x="468" y="1158"/>
                </a:lnTo>
                <a:lnTo>
                  <a:pt x="474" y="1086"/>
                </a:lnTo>
                <a:lnTo>
                  <a:pt x="480" y="1032"/>
                </a:lnTo>
                <a:lnTo>
                  <a:pt x="486" y="996"/>
                </a:lnTo>
                <a:lnTo>
                  <a:pt x="492" y="972"/>
                </a:lnTo>
                <a:lnTo>
                  <a:pt x="498" y="954"/>
                </a:lnTo>
                <a:lnTo>
                  <a:pt x="504" y="948"/>
                </a:lnTo>
                <a:lnTo>
                  <a:pt x="510" y="942"/>
                </a:lnTo>
                <a:lnTo>
                  <a:pt x="516" y="942"/>
                </a:lnTo>
                <a:lnTo>
                  <a:pt x="522" y="954"/>
                </a:lnTo>
                <a:lnTo>
                  <a:pt x="528" y="966"/>
                </a:lnTo>
                <a:lnTo>
                  <a:pt x="534" y="990"/>
                </a:lnTo>
                <a:lnTo>
                  <a:pt x="540" y="1020"/>
                </a:lnTo>
                <a:lnTo>
                  <a:pt x="546" y="1068"/>
                </a:lnTo>
                <a:lnTo>
                  <a:pt x="552" y="1140"/>
                </a:lnTo>
                <a:lnTo>
                  <a:pt x="558" y="1260"/>
                </a:lnTo>
                <a:lnTo>
                  <a:pt x="564" y="1686"/>
                </a:lnTo>
                <a:lnTo>
                  <a:pt x="570" y="1314"/>
                </a:lnTo>
                <a:lnTo>
                  <a:pt x="576" y="1158"/>
                </a:lnTo>
                <a:lnTo>
                  <a:pt x="582" y="1074"/>
                </a:lnTo>
                <a:lnTo>
                  <a:pt x="588" y="1026"/>
                </a:lnTo>
                <a:lnTo>
                  <a:pt x="594" y="984"/>
                </a:lnTo>
                <a:lnTo>
                  <a:pt x="600" y="960"/>
                </a:lnTo>
                <a:lnTo>
                  <a:pt x="606" y="948"/>
                </a:lnTo>
                <a:lnTo>
                  <a:pt x="612" y="942"/>
                </a:lnTo>
                <a:lnTo>
                  <a:pt x="618" y="948"/>
                </a:lnTo>
                <a:lnTo>
                  <a:pt x="624" y="960"/>
                </a:lnTo>
                <a:lnTo>
                  <a:pt x="630" y="990"/>
                </a:lnTo>
                <a:lnTo>
                  <a:pt x="636" y="1044"/>
                </a:lnTo>
                <a:lnTo>
                  <a:pt x="642" y="1140"/>
                </a:lnTo>
                <a:lnTo>
                  <a:pt x="648" y="1470"/>
                </a:lnTo>
                <a:lnTo>
                  <a:pt x="654" y="1194"/>
                </a:lnTo>
                <a:lnTo>
                  <a:pt x="660" y="1014"/>
                </a:lnTo>
                <a:lnTo>
                  <a:pt x="666" y="912"/>
                </a:lnTo>
                <a:lnTo>
                  <a:pt x="672" y="834"/>
                </a:lnTo>
                <a:lnTo>
                  <a:pt x="678" y="780"/>
                </a:lnTo>
                <a:lnTo>
                  <a:pt x="684" y="732"/>
                </a:lnTo>
                <a:lnTo>
                  <a:pt x="690" y="690"/>
                </a:lnTo>
                <a:lnTo>
                  <a:pt x="696" y="654"/>
                </a:lnTo>
                <a:lnTo>
                  <a:pt x="702" y="624"/>
                </a:lnTo>
                <a:lnTo>
                  <a:pt x="708" y="594"/>
                </a:lnTo>
                <a:lnTo>
                  <a:pt x="714" y="570"/>
                </a:lnTo>
                <a:lnTo>
                  <a:pt x="720" y="552"/>
                </a:lnTo>
                <a:lnTo>
                  <a:pt x="726" y="528"/>
                </a:lnTo>
                <a:lnTo>
                  <a:pt x="732" y="516"/>
                </a:lnTo>
                <a:lnTo>
                  <a:pt x="738" y="498"/>
                </a:lnTo>
                <a:lnTo>
                  <a:pt x="744" y="486"/>
                </a:lnTo>
                <a:lnTo>
                  <a:pt x="750" y="474"/>
                </a:lnTo>
                <a:lnTo>
                  <a:pt x="756" y="462"/>
                </a:lnTo>
                <a:lnTo>
                  <a:pt x="762" y="456"/>
                </a:lnTo>
                <a:lnTo>
                  <a:pt x="762" y="450"/>
                </a:lnTo>
                <a:lnTo>
                  <a:pt x="768" y="444"/>
                </a:lnTo>
                <a:lnTo>
                  <a:pt x="774" y="438"/>
                </a:lnTo>
                <a:lnTo>
                  <a:pt x="780" y="432"/>
                </a:lnTo>
                <a:lnTo>
                  <a:pt x="786" y="432"/>
                </a:lnTo>
                <a:lnTo>
                  <a:pt x="792" y="426"/>
                </a:lnTo>
                <a:lnTo>
                  <a:pt x="798" y="426"/>
                </a:lnTo>
                <a:lnTo>
                  <a:pt x="804" y="426"/>
                </a:lnTo>
                <a:lnTo>
                  <a:pt x="810" y="426"/>
                </a:lnTo>
                <a:lnTo>
                  <a:pt x="816" y="426"/>
                </a:lnTo>
                <a:lnTo>
                  <a:pt x="822" y="426"/>
                </a:lnTo>
                <a:lnTo>
                  <a:pt x="828" y="426"/>
                </a:lnTo>
                <a:lnTo>
                  <a:pt x="834" y="426"/>
                </a:lnTo>
                <a:lnTo>
                  <a:pt x="840" y="432"/>
                </a:lnTo>
                <a:lnTo>
                  <a:pt x="846" y="432"/>
                </a:lnTo>
                <a:lnTo>
                  <a:pt x="852" y="432"/>
                </a:lnTo>
                <a:lnTo>
                  <a:pt x="858" y="432"/>
                </a:lnTo>
                <a:lnTo>
                  <a:pt x="864" y="432"/>
                </a:lnTo>
                <a:lnTo>
                  <a:pt x="870" y="432"/>
                </a:lnTo>
                <a:lnTo>
                  <a:pt x="876" y="426"/>
                </a:lnTo>
                <a:lnTo>
                  <a:pt x="882" y="426"/>
                </a:lnTo>
                <a:lnTo>
                  <a:pt x="888" y="420"/>
                </a:lnTo>
                <a:lnTo>
                  <a:pt x="894" y="420"/>
                </a:lnTo>
                <a:lnTo>
                  <a:pt x="900" y="414"/>
                </a:lnTo>
                <a:lnTo>
                  <a:pt x="906" y="408"/>
                </a:lnTo>
                <a:lnTo>
                  <a:pt x="912" y="402"/>
                </a:lnTo>
                <a:lnTo>
                  <a:pt x="918" y="390"/>
                </a:lnTo>
                <a:lnTo>
                  <a:pt x="924" y="384"/>
                </a:lnTo>
                <a:lnTo>
                  <a:pt x="930" y="372"/>
                </a:lnTo>
                <a:lnTo>
                  <a:pt x="936" y="366"/>
                </a:lnTo>
                <a:lnTo>
                  <a:pt x="942" y="354"/>
                </a:lnTo>
                <a:lnTo>
                  <a:pt x="948" y="348"/>
                </a:lnTo>
                <a:lnTo>
                  <a:pt x="954" y="336"/>
                </a:lnTo>
                <a:lnTo>
                  <a:pt x="960" y="330"/>
                </a:lnTo>
                <a:lnTo>
                  <a:pt x="966" y="318"/>
                </a:lnTo>
                <a:lnTo>
                  <a:pt x="972" y="312"/>
                </a:lnTo>
                <a:lnTo>
                  <a:pt x="978" y="306"/>
                </a:lnTo>
                <a:lnTo>
                  <a:pt x="984" y="294"/>
                </a:lnTo>
                <a:lnTo>
                  <a:pt x="990" y="288"/>
                </a:lnTo>
                <a:lnTo>
                  <a:pt x="996" y="282"/>
                </a:lnTo>
                <a:lnTo>
                  <a:pt x="1002" y="276"/>
                </a:lnTo>
                <a:lnTo>
                  <a:pt x="1008" y="270"/>
                </a:lnTo>
                <a:lnTo>
                  <a:pt x="1014" y="264"/>
                </a:lnTo>
                <a:lnTo>
                  <a:pt x="1020" y="258"/>
                </a:lnTo>
                <a:lnTo>
                  <a:pt x="1026" y="252"/>
                </a:lnTo>
                <a:lnTo>
                  <a:pt x="1032" y="246"/>
                </a:lnTo>
                <a:lnTo>
                  <a:pt x="1038" y="246"/>
                </a:lnTo>
                <a:lnTo>
                  <a:pt x="1044" y="240"/>
                </a:lnTo>
                <a:lnTo>
                  <a:pt x="1050" y="240"/>
                </a:lnTo>
                <a:lnTo>
                  <a:pt x="1056" y="234"/>
                </a:lnTo>
                <a:lnTo>
                  <a:pt x="1062" y="234"/>
                </a:lnTo>
                <a:lnTo>
                  <a:pt x="1068" y="228"/>
                </a:lnTo>
                <a:lnTo>
                  <a:pt x="1074" y="228"/>
                </a:lnTo>
                <a:lnTo>
                  <a:pt x="1080" y="222"/>
                </a:lnTo>
                <a:lnTo>
                  <a:pt x="1086" y="222"/>
                </a:lnTo>
                <a:lnTo>
                  <a:pt x="1092" y="222"/>
                </a:lnTo>
                <a:lnTo>
                  <a:pt x="1098" y="216"/>
                </a:lnTo>
                <a:lnTo>
                  <a:pt x="1104" y="216"/>
                </a:lnTo>
                <a:lnTo>
                  <a:pt x="1110" y="216"/>
                </a:lnTo>
                <a:lnTo>
                  <a:pt x="1116" y="210"/>
                </a:lnTo>
                <a:lnTo>
                  <a:pt x="1122" y="210"/>
                </a:lnTo>
                <a:lnTo>
                  <a:pt x="1128" y="210"/>
                </a:lnTo>
                <a:lnTo>
                  <a:pt x="1134" y="204"/>
                </a:lnTo>
                <a:lnTo>
                  <a:pt x="1140" y="204"/>
                </a:lnTo>
                <a:lnTo>
                  <a:pt x="1146" y="198"/>
                </a:lnTo>
                <a:lnTo>
                  <a:pt x="1152" y="198"/>
                </a:lnTo>
                <a:lnTo>
                  <a:pt x="1158" y="192"/>
                </a:lnTo>
                <a:lnTo>
                  <a:pt x="1164" y="192"/>
                </a:lnTo>
                <a:lnTo>
                  <a:pt x="1170" y="186"/>
                </a:lnTo>
                <a:lnTo>
                  <a:pt x="1176" y="186"/>
                </a:lnTo>
                <a:lnTo>
                  <a:pt x="1182" y="180"/>
                </a:lnTo>
                <a:lnTo>
                  <a:pt x="1188" y="174"/>
                </a:lnTo>
                <a:lnTo>
                  <a:pt x="1194" y="174"/>
                </a:lnTo>
                <a:lnTo>
                  <a:pt x="1200" y="168"/>
                </a:lnTo>
                <a:lnTo>
                  <a:pt x="1206" y="162"/>
                </a:lnTo>
                <a:lnTo>
                  <a:pt x="1212" y="162"/>
                </a:lnTo>
                <a:lnTo>
                  <a:pt x="1212" y="156"/>
                </a:lnTo>
                <a:lnTo>
                  <a:pt x="1218" y="150"/>
                </a:lnTo>
                <a:lnTo>
                  <a:pt x="1224" y="150"/>
                </a:lnTo>
                <a:lnTo>
                  <a:pt x="1230" y="144"/>
                </a:lnTo>
                <a:lnTo>
                  <a:pt x="1236" y="144"/>
                </a:lnTo>
                <a:lnTo>
                  <a:pt x="1242" y="138"/>
                </a:lnTo>
                <a:lnTo>
                  <a:pt x="1248" y="138"/>
                </a:lnTo>
                <a:lnTo>
                  <a:pt x="1254" y="132"/>
                </a:lnTo>
                <a:lnTo>
                  <a:pt x="1260" y="132"/>
                </a:lnTo>
                <a:lnTo>
                  <a:pt x="1266" y="126"/>
                </a:lnTo>
                <a:lnTo>
                  <a:pt x="1272" y="126"/>
                </a:lnTo>
                <a:lnTo>
                  <a:pt x="1278" y="120"/>
                </a:lnTo>
                <a:lnTo>
                  <a:pt x="1284" y="120"/>
                </a:lnTo>
                <a:lnTo>
                  <a:pt x="1290" y="120"/>
                </a:lnTo>
                <a:lnTo>
                  <a:pt x="1296" y="120"/>
                </a:lnTo>
                <a:lnTo>
                  <a:pt x="1302" y="114"/>
                </a:lnTo>
                <a:lnTo>
                  <a:pt x="1308" y="114"/>
                </a:lnTo>
                <a:lnTo>
                  <a:pt x="1314" y="114"/>
                </a:lnTo>
                <a:lnTo>
                  <a:pt x="1320" y="114"/>
                </a:lnTo>
                <a:lnTo>
                  <a:pt x="1326" y="114"/>
                </a:lnTo>
                <a:lnTo>
                  <a:pt x="1332" y="108"/>
                </a:lnTo>
                <a:lnTo>
                  <a:pt x="1338" y="108"/>
                </a:lnTo>
                <a:lnTo>
                  <a:pt x="1344" y="108"/>
                </a:lnTo>
                <a:lnTo>
                  <a:pt x="1350" y="108"/>
                </a:lnTo>
                <a:lnTo>
                  <a:pt x="1356" y="108"/>
                </a:lnTo>
                <a:lnTo>
                  <a:pt x="1362" y="102"/>
                </a:lnTo>
                <a:lnTo>
                  <a:pt x="1368" y="102"/>
                </a:lnTo>
                <a:lnTo>
                  <a:pt x="1374" y="102"/>
                </a:lnTo>
                <a:lnTo>
                  <a:pt x="1380" y="102"/>
                </a:lnTo>
                <a:lnTo>
                  <a:pt x="1386" y="96"/>
                </a:lnTo>
                <a:lnTo>
                  <a:pt x="1392" y="96"/>
                </a:lnTo>
                <a:lnTo>
                  <a:pt x="1398" y="96"/>
                </a:lnTo>
                <a:lnTo>
                  <a:pt x="1404" y="90"/>
                </a:lnTo>
                <a:lnTo>
                  <a:pt x="1410" y="90"/>
                </a:lnTo>
                <a:lnTo>
                  <a:pt x="1416" y="90"/>
                </a:lnTo>
                <a:lnTo>
                  <a:pt x="1422" y="84"/>
                </a:lnTo>
                <a:lnTo>
                  <a:pt x="1428" y="84"/>
                </a:lnTo>
                <a:lnTo>
                  <a:pt x="1434" y="78"/>
                </a:lnTo>
                <a:lnTo>
                  <a:pt x="1440" y="78"/>
                </a:lnTo>
                <a:lnTo>
                  <a:pt x="1446" y="72"/>
                </a:lnTo>
                <a:lnTo>
                  <a:pt x="1452" y="72"/>
                </a:lnTo>
                <a:lnTo>
                  <a:pt x="1458" y="66"/>
                </a:lnTo>
                <a:lnTo>
                  <a:pt x="1464" y="66"/>
                </a:lnTo>
                <a:lnTo>
                  <a:pt x="1470" y="66"/>
                </a:lnTo>
                <a:lnTo>
                  <a:pt x="1476" y="60"/>
                </a:lnTo>
                <a:lnTo>
                  <a:pt x="1482" y="60"/>
                </a:lnTo>
                <a:lnTo>
                  <a:pt x="1488" y="60"/>
                </a:lnTo>
                <a:lnTo>
                  <a:pt x="1494" y="54"/>
                </a:lnTo>
                <a:lnTo>
                  <a:pt x="1500" y="54"/>
                </a:lnTo>
                <a:lnTo>
                  <a:pt x="1506" y="54"/>
                </a:lnTo>
                <a:lnTo>
                  <a:pt x="1512" y="48"/>
                </a:lnTo>
                <a:lnTo>
                  <a:pt x="1518" y="48"/>
                </a:lnTo>
                <a:lnTo>
                  <a:pt x="1524" y="48"/>
                </a:lnTo>
                <a:lnTo>
                  <a:pt x="1530" y="48"/>
                </a:lnTo>
                <a:lnTo>
                  <a:pt x="1536" y="48"/>
                </a:lnTo>
                <a:lnTo>
                  <a:pt x="1542" y="42"/>
                </a:lnTo>
                <a:lnTo>
                  <a:pt x="1548" y="42"/>
                </a:lnTo>
                <a:lnTo>
                  <a:pt x="1554" y="42"/>
                </a:lnTo>
                <a:lnTo>
                  <a:pt x="1560" y="42"/>
                </a:lnTo>
                <a:lnTo>
                  <a:pt x="1566" y="42"/>
                </a:lnTo>
                <a:lnTo>
                  <a:pt x="1572" y="42"/>
                </a:lnTo>
                <a:lnTo>
                  <a:pt x="1578" y="42"/>
                </a:lnTo>
                <a:lnTo>
                  <a:pt x="1584" y="42"/>
                </a:lnTo>
                <a:lnTo>
                  <a:pt x="1590" y="42"/>
                </a:lnTo>
                <a:lnTo>
                  <a:pt x="1596" y="36"/>
                </a:lnTo>
                <a:lnTo>
                  <a:pt x="1602" y="36"/>
                </a:lnTo>
                <a:lnTo>
                  <a:pt x="1608" y="36"/>
                </a:lnTo>
                <a:lnTo>
                  <a:pt x="1614" y="36"/>
                </a:lnTo>
                <a:lnTo>
                  <a:pt x="1620" y="36"/>
                </a:lnTo>
                <a:lnTo>
                  <a:pt x="1626" y="30"/>
                </a:lnTo>
                <a:lnTo>
                  <a:pt x="1632" y="30"/>
                </a:lnTo>
                <a:lnTo>
                  <a:pt x="1638" y="30"/>
                </a:lnTo>
                <a:lnTo>
                  <a:pt x="1644" y="24"/>
                </a:lnTo>
                <a:lnTo>
                  <a:pt x="1650" y="24"/>
                </a:lnTo>
                <a:lnTo>
                  <a:pt x="1656" y="24"/>
                </a:lnTo>
                <a:lnTo>
                  <a:pt x="1662" y="18"/>
                </a:lnTo>
                <a:lnTo>
                  <a:pt x="1668" y="18"/>
                </a:lnTo>
                <a:lnTo>
                  <a:pt x="1674" y="12"/>
                </a:lnTo>
                <a:lnTo>
                  <a:pt x="1680" y="12"/>
                </a:lnTo>
                <a:lnTo>
                  <a:pt x="1686" y="12"/>
                </a:lnTo>
                <a:lnTo>
                  <a:pt x="1692" y="6"/>
                </a:lnTo>
                <a:lnTo>
                  <a:pt x="1698" y="6"/>
                </a:lnTo>
                <a:lnTo>
                  <a:pt x="1704" y="6"/>
                </a:lnTo>
                <a:lnTo>
                  <a:pt x="1710" y="6"/>
                </a:lnTo>
                <a:lnTo>
                  <a:pt x="1716" y="0"/>
                </a:lnTo>
                <a:lnTo>
                  <a:pt x="1722" y="0"/>
                </a:lnTo>
                <a:lnTo>
                  <a:pt x="1728" y="0"/>
                </a:lnTo>
                <a:lnTo>
                  <a:pt x="1734" y="0"/>
                </a:lnTo>
                <a:lnTo>
                  <a:pt x="1740" y="0"/>
                </a:lnTo>
                <a:lnTo>
                  <a:pt x="1746" y="6"/>
                </a:lnTo>
                <a:lnTo>
                  <a:pt x="1752" y="6"/>
                </a:lnTo>
                <a:lnTo>
                  <a:pt x="1758" y="6"/>
                </a:lnTo>
                <a:lnTo>
                  <a:pt x="1764" y="12"/>
                </a:lnTo>
                <a:lnTo>
                  <a:pt x="1770" y="12"/>
                </a:lnTo>
                <a:lnTo>
                  <a:pt x="1776" y="18"/>
                </a:lnTo>
                <a:lnTo>
                  <a:pt x="1782" y="18"/>
                </a:lnTo>
                <a:lnTo>
                  <a:pt x="1788" y="24"/>
                </a:lnTo>
                <a:lnTo>
                  <a:pt x="1794" y="30"/>
                </a:lnTo>
                <a:lnTo>
                  <a:pt x="1800" y="36"/>
                </a:lnTo>
                <a:lnTo>
                  <a:pt x="1806" y="42"/>
                </a:lnTo>
                <a:lnTo>
                  <a:pt x="1812" y="54"/>
                </a:lnTo>
                <a:lnTo>
                  <a:pt x="1818" y="60"/>
                </a:lnTo>
                <a:lnTo>
                  <a:pt x="1824" y="72"/>
                </a:lnTo>
                <a:lnTo>
                  <a:pt x="1830" y="84"/>
                </a:lnTo>
                <a:lnTo>
                  <a:pt x="1836" y="90"/>
                </a:lnTo>
                <a:lnTo>
                  <a:pt x="1842" y="102"/>
                </a:lnTo>
                <a:lnTo>
                  <a:pt x="1848" y="120"/>
                </a:lnTo>
                <a:lnTo>
                  <a:pt x="1854" y="132"/>
                </a:lnTo>
                <a:lnTo>
                  <a:pt x="1860" y="150"/>
                </a:lnTo>
                <a:lnTo>
                  <a:pt x="1866" y="162"/>
                </a:lnTo>
                <a:lnTo>
                  <a:pt x="1872" y="180"/>
                </a:lnTo>
                <a:lnTo>
                  <a:pt x="1878" y="204"/>
                </a:lnTo>
                <a:lnTo>
                  <a:pt x="1884" y="222"/>
                </a:lnTo>
                <a:lnTo>
                  <a:pt x="1890" y="246"/>
                </a:lnTo>
                <a:lnTo>
                  <a:pt x="1896" y="270"/>
                </a:lnTo>
                <a:lnTo>
                  <a:pt x="1902" y="294"/>
                </a:lnTo>
                <a:lnTo>
                  <a:pt x="1908" y="318"/>
                </a:lnTo>
                <a:lnTo>
                  <a:pt x="1914" y="348"/>
                </a:lnTo>
                <a:lnTo>
                  <a:pt x="1920" y="384"/>
                </a:lnTo>
                <a:lnTo>
                  <a:pt x="1926" y="420"/>
                </a:lnTo>
                <a:lnTo>
                  <a:pt x="1932" y="456"/>
                </a:lnTo>
                <a:lnTo>
                  <a:pt x="1938" y="498"/>
                </a:lnTo>
                <a:lnTo>
                  <a:pt x="1944" y="546"/>
                </a:lnTo>
                <a:lnTo>
                  <a:pt x="1950" y="600"/>
                </a:lnTo>
                <a:lnTo>
                  <a:pt x="1956" y="660"/>
                </a:lnTo>
                <a:lnTo>
                  <a:pt x="1962" y="738"/>
                </a:lnTo>
                <a:lnTo>
                  <a:pt x="1968" y="834"/>
                </a:lnTo>
                <a:lnTo>
                  <a:pt x="1974" y="966"/>
                </a:lnTo>
                <a:lnTo>
                  <a:pt x="1980" y="1260"/>
                </a:lnTo>
                <a:lnTo>
                  <a:pt x="1986" y="1188"/>
                </a:lnTo>
                <a:lnTo>
                  <a:pt x="1992" y="1026"/>
                </a:lnTo>
                <a:lnTo>
                  <a:pt x="1998" y="966"/>
                </a:lnTo>
                <a:lnTo>
                  <a:pt x="2004" y="942"/>
                </a:lnTo>
                <a:lnTo>
                  <a:pt x="2010" y="942"/>
                </a:lnTo>
                <a:lnTo>
                  <a:pt x="2016" y="954"/>
                </a:lnTo>
                <a:lnTo>
                  <a:pt x="2022" y="984"/>
                </a:lnTo>
                <a:lnTo>
                  <a:pt x="2028" y="1032"/>
                </a:lnTo>
                <a:lnTo>
                  <a:pt x="2034" y="1110"/>
                </a:lnTo>
                <a:lnTo>
                  <a:pt x="2040" y="1254"/>
                </a:lnTo>
                <a:lnTo>
                  <a:pt x="2046" y="1794"/>
                </a:lnTo>
                <a:lnTo>
                  <a:pt x="2052" y="1230"/>
                </a:lnTo>
                <a:lnTo>
                  <a:pt x="2058" y="1110"/>
                </a:lnTo>
                <a:lnTo>
                  <a:pt x="2064" y="1038"/>
                </a:lnTo>
                <a:lnTo>
                  <a:pt x="2070" y="996"/>
                </a:lnTo>
                <a:lnTo>
                  <a:pt x="2076" y="966"/>
                </a:lnTo>
                <a:lnTo>
                  <a:pt x="2082" y="948"/>
                </a:lnTo>
                <a:lnTo>
                  <a:pt x="2088" y="942"/>
                </a:lnTo>
                <a:lnTo>
                  <a:pt x="2094" y="942"/>
                </a:lnTo>
                <a:lnTo>
                  <a:pt x="2100" y="948"/>
                </a:lnTo>
                <a:lnTo>
                  <a:pt x="2106" y="966"/>
                </a:lnTo>
                <a:lnTo>
                  <a:pt x="2112" y="990"/>
                </a:lnTo>
                <a:lnTo>
                  <a:pt x="2118" y="1026"/>
                </a:lnTo>
                <a:lnTo>
                  <a:pt x="2124" y="1080"/>
                </a:lnTo>
                <a:lnTo>
                  <a:pt x="2124" y="1164"/>
                </a:lnTo>
                <a:lnTo>
                  <a:pt x="2130" y="1314"/>
                </a:lnTo>
                <a:lnTo>
                  <a:pt x="2136" y="1674"/>
                </a:lnTo>
                <a:lnTo>
                  <a:pt x="2142" y="1260"/>
                </a:lnTo>
                <a:lnTo>
                  <a:pt x="2148" y="1140"/>
                </a:lnTo>
                <a:lnTo>
                  <a:pt x="2154" y="1068"/>
                </a:lnTo>
                <a:lnTo>
                  <a:pt x="2160" y="1020"/>
                </a:lnTo>
                <a:lnTo>
                  <a:pt x="2166" y="990"/>
                </a:lnTo>
                <a:lnTo>
                  <a:pt x="2172" y="966"/>
                </a:lnTo>
                <a:lnTo>
                  <a:pt x="2178" y="954"/>
                </a:lnTo>
                <a:lnTo>
                  <a:pt x="2184" y="942"/>
                </a:lnTo>
                <a:lnTo>
                  <a:pt x="2190" y="942"/>
                </a:lnTo>
                <a:lnTo>
                  <a:pt x="2196" y="948"/>
                </a:lnTo>
                <a:lnTo>
                  <a:pt x="2202" y="960"/>
                </a:lnTo>
                <a:lnTo>
                  <a:pt x="2208" y="978"/>
                </a:lnTo>
                <a:lnTo>
                  <a:pt x="2214" y="1002"/>
                </a:lnTo>
                <a:lnTo>
                  <a:pt x="2220" y="1038"/>
                </a:lnTo>
                <a:lnTo>
                  <a:pt x="2226" y="1092"/>
                </a:lnTo>
                <a:lnTo>
                  <a:pt x="2232" y="1170"/>
                </a:lnTo>
                <a:lnTo>
                  <a:pt x="2238" y="1320"/>
                </a:lnTo>
                <a:lnTo>
                  <a:pt x="2244" y="1794"/>
                </a:lnTo>
                <a:lnTo>
                  <a:pt x="2250" y="1284"/>
                </a:lnTo>
                <a:lnTo>
                  <a:pt x="2256" y="1158"/>
                </a:lnTo>
                <a:lnTo>
                  <a:pt x="2262" y="1086"/>
                </a:lnTo>
                <a:lnTo>
                  <a:pt x="2268" y="1032"/>
                </a:lnTo>
                <a:lnTo>
                  <a:pt x="2274" y="1002"/>
                </a:lnTo>
                <a:lnTo>
                  <a:pt x="2280" y="972"/>
                </a:lnTo>
                <a:lnTo>
                  <a:pt x="2286" y="960"/>
                </a:lnTo>
                <a:lnTo>
                  <a:pt x="2292" y="948"/>
                </a:lnTo>
                <a:lnTo>
                  <a:pt x="2298" y="942"/>
                </a:lnTo>
                <a:lnTo>
                  <a:pt x="2304" y="942"/>
                </a:lnTo>
                <a:lnTo>
                  <a:pt x="2310" y="948"/>
                </a:lnTo>
                <a:lnTo>
                  <a:pt x="2316" y="960"/>
                </a:lnTo>
                <a:lnTo>
                  <a:pt x="2322" y="978"/>
                </a:lnTo>
                <a:lnTo>
                  <a:pt x="2328" y="1008"/>
                </a:lnTo>
                <a:lnTo>
                  <a:pt x="2334" y="1044"/>
                </a:lnTo>
                <a:lnTo>
                  <a:pt x="2340" y="1098"/>
                </a:lnTo>
                <a:lnTo>
                  <a:pt x="2346" y="1176"/>
                </a:lnTo>
                <a:lnTo>
                  <a:pt x="2352" y="1314"/>
                </a:lnTo>
                <a:lnTo>
                  <a:pt x="2358" y="2010"/>
                </a:lnTo>
                <a:lnTo>
                  <a:pt x="2364" y="1302"/>
                </a:lnTo>
                <a:lnTo>
                  <a:pt x="2370" y="1170"/>
                </a:lnTo>
                <a:lnTo>
                  <a:pt x="2376" y="1092"/>
                </a:lnTo>
                <a:lnTo>
                  <a:pt x="2382" y="1044"/>
                </a:lnTo>
                <a:lnTo>
                  <a:pt x="2388" y="1008"/>
                </a:lnTo>
                <a:lnTo>
                  <a:pt x="2394" y="978"/>
                </a:lnTo>
                <a:lnTo>
                  <a:pt x="2400" y="960"/>
                </a:lnTo>
                <a:lnTo>
                  <a:pt x="2406" y="948"/>
                </a:lnTo>
                <a:lnTo>
                  <a:pt x="2412" y="942"/>
                </a:lnTo>
                <a:lnTo>
                  <a:pt x="2418" y="942"/>
                </a:lnTo>
                <a:lnTo>
                  <a:pt x="2424" y="948"/>
                </a:lnTo>
                <a:lnTo>
                  <a:pt x="2430" y="954"/>
                </a:lnTo>
                <a:lnTo>
                  <a:pt x="2436" y="972"/>
                </a:lnTo>
                <a:lnTo>
                  <a:pt x="2442" y="996"/>
                </a:lnTo>
                <a:lnTo>
                  <a:pt x="2448" y="1026"/>
                </a:lnTo>
                <a:lnTo>
                  <a:pt x="2454" y="1068"/>
                </a:lnTo>
                <a:lnTo>
                  <a:pt x="2460" y="1134"/>
                </a:lnTo>
                <a:lnTo>
                  <a:pt x="2466" y="1230"/>
                </a:lnTo>
                <a:lnTo>
                  <a:pt x="2472" y="1446"/>
                </a:lnTo>
                <a:lnTo>
                  <a:pt x="2478" y="1452"/>
                </a:lnTo>
                <a:lnTo>
                  <a:pt x="2484" y="1230"/>
                </a:lnTo>
                <a:lnTo>
                  <a:pt x="2490" y="1134"/>
                </a:lnTo>
                <a:lnTo>
                  <a:pt x="2496" y="1068"/>
                </a:lnTo>
                <a:lnTo>
                  <a:pt x="2502" y="1026"/>
                </a:lnTo>
                <a:lnTo>
                  <a:pt x="2508" y="996"/>
                </a:lnTo>
                <a:lnTo>
                  <a:pt x="2514" y="972"/>
                </a:lnTo>
                <a:lnTo>
                  <a:pt x="2520" y="954"/>
                </a:lnTo>
                <a:lnTo>
                  <a:pt x="2526" y="948"/>
                </a:lnTo>
                <a:lnTo>
                  <a:pt x="2532" y="942"/>
                </a:lnTo>
                <a:lnTo>
                  <a:pt x="2538" y="942"/>
                </a:lnTo>
                <a:lnTo>
                  <a:pt x="2544" y="948"/>
                </a:lnTo>
                <a:lnTo>
                  <a:pt x="2550" y="960"/>
                </a:lnTo>
                <a:lnTo>
                  <a:pt x="2556" y="978"/>
                </a:lnTo>
                <a:lnTo>
                  <a:pt x="2562" y="1002"/>
                </a:lnTo>
                <a:lnTo>
                  <a:pt x="2568" y="1032"/>
                </a:lnTo>
                <a:lnTo>
                  <a:pt x="2574" y="1080"/>
                </a:lnTo>
                <a:lnTo>
                  <a:pt x="2574" y="1146"/>
                </a:lnTo>
                <a:lnTo>
                  <a:pt x="2580" y="1254"/>
                </a:lnTo>
                <a:lnTo>
                  <a:pt x="2586" y="1518"/>
                </a:lnTo>
                <a:lnTo>
                  <a:pt x="2592" y="1404"/>
                </a:lnTo>
                <a:lnTo>
                  <a:pt x="2598" y="1218"/>
                </a:lnTo>
                <a:lnTo>
                  <a:pt x="2604" y="1122"/>
                </a:lnTo>
                <a:lnTo>
                  <a:pt x="2610" y="1062"/>
                </a:lnTo>
                <a:lnTo>
                  <a:pt x="2616" y="1026"/>
                </a:lnTo>
                <a:lnTo>
                  <a:pt x="2622" y="990"/>
                </a:lnTo>
                <a:lnTo>
                  <a:pt x="2628" y="972"/>
                </a:lnTo>
                <a:lnTo>
                  <a:pt x="2634" y="954"/>
                </a:lnTo>
                <a:lnTo>
                  <a:pt x="2640" y="948"/>
                </a:lnTo>
                <a:lnTo>
                  <a:pt x="2646" y="942"/>
                </a:lnTo>
                <a:lnTo>
                  <a:pt x="2652" y="942"/>
                </a:lnTo>
                <a:lnTo>
                  <a:pt x="2658" y="948"/>
                </a:lnTo>
                <a:lnTo>
                  <a:pt x="2664" y="96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8FE425C-86E4-4AF3-9227-8D73B0862A35}"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vered bit stream</a:t>
            </a:r>
            <a:endParaRPr b="0" lang="en-US" sz="3600" spc="-1" strike="noStrike">
              <a:solidFill>
                <a:srgbClr val="000000"/>
              </a:solidFill>
              <a:latin typeface="Times New Roman"/>
            </a:endParaRPr>
          </a:p>
        </p:txBody>
      </p:sp>
      <p:sp>
        <p:nvSpPr>
          <p:cNvPr id="184" name=""/>
          <p:cNvSpPr/>
          <p:nvPr/>
        </p:nvSpPr>
        <p:spPr>
          <a:xfrm>
            <a:off x="1251000" y="1789200"/>
            <a:ext cx="1440" cy="1440"/>
          </a:xfrm>
          <a:prstGeom prst="rect">
            <a:avLst/>
          </a:pr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V="1">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1210320" y="1789200"/>
            <a:ext cx="860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0</a:t>
            </a:r>
            <a:endParaRPr b="0" lang="en-US" sz="0" spc="-1" strike="noStrike">
              <a:solidFill>
                <a:srgbClr val="000000"/>
              </a:solidFill>
              <a:latin typeface="Times New Roman"/>
            </a:endParaRPr>
          </a:p>
        </p:txBody>
      </p:sp>
      <p:sp>
        <p:nvSpPr>
          <p:cNvPr id="197" name=""/>
          <p:cNvSpPr/>
          <p:nvPr/>
        </p:nvSpPr>
        <p:spPr>
          <a:xfrm flipV="1">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112500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100</a:t>
            </a:r>
            <a:endParaRPr b="0" lang="en-US" sz="0" spc="-1" strike="noStrike">
              <a:solidFill>
                <a:srgbClr val="000000"/>
              </a:solidFill>
              <a:latin typeface="Times New Roman"/>
            </a:endParaRPr>
          </a:p>
        </p:txBody>
      </p:sp>
      <p:sp>
        <p:nvSpPr>
          <p:cNvPr id="200" name=""/>
          <p:cNvSpPr/>
          <p:nvPr/>
        </p:nvSpPr>
        <p:spPr>
          <a:xfrm flipV="1">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12500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200</a:t>
            </a:r>
            <a:endParaRPr b="0" lang="en-US" sz="0" spc="-1" strike="noStrike">
              <a:solidFill>
                <a:srgbClr val="000000"/>
              </a:solidFill>
              <a:latin typeface="Times New Roman"/>
            </a:endParaRPr>
          </a:p>
        </p:txBody>
      </p:sp>
      <p:sp>
        <p:nvSpPr>
          <p:cNvPr id="203" name=""/>
          <p:cNvSpPr/>
          <p:nvPr/>
        </p:nvSpPr>
        <p:spPr>
          <a:xfrm flipV="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112500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300</a:t>
            </a:r>
            <a:endParaRPr b="0" lang="en-US" sz="0" spc="-1" strike="noStrike">
              <a:solidFill>
                <a:srgbClr val="000000"/>
              </a:solidFill>
              <a:latin typeface="Times New Roman"/>
            </a:endParaRPr>
          </a:p>
        </p:txBody>
      </p:sp>
      <p:sp>
        <p:nvSpPr>
          <p:cNvPr id="206" name=""/>
          <p:cNvSpPr/>
          <p:nvPr/>
        </p:nvSpPr>
        <p:spPr>
          <a:xfrm flipV="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12356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400</a:t>
            </a:r>
            <a:endParaRPr b="0" lang="en-US" sz="0" spc="-1" strike="noStrike">
              <a:solidFill>
                <a:srgbClr val="000000"/>
              </a:solidFill>
              <a:latin typeface="Times New Roman"/>
            </a:endParaRPr>
          </a:p>
        </p:txBody>
      </p:sp>
      <p:sp>
        <p:nvSpPr>
          <p:cNvPr id="209" name=""/>
          <p:cNvSpPr/>
          <p:nvPr/>
        </p:nvSpPr>
        <p:spPr>
          <a:xfrm flipV="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12356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500</a:t>
            </a:r>
            <a:endParaRPr b="0" lang="en-US" sz="0" spc="-1" strike="noStrike">
              <a:solidFill>
                <a:srgbClr val="000000"/>
              </a:solidFill>
              <a:latin typeface="Times New Roman"/>
            </a:endParaRPr>
          </a:p>
        </p:txBody>
      </p:sp>
      <p:sp>
        <p:nvSpPr>
          <p:cNvPr id="212" name=""/>
          <p:cNvSpPr/>
          <p:nvPr/>
        </p:nvSpPr>
        <p:spPr>
          <a:xfrm flipV="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123560" y="1789200"/>
            <a:ext cx="2566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600</a:t>
            </a:r>
            <a:endParaRPr b="0" lang="en-US" sz="0" spc="-1" strike="noStrike">
              <a:solidFill>
                <a:srgbClr val="000000"/>
              </a:solidFill>
              <a:latin typeface="Times New Roman"/>
            </a:endParaRPr>
          </a:p>
        </p:txBody>
      </p:sp>
      <p:sp>
        <p:nvSpPr>
          <p:cNvPr id="215"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185120" y="1789200"/>
            <a:ext cx="1364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6</a:t>
            </a:r>
            <a:endParaRPr b="0" lang="en-US" sz="0" spc="-1" strike="noStrike">
              <a:solidFill>
                <a:srgbClr val="000000"/>
              </a:solidFill>
              <a:latin typeface="Times New Roman"/>
            </a:endParaRPr>
          </a:p>
        </p:txBody>
      </p:sp>
      <p:sp>
        <p:nvSpPr>
          <p:cNvPr id="218"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1185120" y="1789200"/>
            <a:ext cx="1364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4</a:t>
            </a:r>
            <a:endParaRPr b="0" lang="en-US" sz="0" spc="-1" strike="noStrike">
              <a:solidFill>
                <a:srgbClr val="000000"/>
              </a:solidFill>
              <a:latin typeface="Times New Roman"/>
            </a:endParaRPr>
          </a:p>
        </p:txBody>
      </p:sp>
      <p:sp>
        <p:nvSpPr>
          <p:cNvPr id="221"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185120" y="1789200"/>
            <a:ext cx="1364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2</a:t>
            </a:r>
            <a:endParaRPr b="0" lang="en-US" sz="0" spc="-1" strike="noStrike">
              <a:solidFill>
                <a:srgbClr val="000000"/>
              </a:solidFill>
              <a:latin typeface="Times New Roman"/>
            </a:endParaRPr>
          </a:p>
        </p:txBody>
      </p:sp>
      <p:sp>
        <p:nvSpPr>
          <p:cNvPr id="224"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1210320" y="1790640"/>
            <a:ext cx="860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0</a:t>
            </a:r>
            <a:endParaRPr b="0" lang="en-US" sz="0" spc="-1" strike="noStrike">
              <a:solidFill>
                <a:srgbClr val="000000"/>
              </a:solidFill>
              <a:latin typeface="Times New Roman"/>
            </a:endParaRPr>
          </a:p>
        </p:txBody>
      </p:sp>
      <p:sp>
        <p:nvSpPr>
          <p:cNvPr id="227"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210320" y="1790640"/>
            <a:ext cx="860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2</a:t>
            </a:r>
            <a:endParaRPr b="0" lang="en-US" sz="0" spc="-1" strike="noStrike">
              <a:solidFill>
                <a:srgbClr val="000000"/>
              </a:solidFill>
              <a:latin typeface="Times New Roman"/>
            </a:endParaRPr>
          </a:p>
        </p:txBody>
      </p:sp>
      <p:sp>
        <p:nvSpPr>
          <p:cNvPr id="230"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1210320" y="1790640"/>
            <a:ext cx="860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4</a:t>
            </a:r>
            <a:endParaRPr b="0" lang="en-US" sz="0" spc="-1" strike="noStrike">
              <a:solidFill>
                <a:srgbClr val="000000"/>
              </a:solidFill>
              <a:latin typeface="Times New Roman"/>
            </a:endParaRPr>
          </a:p>
        </p:txBody>
      </p:sp>
      <p:sp>
        <p:nvSpPr>
          <p:cNvPr id="233" name=""/>
          <p:cNvSpPr/>
          <p:nvPr/>
        </p:nvSpPr>
        <p:spPr>
          <a:xfrm>
            <a:off x="1252440" y="1790640"/>
            <a:ext cx="180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1210320" y="1790640"/>
            <a:ext cx="8604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130000"/>
                </a:solidFill>
                <a:latin typeface="Arial"/>
              </a:rPr>
              <a:t>6</a:t>
            </a:r>
            <a:endParaRPr b="0" lang="en-US" sz="0" spc="-1" strike="noStrike">
              <a:solidFill>
                <a:srgbClr val="000000"/>
              </a:solidFill>
              <a:latin typeface="Times New Roman"/>
            </a:endParaRPr>
          </a:p>
        </p:txBody>
      </p:sp>
      <p:sp>
        <p:nvSpPr>
          <p:cNvPr id="236" name=""/>
          <p:cNvSpPr/>
          <p:nvPr/>
        </p:nvSpPr>
        <p:spPr>
          <a:xfrm flipH="1">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flipH="1">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251000" y="1789200"/>
            <a:ext cx="144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1252440" y="1789200"/>
            <a:ext cx="1800" cy="1440"/>
          </a:xfrm>
          <a:prstGeom prst="line">
            <a:avLst/>
          </a:prstGeom>
          <a:ln w="0">
            <a:solidFill>
              <a:srgbClr val="13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1251000" y="1790640"/>
            <a:ext cx="1440" cy="1800"/>
          </a:xfrm>
          <a:prstGeom prst="line">
            <a:avLst/>
          </a:prstGeom>
          <a:ln w="0">
            <a:solidFill>
              <a:srgbClr val="13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251000" y="1789200"/>
            <a:ext cx="1440" cy="1440"/>
          </a:xfrm>
          <a:custGeom>
            <a:avLst/>
            <a:gdLst/>
            <a:ahLst/>
            <a:rect l="l" t="t" r="r" b="b"/>
            <a:pathLst>
              <a:path w="450" h="192">
                <a:moveTo>
                  <a:pt x="450" y="162"/>
                </a:moveTo>
                <a:lnTo>
                  <a:pt x="449" y="157"/>
                </a:lnTo>
                <a:lnTo>
                  <a:pt x="448" y="171"/>
                </a:lnTo>
                <a:lnTo>
                  <a:pt x="447" y="160"/>
                </a:lnTo>
                <a:lnTo>
                  <a:pt x="447" y="172"/>
                </a:lnTo>
                <a:lnTo>
                  <a:pt x="446" y="170"/>
                </a:lnTo>
                <a:lnTo>
                  <a:pt x="445" y="171"/>
                </a:lnTo>
                <a:lnTo>
                  <a:pt x="444" y="181"/>
                </a:lnTo>
                <a:lnTo>
                  <a:pt x="443" y="167"/>
                </a:lnTo>
                <a:lnTo>
                  <a:pt x="442" y="179"/>
                </a:lnTo>
                <a:lnTo>
                  <a:pt x="441" y="164"/>
                </a:lnTo>
                <a:lnTo>
                  <a:pt x="440" y="166"/>
                </a:lnTo>
                <a:lnTo>
                  <a:pt x="439" y="166"/>
                </a:lnTo>
                <a:lnTo>
                  <a:pt x="438" y="157"/>
                </a:lnTo>
                <a:lnTo>
                  <a:pt x="438" y="169"/>
                </a:lnTo>
                <a:lnTo>
                  <a:pt x="437" y="157"/>
                </a:lnTo>
                <a:lnTo>
                  <a:pt x="436" y="167"/>
                </a:lnTo>
                <a:lnTo>
                  <a:pt x="435" y="167"/>
                </a:lnTo>
                <a:lnTo>
                  <a:pt x="434" y="166"/>
                </a:lnTo>
                <a:lnTo>
                  <a:pt x="433" y="177"/>
                </a:lnTo>
                <a:lnTo>
                  <a:pt x="432" y="163"/>
                </a:lnTo>
                <a:lnTo>
                  <a:pt x="431" y="173"/>
                </a:lnTo>
                <a:lnTo>
                  <a:pt x="430" y="160"/>
                </a:lnTo>
                <a:lnTo>
                  <a:pt x="429" y="156"/>
                </a:lnTo>
                <a:lnTo>
                  <a:pt x="429" y="157"/>
                </a:lnTo>
                <a:lnTo>
                  <a:pt x="428" y="141"/>
                </a:lnTo>
                <a:lnTo>
                  <a:pt x="427" y="149"/>
                </a:lnTo>
                <a:lnTo>
                  <a:pt x="426" y="135"/>
                </a:lnTo>
                <a:lnTo>
                  <a:pt x="425" y="137"/>
                </a:lnTo>
                <a:lnTo>
                  <a:pt x="424" y="138"/>
                </a:lnTo>
                <a:lnTo>
                  <a:pt x="423" y="129"/>
                </a:lnTo>
                <a:lnTo>
                  <a:pt x="422" y="138"/>
                </a:lnTo>
                <a:lnTo>
                  <a:pt x="421" y="125"/>
                </a:lnTo>
                <a:lnTo>
                  <a:pt x="420" y="126"/>
                </a:lnTo>
                <a:lnTo>
                  <a:pt x="420" y="122"/>
                </a:lnTo>
                <a:lnTo>
                  <a:pt x="419" y="111"/>
                </a:lnTo>
                <a:lnTo>
                  <a:pt x="418" y="113"/>
                </a:lnTo>
                <a:lnTo>
                  <a:pt x="417" y="97"/>
                </a:lnTo>
                <a:lnTo>
                  <a:pt x="416" y="96"/>
                </a:lnTo>
                <a:lnTo>
                  <a:pt x="415" y="89"/>
                </a:lnTo>
                <a:lnTo>
                  <a:pt x="414" y="77"/>
                </a:lnTo>
                <a:lnTo>
                  <a:pt x="413" y="77"/>
                </a:lnTo>
                <a:lnTo>
                  <a:pt x="412" y="63"/>
                </a:lnTo>
                <a:lnTo>
                  <a:pt x="411" y="58"/>
                </a:lnTo>
                <a:lnTo>
                  <a:pt x="411" y="51"/>
                </a:lnTo>
                <a:lnTo>
                  <a:pt x="410" y="37"/>
                </a:lnTo>
                <a:lnTo>
                  <a:pt x="409" y="34"/>
                </a:lnTo>
                <a:lnTo>
                  <a:pt x="408" y="22"/>
                </a:lnTo>
                <a:lnTo>
                  <a:pt x="407" y="14"/>
                </a:lnTo>
                <a:lnTo>
                  <a:pt x="406" y="12"/>
                </a:lnTo>
                <a:lnTo>
                  <a:pt x="405" y="3"/>
                </a:lnTo>
                <a:lnTo>
                  <a:pt x="404" y="5"/>
                </a:lnTo>
                <a:lnTo>
                  <a:pt x="403" y="4"/>
                </a:lnTo>
                <a:lnTo>
                  <a:pt x="402" y="0"/>
                </a:lnTo>
                <a:lnTo>
                  <a:pt x="402" y="7"/>
                </a:lnTo>
                <a:lnTo>
                  <a:pt x="401" y="5"/>
                </a:lnTo>
                <a:lnTo>
                  <a:pt x="400" y="10"/>
                </a:lnTo>
                <a:lnTo>
                  <a:pt x="399" y="17"/>
                </a:lnTo>
                <a:lnTo>
                  <a:pt x="398" y="14"/>
                </a:lnTo>
                <a:lnTo>
                  <a:pt x="397" y="26"/>
                </a:lnTo>
                <a:lnTo>
                  <a:pt x="396" y="26"/>
                </a:lnTo>
                <a:lnTo>
                  <a:pt x="395" y="32"/>
                </a:lnTo>
                <a:lnTo>
                  <a:pt x="394" y="44"/>
                </a:lnTo>
                <a:lnTo>
                  <a:pt x="394" y="43"/>
                </a:lnTo>
                <a:lnTo>
                  <a:pt x="393" y="59"/>
                </a:lnTo>
                <a:lnTo>
                  <a:pt x="392" y="61"/>
                </a:lnTo>
                <a:lnTo>
                  <a:pt x="391" y="69"/>
                </a:lnTo>
                <a:lnTo>
                  <a:pt x="390" y="83"/>
                </a:lnTo>
                <a:lnTo>
                  <a:pt x="389" y="80"/>
                </a:lnTo>
                <a:lnTo>
                  <a:pt x="388" y="98"/>
                </a:lnTo>
                <a:lnTo>
                  <a:pt x="387" y="95"/>
                </a:lnTo>
                <a:lnTo>
                  <a:pt x="386" y="102"/>
                </a:lnTo>
                <a:lnTo>
                  <a:pt x="385" y="112"/>
                </a:lnTo>
                <a:lnTo>
                  <a:pt x="385" y="107"/>
                </a:lnTo>
                <a:lnTo>
                  <a:pt x="384" y="122"/>
                </a:lnTo>
                <a:lnTo>
                  <a:pt x="383" y="116"/>
                </a:lnTo>
                <a:lnTo>
                  <a:pt x="382" y="126"/>
                </a:lnTo>
                <a:lnTo>
                  <a:pt x="381" y="132"/>
                </a:lnTo>
                <a:lnTo>
                  <a:pt x="380" y="131"/>
                </a:lnTo>
                <a:lnTo>
                  <a:pt x="379" y="147"/>
                </a:lnTo>
                <a:lnTo>
                  <a:pt x="378" y="139"/>
                </a:lnTo>
                <a:lnTo>
                  <a:pt x="377" y="151"/>
                </a:lnTo>
                <a:lnTo>
                  <a:pt x="376" y="149"/>
                </a:lnTo>
                <a:lnTo>
                  <a:pt x="375" y="158"/>
                </a:lnTo>
                <a:lnTo>
                  <a:pt x="374" y="144"/>
                </a:lnTo>
                <a:lnTo>
                  <a:pt x="373" y="155"/>
                </a:lnTo>
                <a:lnTo>
                  <a:pt x="372" y="144"/>
                </a:lnTo>
                <a:lnTo>
                  <a:pt x="371" y="146"/>
                </a:lnTo>
                <a:lnTo>
                  <a:pt x="370" y="150"/>
                </a:lnTo>
                <a:lnTo>
                  <a:pt x="369" y="141"/>
                </a:lnTo>
                <a:lnTo>
                  <a:pt x="368" y="154"/>
                </a:lnTo>
                <a:lnTo>
                  <a:pt x="367" y="144"/>
                </a:lnTo>
                <a:lnTo>
                  <a:pt x="367" y="154"/>
                </a:lnTo>
                <a:lnTo>
                  <a:pt x="366" y="155"/>
                </a:lnTo>
                <a:lnTo>
                  <a:pt x="365" y="154"/>
                </a:lnTo>
                <a:lnTo>
                  <a:pt x="364" y="167"/>
                </a:lnTo>
                <a:lnTo>
                  <a:pt x="363" y="155"/>
                </a:lnTo>
                <a:lnTo>
                  <a:pt x="362" y="167"/>
                </a:lnTo>
                <a:lnTo>
                  <a:pt x="361" y="159"/>
                </a:lnTo>
                <a:lnTo>
                  <a:pt x="360" y="159"/>
                </a:lnTo>
                <a:lnTo>
                  <a:pt x="359" y="164"/>
                </a:lnTo>
                <a:lnTo>
                  <a:pt x="358" y="150"/>
                </a:lnTo>
                <a:lnTo>
                  <a:pt x="358" y="161"/>
                </a:lnTo>
                <a:lnTo>
                  <a:pt x="357" y="148"/>
                </a:lnTo>
                <a:lnTo>
                  <a:pt x="356" y="152"/>
                </a:lnTo>
                <a:lnTo>
                  <a:pt x="355" y="154"/>
                </a:lnTo>
                <a:lnTo>
                  <a:pt x="354" y="148"/>
                </a:lnTo>
                <a:lnTo>
                  <a:pt x="353" y="161"/>
                </a:lnTo>
                <a:lnTo>
                  <a:pt x="352" y="150"/>
                </a:lnTo>
                <a:lnTo>
                  <a:pt x="351" y="160"/>
                </a:lnTo>
                <a:lnTo>
                  <a:pt x="350" y="158"/>
                </a:lnTo>
                <a:lnTo>
                  <a:pt x="349" y="157"/>
                </a:lnTo>
                <a:lnTo>
                  <a:pt x="349" y="167"/>
                </a:lnTo>
                <a:lnTo>
                  <a:pt x="348" y="152"/>
                </a:lnTo>
                <a:lnTo>
                  <a:pt x="347" y="163"/>
                </a:lnTo>
                <a:lnTo>
                  <a:pt x="346" y="151"/>
                </a:lnTo>
                <a:lnTo>
                  <a:pt x="345" y="151"/>
                </a:lnTo>
                <a:lnTo>
                  <a:pt x="344" y="154"/>
                </a:lnTo>
                <a:lnTo>
                  <a:pt x="343" y="142"/>
                </a:lnTo>
                <a:lnTo>
                  <a:pt x="342" y="153"/>
                </a:lnTo>
                <a:lnTo>
                  <a:pt x="341" y="142"/>
                </a:lnTo>
                <a:lnTo>
                  <a:pt x="341" y="148"/>
                </a:lnTo>
                <a:lnTo>
                  <a:pt x="340" y="150"/>
                </a:lnTo>
                <a:lnTo>
                  <a:pt x="339" y="147"/>
                </a:lnTo>
                <a:lnTo>
                  <a:pt x="338" y="159"/>
                </a:lnTo>
                <a:lnTo>
                  <a:pt x="337" y="148"/>
                </a:lnTo>
                <a:lnTo>
                  <a:pt x="336" y="158"/>
                </a:lnTo>
                <a:lnTo>
                  <a:pt x="335" y="153"/>
                </a:lnTo>
                <a:lnTo>
                  <a:pt x="334" y="152"/>
                </a:lnTo>
                <a:lnTo>
                  <a:pt x="333" y="159"/>
                </a:lnTo>
                <a:lnTo>
                  <a:pt x="332" y="145"/>
                </a:lnTo>
                <a:lnTo>
                  <a:pt x="332" y="156"/>
                </a:lnTo>
                <a:lnTo>
                  <a:pt x="331" y="143"/>
                </a:lnTo>
                <a:lnTo>
                  <a:pt x="330" y="144"/>
                </a:lnTo>
                <a:lnTo>
                  <a:pt x="329" y="146"/>
                </a:lnTo>
                <a:lnTo>
                  <a:pt x="328" y="137"/>
                </a:lnTo>
                <a:lnTo>
                  <a:pt x="327" y="149"/>
                </a:lnTo>
                <a:lnTo>
                  <a:pt x="326" y="138"/>
                </a:lnTo>
                <a:lnTo>
                  <a:pt x="325" y="147"/>
                </a:lnTo>
                <a:lnTo>
                  <a:pt x="324" y="147"/>
                </a:lnTo>
                <a:lnTo>
                  <a:pt x="323" y="146"/>
                </a:lnTo>
                <a:lnTo>
                  <a:pt x="323" y="157"/>
                </a:lnTo>
                <a:lnTo>
                  <a:pt x="322" y="145"/>
                </a:lnTo>
                <a:lnTo>
                  <a:pt x="321" y="155"/>
                </a:lnTo>
                <a:lnTo>
                  <a:pt x="320" y="146"/>
                </a:lnTo>
                <a:lnTo>
                  <a:pt x="319" y="143"/>
                </a:lnTo>
                <a:lnTo>
                  <a:pt x="318" y="146"/>
                </a:lnTo>
                <a:lnTo>
                  <a:pt x="317" y="129"/>
                </a:lnTo>
                <a:lnTo>
                  <a:pt x="316" y="136"/>
                </a:lnTo>
                <a:lnTo>
                  <a:pt x="315" y="122"/>
                </a:lnTo>
                <a:lnTo>
                  <a:pt x="314" y="120"/>
                </a:lnTo>
                <a:lnTo>
                  <a:pt x="313" y="108"/>
                </a:lnTo>
                <a:lnTo>
                  <a:pt x="312" y="115"/>
                </a:lnTo>
                <a:lnTo>
                  <a:pt x="311" y="104"/>
                </a:lnTo>
                <a:lnTo>
                  <a:pt x="310" y="104"/>
                </a:lnTo>
                <a:lnTo>
                  <a:pt x="309" y="102"/>
                </a:lnTo>
                <a:lnTo>
                  <a:pt x="308" y="92"/>
                </a:lnTo>
                <a:lnTo>
                  <a:pt x="307" y="95"/>
                </a:lnTo>
                <a:lnTo>
                  <a:pt x="306" y="82"/>
                </a:lnTo>
                <a:lnTo>
                  <a:pt x="305" y="78"/>
                </a:lnTo>
                <a:lnTo>
                  <a:pt x="305" y="74"/>
                </a:lnTo>
                <a:lnTo>
                  <a:pt x="304" y="60"/>
                </a:lnTo>
                <a:lnTo>
                  <a:pt x="303" y="60"/>
                </a:lnTo>
                <a:lnTo>
                  <a:pt x="302" y="47"/>
                </a:lnTo>
                <a:lnTo>
                  <a:pt x="301" y="40"/>
                </a:lnTo>
                <a:lnTo>
                  <a:pt x="300" y="36"/>
                </a:lnTo>
                <a:lnTo>
                  <a:pt x="299" y="24"/>
                </a:lnTo>
                <a:lnTo>
                  <a:pt x="298" y="24"/>
                </a:lnTo>
                <a:lnTo>
                  <a:pt x="297" y="18"/>
                </a:lnTo>
                <a:lnTo>
                  <a:pt x="296" y="12"/>
                </a:lnTo>
                <a:lnTo>
                  <a:pt x="296" y="17"/>
                </a:lnTo>
                <a:lnTo>
                  <a:pt x="295" y="12"/>
                </a:lnTo>
                <a:lnTo>
                  <a:pt x="294" y="16"/>
                </a:lnTo>
                <a:lnTo>
                  <a:pt x="293" y="20"/>
                </a:lnTo>
                <a:lnTo>
                  <a:pt x="292" y="15"/>
                </a:lnTo>
                <a:lnTo>
                  <a:pt x="291" y="25"/>
                </a:lnTo>
                <a:lnTo>
                  <a:pt x="290" y="23"/>
                </a:lnTo>
                <a:lnTo>
                  <a:pt x="289" y="28"/>
                </a:lnTo>
                <a:lnTo>
                  <a:pt x="288" y="36"/>
                </a:lnTo>
                <a:lnTo>
                  <a:pt x="288" y="33"/>
                </a:lnTo>
                <a:lnTo>
                  <a:pt x="287" y="47"/>
                </a:lnTo>
                <a:lnTo>
                  <a:pt x="286" y="47"/>
                </a:lnTo>
                <a:lnTo>
                  <a:pt x="285" y="55"/>
                </a:lnTo>
                <a:lnTo>
                  <a:pt x="284" y="68"/>
                </a:lnTo>
                <a:lnTo>
                  <a:pt x="283" y="64"/>
                </a:lnTo>
                <a:lnTo>
                  <a:pt x="282" y="81"/>
                </a:lnTo>
                <a:lnTo>
                  <a:pt x="281" y="80"/>
                </a:lnTo>
                <a:lnTo>
                  <a:pt x="280" y="88"/>
                </a:lnTo>
                <a:lnTo>
                  <a:pt x="279" y="98"/>
                </a:lnTo>
                <a:lnTo>
                  <a:pt x="279" y="93"/>
                </a:lnTo>
                <a:lnTo>
                  <a:pt x="278" y="110"/>
                </a:lnTo>
                <a:lnTo>
                  <a:pt x="277" y="105"/>
                </a:lnTo>
                <a:lnTo>
                  <a:pt x="276" y="114"/>
                </a:lnTo>
                <a:lnTo>
                  <a:pt x="275" y="122"/>
                </a:lnTo>
                <a:lnTo>
                  <a:pt x="274" y="120"/>
                </a:lnTo>
                <a:lnTo>
                  <a:pt x="273" y="136"/>
                </a:lnTo>
                <a:lnTo>
                  <a:pt x="272" y="129"/>
                </a:lnTo>
                <a:lnTo>
                  <a:pt x="271" y="140"/>
                </a:lnTo>
                <a:lnTo>
                  <a:pt x="270" y="141"/>
                </a:lnTo>
                <a:lnTo>
                  <a:pt x="270" y="140"/>
                </a:lnTo>
                <a:lnTo>
                  <a:pt x="269" y="152"/>
                </a:lnTo>
                <a:lnTo>
                  <a:pt x="268" y="141"/>
                </a:lnTo>
                <a:lnTo>
                  <a:pt x="267" y="152"/>
                </a:lnTo>
                <a:lnTo>
                  <a:pt x="266" y="146"/>
                </a:lnTo>
                <a:lnTo>
                  <a:pt x="265" y="147"/>
                </a:lnTo>
                <a:lnTo>
                  <a:pt x="264" y="154"/>
                </a:lnTo>
                <a:lnTo>
                  <a:pt x="263" y="142"/>
                </a:lnTo>
                <a:lnTo>
                  <a:pt x="262" y="154"/>
                </a:lnTo>
                <a:lnTo>
                  <a:pt x="261" y="143"/>
                </a:lnTo>
                <a:lnTo>
                  <a:pt x="261" y="147"/>
                </a:lnTo>
                <a:lnTo>
                  <a:pt x="260" y="150"/>
                </a:lnTo>
                <a:lnTo>
                  <a:pt x="259" y="144"/>
                </a:lnTo>
                <a:lnTo>
                  <a:pt x="258" y="157"/>
                </a:lnTo>
                <a:lnTo>
                  <a:pt x="257" y="147"/>
                </a:lnTo>
                <a:lnTo>
                  <a:pt x="256" y="158"/>
                </a:lnTo>
                <a:lnTo>
                  <a:pt x="255" y="157"/>
                </a:lnTo>
                <a:lnTo>
                  <a:pt x="254" y="157"/>
                </a:lnTo>
                <a:lnTo>
                  <a:pt x="253" y="168"/>
                </a:lnTo>
                <a:lnTo>
                  <a:pt x="252" y="155"/>
                </a:lnTo>
                <a:lnTo>
                  <a:pt x="252" y="166"/>
                </a:lnTo>
                <a:lnTo>
                  <a:pt x="251" y="156"/>
                </a:lnTo>
                <a:lnTo>
                  <a:pt x="250" y="155"/>
                </a:lnTo>
                <a:lnTo>
                  <a:pt x="249" y="158"/>
                </a:lnTo>
                <a:lnTo>
                  <a:pt x="248" y="145"/>
                </a:lnTo>
                <a:lnTo>
                  <a:pt x="247" y="156"/>
                </a:lnTo>
                <a:lnTo>
                  <a:pt x="246" y="143"/>
                </a:lnTo>
                <a:lnTo>
                  <a:pt x="245" y="149"/>
                </a:lnTo>
                <a:lnTo>
                  <a:pt x="244" y="151"/>
                </a:lnTo>
                <a:lnTo>
                  <a:pt x="243" y="147"/>
                </a:lnTo>
                <a:lnTo>
                  <a:pt x="243" y="160"/>
                </a:lnTo>
                <a:lnTo>
                  <a:pt x="242" y="149"/>
                </a:lnTo>
                <a:lnTo>
                  <a:pt x="241" y="160"/>
                </a:lnTo>
                <a:lnTo>
                  <a:pt x="240" y="156"/>
                </a:lnTo>
                <a:lnTo>
                  <a:pt x="239" y="155"/>
                </a:lnTo>
                <a:lnTo>
                  <a:pt x="238" y="162"/>
                </a:lnTo>
                <a:lnTo>
                  <a:pt x="237" y="147"/>
                </a:lnTo>
                <a:lnTo>
                  <a:pt x="236" y="158"/>
                </a:lnTo>
                <a:lnTo>
                  <a:pt x="235" y="144"/>
                </a:lnTo>
                <a:lnTo>
                  <a:pt x="235" y="146"/>
                </a:lnTo>
                <a:lnTo>
                  <a:pt x="234" y="148"/>
                </a:lnTo>
                <a:lnTo>
                  <a:pt x="233" y="140"/>
                </a:lnTo>
                <a:lnTo>
                  <a:pt x="232" y="153"/>
                </a:lnTo>
                <a:lnTo>
                  <a:pt x="231" y="142"/>
                </a:lnTo>
                <a:lnTo>
                  <a:pt x="230" y="153"/>
                </a:lnTo>
                <a:lnTo>
                  <a:pt x="229" y="154"/>
                </a:lnTo>
                <a:lnTo>
                  <a:pt x="228" y="154"/>
                </a:lnTo>
                <a:lnTo>
                  <a:pt x="227" y="167"/>
                </a:lnTo>
                <a:lnTo>
                  <a:pt x="226" y="155"/>
                </a:lnTo>
                <a:lnTo>
                  <a:pt x="226" y="167"/>
                </a:lnTo>
                <a:lnTo>
                  <a:pt x="225" y="158"/>
                </a:lnTo>
                <a:lnTo>
                  <a:pt x="224" y="157"/>
                </a:lnTo>
                <a:lnTo>
                  <a:pt x="223" y="160"/>
                </a:lnTo>
                <a:lnTo>
                  <a:pt x="222" y="146"/>
                </a:lnTo>
                <a:lnTo>
                  <a:pt x="221" y="157"/>
                </a:lnTo>
                <a:lnTo>
                  <a:pt x="220" y="144"/>
                </a:lnTo>
                <a:lnTo>
                  <a:pt x="219" y="148"/>
                </a:lnTo>
                <a:lnTo>
                  <a:pt x="218" y="150"/>
                </a:lnTo>
                <a:lnTo>
                  <a:pt x="217" y="145"/>
                </a:lnTo>
                <a:lnTo>
                  <a:pt x="217" y="157"/>
                </a:lnTo>
                <a:lnTo>
                  <a:pt x="216" y="146"/>
                </a:lnTo>
                <a:lnTo>
                  <a:pt x="215" y="155"/>
                </a:lnTo>
                <a:lnTo>
                  <a:pt x="214" y="151"/>
                </a:lnTo>
                <a:lnTo>
                  <a:pt x="213" y="147"/>
                </a:lnTo>
                <a:lnTo>
                  <a:pt x="212" y="154"/>
                </a:lnTo>
                <a:lnTo>
                  <a:pt x="211" y="138"/>
                </a:lnTo>
                <a:lnTo>
                  <a:pt x="210" y="145"/>
                </a:lnTo>
                <a:lnTo>
                  <a:pt x="209" y="133"/>
                </a:lnTo>
                <a:lnTo>
                  <a:pt x="208" y="130"/>
                </a:lnTo>
                <a:lnTo>
                  <a:pt x="208" y="132"/>
                </a:lnTo>
                <a:lnTo>
                  <a:pt x="207" y="118"/>
                </a:lnTo>
                <a:lnTo>
                  <a:pt x="206" y="124"/>
                </a:lnTo>
                <a:lnTo>
                  <a:pt x="205" y="111"/>
                </a:lnTo>
                <a:lnTo>
                  <a:pt x="204" y="110"/>
                </a:lnTo>
                <a:lnTo>
                  <a:pt x="203" y="109"/>
                </a:lnTo>
                <a:lnTo>
                  <a:pt x="202" y="97"/>
                </a:lnTo>
                <a:lnTo>
                  <a:pt x="201" y="102"/>
                </a:lnTo>
                <a:lnTo>
                  <a:pt x="200" y="89"/>
                </a:lnTo>
                <a:lnTo>
                  <a:pt x="199" y="87"/>
                </a:lnTo>
                <a:lnTo>
                  <a:pt x="199" y="85"/>
                </a:lnTo>
                <a:lnTo>
                  <a:pt x="198" y="72"/>
                </a:lnTo>
                <a:lnTo>
                  <a:pt x="197" y="75"/>
                </a:lnTo>
                <a:lnTo>
                  <a:pt x="196" y="63"/>
                </a:lnTo>
                <a:lnTo>
                  <a:pt x="195" y="58"/>
                </a:lnTo>
                <a:lnTo>
                  <a:pt x="194" y="55"/>
                </a:lnTo>
                <a:lnTo>
                  <a:pt x="193" y="41"/>
                </a:lnTo>
                <a:lnTo>
                  <a:pt x="191" y="41"/>
                </a:lnTo>
                <a:lnTo>
                  <a:pt x="190" y="32"/>
                </a:lnTo>
                <a:lnTo>
                  <a:pt x="189" y="25"/>
                </a:lnTo>
                <a:lnTo>
                  <a:pt x="189" y="26"/>
                </a:lnTo>
                <a:lnTo>
                  <a:pt x="188" y="18"/>
                </a:lnTo>
                <a:lnTo>
                  <a:pt x="187" y="20"/>
                </a:lnTo>
                <a:lnTo>
                  <a:pt x="186" y="20"/>
                </a:lnTo>
                <a:lnTo>
                  <a:pt x="185" y="15"/>
                </a:lnTo>
                <a:lnTo>
                  <a:pt x="184" y="23"/>
                </a:lnTo>
                <a:lnTo>
                  <a:pt x="183" y="19"/>
                </a:lnTo>
                <a:lnTo>
                  <a:pt x="182" y="23"/>
                </a:lnTo>
                <a:lnTo>
                  <a:pt x="181" y="29"/>
                </a:lnTo>
                <a:lnTo>
                  <a:pt x="180" y="24"/>
                </a:lnTo>
                <a:lnTo>
                  <a:pt x="180" y="36"/>
                </a:lnTo>
                <a:lnTo>
                  <a:pt x="179" y="36"/>
                </a:lnTo>
                <a:lnTo>
                  <a:pt x="178" y="41"/>
                </a:lnTo>
                <a:lnTo>
                  <a:pt x="177" y="53"/>
                </a:lnTo>
                <a:lnTo>
                  <a:pt x="176" y="50"/>
                </a:lnTo>
                <a:lnTo>
                  <a:pt x="175" y="65"/>
                </a:lnTo>
                <a:lnTo>
                  <a:pt x="174" y="67"/>
                </a:lnTo>
                <a:lnTo>
                  <a:pt x="173" y="74"/>
                </a:lnTo>
                <a:lnTo>
                  <a:pt x="172" y="88"/>
                </a:lnTo>
                <a:lnTo>
                  <a:pt x="172" y="83"/>
                </a:lnTo>
                <a:lnTo>
                  <a:pt x="171" y="101"/>
                </a:lnTo>
                <a:lnTo>
                  <a:pt x="170" y="99"/>
                </a:lnTo>
                <a:lnTo>
                  <a:pt x="169" y="106"/>
                </a:lnTo>
                <a:lnTo>
                  <a:pt x="168" y="117"/>
                </a:lnTo>
                <a:lnTo>
                  <a:pt x="167" y="111"/>
                </a:lnTo>
                <a:lnTo>
                  <a:pt x="166" y="127"/>
                </a:lnTo>
                <a:lnTo>
                  <a:pt x="165" y="121"/>
                </a:lnTo>
                <a:lnTo>
                  <a:pt x="164" y="130"/>
                </a:lnTo>
                <a:lnTo>
                  <a:pt x="163" y="138"/>
                </a:lnTo>
                <a:lnTo>
                  <a:pt x="163" y="135"/>
                </a:lnTo>
                <a:lnTo>
                  <a:pt x="162" y="152"/>
                </a:lnTo>
                <a:lnTo>
                  <a:pt x="161" y="145"/>
                </a:lnTo>
                <a:lnTo>
                  <a:pt x="160" y="158"/>
                </a:lnTo>
                <a:lnTo>
                  <a:pt x="159" y="160"/>
                </a:lnTo>
                <a:lnTo>
                  <a:pt x="158" y="160"/>
                </a:lnTo>
                <a:lnTo>
                  <a:pt x="157" y="172"/>
                </a:lnTo>
                <a:lnTo>
                  <a:pt x="156" y="160"/>
                </a:lnTo>
                <a:lnTo>
                  <a:pt x="155" y="172"/>
                </a:lnTo>
                <a:lnTo>
                  <a:pt x="154" y="164"/>
                </a:lnTo>
                <a:lnTo>
                  <a:pt x="154" y="165"/>
                </a:lnTo>
                <a:lnTo>
                  <a:pt x="153" y="171"/>
                </a:lnTo>
                <a:lnTo>
                  <a:pt x="152" y="159"/>
                </a:lnTo>
                <a:lnTo>
                  <a:pt x="151" y="173"/>
                </a:lnTo>
                <a:lnTo>
                  <a:pt x="150" y="161"/>
                </a:lnTo>
                <a:lnTo>
                  <a:pt x="149" y="168"/>
                </a:lnTo>
                <a:lnTo>
                  <a:pt x="148" y="170"/>
                </a:lnTo>
                <a:lnTo>
                  <a:pt x="147" y="165"/>
                </a:lnTo>
                <a:lnTo>
                  <a:pt x="146" y="178"/>
                </a:lnTo>
                <a:lnTo>
                  <a:pt x="145" y="165"/>
                </a:lnTo>
                <a:lnTo>
                  <a:pt x="145" y="177"/>
                </a:lnTo>
                <a:lnTo>
                  <a:pt x="144" y="172"/>
                </a:lnTo>
                <a:lnTo>
                  <a:pt x="143" y="172"/>
                </a:lnTo>
                <a:lnTo>
                  <a:pt x="142" y="180"/>
                </a:lnTo>
                <a:lnTo>
                  <a:pt x="141" y="165"/>
                </a:lnTo>
                <a:lnTo>
                  <a:pt x="140" y="176"/>
                </a:lnTo>
                <a:lnTo>
                  <a:pt x="139" y="161"/>
                </a:lnTo>
                <a:lnTo>
                  <a:pt x="138" y="161"/>
                </a:lnTo>
                <a:lnTo>
                  <a:pt x="137" y="161"/>
                </a:lnTo>
                <a:lnTo>
                  <a:pt x="136" y="151"/>
                </a:lnTo>
                <a:lnTo>
                  <a:pt x="136" y="161"/>
                </a:lnTo>
                <a:lnTo>
                  <a:pt x="135" y="149"/>
                </a:lnTo>
                <a:lnTo>
                  <a:pt x="134" y="158"/>
                </a:lnTo>
                <a:lnTo>
                  <a:pt x="133" y="158"/>
                </a:lnTo>
                <a:lnTo>
                  <a:pt x="132" y="158"/>
                </a:lnTo>
                <a:lnTo>
                  <a:pt x="131" y="168"/>
                </a:lnTo>
                <a:lnTo>
                  <a:pt x="130" y="155"/>
                </a:lnTo>
                <a:lnTo>
                  <a:pt x="129" y="164"/>
                </a:lnTo>
                <a:lnTo>
                  <a:pt x="128" y="152"/>
                </a:lnTo>
                <a:lnTo>
                  <a:pt x="127" y="147"/>
                </a:lnTo>
                <a:lnTo>
                  <a:pt x="126" y="129"/>
                </a:lnTo>
                <a:lnTo>
                  <a:pt x="125" y="135"/>
                </a:lnTo>
                <a:lnTo>
                  <a:pt x="124" y="120"/>
                </a:lnTo>
                <a:lnTo>
                  <a:pt x="123" y="118"/>
                </a:lnTo>
                <a:lnTo>
                  <a:pt x="122" y="119"/>
                </a:lnTo>
                <a:lnTo>
                  <a:pt x="121" y="107"/>
                </a:lnTo>
                <a:lnTo>
                  <a:pt x="120" y="113"/>
                </a:lnTo>
                <a:lnTo>
                  <a:pt x="119" y="101"/>
                </a:lnTo>
                <a:lnTo>
                  <a:pt x="119" y="98"/>
                </a:lnTo>
                <a:lnTo>
                  <a:pt x="118" y="96"/>
                </a:lnTo>
                <a:lnTo>
                  <a:pt x="117" y="80"/>
                </a:lnTo>
                <a:lnTo>
                  <a:pt x="116" y="82"/>
                </a:lnTo>
                <a:lnTo>
                  <a:pt x="115" y="69"/>
                </a:lnTo>
                <a:lnTo>
                  <a:pt x="114" y="63"/>
                </a:lnTo>
                <a:lnTo>
                  <a:pt x="113" y="60"/>
                </a:lnTo>
                <a:lnTo>
                  <a:pt x="112" y="46"/>
                </a:lnTo>
                <a:lnTo>
                  <a:pt x="111" y="46"/>
                </a:lnTo>
                <a:lnTo>
                  <a:pt x="110" y="36"/>
                </a:lnTo>
                <a:lnTo>
                  <a:pt x="110" y="28"/>
                </a:lnTo>
                <a:lnTo>
                  <a:pt x="109" y="26"/>
                </a:lnTo>
                <a:lnTo>
                  <a:pt x="108" y="15"/>
                </a:lnTo>
                <a:lnTo>
                  <a:pt x="107" y="14"/>
                </a:lnTo>
                <a:lnTo>
                  <a:pt x="106" y="11"/>
                </a:lnTo>
                <a:lnTo>
                  <a:pt x="105" y="4"/>
                </a:lnTo>
                <a:lnTo>
                  <a:pt x="104" y="8"/>
                </a:lnTo>
                <a:lnTo>
                  <a:pt x="103" y="3"/>
                </a:lnTo>
                <a:lnTo>
                  <a:pt x="102" y="3"/>
                </a:lnTo>
                <a:lnTo>
                  <a:pt x="101" y="6"/>
                </a:lnTo>
                <a:lnTo>
                  <a:pt x="101" y="1"/>
                </a:lnTo>
                <a:lnTo>
                  <a:pt x="100" y="6"/>
                </a:lnTo>
                <a:lnTo>
                  <a:pt x="99" y="6"/>
                </a:lnTo>
                <a:lnTo>
                  <a:pt x="98" y="5"/>
                </a:lnTo>
                <a:lnTo>
                  <a:pt x="97" y="14"/>
                </a:lnTo>
                <a:lnTo>
                  <a:pt x="96" y="12"/>
                </a:lnTo>
                <a:lnTo>
                  <a:pt x="95" y="19"/>
                </a:lnTo>
                <a:lnTo>
                  <a:pt x="94" y="25"/>
                </a:lnTo>
                <a:lnTo>
                  <a:pt x="93" y="23"/>
                </a:lnTo>
                <a:lnTo>
                  <a:pt x="92" y="33"/>
                </a:lnTo>
                <a:lnTo>
                  <a:pt x="92" y="30"/>
                </a:lnTo>
                <a:lnTo>
                  <a:pt x="91" y="32"/>
                </a:lnTo>
                <a:lnTo>
                  <a:pt x="90" y="36"/>
                </a:lnTo>
                <a:lnTo>
                  <a:pt x="89" y="28"/>
                </a:lnTo>
                <a:lnTo>
                  <a:pt x="88" y="35"/>
                </a:lnTo>
                <a:lnTo>
                  <a:pt x="87" y="29"/>
                </a:lnTo>
                <a:lnTo>
                  <a:pt x="86" y="28"/>
                </a:lnTo>
                <a:lnTo>
                  <a:pt x="85" y="33"/>
                </a:lnTo>
                <a:lnTo>
                  <a:pt x="84" y="27"/>
                </a:lnTo>
                <a:lnTo>
                  <a:pt x="83" y="33"/>
                </a:lnTo>
                <a:lnTo>
                  <a:pt x="83" y="32"/>
                </a:lnTo>
                <a:lnTo>
                  <a:pt x="82" y="30"/>
                </a:lnTo>
                <a:lnTo>
                  <a:pt x="81" y="36"/>
                </a:lnTo>
                <a:lnTo>
                  <a:pt x="80" y="30"/>
                </a:lnTo>
                <a:lnTo>
                  <a:pt x="79" y="35"/>
                </a:lnTo>
                <a:lnTo>
                  <a:pt x="78" y="37"/>
                </a:lnTo>
                <a:lnTo>
                  <a:pt x="77" y="32"/>
                </a:lnTo>
                <a:lnTo>
                  <a:pt x="76" y="40"/>
                </a:lnTo>
                <a:lnTo>
                  <a:pt x="75" y="35"/>
                </a:lnTo>
                <a:lnTo>
                  <a:pt x="74" y="38"/>
                </a:lnTo>
                <a:lnTo>
                  <a:pt x="74" y="43"/>
                </a:lnTo>
                <a:lnTo>
                  <a:pt x="73" y="36"/>
                </a:lnTo>
                <a:lnTo>
                  <a:pt x="72" y="46"/>
                </a:lnTo>
                <a:lnTo>
                  <a:pt x="71" y="42"/>
                </a:lnTo>
                <a:lnTo>
                  <a:pt x="70" y="45"/>
                </a:lnTo>
                <a:lnTo>
                  <a:pt x="69" y="54"/>
                </a:lnTo>
                <a:lnTo>
                  <a:pt x="68" y="49"/>
                </a:lnTo>
                <a:lnTo>
                  <a:pt x="67" y="64"/>
                </a:lnTo>
                <a:lnTo>
                  <a:pt x="66" y="65"/>
                </a:lnTo>
                <a:lnTo>
                  <a:pt x="66" y="71"/>
                </a:lnTo>
                <a:lnTo>
                  <a:pt x="65" y="86"/>
                </a:lnTo>
                <a:lnTo>
                  <a:pt x="64" y="81"/>
                </a:lnTo>
                <a:lnTo>
                  <a:pt x="63" y="99"/>
                </a:lnTo>
                <a:lnTo>
                  <a:pt x="62" y="99"/>
                </a:lnTo>
                <a:lnTo>
                  <a:pt x="61" y="105"/>
                </a:lnTo>
                <a:lnTo>
                  <a:pt x="60" y="117"/>
                </a:lnTo>
                <a:lnTo>
                  <a:pt x="59" y="110"/>
                </a:lnTo>
                <a:lnTo>
                  <a:pt x="58" y="126"/>
                </a:lnTo>
                <a:lnTo>
                  <a:pt x="57" y="121"/>
                </a:lnTo>
                <a:lnTo>
                  <a:pt x="57" y="127"/>
                </a:lnTo>
                <a:lnTo>
                  <a:pt x="56" y="135"/>
                </a:lnTo>
                <a:lnTo>
                  <a:pt x="55" y="129"/>
                </a:lnTo>
                <a:lnTo>
                  <a:pt x="54" y="145"/>
                </a:lnTo>
                <a:lnTo>
                  <a:pt x="53" y="138"/>
                </a:lnTo>
                <a:lnTo>
                  <a:pt x="52" y="148"/>
                </a:lnTo>
                <a:lnTo>
                  <a:pt x="51" y="154"/>
                </a:lnTo>
                <a:lnTo>
                  <a:pt x="50" y="153"/>
                </a:lnTo>
                <a:lnTo>
                  <a:pt x="49" y="169"/>
                </a:lnTo>
                <a:lnTo>
                  <a:pt x="48" y="161"/>
                </a:lnTo>
                <a:lnTo>
                  <a:pt x="48" y="174"/>
                </a:lnTo>
                <a:lnTo>
                  <a:pt x="47" y="172"/>
                </a:lnTo>
                <a:lnTo>
                  <a:pt x="46" y="172"/>
                </a:lnTo>
                <a:lnTo>
                  <a:pt x="45" y="181"/>
                </a:lnTo>
                <a:lnTo>
                  <a:pt x="44" y="167"/>
                </a:lnTo>
                <a:lnTo>
                  <a:pt x="43" y="178"/>
                </a:lnTo>
                <a:lnTo>
                  <a:pt x="42" y="166"/>
                </a:lnTo>
                <a:lnTo>
                  <a:pt x="41" y="168"/>
                </a:lnTo>
                <a:lnTo>
                  <a:pt x="40" y="172"/>
                </a:lnTo>
                <a:lnTo>
                  <a:pt x="39" y="163"/>
                </a:lnTo>
                <a:lnTo>
                  <a:pt x="39" y="177"/>
                </a:lnTo>
                <a:lnTo>
                  <a:pt x="38" y="166"/>
                </a:lnTo>
                <a:lnTo>
                  <a:pt x="37" y="176"/>
                </a:lnTo>
                <a:lnTo>
                  <a:pt x="36" y="177"/>
                </a:lnTo>
                <a:lnTo>
                  <a:pt x="35" y="178"/>
                </a:lnTo>
                <a:lnTo>
                  <a:pt x="34" y="191"/>
                </a:lnTo>
                <a:lnTo>
                  <a:pt x="33" y="179"/>
                </a:lnTo>
                <a:lnTo>
                  <a:pt x="32" y="192"/>
                </a:lnTo>
                <a:lnTo>
                  <a:pt x="31" y="182"/>
                </a:lnTo>
                <a:lnTo>
                  <a:pt x="30" y="182"/>
                </a:lnTo>
                <a:lnTo>
                  <a:pt x="30" y="185"/>
                </a:lnTo>
                <a:lnTo>
                  <a:pt x="29" y="171"/>
                </a:lnTo>
                <a:lnTo>
                  <a:pt x="28" y="182"/>
                </a:lnTo>
                <a:lnTo>
                  <a:pt x="27" y="168"/>
                </a:lnTo>
                <a:lnTo>
                  <a:pt x="26" y="173"/>
                </a:lnTo>
                <a:lnTo>
                  <a:pt x="25" y="173"/>
                </a:lnTo>
                <a:lnTo>
                  <a:pt x="24" y="169"/>
                </a:lnTo>
                <a:lnTo>
                  <a:pt x="23" y="181"/>
                </a:lnTo>
                <a:lnTo>
                  <a:pt x="22" y="169"/>
                </a:lnTo>
                <a:lnTo>
                  <a:pt x="21" y="178"/>
                </a:lnTo>
                <a:lnTo>
                  <a:pt x="21" y="171"/>
                </a:lnTo>
                <a:lnTo>
                  <a:pt x="20" y="166"/>
                </a:lnTo>
                <a:lnTo>
                  <a:pt x="19" y="170"/>
                </a:lnTo>
                <a:lnTo>
                  <a:pt x="18" y="152"/>
                </a:lnTo>
                <a:lnTo>
                  <a:pt x="17" y="156"/>
                </a:lnTo>
                <a:lnTo>
                  <a:pt x="16" y="142"/>
                </a:lnTo>
                <a:lnTo>
                  <a:pt x="15" y="136"/>
                </a:lnTo>
                <a:lnTo>
                  <a:pt x="14" y="136"/>
                </a:lnTo>
                <a:lnTo>
                  <a:pt x="13" y="119"/>
                </a:lnTo>
                <a:lnTo>
                  <a:pt x="13" y="124"/>
                </a:lnTo>
                <a:lnTo>
                  <a:pt x="12" y="109"/>
                </a:lnTo>
                <a:lnTo>
                  <a:pt x="11" y="103"/>
                </a:lnTo>
                <a:lnTo>
                  <a:pt x="10" y="100"/>
                </a:lnTo>
                <a:lnTo>
                  <a:pt x="9" y="82"/>
                </a:lnTo>
                <a:lnTo>
                  <a:pt x="8" y="82"/>
                </a:lnTo>
                <a:lnTo>
                  <a:pt x="7" y="68"/>
                </a:lnTo>
                <a:lnTo>
                  <a:pt x="6" y="60"/>
                </a:lnTo>
                <a:lnTo>
                  <a:pt x="5" y="58"/>
                </a:lnTo>
                <a:lnTo>
                  <a:pt x="4" y="45"/>
                </a:lnTo>
                <a:lnTo>
                  <a:pt x="3" y="37"/>
                </a:lnTo>
                <a:lnTo>
                  <a:pt x="2" y="29"/>
                </a:lnTo>
                <a:lnTo>
                  <a:pt x="1" y="29"/>
                </a:lnTo>
                <a:lnTo>
                  <a:pt x="0" y="19"/>
                </a:lnTo>
              </a:path>
            </a:pathLst>
          </a:custGeom>
          <a:noFill/>
          <a:ln w="0">
            <a:solidFill>
              <a:srgbClr val="0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1251000" y="1789200"/>
            <a:ext cx="1440" cy="1440"/>
          </a:xfrm>
          <a:custGeom>
            <a:avLst/>
            <a:gdLst/>
            <a:ahLst/>
            <a:rect l="l" t="t" r="r" b="b"/>
            <a:pathLst>
              <a:path w="450" h="309">
                <a:moveTo>
                  <a:pt x="450" y="309"/>
                </a:moveTo>
                <a:lnTo>
                  <a:pt x="449" y="309"/>
                </a:lnTo>
                <a:lnTo>
                  <a:pt x="448" y="309"/>
                </a:lnTo>
                <a:lnTo>
                  <a:pt x="447" y="309"/>
                </a:lnTo>
                <a:lnTo>
                  <a:pt x="446" y="309"/>
                </a:lnTo>
                <a:lnTo>
                  <a:pt x="445" y="309"/>
                </a:lnTo>
                <a:lnTo>
                  <a:pt x="444" y="309"/>
                </a:lnTo>
                <a:lnTo>
                  <a:pt x="443" y="309"/>
                </a:lnTo>
                <a:lnTo>
                  <a:pt x="442" y="309"/>
                </a:lnTo>
                <a:lnTo>
                  <a:pt x="441" y="309"/>
                </a:lnTo>
                <a:lnTo>
                  <a:pt x="440" y="309"/>
                </a:lnTo>
                <a:lnTo>
                  <a:pt x="439" y="309"/>
                </a:lnTo>
                <a:lnTo>
                  <a:pt x="438" y="309"/>
                </a:lnTo>
                <a:lnTo>
                  <a:pt x="437" y="309"/>
                </a:lnTo>
                <a:lnTo>
                  <a:pt x="436" y="309"/>
                </a:lnTo>
                <a:lnTo>
                  <a:pt x="435" y="309"/>
                </a:lnTo>
                <a:lnTo>
                  <a:pt x="434" y="309"/>
                </a:lnTo>
                <a:lnTo>
                  <a:pt x="433" y="309"/>
                </a:lnTo>
                <a:lnTo>
                  <a:pt x="432" y="309"/>
                </a:lnTo>
                <a:lnTo>
                  <a:pt x="431" y="309"/>
                </a:lnTo>
                <a:lnTo>
                  <a:pt x="430" y="309"/>
                </a:lnTo>
                <a:lnTo>
                  <a:pt x="429" y="308"/>
                </a:lnTo>
                <a:lnTo>
                  <a:pt x="428" y="307"/>
                </a:lnTo>
                <a:lnTo>
                  <a:pt x="427" y="305"/>
                </a:lnTo>
                <a:lnTo>
                  <a:pt x="426" y="302"/>
                </a:lnTo>
                <a:lnTo>
                  <a:pt x="425" y="297"/>
                </a:lnTo>
                <a:lnTo>
                  <a:pt x="424" y="290"/>
                </a:lnTo>
                <a:lnTo>
                  <a:pt x="423" y="279"/>
                </a:lnTo>
                <a:lnTo>
                  <a:pt x="422" y="265"/>
                </a:lnTo>
                <a:lnTo>
                  <a:pt x="421" y="246"/>
                </a:lnTo>
                <a:lnTo>
                  <a:pt x="420" y="224"/>
                </a:lnTo>
                <a:lnTo>
                  <a:pt x="420" y="198"/>
                </a:lnTo>
                <a:lnTo>
                  <a:pt x="419" y="170"/>
                </a:lnTo>
                <a:lnTo>
                  <a:pt x="418" y="140"/>
                </a:lnTo>
                <a:lnTo>
                  <a:pt x="417" y="112"/>
                </a:lnTo>
                <a:lnTo>
                  <a:pt x="416" y="86"/>
                </a:lnTo>
                <a:lnTo>
                  <a:pt x="415" y="63"/>
                </a:lnTo>
                <a:lnTo>
                  <a:pt x="414" y="45"/>
                </a:lnTo>
                <a:lnTo>
                  <a:pt x="413" y="30"/>
                </a:lnTo>
                <a:lnTo>
                  <a:pt x="412" y="20"/>
                </a:lnTo>
                <a:lnTo>
                  <a:pt x="411" y="12"/>
                </a:lnTo>
                <a:lnTo>
                  <a:pt x="411" y="7"/>
                </a:lnTo>
                <a:lnTo>
                  <a:pt x="410" y="4"/>
                </a:lnTo>
                <a:lnTo>
                  <a:pt x="409" y="2"/>
                </a:lnTo>
                <a:lnTo>
                  <a:pt x="408" y="1"/>
                </a:lnTo>
                <a:lnTo>
                  <a:pt x="407" y="1"/>
                </a:lnTo>
                <a:lnTo>
                  <a:pt x="406" y="1"/>
                </a:lnTo>
                <a:lnTo>
                  <a:pt x="405" y="0"/>
                </a:lnTo>
                <a:lnTo>
                  <a:pt x="404" y="0"/>
                </a:lnTo>
                <a:lnTo>
                  <a:pt x="403" y="1"/>
                </a:lnTo>
                <a:lnTo>
                  <a:pt x="402" y="1"/>
                </a:lnTo>
                <a:lnTo>
                  <a:pt x="401" y="2"/>
                </a:lnTo>
                <a:lnTo>
                  <a:pt x="400" y="4"/>
                </a:lnTo>
                <a:lnTo>
                  <a:pt x="399" y="7"/>
                </a:lnTo>
                <a:lnTo>
                  <a:pt x="398" y="12"/>
                </a:lnTo>
                <a:lnTo>
                  <a:pt x="397" y="20"/>
                </a:lnTo>
                <a:lnTo>
                  <a:pt x="396" y="30"/>
                </a:lnTo>
                <a:lnTo>
                  <a:pt x="395" y="45"/>
                </a:lnTo>
                <a:lnTo>
                  <a:pt x="394" y="63"/>
                </a:lnTo>
                <a:lnTo>
                  <a:pt x="394" y="86"/>
                </a:lnTo>
                <a:lnTo>
                  <a:pt x="393" y="112"/>
                </a:lnTo>
                <a:lnTo>
                  <a:pt x="392" y="140"/>
                </a:lnTo>
                <a:lnTo>
                  <a:pt x="391" y="170"/>
                </a:lnTo>
                <a:lnTo>
                  <a:pt x="390" y="198"/>
                </a:lnTo>
                <a:lnTo>
                  <a:pt x="389" y="224"/>
                </a:lnTo>
                <a:lnTo>
                  <a:pt x="388" y="246"/>
                </a:lnTo>
                <a:lnTo>
                  <a:pt x="387" y="265"/>
                </a:lnTo>
                <a:lnTo>
                  <a:pt x="386" y="279"/>
                </a:lnTo>
                <a:lnTo>
                  <a:pt x="385" y="290"/>
                </a:lnTo>
                <a:lnTo>
                  <a:pt x="385" y="297"/>
                </a:lnTo>
                <a:lnTo>
                  <a:pt x="384" y="302"/>
                </a:lnTo>
                <a:lnTo>
                  <a:pt x="383" y="305"/>
                </a:lnTo>
                <a:lnTo>
                  <a:pt x="382" y="307"/>
                </a:lnTo>
                <a:lnTo>
                  <a:pt x="381" y="308"/>
                </a:lnTo>
                <a:lnTo>
                  <a:pt x="380" y="308"/>
                </a:lnTo>
                <a:lnTo>
                  <a:pt x="379" y="309"/>
                </a:lnTo>
                <a:lnTo>
                  <a:pt x="378" y="309"/>
                </a:lnTo>
                <a:lnTo>
                  <a:pt x="377" y="309"/>
                </a:lnTo>
                <a:lnTo>
                  <a:pt x="376" y="309"/>
                </a:lnTo>
                <a:lnTo>
                  <a:pt x="375" y="309"/>
                </a:lnTo>
                <a:lnTo>
                  <a:pt x="374" y="309"/>
                </a:lnTo>
                <a:lnTo>
                  <a:pt x="373" y="309"/>
                </a:lnTo>
                <a:lnTo>
                  <a:pt x="372" y="309"/>
                </a:lnTo>
                <a:lnTo>
                  <a:pt x="371" y="309"/>
                </a:lnTo>
                <a:lnTo>
                  <a:pt x="370" y="309"/>
                </a:lnTo>
                <a:lnTo>
                  <a:pt x="369" y="309"/>
                </a:lnTo>
                <a:lnTo>
                  <a:pt x="368" y="309"/>
                </a:lnTo>
                <a:lnTo>
                  <a:pt x="367" y="309"/>
                </a:lnTo>
                <a:lnTo>
                  <a:pt x="366" y="309"/>
                </a:lnTo>
                <a:lnTo>
                  <a:pt x="365" y="309"/>
                </a:lnTo>
                <a:lnTo>
                  <a:pt x="364" y="309"/>
                </a:lnTo>
                <a:lnTo>
                  <a:pt x="363" y="309"/>
                </a:lnTo>
                <a:lnTo>
                  <a:pt x="362" y="309"/>
                </a:lnTo>
                <a:lnTo>
                  <a:pt x="361" y="309"/>
                </a:lnTo>
                <a:lnTo>
                  <a:pt x="360" y="309"/>
                </a:lnTo>
                <a:lnTo>
                  <a:pt x="359" y="309"/>
                </a:lnTo>
                <a:lnTo>
                  <a:pt x="358" y="309"/>
                </a:lnTo>
                <a:lnTo>
                  <a:pt x="357" y="309"/>
                </a:lnTo>
                <a:lnTo>
                  <a:pt x="356" y="309"/>
                </a:lnTo>
                <a:lnTo>
                  <a:pt x="355" y="309"/>
                </a:lnTo>
                <a:lnTo>
                  <a:pt x="354" y="309"/>
                </a:lnTo>
                <a:lnTo>
                  <a:pt x="353" y="309"/>
                </a:lnTo>
                <a:lnTo>
                  <a:pt x="352" y="309"/>
                </a:lnTo>
                <a:lnTo>
                  <a:pt x="351" y="309"/>
                </a:lnTo>
                <a:lnTo>
                  <a:pt x="350" y="309"/>
                </a:lnTo>
                <a:lnTo>
                  <a:pt x="349" y="309"/>
                </a:lnTo>
                <a:lnTo>
                  <a:pt x="348" y="309"/>
                </a:lnTo>
                <a:lnTo>
                  <a:pt x="347" y="309"/>
                </a:lnTo>
                <a:lnTo>
                  <a:pt x="346" y="309"/>
                </a:lnTo>
                <a:lnTo>
                  <a:pt x="345" y="309"/>
                </a:lnTo>
                <a:lnTo>
                  <a:pt x="344" y="309"/>
                </a:lnTo>
                <a:lnTo>
                  <a:pt x="343" y="309"/>
                </a:lnTo>
                <a:lnTo>
                  <a:pt x="342" y="309"/>
                </a:lnTo>
                <a:lnTo>
                  <a:pt x="341" y="309"/>
                </a:lnTo>
                <a:lnTo>
                  <a:pt x="340" y="309"/>
                </a:lnTo>
                <a:lnTo>
                  <a:pt x="339" y="309"/>
                </a:lnTo>
                <a:lnTo>
                  <a:pt x="338" y="309"/>
                </a:lnTo>
                <a:lnTo>
                  <a:pt x="337" y="309"/>
                </a:lnTo>
                <a:lnTo>
                  <a:pt x="336" y="309"/>
                </a:lnTo>
                <a:lnTo>
                  <a:pt x="335" y="309"/>
                </a:lnTo>
                <a:lnTo>
                  <a:pt x="334" y="309"/>
                </a:lnTo>
                <a:lnTo>
                  <a:pt x="333" y="309"/>
                </a:lnTo>
                <a:lnTo>
                  <a:pt x="332" y="309"/>
                </a:lnTo>
                <a:lnTo>
                  <a:pt x="331" y="309"/>
                </a:lnTo>
                <a:lnTo>
                  <a:pt x="330" y="309"/>
                </a:lnTo>
                <a:lnTo>
                  <a:pt x="329" y="309"/>
                </a:lnTo>
                <a:lnTo>
                  <a:pt x="328" y="309"/>
                </a:lnTo>
                <a:lnTo>
                  <a:pt x="327" y="309"/>
                </a:lnTo>
                <a:lnTo>
                  <a:pt x="326" y="309"/>
                </a:lnTo>
                <a:lnTo>
                  <a:pt x="325" y="309"/>
                </a:lnTo>
                <a:lnTo>
                  <a:pt x="324" y="309"/>
                </a:lnTo>
                <a:lnTo>
                  <a:pt x="323" y="309"/>
                </a:lnTo>
                <a:lnTo>
                  <a:pt x="322" y="308"/>
                </a:lnTo>
                <a:lnTo>
                  <a:pt x="321" y="308"/>
                </a:lnTo>
                <a:lnTo>
                  <a:pt x="320" y="307"/>
                </a:lnTo>
                <a:lnTo>
                  <a:pt x="319" y="305"/>
                </a:lnTo>
                <a:lnTo>
                  <a:pt x="318" y="302"/>
                </a:lnTo>
                <a:lnTo>
                  <a:pt x="317" y="297"/>
                </a:lnTo>
                <a:lnTo>
                  <a:pt x="316" y="290"/>
                </a:lnTo>
                <a:lnTo>
                  <a:pt x="315" y="279"/>
                </a:lnTo>
                <a:lnTo>
                  <a:pt x="314" y="265"/>
                </a:lnTo>
                <a:lnTo>
                  <a:pt x="314" y="246"/>
                </a:lnTo>
                <a:lnTo>
                  <a:pt x="313" y="224"/>
                </a:lnTo>
                <a:lnTo>
                  <a:pt x="312" y="198"/>
                </a:lnTo>
                <a:lnTo>
                  <a:pt x="311" y="170"/>
                </a:lnTo>
                <a:lnTo>
                  <a:pt x="310" y="140"/>
                </a:lnTo>
                <a:lnTo>
                  <a:pt x="309" y="112"/>
                </a:lnTo>
                <a:lnTo>
                  <a:pt x="308" y="86"/>
                </a:lnTo>
                <a:lnTo>
                  <a:pt x="307" y="63"/>
                </a:lnTo>
                <a:lnTo>
                  <a:pt x="306" y="45"/>
                </a:lnTo>
                <a:lnTo>
                  <a:pt x="305" y="30"/>
                </a:lnTo>
                <a:lnTo>
                  <a:pt x="305" y="20"/>
                </a:lnTo>
                <a:lnTo>
                  <a:pt x="304" y="12"/>
                </a:lnTo>
                <a:lnTo>
                  <a:pt x="303" y="7"/>
                </a:lnTo>
                <a:lnTo>
                  <a:pt x="302" y="4"/>
                </a:lnTo>
                <a:lnTo>
                  <a:pt x="301" y="2"/>
                </a:lnTo>
                <a:lnTo>
                  <a:pt x="300" y="1"/>
                </a:lnTo>
                <a:lnTo>
                  <a:pt x="299" y="1"/>
                </a:lnTo>
                <a:lnTo>
                  <a:pt x="298" y="1"/>
                </a:lnTo>
                <a:lnTo>
                  <a:pt x="297" y="0"/>
                </a:lnTo>
                <a:lnTo>
                  <a:pt x="296" y="0"/>
                </a:lnTo>
                <a:lnTo>
                  <a:pt x="296" y="1"/>
                </a:lnTo>
                <a:lnTo>
                  <a:pt x="295" y="1"/>
                </a:lnTo>
                <a:lnTo>
                  <a:pt x="294" y="1"/>
                </a:lnTo>
                <a:lnTo>
                  <a:pt x="293" y="2"/>
                </a:lnTo>
                <a:lnTo>
                  <a:pt x="292" y="4"/>
                </a:lnTo>
                <a:lnTo>
                  <a:pt x="291" y="7"/>
                </a:lnTo>
                <a:lnTo>
                  <a:pt x="290" y="12"/>
                </a:lnTo>
                <a:lnTo>
                  <a:pt x="289" y="20"/>
                </a:lnTo>
                <a:lnTo>
                  <a:pt x="288" y="30"/>
                </a:lnTo>
                <a:lnTo>
                  <a:pt x="288" y="45"/>
                </a:lnTo>
                <a:lnTo>
                  <a:pt x="287" y="63"/>
                </a:lnTo>
                <a:lnTo>
                  <a:pt x="286" y="86"/>
                </a:lnTo>
                <a:lnTo>
                  <a:pt x="285" y="112"/>
                </a:lnTo>
                <a:lnTo>
                  <a:pt x="284" y="140"/>
                </a:lnTo>
                <a:lnTo>
                  <a:pt x="283" y="170"/>
                </a:lnTo>
                <a:lnTo>
                  <a:pt x="282" y="198"/>
                </a:lnTo>
                <a:lnTo>
                  <a:pt x="281" y="224"/>
                </a:lnTo>
                <a:lnTo>
                  <a:pt x="280" y="246"/>
                </a:lnTo>
                <a:lnTo>
                  <a:pt x="279" y="265"/>
                </a:lnTo>
                <a:lnTo>
                  <a:pt x="279" y="279"/>
                </a:lnTo>
                <a:lnTo>
                  <a:pt x="278" y="290"/>
                </a:lnTo>
                <a:lnTo>
                  <a:pt x="277" y="297"/>
                </a:lnTo>
                <a:lnTo>
                  <a:pt x="276" y="302"/>
                </a:lnTo>
                <a:lnTo>
                  <a:pt x="275" y="305"/>
                </a:lnTo>
                <a:lnTo>
                  <a:pt x="274" y="307"/>
                </a:lnTo>
                <a:lnTo>
                  <a:pt x="273" y="308"/>
                </a:lnTo>
                <a:lnTo>
                  <a:pt x="272" y="308"/>
                </a:lnTo>
                <a:lnTo>
                  <a:pt x="271" y="309"/>
                </a:lnTo>
                <a:lnTo>
                  <a:pt x="270" y="309"/>
                </a:lnTo>
                <a:lnTo>
                  <a:pt x="269" y="309"/>
                </a:lnTo>
                <a:lnTo>
                  <a:pt x="268" y="309"/>
                </a:lnTo>
                <a:lnTo>
                  <a:pt x="267" y="309"/>
                </a:lnTo>
                <a:lnTo>
                  <a:pt x="266" y="309"/>
                </a:lnTo>
                <a:lnTo>
                  <a:pt x="265" y="309"/>
                </a:lnTo>
                <a:lnTo>
                  <a:pt x="264" y="309"/>
                </a:lnTo>
                <a:lnTo>
                  <a:pt x="263" y="309"/>
                </a:lnTo>
                <a:lnTo>
                  <a:pt x="262" y="309"/>
                </a:lnTo>
                <a:lnTo>
                  <a:pt x="261" y="309"/>
                </a:lnTo>
                <a:lnTo>
                  <a:pt x="260" y="309"/>
                </a:lnTo>
                <a:lnTo>
                  <a:pt x="259" y="309"/>
                </a:lnTo>
                <a:lnTo>
                  <a:pt x="258" y="309"/>
                </a:lnTo>
                <a:lnTo>
                  <a:pt x="257" y="309"/>
                </a:lnTo>
                <a:lnTo>
                  <a:pt x="256" y="309"/>
                </a:lnTo>
                <a:lnTo>
                  <a:pt x="255" y="309"/>
                </a:lnTo>
                <a:lnTo>
                  <a:pt x="254" y="309"/>
                </a:lnTo>
                <a:lnTo>
                  <a:pt x="253" y="309"/>
                </a:lnTo>
                <a:lnTo>
                  <a:pt x="252" y="309"/>
                </a:lnTo>
                <a:lnTo>
                  <a:pt x="251" y="309"/>
                </a:lnTo>
                <a:lnTo>
                  <a:pt x="250" y="309"/>
                </a:lnTo>
                <a:lnTo>
                  <a:pt x="249" y="309"/>
                </a:lnTo>
                <a:lnTo>
                  <a:pt x="248" y="309"/>
                </a:lnTo>
                <a:lnTo>
                  <a:pt x="247" y="309"/>
                </a:lnTo>
                <a:lnTo>
                  <a:pt x="246" y="309"/>
                </a:lnTo>
                <a:lnTo>
                  <a:pt x="245" y="309"/>
                </a:lnTo>
                <a:lnTo>
                  <a:pt x="244" y="309"/>
                </a:lnTo>
                <a:lnTo>
                  <a:pt x="243" y="309"/>
                </a:lnTo>
                <a:lnTo>
                  <a:pt x="242" y="309"/>
                </a:lnTo>
                <a:lnTo>
                  <a:pt x="241" y="309"/>
                </a:lnTo>
                <a:lnTo>
                  <a:pt x="240" y="309"/>
                </a:lnTo>
                <a:lnTo>
                  <a:pt x="239" y="309"/>
                </a:lnTo>
                <a:lnTo>
                  <a:pt x="238" y="309"/>
                </a:lnTo>
                <a:lnTo>
                  <a:pt x="237" y="309"/>
                </a:lnTo>
                <a:lnTo>
                  <a:pt x="236" y="309"/>
                </a:lnTo>
                <a:lnTo>
                  <a:pt x="235" y="309"/>
                </a:lnTo>
                <a:lnTo>
                  <a:pt x="234" y="309"/>
                </a:lnTo>
                <a:lnTo>
                  <a:pt x="233" y="309"/>
                </a:lnTo>
                <a:lnTo>
                  <a:pt x="232" y="309"/>
                </a:lnTo>
                <a:lnTo>
                  <a:pt x="231" y="309"/>
                </a:lnTo>
                <a:lnTo>
                  <a:pt x="230" y="309"/>
                </a:lnTo>
                <a:lnTo>
                  <a:pt x="229" y="309"/>
                </a:lnTo>
                <a:lnTo>
                  <a:pt x="228" y="309"/>
                </a:lnTo>
                <a:lnTo>
                  <a:pt x="227" y="309"/>
                </a:lnTo>
                <a:lnTo>
                  <a:pt x="226" y="309"/>
                </a:lnTo>
                <a:lnTo>
                  <a:pt x="225" y="309"/>
                </a:lnTo>
                <a:lnTo>
                  <a:pt x="224" y="309"/>
                </a:lnTo>
                <a:lnTo>
                  <a:pt x="223" y="309"/>
                </a:lnTo>
                <a:lnTo>
                  <a:pt x="222" y="309"/>
                </a:lnTo>
                <a:lnTo>
                  <a:pt x="221" y="309"/>
                </a:lnTo>
                <a:lnTo>
                  <a:pt x="220" y="309"/>
                </a:lnTo>
                <a:lnTo>
                  <a:pt x="219" y="309"/>
                </a:lnTo>
                <a:lnTo>
                  <a:pt x="218" y="309"/>
                </a:lnTo>
                <a:lnTo>
                  <a:pt x="217" y="309"/>
                </a:lnTo>
                <a:lnTo>
                  <a:pt x="216" y="309"/>
                </a:lnTo>
                <a:lnTo>
                  <a:pt x="215" y="309"/>
                </a:lnTo>
                <a:lnTo>
                  <a:pt x="214" y="308"/>
                </a:lnTo>
                <a:lnTo>
                  <a:pt x="213" y="308"/>
                </a:lnTo>
                <a:lnTo>
                  <a:pt x="212" y="307"/>
                </a:lnTo>
                <a:lnTo>
                  <a:pt x="211" y="305"/>
                </a:lnTo>
                <a:lnTo>
                  <a:pt x="210" y="302"/>
                </a:lnTo>
                <a:lnTo>
                  <a:pt x="209" y="297"/>
                </a:lnTo>
                <a:lnTo>
                  <a:pt x="208" y="290"/>
                </a:lnTo>
                <a:lnTo>
                  <a:pt x="208" y="279"/>
                </a:lnTo>
                <a:lnTo>
                  <a:pt x="207" y="265"/>
                </a:lnTo>
                <a:lnTo>
                  <a:pt x="206" y="246"/>
                </a:lnTo>
                <a:lnTo>
                  <a:pt x="205" y="224"/>
                </a:lnTo>
                <a:lnTo>
                  <a:pt x="204" y="198"/>
                </a:lnTo>
                <a:lnTo>
                  <a:pt x="203" y="170"/>
                </a:lnTo>
                <a:lnTo>
                  <a:pt x="202" y="140"/>
                </a:lnTo>
                <a:lnTo>
                  <a:pt x="201" y="112"/>
                </a:lnTo>
                <a:lnTo>
                  <a:pt x="200" y="86"/>
                </a:lnTo>
                <a:lnTo>
                  <a:pt x="199" y="63"/>
                </a:lnTo>
                <a:lnTo>
                  <a:pt x="199" y="45"/>
                </a:lnTo>
                <a:lnTo>
                  <a:pt x="198" y="30"/>
                </a:lnTo>
                <a:lnTo>
                  <a:pt x="197" y="20"/>
                </a:lnTo>
                <a:lnTo>
                  <a:pt x="196" y="12"/>
                </a:lnTo>
                <a:lnTo>
                  <a:pt x="195" y="7"/>
                </a:lnTo>
                <a:lnTo>
                  <a:pt x="194" y="4"/>
                </a:lnTo>
                <a:lnTo>
                  <a:pt x="193" y="2"/>
                </a:lnTo>
                <a:lnTo>
                  <a:pt x="191" y="1"/>
                </a:lnTo>
                <a:lnTo>
                  <a:pt x="190" y="1"/>
                </a:lnTo>
                <a:lnTo>
                  <a:pt x="189" y="1"/>
                </a:lnTo>
                <a:lnTo>
                  <a:pt x="189" y="0"/>
                </a:lnTo>
                <a:lnTo>
                  <a:pt x="188" y="0"/>
                </a:lnTo>
                <a:lnTo>
                  <a:pt x="187" y="1"/>
                </a:lnTo>
                <a:lnTo>
                  <a:pt x="186" y="1"/>
                </a:lnTo>
                <a:lnTo>
                  <a:pt x="185" y="1"/>
                </a:lnTo>
                <a:lnTo>
                  <a:pt x="184" y="2"/>
                </a:lnTo>
                <a:lnTo>
                  <a:pt x="183" y="4"/>
                </a:lnTo>
                <a:lnTo>
                  <a:pt x="182" y="7"/>
                </a:lnTo>
                <a:lnTo>
                  <a:pt x="181" y="12"/>
                </a:lnTo>
                <a:lnTo>
                  <a:pt x="180" y="20"/>
                </a:lnTo>
                <a:lnTo>
                  <a:pt x="180" y="30"/>
                </a:lnTo>
                <a:lnTo>
                  <a:pt x="179" y="45"/>
                </a:lnTo>
                <a:lnTo>
                  <a:pt x="178" y="63"/>
                </a:lnTo>
                <a:lnTo>
                  <a:pt x="177" y="86"/>
                </a:lnTo>
                <a:lnTo>
                  <a:pt x="176" y="112"/>
                </a:lnTo>
                <a:lnTo>
                  <a:pt x="175" y="140"/>
                </a:lnTo>
                <a:lnTo>
                  <a:pt x="174" y="170"/>
                </a:lnTo>
                <a:lnTo>
                  <a:pt x="173" y="198"/>
                </a:lnTo>
                <a:lnTo>
                  <a:pt x="172" y="224"/>
                </a:lnTo>
                <a:lnTo>
                  <a:pt x="172" y="246"/>
                </a:lnTo>
                <a:lnTo>
                  <a:pt x="171" y="265"/>
                </a:lnTo>
                <a:lnTo>
                  <a:pt x="170" y="279"/>
                </a:lnTo>
                <a:lnTo>
                  <a:pt x="169" y="290"/>
                </a:lnTo>
                <a:lnTo>
                  <a:pt x="168" y="297"/>
                </a:lnTo>
                <a:lnTo>
                  <a:pt x="167" y="302"/>
                </a:lnTo>
                <a:lnTo>
                  <a:pt x="166" y="305"/>
                </a:lnTo>
                <a:lnTo>
                  <a:pt x="165" y="307"/>
                </a:lnTo>
                <a:lnTo>
                  <a:pt x="164" y="308"/>
                </a:lnTo>
                <a:lnTo>
                  <a:pt x="163" y="308"/>
                </a:lnTo>
                <a:lnTo>
                  <a:pt x="163" y="309"/>
                </a:lnTo>
                <a:lnTo>
                  <a:pt x="162" y="309"/>
                </a:lnTo>
                <a:lnTo>
                  <a:pt x="161" y="309"/>
                </a:lnTo>
                <a:lnTo>
                  <a:pt x="160" y="309"/>
                </a:lnTo>
                <a:lnTo>
                  <a:pt x="159" y="309"/>
                </a:lnTo>
                <a:lnTo>
                  <a:pt x="158" y="309"/>
                </a:lnTo>
                <a:lnTo>
                  <a:pt x="157" y="309"/>
                </a:lnTo>
                <a:lnTo>
                  <a:pt x="156" y="309"/>
                </a:lnTo>
                <a:lnTo>
                  <a:pt x="155" y="309"/>
                </a:lnTo>
                <a:lnTo>
                  <a:pt x="154" y="309"/>
                </a:lnTo>
                <a:lnTo>
                  <a:pt x="153" y="309"/>
                </a:lnTo>
                <a:lnTo>
                  <a:pt x="152" y="309"/>
                </a:lnTo>
                <a:lnTo>
                  <a:pt x="151" y="309"/>
                </a:lnTo>
                <a:lnTo>
                  <a:pt x="150" y="309"/>
                </a:lnTo>
                <a:lnTo>
                  <a:pt x="149" y="309"/>
                </a:lnTo>
                <a:lnTo>
                  <a:pt x="148" y="309"/>
                </a:lnTo>
                <a:lnTo>
                  <a:pt x="147" y="309"/>
                </a:lnTo>
                <a:lnTo>
                  <a:pt x="146" y="309"/>
                </a:lnTo>
                <a:lnTo>
                  <a:pt x="145" y="309"/>
                </a:lnTo>
                <a:lnTo>
                  <a:pt x="144" y="309"/>
                </a:lnTo>
                <a:lnTo>
                  <a:pt x="143" y="309"/>
                </a:lnTo>
                <a:lnTo>
                  <a:pt x="142" y="309"/>
                </a:lnTo>
                <a:lnTo>
                  <a:pt x="141" y="309"/>
                </a:lnTo>
                <a:lnTo>
                  <a:pt x="140" y="309"/>
                </a:lnTo>
                <a:lnTo>
                  <a:pt x="139" y="309"/>
                </a:lnTo>
                <a:lnTo>
                  <a:pt x="138" y="309"/>
                </a:lnTo>
                <a:lnTo>
                  <a:pt x="137" y="309"/>
                </a:lnTo>
                <a:lnTo>
                  <a:pt x="136" y="309"/>
                </a:lnTo>
                <a:lnTo>
                  <a:pt x="135" y="309"/>
                </a:lnTo>
                <a:lnTo>
                  <a:pt x="134" y="309"/>
                </a:lnTo>
                <a:lnTo>
                  <a:pt x="133" y="309"/>
                </a:lnTo>
                <a:lnTo>
                  <a:pt x="132" y="308"/>
                </a:lnTo>
                <a:lnTo>
                  <a:pt x="131" y="308"/>
                </a:lnTo>
                <a:lnTo>
                  <a:pt x="130" y="307"/>
                </a:lnTo>
                <a:lnTo>
                  <a:pt x="129" y="305"/>
                </a:lnTo>
                <a:lnTo>
                  <a:pt x="128" y="302"/>
                </a:lnTo>
                <a:lnTo>
                  <a:pt x="127" y="297"/>
                </a:lnTo>
                <a:lnTo>
                  <a:pt x="127" y="290"/>
                </a:lnTo>
                <a:lnTo>
                  <a:pt x="126" y="279"/>
                </a:lnTo>
                <a:lnTo>
                  <a:pt x="125" y="265"/>
                </a:lnTo>
                <a:lnTo>
                  <a:pt x="124" y="246"/>
                </a:lnTo>
                <a:lnTo>
                  <a:pt x="123" y="224"/>
                </a:lnTo>
                <a:lnTo>
                  <a:pt x="122" y="198"/>
                </a:lnTo>
                <a:lnTo>
                  <a:pt x="121" y="170"/>
                </a:lnTo>
                <a:lnTo>
                  <a:pt x="120" y="140"/>
                </a:lnTo>
                <a:lnTo>
                  <a:pt x="119" y="112"/>
                </a:lnTo>
                <a:lnTo>
                  <a:pt x="119" y="86"/>
                </a:lnTo>
                <a:lnTo>
                  <a:pt x="118" y="63"/>
                </a:lnTo>
                <a:lnTo>
                  <a:pt x="117" y="45"/>
                </a:lnTo>
                <a:lnTo>
                  <a:pt x="116" y="30"/>
                </a:lnTo>
                <a:lnTo>
                  <a:pt x="115" y="20"/>
                </a:lnTo>
                <a:lnTo>
                  <a:pt x="114" y="12"/>
                </a:lnTo>
                <a:lnTo>
                  <a:pt x="113" y="7"/>
                </a:lnTo>
                <a:lnTo>
                  <a:pt x="112" y="4"/>
                </a:lnTo>
                <a:lnTo>
                  <a:pt x="111" y="2"/>
                </a:lnTo>
                <a:lnTo>
                  <a:pt x="110" y="1"/>
                </a:lnTo>
                <a:lnTo>
                  <a:pt x="109" y="1"/>
                </a:lnTo>
                <a:lnTo>
                  <a:pt x="108" y="0"/>
                </a:lnTo>
                <a:lnTo>
                  <a:pt x="107" y="0"/>
                </a:lnTo>
                <a:lnTo>
                  <a:pt x="106" y="0"/>
                </a:lnTo>
                <a:lnTo>
                  <a:pt x="105" y="0"/>
                </a:lnTo>
                <a:lnTo>
                  <a:pt x="104" y="0"/>
                </a:lnTo>
                <a:lnTo>
                  <a:pt x="103" y="0"/>
                </a:lnTo>
                <a:lnTo>
                  <a:pt x="102" y="0"/>
                </a:lnTo>
                <a:lnTo>
                  <a:pt x="101" y="0"/>
                </a:lnTo>
                <a:lnTo>
                  <a:pt x="100" y="0"/>
                </a:lnTo>
                <a:lnTo>
                  <a:pt x="99" y="0"/>
                </a:lnTo>
                <a:lnTo>
                  <a:pt x="98" y="0"/>
                </a:lnTo>
                <a:lnTo>
                  <a:pt x="97" y="0"/>
                </a:lnTo>
                <a:lnTo>
                  <a:pt x="96" y="0"/>
                </a:lnTo>
                <a:lnTo>
                  <a:pt x="95" y="0"/>
                </a:lnTo>
                <a:lnTo>
                  <a:pt x="94" y="0"/>
                </a:lnTo>
                <a:lnTo>
                  <a:pt x="93" y="0"/>
                </a:lnTo>
                <a:lnTo>
                  <a:pt x="92" y="0"/>
                </a:lnTo>
                <a:lnTo>
                  <a:pt x="91" y="0"/>
                </a:lnTo>
                <a:lnTo>
                  <a:pt x="90" y="0"/>
                </a:lnTo>
                <a:lnTo>
                  <a:pt x="89" y="0"/>
                </a:lnTo>
                <a:lnTo>
                  <a:pt x="88" y="0"/>
                </a:lnTo>
                <a:lnTo>
                  <a:pt x="87" y="0"/>
                </a:lnTo>
                <a:lnTo>
                  <a:pt x="86" y="0"/>
                </a:lnTo>
                <a:lnTo>
                  <a:pt x="85" y="0"/>
                </a:lnTo>
                <a:lnTo>
                  <a:pt x="84" y="0"/>
                </a:lnTo>
                <a:lnTo>
                  <a:pt x="83" y="0"/>
                </a:lnTo>
                <a:lnTo>
                  <a:pt x="82" y="0"/>
                </a:lnTo>
                <a:lnTo>
                  <a:pt x="81" y="0"/>
                </a:lnTo>
                <a:lnTo>
                  <a:pt x="80" y="0"/>
                </a:lnTo>
                <a:lnTo>
                  <a:pt x="79" y="1"/>
                </a:lnTo>
                <a:lnTo>
                  <a:pt x="78" y="1"/>
                </a:lnTo>
                <a:lnTo>
                  <a:pt x="77" y="1"/>
                </a:lnTo>
                <a:lnTo>
                  <a:pt x="76" y="2"/>
                </a:lnTo>
                <a:lnTo>
                  <a:pt x="75" y="4"/>
                </a:lnTo>
                <a:lnTo>
                  <a:pt x="74" y="7"/>
                </a:lnTo>
                <a:lnTo>
                  <a:pt x="74" y="12"/>
                </a:lnTo>
                <a:lnTo>
                  <a:pt x="73" y="20"/>
                </a:lnTo>
                <a:lnTo>
                  <a:pt x="72" y="30"/>
                </a:lnTo>
                <a:lnTo>
                  <a:pt x="71" y="45"/>
                </a:lnTo>
                <a:lnTo>
                  <a:pt x="70" y="63"/>
                </a:lnTo>
                <a:lnTo>
                  <a:pt x="69" y="86"/>
                </a:lnTo>
                <a:lnTo>
                  <a:pt x="68" y="112"/>
                </a:lnTo>
                <a:lnTo>
                  <a:pt x="67" y="140"/>
                </a:lnTo>
                <a:lnTo>
                  <a:pt x="66" y="170"/>
                </a:lnTo>
                <a:lnTo>
                  <a:pt x="66" y="198"/>
                </a:lnTo>
                <a:lnTo>
                  <a:pt x="65" y="224"/>
                </a:lnTo>
                <a:lnTo>
                  <a:pt x="64" y="246"/>
                </a:lnTo>
                <a:lnTo>
                  <a:pt x="63" y="265"/>
                </a:lnTo>
                <a:lnTo>
                  <a:pt x="62" y="279"/>
                </a:lnTo>
                <a:lnTo>
                  <a:pt x="61" y="290"/>
                </a:lnTo>
                <a:lnTo>
                  <a:pt x="60" y="297"/>
                </a:lnTo>
                <a:lnTo>
                  <a:pt x="59" y="302"/>
                </a:lnTo>
                <a:lnTo>
                  <a:pt x="58" y="305"/>
                </a:lnTo>
                <a:lnTo>
                  <a:pt x="57" y="307"/>
                </a:lnTo>
                <a:lnTo>
                  <a:pt x="57" y="308"/>
                </a:lnTo>
                <a:lnTo>
                  <a:pt x="56" y="308"/>
                </a:lnTo>
                <a:lnTo>
                  <a:pt x="55" y="309"/>
                </a:lnTo>
                <a:lnTo>
                  <a:pt x="54" y="309"/>
                </a:lnTo>
                <a:lnTo>
                  <a:pt x="53" y="309"/>
                </a:lnTo>
                <a:lnTo>
                  <a:pt x="52" y="309"/>
                </a:lnTo>
                <a:lnTo>
                  <a:pt x="51" y="309"/>
                </a:lnTo>
                <a:lnTo>
                  <a:pt x="50" y="309"/>
                </a:lnTo>
                <a:lnTo>
                  <a:pt x="49" y="309"/>
                </a:lnTo>
                <a:lnTo>
                  <a:pt x="48" y="309"/>
                </a:lnTo>
                <a:lnTo>
                  <a:pt x="47" y="309"/>
                </a:lnTo>
                <a:lnTo>
                  <a:pt x="46" y="309"/>
                </a:lnTo>
                <a:lnTo>
                  <a:pt x="45" y="309"/>
                </a:lnTo>
                <a:lnTo>
                  <a:pt x="44" y="309"/>
                </a:lnTo>
                <a:lnTo>
                  <a:pt x="43" y="309"/>
                </a:lnTo>
                <a:lnTo>
                  <a:pt x="42" y="309"/>
                </a:lnTo>
                <a:lnTo>
                  <a:pt x="41" y="309"/>
                </a:lnTo>
                <a:lnTo>
                  <a:pt x="40" y="309"/>
                </a:lnTo>
                <a:lnTo>
                  <a:pt x="39" y="309"/>
                </a:lnTo>
                <a:lnTo>
                  <a:pt x="38" y="309"/>
                </a:lnTo>
                <a:lnTo>
                  <a:pt x="37" y="309"/>
                </a:lnTo>
                <a:lnTo>
                  <a:pt x="36" y="309"/>
                </a:lnTo>
                <a:lnTo>
                  <a:pt x="35" y="309"/>
                </a:lnTo>
                <a:lnTo>
                  <a:pt x="34" y="309"/>
                </a:lnTo>
                <a:lnTo>
                  <a:pt x="33" y="309"/>
                </a:lnTo>
                <a:lnTo>
                  <a:pt x="32" y="309"/>
                </a:lnTo>
                <a:lnTo>
                  <a:pt x="31" y="309"/>
                </a:lnTo>
                <a:lnTo>
                  <a:pt x="30" y="309"/>
                </a:lnTo>
                <a:lnTo>
                  <a:pt x="29" y="309"/>
                </a:lnTo>
                <a:lnTo>
                  <a:pt x="28" y="309"/>
                </a:lnTo>
                <a:lnTo>
                  <a:pt x="27" y="309"/>
                </a:lnTo>
                <a:lnTo>
                  <a:pt x="26" y="309"/>
                </a:lnTo>
                <a:lnTo>
                  <a:pt x="25" y="309"/>
                </a:lnTo>
                <a:lnTo>
                  <a:pt x="24" y="308"/>
                </a:lnTo>
                <a:lnTo>
                  <a:pt x="23" y="308"/>
                </a:lnTo>
                <a:lnTo>
                  <a:pt x="22" y="307"/>
                </a:lnTo>
                <a:lnTo>
                  <a:pt x="21" y="305"/>
                </a:lnTo>
                <a:lnTo>
                  <a:pt x="21" y="302"/>
                </a:lnTo>
                <a:lnTo>
                  <a:pt x="20" y="297"/>
                </a:lnTo>
                <a:lnTo>
                  <a:pt x="19" y="290"/>
                </a:lnTo>
                <a:lnTo>
                  <a:pt x="18" y="279"/>
                </a:lnTo>
                <a:lnTo>
                  <a:pt x="17" y="265"/>
                </a:lnTo>
                <a:lnTo>
                  <a:pt x="16" y="246"/>
                </a:lnTo>
                <a:lnTo>
                  <a:pt x="15" y="224"/>
                </a:lnTo>
                <a:lnTo>
                  <a:pt x="14" y="198"/>
                </a:lnTo>
                <a:lnTo>
                  <a:pt x="13" y="170"/>
                </a:lnTo>
                <a:lnTo>
                  <a:pt x="13" y="140"/>
                </a:lnTo>
                <a:lnTo>
                  <a:pt x="12" y="112"/>
                </a:lnTo>
                <a:lnTo>
                  <a:pt x="11" y="86"/>
                </a:lnTo>
                <a:lnTo>
                  <a:pt x="10" y="63"/>
                </a:lnTo>
                <a:lnTo>
                  <a:pt x="9" y="45"/>
                </a:lnTo>
                <a:lnTo>
                  <a:pt x="8" y="30"/>
                </a:lnTo>
                <a:lnTo>
                  <a:pt x="7" y="20"/>
                </a:lnTo>
                <a:lnTo>
                  <a:pt x="6" y="12"/>
                </a:lnTo>
                <a:lnTo>
                  <a:pt x="5" y="7"/>
                </a:lnTo>
                <a:lnTo>
                  <a:pt x="4" y="4"/>
                </a:lnTo>
                <a:lnTo>
                  <a:pt x="4" y="2"/>
                </a:lnTo>
                <a:lnTo>
                  <a:pt x="3" y="1"/>
                </a:lnTo>
                <a:lnTo>
                  <a:pt x="2" y="1"/>
                </a:lnTo>
                <a:lnTo>
                  <a:pt x="1" y="1"/>
                </a:lnTo>
                <a:lnTo>
                  <a:pt x="0" y="0"/>
                </a:lnTo>
              </a:path>
            </a:pathLst>
          </a:custGeom>
          <a:noFill/>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109960" y="2095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24392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109960" y="2095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724392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10996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flipV="1">
            <a:off x="210996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 name=""/>
          <p:cNvSpPr/>
          <p:nvPr/>
        </p:nvSpPr>
        <p:spPr>
          <a:xfrm>
            <a:off x="210996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5" name=""/>
          <p:cNvSpPr/>
          <p:nvPr/>
        </p:nvSpPr>
        <p:spPr>
          <a:xfrm>
            <a:off x="2104920" y="5438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56" name=""/>
          <p:cNvSpPr/>
          <p:nvPr/>
        </p:nvSpPr>
        <p:spPr>
          <a:xfrm flipV="1">
            <a:off x="296712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296712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287676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259" name=""/>
          <p:cNvSpPr/>
          <p:nvPr/>
        </p:nvSpPr>
        <p:spPr>
          <a:xfrm flipV="1">
            <a:off x="382428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 name=""/>
          <p:cNvSpPr/>
          <p:nvPr/>
        </p:nvSpPr>
        <p:spPr>
          <a:xfrm>
            <a:off x="382428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373392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000000"/>
              </a:solidFill>
              <a:latin typeface="Times New Roman"/>
            </a:endParaRPr>
          </a:p>
        </p:txBody>
      </p:sp>
      <p:sp>
        <p:nvSpPr>
          <p:cNvPr id="262" name=""/>
          <p:cNvSpPr/>
          <p:nvPr/>
        </p:nvSpPr>
        <p:spPr>
          <a:xfrm flipV="1">
            <a:off x="4681440" y="53532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 name=""/>
          <p:cNvSpPr/>
          <p:nvPr/>
        </p:nvSpPr>
        <p:spPr>
          <a:xfrm>
            <a:off x="4681440" y="209556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 name=""/>
          <p:cNvSpPr/>
          <p:nvPr/>
        </p:nvSpPr>
        <p:spPr>
          <a:xfrm>
            <a:off x="459108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265" name=""/>
          <p:cNvSpPr/>
          <p:nvPr/>
        </p:nvSpPr>
        <p:spPr>
          <a:xfrm flipV="1">
            <a:off x="552924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 name=""/>
          <p:cNvSpPr/>
          <p:nvPr/>
        </p:nvSpPr>
        <p:spPr>
          <a:xfrm>
            <a:off x="552924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543888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endParaRPr b="0" lang="en-US" sz="1200" spc="-1" strike="noStrike">
              <a:solidFill>
                <a:srgbClr val="000000"/>
              </a:solidFill>
              <a:latin typeface="Times New Roman"/>
            </a:endParaRPr>
          </a:p>
        </p:txBody>
      </p:sp>
      <p:sp>
        <p:nvSpPr>
          <p:cNvPr id="268" name=""/>
          <p:cNvSpPr/>
          <p:nvPr/>
        </p:nvSpPr>
        <p:spPr>
          <a:xfrm flipV="1">
            <a:off x="6386400" y="53532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6386400" y="209556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 name=""/>
          <p:cNvSpPr/>
          <p:nvPr/>
        </p:nvSpPr>
        <p:spPr>
          <a:xfrm>
            <a:off x="629604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Times New Roman"/>
            </a:endParaRPr>
          </a:p>
        </p:txBody>
      </p:sp>
      <p:sp>
        <p:nvSpPr>
          <p:cNvPr id="271" name=""/>
          <p:cNvSpPr/>
          <p:nvPr/>
        </p:nvSpPr>
        <p:spPr>
          <a:xfrm flipV="1">
            <a:off x="7243920" y="5353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 name=""/>
          <p:cNvSpPr/>
          <p:nvPr/>
        </p:nvSpPr>
        <p:spPr>
          <a:xfrm>
            <a:off x="7243920" y="2095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7153560" y="5438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Times New Roman"/>
            </a:endParaRPr>
          </a:p>
        </p:txBody>
      </p:sp>
      <p:sp>
        <p:nvSpPr>
          <p:cNvPr id="274" name=""/>
          <p:cNvSpPr/>
          <p:nvPr/>
        </p:nvSpPr>
        <p:spPr>
          <a:xfrm>
            <a:off x="2109960" y="54007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7195680" y="540072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1969920" y="53150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77" name=""/>
          <p:cNvSpPr/>
          <p:nvPr/>
        </p:nvSpPr>
        <p:spPr>
          <a:xfrm>
            <a:off x="2109960" y="48481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H="1">
            <a:off x="7195680" y="484812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1969920" y="47624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80" name=""/>
          <p:cNvSpPr/>
          <p:nvPr/>
        </p:nvSpPr>
        <p:spPr>
          <a:xfrm>
            <a:off x="2109960" y="42958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H="1">
            <a:off x="7195680" y="429588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1969920" y="42102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83" name=""/>
          <p:cNvSpPr/>
          <p:nvPr/>
        </p:nvSpPr>
        <p:spPr>
          <a:xfrm>
            <a:off x="2109960" y="37530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flipH="1">
            <a:off x="7195680" y="375300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2019240" y="3666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86" name=""/>
          <p:cNvSpPr/>
          <p:nvPr/>
        </p:nvSpPr>
        <p:spPr>
          <a:xfrm>
            <a:off x="2109960" y="3200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flipH="1">
            <a:off x="7195680" y="320040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2019240" y="311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89" name=""/>
          <p:cNvSpPr/>
          <p:nvPr/>
        </p:nvSpPr>
        <p:spPr>
          <a:xfrm>
            <a:off x="2109960" y="264780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flipH="1">
            <a:off x="7195680" y="264780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2019240" y="2562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92" name=""/>
          <p:cNvSpPr/>
          <p:nvPr/>
        </p:nvSpPr>
        <p:spPr>
          <a:xfrm>
            <a:off x="2109960" y="2095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flipH="1">
            <a:off x="7195680" y="209556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2019240" y="2009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95" name=""/>
          <p:cNvSpPr/>
          <p:nvPr/>
        </p:nvSpPr>
        <p:spPr>
          <a:xfrm>
            <a:off x="2109960" y="540072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2109960" y="2095560"/>
            <a:ext cx="513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flipV="1">
            <a:off x="210996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243920" y="2095200"/>
            <a:ext cx="144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109960" y="540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7243920" y="20955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119320" y="2800440"/>
            <a:ext cx="4276800" cy="1819080"/>
          </a:xfrm>
          <a:custGeom>
            <a:avLst/>
            <a:gdLst/>
            <a:ahLst/>
            <a:rect l="l" t="t" r="r" b="b"/>
            <a:pathLst>
              <a:path w="2694" h="1146">
                <a:moveTo>
                  <a:pt x="0" y="180"/>
                </a:moveTo>
                <a:lnTo>
                  <a:pt x="6" y="210"/>
                </a:lnTo>
                <a:lnTo>
                  <a:pt x="12" y="126"/>
                </a:lnTo>
                <a:lnTo>
                  <a:pt x="18" y="192"/>
                </a:lnTo>
                <a:lnTo>
                  <a:pt x="18" y="120"/>
                </a:lnTo>
                <a:lnTo>
                  <a:pt x="24" y="132"/>
                </a:lnTo>
                <a:lnTo>
                  <a:pt x="30" y="126"/>
                </a:lnTo>
                <a:lnTo>
                  <a:pt x="36" y="66"/>
                </a:lnTo>
                <a:lnTo>
                  <a:pt x="42" y="150"/>
                </a:lnTo>
                <a:lnTo>
                  <a:pt x="48" y="78"/>
                </a:lnTo>
                <a:lnTo>
                  <a:pt x="54" y="168"/>
                </a:lnTo>
                <a:lnTo>
                  <a:pt x="60" y="156"/>
                </a:lnTo>
                <a:lnTo>
                  <a:pt x="66" y="156"/>
                </a:lnTo>
                <a:lnTo>
                  <a:pt x="72" y="210"/>
                </a:lnTo>
                <a:lnTo>
                  <a:pt x="72" y="138"/>
                </a:lnTo>
                <a:lnTo>
                  <a:pt x="78" y="210"/>
                </a:lnTo>
                <a:lnTo>
                  <a:pt x="84" y="150"/>
                </a:lnTo>
                <a:lnTo>
                  <a:pt x="90" y="150"/>
                </a:lnTo>
                <a:lnTo>
                  <a:pt x="96" y="156"/>
                </a:lnTo>
                <a:lnTo>
                  <a:pt x="102" y="90"/>
                </a:lnTo>
                <a:lnTo>
                  <a:pt x="108" y="174"/>
                </a:lnTo>
                <a:lnTo>
                  <a:pt x="114" y="114"/>
                </a:lnTo>
                <a:lnTo>
                  <a:pt x="120" y="192"/>
                </a:lnTo>
                <a:lnTo>
                  <a:pt x="126" y="216"/>
                </a:lnTo>
                <a:lnTo>
                  <a:pt x="126" y="210"/>
                </a:lnTo>
                <a:lnTo>
                  <a:pt x="132" y="306"/>
                </a:lnTo>
                <a:lnTo>
                  <a:pt x="138" y="258"/>
                </a:lnTo>
                <a:lnTo>
                  <a:pt x="144" y="342"/>
                </a:lnTo>
                <a:lnTo>
                  <a:pt x="150" y="330"/>
                </a:lnTo>
                <a:lnTo>
                  <a:pt x="156" y="324"/>
                </a:lnTo>
                <a:lnTo>
                  <a:pt x="162" y="378"/>
                </a:lnTo>
                <a:lnTo>
                  <a:pt x="168" y="324"/>
                </a:lnTo>
                <a:lnTo>
                  <a:pt x="174" y="402"/>
                </a:lnTo>
                <a:lnTo>
                  <a:pt x="180" y="396"/>
                </a:lnTo>
                <a:lnTo>
                  <a:pt x="180" y="420"/>
                </a:lnTo>
                <a:lnTo>
                  <a:pt x="186" y="486"/>
                </a:lnTo>
                <a:lnTo>
                  <a:pt x="192" y="474"/>
                </a:lnTo>
                <a:lnTo>
                  <a:pt x="198" y="570"/>
                </a:lnTo>
                <a:lnTo>
                  <a:pt x="204" y="576"/>
                </a:lnTo>
                <a:lnTo>
                  <a:pt x="210" y="618"/>
                </a:lnTo>
                <a:lnTo>
                  <a:pt x="216" y="684"/>
                </a:lnTo>
                <a:lnTo>
                  <a:pt x="222" y="684"/>
                </a:lnTo>
                <a:lnTo>
                  <a:pt x="228" y="768"/>
                </a:lnTo>
                <a:lnTo>
                  <a:pt x="234" y="798"/>
                </a:lnTo>
                <a:lnTo>
                  <a:pt x="234" y="840"/>
                </a:lnTo>
                <a:lnTo>
                  <a:pt x="240" y="924"/>
                </a:lnTo>
                <a:lnTo>
                  <a:pt x="246" y="942"/>
                </a:lnTo>
                <a:lnTo>
                  <a:pt x="252" y="1014"/>
                </a:lnTo>
                <a:lnTo>
                  <a:pt x="258" y="1062"/>
                </a:lnTo>
                <a:lnTo>
                  <a:pt x="264" y="1074"/>
                </a:lnTo>
                <a:lnTo>
                  <a:pt x="270" y="1128"/>
                </a:lnTo>
                <a:lnTo>
                  <a:pt x="276" y="1116"/>
                </a:lnTo>
                <a:lnTo>
                  <a:pt x="282" y="1122"/>
                </a:lnTo>
                <a:lnTo>
                  <a:pt x="288" y="1146"/>
                </a:lnTo>
                <a:lnTo>
                  <a:pt x="288" y="1104"/>
                </a:lnTo>
                <a:lnTo>
                  <a:pt x="294" y="1116"/>
                </a:lnTo>
                <a:lnTo>
                  <a:pt x="300" y="1086"/>
                </a:lnTo>
                <a:lnTo>
                  <a:pt x="306" y="1044"/>
                </a:lnTo>
                <a:lnTo>
                  <a:pt x="312" y="1062"/>
                </a:lnTo>
                <a:lnTo>
                  <a:pt x="318" y="990"/>
                </a:lnTo>
                <a:lnTo>
                  <a:pt x="324" y="990"/>
                </a:lnTo>
                <a:lnTo>
                  <a:pt x="330" y="954"/>
                </a:lnTo>
                <a:lnTo>
                  <a:pt x="336" y="882"/>
                </a:lnTo>
                <a:lnTo>
                  <a:pt x="336" y="888"/>
                </a:lnTo>
                <a:lnTo>
                  <a:pt x="342" y="792"/>
                </a:lnTo>
                <a:lnTo>
                  <a:pt x="348" y="780"/>
                </a:lnTo>
                <a:lnTo>
                  <a:pt x="354" y="732"/>
                </a:lnTo>
                <a:lnTo>
                  <a:pt x="360" y="648"/>
                </a:lnTo>
                <a:lnTo>
                  <a:pt x="366" y="666"/>
                </a:lnTo>
                <a:lnTo>
                  <a:pt x="372" y="564"/>
                </a:lnTo>
                <a:lnTo>
                  <a:pt x="378" y="582"/>
                </a:lnTo>
                <a:lnTo>
                  <a:pt x="384" y="540"/>
                </a:lnTo>
                <a:lnTo>
                  <a:pt x="390" y="480"/>
                </a:lnTo>
                <a:lnTo>
                  <a:pt x="390" y="510"/>
                </a:lnTo>
                <a:lnTo>
                  <a:pt x="396" y="420"/>
                </a:lnTo>
                <a:lnTo>
                  <a:pt x="402" y="456"/>
                </a:lnTo>
                <a:lnTo>
                  <a:pt x="408" y="396"/>
                </a:lnTo>
                <a:lnTo>
                  <a:pt x="414" y="360"/>
                </a:lnTo>
                <a:lnTo>
                  <a:pt x="420" y="366"/>
                </a:lnTo>
                <a:lnTo>
                  <a:pt x="426" y="270"/>
                </a:lnTo>
                <a:lnTo>
                  <a:pt x="432" y="318"/>
                </a:lnTo>
                <a:lnTo>
                  <a:pt x="438" y="246"/>
                </a:lnTo>
                <a:lnTo>
                  <a:pt x="444" y="258"/>
                </a:lnTo>
                <a:lnTo>
                  <a:pt x="450" y="204"/>
                </a:lnTo>
                <a:lnTo>
                  <a:pt x="456" y="288"/>
                </a:lnTo>
                <a:lnTo>
                  <a:pt x="462" y="222"/>
                </a:lnTo>
                <a:lnTo>
                  <a:pt x="468" y="288"/>
                </a:lnTo>
                <a:lnTo>
                  <a:pt x="474" y="276"/>
                </a:lnTo>
                <a:lnTo>
                  <a:pt x="480" y="252"/>
                </a:lnTo>
                <a:lnTo>
                  <a:pt x="486" y="306"/>
                </a:lnTo>
                <a:lnTo>
                  <a:pt x="492" y="228"/>
                </a:lnTo>
                <a:lnTo>
                  <a:pt x="498" y="288"/>
                </a:lnTo>
                <a:lnTo>
                  <a:pt x="498" y="228"/>
                </a:lnTo>
                <a:lnTo>
                  <a:pt x="504" y="222"/>
                </a:lnTo>
                <a:lnTo>
                  <a:pt x="510" y="228"/>
                </a:lnTo>
                <a:lnTo>
                  <a:pt x="516" y="150"/>
                </a:lnTo>
                <a:lnTo>
                  <a:pt x="522" y="222"/>
                </a:lnTo>
                <a:lnTo>
                  <a:pt x="528" y="150"/>
                </a:lnTo>
                <a:lnTo>
                  <a:pt x="534" y="198"/>
                </a:lnTo>
                <a:lnTo>
                  <a:pt x="540" y="198"/>
                </a:lnTo>
                <a:lnTo>
                  <a:pt x="546" y="168"/>
                </a:lnTo>
                <a:lnTo>
                  <a:pt x="552" y="252"/>
                </a:lnTo>
                <a:lnTo>
                  <a:pt x="552" y="186"/>
                </a:lnTo>
                <a:lnTo>
                  <a:pt x="558" y="264"/>
                </a:lnTo>
                <a:lnTo>
                  <a:pt x="564" y="240"/>
                </a:lnTo>
                <a:lnTo>
                  <a:pt x="570" y="228"/>
                </a:lnTo>
                <a:lnTo>
                  <a:pt x="576" y="264"/>
                </a:lnTo>
                <a:lnTo>
                  <a:pt x="582" y="186"/>
                </a:lnTo>
                <a:lnTo>
                  <a:pt x="588" y="252"/>
                </a:lnTo>
                <a:lnTo>
                  <a:pt x="594" y="192"/>
                </a:lnTo>
                <a:lnTo>
                  <a:pt x="600" y="204"/>
                </a:lnTo>
                <a:lnTo>
                  <a:pt x="606" y="210"/>
                </a:lnTo>
                <a:lnTo>
                  <a:pt x="606" y="150"/>
                </a:lnTo>
                <a:lnTo>
                  <a:pt x="612" y="240"/>
                </a:lnTo>
                <a:lnTo>
                  <a:pt x="618" y="174"/>
                </a:lnTo>
                <a:lnTo>
                  <a:pt x="624" y="246"/>
                </a:lnTo>
                <a:lnTo>
                  <a:pt x="630" y="246"/>
                </a:lnTo>
                <a:lnTo>
                  <a:pt x="636" y="228"/>
                </a:lnTo>
                <a:lnTo>
                  <a:pt x="642" y="300"/>
                </a:lnTo>
                <a:lnTo>
                  <a:pt x="648" y="234"/>
                </a:lnTo>
                <a:lnTo>
                  <a:pt x="654" y="300"/>
                </a:lnTo>
                <a:lnTo>
                  <a:pt x="654" y="264"/>
                </a:lnTo>
                <a:lnTo>
                  <a:pt x="660" y="252"/>
                </a:lnTo>
                <a:lnTo>
                  <a:pt x="666" y="270"/>
                </a:lnTo>
                <a:lnTo>
                  <a:pt x="672" y="198"/>
                </a:lnTo>
                <a:lnTo>
                  <a:pt x="678" y="264"/>
                </a:lnTo>
                <a:lnTo>
                  <a:pt x="684" y="204"/>
                </a:lnTo>
                <a:lnTo>
                  <a:pt x="690" y="234"/>
                </a:lnTo>
                <a:lnTo>
                  <a:pt x="696" y="240"/>
                </a:lnTo>
                <a:lnTo>
                  <a:pt x="702" y="198"/>
                </a:lnTo>
                <a:lnTo>
                  <a:pt x="708" y="282"/>
                </a:lnTo>
                <a:lnTo>
                  <a:pt x="708" y="216"/>
                </a:lnTo>
                <a:lnTo>
                  <a:pt x="714" y="294"/>
                </a:lnTo>
                <a:lnTo>
                  <a:pt x="720" y="288"/>
                </a:lnTo>
                <a:lnTo>
                  <a:pt x="726" y="276"/>
                </a:lnTo>
                <a:lnTo>
                  <a:pt x="732" y="330"/>
                </a:lnTo>
                <a:lnTo>
                  <a:pt x="738" y="258"/>
                </a:lnTo>
                <a:lnTo>
                  <a:pt x="744" y="324"/>
                </a:lnTo>
                <a:lnTo>
                  <a:pt x="750" y="270"/>
                </a:lnTo>
                <a:lnTo>
                  <a:pt x="756" y="270"/>
                </a:lnTo>
                <a:lnTo>
                  <a:pt x="762" y="276"/>
                </a:lnTo>
                <a:lnTo>
                  <a:pt x="762" y="210"/>
                </a:lnTo>
                <a:lnTo>
                  <a:pt x="768" y="282"/>
                </a:lnTo>
                <a:lnTo>
                  <a:pt x="774" y="222"/>
                </a:lnTo>
                <a:lnTo>
                  <a:pt x="780" y="276"/>
                </a:lnTo>
                <a:lnTo>
                  <a:pt x="786" y="294"/>
                </a:lnTo>
                <a:lnTo>
                  <a:pt x="792" y="276"/>
                </a:lnTo>
                <a:lnTo>
                  <a:pt x="798" y="378"/>
                </a:lnTo>
                <a:lnTo>
                  <a:pt x="804" y="336"/>
                </a:lnTo>
                <a:lnTo>
                  <a:pt x="810" y="420"/>
                </a:lnTo>
                <a:lnTo>
                  <a:pt x="816" y="432"/>
                </a:lnTo>
                <a:lnTo>
                  <a:pt x="822" y="504"/>
                </a:lnTo>
                <a:lnTo>
                  <a:pt x="828" y="462"/>
                </a:lnTo>
                <a:lnTo>
                  <a:pt x="834" y="528"/>
                </a:lnTo>
                <a:lnTo>
                  <a:pt x="840" y="528"/>
                </a:lnTo>
                <a:lnTo>
                  <a:pt x="846" y="540"/>
                </a:lnTo>
                <a:lnTo>
                  <a:pt x="852" y="600"/>
                </a:lnTo>
                <a:lnTo>
                  <a:pt x="858" y="582"/>
                </a:lnTo>
                <a:lnTo>
                  <a:pt x="864" y="654"/>
                </a:lnTo>
                <a:lnTo>
                  <a:pt x="870" y="678"/>
                </a:lnTo>
                <a:lnTo>
                  <a:pt x="870" y="702"/>
                </a:lnTo>
                <a:lnTo>
                  <a:pt x="876" y="786"/>
                </a:lnTo>
                <a:lnTo>
                  <a:pt x="882" y="786"/>
                </a:lnTo>
                <a:lnTo>
                  <a:pt x="888" y="864"/>
                </a:lnTo>
                <a:lnTo>
                  <a:pt x="894" y="906"/>
                </a:lnTo>
                <a:lnTo>
                  <a:pt x="900" y="930"/>
                </a:lnTo>
                <a:lnTo>
                  <a:pt x="906" y="1002"/>
                </a:lnTo>
                <a:lnTo>
                  <a:pt x="912" y="1002"/>
                </a:lnTo>
                <a:lnTo>
                  <a:pt x="918" y="1038"/>
                </a:lnTo>
                <a:lnTo>
                  <a:pt x="924" y="1074"/>
                </a:lnTo>
                <a:lnTo>
                  <a:pt x="924" y="1044"/>
                </a:lnTo>
                <a:lnTo>
                  <a:pt x="930" y="1074"/>
                </a:lnTo>
                <a:lnTo>
                  <a:pt x="936" y="1050"/>
                </a:lnTo>
                <a:lnTo>
                  <a:pt x="942" y="1026"/>
                </a:lnTo>
                <a:lnTo>
                  <a:pt x="948" y="1056"/>
                </a:lnTo>
                <a:lnTo>
                  <a:pt x="954" y="996"/>
                </a:lnTo>
                <a:lnTo>
                  <a:pt x="960" y="1008"/>
                </a:lnTo>
                <a:lnTo>
                  <a:pt x="966" y="978"/>
                </a:lnTo>
                <a:lnTo>
                  <a:pt x="972" y="930"/>
                </a:lnTo>
                <a:lnTo>
                  <a:pt x="972" y="948"/>
                </a:lnTo>
                <a:lnTo>
                  <a:pt x="978" y="864"/>
                </a:lnTo>
                <a:lnTo>
                  <a:pt x="984" y="864"/>
                </a:lnTo>
                <a:lnTo>
                  <a:pt x="990" y="816"/>
                </a:lnTo>
                <a:lnTo>
                  <a:pt x="996" y="738"/>
                </a:lnTo>
                <a:lnTo>
                  <a:pt x="1002" y="762"/>
                </a:lnTo>
                <a:lnTo>
                  <a:pt x="1008" y="660"/>
                </a:lnTo>
                <a:lnTo>
                  <a:pt x="1014" y="666"/>
                </a:lnTo>
                <a:lnTo>
                  <a:pt x="1020" y="624"/>
                </a:lnTo>
                <a:lnTo>
                  <a:pt x="1026" y="564"/>
                </a:lnTo>
                <a:lnTo>
                  <a:pt x="1026" y="594"/>
                </a:lnTo>
                <a:lnTo>
                  <a:pt x="1032" y="492"/>
                </a:lnTo>
                <a:lnTo>
                  <a:pt x="1038" y="522"/>
                </a:lnTo>
                <a:lnTo>
                  <a:pt x="1044" y="468"/>
                </a:lnTo>
                <a:lnTo>
                  <a:pt x="1050" y="420"/>
                </a:lnTo>
                <a:lnTo>
                  <a:pt x="1056" y="432"/>
                </a:lnTo>
                <a:lnTo>
                  <a:pt x="1062" y="336"/>
                </a:lnTo>
                <a:lnTo>
                  <a:pt x="1068" y="378"/>
                </a:lnTo>
                <a:lnTo>
                  <a:pt x="1074" y="312"/>
                </a:lnTo>
                <a:lnTo>
                  <a:pt x="1080" y="306"/>
                </a:lnTo>
                <a:lnTo>
                  <a:pt x="1080" y="312"/>
                </a:lnTo>
                <a:lnTo>
                  <a:pt x="1086" y="240"/>
                </a:lnTo>
                <a:lnTo>
                  <a:pt x="1092" y="306"/>
                </a:lnTo>
                <a:lnTo>
                  <a:pt x="1098" y="240"/>
                </a:lnTo>
                <a:lnTo>
                  <a:pt x="1104" y="276"/>
                </a:lnTo>
                <a:lnTo>
                  <a:pt x="1110" y="270"/>
                </a:lnTo>
                <a:lnTo>
                  <a:pt x="1116" y="228"/>
                </a:lnTo>
                <a:lnTo>
                  <a:pt x="1122" y="300"/>
                </a:lnTo>
                <a:lnTo>
                  <a:pt x="1128" y="228"/>
                </a:lnTo>
                <a:lnTo>
                  <a:pt x="1134" y="294"/>
                </a:lnTo>
                <a:lnTo>
                  <a:pt x="1134" y="270"/>
                </a:lnTo>
                <a:lnTo>
                  <a:pt x="1140" y="252"/>
                </a:lnTo>
                <a:lnTo>
                  <a:pt x="1146" y="288"/>
                </a:lnTo>
                <a:lnTo>
                  <a:pt x="1152" y="210"/>
                </a:lnTo>
                <a:lnTo>
                  <a:pt x="1158" y="270"/>
                </a:lnTo>
                <a:lnTo>
                  <a:pt x="1164" y="204"/>
                </a:lnTo>
                <a:lnTo>
                  <a:pt x="1170" y="210"/>
                </a:lnTo>
                <a:lnTo>
                  <a:pt x="1176" y="210"/>
                </a:lnTo>
                <a:lnTo>
                  <a:pt x="1182" y="144"/>
                </a:lnTo>
                <a:lnTo>
                  <a:pt x="1188" y="222"/>
                </a:lnTo>
                <a:lnTo>
                  <a:pt x="1188" y="156"/>
                </a:lnTo>
                <a:lnTo>
                  <a:pt x="1194" y="216"/>
                </a:lnTo>
                <a:lnTo>
                  <a:pt x="1200" y="222"/>
                </a:lnTo>
                <a:lnTo>
                  <a:pt x="1206" y="204"/>
                </a:lnTo>
                <a:lnTo>
                  <a:pt x="1212" y="282"/>
                </a:lnTo>
                <a:lnTo>
                  <a:pt x="1218" y="216"/>
                </a:lnTo>
                <a:lnTo>
                  <a:pt x="1224" y="294"/>
                </a:lnTo>
                <a:lnTo>
                  <a:pt x="1230" y="258"/>
                </a:lnTo>
                <a:lnTo>
                  <a:pt x="1236" y="246"/>
                </a:lnTo>
                <a:lnTo>
                  <a:pt x="1242" y="270"/>
                </a:lnTo>
                <a:lnTo>
                  <a:pt x="1242" y="192"/>
                </a:lnTo>
                <a:lnTo>
                  <a:pt x="1248" y="258"/>
                </a:lnTo>
                <a:lnTo>
                  <a:pt x="1254" y="192"/>
                </a:lnTo>
                <a:lnTo>
                  <a:pt x="1260" y="216"/>
                </a:lnTo>
                <a:lnTo>
                  <a:pt x="1266" y="222"/>
                </a:lnTo>
                <a:lnTo>
                  <a:pt x="1272" y="180"/>
                </a:lnTo>
                <a:lnTo>
                  <a:pt x="1278" y="270"/>
                </a:lnTo>
                <a:lnTo>
                  <a:pt x="1284" y="204"/>
                </a:lnTo>
                <a:lnTo>
                  <a:pt x="1290" y="288"/>
                </a:lnTo>
                <a:lnTo>
                  <a:pt x="1290" y="276"/>
                </a:lnTo>
                <a:lnTo>
                  <a:pt x="1296" y="264"/>
                </a:lnTo>
                <a:lnTo>
                  <a:pt x="1302" y="312"/>
                </a:lnTo>
                <a:lnTo>
                  <a:pt x="1308" y="234"/>
                </a:lnTo>
                <a:lnTo>
                  <a:pt x="1314" y="300"/>
                </a:lnTo>
                <a:lnTo>
                  <a:pt x="1320" y="234"/>
                </a:lnTo>
                <a:lnTo>
                  <a:pt x="1326" y="228"/>
                </a:lnTo>
                <a:lnTo>
                  <a:pt x="1332" y="228"/>
                </a:lnTo>
                <a:lnTo>
                  <a:pt x="1338" y="150"/>
                </a:lnTo>
                <a:lnTo>
                  <a:pt x="1344" y="222"/>
                </a:lnTo>
                <a:lnTo>
                  <a:pt x="1344" y="150"/>
                </a:lnTo>
                <a:lnTo>
                  <a:pt x="1350" y="204"/>
                </a:lnTo>
                <a:lnTo>
                  <a:pt x="1356" y="210"/>
                </a:lnTo>
                <a:lnTo>
                  <a:pt x="1362" y="192"/>
                </a:lnTo>
                <a:lnTo>
                  <a:pt x="1368" y="276"/>
                </a:lnTo>
                <a:lnTo>
                  <a:pt x="1374" y="210"/>
                </a:lnTo>
                <a:lnTo>
                  <a:pt x="1380" y="288"/>
                </a:lnTo>
                <a:lnTo>
                  <a:pt x="1386" y="264"/>
                </a:lnTo>
                <a:lnTo>
                  <a:pt x="1392" y="252"/>
                </a:lnTo>
                <a:lnTo>
                  <a:pt x="1398" y="282"/>
                </a:lnTo>
                <a:lnTo>
                  <a:pt x="1398" y="210"/>
                </a:lnTo>
                <a:lnTo>
                  <a:pt x="1404" y="276"/>
                </a:lnTo>
                <a:lnTo>
                  <a:pt x="1410" y="222"/>
                </a:lnTo>
                <a:lnTo>
                  <a:pt x="1416" y="246"/>
                </a:lnTo>
                <a:lnTo>
                  <a:pt x="1422" y="270"/>
                </a:lnTo>
                <a:lnTo>
                  <a:pt x="1428" y="228"/>
                </a:lnTo>
                <a:lnTo>
                  <a:pt x="1434" y="324"/>
                </a:lnTo>
                <a:lnTo>
                  <a:pt x="1440" y="282"/>
                </a:lnTo>
                <a:lnTo>
                  <a:pt x="1446" y="354"/>
                </a:lnTo>
                <a:lnTo>
                  <a:pt x="1452" y="372"/>
                </a:lnTo>
                <a:lnTo>
                  <a:pt x="1452" y="360"/>
                </a:lnTo>
                <a:lnTo>
                  <a:pt x="1458" y="444"/>
                </a:lnTo>
                <a:lnTo>
                  <a:pt x="1464" y="408"/>
                </a:lnTo>
                <a:lnTo>
                  <a:pt x="1470" y="486"/>
                </a:lnTo>
                <a:lnTo>
                  <a:pt x="1476" y="492"/>
                </a:lnTo>
                <a:lnTo>
                  <a:pt x="1482" y="498"/>
                </a:lnTo>
                <a:lnTo>
                  <a:pt x="1488" y="570"/>
                </a:lnTo>
                <a:lnTo>
                  <a:pt x="1494" y="540"/>
                </a:lnTo>
                <a:lnTo>
                  <a:pt x="1500" y="618"/>
                </a:lnTo>
                <a:lnTo>
                  <a:pt x="1506" y="630"/>
                </a:lnTo>
                <a:lnTo>
                  <a:pt x="1506" y="642"/>
                </a:lnTo>
                <a:lnTo>
                  <a:pt x="1512" y="714"/>
                </a:lnTo>
                <a:lnTo>
                  <a:pt x="1518" y="696"/>
                </a:lnTo>
                <a:lnTo>
                  <a:pt x="1524" y="768"/>
                </a:lnTo>
                <a:lnTo>
                  <a:pt x="1530" y="798"/>
                </a:lnTo>
                <a:lnTo>
                  <a:pt x="1536" y="816"/>
                </a:lnTo>
                <a:lnTo>
                  <a:pt x="1542" y="900"/>
                </a:lnTo>
                <a:lnTo>
                  <a:pt x="1548" y="900"/>
                </a:lnTo>
                <a:lnTo>
                  <a:pt x="1554" y="954"/>
                </a:lnTo>
                <a:lnTo>
                  <a:pt x="1560" y="996"/>
                </a:lnTo>
                <a:lnTo>
                  <a:pt x="1560" y="990"/>
                </a:lnTo>
                <a:lnTo>
                  <a:pt x="1566" y="1038"/>
                </a:lnTo>
                <a:lnTo>
                  <a:pt x="1572" y="1026"/>
                </a:lnTo>
                <a:lnTo>
                  <a:pt x="1578" y="1026"/>
                </a:lnTo>
                <a:lnTo>
                  <a:pt x="1584" y="1056"/>
                </a:lnTo>
                <a:lnTo>
                  <a:pt x="1590" y="1008"/>
                </a:lnTo>
                <a:lnTo>
                  <a:pt x="1596" y="1032"/>
                </a:lnTo>
                <a:lnTo>
                  <a:pt x="1602" y="1008"/>
                </a:lnTo>
                <a:lnTo>
                  <a:pt x="1608" y="972"/>
                </a:lnTo>
                <a:lnTo>
                  <a:pt x="1614" y="1002"/>
                </a:lnTo>
                <a:lnTo>
                  <a:pt x="1614" y="930"/>
                </a:lnTo>
                <a:lnTo>
                  <a:pt x="1620" y="930"/>
                </a:lnTo>
                <a:lnTo>
                  <a:pt x="1626" y="900"/>
                </a:lnTo>
                <a:lnTo>
                  <a:pt x="1632" y="828"/>
                </a:lnTo>
                <a:lnTo>
                  <a:pt x="1638" y="846"/>
                </a:lnTo>
                <a:lnTo>
                  <a:pt x="1644" y="756"/>
                </a:lnTo>
                <a:lnTo>
                  <a:pt x="1650" y="744"/>
                </a:lnTo>
                <a:lnTo>
                  <a:pt x="1656" y="702"/>
                </a:lnTo>
                <a:lnTo>
                  <a:pt x="1662" y="624"/>
                </a:lnTo>
                <a:lnTo>
                  <a:pt x="1662" y="648"/>
                </a:lnTo>
                <a:lnTo>
                  <a:pt x="1668" y="546"/>
                </a:lnTo>
                <a:lnTo>
                  <a:pt x="1674" y="558"/>
                </a:lnTo>
                <a:lnTo>
                  <a:pt x="1680" y="516"/>
                </a:lnTo>
                <a:lnTo>
                  <a:pt x="1686" y="450"/>
                </a:lnTo>
                <a:lnTo>
                  <a:pt x="1692" y="486"/>
                </a:lnTo>
                <a:lnTo>
                  <a:pt x="1698" y="390"/>
                </a:lnTo>
                <a:lnTo>
                  <a:pt x="1704" y="426"/>
                </a:lnTo>
                <a:lnTo>
                  <a:pt x="1710" y="372"/>
                </a:lnTo>
                <a:lnTo>
                  <a:pt x="1716" y="324"/>
                </a:lnTo>
                <a:lnTo>
                  <a:pt x="1716" y="342"/>
                </a:lnTo>
                <a:lnTo>
                  <a:pt x="1722" y="240"/>
                </a:lnTo>
                <a:lnTo>
                  <a:pt x="1728" y="282"/>
                </a:lnTo>
                <a:lnTo>
                  <a:pt x="1734" y="204"/>
                </a:lnTo>
                <a:lnTo>
                  <a:pt x="1740" y="192"/>
                </a:lnTo>
                <a:lnTo>
                  <a:pt x="1746" y="192"/>
                </a:lnTo>
                <a:lnTo>
                  <a:pt x="1752" y="120"/>
                </a:lnTo>
                <a:lnTo>
                  <a:pt x="1758" y="192"/>
                </a:lnTo>
                <a:lnTo>
                  <a:pt x="1764" y="120"/>
                </a:lnTo>
                <a:lnTo>
                  <a:pt x="1770" y="168"/>
                </a:lnTo>
                <a:lnTo>
                  <a:pt x="1770" y="162"/>
                </a:lnTo>
                <a:lnTo>
                  <a:pt x="1776" y="126"/>
                </a:lnTo>
                <a:lnTo>
                  <a:pt x="1782" y="198"/>
                </a:lnTo>
                <a:lnTo>
                  <a:pt x="1788" y="114"/>
                </a:lnTo>
                <a:lnTo>
                  <a:pt x="1794" y="186"/>
                </a:lnTo>
                <a:lnTo>
                  <a:pt x="1800" y="144"/>
                </a:lnTo>
                <a:lnTo>
                  <a:pt x="1806" y="132"/>
                </a:lnTo>
                <a:lnTo>
                  <a:pt x="1812" y="162"/>
                </a:lnTo>
                <a:lnTo>
                  <a:pt x="1818" y="84"/>
                </a:lnTo>
                <a:lnTo>
                  <a:pt x="1824" y="162"/>
                </a:lnTo>
                <a:lnTo>
                  <a:pt x="1824" y="90"/>
                </a:lnTo>
                <a:lnTo>
                  <a:pt x="1830" y="120"/>
                </a:lnTo>
                <a:lnTo>
                  <a:pt x="1836" y="120"/>
                </a:lnTo>
                <a:lnTo>
                  <a:pt x="1842" y="72"/>
                </a:lnTo>
                <a:lnTo>
                  <a:pt x="1848" y="162"/>
                </a:lnTo>
                <a:lnTo>
                  <a:pt x="1854" y="96"/>
                </a:lnTo>
                <a:lnTo>
                  <a:pt x="1860" y="186"/>
                </a:lnTo>
                <a:lnTo>
                  <a:pt x="1866" y="186"/>
                </a:lnTo>
                <a:lnTo>
                  <a:pt x="1872" y="186"/>
                </a:lnTo>
                <a:lnTo>
                  <a:pt x="1878" y="246"/>
                </a:lnTo>
                <a:lnTo>
                  <a:pt x="1878" y="186"/>
                </a:lnTo>
                <a:lnTo>
                  <a:pt x="1884" y="258"/>
                </a:lnTo>
                <a:lnTo>
                  <a:pt x="1890" y="204"/>
                </a:lnTo>
                <a:lnTo>
                  <a:pt x="1896" y="204"/>
                </a:lnTo>
                <a:lnTo>
                  <a:pt x="1902" y="204"/>
                </a:lnTo>
                <a:lnTo>
                  <a:pt x="1908" y="144"/>
                </a:lnTo>
                <a:lnTo>
                  <a:pt x="1914" y="222"/>
                </a:lnTo>
                <a:lnTo>
                  <a:pt x="1920" y="168"/>
                </a:lnTo>
                <a:lnTo>
                  <a:pt x="1926" y="240"/>
                </a:lnTo>
                <a:lnTo>
                  <a:pt x="1932" y="270"/>
                </a:lnTo>
                <a:lnTo>
                  <a:pt x="1938" y="378"/>
                </a:lnTo>
                <a:lnTo>
                  <a:pt x="1944" y="342"/>
                </a:lnTo>
                <a:lnTo>
                  <a:pt x="1950" y="432"/>
                </a:lnTo>
                <a:lnTo>
                  <a:pt x="1956" y="444"/>
                </a:lnTo>
                <a:lnTo>
                  <a:pt x="1962" y="438"/>
                </a:lnTo>
                <a:lnTo>
                  <a:pt x="1968" y="510"/>
                </a:lnTo>
                <a:lnTo>
                  <a:pt x="1974" y="474"/>
                </a:lnTo>
                <a:lnTo>
                  <a:pt x="1980" y="546"/>
                </a:lnTo>
                <a:lnTo>
                  <a:pt x="1980" y="564"/>
                </a:lnTo>
                <a:lnTo>
                  <a:pt x="1986" y="576"/>
                </a:lnTo>
                <a:lnTo>
                  <a:pt x="1992" y="666"/>
                </a:lnTo>
                <a:lnTo>
                  <a:pt x="1998" y="654"/>
                </a:lnTo>
                <a:lnTo>
                  <a:pt x="2004" y="732"/>
                </a:lnTo>
                <a:lnTo>
                  <a:pt x="2010" y="768"/>
                </a:lnTo>
                <a:lnTo>
                  <a:pt x="2016" y="786"/>
                </a:lnTo>
                <a:lnTo>
                  <a:pt x="2022" y="870"/>
                </a:lnTo>
                <a:lnTo>
                  <a:pt x="2028" y="870"/>
                </a:lnTo>
                <a:lnTo>
                  <a:pt x="2034" y="930"/>
                </a:lnTo>
                <a:lnTo>
                  <a:pt x="2034" y="978"/>
                </a:lnTo>
                <a:lnTo>
                  <a:pt x="2040" y="990"/>
                </a:lnTo>
                <a:lnTo>
                  <a:pt x="2046" y="1056"/>
                </a:lnTo>
                <a:lnTo>
                  <a:pt x="2052" y="1062"/>
                </a:lnTo>
                <a:lnTo>
                  <a:pt x="2058" y="1080"/>
                </a:lnTo>
                <a:lnTo>
                  <a:pt x="2064" y="1122"/>
                </a:lnTo>
                <a:lnTo>
                  <a:pt x="2070" y="1098"/>
                </a:lnTo>
                <a:lnTo>
                  <a:pt x="2076" y="1128"/>
                </a:lnTo>
                <a:lnTo>
                  <a:pt x="2082" y="1128"/>
                </a:lnTo>
                <a:lnTo>
                  <a:pt x="2088" y="1110"/>
                </a:lnTo>
                <a:lnTo>
                  <a:pt x="2088" y="1140"/>
                </a:lnTo>
                <a:lnTo>
                  <a:pt x="2094" y="1110"/>
                </a:lnTo>
                <a:lnTo>
                  <a:pt x="2100" y="1110"/>
                </a:lnTo>
                <a:lnTo>
                  <a:pt x="2106" y="1116"/>
                </a:lnTo>
                <a:lnTo>
                  <a:pt x="2112" y="1062"/>
                </a:lnTo>
                <a:lnTo>
                  <a:pt x="2118" y="1074"/>
                </a:lnTo>
                <a:lnTo>
                  <a:pt x="2124" y="1032"/>
                </a:lnTo>
                <a:lnTo>
                  <a:pt x="2130" y="996"/>
                </a:lnTo>
                <a:lnTo>
                  <a:pt x="2136" y="1008"/>
                </a:lnTo>
                <a:lnTo>
                  <a:pt x="2142" y="948"/>
                </a:lnTo>
                <a:lnTo>
                  <a:pt x="2142" y="966"/>
                </a:lnTo>
                <a:lnTo>
                  <a:pt x="2148" y="954"/>
                </a:lnTo>
                <a:lnTo>
                  <a:pt x="2154" y="930"/>
                </a:lnTo>
                <a:lnTo>
                  <a:pt x="2160" y="978"/>
                </a:lnTo>
                <a:lnTo>
                  <a:pt x="2166" y="936"/>
                </a:lnTo>
                <a:lnTo>
                  <a:pt x="2172" y="972"/>
                </a:lnTo>
                <a:lnTo>
                  <a:pt x="2178" y="978"/>
                </a:lnTo>
                <a:lnTo>
                  <a:pt x="2184" y="948"/>
                </a:lnTo>
                <a:lnTo>
                  <a:pt x="2190" y="984"/>
                </a:lnTo>
                <a:lnTo>
                  <a:pt x="2196" y="948"/>
                </a:lnTo>
                <a:lnTo>
                  <a:pt x="2196" y="954"/>
                </a:lnTo>
                <a:lnTo>
                  <a:pt x="2202" y="966"/>
                </a:lnTo>
                <a:lnTo>
                  <a:pt x="2208" y="930"/>
                </a:lnTo>
                <a:lnTo>
                  <a:pt x="2214" y="966"/>
                </a:lnTo>
                <a:lnTo>
                  <a:pt x="2220" y="936"/>
                </a:lnTo>
                <a:lnTo>
                  <a:pt x="2226" y="924"/>
                </a:lnTo>
                <a:lnTo>
                  <a:pt x="2232" y="954"/>
                </a:lnTo>
                <a:lnTo>
                  <a:pt x="2238" y="906"/>
                </a:lnTo>
                <a:lnTo>
                  <a:pt x="2244" y="936"/>
                </a:lnTo>
                <a:lnTo>
                  <a:pt x="2250" y="918"/>
                </a:lnTo>
                <a:lnTo>
                  <a:pt x="2250" y="888"/>
                </a:lnTo>
                <a:lnTo>
                  <a:pt x="2256" y="930"/>
                </a:lnTo>
                <a:lnTo>
                  <a:pt x="2262" y="870"/>
                </a:lnTo>
                <a:lnTo>
                  <a:pt x="2268" y="894"/>
                </a:lnTo>
                <a:lnTo>
                  <a:pt x="2274" y="876"/>
                </a:lnTo>
                <a:lnTo>
                  <a:pt x="2280" y="822"/>
                </a:lnTo>
                <a:lnTo>
                  <a:pt x="2286" y="852"/>
                </a:lnTo>
                <a:lnTo>
                  <a:pt x="2292" y="762"/>
                </a:lnTo>
                <a:lnTo>
                  <a:pt x="2298" y="756"/>
                </a:lnTo>
                <a:lnTo>
                  <a:pt x="2298" y="720"/>
                </a:lnTo>
                <a:lnTo>
                  <a:pt x="2304" y="636"/>
                </a:lnTo>
                <a:lnTo>
                  <a:pt x="2310" y="660"/>
                </a:lnTo>
                <a:lnTo>
                  <a:pt x="2316" y="558"/>
                </a:lnTo>
                <a:lnTo>
                  <a:pt x="2322" y="558"/>
                </a:lnTo>
                <a:lnTo>
                  <a:pt x="2328" y="522"/>
                </a:lnTo>
                <a:lnTo>
                  <a:pt x="2334" y="450"/>
                </a:lnTo>
                <a:lnTo>
                  <a:pt x="2340" y="492"/>
                </a:lnTo>
                <a:lnTo>
                  <a:pt x="2346" y="396"/>
                </a:lnTo>
                <a:lnTo>
                  <a:pt x="2352" y="426"/>
                </a:lnTo>
                <a:lnTo>
                  <a:pt x="2352" y="390"/>
                </a:lnTo>
                <a:lnTo>
                  <a:pt x="2358" y="342"/>
                </a:lnTo>
                <a:lnTo>
                  <a:pt x="2364" y="378"/>
                </a:lnTo>
                <a:lnTo>
                  <a:pt x="2370" y="282"/>
                </a:lnTo>
                <a:lnTo>
                  <a:pt x="2376" y="324"/>
                </a:lnTo>
                <a:lnTo>
                  <a:pt x="2382" y="264"/>
                </a:lnTo>
                <a:lnTo>
                  <a:pt x="2388" y="228"/>
                </a:lnTo>
                <a:lnTo>
                  <a:pt x="2394" y="234"/>
                </a:lnTo>
                <a:lnTo>
                  <a:pt x="2400" y="138"/>
                </a:lnTo>
                <a:lnTo>
                  <a:pt x="2406" y="186"/>
                </a:lnTo>
                <a:lnTo>
                  <a:pt x="2406" y="108"/>
                </a:lnTo>
                <a:lnTo>
                  <a:pt x="2412" y="120"/>
                </a:lnTo>
                <a:lnTo>
                  <a:pt x="2418" y="120"/>
                </a:lnTo>
                <a:lnTo>
                  <a:pt x="2424" y="66"/>
                </a:lnTo>
                <a:lnTo>
                  <a:pt x="2430" y="150"/>
                </a:lnTo>
                <a:lnTo>
                  <a:pt x="2436" y="84"/>
                </a:lnTo>
                <a:lnTo>
                  <a:pt x="2442" y="156"/>
                </a:lnTo>
                <a:lnTo>
                  <a:pt x="2448" y="144"/>
                </a:lnTo>
                <a:lnTo>
                  <a:pt x="2454" y="120"/>
                </a:lnTo>
                <a:lnTo>
                  <a:pt x="2460" y="174"/>
                </a:lnTo>
                <a:lnTo>
                  <a:pt x="2460" y="90"/>
                </a:lnTo>
                <a:lnTo>
                  <a:pt x="2466" y="156"/>
                </a:lnTo>
                <a:lnTo>
                  <a:pt x="2472" y="96"/>
                </a:lnTo>
                <a:lnTo>
                  <a:pt x="2478" y="90"/>
                </a:lnTo>
                <a:lnTo>
                  <a:pt x="2484" y="84"/>
                </a:lnTo>
                <a:lnTo>
                  <a:pt x="2490" y="6"/>
                </a:lnTo>
                <a:lnTo>
                  <a:pt x="2496" y="78"/>
                </a:lnTo>
                <a:lnTo>
                  <a:pt x="2502" y="0"/>
                </a:lnTo>
                <a:lnTo>
                  <a:pt x="2508" y="60"/>
                </a:lnTo>
                <a:lnTo>
                  <a:pt x="2514" y="60"/>
                </a:lnTo>
                <a:lnTo>
                  <a:pt x="2514" y="42"/>
                </a:lnTo>
                <a:lnTo>
                  <a:pt x="2520" y="126"/>
                </a:lnTo>
                <a:lnTo>
                  <a:pt x="2526" y="60"/>
                </a:lnTo>
                <a:lnTo>
                  <a:pt x="2532" y="144"/>
                </a:lnTo>
                <a:lnTo>
                  <a:pt x="2538" y="114"/>
                </a:lnTo>
                <a:lnTo>
                  <a:pt x="2544" y="114"/>
                </a:lnTo>
                <a:lnTo>
                  <a:pt x="2550" y="138"/>
                </a:lnTo>
                <a:lnTo>
                  <a:pt x="2556" y="66"/>
                </a:lnTo>
                <a:lnTo>
                  <a:pt x="2562" y="138"/>
                </a:lnTo>
                <a:lnTo>
                  <a:pt x="2568" y="84"/>
                </a:lnTo>
                <a:lnTo>
                  <a:pt x="2568" y="126"/>
                </a:lnTo>
                <a:lnTo>
                  <a:pt x="2574" y="156"/>
                </a:lnTo>
                <a:lnTo>
                  <a:pt x="2580" y="132"/>
                </a:lnTo>
                <a:lnTo>
                  <a:pt x="2586" y="240"/>
                </a:lnTo>
                <a:lnTo>
                  <a:pt x="2592" y="216"/>
                </a:lnTo>
                <a:lnTo>
                  <a:pt x="2598" y="300"/>
                </a:lnTo>
                <a:lnTo>
                  <a:pt x="2604" y="336"/>
                </a:lnTo>
                <a:lnTo>
                  <a:pt x="2610" y="336"/>
                </a:lnTo>
                <a:lnTo>
                  <a:pt x="2616" y="438"/>
                </a:lnTo>
                <a:lnTo>
                  <a:pt x="2616" y="408"/>
                </a:lnTo>
                <a:lnTo>
                  <a:pt x="2622" y="498"/>
                </a:lnTo>
                <a:lnTo>
                  <a:pt x="2628" y="534"/>
                </a:lnTo>
                <a:lnTo>
                  <a:pt x="2634" y="552"/>
                </a:lnTo>
                <a:lnTo>
                  <a:pt x="2640" y="654"/>
                </a:lnTo>
                <a:lnTo>
                  <a:pt x="2646" y="654"/>
                </a:lnTo>
                <a:lnTo>
                  <a:pt x="2652" y="738"/>
                </a:lnTo>
                <a:lnTo>
                  <a:pt x="2658" y="786"/>
                </a:lnTo>
                <a:lnTo>
                  <a:pt x="2664" y="798"/>
                </a:lnTo>
                <a:lnTo>
                  <a:pt x="2670" y="876"/>
                </a:lnTo>
                <a:lnTo>
                  <a:pt x="2676" y="924"/>
                </a:lnTo>
                <a:lnTo>
                  <a:pt x="2682" y="972"/>
                </a:lnTo>
                <a:lnTo>
                  <a:pt x="2688" y="972"/>
                </a:lnTo>
                <a:lnTo>
                  <a:pt x="2694" y="1032"/>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19320" y="2314440"/>
            <a:ext cx="4276800" cy="2934000"/>
          </a:xfrm>
          <a:custGeom>
            <a:avLst/>
            <a:gdLst/>
            <a:ahLst/>
            <a:rect l="l" t="t" r="r" b="b"/>
            <a:pathLst>
              <a:path w="2694" h="1848">
                <a:moveTo>
                  <a:pt x="0" y="0"/>
                </a:moveTo>
                <a:lnTo>
                  <a:pt x="6"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6"/>
                </a:lnTo>
                <a:lnTo>
                  <a:pt x="132" y="12"/>
                </a:lnTo>
                <a:lnTo>
                  <a:pt x="138" y="24"/>
                </a:lnTo>
                <a:lnTo>
                  <a:pt x="144" y="42"/>
                </a:lnTo>
                <a:lnTo>
                  <a:pt x="150" y="72"/>
                </a:lnTo>
                <a:lnTo>
                  <a:pt x="156" y="114"/>
                </a:lnTo>
                <a:lnTo>
                  <a:pt x="162" y="180"/>
                </a:lnTo>
                <a:lnTo>
                  <a:pt x="168" y="264"/>
                </a:lnTo>
                <a:lnTo>
                  <a:pt x="174" y="378"/>
                </a:lnTo>
                <a:lnTo>
                  <a:pt x="180" y="510"/>
                </a:lnTo>
                <a:lnTo>
                  <a:pt x="180" y="666"/>
                </a:lnTo>
                <a:lnTo>
                  <a:pt x="186" y="834"/>
                </a:lnTo>
                <a:lnTo>
                  <a:pt x="192" y="1008"/>
                </a:lnTo>
                <a:lnTo>
                  <a:pt x="198" y="1176"/>
                </a:lnTo>
                <a:lnTo>
                  <a:pt x="204" y="1332"/>
                </a:lnTo>
                <a:lnTo>
                  <a:pt x="210" y="1470"/>
                </a:lnTo>
                <a:lnTo>
                  <a:pt x="216" y="1578"/>
                </a:lnTo>
                <a:lnTo>
                  <a:pt x="222" y="1668"/>
                </a:lnTo>
                <a:lnTo>
                  <a:pt x="228" y="1728"/>
                </a:lnTo>
                <a:lnTo>
                  <a:pt x="234" y="1776"/>
                </a:lnTo>
                <a:lnTo>
                  <a:pt x="234" y="1806"/>
                </a:lnTo>
                <a:lnTo>
                  <a:pt x="240" y="1824"/>
                </a:lnTo>
                <a:lnTo>
                  <a:pt x="246" y="1836"/>
                </a:lnTo>
                <a:lnTo>
                  <a:pt x="252" y="1842"/>
                </a:lnTo>
                <a:lnTo>
                  <a:pt x="258" y="1842"/>
                </a:lnTo>
                <a:lnTo>
                  <a:pt x="264" y="1842"/>
                </a:lnTo>
                <a:lnTo>
                  <a:pt x="270" y="1848"/>
                </a:lnTo>
                <a:lnTo>
                  <a:pt x="276" y="1848"/>
                </a:lnTo>
                <a:lnTo>
                  <a:pt x="282" y="1842"/>
                </a:lnTo>
                <a:lnTo>
                  <a:pt x="288" y="1842"/>
                </a:lnTo>
                <a:lnTo>
                  <a:pt x="294" y="1836"/>
                </a:lnTo>
                <a:lnTo>
                  <a:pt x="300" y="1824"/>
                </a:lnTo>
                <a:lnTo>
                  <a:pt x="306" y="1806"/>
                </a:lnTo>
                <a:lnTo>
                  <a:pt x="312" y="1776"/>
                </a:lnTo>
                <a:lnTo>
                  <a:pt x="318" y="1728"/>
                </a:lnTo>
                <a:lnTo>
                  <a:pt x="324" y="1668"/>
                </a:lnTo>
                <a:lnTo>
                  <a:pt x="330" y="1578"/>
                </a:lnTo>
                <a:lnTo>
                  <a:pt x="336" y="1470"/>
                </a:lnTo>
                <a:lnTo>
                  <a:pt x="336" y="1332"/>
                </a:lnTo>
                <a:lnTo>
                  <a:pt x="342" y="1176"/>
                </a:lnTo>
                <a:lnTo>
                  <a:pt x="348" y="1008"/>
                </a:lnTo>
                <a:lnTo>
                  <a:pt x="354" y="834"/>
                </a:lnTo>
                <a:lnTo>
                  <a:pt x="360" y="666"/>
                </a:lnTo>
                <a:lnTo>
                  <a:pt x="366" y="510"/>
                </a:lnTo>
                <a:lnTo>
                  <a:pt x="372" y="378"/>
                </a:lnTo>
                <a:lnTo>
                  <a:pt x="378" y="264"/>
                </a:lnTo>
                <a:lnTo>
                  <a:pt x="384" y="180"/>
                </a:lnTo>
                <a:lnTo>
                  <a:pt x="390" y="114"/>
                </a:lnTo>
                <a:lnTo>
                  <a:pt x="390" y="72"/>
                </a:lnTo>
                <a:lnTo>
                  <a:pt x="396" y="42"/>
                </a:lnTo>
                <a:lnTo>
                  <a:pt x="402" y="24"/>
                </a:lnTo>
                <a:lnTo>
                  <a:pt x="408" y="12"/>
                </a:lnTo>
                <a:lnTo>
                  <a:pt x="414" y="6"/>
                </a:lnTo>
                <a:lnTo>
                  <a:pt x="420" y="6"/>
                </a:lnTo>
                <a:lnTo>
                  <a:pt x="426" y="0"/>
                </a:lnTo>
                <a:lnTo>
                  <a:pt x="432" y="0"/>
                </a:lnTo>
                <a:lnTo>
                  <a:pt x="438" y="0"/>
                </a:lnTo>
                <a:lnTo>
                  <a:pt x="444" y="0"/>
                </a:lnTo>
                <a:lnTo>
                  <a:pt x="450" y="0"/>
                </a:lnTo>
                <a:lnTo>
                  <a:pt x="456" y="0"/>
                </a:lnTo>
                <a:lnTo>
                  <a:pt x="462" y="0"/>
                </a:lnTo>
                <a:lnTo>
                  <a:pt x="468" y="0"/>
                </a:lnTo>
                <a:lnTo>
                  <a:pt x="474" y="0"/>
                </a:lnTo>
                <a:lnTo>
                  <a:pt x="480" y="0"/>
                </a:lnTo>
                <a:lnTo>
                  <a:pt x="486" y="0"/>
                </a:lnTo>
                <a:lnTo>
                  <a:pt x="492" y="0"/>
                </a:lnTo>
                <a:lnTo>
                  <a:pt x="498" y="0"/>
                </a:lnTo>
                <a:lnTo>
                  <a:pt x="504" y="0"/>
                </a:lnTo>
                <a:lnTo>
                  <a:pt x="510" y="0"/>
                </a:lnTo>
                <a:lnTo>
                  <a:pt x="516" y="0"/>
                </a:lnTo>
                <a:lnTo>
                  <a:pt x="522" y="0"/>
                </a:lnTo>
                <a:lnTo>
                  <a:pt x="528" y="0"/>
                </a:lnTo>
                <a:lnTo>
                  <a:pt x="534" y="0"/>
                </a:lnTo>
                <a:lnTo>
                  <a:pt x="540" y="0"/>
                </a:lnTo>
                <a:lnTo>
                  <a:pt x="546" y="0"/>
                </a:lnTo>
                <a:lnTo>
                  <a:pt x="552" y="0"/>
                </a:lnTo>
                <a:lnTo>
                  <a:pt x="558" y="0"/>
                </a:lnTo>
                <a:lnTo>
                  <a:pt x="564" y="0"/>
                </a:lnTo>
                <a:lnTo>
                  <a:pt x="570" y="0"/>
                </a:lnTo>
                <a:lnTo>
                  <a:pt x="576" y="0"/>
                </a:lnTo>
                <a:lnTo>
                  <a:pt x="582" y="0"/>
                </a:lnTo>
                <a:lnTo>
                  <a:pt x="588" y="0"/>
                </a:lnTo>
                <a:lnTo>
                  <a:pt x="594" y="0"/>
                </a:lnTo>
                <a:lnTo>
                  <a:pt x="600" y="0"/>
                </a:lnTo>
                <a:lnTo>
                  <a:pt x="606" y="0"/>
                </a:lnTo>
                <a:lnTo>
                  <a:pt x="612" y="0"/>
                </a:lnTo>
                <a:lnTo>
                  <a:pt x="618" y="0"/>
                </a:lnTo>
                <a:lnTo>
                  <a:pt x="624" y="0"/>
                </a:lnTo>
                <a:lnTo>
                  <a:pt x="630" y="0"/>
                </a:lnTo>
                <a:lnTo>
                  <a:pt x="636" y="0"/>
                </a:lnTo>
                <a:lnTo>
                  <a:pt x="642" y="0"/>
                </a:lnTo>
                <a:lnTo>
                  <a:pt x="648" y="0"/>
                </a:lnTo>
                <a:lnTo>
                  <a:pt x="654" y="0"/>
                </a:lnTo>
                <a:lnTo>
                  <a:pt x="660" y="0"/>
                </a:lnTo>
                <a:lnTo>
                  <a:pt x="666" y="0"/>
                </a:lnTo>
                <a:lnTo>
                  <a:pt x="672" y="0"/>
                </a:lnTo>
                <a:lnTo>
                  <a:pt x="678" y="0"/>
                </a:lnTo>
                <a:lnTo>
                  <a:pt x="684" y="0"/>
                </a:lnTo>
                <a:lnTo>
                  <a:pt x="690" y="0"/>
                </a:lnTo>
                <a:lnTo>
                  <a:pt x="696" y="0"/>
                </a:lnTo>
                <a:lnTo>
                  <a:pt x="702" y="0"/>
                </a:lnTo>
                <a:lnTo>
                  <a:pt x="708" y="0"/>
                </a:lnTo>
                <a:lnTo>
                  <a:pt x="714" y="0"/>
                </a:lnTo>
                <a:lnTo>
                  <a:pt x="720" y="0"/>
                </a:lnTo>
                <a:lnTo>
                  <a:pt x="726" y="0"/>
                </a:lnTo>
                <a:lnTo>
                  <a:pt x="732" y="0"/>
                </a:lnTo>
                <a:lnTo>
                  <a:pt x="738" y="0"/>
                </a:lnTo>
                <a:lnTo>
                  <a:pt x="744" y="0"/>
                </a:lnTo>
                <a:lnTo>
                  <a:pt x="750" y="0"/>
                </a:lnTo>
                <a:lnTo>
                  <a:pt x="756" y="0"/>
                </a:lnTo>
                <a:lnTo>
                  <a:pt x="762" y="0"/>
                </a:lnTo>
                <a:lnTo>
                  <a:pt x="768" y="6"/>
                </a:lnTo>
                <a:lnTo>
                  <a:pt x="774" y="6"/>
                </a:lnTo>
                <a:lnTo>
                  <a:pt x="780" y="12"/>
                </a:lnTo>
                <a:lnTo>
                  <a:pt x="786" y="24"/>
                </a:lnTo>
                <a:lnTo>
                  <a:pt x="792" y="42"/>
                </a:lnTo>
                <a:lnTo>
                  <a:pt x="798" y="72"/>
                </a:lnTo>
                <a:lnTo>
                  <a:pt x="804" y="114"/>
                </a:lnTo>
                <a:lnTo>
                  <a:pt x="810" y="180"/>
                </a:lnTo>
                <a:lnTo>
                  <a:pt x="816" y="264"/>
                </a:lnTo>
                <a:lnTo>
                  <a:pt x="816" y="378"/>
                </a:lnTo>
                <a:lnTo>
                  <a:pt x="822" y="510"/>
                </a:lnTo>
                <a:lnTo>
                  <a:pt x="828" y="666"/>
                </a:lnTo>
                <a:lnTo>
                  <a:pt x="834" y="834"/>
                </a:lnTo>
                <a:lnTo>
                  <a:pt x="840" y="1008"/>
                </a:lnTo>
                <a:lnTo>
                  <a:pt x="846" y="1176"/>
                </a:lnTo>
                <a:lnTo>
                  <a:pt x="852" y="1332"/>
                </a:lnTo>
                <a:lnTo>
                  <a:pt x="858" y="1470"/>
                </a:lnTo>
                <a:lnTo>
                  <a:pt x="864" y="1578"/>
                </a:lnTo>
                <a:lnTo>
                  <a:pt x="870" y="1668"/>
                </a:lnTo>
                <a:lnTo>
                  <a:pt x="870" y="1728"/>
                </a:lnTo>
                <a:lnTo>
                  <a:pt x="876" y="1776"/>
                </a:lnTo>
                <a:lnTo>
                  <a:pt x="882" y="1806"/>
                </a:lnTo>
                <a:lnTo>
                  <a:pt x="888" y="1824"/>
                </a:lnTo>
                <a:lnTo>
                  <a:pt x="894" y="1836"/>
                </a:lnTo>
                <a:lnTo>
                  <a:pt x="900" y="1842"/>
                </a:lnTo>
                <a:lnTo>
                  <a:pt x="906" y="1842"/>
                </a:lnTo>
                <a:lnTo>
                  <a:pt x="912" y="1842"/>
                </a:lnTo>
                <a:lnTo>
                  <a:pt x="918" y="1848"/>
                </a:lnTo>
                <a:lnTo>
                  <a:pt x="924" y="1848"/>
                </a:lnTo>
                <a:lnTo>
                  <a:pt x="924" y="1842"/>
                </a:lnTo>
                <a:lnTo>
                  <a:pt x="930" y="1842"/>
                </a:lnTo>
                <a:lnTo>
                  <a:pt x="936" y="1842"/>
                </a:lnTo>
                <a:lnTo>
                  <a:pt x="942" y="1836"/>
                </a:lnTo>
                <a:lnTo>
                  <a:pt x="948" y="1824"/>
                </a:lnTo>
                <a:lnTo>
                  <a:pt x="954" y="1806"/>
                </a:lnTo>
                <a:lnTo>
                  <a:pt x="960" y="1776"/>
                </a:lnTo>
                <a:lnTo>
                  <a:pt x="966" y="1728"/>
                </a:lnTo>
                <a:lnTo>
                  <a:pt x="972" y="1668"/>
                </a:lnTo>
                <a:lnTo>
                  <a:pt x="972" y="1578"/>
                </a:lnTo>
                <a:lnTo>
                  <a:pt x="978" y="1470"/>
                </a:lnTo>
                <a:lnTo>
                  <a:pt x="984" y="1332"/>
                </a:lnTo>
                <a:lnTo>
                  <a:pt x="990" y="1176"/>
                </a:lnTo>
                <a:lnTo>
                  <a:pt x="996" y="1008"/>
                </a:lnTo>
                <a:lnTo>
                  <a:pt x="1002" y="834"/>
                </a:lnTo>
                <a:lnTo>
                  <a:pt x="1008" y="666"/>
                </a:lnTo>
                <a:lnTo>
                  <a:pt x="1014" y="510"/>
                </a:lnTo>
                <a:lnTo>
                  <a:pt x="1020" y="378"/>
                </a:lnTo>
                <a:lnTo>
                  <a:pt x="1026" y="264"/>
                </a:lnTo>
                <a:lnTo>
                  <a:pt x="1026" y="180"/>
                </a:lnTo>
                <a:lnTo>
                  <a:pt x="1032" y="114"/>
                </a:lnTo>
                <a:lnTo>
                  <a:pt x="1038" y="72"/>
                </a:lnTo>
                <a:lnTo>
                  <a:pt x="1044" y="42"/>
                </a:lnTo>
                <a:lnTo>
                  <a:pt x="1050" y="24"/>
                </a:lnTo>
                <a:lnTo>
                  <a:pt x="1056" y="12"/>
                </a:lnTo>
                <a:lnTo>
                  <a:pt x="1062" y="6"/>
                </a:lnTo>
                <a:lnTo>
                  <a:pt x="1068" y="6"/>
                </a:lnTo>
                <a:lnTo>
                  <a:pt x="1074" y="0"/>
                </a:lnTo>
                <a:lnTo>
                  <a:pt x="1080" y="0"/>
                </a:lnTo>
                <a:lnTo>
                  <a:pt x="1086" y="0"/>
                </a:lnTo>
                <a:lnTo>
                  <a:pt x="1092" y="0"/>
                </a:lnTo>
                <a:lnTo>
                  <a:pt x="1098" y="0"/>
                </a:lnTo>
                <a:lnTo>
                  <a:pt x="1104" y="0"/>
                </a:lnTo>
                <a:lnTo>
                  <a:pt x="1110" y="0"/>
                </a:lnTo>
                <a:lnTo>
                  <a:pt x="1116" y="0"/>
                </a:lnTo>
                <a:lnTo>
                  <a:pt x="1122" y="0"/>
                </a:lnTo>
                <a:lnTo>
                  <a:pt x="1128" y="0"/>
                </a:lnTo>
                <a:lnTo>
                  <a:pt x="1134" y="0"/>
                </a:lnTo>
                <a:lnTo>
                  <a:pt x="1140" y="0"/>
                </a:lnTo>
                <a:lnTo>
                  <a:pt x="1146" y="0"/>
                </a:lnTo>
                <a:lnTo>
                  <a:pt x="1152" y="0"/>
                </a:lnTo>
                <a:lnTo>
                  <a:pt x="1158" y="0"/>
                </a:lnTo>
                <a:lnTo>
                  <a:pt x="1164" y="0"/>
                </a:lnTo>
                <a:lnTo>
                  <a:pt x="1170" y="0"/>
                </a:lnTo>
                <a:lnTo>
                  <a:pt x="1176" y="0"/>
                </a:lnTo>
                <a:lnTo>
                  <a:pt x="1182" y="0"/>
                </a:lnTo>
                <a:lnTo>
                  <a:pt x="1188" y="0"/>
                </a:lnTo>
                <a:lnTo>
                  <a:pt x="1194" y="0"/>
                </a:lnTo>
                <a:lnTo>
                  <a:pt x="1200" y="0"/>
                </a:lnTo>
                <a:lnTo>
                  <a:pt x="1206" y="0"/>
                </a:lnTo>
                <a:lnTo>
                  <a:pt x="1212" y="0"/>
                </a:lnTo>
                <a:lnTo>
                  <a:pt x="1218" y="0"/>
                </a:lnTo>
                <a:lnTo>
                  <a:pt x="1224" y="0"/>
                </a:lnTo>
                <a:lnTo>
                  <a:pt x="1230" y="0"/>
                </a:lnTo>
                <a:lnTo>
                  <a:pt x="1236" y="0"/>
                </a:lnTo>
                <a:lnTo>
                  <a:pt x="1242" y="0"/>
                </a:lnTo>
                <a:lnTo>
                  <a:pt x="1248" y="0"/>
                </a:lnTo>
                <a:lnTo>
                  <a:pt x="1254" y="0"/>
                </a:lnTo>
                <a:lnTo>
                  <a:pt x="1260" y="0"/>
                </a:lnTo>
                <a:lnTo>
                  <a:pt x="1266" y="0"/>
                </a:lnTo>
                <a:lnTo>
                  <a:pt x="1272" y="0"/>
                </a:lnTo>
                <a:lnTo>
                  <a:pt x="1278" y="0"/>
                </a:lnTo>
                <a:lnTo>
                  <a:pt x="1284" y="0"/>
                </a:lnTo>
                <a:lnTo>
                  <a:pt x="1290" y="0"/>
                </a:lnTo>
                <a:lnTo>
                  <a:pt x="1296" y="0"/>
                </a:lnTo>
                <a:lnTo>
                  <a:pt x="1302" y="0"/>
                </a:lnTo>
                <a:lnTo>
                  <a:pt x="1308" y="0"/>
                </a:lnTo>
                <a:lnTo>
                  <a:pt x="1314" y="0"/>
                </a:lnTo>
                <a:lnTo>
                  <a:pt x="1320" y="0"/>
                </a:lnTo>
                <a:lnTo>
                  <a:pt x="1326" y="0"/>
                </a:lnTo>
                <a:lnTo>
                  <a:pt x="1332" y="0"/>
                </a:lnTo>
                <a:lnTo>
                  <a:pt x="1338" y="0"/>
                </a:lnTo>
                <a:lnTo>
                  <a:pt x="1344" y="0"/>
                </a:lnTo>
                <a:lnTo>
                  <a:pt x="1350" y="0"/>
                </a:lnTo>
                <a:lnTo>
                  <a:pt x="1356" y="0"/>
                </a:lnTo>
                <a:lnTo>
                  <a:pt x="1362" y="0"/>
                </a:lnTo>
                <a:lnTo>
                  <a:pt x="1368" y="0"/>
                </a:lnTo>
                <a:lnTo>
                  <a:pt x="1374" y="0"/>
                </a:lnTo>
                <a:lnTo>
                  <a:pt x="1380" y="0"/>
                </a:lnTo>
                <a:lnTo>
                  <a:pt x="1386" y="0"/>
                </a:lnTo>
                <a:lnTo>
                  <a:pt x="1392" y="0"/>
                </a:lnTo>
                <a:lnTo>
                  <a:pt x="1398" y="0"/>
                </a:lnTo>
                <a:lnTo>
                  <a:pt x="1404" y="0"/>
                </a:lnTo>
                <a:lnTo>
                  <a:pt x="1410" y="0"/>
                </a:lnTo>
                <a:lnTo>
                  <a:pt x="1416" y="6"/>
                </a:lnTo>
                <a:lnTo>
                  <a:pt x="1422" y="6"/>
                </a:lnTo>
                <a:lnTo>
                  <a:pt x="1428" y="12"/>
                </a:lnTo>
                <a:lnTo>
                  <a:pt x="1434" y="24"/>
                </a:lnTo>
                <a:lnTo>
                  <a:pt x="1440" y="42"/>
                </a:lnTo>
                <a:lnTo>
                  <a:pt x="1446" y="72"/>
                </a:lnTo>
                <a:lnTo>
                  <a:pt x="1452" y="114"/>
                </a:lnTo>
                <a:lnTo>
                  <a:pt x="1452" y="180"/>
                </a:lnTo>
                <a:lnTo>
                  <a:pt x="1458" y="264"/>
                </a:lnTo>
                <a:lnTo>
                  <a:pt x="1464" y="378"/>
                </a:lnTo>
                <a:lnTo>
                  <a:pt x="1470" y="510"/>
                </a:lnTo>
                <a:lnTo>
                  <a:pt x="1476" y="666"/>
                </a:lnTo>
                <a:lnTo>
                  <a:pt x="1482" y="834"/>
                </a:lnTo>
                <a:lnTo>
                  <a:pt x="1488" y="1008"/>
                </a:lnTo>
                <a:lnTo>
                  <a:pt x="1494" y="1176"/>
                </a:lnTo>
                <a:lnTo>
                  <a:pt x="1500" y="1332"/>
                </a:lnTo>
                <a:lnTo>
                  <a:pt x="1506" y="1470"/>
                </a:lnTo>
                <a:lnTo>
                  <a:pt x="1506" y="1578"/>
                </a:lnTo>
                <a:lnTo>
                  <a:pt x="1512" y="1668"/>
                </a:lnTo>
                <a:lnTo>
                  <a:pt x="1518" y="1728"/>
                </a:lnTo>
                <a:lnTo>
                  <a:pt x="1524" y="1776"/>
                </a:lnTo>
                <a:lnTo>
                  <a:pt x="1530" y="1806"/>
                </a:lnTo>
                <a:lnTo>
                  <a:pt x="1536" y="1824"/>
                </a:lnTo>
                <a:lnTo>
                  <a:pt x="1542" y="1836"/>
                </a:lnTo>
                <a:lnTo>
                  <a:pt x="1548" y="1842"/>
                </a:lnTo>
                <a:lnTo>
                  <a:pt x="1554" y="1842"/>
                </a:lnTo>
                <a:lnTo>
                  <a:pt x="1560" y="1842"/>
                </a:lnTo>
                <a:lnTo>
                  <a:pt x="1560" y="1848"/>
                </a:lnTo>
                <a:lnTo>
                  <a:pt x="1566" y="1848"/>
                </a:lnTo>
                <a:lnTo>
                  <a:pt x="1572" y="1842"/>
                </a:lnTo>
                <a:lnTo>
                  <a:pt x="1578" y="1842"/>
                </a:lnTo>
                <a:lnTo>
                  <a:pt x="1584" y="1842"/>
                </a:lnTo>
                <a:lnTo>
                  <a:pt x="1590" y="1836"/>
                </a:lnTo>
                <a:lnTo>
                  <a:pt x="1596" y="1824"/>
                </a:lnTo>
                <a:lnTo>
                  <a:pt x="1602" y="1806"/>
                </a:lnTo>
                <a:lnTo>
                  <a:pt x="1608" y="1776"/>
                </a:lnTo>
                <a:lnTo>
                  <a:pt x="1614" y="1728"/>
                </a:lnTo>
                <a:lnTo>
                  <a:pt x="1614" y="1668"/>
                </a:lnTo>
                <a:lnTo>
                  <a:pt x="1620" y="1578"/>
                </a:lnTo>
                <a:lnTo>
                  <a:pt x="1626" y="1470"/>
                </a:lnTo>
                <a:lnTo>
                  <a:pt x="1632" y="1332"/>
                </a:lnTo>
                <a:lnTo>
                  <a:pt x="1638" y="1176"/>
                </a:lnTo>
                <a:lnTo>
                  <a:pt x="1644" y="1008"/>
                </a:lnTo>
                <a:lnTo>
                  <a:pt x="1650" y="834"/>
                </a:lnTo>
                <a:lnTo>
                  <a:pt x="1656" y="666"/>
                </a:lnTo>
                <a:lnTo>
                  <a:pt x="1662" y="510"/>
                </a:lnTo>
                <a:lnTo>
                  <a:pt x="1662" y="378"/>
                </a:lnTo>
                <a:lnTo>
                  <a:pt x="1668" y="264"/>
                </a:lnTo>
                <a:lnTo>
                  <a:pt x="1674" y="180"/>
                </a:lnTo>
                <a:lnTo>
                  <a:pt x="1680" y="114"/>
                </a:lnTo>
                <a:lnTo>
                  <a:pt x="1686" y="72"/>
                </a:lnTo>
                <a:lnTo>
                  <a:pt x="1692" y="42"/>
                </a:lnTo>
                <a:lnTo>
                  <a:pt x="1698" y="24"/>
                </a:lnTo>
                <a:lnTo>
                  <a:pt x="1704" y="12"/>
                </a:lnTo>
                <a:lnTo>
                  <a:pt x="1710" y="6"/>
                </a:lnTo>
                <a:lnTo>
                  <a:pt x="1716" y="6"/>
                </a:lnTo>
                <a:lnTo>
                  <a:pt x="1716" y="0"/>
                </a:lnTo>
                <a:lnTo>
                  <a:pt x="1722" y="0"/>
                </a:lnTo>
                <a:lnTo>
                  <a:pt x="1728" y="0"/>
                </a:lnTo>
                <a:lnTo>
                  <a:pt x="1734" y="0"/>
                </a:lnTo>
                <a:lnTo>
                  <a:pt x="1740" y="0"/>
                </a:lnTo>
                <a:lnTo>
                  <a:pt x="1746" y="0"/>
                </a:lnTo>
                <a:lnTo>
                  <a:pt x="1752" y="0"/>
                </a:lnTo>
                <a:lnTo>
                  <a:pt x="1758" y="0"/>
                </a:lnTo>
                <a:lnTo>
                  <a:pt x="1764" y="0"/>
                </a:lnTo>
                <a:lnTo>
                  <a:pt x="1770" y="0"/>
                </a:lnTo>
                <a:lnTo>
                  <a:pt x="1776" y="0"/>
                </a:lnTo>
                <a:lnTo>
                  <a:pt x="1782" y="0"/>
                </a:lnTo>
                <a:lnTo>
                  <a:pt x="1788" y="0"/>
                </a:lnTo>
                <a:lnTo>
                  <a:pt x="1794" y="0"/>
                </a:lnTo>
                <a:lnTo>
                  <a:pt x="1800" y="0"/>
                </a:lnTo>
                <a:lnTo>
                  <a:pt x="1806" y="0"/>
                </a:lnTo>
                <a:lnTo>
                  <a:pt x="1812" y="0"/>
                </a:lnTo>
                <a:lnTo>
                  <a:pt x="1818" y="0"/>
                </a:lnTo>
                <a:lnTo>
                  <a:pt x="1824" y="0"/>
                </a:lnTo>
                <a:lnTo>
                  <a:pt x="1830" y="0"/>
                </a:lnTo>
                <a:lnTo>
                  <a:pt x="1836" y="0"/>
                </a:lnTo>
                <a:lnTo>
                  <a:pt x="1842" y="0"/>
                </a:lnTo>
                <a:lnTo>
                  <a:pt x="1848" y="0"/>
                </a:lnTo>
                <a:lnTo>
                  <a:pt x="1854" y="0"/>
                </a:lnTo>
                <a:lnTo>
                  <a:pt x="1860" y="0"/>
                </a:lnTo>
                <a:lnTo>
                  <a:pt x="1866" y="0"/>
                </a:lnTo>
                <a:lnTo>
                  <a:pt x="1872" y="0"/>
                </a:lnTo>
                <a:lnTo>
                  <a:pt x="1878" y="0"/>
                </a:lnTo>
                <a:lnTo>
                  <a:pt x="1884" y="0"/>
                </a:lnTo>
                <a:lnTo>
                  <a:pt x="1890" y="0"/>
                </a:lnTo>
                <a:lnTo>
                  <a:pt x="1896" y="0"/>
                </a:lnTo>
                <a:lnTo>
                  <a:pt x="1902" y="6"/>
                </a:lnTo>
                <a:lnTo>
                  <a:pt x="1908" y="6"/>
                </a:lnTo>
                <a:lnTo>
                  <a:pt x="1914" y="12"/>
                </a:lnTo>
                <a:lnTo>
                  <a:pt x="1920" y="24"/>
                </a:lnTo>
                <a:lnTo>
                  <a:pt x="1926" y="42"/>
                </a:lnTo>
                <a:lnTo>
                  <a:pt x="1932" y="72"/>
                </a:lnTo>
                <a:lnTo>
                  <a:pt x="1932" y="114"/>
                </a:lnTo>
                <a:lnTo>
                  <a:pt x="1938" y="180"/>
                </a:lnTo>
                <a:lnTo>
                  <a:pt x="1944" y="264"/>
                </a:lnTo>
                <a:lnTo>
                  <a:pt x="1950" y="378"/>
                </a:lnTo>
                <a:lnTo>
                  <a:pt x="1956" y="510"/>
                </a:lnTo>
                <a:lnTo>
                  <a:pt x="1962" y="666"/>
                </a:lnTo>
                <a:lnTo>
                  <a:pt x="1968" y="834"/>
                </a:lnTo>
                <a:lnTo>
                  <a:pt x="1974" y="1008"/>
                </a:lnTo>
                <a:lnTo>
                  <a:pt x="1980" y="1176"/>
                </a:lnTo>
                <a:lnTo>
                  <a:pt x="1980" y="1332"/>
                </a:lnTo>
                <a:lnTo>
                  <a:pt x="1986" y="1470"/>
                </a:lnTo>
                <a:lnTo>
                  <a:pt x="1992" y="1578"/>
                </a:lnTo>
                <a:lnTo>
                  <a:pt x="1998" y="1668"/>
                </a:lnTo>
                <a:lnTo>
                  <a:pt x="2004" y="1728"/>
                </a:lnTo>
                <a:lnTo>
                  <a:pt x="2010" y="1776"/>
                </a:lnTo>
                <a:lnTo>
                  <a:pt x="2016" y="1806"/>
                </a:lnTo>
                <a:lnTo>
                  <a:pt x="2022" y="1824"/>
                </a:lnTo>
                <a:lnTo>
                  <a:pt x="2028" y="1836"/>
                </a:lnTo>
                <a:lnTo>
                  <a:pt x="2034" y="1842"/>
                </a:lnTo>
                <a:lnTo>
                  <a:pt x="2040" y="1842"/>
                </a:lnTo>
                <a:lnTo>
                  <a:pt x="2046" y="1848"/>
                </a:lnTo>
                <a:lnTo>
                  <a:pt x="2052" y="1848"/>
                </a:lnTo>
                <a:lnTo>
                  <a:pt x="2058" y="1848"/>
                </a:lnTo>
                <a:lnTo>
                  <a:pt x="2064" y="1848"/>
                </a:lnTo>
                <a:lnTo>
                  <a:pt x="2070" y="1848"/>
                </a:lnTo>
                <a:lnTo>
                  <a:pt x="2076" y="1848"/>
                </a:lnTo>
                <a:lnTo>
                  <a:pt x="2082" y="1848"/>
                </a:lnTo>
                <a:lnTo>
                  <a:pt x="2088" y="1848"/>
                </a:lnTo>
                <a:lnTo>
                  <a:pt x="2094" y="1848"/>
                </a:lnTo>
                <a:lnTo>
                  <a:pt x="2100" y="1848"/>
                </a:lnTo>
                <a:lnTo>
                  <a:pt x="2106" y="1848"/>
                </a:lnTo>
                <a:lnTo>
                  <a:pt x="2112" y="1848"/>
                </a:lnTo>
                <a:lnTo>
                  <a:pt x="2118" y="1848"/>
                </a:lnTo>
                <a:lnTo>
                  <a:pt x="2124" y="1848"/>
                </a:lnTo>
                <a:lnTo>
                  <a:pt x="2130" y="1848"/>
                </a:lnTo>
                <a:lnTo>
                  <a:pt x="2136" y="1848"/>
                </a:lnTo>
                <a:lnTo>
                  <a:pt x="2142" y="1848"/>
                </a:lnTo>
                <a:lnTo>
                  <a:pt x="2148" y="1848"/>
                </a:lnTo>
                <a:lnTo>
                  <a:pt x="2154" y="1848"/>
                </a:lnTo>
                <a:lnTo>
                  <a:pt x="2160" y="1848"/>
                </a:lnTo>
                <a:lnTo>
                  <a:pt x="2166" y="1848"/>
                </a:lnTo>
                <a:lnTo>
                  <a:pt x="2172" y="1848"/>
                </a:lnTo>
                <a:lnTo>
                  <a:pt x="2178" y="1848"/>
                </a:lnTo>
                <a:lnTo>
                  <a:pt x="2184" y="1848"/>
                </a:lnTo>
                <a:lnTo>
                  <a:pt x="2190" y="1848"/>
                </a:lnTo>
                <a:lnTo>
                  <a:pt x="2196" y="1848"/>
                </a:lnTo>
                <a:lnTo>
                  <a:pt x="2202" y="1848"/>
                </a:lnTo>
                <a:lnTo>
                  <a:pt x="2208" y="1848"/>
                </a:lnTo>
                <a:lnTo>
                  <a:pt x="2214" y="1848"/>
                </a:lnTo>
                <a:lnTo>
                  <a:pt x="2220" y="1842"/>
                </a:lnTo>
                <a:lnTo>
                  <a:pt x="2226" y="1842"/>
                </a:lnTo>
                <a:lnTo>
                  <a:pt x="2232" y="1842"/>
                </a:lnTo>
                <a:lnTo>
                  <a:pt x="2238" y="1836"/>
                </a:lnTo>
                <a:lnTo>
                  <a:pt x="2244" y="1824"/>
                </a:lnTo>
                <a:lnTo>
                  <a:pt x="2250" y="1806"/>
                </a:lnTo>
                <a:lnTo>
                  <a:pt x="2250" y="1776"/>
                </a:lnTo>
                <a:lnTo>
                  <a:pt x="2256" y="1728"/>
                </a:lnTo>
                <a:lnTo>
                  <a:pt x="2262" y="1668"/>
                </a:lnTo>
                <a:lnTo>
                  <a:pt x="2268" y="1578"/>
                </a:lnTo>
                <a:lnTo>
                  <a:pt x="2274" y="1470"/>
                </a:lnTo>
                <a:lnTo>
                  <a:pt x="2280" y="1332"/>
                </a:lnTo>
                <a:lnTo>
                  <a:pt x="2286" y="1176"/>
                </a:lnTo>
                <a:lnTo>
                  <a:pt x="2292" y="1008"/>
                </a:lnTo>
                <a:lnTo>
                  <a:pt x="2298" y="834"/>
                </a:lnTo>
                <a:lnTo>
                  <a:pt x="2298" y="666"/>
                </a:lnTo>
                <a:lnTo>
                  <a:pt x="2304" y="510"/>
                </a:lnTo>
                <a:lnTo>
                  <a:pt x="2310" y="378"/>
                </a:lnTo>
                <a:lnTo>
                  <a:pt x="2316" y="264"/>
                </a:lnTo>
                <a:lnTo>
                  <a:pt x="2322" y="180"/>
                </a:lnTo>
                <a:lnTo>
                  <a:pt x="2328" y="114"/>
                </a:lnTo>
                <a:lnTo>
                  <a:pt x="2334" y="72"/>
                </a:lnTo>
                <a:lnTo>
                  <a:pt x="2340" y="42"/>
                </a:lnTo>
                <a:lnTo>
                  <a:pt x="2346" y="24"/>
                </a:lnTo>
                <a:lnTo>
                  <a:pt x="2352" y="12"/>
                </a:lnTo>
                <a:lnTo>
                  <a:pt x="2352" y="6"/>
                </a:lnTo>
                <a:lnTo>
                  <a:pt x="2358" y="6"/>
                </a:lnTo>
                <a:lnTo>
                  <a:pt x="2364" y="0"/>
                </a:lnTo>
                <a:lnTo>
                  <a:pt x="2370" y="0"/>
                </a:lnTo>
                <a:lnTo>
                  <a:pt x="2376" y="0"/>
                </a:lnTo>
                <a:lnTo>
                  <a:pt x="2382" y="0"/>
                </a:lnTo>
                <a:lnTo>
                  <a:pt x="2388" y="0"/>
                </a:lnTo>
                <a:lnTo>
                  <a:pt x="2394" y="0"/>
                </a:lnTo>
                <a:lnTo>
                  <a:pt x="2400" y="0"/>
                </a:lnTo>
                <a:lnTo>
                  <a:pt x="2406" y="0"/>
                </a:lnTo>
                <a:lnTo>
                  <a:pt x="2412" y="0"/>
                </a:lnTo>
                <a:lnTo>
                  <a:pt x="2418" y="0"/>
                </a:lnTo>
                <a:lnTo>
                  <a:pt x="2424" y="0"/>
                </a:lnTo>
                <a:lnTo>
                  <a:pt x="2430" y="0"/>
                </a:lnTo>
                <a:lnTo>
                  <a:pt x="2436" y="0"/>
                </a:lnTo>
                <a:lnTo>
                  <a:pt x="2442" y="0"/>
                </a:lnTo>
                <a:lnTo>
                  <a:pt x="2448" y="0"/>
                </a:lnTo>
                <a:lnTo>
                  <a:pt x="2454" y="0"/>
                </a:lnTo>
                <a:lnTo>
                  <a:pt x="2460" y="0"/>
                </a:lnTo>
                <a:lnTo>
                  <a:pt x="2466" y="0"/>
                </a:lnTo>
                <a:lnTo>
                  <a:pt x="2472" y="0"/>
                </a:lnTo>
                <a:lnTo>
                  <a:pt x="2478" y="0"/>
                </a:lnTo>
                <a:lnTo>
                  <a:pt x="2484" y="0"/>
                </a:lnTo>
                <a:lnTo>
                  <a:pt x="2490" y="0"/>
                </a:lnTo>
                <a:lnTo>
                  <a:pt x="2496" y="0"/>
                </a:lnTo>
                <a:lnTo>
                  <a:pt x="2502" y="0"/>
                </a:lnTo>
                <a:lnTo>
                  <a:pt x="2508" y="0"/>
                </a:lnTo>
                <a:lnTo>
                  <a:pt x="2514" y="0"/>
                </a:lnTo>
                <a:lnTo>
                  <a:pt x="2520" y="0"/>
                </a:lnTo>
                <a:lnTo>
                  <a:pt x="2526" y="0"/>
                </a:lnTo>
                <a:lnTo>
                  <a:pt x="2532" y="0"/>
                </a:lnTo>
                <a:lnTo>
                  <a:pt x="2538" y="0"/>
                </a:lnTo>
                <a:lnTo>
                  <a:pt x="2544" y="0"/>
                </a:lnTo>
                <a:lnTo>
                  <a:pt x="2550" y="6"/>
                </a:lnTo>
                <a:lnTo>
                  <a:pt x="2556" y="6"/>
                </a:lnTo>
                <a:lnTo>
                  <a:pt x="2562" y="12"/>
                </a:lnTo>
                <a:lnTo>
                  <a:pt x="2568" y="24"/>
                </a:lnTo>
                <a:lnTo>
                  <a:pt x="2568" y="42"/>
                </a:lnTo>
                <a:lnTo>
                  <a:pt x="2574" y="72"/>
                </a:lnTo>
                <a:lnTo>
                  <a:pt x="2580" y="114"/>
                </a:lnTo>
                <a:lnTo>
                  <a:pt x="2586" y="180"/>
                </a:lnTo>
                <a:lnTo>
                  <a:pt x="2592" y="264"/>
                </a:lnTo>
                <a:lnTo>
                  <a:pt x="2598" y="378"/>
                </a:lnTo>
                <a:lnTo>
                  <a:pt x="2604" y="510"/>
                </a:lnTo>
                <a:lnTo>
                  <a:pt x="2610" y="666"/>
                </a:lnTo>
                <a:lnTo>
                  <a:pt x="2616" y="834"/>
                </a:lnTo>
                <a:lnTo>
                  <a:pt x="2616" y="1008"/>
                </a:lnTo>
                <a:lnTo>
                  <a:pt x="2622" y="1176"/>
                </a:lnTo>
                <a:lnTo>
                  <a:pt x="2628" y="1332"/>
                </a:lnTo>
                <a:lnTo>
                  <a:pt x="2634" y="1470"/>
                </a:lnTo>
                <a:lnTo>
                  <a:pt x="2640" y="1578"/>
                </a:lnTo>
                <a:lnTo>
                  <a:pt x="2646" y="1668"/>
                </a:lnTo>
                <a:lnTo>
                  <a:pt x="2652" y="1728"/>
                </a:lnTo>
                <a:lnTo>
                  <a:pt x="2658" y="1776"/>
                </a:lnTo>
                <a:lnTo>
                  <a:pt x="2664" y="1806"/>
                </a:lnTo>
                <a:lnTo>
                  <a:pt x="2670" y="1824"/>
                </a:lnTo>
                <a:lnTo>
                  <a:pt x="2670" y="1836"/>
                </a:lnTo>
                <a:lnTo>
                  <a:pt x="2676" y="1842"/>
                </a:lnTo>
                <a:lnTo>
                  <a:pt x="2682" y="1842"/>
                </a:lnTo>
                <a:lnTo>
                  <a:pt x="2688" y="1842"/>
                </a:lnTo>
                <a:lnTo>
                  <a:pt x="2694" y="1848"/>
                </a:lnTo>
              </a:path>
            </a:pathLst>
          </a:custGeom>
          <a:noFill/>
          <a:ln w="255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226004F-4903-4128-AD52-CD3CB41C5C98}"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lt;doc#&gt;</dc:description>
  <dc:language>en-US</dc:language>
  <cp:lastModifiedBy>Jim Lansford</cp:lastModifiedBy>
  <cp:lastPrinted>1998-02-10T13:28:06Z</cp:lastPrinted>
  <dcterms:modified xsi:type="dcterms:W3CDTF">2000-03-08T16:09:05Z</dcterms:modified>
  <cp:revision>20</cp:revision>
  <dc:subject>IEEE 802.15 &lt;subject&gt;</dc:subject>
  <dc:title>&lt;title&gt;</dc:title>
</cp:coreProperties>
</file>