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F41664F-66FA-43C6-B9F6-968E20D74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54160" y="701640"/>
            <a:ext cx="4626000" cy="3468600"/>
          </a:xfrm>
          <a:prstGeom prst="rect">
            <a:avLst/>
          </a:prstGeom>
          <a:ln w="0">
            <a:noFill/>
          </a:ln>
        </p:spPr>
      </p:sp>
      <p:sp>
        <p:nvSpPr>
          <p:cNvPr id="16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802.11 Wireless Standards Packag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PDF standards listed below are available as part of an annual on-line All-Inclusive Standards subscription, Information Technology Standards subscription, LAN/MAN Standards subscription, and LAN/MAN Plus Drafts Standards subscrip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802.11 Wireless Standards Packag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cludes 802.11-1999, 802.11a-1999, and 802.11b-1999)</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int: 720 pages [0-7381-2315-3] [SH94842-NYF] $288.00 * IEEE Mbr: $23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DF: [0-7381-2316-1] [SS94842-NYF] $432.00 * IEEE Mbr: $346.00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802-11: 1999 (ISOIEC) (IEEE Std 802.11, 1999 Edition) Information technology--Telecommunications and information exchange between systems--Local and metropolitan area networks--Specific requirements--Part 11: Wireless LAN Medium Access Control (MAC) and Physical Layer (PHY) Specification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int: 528 pages [0-7381-1658-0] [SH94740-NYF] * $180.00 * IEEE Mbr: $144.00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DF: [0-7381-1569-9] [SS94740-NYF] * $270.00 * IEEE Mbr: $216.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1a-1999 Suppplement to Information technology--Telecommunications and information exchange between systems--Local and metropolitan area networks--Specific requirements--Part 11: Wireless LAN Medium Access Control (MAC) and Physical Layer (PHY) Specifications: High Speed Physical Layer (PHY) in the 5 GHz Ba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int: 92 pages [0-7381-1809-5] [SH94787-NYF] $70.00 * IEEE Mbr: $56.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DF: [0-7381-1810-9] [SS94787-NYF] $105.00 * IEEE Mbr: $84.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802.11b-1999 Suppplement to Information technology--Telecommunications and information exchange between systems--Local and metropolitan area networks--Specific requirements--Part 11: Wireless LAN Medium Access Control (MAC) and Physical Layer (PHY) Specifications: Higher Speed Physical Layer (PHY) Extension in the 2.4 GHz ba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int: 100 pages [0-7381-1811-7] [SH94788-NYF] $70.00 * IEEE Mbr: $56.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DF: [0-7381-1812-5] [SS94788-NYF] $105.00 * IEEE Mbr: $84.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4160" y="701640"/>
            <a:ext cx="4626000" cy="3468600"/>
          </a:xfrm>
          <a:prstGeom prst="rect">
            <a:avLst/>
          </a:prstGeom>
          <a:ln w="0">
            <a:noFill/>
          </a:ln>
        </p:spPr>
      </p:sp>
      <p:sp>
        <p:nvSpPr>
          <p:cNvPr id="16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FORMATION TECHNOLOG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EEE 802.11 Handbook:</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 Designer's Compan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y Bob O'Hara and Al Petrick</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int: 168 pages 0-7381-1855-9 * [SP1118-NYF] * $60.00 * IEEE Mbr: $48.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EEE 802.11 Handbook: A Designer's Companion familiarizes system network architects, hardware engineers and software engineers with the basic concepts, terminology and key specifications of the IEEE 802.11 standard-serving as an indispensable prim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book takes the reader from a basic understanding of WLANs through the details of the PHY and MAC layer of the standard. The authors articulate a clear picture of the standard to both first-time and experienced designers of wireless products. So if you're a new market entrant or an existing original equipment manufacturer (OEM) of proprietary WLAN solutions and you're developing IEEE 802.11 based products for the RF or Infrared WLAN market, this book is for you.</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is book, you wil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 Acquire a solid working definition of a wireless LA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 Discover the evolution of the 802.11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 Learn the various market segment applications, ranging from manufacturing to enterprise wireless communic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s more, A Designer's Companion, covers in detai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 General network topologies of an ad-hoc and distributed network for an IEEE 802.11 wireless mediu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 Key specifications and attributes of the five physical layers specified in the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direct sequence spread spectrum (DSSS) physical lay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frequency-hopping spread spectrum (FHSS) physical lay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high rate direct sequence spread spectrum (HRDSSS) physical lay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orthogonal frequency division multiplexed (OFDM) physical lay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infrared (IR) physical lay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 Basics of the protocol relative to the ad-hoc and distributed network configuration, including the MAC layer-the most difficult entity in the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ddition, the book outlines the world regulatory bodies requiring certification for operating IEEE 802.11 conformant products in the 2.4 GHz ISM and 5 GHz UNII frequency ban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rder No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0E870-41D2-47E0-AF51-E71386114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7BFF4-9808-42F8-A14B-34C48B008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F4011-6F5F-494B-84FE-1EAF478D4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010EF-E666-442A-B9C1-202ECD7A7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9CCFA-B643-4ED4-99E7-CD3FAA68F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92754-B666-482D-80BB-F5A320B0F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31255-6270-4978-B503-DEECDF585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94F77-4EDB-409F-9F34-D7A716E60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FDD86-1F6A-4A3E-820C-65CBDDBE9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9F752-150B-45C6-B9A2-DC8C8DB29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6F0B4-C05F-4883-9B58-768B61916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85BC8-31C0-4E6C-B019-7B13430C2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DB62DD-8DFB-4CFF-8B1E-123C831AC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58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71892D5A-B252-4BC5-85AD-7835A16610D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545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 Handbook Roadmap]</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1Mar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99/031r4, etc.]</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contribution discuss the background on IEEE Handbooks and that the P802.15.1 Std. Would likely benefit from a Handbook.]</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contribution will be used to initiate discussion with the IEEE-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a:t>
            </a:r>
            <a:endParaRPr b="0" lang="en-US" sz="3600" spc="-1" strike="noStrike">
              <a:solidFill>
                <a:srgbClr val="000000"/>
              </a:solidFill>
              <a:latin typeface="Times New Roman"/>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book Roadma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37B34F0-9557-4EBE-9F8D-915F47462E0B}" type="slidenum">
              <a:t>10</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tential Source Information</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802.15.1 St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Version 1.0 B Specification Foundation Core (Co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Version 1.0 B Specification Foundation Profiles (Profi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Marketing Requirements Document (M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Qualification Program Reference Document (P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409B026-160B-4904-AC40-D2FCC9C4BAFE}" type="slidenum">
              <a:t>11</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tential Author – Tom Siep</a:t>
            </a:r>
            <a:endParaRPr b="0" lang="en-US" sz="36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 Siep was born in Denver, Colorado, USA. He is a Group Member Technical Staff in the Wireless Communications Business Unit of Texas Instruments.  He has responsibility for coordinating Short Distance Wireless communications Research and Development.  Tom earned a Bachelors degree in Management from the University of California at Fullerton and a Masters in Information Systems from the University of Texas at Dallas.  He has twenty-five years experience in many facets of communications and information systems.  In the last fifteen years Tom has championed the cause of Local Area and Personal Area Wireless communications at TI by providing technical leadership in the implementation of several pilot wireless communications systems for TI customers and through his IEEE Standards participation. He is also currently the Chief Technical Editor for the IEEE P802.15 standardization of portions of the Bluetooth(TM) Specification. His e-mail address is siep@ti.co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5C3930A-F29A-46EB-B378-9C62BAC348F8}" type="slidenum">
              <a:t>1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tential Author – Ian Gifford</a:t>
            </a:r>
            <a:endParaRPr b="0" lang="en-US" sz="36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n Gifford was born in Framingham, Massachusetts, USA.  He received a Bachelors in Economics from Boston University, Boston Massachusetts, USA, in 1981.  He is Director of Standards at M/A-COM, Inc., a Tyco Electronics Company, in Lowell, Massachusetts, USA. For the past 15 years he has worked on wireless solutions for wide area, local area and personal area networks.  Additionally, he is an active member in a number of Standards Development Organization's e.g., ITU-R, TIA, and Committee T1 as well as a few Industry Special Interest Groups and Alliances e.g., Bluetooth(TM) Special Interest Group, etc.  He is also currently Vice Chair of the IEEE P802.15 Working Group for WPANs.  His e-mail address is giffordi@tycoelectronics.co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859D710-50FF-46CD-9FB8-37955149121A}" type="slidenum">
              <a:t>1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Handbook: A Designer’s Companion Overview</a:t>
            </a:r>
            <a:endParaRPr b="0" lang="en-US" sz="3600" spc="-1" strike="noStrike">
              <a:solidFill>
                <a:srgbClr val="000000"/>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168 pag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RP: $60.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Mbr: $48.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 Sie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n Giffor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6" name="80211h" descr=""/>
          <p:cNvPicPr/>
          <p:nvPr/>
        </p:nvPicPr>
        <p:blipFill>
          <a:blip r:embed="rId1"/>
          <a:stretch/>
        </p:blipFill>
        <p:spPr>
          <a:xfrm>
            <a:off x="6172200" y="1814400"/>
            <a:ext cx="2130480" cy="3405240"/>
          </a:xfrm>
          <a:prstGeom prst="rect">
            <a:avLst/>
          </a:prstGeom>
          <a:ln w="0">
            <a:noFill/>
          </a:ln>
        </p:spPr>
      </p:pic>
      <p:grpSp>
        <p:nvGrpSpPr>
          <p:cNvPr id="147" name=""/>
          <p:cNvGrpSpPr/>
          <p:nvPr/>
        </p:nvGrpSpPr>
        <p:grpSpPr>
          <a:xfrm>
            <a:off x="7315200" y="1690560"/>
            <a:ext cx="1706400" cy="1190880"/>
            <a:chOff x="7315200" y="1690560"/>
            <a:chExt cx="1706400" cy="1190880"/>
          </a:xfrm>
        </p:grpSpPr>
        <p:sp>
          <p:nvSpPr>
            <p:cNvPr id="148" name=""/>
            <p:cNvSpPr/>
            <p:nvPr/>
          </p:nvSpPr>
          <p:spPr>
            <a:xfrm>
              <a:off x="7315200" y="1967040"/>
              <a:ext cx="1066680" cy="9144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231400" y="169056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15</a:t>
              </a:r>
              <a:endParaRPr b="0" lang="en-US" sz="4800" spc="-1" strike="noStrike">
                <a:solidFill>
                  <a:srgbClr val="000000"/>
                </a:solidFill>
                <a:latin typeface="Times New Roman"/>
              </a:endParaRPr>
            </a:p>
          </p:txBody>
        </p:sp>
      </p:gr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1E26DB7-51EC-4BA0-98FB-5DF0F41D499C}" type="slidenum">
              <a:t>1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Handbook: Abstract</a:t>
            </a:r>
            <a:endParaRPr b="0" lang="en-US" sz="36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EEE 802.15 Handbook: A Designer's Companion familiarizes system network architects, hardware engineers and software engineers with the basic concepts, terminology and key specifications of the IEEE 802.15 standard-serving as an indispensable prime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D64FA11-8634-4592-9D71-F13D97E42A35}" type="slidenum">
              <a:t>15</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Handbook: Introduction</a:t>
            </a:r>
            <a:endParaRPr b="0" lang="en-US" sz="36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book takes the reader from a basic understanding of WPANs through the details of the PHY and MAC layer of the standard. The author(s) articulates a clear picture of the standard to both first-time and experienced designers of wireless products. So if you're a new market entrant or an existing original equipment manufacturer (OEM) of proprietary WPAN solutions and you're developing IEEE 802.15 based products for the RF WPAN market, this book is for you.</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5DBFD3D-EBE1-4ACC-99C6-187193D9E2AC}" type="slidenum">
              <a:t>16</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Handbook: Overview</a:t>
            </a:r>
            <a:endParaRPr b="0" lang="en-US" sz="36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book, you wi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re a solid working definition of a wireless P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the evolution of the 802.15 stand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the various market segment applications, ranging from manufacturing to enterprise wireless communic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C564032-4A36-4C6A-909E-E29278EFDC5E}" type="slidenum">
              <a:t>17</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Handbook: </a:t>
            </a:r>
            <a:endParaRPr b="0" lang="en-US" sz="36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more, A Designer's Companion, covers in detail:</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network topologies of a Piconet and Scatternet for an IEEE 802.15 wireless mediu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specifications and attributes of the  physical layer specified in the standard</a:t>
            </a:r>
            <a:endParaRPr b="0" lang="en-US" sz="1800" spc="-1" strike="noStrike">
              <a:solidFill>
                <a:srgbClr val="000000"/>
              </a:solidFill>
              <a:latin typeface="Arial"/>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based on FH-CDMA. </a:t>
            </a:r>
            <a:endParaRPr b="0" lang="en-US" sz="1600" spc="-1" strike="noStrike">
              <a:solidFill>
                <a:srgbClr val="000000"/>
              </a:solidFill>
              <a:latin typeface="Arial"/>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2.45 GHz ISM band, a set of 79 hop carriers have been defined at a 1 MHz spacing</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s of the protocol relative to the Piconet and Scatternet configuration, including the MAC layer-the most difficult entity in the standar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he book outlines the world regulatory bodies requiring certification for operating IEEE 802.15 conformant products in the 2.4 GHz ISM frequency band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E28D104-1D84-4A81-B2BC-0C85CEA0739E}" type="slidenum">
              <a:t>18</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y Authors intere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IEEE-SA Edito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vette Ho Sang &lt;y.hosang@ieee.org&g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1 732 562 3814</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otiate Author Contra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 Handbook coincident with Draft Standard approval e.g., post Sponsor Ballo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5971E68-7C52-46F9-A2A3-0C518A3FAC06}" type="slidenum">
              <a:t>19</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Handbook Roadmap</a:t>
            </a:r>
            <a:endParaRPr b="0" lang="en-US" sz="3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000, Albuquerque, NM US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BC44A65-3BDD-43DE-9B51-B95AFBA00160}" type="slidenum">
              <a:t>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ation Continuu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 Handbook Over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Handbook Roadma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Source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Auth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Handbook Abstrac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ep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FDB6388-2720-4379-9A53-AF03A2A661B9}" type="slidenum">
              <a:t>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02.15.1 Project is by definition a standard that addresses the consumer electronics indus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 standards point of view the consumer electronics industry has many new custom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 that understand how to read a standar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 that DO NOT understand how to read a standar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ems to follow that complementary collateral that supports the 802.15.1 standard will be in de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roadmap discuss the potential  Handbook in support of 802.15.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19E67C9-EE7D-41C1-950B-3D3C5D65F781}" type="slidenum">
              <a:t>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49160" y="1523880"/>
            <a:ext cx="5943600" cy="4953240"/>
          </a:xfrm>
          <a:prstGeom prst="rect">
            <a:avLst/>
          </a:prstGeom>
          <a:solidFill>
            <a:srgbClr val="b2b2b2"/>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692760" y="1523880"/>
            <a:ext cx="1733760" cy="4953240"/>
          </a:xfrm>
          <a:prstGeom prst="rect">
            <a:avLst/>
          </a:prstGeom>
          <a:solidFill>
            <a:srgbClr val="cccc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blication Continuum</a:t>
            </a:r>
            <a:endParaRPr b="0" lang="en-US" sz="3600" spc="-1" strike="noStrike">
              <a:solidFill>
                <a:srgbClr val="000000"/>
              </a:solidFill>
              <a:latin typeface="Times New Roman"/>
            </a:endParaRPr>
          </a:p>
        </p:txBody>
      </p:sp>
      <p:sp>
        <p:nvSpPr>
          <p:cNvPr id="69" name=""/>
          <p:cNvSpPr/>
          <p:nvPr/>
        </p:nvSpPr>
        <p:spPr>
          <a:xfrm>
            <a:off x="457200" y="3568680"/>
            <a:ext cx="82296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0" name="80211h" descr=""/>
          <p:cNvPicPr/>
          <p:nvPr/>
        </p:nvPicPr>
        <p:blipFill>
          <a:blip r:embed="rId1"/>
          <a:stretch/>
        </p:blipFill>
        <p:spPr>
          <a:xfrm>
            <a:off x="4788000" y="3611520"/>
            <a:ext cx="1315800" cy="2103480"/>
          </a:xfrm>
          <a:prstGeom prst="rect">
            <a:avLst/>
          </a:prstGeom>
          <a:ln w="0">
            <a:noFill/>
          </a:ln>
        </p:spPr>
      </p:pic>
      <p:pic>
        <p:nvPicPr>
          <p:cNvPr id="71" name="" descr=""/>
          <p:cNvPicPr/>
          <p:nvPr/>
        </p:nvPicPr>
        <p:blipFill>
          <a:blip r:embed="rId2"/>
          <a:stretch/>
        </p:blipFill>
        <p:spPr>
          <a:xfrm>
            <a:off x="6769080" y="3621240"/>
            <a:ext cx="1590840" cy="2081160"/>
          </a:xfrm>
          <a:prstGeom prst="rect">
            <a:avLst/>
          </a:prstGeom>
          <a:ln w="9360">
            <a:solidFill>
              <a:srgbClr val="000000"/>
            </a:solidFill>
            <a:miter/>
          </a:ln>
        </p:spPr>
      </p:pic>
      <p:sp>
        <p:nvSpPr>
          <p:cNvPr id="72" name=""/>
          <p:cNvSpPr/>
          <p:nvPr/>
        </p:nvSpPr>
        <p:spPr>
          <a:xfrm rot="16200000">
            <a:off x="7321320" y="3465720"/>
            <a:ext cx="294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Complexity &amp; Detail</a:t>
            </a:r>
            <a:endParaRPr b="0" lang="en-US" sz="2000" spc="-1" strike="noStrike">
              <a:solidFill>
                <a:srgbClr val="000000"/>
              </a:solidFill>
              <a:latin typeface="Times New Roman"/>
            </a:endParaRPr>
          </a:p>
        </p:txBody>
      </p:sp>
      <p:sp>
        <p:nvSpPr>
          <p:cNvPr id="73" name=""/>
          <p:cNvSpPr/>
          <p:nvPr/>
        </p:nvSpPr>
        <p:spPr>
          <a:xfrm rot="16200000">
            <a:off x="-1093680" y="3436200"/>
            <a:ext cx="285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Complexity &amp; Detail</a:t>
            </a:r>
            <a:endParaRPr b="0" lang="en-US" sz="2000" spc="-1" strike="noStrike">
              <a:solidFill>
                <a:srgbClr val="000000"/>
              </a:solidFill>
              <a:latin typeface="Times New Roman"/>
            </a:endParaRPr>
          </a:p>
        </p:txBody>
      </p:sp>
      <p:sp>
        <p:nvSpPr>
          <p:cNvPr id="74" name=""/>
          <p:cNvSpPr/>
          <p:nvPr/>
        </p:nvSpPr>
        <p:spPr>
          <a:xfrm>
            <a:off x="825480" y="1600200"/>
            <a:ext cx="7543800" cy="192420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Units Sol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 name=""/>
          <p:cNvSpPr/>
          <p:nvPr/>
        </p:nvSpPr>
        <p:spPr>
          <a:xfrm>
            <a:off x="4902120" y="5626080"/>
            <a:ext cx="11332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book</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168</a:t>
            </a:r>
            <a:endParaRPr b="0" lang="en-US" sz="1800" spc="-1" strike="noStrike">
              <a:solidFill>
                <a:srgbClr val="000000"/>
              </a:solidFill>
              <a:latin typeface="Times New Roman"/>
            </a:endParaRPr>
          </a:p>
        </p:txBody>
      </p:sp>
      <p:sp>
        <p:nvSpPr>
          <p:cNvPr id="76" name=""/>
          <p:cNvSpPr/>
          <p:nvPr/>
        </p:nvSpPr>
        <p:spPr>
          <a:xfrm>
            <a:off x="7043400" y="5626080"/>
            <a:ext cx="9946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372</a:t>
            </a:r>
            <a:endParaRPr b="0" lang="en-US" sz="1800" spc="-1" strike="noStrike">
              <a:solidFill>
                <a:srgbClr val="000000"/>
              </a:solidFill>
              <a:latin typeface="Times New Roman"/>
            </a:endParaRPr>
          </a:p>
        </p:txBody>
      </p:sp>
      <p:sp>
        <p:nvSpPr>
          <p:cNvPr id="77" name=""/>
          <p:cNvSpPr/>
          <p:nvPr/>
        </p:nvSpPr>
        <p:spPr>
          <a:xfrm>
            <a:off x="2782800" y="3619440"/>
            <a:ext cx="1032120" cy="1530360"/>
          </a:xfrm>
          <a:prstGeom prst="rect">
            <a:avLst/>
          </a:prstGeom>
          <a:solidFill>
            <a:srgbClr val="00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897280" y="3733920"/>
            <a:ext cx="1031760" cy="153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011400" y="3848040"/>
            <a:ext cx="1033560" cy="15303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127320" y="3976560"/>
            <a:ext cx="1031760" cy="15303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41800" y="4091040"/>
            <a:ext cx="1031760" cy="1530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L2CA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o”</a:t>
            </a:r>
            <a:endParaRPr b="0" lang="en-US" sz="2000" spc="-1" strike="noStrike">
              <a:solidFill>
                <a:srgbClr val="000000"/>
              </a:solidFill>
              <a:latin typeface="Times New Roman"/>
            </a:endParaRPr>
          </a:p>
        </p:txBody>
      </p:sp>
      <p:sp>
        <p:nvSpPr>
          <p:cNvPr id="82" name=""/>
          <p:cNvSpPr/>
          <p:nvPr/>
        </p:nvSpPr>
        <p:spPr>
          <a:xfrm>
            <a:off x="2747160" y="5608800"/>
            <a:ext cx="15094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cket Guid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80-120</a:t>
            </a:r>
            <a:endParaRPr b="0" lang="en-US" sz="1800" spc="-1" strike="noStrike">
              <a:solidFill>
                <a:srgbClr val="000000"/>
              </a:solidFill>
              <a:latin typeface="Times New Roman"/>
            </a:endParaRPr>
          </a:p>
        </p:txBody>
      </p:sp>
      <p:sp>
        <p:nvSpPr>
          <p:cNvPr id="83" name=""/>
          <p:cNvSpPr/>
          <p:nvPr/>
        </p:nvSpPr>
        <p:spPr>
          <a:xfrm>
            <a:off x="2730600" y="1600200"/>
            <a:ext cx="0" cy="43434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45600" y="1600200"/>
            <a:ext cx="0" cy="43434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781360" y="2019240"/>
            <a:ext cx="5638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 name="smllieee" descr=""/>
          <p:cNvPicPr/>
          <p:nvPr/>
        </p:nvPicPr>
        <p:blipFill>
          <a:blip r:embed="rId3"/>
          <a:stretch/>
        </p:blipFill>
        <p:spPr>
          <a:xfrm>
            <a:off x="5245200" y="1657440"/>
            <a:ext cx="753840" cy="857160"/>
          </a:xfrm>
          <a:prstGeom prst="rect">
            <a:avLst/>
          </a:prstGeom>
          <a:ln w="0">
            <a:noFill/>
          </a:ln>
        </p:spPr>
      </p:pic>
      <p:sp>
        <p:nvSpPr>
          <p:cNvPr id="87" name=""/>
          <p:cNvSpPr/>
          <p:nvPr/>
        </p:nvSpPr>
        <p:spPr>
          <a:xfrm>
            <a:off x="977760" y="4114800"/>
            <a:ext cx="1032120" cy="15303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mmies</a:t>
            </a:r>
            <a:endParaRPr b="0" lang="en-US" sz="2000" spc="-1" strike="noStrike">
              <a:solidFill>
                <a:srgbClr val="000000"/>
              </a:solidFill>
              <a:latin typeface="Times New Roman"/>
            </a:endParaRPr>
          </a:p>
        </p:txBody>
      </p:sp>
      <p:pic>
        <p:nvPicPr>
          <p:cNvPr id="88" name="Bluetooth%20logo%20(tm)" descr=""/>
          <p:cNvPicPr/>
          <p:nvPr/>
        </p:nvPicPr>
        <p:blipFill>
          <a:blip r:embed="rId4"/>
          <a:stretch/>
        </p:blipFill>
        <p:spPr>
          <a:xfrm>
            <a:off x="654120" y="4114800"/>
            <a:ext cx="1388880" cy="299880"/>
          </a:xfrm>
          <a:prstGeom prst="rect">
            <a:avLst/>
          </a:prstGeom>
          <a:ln w="0">
            <a:noFill/>
          </a:ln>
        </p:spPr>
      </p:pic>
      <p:sp>
        <p:nvSpPr>
          <p:cNvPr id="89" name=""/>
          <p:cNvSpPr/>
          <p:nvPr/>
        </p:nvSpPr>
        <p:spPr>
          <a:xfrm>
            <a:off x="749160" y="3962520"/>
            <a:ext cx="228600" cy="18288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flipV="1">
            <a:off x="5626080" y="3733560"/>
            <a:ext cx="457200" cy="533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008400" y="3800520"/>
            <a:ext cx="80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5.1</a:t>
            </a:r>
            <a:endParaRPr b="0" lang="en-US" sz="2800" spc="-1" strike="noStrike">
              <a:solidFill>
                <a:srgbClr val="000000"/>
              </a:solidFill>
              <a:latin typeface="Times New Roman"/>
            </a:endParaRPr>
          </a:p>
        </p:txBody>
      </p:sp>
      <p:sp>
        <p:nvSpPr>
          <p:cNvPr id="92" name=""/>
          <p:cNvSpPr/>
          <p:nvPr/>
        </p:nvSpPr>
        <p:spPr>
          <a:xfrm flipV="1">
            <a:off x="2197080" y="3333240"/>
            <a:ext cx="30492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2349360" y="3352320"/>
            <a:ext cx="30492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918840" y="1538280"/>
            <a:ext cx="129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unteers</a:t>
            </a:r>
            <a:endParaRPr b="0" lang="en-US" sz="2000" spc="-1" strike="noStrike">
              <a:solidFill>
                <a:srgbClr val="000000"/>
              </a:solidFill>
              <a:latin typeface="Times New Roman"/>
            </a:endParaRPr>
          </a:p>
        </p:txBody>
      </p:sp>
      <p:sp>
        <p:nvSpPr>
          <p:cNvPr id="95" name=""/>
          <p:cNvSpPr/>
          <p:nvPr/>
        </p:nvSpPr>
        <p:spPr>
          <a:xfrm>
            <a:off x="2958120" y="1523880"/>
            <a:ext cx="100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96" name=""/>
          <p:cNvSpPr/>
          <p:nvPr/>
        </p:nvSpPr>
        <p:spPr>
          <a:xfrm>
            <a:off x="596880" y="4114800"/>
            <a:ext cx="1522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E398078E-99C5-471A-987F-4F9C67654FDA}" type="slidenum">
              <a:t>5</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1434960" y="2400480"/>
            <a:ext cx="6261120" cy="3573360"/>
            <a:chOff x="1434960" y="2400480"/>
            <a:chExt cx="6261120" cy="3573360"/>
          </a:xfrm>
        </p:grpSpPr>
        <p:sp>
          <p:nvSpPr>
            <p:cNvPr id="98" name=""/>
            <p:cNvSpPr/>
            <p:nvPr/>
          </p:nvSpPr>
          <p:spPr>
            <a:xfrm>
              <a:off x="1434960" y="2400480"/>
              <a:ext cx="6261120" cy="357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772440" y="54100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ion</a:t>
              </a:r>
              <a:endParaRPr b="0" lang="en-US" sz="2400" spc="-1" strike="noStrike">
                <a:solidFill>
                  <a:srgbClr val="000000"/>
                </a:solidFill>
                <a:latin typeface="Times New Roman"/>
              </a:endParaRPr>
            </a:p>
          </p:txBody>
        </p:sp>
      </p:grpSp>
      <p:grpSp>
        <p:nvGrpSpPr>
          <p:cNvPr id="100" name=""/>
          <p:cNvGrpSpPr/>
          <p:nvPr/>
        </p:nvGrpSpPr>
        <p:grpSpPr>
          <a:xfrm>
            <a:off x="2070000" y="2549520"/>
            <a:ext cx="5008680" cy="2860560"/>
            <a:chOff x="2070000" y="2549520"/>
            <a:chExt cx="5008680" cy="2860560"/>
          </a:xfrm>
        </p:grpSpPr>
        <p:sp>
          <p:nvSpPr>
            <p:cNvPr id="101" name=""/>
            <p:cNvSpPr/>
            <p:nvPr/>
          </p:nvSpPr>
          <p:spPr>
            <a:xfrm>
              <a:off x="2070000" y="2549520"/>
              <a:ext cx="5008680" cy="2860560"/>
            </a:xfrm>
            <a:prstGeom prst="ellipse">
              <a:avLst/>
            </a:prstGeom>
            <a:solidFill>
              <a:srgbClr val="0000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843720" y="4911840"/>
              <a:ext cx="1450080" cy="45972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book</a:t>
              </a:r>
              <a:endParaRPr b="0" lang="en-US" sz="2400" spc="-1" strike="noStrike">
                <a:solidFill>
                  <a:srgbClr val="000000"/>
                </a:solidFill>
                <a:latin typeface="Times New Roman"/>
              </a:endParaRPr>
            </a:p>
          </p:txBody>
        </p:sp>
      </p:grpSp>
      <p:grpSp>
        <p:nvGrpSpPr>
          <p:cNvPr id="103" name=""/>
          <p:cNvGrpSpPr/>
          <p:nvPr/>
        </p:nvGrpSpPr>
        <p:grpSpPr>
          <a:xfrm>
            <a:off x="2549520" y="2701800"/>
            <a:ext cx="4003560" cy="2288520"/>
            <a:chOff x="2549520" y="2701800"/>
            <a:chExt cx="4003560" cy="2288520"/>
          </a:xfrm>
        </p:grpSpPr>
        <p:sp>
          <p:nvSpPr>
            <p:cNvPr id="104" name=""/>
            <p:cNvSpPr/>
            <p:nvPr/>
          </p:nvSpPr>
          <p:spPr>
            <a:xfrm>
              <a:off x="2549520" y="2701800"/>
              <a:ext cx="400356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67280" y="453060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er</a:t>
              </a:r>
              <a:endParaRPr b="0" lang="en-US" sz="2400" spc="-1" strike="noStrike">
                <a:solidFill>
                  <a:srgbClr val="000000"/>
                </a:solidFill>
                <a:latin typeface="Times New Roman"/>
              </a:endParaRPr>
            </a:p>
          </p:txBody>
        </p:sp>
      </p:grpSp>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Opportunities for Deliverables</a:t>
            </a:r>
            <a:br>
              <a:rPr sz="3600"/>
            </a:br>
            <a:r>
              <a:rPr b="0" lang="en-US" sz="3600" spc="-1" strike="noStrike">
                <a:solidFill>
                  <a:srgbClr val="000000"/>
                </a:solidFill>
                <a:latin typeface="Times New Roman"/>
              </a:rPr>
              <a:t>TG1 “Push”</a:t>
            </a:r>
            <a:endParaRPr b="0" lang="en-US" sz="3600" spc="-1" strike="noStrike">
              <a:solidFill>
                <a:srgbClr val="000000"/>
              </a:solidFill>
              <a:latin typeface="Times New Roman"/>
            </a:endParaRPr>
          </a:p>
        </p:txBody>
      </p:sp>
      <p:grpSp>
        <p:nvGrpSpPr>
          <p:cNvPr id="107" name=""/>
          <p:cNvGrpSpPr/>
          <p:nvPr/>
        </p:nvGrpSpPr>
        <p:grpSpPr>
          <a:xfrm>
            <a:off x="3124080" y="2930400"/>
            <a:ext cx="2880000" cy="1644480"/>
            <a:chOff x="3124080" y="2930400"/>
            <a:chExt cx="2880000" cy="1644480"/>
          </a:xfrm>
        </p:grpSpPr>
        <p:sp>
          <p:nvSpPr>
            <p:cNvPr id="108" name=""/>
            <p:cNvSpPr/>
            <p:nvPr/>
          </p:nvSpPr>
          <p:spPr>
            <a:xfrm>
              <a:off x="3124080" y="2930400"/>
              <a:ext cx="2880000" cy="164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3946680" y="3234960"/>
              <a:ext cx="1160280" cy="695520"/>
            </a:xfrm>
            <a:prstGeom prst="rect">
              <a:avLst/>
            </a:prstGeom>
            <a:ln w="0">
              <a:noFill/>
            </a:ln>
          </p:spPr>
        </p:pic>
        <p:sp>
          <p:nvSpPr>
            <p:cNvPr id="110" name=""/>
            <p:cNvSpPr/>
            <p:nvPr/>
          </p:nvSpPr>
          <p:spPr>
            <a:xfrm>
              <a:off x="3921480" y="41144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Times New Roman"/>
              </a:endParaRPr>
            </a:p>
          </p:txBody>
        </p:sp>
      </p:grpSp>
      <p:grpSp>
        <p:nvGrpSpPr>
          <p:cNvPr id="111" name=""/>
          <p:cNvGrpSpPr/>
          <p:nvPr/>
        </p:nvGrpSpPr>
        <p:grpSpPr>
          <a:xfrm>
            <a:off x="230400" y="2209680"/>
            <a:ext cx="3427200" cy="1600200"/>
            <a:chOff x="230400" y="2209680"/>
            <a:chExt cx="3427200" cy="1600200"/>
          </a:xfrm>
        </p:grpSpPr>
        <p:sp>
          <p:nvSpPr>
            <p:cNvPr id="112" name=""/>
            <p:cNvSpPr/>
            <p:nvPr/>
          </p:nvSpPr>
          <p:spPr>
            <a:xfrm>
              <a:off x="230400" y="220968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SA</a:t>
              </a:r>
              <a:endParaRPr b="0" lang="en-US" sz="2400" spc="-1" strike="noStrike">
                <a:solidFill>
                  <a:srgbClr val="000000"/>
                </a:solidFill>
                <a:latin typeface="Times New Roman"/>
              </a:endParaRPr>
            </a:p>
          </p:txBody>
        </p:sp>
        <p:sp>
          <p:nvSpPr>
            <p:cNvPr id="113" name=""/>
            <p:cNvSpPr/>
            <p:nvPr/>
          </p:nvSpPr>
          <p:spPr>
            <a:xfrm>
              <a:off x="762120" y="2666880"/>
              <a:ext cx="2895480" cy="11430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5867280" y="4495680"/>
            <a:ext cx="1905120" cy="1067040"/>
          </a:xfrm>
          <a:prstGeom prst="irregularSeal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cket Guide</a:t>
            </a:r>
            <a:endParaRPr b="0" lang="en-US" sz="1800" spc="-1" strike="noStrike">
              <a:solidFill>
                <a:srgbClr val="000000"/>
              </a:solidFill>
              <a:latin typeface="Times New Roman"/>
            </a:endParaRPr>
          </a:p>
        </p:txBody>
      </p:sp>
      <p:grpSp>
        <p:nvGrpSpPr>
          <p:cNvPr id="115" name=""/>
          <p:cNvGrpSpPr/>
          <p:nvPr/>
        </p:nvGrpSpPr>
        <p:grpSpPr>
          <a:xfrm>
            <a:off x="6248520" y="2209680"/>
            <a:ext cx="2705400" cy="2667240"/>
            <a:chOff x="6248520" y="2209680"/>
            <a:chExt cx="2705400" cy="2667240"/>
          </a:xfrm>
        </p:grpSpPr>
        <p:sp>
          <p:nvSpPr>
            <p:cNvPr id="116" name=""/>
            <p:cNvSpPr/>
            <p:nvPr/>
          </p:nvSpPr>
          <p:spPr>
            <a:xfrm>
              <a:off x="7392600" y="2209680"/>
              <a:ext cx="15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ress</a:t>
              </a:r>
              <a:endParaRPr b="0" lang="en-US" sz="2400" spc="-1" strike="noStrike">
                <a:solidFill>
                  <a:srgbClr val="000000"/>
                </a:solidFill>
                <a:latin typeface="Times New Roman"/>
              </a:endParaRPr>
            </a:p>
          </p:txBody>
        </p:sp>
        <p:sp>
          <p:nvSpPr>
            <p:cNvPr id="117" name=""/>
            <p:cNvSpPr/>
            <p:nvPr/>
          </p:nvSpPr>
          <p:spPr>
            <a:xfrm flipH="1">
              <a:off x="6248520" y="2666880"/>
              <a:ext cx="1676160" cy="1447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6552720" y="2666880"/>
              <a:ext cx="1676520" cy="18288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6933960" y="2666880"/>
              <a:ext cx="1523880" cy="22100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20" name="new" descr=""/>
          <p:cNvPicPr/>
          <p:nvPr/>
        </p:nvPicPr>
        <p:blipFill>
          <a:blip r:embed="rId2"/>
          <a:stretch/>
        </p:blipFill>
        <p:spPr>
          <a:xfrm>
            <a:off x="7086600" y="5181480"/>
            <a:ext cx="520560" cy="201600"/>
          </a:xfrm>
          <a:prstGeom prst="rect">
            <a:avLst/>
          </a:prstGeom>
          <a:ln w="0">
            <a:noFill/>
          </a:ln>
        </p:spPr>
      </p:pic>
      <p:sp>
        <p:nvSpPr>
          <p:cNvPr id="121" name=""/>
          <p:cNvSpPr/>
          <p:nvPr/>
        </p:nvSpPr>
        <p:spPr>
          <a:xfrm rot="1518000">
            <a:off x="4336200" y="3330360"/>
            <a:ext cx="605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802.15.1</a:t>
            </a:r>
            <a:endParaRPr b="0" lang="en-US" sz="8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ED428EA5-4D5F-40F8-9620-C03009AA596A}" type="slidenum">
              <a:t>6</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1 Publication Offering  </a:t>
            </a:r>
            <a:endParaRPr b="0" lang="en-US" sz="36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802.11 St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1999</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a-1999</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b-1999</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802.11 Handbook</a:t>
            </a:r>
            <a:endParaRPr b="0" lang="en-US" sz="2800" spc="-1" strike="noStrike">
              <a:solidFill>
                <a:srgbClr val="000000"/>
              </a:solidFill>
              <a:latin typeface="Arial"/>
            </a:endParaRPr>
          </a:p>
        </p:txBody>
      </p:sp>
      <p:pic>
        <p:nvPicPr>
          <p:cNvPr id="124" name="80211h" descr=""/>
          <p:cNvPicPr/>
          <p:nvPr/>
        </p:nvPicPr>
        <p:blipFill>
          <a:blip r:embed="rId1"/>
          <a:stretch/>
        </p:blipFill>
        <p:spPr>
          <a:xfrm>
            <a:off x="7238880" y="2786040"/>
            <a:ext cx="1498680" cy="2395440"/>
          </a:xfrm>
          <a:prstGeom prst="rect">
            <a:avLst/>
          </a:prstGeom>
          <a:ln w="0">
            <a:noFill/>
          </a:ln>
        </p:spPr>
      </p:pic>
      <p:pic>
        <p:nvPicPr>
          <p:cNvPr id="125" name="" descr=""/>
          <p:cNvPicPr/>
          <p:nvPr/>
        </p:nvPicPr>
        <p:blipFill>
          <a:blip r:embed="rId2"/>
          <a:stretch/>
        </p:blipFill>
        <p:spPr>
          <a:xfrm>
            <a:off x="5105520" y="2743200"/>
            <a:ext cx="1946160" cy="2548080"/>
          </a:xfrm>
          <a:prstGeom prst="rect">
            <a:avLst/>
          </a:prstGeom>
          <a:ln w="9360">
            <a:solidFill>
              <a:srgbClr val="000000"/>
            </a:solidFill>
            <a:miter/>
          </a:ln>
        </p:spPr>
      </p:pic>
      <p:sp>
        <p:nvSpPr>
          <p:cNvPr id="126" name=""/>
          <p:cNvSpPr/>
          <p:nvPr/>
        </p:nvSpPr>
        <p:spPr>
          <a:xfrm>
            <a:off x="4952880" y="1828800"/>
            <a:ext cx="3886200" cy="426708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095880" y="1981080"/>
            <a:ext cx="1752840" cy="685800"/>
          </a:xfrm>
          <a:custGeom>
            <a:avLst/>
            <a:gdLst>
              <a:gd name="textAreaLeft" fmla="*/ 306720 w 1752840"/>
              <a:gd name="textAreaRight" fmla="*/ 1270800 w 175284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6248520" y="5333400"/>
            <a:ext cx="1752480" cy="685800"/>
          </a:xfrm>
          <a:custGeom>
            <a:avLst/>
            <a:gdLst>
              <a:gd name="textAreaLeft" fmla="*/ 303120 w 1752480"/>
              <a:gd name="textAreaRight" fmla="*/ 1288800 w 1752480"/>
              <a:gd name="textAreaTop" fmla="*/ 91800 h 685800"/>
              <a:gd name="textAreaBottom" fmla="*/ 594000 h 685800"/>
            </a:gdLst>
            <a:ahLst/>
            <a:rect l="textAreaLeft" t="textAreaTop" r="textAreaRight" b="textAreaBottom"/>
            <a:pathLst>
              <a:path w="21600" h="21600">
                <a:moveTo>
                  <a:pt x="0" y="21600"/>
                </a:moveTo>
                <a:arcTo wR="7474" hR="21600" stAng="10800000" swAng="5400000"/>
                <a:lnTo>
                  <a:pt x="12149" y="0"/>
                </a:lnTo>
                <a:arcTo wR="7474" hR="21600" stAng="-5400000" swAng="2662975"/>
                <a:lnTo>
                  <a:pt x="21173" y="14400"/>
                </a:lnTo>
                <a:lnTo>
                  <a:pt x="17286" y="21600"/>
                </a:lnTo>
                <a:lnTo>
                  <a:pt x="12544" y="14400"/>
                </a:lnTo>
                <a:lnTo>
                  <a:pt x="14521" y="14400"/>
                </a:lnTo>
                <a:arcTo wR="7474" hR="21600" stAng="-2737025" swAng="-2272983"/>
                <a:lnTo>
                  <a:pt x="9812" y="1084"/>
                </a:lnTo>
                <a:arcTo wR="7474" hR="21600" stAng="-5789991" swAng="-5010009"/>
                <a:close/>
              </a:path>
              <a:path fill="darkenLess" w="21600" h="21600">
                <a:moveTo>
                  <a:pt x="0" y="21600"/>
                </a:moveTo>
                <a:arcTo wR="7474" hR="21600" stAng="10800000" swAng="5400000"/>
                <a:lnTo>
                  <a:pt x="7474" y="0"/>
                </a:lnTo>
                <a:arcTo wR="7474" hR="21600" stAng="-5400000" swAng="389991"/>
                <a:lnTo>
                  <a:pt x="9812" y="1084"/>
                </a:lnTo>
                <a:arcTo wR="7474" hR="21600" stAng="-5789991" swAng="-5010009"/>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94CBABD-743C-4DE1-B12E-8C6A5353138E}" type="slidenum">
              <a:t>7</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802.11 Wireless Standards Package</a:t>
            </a:r>
            <a:endParaRPr b="0" lang="en-US" sz="3600" spc="-1" strike="noStrike">
              <a:solidFill>
                <a:srgbClr val="000000"/>
              </a:solidFill>
              <a:latin typeface="Times New Roman"/>
            </a:endParaRPr>
          </a:p>
        </p:txBody>
      </p:sp>
      <p:sp>
        <p:nvSpPr>
          <p:cNvPr id="13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720 pag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cop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RP: $288.0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Mbr: $230.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RP: $432.0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Mbr: $346.00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1999</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a-1999</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b-1999</a:t>
            </a:r>
            <a:endParaRPr b="0" lang="en-US" sz="2000" spc="-1" strike="noStrike">
              <a:solidFill>
                <a:srgbClr val="000000"/>
              </a:solidFill>
              <a:latin typeface="Arial"/>
            </a:endParaRPr>
          </a:p>
        </p:txBody>
      </p:sp>
      <p:pic>
        <p:nvPicPr>
          <p:cNvPr id="131" name="" descr=""/>
          <p:cNvPicPr/>
          <p:nvPr/>
        </p:nvPicPr>
        <p:blipFill>
          <a:blip r:embed="rId1"/>
          <a:stretch/>
        </p:blipFill>
        <p:spPr>
          <a:xfrm>
            <a:off x="5557680" y="2171880"/>
            <a:ext cx="2824200" cy="3695400"/>
          </a:xfrm>
          <a:prstGeom prst="rect">
            <a:avLst/>
          </a:prstGeom>
          <a:ln w="9360">
            <a:solidFill>
              <a:srgbClr val="000000"/>
            </a:solidFill>
            <a:miter/>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8A114DA-B662-412A-94BA-A082B1CDBA88}" type="slidenum">
              <a:t>8</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1 Handbook: A Designer’s Companion Overview</a:t>
            </a:r>
            <a:endParaRPr b="0" lang="en-US" sz="3600" spc="-1" strike="noStrike">
              <a:solidFill>
                <a:srgbClr val="000000"/>
              </a:solidFill>
              <a:latin typeface="Times New Roman"/>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168 pag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RP: $60.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Mbr: $48.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b O’Har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Petrick</a:t>
            </a:r>
            <a:endParaRPr b="0" lang="en-US" sz="2400" spc="-1" strike="noStrike">
              <a:solidFill>
                <a:srgbClr val="000000"/>
              </a:solidFill>
              <a:latin typeface="Arial"/>
            </a:endParaRPr>
          </a:p>
        </p:txBody>
      </p:sp>
      <p:pic>
        <p:nvPicPr>
          <p:cNvPr id="134" name="80211h" descr=""/>
          <p:cNvPicPr/>
          <p:nvPr/>
        </p:nvPicPr>
        <p:blipFill>
          <a:blip r:embed="rId1"/>
          <a:stretch/>
        </p:blipFill>
        <p:spPr>
          <a:xfrm>
            <a:off x="6172200" y="1944720"/>
            <a:ext cx="1928880" cy="3084480"/>
          </a:xfrm>
          <a:prstGeom prst="rect">
            <a:avLst/>
          </a:prstGeom>
          <a:ln w="0">
            <a:noFill/>
          </a:ln>
        </p:spPr>
      </p:pic>
      <p:sp>
        <p:nvSpPr>
          <p:cNvPr id="135" name=""/>
          <p:cNvSpPr/>
          <p:nvPr/>
        </p:nvSpPr>
        <p:spPr>
          <a:xfrm>
            <a:off x="228600" y="5181480"/>
            <a:ext cx="8686800" cy="1143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andbook is a nice complement to the 802.11 St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rgets: system network architects, hardware and software engine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be a similar Handbook will help the P802.15.1 St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BE3C2B0-2D0D-4337-B581-13447F304198}" type="slidenum">
              <a:t>9</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99/175r0</dc:description>
  <dc:language>en-US</dc:language>
  <cp:lastModifiedBy>Ian C. Gifford</cp:lastModifiedBy>
  <cp:lastPrinted>1998-02-10T13:28:06Z</cp:lastPrinted>
  <dcterms:modified xsi:type="dcterms:W3CDTF">2000-03-12T15:09:52Z</dcterms:modified>
  <cp:revision>101</cp:revision>
  <dc:subject>IEEE 802.15 TG1 Report</dc:subject>
  <dc:title>IEEE P802.15 Working Group for Wireless Personal Area Networks</dc:title>
</cp:coreProperties>
</file>