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F034D-B8BB-4515-A30C-ABD2303C6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D7DBD-093F-4BCB-9449-52733B388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F598F-B8C1-4F11-B6FA-4B9E2D869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46F3B-5871-432A-9388-B784102C4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D8CC5-296F-4B41-A1D4-4A2337F6F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ECAAE-6349-44CA-94D2-09CFFA81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5105-7F46-406D-9484-91546B0E6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FC0FC-4C1E-476E-A960-5A2F6701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1E5B2-2E61-4E87-9F2B-4896951F9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88E9-8B9D-47CB-80F3-02AC47AE7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4681-8EED-462B-A94B-2C3898BB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5158-7736-4451-B816-9E4FF6FA3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FF1C65-DA64-46C2-A6B2-BEB63E688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9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1567CB7A-B2A5-458E-9706-33B5DA52544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ask Group 1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175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 to update them from the last session on all the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Repor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0, Albuquerque, NM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9DAA2BD-CDDA-4846-8F50-E47434585B67}"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Albuquerq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Schedu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6977D3-F8F5-4291-B562-BF2019775861}"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buquerque - Objectiv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ETTER BALLOT (2) REVIEW</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VIDE AN UPDATE ON TG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LANNING FOR DRAFT STANDAR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EUI Letter –00/092r0</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ROVIDE AN OVERVIEW OF THE IEEE RAC MANDATE ON EUI-64 vis a vis BLUETOOTH v1.0 B SPEC(S), IN SESSION (&amp; TUTORI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ISCUSS PROS &amp; CONS OF FORMING A P802.15 WG STUDY GROUP FOR EUI-48 vs. EUI-6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OTION TO FORM A P802.15 WG STUDY GROUP FOR EUI-48 vs. EUI-64</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66C781B-8363-43E6-B376-D98F89614A45}"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buquerque - Submissions</a:t>
            </a:r>
            <a:endParaRPr b="0" lang="en-US" sz="3600" spc="-1" strike="noStrike">
              <a:solidFill>
                <a:srgbClr val="000000"/>
              </a:solidFill>
              <a:latin typeface="Times New Roman"/>
            </a:endParaRPr>
          </a:p>
        </p:txBody>
      </p:sp>
      <p:graphicFrame>
        <p:nvGraphicFramePr>
          <p:cNvPr id="57" name=""/>
          <p:cNvGraphicFramePr/>
          <p:nvPr/>
        </p:nvGraphicFramePr>
        <p:xfrm>
          <a:off x="409680" y="1143000"/>
          <a:ext cx="8291520" cy="5276880"/>
        </p:xfrm>
        <a:graphic>
          <a:graphicData uri="http://schemas.openxmlformats.org/presentationml/2006/ole">
            <p:oleObj progId="Excel.Sheet.12" r:id="rId1" spid="">
              <p:embed/>
              <p:pic>
                <p:nvPicPr>
                  <p:cNvPr id="58" name="" descr=""/>
                  <p:cNvPicPr/>
                  <p:nvPr/>
                </p:nvPicPr>
                <p:blipFill>
                  <a:blip r:embed="rId2"/>
                  <a:stretch/>
                </p:blipFill>
                <p:spPr>
                  <a:xfrm>
                    <a:off x="409680" y="1143000"/>
                    <a:ext cx="8291520" cy="52768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D774C9F-3A54-4CF3-8201-761D8E712C61}" type="slidenum">
              <a:t>5</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2 Reply Comment Resolution 6Mar00</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ing -00/053r0 into –99/173r5a = r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Reply Comments will be sent to BSI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Plan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imel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edits –99/173r5a, et. al. to Draf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iting Technical Editors ongo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Letter to BSIG Test &amp; Verification W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3) tentatively scheduled 19May00 22Jun0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61DB281-3907-4B35-8A3C-7EB412C3A702}"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a:t>
            </a:r>
            <a:endParaRPr b="0" lang="en-US" sz="3600" spc="-1" strike="noStrike">
              <a:solidFill>
                <a:srgbClr val="000000"/>
              </a:solidFill>
              <a:latin typeface="Times New Roman"/>
            </a:endParaRPr>
          </a:p>
        </p:txBody>
      </p:sp>
      <p:graphicFrame>
        <p:nvGraphicFramePr>
          <p:cNvPr id="62" name=""/>
          <p:cNvGraphicFramePr/>
          <p:nvPr/>
        </p:nvGraphicFramePr>
        <p:xfrm>
          <a:off x="874800" y="1905120"/>
          <a:ext cx="7396200" cy="3962160"/>
        </p:xfrm>
        <a:graphic>
          <a:graphicData uri="http://schemas.openxmlformats.org/presentationml/2006/ole">
            <p:oleObj r:id="rId1" spid="">
              <p:embed/>
              <p:pic>
                <p:nvPicPr>
                  <p:cNvPr id="63" name="" descr=""/>
                  <p:cNvPicPr/>
                  <p:nvPr/>
                </p:nvPicPr>
                <p:blipFill>
                  <a:blip r:embed="rId2"/>
                  <a:stretch/>
                </p:blipFill>
                <p:spPr>
                  <a:xfrm>
                    <a:off x="874800" y="1905120"/>
                    <a:ext cx="7396200" cy="39621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A0EE4CC-3F29-4FE0-87B2-FDDBBB80CB14}" type="slidenum">
              <a:t>7</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TG1 Roadmap</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0Mar00 Albuquerque, NM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LB2 Reply Comments &amp; Apply -99/173r5a to P802.15.1/D0.7 this becomes P802.15.1/D0.8</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30Mar00 Monterey, CA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UnPlugFest-2”</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2May00 Seattle, WA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Letter Ballot of P802.15.1/D0.8</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16Jun00 Monte Carlo]</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2000“</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4Jul00 LaJolla, CA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 Comment Resolution of P802.15.1/D0.8</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2Sep00 or 11-15Sep00 Phoenix, AZ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0Nov00 Tampa, FL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9C87931-F10E-4272-90AD-49CB396E85AC}" type="slidenum">
              <a:t>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99/175r0</dc:description>
  <dc:language>en-US</dc:language>
  <cp:lastModifiedBy>Tom Siep</cp:lastModifiedBy>
  <cp:lastPrinted>1998-02-10T13:28:06Z</cp:lastPrinted>
  <dcterms:modified xsi:type="dcterms:W3CDTF">2000-03-09T20:44:09Z</dcterms:modified>
  <cp:revision>101</cp:revision>
  <dc:subject>IEEE 802.15 TG1 Report</dc:subject>
  <dc:title>IEEE P802.15 Working Group for Wireless Personal Area Networks</dc:title>
</cp:coreProperties>
</file>