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39B15-F610-4ECC-8527-663FF92D60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55EBF-AFC7-49ED-90DA-C78DCAF0C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60E76-3E6F-4BF9-8E03-2F5A7582C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AEAD1-0B52-4236-8FC6-E049B51BC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046C-57BC-48FF-B4C0-208BB919F8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2F732-640C-4466-865D-7C1CDCB7F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57ED5-5EB2-4952-ABE2-BDE907939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0FE3C3C-C7F0-4CB0-AEA9-7AFF2E4F4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077A66-F83F-4982-9EE6-84E6D45A6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7DACA-C4ED-438A-B402-D1F230D217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9CEBA-862A-4A92-90BA-C6AD1BB985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3FDF2-D7F1-47D7-8A31-F2EABE1BE6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305BA3-3110-4B1B-A78F-2C96D93D7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00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2360" y="3808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8" name=""/>
          <p:cNvSpPr/>
          <p:nvPr/>
        </p:nvSpPr>
        <p:spPr>
          <a:xfrm>
            <a:off x="5719320" y="642636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462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rganizational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9 March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is a final report to the 802.15 WG of the HRSG statu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status to the Working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sing Status Repor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SG- WP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RATE STUDY GROUP OBJECTIVES FOR THIS MEETING</a:t>
            </a:r>
            <a:endParaRPr b="0" lang="en-US" sz="2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HIGH RATE TASK GROUP FORMATION MOTION TO EXCOM - Done</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NY AMENDMENTS REQUIRED BY EXCOM AND PREPARE FOR THURSDAY NIGHT VOTE - Do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ND DISCUSS RESULTS OF CALL FOR INTENTION - Do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PRESENTATIONS FOR CALL FOR APPLICATIONS AND MODIFY THE CRITERIA AS APPROPRIATE - Reviews presentations, did not complete Criteria modifications.</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PRESENTATIONS FOR CALL FOR PROPOSALS AND POPULATE PUGH SELECTION MATRIX - Reviews proposals, did not start selection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PERMITTING REVIEW CALL FOR NAME COMMENTS. -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ON OFFICERS FOR SUBMISSION TO EXCOM.</a:t>
            </a:r>
            <a:r>
              <a:rPr b="1" lang="en-US" sz="2400" spc="-1" strike="noStrike">
                <a:solidFill>
                  <a:srgbClr val="000000"/>
                </a:solidFill>
                <a:latin typeface="Arial"/>
              </a:rPr>
              <a:t>	</a:t>
            </a:r>
            <a:r>
              <a:rPr b="1" lang="en-US" sz="2400" spc="-1" strike="noStrike">
                <a:solidFill>
                  <a:srgbClr val="000000"/>
                </a:solidFill>
                <a:latin typeface="Arial"/>
              </a:rPr>
              <a:t>-  Done - John Barr, Chair &amp; Jim Allen, Co-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A/CFPs</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Presentations</a:t>
            </a:r>
            <a:endParaRPr b="0" lang="en-US" sz="32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k Alfvin - CFA -</a:t>
            </a:r>
            <a:r>
              <a:rPr b="0" lang="en-US" sz="2400" spc="-1" strike="noStrike">
                <a:solidFill>
                  <a:srgbClr val="000000"/>
                </a:solidFill>
                <a:latin typeface="Arial"/>
              </a:rPr>
              <a:t>00075r0P802-15</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t Davis - CFA - </a:t>
            </a:r>
            <a:r>
              <a:rPr b="0" lang="en-US" sz="2400" spc="-1" strike="noStrike">
                <a:solidFill>
                  <a:srgbClr val="000000"/>
                </a:solidFill>
                <a:latin typeface="Arial"/>
              </a:rPr>
              <a:t>00086r1P802-15</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Duval - CFA - </a:t>
            </a:r>
            <a:r>
              <a:rPr b="0" lang="en-US" sz="2400" spc="-1" strike="noStrike">
                <a:solidFill>
                  <a:srgbClr val="000000"/>
                </a:solidFill>
                <a:latin typeface="Arial"/>
              </a:rPr>
              <a:t>00029r0P802-15</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Leeper - CFA - </a:t>
            </a:r>
            <a:r>
              <a:rPr b="0" lang="en-US" sz="2400" spc="-1" strike="noStrike">
                <a:solidFill>
                  <a:srgbClr val="000000"/>
                </a:solidFill>
                <a:latin typeface="Arial"/>
              </a:rPr>
              <a:t>00029r0P802-15</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 Rapinski - CFA/CFPs - </a:t>
            </a:r>
            <a:r>
              <a:rPr b="0" lang="en-US" sz="2400" spc="-1" strike="noStrike">
                <a:solidFill>
                  <a:srgbClr val="000000"/>
                </a:solidFill>
                <a:latin typeface="Arial"/>
              </a:rPr>
              <a:t>00/077, 00/078, 00/079, 00/080</a:t>
            </a:r>
            <a:r>
              <a:rPr b="0" lang="en-US" sz="2400" spc="-1" strike="noStrike">
                <a:solidFill>
                  <a:srgbClr val="000000"/>
                </a:solidFill>
                <a:latin typeface="Arial"/>
              </a:rPr>
              <a:t>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Roberts - CFP/CFA - </a:t>
            </a:r>
            <a:r>
              <a:rPr b="0" lang="en-US" sz="2400" spc="-1" strike="noStrike">
                <a:solidFill>
                  <a:srgbClr val="000000"/>
                </a:solidFill>
                <a:latin typeface="Arial"/>
              </a:rPr>
              <a:t>00049r1P802-15, 00050r1P802-15, 00051r1P802-15</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fine tuning process </a:t>
            </a:r>
            <a:endParaRPr b="0" lang="en-US" sz="32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mailed to list server)</a:t>
            </a:r>
            <a:endParaRPr b="0" lang="en-US" sz="24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for May Meeting</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on any changes to Criteria (developed during conference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CFA/CFP 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Project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James Allen</cp:lastModifiedBy>
  <dcterms:modified xsi:type="dcterms:W3CDTF">2000-03-09T23:54:36Z</dcterms:modified>
  <cp:revision>14</cp:revision>
  <dc:subject>High Rate status</dc:subject>
  <dc:title>Closing Status Report</dc:title>
</cp:coreProperties>
</file>