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43713" cy="7696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7BB1EC-B1D5-4786-911C-4C0DC34562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A8FB63-01DD-43C4-962F-3C5C854BD1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F5BDF2-956A-4715-8A29-FBF2B886B8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B39A32-E93C-4FE9-81CE-682BDE3F2D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CA591-1731-4C41-8095-B71F7752E25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99163-4209-473C-8682-0E524A2D3C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5A4684-7FAB-4F4C-B4B7-1C216AB86C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45E5E0A1-9229-4065-8DC2-27C54812B9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B008FE9-E873-49CE-897E-12407ED24E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AEBCC7-DDBA-4501-BBC5-0133E73481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5CFA0C-EFD2-42CA-BF33-2B0DF3C1FC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BB5D0D-60A6-422B-930D-FDDE11F06F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8829123-5DB7-41B2-AA81-27F4444827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227280" y="239760"/>
            <a:ext cx="224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IEEE 802.15-00/081r0</a:t>
            </a:r>
            <a:endParaRPr b="0" lang="en-US" sz="1400" spc="-1" strike="noStrike">
              <a:solidFill>
                <a:srgbClr val="000000"/>
              </a:solidFill>
              <a:latin typeface="Times New Roman"/>
            </a:endParaRPr>
          </a:p>
        </p:txBody>
      </p:sp>
      <p:sp>
        <p:nvSpPr>
          <p:cNvPr id="6" name=""/>
          <p:cNvSpPr/>
          <p:nvPr/>
        </p:nvSpPr>
        <p:spPr>
          <a:xfrm>
            <a:off x="688320" y="23976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ch 2000</a:t>
            </a:r>
            <a:endParaRPr b="0" lang="en-US" sz="1400" spc="-1" strike="noStrike">
              <a:solidFill>
                <a:srgbClr val="000000"/>
              </a:solidFill>
              <a:latin typeface="Times New Roman"/>
            </a:endParaRPr>
          </a:p>
        </p:txBody>
      </p:sp>
      <p:sp>
        <p:nvSpPr>
          <p:cNvPr id="7" name=""/>
          <p:cNvSpPr/>
          <p:nvPr/>
        </p:nvSpPr>
        <p:spPr>
          <a:xfrm>
            <a:off x="686520" y="6437160"/>
            <a:ext cx="893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176520" y="6477120"/>
            <a:ext cx="2413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D. Allen, Eastman Kodak Co.</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B76759F8-8DDB-439C-B005-F0B76577AAB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p:nvPr/>
        </p:nvSpPr>
        <p:spPr>
          <a:xfrm>
            <a:off x="228600" y="609480"/>
            <a:ext cx="8763120" cy="487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WG HRSG Process Discussion]</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 [13January20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ames D. Allen]    Company: [Eastman Kodak C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669 Eastman Ave. Rochester, NY, 14650-201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716) 588-1906], FAX: [(716) 722-9053], E-Mail:[james.d.allen@kodak.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presentation to the 802 Excom  summarizes the work done by the study group since its formation in November, 1999]</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o bring the SEC up to speed and hear any comments regarding the proposed PAR]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819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a:t>
            </a:r>
            <a:br>
              <a:rPr sz="3600"/>
            </a:br>
            <a:r>
              <a:rPr b="0" lang="en-US" sz="3600" spc="-1" strike="noStrike">
                <a:solidFill>
                  <a:srgbClr val="000000"/>
                </a:solidFill>
                <a:latin typeface="Times New Roman"/>
              </a:rPr>
              <a:t>High Rate WPAN</a:t>
            </a:r>
            <a:br>
              <a:rPr sz="2400"/>
            </a:br>
            <a:br>
              <a:rPr sz="2400"/>
            </a:br>
            <a:r>
              <a:rPr b="0" lang="en-US" sz="3600" spc="-1" strike="noStrike">
                <a:solidFill>
                  <a:srgbClr val="000000"/>
                </a:solidFill>
                <a:latin typeface="Times New Roman"/>
              </a:rPr>
              <a:t>Process Discussion</a:t>
            </a:r>
            <a:br>
              <a:rPr sz="2400"/>
            </a:br>
            <a:r>
              <a:rPr b="0" lang="en-US" sz="2400" spc="-1" strike="noStrike">
                <a:solidFill>
                  <a:srgbClr val="000000"/>
                </a:solidFill>
                <a:latin typeface="Times New Roman"/>
              </a:rPr>
              <a:t> March 6th, 2000</a:t>
            </a:r>
            <a:br>
              <a:rPr sz="2400"/>
            </a:br>
            <a:br>
              <a:rPr sz="2400"/>
            </a:br>
            <a:br>
              <a:rPr sz="2400"/>
            </a:br>
            <a:r>
              <a:rPr b="0" lang="en-US" sz="2400" spc="-1" strike="noStrike">
                <a:solidFill>
                  <a:srgbClr val="000000"/>
                </a:solidFill>
                <a:latin typeface="Times New Roman"/>
              </a:rPr>
              <a:t>Jim Allen, Eastman Kodak</a:t>
            </a:r>
            <a:endParaRPr b="0" lang="en-US" sz="2400" spc="-1" strike="noStrike">
              <a:solidFill>
                <a:srgbClr val="000000"/>
              </a:solidFill>
              <a:latin typeface="Times New Roman"/>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DF09B-8FE3-4CD8-9B6A-850A28FE5AC4}"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s for the Week</a:t>
            </a:r>
            <a:br>
              <a:rPr sz="3600"/>
            </a:br>
            <a:r>
              <a:rPr b="0" lang="en-US" sz="1400" spc="-1" strike="noStrike">
                <a:solidFill>
                  <a:srgbClr val="000000"/>
                </a:solidFill>
                <a:latin typeface="Times New Roman"/>
              </a:rPr>
              <a:t>(doc.00/026r3)</a:t>
            </a:r>
            <a:endParaRPr b="0" lang="en-US" sz="1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Rate Task Group PAR Approva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ny amendments which are proposed  others by 5pm Tuesd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pprove at WG level if necessa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in presentations for CFA/CFPs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7041B-D6E9-49AB-B795-EE76E90DC41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nday Agenda</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 of “Officers” - All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utes from Tel Aviv - Alfv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 of presenters - Kinn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explanation - All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of Criteria - Marqu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for Names resul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F3791-35EB-44F8-BCD3-A10F3B574A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FA/CFP Process</a:t>
            </a:r>
            <a:endParaRPr b="0" lang="en-US" sz="3600" spc="-1" strike="noStrike">
              <a:solidFill>
                <a:srgbClr val="000000"/>
              </a:solidFill>
              <a:latin typeface="Times New Roman"/>
            </a:endParaRPr>
          </a:p>
        </p:txBody>
      </p:sp>
      <p:sp>
        <p:nvSpPr>
          <p:cNvPr id="54" name="PlaceHolder 2"/>
          <p:cNvSpPr>
            <a:spLocks noGrp="1"/>
          </p:cNvSpPr>
          <p:nvPr>
            <p:ph/>
          </p:nvPr>
        </p:nvSpPr>
        <p:spPr>
          <a:xfrm>
            <a:off x="762120" y="17524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ters of intent by midnight, March 6th </a:t>
            </a:r>
            <a:br>
              <a:rPr sz="3200"/>
            </a:br>
            <a:r>
              <a:rPr b="0" lang="en-US" sz="2000" spc="-1" strike="noStrike">
                <a:solidFill>
                  <a:srgbClr val="000000"/>
                </a:solidFill>
                <a:latin typeface="Arial"/>
              </a:rPr>
              <a:t>(doc# 00/033r0  )</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6 Apps (3/5/0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Proposals (3/5/00)</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teria List </a:t>
            </a:r>
            <a:r>
              <a:rPr b="0" lang="en-US" sz="2000" spc="-1" strike="noStrike">
                <a:solidFill>
                  <a:srgbClr val="000000"/>
                </a:solidFill>
                <a:latin typeface="Arial"/>
              </a:rPr>
              <a:t>(doc.:802.15-00/007)</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proposals will be evaluated against criter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5% vote to change criter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G participants can vote this wee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R is Normativ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909403-8173-41E3-9B3E-A2F13E52F9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cess - continued</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Answ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for Impact on Criteri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te to change Criteria if necessary</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1C6A6-FED3-4E22-A222-54E13D8E01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cess -  continued</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a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ations for collection of proposa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Answ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Self-rating against Criteri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elf-ratings are not done, they will be taken off line and dealt with on telecom calls or next travel mee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any request for Criteria chang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8FFFFE-1641-4F3F-B7A7-E509651632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ame Suggestions</a:t>
            </a:r>
            <a:br>
              <a:rPr sz="3600"/>
            </a:br>
            <a:r>
              <a:rPr b="0" lang="en-US" sz="2400" spc="-1" strike="noStrike" u="sng">
                <a:solidFill>
                  <a:srgbClr val="000000"/>
                </a:solidFill>
                <a:uFillTx/>
                <a:latin typeface="Times New Roman"/>
              </a:rPr>
              <a:t>Thanks for all the responses</a:t>
            </a:r>
            <a:endParaRPr b="0" lang="en-US" sz="2400" spc="-1" strike="noStrike">
              <a:solidFill>
                <a:srgbClr val="000000"/>
              </a:solidFill>
              <a:latin typeface="Times New Roman"/>
            </a:endParaRPr>
          </a:p>
        </p:txBody>
      </p:sp>
      <p:sp>
        <p:nvSpPr>
          <p:cNvPr id="60"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wBreak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ldMi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N (Home Operations Networ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eetToot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shWa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ot Canal - (Better than a blue tooth)</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571640" y="2057400"/>
            <a:ext cx="38098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media 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tur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 Teeth (32 teeth = 32 M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 Gun (“I have a need for Speed”-movie quo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 Tooth</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1070672-828D-4979-8452-DD64BA9228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d the Winner is…...</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High Rate WP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list clever but not descriptive or inspir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til another name surfac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E50A73-5135-4D8F-8126-920F21417D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2T11:30:53Z</dcterms:created>
  <dc:creator>James Allen</dc:creator>
  <dc:description/>
  <dc:language>en-US</dc:language>
  <cp:lastModifiedBy>Robert F.  Heile</cp:lastModifiedBy>
  <cp:lastPrinted>1999-11-03T15:28:50Z</cp:lastPrinted>
  <dcterms:modified xsi:type="dcterms:W3CDTF">2000-03-07T17:43:53Z</dcterms:modified>
  <cp:revision>40</cp:revision>
  <dc:subject>IEEE 802.15 &lt;subject&gt;</dc:subject>
  <dc:title>Process Discussion</dc:title>
</cp:coreProperties>
</file>