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1A0D-2323-474E-8213-BC6D9A1FB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0ABE-38D8-4CC6-B998-759B39D52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D834-6C1C-4959-AE59-6E393B693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A538-EE02-4FAC-8DA1-0AEE50B00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A3E1-77CD-459C-B464-FF59A86F8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009F-DC1A-4034-8F6A-7D126D6D0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2FBC-E5C5-46DE-83FA-BABDFEB3E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D3AE-E69C-4C82-97BA-D2B8D60CA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0F65-7826-4863-B2AD-654724829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C990-9139-4CE5-B20A-7821B5B2C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7363-5AAF-49DC-96C7-B0DAB0B27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77AE-A558-4578-9937-3D213470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95640"/>
            <a:ext cx="11430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rch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9127D5C-EAE3-429B-BDEF-DD57BD2246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0/66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Working Group for Wireless Personal Area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84872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WPAN Coexistence Performance Evaluatio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MAC Simulation Environment and Preliminary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. Golmie and F. Mouvea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A676-8D9E-4577-B372-6A70B1F3DD5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Baseband Segmen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371600" y="2743200"/>
            <a:ext cx="75438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743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971800" y="2743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114800" y="2743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010280" y="2743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23880" y="281952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_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362320" y="28195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200400" y="281952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eng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648320" y="2819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YLOAD= 0 - 121 by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010280" y="281952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R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76520" y="24382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438280" y="243828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505320" y="24382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981080" y="1371600"/>
            <a:ext cx="52578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2280" y="13716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2C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048120" y="13716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191120" y="13716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14479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hannel 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057400" y="146376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eng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1447920"/>
            <a:ext cx="26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YLOAD = 0 - 65535 by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09680" y="114300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429000" y="114300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8600" y="26668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M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114800" y="24382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114800" y="2743200"/>
            <a:ext cx="533520" cy="45720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086600" y="24382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981080" y="1828800"/>
            <a:ext cx="2667240" cy="9144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876920" y="1828800"/>
            <a:ext cx="2133360" cy="9144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620120" y="2743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924680" y="243828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2/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848720" y="28195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371600" y="3962520"/>
            <a:ext cx="75438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286000" y="39625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71800" y="39625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39625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010280" y="39625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523880" y="403848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_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362320" y="40384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403848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eng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648320" y="40384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YLOAD= 0 - 224 by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010280" y="403848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R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76520" y="365760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438280" y="365760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505320" y="365760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28600" y="38862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M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114800" y="365760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648320" y="39625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114800" y="3962520"/>
            <a:ext cx="533520" cy="45720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086600" y="365760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620120" y="39625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924680" y="365760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2/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848720" y="40384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371600" y="5257800"/>
            <a:ext cx="75438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438280" y="52578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581280" y="5257800"/>
            <a:ext cx="18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514600" y="5334120"/>
            <a:ext cx="156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371600" y="5334120"/>
            <a:ext cx="114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ccess 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962520" y="5334120"/>
            <a:ext cx="365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YLOAD = 0 - 2745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00200" y="4952880"/>
            <a:ext cx="52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7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743200" y="5029200"/>
            <a:ext cx="52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5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525780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aseb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371600" y="4419720"/>
            <a:ext cx="2209680" cy="8380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915400" y="441972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B24F-C563-4087-9FA8-2AFAAAA9E51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MAC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5943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OPNET is a Trademark of OPNET Technologies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sbitmap.1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6705720" cy="430668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ed a BT MAC device in OPNET*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B8AC-FB86-4E7C-82A6-3E158AD0A9F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MAC Model Assump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534520" cy="28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ection mode (no page scan or inquir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ter / Slav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und Robin master transmission schedu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nchronous Connection Less (ACL) L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quency Ho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09480" y="40384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Future Exten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52280" y="4648320"/>
            <a:ext cx="8991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chronous Connection Oriented (SCO)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ter schedu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adcast; L2CAP (?); LMP (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BBFA-E3B8-4122-BB69-B78ECF60CE5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TX Model Attributes*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tx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229600" cy="495288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380880" y="6248520"/>
            <a:ext cx="312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OPNET Transmitter model attribu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A7B3-4942-42D6-AC55-276B99CCDAD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TX Paramet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63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ransmission+Propagation dela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computes the time required to transmit a packet until it reaches its destin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losu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determines if a signal can reach a destination and allows dynamic enabling and disabling of lin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hannel mat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classifies the transmission as valid, noise, ignore based on frequency, bandwidth, data rate, spreading code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ransmitter antenna ga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computes transmitter antenna gain in the direction of the recei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DAF1-71D3-4CDF-A16D-7745E3582CD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RX Model Attributes*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rx1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8229600" cy="3780000"/>
          </a:xfrm>
          <a:prstGeom prst="rect">
            <a:avLst/>
          </a:prstGeom>
          <a:ln w="0">
            <a:noFill/>
          </a:ln>
        </p:spPr>
      </p:pic>
      <p:pic>
        <p:nvPicPr>
          <p:cNvPr id="284" name="rx2" descr=""/>
          <p:cNvPicPr/>
          <p:nvPr/>
        </p:nvPicPr>
        <p:blipFill>
          <a:blip r:embed="rId2"/>
          <a:stretch/>
        </p:blipFill>
        <p:spPr>
          <a:xfrm>
            <a:off x="533520" y="4846680"/>
            <a:ext cx="8229600" cy="139068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380880" y="6248520"/>
            <a:ext cx="312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OPNET Receiver model attribu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448F-EC80-40E1-B4E1-7485ABF540D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RX Paramet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ise figu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effect of thermal noise on radio transmis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cc threshold/mode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Percentage of bit errors allowed in a packet (err/bit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ower mode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computes the received power level for an incoming transmiss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ackground noise/ Inoi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computes the background/ interference noise affecting incoming radio transmiss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NR/ber mode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computes signal-to-noise ratio and expected bit error ra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CA93-4042-44FF-8B8D-9B304CEAE0C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RX Statisti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bit error rate for the packet arriving at the receiving chann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acket loss rati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boolean value corresponding to the acceptance/rejection of packe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ow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verage power of packet arriving at the receiver channe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ignal/noise rati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ratio of the average power of a packet received and the combined average power of interference sour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2922-44C4-4E8A-851D-6BD4DE5383A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Channel Attributes*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80880" y="6248520"/>
            <a:ext cx="312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OPNET Channel attribu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channel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53452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C547-7634-4247-9B35-2A608F69DEB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2971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Preliminary Results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8E72-5097-4605-9757-913EDBD47FE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 coexistence evaluation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I: Simulation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ffic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C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 and RF assum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II: Preliminary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ity che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uetooth reference scenario: LAN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7972-E62A-4985-95A5-E0CB0154EBC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Sanity Che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-360" y="990720"/>
            <a:ext cx="883908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devices in a piconet: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 devices (Master/ Slav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ance between devices: 10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ffic: DM5 packets symmetric master/slave communication, exponential distribution for packet interarrival ra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band packet size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2 + 54 + (224 + 2 + 2) * 8 + FEC = 2871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        Header         payload  DM5 Head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C              6 + 9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762120" y="54097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1600200" y="54097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2514600" y="54097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3352680" y="54097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962520" y="54097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5562720" y="54097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F837-6378-4A25-A847-D1FF568CF6F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Sanity Check (cont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ximum bit rate per device (including headers, CRC, FEC overhead)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2871/(5 * 625 * 2) = 0.45936 Mbits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um access delay (master) at low offered load (no packet waiting in buffer)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5 (slots) * 625 (us) = 3.125 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ximum access delay (master) at low offered load (no packet waiting in buffer)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15 (slots) * 625 (us) = 9.375 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FC69-BB03-4B8B-A373-19D1E7ED9F6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Sanity Check Results: Throughp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sanity10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3932280" cy="3886200"/>
          </a:xfrm>
          <a:prstGeom prst="rect">
            <a:avLst/>
          </a:prstGeom>
          <a:ln w="0">
            <a:noFill/>
          </a:ln>
        </p:spPr>
      </p:pic>
      <p:pic>
        <p:nvPicPr>
          <p:cNvPr id="306" name="sanity100" descr=""/>
          <p:cNvPicPr/>
          <p:nvPr/>
        </p:nvPicPr>
        <p:blipFill>
          <a:blip r:embed="rId2"/>
          <a:stretch/>
        </p:blipFill>
        <p:spPr>
          <a:xfrm>
            <a:off x="4648320" y="1752480"/>
            <a:ext cx="41338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E2A4-CAE6-4E43-A1BC-53D3B0A4725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Sanity Check Results:Access Del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1501920" y="1212840"/>
          <a:ext cx="6140160" cy="443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1920" y="1212840"/>
                    <a:ext cx="6140160" cy="44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"/>
          <p:cNvSpPr/>
          <p:nvPr/>
        </p:nvSpPr>
        <p:spPr>
          <a:xfrm>
            <a:off x="7238880" y="129528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334120" y="54100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066680" y="5943600"/>
            <a:ext cx="63248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** Access delays are collected at the slave corresponding  to the master traffic access del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 Offered load is a percentage of the total channel capacity in both dir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51F3-5EA5-4ABB-A8FB-072DBAF54AA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28240" y="685440"/>
            <a:ext cx="89917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LAN Access Scenar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51920" y="1066320"/>
            <a:ext cx="89917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devices in a piconet: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 devices (Master/ Slav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ance between devices: 10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ffic: LAN Access (IP traffic distribu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erage packet size is: 385.1 by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1 DM5 (224 bytes) + 1 DM5 (162 bytes) = 4992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ximum bit rate per device (including headers, CRC, FEC overhead)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4992/(10 * 625 * 2) = 0.39936 Mbits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99DF-B1A1-4F91-8A69-A221137F83B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LAN Access Results: Throughp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ipdistrib10" descr=""/>
          <p:cNvPicPr/>
          <p:nvPr/>
        </p:nvPicPr>
        <p:blipFill>
          <a:blip r:embed="rId1"/>
          <a:stretch/>
        </p:blipFill>
        <p:spPr>
          <a:xfrm>
            <a:off x="485640" y="1676520"/>
            <a:ext cx="4010040" cy="4038480"/>
          </a:xfrm>
          <a:prstGeom prst="rect">
            <a:avLst/>
          </a:prstGeom>
          <a:ln w="0">
            <a:noFill/>
          </a:ln>
        </p:spPr>
      </p:pic>
      <p:pic>
        <p:nvPicPr>
          <p:cNvPr id="317" name="ipdistrib100" descr=""/>
          <p:cNvPicPr/>
          <p:nvPr/>
        </p:nvPicPr>
        <p:blipFill>
          <a:blip r:embed="rId2"/>
          <a:stretch/>
        </p:blipFill>
        <p:spPr>
          <a:xfrm>
            <a:off x="4805280" y="1676520"/>
            <a:ext cx="4000680" cy="403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5329-7249-46E8-AF27-B5A611F2D8B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LAN Access Results:Access Del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1066680" y="1143000"/>
          <a:ext cx="6705720" cy="443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143000"/>
                    <a:ext cx="6705720" cy="44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" name=""/>
          <p:cNvSpPr/>
          <p:nvPr/>
        </p:nvSpPr>
        <p:spPr>
          <a:xfrm>
            <a:off x="1066680" y="5943600"/>
            <a:ext cx="63248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** Access delays are collected at the slave corresponding  to the master traffic access del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 Offered load is a percentage of the total channel capacity in both dir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238880" y="129528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257800" y="5334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3FB7-DAAF-4E5B-BB6E-BC77696C8663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ed a status report on the BT MAC model developm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esult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ity che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T reference scen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CF0E-82BC-4C65-B7AF-11B780E8691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Next Ste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LAN reference scen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ous scenario with 2 WLAN devices and 2 BT dev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e the development of the BT MAC mod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d the PHY and RF mode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ral scenarios to look at with different traffic types, number of devices, configur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46FC-F942-4FEE-946F-9BA00C2E2EF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6858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MAC Coexistence Evaluation Platfor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ore different models for the MAC layer coexistence performance evaluation plat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vari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performance results are collected at the MAC layer based on PHY, RF models and assump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7B90-731B-466D-9C51-7F7B83F554C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MAC Coexistence: Model 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terogeneous set-up where BT and 802.11 are co-located within the same environment as proposed in [1]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5087880"/>
            <a:ext cx="1447560" cy="4572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5545080"/>
            <a:ext cx="1447560" cy="83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4554360"/>
            <a:ext cx="144756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46306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ffic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51642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T 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934320" y="4935600"/>
            <a:ext cx="1447560" cy="45720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934320" y="5392800"/>
            <a:ext cx="1447560" cy="83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934320" y="4402080"/>
            <a:ext cx="144756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934320" y="44784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ffic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934320" y="501156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02.11 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010280" y="2971800"/>
            <a:ext cx="1447920" cy="4572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010280" y="3429000"/>
            <a:ext cx="1447920" cy="83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010280" y="2438280"/>
            <a:ext cx="144792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010280" y="251460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ffic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30481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T 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3124080"/>
            <a:ext cx="1447560" cy="45720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3581280"/>
            <a:ext cx="1447560" cy="838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3520" y="2590920"/>
            <a:ext cx="1447560" cy="53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26845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ffic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320040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02.11 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358128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Y &amp; RF 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739240" y="3429000"/>
            <a:ext cx="38689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Network Top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in a Coexistence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057400" y="3429000"/>
            <a:ext cx="4876920" cy="2057400"/>
          </a:xfrm>
          <a:custGeom>
            <a:avLst/>
            <a:gdLst/>
            <a:ahLst/>
            <a:rect l="l" t="t" r="r" b="b"/>
            <a:pathLst>
              <a:path w="2496" h="1888">
                <a:moveTo>
                  <a:pt x="0" y="0"/>
                </a:moveTo>
                <a:cubicBezTo>
                  <a:pt x="276" y="172"/>
                  <a:pt x="552" y="344"/>
                  <a:pt x="816" y="624"/>
                </a:cubicBezTo>
                <a:cubicBezTo>
                  <a:pt x="1080" y="904"/>
                  <a:pt x="1304" y="1472"/>
                  <a:pt x="1584" y="1680"/>
                </a:cubicBezTo>
                <a:cubicBezTo>
                  <a:pt x="1864" y="1888"/>
                  <a:pt x="2180" y="1880"/>
                  <a:pt x="2496" y="187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057400" y="2895480"/>
            <a:ext cx="4800600" cy="2667240"/>
          </a:xfrm>
          <a:custGeom>
            <a:avLst/>
            <a:gdLst/>
            <a:ahLst/>
            <a:rect l="l" t="t" r="r" b="b"/>
            <a:pathLst>
              <a:path w="2496" h="2312">
                <a:moveTo>
                  <a:pt x="0" y="2064"/>
                </a:moveTo>
                <a:cubicBezTo>
                  <a:pt x="228" y="2188"/>
                  <a:pt x="456" y="2312"/>
                  <a:pt x="720" y="2016"/>
                </a:cubicBezTo>
                <a:cubicBezTo>
                  <a:pt x="984" y="1720"/>
                  <a:pt x="1288" y="576"/>
                  <a:pt x="1584" y="288"/>
                </a:cubicBezTo>
                <a:cubicBezTo>
                  <a:pt x="1880" y="0"/>
                  <a:pt x="2188" y="144"/>
                  <a:pt x="2496" y="288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590920" y="2971800"/>
          <a:ext cx="4267080" cy="281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2971800"/>
                    <a:ext cx="4267080" cy="28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2286000" y="617220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1]  IEEE 99/1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3520" y="548640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Y &amp; RF 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934320" y="541008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Y &amp; RF 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010280" y="342900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Y &amp; RF 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FF76-3293-4531-B546-27B8A4F01BC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MAC Coexistence: Model I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915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ogeneous set-up where different devices (BT or 802.11) are considered separately with respect to (accurate) interference models.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3962520"/>
            <a:ext cx="1447920" cy="4572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4419720"/>
            <a:ext cx="1447920" cy="83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3429000"/>
            <a:ext cx="144792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3520" y="35226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ffic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40384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T 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10280" y="3960720"/>
            <a:ext cx="1447920" cy="4572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010280" y="4417920"/>
            <a:ext cx="1447920" cy="838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010280" y="3427560"/>
            <a:ext cx="1447920" cy="53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934320" y="35035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ffic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010280" y="403704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T 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968560" y="3581280"/>
            <a:ext cx="306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Interference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based on experim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measurements,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057400" y="4114800"/>
            <a:ext cx="4876920" cy="228600"/>
          </a:xfrm>
          <a:custGeom>
            <a:avLst/>
            <a:gdLst/>
            <a:ahLst/>
            <a:rect l="l" t="t" r="r" b="b"/>
            <a:pathLst>
              <a:path w="2496" h="2312">
                <a:moveTo>
                  <a:pt x="0" y="2064"/>
                </a:moveTo>
                <a:cubicBezTo>
                  <a:pt x="228" y="2188"/>
                  <a:pt x="456" y="2312"/>
                  <a:pt x="720" y="2016"/>
                </a:cubicBezTo>
                <a:cubicBezTo>
                  <a:pt x="984" y="1720"/>
                  <a:pt x="1288" y="576"/>
                  <a:pt x="1584" y="288"/>
                </a:cubicBezTo>
                <a:cubicBezTo>
                  <a:pt x="1880" y="0"/>
                  <a:pt x="2188" y="144"/>
                  <a:pt x="2496" y="288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438280" y="2819520"/>
          <a:ext cx="4343400" cy="286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2819520"/>
                    <a:ext cx="4343400" cy="28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609480" y="4361040"/>
            <a:ext cx="175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Y &amp; RF  Layer Assump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17920"/>
            <a:ext cx="175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Y &amp; RF  Layer Assump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586728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IEEE 802.15-99/98r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4581-4B60-49DC-8C63-1DED4242D09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2971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Simulation Environmen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BCA9-4A31-4C22-92D9-53C847372D5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Traffic Models: LAN Acc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6868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 Access Profile, Bluetooth Spec. V1.0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P connection with LAP in order to gain access to a 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62120" y="3809880"/>
            <a:ext cx="1676160" cy="2133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2120" y="563868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2120" y="525780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2120" y="487692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2120" y="457200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9112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4400" y="42670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45720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P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4724280"/>
            <a:ext cx="137160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FCO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2120" y="38098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P/UD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52578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2C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56386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29000" y="4572000"/>
            <a:ext cx="1676520" cy="1371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429000" y="563868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429000" y="525780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429000" y="487692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9000" y="457200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581280" y="426708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PP  Networ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581280" y="45720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P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657600" y="4724280"/>
            <a:ext cx="137160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FCO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81280" y="52578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2C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505320" y="56386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05520" y="4572000"/>
            <a:ext cx="533160" cy="1371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29000" y="4114800"/>
            <a:ext cx="28954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81480" y="4952880"/>
            <a:ext cx="457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943600" y="4572000"/>
            <a:ext cx="380880" cy="1371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19920" y="4952880"/>
            <a:ext cx="228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238880" y="3733920"/>
            <a:ext cx="1219320" cy="220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238880" y="41148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238880" y="45720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15200" y="426708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086600" y="38098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P/UD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438280" y="579132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438280" y="54100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438280" y="502920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438280" y="3962520"/>
            <a:ext cx="4800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4191120"/>
            <a:ext cx="3581640" cy="1981080"/>
          </a:xfrm>
          <a:prstGeom prst="rect">
            <a:avLst/>
          </a:prstGeom>
          <a:noFill/>
          <a:ln cap="rnd" w="12600">
            <a:solidFill>
              <a:srgbClr val="ff505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352680" y="2895480"/>
            <a:ext cx="2514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LAN Access Poi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 Ethernet, Token Ring, Fiber Channel, Cable Modems, Firewire, Home Networ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4920" y="3048120"/>
            <a:ext cx="198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Data Termina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 Laptops, Notebooks, desktop PCs and P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467480" y="495288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E2F6-B65D-48A1-939E-B0B5C25FA94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Traffic Distribution: IP Packet Gene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457200" y="1219320"/>
          <a:ext cx="8077320" cy="510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19320"/>
                    <a:ext cx="8077320" cy="51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380880" y="6095880"/>
            <a:ext cx="342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IEEE 802.14/96-083r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A54A-8DD5-495C-9F80-CE94CD602DD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Packet Encapsu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47920" y="2254320"/>
            <a:ext cx="739116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2280" y="240660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P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133720" y="2254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895480" y="2254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657600" y="2254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495680" y="2254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86600" y="2254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001000" y="2254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47920" y="233028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LA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133720" y="233028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895480" y="233028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57600" y="228600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otoc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876920" y="23302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FO = 0 -1500 by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086600" y="233028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001000" y="233028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LA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09880" y="1523880"/>
            <a:ext cx="335304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19051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6705720" y="1905120"/>
            <a:ext cx="457200" cy="3808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15238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00200" y="19810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0" y="19810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19810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09880" y="198108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238880" y="198108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153280" y="198108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200400" y="1600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P Packet: Header +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905120" y="3352680"/>
            <a:ext cx="66294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32767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F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971800" y="33526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4800" y="33526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952880" y="33526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543800" y="33526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342900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342900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114800" y="342900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eng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34120" y="342900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FO =ANY SIZ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543800" y="342900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47920" y="2743200"/>
            <a:ext cx="3504960" cy="609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7543800" y="2743200"/>
            <a:ext cx="1295280" cy="609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09680" y="304812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76720" y="304812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267080" y="304812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8-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924680" y="312408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905120" y="4632480"/>
            <a:ext cx="66294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280" y="478476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2C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971800" y="46324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114800" y="46324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048120" y="470844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hannel 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981080" y="472428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eng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495680" y="4708440"/>
            <a:ext cx="266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YLOAD = 0 - 65535 by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09680" y="432756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76720" y="432756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905120" y="3809880"/>
            <a:ext cx="2209680" cy="838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534520" y="3657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F936-2AC2-42C9-B6CB-540C319D793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31T23:47:08Z</dcterms:created>
  <dc:creator>Nada Golmie</dc:creator>
  <dc:description>&lt;doc#&gt;</dc:description>
  <dc:language>en-US</dc:language>
  <cp:lastModifiedBy>Robert F.  Heile</cp:lastModifiedBy>
  <cp:lastPrinted>1999-11-04T15:11:09Z</cp:lastPrinted>
  <dcterms:modified xsi:type="dcterms:W3CDTF">2000-03-09T13:03:18Z</dcterms:modified>
  <cp:revision>48</cp:revision>
  <dc:subject>IEEE 802.15 &lt;subject&gt;</dc:subject>
  <dc:title>IEEE P802.15 Working Group for Wireless Personal Area Networks</dc:title>
</cp:coreProperties>
</file>