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CD7F-D5A0-4A73-9860-E269D5465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ndard is part of a family of standards for local and metropolitan area networks.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he standard and other members of the family is shown below. (The numbers in the figure 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standard number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mily of standards deals with the Physical and Data Link layers as defined by the International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andardization (ISO) Open Systems Interconnection (OSI) Basic Reference Model (ISO/I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98-1: 1994). The access standards define seven types of medium access technologies and associated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each appropriate for particular applications or system objectives. Other types are under invest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B17-2052-4339-955E-E64F79F4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D51-F6AA-477A-B6D8-EEA66413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76D-E7BD-471A-A1E8-82BFEA82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10D-AAD4-407E-ABB8-DF02212C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B20-5C1A-4596-82D7-65860EB8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3A2-ED08-4049-A0E9-847A74DA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43C-F840-44BA-8561-55ACF75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B73-C408-4C12-8ACA-57FF7DB1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3CB-B248-4CA9-ACFD-74F0395F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C69-0894-4572-8014-3DDB9115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623-9339-44F8-A69E-07B5ACA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97D-118F-4ECE-9315-2B9BBE7D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0496-D948-4436-A328-0D8A354A2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1295280"/>
            <a:ext cx="8989200" cy="4343400"/>
            <a:chOff x="76320" y="1295280"/>
            <a:chExt cx="8989200" cy="4343400"/>
          </a:xfrm>
        </p:grpSpPr>
        <p:sp>
          <p:nvSpPr>
            <p:cNvPr id="49" name=""/>
            <p:cNvSpPr/>
            <p:nvPr/>
          </p:nvSpPr>
          <p:spPr>
            <a:xfrm>
              <a:off x="76320" y="1295280"/>
              <a:ext cx="3808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6200000">
              <a:off x="-519120" y="216324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0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4960" y="1523880"/>
              <a:ext cx="38088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-780120" y="3578760"/>
              <a:ext cx="30200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 OVERVIEW &amp; 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ormerly IEEE Std 802.1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2160" y="1523880"/>
              <a:ext cx="38088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235080" y="3698640"/>
              <a:ext cx="19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15880" y="1523880"/>
              <a:ext cx="6813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98520" y="1828800"/>
              <a:ext cx="27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2 LOGICAL LINK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15880" y="2514600"/>
              <a:ext cx="6813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31040" y="2819520"/>
              <a:ext cx="149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 BRID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769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485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34320" y="3581280"/>
              <a:ext cx="60948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5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53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501040" y="1523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01040" y="459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96360" y="5638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82120" y="152388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3320" y="2743200"/>
              <a:ext cx="7722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682120" y="46479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88640" y="4805280"/>
              <a:ext cx="772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01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2:56:11Z</dcterms:created>
  <dc:creator>Ian C. Gifford</dc:creator>
  <dc:description/>
  <dc:language>en-US</dc:language>
  <cp:lastModifiedBy>Ian C. Gifford</cp:lastModifiedBy>
  <dcterms:modified xsi:type="dcterms:W3CDTF">2000-03-09T12:27:05Z</dcterms:modified>
  <cp:revision>6</cp:revision>
  <dc:subject/>
  <dc:title>PowerPoint Presentation</dc:title>
</cp:coreProperties>
</file>