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A10-A3C6-4C40-A715-D7333D80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C62-FCDF-4088-AF56-CD42C494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061-9983-4678-8A5F-2519A108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A7A-F5AB-45F4-A188-4973CFFB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541-C0BF-4F50-B047-2480912E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C43-81F4-4135-ACC0-8B7FF3D5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4C6-43CF-443F-A723-F0641F45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69D-0A0D-45F5-B371-EE1F1C1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68C-3CC5-42E2-A0FE-160C0E75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83E-6C7B-4005-954E-552FEF2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4F2-461E-496C-B5FF-4B835143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D8C-1843-41E6-8795-CB3FDC1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C309A5-EE5A-469D-8340-697375829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1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rketing Needs of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686-B58A-44E8-9553-6C8D9D5B85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rketing Needs of T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a clear message about the purpose of TG2 (Produ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white paper expressing TG2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 additional contribu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benefits to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Recommended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Handbook with details of Coexistence Model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D1F-2DF1-477A-BE09-48A4FBCAA3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rketing Needs of T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Communication (Promo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into issuing corporate press releases derived from IEEE press release (Off 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 set of speaking arrangement to promote TG2 (After white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potential places to write an article (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&amp; HomeRF ref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 (In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articles &amp;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ED0-D0F5-4012-A2CE-46AF343D45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4100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G2 Marketing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white paper on T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te a list of upcoming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te a list of potential publications for sub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828800"/>
            <a:ext cx="28195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ve &amp; Br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616-4F6A-4305-B76C-0F19E29C30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1998-02-10T13:28:06Z</cp:lastPrinted>
  <dcterms:modified xsi:type="dcterms:W3CDTF">2000-03-08T23:54:30Z</dcterms:modified>
  <cp:revision>77</cp:revision>
  <dc:subject>IEEE 802.15 &lt;subject&gt;</dc:subject>
  <dc:title>IEEE P802.15 Working Group for Wireless Personal Area Networks</dc:title>
</cp:coreProperties>
</file>