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737D4-0F19-4363-9E88-572CB9F0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E7BB-C3A3-45F7-9816-25A0EB5AF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E19C1-EA1C-4C6D-B838-F7572D9E9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E7E8-0AE9-4C78-BA07-B7A59944B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7E579-4489-40AB-84E5-95EC383C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DB94-F7C7-45BE-9A36-4C7F7C9D6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1ACD-0B23-4A95-96A2-FCA24E0E6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AD08-0EBA-4EBF-B5BB-8EB10D4B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3A14E-B18D-4F5E-915D-2DE21D88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0F62-64AC-416D-ACBB-8C02401F4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39EB-5159-4088-A05A-840C2103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DE33-B93C-479F-9B1E-C9D0BA72D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her/NIS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999DC-8AD7-4E9E-8C7B-33A63EFA9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4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57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pplications for Consider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Cypher] Company [N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0 Bureau Drive / STOP 8920,  Gaithersburg, MD  20899-89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301 975 4855], FAX: [+1 301 590 0932], E-Mail:[david.cypher@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CALL FOR SUBMISSIONS ON THE COEXISTENCE MODEL, September 30,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1) lists the available applications from which coexistence models will need to consider as an input parameter to the MAC layer,  2) attempts to define what information is needed in order to specify the traffic generated by these applications into parameters that the coexistence models can accommodate, and 3) suggests defining a priority to investigate these application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ovide the group with a list of applications to be examined, to define what is needed to specify these applications for use in, and to agree on a priority listing of these applications for the coexistence modeling and performance stud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  Contribution of the NIST, not subject to copyright in the United States of America.</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D5B1659-FC42-48E1-B174-8F2D1602CB2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l-Up Networking Profile</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way (G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erminal (D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erial Port Profi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lot packe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all at a tim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 link</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V3/CSVD  (condition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74CF09E-82B7-499A-87D9-6E04764A61B6}"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x Profil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way (GW) {Inquiry S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erminal (DT) {Inqu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erial Port Pro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32A9FC9-6063-48B7-B0B4-96D80CA4CE3E}"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 Access Profile</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P over RFCOMM</a:t>
            </a:r>
            <a:br>
              <a:rPr sz="3200"/>
            </a:br>
            <a:r>
              <a:rPr b="0" lang="en-US" sz="3200" spc="-1" strike="noStrike">
                <a:solidFill>
                  <a:srgbClr val="000000"/>
                </a:solidFill>
                <a:latin typeface="Arial"/>
              </a:rPr>
              <a:t>- single, multiple, PC2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 Access Point (LAP) {Inquiry S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erminal (DT) {Inqu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erial Port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Rad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Master/Slave Ro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EE98BC5-2AB1-42BC-8365-58657530A5FC}"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ic Object Exchange Profile</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Push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Transfer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chronization Profi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5DD08A8-B87F-49C4-9FFB-BD513F0410F8}"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User scenarios from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raffic characteristics from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ingle point to point profiles (exception LAN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ther SCO or A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ingle Slot packet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81AF01-94F9-4891-A1D1-0B12169A6CCA}"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continue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 Access Profile (started by N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up Networking (started by N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to be consid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CDE489-0157-4A1C-ACA6-00553B59F6D1}"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3EA3A0D-9BDF-4FBA-A2F4-5B842DB5FAA3}"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for Consideratio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Profi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Network </a:t>
            </a:r>
            <a:endParaRPr b="0" lang="en-US" sz="3200" spc="-1" strike="noStrike">
              <a:solidFill>
                <a:srgbClr val="000000"/>
              </a:solidFill>
              <a:latin typeface="Arial"/>
            </a:endParaRPr>
          </a:p>
        </p:txBody>
      </p:sp>
      <p:graphicFrame>
        <p:nvGraphicFramePr>
          <p:cNvPr id="48" name=""/>
          <p:cNvGraphicFramePr/>
          <p:nvPr/>
        </p:nvGraphicFramePr>
        <p:xfrm>
          <a:off x="1600200" y="6019920"/>
          <a:ext cx="6095880" cy="309600"/>
        </p:xfrm>
        <a:graphic>
          <a:graphicData uri="http://schemas.openxmlformats.org/presentationml/2006/ole">
            <p:oleObj r:id="rId1" spid="">
              <p:embed/>
              <p:pic>
                <p:nvPicPr>
                  <p:cNvPr id="49" name="" descr=""/>
                  <p:cNvPicPr/>
                  <p:nvPr/>
                </p:nvPicPr>
                <p:blipFill>
                  <a:blip r:embed="rId2"/>
                  <a:stretch/>
                </p:blipFill>
                <p:spPr>
                  <a:xfrm>
                    <a:off x="1600200" y="6019920"/>
                    <a:ext cx="6095880" cy="3096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8B3AEC8-D258-4A25-B1F1-3D3EFC8AE8B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fil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Access</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iscovery Application</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less Telephony</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m</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 Port</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set</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up Networking</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 Access</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Object Exchange</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Push</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0BA55B-D1D4-434F-8F6F-0315595709B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ic Acces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Modes (Non-Discoverable, Limited, General) tied to Inquiry/Inquiry Sca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ability Modes (Non-connectable, Connectable) tied to Page/Page Sca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ing Modes (Non-pairable, Pairabl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values for Tim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8587734-C3AD-4D3F-8561-12055A6BAA3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Discovery Applica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Device (initiator) (Inquiry/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Device (inquiry scan/page s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CAP in connection-oriented, no Q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P no requirements, just no SC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718EEB5-4FF4-40C0-B0AC-45169A27CC77}"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dless Telephony</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way (1) connectionless &amp; -orien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l (&lt;=7) connection-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n MTU 171 oct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V3 packe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2C3F766-8982-4F03-A35D-5A1FF81FB91A}"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com</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CAP connection-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MTU 3 oct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 lin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E0B226-F306-4512-800D-02D203870D3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ial Por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lot pa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 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Entit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70A1FD-B5A0-4FAD-BC82-00F05DFE9198}"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dSet Profile</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Gateway (AG) {Inqu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et (HS) {Inquiry S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erial Port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nn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5EB3454-275E-4D53-B917-B51F440AA70D}"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5:31:12Z</dcterms:created>
  <dc:creator>David Cypher</dc:creator>
  <dc:description>&lt;doc#&gt;</dc:description>
  <dc:language>en-US</dc:language>
  <cp:lastModifiedBy>David Cypher</cp:lastModifiedBy>
  <cp:lastPrinted>1998-02-10T13:28:06Z</cp:lastPrinted>
  <dcterms:modified xsi:type="dcterms:W3CDTF">2000-02-23T15:53:03Z</dcterms:modified>
  <cp:revision>12</cp:revision>
  <dc:subject>IEEE 802.15 &lt;subject&gt;</dc:subject>
  <dc:title>Applications for Considerations</dc:title>
</cp:coreProperties>
</file>