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C3F-95A1-4068-8FE2-292BC216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503-051B-4DF2-B421-BD537045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F05-D296-40C7-913B-23EE20C6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C39-E702-471F-A759-95254F1A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AED-707D-470D-8102-25628E99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84B-D95A-498D-9B8D-86D0EBC3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778-9039-4128-A178-150C8B35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4D4-4BF3-4869-A8B6-D0026C66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24B-6F45-4872-86D7-03ABD126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77A-7C3E-4B76-A43F-242604EE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1D3-C530-4A7F-91CC-8743EEB5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109-92A4-4FF6-83A3-3F308CA1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7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A072D06-A947-43FE-904F-CA8D2CA77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:IEEE 802.15-00/08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6520" y="647712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02.15 / Bluetooth High-R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ose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ward 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802.15.1 / Bluetooth V1.0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+ Mbps Capability @ 10-Meter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for large-file transfers and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aceful backdown to 2+ Mbps in high-interference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 OEM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rget less than US$10 each in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dely Available Unlicens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urope, Japan, US ess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usible path to global avail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 Prime Power and Small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actical for digital cameras, PDAs, &amp; other small consumer electronics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e Leeper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7:09Z</dcterms:created>
  <dc:creator>Jim Zyren</dc:creator>
  <dc:description>073r0</dc:description>
  <dc:language>en-US</dc:language>
  <cp:lastModifiedBy>Robert F.  Heile</cp:lastModifiedBy>
  <cp:lastPrinted>1998-02-10T13:28:06Z</cp:lastPrinted>
  <dcterms:modified xsi:type="dcterms:W3CDTF">2000-03-08T16:21:15Z</dcterms:modified>
  <cp:revision>9</cp:revision>
  <dc:subject>IEEE 802.15 Tutorial</dc:subject>
  <dc:title>Reliability of IEEE 802.11 WLANs in Presence of Bluetooth Radios</dc:title>
</cp:coreProperties>
</file>