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66BD-159E-4044-B010-227CDDFF0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4D59-ECFD-4C41-A804-13791768A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B75D-2561-4B2F-88D7-BB239525F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603E-BADC-4AB4-AB41-7DF91C595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10D5-309F-4B37-BBFD-7ED8391BD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779C-3B4D-4B07-AE5A-97B39EDA9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95FF-B77E-4D1F-A328-5FD45A0EF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9AF3-1A46-4842-8F5F-4369A5231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B288-3136-4C11-A46E-09867D027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85D3-24EB-4BBB-AE7F-D0167B99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674C-5543-4279-8823-48530D56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2598-DA46-475A-8C25-753DE03B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45CA871-0BDE-4AD1-AE6A-3FFC2EDF0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0/07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ents on 802.16 P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 focuses on Broadband Wireless Access below 10gig including ISM b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irs of  802.11 and 802.15 have taken positions that overlap with 802.11 is too great. Activity should be restricted to licensed bands only or we could not support the P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ir of 802.15 has taken position that another 802.11 class of solution in the ISM band unnecessarily intensifies the Coexistence prob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ACEB-9184-41AC-8CA9-B5FEA374D51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 to support the Chair’s position in a formal response to 802.1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ents on 802.16 P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9B51-57CE-4F51-BCC4-141814D25A7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2T06:24:01Z</dcterms:created>
  <dc:creator>Robert F. Heile</dc:creator>
  <dc:description>00/071ro</dc:description>
  <dc:language>en-US</dc:language>
  <cp:lastModifiedBy>Robert F.  Heile</cp:lastModifiedBy>
  <cp:lastPrinted>2000-03-05T01:29:49Z</cp:lastPrinted>
  <dcterms:modified xsi:type="dcterms:W3CDTF">2000-03-06T22:26:41Z</dcterms:modified>
  <cp:revision>77</cp:revision>
  <dc:subject>IEEE 802.15 &lt;subject&gt;</dc:subject>
  <dc:title>Comments on 802.16 PAR</dc:title>
</cp:coreProperties>
</file>