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EC7-8B45-4DFD-8C45-06A857E3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21B-05FA-4152-9A35-0E3DCBC8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153-0545-4356-A491-4893880B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E56-12CA-490B-921A-B7A31364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B26-18A8-43D0-ADD8-6ED74BA9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AB2-E496-4F26-8911-B820B457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F5B-F3C3-466C-850D-688DD831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B20-DA72-455A-873E-F2CE47E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893-AB5B-4B38-B870-E132F0FC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650-2100-4ACC-A101-555F109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DE0-88FC-456A-A316-3507D4B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14D-3A62-4E2D-8FCD-4AFD8BC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210F80-9C60-460C-9880-C1E19463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7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views of new PARs from 802.1, 802.11, and 802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due to appropriate WG by 5pm 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PAR due to Excom by 5pm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226-1558-4476-871A-0C07D5D0B2A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Press Relea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will approve IEEE generate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will not get involved in articles and the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expecting 802.15 material,99/171,TG2, and TG1, for Thursday nite (needs to be in SEC mailboxes by 5pm Wednes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 Scheduling an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ger wants a better process and right of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ff does not want to be second gu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8B5-23FD-400F-858E-8694EA031B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Rule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duction for Letter Ballots, confirm with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motions and votes in between Working Group (strikethrough: 802 Plenary) meetings are at the discretion of the Working Group Chai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ociety Books are being au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RAC issues and nex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to eliminate Friday morning plen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input from the WGs on above and on SE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9B1-76D4-4252-A199-EDCCE85AD7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Endorsement for Jim Carlo to become an IEEE Fellow Ap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 meeting elected new 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Heirman, Chair, New Standard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Moore, Chair, Rev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ll Johnson, Chair, Nes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ry Peterson, Chair, Pat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AE4-47FF-438F-B2E2-5D57E44860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4 is about to hibernate. Any comments/issues should be addressed to Bob Rus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5 is contemplating hibe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D projectors must be turned off with power button and allowed to coo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D12-C4DB-4C69-BE5F-AD9EF16413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069ro</dc:description>
  <dc:language>en-US</dc:language>
  <cp:lastModifiedBy>Robert F.  Heile</cp:lastModifiedBy>
  <cp:lastPrinted>2000-03-05T01:29:49Z</cp:lastPrinted>
  <dcterms:modified xsi:type="dcterms:W3CDTF">2000-03-06T17:23:14Z</dcterms:modified>
  <cp:revision>73</cp:revision>
  <dc:subject>IEEE 802.15 &lt;subject&gt;</dc:subject>
  <dc:title>Mar00 Monday Report to 802</dc:title>
</cp:coreProperties>
</file>