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82A2D-63E7-4770-AD8C-ABF53C54E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09E56-C814-467B-B335-BE8432D55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281AE-829E-4027-A554-9D174D558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5DC66-1972-4A11-887C-9E648471B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B60E-6848-4FBF-B2F4-728A9BAA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00A6-6E65-431D-B6FF-0ED06723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A0C0-8BA9-4BAF-9C12-C41FAFA2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B794-37CD-47C2-A8D6-EB0823409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3FA5-FF11-4E31-A2A4-2D73604B1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72D4-FA31-447B-87A9-ED369667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9376-F131-492D-856F-93B0BE4F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003D-0B20-4433-9F0C-8FD8CF3FF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FAA1D5-2BDA-4C0E-9E4D-0D35C9F93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51B6AFB-689C-4734-9BC7-AEAD0C938B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0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1 Work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24r1]</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 working agenda for TG1]</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file is for stuff that is created during the Session that is not necessarily related to a document number e.g., Motions, et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Working Agenda</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ADCEEA7-C9CA-4E8C-BF15-D72529821DB1}"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Graph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Albuquerque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Schedul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2049F4C-3259-4E65-AD25-19572533BE91}"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Graphic –00/24r1</a:t>
            </a:r>
            <a:endParaRPr b="0" lang="en-US" sz="3600" spc="-1" strike="noStrike">
              <a:solidFill>
                <a:srgbClr val="000000"/>
              </a:solidFill>
              <a:latin typeface="Times New Roman"/>
            </a:endParaRPr>
          </a:p>
        </p:txBody>
      </p:sp>
      <p:graphicFrame>
        <p:nvGraphicFramePr>
          <p:cNvPr id="55" name=""/>
          <p:cNvGraphicFramePr/>
          <p:nvPr/>
        </p:nvGraphicFramePr>
        <p:xfrm>
          <a:off x="195120" y="1623960"/>
          <a:ext cx="8753760" cy="3610080"/>
        </p:xfrm>
        <a:graphic>
          <a:graphicData uri="http://schemas.openxmlformats.org/presentationml/2006/ole">
            <p:oleObj progId="Excel.Sheet.12" r:id="rId1" spid="">
              <p:embed/>
              <p:pic>
                <p:nvPicPr>
                  <p:cNvPr id="56" name="" descr=""/>
                  <p:cNvPicPr/>
                  <p:nvPr/>
                </p:nvPicPr>
                <p:blipFill>
                  <a:blip r:embed="rId2"/>
                  <a:stretch/>
                </p:blipFill>
                <p:spPr>
                  <a:xfrm>
                    <a:off x="195120" y="1623960"/>
                    <a:ext cx="8753760" cy="3610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2A99761-B133-4CAA-9FA2-8B19FF01BE50}" type="slidenum">
              <a:t>4</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a:t>
            </a:r>
            <a:endParaRPr b="0" lang="en-US" sz="3600" spc="-1" strike="noStrike">
              <a:solidFill>
                <a:srgbClr val="000000"/>
              </a:solidFill>
              <a:latin typeface="Times New Roman"/>
            </a:endParaRPr>
          </a:p>
        </p:txBody>
      </p:sp>
      <p:sp>
        <p:nvSpPr>
          <p:cNvPr id="58" name=""/>
          <p:cNvSpPr/>
          <p:nvPr/>
        </p:nvSpPr>
        <p:spPr>
          <a:xfrm>
            <a:off x="533520" y="3124080"/>
            <a:ext cx="16002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lauses</a:t>
            </a:r>
            <a:endParaRPr b="0" lang="en-US" sz="2000" spc="-1" strike="noStrike">
              <a:solidFill>
                <a:srgbClr val="000000"/>
              </a:solidFill>
              <a:latin typeface="Times New Roman"/>
            </a:endParaRPr>
          </a:p>
        </p:txBody>
      </p:sp>
      <p:sp>
        <p:nvSpPr>
          <p:cNvPr id="59" name=""/>
          <p:cNvSpPr/>
          <p:nvPr/>
        </p:nvSpPr>
        <p:spPr>
          <a:xfrm>
            <a:off x="3505320" y="3124080"/>
            <a:ext cx="1981080" cy="2057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5a C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 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60" name=""/>
          <p:cNvSpPr/>
          <p:nvPr/>
        </p:nvSpPr>
        <p:spPr>
          <a:xfrm>
            <a:off x="5867280" y="312408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61"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337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39000" y="19051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64" name=""/>
          <p:cNvSpPr/>
          <p:nvPr/>
        </p:nvSpPr>
        <p:spPr>
          <a:xfrm>
            <a:off x="69976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402240" y="1905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66" name=""/>
          <p:cNvSpPr/>
          <p:nvPr/>
        </p:nvSpPr>
        <p:spPr>
          <a:xfrm>
            <a:off x="2133720" y="2514600"/>
            <a:ext cx="76176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600">
            <a:off x="1458360" y="38728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1</a:t>
            </a:r>
            <a:endParaRPr b="0" lang="en-US" sz="2400" spc="-1" strike="noStrike">
              <a:solidFill>
                <a:srgbClr val="000000"/>
              </a:solidFill>
              <a:latin typeface="Times New Roman"/>
            </a:endParaRPr>
          </a:p>
        </p:txBody>
      </p:sp>
      <p:sp>
        <p:nvSpPr>
          <p:cNvPr id="68" name=""/>
          <p:cNvSpPr/>
          <p:nvPr/>
        </p:nvSpPr>
        <p:spPr>
          <a:xfrm>
            <a:off x="2971800" y="2514600"/>
            <a:ext cx="38088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600">
            <a:off x="213156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2</a:t>
            </a:r>
            <a:endParaRPr b="0" lang="en-US" sz="2400" spc="-1" strike="noStrike">
              <a:solidFill>
                <a:srgbClr val="000000"/>
              </a:solidFill>
              <a:latin typeface="Times New Roman"/>
            </a:endParaRPr>
          </a:p>
        </p:txBody>
      </p:sp>
      <p:sp>
        <p:nvSpPr>
          <p:cNvPr id="70" name=""/>
          <p:cNvSpPr/>
          <p:nvPr/>
        </p:nvSpPr>
        <p:spPr>
          <a:xfrm>
            <a:off x="7709040" y="2514600"/>
            <a:ext cx="76176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6200600">
            <a:off x="702108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p:txBody>
      </p:sp>
      <p:sp>
        <p:nvSpPr>
          <p:cNvPr id="72" name=""/>
          <p:cNvSpPr/>
          <p:nvPr/>
        </p:nvSpPr>
        <p:spPr>
          <a:xfrm>
            <a:off x="546732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73" name=""/>
          <p:cNvSpPr/>
          <p:nvPr/>
        </p:nvSpPr>
        <p:spPr>
          <a:xfrm>
            <a:off x="846468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868880" y="1905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Jul00</a:t>
            </a:r>
            <a:endParaRPr b="0" lang="en-US" sz="2400" spc="-1" strike="noStrike">
              <a:solidFill>
                <a:srgbClr val="000000"/>
              </a:solidFill>
              <a:latin typeface="Times New Roman"/>
            </a:endParaRPr>
          </a:p>
        </p:txBody>
      </p:sp>
      <p:sp>
        <p:nvSpPr>
          <p:cNvPr id="75" name=""/>
          <p:cNvSpPr/>
          <p:nvPr/>
        </p:nvSpPr>
        <p:spPr>
          <a:xfrm>
            <a:off x="7696080" y="990720"/>
            <a:ext cx="0" cy="56386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088040" y="6094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May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8014276-A9A4-4EF2-B556-D98BEBEBE236}" type="slidenum">
              <a:t>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ction Item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LB1 Dis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Mar00 Pro &amp; Cons Submission, To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Mar00 WG Motion Brainstorming, 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Mar00 WG Motion #1, Ia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EUI L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Mar00 Draft, TomS/Ia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Mar00 WG Motion #2, Ia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E8F688-5433-446B-BEE8-FF4EFAC89C0C}"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WG Motion Scheduling</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on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 – Reconsider LB1</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 – EUI Letter to IEEE RA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7FFB50-BC79-4AA7-A706-369FEF44FB04}"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1</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on: “I move that the Working Group reconsider Letter Ballot #1.”</a:t>
            </a:r>
            <a:endParaRPr b="0" lang="en-US" sz="4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Technical 50% (Procedural)</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r: Ian</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Nada</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N/A: 23/0/1</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Fail?: Pass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2927AEC-82D4-4AEE-8D5E-A6C3FCAAFAAA}"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2</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on: “I move that the WG Approve the IEEE/RAC Letter –00/092 and send it to the IEEE/RAC Chair.”</a:t>
            </a:r>
            <a:endParaRPr b="0" lang="en-US" sz="36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Technical 50% (Procedural)</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r: Ia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Kevi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 22/0/0</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Fail?: Pass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8C9BE3-BEC4-42F1-B1FD-DA67CA913739}"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3-09T03:58:50Z</dcterms:modified>
  <cp:revision>97</cp:revision>
  <dc:subject>IEEE 802.15 TG1 Report</dc:subject>
  <dc:title>IEEE P802.15 Working Group for Wireless Personal Area Networks</dc:title>
</cp:coreProperties>
</file>