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15687-1267-4021-BDB1-101AE3C88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54198-E55C-49B5-871F-929D4E05A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A2C16-8CC2-4883-8840-A22DDD6C5F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4DED90-5B26-46EE-BD0C-4115E73F9D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12F8-4ABF-4A13-8827-C303A74B22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29E1-03FB-4B9B-8E04-CEC5C9073D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64ED4-2675-44A1-B1D9-50F81224CC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A8735550-0330-4E9A-98CB-2C44EB4457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C3DDD6-A79C-42CF-8EAC-10B0618EE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AF9EF-5DAD-41A5-901C-4833D5708B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D8BAE-BEBA-48F9-ABF1-E9D5F4E94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86204-7D1A-41A5-9231-4F19D026E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F8C110-37E3-473D-93D3-122918B31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22r5</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2000" y="380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0</a:t>
            </a:r>
            <a:endParaRPr b="0" lang="en-US" sz="1400" spc="-1" strike="noStrike">
              <a:solidFill>
                <a:srgbClr val="000000"/>
              </a:solidFill>
              <a:latin typeface="Times New Roman"/>
            </a:endParaRPr>
          </a:p>
        </p:txBody>
      </p:sp>
      <p:sp>
        <p:nvSpPr>
          <p:cNvPr id="8" name=""/>
          <p:cNvSpPr/>
          <p:nvPr/>
        </p:nvSpPr>
        <p:spPr>
          <a:xfrm>
            <a:off x="5719320" y="642636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609480"/>
            <a:ext cx="87631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Organizational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shows the organizational proposal for the anticipated High Rate Task Grou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names of proposed leaders and open positions.  To facilitate the filling of positions prior to submitting the PA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t>
            </a:r>
            <a:br>
              <a:rPr sz="3600"/>
            </a:br>
            <a:r>
              <a:rPr b="0" lang="en-US" sz="2800" spc="-1" strike="noStrike">
                <a:solidFill>
                  <a:srgbClr val="000000"/>
                </a:solidFill>
                <a:latin typeface="Times New Roman"/>
              </a:rPr>
              <a:t>High Rate - TG3</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 - John Bar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e Chair - Jim All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 - Pat Kinne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Editor - James Gilb</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Committee Leader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 Dimitri Alexandrou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 Allen Heberling - Ac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ntroller Interface - Mary DuVa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C1AF-5DE6-4506-A8EB-30F5933CFA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62120" y="12193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ison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15 - Bill Bailey (w/ Rick Alfvi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 .15 - Kevin Marquess (w/ Rich Dit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 Thomas Bak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RF - Bob Morri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C - (TBD - Grant Carls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I/BRAN - Fujio Wantanab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 Allen Heberl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John R. Barr</cp:lastModifiedBy>
  <dcterms:modified xsi:type="dcterms:W3CDTF">2000-05-08T18:10:01Z</dcterms:modified>
  <cp:revision>15</cp:revision>
  <dc:subject>High Rate TG Organizational Proposal</dc:subject>
  <dc:title>Organization Proposal </dc:title>
</cp:coreProperties>
</file>