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3200" y="316080"/>
            <a:ext cx="850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ay  2000                                                                                                                            doc: IEEE 802.15 00/08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4040" y="6400800"/>
            <a:ext cx="89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                                                                  </a:t>
            </a:r>
            <a:fld id="{D36E6A33-0A97-4E36-AA90-7EC2A11CE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Bruce Kraemer, Inter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990720" y="1143000"/>
          <a:ext cx="7162560" cy="48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716256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685800" y="762120"/>
          <a:ext cx="7772400" cy="554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772400" cy="55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9T20:20:12Z</dcterms:created>
  <dc:creator>Bruce Kraemer</dc:creator>
  <dc:description/>
  <dc:language>en-US</dc:language>
  <cp:lastModifiedBy>Bruce Kraemer</cp:lastModifiedBy>
  <dcterms:modified xsi:type="dcterms:W3CDTF">2000-05-11T20:57:38Z</dcterms:modified>
  <cp:revision>14</cp:revision>
  <dc:subject/>
  <dc:title>No Slide Title</dc:title>
</cp:coreProperties>
</file>