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6CCF9-CE6D-4D4B-A0C2-8FB83E5B8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D8A99-24F0-4F27-8848-82AEA80BB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284E4-B266-452A-A5F7-D3872EC07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96D89-4AD6-4E3A-95C4-440609B45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2E712-713D-46FF-966B-8168DBB33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2A5A7-1AD9-40CF-9E67-655258048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25657-9D47-4906-94C8-F3059369D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240E7-D56C-4E26-A667-AE62D47C6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4E756-42A7-4EBF-BB10-DF1DD095A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BE735-168B-43DC-A30A-E4C5D1D49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97C1F-13F7-4C63-8245-33B683E67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9F1C1-B023-4FE1-9570-C4EE7ECCD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2D3FEA-6A43-45C7-BB72-636A62F37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18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2EA31C40-6023-4E4C-8ADA-BA37B2EB64F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618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WG Liaison Report, No.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8May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M/A-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11 Pawtucket Boulevard Lowell, MA USA 01853-32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442 4650], FAX: [+1 978 442 5442], E-Mail:[giffordi@ieee.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0/37r1, etc.]</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Liaison Report is a running Liaison report that is offered to the WG for their consideration.  It is only as good as what is provided to the Author…there are many WG Liaisons that are not captured as they are not provided to the Author or Liaison Officer.]</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Our Sponsor requested that an official Liaison Officer be added to the WG.  This report is for the Sponsor and/or the W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Report</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lecon &amp; Meetings</a:t>
            </a:r>
            <a:endParaRPr b="0" lang="en-US" sz="16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Mar00 Bluetooth/IEEE Telecon on MARCOM</a:t>
            </a:r>
            <a:endParaRPr b="0" lang="en-US" sz="14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pr00 Bluetooth/IEEE Telecon on MARCOM</a:t>
            </a:r>
            <a:endParaRPr b="0" lang="en-US" sz="14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May00 Bluetooth/IEEE Telecon on MARCOM</a:t>
            </a:r>
            <a:endParaRPr b="0" lang="en-US" sz="1400" spc="-1" strike="noStrike">
              <a:solidFill>
                <a:srgbClr val="000000"/>
              </a:solidFill>
              <a:latin typeface="Times New Roman"/>
            </a:endParaRPr>
          </a:p>
          <a:p>
            <a:pPr lvl="1" marL="683280" indent="-26280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 </a:t>
            </a:r>
            <a:endParaRPr b="0" lang="en-US" sz="1400" spc="-1" strike="noStrike">
              <a:solidFill>
                <a:srgbClr val="000000"/>
              </a:solidFill>
              <a:latin typeface="Times New Roman"/>
            </a:endParaRPr>
          </a:p>
          <a:p>
            <a:pPr marL="315360" indent="-3153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to IEEE</a:t>
            </a:r>
            <a:endParaRPr b="0" lang="en-US" sz="16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 23, 24Feb00, 3Mar00, on Copyright License</a:t>
            </a:r>
            <a:endParaRPr b="0" lang="en-US" sz="1400" spc="-1" strike="noStrike">
              <a:solidFill>
                <a:srgbClr val="000000"/>
              </a:solidFill>
              <a:latin typeface="Times New Roman"/>
            </a:endParaRPr>
          </a:p>
          <a:p>
            <a:pPr lvl="1" marL="683280" indent="-26280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Feb00 Request for LAN/MAN 802.15 Balloting Pool status IEEE Standards Dept., Balloting Center (Pribula)</a:t>
            </a:r>
            <a:endParaRPr b="0" lang="en-US" sz="1400" spc="-1" strike="noStrike">
              <a:solidFill>
                <a:srgbClr val="000000"/>
              </a:solidFill>
              <a:latin typeface="Times New Roman"/>
            </a:endParaRPr>
          </a:p>
          <a:p>
            <a:pPr lvl="1" marL="683280" indent="-26280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Mar00 Telecon Agenda, etc. on Pocket Guides</a:t>
            </a:r>
            <a:endParaRPr b="0" lang="en-US" sz="1400" spc="-1" strike="noStrike">
              <a:solidFill>
                <a:srgbClr val="000000"/>
              </a:solidFill>
              <a:latin typeface="Times New Roman"/>
            </a:endParaRPr>
          </a:p>
          <a:p>
            <a:pPr lvl="1" marL="683280" indent="-26280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 </a:t>
            </a:r>
            <a:endParaRPr b="0" lang="en-US" sz="1400" spc="-1" strike="noStrike">
              <a:solidFill>
                <a:srgbClr val="000000"/>
              </a:solidFill>
              <a:latin typeface="Times New Roman"/>
            </a:endParaRPr>
          </a:p>
          <a:p>
            <a:pPr marL="315360" indent="-3153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from IEEE</a:t>
            </a:r>
            <a:endParaRPr b="0" lang="en-US" sz="1600" spc="-1" strike="noStrike">
              <a:solidFill>
                <a:srgbClr val="000000"/>
              </a:solidFill>
              <a:latin typeface="Times New Roman"/>
            </a:endParaRPr>
          </a:p>
          <a:p>
            <a:pPr lvl="1" marL="683280" indent="-26280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 27Feb00 Response on LAN/MAN 802.15 Balloting Pool status IEEE Standards Dept., Balloting Center (Pribula) -99/179r0</a:t>
            </a:r>
            <a:endParaRPr b="0" lang="en-US" sz="1400" spc="-1" strike="noStrike">
              <a:solidFill>
                <a:srgbClr val="000000"/>
              </a:solidFill>
              <a:latin typeface="Times New Roman"/>
            </a:endParaRPr>
          </a:p>
          <a:p>
            <a:pPr lvl="1" marL="683280" indent="-26280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13Apr00, 5May00 on Draft Std. Copyright License</a:t>
            </a:r>
            <a:endParaRPr b="0" lang="en-US" sz="1400" spc="-1" strike="noStrike">
              <a:solidFill>
                <a:srgbClr val="000000"/>
              </a:solidFill>
              <a:latin typeface="Times New Roman"/>
            </a:endParaRPr>
          </a:p>
          <a:p>
            <a:pPr lvl="1" marL="683280" indent="-26280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 21Apr00,  on Pocket Guide Contract</a:t>
            </a:r>
            <a:endParaRPr b="0" lang="en-US" sz="1400" spc="-1" strike="noStrike">
              <a:solidFill>
                <a:srgbClr val="000000"/>
              </a:solidFill>
              <a:latin typeface="Times New Roman"/>
            </a:endParaRPr>
          </a:p>
          <a:p>
            <a:pPr lvl="1" marL="683280" indent="-26280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a:t>
            </a:r>
            <a:endParaRPr b="0" lang="en-US" sz="1400" spc="-1" strike="noStrike">
              <a:solidFill>
                <a:srgbClr val="000000"/>
              </a:solidFill>
              <a:latin typeface="Times New Roman"/>
            </a:endParaRPr>
          </a:p>
          <a:p>
            <a:pPr marL="315360" indent="-3153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Steps</a:t>
            </a:r>
            <a:endParaRPr b="0" lang="en-US" sz="1600" spc="-1" strike="noStrike">
              <a:solidFill>
                <a:srgbClr val="000000"/>
              </a:solidFill>
              <a:latin typeface="Times New Roman"/>
            </a:endParaRPr>
          </a:p>
          <a:p>
            <a:pPr lvl="1" marL="683280" indent="-26280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Draft Std. Copyright License signatures for Exhibit A</a:t>
            </a:r>
            <a:endParaRPr b="0" lang="en-US" sz="1400" spc="-1" strike="noStrike">
              <a:solidFill>
                <a:srgbClr val="000000"/>
              </a:solidFill>
              <a:latin typeface="Times New Roman"/>
            </a:endParaRPr>
          </a:p>
          <a:p>
            <a:pPr lvl="1" marL="683280" indent="-26280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MAN 802.15 Balloting Pool?</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C4E2174-03CB-4BCE-9012-52CDABCC661F}" type="slidenum">
              <a:t>1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IG</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ve Draft Std. Copyright License signatures for Exhibit 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e on IEEE Draft 0.8 Standard Status (co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st Specification v1.0C (v1.1) Status (co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BSIG-IEEE f2f Meeting Date?, 200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Bluetooth 2000“, 13-16Jun00 Monte Carlo</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ve Draft Std. Copyright License signatures for Exhibit 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802.15 Interim Meetings?</a:t>
            </a:r>
            <a:endParaRPr b="0" lang="en-US" sz="2000" spc="-1" strike="noStrike">
              <a:solidFill>
                <a:srgbClr val="000000"/>
              </a:solidFill>
              <a:latin typeface="Times New Roman"/>
            </a:endParaRPr>
          </a:p>
          <a:p>
            <a:pPr lvl="2" marL="108576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need to identify hosts and venue 12months out, or more.</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SA LAN/MAN 802.15 Balloting Pool?</a:t>
            </a:r>
            <a:endParaRPr b="0" lang="en-US" sz="2000" spc="-1" strike="noStrike">
              <a:solidFill>
                <a:srgbClr val="000000"/>
              </a:solidFill>
              <a:latin typeface="Times New Roman"/>
            </a:endParaRPr>
          </a:p>
          <a:p>
            <a:pPr lvl="2" marL="108576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need to increase the awareness of this pro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ABCF362-C5AA-4F12-BF24-B50C93C82BB7}" type="slidenum">
              <a:t>1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1</a:t>
            </a:r>
            <a:br>
              <a:rPr sz="4400"/>
            </a:br>
            <a:r>
              <a:rPr b="0" lang="en-US" sz="4400" spc="-1" strike="noStrike">
                <a:solidFill>
                  <a:srgbClr val="000000"/>
                </a:solidFill>
                <a:latin typeface="Times New Roman"/>
              </a:rPr>
              <a:t>Web Site has numerous hit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onic Presence is strong for 802.15</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802.15 Web Site is very active:</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grouper.ieee.org/stats/</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1May00</a:t>
            </a:r>
            <a:endParaRPr b="0" lang="en-US" sz="2400" spc="-1" strike="noStrike">
              <a:solidFill>
                <a:srgbClr val="000000"/>
              </a:solidFill>
              <a:latin typeface="Times New Roman"/>
            </a:endParaRPr>
          </a:p>
          <a:p>
            <a:pPr lvl="2" marL="100944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grouper.ieee.org/stats/2000-05/01.html</a:t>
            </a:r>
            <a:endParaRPr b="0" lang="en-US" sz="2000" spc="-1" strike="noStrike">
              <a:solidFill>
                <a:srgbClr val="000000"/>
              </a:solidFill>
              <a:latin typeface="Times New Roman"/>
            </a:endParaRPr>
          </a:p>
          <a:p>
            <a:pPr lvl="2" marL="100944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Use browser to search on HTML Page for occurrences of “802/15” this bring you to 802.15 URL %’s</a:t>
            </a:r>
            <a:endParaRPr b="0" lang="en-US" sz="20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next few weeks we will try to highlight:</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ser Hits daily, weekly, monthly, etc.</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ser Downloads of docs linked to the page</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C268714-8F54-45CC-A368-419E6FC376EE}" type="slidenum">
              <a:t>1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2</a:t>
            </a:r>
            <a:br>
              <a:rPr sz="4400"/>
            </a:br>
            <a:r>
              <a:rPr b="0" lang="en-US" sz="4400" spc="-1" strike="noStrike">
                <a:solidFill>
                  <a:srgbClr val="000000"/>
                </a:solidFill>
                <a:latin typeface="Times New Roman"/>
              </a:rPr>
              <a:t>Mailing List(s) Traffic is Light!</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onic usage of Mailing Lists for 802.15 could be stronger</a:t>
            </a:r>
            <a:endParaRPr b="0" lang="en-US" sz="18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4</a:t>
            </a:r>
            <a:r>
              <a:rPr b="0" lang="en-US" sz="1600" spc="-1" strike="noStrike">
                <a:solidFill>
                  <a:srgbClr val="000000"/>
                </a:solidFill>
                <a:latin typeface="Times New Roman"/>
              </a:rPr>
              <a:t> Messages on WG Public Mailing List stds-802-wpan@ieee.org </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grouper.ieee.org/groups/802/15/arc/802-wpanlist/threads.html</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a:t>
            </a:r>
            <a:r>
              <a:rPr b="0" lang="en-US" sz="1600" spc="-1" strike="noStrike">
                <a:solidFill>
                  <a:srgbClr val="000000"/>
                </a:solidFill>
                <a:latin typeface="Times New Roman"/>
              </a:rPr>
              <a:t> Messages on TG2 Public Mailing List stds-802-15-2@ieee.org </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grouper.ieee.org/groups/802/15/arc/802-15-2list/threads.html</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0</a:t>
            </a:r>
            <a:r>
              <a:rPr b="0" lang="en-US" sz="1600" spc="-1" strike="noStrike">
                <a:solidFill>
                  <a:srgbClr val="000000"/>
                </a:solidFill>
                <a:latin typeface="Times New Roman"/>
              </a:rPr>
              <a:t> Messages on WG Private Mailing List stds-802-15@ieee.org</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grouper.ieee.org/groups/802/15/private/802-15list/threads.html</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r>
              <a:rPr b="0" lang="en-US" sz="1600" spc="-1" strike="noStrike">
                <a:solidFill>
                  <a:srgbClr val="000000"/>
                </a:solidFill>
                <a:latin typeface="Times New Roman"/>
              </a:rPr>
              <a:t> Message on Joint 802.11 &amp; 802.15 Private Mailing List stds-802-jt11-15@ieee.org</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grouper.ieee.org/groups/802/15/private/jt11/threads.html</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r>
              <a:rPr b="0" lang="en-US" sz="1600" spc="-1" strike="noStrike">
                <a:solidFill>
                  <a:srgbClr val="000000"/>
                </a:solidFill>
                <a:latin typeface="Times New Roman"/>
              </a:rPr>
              <a:t> Messages on TG1 Private Mailing List stds-802-15-1@ieee.org</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75" name=""/>
          <p:cNvSpPr/>
          <p:nvPr/>
        </p:nvSpPr>
        <p:spPr>
          <a:xfrm>
            <a:off x="380880" y="5257800"/>
            <a:ext cx="83059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ddresses &amp; URLs provided are for traffic &amp; access to the archives.  No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of them are password protected and available to WG Membership onl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IEEE 802.16 uses their Lists 2x to 3x our rate.  Web posting per doc, et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C3DD891-A2C9-496C-A432-0793B851F464}" type="slidenum">
              <a:t>1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3</a:t>
            </a:r>
            <a:br>
              <a:rPr sz="4400"/>
            </a:br>
            <a:r>
              <a:rPr b="0" lang="en-US" sz="4400" spc="-1" strike="noStrike">
                <a:solidFill>
                  <a:srgbClr val="000000"/>
                </a:solidFill>
                <a:latin typeface="Times New Roman"/>
              </a:rPr>
              <a:t>6 WG Mailing Lists!</a:t>
            </a:r>
            <a:endParaRPr b="0" lang="en-US" sz="4400" spc="-1" strike="noStrike">
              <a:solidFill>
                <a:srgbClr val="000000"/>
              </a:solidFill>
              <a:latin typeface="Times New Roman"/>
            </a:endParaRPr>
          </a:p>
        </p:txBody>
      </p:sp>
      <p:sp>
        <p:nvSpPr>
          <p:cNvPr id="77" name=""/>
          <p:cNvSpPr/>
          <p:nvPr/>
        </p:nvSpPr>
        <p:spPr>
          <a:xfrm>
            <a:off x="380880" y="5867280"/>
            <a:ext cx="83059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six (6) WG Mailing Lists, all have archives. </a:t>
            </a:r>
            <a:endParaRPr b="0" lang="en-US" sz="2400" spc="-1" strike="noStrike">
              <a:solidFill>
                <a:srgbClr val="000000"/>
              </a:solidFill>
              <a:latin typeface="Times New Roman"/>
            </a:endParaRPr>
          </a:p>
        </p:txBody>
      </p:sp>
      <p:graphicFrame>
        <p:nvGraphicFramePr>
          <p:cNvPr id="78" name=""/>
          <p:cNvGraphicFramePr/>
          <p:nvPr/>
        </p:nvGraphicFramePr>
        <p:xfrm>
          <a:off x="600120" y="1838160"/>
          <a:ext cx="7943760" cy="3953160"/>
        </p:xfrm>
        <a:graphic>
          <a:graphicData uri="http://schemas.openxmlformats.org/presentationml/2006/ole">
            <p:oleObj progId="Excel.Sheet.12" r:id="rId1" spid="">
              <p:embed/>
              <p:pic>
                <p:nvPicPr>
                  <p:cNvPr id="79" name="" descr=""/>
                  <p:cNvPicPr/>
                  <p:nvPr/>
                </p:nvPicPr>
                <p:blipFill>
                  <a:blip r:embed="rId2"/>
                  <a:stretch/>
                </p:blipFill>
                <p:spPr>
                  <a:xfrm>
                    <a:off x="600120" y="1838160"/>
                    <a:ext cx="7943760" cy="395316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66B9580-8A6B-4BDB-A2FB-DA7A081CBE69}" type="slidenum">
              <a:t>1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ious Liaison Reports On Web, Server &amp; Flash Card(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Report #1 -99/005 [99005r0P802-15_Liaison-Report.ppt]</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Report #2 -99/029 [99029r0P802-15_Liaison-Report-2.ppt]</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Report #3 -99/063 [99063r1P802-15_Liaison-Report-3.ppt]</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Report #4 -99/124 [99124r0P802-15_Liaison-Report-4.ppt]</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Report #5 -99/174 [99174r0P802-15_WG-Liaison-Report-5.ppt]</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Report #6 -00/037r1 [00037r1P802-15_WG-Liaison-Report-6.pp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8D5C940-C800-4420-B5F7-1CB7BEFDE7F8}" type="slidenum">
              <a:t>1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Working Group for Wireless Personal Area Networks</a:t>
            </a:r>
            <a:endParaRPr b="0" lang="en-US" sz="4000" spc="-1" strike="noStrike">
              <a:solidFill>
                <a:srgbClr val="000000"/>
              </a:solidFill>
              <a:latin typeface="Times New Roman"/>
            </a:endParaRPr>
          </a:p>
        </p:txBody>
      </p:sp>
      <p:sp>
        <p:nvSpPr>
          <p:cNvPr id="50" name="PlaceHolder 2"/>
          <p:cNvSpPr>
            <a:spLocks noGrp="1"/>
          </p:cNvSpPr>
          <p:nvPr>
            <p:ph type="subTitle"/>
          </p:nvPr>
        </p:nvSpPr>
        <p:spPr>
          <a:xfrm>
            <a:off x="1371600" y="35809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 #7</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000 Seattle, WA USA</a:t>
            </a:r>
            <a:endParaRPr b="0" lang="en-US" sz="3200" spc="-1" strike="noStrike">
              <a:solidFill>
                <a:srgbClr val="000000"/>
              </a:solidFill>
              <a:latin typeface="Times New Roman"/>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843832D-B83A-40A0-BF24-9CCB78ABC0D8}"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Objec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Summ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Negoti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Observa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5CA4C45-AE29-4E16-9EC0-439B108F4624}"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82300B5-C087-4DDF-897C-0D3AD2991C77}"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Liaison List</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pecial Interest Group (Kardach/Bisdikian)</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1 (Kerry)</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6 (RogerM )</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a:t>
            </a:r>
            <a:endParaRPr b="0" lang="en-US" sz="1800" spc="-1" strike="noStrike">
              <a:solidFill>
                <a:srgbClr val="000000"/>
              </a:solidFill>
              <a:latin typeface="Times New Roman"/>
            </a:endParaRPr>
          </a:p>
          <a:p>
            <a:pPr lvl="2" marL="1053000" indent="-2214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 Activities, Standards Publishing Programs (Tatiner, McCabe, Gargiulo)</a:t>
            </a:r>
            <a:endParaRPr b="0" lang="en-US" sz="1600" spc="-1" strike="noStrike">
              <a:solidFill>
                <a:srgbClr val="000000"/>
              </a:solidFill>
              <a:latin typeface="Times New Roman"/>
            </a:endParaRPr>
          </a:p>
          <a:p>
            <a:pPr lvl="2" marL="1053000" indent="-2214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Standards Dept., Balloting Center (Pribula)</a:t>
            </a:r>
            <a:endParaRPr b="0" lang="en-US" sz="16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G2 Coexistence Letter to Academia (Shellhammer)</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Imaging Group (Allen)</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A (DiCillo)</a:t>
            </a:r>
            <a:endParaRPr b="0" lang="en-US" sz="1800" spc="-1" strike="noStrike">
              <a:solidFill>
                <a:srgbClr val="000000"/>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active Liaison List</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 (Lindinsky)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2 (Carls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 Forum WATM (Delavers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SRC (Kurihara)</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 BRAN Project (Khun-Jush/Watanab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meRF Working Group (Manny)</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TF MobileIP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rDA (McKay)</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WBWG (Withingt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P Forum (Parrish)</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Liaisons?</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3EC139D9-0888-4923-B0B9-076B2766CD5A}" type="slidenum">
              <a:t>5</a:t>
            </a:fld>
          </a:p>
        </p:txBody>
      </p:sp>
      <p:sp>
        <p:nvSpPr>
          <p:cNvPr id="7" name="PlaceHolder 6"/>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8F595A1-4613-4E0F-AC1C-A8B83171C189}"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lecon &amp; Meetings</a:t>
            </a:r>
            <a:endParaRPr b="0" lang="en-US" sz="16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Mar00 Bluetooth-IEEE Telecon on post Alb., NM</a:t>
            </a:r>
            <a:endParaRPr b="0" lang="en-US" sz="14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Mar00 Bluetooth-IEEE IEEE/RAC Telecon</a:t>
            </a:r>
            <a:endParaRPr b="0" lang="en-US" sz="14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pr00 Bluetooth-IEEE Telecon on MARCOM</a:t>
            </a:r>
            <a:endParaRPr b="0" lang="en-US" sz="14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May00 Bluetooth/IEEE Telecon on MARCOM</a:t>
            </a:r>
            <a:endParaRPr b="0" lang="en-US" sz="1400" spc="-1" strike="noStrike">
              <a:solidFill>
                <a:srgbClr val="000000"/>
              </a:solidFill>
              <a:latin typeface="Times New Roman"/>
            </a:endParaRPr>
          </a:p>
          <a:p>
            <a:pPr marL="315360" indent="-3153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to Bluetooth SIG</a:t>
            </a:r>
            <a:endParaRPr b="0" lang="en-US" sz="16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Mar00, 5May00 Follow up on Copyright</a:t>
            </a:r>
            <a:endParaRPr b="0" lang="en-US" sz="14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pr00 Follow up on Bluetooth v1.0 C (v1.1)</a:t>
            </a:r>
            <a:endParaRPr b="0" lang="en-US" sz="14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pr00 LB1/2 Reply Comments (-99/173r6)</a:t>
            </a:r>
            <a:endParaRPr b="0" lang="en-US" sz="14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Apr00 Bluetooth Pocket Guide Contract</a:t>
            </a:r>
            <a:endParaRPr b="0" lang="en-US" sz="1400" spc="-1" strike="noStrike">
              <a:solidFill>
                <a:srgbClr val="000000"/>
              </a:solidFill>
              <a:latin typeface="Times New Roman"/>
            </a:endParaRPr>
          </a:p>
          <a:p>
            <a:pPr marL="315360" indent="-3153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from Bluetooth SIG</a:t>
            </a:r>
            <a:endParaRPr b="0" lang="en-US" sz="16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pr00 Copyright</a:t>
            </a:r>
            <a:endParaRPr b="0" lang="en-US" sz="14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pr00 Bluetooth Pocket Guide Contract</a:t>
            </a:r>
            <a:endParaRPr b="0" lang="en-US" sz="1400" spc="-1" strike="noStrike">
              <a:solidFill>
                <a:srgbClr val="000000"/>
              </a:solidFill>
              <a:latin typeface="Times New Roman"/>
            </a:endParaRPr>
          </a:p>
          <a:p>
            <a:pPr marL="315360" indent="-3153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Steps</a:t>
            </a:r>
            <a:endParaRPr b="0" lang="en-US" sz="16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 v1.0 C (v1.1)</a:t>
            </a:r>
            <a:endParaRPr b="0" lang="en-US" sz="14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MAN 802.15 Balloting Pool</a:t>
            </a:r>
            <a:endParaRPr b="0" lang="en-US" sz="14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 SIGnal Issue No.6, 7, etc.</a:t>
            </a:r>
            <a:endParaRPr b="0" lang="en-US" sz="1400" spc="-1" strike="noStrike">
              <a:solidFill>
                <a:srgbClr val="000000"/>
              </a:solidFill>
              <a:latin typeface="Times New Roman"/>
            </a:endParaRPr>
          </a:p>
          <a:p>
            <a:pPr lvl="1" marL="683280" indent="-2628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 and the IEEE Pocket Guides</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0D3FBB4-06A8-4B7C-BC31-D50DAD55133F}" type="slidenum">
              <a:t>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F733CB9-F4BC-46E4-BB40-7EBDE6E6093E}" type="slidenum">
              <a:t>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 Report</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con &amp; Meetings</a:t>
            </a:r>
            <a:endParaRPr b="0" lang="en-US" sz="2800" spc="-1" strike="noStrike">
              <a:solidFill>
                <a:srgbClr val="000000"/>
              </a:solidFill>
              <a:latin typeface="Times New Roman"/>
            </a:endParaRPr>
          </a:p>
          <a:p>
            <a:pPr lvl="1" marL="705600" indent="-2714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cellaneous</a:t>
            </a:r>
            <a:endParaRPr b="0" lang="en-US" sz="2400" spc="-1" strike="noStrike">
              <a:solidFill>
                <a:srgbClr val="000000"/>
              </a:solidFill>
              <a:latin typeface="Times New Roman"/>
            </a:endParaRPr>
          </a:p>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to 802.11</a:t>
            </a:r>
            <a:endParaRPr b="0" lang="en-US" sz="2800" spc="-1" strike="noStrike">
              <a:solidFill>
                <a:srgbClr val="000000"/>
              </a:solidFill>
              <a:latin typeface="Times New Roman"/>
            </a:endParaRPr>
          </a:p>
          <a:p>
            <a:pPr lvl="1" marL="705600" indent="-2714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cellaneous</a:t>
            </a:r>
            <a:endParaRPr b="0" lang="en-US" sz="2400" spc="-1" strike="noStrike">
              <a:solidFill>
                <a:srgbClr val="000000"/>
              </a:solidFill>
              <a:latin typeface="Times New Roman"/>
            </a:endParaRPr>
          </a:p>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from 802.11</a:t>
            </a:r>
            <a:endParaRPr b="0" lang="en-US" sz="2800" spc="-1" strike="noStrike">
              <a:solidFill>
                <a:srgbClr val="000000"/>
              </a:solidFill>
              <a:latin typeface="Times New Roman"/>
            </a:endParaRPr>
          </a:p>
          <a:p>
            <a:pPr lvl="1" marL="705600" indent="-2714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cellaneous</a:t>
            </a:r>
            <a:endParaRPr b="0" lang="en-US" sz="2400" spc="-1" strike="noStrike">
              <a:solidFill>
                <a:srgbClr val="000000"/>
              </a:solidFill>
              <a:latin typeface="Times New Roman"/>
            </a:endParaRPr>
          </a:p>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s</a:t>
            </a:r>
            <a:endParaRPr b="0" lang="en-US" sz="2800" spc="-1" strike="noStrike">
              <a:solidFill>
                <a:srgbClr val="000000"/>
              </a:solidFill>
              <a:latin typeface="Times New Roman"/>
            </a:endParaRPr>
          </a:p>
          <a:p>
            <a:pPr lvl="1" marL="705600" indent="-2714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00 Interim Meeting in Scottsdale, AZ Venue doc?</a:t>
            </a:r>
            <a:endParaRPr b="0" lang="en-US" sz="2400" spc="-1" strike="noStrike">
              <a:solidFill>
                <a:srgbClr val="000000"/>
              </a:solidFill>
              <a:latin typeface="Times New Roman"/>
            </a:endParaRPr>
          </a:p>
          <a:p>
            <a:pPr lvl="1" marL="705600" indent="-2714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01 Interim Meeting?  Venue doc?</a:t>
            </a:r>
            <a:endParaRPr b="0" lang="en-US" sz="2400" spc="-1" strike="noStrike">
              <a:solidFill>
                <a:srgbClr val="000000"/>
              </a:solidFill>
              <a:latin typeface="Times New Roman"/>
            </a:endParaRPr>
          </a:p>
          <a:p>
            <a:pPr lvl="1" marL="705600" indent="-2714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01 Interim Meeting? Venue doc?</a:t>
            </a:r>
            <a:endParaRPr b="0" lang="en-US" sz="2400" spc="-1" strike="noStrike">
              <a:solidFill>
                <a:srgbClr val="000000"/>
              </a:solidFill>
              <a:latin typeface="Times New Roman"/>
            </a:endParaRPr>
          </a:p>
          <a:p>
            <a:pPr lvl="1" marL="705600" indent="-2714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MAN 802.15 Balloting Poo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D7FFFAE-5007-4161-8F53-41F20B60F1A4}" type="slidenum">
              <a:t>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Gifford</dc:creator>
  <dc:description>Ian Gifford, M/A-COM</dc:description>
  <cp:keywords>May 2000</cp:keywords>
  <dc:language>en-US</dc:language>
  <cp:lastModifiedBy>Ian C. Gifford</cp:lastModifiedBy>
  <cp:lastPrinted>1998-02-10T13:28:06Z</cp:lastPrinted>
  <dcterms:modified xsi:type="dcterms:W3CDTF">2000-05-06T05:07:08Z</dcterms:modified>
  <cp:revision>221</cp:revision>
  <dc:subject>#7</dc:subject>
  <dc:title>Liaison Report</dc:title>
</cp:coreProperties>
</file>