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209C2-D052-4815-890F-999E0CA7A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42DF-94D5-49E4-B97C-1888DF556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6D333-D3A3-4448-8D53-041617ABF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FC18F-5A0D-4554-AC51-939A74627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8352A-6907-4748-87ED-3A48E89B8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AE473-D931-4848-9A49-F40E7B194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2CE50-A30B-453E-8645-F64B2026D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08277-8ACB-406A-8090-1267B150F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20FEB-D22B-42BA-B5CC-551A3ACAF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E18A0-CDA5-4EB1-8F7B-317E99878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6E5FA-1ABF-4F5C-9B4F-B87FCD42E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2726-83CB-447D-B150-4EFD28D65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390DB7-B0F4-4984-BFA0-73C852B5A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629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2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942C25CD-F9C1-4F22-B03A-6D0CF7ED73D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69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 Handbook, A Designer’s Companion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May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99/031r4, -00/057r0, etc.; this doc was –00/031r0 for awhile now it is –00/102r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IEEE Handbook, A Designer’s Companion will complement the IEEE P802.15.1 Std.]</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purpose of the IEEE Handbook, A Designer’s Companion Report is to advise the MC as to the progress of the IEEE Standards Publishing Programs with the IEEE Handbook, A Designer’s Compan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tential Author – Ian Gifford</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n Gifford was born in Framingham, Massachusetts, USA.  He received a Bachelors in Economics from Boston University, Boston Massachusetts, USA, in 1981.  He is Director of Standards at M/A-COM, Inc., a Tyco Electronics Company, in Lowell, Massachusetts, USA. For the past 15 years he has worked on wireless solutions for wide area, local area and personal area networks.  Additionally, he is an active member in a number of Standards Development Organization's e.g., ITU-R, TIA, and Committee T1 as well as a few Industry Special Interest Groups and Alliances e.g., Bluetooth(TM) Special Interest Group, etc.  He is also currently Vice Chair of the IEEE P802.15 Working Group for WPANs.  His e-mail address is giffordi@tycoelectronics.co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328C043-1225-4092-836B-BF3730DCA017}"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andbook: A Designer’s Companion Overview</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200 pag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P: $6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Mbr: $48.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Sie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n Giffor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80211h" descr=""/>
          <p:cNvPicPr/>
          <p:nvPr/>
        </p:nvPicPr>
        <p:blipFill>
          <a:blip r:embed="rId1"/>
          <a:stretch/>
        </p:blipFill>
        <p:spPr>
          <a:xfrm>
            <a:off x="6172200" y="1814400"/>
            <a:ext cx="2130480" cy="3405240"/>
          </a:xfrm>
          <a:prstGeom prst="rect">
            <a:avLst/>
          </a:prstGeom>
          <a:ln w="0">
            <a:noFill/>
          </a:ln>
        </p:spPr>
      </p:pic>
      <p:grpSp>
        <p:nvGrpSpPr>
          <p:cNvPr id="91" name=""/>
          <p:cNvGrpSpPr/>
          <p:nvPr/>
        </p:nvGrpSpPr>
        <p:grpSpPr>
          <a:xfrm>
            <a:off x="7315200" y="1690560"/>
            <a:ext cx="1706400" cy="1190880"/>
            <a:chOff x="7315200" y="1690560"/>
            <a:chExt cx="1706400" cy="1190880"/>
          </a:xfrm>
        </p:grpSpPr>
        <p:sp>
          <p:nvSpPr>
            <p:cNvPr id="92" name=""/>
            <p:cNvSpPr/>
            <p:nvPr/>
          </p:nvSpPr>
          <p:spPr>
            <a:xfrm>
              <a:off x="7315200" y="1967040"/>
              <a:ext cx="1066680" cy="914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231400" y="169056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15</a:t>
              </a:r>
              <a:endParaRPr b="0" lang="en-US" sz="4800" spc="-1" strike="noStrike">
                <a:solidFill>
                  <a:srgbClr val="000000"/>
                </a:solidFill>
                <a:latin typeface="Times New Roman"/>
              </a:endParaRPr>
            </a:p>
          </p:txBody>
        </p:sp>
      </p:gr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26AAEC3-3DAB-4906-A2E6-F6651A442C0C}"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andbook: Abstract</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EEE 802.15 Handbook: A Designer's Companion familiarizes system network architects, hardware engineers and software engineers with the basic concepts, terminology and key specifications of the IEEE 802.15 standard-serving as an indispensable prim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32ABFAB-5405-44C4-8D6B-E1A132A8CBE6}"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andbook: Introductio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ook takes the reader from a basic understanding of WPANs through the details of the PHY and MAC layer of the standard. The author(s) articulates a clear picture of the standard to both first-time and experienced designers of wireless products. So if you're a new market entrant or an existing original equipment manufacturer (OEM) of proprietary WPAN solutions and you're developing IEEE 802.15 based products for the RF WPAN market, this book is for yo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D464A5B-3ED0-49E9-A480-F51506755F92}"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andbook: Overview</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book, you wi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e a solid working definition of a Wireless P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the evolution of the 802.15 stand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the various market segment applications, ranging from manufacturing to enterprise wireless commun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265F8E7-8BFA-422B-846B-BFE59A9AA1ED}"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andbook: </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more, A Designer's Companion, covers in detail:</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network topologies of a Piconet and Scatternet for an IEEE 802.15 wireless mediu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specifications and attributes of the  physical layer specified in the standard</a:t>
            </a:r>
            <a:endParaRPr b="0" lang="en-US" sz="1800" spc="-1" strike="noStrike">
              <a:solidFill>
                <a:srgbClr val="000000"/>
              </a:solidFill>
              <a:latin typeface="Arial"/>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based on FH-CDMA. </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2.45 GHz ISM band, a set of 79 hop carriers have been defined at a 1 MHz spacing</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s of the protocol relative to the Piconet and Scatternet configuration, including the MAC layer-the most difficult entity in the standar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e book outlines the world regulatory bodies requiring certification for operating IEEE 802.15 conformant products in the 2.4 GHz ISM frequency ban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2D464BC-2BB7-4FC3-BCCE-E21925652FF9}"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endParaRPr b="0" lang="en-US" sz="32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ommitte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andbook, A Designer’s Companion </a:t>
            </a:r>
            <a:r>
              <a:rPr b="0" lang="en-US" sz="3200" spc="-1" strike="noStrike">
                <a:solidFill>
                  <a:srgbClr val="000000"/>
                </a:solidFill>
                <a:latin typeface="Arial"/>
              </a:rPr>
              <a:t>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0 Seattle, WA USA</a:t>
            </a:r>
            <a:endParaRPr b="0" lang="en-US" sz="3200" spc="-1" strike="noStrike">
              <a:solidFill>
                <a:srgbClr val="000000"/>
              </a:solidFill>
              <a:latin typeface="Arial"/>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03399B1-7E22-4636-A8CC-8D5F2D7B8DEB}"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has been granted a limited, non-exclusive, non-transferable license from Bluetooth™ SIG to adopt or adapt and copy a portion of the Bluetooth™ Specification Version 1.0 Foundation to be used as base material in the IEEE Standards Project P802.15.1 </a:t>
            </a:r>
            <a:endParaRPr b="0" lang="en-US" sz="1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ublish the 802.15.1 Std in early 2001</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ants to publish additional collateral in support of the 802.15.1 St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5.1 Designer’s Compan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Bluetooth</a:t>
            </a:r>
            <a:r>
              <a:rPr b="0" lang="en-US" sz="1800" spc="-1" strike="noStrike">
                <a:solidFill>
                  <a:srgbClr val="000000"/>
                </a:solidFill>
                <a:latin typeface="Arial"/>
                <a:ea typeface="Arial"/>
              </a:rPr>
              <a:t>™</a:t>
            </a:r>
            <a:r>
              <a:rPr b="0" lang="en-US" sz="1800" spc="-1" strike="noStrike">
                <a:solidFill>
                  <a:srgbClr val="000000"/>
                </a:solidFill>
                <a:latin typeface="Arial"/>
              </a:rPr>
              <a:t> Pocket Guid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uetooth</a:t>
            </a:r>
            <a:r>
              <a:rPr b="0" lang="en-US" sz="1800" spc="-1" strike="noStrike">
                <a:solidFill>
                  <a:srgbClr val="000000"/>
                </a:solidFill>
                <a:latin typeface="Arial"/>
                <a:ea typeface="Arial"/>
              </a:rPr>
              <a:t>™ SIG is working with the IEEE </a:t>
            </a:r>
            <a:r>
              <a:rPr b="0" lang="en-US" sz="1800" spc="-1" strike="noStrike">
                <a:solidFill>
                  <a:srgbClr val="000000"/>
                </a:solidFill>
                <a:latin typeface="Arial"/>
              </a:rPr>
              <a:t>Standards Publishing Programs</a:t>
            </a:r>
            <a:r>
              <a:rPr b="0" lang="en-US" sz="1800" spc="-1" strike="noStrike">
                <a:solidFill>
                  <a:srgbClr val="000000"/>
                </a:solidFill>
                <a:latin typeface="Arial"/>
                <a:ea typeface="Arial"/>
              </a:rPr>
              <a:t> to publish a</a:t>
            </a:r>
            <a:r>
              <a:rPr b="0" lang="en-US" sz="1800" spc="-1" strike="noStrike">
                <a:solidFill>
                  <a:srgbClr val="000000"/>
                </a:solidFill>
                <a:latin typeface="Arial"/>
              </a:rPr>
              <a:t> Pocket Guide based on the Bluetooth</a:t>
            </a:r>
            <a:r>
              <a:rPr b="0" lang="en-US" sz="1800" spc="-1" strike="noStrike">
                <a:solidFill>
                  <a:srgbClr val="000000"/>
                </a:solidFill>
                <a:latin typeface="Arial"/>
                <a:ea typeface="Arial"/>
              </a:rPr>
              <a:t>™ Version 1.0 Foundation </a:t>
            </a:r>
            <a:r>
              <a:rPr b="0" lang="en-US" sz="1800" spc="-1" strike="noStrike">
                <a:solidFill>
                  <a:srgbClr val="000000"/>
                </a:solidFill>
                <a:latin typeface="Arial"/>
              </a:rPr>
              <a:t>Core &amp; Profiles Specification for the Fall 2000.  It will be ~150pg.  Therefore, there will be a Pocket Guide(s).  The question is there a reason for a Designer’s Companion on the Std. to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ibution is assuming a Designer’s Companion is need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44F50A4-FC80-4FFA-AFD1-95D222C241F3}"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365200" y="1949400"/>
            <a:ext cx="2130480" cy="2981520"/>
          </a:xfrm>
          <a:prstGeom prst="rect">
            <a:avLst/>
          </a:prstGeom>
          <a:ln w="9360">
            <a:solidFill>
              <a:srgbClr val="000000"/>
            </a:solidFill>
            <a:miter/>
          </a:ln>
        </p:spPr>
      </p:pic>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s 1522 Pages</a:t>
            </a:r>
            <a:br>
              <a:rPr sz="3600"/>
            </a:br>
            <a:r>
              <a:rPr b="0" lang="en-US" sz="3600" spc="-1" strike="noStrike">
                <a:solidFill>
                  <a:srgbClr val="000000"/>
                </a:solidFill>
                <a:latin typeface="Times New Roman"/>
              </a:rPr>
              <a:t>IEEE Standard 617 (D0.7) Pages</a:t>
            </a:r>
            <a:endParaRPr b="0" lang="en-US" sz="3600" spc="-1" strike="noStrike">
              <a:solidFill>
                <a:srgbClr val="000000"/>
              </a:solidFill>
              <a:latin typeface="Times New Roman"/>
            </a:endParaRPr>
          </a:p>
        </p:txBody>
      </p:sp>
      <p:pic>
        <p:nvPicPr>
          <p:cNvPr id="56" name="" descr=""/>
          <p:cNvPicPr/>
          <p:nvPr/>
        </p:nvPicPr>
        <p:blipFill>
          <a:blip r:embed="rId2"/>
          <a:stretch/>
        </p:blipFill>
        <p:spPr>
          <a:xfrm>
            <a:off x="380880" y="2057400"/>
            <a:ext cx="2121120" cy="2975040"/>
          </a:xfrm>
          <a:prstGeom prst="rect">
            <a:avLst/>
          </a:prstGeom>
          <a:ln w="9360">
            <a:solidFill>
              <a:srgbClr val="000000"/>
            </a:solidFill>
            <a:miter/>
          </a:ln>
        </p:spPr>
      </p:pic>
      <p:pic>
        <p:nvPicPr>
          <p:cNvPr id="57" name="" descr=""/>
          <p:cNvPicPr/>
          <p:nvPr/>
        </p:nvPicPr>
        <p:blipFill>
          <a:blip r:embed="rId3"/>
          <a:stretch/>
        </p:blipFill>
        <p:spPr>
          <a:xfrm>
            <a:off x="6240600" y="2057400"/>
            <a:ext cx="2293920" cy="2962440"/>
          </a:xfrm>
          <a:prstGeom prst="rect">
            <a:avLst/>
          </a:prstGeom>
          <a:ln w="9360">
            <a:solidFill>
              <a:srgbClr val="000000"/>
            </a:solidFill>
            <a:miter/>
          </a:ln>
        </p:spPr>
      </p:pic>
      <p:sp>
        <p:nvSpPr>
          <p:cNvPr id="58" name=""/>
          <p:cNvSpPr/>
          <p:nvPr/>
        </p:nvSpPr>
        <p:spPr>
          <a:xfrm>
            <a:off x="469440" y="502920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082</a:t>
            </a:r>
            <a:endParaRPr b="0" lang="en-US" sz="1800" spc="-1" strike="noStrike">
              <a:solidFill>
                <a:srgbClr val="000000"/>
              </a:solidFill>
              <a:latin typeface="Times New Roman"/>
            </a:endParaRPr>
          </a:p>
        </p:txBody>
      </p:sp>
      <p:sp>
        <p:nvSpPr>
          <p:cNvPr id="59" name=""/>
          <p:cNvSpPr/>
          <p:nvPr/>
        </p:nvSpPr>
        <p:spPr>
          <a:xfrm>
            <a:off x="2437920" y="492120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440</a:t>
            </a:r>
            <a:endParaRPr b="0" lang="en-US" sz="1800" spc="-1" strike="noStrike">
              <a:solidFill>
                <a:srgbClr val="000000"/>
              </a:solidFill>
              <a:latin typeface="Times New Roman"/>
            </a:endParaRPr>
          </a:p>
        </p:txBody>
      </p:sp>
      <p:sp>
        <p:nvSpPr>
          <p:cNvPr id="60" name=""/>
          <p:cNvSpPr/>
          <p:nvPr/>
        </p:nvSpPr>
        <p:spPr>
          <a:xfrm>
            <a:off x="6477120" y="49975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5.1 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617 (D0.7)</a:t>
            </a:r>
            <a:endParaRPr b="0" lang="en-US" sz="1800" spc="-1" strike="noStrike">
              <a:solidFill>
                <a:srgbClr val="000000"/>
              </a:solidFill>
              <a:latin typeface="Times New Roman"/>
            </a:endParaRPr>
          </a:p>
        </p:txBody>
      </p:sp>
      <p:sp>
        <p:nvSpPr>
          <p:cNvPr id="61"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documents are very detailed and offer an unparalleled source of information on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Technology.  However, additional collateral help with technology adop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C7FD114-BCA4-4F2F-A75B-6FD9FE68AD4C}"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EEE Handbook will offer a complement to the P802.15.1 Std.</a:t>
            </a:r>
            <a:endParaRPr b="0" lang="en-US" sz="3600" spc="-1" strike="noStrike">
              <a:solidFill>
                <a:srgbClr val="000000"/>
              </a:solidFill>
              <a:latin typeface="Times New Roman"/>
            </a:endParaRPr>
          </a:p>
        </p:txBody>
      </p:sp>
      <p:sp>
        <p:nvSpPr>
          <p:cNvPr id="63" name=""/>
          <p:cNvSpPr/>
          <p:nvPr/>
        </p:nvSpPr>
        <p:spPr>
          <a:xfrm>
            <a:off x="609480" y="304812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 descr=""/>
          <p:cNvPicPr/>
          <p:nvPr/>
        </p:nvPicPr>
        <p:blipFill>
          <a:blip r:embed="rId1"/>
          <a:stretch/>
        </p:blipFill>
        <p:spPr>
          <a:xfrm>
            <a:off x="7238880" y="2362320"/>
            <a:ext cx="978120" cy="1371600"/>
          </a:xfrm>
          <a:prstGeom prst="rect">
            <a:avLst/>
          </a:prstGeom>
          <a:ln w="9360">
            <a:solidFill>
              <a:srgbClr val="000000"/>
            </a:solidFill>
            <a:miter/>
          </a:ln>
        </p:spPr>
      </p:pic>
      <p:sp>
        <p:nvSpPr>
          <p:cNvPr id="65" name=""/>
          <p:cNvSpPr/>
          <p:nvPr/>
        </p:nvSpPr>
        <p:spPr>
          <a:xfrm>
            <a:off x="6737760" y="1711440"/>
            <a:ext cx="1904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Pages</a:t>
            </a:r>
            <a:endParaRPr b="0" lang="en-US" sz="1800" spc="-1" strike="noStrike">
              <a:solidFill>
                <a:srgbClr val="000000"/>
              </a:solidFill>
              <a:latin typeface="Times New Roman"/>
            </a:endParaRPr>
          </a:p>
        </p:txBody>
      </p:sp>
      <p:sp>
        <p:nvSpPr>
          <p:cNvPr id="66" name=""/>
          <p:cNvSpPr/>
          <p:nvPr/>
        </p:nvSpPr>
        <p:spPr>
          <a:xfrm>
            <a:off x="134640" y="1720800"/>
            <a:ext cx="180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Complex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Pages</a:t>
            </a:r>
            <a:endParaRPr b="0" lang="en-US" sz="1800" spc="-1" strike="noStrike">
              <a:solidFill>
                <a:srgbClr val="000000"/>
              </a:solidFill>
              <a:latin typeface="Times New Roman"/>
            </a:endParaRPr>
          </a:p>
        </p:txBody>
      </p:sp>
      <p:sp>
        <p:nvSpPr>
          <p:cNvPr id="67" name=""/>
          <p:cNvSpPr/>
          <p:nvPr/>
        </p:nvSpPr>
        <p:spPr>
          <a:xfrm>
            <a:off x="5029200" y="2209680"/>
            <a:ext cx="1523880" cy="160020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book, 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a:t>
            </a:r>
            <a:endParaRPr b="0" lang="en-US" sz="1800" spc="-1" strike="noStrike">
              <a:solidFill>
                <a:srgbClr val="000000"/>
              </a:solidFill>
              <a:latin typeface="Times New Roman"/>
            </a:endParaRPr>
          </a:p>
        </p:txBody>
      </p:sp>
      <p:sp>
        <p:nvSpPr>
          <p:cNvPr id="68" name=""/>
          <p:cNvSpPr/>
          <p:nvPr/>
        </p:nvSpPr>
        <p:spPr>
          <a:xfrm>
            <a:off x="2819520" y="2209680"/>
            <a:ext cx="1523880" cy="160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ck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ides</a:t>
            </a:r>
            <a:endParaRPr b="0" lang="en-US" sz="2000" spc="-1" strike="noStrike">
              <a:solidFill>
                <a:srgbClr val="000000"/>
              </a:solidFill>
              <a:latin typeface="Times New Roman"/>
            </a:endParaRPr>
          </a:p>
        </p:txBody>
      </p:sp>
      <p:sp>
        <p:nvSpPr>
          <p:cNvPr id="69" name=""/>
          <p:cNvSpPr/>
          <p:nvPr/>
        </p:nvSpPr>
        <p:spPr>
          <a:xfrm>
            <a:off x="609480" y="4800600"/>
            <a:ext cx="7925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029200" y="3962520"/>
            <a:ext cx="1523880" cy="160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boo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n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1" name="" descr=""/>
          <p:cNvPicPr/>
          <p:nvPr/>
        </p:nvPicPr>
        <p:blipFill>
          <a:blip r:embed="rId2"/>
          <a:stretch/>
        </p:blipFill>
        <p:spPr>
          <a:xfrm>
            <a:off x="7245360" y="4116240"/>
            <a:ext cx="1060560" cy="1370160"/>
          </a:xfrm>
          <a:prstGeom prst="rect">
            <a:avLst/>
          </a:prstGeom>
          <a:ln w="9360">
            <a:solidFill>
              <a:srgbClr val="000000"/>
            </a:solidFill>
            <a:miter/>
          </a:ln>
        </p:spPr>
      </p:pic>
      <p:pic>
        <p:nvPicPr>
          <p:cNvPr id="72" name="bluetooth" descr=""/>
          <p:cNvPicPr/>
          <p:nvPr/>
        </p:nvPicPr>
        <p:blipFill>
          <a:blip r:embed="rId3"/>
          <a:stretch/>
        </p:blipFill>
        <p:spPr>
          <a:xfrm>
            <a:off x="76320" y="2438280"/>
            <a:ext cx="1663560" cy="412920"/>
          </a:xfrm>
          <a:prstGeom prst="rect">
            <a:avLst/>
          </a:prstGeom>
          <a:ln w="0">
            <a:noFill/>
          </a:ln>
        </p:spPr>
      </p:pic>
      <p:pic>
        <p:nvPicPr>
          <p:cNvPr id="73" name="smllieee" descr=""/>
          <p:cNvPicPr/>
          <p:nvPr/>
        </p:nvPicPr>
        <p:blipFill>
          <a:blip r:embed="rId4"/>
          <a:stretch/>
        </p:blipFill>
        <p:spPr>
          <a:xfrm>
            <a:off x="617400" y="3809880"/>
            <a:ext cx="754200" cy="857520"/>
          </a:xfrm>
          <a:prstGeom prst="rect">
            <a:avLst/>
          </a:prstGeom>
          <a:ln w="0">
            <a:noFill/>
          </a:ln>
        </p:spPr>
      </p:pic>
      <p:sp>
        <p:nvSpPr>
          <p:cNvPr id="74" name=""/>
          <p:cNvSpPr/>
          <p:nvPr/>
        </p:nvSpPr>
        <p:spPr>
          <a:xfrm>
            <a:off x="304920" y="5638680"/>
            <a:ext cx="8534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llateral that will help with technology adoption could take the form of Design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ion or Handbook.  Which will be a ~200 page book that complements the St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CBF6648-46F0-4A00-A311-2829391C4BE3}"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Handbook Report</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con &amp; Meeting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s to IEE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s from IEE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IEEE PRESS STANDARDS INFORMATION NETWORK Proposal Specifica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Copyright License Agreement to BSI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BSIG Ment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ublication Schedule w/ IEEE</a:t>
            </a:r>
            <a:endParaRPr b="0" lang="en-US" sz="1800" spc="-1" strike="noStrike">
              <a:solidFill>
                <a:srgbClr val="000000"/>
              </a:solidFill>
              <a:latin typeface="Arial"/>
            </a:endParaRPr>
          </a:p>
        </p:txBody>
      </p:sp>
      <p:pic>
        <p:nvPicPr>
          <p:cNvPr id="77" name="80211h" descr=""/>
          <p:cNvPicPr/>
          <p:nvPr/>
        </p:nvPicPr>
        <p:blipFill>
          <a:blip r:embed="rId1"/>
          <a:stretch/>
        </p:blipFill>
        <p:spPr>
          <a:xfrm>
            <a:off x="6837480" y="1905120"/>
            <a:ext cx="1315800" cy="2103480"/>
          </a:xfrm>
          <a:prstGeom prst="rect">
            <a:avLst/>
          </a:prstGeom>
          <a:ln w="0">
            <a:noFill/>
          </a:ln>
        </p:spPr>
      </p:pic>
      <p:sp>
        <p:nvSpPr>
          <p:cNvPr id="78" name=""/>
          <p:cNvSpPr/>
          <p:nvPr/>
        </p:nvSpPr>
        <p:spPr>
          <a:xfrm flipH="1" flipV="1">
            <a:off x="7651800" y="1981080"/>
            <a:ext cx="457200" cy="533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033760" y="204804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5.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2C0C3DE-18D1-4688-939C-08C71163D9B5}"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Handbook, A Designer’s Companion Report</a:t>
            </a:r>
            <a:endParaRPr b="0" lang="en-US" sz="3600" spc="-1" strike="noStrike">
              <a:solidFill>
                <a:srgbClr val="000000"/>
              </a:solidFill>
              <a:latin typeface="Times New Roman"/>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953E6BA-46AE-4330-BCD2-C660F80CD586}"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tential Source Information</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1 St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ersion 1.0 B Specification Foundation Core (C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ersion 1.0 B Specification Foundation Profiles (Profi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Marketing Requirements Document (M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Qualification Program Reference Document (P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F463464-16EB-431C-AF16-379E9E59A7CC}"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tential Author – Tom Siep</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Siep was born in Denver, Colorado, USA. He is a Group Member Technical Staff in the Wireless Communications Business Unit of Texas Instruments.  He has responsibility for coordinating Short Distance Wireless communications Research and Development.  Tom earned a Bachelors degree in Management from the University of California at Fullerton and a Masters in Information Systems from the University of Texas at Dallas.  He has twenty-five years experience in many facets of communications and information systems.  In the last fifteen years Tom has championed the cause of Local Area and Personal Area Wireless communications at TI by providing technical leadership in the implementation of several pilot wireless communications systems for TI customers and through his IEEE Standards participation. He is also currently the Chief Technical Editor for the IEEE P802.15 standardization of portions of the Bluetooth(TM) Specification. His e-mail address is siep@ti.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AB87D90-3DCD-4C1C-91DF-898F099DFF8E}"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00/123r0</dc:description>
  <dc:language>en-US</dc:language>
  <cp:lastModifiedBy>Ian C. Gifford</cp:lastModifiedBy>
  <cp:lastPrinted>1998-02-10T13:28:06Z</cp:lastPrinted>
  <dcterms:modified xsi:type="dcterms:W3CDTF">2000-05-05T18:25:25Z</dcterms:modified>
  <cp:revision>132</cp:revision>
  <dc:subject>MC IEEE Handbook Report for TG1</dc:subject>
  <dc:title>IEEE P802.15 Working Group for Wireless Personal Area Networks</dc:title>
</cp:coreProperties>
</file>