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5D650-FAB8-44E1-A4F6-B9B1A9216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415AB-5623-4051-B6BF-012483A4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AD494-D1AE-413E-A4B1-D8680192D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7E966-5B65-4475-BEE5-5120710A0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94D00-C04F-40D4-B0C3-CFEBFC444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5EFC5-EE39-41B5-8709-DCBC65CD9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2DEC0-AF43-47B9-B41B-71D7FB27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17D0E-C2DF-45BF-A7F2-D18FAC6E1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F874A-1D85-4D1D-A423-979EACD0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A25B-CC16-4492-B3E1-6147E298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1AA5-0502-417A-BC42-B0D80AE4C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FE294-D1B7-4723-A513-B14137632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6EBBDB-04F4-42F9-8E8C-43F4EBDF7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2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E7B9AB1-ECC3-46F7-879F-5897F89F85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4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MC IEEE ComSoc Pitch 8Jun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Canned pitch]</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following IEEE ComSoc Boston Chapter talk will provide the meeting participants with a short update on the emerging industry of Wireless Personal Area Network technologies e.g., Bluetooth(TM) Special Interest Group, HomeRF(TM), etc. and the parallel standards-making efforts that are deriving or creating the standards inside the IEEE.   Wireless Personal Area Networks will proliferate early in the millennium and the IEEE P802.15 Working Group for Wireless Personal Area Networks (WPAN's) will provide the leadership in the IEEE 802 Standards Committees to establish open standards for these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Personal Area Networks: Technology and Standards</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ComSoc Boston Chapter</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8, 2000 Waltham, MA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3E3F7FC-86D8-4E16-B53A-A9A35AAD0F74}"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strac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IEEE ComSoc Boston Chapter talk will provide the meeting participants with a short update on the emerging industry of Wireless Personal Area Network technologies e.g., Bluetooth(TM) Special Interest Group, HomeRF(TM), etc. and the parallel standards-making efforts that are deriving or creating the standards inside the IEEE.   Wireless Personal Area Networks will proliferate early in the millennium and the IEEE P802.15 Working Group for Wireless Personal Area Networks (WPAN's) will provide the leadership in the IEEE 802 Standards Committees to establish open standards for these WPA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34DCD95-B611-429F-8CBF-1223B77751DC}"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nu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ComSoc Boston Ch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 8Jun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Loc: GTE Labs (uh oh no Frequent Flyer Mi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Allotted: 90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tch: 75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 15m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F1FFFA9-CCD2-47FB-AAB1-93EF6A95E6AD}"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Introduction (Bo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Goal of Talk (Ia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I. Overview of the emerging Industry (Ia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V. Overview of Bluetooth SIG (Ia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Overview of HomeRF WG (Ia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Overview of IEEE 802.15 (Ia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I. Overview of IEEE 802.15.1 (Ia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II. Overview of IEEE 802.15.2 (Bo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X. Overview of IEEE 802.15.3 (Bo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Summary (Ia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I. Futurecast (Ia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II. Wrap</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9F3A8DC-3834-412D-B2DC-514A0C87B61A}"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24r0</dc:description>
  <dc:language>en-US</dc:language>
  <cp:lastModifiedBy>Bruce Kraemer</cp:lastModifiedBy>
  <cp:lastPrinted>1998-02-10T13:28:06Z</cp:lastPrinted>
  <dcterms:modified xsi:type="dcterms:W3CDTF">2000-05-09T17:31:52Z</dcterms:modified>
  <cp:revision>123</cp:revision>
  <dc:subject>IEEE ComSoc Boston Chapter Pitch, 8Jun00</dc:subject>
  <dc:title>IEEE P802.15 Working Group for Wireless Personal Area Networks</dc:title>
</cp:coreProperties>
</file>