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7B07A3-0C76-44E8-A6E2-AC25FB0C7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54160" y="701640"/>
            <a:ext cx="4626000" cy="3468600"/>
          </a:xfrm>
          <a:prstGeom prst="rect">
            <a:avLst/>
          </a:prstGeom>
          <a:ln w="0">
            <a:noFill/>
          </a:ln>
        </p:spPr>
      </p:sp>
      <p:sp>
        <p:nvSpPr>
          <p:cNvPr id="9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icensee has requested a limited, non-exclusive, non-transferable license from Licensor to adopt or adapt and copy a portion of the Bluetooth Specification to be used as base material in the IEEE Standards Project P802.15 entitled "Standard for Telecommunications and Information Exchange between Systems - LAN/MAN - Specific Requirements - Part 15:  Wireless Medium Access Control (MAC) and physical layer (PHY) specification for…" (hereinafter referred to as the "Derivative Work").  Licensor has consented to grant Licensee such a license under the terms of this Agree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4160" y="701640"/>
            <a:ext cx="4626000" cy="3468600"/>
          </a:xfrm>
          <a:prstGeom prst="rect">
            <a:avLst/>
          </a:prstGeom>
          <a:ln w="0">
            <a:noFill/>
          </a:ln>
        </p:spPr>
      </p:sp>
      <p:sp>
        <p:nvSpPr>
          <p:cNvPr id="9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From:</a:t>
            </a:r>
            <a:r>
              <a:rPr b="0" lang="en-US" sz="200" spc="-1" strike="noStrike">
                <a:solidFill>
                  <a:srgbClr val="000000"/>
                </a:solidFill>
                <a:latin typeface="Times New Roman"/>
              </a:rPr>
              <a:t>	</a:t>
            </a:r>
            <a:r>
              <a:rPr b="0" lang="en-US" sz="200" spc="-1" strike="noStrike">
                <a:solidFill>
                  <a:srgbClr val="000000"/>
                </a:solidFill>
                <a:latin typeface="Times New Roman"/>
              </a:rPr>
              <a:t>Gifford, Ian C.</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Sent:</a:t>
            </a:r>
            <a:r>
              <a:rPr b="0" lang="en-US" sz="200" spc="-1" strike="noStrike">
                <a:solidFill>
                  <a:srgbClr val="000000"/>
                </a:solidFill>
                <a:latin typeface="Times New Roman"/>
              </a:rPr>
              <a:t>	</a:t>
            </a:r>
            <a:r>
              <a:rPr b="0" lang="en-US" sz="200" spc="-1" strike="noStrike">
                <a:solidFill>
                  <a:srgbClr val="000000"/>
                </a:solidFill>
                <a:latin typeface="Times New Roman"/>
              </a:rPr>
              <a:t>Thursday, November 11, 1999 10:50 AM</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To:</a:t>
            </a:r>
            <a:r>
              <a:rPr b="0" lang="en-US" sz="200" spc="-1" strike="noStrike">
                <a:solidFill>
                  <a:srgbClr val="000000"/>
                </a:solidFill>
                <a:latin typeface="Times New Roman"/>
              </a:rPr>
              <a:t>	</a:t>
            </a:r>
            <a:r>
              <a:rPr b="0" lang="en-US" sz="200" spc="-1" strike="noStrike">
                <a:solidFill>
                  <a:srgbClr val="000000"/>
                </a:solidFill>
                <a:latin typeface="Times New Roman"/>
              </a:rPr>
              <a:t>'Susan Tatiner'; Tom Wettach (E-mail)</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Cc:</a:t>
            </a:r>
            <a:r>
              <a:rPr b="0" lang="en-US" sz="200" spc="-1" strike="noStrike">
                <a:solidFill>
                  <a:srgbClr val="000000"/>
                </a:solidFill>
                <a:latin typeface="Times New Roman"/>
              </a:rPr>
              <a:t>	</a:t>
            </a:r>
            <a:r>
              <a:rPr b="0" lang="en-US" sz="200" spc="-1" strike="noStrike">
                <a:solidFill>
                  <a:srgbClr val="000000"/>
                </a:solidFill>
                <a:latin typeface="Times New Roman"/>
              </a:rPr>
              <a:t>Jim Carlo (E-mail); Jerome T. Walker (E-mail); Tom Siep (E-mail); Bob Heile (E-mail)</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Subject:</a:t>
            </a:r>
            <a:r>
              <a:rPr b="0" lang="en-US" sz="200" spc="-1" strike="noStrike">
                <a:solidFill>
                  <a:srgbClr val="000000"/>
                </a:solidFill>
                <a:latin typeface="Times New Roman"/>
              </a:rPr>
              <a:t>	</a:t>
            </a:r>
            <a:r>
              <a:rPr b="0" lang="en-US" sz="200" spc="-1" strike="noStrike">
                <a:solidFill>
                  <a:srgbClr val="000000"/>
                </a:solidFill>
                <a:latin typeface="Times New Roman"/>
              </a:rPr>
              <a:t>RE: Bluetooth items</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Importance:</a:t>
            </a:r>
            <a:r>
              <a:rPr b="0" lang="en-US" sz="200" spc="-1" strike="noStrike">
                <a:solidFill>
                  <a:srgbClr val="000000"/>
                </a:solidFill>
                <a:latin typeface="Times New Roman"/>
              </a:rPr>
              <a:t>	</a:t>
            </a:r>
            <a:r>
              <a:rPr b="0" lang="en-US" sz="200" spc="-1" strike="noStrike">
                <a:solidFill>
                  <a:srgbClr val="000000"/>
                </a:solidFill>
                <a:latin typeface="Times New Roman"/>
              </a:rPr>
              <a:t>High</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Susan/Tom,</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lt;snip&gt;</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From:</a:t>
            </a:r>
            <a:r>
              <a:rPr b="0" lang="en-US" sz="200" spc="-1" strike="noStrike">
                <a:solidFill>
                  <a:srgbClr val="000000"/>
                </a:solidFill>
                <a:latin typeface="Times New Roman"/>
              </a:rPr>
              <a:t>	</a:t>
            </a:r>
            <a:r>
              <a:rPr b="0" lang="en-US" sz="200" spc="-1" strike="noStrike">
                <a:solidFill>
                  <a:srgbClr val="000000"/>
                </a:solidFill>
                <a:latin typeface="Times New Roman"/>
              </a:rPr>
              <a:t>Susan Tatiner [SMTP:s.tatiner@staff.ieee.org]</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Sent:</a:t>
            </a:r>
            <a:r>
              <a:rPr b="0" lang="en-US" sz="200" spc="-1" strike="noStrike">
                <a:solidFill>
                  <a:srgbClr val="000000"/>
                </a:solidFill>
                <a:latin typeface="Times New Roman"/>
              </a:rPr>
              <a:t>	</a:t>
            </a:r>
            <a:r>
              <a:rPr b="0" lang="en-US" sz="200" spc="-1" strike="noStrike">
                <a:solidFill>
                  <a:srgbClr val="000000"/>
                </a:solidFill>
                <a:latin typeface="Times New Roman"/>
              </a:rPr>
              <a:t>Saturday, November 06, 1999 11:50 PM</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To:</a:t>
            </a:r>
            <a:r>
              <a:rPr b="0" lang="en-US" sz="200" spc="-1" strike="noStrike">
                <a:solidFill>
                  <a:srgbClr val="000000"/>
                </a:solidFill>
                <a:latin typeface="Times New Roman"/>
              </a:rPr>
              <a:t>	</a:t>
            </a:r>
            <a:r>
              <a:rPr b="0" lang="en-US" sz="200" spc="-1" strike="noStrike">
                <a:solidFill>
                  <a:srgbClr val="000000"/>
                </a:solidFill>
                <a:latin typeface="Times New Roman"/>
              </a:rPr>
              <a:t>Gifford, Ian C.</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Subject:</a:t>
            </a:r>
            <a:r>
              <a:rPr b="0" lang="en-US" sz="200" spc="-1" strike="noStrike">
                <a:solidFill>
                  <a:srgbClr val="000000"/>
                </a:solidFill>
                <a:latin typeface="Times New Roman"/>
              </a:rPr>
              <a:t>	</a:t>
            </a:r>
            <a:r>
              <a:rPr b="0" lang="en-US" sz="200" spc="-1" strike="noStrike">
                <a:solidFill>
                  <a:srgbClr val="000000"/>
                </a:solidFill>
                <a:latin typeface="Times New Roman"/>
              </a:rPr>
              <a:t>Bluetooth items</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C) TRADEMARK ISSUE</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Finally, in the course of technical editing on P802.15.1 and after numerous</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discussions I would like the IEEE to consider trade marking the term "WPAN"</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Wireless Personal Area Network") and/or the pural "WPANs" ("Wireless</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Personal Area Networks").  Is this appropriate for IEEE to consider?</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Comment:</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So, it sounds like we could/should move ahead on this.  Is there a </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generic term for WPAN?</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lt;/snip&gt;</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We need to move forward on this quickly!</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Yesterday the IEEE WPAN Project 802.15 approved the action to apply for a trademark for WPAN and WPANs and the next steps are to send it to ExCom (JimC) and then to...</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Anyway, you get the picture the key action (IMO) is for you and Tom Wettach to immediately SECURE the term "WPAN"</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Wireless Personal Area Network") and/or the pural "WPANs" ("Wireless Personal Area Networks") - this week would be great!</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At this point IEEE participants are AWARE of this activity and the enterprising ones may make a run for the Trademark.  I suggest the following:</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Generic Terms for WPAN = </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1. Wireless Personal Area Network or </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2. Small form factor, low-cost, short range radio links between mobile PCs, mobile phones and other portable devices.</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Note: I spoke w/ Engineers and not Lawyers about how to answer the generic term so we may have gotten the answer wrong...please review and advise.</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The bottom line is that the WPAN Standard will be a *big* business for IEEE-SA and IEEE Press.  We need to differentiate our standards-making activity - trademarking is one dimension.  Also the IEEE will be able to freely use the term in their publications.</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Again, we need to move forward on this quickly!</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Input?</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BTW there will likely be other terms e.g., Project 802.15, 802.15, etc. as well as URLs www.wpan.com,.net,.org, etc. that will come up but I want to fast track the WPAN as an IEEE trademark.</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 </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Ian Gifford</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 spc="-1" strike="noStrike">
                <a:solidFill>
                  <a:srgbClr val="000000"/>
                </a:solidFill>
                <a:latin typeface="Times New Roman"/>
              </a:rPr>
              <a:t>giffordi@tycoelectronics.com</a:t>
            </a:r>
            <a:endParaRPr b="0" lang="en-US" sz="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54160" y="701640"/>
            <a:ext cx="4626000" cy="3468600"/>
          </a:xfrm>
          <a:prstGeom prst="rect">
            <a:avLst/>
          </a:prstGeom>
          <a:ln w="0">
            <a:noFill/>
          </a:ln>
        </p:spPr>
      </p:sp>
      <p:sp>
        <p:nvSpPr>
          <p:cNvPr id="9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a:t>
            </a:r>
            <a:r>
              <a:rPr b="0" lang="en-US" sz="1200" spc="-1" strike="noStrike">
                <a:solidFill>
                  <a:srgbClr val="000000"/>
                </a:solidFill>
                <a:latin typeface="Times New Roman"/>
              </a:rPr>
              <a:t>	</a:t>
            </a:r>
            <a:r>
              <a:rPr b="0" lang="en-US" sz="1200" spc="-1" strike="noStrike">
                <a:solidFill>
                  <a:srgbClr val="000000"/>
                </a:solidFill>
                <a:latin typeface="Times New Roman"/>
              </a:rPr>
              <a:t>Gifford, Ian 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a:t>
            </a:r>
            <a:r>
              <a:rPr b="0" lang="en-US" sz="1200" spc="-1" strike="noStrike">
                <a:solidFill>
                  <a:srgbClr val="000000"/>
                </a:solidFill>
                <a:latin typeface="Times New Roman"/>
              </a:rPr>
              <a:t>	</a:t>
            </a:r>
            <a:r>
              <a:rPr b="0" lang="en-US" sz="1200" spc="-1" strike="noStrike">
                <a:solidFill>
                  <a:srgbClr val="000000"/>
                </a:solidFill>
                <a:latin typeface="Times New Roman"/>
              </a:rPr>
              <a:t>Tuesday, December 21, 1999 10:16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a:t>
            </a:r>
            <a:r>
              <a:rPr b="0" lang="en-US" sz="1200" spc="-1" strike="noStrike">
                <a:solidFill>
                  <a:srgbClr val="000000"/>
                </a:solidFill>
                <a:latin typeface="Times New Roman"/>
              </a:rPr>
              <a:t>	</a:t>
            </a:r>
            <a:r>
              <a:rPr b="0" lang="en-US" sz="1200" spc="-1" strike="noStrike">
                <a:solidFill>
                  <a:srgbClr val="000000"/>
                </a:solidFill>
                <a:latin typeface="Times New Roman"/>
              </a:rPr>
              <a:t>Jim Carlo (E-mai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a:t>
            </a:r>
            <a:r>
              <a:rPr b="0" lang="en-US" sz="1200" spc="-1" strike="noStrike">
                <a:solidFill>
                  <a:srgbClr val="000000"/>
                </a:solidFill>
                <a:latin typeface="Times New Roman"/>
              </a:rPr>
              <a:t>	</a:t>
            </a:r>
            <a:r>
              <a:rPr b="0" lang="en-US" sz="1200" spc="-1" strike="noStrike">
                <a:solidFill>
                  <a:srgbClr val="000000"/>
                </a:solidFill>
                <a:latin typeface="Times New Roman"/>
              </a:rPr>
              <a:t>Tom Siep (E-mail); Janet Rutigliano (E-mai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a:t>
            </a:r>
            <a:r>
              <a:rPr b="0" lang="en-US" sz="1200" spc="-1" strike="noStrike">
                <a:solidFill>
                  <a:srgbClr val="000000"/>
                </a:solidFill>
                <a:latin typeface="Times New Roman"/>
              </a:rPr>
              <a:t>	</a:t>
            </a:r>
            <a:r>
              <a:rPr b="0" lang="en-US" sz="1200" spc="-1" strike="noStrike">
                <a:solidFill>
                  <a:srgbClr val="000000"/>
                </a:solidFill>
                <a:latin typeface="Times New Roman"/>
              </a:rPr>
              <a:t>RE: WPAN trademark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i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C&gt;Does MIT lab use this ter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help qualify my "no" I have provided some more of my not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MIT Media Lab/Dr. Negroponte have used "Wearables" and "Personal Area Network" but not WPAN or Wireless Personal Area Network.  The MIT Media Lab and more specifically the Things That Think (TTT) Consortia was one of the founders of the IEEE P802.15 WG for WPANs but the term was coined and written down in an IEEE Meeting on 2Dec97.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pecifically, during the formation of the IEEE P802.15 WG for WPANs there was an ad hoc meeting during the IEEE PASC Plenary Meeting in Nashua, NH and on Wednesday, July 16, 1997.  It was attended by a few MIT'ers; the attendees can be found in our minutes [Nashua_Minutes.tx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grouper.ieee.org/groups/802/15/pub/Minutes.htm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grouper.ieee.org/groups/802/15/pub/1997/Jul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uring this meeting we saw the first IEEE written use of "PAN" and "Wireless" but not WP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ollowing is an excerpt from the minutes taken by our Meeting Secretary Bradley Rhodes, MIT Media Lab +1 617-253-9601 &lt;rhodes@media.mit.edu&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 Hoc Committee Meeting for "Wearables" Standards on Wednesday, July 16, 19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otential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N, Interfaces, system architectures, nomadicit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eriferals, power sys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N (Network whose communication span is 0-5 meters, wireles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R -- IRDA standard has been done (de-facto from HP)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apacitance -- deferred for further researc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F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Don't interfere with each other (interference suppress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ponents not interfere (dynamic node addition / autonomous nod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ransmission speed -- auto speed negotiation?  Softw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nfiguration?  (Private eye does 8Mbits/sec -- do we ne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o worry about such high speeds with this technolog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uthentication / privacy / secur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protocol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Power manage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urce: http://grouper.ieee.org/groups/802/15/pub/1997/Jul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rst time IEEE wrote down the term "WPAN or Wireless Personal Area Network" was during the second meeting of the Ad Hoc Committee for "Wearables" Standards in Cleveland, OH on Tuesday, December 2, 1997.  During this meeting we (Dick Braley, Bob Heile, &amp; I) generated a matrix:</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itle we used was "Wireless Personal Area Network (WPAN) APPLICATION MATRIX"; it is my contention that this meeting was the first time Wireless Personal Area Network (WPAN) was written and used in this context - this was an IEEE Meeting.  Here is the excerp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reless Personal Area Network (WPAN) APPLICATION MATRIX</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urce: IEEE Ad-Hoc WPAN Committee, Cleveland, 12/2/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urce: http://grouper.ieee.org/groups/802/15/pub/1997/Dec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erms of the balance of Janet's comments see the following in-line com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R&gt;Tom Siep is sending me info. for 802.15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bove will help on the P802.15 info.  Again the evolution i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7 to Mar98 - IEEE Ad Hoc Committee for "Wearables"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98 to Mar99 - IEEE P802.11 WPAN Study Grou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99 to Today - IEEE P802.15 WG for WPA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urce: http://grouper.ieee.org/groups/802/15/index.htm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R&gt;and I will do a global search through the 802.11 supplements to check if it is used ther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erms of P802.11 Vic Hayes was our Sponsor from March 1998 to March 1999 so you'll find sporadic usage by the WPAN Study Group.  Note: That Heile and Gifford made a presentation -98/058 at the Jan98 Interim Meeting of IEEE 802.11 - requesting Study Group Sponsorship.  The term WPAN was used by us and was new to the Membership at that ti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R&gt;Can you think of any other instances in 802 standards or drafts in progress where WPAN is used? I appreciate your hel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have heard of uses of "PAN" or "Personal Area Network" but *not* WPAN or Wireless Personal Area Network.</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summary it is our intention to use an IEEE Trademarked "WPAN" in place of "Bluetooth" in the P802.15.1 Draft Standard.  Please keep us informed on your progr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y questions please feel to call me to discuss +1 978 442 465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an Giffo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giffordi@tycoelectronics.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Messag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ue, 21 Dec 1999 15:38:18 -06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im Carlo &lt;jcarlo@ti.com&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Ian Gifford &lt;giffordi@world.std.com&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 Tom Siep &lt;siep@ti.com&gt;, Janet Rutigliano &lt;j.rutigliano@ieee.org&g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FW: WPAN trademark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es MIT lab use this ter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im Carlo(jcarlo@ti.com) Cellular:1-214-693-1776 Voice&amp;Fax:1-214-853-527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 Fellow, Networking Standards at Texas Instru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SO/IEC JTC1/SC6 Telecom and Info Exchange Between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EEE802 LAN/MAN Standards Committe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Messag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anet Rutigliano [mailto:j.rutigliano@ieee.org]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Tuesday, December 21, 1999 12:23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jcarlo@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WPAN trademark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ce: Hig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i Ji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Wettach, who is handling the trademark process for WPAN, woul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ike me to send him examples of where this acronym appears in 802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andards/drafts. Tom Siep is sending me info. for 802.15 and I wil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 a global search through the 802.11 supplements to check if it i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sed there. Can you think of any other instances in 802 standards o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s in progress where WPAN is used? I appreciate your hel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APPY HOLIDAY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e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et Rutiglian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ject Editor, IEEE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01 Old Carter Lake Roa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O. Box 7168, Golden, Colorado 80403</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rutigliano@ieee.or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H: +1 303 946 3518</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standards.ieee.or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Standards Activiti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nstitute of Electrical and Electronics Engineers, In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45 Hoes Lane, P.O. Box 1331, Piscataway, NJ 08855-1331 US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Networking the Worl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1DC07-5CDD-47C4-9E6F-82277FA70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0B91-8DAC-4B00-A778-BBCE5F367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BD1DF-A67A-44FC-AF78-D4555B4AC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D7691-5666-4B2D-88F0-B20E0C61B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EAC18-B536-4E62-B02A-A162688FD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C894C-ADBC-4A4B-97E9-C77537AF3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EE97F-52FF-4287-81EC-201505556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DC75C-0CA8-47F1-B119-F6807BB53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6058A-BE78-47B7-B661-107D8E3BE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6E0A-224A-49F0-BEE1-CB4988F6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FEB58-8191-4A75-9219-FF3B92586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78AB2-8A30-416A-B4E9-6C03352B3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28BE23-F0BD-4917-8793-B7B59ED08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2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BCB8442-A6B3-4168-8B91-9216C8EB5CD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93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MC WPAN Trademark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term WPAN™ is being trademarked by the IEEE and the following is a Trademark Report and/or usage descript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TG1 chair wants to clarify the term WPAN™ for the TG1 Editor-in-Chief and his Technical Editors.  Additionally, the 802.15 may want to review WPAN-HR as a TM.  Finally, the MC might want to host a joint IEEE 802 Wireless Meeting in Jul00.  Discuss 802 Wireless branding planning status, how to work at the 802 level, joint brands, et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PAN™ Definitio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AN™ is the IEEE banding name for their 802.15.1-xxxx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AN™ is a small form factor, low-cost, short range radio links between mobile PCs, mobile phones and other portable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2.15.1-xxxx standard has been derived from the Bluetooth Specification Version 1.0 Foundation </a:t>
            </a:r>
            <a:r>
              <a:rPr b="0" lang="en-US" sz="2400" spc="-1" strike="noStrike">
                <a:solidFill>
                  <a:srgbClr val="000000"/>
                </a:solidFill>
                <a:latin typeface="Arial"/>
                <a:ea typeface="Times New Roman"/>
              </a:rPr>
              <a:t>(see notes section of this sl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lang="en-US" sz="2400" spc="-1" strike="noStrike">
                <a:solidFill>
                  <a:srgbClr val="000000"/>
                </a:solidFill>
                <a:latin typeface="Arial"/>
              </a:rPr>
              <a:t>“802.15.1-xxxx” and WPAN™ are 1:1; where xxxx is the year of public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456B3E5-8215-4178-A30E-81B1F226943F}"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PAN™ vs. 802.15.1 vs. </a:t>
            </a:r>
            <a:br>
              <a:rPr sz="3600"/>
            </a:br>
            <a:r>
              <a:rPr b="0" lang="en-US" sz="3600" spc="-1" strike="noStrike">
                <a:solidFill>
                  <a:srgbClr val="000000"/>
                </a:solidFill>
                <a:latin typeface="Times New Roman"/>
              </a:rPr>
              <a:t>Bluetooth™ Usage</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will use the “802.15.1-xxxx” term to designate the TG1 Draft St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terms are interchange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AN™-Bluetoot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802.15.1-xxxx Draft needs to coordinate on a definition of terms.</a:t>
            </a:r>
            <a:endParaRPr b="0" lang="en-US" sz="2800" spc="-1" strike="noStrike">
              <a:solidFill>
                <a:srgbClr val="000000"/>
              </a:solidFill>
              <a:latin typeface="Arial"/>
            </a:endParaRPr>
          </a:p>
        </p:txBody>
      </p:sp>
      <p:sp>
        <p:nvSpPr>
          <p:cNvPr id="80" name=""/>
          <p:cNvSpPr/>
          <p:nvPr/>
        </p:nvSpPr>
        <p:spPr>
          <a:xfrm>
            <a:off x="673560" y="6056280"/>
            <a:ext cx="295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luetooth™ = Bluetooth™ Foundati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3096C7F-AB9B-4C87-82B7-01093867B0DE}"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G1 asks the MC to help provide feedback on a single usage and definition of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thor of this contribution will consolidate inputs and work with the Editor-in-Chief and IEEE-SA to apply ter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D818001-4465-4A82-A4CC-B5E51D6ECFDF}"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 (cont.)</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Action Items/IanG:</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is monitoring Application for trade marking WPAN™</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is promoting usage of WPAN™</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is monitor usage of WPAN™</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is discussing the creation of an IEEE Graphic based on WPAN™</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 to discuss new IEEE 802.15 Projects and their branding needs:</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2 - WPAN to WLAN Coexistence™</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3 - WPAN-HR™ (High Ra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3BF718A-2295-417F-9441-1CF9930542CB}"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 (cont.)</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802 “Wireless WG’s” might want to coordinate their branding planning at the Sponsor level vs. at the WG level:</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6 </a:t>
            </a:r>
            <a:endParaRPr b="0" lang="en-US" sz="24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MAN</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irelessHUMAN™</a:t>
            </a:r>
            <a:endParaRPr b="0" lang="en-US" sz="20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02.11?</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C to discuss hosting a joint IEEE 802 Wireless Meeting in Jul00.  Discuss branding planning status, how to work at the 802 level, joint brands, wireless positioning, 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F1B1D50-2C40-4442-855A-FD562300895B}"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s</a:t>
            </a:r>
            <a:endParaRPr b="0" lang="en-US" sz="3600" spc="-1" strike="noStrike">
              <a:solidFill>
                <a:srgbClr val="000000"/>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K. Tatin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Standards Publishing Program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Activiti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5 Hoes Lane,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 Box 1331,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scataway, NJ 08855-1331 USA</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 +1 732 562 3830</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X: +1 732 562 1571</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s.tatiner@ieee.org</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n C. Gifford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of Standard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OM, Inc.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106</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1 Pawtucket Boulevard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ll, MA 01853-3295, USA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 +1 978 442 4650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X +1 978 442 5442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giffordi@ieee.org</a:t>
            </a: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90924DBF-627F-4367-B0D2-D36232059770}" type="slidenum">
              <a:t>15</a:t>
            </a:fld>
          </a:p>
        </p:txBody>
      </p:sp>
      <p:sp>
        <p:nvSpPr>
          <p:cNvPr id="7" name="PlaceHolder 6"/>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Info UR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ee.org/about/documentation/copyright/polilink.htm</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guides/bylaws/index.html</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guides/opman/index.html</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guides/companion/index.html</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 USPTO – Trademark Info UR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spto.gov/web/menu/tm.html</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spto.gov/web/offices/tac/doc/basic/formats.html</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spto.gov/web/offices/tac/tmfaq.ht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58D7FD2-6F2F-4C7A-B434-CFAE33A36100}"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mmitte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PAN™ Trademark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0 Seattle, WA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6333EBC-85D7-4D09-9911-A7314E63708C}"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tradema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Sta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PAN™ Definition &amp; Us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7B3CB67-0468-4F3E-969E-756873AE415D}"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luetooth™” is the codename used for the Bluetooth™ Special Interest Group’s technology specification for a small form factor, low-cost, short range radio links between mobile PCs, mobile phones and other portable devices. </a:t>
            </a:r>
            <a:endParaRPr b="0" lang="en-US" sz="1800" spc="-1" strike="noStrike">
              <a:solidFill>
                <a:srgbClr val="000000"/>
              </a:solidFill>
              <a:latin typeface="Arial"/>
            </a:endParaRPr>
          </a:p>
          <a:p>
            <a:pPr marL="329040" indent="-329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has been granted a limited, non-exclusive, non-transferable license from Bluetooth™ SIG to adopt or adapt and copy a portion of the Bluetooth™ Specification Version 1.0 Foundation to be used as base material in the IEEE Standards Project P802.15.1 (hereinafter referred to as the "Derivative Work").</a:t>
            </a:r>
            <a:endParaRPr b="0" lang="en-US" sz="1800" spc="-1" strike="noStrike">
              <a:solidFill>
                <a:srgbClr val="000000"/>
              </a:solidFill>
              <a:latin typeface="Arial"/>
            </a:endParaRPr>
          </a:p>
          <a:p>
            <a:pPr marL="329040" indent="-329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fact that the Bluetooth™ SIG used a codename</a:t>
            </a:r>
            <a:r>
              <a:rPr b="0" lang="en-US" sz="1800" spc="-1" strike="noStrike">
                <a:solidFill>
                  <a:srgbClr val="000000"/>
                </a:solidFill>
                <a:latin typeface="Arial"/>
              </a:rPr>
              <a:t> has prompted the IEEE Editors to “coin” the WPAN term as a way to distinguish their derivative work.  The IEEE has applied for a trademark for WPAN.</a:t>
            </a:r>
            <a:endParaRPr b="0" lang="en-US" sz="1800" spc="-1" strike="noStrike">
              <a:solidFill>
                <a:srgbClr val="000000"/>
              </a:solidFill>
              <a:latin typeface="Arial"/>
            </a:endParaRPr>
          </a:p>
          <a:p>
            <a:pPr marL="329040" indent="-329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Editors of the derivative work consider the WPAN™ 802.15.1 Standard and Bluetooth™ Specification Version 1.0 Foundation terms to be synonymous.</a:t>
            </a:r>
            <a:endParaRPr b="0" lang="en-US" sz="1800" spc="-1" strike="noStrike">
              <a:solidFill>
                <a:srgbClr val="000000"/>
              </a:solidFill>
              <a:latin typeface="Arial"/>
            </a:endParaRPr>
          </a:p>
          <a:p>
            <a:pPr marL="329040" indent="-329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ibution is offered to help the TG1 Editors correctly use the WPAN™ term.  This is a work in progress.  Input reques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2D0AE88-7FA6-4A49-9140-1212D0A4E6F8}"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trademark?</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trademar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demark includes any word, name, symbol, or device, or any combination, used, or intended to be used, in commerce to identify and distinguish the goods of one manufacturer or seller from goods manufactured or sold by others, and to indicate the source of the goods. In short, a trademark is a brand nam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F8E1554-46C7-43B0-8938-F04663160B06}"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 </a:t>
            </a:r>
            <a:br>
              <a:rPr sz="3600"/>
            </a:br>
            <a:r>
              <a:rPr b="0" lang="en-US" sz="3600" spc="-1" strike="noStrike">
                <a:solidFill>
                  <a:srgbClr val="000000"/>
                </a:solidFill>
                <a:latin typeface="Times New Roman"/>
              </a:rPr>
              <a:t>IEEE is Trade Marking These Term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P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Personal Area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PA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Personal Area Networ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FE9E3CB-40A1-48BC-AAA5-32B1994B7A78}"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a:t>
            </a:r>
            <a:br>
              <a:rPr sz="3600"/>
            </a:br>
            <a:r>
              <a:rPr b="0" lang="en-US" sz="3600" spc="-1" strike="noStrike">
                <a:solidFill>
                  <a:srgbClr val="000000"/>
                </a:solidFill>
                <a:latin typeface="Times New Roman"/>
              </a:rPr>
              <a:t>IEEE 802.15 Request – 11Nov99</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IEEE Nov99 Plenary Meeting – 10Nov99 the WG approved the following Motion:</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tion that 802.15 request the IEEE to immediately proceed with trademark registration of WPAN and WPAN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uce Kraemer moved this motion, Ian Gifford seconded.  Bruce moved to amend the previous motion to include wording “and to release this trademarking for general use without fees”, Ivan seconded this motion. Tom Siep commented that he was against this motion to amend.  Todor  Cooklev commented that this motion to amend might be illegal due to trademark laws.  The motion to amend failed, 1/11/9.  Bruce Kraemer agreed to a friendly amendment to add the term “ExCom” after IEEE.  Following no discussion the motion was voted.  The motion carried by 15/2/4. </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Com Approved the motion too.</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 e-mail was sent on 11Nov99 to IEEE requesting a trademark on WPAN (see notes section of this slid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2E4FA57-1315-4E0F-895B-2E1C75FF4D85}"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a:t>
            </a:r>
            <a:br>
              <a:rPr sz="3600"/>
            </a:br>
            <a:r>
              <a:rPr b="0" lang="en-US" sz="3600" spc="-1" strike="noStrike">
                <a:solidFill>
                  <a:srgbClr val="000000"/>
                </a:solidFill>
                <a:latin typeface="Times New Roman"/>
              </a:rPr>
              <a:t>IEEE 802.15 Follow Up – 21Dec99</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rp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first time IEEE wrote down the term "WPAN or Wireless Personal Area Network" was during the second meeting of the Ad Hoc Committee for "Wearables" Standards in Cleveland, OH on Tuesday, December 2, 1997.  During this meeting we (Dick Braley, Bob Heile, &amp; I) generated a matrix:</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itle we used was "Wireless Personal Area Network (WPAN) APPLICATION MATRIX"; it is my contention that this meeting was the first time Wireless Personal Area Network (WPAN) was written and used in this context - this was an IEEE Meeting.  Here is the excerp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nip&g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Personal Area Network (WPAN) APPLICATION MATRIX</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IEEE Ad-Hoc WPAN Committee, Cleveland, 12/2/97</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nip&g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http://grouper.ieee.org/groups/802/15/pub/1997/Dec97/Application_Matrix.doc</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n</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5D2863B-CBE8-49C6-A9F2-A02AC495A3BC}"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tus – 7Apr00</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4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Susan Tatiner [s.tatiner@staff.ieee.org]</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t: Friday, April 07, 2000 4:43 PM</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ifford, Ian C.</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 Re: WPAN(TM) Status?</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n:</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PAN (TM) terms have been filed with the Trademark office. I believe things move sort of slowly there, so we'll have to be patien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meantime, it's OK and a good idea to use TM with the terms, just as you did in this e-mail.  In addition, </a:t>
            </a:r>
            <a:r>
              <a:rPr b="1" lang="en-US" sz="1400" spc="-1" strike="noStrike" u="sng">
                <a:solidFill>
                  <a:srgbClr val="000000"/>
                </a:solidFill>
                <a:uFillTx/>
                <a:latin typeface="Arial"/>
              </a:rPr>
              <a:t>I encourage you to use the terms as adjectives, not as nouns or verbs.</a:t>
            </a:r>
            <a:r>
              <a:rPr b="0" lang="en-US" sz="1400" spc="-1" strike="noStrike">
                <a:solidFill>
                  <a:srgbClr val="000000"/>
                </a:solidFill>
                <a:latin typeface="Arial"/>
              </a:rPr>
              <a:t>  Trademarks are adjectives (Kleenex brand tissues, e.g.). When the Trademark office sees them used as nouns (Give me a Kleenex, e.g.) or verbs (Xerox these contracts), they don't like it. It is harder to get a trademark if you use or allow others to use your term in those ways.</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6 requested trademarking of Wireless MAN and Wireless HUMAN (the H and U stood for something that I've forgotten right now).  Coordination would be fine with us; perhaps Jim Carlo could work with all of you on th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a good weekend, Ian.</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an</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23E7E00-82F3-41BB-BE4D-B7941DEE1855}"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25r0</dc:description>
  <dc:language>en-US</dc:language>
  <cp:lastModifiedBy>Ian C. Gifford</cp:lastModifiedBy>
  <cp:lastPrinted>1998-02-10T13:28:06Z</cp:lastPrinted>
  <dcterms:modified xsi:type="dcterms:W3CDTF">2000-05-06T06:34:02Z</dcterms:modified>
  <cp:revision>118</cp:revision>
  <dc:subject>WPAN Trademark Report</dc:subject>
  <dc:title>IEEE P802.15 Working Group for Wireless Personal Area Networks</dc:title>
</cp:coreProperties>
</file>