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80C2-B0AF-4E0D-8AE6-EDEE49DC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FC20-94AA-4600-B0DD-34A7A40F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2AB-B6E9-47B4-9329-F8C2FE3A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4825-5611-4A08-BED8-1F28D8C6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76D1-E569-4BED-903F-96B2A99B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544B-EA01-4894-B96A-D1A6AF61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56B8-3EDA-4123-AF8B-D8892FC3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2975-3476-4D53-9DC0-CE80718C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1DE4-72E3-4107-99C8-0EF6EC5B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1AFF-EDFE-49C9-9A5B-252C5E4B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9511-8F3F-48E3-86D0-7F55700D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DEAD-BFF4-4F09-868D-38D0B19D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1A25731-9D65-493C-AAE5-073AF1586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7621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128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6.png"/><Relationship Id="rId9" Type="http://schemas.openxmlformats.org/officeDocument/2006/relationships/package" Target="../embeddings/oleObject1.xlsx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FDM based solution anticipating the convergence between next G of high rate WPANs and WLANs: HIPERPA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38858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rc de Courvill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band Systems and Technologies Research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orola Labs - Paris/ C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Systems and Technologies La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c de Courville, Motoro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7086-971B-46AA-966C-52679846E30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 200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400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opportunities and convergence scenar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84320" y="1066680"/>
            <a:ext cx="8871120" cy="599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c de Courville, Motorol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C1DE-9056-4FD9-86F5-BD871EC0F51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 200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143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PAN&amp;WLAN shall mee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5680" y="762120"/>
            <a:ext cx="89820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seen convergence in bitrate requirement between next generation of WPANs (high data rate) and WLANs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PAN: IEEE802.15 HRSG (20Mbps), Bluetooth SIG2 (2-10Mbps) &gt;</a:t>
            </a:r>
            <a:r>
              <a:rPr b="0" lang="en-US" sz="1600" spc="-1" strike="noStrike">
                <a:solidFill>
                  <a:srgbClr val="33cc33"/>
                </a:solidFill>
                <a:latin typeface="Arial"/>
              </a:rPr>
              <a:t>20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AN: IEEE802.11a, ETSI BRAN HIPERLAN/2, ARIB MMAC: </a:t>
            </a:r>
            <a:r>
              <a:rPr b="0" lang="en-US" sz="1600" spc="-1" strike="noStrike">
                <a:solidFill>
                  <a:srgbClr val="33cc33"/>
                </a:solidFill>
                <a:latin typeface="Arial"/>
              </a:rPr>
              <a:t>6-54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coordination could result in a plurality of competing systems in the same b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DM preferred modulation for local area broadband (large bandwidth transmissions in presence of multipath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&amp;requirement: address higher bitrate demand for WPAN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115000"/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icipate convergence between WPAN&amp;WL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11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rve specificity of WPAN: low cost, low range, peer to peer, embedd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115000"/>
              <a:buFont typeface="Monotype Sort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nt interoperability with 5GHz WLANs: e.g. provide a mean to sync devices both in office and home environ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115000"/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 5GHz band as spectrum opportunity for WPAN (escape mw-oven spuriou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7360" y="828720"/>
            <a:ext cx="89722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434960" y="4876920"/>
            <a:ext cx="5546520" cy="2999160"/>
            <a:chOff x="1434960" y="4876920"/>
            <a:chExt cx="5546520" cy="2999160"/>
          </a:xfrm>
        </p:grpSpPr>
        <p:sp>
          <p:nvSpPr>
            <p:cNvPr id="53" name=""/>
            <p:cNvSpPr/>
            <p:nvPr/>
          </p:nvSpPr>
          <p:spPr>
            <a:xfrm>
              <a:off x="1434960" y="4876920"/>
              <a:ext cx="5504400" cy="292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895" swAng="53968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895" swAng="5396895"/>
                </a:path>
              </a:pathLst>
            </a:custGeom>
            <a:solidFill>
              <a:srgbClr val="800080"/>
            </a:solidFill>
            <a:ln cap="rnd" w="190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080" bIns="550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33040" y="4877640"/>
              <a:ext cx="3183120" cy="29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" y="10084"/>
                  </a:moveTo>
                  <a:arcTo wR="10800" hR="10800" stAng="-10571867" swAng="5170394"/>
                  <a:lnTo>
                    <a:pt x="10800" y="10800"/>
                  </a:lnTo>
                  <a:close/>
                </a:path>
                <a:path fill="none" w="21600" h="21600">
                  <a:moveTo>
                    <a:pt x="24" y="10084"/>
                  </a:moveTo>
                  <a:arcTo wR="10800" hR="10800" stAng="-10571867" swAng="5170394"/>
                </a:path>
              </a:pathLst>
            </a:custGeom>
            <a:solidFill>
              <a:srgbClr val="800080"/>
            </a:solidFill>
            <a:ln cap="rnd" w="190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080" bIns="550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36280" y="5780160"/>
              <a:ext cx="4271400" cy="1077480"/>
            </a:xfrm>
            <a:prstGeom prst="ellipse">
              <a:avLst/>
            </a:prstGeom>
            <a:solidFill>
              <a:srgbClr val="800080"/>
            </a:solidFill>
            <a:ln cap="rnd" w="190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080" bIns="550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36520" y="5342400"/>
              <a:ext cx="3991680" cy="20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8" y="0"/>
                  </a:moveTo>
                  <a:arcTo wR="10800" hR="10800" stAng="-5397447" swAng="53974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8" y="0"/>
                  </a:moveTo>
                  <a:arcTo wR="10800" hR="10800" stAng="-5397447" swAng="5397447"/>
                </a:path>
              </a:pathLst>
            </a:custGeom>
            <a:solidFill>
              <a:srgbClr val="6600cc"/>
            </a:solidFill>
            <a:ln cap="rnd" w="190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080" bIns="550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40000" y="5342400"/>
              <a:ext cx="3465720" cy="21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498" swAng="5384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498" swAng="5384994"/>
                </a:path>
              </a:pathLst>
            </a:custGeom>
            <a:solidFill>
              <a:srgbClr val="6600cc"/>
            </a:solidFill>
            <a:ln cap="rnd" w="190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080" bIns="550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32800" y="5982480"/>
              <a:ext cx="3726000" cy="759240"/>
            </a:xfrm>
            <a:prstGeom prst="ellipse">
              <a:avLst/>
            </a:prstGeom>
            <a:solidFill>
              <a:srgbClr val="6600cc"/>
            </a:solidFill>
            <a:ln cap="rnd" w="190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080" bIns="550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049280" y="5660640"/>
              <a:ext cx="2860560" cy="137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1" y="0"/>
                  </a:moveTo>
                  <a:arcTo wR="10800" hR="10800" stAng="-5396581" swAng="539658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1" y="0"/>
                  </a:moveTo>
                  <a:arcTo wR="10800" hR="10800" stAng="-5396581" swAng="5396581"/>
                </a:path>
              </a:pathLst>
            </a:custGeom>
            <a:solidFill>
              <a:srgbClr val="3333ff"/>
            </a:solidFill>
            <a:ln cap="rnd" w="190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080" bIns="550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267440" y="5660640"/>
              <a:ext cx="2428920" cy="141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62"/>
                  </a:moveTo>
                  <a:arcTo wR="10800" hR="10800" stAng="-10787923" swAng="53859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62"/>
                  </a:moveTo>
                  <a:arcTo wR="10800" hR="10800" stAng="-10787923" swAng="5385908"/>
                </a:path>
              </a:pathLst>
            </a:custGeom>
            <a:solidFill>
              <a:srgbClr val="3333ff"/>
            </a:solidFill>
            <a:ln cap="rnd" w="190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080" bIns="550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71760" y="6087960"/>
              <a:ext cx="2662920" cy="511920"/>
            </a:xfrm>
            <a:prstGeom prst="ellipse">
              <a:avLst/>
            </a:prstGeom>
            <a:solidFill>
              <a:srgbClr val="3333ff"/>
            </a:solidFill>
            <a:ln cap="rnd" w="190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080" bIns="550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43360" y="5838480"/>
              <a:ext cx="2088720" cy="96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8" y="0"/>
                  </a:moveTo>
                  <a:arcTo wR="10800" hR="10800" stAng="-5397545" swAng="539754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8" y="0"/>
                  </a:moveTo>
                  <a:arcTo wR="10800" hR="10800" stAng="-5397545" swAng="5397545"/>
                </a:path>
              </a:pathLst>
            </a:custGeom>
            <a:solidFill>
              <a:srgbClr val="0099ff"/>
            </a:solidFill>
            <a:ln cap="rnd" w="190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080" bIns="550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02480" y="5838480"/>
              <a:ext cx="1773720" cy="99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8"/>
                  </a:moveTo>
                  <a:arcTo wR="10800" hR="10800" stAng="-10777006" swAng="5374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8"/>
                  </a:moveTo>
                  <a:arcTo wR="10800" hR="10800" stAng="-10777006" swAng="5374110"/>
                </a:path>
              </a:pathLst>
            </a:custGeom>
            <a:solidFill>
              <a:srgbClr val="0099ff"/>
            </a:solidFill>
            <a:ln cap="rnd" w="190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080" bIns="550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02480" y="6135840"/>
              <a:ext cx="1950840" cy="359280"/>
            </a:xfrm>
            <a:prstGeom prst="ellipse">
              <a:avLst/>
            </a:prstGeom>
            <a:solidFill>
              <a:srgbClr val="0099ff"/>
            </a:solidFill>
            <a:ln cap="rnd" w="190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080" bIns="550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94120" y="6070680"/>
              <a:ext cx="1156320" cy="65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6" y="0"/>
                  </a:moveTo>
                  <a:arcTo wR="10800" hR="10800" stAng="-5404319" swAng="54043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6" y="0"/>
                  </a:moveTo>
                  <a:arcTo wR="10800" hR="10800" stAng="-5404319" swAng="5404319"/>
                </a:path>
              </a:pathLst>
            </a:custGeom>
            <a:solidFill>
              <a:srgbClr val="00ccff"/>
            </a:solidFill>
            <a:ln w="190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080" bIns="550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82680" y="6070680"/>
              <a:ext cx="978840" cy="67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4"/>
                  </a:moveTo>
                  <a:arcTo wR="10800" hR="10800" stAng="-10766298" swAng="53611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4"/>
                  </a:moveTo>
                  <a:arcTo wR="10800" hR="10800" stAng="-10766298" swAng="5361190"/>
                </a:path>
              </a:pathLst>
            </a:custGeom>
            <a:solidFill>
              <a:srgbClr val="00ccff"/>
            </a:solidFill>
            <a:ln w="190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080" bIns="550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778360" y="6273720"/>
              <a:ext cx="1083960" cy="244800"/>
            </a:xfrm>
            <a:prstGeom prst="ellipse">
              <a:avLst/>
            </a:prstGeom>
            <a:solidFill>
              <a:srgbClr val="00ccff"/>
            </a:solidFill>
            <a:ln w="190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080" bIns="550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10200" y="6269400"/>
              <a:ext cx="536400" cy="2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080" bIns="550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16240" y="6289560"/>
              <a:ext cx="16524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080" bIns="550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3152880" y="5181120"/>
              <a:ext cx="487800" cy="497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969696">
                  <a:alpha val="50000"/>
                </a:srgbClr>
              </a:outerShdw>
            </a:effectLst>
          </p:spPr>
        </p:pic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3638880" y="5663520"/>
              <a:ext cx="540000" cy="67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969696">
                  <a:alpha val="50000"/>
                </a:srgbClr>
              </a:outerShdw>
            </a:effectLst>
          </p:spPr>
        </p:pic>
        <p:pic>
          <p:nvPicPr>
            <p:cNvPr id="72" name="" descr=""/>
            <p:cNvPicPr/>
            <p:nvPr/>
          </p:nvPicPr>
          <p:blipFill>
            <a:blip r:embed="rId3"/>
            <a:stretch/>
          </p:blipFill>
          <p:spPr>
            <a:xfrm>
              <a:off x="5069880" y="5853240"/>
              <a:ext cx="450360" cy="539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969696">
                  <a:alpha val="50000"/>
                </a:srgbClr>
              </a:outerShdw>
            </a:effectLst>
          </p:spPr>
        </p:pic>
        <p:pic>
          <p:nvPicPr>
            <p:cNvPr id="73" name="" descr=""/>
            <p:cNvPicPr/>
            <p:nvPr/>
          </p:nvPicPr>
          <p:blipFill>
            <a:blip r:embed="rId4"/>
            <a:stretch/>
          </p:blipFill>
          <p:spPr>
            <a:xfrm>
              <a:off x="6408360" y="6197040"/>
              <a:ext cx="458280" cy="4330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969696">
                  <a:alpha val="50000"/>
                </a:srgbClr>
              </a:outerShdw>
            </a:effectLst>
          </p:spPr>
        </p:pic>
        <p:sp>
          <p:nvSpPr>
            <p:cNvPr id="74" name=""/>
            <p:cNvSpPr/>
            <p:nvPr/>
          </p:nvSpPr>
          <p:spPr>
            <a:xfrm>
              <a:off x="2691000" y="5149800"/>
              <a:ext cx="172440" cy="172800"/>
            </a:xfrm>
            <a:custGeom>
              <a:avLst/>
              <a:gdLst>
                <a:gd name="textAreaLeft" fmla="*/ 70920 w 172440"/>
                <a:gd name="textAreaRight" fmla="*/ 101520 w 172440"/>
                <a:gd name="textAreaTop" fmla="*/ 71280 h 172800"/>
                <a:gd name="textAreaBottom" fmla="*/ 101520 h 17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ccc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-24840" bIns="-248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16920" y="5888520"/>
              <a:ext cx="81900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440" bIns="55440" anchor="t">
              <a:spAutoFit/>
            </a:bodyPr>
            <a:p>
              <a:pPr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In-Build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30120" y="5702400"/>
              <a:ext cx="107172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440" bIns="55440" anchor="t">
              <a:spAutoFit/>
            </a:bodyPr>
            <a:p>
              <a:pPr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Neighborhoo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78880" y="6084720"/>
              <a:ext cx="77724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440" bIns="55440" anchor="t">
              <a:spAutoFit/>
            </a:bodyPr>
            <a:p>
              <a:pPr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Person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38160" y="5059080"/>
              <a:ext cx="98712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440" bIns="55440" anchor="t">
              <a:spAutoFit/>
            </a:bodyPr>
            <a:p>
              <a:pPr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Satell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3952800" y="5493960"/>
              <a:ext cx="983520" cy="248400"/>
              <a:chOff x="3952800" y="5493960"/>
              <a:chExt cx="983520" cy="248400"/>
            </a:xfrm>
          </p:grpSpPr>
          <p:sp>
            <p:nvSpPr>
              <p:cNvPr id="80" name=""/>
              <p:cNvSpPr/>
              <p:nvPr/>
            </p:nvSpPr>
            <p:spPr>
              <a:xfrm>
                <a:off x="4066200" y="5526360"/>
                <a:ext cx="78840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0520" rIns="110520" tIns="55080" bIns="550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952800" y="5493960"/>
                <a:ext cx="983520" cy="24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0520" rIns="110520" tIns="55440" bIns="55440" anchor="t">
                <a:spAutoFit/>
              </a:bodyPr>
              <a:p>
                <a:pPr algn="ctr"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1" lang="en-US" sz="900" spc="-1" strike="noStrike">
                    <a:solidFill>
                      <a:srgbClr val="ffffff"/>
                    </a:solidFill>
                    <a:latin typeface="Times New Roman"/>
                  </a:rPr>
                  <a:t>Wide Are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2597040" y="4878360"/>
              <a:ext cx="1001520" cy="248400"/>
              <a:chOff x="2597040" y="4878360"/>
              <a:chExt cx="1001520" cy="248400"/>
            </a:xfrm>
          </p:grpSpPr>
          <p:sp>
            <p:nvSpPr>
              <p:cNvPr id="83" name=""/>
              <p:cNvSpPr/>
              <p:nvPr/>
            </p:nvSpPr>
            <p:spPr>
              <a:xfrm>
                <a:off x="2597040" y="4910760"/>
                <a:ext cx="634320" cy="1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0520" rIns="110520" tIns="55080" bIns="550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614320" y="4878360"/>
                <a:ext cx="984240" cy="24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0520" rIns="110520" tIns="55440" bIns="55440" anchor="t">
                <a:spAutoFit/>
              </a:bodyPr>
              <a:p>
                <a:pPr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Times New Roman"/>
                  </a:rPr>
                  <a:t>Beyon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5343480" y="6298920"/>
              <a:ext cx="57924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440" bIns="55440" anchor="t">
              <a:spAutoFit/>
            </a:bodyPr>
            <a:p>
              <a:pPr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Times New Roman"/>
                </a:rPr>
                <a:t>Pic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05040" y="6298920"/>
              <a:ext cx="66312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440" bIns="55440" anchor="t">
              <a:spAutoFit/>
            </a:bodyPr>
            <a:p>
              <a:pPr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Times New Roman"/>
                </a:rPr>
                <a:t>Micr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97880" y="6298920"/>
              <a:ext cx="61416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440" bIns="55440" anchor="t">
              <a:spAutoFit/>
            </a:bodyPr>
            <a:p>
              <a:pPr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Times New Roman"/>
                </a:rPr>
                <a:t>Fem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74440" y="6298920"/>
              <a:ext cx="74304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440" bIns="55440" anchor="t">
              <a:spAutoFit/>
            </a:bodyPr>
            <a:p>
              <a:pPr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Times New Roman"/>
                </a:rPr>
                <a:t>Glob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89560" y="6298920"/>
              <a:ext cx="69516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440" bIns="55440" anchor="t">
              <a:spAutoFit/>
            </a:bodyPr>
            <a:p>
              <a:pPr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Times New Roman"/>
                </a:rPr>
                <a:t>Macr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4269960" y="5848920"/>
              <a:ext cx="610560" cy="471960"/>
              <a:chOff x="4269960" y="5848920"/>
              <a:chExt cx="610560" cy="471960"/>
            </a:xfrm>
          </p:grpSpPr>
          <p:pic>
            <p:nvPicPr>
              <p:cNvPr id="9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269960" y="5848920"/>
                <a:ext cx="234360" cy="4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969696">
                    <a:alpha val="50000"/>
                  </a:srgbClr>
                </a:outerShdw>
              </a:effectLst>
            </p:spPr>
          </p:pic>
          <p:pic>
            <p:nvPicPr>
              <p:cNvPr id="9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51760" y="5861520"/>
                <a:ext cx="234360" cy="4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969696">
                    <a:alpha val="50000"/>
                  </a:srgbClr>
                </a:outerShdw>
              </a:effectLst>
            </p:spPr>
          </p:pic>
          <p:pic>
            <p:nvPicPr>
              <p:cNvPr id="9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46160" y="5875920"/>
                <a:ext cx="234360" cy="4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969696">
                    <a:alpha val="50000"/>
                  </a:srgbClr>
                </a:outerShdw>
              </a:effectLst>
            </p:spPr>
          </p:pic>
        </p:grpSp>
      </p:grpSp>
      <p:sp>
        <p:nvSpPr>
          <p:cNvPr id="94" name=""/>
          <p:cNvSpPr/>
          <p:nvPr/>
        </p:nvSpPr>
        <p:spPr>
          <a:xfrm flipH="1">
            <a:off x="6248160" y="5838840"/>
            <a:ext cx="1276200" cy="11412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572160" y="5867280"/>
            <a:ext cx="943200" cy="30492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7475400" y="4732200"/>
            <a:ext cx="601920" cy="1825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5680" y="4924440"/>
            <a:ext cx="28195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5000"/>
              <a:buFont typeface="Monotype Sort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 realtime audio and 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172200" y="0"/>
          <a:ext cx="2457360" cy="11523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2200" y="0"/>
                    <a:ext cx="245736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 flipV="1">
            <a:off x="4114800" y="609120"/>
            <a:ext cx="2057400" cy="114300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c de Courville, Motoro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CC9B-D49F-4977-A209-733C4A28E4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 200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324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perPAN: strategy proposal for addressing WPAN&amp;WLAN converge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ssible 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ke the opportunity of worldwide harmonization WLANs PHY layer @ 5GH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nt interoperability through integration already @ PHY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iperPAN concep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51"/>
              </a:spcBef>
              <a:buClr>
                <a:srgbClr val="33cc33"/>
              </a:buClr>
              <a:buFont typeface="Web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Cost effective solution for high speed WPAN = P2P system derived from cut down of HIPERLAN/2,IEEE802.11a,MMA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11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MHz bandwidth, OFDM based with 52 carri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SzPct val="115000"/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maximum silicon reuse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SzPct val="11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relax RFFE impairments (oscillators &amp; ADC accuracy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SzPct val="115000"/>
              <a:buFont typeface="Monotype Sort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uction of range (10m?) resulting in power consumption savings (PA linearit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ility requires at minimum ability to decode BPSK 1/2 mode: 6Mb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PSK 3/4 achieves 18Mb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hoc mode (HIPERLAN/2 Home Environment DLC extension) for self organizing (dynamic Central Controller select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ochronous services support (audio/vide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haps simpler coding scheme for direct link (DILCH)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419640" y="3400560"/>
          <a:ext cx="5572080" cy="48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3400560"/>
                    <a:ext cx="55720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c de Courville, Motoro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364C-162D-4CCD-98DD-01A055DABB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 200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izing the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distinct spaces exist and should be addressed by standard bod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/home/personal environ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2 are already covered by WLANs: HIPERLAN/2, WPAN in EU remai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/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PERPAN should belong to HIPERLAN/2 fami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re the extensions required at the DLC level? Is Home Extension sufficient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HIPERPAN should be handled: through creation of new receiver class/transmission mode (restricted to xMbps, revised modulation accuracy)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components of the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must: gain consens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ive for a unique platform in the 5GHz band for several wireless applications including WPAN&amp;WL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the HIPERPAN concept among the WPAN&amp;WLAN communit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ion of a HIPERLAN/2 HIPERPAN task for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c de Courville, Motoro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3304-28CC-4F74-AF56-97F46A2808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 200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76320" y="-15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hinking process in a nutshel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t: higher rate demand for next generation of WPANs is 20Mb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haps not possible to achieve such rate with enough QoS in the 2.4GHz band due to spurious from mw-ov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Monotype Sort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seeable WPAN community trend: move in the safer 5GHz band and go for dual mode for BT1 backward compatibil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approach could result in a fragmentation of standards resulting in competing standards for the same b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ebdings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CEPT regulation, 5GHz band is reserved in Europe for HIPERLANs (DFS/P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Europe: one standard for all, ETSI BRAN resulting in a good coordination but  not yet addressing the PAN space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perPAN concept: embed WPAN in WLANs HIPERLAN/2 targeting a lower cost solution for WPANs (cut down vers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s: PHY level inter-operability would be granted between WPAN-WLAN in one unique standard worldwide harmonized (PHY layer wis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r cost solutions feasible, sketch of a technical proposal is proposed: same parameters of HL2, but with one lower mode constellation (e.g. QPSK R=3/4 enabling 18Mbps) using parts of home extensions for ad-hoc network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c de Courville, Motorol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EBC-EAEF-4340-8850-963ECE5045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 200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1T09:11:36Z</dcterms:created>
  <dc:creator>Marc de Courville</dc:creator>
  <dc:description>00/128r0</dc:description>
  <dc:language>en-US</dc:language>
  <cp:lastModifiedBy>bmd012</cp:lastModifiedBy>
  <cp:lastPrinted>1998-02-10T13:28:06Z</cp:lastPrinted>
  <dcterms:modified xsi:type="dcterms:W3CDTF">2000-05-02T09:16:21Z</dcterms:modified>
  <cp:revision>10</cp:revision>
  <dc:subject>IEEE 802.15 HIPERPAN</dc:subject>
  <dc:title>An OFDM based solution anticipating the convergence between next G of high rate WPANs and WLANs: HIPERPAN?</dc:title>
</cp:coreProperties>
</file>