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4C08D-2477-4C1B-BE41-D0636396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1054-DDB9-4456-8D52-ADFADAF9B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2DA2D-FFE0-46EC-B9E8-055755A93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5D4D1-C535-4D7A-BDAA-B25409489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4480D-942B-4B8E-8181-0561EC901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721F0-687C-4554-8788-1492104FD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A69BE-A781-4BBD-9493-9F9BE40C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CBE5-3549-4AFA-9746-507AD6B5B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3C073-D942-47B5-9ABB-1C22C3E0A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BC4A-4CFF-46DA-BC63-8DC8D11E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6E6B-DD9E-4103-A900-E0C611478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FF13-41DC-4527-B62B-9C1ED99BB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379800"/>
            <a:ext cx="28195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A287F-8F1C-4417-B18F-13D2AED1E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3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High Rate Final Call for Proposals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 May 2000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a:t>
            </a:r>
            <a:r>
              <a:rPr b="0" lang="en-US" sz="1600" spc="-1" strike="noStrike">
                <a:solidFill>
                  <a:srgbClr val="000000"/>
                </a:solidFill>
                <a:latin typeface="Times New Roman"/>
              </a:rPr>
              <a:t>Eastman Kodak Compan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66 Eastman Ave.  Rochester, NY, 14650-2015,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 716.588.1906], FAX: [+1 716.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99164r3P802-15_HRSG-CFA-CF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explains the reasons and conditions to the Final Call for Applications and Proposals which is a change to the original CFA/CFP procedure document and clarification emai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Explain the changes, recommendations, and vote for approval on the process for a Final C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mes D. Allen, Eastman Kodak Co.</a:t>
            </a:r>
          </a:p>
        </p:txBody>
      </p:sp>
      <p:sp>
        <p:nvSpPr>
          <p:cNvPr id="3" name="PlaceHolder 2"/>
          <p:cNvSpPr>
            <a:spLocks noGrp="1"/>
          </p:cNvSpPr>
          <p:nvPr>
            <p:ph type="sldNum" idx="3"/>
          </p:nvPr>
        </p:nvSpPr>
        <p:spPr/>
        <p:txBody>
          <a:bodyPr/>
          <a:p>
            <a:fld id="{011D86D5-FF7D-4A32-BD27-8A9D2AB73388}"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971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l “Call” Discussion</a:t>
            </a:r>
            <a:br>
              <a:rPr sz="3600"/>
            </a:br>
            <a:br>
              <a:rPr sz="3600"/>
            </a:br>
            <a:r>
              <a:rPr b="0" lang="en-US" sz="3600" spc="-1" strike="noStrike">
                <a:solidFill>
                  <a:srgbClr val="000000"/>
                </a:solidFill>
                <a:latin typeface="Times New Roman"/>
              </a:rPr>
              <a:t>802.15.3 High Rat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ames D. Allen, Eastman Kodak Co.</a:t>
            </a:r>
          </a:p>
        </p:txBody>
      </p:sp>
      <p:sp>
        <p:nvSpPr>
          <p:cNvPr id="4" name="PlaceHolder 3"/>
          <p:cNvSpPr>
            <a:spLocks noGrp="1"/>
          </p:cNvSpPr>
          <p:nvPr>
            <p:ph type="sldNum" idx="3"/>
          </p:nvPr>
        </p:nvSpPr>
        <p:spPr/>
        <p:txBody>
          <a:bodyPr/>
          <a:p>
            <a:fld id="{BFB7EA2A-7176-4382-8195-1D74516C6859}"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ssues behind opening the Calls for Propos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n a process and details - Vo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1D506C30-66D3-4AD2-9B55-E3B750704C08}"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a:t>
            </a:r>
            <a:endParaRPr b="0" lang="en-US" sz="3200" spc="-1" strike="noStrike">
              <a:solidFill>
                <a:srgbClr val="000000"/>
              </a:solidFill>
              <a:latin typeface="Times New Roman"/>
            </a:endParaRPr>
          </a:p>
        </p:txBody>
      </p:sp>
      <p:sp>
        <p:nvSpPr>
          <p:cNvPr id="50"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call for 802.11 WPAN : </a:t>
            </a:r>
            <a:endParaRPr b="0" lang="en-US" sz="18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call date time              : December - Email </a:t>
            </a:r>
            <a:endParaRPr b="0" lang="en-US" sz="18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call date time         : Feb. 4 -Email and instructions</a:t>
            </a:r>
            <a:endParaRPr b="0" lang="en-US" sz="18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status date                    : March 30th</a:t>
            </a:r>
            <a:endParaRPr b="0" lang="en-US" sz="1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s from some about not getting a chance to respond after the TG is formed.</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wanted to submit after the TG was formed so we did not have to politically support the Study Group…..”</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FF944BD9-EB84-4A5A-915B-C674F6DFE88B}"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les and Expectations</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213372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pecific Rule Regarding the timing of CFPs</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By Laws, Clause 5.2.1.1  </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enness is defined as the quality of being not restricted to a particular type or category of participants. All meetings involving standards shall be open to all interested parties.</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ctions done by an SG cannot be binding on the subsequent TG [but could be approved by the TG afterwards.]  </a:t>
            </a:r>
            <a:endParaRPr b="0" lang="en-US" sz="18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a PAR is authorized, the TG has no legal existence to enable opening or closure of a CFP.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B3E06092-C955-436A-826C-DC7662825F8D}"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Final C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t May 10th, for 21 day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ll for Interest Letter”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presentation schedule (before 6/1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esentations must be available for the July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hange to project pla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0929D4C9-19F6-41A0-B5C6-17410ACF3BF0}"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D. Allen</dc:creator>
  <dc:description>&lt;00131r0&gt;</dc:description>
  <dc:language>en-US</dc:language>
  <cp:lastModifiedBy>James Allen</cp:lastModifiedBy>
  <cp:lastPrinted>1998-02-10T13:28:06Z</cp:lastPrinted>
  <dcterms:modified xsi:type="dcterms:W3CDTF">2000-05-08T04:32:31Z</dcterms:modified>
  <cp:revision>22</cp:revision>
  <dc:subject>IEEE 802.15 High Rate</dc:subject>
  <dc:title>High Rate Final Call for Proposals Presentation</dc:title>
</cp:coreProperties>
</file>