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330-B74F-4AFF-A044-5E84D4E2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39A-C8FB-45D3-A77D-614580F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AB1-D0B4-4835-B249-6A2744E1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91F-6C4C-4176-95CE-43E1F2CF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538-1727-4692-BFAF-78CA07D7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560-1E42-448B-A778-298E028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5EA-A299-42A3-9B3F-8F0A7E55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41D-DC90-46AA-A098-CEF9BF80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FD7-9A51-4A16-ACBB-E980E6D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62E-FB06-4494-BC12-86F5BAA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383-92CA-4AC7-8DBC-93B2FF2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FC9-6BDE-4F27-8C95-25D7BCE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822826-0022-47FE-842E-5EDE0F5F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3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290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Error Rate of an IEEE 802.11 WLAN in the Presence of 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ed paper is document IEEE P802.15-00/133r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454-DE94-4BD3-94B2-42D8FBCB93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on x and 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(1/79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=k, f =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fixed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need to know the probability of a bad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symbols in that WLAN segment.  What is the probability all the symbols in that segment  are g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9BE-A2BC-4A0C-A171-0ED5F1E4DA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hysical Layer Model we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=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g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ymbol error rate at a given signal-to-interference (SIR) rati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luetooth channel frequenc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=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mbols in segmen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 from th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all symbols being good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| x=k, f=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(1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D99-0430-4DE1-96CA-E6AF497B0E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se equations can be combined to give the formula for the probability of a WLAN packet error. This is what we refer to as the WL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et Error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s are summarized in the detailed paper IEEE P802-15-00/133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3DA-7F93-4229-B121-8550D9B508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ied 1Mbps FHSS WLA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packets with 200, 500, and 1000 byte paylo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lot Bluetooth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Physical L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5           In on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              For all 78 other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058-7D13-4421-82B5-CC3093CE84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bps FHSS WLA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629400" cy="40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436-4152-4A14-A015-B09BBA9869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ified 1 Mbps DSSS WLA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packets with 200, 500, and 1000 byte paylo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lot Bluetooth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Physical L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5           In 22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              In all 57 other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A55-788C-4AA3-9949-8754E3399F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bps DSSS WLA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29400" cy="41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6DF-E109-41B9-8F29-7E675B5048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results to those of the Simulation being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more accurate Physical Layer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ree-slot &amp; five-slot Bluetooth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igher-rate 802.11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3C4-E988-4D1D-A0F8-D89F0702AB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of this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oret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et Error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ations for an IEEE 802.11 WLAN in the presence of a Bluetooth Pico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for the incorporation of more accurate Physical Layer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the Simulation model that is being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091-47F7-4043-83A8-4488A02980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vious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 Enni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act of Bluetooth on 802.11 Direct Sequenc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ember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Zyre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tension of Bluetooth and 802.11 Direct Sequence Model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mber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Zyre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ability of IEEE WLANs in the Presence of Bluetooth Radio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ember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Kammerma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existence between Bluetooth and IEEE 802.11 CCK Solutions to avoid mutual interferenc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nuary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FD9-7AAD-4B3A-A507-04B9B2797F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of Packet T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packet i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ond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only considering the case of periodic Bluetooth pa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interval i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is can be either 62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, 1.875 msec, or 3.125 m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packet i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et between WLAN and BT is a random varia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517-A2F3-45BC-99F3-5F0EC2A87B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ing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1676520"/>
          <a:ext cx="694368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943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428-2443-4539-A24E-E3DF8A43EB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ing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alculate the time each Bluetooth packet overlaps with WLAN packet. Call that tim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acke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- x,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acket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two packets have complicated formula (see pap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DF7-B7E7-45B8-A1D1-5FBADAC628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of a packet error is one minus the probability of a good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1 - 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dition on random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der to proceed fur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onve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iscrete random variable.  Its probability mass function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/K               k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2, 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300-CB14-4D73-B6F8-B0CAA2D87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a good packet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need to find the conditional probability of good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segment of the WLAN packet overlapping each Bluetooth packet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LAN packet to be good each segment must be good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seg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4E1-853A-4A27-B2C7-5041D59D78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of WLAN Packet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is t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each Bluetooth packet is a uniform random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1/79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 2, …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ondit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n we can start to figure out if each segment is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23C-AA42-4875-8AF6-E136857BA9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22:38:07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5-09T06:51:16Z</dcterms:modified>
  <cp:revision>96</cp:revision>
  <dc:subject>IEEE 802.15 &lt;subject&gt;</dc:subject>
  <dc:title>No Slide Title</dc:title>
</cp:coreProperties>
</file>